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C98-BDAE-486E-8D0C-E39C725B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E6B-0C54-4292-9715-26085FBD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813C-2445-4E82-9221-67DA4831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2D37-290B-4DB7-8754-C1FB3500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C769-EA43-4091-A8B8-6BF5B254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310A-F68E-41A7-98C0-5F2AFB48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1144-3E08-488F-946F-6FBDC325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15CE-B9F7-47D4-9FD2-5B4CAD5B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89F7-6584-4529-BE8B-923599BB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2BBC-A239-4754-BAC0-61D3F2A8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AF52-83BB-444B-ADFB-5949CF25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895D-A039-4723-BE95-B41194FB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8040-5CA6-4D5D-A262-18D06701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D7BE-9CC5-4694-99A2-71CBB534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DF2A-0C9D-4117-9B8E-AB4A349A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77B5-E91D-458A-AEE4-814D32F3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F7EE-50F4-41C2-A54C-CB9821C0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E359-03AC-42DC-9F77-EF6D763D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307-967B-4C95-B46E-EA7DF752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A277-1F1E-4466-8E82-4D296D4C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F095-3B34-419C-9C2B-141211C7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2F36-A327-4360-9E74-DD1A06A3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666-E231-458D-9BF1-29B07DE7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E11F-DABB-49D0-9090-E79AA970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0010-67E7-4EA5-8D76-859EF5DEDEA7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B55C-CDC1-4B53-8585-031DE8D9880F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ahoma"/>
              </a:rPr>
              <a:t>X.25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JUAN CARLOS RESTREP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-MAIL: juanrest@diginet.com.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el: 514053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ersión: 3.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597040" y="228600"/>
            <a:ext cx="500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QUITECTURA DE X.25 VS. 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05520" y="4038480"/>
            <a:ext cx="3200400" cy="2286000"/>
            <a:chOff x="5105520" y="4038480"/>
            <a:chExt cx="3200400" cy="2286000"/>
          </a:xfrm>
        </p:grpSpPr>
        <p:sp>
          <p:nvSpPr>
            <p:cNvPr id="228" name=""/>
            <p:cNvSpPr/>
            <p:nvPr/>
          </p:nvSpPr>
          <p:spPr>
            <a:xfrm>
              <a:off x="5105520" y="4038480"/>
              <a:ext cx="3147840" cy="22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05520" y="57150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05520" y="48006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48520" y="4114800"/>
              <a:ext cx="785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.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96600" y="5029200"/>
              <a:ext cx="995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P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15720" y="5791320"/>
              <a:ext cx="1885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.21/X21B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838080" y="838080"/>
            <a:ext cx="3124440" cy="5562360"/>
            <a:chOff x="838080" y="838080"/>
            <a:chExt cx="3124440" cy="5562360"/>
          </a:xfrm>
        </p:grpSpPr>
        <p:sp>
          <p:nvSpPr>
            <p:cNvPr id="235" name=""/>
            <p:cNvSpPr/>
            <p:nvPr/>
          </p:nvSpPr>
          <p:spPr>
            <a:xfrm>
              <a:off x="838080" y="838080"/>
              <a:ext cx="3108600" cy="556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8080" y="168120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080" y="248004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8880" y="1901160"/>
              <a:ext cx="2759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ESENTAC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23920" y="1104480"/>
              <a:ext cx="256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LICAC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04800" y="2700000"/>
              <a:ext cx="1711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79640" y="4260960"/>
              <a:ext cx="1036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95400" y="5886720"/>
              <a:ext cx="1320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IS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93800" y="5032440"/>
              <a:ext cx="2084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NL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8080" y="327672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8080" y="407520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8080" y="487224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23920" y="3496680"/>
              <a:ext cx="256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8080" y="566892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SQUEMA GENERA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5562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6248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62320" y="1600200"/>
            <a:ext cx="1143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4680" y="106668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ICHE X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600200"/>
            <a:ext cx="1067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7600" y="9907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438280" y="4038480"/>
            <a:ext cx="914400" cy="990720"/>
            <a:chOff x="2438280" y="4038480"/>
            <a:chExt cx="914400" cy="990720"/>
          </a:xfrm>
        </p:grpSpPr>
        <p:sp>
          <p:nvSpPr>
            <p:cNvPr id="257" name=""/>
            <p:cNvSpPr/>
            <p:nvPr/>
          </p:nvSpPr>
          <p:spPr>
            <a:xfrm>
              <a:off x="2438280" y="4038480"/>
              <a:ext cx="91440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2000" y="439236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LAP-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895480" y="5715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5638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72200" y="6324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772400" y="1523880"/>
            <a:ext cx="114300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79120" y="9144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791320" y="4267080"/>
            <a:ext cx="990000" cy="914400"/>
            <a:chOff x="5791320" y="4267080"/>
            <a:chExt cx="990000" cy="914400"/>
          </a:xfrm>
        </p:grpSpPr>
        <p:sp>
          <p:nvSpPr>
            <p:cNvPr id="265" name=""/>
            <p:cNvSpPr/>
            <p:nvPr/>
          </p:nvSpPr>
          <p:spPr>
            <a:xfrm>
              <a:off x="5791320" y="4267080"/>
              <a:ext cx="9900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57280" y="459360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LAP-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5638680" y="1523880"/>
            <a:ext cx="12193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13680" y="99072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ICHE X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924680" y="4114800"/>
            <a:ext cx="914400" cy="990720"/>
            <a:chOff x="7924680" y="4114800"/>
            <a:chExt cx="914400" cy="990720"/>
          </a:xfrm>
        </p:grpSpPr>
        <p:sp>
          <p:nvSpPr>
            <p:cNvPr id="270" name=""/>
            <p:cNvSpPr/>
            <p:nvPr/>
          </p:nvSpPr>
          <p:spPr>
            <a:xfrm>
              <a:off x="7924680" y="4114800"/>
              <a:ext cx="91440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78400" y="446868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LAP-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8153280" y="5791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5320" y="548640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9680" y="5715000"/>
            <a:ext cx="130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X.21/X21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8400" y="640080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.21/X.21B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48120" y="3851280"/>
            <a:ext cx="12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TM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57200" y="2895480"/>
            <a:ext cx="914400" cy="1067040"/>
            <a:chOff x="457200" y="2895480"/>
            <a:chExt cx="914400" cy="1067040"/>
          </a:xfrm>
        </p:grpSpPr>
        <p:sp>
          <p:nvSpPr>
            <p:cNvPr id="278" name=""/>
            <p:cNvSpPr/>
            <p:nvPr/>
          </p:nvSpPr>
          <p:spPr>
            <a:xfrm>
              <a:off x="457200" y="2895480"/>
              <a:ext cx="914400" cy="106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0920" y="3276720"/>
              <a:ext cx="53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X.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57200" y="4038480"/>
            <a:ext cx="914400" cy="1067040"/>
            <a:chOff x="457200" y="4038480"/>
            <a:chExt cx="914400" cy="1067040"/>
          </a:xfrm>
        </p:grpSpPr>
        <p:sp>
          <p:nvSpPr>
            <p:cNvPr id="281" name=""/>
            <p:cNvSpPr/>
            <p:nvPr/>
          </p:nvSpPr>
          <p:spPr>
            <a:xfrm>
              <a:off x="457200" y="4038480"/>
              <a:ext cx="914400" cy="106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0920" y="441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LAP-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438280" y="2895480"/>
            <a:ext cx="914400" cy="990720"/>
            <a:chOff x="2438280" y="2895480"/>
            <a:chExt cx="914400" cy="990720"/>
          </a:xfrm>
        </p:grpSpPr>
        <p:sp>
          <p:nvSpPr>
            <p:cNvPr id="284" name=""/>
            <p:cNvSpPr/>
            <p:nvPr/>
          </p:nvSpPr>
          <p:spPr>
            <a:xfrm>
              <a:off x="2438280" y="2895480"/>
              <a:ext cx="91440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92000" y="3249360"/>
              <a:ext cx="53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X.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867280" y="3124080"/>
            <a:ext cx="914400" cy="990720"/>
            <a:chOff x="5867280" y="3124080"/>
            <a:chExt cx="914400" cy="990720"/>
          </a:xfrm>
        </p:grpSpPr>
        <p:sp>
          <p:nvSpPr>
            <p:cNvPr id="287" name=""/>
            <p:cNvSpPr/>
            <p:nvPr/>
          </p:nvSpPr>
          <p:spPr>
            <a:xfrm>
              <a:off x="5867280" y="3124080"/>
              <a:ext cx="91440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1000" y="3477960"/>
              <a:ext cx="53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X.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848720" y="2971800"/>
            <a:ext cx="914400" cy="990720"/>
            <a:chOff x="7848720" y="2971800"/>
            <a:chExt cx="914400" cy="990720"/>
          </a:xfrm>
        </p:grpSpPr>
        <p:sp>
          <p:nvSpPr>
            <p:cNvPr id="290" name=""/>
            <p:cNvSpPr/>
            <p:nvPr/>
          </p:nvSpPr>
          <p:spPr>
            <a:xfrm>
              <a:off x="7848720" y="2971800"/>
              <a:ext cx="91440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02440" y="3325680"/>
              <a:ext cx="53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X.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52388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00200" y="342900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34320" y="472428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6172200"/>
            <a:ext cx="914400" cy="30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38280" y="6172200"/>
            <a:ext cx="990720" cy="30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7080" y="5715000"/>
            <a:ext cx="130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X.21/X21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X.21/X.21BI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.2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serial sincrónica full dupl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da en acceso a través de redes digit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tiliza conector DB-1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mente circuitos eléctricos balance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y utilizada en Europa y Japó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.21BI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ado de RS-232D/V.24 y 449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a para la conexión usando medios análog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X.2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14600" y="609120"/>
            <a:ext cx="41911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tective Gr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nsmit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ntrol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ieve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ndicate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iming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gnal Gr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nsmit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ntrol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eive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ndicate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iming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NIVEL LAP/LAPB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ll duplex, point-to-point, bit oriented protoco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basa en HDLC en un esquema Balance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prefiere LAP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nk Setup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nk dis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ta transfer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ame sequence numbe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ce control de flujo y recuperación ante err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das las transmisiones entre DTE y PSE se hacen con confirm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NIVEL LAP/LAPB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la estructura de la trama con bandera: 01111110 y bit stuff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za tres tipos de tramas: Información, Supervisión y no numera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IPOS DE TRAMA LAPB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formation (Información): llevan la información del protocolo de nivel superi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pervisory (Supervisión): llevan información para controlar el estado del enl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nnumbered (No numeradas): tramas no secuencializadas, usadas para llevar información de  control como inicio de una conexión, desconexión, error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RAMA LAPB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76320" y="1371600"/>
            <a:ext cx="87627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1371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81080" y="1371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71800" y="1371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96080" y="1371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1371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7880" y="92880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560" y="88740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3200" y="91440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9160" y="236232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9880" y="2438280"/>
            <a:ext cx="24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OS-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9440" y="9144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-2160" y="167652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111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36680" y="160020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111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4572000"/>
            <a:ext cx="60195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00" y="467532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QUETE X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819520" y="2286000"/>
            <a:ext cx="152280" cy="2286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0" y="2286000"/>
            <a:ext cx="1981080" cy="228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5760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43920" y="480060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D 0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771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06240" y="4800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(R) M P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65440" y="4724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59400" y="48006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C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21880" y="48006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53080" y="4800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34800" y="167652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B o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44080" y="167652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B o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12080" y="1600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6240" y="5410080"/>
            <a:ext cx="90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dress: Usado para indicar si es un comando 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SC: Usa CRC. Descarta las tramas con CRC malo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: bit en 1 cuando se requiere confirmación de recibido en otro extr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AMPO CONTROL EN TRAMA LAPB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04920" y="1143000"/>
            <a:ext cx="3657600" cy="762120"/>
            <a:chOff x="304920" y="1143000"/>
            <a:chExt cx="3657600" cy="762120"/>
          </a:xfrm>
        </p:grpSpPr>
        <p:sp>
          <p:nvSpPr>
            <p:cNvPr id="345" name=""/>
            <p:cNvSpPr/>
            <p:nvPr/>
          </p:nvSpPr>
          <p:spPr>
            <a:xfrm>
              <a:off x="304920" y="1143000"/>
              <a:ext cx="36576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52480" y="1143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09680" y="1143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80880" y="3505320"/>
            <a:ext cx="3657600" cy="761760"/>
            <a:chOff x="380880" y="3505320"/>
            <a:chExt cx="3657600" cy="761760"/>
          </a:xfrm>
        </p:grpSpPr>
        <p:sp>
          <p:nvSpPr>
            <p:cNvPr id="349" name=""/>
            <p:cNvSpPr/>
            <p:nvPr/>
          </p:nvSpPr>
          <p:spPr>
            <a:xfrm>
              <a:off x="380880" y="3505320"/>
              <a:ext cx="36576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28440" y="35053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5640" y="35053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80880" y="4572000"/>
            <a:ext cx="3657600" cy="762120"/>
            <a:chOff x="380880" y="4572000"/>
            <a:chExt cx="3657600" cy="762120"/>
          </a:xfrm>
        </p:grpSpPr>
        <p:sp>
          <p:nvSpPr>
            <p:cNvPr id="353" name=""/>
            <p:cNvSpPr/>
            <p:nvPr/>
          </p:nvSpPr>
          <p:spPr>
            <a:xfrm>
              <a:off x="380880" y="4572000"/>
              <a:ext cx="36576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28440" y="4572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85640" y="4572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80880" y="5486400"/>
            <a:ext cx="3657600" cy="762120"/>
            <a:chOff x="380880" y="5486400"/>
            <a:chExt cx="3657600" cy="762120"/>
          </a:xfrm>
        </p:grpSpPr>
        <p:sp>
          <p:nvSpPr>
            <p:cNvPr id="357" name=""/>
            <p:cNvSpPr/>
            <p:nvPr/>
          </p:nvSpPr>
          <p:spPr>
            <a:xfrm>
              <a:off x="380880" y="5486400"/>
              <a:ext cx="36576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28440" y="5486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5640" y="5486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800600" y="1143000"/>
            <a:ext cx="3657600" cy="762120"/>
            <a:chOff x="4800600" y="1143000"/>
            <a:chExt cx="3657600" cy="762120"/>
          </a:xfrm>
        </p:grpSpPr>
        <p:sp>
          <p:nvSpPr>
            <p:cNvPr id="361" name=""/>
            <p:cNvSpPr/>
            <p:nvPr/>
          </p:nvSpPr>
          <p:spPr>
            <a:xfrm>
              <a:off x="4800600" y="1143000"/>
              <a:ext cx="36576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160" y="1143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05360" y="1143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800600" y="2362320"/>
            <a:ext cx="3657600" cy="761760"/>
            <a:chOff x="4800600" y="2362320"/>
            <a:chExt cx="3657600" cy="761760"/>
          </a:xfrm>
        </p:grpSpPr>
        <p:sp>
          <p:nvSpPr>
            <p:cNvPr id="365" name=""/>
            <p:cNvSpPr/>
            <p:nvPr/>
          </p:nvSpPr>
          <p:spPr>
            <a:xfrm>
              <a:off x="4800600" y="2362320"/>
              <a:ext cx="36576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48160" y="23623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05360" y="23623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800600" y="3352680"/>
            <a:ext cx="3657600" cy="762120"/>
            <a:chOff x="4800600" y="3352680"/>
            <a:chExt cx="3657600" cy="762120"/>
          </a:xfrm>
        </p:grpSpPr>
        <p:sp>
          <p:nvSpPr>
            <p:cNvPr id="369" name=""/>
            <p:cNvSpPr/>
            <p:nvPr/>
          </p:nvSpPr>
          <p:spPr>
            <a:xfrm>
              <a:off x="4800600" y="3352680"/>
              <a:ext cx="36576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48160" y="33526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705360" y="33526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4800600" y="4343400"/>
            <a:ext cx="3657600" cy="762120"/>
            <a:chOff x="4800600" y="4343400"/>
            <a:chExt cx="3657600" cy="762120"/>
          </a:xfrm>
        </p:grpSpPr>
        <p:sp>
          <p:nvSpPr>
            <p:cNvPr id="373" name=""/>
            <p:cNvSpPr/>
            <p:nvPr/>
          </p:nvSpPr>
          <p:spPr>
            <a:xfrm>
              <a:off x="4800600" y="4343400"/>
              <a:ext cx="36576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48160" y="4343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05360" y="4343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800600" y="5562720"/>
            <a:ext cx="3657600" cy="761760"/>
            <a:chOff x="4800600" y="5562720"/>
            <a:chExt cx="3657600" cy="761760"/>
          </a:xfrm>
        </p:grpSpPr>
        <p:sp>
          <p:nvSpPr>
            <p:cNvPr id="377" name=""/>
            <p:cNvSpPr/>
            <p:nvPr/>
          </p:nvSpPr>
          <p:spPr>
            <a:xfrm>
              <a:off x="4800600" y="5562720"/>
              <a:ext cx="36576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48160" y="5562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05360" y="5562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688320" y="1295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669040" y="12952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8320" y="36576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83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68680" y="36576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0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5000" y="47242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4640" y="56386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745000" y="56386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0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07320" y="1295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164720" y="12193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1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07320" y="2514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164720" y="25146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1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83280" y="3505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88400" y="35053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0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83280" y="4495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088400" y="44956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0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83280" y="5715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720" y="57150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1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5760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940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54280" y="1295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8880" y="68580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CION (DA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8720" y="281952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ER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67040" y="609480"/>
            <a:ext cx="27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NUM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53200" y="3657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53200" y="4724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3200" y="5638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26280" y="1295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326280" y="2514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326280" y="3505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26280" y="449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26280" y="571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00" y="12193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40" y="37339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753560" y="632448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578080" y="137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75040" y="259092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477280" y="35812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578800" y="44956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353440" y="57913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M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39920" y="49528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N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RAMAS LAPB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: Información del usu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R: Receive Ready. Indica el siguiente esper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NR: Confirma N(R)-1 y solicita deten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J: RR o REJ avisan reactivación de enl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R: Selective Reje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SC: Desconexión anunci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ABM: Set Asynchronous Balance Mode. Maquina lleg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RMR: Frame Reject. CRC ok pero otro err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A: Unnumbered Acknowled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I: Unnumbered Information. Solo para LAP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SEÑA HISTOR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cia mediados de los 60’ surge el concepto de conmutación de paquet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CITT (Canadá, Francia, Japón y E.U.) comienza desarrollos de X.25 emitiendo el primer estándar en 1.976. (El TCP/IP fue en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1.980 se extiende el estándar con X.3, X28, X.29, X.75 y X.121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1.985 se liberó la versión de 1.98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ARAMETROS DE LAPB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1: Tiempo antes de retransmitir un fr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2: Máximo número de retransmis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1: Máximo número de bits en un I-fr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K: Tamaño de la ventana en I-fra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NIVEL X.25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mite establecer, mantener y terminar el circuito virtual para el envío de la información estableciendo los tipos de paquetes y los procedimientos requerido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paquete X.25 se encapsula en un I-fram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tiliza el mecanismo de ventanas deslizantes para el control de fluj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basa en el concepto de Circuitos Virtual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rece servicios: PVC, SVC y Datagrama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norma X.121 define el esquema de direccionamient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ESCENARIO X.25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308520" y="205740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ICHE X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57400" y="3809880"/>
            <a:ext cx="5335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36520" y="5638680"/>
            <a:ext cx="1396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2362320" y="914400"/>
            <a:ext cx="4570920" cy="3351600"/>
            <a:chOff x="2362320" y="914400"/>
            <a:chExt cx="4570920" cy="3351600"/>
          </a:xfrm>
        </p:grpSpPr>
        <p:grpSp>
          <p:nvGrpSpPr>
            <p:cNvPr id="433" name=""/>
            <p:cNvGrpSpPr/>
            <p:nvPr/>
          </p:nvGrpSpPr>
          <p:grpSpPr>
            <a:xfrm>
              <a:off x="2362320" y="914400"/>
              <a:ext cx="4570920" cy="3351600"/>
              <a:chOff x="2362320" y="914400"/>
              <a:chExt cx="4570920" cy="3351600"/>
            </a:xfrm>
          </p:grpSpPr>
          <p:sp>
            <p:nvSpPr>
              <p:cNvPr id="434" name=""/>
              <p:cNvSpPr/>
              <p:nvPr/>
            </p:nvSpPr>
            <p:spPr>
              <a:xfrm>
                <a:off x="2362320" y="914400"/>
                <a:ext cx="4570920" cy="3351600"/>
              </a:xfrm>
              <a:custGeom>
                <a:avLst/>
                <a:gdLst/>
                <a:ahLst/>
                <a:rect l="l" t="t" r="r" b="b"/>
                <a:pathLst>
                  <a:path w="856" h="448">
                    <a:moveTo>
                      <a:pt x="395" y="59"/>
                    </a:moveTo>
                    <a:lnTo>
                      <a:pt x="375" y="55"/>
                    </a:lnTo>
                    <a:lnTo>
                      <a:pt x="348" y="50"/>
                    </a:lnTo>
                    <a:lnTo>
                      <a:pt x="325" y="49"/>
                    </a:lnTo>
                    <a:lnTo>
                      <a:pt x="301" y="51"/>
                    </a:lnTo>
                    <a:lnTo>
                      <a:pt x="283" y="53"/>
                    </a:lnTo>
                    <a:lnTo>
                      <a:pt x="266" y="57"/>
                    </a:lnTo>
                    <a:lnTo>
                      <a:pt x="247" y="63"/>
                    </a:lnTo>
                    <a:lnTo>
                      <a:pt x="229" y="71"/>
                    </a:lnTo>
                    <a:lnTo>
                      <a:pt x="211" y="82"/>
                    </a:lnTo>
                    <a:lnTo>
                      <a:pt x="193" y="96"/>
                    </a:lnTo>
                    <a:lnTo>
                      <a:pt x="181" y="109"/>
                    </a:lnTo>
                    <a:lnTo>
                      <a:pt x="173" y="121"/>
                    </a:lnTo>
                    <a:lnTo>
                      <a:pt x="165" y="134"/>
                    </a:lnTo>
                    <a:lnTo>
                      <a:pt x="160" y="151"/>
                    </a:lnTo>
                    <a:lnTo>
                      <a:pt x="145" y="147"/>
                    </a:lnTo>
                    <a:lnTo>
                      <a:pt x="127" y="145"/>
                    </a:lnTo>
                    <a:lnTo>
                      <a:pt x="111" y="145"/>
                    </a:lnTo>
                    <a:lnTo>
                      <a:pt x="94" y="148"/>
                    </a:lnTo>
                    <a:lnTo>
                      <a:pt x="79" y="153"/>
                    </a:lnTo>
                    <a:lnTo>
                      <a:pt x="64" y="159"/>
                    </a:lnTo>
                    <a:lnTo>
                      <a:pt x="48" y="170"/>
                    </a:lnTo>
                    <a:lnTo>
                      <a:pt x="39" y="179"/>
                    </a:lnTo>
                    <a:lnTo>
                      <a:pt x="28" y="189"/>
                    </a:lnTo>
                    <a:lnTo>
                      <a:pt x="19" y="201"/>
                    </a:lnTo>
                    <a:lnTo>
                      <a:pt x="11" y="217"/>
                    </a:lnTo>
                    <a:lnTo>
                      <a:pt x="6" y="232"/>
                    </a:lnTo>
                    <a:lnTo>
                      <a:pt x="2" y="247"/>
                    </a:lnTo>
                    <a:lnTo>
                      <a:pt x="1" y="259"/>
                    </a:lnTo>
                    <a:lnTo>
                      <a:pt x="0" y="271"/>
                    </a:lnTo>
                    <a:lnTo>
                      <a:pt x="1" y="286"/>
                    </a:lnTo>
                    <a:lnTo>
                      <a:pt x="3" y="299"/>
                    </a:lnTo>
                    <a:lnTo>
                      <a:pt x="7" y="312"/>
                    </a:lnTo>
                    <a:lnTo>
                      <a:pt x="12" y="325"/>
                    </a:lnTo>
                    <a:lnTo>
                      <a:pt x="19" y="339"/>
                    </a:lnTo>
                    <a:lnTo>
                      <a:pt x="29" y="353"/>
                    </a:lnTo>
                    <a:lnTo>
                      <a:pt x="40" y="364"/>
                    </a:lnTo>
                    <a:lnTo>
                      <a:pt x="53" y="375"/>
                    </a:lnTo>
                    <a:lnTo>
                      <a:pt x="68" y="383"/>
                    </a:lnTo>
                    <a:lnTo>
                      <a:pt x="80" y="389"/>
                    </a:lnTo>
                    <a:lnTo>
                      <a:pt x="92" y="392"/>
                    </a:lnTo>
                    <a:lnTo>
                      <a:pt x="106" y="396"/>
                    </a:lnTo>
                    <a:lnTo>
                      <a:pt x="121" y="396"/>
                    </a:lnTo>
                    <a:lnTo>
                      <a:pt x="136" y="396"/>
                    </a:lnTo>
                    <a:lnTo>
                      <a:pt x="151" y="393"/>
                    </a:lnTo>
                    <a:lnTo>
                      <a:pt x="163" y="390"/>
                    </a:lnTo>
                    <a:lnTo>
                      <a:pt x="171" y="387"/>
                    </a:lnTo>
                    <a:lnTo>
                      <a:pt x="179" y="397"/>
                    </a:lnTo>
                    <a:lnTo>
                      <a:pt x="191" y="406"/>
                    </a:lnTo>
                    <a:lnTo>
                      <a:pt x="204" y="414"/>
                    </a:lnTo>
                    <a:lnTo>
                      <a:pt x="218" y="422"/>
                    </a:lnTo>
                    <a:lnTo>
                      <a:pt x="236" y="429"/>
                    </a:lnTo>
                    <a:lnTo>
                      <a:pt x="254" y="436"/>
                    </a:lnTo>
                    <a:lnTo>
                      <a:pt x="276" y="441"/>
                    </a:lnTo>
                    <a:lnTo>
                      <a:pt x="296" y="445"/>
                    </a:lnTo>
                    <a:lnTo>
                      <a:pt x="318" y="447"/>
                    </a:lnTo>
                    <a:lnTo>
                      <a:pt x="335" y="447"/>
                    </a:lnTo>
                    <a:lnTo>
                      <a:pt x="353" y="447"/>
                    </a:lnTo>
                    <a:lnTo>
                      <a:pt x="377" y="444"/>
                    </a:lnTo>
                    <a:lnTo>
                      <a:pt x="406" y="434"/>
                    </a:lnTo>
                    <a:lnTo>
                      <a:pt x="416" y="437"/>
                    </a:lnTo>
                    <a:lnTo>
                      <a:pt x="436" y="430"/>
                    </a:lnTo>
                    <a:lnTo>
                      <a:pt x="456" y="422"/>
                    </a:lnTo>
                    <a:lnTo>
                      <a:pt x="468" y="416"/>
                    </a:lnTo>
                    <a:lnTo>
                      <a:pt x="478" y="408"/>
                    </a:lnTo>
                    <a:lnTo>
                      <a:pt x="489" y="413"/>
                    </a:lnTo>
                    <a:lnTo>
                      <a:pt x="504" y="419"/>
                    </a:lnTo>
                    <a:lnTo>
                      <a:pt x="518" y="423"/>
                    </a:lnTo>
                    <a:lnTo>
                      <a:pt x="531" y="426"/>
                    </a:lnTo>
                    <a:lnTo>
                      <a:pt x="546" y="427"/>
                    </a:lnTo>
                    <a:lnTo>
                      <a:pt x="560" y="427"/>
                    </a:lnTo>
                    <a:lnTo>
                      <a:pt x="577" y="425"/>
                    </a:lnTo>
                    <a:lnTo>
                      <a:pt x="594" y="421"/>
                    </a:lnTo>
                    <a:lnTo>
                      <a:pt x="609" y="416"/>
                    </a:lnTo>
                    <a:lnTo>
                      <a:pt x="624" y="407"/>
                    </a:lnTo>
                    <a:lnTo>
                      <a:pt x="638" y="398"/>
                    </a:lnTo>
                    <a:lnTo>
                      <a:pt x="657" y="406"/>
                    </a:lnTo>
                    <a:lnTo>
                      <a:pt x="675" y="410"/>
                    </a:lnTo>
                    <a:lnTo>
                      <a:pt x="690" y="412"/>
                    </a:lnTo>
                    <a:lnTo>
                      <a:pt x="712" y="412"/>
                    </a:lnTo>
                    <a:lnTo>
                      <a:pt x="735" y="409"/>
                    </a:lnTo>
                    <a:lnTo>
                      <a:pt x="762" y="401"/>
                    </a:lnTo>
                    <a:lnTo>
                      <a:pt x="785" y="389"/>
                    </a:lnTo>
                    <a:lnTo>
                      <a:pt x="804" y="374"/>
                    </a:lnTo>
                    <a:lnTo>
                      <a:pt x="823" y="356"/>
                    </a:lnTo>
                    <a:lnTo>
                      <a:pt x="833" y="341"/>
                    </a:lnTo>
                    <a:lnTo>
                      <a:pt x="841" y="326"/>
                    </a:lnTo>
                    <a:lnTo>
                      <a:pt x="849" y="306"/>
                    </a:lnTo>
                    <a:lnTo>
                      <a:pt x="853" y="288"/>
                    </a:lnTo>
                    <a:lnTo>
                      <a:pt x="855" y="267"/>
                    </a:lnTo>
                    <a:lnTo>
                      <a:pt x="853" y="251"/>
                    </a:lnTo>
                    <a:lnTo>
                      <a:pt x="849" y="232"/>
                    </a:lnTo>
                    <a:lnTo>
                      <a:pt x="843" y="213"/>
                    </a:lnTo>
                    <a:lnTo>
                      <a:pt x="833" y="196"/>
                    </a:lnTo>
                    <a:lnTo>
                      <a:pt x="822" y="179"/>
                    </a:lnTo>
                    <a:lnTo>
                      <a:pt x="808" y="165"/>
                    </a:lnTo>
                    <a:lnTo>
                      <a:pt x="795" y="154"/>
                    </a:lnTo>
                    <a:lnTo>
                      <a:pt x="782" y="146"/>
                    </a:lnTo>
                    <a:lnTo>
                      <a:pt x="764" y="135"/>
                    </a:lnTo>
                    <a:lnTo>
                      <a:pt x="747" y="129"/>
                    </a:lnTo>
                    <a:lnTo>
                      <a:pt x="732" y="126"/>
                    </a:lnTo>
                    <a:lnTo>
                      <a:pt x="715" y="124"/>
                    </a:lnTo>
                    <a:lnTo>
                      <a:pt x="712" y="111"/>
                    </a:lnTo>
                    <a:lnTo>
                      <a:pt x="707" y="98"/>
                    </a:lnTo>
                    <a:lnTo>
                      <a:pt x="700" y="86"/>
                    </a:lnTo>
                    <a:lnTo>
                      <a:pt x="692" y="73"/>
                    </a:lnTo>
                    <a:lnTo>
                      <a:pt x="681" y="60"/>
                    </a:lnTo>
                    <a:lnTo>
                      <a:pt x="667" y="46"/>
                    </a:lnTo>
                    <a:lnTo>
                      <a:pt x="654" y="35"/>
                    </a:lnTo>
                    <a:lnTo>
                      <a:pt x="638" y="26"/>
                    </a:lnTo>
                    <a:lnTo>
                      <a:pt x="619" y="16"/>
                    </a:lnTo>
                    <a:lnTo>
                      <a:pt x="600" y="9"/>
                    </a:lnTo>
                    <a:lnTo>
                      <a:pt x="582" y="4"/>
                    </a:lnTo>
                    <a:lnTo>
                      <a:pt x="561" y="1"/>
                    </a:lnTo>
                    <a:lnTo>
                      <a:pt x="541" y="0"/>
                    </a:lnTo>
                    <a:lnTo>
                      <a:pt x="519" y="0"/>
                    </a:lnTo>
                    <a:lnTo>
                      <a:pt x="500" y="3"/>
                    </a:lnTo>
                    <a:lnTo>
                      <a:pt x="477" y="9"/>
                    </a:lnTo>
                    <a:lnTo>
                      <a:pt x="453" y="18"/>
                    </a:lnTo>
                    <a:lnTo>
                      <a:pt x="437" y="26"/>
                    </a:lnTo>
                    <a:lnTo>
                      <a:pt x="421" y="36"/>
                    </a:lnTo>
                    <a:lnTo>
                      <a:pt x="407" y="48"/>
                    </a:lnTo>
                    <a:lnTo>
                      <a:pt x="395" y="59"/>
                    </a:lnTo>
                  </a:path>
                </a:pathLst>
              </a:custGeom>
              <a:solidFill>
                <a:srgbClr val="4080ff"/>
              </a:solidFill>
              <a:ln cap="rnd" w="50760">
                <a:solidFill>
                  <a:srgbClr val="c0e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401640" y="2444400"/>
                <a:ext cx="64440" cy="45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3480" rIns="33480" tIns="15840" bIns="15840" anchor="t">
                <a:spAutoFit/>
              </a:bodyPr>
              <a:p>
                <a:pPr>
                  <a:tabLst>
                    <a:tab algn="l" pos="0"/>
                    <a:tab algn="l" pos="274680"/>
                    <a:tab algn="l" pos="549360"/>
                    <a:tab algn="l" pos="824040"/>
                    <a:tab algn="l" pos="1098720"/>
                    <a:tab algn="l" pos="1373040"/>
                    <a:tab algn="l" pos="1647720"/>
                    <a:tab algn="l" pos="1922400"/>
                    <a:tab algn="l" pos="2197080"/>
                    <a:tab algn="l" pos="2471760"/>
                    <a:tab algn="l" pos="2746440"/>
                    <a:tab algn="l" pos="3021120"/>
                    <a:tab algn="l" pos="3295800"/>
                    <a:tab algn="l" pos="3570120"/>
                    <a:tab algn="l" pos="3844800"/>
                    <a:tab algn="l" pos="4119480"/>
                    <a:tab algn="l" pos="4394160"/>
                    <a:tab algn="l" pos="4668840"/>
                    <a:tab algn="l" pos="4943520"/>
                    <a:tab algn="l" pos="5218200"/>
                    <a:tab algn="l" pos="5492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3886200" y="1907280"/>
              <a:ext cx="507240" cy="496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55560" y="1907280"/>
              <a:ext cx="507960" cy="496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93800" y="21560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10080" y="3024720"/>
              <a:ext cx="507240" cy="496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63880" y="2404080"/>
              <a:ext cx="0" cy="62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69560" y="2776680"/>
              <a:ext cx="507960" cy="496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377880" y="2155680"/>
              <a:ext cx="507960" cy="62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77880" y="3024720"/>
              <a:ext cx="203184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 flipV="1">
            <a:off x="2362320" y="320004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1447920" y="4038480"/>
            <a:ext cx="7617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95280" y="5029200"/>
            <a:ext cx="5335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990720" y="52578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838080" y="2971440"/>
            <a:ext cx="2057400" cy="259092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0" y="24382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80120" y="4191120"/>
            <a:ext cx="1396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943600" y="3581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37320" y="1066680"/>
            <a:ext cx="1396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5715000" y="12952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5562720" y="1218960"/>
            <a:ext cx="1066680" cy="68580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1219320" y="3276360"/>
            <a:ext cx="1752480" cy="236196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5714640" y="3504960"/>
            <a:ext cx="685800" cy="6094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59920" y="472428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40600" y="380988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AQUETE X.25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ructura general del paquete X.25. direccionami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quetes de 128, 256, 512, 1024, 2048, 4096 By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1828800" y="2971800"/>
            <a:ext cx="60199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66880" y="2971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82520" y="32004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29000" y="2971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2971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3440" y="31240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867280" y="2971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23520" y="312408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668680" y="3200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C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31160" y="32004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3200" y="24382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24382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505320" y="24382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76920" y="24382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11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562720" y="2666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3870360"/>
            <a:ext cx="678168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FI: Group Format Identifier. (QDX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=1: Entregar datos de control y la informacion al destino. XY=10 Modulo 128;  XY=01 Modulo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CGN: Logical Channel Group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CN: Logical Channel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YPE: 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YLOAD: Conten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AQUETE X.25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1143000"/>
            <a:ext cx="60199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6688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753200" y="137160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D 0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42900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1480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640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15520" y="1371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(R) M P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728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175080" y="1295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68680" y="13716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C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31160" y="13716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562720" y="1371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43200" y="6094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6094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505320" y="6094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76920" y="6094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91120" y="838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562720" y="838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828800" y="2971800"/>
            <a:ext cx="40384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66880" y="2971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752840" y="3200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0 0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429000" y="2971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2971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2971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14800" y="32004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(R)  0 0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2971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668680" y="3200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C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31160" y="32004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562720" y="3200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666880" y="24382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81080" y="24382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24382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24382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14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8640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28800" y="4114800"/>
            <a:ext cx="40384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666880" y="4114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752840" y="4343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0 0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29000" y="4114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14800" y="4114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486400" y="4114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114800" y="43434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(R) 0 0 1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867280" y="4114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68680" y="4343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C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31160" y="43434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562720" y="4343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828800" y="5181480"/>
            <a:ext cx="40384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66688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753200" y="541008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D 0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4290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148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4864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115160" y="54100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(R) 0 1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86728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8680" y="5410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C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431160" y="54100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5410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160320" y="316548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QUETE 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253200" y="419112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QUETE R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252120" y="533412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QUETE R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64832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288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724280" y="2971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24280" y="4114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2428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AQUETES X.25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TE a DCE (PSE)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CE (PSE) a D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Tahoma"/>
              </a:rPr>
              <a:t>Call Set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L_REQUEST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COMING_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L_ACCEPTE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L_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LEAR_REQUES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LEAR_IND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TE_CLEAR_CONF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CE_CLEAR_CONFI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Tahoma"/>
              </a:rPr>
              <a:t>Data and Interrup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TE_DAT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CE_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TE_INTERRUP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CE_INTERRU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TE_INTERRUPT_CONF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CE_INTERRUPT_CONFI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AQUETES X.25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TE- a DC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CE a D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Tahoma"/>
              </a:rPr>
              <a:t>Flow Control and Rese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TE_RR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CE_R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TE_RNR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CE_RN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TE_R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ET_REQUES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ET_IND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TE_RESET_CONF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CE_RESET_CONFI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Tahoma"/>
              </a:rPr>
              <a:t>Restar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TART_REQUES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TART_IND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TE_RESTART_CONF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CE_RESTART_CONFI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CN Y DIRECCIONAMIEN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da circuito se identifica por el LC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CN=0 Reserv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-i: PV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+1 hasta i+n: Una vía llegada (SV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 hasta j+m: Dos vías (SV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 hasta k+1: Una vía salida (SVC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norma X.121 define el esquema de direccionamiento: DDDD XXXXXXXXXX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DDD PAIS. Colombia: 732Y donde Y=0-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XXXXX: PA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STABLECIMIENTO DE LA LLAMAD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1281600" y="955800"/>
            <a:ext cx="772200" cy="5368680"/>
            <a:chOff x="1281600" y="955800"/>
            <a:chExt cx="772200" cy="5368680"/>
          </a:xfrm>
        </p:grpSpPr>
        <p:sp>
          <p:nvSpPr>
            <p:cNvPr id="552" name=""/>
            <p:cNvSpPr/>
            <p:nvPr/>
          </p:nvSpPr>
          <p:spPr>
            <a:xfrm>
              <a:off x="1281600" y="95580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76520" y="1447920"/>
              <a:ext cx="0" cy="48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126600" y="914400"/>
            <a:ext cx="788760" cy="5368680"/>
            <a:chOff x="3126600" y="914400"/>
            <a:chExt cx="788760" cy="5368680"/>
          </a:xfrm>
        </p:grpSpPr>
        <p:sp>
          <p:nvSpPr>
            <p:cNvPr id="555" name=""/>
            <p:cNvSpPr/>
            <p:nvPr/>
          </p:nvSpPr>
          <p:spPr>
            <a:xfrm>
              <a:off x="3126600" y="9144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521160" y="1406520"/>
              <a:ext cx="0" cy="48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5031720" y="914400"/>
            <a:ext cx="788760" cy="5368680"/>
            <a:chOff x="5031720" y="914400"/>
            <a:chExt cx="788760" cy="5368680"/>
          </a:xfrm>
        </p:grpSpPr>
        <p:sp>
          <p:nvSpPr>
            <p:cNvPr id="558" name=""/>
            <p:cNvSpPr/>
            <p:nvPr/>
          </p:nvSpPr>
          <p:spPr>
            <a:xfrm>
              <a:off x="5031720" y="9144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26280" y="1406520"/>
              <a:ext cx="0" cy="48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6783840" y="990720"/>
            <a:ext cx="772200" cy="5368680"/>
            <a:chOff x="6783840" y="990720"/>
            <a:chExt cx="772200" cy="5368680"/>
          </a:xfrm>
        </p:grpSpPr>
        <p:sp>
          <p:nvSpPr>
            <p:cNvPr id="561" name=""/>
            <p:cNvSpPr/>
            <p:nvPr/>
          </p:nvSpPr>
          <p:spPr>
            <a:xfrm>
              <a:off x="6783840" y="99072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178760" y="1482840"/>
              <a:ext cx="0" cy="48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-720" y="1295280"/>
            <a:ext cx="161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cia lla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76520" y="198108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81280" y="220968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486400" y="243828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752840" y="1371600"/>
            <a:ext cx="14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ll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268520" y="19051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560920" y="1752480"/>
            <a:ext cx="164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com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43828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ibe y acep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560920" y="3657600"/>
            <a:ext cx="164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com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5409720" y="2895480"/>
            <a:ext cx="1752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657600" y="3276720"/>
            <a:ext cx="1752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1752120" y="3657600"/>
            <a:ext cx="1752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14800" y="396252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828440" y="4191120"/>
            <a:ext cx="175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ll Conn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SQUEMA CON PVC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aplicativo no establece la llam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PVC se crea manualm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aplicativo se atacha al PV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aplicativo transfiere in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aplicativo se desatach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OS BASIC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ceso evolutivo: X.25-&gt;Frame Relay -&gt;AT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emplazó al protocolo 1822 (protocolo entre PSN: Packet-Switching nodes) ya que este no se volvió estánda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ecnología de acceso a una red de conmutación de paquetes (NO especifica como opera la red en su interio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ándar para la interconexión DTE-D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CE=PSE: Packet Switching Exchange. Suiche X.2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CN Y DIRECCIONAMIEN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ete_file ascredibanco.x25.out.old -briefrename ascredibanco.x25.out ascredibanco.x25.out.oldcreate_file ascredibanco.x25.outset_implicit_locking ascredibanco.x25.outstart_process 'x25 ascredibanco #s4.0 dte -chan_trace -syserr -lap_t1 10 &amp;+              -max_packet_size 256 -default_packet_size 256 &amp;+              -local_addr 100310302 -min_lcn 1 -max_lcn 2 &amp;+              -default_window_size 7' -privileged -priority 9 &amp;+              -output_path ascredibanco.x25 -process_name ascredibanco.x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SQUEMA CON PA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.28: Define la conexión de la terminal o el DTE en modo carácter hacia el PAD (Packet Assembler Disassembler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.3: Define la operación del P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.29: Define la conexión entre el PAD y el DTE de paque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ESQUEMA CON P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5488560" y="56386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.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43000" y="2666880"/>
            <a:ext cx="5335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56040" y="3657600"/>
            <a:ext cx="788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114800" y="2743200"/>
            <a:ext cx="3199680" cy="2057040"/>
            <a:chOff x="4114800" y="2743200"/>
            <a:chExt cx="3199680" cy="2057040"/>
          </a:xfrm>
        </p:grpSpPr>
        <p:grpSp>
          <p:nvGrpSpPr>
            <p:cNvPr id="589" name=""/>
            <p:cNvGrpSpPr/>
            <p:nvPr/>
          </p:nvGrpSpPr>
          <p:grpSpPr>
            <a:xfrm>
              <a:off x="4114800" y="2743200"/>
              <a:ext cx="3199680" cy="2057040"/>
              <a:chOff x="4114800" y="2743200"/>
              <a:chExt cx="3199680" cy="2057040"/>
            </a:xfrm>
          </p:grpSpPr>
          <p:sp>
            <p:nvSpPr>
              <p:cNvPr id="590" name=""/>
              <p:cNvSpPr/>
              <p:nvPr/>
            </p:nvSpPr>
            <p:spPr>
              <a:xfrm>
                <a:off x="4114800" y="2743200"/>
                <a:ext cx="3199680" cy="2057040"/>
              </a:xfrm>
              <a:custGeom>
                <a:avLst/>
                <a:gdLst/>
                <a:ahLst/>
                <a:rect l="l" t="t" r="r" b="b"/>
                <a:pathLst>
                  <a:path w="856" h="448">
                    <a:moveTo>
                      <a:pt x="395" y="59"/>
                    </a:moveTo>
                    <a:lnTo>
                      <a:pt x="375" y="55"/>
                    </a:lnTo>
                    <a:lnTo>
                      <a:pt x="348" y="50"/>
                    </a:lnTo>
                    <a:lnTo>
                      <a:pt x="325" y="49"/>
                    </a:lnTo>
                    <a:lnTo>
                      <a:pt x="301" y="51"/>
                    </a:lnTo>
                    <a:lnTo>
                      <a:pt x="283" y="53"/>
                    </a:lnTo>
                    <a:lnTo>
                      <a:pt x="266" y="57"/>
                    </a:lnTo>
                    <a:lnTo>
                      <a:pt x="247" y="63"/>
                    </a:lnTo>
                    <a:lnTo>
                      <a:pt x="229" y="71"/>
                    </a:lnTo>
                    <a:lnTo>
                      <a:pt x="211" y="82"/>
                    </a:lnTo>
                    <a:lnTo>
                      <a:pt x="193" y="96"/>
                    </a:lnTo>
                    <a:lnTo>
                      <a:pt x="181" y="109"/>
                    </a:lnTo>
                    <a:lnTo>
                      <a:pt x="173" y="121"/>
                    </a:lnTo>
                    <a:lnTo>
                      <a:pt x="165" y="134"/>
                    </a:lnTo>
                    <a:lnTo>
                      <a:pt x="160" y="151"/>
                    </a:lnTo>
                    <a:lnTo>
                      <a:pt x="145" y="147"/>
                    </a:lnTo>
                    <a:lnTo>
                      <a:pt x="127" y="145"/>
                    </a:lnTo>
                    <a:lnTo>
                      <a:pt x="111" y="145"/>
                    </a:lnTo>
                    <a:lnTo>
                      <a:pt x="94" y="148"/>
                    </a:lnTo>
                    <a:lnTo>
                      <a:pt x="79" y="153"/>
                    </a:lnTo>
                    <a:lnTo>
                      <a:pt x="64" y="159"/>
                    </a:lnTo>
                    <a:lnTo>
                      <a:pt x="48" y="170"/>
                    </a:lnTo>
                    <a:lnTo>
                      <a:pt x="39" y="179"/>
                    </a:lnTo>
                    <a:lnTo>
                      <a:pt x="28" y="189"/>
                    </a:lnTo>
                    <a:lnTo>
                      <a:pt x="19" y="201"/>
                    </a:lnTo>
                    <a:lnTo>
                      <a:pt x="11" y="217"/>
                    </a:lnTo>
                    <a:lnTo>
                      <a:pt x="6" y="232"/>
                    </a:lnTo>
                    <a:lnTo>
                      <a:pt x="2" y="247"/>
                    </a:lnTo>
                    <a:lnTo>
                      <a:pt x="1" y="259"/>
                    </a:lnTo>
                    <a:lnTo>
                      <a:pt x="0" y="271"/>
                    </a:lnTo>
                    <a:lnTo>
                      <a:pt x="1" y="286"/>
                    </a:lnTo>
                    <a:lnTo>
                      <a:pt x="3" y="299"/>
                    </a:lnTo>
                    <a:lnTo>
                      <a:pt x="7" y="312"/>
                    </a:lnTo>
                    <a:lnTo>
                      <a:pt x="12" y="325"/>
                    </a:lnTo>
                    <a:lnTo>
                      <a:pt x="19" y="339"/>
                    </a:lnTo>
                    <a:lnTo>
                      <a:pt x="29" y="353"/>
                    </a:lnTo>
                    <a:lnTo>
                      <a:pt x="40" y="364"/>
                    </a:lnTo>
                    <a:lnTo>
                      <a:pt x="53" y="375"/>
                    </a:lnTo>
                    <a:lnTo>
                      <a:pt x="68" y="383"/>
                    </a:lnTo>
                    <a:lnTo>
                      <a:pt x="80" y="389"/>
                    </a:lnTo>
                    <a:lnTo>
                      <a:pt x="92" y="392"/>
                    </a:lnTo>
                    <a:lnTo>
                      <a:pt x="106" y="396"/>
                    </a:lnTo>
                    <a:lnTo>
                      <a:pt x="121" y="396"/>
                    </a:lnTo>
                    <a:lnTo>
                      <a:pt x="136" y="396"/>
                    </a:lnTo>
                    <a:lnTo>
                      <a:pt x="151" y="393"/>
                    </a:lnTo>
                    <a:lnTo>
                      <a:pt x="163" y="390"/>
                    </a:lnTo>
                    <a:lnTo>
                      <a:pt x="171" y="387"/>
                    </a:lnTo>
                    <a:lnTo>
                      <a:pt x="179" y="397"/>
                    </a:lnTo>
                    <a:lnTo>
                      <a:pt x="191" y="406"/>
                    </a:lnTo>
                    <a:lnTo>
                      <a:pt x="204" y="414"/>
                    </a:lnTo>
                    <a:lnTo>
                      <a:pt x="218" y="422"/>
                    </a:lnTo>
                    <a:lnTo>
                      <a:pt x="236" y="429"/>
                    </a:lnTo>
                    <a:lnTo>
                      <a:pt x="254" y="436"/>
                    </a:lnTo>
                    <a:lnTo>
                      <a:pt x="276" y="441"/>
                    </a:lnTo>
                    <a:lnTo>
                      <a:pt x="296" y="445"/>
                    </a:lnTo>
                    <a:lnTo>
                      <a:pt x="318" y="447"/>
                    </a:lnTo>
                    <a:lnTo>
                      <a:pt x="335" y="447"/>
                    </a:lnTo>
                    <a:lnTo>
                      <a:pt x="353" y="447"/>
                    </a:lnTo>
                    <a:lnTo>
                      <a:pt x="377" y="444"/>
                    </a:lnTo>
                    <a:lnTo>
                      <a:pt x="406" y="434"/>
                    </a:lnTo>
                    <a:lnTo>
                      <a:pt x="416" y="437"/>
                    </a:lnTo>
                    <a:lnTo>
                      <a:pt x="436" y="430"/>
                    </a:lnTo>
                    <a:lnTo>
                      <a:pt x="456" y="422"/>
                    </a:lnTo>
                    <a:lnTo>
                      <a:pt x="468" y="416"/>
                    </a:lnTo>
                    <a:lnTo>
                      <a:pt x="478" y="408"/>
                    </a:lnTo>
                    <a:lnTo>
                      <a:pt x="489" y="413"/>
                    </a:lnTo>
                    <a:lnTo>
                      <a:pt x="504" y="419"/>
                    </a:lnTo>
                    <a:lnTo>
                      <a:pt x="518" y="423"/>
                    </a:lnTo>
                    <a:lnTo>
                      <a:pt x="531" y="426"/>
                    </a:lnTo>
                    <a:lnTo>
                      <a:pt x="546" y="427"/>
                    </a:lnTo>
                    <a:lnTo>
                      <a:pt x="560" y="427"/>
                    </a:lnTo>
                    <a:lnTo>
                      <a:pt x="577" y="425"/>
                    </a:lnTo>
                    <a:lnTo>
                      <a:pt x="594" y="421"/>
                    </a:lnTo>
                    <a:lnTo>
                      <a:pt x="609" y="416"/>
                    </a:lnTo>
                    <a:lnTo>
                      <a:pt x="624" y="407"/>
                    </a:lnTo>
                    <a:lnTo>
                      <a:pt x="638" y="398"/>
                    </a:lnTo>
                    <a:lnTo>
                      <a:pt x="657" y="406"/>
                    </a:lnTo>
                    <a:lnTo>
                      <a:pt x="675" y="410"/>
                    </a:lnTo>
                    <a:lnTo>
                      <a:pt x="690" y="412"/>
                    </a:lnTo>
                    <a:lnTo>
                      <a:pt x="712" y="412"/>
                    </a:lnTo>
                    <a:lnTo>
                      <a:pt x="735" y="409"/>
                    </a:lnTo>
                    <a:lnTo>
                      <a:pt x="762" y="401"/>
                    </a:lnTo>
                    <a:lnTo>
                      <a:pt x="785" y="389"/>
                    </a:lnTo>
                    <a:lnTo>
                      <a:pt x="804" y="374"/>
                    </a:lnTo>
                    <a:lnTo>
                      <a:pt x="823" y="356"/>
                    </a:lnTo>
                    <a:lnTo>
                      <a:pt x="833" y="341"/>
                    </a:lnTo>
                    <a:lnTo>
                      <a:pt x="841" y="326"/>
                    </a:lnTo>
                    <a:lnTo>
                      <a:pt x="849" y="306"/>
                    </a:lnTo>
                    <a:lnTo>
                      <a:pt x="853" y="288"/>
                    </a:lnTo>
                    <a:lnTo>
                      <a:pt x="855" y="267"/>
                    </a:lnTo>
                    <a:lnTo>
                      <a:pt x="853" y="251"/>
                    </a:lnTo>
                    <a:lnTo>
                      <a:pt x="849" y="232"/>
                    </a:lnTo>
                    <a:lnTo>
                      <a:pt x="843" y="213"/>
                    </a:lnTo>
                    <a:lnTo>
                      <a:pt x="833" y="196"/>
                    </a:lnTo>
                    <a:lnTo>
                      <a:pt x="822" y="179"/>
                    </a:lnTo>
                    <a:lnTo>
                      <a:pt x="808" y="165"/>
                    </a:lnTo>
                    <a:lnTo>
                      <a:pt x="795" y="154"/>
                    </a:lnTo>
                    <a:lnTo>
                      <a:pt x="782" y="146"/>
                    </a:lnTo>
                    <a:lnTo>
                      <a:pt x="764" y="135"/>
                    </a:lnTo>
                    <a:lnTo>
                      <a:pt x="747" y="129"/>
                    </a:lnTo>
                    <a:lnTo>
                      <a:pt x="732" y="126"/>
                    </a:lnTo>
                    <a:lnTo>
                      <a:pt x="715" y="124"/>
                    </a:lnTo>
                    <a:lnTo>
                      <a:pt x="712" y="111"/>
                    </a:lnTo>
                    <a:lnTo>
                      <a:pt x="707" y="98"/>
                    </a:lnTo>
                    <a:lnTo>
                      <a:pt x="700" y="86"/>
                    </a:lnTo>
                    <a:lnTo>
                      <a:pt x="692" y="73"/>
                    </a:lnTo>
                    <a:lnTo>
                      <a:pt x="681" y="60"/>
                    </a:lnTo>
                    <a:lnTo>
                      <a:pt x="667" y="46"/>
                    </a:lnTo>
                    <a:lnTo>
                      <a:pt x="654" y="35"/>
                    </a:lnTo>
                    <a:lnTo>
                      <a:pt x="638" y="26"/>
                    </a:lnTo>
                    <a:lnTo>
                      <a:pt x="619" y="16"/>
                    </a:lnTo>
                    <a:lnTo>
                      <a:pt x="600" y="9"/>
                    </a:lnTo>
                    <a:lnTo>
                      <a:pt x="582" y="4"/>
                    </a:lnTo>
                    <a:lnTo>
                      <a:pt x="561" y="1"/>
                    </a:lnTo>
                    <a:lnTo>
                      <a:pt x="541" y="0"/>
                    </a:lnTo>
                    <a:lnTo>
                      <a:pt x="519" y="0"/>
                    </a:lnTo>
                    <a:lnTo>
                      <a:pt x="500" y="3"/>
                    </a:lnTo>
                    <a:lnTo>
                      <a:pt x="477" y="9"/>
                    </a:lnTo>
                    <a:lnTo>
                      <a:pt x="453" y="18"/>
                    </a:lnTo>
                    <a:lnTo>
                      <a:pt x="437" y="26"/>
                    </a:lnTo>
                    <a:lnTo>
                      <a:pt x="421" y="36"/>
                    </a:lnTo>
                    <a:lnTo>
                      <a:pt x="407" y="48"/>
                    </a:lnTo>
                    <a:lnTo>
                      <a:pt x="395" y="59"/>
                    </a:lnTo>
                  </a:path>
                </a:pathLst>
              </a:custGeom>
              <a:solidFill>
                <a:srgbClr val="4080ff"/>
              </a:solidFill>
              <a:ln cap="rnd" w="50760">
                <a:solidFill>
                  <a:srgbClr val="c0e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32640" y="3682080"/>
                <a:ext cx="66600" cy="45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3480" rIns="33480" tIns="15840" bIns="15840" anchor="t">
                <a:spAutoFit/>
              </a:bodyPr>
              <a:p>
                <a:pPr>
                  <a:tabLst>
                    <a:tab algn="l" pos="0"/>
                    <a:tab algn="l" pos="274680"/>
                    <a:tab algn="l" pos="549360"/>
                    <a:tab algn="l" pos="824040"/>
                    <a:tab algn="l" pos="1098720"/>
                    <a:tab algn="l" pos="1373040"/>
                    <a:tab algn="l" pos="1647720"/>
                    <a:tab algn="l" pos="1922400"/>
                    <a:tab algn="l" pos="2197080"/>
                    <a:tab algn="l" pos="2471760"/>
                    <a:tab algn="l" pos="2746440"/>
                    <a:tab algn="l" pos="3021120"/>
                    <a:tab algn="l" pos="3295800"/>
                    <a:tab algn="l" pos="3570120"/>
                    <a:tab algn="l" pos="3844800"/>
                    <a:tab algn="l" pos="4119480"/>
                    <a:tab algn="l" pos="4394160"/>
                    <a:tab algn="l" pos="4668840"/>
                    <a:tab algn="l" pos="4943520"/>
                    <a:tab algn="l" pos="5218200"/>
                    <a:tab algn="l" pos="5492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181480" y="3352680"/>
              <a:ext cx="3549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69960" y="3352680"/>
              <a:ext cx="35568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36800" y="35053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248160" y="4038480"/>
              <a:ext cx="3549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26000" y="3657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69760" y="3886200"/>
              <a:ext cx="35568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4825800" y="3505320"/>
              <a:ext cx="355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25800" y="4038480"/>
              <a:ext cx="1422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1447920" y="28954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62320" y="3809880"/>
            <a:ext cx="53316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9880" y="53341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626600" y="3581280"/>
            <a:ext cx="772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990720" y="1981080"/>
          <a:ext cx="914400" cy="5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9144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"/>
          <p:cNvSpPr/>
          <p:nvPr/>
        </p:nvSpPr>
        <p:spPr>
          <a:xfrm>
            <a:off x="144792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477120" y="35053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8862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95480" y="38862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990720" y="45720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450080" y="47242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.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26240" y="32004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6160" y="1219320"/>
            <a:ext cx="15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á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31680" y="25909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X.25 VS FRAME RELA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 Relay deja la corrección de errores y el control de flujo al host, partiendo del hecho de que los nodos son cada vez más poderosos y que los enlaces son de mejor cal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PLICACIONES ACTUALES DE X.25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 el entorno financiero se utiliza actualmente para conectar las redes de transacciones electrónicas (Redeban, Credibanco, entre otra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des privadas de servicios VSAT como Impsat, Telegan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JEMPLO DE APLICACIÓN SOBRE  X.25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46000" y="3048120"/>
            <a:ext cx="15508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2/VO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2819520" y="1905120"/>
            <a:ext cx="3275640" cy="2285280"/>
            <a:chOff x="2819520" y="1905120"/>
            <a:chExt cx="3275640" cy="2285280"/>
          </a:xfrm>
        </p:grpSpPr>
        <p:grpSp>
          <p:nvGrpSpPr>
            <p:cNvPr id="623" name=""/>
            <p:cNvGrpSpPr/>
            <p:nvPr/>
          </p:nvGrpSpPr>
          <p:grpSpPr>
            <a:xfrm>
              <a:off x="2819520" y="1905120"/>
              <a:ext cx="3275640" cy="2285280"/>
              <a:chOff x="2819520" y="1905120"/>
              <a:chExt cx="3275640" cy="2285280"/>
            </a:xfrm>
          </p:grpSpPr>
          <p:sp>
            <p:nvSpPr>
              <p:cNvPr id="624" name=""/>
              <p:cNvSpPr/>
              <p:nvPr/>
            </p:nvSpPr>
            <p:spPr>
              <a:xfrm>
                <a:off x="2819520" y="1905120"/>
                <a:ext cx="3275640" cy="2285280"/>
              </a:xfrm>
              <a:custGeom>
                <a:avLst/>
                <a:gdLst/>
                <a:ahLst/>
                <a:rect l="l" t="t" r="r" b="b"/>
                <a:pathLst>
                  <a:path w="856" h="448">
                    <a:moveTo>
                      <a:pt x="395" y="59"/>
                    </a:moveTo>
                    <a:lnTo>
                      <a:pt x="375" y="55"/>
                    </a:lnTo>
                    <a:lnTo>
                      <a:pt x="348" y="50"/>
                    </a:lnTo>
                    <a:lnTo>
                      <a:pt x="325" y="49"/>
                    </a:lnTo>
                    <a:lnTo>
                      <a:pt x="301" y="51"/>
                    </a:lnTo>
                    <a:lnTo>
                      <a:pt x="283" y="53"/>
                    </a:lnTo>
                    <a:lnTo>
                      <a:pt x="266" y="57"/>
                    </a:lnTo>
                    <a:lnTo>
                      <a:pt x="247" y="63"/>
                    </a:lnTo>
                    <a:lnTo>
                      <a:pt x="229" y="71"/>
                    </a:lnTo>
                    <a:lnTo>
                      <a:pt x="211" y="82"/>
                    </a:lnTo>
                    <a:lnTo>
                      <a:pt x="193" y="96"/>
                    </a:lnTo>
                    <a:lnTo>
                      <a:pt x="181" y="109"/>
                    </a:lnTo>
                    <a:lnTo>
                      <a:pt x="173" y="121"/>
                    </a:lnTo>
                    <a:lnTo>
                      <a:pt x="165" y="134"/>
                    </a:lnTo>
                    <a:lnTo>
                      <a:pt x="160" y="151"/>
                    </a:lnTo>
                    <a:lnTo>
                      <a:pt x="145" y="147"/>
                    </a:lnTo>
                    <a:lnTo>
                      <a:pt x="127" y="145"/>
                    </a:lnTo>
                    <a:lnTo>
                      <a:pt x="111" y="145"/>
                    </a:lnTo>
                    <a:lnTo>
                      <a:pt x="94" y="148"/>
                    </a:lnTo>
                    <a:lnTo>
                      <a:pt x="79" y="153"/>
                    </a:lnTo>
                    <a:lnTo>
                      <a:pt x="64" y="159"/>
                    </a:lnTo>
                    <a:lnTo>
                      <a:pt x="48" y="170"/>
                    </a:lnTo>
                    <a:lnTo>
                      <a:pt x="39" y="179"/>
                    </a:lnTo>
                    <a:lnTo>
                      <a:pt x="28" y="189"/>
                    </a:lnTo>
                    <a:lnTo>
                      <a:pt x="19" y="201"/>
                    </a:lnTo>
                    <a:lnTo>
                      <a:pt x="11" y="217"/>
                    </a:lnTo>
                    <a:lnTo>
                      <a:pt x="6" y="232"/>
                    </a:lnTo>
                    <a:lnTo>
                      <a:pt x="2" y="247"/>
                    </a:lnTo>
                    <a:lnTo>
                      <a:pt x="1" y="259"/>
                    </a:lnTo>
                    <a:lnTo>
                      <a:pt x="0" y="271"/>
                    </a:lnTo>
                    <a:lnTo>
                      <a:pt x="1" y="286"/>
                    </a:lnTo>
                    <a:lnTo>
                      <a:pt x="3" y="299"/>
                    </a:lnTo>
                    <a:lnTo>
                      <a:pt x="7" y="312"/>
                    </a:lnTo>
                    <a:lnTo>
                      <a:pt x="12" y="325"/>
                    </a:lnTo>
                    <a:lnTo>
                      <a:pt x="19" y="339"/>
                    </a:lnTo>
                    <a:lnTo>
                      <a:pt x="29" y="353"/>
                    </a:lnTo>
                    <a:lnTo>
                      <a:pt x="40" y="364"/>
                    </a:lnTo>
                    <a:lnTo>
                      <a:pt x="53" y="375"/>
                    </a:lnTo>
                    <a:lnTo>
                      <a:pt x="68" y="383"/>
                    </a:lnTo>
                    <a:lnTo>
                      <a:pt x="80" y="389"/>
                    </a:lnTo>
                    <a:lnTo>
                      <a:pt x="92" y="392"/>
                    </a:lnTo>
                    <a:lnTo>
                      <a:pt x="106" y="396"/>
                    </a:lnTo>
                    <a:lnTo>
                      <a:pt x="121" y="396"/>
                    </a:lnTo>
                    <a:lnTo>
                      <a:pt x="136" y="396"/>
                    </a:lnTo>
                    <a:lnTo>
                      <a:pt x="151" y="393"/>
                    </a:lnTo>
                    <a:lnTo>
                      <a:pt x="163" y="390"/>
                    </a:lnTo>
                    <a:lnTo>
                      <a:pt x="171" y="387"/>
                    </a:lnTo>
                    <a:lnTo>
                      <a:pt x="179" y="397"/>
                    </a:lnTo>
                    <a:lnTo>
                      <a:pt x="191" y="406"/>
                    </a:lnTo>
                    <a:lnTo>
                      <a:pt x="204" y="414"/>
                    </a:lnTo>
                    <a:lnTo>
                      <a:pt x="218" y="422"/>
                    </a:lnTo>
                    <a:lnTo>
                      <a:pt x="236" y="429"/>
                    </a:lnTo>
                    <a:lnTo>
                      <a:pt x="254" y="436"/>
                    </a:lnTo>
                    <a:lnTo>
                      <a:pt x="276" y="441"/>
                    </a:lnTo>
                    <a:lnTo>
                      <a:pt x="296" y="445"/>
                    </a:lnTo>
                    <a:lnTo>
                      <a:pt x="318" y="447"/>
                    </a:lnTo>
                    <a:lnTo>
                      <a:pt x="335" y="447"/>
                    </a:lnTo>
                    <a:lnTo>
                      <a:pt x="353" y="447"/>
                    </a:lnTo>
                    <a:lnTo>
                      <a:pt x="377" y="444"/>
                    </a:lnTo>
                    <a:lnTo>
                      <a:pt x="406" y="434"/>
                    </a:lnTo>
                    <a:lnTo>
                      <a:pt x="416" y="437"/>
                    </a:lnTo>
                    <a:lnTo>
                      <a:pt x="436" y="430"/>
                    </a:lnTo>
                    <a:lnTo>
                      <a:pt x="456" y="422"/>
                    </a:lnTo>
                    <a:lnTo>
                      <a:pt x="468" y="416"/>
                    </a:lnTo>
                    <a:lnTo>
                      <a:pt x="478" y="408"/>
                    </a:lnTo>
                    <a:lnTo>
                      <a:pt x="489" y="413"/>
                    </a:lnTo>
                    <a:lnTo>
                      <a:pt x="504" y="419"/>
                    </a:lnTo>
                    <a:lnTo>
                      <a:pt x="518" y="423"/>
                    </a:lnTo>
                    <a:lnTo>
                      <a:pt x="531" y="426"/>
                    </a:lnTo>
                    <a:lnTo>
                      <a:pt x="546" y="427"/>
                    </a:lnTo>
                    <a:lnTo>
                      <a:pt x="560" y="427"/>
                    </a:lnTo>
                    <a:lnTo>
                      <a:pt x="577" y="425"/>
                    </a:lnTo>
                    <a:lnTo>
                      <a:pt x="594" y="421"/>
                    </a:lnTo>
                    <a:lnTo>
                      <a:pt x="609" y="416"/>
                    </a:lnTo>
                    <a:lnTo>
                      <a:pt x="624" y="407"/>
                    </a:lnTo>
                    <a:lnTo>
                      <a:pt x="638" y="398"/>
                    </a:lnTo>
                    <a:lnTo>
                      <a:pt x="657" y="406"/>
                    </a:lnTo>
                    <a:lnTo>
                      <a:pt x="675" y="410"/>
                    </a:lnTo>
                    <a:lnTo>
                      <a:pt x="690" y="412"/>
                    </a:lnTo>
                    <a:lnTo>
                      <a:pt x="712" y="412"/>
                    </a:lnTo>
                    <a:lnTo>
                      <a:pt x="735" y="409"/>
                    </a:lnTo>
                    <a:lnTo>
                      <a:pt x="762" y="401"/>
                    </a:lnTo>
                    <a:lnTo>
                      <a:pt x="785" y="389"/>
                    </a:lnTo>
                    <a:lnTo>
                      <a:pt x="804" y="374"/>
                    </a:lnTo>
                    <a:lnTo>
                      <a:pt x="823" y="356"/>
                    </a:lnTo>
                    <a:lnTo>
                      <a:pt x="833" y="341"/>
                    </a:lnTo>
                    <a:lnTo>
                      <a:pt x="841" y="326"/>
                    </a:lnTo>
                    <a:lnTo>
                      <a:pt x="849" y="306"/>
                    </a:lnTo>
                    <a:lnTo>
                      <a:pt x="853" y="288"/>
                    </a:lnTo>
                    <a:lnTo>
                      <a:pt x="855" y="267"/>
                    </a:lnTo>
                    <a:lnTo>
                      <a:pt x="853" y="251"/>
                    </a:lnTo>
                    <a:lnTo>
                      <a:pt x="849" y="232"/>
                    </a:lnTo>
                    <a:lnTo>
                      <a:pt x="843" y="213"/>
                    </a:lnTo>
                    <a:lnTo>
                      <a:pt x="833" y="196"/>
                    </a:lnTo>
                    <a:lnTo>
                      <a:pt x="822" y="179"/>
                    </a:lnTo>
                    <a:lnTo>
                      <a:pt x="808" y="165"/>
                    </a:lnTo>
                    <a:lnTo>
                      <a:pt x="795" y="154"/>
                    </a:lnTo>
                    <a:lnTo>
                      <a:pt x="782" y="146"/>
                    </a:lnTo>
                    <a:lnTo>
                      <a:pt x="764" y="135"/>
                    </a:lnTo>
                    <a:lnTo>
                      <a:pt x="747" y="129"/>
                    </a:lnTo>
                    <a:lnTo>
                      <a:pt x="732" y="126"/>
                    </a:lnTo>
                    <a:lnTo>
                      <a:pt x="715" y="124"/>
                    </a:lnTo>
                    <a:lnTo>
                      <a:pt x="712" y="111"/>
                    </a:lnTo>
                    <a:lnTo>
                      <a:pt x="707" y="98"/>
                    </a:lnTo>
                    <a:lnTo>
                      <a:pt x="700" y="86"/>
                    </a:lnTo>
                    <a:lnTo>
                      <a:pt x="692" y="73"/>
                    </a:lnTo>
                    <a:lnTo>
                      <a:pt x="681" y="60"/>
                    </a:lnTo>
                    <a:lnTo>
                      <a:pt x="667" y="46"/>
                    </a:lnTo>
                    <a:lnTo>
                      <a:pt x="654" y="35"/>
                    </a:lnTo>
                    <a:lnTo>
                      <a:pt x="638" y="26"/>
                    </a:lnTo>
                    <a:lnTo>
                      <a:pt x="619" y="16"/>
                    </a:lnTo>
                    <a:lnTo>
                      <a:pt x="600" y="9"/>
                    </a:lnTo>
                    <a:lnTo>
                      <a:pt x="582" y="4"/>
                    </a:lnTo>
                    <a:lnTo>
                      <a:pt x="561" y="1"/>
                    </a:lnTo>
                    <a:lnTo>
                      <a:pt x="541" y="0"/>
                    </a:lnTo>
                    <a:lnTo>
                      <a:pt x="519" y="0"/>
                    </a:lnTo>
                    <a:lnTo>
                      <a:pt x="500" y="3"/>
                    </a:lnTo>
                    <a:lnTo>
                      <a:pt x="477" y="9"/>
                    </a:lnTo>
                    <a:lnTo>
                      <a:pt x="453" y="18"/>
                    </a:lnTo>
                    <a:lnTo>
                      <a:pt x="437" y="26"/>
                    </a:lnTo>
                    <a:lnTo>
                      <a:pt x="421" y="36"/>
                    </a:lnTo>
                    <a:lnTo>
                      <a:pt x="407" y="48"/>
                    </a:lnTo>
                    <a:lnTo>
                      <a:pt x="395" y="59"/>
                    </a:lnTo>
                  </a:path>
                </a:pathLst>
              </a:custGeom>
              <a:solidFill>
                <a:srgbClr val="4080ff"/>
              </a:solidFill>
              <a:ln cap="rnd" w="50760">
                <a:solidFill>
                  <a:srgbClr val="c0e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554280" y="2948400"/>
                <a:ext cx="6516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3480" rIns="33480" tIns="15840" bIns="15840" anchor="t">
                <a:spAutoFit/>
              </a:bodyPr>
              <a:p>
                <a:pPr>
                  <a:tabLst>
                    <a:tab algn="l" pos="0"/>
                    <a:tab algn="l" pos="274680"/>
                    <a:tab algn="l" pos="549360"/>
                    <a:tab algn="l" pos="824040"/>
                    <a:tab algn="l" pos="1098720"/>
                    <a:tab algn="l" pos="1373040"/>
                    <a:tab algn="l" pos="1647720"/>
                    <a:tab algn="l" pos="1922400"/>
                    <a:tab algn="l" pos="2197080"/>
                    <a:tab algn="l" pos="2471760"/>
                    <a:tab algn="l" pos="2746440"/>
                    <a:tab algn="l" pos="3021120"/>
                    <a:tab algn="l" pos="3295800"/>
                    <a:tab algn="l" pos="3570120"/>
                    <a:tab algn="l" pos="3844800"/>
                    <a:tab algn="l" pos="4119480"/>
                    <a:tab algn="l" pos="4394160"/>
                    <a:tab algn="l" pos="4668840"/>
                    <a:tab algn="l" pos="4943520"/>
                    <a:tab algn="l" pos="5218200"/>
                    <a:tab algn="l" pos="5492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>
              <a:off x="3911400" y="2582280"/>
              <a:ext cx="363600" cy="338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821120" y="2582280"/>
              <a:ext cx="363960" cy="338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275360" y="2751840"/>
              <a:ext cx="54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03640" y="3344040"/>
              <a:ext cx="363600" cy="338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5440" y="2921040"/>
              <a:ext cx="0" cy="42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183120" y="3174840"/>
              <a:ext cx="363960" cy="338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3547440" y="2751480"/>
              <a:ext cx="363960" cy="42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547440" y="3344040"/>
              <a:ext cx="145620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6789600" y="2130480"/>
            <a:ext cx="18417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24/GUAR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N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867280" y="228564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137320" y="1295280"/>
            <a:ext cx="198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24lasc_info.tin (x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x25_network_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438280" y="33526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85800" y="1371600"/>
            <a:ext cx="1450800" cy="838080"/>
            <a:chOff x="685800" y="1371600"/>
            <a:chExt cx="1450800" cy="838080"/>
          </a:xfrm>
        </p:grpSpPr>
        <p:sp>
          <p:nvSpPr>
            <p:cNvPr id="639" name=""/>
            <p:cNvSpPr/>
            <p:nvPr/>
          </p:nvSpPr>
          <p:spPr>
            <a:xfrm>
              <a:off x="758160" y="1627920"/>
              <a:ext cx="137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WAP B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5800" y="1371600"/>
              <a:ext cx="144792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1219320" y="220968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2743200" y="3657600"/>
            <a:ext cx="53352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743200" y="373392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830600" y="5715000"/>
            <a:ext cx="255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ckbone de M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yper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8960" y="4114800"/>
            <a:ext cx="166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 X.2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E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088040" y="327672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: 5555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444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830240" y="236232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: 4444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555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542920" y="5451480"/>
            <a:ext cx="303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tefinanciera pon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lamada SV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o P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-360" y="42670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x25_exchange.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CP/IP SOBRE X.25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C-135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 llegar un paquete al enrutador para una interface X.25 se establece la llamada sino está ya acti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 primer byte (NLPI) en el CUD(call user Data) identifica el tipo de protocolo contenido (CC: IP; 81 CLNP; 80 SNAP( subnetwork access protocol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ueden tener varios protocolos por un circuito o circuitos independientes por protocol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IBLIOGRAFI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unicaciones de datos, redes de computadores y Sistemas abiertos. Fred Halsall. Cuarta Edi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unicaciones y redes de procesamiento de datos. Nestor Gonzales Sai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munications Software: X.25 and X.29 Programming. Stratu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OS BASIC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 3 tipos de servicio básico: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entados a conexión: PVC y SV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rientados a conexión: DATAGRA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garantiza la entrega confiable y en ord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eja paquetes de longitud vari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ume alta tasa de errores en el medio fís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e del hecho de que el medio es no confiable (finales de los 70, principios de los ochenta) al ser generalmente análo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OS BASIC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ucho overhead: secuencializa y corrige errores en nivel 2 y 3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locidades típicas entre: 56Kbps y 2 Mbps (Típico 64 Kbps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da nodo en el medio procesa la inform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tres capas son de ámbito loca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percibe el concepto de circuito en la nube sin importar como o quien lo prove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NORMAS X.25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rende una serie de estándares.  Entre otr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.1: Clases de servicios PD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.2: Tipos de servic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.21: Nivel físico con DCE digitales sincrónic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.25: Interconexión entre DTE y D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.28: Conexión DTE/DCE a través de P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.29: Conexión DTE/P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.75: Interconexión de redes publicas X.25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.121: numeración en redes públic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OTRAS NORMAS 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.215: Servicios de la Ses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.214: Servicios del Transpor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.225: Protocolo de la ses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.224: Protocolo del transpor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.121: nume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ESCENARIO X.25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76720" y="1066680"/>
            <a:ext cx="2742840" cy="2057040"/>
            <a:chOff x="3276720" y="1066680"/>
            <a:chExt cx="2742840" cy="2057040"/>
          </a:xfrm>
        </p:grpSpPr>
        <p:sp>
          <p:nvSpPr>
            <p:cNvPr id="116" name=""/>
            <p:cNvSpPr/>
            <p:nvPr/>
          </p:nvSpPr>
          <p:spPr>
            <a:xfrm>
              <a:off x="3276720" y="1066680"/>
              <a:ext cx="2742840" cy="20570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00240" y="2005560"/>
              <a:ext cx="7686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.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838080" y="2666880"/>
            <a:ext cx="1952280" cy="1447560"/>
            <a:chOff x="838080" y="2666880"/>
            <a:chExt cx="1952280" cy="1447560"/>
          </a:xfrm>
        </p:grpSpPr>
        <p:sp>
          <p:nvSpPr>
            <p:cNvPr id="119" name=""/>
            <p:cNvSpPr/>
            <p:nvPr/>
          </p:nvSpPr>
          <p:spPr>
            <a:xfrm>
              <a:off x="838080" y="2666880"/>
              <a:ext cx="1952280" cy="144756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81960" y="3327840"/>
              <a:ext cx="7686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.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248520" y="2971800"/>
            <a:ext cx="1952280" cy="1447560"/>
            <a:chOff x="6248520" y="2971800"/>
            <a:chExt cx="1952280" cy="1447560"/>
          </a:xfrm>
        </p:grpSpPr>
        <p:sp>
          <p:nvSpPr>
            <p:cNvPr id="122" name=""/>
            <p:cNvSpPr/>
            <p:nvPr/>
          </p:nvSpPr>
          <p:spPr>
            <a:xfrm>
              <a:off x="6248520" y="2971800"/>
              <a:ext cx="1952280" cy="144756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92400" y="3632760"/>
              <a:ext cx="7686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.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191120" y="1676520"/>
            <a:ext cx="30456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1676520"/>
            <a:ext cx="30492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2362320"/>
            <a:ext cx="30456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495320" y="2666880"/>
            <a:ext cx="7621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2514600"/>
            <a:ext cx="16765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3048120"/>
            <a:ext cx="30456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657600" y="3505320"/>
            <a:ext cx="1952280" cy="1447200"/>
            <a:chOff x="3657600" y="3505320"/>
            <a:chExt cx="1952280" cy="1447200"/>
          </a:xfrm>
        </p:grpSpPr>
        <p:grpSp>
          <p:nvGrpSpPr>
            <p:cNvPr id="133" name=""/>
            <p:cNvGrpSpPr/>
            <p:nvPr/>
          </p:nvGrpSpPr>
          <p:grpSpPr>
            <a:xfrm>
              <a:off x="3657600" y="3505320"/>
              <a:ext cx="1952280" cy="1447200"/>
              <a:chOff x="3657600" y="3505320"/>
              <a:chExt cx="1952280" cy="1447200"/>
            </a:xfrm>
          </p:grpSpPr>
          <p:sp>
            <p:nvSpPr>
              <p:cNvPr id="134" name=""/>
              <p:cNvSpPr/>
              <p:nvPr/>
            </p:nvSpPr>
            <p:spPr>
              <a:xfrm>
                <a:off x="3657600" y="3505320"/>
                <a:ext cx="1952280" cy="1447200"/>
              </a:xfrm>
              <a:custGeom>
                <a:avLst/>
                <a:gdLst/>
                <a:ahLst/>
                <a:rect l="l" t="t" r="r" b="b"/>
                <a:pathLst>
                  <a:path w="856" h="448">
                    <a:moveTo>
                      <a:pt x="395" y="59"/>
                    </a:moveTo>
                    <a:lnTo>
                      <a:pt x="375" y="55"/>
                    </a:lnTo>
                    <a:lnTo>
                      <a:pt x="348" y="50"/>
                    </a:lnTo>
                    <a:lnTo>
                      <a:pt x="325" y="49"/>
                    </a:lnTo>
                    <a:lnTo>
                      <a:pt x="301" y="51"/>
                    </a:lnTo>
                    <a:lnTo>
                      <a:pt x="283" y="53"/>
                    </a:lnTo>
                    <a:lnTo>
                      <a:pt x="266" y="57"/>
                    </a:lnTo>
                    <a:lnTo>
                      <a:pt x="247" y="63"/>
                    </a:lnTo>
                    <a:lnTo>
                      <a:pt x="229" y="71"/>
                    </a:lnTo>
                    <a:lnTo>
                      <a:pt x="211" y="82"/>
                    </a:lnTo>
                    <a:lnTo>
                      <a:pt x="193" y="96"/>
                    </a:lnTo>
                    <a:lnTo>
                      <a:pt x="181" y="109"/>
                    </a:lnTo>
                    <a:lnTo>
                      <a:pt x="173" y="121"/>
                    </a:lnTo>
                    <a:lnTo>
                      <a:pt x="165" y="134"/>
                    </a:lnTo>
                    <a:lnTo>
                      <a:pt x="160" y="151"/>
                    </a:lnTo>
                    <a:lnTo>
                      <a:pt x="145" y="147"/>
                    </a:lnTo>
                    <a:lnTo>
                      <a:pt x="127" y="145"/>
                    </a:lnTo>
                    <a:lnTo>
                      <a:pt x="111" y="145"/>
                    </a:lnTo>
                    <a:lnTo>
                      <a:pt x="94" y="148"/>
                    </a:lnTo>
                    <a:lnTo>
                      <a:pt x="79" y="153"/>
                    </a:lnTo>
                    <a:lnTo>
                      <a:pt x="64" y="159"/>
                    </a:lnTo>
                    <a:lnTo>
                      <a:pt x="48" y="170"/>
                    </a:lnTo>
                    <a:lnTo>
                      <a:pt x="39" y="179"/>
                    </a:lnTo>
                    <a:lnTo>
                      <a:pt x="28" y="189"/>
                    </a:lnTo>
                    <a:lnTo>
                      <a:pt x="19" y="201"/>
                    </a:lnTo>
                    <a:lnTo>
                      <a:pt x="11" y="217"/>
                    </a:lnTo>
                    <a:lnTo>
                      <a:pt x="6" y="232"/>
                    </a:lnTo>
                    <a:lnTo>
                      <a:pt x="2" y="247"/>
                    </a:lnTo>
                    <a:lnTo>
                      <a:pt x="1" y="259"/>
                    </a:lnTo>
                    <a:lnTo>
                      <a:pt x="0" y="271"/>
                    </a:lnTo>
                    <a:lnTo>
                      <a:pt x="1" y="286"/>
                    </a:lnTo>
                    <a:lnTo>
                      <a:pt x="3" y="299"/>
                    </a:lnTo>
                    <a:lnTo>
                      <a:pt x="7" y="312"/>
                    </a:lnTo>
                    <a:lnTo>
                      <a:pt x="12" y="325"/>
                    </a:lnTo>
                    <a:lnTo>
                      <a:pt x="19" y="339"/>
                    </a:lnTo>
                    <a:lnTo>
                      <a:pt x="29" y="353"/>
                    </a:lnTo>
                    <a:lnTo>
                      <a:pt x="40" y="364"/>
                    </a:lnTo>
                    <a:lnTo>
                      <a:pt x="53" y="375"/>
                    </a:lnTo>
                    <a:lnTo>
                      <a:pt x="68" y="383"/>
                    </a:lnTo>
                    <a:lnTo>
                      <a:pt x="80" y="389"/>
                    </a:lnTo>
                    <a:lnTo>
                      <a:pt x="92" y="392"/>
                    </a:lnTo>
                    <a:lnTo>
                      <a:pt x="106" y="396"/>
                    </a:lnTo>
                    <a:lnTo>
                      <a:pt x="121" y="396"/>
                    </a:lnTo>
                    <a:lnTo>
                      <a:pt x="136" y="396"/>
                    </a:lnTo>
                    <a:lnTo>
                      <a:pt x="151" y="393"/>
                    </a:lnTo>
                    <a:lnTo>
                      <a:pt x="163" y="390"/>
                    </a:lnTo>
                    <a:lnTo>
                      <a:pt x="171" y="387"/>
                    </a:lnTo>
                    <a:lnTo>
                      <a:pt x="179" y="397"/>
                    </a:lnTo>
                    <a:lnTo>
                      <a:pt x="191" y="406"/>
                    </a:lnTo>
                    <a:lnTo>
                      <a:pt x="204" y="414"/>
                    </a:lnTo>
                    <a:lnTo>
                      <a:pt x="218" y="422"/>
                    </a:lnTo>
                    <a:lnTo>
                      <a:pt x="236" y="429"/>
                    </a:lnTo>
                    <a:lnTo>
                      <a:pt x="254" y="436"/>
                    </a:lnTo>
                    <a:lnTo>
                      <a:pt x="276" y="441"/>
                    </a:lnTo>
                    <a:lnTo>
                      <a:pt x="296" y="445"/>
                    </a:lnTo>
                    <a:lnTo>
                      <a:pt x="318" y="447"/>
                    </a:lnTo>
                    <a:lnTo>
                      <a:pt x="335" y="447"/>
                    </a:lnTo>
                    <a:lnTo>
                      <a:pt x="353" y="447"/>
                    </a:lnTo>
                    <a:lnTo>
                      <a:pt x="377" y="444"/>
                    </a:lnTo>
                    <a:lnTo>
                      <a:pt x="406" y="434"/>
                    </a:lnTo>
                    <a:lnTo>
                      <a:pt x="416" y="437"/>
                    </a:lnTo>
                    <a:lnTo>
                      <a:pt x="436" y="430"/>
                    </a:lnTo>
                    <a:lnTo>
                      <a:pt x="456" y="422"/>
                    </a:lnTo>
                    <a:lnTo>
                      <a:pt x="468" y="416"/>
                    </a:lnTo>
                    <a:lnTo>
                      <a:pt x="478" y="408"/>
                    </a:lnTo>
                    <a:lnTo>
                      <a:pt x="489" y="413"/>
                    </a:lnTo>
                    <a:lnTo>
                      <a:pt x="504" y="419"/>
                    </a:lnTo>
                    <a:lnTo>
                      <a:pt x="518" y="423"/>
                    </a:lnTo>
                    <a:lnTo>
                      <a:pt x="531" y="426"/>
                    </a:lnTo>
                    <a:lnTo>
                      <a:pt x="546" y="427"/>
                    </a:lnTo>
                    <a:lnTo>
                      <a:pt x="560" y="427"/>
                    </a:lnTo>
                    <a:lnTo>
                      <a:pt x="577" y="425"/>
                    </a:lnTo>
                    <a:lnTo>
                      <a:pt x="594" y="421"/>
                    </a:lnTo>
                    <a:lnTo>
                      <a:pt x="609" y="416"/>
                    </a:lnTo>
                    <a:lnTo>
                      <a:pt x="624" y="407"/>
                    </a:lnTo>
                    <a:lnTo>
                      <a:pt x="638" y="398"/>
                    </a:lnTo>
                    <a:lnTo>
                      <a:pt x="657" y="406"/>
                    </a:lnTo>
                    <a:lnTo>
                      <a:pt x="675" y="410"/>
                    </a:lnTo>
                    <a:lnTo>
                      <a:pt x="690" y="412"/>
                    </a:lnTo>
                    <a:lnTo>
                      <a:pt x="712" y="412"/>
                    </a:lnTo>
                    <a:lnTo>
                      <a:pt x="735" y="409"/>
                    </a:lnTo>
                    <a:lnTo>
                      <a:pt x="762" y="401"/>
                    </a:lnTo>
                    <a:lnTo>
                      <a:pt x="785" y="389"/>
                    </a:lnTo>
                    <a:lnTo>
                      <a:pt x="804" y="374"/>
                    </a:lnTo>
                    <a:lnTo>
                      <a:pt x="823" y="356"/>
                    </a:lnTo>
                    <a:lnTo>
                      <a:pt x="833" y="341"/>
                    </a:lnTo>
                    <a:lnTo>
                      <a:pt x="841" y="326"/>
                    </a:lnTo>
                    <a:lnTo>
                      <a:pt x="849" y="306"/>
                    </a:lnTo>
                    <a:lnTo>
                      <a:pt x="853" y="288"/>
                    </a:lnTo>
                    <a:lnTo>
                      <a:pt x="855" y="267"/>
                    </a:lnTo>
                    <a:lnTo>
                      <a:pt x="853" y="251"/>
                    </a:lnTo>
                    <a:lnTo>
                      <a:pt x="849" y="232"/>
                    </a:lnTo>
                    <a:lnTo>
                      <a:pt x="843" y="213"/>
                    </a:lnTo>
                    <a:lnTo>
                      <a:pt x="833" y="196"/>
                    </a:lnTo>
                    <a:lnTo>
                      <a:pt x="822" y="179"/>
                    </a:lnTo>
                    <a:lnTo>
                      <a:pt x="808" y="165"/>
                    </a:lnTo>
                    <a:lnTo>
                      <a:pt x="795" y="154"/>
                    </a:lnTo>
                    <a:lnTo>
                      <a:pt x="782" y="146"/>
                    </a:lnTo>
                    <a:lnTo>
                      <a:pt x="764" y="135"/>
                    </a:lnTo>
                    <a:lnTo>
                      <a:pt x="747" y="129"/>
                    </a:lnTo>
                    <a:lnTo>
                      <a:pt x="732" y="126"/>
                    </a:lnTo>
                    <a:lnTo>
                      <a:pt x="715" y="124"/>
                    </a:lnTo>
                    <a:lnTo>
                      <a:pt x="712" y="111"/>
                    </a:lnTo>
                    <a:lnTo>
                      <a:pt x="707" y="98"/>
                    </a:lnTo>
                    <a:lnTo>
                      <a:pt x="700" y="86"/>
                    </a:lnTo>
                    <a:lnTo>
                      <a:pt x="692" y="73"/>
                    </a:lnTo>
                    <a:lnTo>
                      <a:pt x="681" y="60"/>
                    </a:lnTo>
                    <a:lnTo>
                      <a:pt x="667" y="46"/>
                    </a:lnTo>
                    <a:lnTo>
                      <a:pt x="654" y="35"/>
                    </a:lnTo>
                    <a:lnTo>
                      <a:pt x="638" y="26"/>
                    </a:lnTo>
                    <a:lnTo>
                      <a:pt x="619" y="16"/>
                    </a:lnTo>
                    <a:lnTo>
                      <a:pt x="600" y="9"/>
                    </a:lnTo>
                    <a:lnTo>
                      <a:pt x="582" y="4"/>
                    </a:lnTo>
                    <a:lnTo>
                      <a:pt x="561" y="1"/>
                    </a:lnTo>
                    <a:lnTo>
                      <a:pt x="541" y="0"/>
                    </a:lnTo>
                    <a:lnTo>
                      <a:pt x="519" y="0"/>
                    </a:lnTo>
                    <a:lnTo>
                      <a:pt x="500" y="3"/>
                    </a:lnTo>
                    <a:lnTo>
                      <a:pt x="477" y="9"/>
                    </a:lnTo>
                    <a:lnTo>
                      <a:pt x="453" y="18"/>
                    </a:lnTo>
                    <a:lnTo>
                      <a:pt x="437" y="26"/>
                    </a:lnTo>
                    <a:lnTo>
                      <a:pt x="421" y="36"/>
                    </a:lnTo>
                    <a:lnTo>
                      <a:pt x="407" y="48"/>
                    </a:lnTo>
                    <a:lnTo>
                      <a:pt x="395" y="59"/>
                    </a:lnTo>
                  </a:path>
                </a:pathLst>
              </a:custGeom>
              <a:solidFill>
                <a:srgbClr val="4080ff"/>
              </a:solidFill>
              <a:ln cap="rnd" w="50760">
                <a:solidFill>
                  <a:srgbClr val="c0e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01480" y="4165920"/>
                <a:ext cx="744480" cy="3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3480" rIns="33480" tIns="15840" bIns="15840" anchor="t">
                <a:spAutoFit/>
              </a:bodyPr>
              <a:p>
                <a:pPr>
                  <a:tabLst>
                    <a:tab algn="l" pos="0"/>
                    <a:tab algn="l" pos="274680"/>
                    <a:tab algn="l" pos="549360"/>
                    <a:tab algn="l" pos="824040"/>
                    <a:tab algn="l" pos="1098720"/>
                    <a:tab algn="l" pos="1373040"/>
                    <a:tab algn="l" pos="1647720"/>
                    <a:tab algn="l" pos="1922400"/>
                    <a:tab algn="l" pos="2197080"/>
                    <a:tab algn="l" pos="2471760"/>
                    <a:tab algn="l" pos="2746440"/>
                    <a:tab algn="l" pos="3021120"/>
                    <a:tab algn="l" pos="3295800"/>
                    <a:tab algn="l" pos="3570120"/>
                    <a:tab algn="l" pos="3844800"/>
                    <a:tab algn="l" pos="4119480"/>
                    <a:tab algn="l" pos="4394160"/>
                    <a:tab algn="l" pos="4668840"/>
                    <a:tab algn="l" pos="4943520"/>
                    <a:tab algn="l" pos="5218200"/>
                    <a:tab algn="l" pos="5492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.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4647960" y="3809880"/>
              <a:ext cx="30492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160" y="4267080"/>
              <a:ext cx="30492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9880" y="419112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114800" y="388584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52880" y="39625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086600" y="3276720"/>
            <a:ext cx="30492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733920"/>
            <a:ext cx="30492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3429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505320"/>
            <a:ext cx="30492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33526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486040" y="20574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160" y="1905120"/>
            <a:ext cx="2612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SWITCHED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ICHE X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209680" y="1828440"/>
            <a:ext cx="198144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29520" y="263196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057400" y="3809880"/>
            <a:ext cx="3808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5257800"/>
            <a:ext cx="5335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1066680"/>
          <a:ext cx="914400" cy="5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9144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784872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5334120"/>
            <a:ext cx="5335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70840" y="5791320"/>
            <a:ext cx="1396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2468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58560" y="525780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51055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.21B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68960" y="3809880"/>
            <a:ext cx="781200" cy="2056680"/>
            <a:chOff x="768960" y="3809880"/>
            <a:chExt cx="781200" cy="2056680"/>
          </a:xfrm>
        </p:grpSpPr>
        <p:sp>
          <p:nvSpPr>
            <p:cNvPr id="162" name=""/>
            <p:cNvSpPr/>
            <p:nvPr/>
          </p:nvSpPr>
          <p:spPr>
            <a:xfrm>
              <a:off x="1143000" y="3809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8960" y="4495680"/>
              <a:ext cx="781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.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43000" y="5318640"/>
              <a:ext cx="0" cy="547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331320" y="4038480"/>
            <a:ext cx="781200" cy="1752480"/>
            <a:chOff x="6331320" y="4038480"/>
            <a:chExt cx="781200" cy="1752480"/>
          </a:xfrm>
        </p:grpSpPr>
        <p:sp>
          <p:nvSpPr>
            <p:cNvPr id="166" name=""/>
            <p:cNvSpPr/>
            <p:nvPr/>
          </p:nvSpPr>
          <p:spPr>
            <a:xfrm>
              <a:off x="6705360" y="403848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1320" y="4622760"/>
              <a:ext cx="781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.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05360" y="5324040"/>
              <a:ext cx="0" cy="466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H="1" flipV="1">
            <a:off x="2971440" y="144756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41640" y="1143000"/>
            <a:ext cx="788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990360" y="1295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55840" y="5638680"/>
            <a:ext cx="1396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7040" y="144792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360" y="60948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.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10400" y="167652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153280" y="4876920"/>
            <a:ext cx="685800" cy="152280"/>
            <a:chOff x="8153280" y="4876920"/>
            <a:chExt cx="685800" cy="152280"/>
          </a:xfrm>
        </p:grpSpPr>
        <p:sp>
          <p:nvSpPr>
            <p:cNvPr id="177" name=""/>
            <p:cNvSpPr/>
            <p:nvPr/>
          </p:nvSpPr>
          <p:spPr>
            <a:xfrm>
              <a:off x="8153280" y="5029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81880" y="4876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1880" y="4876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34160" y="4876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534160" y="50292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686800" y="4876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686800" y="4876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39080" y="4876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438280" y="4648320"/>
            <a:ext cx="609840" cy="304560"/>
          </a:xfrm>
          <a:custGeom>
            <a:avLst/>
            <a:gdLst/>
            <a:ahLst/>
            <a:rect l="l" t="t" r="r" b="b"/>
            <a:pathLst>
              <a:path w="624" h="208">
                <a:moveTo>
                  <a:pt x="0" y="112"/>
                </a:moveTo>
                <a:cubicBezTo>
                  <a:pt x="36" y="120"/>
                  <a:pt x="72" y="128"/>
                  <a:pt x="96" y="112"/>
                </a:cubicBezTo>
                <a:cubicBezTo>
                  <a:pt x="120" y="96"/>
                  <a:pt x="120" y="0"/>
                  <a:pt x="144" y="16"/>
                </a:cubicBezTo>
                <a:cubicBezTo>
                  <a:pt x="168" y="32"/>
                  <a:pt x="208" y="208"/>
                  <a:pt x="240" y="208"/>
                </a:cubicBezTo>
                <a:cubicBezTo>
                  <a:pt x="272" y="208"/>
                  <a:pt x="304" y="16"/>
                  <a:pt x="336" y="16"/>
                </a:cubicBezTo>
                <a:cubicBezTo>
                  <a:pt x="368" y="16"/>
                  <a:pt x="400" y="208"/>
                  <a:pt x="432" y="208"/>
                </a:cubicBezTo>
                <a:cubicBezTo>
                  <a:pt x="464" y="208"/>
                  <a:pt x="496" y="16"/>
                  <a:pt x="528" y="16"/>
                </a:cubicBezTo>
                <a:cubicBezTo>
                  <a:pt x="560" y="16"/>
                  <a:pt x="592" y="112"/>
                  <a:pt x="624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4419720"/>
            <a:ext cx="5335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848720" y="46483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8229240" y="5486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324480" y="990720"/>
          <a:ext cx="914400" cy="50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990720"/>
                    <a:ext cx="91440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 flipV="1">
            <a:off x="5257800" y="12949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9907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80" y="45720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á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41760" y="37620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qu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4191120"/>
            <a:ext cx="53316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437920" y="52578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ESCENARIO X.25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60" y="1523880"/>
            <a:ext cx="2552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 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ICHE X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98360" y="50292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21/X21B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3809880"/>
            <a:ext cx="5335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520" y="5638680"/>
            <a:ext cx="1396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4280" y="36576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P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62320" y="914400"/>
            <a:ext cx="4570920" cy="3351600"/>
            <a:chOff x="2362320" y="914400"/>
            <a:chExt cx="4570920" cy="3351600"/>
          </a:xfrm>
        </p:grpSpPr>
        <p:grpSp>
          <p:nvGrpSpPr>
            <p:cNvPr id="205" name=""/>
            <p:cNvGrpSpPr/>
            <p:nvPr/>
          </p:nvGrpSpPr>
          <p:grpSpPr>
            <a:xfrm>
              <a:off x="2362320" y="914400"/>
              <a:ext cx="4570920" cy="3351600"/>
              <a:chOff x="2362320" y="914400"/>
              <a:chExt cx="4570920" cy="3351600"/>
            </a:xfrm>
          </p:grpSpPr>
          <p:sp>
            <p:nvSpPr>
              <p:cNvPr id="206" name=""/>
              <p:cNvSpPr/>
              <p:nvPr/>
            </p:nvSpPr>
            <p:spPr>
              <a:xfrm>
                <a:off x="2362320" y="914400"/>
                <a:ext cx="4570920" cy="3351600"/>
              </a:xfrm>
              <a:custGeom>
                <a:avLst/>
                <a:gdLst/>
                <a:ahLst/>
                <a:rect l="l" t="t" r="r" b="b"/>
                <a:pathLst>
                  <a:path w="856" h="448">
                    <a:moveTo>
                      <a:pt x="395" y="59"/>
                    </a:moveTo>
                    <a:lnTo>
                      <a:pt x="375" y="55"/>
                    </a:lnTo>
                    <a:lnTo>
                      <a:pt x="348" y="50"/>
                    </a:lnTo>
                    <a:lnTo>
                      <a:pt x="325" y="49"/>
                    </a:lnTo>
                    <a:lnTo>
                      <a:pt x="301" y="51"/>
                    </a:lnTo>
                    <a:lnTo>
                      <a:pt x="283" y="53"/>
                    </a:lnTo>
                    <a:lnTo>
                      <a:pt x="266" y="57"/>
                    </a:lnTo>
                    <a:lnTo>
                      <a:pt x="247" y="63"/>
                    </a:lnTo>
                    <a:lnTo>
                      <a:pt x="229" y="71"/>
                    </a:lnTo>
                    <a:lnTo>
                      <a:pt x="211" y="82"/>
                    </a:lnTo>
                    <a:lnTo>
                      <a:pt x="193" y="96"/>
                    </a:lnTo>
                    <a:lnTo>
                      <a:pt x="181" y="109"/>
                    </a:lnTo>
                    <a:lnTo>
                      <a:pt x="173" y="121"/>
                    </a:lnTo>
                    <a:lnTo>
                      <a:pt x="165" y="134"/>
                    </a:lnTo>
                    <a:lnTo>
                      <a:pt x="160" y="151"/>
                    </a:lnTo>
                    <a:lnTo>
                      <a:pt x="145" y="147"/>
                    </a:lnTo>
                    <a:lnTo>
                      <a:pt x="127" y="145"/>
                    </a:lnTo>
                    <a:lnTo>
                      <a:pt x="111" y="145"/>
                    </a:lnTo>
                    <a:lnTo>
                      <a:pt x="94" y="148"/>
                    </a:lnTo>
                    <a:lnTo>
                      <a:pt x="79" y="153"/>
                    </a:lnTo>
                    <a:lnTo>
                      <a:pt x="64" y="159"/>
                    </a:lnTo>
                    <a:lnTo>
                      <a:pt x="48" y="170"/>
                    </a:lnTo>
                    <a:lnTo>
                      <a:pt x="39" y="179"/>
                    </a:lnTo>
                    <a:lnTo>
                      <a:pt x="28" y="189"/>
                    </a:lnTo>
                    <a:lnTo>
                      <a:pt x="19" y="201"/>
                    </a:lnTo>
                    <a:lnTo>
                      <a:pt x="11" y="217"/>
                    </a:lnTo>
                    <a:lnTo>
                      <a:pt x="6" y="232"/>
                    </a:lnTo>
                    <a:lnTo>
                      <a:pt x="2" y="247"/>
                    </a:lnTo>
                    <a:lnTo>
                      <a:pt x="1" y="259"/>
                    </a:lnTo>
                    <a:lnTo>
                      <a:pt x="0" y="271"/>
                    </a:lnTo>
                    <a:lnTo>
                      <a:pt x="1" y="286"/>
                    </a:lnTo>
                    <a:lnTo>
                      <a:pt x="3" y="299"/>
                    </a:lnTo>
                    <a:lnTo>
                      <a:pt x="7" y="312"/>
                    </a:lnTo>
                    <a:lnTo>
                      <a:pt x="12" y="325"/>
                    </a:lnTo>
                    <a:lnTo>
                      <a:pt x="19" y="339"/>
                    </a:lnTo>
                    <a:lnTo>
                      <a:pt x="29" y="353"/>
                    </a:lnTo>
                    <a:lnTo>
                      <a:pt x="40" y="364"/>
                    </a:lnTo>
                    <a:lnTo>
                      <a:pt x="53" y="375"/>
                    </a:lnTo>
                    <a:lnTo>
                      <a:pt x="68" y="383"/>
                    </a:lnTo>
                    <a:lnTo>
                      <a:pt x="80" y="389"/>
                    </a:lnTo>
                    <a:lnTo>
                      <a:pt x="92" y="392"/>
                    </a:lnTo>
                    <a:lnTo>
                      <a:pt x="106" y="396"/>
                    </a:lnTo>
                    <a:lnTo>
                      <a:pt x="121" y="396"/>
                    </a:lnTo>
                    <a:lnTo>
                      <a:pt x="136" y="396"/>
                    </a:lnTo>
                    <a:lnTo>
                      <a:pt x="151" y="393"/>
                    </a:lnTo>
                    <a:lnTo>
                      <a:pt x="163" y="390"/>
                    </a:lnTo>
                    <a:lnTo>
                      <a:pt x="171" y="387"/>
                    </a:lnTo>
                    <a:lnTo>
                      <a:pt x="179" y="397"/>
                    </a:lnTo>
                    <a:lnTo>
                      <a:pt x="191" y="406"/>
                    </a:lnTo>
                    <a:lnTo>
                      <a:pt x="204" y="414"/>
                    </a:lnTo>
                    <a:lnTo>
                      <a:pt x="218" y="422"/>
                    </a:lnTo>
                    <a:lnTo>
                      <a:pt x="236" y="429"/>
                    </a:lnTo>
                    <a:lnTo>
                      <a:pt x="254" y="436"/>
                    </a:lnTo>
                    <a:lnTo>
                      <a:pt x="276" y="441"/>
                    </a:lnTo>
                    <a:lnTo>
                      <a:pt x="296" y="445"/>
                    </a:lnTo>
                    <a:lnTo>
                      <a:pt x="318" y="447"/>
                    </a:lnTo>
                    <a:lnTo>
                      <a:pt x="335" y="447"/>
                    </a:lnTo>
                    <a:lnTo>
                      <a:pt x="353" y="447"/>
                    </a:lnTo>
                    <a:lnTo>
                      <a:pt x="377" y="444"/>
                    </a:lnTo>
                    <a:lnTo>
                      <a:pt x="406" y="434"/>
                    </a:lnTo>
                    <a:lnTo>
                      <a:pt x="416" y="437"/>
                    </a:lnTo>
                    <a:lnTo>
                      <a:pt x="436" y="430"/>
                    </a:lnTo>
                    <a:lnTo>
                      <a:pt x="456" y="422"/>
                    </a:lnTo>
                    <a:lnTo>
                      <a:pt x="468" y="416"/>
                    </a:lnTo>
                    <a:lnTo>
                      <a:pt x="478" y="408"/>
                    </a:lnTo>
                    <a:lnTo>
                      <a:pt x="489" y="413"/>
                    </a:lnTo>
                    <a:lnTo>
                      <a:pt x="504" y="419"/>
                    </a:lnTo>
                    <a:lnTo>
                      <a:pt x="518" y="423"/>
                    </a:lnTo>
                    <a:lnTo>
                      <a:pt x="531" y="426"/>
                    </a:lnTo>
                    <a:lnTo>
                      <a:pt x="546" y="427"/>
                    </a:lnTo>
                    <a:lnTo>
                      <a:pt x="560" y="427"/>
                    </a:lnTo>
                    <a:lnTo>
                      <a:pt x="577" y="425"/>
                    </a:lnTo>
                    <a:lnTo>
                      <a:pt x="594" y="421"/>
                    </a:lnTo>
                    <a:lnTo>
                      <a:pt x="609" y="416"/>
                    </a:lnTo>
                    <a:lnTo>
                      <a:pt x="624" y="407"/>
                    </a:lnTo>
                    <a:lnTo>
                      <a:pt x="638" y="398"/>
                    </a:lnTo>
                    <a:lnTo>
                      <a:pt x="657" y="406"/>
                    </a:lnTo>
                    <a:lnTo>
                      <a:pt x="675" y="410"/>
                    </a:lnTo>
                    <a:lnTo>
                      <a:pt x="690" y="412"/>
                    </a:lnTo>
                    <a:lnTo>
                      <a:pt x="712" y="412"/>
                    </a:lnTo>
                    <a:lnTo>
                      <a:pt x="735" y="409"/>
                    </a:lnTo>
                    <a:lnTo>
                      <a:pt x="762" y="401"/>
                    </a:lnTo>
                    <a:lnTo>
                      <a:pt x="785" y="389"/>
                    </a:lnTo>
                    <a:lnTo>
                      <a:pt x="804" y="374"/>
                    </a:lnTo>
                    <a:lnTo>
                      <a:pt x="823" y="356"/>
                    </a:lnTo>
                    <a:lnTo>
                      <a:pt x="833" y="341"/>
                    </a:lnTo>
                    <a:lnTo>
                      <a:pt x="841" y="326"/>
                    </a:lnTo>
                    <a:lnTo>
                      <a:pt x="849" y="306"/>
                    </a:lnTo>
                    <a:lnTo>
                      <a:pt x="853" y="288"/>
                    </a:lnTo>
                    <a:lnTo>
                      <a:pt x="855" y="267"/>
                    </a:lnTo>
                    <a:lnTo>
                      <a:pt x="853" y="251"/>
                    </a:lnTo>
                    <a:lnTo>
                      <a:pt x="849" y="232"/>
                    </a:lnTo>
                    <a:lnTo>
                      <a:pt x="843" y="213"/>
                    </a:lnTo>
                    <a:lnTo>
                      <a:pt x="833" y="196"/>
                    </a:lnTo>
                    <a:lnTo>
                      <a:pt x="822" y="179"/>
                    </a:lnTo>
                    <a:lnTo>
                      <a:pt x="808" y="165"/>
                    </a:lnTo>
                    <a:lnTo>
                      <a:pt x="795" y="154"/>
                    </a:lnTo>
                    <a:lnTo>
                      <a:pt x="782" y="146"/>
                    </a:lnTo>
                    <a:lnTo>
                      <a:pt x="764" y="135"/>
                    </a:lnTo>
                    <a:lnTo>
                      <a:pt x="747" y="129"/>
                    </a:lnTo>
                    <a:lnTo>
                      <a:pt x="732" y="126"/>
                    </a:lnTo>
                    <a:lnTo>
                      <a:pt x="715" y="124"/>
                    </a:lnTo>
                    <a:lnTo>
                      <a:pt x="712" y="111"/>
                    </a:lnTo>
                    <a:lnTo>
                      <a:pt x="707" y="98"/>
                    </a:lnTo>
                    <a:lnTo>
                      <a:pt x="700" y="86"/>
                    </a:lnTo>
                    <a:lnTo>
                      <a:pt x="692" y="73"/>
                    </a:lnTo>
                    <a:lnTo>
                      <a:pt x="681" y="60"/>
                    </a:lnTo>
                    <a:lnTo>
                      <a:pt x="667" y="46"/>
                    </a:lnTo>
                    <a:lnTo>
                      <a:pt x="654" y="35"/>
                    </a:lnTo>
                    <a:lnTo>
                      <a:pt x="638" y="26"/>
                    </a:lnTo>
                    <a:lnTo>
                      <a:pt x="619" y="16"/>
                    </a:lnTo>
                    <a:lnTo>
                      <a:pt x="600" y="9"/>
                    </a:lnTo>
                    <a:lnTo>
                      <a:pt x="582" y="4"/>
                    </a:lnTo>
                    <a:lnTo>
                      <a:pt x="561" y="1"/>
                    </a:lnTo>
                    <a:lnTo>
                      <a:pt x="541" y="0"/>
                    </a:lnTo>
                    <a:lnTo>
                      <a:pt x="519" y="0"/>
                    </a:lnTo>
                    <a:lnTo>
                      <a:pt x="500" y="3"/>
                    </a:lnTo>
                    <a:lnTo>
                      <a:pt x="477" y="9"/>
                    </a:lnTo>
                    <a:lnTo>
                      <a:pt x="453" y="18"/>
                    </a:lnTo>
                    <a:lnTo>
                      <a:pt x="437" y="26"/>
                    </a:lnTo>
                    <a:lnTo>
                      <a:pt x="421" y="36"/>
                    </a:lnTo>
                    <a:lnTo>
                      <a:pt x="407" y="48"/>
                    </a:lnTo>
                    <a:lnTo>
                      <a:pt x="395" y="59"/>
                    </a:lnTo>
                  </a:path>
                </a:pathLst>
              </a:custGeom>
              <a:solidFill>
                <a:srgbClr val="4080ff"/>
              </a:solidFill>
              <a:ln cap="rnd" w="50760">
                <a:solidFill>
                  <a:srgbClr val="c0e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401640" y="2444400"/>
                <a:ext cx="64440" cy="45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3480" rIns="33480" tIns="15840" bIns="15840" anchor="t">
                <a:spAutoFit/>
              </a:bodyPr>
              <a:p>
                <a:pPr>
                  <a:tabLst>
                    <a:tab algn="l" pos="0"/>
                    <a:tab algn="l" pos="274680"/>
                    <a:tab algn="l" pos="549360"/>
                    <a:tab algn="l" pos="824040"/>
                    <a:tab algn="l" pos="1098720"/>
                    <a:tab algn="l" pos="1373040"/>
                    <a:tab algn="l" pos="1647720"/>
                    <a:tab algn="l" pos="1922400"/>
                    <a:tab algn="l" pos="2197080"/>
                    <a:tab algn="l" pos="2471760"/>
                    <a:tab algn="l" pos="2746440"/>
                    <a:tab algn="l" pos="3021120"/>
                    <a:tab algn="l" pos="3295800"/>
                    <a:tab algn="l" pos="3570120"/>
                    <a:tab algn="l" pos="3844800"/>
                    <a:tab algn="l" pos="4119480"/>
                    <a:tab algn="l" pos="4394160"/>
                    <a:tab algn="l" pos="4668840"/>
                    <a:tab algn="l" pos="4943520"/>
                    <a:tab algn="l" pos="5218200"/>
                    <a:tab algn="l" pos="5492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3886200" y="1907280"/>
              <a:ext cx="507240" cy="496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55560" y="1907280"/>
              <a:ext cx="507960" cy="496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93800" y="21560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10080" y="3024720"/>
              <a:ext cx="507240" cy="496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63880" y="2404080"/>
              <a:ext cx="0" cy="62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69560" y="2776680"/>
              <a:ext cx="507960" cy="496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377880" y="2155680"/>
              <a:ext cx="507960" cy="62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77880" y="3024720"/>
              <a:ext cx="203184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 flipV="1">
            <a:off x="2362320" y="320004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447560" y="40384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5029200"/>
            <a:ext cx="5335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14264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33520" y="2819520"/>
            <a:ext cx="2057400" cy="2590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22860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80120" y="4191120"/>
            <a:ext cx="1396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3581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937200" y="350532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21/X21B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523880" y="525780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8T14:12:01Z</dcterms:created>
  <dc:creator>JUAN CARLOS RESTREPO</dc:creator>
  <dc:description/>
  <dc:language>en-US</dc:language>
  <cp:lastModifiedBy>Juan Carlos Restrepo C.</cp:lastModifiedBy>
  <cp:lastPrinted>1999-11-30T03:52:25Z</cp:lastPrinted>
  <dcterms:modified xsi:type="dcterms:W3CDTF">2001-12-17T18:52:14Z</dcterms:modified>
  <cp:revision>255</cp:revision>
  <dc:subject/>
  <dc:title>Sin título de diapositiva</dc:title>
</cp:coreProperties>
</file>