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59.wmf" ContentType="image/x-wmf"/>
  <Override PartName="/ppt/media/image21.wmf" ContentType="image/x-wmf"/>
  <Override PartName="/ppt/media/image1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A15-124B-4738-BD62-4A943E1A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FFD-57A2-4FED-944B-7BE079D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305-4D3E-463E-9A71-5074D7A9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3A5-78D1-4B55-8F50-6E86123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867-EC05-4A6E-9568-EC9EE1EB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72B-401A-43AB-9F77-008C939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F45-D6F7-46F2-9EB9-E66498D9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1C0-9C7B-4565-803E-26FA321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417-A183-48BC-8F2B-67CDEC5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0E1-34A0-4B90-B16D-4C1D150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356-1099-4AF6-BC38-FAEDD3D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E99-A996-4F21-AA46-F7256D7A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4EF-3B0B-42B6-89EF-DD61B1C9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DMINISTRACION DE SUICHES 4500/5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64008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sión: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lio -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5661000"/>
            <a:ext cx="2324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UERTOS - L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0640" y="685800"/>
            <a:ext cx="5600880" cy="33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91120"/>
            <a:ext cx="56386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UERTOS -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utdown:  desactiva el pue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tion: para documentar el uso del pue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plex auto| full |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eed 10 | 100| 1000| a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owcontrol:   por defecto di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 link-type access: Configure the port as an access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 link-type hybrid: Configure the port as a hybri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 link-type trunk Configure the port as a trunk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 link-type xrn-fabric: Configure the port as a stack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AGNOSTICO DEL 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1219320"/>
          <a:ext cx="8229600" cy="48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c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0 CPU busy statu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in last 5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in last 1 min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in last 5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   :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    : 130W Standard P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ral#  : 9KJF9R000014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#      : 3C17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Available Memory(bytes): 83195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Used Memory(bytes): 32010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Rate: 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f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  1 State: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  2 State: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environment  (no en 4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t    0:   Normal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lot 2:   Normal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  1:   Normal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andable Resilient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mite administrar varias unidades como un solo dispositivo, extendiendo el número de puertos y dando alta disponibilid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unidades se comportan como un ch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conjunto de unidades se les llama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máximo número de suiches que se puede apilar es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funciona con modelos diferentes así sea de la misma familia. Ejemplo: 5500-SI no funciona con 5500-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comienda que todos las unidades tengan la misma versión de sistema oper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nque se puede implementar utilizando puertos de 1Gbps se recomienda usar los puertos de apilamiento ya que ofrecen 24G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das las unidades del fabric deben tener el mismo system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os puertos definidos como XRN no se les puede configurar VLAN, agregación, velocidad, mo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0195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jemplo de configuracion con puertos SFP en 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bric-port gigabitethernet 1/0/27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bric-port gigabitethernet 1/0/28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905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uertos de apilamiento en un 5500G son l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Cascade1/2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Cascade1/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76520" y="2776680"/>
            <a:ext cx="56386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s de ingresar al fabric un suiche que tenía configuración es recomendable borr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ari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DM (Distributed Device Management): distribuye la configuración entre las unidades del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LA (Distributed Link Aggregation): permite agregar enlaces entre diferentes 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RR: Distributed Resilient Route: sincroniza las tablas de enrutamiento para que opere como un router distribuido, con varios motores de enru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familia 5500 y 5500G soporta full X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familia 4200 y 4500 solo soporta D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MPONENTES DE X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49280" y="1471680"/>
            <a:ext cx="64468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: cpu, SDRAM, fl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ola, Web, telnet/ssh, SN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u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ANDOS X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ver el estado del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&lt;5500G-EI&gt;display ftm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TM State       : HB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it ID         : 1 (FTM-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bric Type     :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bric Auth     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ft Port       : N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ight Port      : N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dvertise       : Send = 11, Receive =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dvertise ACK   : Send = 0, Receive =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eart Beat      : Send = 24, Receiv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ft Port       : Index = 7, IsEdg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ight Port      : Index = 5, IsEdg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its Num Left 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its Num Right 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its Num Backup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ANDOS X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ver el estado del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5500G-EI&gt;display ftm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number of units in fabric : 3, My Unit ID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CPU-Mac        Priority Stack-Port Board-ID A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1  001e-c1e2-4302 10       Left/Right 0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001e-c1e2-4a82 10       Left/Right 0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001e-c1e2-7882 10       Left/Right 0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5500G-EI&gt;display xrn-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 name is 5500G-EI, system mode is L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Name                             Unit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                                    1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     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LUCION PROBLEMAS X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algunos casos me ha to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ocar el nuevo suiche o todos los suiches en factory-default antes de armar el X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rificar con display startup que están subiendo el mismo archivo de configuración. Ejempl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5500G-EI&gt;display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T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rrent Startup saved-configuration file:          flash:/3comoscfg.c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ext main startup saved-configuration file:        flash:/3comoscfg.c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ext backup startup saved-configuration file:      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otrom-access enable state:                      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T8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rrent Startup saved-configuration file:          flash:/3comoscfg.c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ext main startup saved-configuration file:        flash:/3comoscfg.c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ext backup startup saved-configuration file:      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otrom-access enable state:                      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lo están haciendo corregir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tartup saved-configuration 3comoscfg.cfg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LUCION PROBLEMAS X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cutar el siguiente comando en los suiches del s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bric member-auto-update software e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comando intenta sincronizar las configuraciones de los suiches y tarda un rato. Baja uno y luego el otro asi que se debe esperar a que salga:  Synchronization is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comando fue lo ultimo que hice despues de que actualice las imágenes de ambos suiches, borre las configuraciones y todavia seguia obteniendo este error al ejecutar display ftm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ft Port       : Isolated (connection erro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ht Port      : Isolated (connection erro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ECANISMOS DE CONFIGUR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través de cable de cons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gurar hyperterminal u otro emulador 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ud rate = 9600   (en el 4500 19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atabit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ity check =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topbi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low control =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rminal type = VT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BLE DE CONSO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4457880"/>
            <a:ext cx="4438800" cy="232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41148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ECANISMOS DE CONFIGUR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WEB Y 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configurar dirección IP y másc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ystem-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rface vlan-interfa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p adrress 10.1.0.1 255.255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caso de estar en otro segmento también requiere puerta de en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p route-static 0.0.0.0 0.0.0.0 10.1.0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de un suiche se puede hacer telnet a otro su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e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ás de la configuración para telnet requiere generar ll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a local-key-pair 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cal-key-pair will be cre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nge of public key size is (512 ~ 20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If the key modulus is greater than 51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ill take a few min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the bits in the modulus[default = 1024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key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.................................++++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++++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Do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debe habilitar el mecanismo de autent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sh authentication-type default 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usuarios requieren que se les permita acceso con 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[5500G-EI]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cal-user juan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[5500G-EI-luser-juanrest]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ssword simple digi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[5500G-EI-luser-juanrest]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rvice-type telnet terminal 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ECANISMOS DE CONFIGUR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NMP (Simple Network Management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neralmente realizada mediante software de admon como Network Director, HP-OpenView,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activar el agente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nmp-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mp-agent community read public   (Cambiar public por la contraseña de acce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mp-agent community write private (Cambiar private por la contraseña de acce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 configurac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5500G-EI&gt;display snmp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 name: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name: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-type: nonVola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 name: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name: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-type: nonVola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ECANISMOS DE CONFIGUR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4524480"/>
            <a:ext cx="4228920" cy="218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5648040" cy="2257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MECANISMOS DE CONFIGUR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1400" y="95076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CION VIA MODEM – PARAMETROS DEL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INEA DE COMANDOS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ingresar queda en nivel de invitado o user view cuyo prompt es  &lt;sw5500-xx&gt; (donde  xx es EI o 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do se cambia de vista el prompt cambia. Ejemplo: system-view  El prompt es:   [sw500-E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debe estar en system-view para ingresar a los niveles de 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regresar al user view digitar return o ctrl-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regresar al nivel anterior digita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ver últimos comandos digitados:  display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lecha arriba (o CTRL-P) y flecha abajo (CTRL-N) permite repetir coma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terminar una salida:   CTR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ru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 v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utas est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sp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ásicas y exten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k Aggr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ual, estático y diná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lizac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ía tftp y f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ISTAS (VIEW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23880"/>
            <a:ext cx="7934040" cy="410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8077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ISTAS (VIEW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00" y="685800"/>
            <a:ext cx="77994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INEA DE COMANDOS (CL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ndo en un nivel con ? se obtienen los comandos dispon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mb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én se pueden pedir opciones de un comando con ?.  Ejemp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5500-EI]  interfa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xAux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hernetEtherne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igabitEthernetGigabitEtherne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opbackLoopBack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LLNUL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lan-interfaceVLA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pueden pedir los comandos disponibles asociados a un carácter o caracte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&lt;TAB&gt; se puede completar un com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undo se borra una línea de configuración.  Ejemp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do ip route-static 0.0.0.0 0.0.0.0 10.1.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FIGURACION INICIAL Y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 configurac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n actual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lay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 configuración de arran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lay saved-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&lt;5500G-EI&gt;more 3comoscfg.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borrar el archivo de configuracion inicial (poner el suiche en factory defaul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et saved-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FIGURACION INICIAL Y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s imágenes y boots de arran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&lt;5500G-EI&gt;display star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T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rrent Startup saved-configuration file: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lash:/3ComOScfg.c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xt main startup saved-configuration file: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lash:/3ComOScfg.c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xt backup startup saved-configuration file:     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ootrom-access enable state: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T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rrent Startup saved-configuration file: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lash:/3ComOScfg.c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xt main startup saved-configuration file: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lash:/3ComOScfg.c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xt backup startup saved-configuration file:     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ootrom-access enable state: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FIGURACION INICIAL Y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s imágenes de b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500G-EI&gt;display boot-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boot app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oot app is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boot app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oot app is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FIGURACION INICIAL Y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ver las imágenes de b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500G-EI&gt;display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boot app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oot app is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boot app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oot app is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4c03_02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defecto tres usu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 (por defecto sin contraseña): control abso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itor (monitor): ve parametros de operación pero no puede configurar no ver segu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nager (manager): puede ver y cambiar parametros de operación pero no de segu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cambiar contraseñ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al-user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ssword simple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ANDOS U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lay users:  ver los usuarios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nd : enviar un mensaje a los usuarios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lay web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IVELES DE PERMI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sit level (0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mands in this level include network diagnosis tools (such 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ng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ce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commands for the different language environments of the user interface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nguage-mo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and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net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mand etc. The saving of the configuration file is not allowed at this comman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itoring level (1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mands in this level include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l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mand and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ugging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mand, and are used for system maintenance, service fault diagnosis, etc. The saving of the configuration file is not allowed at this comman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ystem level (2) 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mands in this level include service configuration commands, including routing commands and commands for each network layer, and are used to provide direct network service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agement level (3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mands in this level include those that influence basic operation of the system and system support module, which plays a support role for services. Commands in this level include file system commands, FTP commands, TFTP commands, XModem downloading commands, user management commands, and level sett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CREACION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r un usuario con nombre juanrest contraseña xyz, nivel de permisos 3 y con acceso a los servicios telnet, ftp, ssh y cons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al-user juan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sword simple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vice-type telnet ssh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vice-typ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amilia 4500 y 5500(G) son suiches con capacidad de enrutamiento: suiches nivel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n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moria SDRAM y Fl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: 10/100/1000 UTP, SF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operativo: 3COM-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referencian con x/y/z 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=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=Slot. Siempre 0 en los suiches 5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=Número de pue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face gigabitethernet 1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rtos adi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x:  puerto de consola.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er-interface aux 0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hentication-mod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scade: puerto de apilamiento.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face Cascade1/2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face Cascade1/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 presentación: “TECNOLOGIAS 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defecto todos los puertos están en la vla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lan 1 no puede ser bor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crear una vlan digi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lan vlani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tion  (op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lan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tion VLA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rface IP de una VLAN solo se activa si existe por lo menos un puerto a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uertos se pueden definir a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ac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UERTOS Y V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3656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4613400"/>
            <a:ext cx="80010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LAN SIN ENRU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as VLAN quedan totalmente independ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ethernet 1/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access vlan 1 (Realmente no es neces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ethernet 1/0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access v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73440" y="5029200"/>
            <a:ext cx="1752480" cy="61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15160" y="4813200"/>
            <a:ext cx="728640" cy="67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706680" cy="123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5334120"/>
            <a:ext cx="15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52578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22200" y="58672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1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37160" y="5638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2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21680" y="58672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3640" y="46483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05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LAN CON ENRU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enrutamiento entre VLAN se debe asignar direcciones IP a las interfaces VLAN correspond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SERV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ES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ethernet 1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access vlan 1 (Realmente no es neces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ethernet 1/0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access vla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vlan-interfa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ess 10.1.0.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vlan-interfa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ess 10.2.0.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73440" y="5438880"/>
            <a:ext cx="175248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15160" y="5222880"/>
            <a:ext cx="728640" cy="673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523880" y="5057640"/>
            <a:ext cx="706680" cy="123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09680" y="5743440"/>
            <a:ext cx="15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49960" y="56674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3280" y="627696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1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G: 10.1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38240" y="62006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2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G: 10.1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21680" y="62769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3640" y="50576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05320" y="5819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36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LAN - TR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iguración de trunking entre suiches para propagación de VLAN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ICHE 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ICH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face ethernet 1/0/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face ethernet 1/0/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t access vlan 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t access 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face Giga 1/0/25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face Giga 1/0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t link-type trun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t trunk permit vlan 1 to 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t trunk permit vlan 1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29200" y="5029200"/>
            <a:ext cx="175248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729560" y="4813200"/>
            <a:ext cx="728640" cy="673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706320" cy="123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52680" y="5334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2560" y="589608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1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G: 10.1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2640" y="563868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2.0.2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G: 10.1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9400" y="5867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ga 1/0/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5760" y="46483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505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76520" y="5029200"/>
            <a:ext cx="1752480" cy="61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8769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5560" y="5805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ga 1/0/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1480" y="46483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1/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CESAMIENTO DE LAS T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8229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CESAMIENTO DE LAS T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2941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0480" y="4379760"/>
            <a:ext cx="74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ferencia entre el puerto trunk y el hybrid es que este último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si se mantiene o no el tag al hacer el envío de las tra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RU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suiches 4500 y 5500 al ser de nivel 3 permiten enrutamiento entre VL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er presentación “TCPIP ENRUTAMI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por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utas está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RUTAMIENTO ESTA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guración de rutas e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p route-static 10.2.0.0 255.255.0.0 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guración de puerta de enlace pre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p route-static 0.0.0.0 0.0.0.0 10.1.0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7589880" cy="216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523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ENRUTAMIENTO EST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320" y="1573200"/>
            <a:ext cx="4190760" cy="3227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00640" y="762120"/>
            <a:ext cx="474336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48160" y="5410080"/>
            <a:ext cx="45435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RU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4500&gt;display ip routing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uting Table: public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tination/Mask   Protocol Pre  Cost        Nexthop       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0.0.0/0                 STATIC   60   0           10.100.0.1      Vlan-interfac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2.0.0/16             STATIC   60   0           10.100.0.253    Vlan-interfac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3.0.0/16             STATIC   60   0           10.100.0.253    Vlan-interfac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100.0.0/16         DIRECT   0    0           10.100.0.80     Vlan-interfac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100.0.80/32       DIRECT   0    0           127.0.0.1       InLoopBac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27.0.0.0/8             DIRECT   0    0           127.0.0.1       InLoopBac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27.0.0.1/32           DIRECT   0    0           127.0.0.1       InLoopBac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500]delete static-routes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you sure to delete all the unicast static routes?[Y/N]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RUTAMIENTO - R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litar r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w.x.y.z wildc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ver el estado de 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5500G-EI&gt;display 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is turn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ersión de RIP (1/2) se define en la interface.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vlan-interfac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vers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ENRUTAMIENTO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34080" y="1295280"/>
            <a:ext cx="3409920" cy="4657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54100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RUTAMIENTO OSP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er presentac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n “TCPIP ENRUTAMI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habilitar el protocolo (configuración bá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etwork w.x.y.z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andos ú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lay router-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lay ospf [process-id]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lay ospf p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JEMPLO 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6608880" cy="360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352760" y="1162080"/>
            <a:ext cx="4791240" cy="4400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571680"/>
            <a:ext cx="169560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JEMPLO 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6608880" cy="360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809880" y="762120"/>
            <a:ext cx="4772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cess Control List – Listas de control de ac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n filtrar o tipificar (clasificar) el tráfico por criterios como dirección IP, protocolo, puerto, dirección MAC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utilizan para filtrar se asocian al puerto físico con la instrucción packet-fi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ueden filtrar el acceso a un servicio como telnet, ss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n asociar varias ACL’s al mismo pu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especificar las IP se utilizan comodines en vez de máscaras (con 0’s se indica la parte de interés y con 1’s la parte no relevante). Ejemplo: la red 10.100.0.0/16 en la regla se pondría:   10.100.0.0  0.0.255.2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CL’s sobre el puerto físico el paquete se permite si no existe una regla que lo tipif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CLS’s sobre servicios (telnet, http) el paquete se deniega si no hay una regla que diga que hacer con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ACL puede tener hasta 65535 reglas (ru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ACL se puede aplicar a toda una VLAN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-filter vlan 1 inbound ip-group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una ACL tiene varias reglas y esta es aplicada al hardware (por ejemplo para filtrar en un puerto), son evaluadas por el sistema buscando la más específica.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nu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0 deny source 10.1.0.0 0.0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1 permit source 10.1.0.1 0.0.0.0  (Un paquete desde 10.1.0.1 es procesado por esta reg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s ACL avanzadas se prioriza así: las que tengan definido protocolos (tcp, udp, etc), ip fuente más especifica, ip destino más específica, rango de puertos más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reglas dentro de una ACL aplicada a un servicio como telnet o http son evaluadas en el orden definido por 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DE SUICHE 5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dor: 1 M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mo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MB SDRAM (5500G)      64MB (4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6384KB Flash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8196KB (4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X (RS-232 asincrónic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s 10/100/1000 UTP, SFP (Small Form-factor Pluggable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operati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sión actual: 3.02.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lmente EI (Enhanced Image). Anteriormente existía SI (Standard Im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L -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ásicas (2000-2999) permiten filtrar/tipificar por dirección IP f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vanzadas (3000-3999) permiten filtrar/tipificar por criterios de nivel 3 y 4 como IP fuente, destino, protocolo, puerto, 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yer-2 (4000-4999): permiten filtrar/tipificar por criterios de nivel 2 como MAC, VLAN y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das por el usuario (5000-5999): permite filtrar/tipificar por criterios definidos por el usu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CL EN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17280" y="586728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acceso vía we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http acl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ACL BA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04240" cy="3429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735280" y="3819600"/>
            <a:ext cx="6408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ACL AVAN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040520" cy="3733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122560" y="3838680"/>
            <a:ext cx="7021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ACL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7059600" cy="121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68648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103480" y="3505320"/>
            <a:ext cx="704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L SOBRE V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CL se puede aplicar a toda una VLAN.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numbe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0 deny source 10.1.0.0 0.0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1 deny source 10.2.0.0 0.0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-filter vlan 1 inbound ip-group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e varios puertos físicos para que se vean como un enlace lógico llamado aggregatio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mite incrementar el ancho de banda entre suiches y la disponibilidad de los en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ementado con la norma 802.3ad (LAC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XRN permite elevar el nivel de tolerancia a fallas al permitir hacer agregaciones terminadas en diferentes unidades del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INK AGGREGATION - M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egación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puertos se adicionan o retiran manual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esta activo LA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busca el puerto maestro en este orden: full duplex/high speed, full duplex/low speed,  half duplex/high speed, half duplex/low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uego busca los puertos iguales al maestro para ponerlos en estado SELECTED (activo). Los otros los deja en estado UNSELECTED (inactiv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egación LACP es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puertos se adicionan o retiran manu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á activo LACP poniendo en estado UNSELECTED los puertos conectados a otros suiches o en puertos no habilitados para agregación en el otro extremo. Esto permite detectar errores de conex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erto maestro se selecciona igual que en la agregación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INK AGGREGATION - M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egación LACP diná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utomáticamente agrega/remueve los pu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o agrega puertos que tengan la misma velocidad, modo y configuraciones bás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nto los puertos SELECTED como los UNSELECTED envían mensajes LA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o los SELECTED envían tramas de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INK AGGREGA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38680" cy="24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23880" y="3308400"/>
            <a:ext cx="6705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ANDO DISPLA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[5500G-EI]display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Co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erStack 4 Switch 5500G-EI Software Version 3Com OS V3.02.04s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pyright (c) 2004-2007 3Com Corporation and its licensors,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erStack 4 Switch 5500G-EI uptime is 42 weeks, 2 days, 7 hours, 4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Com SuperStack 4 Switch 5500G-EI 24-Port with 1 MIPS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28M    bytes S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384K  bytes Flash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ig Register points to 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dware Version is REV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PLD Version is 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otrom Version is 4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[Subslot 0] 24GE+4SFP  Hardware Version is REV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[Subslot 2] 2 STACK Hardware Version is REV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INK AGGREGATION LACP EST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38680" cy="2438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71600" y="3308400"/>
            <a:ext cx="66294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INK AGGREGATION LACP DINA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3868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6324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ANDOS PARA MANEJAR ARCH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rchivos del sistema se encuentran en la fl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su manipula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n se tienen los siguientes coman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   (/all   /fabri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5500G-EI&gt;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rectory of unit1&gt;flash: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(*)   -rw-    893111  May 28 2002 21:29:28   s4i04_01.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      -rw-      7951  May 28 2002 22:05:37   3comoscfg.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 (*)   -rw-   4840428  May 28 2002 21:30:23   s4c03_02_04s56.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       -rw-      8660  Mar 26 2005 10:43:18   3comoscfg.c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       -rw-        20  Jan 04 2005 19:53:29   prueba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5367 KB total (9742 KB fre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*) -with main attribute   (b) -with backup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*b) -with both main and backup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ver el contenido de una unidad en particul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5500G-EI&gt;dir unit2&gt;fl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re 3comoscfg.c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ANDOS PARA MANEJAR ARCH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016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ete/unreserved unit1&gt;flash:/fil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: Sin el parámetro de unreserved los archivos quedan en el recycle-bin (papelera de reciclaje). Para vaciar esta papel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et recycle-bin unit1&gt;flash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delete 3comoscfg.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py unit1&gt;flash:/3ComOScfg.def unit1&gt;flash:/030100cfg.d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ZACION DE BOOTROM Y SISTEMA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宋体"/>
              </a:rPr>
              <a:t>Se puede hacer por varios med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Con suiche como FTP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Con suiche como FTP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Con T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Con FTP com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Desde las opciones de bootrom ingresando con CTRL-B en los segundos iniciales de arranque del su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宋体"/>
              </a:rPr>
              <a:t>Una vez se actualice un suiche se pueden copiar los archivos a otros suiches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copy unit1&gt;flash:/s4a03_02_03s56.app unit2&gt;flash: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宋体"/>
              </a:rPr>
              <a:t>En nombre del sistema depende del suiche as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838160" y="5105520"/>
            <a:ext cx="6010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ZACION CON SUICHE COMO FT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Se configura el suiche como un ftp server, se descarga el software y luego se activa a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1. Configurar en el suiche los parametros IP basicos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&lt;5500&gt; 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System View: return to User View with Ctrl+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] interface Vlan-interfa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-Vlan-interface1] ip address 192.168.0.39 255.255.255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-Vlan-interface1]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2 Activar el suiche como un FTP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] ftp server e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3. Crear un usuario para conectarse al suiche con cliente 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] local-use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New local user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-luser-test] password simple p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[5500-luser-test] service-type 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ZACION CON SUICHE COMO FT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4 Descar al suiche las imágenes de boot o app utilizando un cliente ftp. Ejemp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put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4c03_03_02s168p11.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t s4i06_05.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NOTA: se puede poner un suiche que tenga las imágenes actualizadas como servidor FTP y otro que se quiere actualizar como cliente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5 Activar las imágenes descargadas de boot o app a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Para activar la imagen de boot ejecuta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5500&gt; boot bootrom s4f04.b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This will update Bootrom on unit 1. Continue? [Y/N]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Upgrading Bootrom, please wai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Upgrade Bootrom succeed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5500&gt; re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宋体"/>
              </a:rPr>
              <a:t>Para activar la imagen app utiliz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5500G-EI&gt;boot boot-loader s4c03_03_02s168p11.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ecified file will be booted next time on unit 1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activar el codigo de la interfac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5500G-EI&gt;boot web-package s4i06_05.web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web package is incompatible with the APP you are run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leased package is s4i04_01.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you want to continue?[Y/N]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ZACION CON SUICHE COMO FT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siguiente comando se puede verificar la imagen de sistema operativo que se va a car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5500G-EI&gt;display 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urrent boot app is: s4c03_03_02s168p11.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in boot app is:    s4c03_03_02s168p11.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urrent boot app is: s4c03_03_02s168p11.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in boot app is:    s4c03_03_02s168p11.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ckup boot app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el siguiente comando se puede verificar el servicio de interface Web que se va a carg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5500G-EI&gt;display web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urrent using web package is: flash:/s4i06_05.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in web package is: unit1&gt;flash:/s4i06_05.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ckup web package is: unit1&gt;flash: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TUALIZACION CON TFTP SERVER EN ES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 cargar software desde estación con TFTP server 10.1.0.1 ejecu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 actualizar sistema oper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ftp 10.1.0.1 get s4a03_01_04s56.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 actualizar la interfac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ftp 10.1.0.1 get s4h01_04.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 actualizar el bo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ftp 10.1.0.1 get s4e01_04.b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siempre se necesario actualizar el firmware del bo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 v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 puede ver la versión del bootrom. Si la versión obtenida de 3COM es la misma mostrada no se requiere actu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uego activar el sistema operativo (app) o el bootrom como se mostró en f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SSWOR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de la consola digitar &lt;CTRL-B&gt; al iniciar el suiche y elegir la opción 7 para no cargar el archivo de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ego de que arranque el suiche con ftp o tftp bajar el archivo de configuración, modificarlo y cargarlo de nu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828800" y="2695680"/>
            <a:ext cx="54198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MORIA - SD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DRAM 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gle Data Rate Synchronous Dynamic Random Access Memor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cuyo contenido se pierde al apagar e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lí se cargan los procesos del sistema ope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blas: enrutamiento, cache AR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s de entrada y salida (Buff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que se esta ejecut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QoS – CALIDAD DE SERV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brindar a cierto tráfico tratamiento especial (ancho de banda, retardo, variación de retardo, tasa de perdid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er presentación “CALIDAD DE SERVIC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suiches 4500 y 5500 utilizan WRR (Weighted Round Robin) como disciplina de encolamiento. También soportan WFQ y 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uerto tiene asociado 8 colas priorizadas de mayor a me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rnamente el suiche usa el tag 802.1p para mapear el tráfico en una c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defecto el suiche cambia la prioridad 802.1p que llega en la trama por la definida para el pue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QoS – CALIDAD DE SERV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no se define una prioridad para el puerto asume 0.  Para definir prior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rface ethernet 1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iority 3         (La prioridad varía entre 0 y 7, con 7 may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mbién se puede configurar que se confíe (trust) en la prioridad que traiga la trama en 802.1p.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rface ethernet 1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iority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500&gt;display queue-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 scheduling mode: weighted round r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0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1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2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3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4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5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6: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 of queue 7: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4500&gt;display qos cos-local-precedence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-local-precedence-ma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(802.1p) :      0     1     2     3     4     5     6  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precedence(queue) :      2     0     1     3     4     5     6  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688000" cy="3124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752480" y="762120"/>
            <a:ext cx="5648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752480" y="1247760"/>
            <a:ext cx="5648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ncolar los paquetes de voz que lleguen marcados con EF dándole prior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acl number 3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rule 0 permit ip dscp 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interface Ethernet1/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traffic-priority inbound ip-group 3997 rule 0 cos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interface Ethernet1/0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traffic-priority inbound ip-group 3997 rule 0 cos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interface Ethernet1/0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traffic-priority inbound ip-group 3997 rule 0 cos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宋体"/>
              </a:rPr>
              <a:t>El comando traffic-priority también se puede utilizar en una VLAN.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traffic-prioriy vlan 1 inbound ip-group 3997 rule 0 cos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305920" cy="4832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90160" y="874800"/>
            <a:ext cx="45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 DE MARCACION DE T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T MIRR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143000" y="2036880"/>
            <a:ext cx="7010280" cy="4516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lo se permite un puerto de monitoreo y uno de mirror por suiche o por fab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T IS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47548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5096160" cy="4381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581280" y="2989440"/>
            <a:ext cx="5562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MORIA 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reescribible que no se pierde al apagar e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el sistema operativo, interface Web y archivos de configur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tener varias versiones del S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vale al disco duro de un PC, pero sin partes móviles (más confi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verificar su capacidad al cambiar la versión de S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629400" cy="6046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914400" cy="1235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473440" y="1179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10960" y="2955960"/>
            <a:ext cx="65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327672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7432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48160" y="552276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ystem-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hcp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11-07-04T13:40:21Z</dcterms:modified>
  <cp:revision>4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