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656-81BB-4DF9-BF11-38126B40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A54-60E4-4BEF-B6F5-61D3D426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B4D-2568-478B-B29A-E36F1A70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6E2-4CE3-4680-8BF8-6A199BF7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682D-5DDD-4831-BE4B-DAB5A12F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9E55-84C1-4CD3-AAE4-F03CD609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039A-0516-4578-AFC0-2CE6DB8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66E7-0D9D-4920-A3C0-6FA52191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AC16-9033-43C9-AF8D-C1811955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7634-4DF6-4115-8552-A3D0B097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9284-3E30-493A-A4AE-007F19B6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EB9-A0C1-454B-BA9D-C998949B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7CB3-41BD-4D56-97D2-B3A9A5B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18E-10CB-45DD-BB70-AF52C36E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8257-41FD-4A3D-B407-CC3E5FE7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7D91-D45C-4DA5-979F-E6A0EBBF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6134-4C81-4E1D-8184-3267797F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740-A279-4540-8964-0EF596B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5A3-D0D1-4383-B2E0-BE1AFF09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54D-D74E-4769-A9EC-07D6CC4A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C00-DB33-479B-A131-1152897E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BCB-5F74-4A51-9D96-8A7C333F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2F4-0606-4F02-B879-95E5BF6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D1A-641B-4EA6-90F9-3228CD8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4443-00EB-4AF4-B995-3F3A8D755934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21FD-F195-4EB1-84BE-9DDCA5600A88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diginet.com.co/" TargetMode="Externa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diginet.com.co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CP/IP PARTE 4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CP Y UD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920" y="2276640"/>
            <a:ext cx="64008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POR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JUAN CARLOS RESTREP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E-MAIL: juanrest@diginet.com.c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Tel: 5140532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Ultima revisión: Mayo - 2005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Versión: 3.6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Medellin - Colombi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300720" y="5805360"/>
          <a:ext cx="279072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5805360"/>
                    <a:ext cx="2790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TC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s el más complejo de los protocolos.  Aún se lleva a cabo mucha investigación sobre TCP, principalmente en el manejo de congestió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eneralmente se modela como una máquina de estado finito para su implementación, ya que se pasa por múltiples estados (listen, close, etc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ace uso de varios timers como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transmision timer (dinámico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ersistence timer: ACK con Window 0 se pierd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Keep alive timer:verifica si está el otro extrem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IMED WAIT timer: antes de cerrar del tod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CP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 manera más sencilla de crear una conexión TCP es con Telne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lgunos aplicativos creados sobre TCP son: TELNET, FTP, Xwin y HTTP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or las características de retransmisión ante errores no es el más adecuado para tráfico multimedi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629400" cy="4438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48120" y="0"/>
            <a:ext cx="303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SEGMENTO TCP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3400" y="2666880"/>
            <a:ext cx="1154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Reserv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14520" y="4292640"/>
            <a:ext cx="61912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45472"/>
                </a:solidFill>
                <a:latin typeface="Times New Roman"/>
              </a:rPr>
              <a:t>DATA (PAYLOAD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32000" y="3141720"/>
            <a:ext cx="6476760" cy="1600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37680" y="4097160"/>
            <a:ext cx="73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47628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SEUDOHEADER UTILIZADO PARA CALCULAR EL CHECKSUM TCP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C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ra forzar la entrega del contenido en el destino sin esperar a llenar el buffer de recepción PSH=1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ST=1 resetea una conexión que ha tenido problema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JO: Header básico TCP + Header básico IP=40 byt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ESTABLECIMIENTO DE CONEXIÓN TC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 el establecimiento de la conexión SYN=1, ACK=0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ra finalizar la conexión FIN=1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332000" y="2276640"/>
            <a:ext cx="6553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0200" y="6705720"/>
            <a:ext cx="7010280" cy="0"/>
          </a:xfrm>
          <a:prstGeom prst="line">
            <a:avLst/>
          </a:prstGeom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1523880" cy="8967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5562720" y="5867280"/>
            <a:ext cx="3428640" cy="706680"/>
            <a:chOff x="5562720" y="5867280"/>
            <a:chExt cx="3428640" cy="706680"/>
          </a:xfrm>
        </p:grpSpPr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6456960" y="5867280"/>
              <a:ext cx="133524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7749000" y="5867280"/>
              <a:ext cx="1242360" cy="69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"/>
            <p:cNvGrpSpPr/>
            <p:nvPr/>
          </p:nvGrpSpPr>
          <p:grpSpPr>
            <a:xfrm>
              <a:off x="5562720" y="5867280"/>
              <a:ext cx="902160" cy="699480"/>
              <a:chOff x="5562720" y="5867280"/>
              <a:chExt cx="902160" cy="699480"/>
            </a:xfrm>
          </p:grpSpPr>
          <p:sp>
            <p:nvSpPr>
              <p:cNvPr id="206" name=""/>
              <p:cNvSpPr/>
              <p:nvPr/>
            </p:nvSpPr>
            <p:spPr>
              <a:xfrm>
                <a:off x="5564880" y="6046560"/>
                <a:ext cx="90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FRAME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45472"/>
                    </a:solidFill>
                    <a:latin typeface="Times New Roman"/>
                  </a:rPr>
                  <a:t>HEADER</a:t>
                </a:r>
                <a:endParaRPr b="0" lang="en-US" sz="1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62720" y="5867280"/>
                <a:ext cx="894240" cy="694080"/>
              </a:xfrm>
              <a:prstGeom prst="rect">
                <a:avLst/>
              </a:prstGeom>
              <a:noFill/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2590920" y="5029200"/>
            <a:ext cx="1085040" cy="838080"/>
            <a:chOff x="2590920" y="5029200"/>
            <a:chExt cx="1085040" cy="838080"/>
          </a:xfrm>
        </p:grpSpPr>
        <p:sp>
          <p:nvSpPr>
            <p:cNvPr id="209" name=""/>
            <p:cNvSpPr/>
            <p:nvPr/>
          </p:nvSpPr>
          <p:spPr>
            <a:xfrm>
              <a:off x="2590920" y="5029200"/>
              <a:ext cx="1067040" cy="838080"/>
            </a:xfrm>
            <a:prstGeom prst="ellipse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04320" y="5357520"/>
              <a:ext cx="9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LLC/MAC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057400" y="4267080"/>
            <a:ext cx="2535120" cy="706680"/>
            <a:chOff x="2057400" y="4267080"/>
            <a:chExt cx="2535120" cy="706680"/>
          </a:xfrm>
        </p:grpSpPr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2057400" y="4267080"/>
              <a:ext cx="133668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3349440" y="4267080"/>
              <a:ext cx="1243080" cy="69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2590920" y="3276720"/>
            <a:ext cx="1068120" cy="838080"/>
            <a:chOff x="2590920" y="3276720"/>
            <a:chExt cx="1068120" cy="838080"/>
          </a:xfrm>
        </p:grpSpPr>
        <p:sp>
          <p:nvSpPr>
            <p:cNvPr id="215" name=""/>
            <p:cNvSpPr/>
            <p:nvPr/>
          </p:nvSpPr>
          <p:spPr>
            <a:xfrm>
              <a:off x="2590920" y="3276720"/>
              <a:ext cx="1068120" cy="838080"/>
            </a:xfrm>
            <a:prstGeom prst="ellipse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5400" y="36050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    </a:t>
              </a:r>
              <a:r>
                <a:rPr b="1" lang="en-US" sz="1400" spc="-1" strike="noStrike">
                  <a:solidFill>
                    <a:srgbClr val="545472"/>
                  </a:solidFill>
                  <a:latin typeface="Times New Roman"/>
                </a:rPr>
                <a:t>IP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590920" y="1295280"/>
            <a:ext cx="1068120" cy="838440"/>
            <a:chOff x="2590920" y="1295280"/>
            <a:chExt cx="1068120" cy="838440"/>
          </a:xfrm>
        </p:grpSpPr>
        <p:sp>
          <p:nvSpPr>
            <p:cNvPr id="218" name=""/>
            <p:cNvSpPr/>
            <p:nvPr/>
          </p:nvSpPr>
          <p:spPr>
            <a:xfrm>
              <a:off x="2590920" y="1295280"/>
              <a:ext cx="1068120" cy="838440"/>
            </a:xfrm>
            <a:prstGeom prst="ellipse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05760" y="1623600"/>
              <a:ext cx="7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    </a:t>
              </a:r>
              <a:r>
                <a:rPr b="1" lang="en-US" sz="1400" spc="-1" strike="noStrike">
                  <a:solidFill>
                    <a:srgbClr val="545472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3880" y="152280"/>
            <a:ext cx="685800" cy="548640"/>
            <a:chOff x="1523880" y="152280"/>
            <a:chExt cx="685800" cy="548640"/>
          </a:xfrm>
        </p:grpSpPr>
        <p:sp>
          <p:nvSpPr>
            <p:cNvPr id="221" name=""/>
            <p:cNvSpPr/>
            <p:nvPr/>
          </p:nvSpPr>
          <p:spPr>
            <a:xfrm>
              <a:off x="1523880" y="152280"/>
              <a:ext cx="685800" cy="45684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86160" y="241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514600" y="152280"/>
            <a:ext cx="685800" cy="548640"/>
            <a:chOff x="2514600" y="152280"/>
            <a:chExt cx="685800" cy="548640"/>
          </a:xfrm>
        </p:grpSpPr>
        <p:sp>
          <p:nvSpPr>
            <p:cNvPr id="224" name=""/>
            <p:cNvSpPr/>
            <p:nvPr/>
          </p:nvSpPr>
          <p:spPr>
            <a:xfrm>
              <a:off x="2514600" y="152280"/>
              <a:ext cx="685800" cy="45684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76880" y="241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09880" y="152280"/>
            <a:ext cx="685800" cy="548640"/>
            <a:chOff x="3809880" y="152280"/>
            <a:chExt cx="685800" cy="548640"/>
          </a:xfrm>
        </p:grpSpPr>
        <p:sp>
          <p:nvSpPr>
            <p:cNvPr id="227" name=""/>
            <p:cNvSpPr/>
            <p:nvPr/>
          </p:nvSpPr>
          <p:spPr>
            <a:xfrm>
              <a:off x="3809880" y="152280"/>
              <a:ext cx="685800" cy="45684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72880" y="24120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AN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905120" y="838080"/>
            <a:ext cx="2590560" cy="2286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1680" y="7621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API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724280" y="1066680"/>
            <a:ext cx="2325600" cy="685800"/>
            <a:chOff x="4724280" y="1066680"/>
            <a:chExt cx="2325600" cy="685800"/>
          </a:xfrm>
        </p:grpSpPr>
        <p:sp>
          <p:nvSpPr>
            <p:cNvPr id="232" name=""/>
            <p:cNvSpPr/>
            <p:nvPr/>
          </p:nvSpPr>
          <p:spPr>
            <a:xfrm>
              <a:off x="4724280" y="1066680"/>
              <a:ext cx="2325600" cy="68580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45600" y="1128960"/>
              <a:ext cx="219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Socket, IP fuente, Puerto fuente, 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Puerto destino, buffer, estado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63880" y="1503000"/>
              <a:ext cx="2286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63880" y="1627920"/>
              <a:ext cx="2286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3720" y="1503000"/>
              <a:ext cx="0" cy="2491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83200" y="1503000"/>
              <a:ext cx="0" cy="2491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315200" y="1828800"/>
            <a:ext cx="380880" cy="1082520"/>
            <a:chOff x="7315200" y="1828800"/>
            <a:chExt cx="380880" cy="1082520"/>
          </a:xfrm>
        </p:grpSpPr>
        <p:sp>
          <p:nvSpPr>
            <p:cNvPr id="239" name=""/>
            <p:cNvSpPr/>
            <p:nvPr/>
          </p:nvSpPr>
          <p:spPr>
            <a:xfrm>
              <a:off x="7315200" y="1828800"/>
              <a:ext cx="380880" cy="106668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5200" y="1904760"/>
              <a:ext cx="3045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DATOS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848720" y="1828800"/>
            <a:ext cx="380880" cy="1082520"/>
            <a:chOff x="7848720" y="1828800"/>
            <a:chExt cx="380880" cy="1082520"/>
          </a:xfrm>
        </p:grpSpPr>
        <p:sp>
          <p:nvSpPr>
            <p:cNvPr id="242" name=""/>
            <p:cNvSpPr/>
            <p:nvPr/>
          </p:nvSpPr>
          <p:spPr>
            <a:xfrm>
              <a:off x="7848720" y="1828800"/>
              <a:ext cx="380880" cy="106668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8720" y="1904760"/>
              <a:ext cx="3045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45472"/>
                  </a:solidFill>
                  <a:latin typeface="Times New Roman"/>
                </a:rPr>
                <a:t>DATOS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5029200" y="914400"/>
            <a:ext cx="0" cy="1522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9144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543800" y="380880"/>
            <a:ext cx="0" cy="1447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495320" y="380880"/>
            <a:ext cx="3048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98040" y="30132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UFF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45400" y="52992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RAM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480" y="44197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AQUE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8520" y="2438280"/>
            <a:ext cx="18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EGM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6320" y="6060960"/>
            <a:ext cx="1499040" cy="4597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ARJET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95680" y="6248520"/>
            <a:ext cx="9144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5320" y="1981080"/>
            <a:ext cx="373356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521720" y="0"/>
            <a:ext cx="6081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CCESO AL TRANSPORT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99072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PUERTO: IDENTIFICADOR UTILIZADO EN EL NIVEL DE TRANSPORTE PARA DIRECCIONAR A UNA APLICACIÓN O PROCESO EL CONTENIDO DE LOS SEGMENTOS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ES UN IDENTIFICADOR DE 16 BITS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DE 1 A 1024  SON RESERVADO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16160" y="0"/>
            <a:ext cx="475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ACCESO AL TRANSPORT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53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14000" y="0"/>
            <a:ext cx="402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WELL KNOWN PORT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960" y="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0666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8380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e pueden consultar en el archivo /etc/service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ECHO (7)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BOOTP (67)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DISCARD (9)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TFTP (69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DAYTIME (13)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OP3 (110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FTP-DATA (20)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ORTMAP (111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FTP (21)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NMP (161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TELNET (23)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NMP-TRAP (162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MTP (25)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YSLOG (514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DNS (53)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RIP (520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HTTP (80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97040" y="228600"/>
            <a:ext cx="49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ARQUITECTURA DE TCP/IP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914400"/>
            <a:ext cx="3147840" cy="548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545472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37040" y="1036800"/>
            <a:ext cx="387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MT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1800" y="914400"/>
            <a:ext cx="38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81600" y="1058760"/>
            <a:ext cx="37944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LNE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83200" y="4267080"/>
            <a:ext cx="65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IP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78280" y="3263760"/>
            <a:ext cx="3164040" cy="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78280" y="4051440"/>
            <a:ext cx="3164040" cy="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8280" y="4835520"/>
            <a:ext cx="3164040" cy="0"/>
          </a:xfrm>
          <a:prstGeom prst="line">
            <a:avLst/>
          </a:prstGeom>
          <a:ln w="507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83200" y="3479760"/>
            <a:ext cx="251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TCP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UDP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16640" y="3252960"/>
            <a:ext cx="0" cy="76176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02160" y="1066680"/>
            <a:ext cx="387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DHC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96160" y="1036800"/>
            <a:ext cx="387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NM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8560" y="1036800"/>
            <a:ext cx="38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4114800"/>
            <a:ext cx="21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ICMP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  I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MP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13480" y="4449600"/>
            <a:ext cx="66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AR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83160" y="4449600"/>
            <a:ext cx="77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imes New Roman"/>
              </a:rPr>
              <a:t>RARP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6640" y="5105520"/>
            <a:ext cx="325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Arial"/>
              </a:rPr>
              <a:t>SOBRE: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Arial"/>
              </a:rPr>
              <a:t>LAN:Ethernet, Token Ring, AT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Arial"/>
              </a:rPr>
              <a:t>WAN: X.25, Frame Relay, ATM,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Arial"/>
              </a:rPr>
              <a:t>SLIP, PPP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13480" y="4449600"/>
            <a:ext cx="1444680" cy="35100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1800" y="1676520"/>
            <a:ext cx="37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HT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02160" y="2209680"/>
            <a:ext cx="379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69200" y="1981080"/>
            <a:ext cx="379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1981080"/>
            <a:ext cx="37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0560" y="2514600"/>
            <a:ext cx="379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4960" y="2057400"/>
            <a:ext cx="379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BOOT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0400" y="2438280"/>
            <a:ext cx="387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9240" y="342900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3657600"/>
            <a:ext cx="99036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658680" y="304920"/>
            <a:ext cx="166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SOCKE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4960" y="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0666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El socket es un identificador (similar a un file handler) para referenciar el extremo de una comunicación con TCP o UDP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ermite accesar TCP, UDP y protocolos de nivel 3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ockets como API es un mecanismo desarrollado por la universidad de Berkeley para accesar el nivel de transporte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58680" y="304920"/>
            <a:ext cx="166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SOCKE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4960" y="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920" y="1143000"/>
          <a:ext cx="7772400" cy="48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77724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933480" y="1123920"/>
            <a:ext cx="0" cy="3809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76480" y="1123920"/>
            <a:ext cx="0" cy="3733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19480" y="1200240"/>
            <a:ext cx="0" cy="37335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10400" y="1123920"/>
            <a:ext cx="0" cy="3733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95400" y="2205000"/>
            <a:ext cx="83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545472"/>
              </a:buClr>
              <a:buFont typeface="Times New Roman"/>
              <a:buAutoNum type="arabicPlain" startAt="30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10.1.0.1        2000           10.2.0.1         80         ESTABL 0X9112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280    10.1.0.1        1800           10.100.0.1     25         ESTABL 0X8111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26960" y="304920"/>
            <a:ext cx="27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SOCKETS EN C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4960" y="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0666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Funciones del API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int sockid=socket( int family, int type, int protocol)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famili: AF_UNIX, AF_INET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type: SOCK_STREAM, SOCK_DGRAM, SOCK_RAW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 protocol: UDP, TCP, IP o ICMP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OTRAS: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bind(), listen(), accept(), connect(), read, write(), send(), recv(), recvfrom(), sendto()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PI SOCKETS EN C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648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LASE java.net (TCP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762120"/>
            <a:ext cx="8588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rvidor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rverSocket theServer=new ServerSocket(puert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ocket theconnection=theServer.accept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econnection.close(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ient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netAddress ia = InetAddress.getByName(“nodo.dominio”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ocket theSocket = new Socket(ia, puerto)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DataInputStream theInputStream=new DataInputStream(theSocket.getimputStream()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PrintStream theOutputStream=new PrintStream(theSocket.getOutputStream())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eSocket.close(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LASE java.net (UDP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609120"/>
            <a:ext cx="8893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rvidor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atagramSocket ds=new DatagramSocket(puerto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atagramPacket dp=new DatagramPacket(buffer,buffer.lenght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s.receive(dp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s.close(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ent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etAddress ia = InetAddress.getByName(“nodo.dominio”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atagramPacket dp = new DatagramPacket(buffer, buffer.length, ia, port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atagramSocket ds=new DatagramSocket(puerto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s.send(dp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LASE java.ne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rvicios Multicas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ent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etAddress ia = InetAddress.getByName(“grupo”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ulticastSocket ms = new MulticastSocket(puerto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atagramPacket dp=new DatagramPacket(buffer, buffer.length()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s.joinGroup(ia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s.receive(dp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s.send(dp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rvidor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ulticastSocket ms = new MulticastSocket(puerto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s.join(ia)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WINSOCKE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ecanismo de acceso al transporte para Windows de Microsoft basado en sockets, con mejoras adicional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ersión 1.1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s la más difundida en WIN95/98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lo soporta un stack TCP/I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ersión 2.0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mpatible con Winsock 1.1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ativa en NT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porta multiples stack: TCP/IP, IPX/SPX/ATM, etc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porta varias instancias de diferentes fabricantes del mismo stack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as implementaciones de máquinas virtuales de JAVA (JVM) en su parte de conectividad se apoyan en Winsocke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ARQUITECTURA DE WINSOCKE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47676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NETBIOS SOBRE TCP/I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API en el nivel de sesión desarrollado por  Sytek Corporation para IBM en 1.983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Dos entidades: una de sesión y otra de administración de sesión y transporte de dato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Permite independizar el Transporte de la Aplicación. Puedo tener: Netbios sobre TCP/IP, Netbios sobre IPX/SPX, Netbios sobre NETBEU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Se basa NCB: Network Control Block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Servicios: Adapter Status, Add group name, Add name, Cancel, Listen, Receive, Send, Session status, Send Datagram, Call, Receive Datagram, Send Broadcast, Reset, Delete Name, Hangu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520" y="764640"/>
            <a:ext cx="8458200" cy="571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Arial"/>
              </a:rPr>
              <a:t>User Datagram Protocol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Arial"/>
              </a:rPr>
              <a:t>Se identifica en el paquete IP con Protocol 17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Arial"/>
              </a:rPr>
              <a:t>Protocolo del nivel de transporte para la comunicación entre aplicaciones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Arial"/>
              </a:rPr>
              <a:t>No orientado a conexió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Arial"/>
              </a:rPr>
              <a:t>Unidad de transferencia: segmento UD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Arial"/>
              </a:rPr>
              <a:t>Puede haber pérdida, duplicación o llegada en desorden de los segmento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Arial"/>
              </a:rPr>
              <a:t>No provee control de fluj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Arial"/>
              </a:rPr>
              <a:t>Detecta errores pero no los corrige. Descarta el segmento malo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UD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NETBIOS SOBRE TCP/I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2"/>
                </a:solidFill>
                <a:latin typeface="Tahoma"/>
              </a:rPr>
              <a:t>Los servicios se basan en nombres de 16 bytes asi: 15 caracteres y 1 byte de ti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2"/>
                </a:solidFill>
                <a:latin typeface="Tahoma"/>
              </a:rPr>
              <a:t>Ejemplo: diginet   &lt;0x20&gt;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2"/>
                </a:solidFill>
                <a:latin typeface="Tahoma"/>
              </a:rPr>
              <a:t>Comando nbtstat –n reporta mis nombres registrado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2"/>
                </a:solidFill>
                <a:latin typeface="Tahoma"/>
              </a:rPr>
              <a:t>Al comenzar un servicio este registra el nombre netbios utilizado. Si alguien ya lo tiene registrado se niega el requerimient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NETBIOS SOBRE TCP/I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s nombres deben ser convertidos a direcciones lo cual se puede hacer así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365400" indent="9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ediante broadcast: nodos tipo B. Puerto 137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365400" indent="91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ediante un servidor de nombres: NBNS (puerto 137). Nodo tipo P. Ej: WINS en Microsof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365400" indent="9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squema combinado de los dos anteriores asi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225080" indent="-2192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do-M (mixto). Primero B y si no luego 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225080" indent="-2192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do-H (híbrido). Primero P y si no luego B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65400" indent="914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ediante un archivo de mapeo de nombres a direcciones: LMHOS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NETBIOS SOBRE TCP/I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uando se configura en equipos en segmentos físicos diferentes, se requiere de soporte especial del router o la configuración archivos como LMHOSTS o servicios como WINS para la resolución de nombres para que todos los nombres se puedan resolv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tbios sobre TCP/IP es también usado por SAMBA (Linux y otros sistemas UNIX) y VISION FS (SCO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NETBIOS SOBRE TCP/I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ALGUNOS TRANSPORTES ESPECIAL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10480" cy="58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2"/>
                </a:solidFill>
                <a:latin typeface="Tahoma"/>
              </a:rPr>
              <a:t>SSL: Secure Sockets Layer.  Protocolo de nivel de transporte orientado a sesiones seguras. Ver presentación de Seguridad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45472"/>
                </a:solidFill>
                <a:latin typeface="Tahoma"/>
              </a:rPr>
              <a:t>RTP/RTCP: Real Time Protocol/Real Time Control Protocol. Orientado a la implementación de aplicaciones en tiempo real.  Ver presentación de Telefonía sobre redes de dato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www.diginet.com.co</a:t>
            </a:r>
            <a:r>
              <a:rPr b="0" lang="es-ES_tradnl" sz="3200" spc="-1" strike="noStrike">
                <a:solidFill>
                  <a:srgbClr val="545472"/>
                </a:solidFill>
                <a:latin typeface="Tahoma"/>
              </a:rPr>
              <a:t> – Download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SESIONES TCP PARA SIMULAR UNA APLICAC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 una conexión TELNET a los puertos de estos servicios se puede “conversar” con el servidor utilizando los siguientes comando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POP3(110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USER, PASS, LIST, RETR, DELE, NOOP, RSET, QUI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SMTP(25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HELO, MAIL FROM, RCPT  TO, DATA, QUI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HTTP(80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OPTIONS, GET, HEAD, POST, PUT, DELETE, TRAC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EMAS DE INVESTIG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CP vs. ATM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agle’s Algorith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low Star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CP en sistemas inalámbricos con altas tasas de err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Karn’s Algorith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BIBLIOGRAFI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TCP/IP Tutorial and technical overview. </a:t>
            </a:r>
            <a:r>
              <a:rPr b="0" lang="es-ES_tradnl" sz="28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www.diginet.com.co</a:t>
            </a: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 - Downloa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s muy simple de implementa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ado por: TFTP, DNS, RPC, SNMP entre otro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mbién muy utilizando en aplicaciones multimedia con RTP/RTCP. Ejemplo: Voz IP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mbios en las direcciones como NAT/IP enmascarado, implican recálculo del checksum del nivel de transporte debido al seudohead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UDP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848720" cy="196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80200" y="1050840"/>
            <a:ext cx="77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0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16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24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545472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SEGMENTO UDP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52560" y="2565360"/>
            <a:ext cx="74880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45472"/>
                </a:solidFill>
                <a:latin typeface="Times New Roman"/>
              </a:rPr>
              <a:t>DATA (PAYLOAD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ENCABEZADO UDP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Puerto: permite identificar la aplicación fuente y la aplicación destin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OJO: Socket y puerto no son lo mismo a pesar de estar estrechamente ligado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Checksum: permite detectar segmentos malos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Si al calcularlo da 0 se envía como 1´s (el checksum es el complemento de la suma de los complementos de palabras de 16 bits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En el cálculo se tiene en cuenta todo el segmento y el seudohead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Si el checksum del paquete está en 0 no se verifica y no se descarta el segmento así esté malo (uso en multimedia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45472"/>
                </a:solidFill>
                <a:latin typeface="Tahoma"/>
              </a:rPr>
              <a:t>Length: Longitud del seg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696440" cy="2157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964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SEUDOHEADER UTILIZADO EN EL CALCULO DEL CHECKSUM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TCP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NSPORT CONTROL PROTOCO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icado en el paquete IP con Protocol: 6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tocolo orientado a conexión para la comunicación extremo a extremo entre aplicaciones (punto a punto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idad de transferencia: segmento TC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arantiza la entrega (si no puede entregar notifica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arantiza orden en la entreg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arantiza la no duplicidad de la informació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ull duplex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s stream (no orientado a mensaje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C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fiable porque detecta y corrige error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uencializa  los bytes y controla el flujo con sliding window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ltiplexa a través del concepto de puer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 adapta dinámicamente a retardos de la re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neja dos tipos de congestion: en la red y en el nodo destin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mplementa mecanismos para el manejo de congestió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low start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 Fast retransmi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gestion Avoidanc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- Fast recovery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4:12:01Z</dcterms:created>
  <dc:creator>JUAN CARLOS RESTREPO</dc:creator>
  <dc:description/>
  <dc:language>en-US</dc:language>
  <cp:lastModifiedBy>usuario</cp:lastModifiedBy>
  <dcterms:modified xsi:type="dcterms:W3CDTF">2012-02-09T19:31:10Z</dcterms:modified>
  <cp:revision>317</cp:revision>
  <dc:subject/>
  <dc:title>Sin título de diapositiva</dc:title>
</cp:coreProperties>
</file>