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EFC-7D7E-4727-9234-9927E9FF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DA1-7EB6-4750-80EA-260F38A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E3F-7643-49B0-BBE3-48CB0C2A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BA2-42D9-4CFF-8956-4525DE35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23EC-AB47-4DF9-91A6-DF9253E5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DCA8-45F7-44E8-9F14-57A3F61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F9DD-DEA2-4AE4-8490-FFA0F4B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BA8B-F96E-4C0F-84EF-66DF2F4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4711-65A0-4AE6-84B1-A102D54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554B-C03F-414B-9DBB-D162D78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BF2-E66E-41A1-9428-AC9A2BBF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D00-A956-4BDD-97BC-F35F86B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86A9-D2C7-43A9-B278-ED73AAB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C68E-D517-49AC-A3C5-4292FFB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8541-7579-47AF-BA1A-EB804461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E42-375C-4B89-BE15-18604229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DA1-85EF-41C5-9680-FB89661C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C28-4E7D-48B0-90E0-09B3D78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13B-2999-475D-A1A7-72D3F6E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6F0-0BAF-4BA6-A6FE-EBD20F9B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A6A-1A8C-4968-9FC6-1BCD409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03B-8D9D-41AB-9594-C82B6EE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63E-8B77-4E2E-B81B-C03C13A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FE5-29BF-4151-BCEA-69024C6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265B-3394-4F07-B08A-EAEA6FC8F197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45F-3B7A-4E10-B7B6-5BC6731844C1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2577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CP/IP PARTE 3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IPV6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3152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ión: 5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ltima revisión: Noviembre -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ellín - Colomb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300720" y="5805360"/>
          <a:ext cx="27907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5805360"/>
                    <a:ext cx="2790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68580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ción de 16 bytes en forma hexadecimal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80:0000:0000:0000:0001:0800:23E7: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pos de 0´s se pueden omitir una sola vez con :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. FE80::1:800:23E7: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back.     ::1 Equivale a 127.0.0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pecified address.   ::  Equivale a 0.0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4 Compatible Address.    ::&lt;IP 4 address&gt;. Ejemplo:     ::0102:0304 Equivale a 1.2.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990720"/>
            <a:ext cx="853416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hay direcciones broadca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prefijo indica el tipo de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hace fundamental DHCP para asignar direcciones dinámicamente, para facilitar la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mbién se cuenta con mecanismos para que cada estación tenga por lo menos una dirección link local automát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0240" y="0"/>
            <a:ext cx="8442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CIÓN DE LAS DIRECCINES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8763120" cy="1600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83560" y="64008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SAP: Direcciones de red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909720"/>
            <a:ext cx="83818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Local Address: equivalen a las privadas 10.X.Y.Z, 192.168.X.Y, etc en IP versión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Local Local: solo operan en el segmento físico lo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60948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las direcciones públicas en Internet asignadas por el ente administrador: ARIN, APNI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jan la actual estructura de Internet con un Backbone principal y proveedores de segundo y tercer ni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A: Top Level Aggregation: Nivel superior de agregación. Proveedores de primer ni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: Bits reservados para uso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A: Next Level Aggregation. Proveedores de segundo ni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: Site Level Aggretation. Par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4903920"/>
            <a:ext cx="8077320" cy="165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TRUCTURA DE DIRECCIONES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7924680" cy="1706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920" y="60948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: Dirección asignada permanentemente por e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1: Direcciones tempo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Re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Interfaces en nodo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Nodos en la red físic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: Siti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: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TRUCTURA DE DIRECCIONES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144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less Address Auto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tiene un identificador de interface (MA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 link-local unicast: FE80::/10 + MA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ifica si ya asignada con neighbor solicitation. Si ya asignada --&gt; config. man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ego router solicitation. Si existe le indica como acabar de conformar la dirección: prefijo o cual DHCP us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no responde busca DHCP (FF05::1:3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no DHCP usar la dirección link-lo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ISGNACION DE DIR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9144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mple las funciones de ICMP, IGMP y ARP en IPV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Neighbor discovery: Similar a AR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Router and prefix discovery: Ubicar enrutadores por defecto y el prefi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Redirection: notificar mejor router por defec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Multicast listening discovery: similar a IGR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CMP EN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1447920"/>
            <a:ext cx="8664480" cy="4114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CMP EN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4920" y="99072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a la longitud de las dirección IPV6 el DNS se vuelve un componente crí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IPV6: Agregan nuevo  registro AAA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Resolución de nombre a dir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o 9999  IN  AAAA  2222::1:2:3:4:56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ción dirección a nom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a98...2.IP6.INT.  IN PTR  n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LICACIONES AUXILIARES: 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762120"/>
            <a:ext cx="8153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sez de direcciones IP en la versión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: Mecanismos como direcciones privadas, NAT, CIDR  y servicios de asignación dinámica de direcciones con DHCP y PPP han ayudado ha aliviar el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ta de mecanismos de seguridad y de prior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99072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CP IPV6: Complementa Stateless Address Auto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less Address Autoconfiguration: mecanismo para que el nodo cree su dirección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LICACIONES AUXILIARES: DH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914400"/>
            <a:ext cx="85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ciones con prefijo FF00::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equivalente de IGMP es el protocolo MLD (Multicast Listener Discovery), haciendo la consulta a la dirección FF02::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último nodo interesado en el tráfico multicast notifica cuando ya no quiere recibir este tráfico con el mensaje multicast listener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Multicast: 33:33:DST13:DST14:DST15:DST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T13,14,15,16 son los bytes menos significativos de la IPV6 Multi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115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6094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s alternati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le stack de protocolos: V4 y 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úne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aquete IPV6 se encapsula en un paquete IPV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mpo protocol de IPV4 se coloca 4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varios ti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-to-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r-to-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-to-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115920"/>
            <a:ext cx="792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CESO DE MIGRACIÓN IPV4 A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1066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QUEMA CON DOBL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696080" cy="3386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11280" y="115920"/>
            <a:ext cx="792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CESO DE MIGRACIÓN IPV4 A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609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ÚNEL CONFIGURADO DE ROUTER A RO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5581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1280" y="115920"/>
            <a:ext cx="792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CESO DE MIGRACIÓN IPV4 A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609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NEL AUTOMÁTICO ROUTER-TO-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únel lo crea el router cuando el destino es IP6 compatible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5181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115920"/>
            <a:ext cx="792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CESO DE MIGRACIÓN IPV4 A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609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NEL AUTOMÁTICO HOST-TO-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no encontrar un router V6 y teniendo el destino dirección 6 IP compatible la fuente crea el tú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600200" y="1905120"/>
            <a:ext cx="6172200" cy="4952880"/>
            <a:chOff x="1600200" y="1905120"/>
            <a:chExt cx="6172200" cy="4952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600200" y="1905120"/>
              <a:ext cx="6172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060000" y="3048120"/>
              <a:ext cx="11347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IPV4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3720" y="3048120"/>
              <a:ext cx="11347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IPV4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8120" y="3505320"/>
              <a:ext cx="10666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3505320"/>
              <a:ext cx="1067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8680" y="3352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11280" y="115920"/>
            <a:ext cx="792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CESO DE MIGRACIÓN IPV4 A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4000" y="189000"/>
            <a:ext cx="835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SOBRE IPV4 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1052640"/>
            <a:ext cx="833256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! interface Tunnel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description IPv6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o ip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no ip directed-broadc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pv6 e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pv6 address 3FFE:604:6:7::1/1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tunnel source Serial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tunnel destination 145.100.24.18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tunnel mode ipv6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pv6 route 3FFE:604:6:8::/64 Tunnel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762120"/>
            <a:ext cx="8153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en IPV4: no garantiza ni entrega, ni orden, ni no duplic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 la estructura del paquete IPV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 checks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anejo de fragmentos se hace con una o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parece el  TOS y se renombra el TT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 la longitud de las direcciones a 16 bytes (128 bi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P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762120"/>
            <a:ext cx="8153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 mecanismos de seguridad: autenticación, encripción e integ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orta unicast, multicast, anycast. Implementa tipos de servicio y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coexistir con IPV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psulación sobre ethernet: RFC197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rama Ethernet II el Type=86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115920"/>
            <a:ext cx="7632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P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943600" cy="567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TRUCTURA DEL PAQUETE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76212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: Versión.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CLASS: De 0 (Menor) a 15 (May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0-7 descarta el paquete ante congest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LABEL: Manejo de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LOAD LENTH: Total de bytes sin incluir header. 0 indica que se aplica la opción de Jumb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HEADER: Siguiente encabe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 LIMIT: Contador de saltos. Al valer 0 se desca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, DESTINATION ADDRESS: 16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: Encabezados opc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: Contenido del paqu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TRUCTURA DEL PAQUETE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4953240" cy="6248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TENSIONES DEL ENCABE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68760" y="3789360"/>
            <a:ext cx="783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TENSIONES DEL ENCABE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408720" cy="3097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332000" y="4653000"/>
            <a:ext cx="6265800" cy="1954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TENSIONES DEL ENCABE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280" y="76212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p-by-hop options (0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opciones que cada router debe examinar.Eje.Paquete mayor 64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ting (43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rutadores que debe visi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agmentation (44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nejo de fragmentos. Solo la fuente puede fragment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(51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utentica el paque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rypted security payload (50)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ripta el payl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tination options (60)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ciones examinadas por el desti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115920"/>
            <a:ext cx="7632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TENSIONES DEL ENCABE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00:40Z</dcterms:created>
  <dc:creator>JUAN CARLOS RESTREPO</dc:creator>
  <dc:description/>
  <dc:language>en-US</dc:language>
  <cp:lastModifiedBy>usuario</cp:lastModifiedBy>
  <dcterms:modified xsi:type="dcterms:W3CDTF">2012-02-09T19:30:24Z</dcterms:modified>
  <cp:revision>480</cp:revision>
  <dc:subject/>
  <dc:title>Sin título de diapositiva</dc:title>
</cp:coreProperties>
</file>