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077-3A1E-4BA2-9700-A361BBFC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EE34-9DC6-4CDB-9998-CD8D8DD8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3BE-CEF0-4D52-B49A-3210BB8A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FE5-50F3-48D1-A02E-20D93784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0F9E-B348-45F6-BE74-B6FFF680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F8CB-4B03-409D-998B-B28E1C83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25E-FBF2-4EBA-B37F-39080072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819-AD3B-4682-8F9B-27E738A1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8FB-B254-4869-A609-D68F9EF8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AF8-1F2B-400B-A59F-DEF203EB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595-0D08-436E-8627-0AE17CD1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363-2213-47F3-A0D0-7687925C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1360-9523-4EEC-8FC8-2AA5B096E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rest@diginet.com.co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rtg.org/" TargetMode="External"/><Relationship Id="rId2" Type="http://schemas.openxmlformats.org/officeDocument/2006/relationships/hyperlink" Target="http://www.cacti.net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kegel.com/linux/pxe.html" TargetMode="External"/><Relationship Id="rId2" Type="http://schemas.openxmlformats.org/officeDocument/2006/relationships/hyperlink" Target="http://www.cisco.com/univercd/cc/td/doc/cisintwk/ito_doc/snmp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0773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NIVEL APLICATIV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RVICIOS DE MONITOREO Y GESTION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NMP -  SYS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349360"/>
            <a:ext cx="6400800" cy="41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JUAN CARLOS RESTRE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uanrest@diginet.com.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l: 51405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rsión: 1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ltima revisión: Agosto - 2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dellin-Colo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012000" y="5767560"/>
          <a:ext cx="3132000" cy="109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2000" y="5767560"/>
                    <a:ext cx="313200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97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549360"/>
            <a:ext cx="8534160" cy="585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nagement Information 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lección de información del dispositivo organizada jerárquicamente, como objetos administr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objetos se pueden referencias por su nombre o por su posición en la jerarquía. 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o.identified-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rganization.dod.internet.private.enterprise.cisco.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poraryvariables.AppleTalk.at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3.6.1.4.1.9.3.3.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accesada a través de protocolos de administración como SNM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independizar el formato de los objetos de la arquitectura del dispositivo se utiliza para el transporte de la información el estándar ASN.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97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549360"/>
            <a:ext cx="8534160" cy="585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ndar para describir la estructura y sintaxis de datos transmit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urante la transmisión no es legible por los seres humanos.  Solo antes de la codificación o despues de la decodific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97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549360"/>
            <a:ext cx="8534160" cy="585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2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ndar para la definición de datos. Ej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dule-order DEFINITIONS AUTOMATIC TAGS ::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rder ::= SEQUENC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eader  Order-head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tems   SEQUENCE OF Order-line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rder-header ::= SEQUENC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umber   Order-numb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ate     Dat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ient   Clien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yment  Payment-method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rder-number ::= NumericString (SIZE (12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ate ::= NumericString (SIZE (8)) -- MMDDYYY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ient ::= SEQUENC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ame     PrintableString (SIZE (1..20)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treet   PrintableString (SIZE (1..50)) OPTIONA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stcode NumericString (SIZE (5)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own     PrintableString (SIZE (1..30)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untry  PrintableString (SIZE (1..20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FAULT default-country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fault-country PrintableString ::= "France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yment-method ::= CHOIC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heck        NumericString (SIZE (15)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dit-card  Credit-car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ash         NULL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dit-card ::= SEQUENC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ype         Card-typ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umber       NumericString (SIZE (20)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xpiry-date  NumericString (SIZE (6)) -- MMYYYY --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ard-type ::= ENUMERATED { cb(0), visa(1), eurocard(2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ners(3), american-express(4)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rder-line ::= SEQUENC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tem-code    Item-cod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bel        Labe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quantity     Quantit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ice        Cents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97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549360"/>
            <a:ext cx="8534160" cy="585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standar para la definición de datos. Ej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odule-order DEFINITIONS AUTOMATIC TAGS ::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rder ::= SEQUENCE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eader  Order-heade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tems   SEQUENCE OF Order-line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rder-header ::= SEQUENCE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umber   Order-numbe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ate     Dat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lient   Client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ayment  Payment-method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rder-number ::= NumericString (SIZE (12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ate ::= NumericString (SIZE (8)) -- MMDDYYY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lient ::= SEQUENCE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ame     PrintableString (SIZE (1..20))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treet   PrintableString (SIZE (1..50)) OPTIONAL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ostcode NumericString (SIZE (5))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own     PrintableString (SIZE (1..30))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ountry  PrintableString (SIZE (1..20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FAULT default-country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fault-country PrintableString ::= "France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ayment-method ::= CHOICE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heck        NumericString (SIZE (15))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redit-card  Credit-card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ash         NULL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redit-card ::= SEQUENCE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type         Card-typ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umber       NumericString (SIZE (20))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xpiry-date  NumericString (SIZE (6)) -- MMYYYY --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ard-type ::= ENUMERATED { cb(0), visa(1), eurocard(2)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iners(3), american-express(4)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rder-line ::= SEQUENCE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tem-code    Item-cod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abel        Label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quantity     Quantity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rice        Cents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tem-code ::= NumericString (SIZE (7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abel ::= PrintableString (SIZE (1..30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Quantity ::= CHOICE { unites       INTEGE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llimetres  INTEGE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milligrammes INTEGER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Cents ::= INTE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livery-report ::= SEQUENCE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rder-code   Order-numbe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livery     SEQUENCE OF Delivery-line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livery-line ::= SEQUENCE { item  Item-cod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quantity Quantity 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rotocol DEFINITIONS AUTOMATIC TAGS ::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MPORTS Order, Delivery-report, Item-code, Quantity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rder-number FROM Module-order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DU ::= CHOICE { question CHOICE {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question1 Orde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question2 Item-cod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question3 Order-numbe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... }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nswer  CHOICE 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nswer1   Delivery-report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nswer2   Quantity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nswer3   Delivery-report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... }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19280" y="692280"/>
            <a:ext cx="5995800" cy="61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e los objetos que pueden ser administ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086600" cy="44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 DE GRUPOS M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ystem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ysDescr - Full description of the system (version, HW, 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ysObjectID - Vendor's object iden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ysUpTime - Time since last re-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ysContact - Name of contact 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ysServices - Services offered by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faces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ifIndex - Interfac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ifDescr - Interface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ifType - Interface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ifMtu - Size of the largest IP dat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ifAdminisStatus - Status of the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ifLastChange - Time the interface entered in the current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ifINErrors - Number of inbound packets that contained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ifOutDiscards - Number of outbound packets discar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21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RM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888480"/>
            <a:ext cx="8534160" cy="556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mote Monitoring MIB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a MIB definida por IETF en RFC 175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cambia a SNM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úne estadísticas analizando cada trama en un segmento de red (Orientado a diagnosticar segmentos de red más que equipos individu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MON1: provee información del nivel de en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MON2: provee información del nivel de red hasta el aplica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7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NMP EN CIS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052640"/>
            <a:ext cx="8534160" cy="53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 de configuración en Cisco.  Modo Glob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nmp-server community diginet ro  (Solo lec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nmp-server community diginet wr  (Lectura/Escri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nmp-server location  Piso 4 del Edificio Centro Cara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nmp-server contact Juan Carlos Restre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7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HERRAMIENTAS QUE USAN SN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052640"/>
            <a:ext cx="8534160" cy="53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RTG: Multi Router Traffic Grap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mrtg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rafica uso de canales consultado estadísticas de trafico en las interf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 sobre varias plataformas: Linux, Window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c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cacti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ptura y grafica múltiples datos como consumos de canal, uso de procesador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opera sobre Unix/Linux y 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INT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rvicios orientados al monitoreo y gestión remota de la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ás utilizados son SNMP y RM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YSLOG permite tener un log centralizado de eventos de la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YSLO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e el registro de eventos de diferentes fuentes en un servidor centralizado de L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tiliza el puerto 514 UD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y usado por equipos que no cuentan con discos duros: routers, firewall por hardwar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bién por seguridad con el fin de que si alguien se apodera de una máquina no pueda borrar los log direct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134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ITIOS DE INTE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620640"/>
            <a:ext cx="8534160" cy="578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kegel.com/linux/px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cisco.com/univercd/cc/td/doc/cisintwk/ito_doc/snmp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mple Network Management Protoc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ocolo para el monitoreo y administración remota de nodos de la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lementado en la actualidad por la mayoría de fabric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isten varias versiones, siendo la V2 más uti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ualmente Version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iliza UDP como protocolo de trans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ert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61 UD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sajes SNMP (Los NMS consultan los ag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62 UD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ps. Los agentes notifican eventos a los N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on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odos administrados (Devices)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staciones, routers, hubs, etc. Mediante un a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solas de Administración (NMS)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quipo o equipos encargados de la administ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formación de administración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s una colección de objetos que describen el estado de los dispositivos administrados. Se conoce como MIB (Management Information Bas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tocolo de administr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ediante este las consolas piden la información a los nodos administrados. Ante ciertos eventos los nodos notifican a la consola de administración mediante Tra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395280"/>
            <a:ext cx="8208720" cy="642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mple Network Managemento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47676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mple Network Management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629400" cy="556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97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ENSAJES SNMP V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549000"/>
            <a:ext cx="8534160" cy="60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tocolo basado en Request/Respo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per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mitido por la NMS hacia el dispositivo para obtener el valor de uno o más obje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el dispositivo no puede responder uno de los objeto no responde ningu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et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pedir información del siguiente obj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cambiar el valor de un obj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iginado en el Dispositivo para avisar de un evento al N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ENSAJE SN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561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5T01:00:54Z</dcterms:created>
  <dc:creator>DigiNet Ltda.</dc:creator>
  <dc:description/>
  <dc:language>en-US</dc:language>
  <cp:lastModifiedBy>usuario</cp:lastModifiedBy>
  <dcterms:modified xsi:type="dcterms:W3CDTF">2012-02-09T19:39:17Z</dcterms:modified>
  <cp:revision>179</cp:revision>
  <dc:subject/>
  <dc:title>Presentación de PowerPoint</dc:title>
</cp:coreProperties>
</file>