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B7B-A0FB-43F7-8F29-80935D6B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A3D-305C-4033-8A7E-E28A9BB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FA8-F17A-48AF-B6EF-B81E6F91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9E0-4871-4A5A-84C6-09CEACE5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AD2-6DBF-480F-8476-6286454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15D-4F4B-4E26-BDF6-6127F783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EF6-CA73-441E-BD50-0875EB50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33D-365D-47CB-B4F3-E455E9FD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5D8-3F6D-4D06-8718-484AE5C6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75A-AE09-4DEE-B42D-74FB3795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2A2-6F54-4A6D-9838-012EC3E7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216-0C3E-4BE6-A3AD-636626E2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9AB1-6599-47D3-AD13-632AC9195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rest@diginet.com.co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kegel.com/linux/pxe.html" TargetMode="External"/><Relationship Id="rId2" Type="http://schemas.openxmlformats.org/officeDocument/2006/relationships/hyperlink" Target="http://www.cisco.com/univercd/cc/td/doc/cisintwk/ito_doc/snmp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ERVICIOS DE CONFIGURACION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ARP, BOOTP/DHCP, NTP, SN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349360"/>
            <a:ext cx="640080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uanrest@diginet.com.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rsión: 1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ltima revisión: Agosto -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ellin-Colo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12000" y="5767560"/>
          <a:ext cx="3132000" cy="10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5767560"/>
                    <a:ext cx="313200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HCP ENTRE V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20280"/>
            <a:ext cx="853416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 el caso de 3COM se debe configurar en el suiche nivel 3 lo siguiente cuando el servidor DHCP esta en una VLAN y el cliente en ot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hcp-server 1 ip  10.1.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la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cription servi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la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la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cription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lan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cription Vo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terface Vlan-interfac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p address 10.1.1.13 255.255.25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terface Vlan-interfac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p address 10.1.100.1 255.255.25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hcp-ser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terface Vlan-interface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p address 10.1.101.1 255.255.25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hcp-serv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4500720" y="3068640"/>
            <a:ext cx="2590560" cy="1676520"/>
            <a:chOff x="4500720" y="3068640"/>
            <a:chExt cx="2590560" cy="1676520"/>
          </a:xfrm>
        </p:grpSpPr>
        <p:sp>
          <p:nvSpPr>
            <p:cNvPr id="65" name=""/>
            <p:cNvSpPr/>
            <p:nvPr/>
          </p:nvSpPr>
          <p:spPr>
            <a:xfrm>
              <a:off x="4500720" y="3068640"/>
              <a:ext cx="2590560" cy="1676520"/>
            </a:xfrm>
            <a:custGeom>
              <a:avLst/>
              <a:gdLst/>
              <a:ahLst/>
              <a:rect l="l" t="t" r="r" b="b"/>
              <a:pathLst>
                <a:path w="913" h="576">
                  <a:moveTo>
                    <a:pt x="421" y="76"/>
                  </a:moveTo>
                  <a:lnTo>
                    <a:pt x="400" y="71"/>
                  </a:lnTo>
                  <a:lnTo>
                    <a:pt x="371" y="64"/>
                  </a:lnTo>
                  <a:lnTo>
                    <a:pt x="347" y="63"/>
                  </a:lnTo>
                  <a:lnTo>
                    <a:pt x="321" y="65"/>
                  </a:lnTo>
                  <a:lnTo>
                    <a:pt x="302" y="68"/>
                  </a:lnTo>
                  <a:lnTo>
                    <a:pt x="284" y="73"/>
                  </a:lnTo>
                  <a:lnTo>
                    <a:pt x="263" y="81"/>
                  </a:lnTo>
                  <a:lnTo>
                    <a:pt x="244" y="91"/>
                  </a:lnTo>
                  <a:lnTo>
                    <a:pt x="225" y="105"/>
                  </a:lnTo>
                  <a:lnTo>
                    <a:pt x="206" y="123"/>
                  </a:lnTo>
                  <a:lnTo>
                    <a:pt x="193" y="140"/>
                  </a:lnTo>
                  <a:lnTo>
                    <a:pt x="184" y="155"/>
                  </a:lnTo>
                  <a:lnTo>
                    <a:pt x="176" y="172"/>
                  </a:lnTo>
                  <a:lnTo>
                    <a:pt x="171" y="194"/>
                  </a:lnTo>
                  <a:lnTo>
                    <a:pt x="154" y="189"/>
                  </a:lnTo>
                  <a:lnTo>
                    <a:pt x="135" y="186"/>
                  </a:lnTo>
                  <a:lnTo>
                    <a:pt x="118" y="186"/>
                  </a:lnTo>
                  <a:lnTo>
                    <a:pt x="100" y="190"/>
                  </a:lnTo>
                  <a:lnTo>
                    <a:pt x="84" y="197"/>
                  </a:lnTo>
                  <a:lnTo>
                    <a:pt x="68" y="204"/>
                  </a:lnTo>
                  <a:lnTo>
                    <a:pt x="51" y="219"/>
                  </a:lnTo>
                  <a:lnTo>
                    <a:pt x="42" y="230"/>
                  </a:lnTo>
                  <a:lnTo>
                    <a:pt x="30" y="243"/>
                  </a:lnTo>
                  <a:lnTo>
                    <a:pt x="20" y="258"/>
                  </a:lnTo>
                  <a:lnTo>
                    <a:pt x="12" y="279"/>
                  </a:lnTo>
                  <a:lnTo>
                    <a:pt x="6" y="298"/>
                  </a:lnTo>
                  <a:lnTo>
                    <a:pt x="2" y="318"/>
                  </a:lnTo>
                  <a:lnTo>
                    <a:pt x="1" y="333"/>
                  </a:lnTo>
                  <a:lnTo>
                    <a:pt x="0" y="349"/>
                  </a:lnTo>
                  <a:lnTo>
                    <a:pt x="1" y="368"/>
                  </a:lnTo>
                  <a:lnTo>
                    <a:pt x="3" y="385"/>
                  </a:lnTo>
                  <a:lnTo>
                    <a:pt x="7" y="402"/>
                  </a:lnTo>
                  <a:lnTo>
                    <a:pt x="12" y="418"/>
                  </a:lnTo>
                  <a:lnTo>
                    <a:pt x="20" y="436"/>
                  </a:lnTo>
                  <a:lnTo>
                    <a:pt x="30" y="454"/>
                  </a:lnTo>
                  <a:lnTo>
                    <a:pt x="42" y="468"/>
                  </a:lnTo>
                  <a:lnTo>
                    <a:pt x="56" y="482"/>
                  </a:lnTo>
                  <a:lnTo>
                    <a:pt x="72" y="493"/>
                  </a:lnTo>
                  <a:lnTo>
                    <a:pt x="85" y="500"/>
                  </a:lnTo>
                  <a:lnTo>
                    <a:pt x="98" y="504"/>
                  </a:lnTo>
                  <a:lnTo>
                    <a:pt x="113" y="509"/>
                  </a:lnTo>
                  <a:lnTo>
                    <a:pt x="128" y="509"/>
                  </a:lnTo>
                  <a:lnTo>
                    <a:pt x="145" y="509"/>
                  </a:lnTo>
                  <a:lnTo>
                    <a:pt x="161" y="506"/>
                  </a:lnTo>
                  <a:lnTo>
                    <a:pt x="174" y="502"/>
                  </a:lnTo>
                  <a:lnTo>
                    <a:pt x="182" y="498"/>
                  </a:lnTo>
                  <a:lnTo>
                    <a:pt x="191" y="511"/>
                  </a:lnTo>
                  <a:lnTo>
                    <a:pt x="204" y="522"/>
                  </a:lnTo>
                  <a:lnTo>
                    <a:pt x="217" y="533"/>
                  </a:lnTo>
                  <a:lnTo>
                    <a:pt x="232" y="543"/>
                  </a:lnTo>
                  <a:lnTo>
                    <a:pt x="252" y="552"/>
                  </a:lnTo>
                  <a:lnTo>
                    <a:pt x="271" y="561"/>
                  </a:lnTo>
                  <a:lnTo>
                    <a:pt x="294" y="568"/>
                  </a:lnTo>
                  <a:lnTo>
                    <a:pt x="315" y="572"/>
                  </a:lnTo>
                  <a:lnTo>
                    <a:pt x="339" y="575"/>
                  </a:lnTo>
                  <a:lnTo>
                    <a:pt x="357" y="575"/>
                  </a:lnTo>
                  <a:lnTo>
                    <a:pt x="376" y="575"/>
                  </a:lnTo>
                  <a:lnTo>
                    <a:pt x="402" y="571"/>
                  </a:lnTo>
                  <a:lnTo>
                    <a:pt x="433" y="559"/>
                  </a:lnTo>
                  <a:lnTo>
                    <a:pt x="444" y="562"/>
                  </a:lnTo>
                  <a:lnTo>
                    <a:pt x="465" y="553"/>
                  </a:lnTo>
                  <a:lnTo>
                    <a:pt x="486" y="543"/>
                  </a:lnTo>
                  <a:lnTo>
                    <a:pt x="499" y="535"/>
                  </a:lnTo>
                  <a:lnTo>
                    <a:pt x="510" y="525"/>
                  </a:lnTo>
                  <a:lnTo>
                    <a:pt x="522" y="531"/>
                  </a:lnTo>
                  <a:lnTo>
                    <a:pt x="537" y="539"/>
                  </a:lnTo>
                  <a:lnTo>
                    <a:pt x="552" y="544"/>
                  </a:lnTo>
                  <a:lnTo>
                    <a:pt x="566" y="548"/>
                  </a:lnTo>
                  <a:lnTo>
                    <a:pt x="582" y="550"/>
                  </a:lnTo>
                  <a:lnTo>
                    <a:pt x="597" y="550"/>
                  </a:lnTo>
                  <a:lnTo>
                    <a:pt x="615" y="547"/>
                  </a:lnTo>
                  <a:lnTo>
                    <a:pt x="633" y="542"/>
                  </a:lnTo>
                  <a:lnTo>
                    <a:pt x="650" y="535"/>
                  </a:lnTo>
                  <a:lnTo>
                    <a:pt x="666" y="524"/>
                  </a:lnTo>
                  <a:lnTo>
                    <a:pt x="681" y="512"/>
                  </a:lnTo>
                  <a:lnTo>
                    <a:pt x="701" y="522"/>
                  </a:lnTo>
                  <a:lnTo>
                    <a:pt x="720" y="527"/>
                  </a:lnTo>
                  <a:lnTo>
                    <a:pt x="736" y="530"/>
                  </a:lnTo>
                  <a:lnTo>
                    <a:pt x="759" y="530"/>
                  </a:lnTo>
                  <a:lnTo>
                    <a:pt x="784" y="526"/>
                  </a:lnTo>
                  <a:lnTo>
                    <a:pt x="813" y="516"/>
                  </a:lnTo>
                  <a:lnTo>
                    <a:pt x="837" y="500"/>
                  </a:lnTo>
                  <a:lnTo>
                    <a:pt x="858" y="481"/>
                  </a:lnTo>
                  <a:lnTo>
                    <a:pt x="878" y="458"/>
                  </a:lnTo>
                  <a:lnTo>
                    <a:pt x="888" y="439"/>
                  </a:lnTo>
                  <a:lnTo>
                    <a:pt x="897" y="420"/>
                  </a:lnTo>
                  <a:lnTo>
                    <a:pt x="906" y="394"/>
                  </a:lnTo>
                  <a:lnTo>
                    <a:pt x="910" y="370"/>
                  </a:lnTo>
                  <a:lnTo>
                    <a:pt x="912" y="343"/>
                  </a:lnTo>
                  <a:lnTo>
                    <a:pt x="910" y="323"/>
                  </a:lnTo>
                  <a:lnTo>
                    <a:pt x="906" y="298"/>
                  </a:lnTo>
                  <a:lnTo>
                    <a:pt x="899" y="274"/>
                  </a:lnTo>
                  <a:lnTo>
                    <a:pt x="888" y="252"/>
                  </a:lnTo>
                  <a:lnTo>
                    <a:pt x="877" y="230"/>
                  </a:lnTo>
                  <a:lnTo>
                    <a:pt x="862" y="212"/>
                  </a:lnTo>
                  <a:lnTo>
                    <a:pt x="848" y="198"/>
                  </a:lnTo>
                  <a:lnTo>
                    <a:pt x="834" y="188"/>
                  </a:lnTo>
                  <a:lnTo>
                    <a:pt x="815" y="173"/>
                  </a:lnTo>
                  <a:lnTo>
                    <a:pt x="797" y="166"/>
                  </a:lnTo>
                  <a:lnTo>
                    <a:pt x="781" y="162"/>
                  </a:lnTo>
                  <a:lnTo>
                    <a:pt x="762" y="159"/>
                  </a:lnTo>
                  <a:lnTo>
                    <a:pt x="759" y="143"/>
                  </a:lnTo>
                  <a:lnTo>
                    <a:pt x="754" y="126"/>
                  </a:lnTo>
                  <a:lnTo>
                    <a:pt x="747" y="110"/>
                  </a:lnTo>
                  <a:lnTo>
                    <a:pt x="738" y="94"/>
                  </a:lnTo>
                  <a:lnTo>
                    <a:pt x="726" y="77"/>
                  </a:lnTo>
                  <a:lnTo>
                    <a:pt x="711" y="59"/>
                  </a:lnTo>
                  <a:lnTo>
                    <a:pt x="698" y="45"/>
                  </a:lnTo>
                  <a:lnTo>
                    <a:pt x="681" y="33"/>
                  </a:lnTo>
                  <a:lnTo>
                    <a:pt x="660" y="20"/>
                  </a:lnTo>
                  <a:lnTo>
                    <a:pt x="640" y="11"/>
                  </a:lnTo>
                  <a:lnTo>
                    <a:pt x="621" y="5"/>
                  </a:lnTo>
                  <a:lnTo>
                    <a:pt x="598" y="1"/>
                  </a:lnTo>
                  <a:lnTo>
                    <a:pt x="577" y="0"/>
                  </a:lnTo>
                  <a:lnTo>
                    <a:pt x="554" y="0"/>
                  </a:lnTo>
                  <a:lnTo>
                    <a:pt x="533" y="4"/>
                  </a:lnTo>
                  <a:lnTo>
                    <a:pt x="509" y="11"/>
                  </a:lnTo>
                  <a:lnTo>
                    <a:pt x="483" y="23"/>
                  </a:lnTo>
                  <a:lnTo>
                    <a:pt x="466" y="33"/>
                  </a:lnTo>
                  <a:lnTo>
                    <a:pt x="449" y="46"/>
                  </a:lnTo>
                  <a:lnTo>
                    <a:pt x="434" y="62"/>
                  </a:lnTo>
                  <a:lnTo>
                    <a:pt x="421" y="76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52720" y="3861000"/>
              <a:ext cx="5630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692360" y="260280"/>
            <a:ext cx="6553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QUEMA DE DHCP SOBRE LA 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2560" y="1773360"/>
            <a:ext cx="910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RVID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2347920"/>
            <a:ext cx="6526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1835280" y="3716280"/>
            <a:ext cx="1051560" cy="647640"/>
            <a:chOff x="1835280" y="3716280"/>
            <a:chExt cx="1051560" cy="647640"/>
          </a:xfrm>
        </p:grpSpPr>
        <p:sp>
          <p:nvSpPr>
            <p:cNvPr id="71" name=""/>
            <p:cNvSpPr/>
            <p:nvPr/>
          </p:nvSpPr>
          <p:spPr>
            <a:xfrm>
              <a:off x="1835280" y="3719160"/>
              <a:ext cx="922680" cy="31464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62720" y="4026600"/>
              <a:ext cx="795600" cy="335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35280" y="3716280"/>
              <a:ext cx="129960" cy="64764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72080" y="4046040"/>
              <a:ext cx="666360" cy="297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963800" y="4114080"/>
              <a:ext cx="23400" cy="67680"/>
              <a:chOff x="1963800" y="4114080"/>
              <a:chExt cx="23400" cy="67680"/>
            </a:xfrm>
          </p:grpSpPr>
          <p:sp>
            <p:nvSpPr>
              <p:cNvPr id="76" name=""/>
              <p:cNvSpPr/>
              <p:nvPr/>
            </p:nvSpPr>
            <p:spPr>
              <a:xfrm>
                <a:off x="1963800" y="4114080"/>
                <a:ext cx="234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63800" y="4123080"/>
                <a:ext cx="234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63800" y="4143240"/>
                <a:ext cx="234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63800" y="4151520"/>
                <a:ext cx="234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63800" y="4172760"/>
                <a:ext cx="234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63800" y="4181040"/>
                <a:ext cx="234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639520" y="4016880"/>
              <a:ext cx="118440" cy="2160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854000" y="3824640"/>
              <a:ext cx="34920" cy="302040"/>
              <a:chOff x="1854000" y="3824640"/>
              <a:chExt cx="34920" cy="30204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1854000" y="3824640"/>
                <a:ext cx="34920" cy="96120"/>
                <a:chOff x="1854000" y="3824640"/>
                <a:chExt cx="34920" cy="96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854000" y="382536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855080" y="382464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854000" y="3858840"/>
                <a:ext cx="34920" cy="96480"/>
                <a:chOff x="1854000" y="3858840"/>
                <a:chExt cx="34920" cy="964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854000" y="3859560"/>
                  <a:ext cx="33480" cy="957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855080" y="385884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854000" y="3893040"/>
                <a:ext cx="34920" cy="96120"/>
                <a:chOff x="1854000" y="3893040"/>
                <a:chExt cx="34920" cy="96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854000" y="389376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855080" y="389304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854000" y="3927240"/>
                <a:ext cx="34920" cy="96120"/>
                <a:chOff x="1854000" y="3927240"/>
                <a:chExt cx="34920" cy="9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854000" y="392796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855080" y="3927240"/>
                  <a:ext cx="33840" cy="957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854000" y="3961800"/>
                <a:ext cx="34920" cy="96120"/>
                <a:chOff x="1854000" y="3961800"/>
                <a:chExt cx="34920" cy="9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854000" y="396252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855080" y="396180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854000" y="3996360"/>
                <a:ext cx="34920" cy="96120"/>
                <a:chOff x="1854000" y="3996360"/>
                <a:chExt cx="34920" cy="9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854000" y="399708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855080" y="399636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854000" y="4030560"/>
                <a:ext cx="34920" cy="96120"/>
                <a:chOff x="1854000" y="4030560"/>
                <a:chExt cx="34920" cy="9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854000" y="403128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55080" y="403056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907640" y="3954240"/>
              <a:ext cx="33840" cy="301320"/>
              <a:chOff x="1907640" y="3954240"/>
              <a:chExt cx="33840" cy="3013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907640" y="3954240"/>
                <a:ext cx="33840" cy="95040"/>
                <a:chOff x="1907640" y="3954240"/>
                <a:chExt cx="33840" cy="950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907640" y="3954960"/>
                  <a:ext cx="32760" cy="943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08720" y="395424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907640" y="3988440"/>
                <a:ext cx="33840" cy="95400"/>
                <a:chOff x="1907640" y="3988440"/>
                <a:chExt cx="33840" cy="954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907640" y="398916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08720" y="398844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907640" y="4023000"/>
                <a:ext cx="33840" cy="95400"/>
                <a:chOff x="1907640" y="4023000"/>
                <a:chExt cx="33840" cy="954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907640" y="402372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08720" y="4023000"/>
                  <a:ext cx="32760" cy="943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907640" y="4057560"/>
                <a:ext cx="33840" cy="95400"/>
                <a:chOff x="1907640" y="4057560"/>
                <a:chExt cx="33840" cy="95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907640" y="405828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08720" y="405756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907640" y="4091760"/>
                <a:ext cx="33840" cy="95400"/>
                <a:chOff x="1907640" y="4091760"/>
                <a:chExt cx="33840" cy="95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907640" y="409248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08720" y="409176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907640" y="4125960"/>
                <a:ext cx="33840" cy="95400"/>
                <a:chOff x="1907640" y="4125960"/>
                <a:chExt cx="33840" cy="95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907640" y="412668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08720" y="412596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907640" y="4160520"/>
                <a:ext cx="33840" cy="95040"/>
                <a:chOff x="1907640" y="4160520"/>
                <a:chExt cx="33840" cy="950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907640" y="4161240"/>
                  <a:ext cx="32760" cy="943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08720" y="416052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" name=""/>
            <p:cNvGrpSpPr/>
            <p:nvPr/>
          </p:nvGrpSpPr>
          <p:grpSpPr>
            <a:xfrm>
              <a:off x="1861920" y="3724560"/>
              <a:ext cx="138240" cy="290160"/>
              <a:chOff x="1861920" y="3724560"/>
              <a:chExt cx="138240" cy="290160"/>
            </a:xfrm>
          </p:grpSpPr>
          <p:sp>
            <p:nvSpPr>
              <p:cNvPr id="128" name=""/>
              <p:cNvSpPr/>
              <p:nvPr/>
            </p:nvSpPr>
            <p:spPr>
              <a:xfrm>
                <a:off x="1861920" y="3724560"/>
                <a:ext cx="35280" cy="352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65520" y="3731040"/>
                <a:ext cx="30240" cy="30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64880" y="3978720"/>
                <a:ext cx="35280" cy="34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68840" y="3984120"/>
                <a:ext cx="30240" cy="30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594160" y="3724560"/>
              <a:ext cx="138960" cy="290160"/>
              <a:chOff x="2594160" y="3724560"/>
              <a:chExt cx="138960" cy="290160"/>
            </a:xfrm>
          </p:grpSpPr>
          <p:sp>
            <p:nvSpPr>
              <p:cNvPr id="133" name=""/>
              <p:cNvSpPr/>
              <p:nvPr/>
            </p:nvSpPr>
            <p:spPr>
              <a:xfrm>
                <a:off x="2594160" y="3724560"/>
                <a:ext cx="35280" cy="352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97400" y="3731040"/>
                <a:ext cx="30600" cy="30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97840" y="3978720"/>
                <a:ext cx="35280" cy="34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01080" y="3984120"/>
                <a:ext cx="30600" cy="30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972080" y="4053240"/>
              <a:ext cx="670320" cy="284400"/>
              <a:chOff x="1972080" y="4053240"/>
              <a:chExt cx="670320" cy="284400"/>
            </a:xfrm>
          </p:grpSpPr>
          <p:sp>
            <p:nvSpPr>
              <p:cNvPr id="138" name=""/>
              <p:cNvSpPr/>
              <p:nvPr/>
            </p:nvSpPr>
            <p:spPr>
              <a:xfrm>
                <a:off x="1972080" y="4054320"/>
                <a:ext cx="630720" cy="2829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82640" y="4053240"/>
                <a:ext cx="59760" cy="28440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664720" y="4041720"/>
              <a:ext cx="94320" cy="321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1800" y="397008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001600" y="4093560"/>
              <a:ext cx="611280" cy="208800"/>
              <a:chOff x="2001600" y="4093560"/>
              <a:chExt cx="611280" cy="2088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544840" y="4093560"/>
                <a:ext cx="68040" cy="39960"/>
                <a:chOff x="2544840" y="4093560"/>
                <a:chExt cx="68040" cy="3996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2544840" y="4093560"/>
                  <a:ext cx="20520" cy="39960"/>
                  <a:chOff x="2544840" y="4093560"/>
                  <a:chExt cx="20520" cy="3996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2551680" y="4100400"/>
                    <a:ext cx="13680" cy="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544840" y="4093560"/>
                    <a:ext cx="11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2544840" y="4107240"/>
                    <a:ext cx="11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2544840" y="4119840"/>
                    <a:ext cx="14040" cy="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553840" y="4113720"/>
                    <a:ext cx="115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553480" y="4126680"/>
                    <a:ext cx="11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2568600" y="4097880"/>
                  <a:ext cx="44280" cy="30960"/>
                  <a:chOff x="2568600" y="4097880"/>
                  <a:chExt cx="44280" cy="3096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2568600" y="4097880"/>
                    <a:ext cx="44280" cy="12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2568600" y="4116600"/>
                    <a:ext cx="44280" cy="12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" name=""/>
              <p:cNvGrpSpPr/>
              <p:nvPr/>
            </p:nvGrpSpPr>
            <p:grpSpPr>
              <a:xfrm>
                <a:off x="2576520" y="4281480"/>
                <a:ext cx="34560" cy="20880"/>
                <a:chOff x="2576520" y="4281480"/>
                <a:chExt cx="34560" cy="208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576520" y="4281480"/>
                  <a:ext cx="34560" cy="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578680" y="4292640"/>
                  <a:ext cx="32400" cy="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511720" y="4122000"/>
                <a:ext cx="26280" cy="64080"/>
                <a:chOff x="2511720" y="4122000"/>
                <a:chExt cx="26280" cy="64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511720" y="4132080"/>
                  <a:ext cx="26280" cy="540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16400" y="4122000"/>
                  <a:ext cx="18000" cy="2160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518920" y="4124880"/>
                  <a:ext cx="12960" cy="1692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2516040" y="4197960"/>
                <a:ext cx="7920" cy="154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6840" y="4197960"/>
                <a:ext cx="7920" cy="154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16040" y="4220640"/>
                <a:ext cx="7920" cy="176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6840" y="4220640"/>
                <a:ext cx="7920" cy="176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16040" y="4244400"/>
                <a:ext cx="7920" cy="16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26840" y="4244400"/>
                <a:ext cx="7920" cy="16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16040" y="4268160"/>
                <a:ext cx="7920" cy="180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26840" y="4268160"/>
                <a:ext cx="7920" cy="180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40520" y="4249080"/>
                <a:ext cx="25920" cy="12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85200" y="4122000"/>
                <a:ext cx="125280" cy="5688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231640" y="4110120"/>
                <a:ext cx="37440" cy="2340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36680" y="4113720"/>
                <a:ext cx="2628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224800" y="4137480"/>
                <a:ext cx="48600" cy="37440"/>
                <a:chOff x="2224800" y="4137480"/>
                <a:chExt cx="48600" cy="374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224800" y="4137480"/>
                  <a:ext cx="48600" cy="100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26960" y="4150800"/>
                  <a:ext cx="43920" cy="100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231280" y="4164840"/>
                  <a:ext cx="36000" cy="100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183760" y="4189680"/>
                <a:ext cx="64080" cy="88920"/>
                <a:chOff x="2183760" y="4189680"/>
                <a:chExt cx="64080" cy="889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2183760" y="4189680"/>
                  <a:ext cx="64080" cy="16200"/>
                  <a:chOff x="2183760" y="4189680"/>
                  <a:chExt cx="64080" cy="162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183760" y="418968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194560" y="418968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205720" y="418968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217240" y="4189680"/>
                    <a:ext cx="756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228400" y="418968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39560" y="418968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183760" y="4213080"/>
                  <a:ext cx="64080" cy="17280"/>
                  <a:chOff x="2183760" y="4213080"/>
                  <a:chExt cx="64080" cy="172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2183760" y="421308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194560" y="421308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205720" y="421308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217240" y="4213080"/>
                    <a:ext cx="756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228400" y="421308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239560" y="421308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2183760" y="4237560"/>
                  <a:ext cx="64080" cy="16200"/>
                  <a:chOff x="2183760" y="4237560"/>
                  <a:chExt cx="64080" cy="162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2183760" y="42375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194560" y="42375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205720" y="42375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217240" y="4237560"/>
                    <a:ext cx="756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228400" y="42375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239560" y="42375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2183760" y="4261320"/>
                  <a:ext cx="64080" cy="17280"/>
                  <a:chOff x="2183760" y="4261320"/>
                  <a:chExt cx="64080" cy="172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2183760" y="426132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194560" y="426132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205720" y="426132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217240" y="4261320"/>
                    <a:ext cx="756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228400" y="426132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239560" y="426132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" name=""/>
              <p:cNvGrpSpPr/>
              <p:nvPr/>
            </p:nvGrpSpPr>
            <p:grpSpPr>
              <a:xfrm>
                <a:off x="2251440" y="4189680"/>
                <a:ext cx="63000" cy="88920"/>
                <a:chOff x="2251440" y="4189680"/>
                <a:chExt cx="63000" cy="8892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251440" y="4189680"/>
                  <a:ext cx="63000" cy="16200"/>
                  <a:chOff x="2251440" y="4189680"/>
                  <a:chExt cx="63000" cy="1620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2251440" y="4189680"/>
                    <a:ext cx="792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262240" y="418968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273400" y="418968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84560" y="418968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295720" y="418968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306880" y="4189680"/>
                    <a:ext cx="756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2251440" y="4213080"/>
                  <a:ext cx="63000" cy="17280"/>
                  <a:chOff x="2251440" y="4213080"/>
                  <a:chExt cx="63000" cy="172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2251440" y="4213080"/>
                    <a:ext cx="792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262240" y="421308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273400" y="421308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284560" y="421308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295720" y="421308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306880" y="4213080"/>
                    <a:ext cx="756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2251440" y="4237560"/>
                  <a:ext cx="63000" cy="16200"/>
                  <a:chOff x="2251440" y="4237560"/>
                  <a:chExt cx="63000" cy="162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2251440" y="4237560"/>
                    <a:ext cx="792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262240" y="42375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273400" y="42375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284560" y="42375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295720" y="42375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306880" y="4237560"/>
                    <a:ext cx="756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251440" y="4261320"/>
                  <a:ext cx="63000" cy="17280"/>
                  <a:chOff x="2251440" y="4261320"/>
                  <a:chExt cx="63000" cy="172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251440" y="4261320"/>
                    <a:ext cx="792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62240" y="426132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273400" y="426132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284560" y="426132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295720" y="426132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306880" y="4261320"/>
                    <a:ext cx="756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5" name=""/>
              <p:cNvGrpSpPr/>
              <p:nvPr/>
            </p:nvGrpSpPr>
            <p:grpSpPr>
              <a:xfrm>
                <a:off x="2001600" y="4219560"/>
                <a:ext cx="165600" cy="77760"/>
                <a:chOff x="2001600" y="4219560"/>
                <a:chExt cx="165600" cy="777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2001600" y="4219560"/>
                  <a:ext cx="20520" cy="77760"/>
                  <a:chOff x="2001600" y="4219560"/>
                  <a:chExt cx="20520" cy="77760"/>
                </a:xfrm>
              </p:grpSpPr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2001600" y="4219560"/>
                    <a:ext cx="20520" cy="77760"/>
                    <a:chOff x="2001600" y="4219560"/>
                    <a:chExt cx="20520" cy="7776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2001600" y="423432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2001600" y="423756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2003760" y="424908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2001600" y="423756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2002680" y="421956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2017800" y="421956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4" name=""/>
                  <p:cNvSpPr/>
                  <p:nvPr/>
                </p:nvSpPr>
                <p:spPr>
                  <a:xfrm>
                    <a:off x="2008080" y="426240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2030400" y="4219560"/>
                  <a:ext cx="20520" cy="77760"/>
                  <a:chOff x="2030400" y="4219560"/>
                  <a:chExt cx="20520" cy="77760"/>
                </a:xfrm>
              </p:grpSpPr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2030400" y="4219560"/>
                    <a:ext cx="20520" cy="77760"/>
                    <a:chOff x="2030400" y="4219560"/>
                    <a:chExt cx="20520" cy="777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030400" y="423432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030400" y="423756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032560" y="424908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030400" y="423756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031480" y="421956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046600" y="421956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036880" y="426240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2059200" y="4219560"/>
                  <a:ext cx="20880" cy="77760"/>
                  <a:chOff x="2059200" y="4219560"/>
                  <a:chExt cx="20880" cy="77760"/>
                </a:xfrm>
              </p:grpSpPr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059200" y="4219560"/>
                    <a:ext cx="20880" cy="77760"/>
                    <a:chOff x="2059200" y="4219560"/>
                    <a:chExt cx="20880" cy="7776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059200" y="4234320"/>
                      <a:ext cx="2016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059200" y="423756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061360" y="4249080"/>
                      <a:ext cx="1872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059200" y="4237560"/>
                      <a:ext cx="2088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2060280" y="421956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2075760" y="421956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2" name=""/>
                  <p:cNvSpPr/>
                  <p:nvPr/>
                </p:nvSpPr>
                <p:spPr>
                  <a:xfrm>
                    <a:off x="2065680" y="426240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2088360" y="4219560"/>
                  <a:ext cx="20520" cy="77760"/>
                  <a:chOff x="2088360" y="4219560"/>
                  <a:chExt cx="20520" cy="7776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2088360" y="4219560"/>
                    <a:ext cx="20520" cy="77760"/>
                    <a:chOff x="2088360" y="4219560"/>
                    <a:chExt cx="20520" cy="7776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2088360" y="423432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2088360" y="423756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2090520" y="424908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2088360" y="423756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2089440" y="421956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2104560" y="421956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1" name=""/>
                  <p:cNvSpPr/>
                  <p:nvPr/>
                </p:nvSpPr>
                <p:spPr>
                  <a:xfrm>
                    <a:off x="2094840" y="426240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2117520" y="4219560"/>
                  <a:ext cx="20520" cy="77760"/>
                  <a:chOff x="2117520" y="4219560"/>
                  <a:chExt cx="20520" cy="7776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2117520" y="4219560"/>
                    <a:ext cx="20520" cy="77760"/>
                    <a:chOff x="2117520" y="4219560"/>
                    <a:chExt cx="20520" cy="7776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2117520" y="423432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2117520" y="423756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2119680" y="424908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2117520" y="423756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2118600" y="421956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133720" y="421956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2124000" y="426240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2146680" y="4219560"/>
                  <a:ext cx="20520" cy="77760"/>
                  <a:chOff x="2146680" y="4219560"/>
                  <a:chExt cx="20520" cy="77760"/>
                </a:xfrm>
              </p:grpSpPr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2146680" y="4219560"/>
                    <a:ext cx="20520" cy="77760"/>
                    <a:chOff x="2146680" y="4219560"/>
                    <a:chExt cx="20520" cy="7776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2146680" y="423432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2146680" y="423756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148840" y="424908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2146680" y="423756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2147760" y="421956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2162880" y="421956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2153160" y="426240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2339640" y="4209840"/>
                <a:ext cx="165600" cy="77760"/>
                <a:chOff x="2339640" y="4209840"/>
                <a:chExt cx="165600" cy="7776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2339640" y="4209840"/>
                  <a:ext cx="20520" cy="77760"/>
                  <a:chOff x="2339640" y="4209840"/>
                  <a:chExt cx="20520" cy="7776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339640" y="4209840"/>
                    <a:ext cx="20520" cy="77760"/>
                    <a:chOff x="2339640" y="4209840"/>
                    <a:chExt cx="20520" cy="777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2339640" y="4224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2339640" y="4227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2341800" y="4239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339640" y="4227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2340720" y="4209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2355840" y="4209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9" name=""/>
                  <p:cNvSpPr/>
                  <p:nvPr/>
                </p:nvSpPr>
                <p:spPr>
                  <a:xfrm>
                    <a:off x="2346120" y="4252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2368440" y="4209840"/>
                  <a:ext cx="20520" cy="77760"/>
                  <a:chOff x="2368440" y="4209840"/>
                  <a:chExt cx="20520" cy="77760"/>
                </a:xfrm>
              </p:grpSpPr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368440" y="4209840"/>
                    <a:ext cx="20520" cy="77760"/>
                    <a:chOff x="2368440" y="4209840"/>
                    <a:chExt cx="20520" cy="7776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2368440" y="4224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2368440" y="4227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2370600" y="4239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2368440" y="4227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2369520" y="4209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2384640" y="4209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8" name=""/>
                  <p:cNvSpPr/>
                  <p:nvPr/>
                </p:nvSpPr>
                <p:spPr>
                  <a:xfrm>
                    <a:off x="2374920" y="4252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2397240" y="4209840"/>
                  <a:ext cx="20880" cy="77760"/>
                  <a:chOff x="2397240" y="4209840"/>
                  <a:chExt cx="20880" cy="7776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397240" y="4209840"/>
                    <a:ext cx="20880" cy="77760"/>
                    <a:chOff x="2397240" y="4209840"/>
                    <a:chExt cx="20880" cy="777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2397240" y="4224600"/>
                      <a:ext cx="2016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2397240" y="4227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2399400" y="4239360"/>
                      <a:ext cx="1872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2397240" y="4227840"/>
                      <a:ext cx="2088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2398320" y="4209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2413800" y="4209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2403720" y="4252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2426400" y="4209840"/>
                  <a:ext cx="20520" cy="77760"/>
                  <a:chOff x="2426400" y="4209840"/>
                  <a:chExt cx="20520" cy="77760"/>
                </a:xfrm>
              </p:grpSpPr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426400" y="4209840"/>
                    <a:ext cx="20520" cy="77760"/>
                    <a:chOff x="2426400" y="4209840"/>
                    <a:chExt cx="20520" cy="7776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2426400" y="4224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426400" y="4227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428560" y="4239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2426400" y="4227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2427480" y="4209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2442600" y="4209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6" name=""/>
                  <p:cNvSpPr/>
                  <p:nvPr/>
                </p:nvSpPr>
                <p:spPr>
                  <a:xfrm>
                    <a:off x="2432880" y="4252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2455560" y="4209840"/>
                  <a:ext cx="20520" cy="77760"/>
                  <a:chOff x="2455560" y="4209840"/>
                  <a:chExt cx="20520" cy="77760"/>
                </a:xfrm>
              </p:grpSpPr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455560" y="4209840"/>
                    <a:ext cx="20520" cy="77760"/>
                    <a:chOff x="2455560" y="4209840"/>
                    <a:chExt cx="20520" cy="777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2455560" y="4224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455560" y="4227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457720" y="4239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2455560" y="4227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2456640" y="4209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2471760" y="4209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5" name=""/>
                  <p:cNvSpPr/>
                  <p:nvPr/>
                </p:nvSpPr>
                <p:spPr>
                  <a:xfrm>
                    <a:off x="2462040" y="4252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2484720" y="4209840"/>
                  <a:ext cx="20520" cy="77760"/>
                  <a:chOff x="2484720" y="4209840"/>
                  <a:chExt cx="20520" cy="7776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484720" y="4209840"/>
                    <a:ext cx="20520" cy="77760"/>
                    <a:chOff x="2484720" y="4209840"/>
                    <a:chExt cx="20520" cy="77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2484720" y="4224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484720" y="4227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2486880" y="4239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2484720" y="4227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2485800" y="4209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2500920" y="4209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2491200" y="4252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345" name=""/>
          <p:cNvGraphicFramePr/>
          <p:nvPr/>
        </p:nvGraphicFramePr>
        <p:xfrm>
          <a:off x="539640" y="5013360"/>
          <a:ext cx="935280" cy="77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5013360"/>
                    <a:ext cx="9352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V="1">
            <a:off x="826920" y="4292640"/>
            <a:ext cx="1152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124000" y="5013360"/>
          <a:ext cx="935280" cy="77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5013360"/>
                    <a:ext cx="9352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2266920" y="429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76360" y="335592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0036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400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523280" y="4435560"/>
            <a:ext cx="1051560" cy="647640"/>
            <a:chOff x="7523280" y="4435560"/>
            <a:chExt cx="1051560" cy="647640"/>
          </a:xfrm>
        </p:grpSpPr>
        <p:sp>
          <p:nvSpPr>
            <p:cNvPr id="355" name=""/>
            <p:cNvSpPr/>
            <p:nvPr/>
          </p:nvSpPr>
          <p:spPr>
            <a:xfrm>
              <a:off x="7523280" y="4438440"/>
              <a:ext cx="922680" cy="31464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50720" y="4745880"/>
              <a:ext cx="795600" cy="335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23280" y="4435560"/>
              <a:ext cx="129960" cy="64764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60080" y="4765320"/>
              <a:ext cx="666360" cy="297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7651800" y="4833360"/>
              <a:ext cx="23400" cy="67680"/>
              <a:chOff x="7651800" y="4833360"/>
              <a:chExt cx="23400" cy="67680"/>
            </a:xfrm>
          </p:grpSpPr>
          <p:sp>
            <p:nvSpPr>
              <p:cNvPr id="360" name=""/>
              <p:cNvSpPr/>
              <p:nvPr/>
            </p:nvSpPr>
            <p:spPr>
              <a:xfrm>
                <a:off x="7651800" y="4833360"/>
                <a:ext cx="234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51800" y="4842360"/>
                <a:ext cx="234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51800" y="4862520"/>
                <a:ext cx="234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51800" y="4870800"/>
                <a:ext cx="234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651800" y="4892040"/>
                <a:ext cx="234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51800" y="4900320"/>
                <a:ext cx="234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8327520" y="4736160"/>
              <a:ext cx="118440" cy="2160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542000" y="4543920"/>
              <a:ext cx="34920" cy="302040"/>
              <a:chOff x="7542000" y="4543920"/>
              <a:chExt cx="34920" cy="30204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7542000" y="4543920"/>
                <a:ext cx="34920" cy="96120"/>
                <a:chOff x="7542000" y="4543920"/>
                <a:chExt cx="34920" cy="96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7542000" y="454464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543080" y="454392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542000" y="4578120"/>
                <a:ext cx="34920" cy="96480"/>
                <a:chOff x="7542000" y="4578120"/>
                <a:chExt cx="34920" cy="96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542000" y="4578840"/>
                  <a:ext cx="33480" cy="957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543080" y="457812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7542000" y="4612320"/>
                <a:ext cx="34920" cy="96120"/>
                <a:chOff x="7542000" y="4612320"/>
                <a:chExt cx="34920" cy="96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7542000" y="461304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543080" y="461232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542000" y="4646520"/>
                <a:ext cx="34920" cy="96120"/>
                <a:chOff x="7542000" y="4646520"/>
                <a:chExt cx="34920" cy="96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542000" y="464724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543080" y="4646520"/>
                  <a:ext cx="33840" cy="957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7542000" y="4681080"/>
                <a:ext cx="34920" cy="96120"/>
                <a:chOff x="7542000" y="4681080"/>
                <a:chExt cx="34920" cy="96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7542000" y="468180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543080" y="468108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542000" y="4715640"/>
                <a:ext cx="34920" cy="96120"/>
                <a:chOff x="7542000" y="4715640"/>
                <a:chExt cx="34920" cy="96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7542000" y="471636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543080" y="471564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542000" y="4749840"/>
                <a:ext cx="34920" cy="96120"/>
                <a:chOff x="7542000" y="4749840"/>
                <a:chExt cx="34920" cy="96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542000" y="475056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543080" y="4749840"/>
                  <a:ext cx="33840" cy="954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9" name=""/>
            <p:cNvGrpSpPr/>
            <p:nvPr/>
          </p:nvGrpSpPr>
          <p:grpSpPr>
            <a:xfrm>
              <a:off x="7595640" y="4673520"/>
              <a:ext cx="33840" cy="301320"/>
              <a:chOff x="7595640" y="4673520"/>
              <a:chExt cx="33840" cy="30132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7595640" y="4673520"/>
                <a:ext cx="33840" cy="95040"/>
                <a:chOff x="7595640" y="4673520"/>
                <a:chExt cx="33840" cy="950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95640" y="4674240"/>
                  <a:ext cx="32760" cy="943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596720" y="467352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595640" y="4707720"/>
                <a:ext cx="33840" cy="95400"/>
                <a:chOff x="7595640" y="4707720"/>
                <a:chExt cx="33840" cy="954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595640" y="470844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96720" y="470772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7595640" y="4742280"/>
                <a:ext cx="33840" cy="95400"/>
                <a:chOff x="7595640" y="4742280"/>
                <a:chExt cx="33840" cy="954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595640" y="474300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96720" y="4742280"/>
                  <a:ext cx="32760" cy="943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7595640" y="4776840"/>
                <a:ext cx="33840" cy="95400"/>
                <a:chOff x="7595640" y="4776840"/>
                <a:chExt cx="33840" cy="954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595640" y="477756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596720" y="477684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7595640" y="4811040"/>
                <a:ext cx="33840" cy="95400"/>
                <a:chOff x="7595640" y="4811040"/>
                <a:chExt cx="33840" cy="954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595640" y="481176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596720" y="481104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7595640" y="4845240"/>
                <a:ext cx="33840" cy="95400"/>
                <a:chOff x="7595640" y="4845240"/>
                <a:chExt cx="33840" cy="954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595640" y="484596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596720" y="484524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595640" y="4879800"/>
                <a:ext cx="33840" cy="95040"/>
                <a:chOff x="7595640" y="4879800"/>
                <a:chExt cx="33840" cy="950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95640" y="4880520"/>
                  <a:ext cx="32760" cy="943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596720" y="4879800"/>
                  <a:ext cx="32760" cy="946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1" name=""/>
            <p:cNvGrpSpPr/>
            <p:nvPr/>
          </p:nvGrpSpPr>
          <p:grpSpPr>
            <a:xfrm>
              <a:off x="7549920" y="4443840"/>
              <a:ext cx="138240" cy="290160"/>
              <a:chOff x="7549920" y="4443840"/>
              <a:chExt cx="138240" cy="290160"/>
            </a:xfrm>
          </p:grpSpPr>
          <p:sp>
            <p:nvSpPr>
              <p:cNvPr id="412" name=""/>
              <p:cNvSpPr/>
              <p:nvPr/>
            </p:nvSpPr>
            <p:spPr>
              <a:xfrm>
                <a:off x="7549920" y="4443840"/>
                <a:ext cx="35280" cy="352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53520" y="4450320"/>
                <a:ext cx="30240" cy="30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52880" y="4698000"/>
                <a:ext cx="35280" cy="34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656840" y="4703400"/>
                <a:ext cx="30240" cy="30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8282160" y="4443840"/>
              <a:ext cx="138960" cy="290160"/>
              <a:chOff x="8282160" y="4443840"/>
              <a:chExt cx="138960" cy="290160"/>
            </a:xfrm>
          </p:grpSpPr>
          <p:sp>
            <p:nvSpPr>
              <p:cNvPr id="417" name=""/>
              <p:cNvSpPr/>
              <p:nvPr/>
            </p:nvSpPr>
            <p:spPr>
              <a:xfrm>
                <a:off x="8282160" y="4443840"/>
                <a:ext cx="35280" cy="352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285400" y="4450320"/>
                <a:ext cx="30600" cy="30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85840" y="4698000"/>
                <a:ext cx="35280" cy="342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389080" y="4703400"/>
                <a:ext cx="30600" cy="30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7660080" y="4772520"/>
              <a:ext cx="670320" cy="284400"/>
              <a:chOff x="7660080" y="4772520"/>
              <a:chExt cx="670320" cy="284400"/>
            </a:xfrm>
          </p:grpSpPr>
          <p:sp>
            <p:nvSpPr>
              <p:cNvPr id="422" name=""/>
              <p:cNvSpPr/>
              <p:nvPr/>
            </p:nvSpPr>
            <p:spPr>
              <a:xfrm>
                <a:off x="7660080" y="4773600"/>
                <a:ext cx="630720" cy="2829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270640" y="4772520"/>
                <a:ext cx="59760" cy="28440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8352720" y="4761000"/>
              <a:ext cx="94320" cy="321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09800" y="468936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689600" y="4812840"/>
              <a:ext cx="611280" cy="208800"/>
              <a:chOff x="7689600" y="4812840"/>
              <a:chExt cx="611280" cy="20880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8232840" y="4812840"/>
                <a:ext cx="68040" cy="39960"/>
                <a:chOff x="8232840" y="4812840"/>
                <a:chExt cx="68040" cy="3996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8232840" y="4812840"/>
                  <a:ext cx="20520" cy="39960"/>
                  <a:chOff x="8232840" y="4812840"/>
                  <a:chExt cx="20520" cy="39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8239680" y="4819680"/>
                    <a:ext cx="13680" cy="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8232840" y="4812840"/>
                    <a:ext cx="11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232840" y="4826520"/>
                    <a:ext cx="11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232840" y="4839120"/>
                    <a:ext cx="14040" cy="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241840" y="4833000"/>
                    <a:ext cx="115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8241480" y="4845960"/>
                    <a:ext cx="11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8256600" y="4817160"/>
                  <a:ext cx="44280" cy="30960"/>
                  <a:chOff x="8256600" y="4817160"/>
                  <a:chExt cx="44280" cy="3096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8256600" y="4817160"/>
                    <a:ext cx="44280" cy="12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8256600" y="4835880"/>
                    <a:ext cx="44280" cy="12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8264520" y="5000760"/>
                <a:ext cx="34560" cy="20880"/>
                <a:chOff x="8264520" y="5000760"/>
                <a:chExt cx="34560" cy="20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8264520" y="5000760"/>
                  <a:ext cx="34560" cy="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266680" y="5011920"/>
                  <a:ext cx="32400" cy="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8199720" y="4841280"/>
                <a:ext cx="26280" cy="64080"/>
                <a:chOff x="8199720" y="4841280"/>
                <a:chExt cx="26280" cy="640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8199720" y="4851360"/>
                  <a:ext cx="26280" cy="540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204400" y="4841280"/>
                  <a:ext cx="18000" cy="2160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206920" y="4844160"/>
                  <a:ext cx="12960" cy="1692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"/>
              <p:cNvSpPr/>
              <p:nvPr/>
            </p:nvSpPr>
            <p:spPr>
              <a:xfrm>
                <a:off x="8204040" y="4917240"/>
                <a:ext cx="7920" cy="154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214840" y="4917240"/>
                <a:ext cx="7920" cy="154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204040" y="4939920"/>
                <a:ext cx="7920" cy="176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214840" y="4939920"/>
                <a:ext cx="7920" cy="176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204040" y="4963680"/>
                <a:ext cx="7920" cy="16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214840" y="4963680"/>
                <a:ext cx="7920" cy="16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204040" y="4987440"/>
                <a:ext cx="7920" cy="180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214840" y="4987440"/>
                <a:ext cx="7920" cy="180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228520" y="4968360"/>
                <a:ext cx="25920" cy="12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73200" y="4841280"/>
                <a:ext cx="125280" cy="5688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919640" y="4829400"/>
                <a:ext cx="37440" cy="2340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924680" y="4833000"/>
                <a:ext cx="2628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7912800" y="4856760"/>
                <a:ext cx="48600" cy="37440"/>
                <a:chOff x="7912800" y="4856760"/>
                <a:chExt cx="48600" cy="374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912800" y="4856760"/>
                  <a:ext cx="48600" cy="100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914960" y="4870080"/>
                  <a:ext cx="43920" cy="100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919280" y="4884120"/>
                  <a:ext cx="36000" cy="1008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871760" y="4908960"/>
                <a:ext cx="64080" cy="88920"/>
                <a:chOff x="7871760" y="4908960"/>
                <a:chExt cx="64080" cy="8892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7871760" y="4908960"/>
                  <a:ext cx="64080" cy="16200"/>
                  <a:chOff x="7871760" y="4908960"/>
                  <a:chExt cx="64080" cy="162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7871760" y="49089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882560" y="49089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893720" y="49089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905240" y="4908960"/>
                    <a:ext cx="756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916400" y="49089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7927560" y="49089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871760" y="4932360"/>
                  <a:ext cx="64080" cy="17280"/>
                  <a:chOff x="7871760" y="4932360"/>
                  <a:chExt cx="64080" cy="1728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7871760" y="493236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882560" y="493236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93720" y="493236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905240" y="4932360"/>
                    <a:ext cx="756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916400" y="493236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927560" y="493236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871760" y="4956840"/>
                  <a:ext cx="64080" cy="16200"/>
                  <a:chOff x="7871760" y="4956840"/>
                  <a:chExt cx="64080" cy="1620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7871760" y="495684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882560" y="495684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893720" y="495684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905240" y="4956840"/>
                    <a:ext cx="756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916400" y="495684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927560" y="495684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7871760" y="4980600"/>
                  <a:ext cx="64080" cy="17280"/>
                  <a:chOff x="7871760" y="4980600"/>
                  <a:chExt cx="64080" cy="1728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871760" y="498060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882560" y="498060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893720" y="498060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905240" y="4980600"/>
                    <a:ext cx="756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916400" y="498060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927560" y="498060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0" name=""/>
              <p:cNvGrpSpPr/>
              <p:nvPr/>
            </p:nvGrpSpPr>
            <p:grpSpPr>
              <a:xfrm>
                <a:off x="7939440" y="4908960"/>
                <a:ext cx="63000" cy="88920"/>
                <a:chOff x="7939440" y="4908960"/>
                <a:chExt cx="63000" cy="8892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7939440" y="4908960"/>
                  <a:ext cx="63000" cy="16200"/>
                  <a:chOff x="7939440" y="4908960"/>
                  <a:chExt cx="63000" cy="162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7939440" y="4908960"/>
                    <a:ext cx="792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950240" y="49089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961400" y="49089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972560" y="49089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983720" y="490896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994880" y="4908960"/>
                    <a:ext cx="756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7939440" y="4932360"/>
                  <a:ext cx="63000" cy="17280"/>
                  <a:chOff x="7939440" y="4932360"/>
                  <a:chExt cx="63000" cy="1728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7939440" y="4932360"/>
                    <a:ext cx="792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950240" y="493236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61400" y="493236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972560" y="493236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983720" y="493236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994880" y="4932360"/>
                    <a:ext cx="756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7939440" y="4956840"/>
                  <a:ext cx="63000" cy="16200"/>
                  <a:chOff x="7939440" y="4956840"/>
                  <a:chExt cx="63000" cy="162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7939440" y="4956840"/>
                    <a:ext cx="792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950240" y="495684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961400" y="495684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972560" y="495684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983720" y="4956840"/>
                    <a:ext cx="828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994880" y="4956840"/>
                    <a:ext cx="7560" cy="162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939440" y="4980600"/>
                  <a:ext cx="63000" cy="17280"/>
                  <a:chOff x="7939440" y="4980600"/>
                  <a:chExt cx="63000" cy="1728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7939440" y="4980600"/>
                    <a:ext cx="792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950240" y="498060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961400" y="498060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972560" y="498060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983720" y="4980600"/>
                    <a:ext cx="828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994880" y="4980600"/>
                    <a:ext cx="7560" cy="17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7689600" y="4938840"/>
                <a:ext cx="165600" cy="77760"/>
                <a:chOff x="7689600" y="4938840"/>
                <a:chExt cx="165600" cy="77760"/>
              </a:xfrm>
            </p:grpSpPr>
            <p:grpSp>
              <p:nvGrpSpPr>
                <p:cNvPr id="520" name=""/>
                <p:cNvGrpSpPr/>
                <p:nvPr/>
              </p:nvGrpSpPr>
              <p:grpSpPr>
                <a:xfrm>
                  <a:off x="7689600" y="4938840"/>
                  <a:ext cx="20520" cy="77760"/>
                  <a:chOff x="7689600" y="4938840"/>
                  <a:chExt cx="20520" cy="77760"/>
                </a:xfrm>
              </p:grpSpPr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7689600" y="4938840"/>
                    <a:ext cx="20520" cy="77760"/>
                    <a:chOff x="7689600" y="4938840"/>
                    <a:chExt cx="20520" cy="7776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7689600" y="4953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7689600" y="4956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7691760" y="4968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7689600" y="4956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7690680" y="4938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7705800" y="4938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8" name=""/>
                  <p:cNvSpPr/>
                  <p:nvPr/>
                </p:nvSpPr>
                <p:spPr>
                  <a:xfrm>
                    <a:off x="7696080" y="4981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7718400" y="4938840"/>
                  <a:ext cx="20520" cy="77760"/>
                  <a:chOff x="7718400" y="4938840"/>
                  <a:chExt cx="20520" cy="77760"/>
                </a:xfrm>
              </p:grpSpPr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7718400" y="4938840"/>
                    <a:ext cx="20520" cy="77760"/>
                    <a:chOff x="7718400" y="4938840"/>
                    <a:chExt cx="20520" cy="7776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7718400" y="4953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7718400" y="4956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7720560" y="4968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7718400" y="4956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7719480" y="4938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7734600" y="4938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7" name=""/>
                  <p:cNvSpPr/>
                  <p:nvPr/>
                </p:nvSpPr>
                <p:spPr>
                  <a:xfrm>
                    <a:off x="7724880" y="4981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747200" y="4938840"/>
                  <a:ext cx="20880" cy="77760"/>
                  <a:chOff x="7747200" y="4938840"/>
                  <a:chExt cx="20880" cy="77760"/>
                </a:xfrm>
              </p:grpSpPr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7747200" y="4938840"/>
                    <a:ext cx="20880" cy="77760"/>
                    <a:chOff x="7747200" y="4938840"/>
                    <a:chExt cx="20880" cy="7776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7747200" y="4953600"/>
                      <a:ext cx="2016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747200" y="4956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7749360" y="4968360"/>
                      <a:ext cx="1872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7747200" y="4956840"/>
                      <a:ext cx="2088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748280" y="4938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7763760" y="4938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>
                    <a:off x="7753680" y="4981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776360" y="4938840"/>
                  <a:ext cx="20520" cy="77760"/>
                  <a:chOff x="7776360" y="4938840"/>
                  <a:chExt cx="20520" cy="77760"/>
                </a:xfrm>
              </p:grpSpPr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7776360" y="4938840"/>
                    <a:ext cx="20520" cy="77760"/>
                    <a:chOff x="7776360" y="4938840"/>
                    <a:chExt cx="20520" cy="777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7776360" y="4953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7776360" y="4956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7778520" y="4968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7776360" y="4956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777440" y="4938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7792560" y="4938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5" name=""/>
                  <p:cNvSpPr/>
                  <p:nvPr/>
                </p:nvSpPr>
                <p:spPr>
                  <a:xfrm>
                    <a:off x="7782840" y="4981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7805520" y="4938840"/>
                  <a:ext cx="20520" cy="77760"/>
                  <a:chOff x="7805520" y="4938840"/>
                  <a:chExt cx="20520" cy="77760"/>
                </a:xfrm>
              </p:grpSpPr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7805520" y="4938840"/>
                    <a:ext cx="20520" cy="77760"/>
                    <a:chOff x="7805520" y="4938840"/>
                    <a:chExt cx="20520" cy="7776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7805520" y="4953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805520" y="4956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807680" y="4968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7805520" y="4956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7806600" y="4938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7821720" y="4938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4" name=""/>
                  <p:cNvSpPr/>
                  <p:nvPr/>
                </p:nvSpPr>
                <p:spPr>
                  <a:xfrm>
                    <a:off x="7812000" y="4981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7834680" y="4938840"/>
                  <a:ext cx="20520" cy="77760"/>
                  <a:chOff x="7834680" y="4938840"/>
                  <a:chExt cx="20520" cy="77760"/>
                </a:xfrm>
              </p:grpSpPr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7834680" y="4938840"/>
                    <a:ext cx="20520" cy="77760"/>
                    <a:chOff x="7834680" y="4938840"/>
                    <a:chExt cx="20520" cy="7776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7834680" y="495360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7834680" y="495684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7836840" y="496836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7834680" y="495684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7835760" y="493884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7850880" y="493884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3" name=""/>
                  <p:cNvSpPr/>
                  <p:nvPr/>
                </p:nvSpPr>
                <p:spPr>
                  <a:xfrm>
                    <a:off x="7841160" y="498168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4" name=""/>
              <p:cNvGrpSpPr/>
              <p:nvPr/>
            </p:nvGrpSpPr>
            <p:grpSpPr>
              <a:xfrm>
                <a:off x="8027640" y="4929120"/>
                <a:ext cx="165600" cy="77760"/>
                <a:chOff x="8027640" y="4929120"/>
                <a:chExt cx="165600" cy="77760"/>
              </a:xfrm>
            </p:grpSpPr>
            <p:grpSp>
              <p:nvGrpSpPr>
                <p:cNvPr id="575" name=""/>
                <p:cNvGrpSpPr/>
                <p:nvPr/>
              </p:nvGrpSpPr>
              <p:grpSpPr>
                <a:xfrm>
                  <a:off x="8027640" y="4929120"/>
                  <a:ext cx="20520" cy="77760"/>
                  <a:chOff x="8027640" y="4929120"/>
                  <a:chExt cx="20520" cy="77760"/>
                </a:xfrm>
              </p:grpSpPr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8027640" y="4929120"/>
                    <a:ext cx="20520" cy="77760"/>
                    <a:chOff x="8027640" y="4929120"/>
                    <a:chExt cx="20520" cy="7776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8027640" y="494388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8027640" y="494712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8029800" y="495864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8027640" y="494712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8028720" y="492912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8043840" y="492912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3" name=""/>
                  <p:cNvSpPr/>
                  <p:nvPr/>
                </p:nvSpPr>
                <p:spPr>
                  <a:xfrm>
                    <a:off x="8034120" y="497196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8056440" y="4929120"/>
                  <a:ext cx="20520" cy="77760"/>
                  <a:chOff x="8056440" y="4929120"/>
                  <a:chExt cx="20520" cy="77760"/>
                </a:xfrm>
              </p:grpSpPr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8056440" y="4929120"/>
                    <a:ext cx="20520" cy="77760"/>
                    <a:chOff x="8056440" y="4929120"/>
                    <a:chExt cx="20520" cy="7776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8056440" y="494388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8056440" y="494712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8058600" y="495864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8056440" y="494712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8057520" y="492912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8072640" y="492912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2" name=""/>
                  <p:cNvSpPr/>
                  <p:nvPr/>
                </p:nvSpPr>
                <p:spPr>
                  <a:xfrm>
                    <a:off x="8062920" y="497196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8085240" y="4929120"/>
                  <a:ext cx="20880" cy="77760"/>
                  <a:chOff x="8085240" y="4929120"/>
                  <a:chExt cx="20880" cy="77760"/>
                </a:xfrm>
              </p:grpSpPr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8085240" y="4929120"/>
                    <a:ext cx="20880" cy="77760"/>
                    <a:chOff x="8085240" y="4929120"/>
                    <a:chExt cx="20880" cy="7776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8085240" y="4943880"/>
                      <a:ext cx="2016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8085240" y="494712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8087400" y="4958640"/>
                      <a:ext cx="1872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8085240" y="4947120"/>
                      <a:ext cx="2088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8086320" y="492912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8101800" y="492912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" name=""/>
                  <p:cNvSpPr/>
                  <p:nvPr/>
                </p:nvSpPr>
                <p:spPr>
                  <a:xfrm>
                    <a:off x="8091720" y="497196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8114400" y="4929120"/>
                  <a:ext cx="20520" cy="77760"/>
                  <a:chOff x="8114400" y="4929120"/>
                  <a:chExt cx="20520" cy="77760"/>
                </a:xfrm>
              </p:grpSpPr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8114400" y="4929120"/>
                    <a:ext cx="20520" cy="77760"/>
                    <a:chOff x="8114400" y="4929120"/>
                    <a:chExt cx="20520" cy="7776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8114400" y="494388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8114400" y="494712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8116560" y="495864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8114400" y="494712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8115480" y="492912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8130600" y="492912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>
                    <a:off x="8120880" y="497196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8143560" y="4929120"/>
                  <a:ext cx="20520" cy="77760"/>
                  <a:chOff x="8143560" y="4929120"/>
                  <a:chExt cx="20520" cy="77760"/>
                </a:xfrm>
              </p:grpSpPr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8143560" y="4929120"/>
                    <a:ext cx="20520" cy="77760"/>
                    <a:chOff x="8143560" y="4929120"/>
                    <a:chExt cx="20520" cy="7776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8143560" y="494388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8143560" y="494712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8145720" y="495864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8143560" y="494712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8144640" y="492912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8159760" y="492912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9" name=""/>
                  <p:cNvSpPr/>
                  <p:nvPr/>
                </p:nvSpPr>
                <p:spPr>
                  <a:xfrm>
                    <a:off x="8150040" y="497196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8172720" y="4929120"/>
                  <a:ext cx="20520" cy="77760"/>
                  <a:chOff x="8172720" y="4929120"/>
                  <a:chExt cx="20520" cy="77760"/>
                </a:xfrm>
              </p:grpSpPr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8172720" y="4929120"/>
                    <a:ext cx="20520" cy="77760"/>
                    <a:chOff x="8172720" y="4929120"/>
                    <a:chExt cx="20520" cy="7776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8172720" y="4943880"/>
                      <a:ext cx="19800" cy="60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8172720" y="4947120"/>
                      <a:ext cx="252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8174880" y="4958640"/>
                      <a:ext cx="18360" cy="471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8172720" y="494712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8173800" y="4929120"/>
                      <a:ext cx="252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8188920" y="4929120"/>
                      <a:ext cx="2160" cy="108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8" name=""/>
                  <p:cNvSpPr/>
                  <p:nvPr/>
                </p:nvSpPr>
                <p:spPr>
                  <a:xfrm>
                    <a:off x="8179200" y="4971960"/>
                    <a:ext cx="11520" cy="26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629" name=""/>
          <p:cNvGraphicFramePr/>
          <p:nvPr/>
        </p:nvGraphicFramePr>
        <p:xfrm>
          <a:off x="6227640" y="5732640"/>
          <a:ext cx="935280" cy="77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27640" y="5732640"/>
                    <a:ext cx="9352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 flipV="1">
            <a:off x="6515280" y="5011200"/>
            <a:ext cx="1152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812000" y="5732640"/>
          <a:ext cx="935280" cy="772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12000" y="5732640"/>
                    <a:ext cx="9352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>
            <a:off x="7954920" y="5011560"/>
            <a:ext cx="360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020000" y="3932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88508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372360" y="2565360"/>
            <a:ext cx="1295280" cy="100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70400" y="1052640"/>
            <a:ext cx="3381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 requiere soporte por parte de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outer para que las solicitudes rem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viajen por la WAN. En Cis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t e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p address 10.2.0.1 255.255.0.0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p helper address 10.1.255.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3280" y="10018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.0.0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165440" y="24922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2.0.0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0"/>
          <a:stretch/>
        </p:blipFill>
        <p:spPr>
          <a:xfrm>
            <a:off x="3203640" y="3789360"/>
            <a:ext cx="914400" cy="4636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11"/>
          <a:stretch/>
        </p:blipFill>
        <p:spPr>
          <a:xfrm>
            <a:off x="7308720" y="3716280"/>
            <a:ext cx="914400" cy="4636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2987640" y="4221000"/>
            <a:ext cx="4321080" cy="1525680"/>
          </a:xfrm>
          <a:custGeom>
            <a:avLst/>
            <a:gdLst/>
            <a:ahLst/>
            <a:rect l="l" t="t" r="r" b="b"/>
            <a:pathLst>
              <a:path w="2722" h="961">
                <a:moveTo>
                  <a:pt x="2722" y="0"/>
                </a:moveTo>
                <a:cubicBezTo>
                  <a:pt x="2427" y="472"/>
                  <a:pt x="2132" y="945"/>
                  <a:pt x="1678" y="953"/>
                </a:cubicBezTo>
                <a:cubicBezTo>
                  <a:pt x="1224" y="961"/>
                  <a:pt x="280" y="196"/>
                  <a:pt x="0" y="4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74560" y="5734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ce el broadcast colo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o fuente 10.2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958160" y="39085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2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6640" y="35733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NSAJE DH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59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: 1 request, 2 re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type: Hardware address type. Ej 1=10Mb Ether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len: Hardware address lenthg. Ej MAC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ps: El cliente lo pone en 0’s. El relay agent lo puede camb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iaddr: La IP que el cliente quiere, si ya por ejemplo tenía u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iaddr: La IP que el servidor le asig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address: IP del servidor DHC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DHCP frame"/>
          <p:cNvPicPr/>
          <p:nvPr/>
        </p:nvPicPr>
        <p:blipFill>
          <a:blip r:embed="rId1"/>
          <a:stretch/>
        </p:blipFill>
        <p:spPr>
          <a:xfrm>
            <a:off x="4573440" y="2692440"/>
            <a:ext cx="453564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NSAJE DH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59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ag     Name                  Length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eaning                              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--     ----                  ------  -------          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      Pad 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0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ne             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     Subnet Mask              4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ubnet Mask Value                 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      Time Offset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me Offset in                        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      Router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    N/4 Router addresses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      Time Server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N    N/4 Timeserver addresses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5      Name Server              N    N/4 IEN-116 Server addresses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6      Domain Server            N    N/4 DNS Server addresses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7      Log Server               N    N/4 Logging Server addresses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     Hostname                 N    Hostname string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     Boot File Size           2    Size of boot file in 512 byte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un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     Domain Name              N    The DNS domain name of the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8      Broadcast Address        4    Broadcast Address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9      Mask Discovery           1    Perform Mask Discovery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      Mask Supplier            1    Provide Mask to Others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1      Router Discovery         1    Perform Router Discovery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2      Router Request           4    Router Solicitation Address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3      Static Route             N    Static Routing Table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4      NETBIOS Name Srv         N    NETBIOS Name Servers                  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5      NETBIOS Dist Srv         N    NETBIOS Datagram Distribution      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6      NETBIOS Node Type        1    NETBIOS Node Type                     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7      NETBIOS Scope            N    NETBIOS Scope    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66      Server-Name              N    TFTP Server Name 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67      Bootfile-Name            N    Boot File Name   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68      Home-Agent-Addrs         N    Home Agent Addresses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69      SMTP-Server              N    Simple Mail Server Addresses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70      POP3-Server              N    Post Office Server Addresses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71      NNTP-Server              N    Network News Server Addresses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72      WWW-Server               N    WWW Server Addresses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[RFC2132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HCP- RECOMEND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ORTANTE: se debe tener especial cuidado con DHCP desde el punto de vista de la segurida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tienen varios DHCP configurarlos de manera que no se solapen los rangos de direcciones asig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ERVAR previamente rangos para equipos que requieran IP fija como Servidores, route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do se utilice tratar de integrarlo con un DNS dinámico para que actualice los registros DNS al asignar las dir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ANDOS CISCO PARA DH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ejemplo se deben excluir las IP de 10.1.0.1 hasta 10.1.0.10 y la del router 10.1.0.2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 dhcp pool x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twork 10.1.0.0 255.255.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ault-router 10.1.0.25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ns-server 10.1.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tbios-name-server 10.1.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main-name diginet.com.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 dhcp excluded-address 10.1.0.1 10.1.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 dhcp excluded-address 10.1.0.2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ANDOS CISCO PARA DH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 opciones al configurar DHCP de Cisco: bootfile, client-name, hardware-address,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COMAN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how ip dhcp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P address     Hardware address    Lease expiration     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72.16.1.11    00a0.9802.32de      Feb 01 1998 12:00 AM 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utoma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72.16.2.254   02c7.f800.0422      Infinite            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n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how ip dhcp server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 DE /etc/dhcpd.conf (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dns-update-style ad-h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# Estaciones mo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bnet 10.100.0.0 netmask 255.255.0.0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tion netbios-name-servers 10.100.0.2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tion domain-name-servers 10.100.0.25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tion domain-name "diginet.com.co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tion routers 10.100.0.25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ange 10.100.0.150 10.100.0.16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low unknown-cli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# Portatil 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st portati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ext-server 10.100.0.20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lename "prueba.img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ardware ethernet 00:e0:98:89:62:c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xed-address 10.100.0.8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QUERIMIENTO DH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mbi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QUERIMIENTO DH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mbi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50920" y="42372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FIGURACION Y BOOT REM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rvicio que permite la parametrización de protocolos y el boot remoto de los nodos, facilitando la adminis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algunos casos se requiere que trabajen de forma integrada con otros protocolos como TFTP y D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protocolos son: RARP, BOOTP, DH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HCP EN WINDOWS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mbi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324000" y="658800"/>
            <a:ext cx="7920000" cy="59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534160" cy="56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twork Time Protocol.   (RFC-13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para sincronizar los relojes de equipos en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sincronizar los relojes de varios equipos con un reloj maes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 el puerto UDP 123 tanto en la fuente como en el 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rinda una precisión entre 1 y 50 miliseg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N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534160" cy="56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mple Network Time Protocol.   (RFC-176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rsión simplificada de NTP orientada a ambientes de menor tamaño que Internet y donde no se requiera tanta precisión en los reloj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 igual que NTP utiliza el puerto UDP 123 tanto en la fuente como en el dest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NTP Y DIRECTORIO A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4920" y="843120"/>
            <a:ext cx="8534160" cy="56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por Microsoft para sincronizar los relojes de los equipos en Active Directory para que el protocolo Kerberos funcione correc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porque los tickets emitidos por Kerberos llevan una etiqueta de tiempo para evitar ataques de re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Windows lo implementa el servicio Windows Time Service (W32Ti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eloj se origina en el controlador que haga de PDC Emu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rece una diferencia de 20 segundos en el bosque y 2 segundos en un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134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TIOS DE INTE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7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kegel.com/linux/px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cisco.com/univercd/cc/td/doc/cisintwk/ito_doc/snmp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ARP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verse Address Resolution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 la obtención de la dirección IP dada la dirección M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 directamente sobre la trama Eth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do inicialmente para estaciones diskl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basaba en broadcast y por tanto el servidor RARP debía estar en el mismo segmento del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un archivo /etc/ethers y /etc/hosts (o D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# sample ether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:0:20:0:fc:6f  laid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:7:1:1:18:27   gri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:aa:0:2:30:55  sla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:0:c0:1:85:23  lance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:0:1b:27:06:81  cf53ma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OO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ocolo para la parametrización inicial en el boot  remoto de una es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rto: Servidor (67/UDP), Cliente (68/UD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 la asignación estática de dir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el apoyo de los enrutadores el servidor de boot  y el cliente pueden estar en rede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do en entornos donde las estaciones mantienen su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poya en TFTP cuando se quiere hacer el cargue del sistema operativo de forma rem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61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ynamic Host Configuration Protoc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rto: Servidor (67/UDP), Cliente (68/UD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tiende la funcionalidad de BOOTP mediante la asignación dinámica de las dir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la fácil asignación de direcciones en ambientes dinámicos de usuario móv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direcciones se asignan en un esquema de arrendamiento temporal que el cliente debe renovar al agotarse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59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la configuración dinámica de parámetros del host como dirección IP, máscara, DNS, enrutador por defecto, nombre de la imagen de sistema operativo a cargar, servidor WINS, et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 trabajar en compañía de DDNS para notificar el nombre y dirección asign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a relay agent para estaciones en redes diferentes al servidor, generalmente implementado en los ro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LUJO DE MANSAJES DH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07920"/>
            <a:ext cx="8534160" cy="554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nsaje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3454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LIENTE Y SERVER EN LA MISMA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20280"/>
            <a:ext cx="853416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el cliente no conoce su IP y los requerimientos DHCP están encapsulados en UDP/IP, se hace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icitud Cliente: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 Fuente: 0.0.0.0 Pto: 68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 Destino: 255.255.255.255.  Pto: 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uesta del servidor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 Fuente: Servidor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 Destino: 255.255.255.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P asignada al cliente va dentro d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nsaje DH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LIENTE Y SERVER EN LAN’S DIFE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20280"/>
            <a:ext cx="853416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o los requerimientos van con destino broadcast se requiere configurar el router para pasar este trafico al servidor. En Cisco comando:  ip hel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icionalmente, para que el servidor sepa que ámbito utilizar (se debe tener un ámbito por red), el router cambia la IP fuente del requerimiento por su dirección 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icitud Cliente: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P Fuente: 0.0.0.0 Pto: 68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P Destino: 255.255.255.255.  Pto: 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ificacion del  Route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P Fuente: LAN del ro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 del servidor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P Fuente: Servidor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P Destino: Ro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5T01:00:54Z</dcterms:created>
  <dc:creator>DigiNet Ltda.</dc:creator>
  <dc:description/>
  <dc:language>en-US</dc:language>
  <cp:lastModifiedBy>usuario</cp:lastModifiedBy>
  <dcterms:modified xsi:type="dcterms:W3CDTF">2012-02-09T19:38:11Z</dcterms:modified>
  <cp:revision>181</cp:revision>
  <dc:subject/>
  <dc:title>Presentación de PowerPoint</dc:title>
</cp:coreProperties>
</file>