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4BE-AED8-4800-9CB4-EC85727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6EC-286B-45FE-B1E8-ED253CC5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766-96B7-4A92-91F2-1C2694AC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B77-8529-4399-8661-A2CB4075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B7E-168B-4849-A5CB-8E3D7213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65B-915E-4A31-8D99-471E9CE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441-01D4-4370-B95C-60E1A34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F7A-66E4-4271-B316-6658A88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92C-742C-4621-8E35-3DE1E25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B21-D169-46E2-8346-B39192F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32E-9AC8-4103-A4E5-4455EEC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B1D-A93D-4BE5-B2A9-F544DB62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D07-D035-4181-A6B0-768082145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upport.microsoft.com/default.aspx?scid=kb;ES-ES;q163409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inscp.com/" TargetMode="External"/><Relationship Id="rId2" Type="http://schemas.openxmlformats.org/officeDocument/2006/relationships/hyperlink" Target="http://www.samba.org/" TargetMode="External"/><Relationship Id="rId3" Type="http://schemas.openxmlformats.org/officeDocument/2006/relationships/hyperlink" Target="http://www.samba.org/" TargetMode="External"/><Relationship Id="rId4" Type="http://schemas.openxmlformats.org/officeDocument/2006/relationships/hyperlink" Target="http://support.solarwinds.net/updates/SelectProgramFree.cfm" TargetMode="External"/><Relationship Id="rId5" Type="http://schemas.openxmlformats.org/officeDocument/2006/relationships/hyperlink" Target="http://support.solarwinds.net/updates/SelectProgramFree.cfm" TargetMode="External"/><Relationship Id="rId6" Type="http://schemas.openxmlformats.org/officeDocument/2006/relationships/hyperlink" Target="http://support.solarwinds.net/updates/SelectProgramFree.cfm" TargetMode="External"/><Relationship Id="rId7" Type="http://schemas.openxmlformats.org/officeDocument/2006/relationships/hyperlink" Target="http://support.solarwinds.net/updates/SelectProgramFree.cfm" TargetMode="External"/><Relationship Id="rId8" Type="http://schemas.openxmlformats.org/officeDocument/2006/relationships/hyperlink" Target="http://www.york.lug.org.uk/talks/ewansamba/html/html/slide_1.html" TargetMode="External"/><Relationship Id="rId9" Type="http://schemas.openxmlformats.org/officeDocument/2006/relationships/hyperlink" Target="http://www.york.lug.org.uk/talks/ewansamba/html/html/slide_1.html" TargetMode="External"/><Relationship Id="rId10" Type="http://schemas.openxmlformats.org/officeDocument/2006/relationships/hyperlink" Target="http://www.york.lug.org.uk/talks/ewansamba/html/html/slide_1.html" TargetMode="External"/><Relationship Id="rId11" Type="http://schemas.openxmlformats.org/officeDocument/2006/relationships/hyperlink" Target="http://www.york.lug.org.uk/talks/ewansamba/html/html/slide_1.html" TargetMode="External"/><Relationship Id="rId12" Type="http://schemas.openxmlformats.org/officeDocument/2006/relationships/hyperlink" Target="http://www.york.lug.org.uk/talks/ewansamba/html/html/slide_1.html" TargetMode="External"/><Relationship Id="rId13" Type="http://schemas.openxmlformats.org/officeDocument/2006/relationships/hyperlink" Target="http://www.york.lug.org.uk/talks/ewansamba/html/html/slide_1.html" TargetMode="External"/><Relationship Id="rId14" Type="http://schemas.openxmlformats.org/officeDocument/2006/relationships/hyperlink" Target="http://www.york.lug.org.uk/talks/ewansamba/html/html/slide_1.html" TargetMode="External"/><Relationship Id="rId15" Type="http://schemas.openxmlformats.org/officeDocument/2006/relationships/hyperlink" Target="http://www.york.lug.org.uk/talks/ewansamba/html/html/slide_1.html" TargetMode="External"/><Relationship Id="rId16" Type="http://schemas.openxmlformats.org/officeDocument/2006/relationships/hyperlink" Target="http://www.york.lug.org.uk/talks/ewansamba/html/html/slide_1.html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2347" TargetMode="External"/><Relationship Id="rId2" Type="http://schemas.openxmlformats.org/officeDocument/2006/relationships/hyperlink" Target="http://tools.ietf.org/html/rfc2348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br>
              <a:rPr sz="40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FERENCIA Y COMPARTICIÓN DE 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008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ltima revisión: Noviembre -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ellín 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12000" y="5767560"/>
          <a:ext cx="3132000" cy="10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5767560"/>
                    <a:ext cx="313200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SOS TIPICOS DE T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1066680" cy="91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9880" y="5257800"/>
            <a:ext cx="65268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5181480"/>
            <a:ext cx="65268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533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ización de flash memory de routers, suiche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ctualización de IOS (sistema operativo de Cis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3526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8960" y="16002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ción con TF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imagen de IOS a cop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0400" y="17524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ando: copy tftp 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581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ue remoto de imágenes de sistemas oper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6629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371600" y="5410080"/>
            <a:ext cx="1066680" cy="91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1148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6400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5157720"/>
            <a:ext cx="1104840" cy="1103400"/>
          </a:xfrm>
          <a:custGeom>
            <a:avLst/>
            <a:gdLst/>
            <a:ahLst/>
            <a:rect l="l" t="t" r="r" b="b"/>
            <a:pathLst>
              <a:path w="696" h="695">
                <a:moveTo>
                  <a:pt x="635" y="0"/>
                </a:moveTo>
                <a:cubicBezTo>
                  <a:pt x="665" y="241"/>
                  <a:pt x="696" y="483"/>
                  <a:pt x="590" y="589"/>
                </a:cubicBezTo>
                <a:cubicBezTo>
                  <a:pt x="484" y="695"/>
                  <a:pt x="98" y="627"/>
                  <a:pt x="0" y="63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4653000"/>
            <a:ext cx="1368360" cy="588960"/>
          </a:xfrm>
          <a:custGeom>
            <a:avLst/>
            <a:gdLst/>
            <a:ahLst/>
            <a:rect l="l" t="t" r="r" b="b"/>
            <a:pathLst>
              <a:path w="862" h="371">
                <a:moveTo>
                  <a:pt x="0" y="318"/>
                </a:moveTo>
                <a:cubicBezTo>
                  <a:pt x="177" y="344"/>
                  <a:pt x="355" y="371"/>
                  <a:pt x="499" y="318"/>
                </a:cubicBezTo>
                <a:cubicBezTo>
                  <a:pt x="643" y="265"/>
                  <a:pt x="802" y="53"/>
                  <a:pt x="86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36920" y="460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68920" y="56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5157720"/>
            <a:ext cx="3168720" cy="1416240"/>
          </a:xfrm>
          <a:custGeom>
            <a:avLst/>
            <a:gdLst/>
            <a:ahLst/>
            <a:rect l="l" t="t" r="r" b="b"/>
            <a:pathLst>
              <a:path w="1996" h="892">
                <a:moveTo>
                  <a:pt x="0" y="725"/>
                </a:moveTo>
                <a:cubicBezTo>
                  <a:pt x="650" y="808"/>
                  <a:pt x="1300" y="892"/>
                  <a:pt x="1633" y="771"/>
                </a:cubicBezTo>
                <a:cubicBezTo>
                  <a:pt x="1966" y="650"/>
                  <a:pt x="1936" y="128"/>
                  <a:pt x="1996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136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5013360"/>
            <a:ext cx="4943520" cy="1679400"/>
          </a:xfrm>
          <a:custGeom>
            <a:avLst/>
            <a:gdLst/>
            <a:ahLst/>
            <a:rect l="l" t="t" r="r" b="b"/>
            <a:pathLst>
              <a:path w="3114" h="1058">
                <a:moveTo>
                  <a:pt x="2631" y="0"/>
                </a:moveTo>
                <a:cubicBezTo>
                  <a:pt x="2872" y="378"/>
                  <a:pt x="3114" y="756"/>
                  <a:pt x="2676" y="907"/>
                </a:cubicBezTo>
                <a:cubicBezTo>
                  <a:pt x="2238" y="1058"/>
                  <a:pt x="446" y="907"/>
                  <a:pt x="0" y="907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0272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651640" y="2505240"/>
            <a:ext cx="863640" cy="61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933240" y="4818240"/>
            <a:ext cx="207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agen de S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443280" y="472428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FTP Y S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341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FTP (Secure FTP) SCP (Secure Cop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rtos: 22 T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s de transferencia de archivos en modo seguro: Encripción y Autent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FTP reemplaza a FTP y SCP reemplaza a 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interfaces y comandos similares a FTP y S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ementado actualmente como subsistemas de S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requiere de daemons especiales ya que los implenta ssh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habilita colocando en el archiv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/etc/ssh2/sshd2_config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 lí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</a:rPr>
              <a:t>subsystem-sftp sftp-server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CP se apoya en el comando scp del servidor, generalmente ubicado en /usr/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FTP Y S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341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 de comando para copiar desde la máquina beta un archivo a la máquina alfa.  El comando se ejecuta en la máquina al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cp alfa:/etc/hosts   /etc/hosts.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er Messag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ocolo de nivel aplicativo orientado a compartir archivos, impresoras, puertos seriales, y abstracciones de comunicaciones como named pipes y cor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ompartición de archivos permite acceso en l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por IBM hacia (1985) y popularizado por Microsoft para la comunicación de sus estaciones y Servidores Window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eralmente se implementa sobre NetBIOS, quien a su vez es soportado por múltiples protocolos: TCP/IP, IPX/SPX, NetBEUI entre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versiones recientes de Windows (2000/2003/ XP) se implementa directamente sobre TCP/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principal ventaja es que al ser nativo en Windows no requiere la instalación de componentes adi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inux está implementado por SAMBA (herramientas como Webmin o SWAT facilitan su configu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SCO Unix implementado por Vision 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basa en un un esquema solicitud-respu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NetBIOS utiliza nombres de 15 bytes.  Realmente son 16 ya que mediante un byte adicional se especifica el tipo de nombre.  Ej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: File Server Serv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4: Directorio de Microsoft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upport.microsoft.com/default.aspx?scid=kb;ES-ES;q1634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6386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20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80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7680" y="879480"/>
            <a:ext cx="80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MB sobre diferentes stack de protoco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el caso de NETBEUI no requiere NetB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MB SOBRE NETB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s implementaciones iniciales (Windows 9X, etc) opera sobre Netb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NetBIOS esta sobre TCP/IP usa los siguientes puer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etbios-ns 137/tcp nb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etbios-ns 137/udp nb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etbios-dgm 138/tcp nbdgm (No us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etbios-dgm 138/udp nbdg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etbios-ssn 139/tcp nbssn (típicamente usado por S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s implementaciones recientes de SMB (Windows 2000/2003/XP), se monta directamente sobre TCP/IP (sin Netbios) utilizando el puerto TCP/UDP 4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bre TCP envía 4 bytes así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imer byte 0x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tres restantes indican la longitud de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o del mensaje 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163440"/>
            <a:ext cx="889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MB Y LA RESOLUCION DE N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3416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star sobre Netbios, SMB se ve afectado por las limitantes de este protocolo en redes con routers (filtran tráfico broadcast), para la resolución de no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s para resolver este 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ir el paso de tráfico broadcast UDP/TCP puerto 137 en los ro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Línea en enrutadores Ci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p helper-address 10.1.0.0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r archivo LMHOSTS de resolución de nombres netb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r servidores W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implementación de SMB directamente sobre TCP/IP se utiliza el DNS para resolver los no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78544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CESO Y TRANSFERENCIA DE 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54240"/>
            <a:ext cx="85345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erentes u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macenamiento temp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 backup en d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artición de archivos y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21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MB Y LA SEGUR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as op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recurso compartido tiene un password e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 debe ser suministrado ante cad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icitud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er level: el usuario se autentica con el servidor y recibe un UID que debe presentar ante cada requer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AMBA COMO CONTROLADOR DE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7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ificar el archivo /etc/samba/smb.conf 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orkgroup = DIGI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omain logons = 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ecurity =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 master = 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os level = 6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eferred master = 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omain master = 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[netlogon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mment = The domain logon serv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ath = /usr/local/samba/netlog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ublic = 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riteable = 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icionar usuarios 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seradd –-g smbuser –-d /dev/null –-s /dev/null nombre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icionar usuarios en Samba 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mbpasswd –a nombre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icionar cuentas de máquinas en Linux y Samba 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seradd –-g smbuser -–d /dev/null -–s /dev/null ntclient$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mbpasswd –a –m ntclient (the $ at the end is not requir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7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mon Internet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evolución de SMB desarrollada por Microsoft, Digital, Intel, SCO entr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e un mecanismo de acceso a un sistema de archivos para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abrir y compartir archivos sobr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o abierto, multiplatafor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timizado para líneas de baja velo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aracterístic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ejo de concurrencia e Integ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lerancia a fallas (archivos abiertos se reabres después de la fa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porta esquema de seguridad (auten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mbres con significado glob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twork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acceso a archivos en línea transparente e integ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icio desarrollado por Sun Micro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ncripta la información sobr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poya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P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Remote Procedure Call): Protocolo para la ejecución de procedimientos remo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D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External Data Representation): para la representación de datos entre máquinas de diferente arquitectura. Establece una representación de los datos independiente de la platafor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principalmente UDP como trans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rtos utilizados: nfsd (2049 TCP/UDP), rpc (111 TCP/UDP), rpc2 (369 TCP/UD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diferencia de SMB requiere la instalación de un cliente especial en las estaciones Windows.  Es nativo en los entornos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cesos que prestan el servicio son: nfsd (servidor) y los biod (clien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ncipal archivo de configuración: /etc/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operación sobre un archivo no local se pasa a NFS quien a través de un llamado a un proceso remota ejecuta la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6865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N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8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etware Cor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ocolo de nivel Aplicativo de Novell para la comunicación entre la estación y el servidor Ne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otros servicios (impresión, autenticación, etc), permite la compartición de archivos en l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 la instalación de un cliente en la es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crosoft implementa un cliente de Netware en Windows pero es limi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era sobre IPX/SPX y TCP/IP (puerto 52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 de archivos basado en volúm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volumen principal es SYS: donde se almacena el sistema operativo y sus compo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TIOS DE INT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8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ementación de cliente sftp y scp para Windows gratu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insc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ementación de SMB para sistemas operativos tipo Unix/Lin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amba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FTP Server Grat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upport.solarwinds.net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updates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electProgramFree.cfm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ocumento interesante de NFS y Sam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york.lug.org.uk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talks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ewansamba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html/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html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/slide_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78544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CESO Y TRANSFERENCIA DE 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197000"/>
            <a:ext cx="853452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s enfoq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piado de archivos compl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ingresa  a un aplicativo especial para la transfer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FTP, TFTP y S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eso en lín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sistema de archivos se integra con el sistema lo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NFS , SMB, CIFS, NCP (Netw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CESO Y TRANSFERENCIA DE 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omento de su implementación se deben tener en cuenta aspecto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erencia en el esquema de no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erencias en los tipos de permi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ejo de Bloque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s de formatos como ASCII, EBCDIC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09480"/>
            <a:ext cx="8534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le Transfer Pr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la transferencia de archivos sobre T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los puertos 20 (para la transferencia de los datos) y 21 (para el envío de los comandos). La conexión de control se comporta como una sesión TELNET con comandos en modo tex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copiado compl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mente disponible en modo com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actualidad existen versiones que permiten navegar en el sistema de archivos a través de ventanas de expl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porta diferentes tipos y formatos: texto, binario, ASCII, EBC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porta esquema con usuario y password y el esquema de usuario anónimo (anonymo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 protocolo complejo y dificil de progra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609480"/>
            <a:ext cx="8534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s modos de ope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rmal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 conexión de datos la origina el servidor hacia la estación mediante comando PORT dado por la estación. No amigable con NAT y fire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ivo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anto la conexión de comandos como de datos la hace el cliente. Amigable con firewalls y N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otros algunos comandos que viajan por la conexión al puerto 21 son:  USER, PASS, RETR, PORT (modo normal), PASV (modo pasivo)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ivial File Transfer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la transferencia de archivos sobre UDP (69). También se soporta sobre TCP (6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primer mensaje del servidor se estable el nuevo puerto que este escucha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quema de copiado compl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y simple y fácil de implementar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liviano que FTP (se puede poner en R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auten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basa en un esquema stop and wait con confirmación enviando bloques de 512 bytes numerados desd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corrige err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y utilizado para actualizar el software operativo de enrutadores como CISCO, 3COM o para el cargue del sistema operativo en el proceso de BOOT remoto de estaciones y otros dispositivos de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tocolo original tiene una limitante de archivos de hasta  32 MB, aunque con el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FC 234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se extiende el tamaño a través de una opción del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FC 2348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negociar tamaño de bloque (block-size)  introducida en 1998, permitiendo hasta 4GB y potencialmente más. Si el cliente y el servidor soportan block number wraparound, el tamaño es ilimi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e varios formatos de mensaj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53416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de Lectura/Escri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rmato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knoled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626436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7840" y="2781360"/>
            <a:ext cx="642924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9640" y="4437000"/>
            <a:ext cx="642960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1280" y="6039000"/>
            <a:ext cx="6429240" cy="55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0:12:58Z</dcterms:created>
  <dc:creator>DigiNet Ltda.</dc:creator>
  <dc:description/>
  <dc:language>en-US</dc:language>
  <cp:lastModifiedBy>usuario</cp:lastModifiedBy>
  <dcterms:modified xsi:type="dcterms:W3CDTF">2012-02-09T19:39:35Z</dcterms:modified>
  <cp:revision>353</cp:revision>
  <dc:subject/>
  <dc:title>SERVICIOS DE RED</dc:title>
</cp:coreProperties>
</file>