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E99C-2126-42BA-A9CD-AD5721400B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AF12-DFF5-4A32-960E-0FDF2EF34E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711-D341-4993-B644-3546F0C5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A70-929B-466D-A72A-1EAB2B89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83A-B866-435B-B36A-2A72127A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E58-1A63-492A-AA7B-642A5C11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117-F38F-42FE-953E-62CC64E0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77D-2262-4878-843D-B3FD5AF1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D02-B0AD-4D4B-8AF4-1A811420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7CD-6DF7-4540-9519-739E859A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CDF-5FE8-4942-B2E7-52E1CA03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222-C2A6-495D-9337-1AC22108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E16-6626-4F59-B8E1-3815D177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5A7-8AA0-4BE7-99F3-3F09B292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1CA5-6B22-4AB6-A0EB-4ECBDB10D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xter.eafit.edu.co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.wmf"/><Relationship Id="rId3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ERVICIOS Y APLICACIONES EN 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2276640"/>
            <a:ext cx="6400800" cy="34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JUAN CARLOS RESTREPO CARVAJ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-MAIL: juanrest@diginet.com.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WW.DIGINET.COM.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l: 51405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rsión: 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ero - 20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5724360" y="5668920"/>
          <a:ext cx="341964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5668920"/>
                    <a:ext cx="34196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4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ominio interno y externo: DEXTER.EAFIT.EDU.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gistros DNS Exter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dexter.eafit.edu.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rreo.dexter.eafit.edu.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pn.dexter.eafit.edu.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gistros DNS Inter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ranet.dexter.eafit.edu.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rreo.dexter.eafit.edu.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Zeus.dexter.eafit.edu.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polo.dexter.eafit.edu.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ion.dexter.eafit.edu.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erbero.dexter.eafit.edu.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ARIOS  Y RECURSO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rla y seguimiento: Viernes 5 – 9 pm y Sábado de 8am – 10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bajo en laboratorio: Sábados: 10 am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rsos de laborato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ábados de 10 am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: 18-4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recciones públ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mento IP reservado: 200.12.177.64/2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rutador por defecto: 200.12.177.65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rbero.dexter.eafit.edu.co: 200.12.177.66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recciones libres adicionales: 200.12.177.67 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 200.12.177.68 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NS Eafit: 200.12.180.4 y 200.12.176.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ODO DE EVALUAC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2472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nota final se calculará as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ionalidad global de la implementación: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ción individual 7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la evaluación global se verificará la funcionalidad general de los diferentes servicios: correo, dns, web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la evaluación individual se preguntarán aspectos generales de toda la imple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se hará un solo día con todas las personas en el sitio del montaje estable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enrutadores (3 con soporte de voz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cione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ui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o a Internet con direcciones públ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AS ADICIO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031760"/>
            <a:ext cx="849780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alida a Internet se hará a través de un suiche nivel 3 a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jeta interna:  200.12.177.65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jeta hacia el PIX de EAFIT: 200.12.177.254/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l patch panel de datos B, puerto P1 esta la conexión contra el P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l patch panel A las extensiones telefónicas están a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: Ext 200  y   P3: Ext 48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patch panel B, puerto P1, está la IP externa del firewall 200.12.177.253/30.  El PIX es 200.12.177.254/3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rvicios aux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solución de nom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rchivo host y resolv.co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ombres netb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W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irecto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D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rvicios aux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utentic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erb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ad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ncronización de reloj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figuración auto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H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rvicios de usuario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mulación de terminal y escritorio remo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rr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ox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P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mpartición de arch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1740960" y="0"/>
            <a:ext cx="59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Unicode MS"/>
              </a:rPr>
              <a:t>ESQUEMA GENERAL CASO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3"/>
          <p:cNvSpPr/>
          <p:nvPr/>
        </p:nvSpPr>
        <p:spPr>
          <a:xfrm flipV="1">
            <a:off x="2340000" y="3860640"/>
            <a:ext cx="9367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5"/>
          <p:cNvSpPr/>
          <p:nvPr/>
        </p:nvSpPr>
        <p:spPr>
          <a:xfrm>
            <a:off x="2028960" y="21366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425"/>
          <p:cNvSpPr/>
          <p:nvPr/>
        </p:nvSpPr>
        <p:spPr>
          <a:xfrm>
            <a:off x="1727280" y="2205000"/>
            <a:ext cx="147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39"/>
          <p:cNvSpPr/>
          <p:nvPr/>
        </p:nvSpPr>
        <p:spPr>
          <a:xfrm flipV="1">
            <a:off x="3564000" y="2209680"/>
            <a:ext cx="1284120" cy="7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442"/>
          <p:cNvSpPr/>
          <p:nvPr/>
        </p:nvSpPr>
        <p:spPr>
          <a:xfrm>
            <a:off x="3400560" y="3203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44"/>
          <p:cNvSpPr/>
          <p:nvPr/>
        </p:nvSpPr>
        <p:spPr>
          <a:xfrm flipV="1">
            <a:off x="3311640" y="38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51"/>
          <p:cNvSpPr/>
          <p:nvPr/>
        </p:nvSpPr>
        <p:spPr>
          <a:xfrm>
            <a:off x="3670200" y="378936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458"/>
          <p:cNvSpPr/>
          <p:nvPr/>
        </p:nvSpPr>
        <p:spPr>
          <a:xfrm>
            <a:off x="6767640" y="393372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463"/>
          <p:cNvSpPr/>
          <p:nvPr/>
        </p:nvSpPr>
        <p:spPr>
          <a:xfrm>
            <a:off x="5038560" y="1341360"/>
            <a:ext cx="505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71"/>
          <p:cNvSpPr/>
          <p:nvPr/>
        </p:nvSpPr>
        <p:spPr>
          <a:xfrm>
            <a:off x="4859280" y="2639880"/>
            <a:ext cx="1873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irewall-CERB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inux/Windows/App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AT-Proxy-VP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AN: 10.0.0.25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WAN: 200.12.177.66/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MZ: 192.168.1.253/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72"/>
          <p:cNvSpPr/>
          <p:nvPr/>
        </p:nvSpPr>
        <p:spPr>
          <a:xfrm>
            <a:off x="5107680" y="5229360"/>
            <a:ext cx="1733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192.168.1.1-OR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ervidor D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Web, 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GW Correo 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ntivirus y Antisp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75"/>
          <p:cNvSpPr/>
          <p:nvPr/>
        </p:nvSpPr>
        <p:spPr>
          <a:xfrm>
            <a:off x="693000" y="5654520"/>
            <a:ext cx="2264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10.0.0.2/16-APO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ervidor de correo (buzo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WEB (Intran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Compartición de archiv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76"/>
          <p:cNvSpPr/>
          <p:nvPr/>
        </p:nvSpPr>
        <p:spPr>
          <a:xfrm>
            <a:off x="2829600" y="501336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HCP-SUC0P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liente 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78"/>
          <p:cNvSpPr/>
          <p:nvPr/>
        </p:nvSpPr>
        <p:spPr>
          <a:xfrm>
            <a:off x="1798920" y="1700280"/>
            <a:ext cx="125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out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LAN: 10.1.0.254/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WAN: 10.254.1.2/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63"/>
          <p:cNvSpPr/>
          <p:nvPr/>
        </p:nvSpPr>
        <p:spPr>
          <a:xfrm>
            <a:off x="4429440" y="4653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64"/>
          <p:cNvSpPr/>
          <p:nvPr/>
        </p:nvSpPr>
        <p:spPr>
          <a:xfrm>
            <a:off x="3564000" y="41497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65"/>
          <p:cNvSpPr/>
          <p:nvPr/>
        </p:nvSpPr>
        <p:spPr>
          <a:xfrm>
            <a:off x="201960" y="404640"/>
            <a:ext cx="121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UCURSAL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D 10.1.0.0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66"/>
          <p:cNvSpPr/>
          <p:nvPr/>
        </p:nvSpPr>
        <p:spPr>
          <a:xfrm>
            <a:off x="5437440" y="549360"/>
            <a:ext cx="125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UCURSAL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D: 10.2.0.0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32"/>
          <p:cNvSpPr/>
          <p:nvPr/>
        </p:nvSpPr>
        <p:spPr>
          <a:xfrm>
            <a:off x="4822920" y="436572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344"/>
          <p:cNvSpPr/>
          <p:nvPr/>
        </p:nvSpPr>
        <p:spPr>
          <a:xfrm>
            <a:off x="5905800" y="429264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.12.177.65/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54"/>
          <p:cNvSpPr/>
          <p:nvPr/>
        </p:nvSpPr>
        <p:spPr>
          <a:xfrm>
            <a:off x="1222200" y="3789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355"/>
          <p:cNvSpPr/>
          <p:nvPr/>
        </p:nvSpPr>
        <p:spPr>
          <a:xfrm>
            <a:off x="39960" y="3860640"/>
            <a:ext cx="1753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10.0.0.1/16-Z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rvicio de direc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mpartición de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scritorio rem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NS- DH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4560" y="191592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74560" y="1341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6200" y="170028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76"/>
          <p:cNvSpPr/>
          <p:nvPr/>
        </p:nvSpPr>
        <p:spPr>
          <a:xfrm>
            <a:off x="1797840" y="549360"/>
            <a:ext cx="127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HCP-SUC1P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iente 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Autent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r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Naveg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76"/>
          <p:cNvSpPr/>
          <p:nvPr/>
        </p:nvSpPr>
        <p:spPr>
          <a:xfrm>
            <a:off x="4139280" y="40464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HCP-SUC2P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liente 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462560" y="3429000"/>
          <a:ext cx="60300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2560" y="3429000"/>
                    <a:ext cx="6030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295280" y="1844640"/>
          <a:ext cx="5079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844640"/>
                    <a:ext cx="507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166920" y="2925720"/>
          <a:ext cx="50832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66920" y="2925720"/>
                    <a:ext cx="508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751280" y="1844640"/>
          <a:ext cx="50796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51280" y="1844640"/>
                    <a:ext cx="507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219640" y="1413000"/>
          <a:ext cx="67644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1413000"/>
                    <a:ext cx="6764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30120" y="1341360"/>
          <a:ext cx="676440" cy="7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0120" y="1341360"/>
                    <a:ext cx="6764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022560" y="3543480"/>
          <a:ext cx="806400" cy="89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22560" y="3543480"/>
                    <a:ext cx="80640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462560" y="5229360"/>
          <a:ext cx="620640" cy="100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62560" y="5229360"/>
                    <a:ext cx="6206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006560" y="836640"/>
          <a:ext cx="733320" cy="8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06560" y="836640"/>
                    <a:ext cx="733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521240" y="765000"/>
          <a:ext cx="733320" cy="863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21240" y="765000"/>
                    <a:ext cx="733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951280" y="4365720"/>
          <a:ext cx="733320" cy="863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51280" y="4365720"/>
                    <a:ext cx="733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7054920" y="3141720"/>
            <a:ext cx="1799640" cy="1294920"/>
            <a:chOff x="7054920" y="3141720"/>
            <a:chExt cx="1799640" cy="1294920"/>
          </a:xfrm>
        </p:grpSpPr>
        <p:graphicFrame>
          <p:nvGraphicFramePr>
            <p:cNvPr id="109" name=""/>
            <p:cNvGraphicFramePr/>
            <p:nvPr/>
          </p:nvGraphicFramePr>
          <p:xfrm>
            <a:off x="7054920" y="3141720"/>
            <a:ext cx="1713240" cy="12949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054920" y="3141720"/>
                      <a:ext cx="1713240" cy="129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7141680" y="3631320"/>
              <a:ext cx="17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2" name=""/>
          <p:cNvGraphicFramePr/>
          <p:nvPr/>
        </p:nvGraphicFramePr>
        <p:xfrm>
          <a:off x="7343640" y="2205000"/>
          <a:ext cx="733680" cy="863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343640" y="2205000"/>
                    <a:ext cx="7336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81200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4240" y="1268280"/>
            <a:ext cx="1983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Cliente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REMP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PN PC-TO-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Segmento: 172.16.0.0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27120" y="3068640"/>
          <a:ext cx="668160" cy="1081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27120" y="3068640"/>
                    <a:ext cx="6681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835280" y="4724280"/>
          <a:ext cx="668160" cy="1081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835280" y="4724280"/>
                    <a:ext cx="6681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262560" y="3645000"/>
          <a:ext cx="507960" cy="647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262560" y="3645000"/>
                    <a:ext cx="507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38560" y="3933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19128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78"/>
          <p:cNvSpPr/>
          <p:nvPr/>
        </p:nvSpPr>
        <p:spPr>
          <a:xfrm>
            <a:off x="1917720" y="2852640"/>
            <a:ext cx="1320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outer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LAN: 10.1.0.254/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WAN1: 10.254.1.1/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WAN2: 10.254.2.1/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78"/>
          <p:cNvSpPr/>
          <p:nvPr/>
        </p:nvSpPr>
        <p:spPr>
          <a:xfrm>
            <a:off x="3565800" y="1700280"/>
            <a:ext cx="125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ou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LAN: 10.2.0.254/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WAN: 10.254.2.2/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4221000"/>
            <a:ext cx="2664000" cy="2592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79280" y="764640"/>
            <a:ext cx="7921800" cy="475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57280" y="114624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GRUPO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44800" y="565452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GRUP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1800" y="23493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GRUPO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ERIMIEN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4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rvicio de directorio centralizado para autenticar estaciones y los diferentes servicios: correo, proxy y VP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ervicio de resolución de nombres basado en D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ervicio de correo basado en SMTP e IMAP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cceso VPN PC-to-LAN con restricción por usuario en segmento independ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odos los clientes Windows con autenticación, correo y naveg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figuración dinámica de las estaciones vía DH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figuración de oficinas y servidor Z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taciones Wind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utenticadas contra 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rvicio de correo de Z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rvicio de navegación en el firewall autenticado contra 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critorio remoto en Z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ervidor Ze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rectorio a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H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critorio remo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artición de carpetas por Usu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ersonas: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figuración de servidor Apolo y estación cent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tación Wind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utenticadas contra 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 servicio de correo de Ap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 servicio de navegación en el firewall autenticado contra 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 acceso a escritorio remoto en Z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ervidor Apolo (Linu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rreo basado en SMTP, IMAP4 con antivirus y antispam (por contenido y DNSB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ranet (página bás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artición de archivos (carpeta para backup x usuari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iembros: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836640"/>
            <a:ext cx="84582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figuración de firewall (CERBERO), servidor DMZ (ORION) y cliente VP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irewal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iltros entre las diferentes zon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oporte de NAT saliente restringi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ublicación de puertos hacia la DMZ (DNS, Web y SMTP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rvicio de proxy con autenticación de usuarios contra el directorio Windows y restricción de sit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Servicio VP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dor DMZ OR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NS exter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teway de corre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ntivir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ntispam: por contenido, DNSBL, SP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rvidor WE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agina bás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liente VP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rvicio de correo y navegación del sitio centr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sonas: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6:03:44Z</dcterms:created>
  <dc:creator>Juan Carlos Restrepo</dc:creator>
  <dc:description/>
  <dc:language>en-US</dc:language>
  <cp:lastModifiedBy>usuario</cp:lastModifiedBy>
  <dcterms:modified xsi:type="dcterms:W3CDTF">2014-02-14T12:02:13Z</dcterms:modified>
  <cp:revision>425</cp:revision>
  <dc:subject/>
  <dc:title>Presentación de PowerPoint</dc:title>
</cp:coreProperties>
</file>