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9.png" ContentType="image/png"/>
  <Override PartName="/ppt/media/image1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AED5-7305-40F9-BAEA-741CE3AA3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6064-8DFE-4C9E-BE4A-31EE43E23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A303-32B0-426B-9BC9-8895BA9EA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5916-5658-44D1-8476-FE1A94628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90FE-FE74-47AC-991A-5C2A67D40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E735-F028-4B4A-A94C-59347B3DA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01B6-373C-46B5-80C8-0194ACF55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7616-182A-40AB-99AB-600B7D59A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28BB-5882-4155-BC61-85BC33F2F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4980-D0EF-4129-9DD6-F9449650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FE30-9011-405D-8609-3E67A56B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B76E-DC03-44A5-BEDB-C9D34279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389B3-C4BE-488A-8A51-840919DF8A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uanrest@diginet.com.co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uk.research.att.com/vnc/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computerperformance.co.uk/images/W2K3/TerminalService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rdesktop.org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sh.com/" TargetMode="External"/><Relationship Id="rId2" Type="http://schemas.openxmlformats.org/officeDocument/2006/relationships/hyperlink" Target="http://www.openssh.org/" TargetMode="External"/><Relationship Id="rId3" Type="http://schemas.openxmlformats.org/officeDocument/2006/relationships/hyperlink" Target="http://www.zip.com.au/~roca/ttssh.html" TargetMode="External"/><Relationship Id="rId4" Type="http://schemas.openxmlformats.org/officeDocument/2006/relationships/hyperlink" Target="http://www.zip.com.au/~roca/ttssh.html" TargetMode="External"/><Relationship Id="rId5" Type="http://schemas.openxmlformats.org/officeDocument/2006/relationships/hyperlink" Target="http://www.zip.com.au/~roca/ttssh.html" TargetMode="External"/><Relationship Id="rId6" Type="http://schemas.openxmlformats.org/officeDocument/2006/relationships/hyperlink" Target="http://www.zip.com.au/~roca/ttssh.html" TargetMode="External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143000"/>
            <a:ext cx="8077320" cy="77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NIVEL APLICA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2060280"/>
            <a:ext cx="6400800" cy="35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TERFACES DE 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JUAN CARLOS RESTRE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-MAIL: </a:t>
            </a:r>
            <a:r>
              <a:rPr b="0" lang="es-ES_tradnl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juanrest@diginet.com.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el: 51405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ltima revisión: Sep -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ersión: 2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372360" y="5562720"/>
            <a:ext cx="27716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X-Window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sarrollado en MIT para el proyecto Athen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terface gráfica de usuario basada en red que provee servicios de video, teclado y mouse en un entorno grafico a través de un servidor llamado X-Server o servidor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iliza el puerto 6000 (TCP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sarrollado inicialmente para los entornos UNIX y adoptada por otros entornos como Netware 5.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variable DISPLAY le indica al cliente donde esta el servidor gráfico.  DISPLAY=nodo:display.screen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920" indent="-2854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 no se da el nodo, se elige el protocolo local más efici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920" indent="-2854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jemplo:   DISPLAY=10.100.0.100:0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independiza el escritorio (desktop) del servidor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X-Window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r sus origines en redes locales requiere mucho ancho de ban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 bajos anchos de banda se utiliza el protocolo LBX (Low Bandwith X), basado en compresión y cac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todos los Xserver soportan LBX. Si en X11R6.3 o XFree86 3.3 o superio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gunos comand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dpyinfo dice si tiene la extensión LB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hosts +nodo : da permisos a nodo para usar servidor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gunas aplicaciones X son: xterm, xclock, xlogo, xinit, xkil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X-Window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one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X-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vee los servicios de visualización en una estación gráfica controlando el teclado, el video y el mo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X-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 el aplicativo como tal que requiere los servicios gráf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X-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 el protocolo utilizado para la comunicación entre el X-Client y el X-Server. Esta montado sobre TCP. Es pesado para el entorno W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X-Window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X-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ibrerías de bajo nivel en C que proveen un API para accesar el protocolo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X-toolk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ibrerias con interfaces de alto nivel para crear objetos como botones, menu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Window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nejador de ventanas que se comporta como un cliente más X. Algunos son: mwm, tvtwm, fvwm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lección de objetos gráficos (botones, menus, etc.) con un estilo particular. Eje: Moti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X-Window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quitectu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09680" y="1066680"/>
            <a:ext cx="5002200" cy="579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VN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9280" y="620280"/>
            <a:ext cx="8839440" cy="593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irtual Network Compu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isponible solo sobre TCP/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tiliza puertos 59XX donde XX se reemplaza por el nro del displ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 diferencia de X-Windows (state) si la estación cliente se cae los procesos se mantienen (stales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dependiente de la plataforma: Linux, Windows, Java Browser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iviano y Gratui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ermite implementar un X-Server en entornos Unix/Linux que puede ser visualizado desde estaciones Windows con el VNC View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sa challenge/response para el inicio. Luego la informacion viaja en claro aunque más dificil de decodificar que login o X-protoc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VN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puede correr varios vncserver en un entorno UNIX para crear un esquema similar a Windows Terminal Serv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o servidor sobre Windows permite solo una sesión de control remo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a un esquema de codificación (hextile) que comprime mejor que GIF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sponible en: </a:t>
            </a:r>
            <a:r>
              <a:rPr b="0" lang="es-ES_tradnl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uk.research.att.com/vnc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a ejecutar el vncserver en el Linux con una resolución y profundidad de color específica utilizar el comand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vncserve –geometry 800x600 –depth 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a una conexión segura se pueden implementar túneles SSH as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jemplo desde Linux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sh -N -f –L  5902:10.1.0.2:5901 10.1.0.2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uego  ejecuto el vncviewer desde 10.1.0.1 asi: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ncviewer localhost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VN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23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Operación sobre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013440" y="2709720"/>
          <a:ext cx="65232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3440" y="2709720"/>
                    <a:ext cx="6523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1116000" y="2984400"/>
          <a:ext cx="1111320" cy="95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6000" y="2984400"/>
                    <a:ext cx="1111320" cy="9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441440" y="423396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318360" y="38527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22320" y="39290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16360" y="1270080"/>
            <a:ext cx="1219320" cy="761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62880" y="1292400"/>
            <a:ext cx="72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XV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:1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260360" y="2060640"/>
            <a:ext cx="803160" cy="804600"/>
            <a:chOff x="1260360" y="2060640"/>
            <a:chExt cx="803160" cy="804600"/>
          </a:xfrm>
        </p:grpSpPr>
        <p:sp>
          <p:nvSpPr>
            <p:cNvPr id="129" name=""/>
            <p:cNvSpPr/>
            <p:nvPr/>
          </p:nvSpPr>
          <p:spPr>
            <a:xfrm>
              <a:off x="1260360" y="2060640"/>
              <a:ext cx="803160" cy="804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261800" y="2205000"/>
              <a:ext cx="782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</a:rPr>
                <a:t>VN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</a:rPr>
                <a:t>VIEW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5849280" y="431316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96920" y="445788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2720" y="1989000"/>
            <a:ext cx="3024000" cy="1957680"/>
          </a:xfrm>
          <a:custGeom>
            <a:avLst/>
            <a:gdLst/>
            <a:ahLst/>
            <a:rect l="l" t="t" r="r" b="b"/>
            <a:pathLst>
              <a:path w="1905" h="1233">
                <a:moveTo>
                  <a:pt x="0" y="318"/>
                </a:moveTo>
                <a:cubicBezTo>
                  <a:pt x="363" y="775"/>
                  <a:pt x="726" y="1233"/>
                  <a:pt x="1043" y="1180"/>
                </a:cubicBezTo>
                <a:cubicBezTo>
                  <a:pt x="1360" y="1127"/>
                  <a:pt x="1761" y="197"/>
                  <a:pt x="1905" y="0"/>
                </a:cubicBezTo>
              </a:path>
            </a:pathLst>
          </a:custGeom>
          <a:noFill/>
          <a:ln w="9360">
            <a:solidFill>
              <a:srgbClr val="ff66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84720" y="1197000"/>
            <a:ext cx="121932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74160" y="1270080"/>
            <a:ext cx="72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XV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:2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421080" y="5013360"/>
          <a:ext cx="1111320" cy="955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21080" y="5013360"/>
                    <a:ext cx="1111320" cy="9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 flipV="1">
            <a:off x="3924360" y="422064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429080" y="1844640"/>
            <a:ext cx="1800360" cy="2449440"/>
          </a:xfrm>
          <a:custGeom>
            <a:avLst/>
            <a:gdLst/>
            <a:ahLst/>
            <a:rect l="l" t="t" r="r" b="b"/>
            <a:pathLst>
              <a:path w="1134" h="1815">
                <a:moveTo>
                  <a:pt x="0" y="1815"/>
                </a:moveTo>
                <a:cubicBezTo>
                  <a:pt x="109" y="1376"/>
                  <a:pt x="219" y="937"/>
                  <a:pt x="408" y="635"/>
                </a:cubicBezTo>
                <a:cubicBezTo>
                  <a:pt x="597" y="333"/>
                  <a:pt x="1013" y="106"/>
                  <a:pt x="1134" y="0"/>
                </a:cubicBezTo>
              </a:path>
            </a:pathLst>
          </a:custGeom>
          <a:noFill/>
          <a:ln w="9360">
            <a:solidFill>
              <a:srgbClr val="0000ff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4068720" y="4294080"/>
            <a:ext cx="803160" cy="804600"/>
            <a:chOff x="4068720" y="4294080"/>
            <a:chExt cx="803160" cy="804600"/>
          </a:xfrm>
        </p:grpSpPr>
        <p:sp>
          <p:nvSpPr>
            <p:cNvPr id="141" name=""/>
            <p:cNvSpPr/>
            <p:nvPr/>
          </p:nvSpPr>
          <p:spPr>
            <a:xfrm>
              <a:off x="4068720" y="4294080"/>
              <a:ext cx="803160" cy="804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70160" y="4438440"/>
              <a:ext cx="782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</a:rPr>
                <a:t>VN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</a:rPr>
                <a:t>VIEW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WB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6091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Windows Base Term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erminales Graficas para el entorno basado en servidores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cliente visualiza y maneja el teclado y el mo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servidor Windows se comporta como servidor de Aplic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milar a un esquema de tiempo compartido UNIX con entorno gráf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ortante para esquemas basados en servicios de archivos a través de la W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teresante para esquemas de marcación por deman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ortante para configuraciones con comunicaciones no conf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incipalmente dos protocolos: ICA y RD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ductos: Winframe/Metaframe de Citrix, Windows Server 2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80520" y="38052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ESQUEMA GENERAL DE WB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76440" y="5029200"/>
            <a:ext cx="816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os procesos corren en el servidor y la interface con el usuario 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hace en la estacion: video, teclado y mo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324480" y="2362320"/>
            <a:ext cx="652680" cy="1143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905120" y="3048120"/>
            <a:ext cx="633240" cy="5443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752480" y="3886200"/>
            <a:ext cx="5639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29400" y="3505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3581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943600" y="1523880"/>
            <a:ext cx="121932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21000" y="167652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676520" y="2133720"/>
            <a:ext cx="914400" cy="914400"/>
            <a:chOff x="1676520" y="2133720"/>
            <a:chExt cx="914400" cy="914400"/>
          </a:xfrm>
        </p:grpSpPr>
        <p:sp>
          <p:nvSpPr>
            <p:cNvPr id="155" name=""/>
            <p:cNvSpPr/>
            <p:nvPr/>
          </p:nvSpPr>
          <p:spPr>
            <a:xfrm>
              <a:off x="1676520" y="2133720"/>
              <a:ext cx="914400" cy="914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890720" y="2344680"/>
              <a:ext cx="630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Arial"/>
                </a:rPr>
                <a:t>Vide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Arial"/>
                </a:rPr>
                <a:t>Teclad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Arial"/>
                </a:rPr>
                <a:t>Mou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2743200" y="28195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07160" y="24494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clado y mo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895480" y="35053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734200" y="3124080"/>
            <a:ext cx="34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deo, Impresión, disco, multimedia, puert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INTERFACE DE USUA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125360"/>
            <a:ext cx="853416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rvicio orientado a proveer la interface de usuario: Video, teclado, mouse, audio, impre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ásicamente dos esquem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mulación orientada a carácter: telnet, rlogin, s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torno gráfico: X-Windows, ICA, RDP y basados en tecnologías WE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los entornos WAN es fundamental la eficiencia del protocol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la aplicación se separa la Interface de usuario de la lógica del aplicati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ICA - CITRI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6091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dependent Computing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sarrollado por Citrix para Winframe/Metafr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uerto: 149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sumo de canal: aprox.  5-10Kbps por cl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liente: CPU 286+ con 640 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stemas operativos: Unix, Windows, MacOS, Java, 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ersatil  (mapeo de recursos locales): puertos, drive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pera sobre múltiples protocolos (TCP/IP, Netbios, Netbeui e IPX/SPX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xcelente desempeño en la W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oporta encripción y compres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oporta redireccionamiento de Video, teclado, mouse, puertos, unidades de almacenamiento y multimed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D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8534160" cy="598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Remote Desktop Protoc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sarrollado por Microsoft, básicamente una extensión de ITU-T T.128, protocolo para compartir aplica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 pesar de ser independiente del transporte, actualmente solo opera sobre TCP/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uerto: TCP 338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ativo en Windows 2000/2003 Server y Windows X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oporta encripción con RC4 así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IVEL BAJO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llaves de 40 bits (W9X)  o 56 bits (W2P, XP) de cliente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 servi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IVEL MEDIO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encripta en ambos senti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IVEL ALTO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RC4 con llaves de 128 b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D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8534160" cy="598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oporta cache para mejorar el rendimiento. RECOMENDACIÓN: trabajar resoluciones bajas y sin fondos o wallpapers sofistic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oporta Roaming disconnect para mantener la ses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oporta control remo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oporta remapeo de puertos seriales, paralelos y US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olo disponible para Windows como servid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xisten clientes para Windows y Linu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quiere licencia CAL Terminal Services para cada cliente, excepto en las estaciones Windows 2000 Professional o superi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WBT BASADA EN WE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6091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asada en tecnologías de Internet como HTTP, CGI  y Apple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astante livia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rren sobre un brows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gunos productos son: Tarantella de SCO y  VNC sobre Brows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erminal Service Client de Microsoft basado en componente Active-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WBT BASADA EN WE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6091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cep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0360" y="1413000"/>
            <a:ext cx="3220920" cy="48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ESQUEMA TARANTEL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609120"/>
            <a:ext cx="853416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asada en tecnologías de Internet como HTTP, CGI  y Apple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tiliza hacia el cliente el protocolo AIP (Adaptative Internet Protocol), propiedad de S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IP se adapta a las características de la red: ancho de banda, retardo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rga applet de JAVA aprox. 1 MB la primera ve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uertos: 3144 (esquema no seguro), 5307 (esquema segur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SQUEMA TARANTEL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7772400" y="3276720"/>
          <a:ext cx="633240" cy="54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2400" y="3276720"/>
                    <a:ext cx="633240" cy="54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3657600" y="3124080"/>
            <a:ext cx="652320" cy="1143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4800600" y="2743200"/>
            <a:ext cx="2590920" cy="1676520"/>
          </a:xfrm>
          <a:custGeom>
            <a:avLst/>
            <a:gdLst/>
            <a:ahLst/>
            <a:rect l="l" t="t" r="r" b="b"/>
            <a:pathLst>
              <a:path w="913" h="576">
                <a:moveTo>
                  <a:pt x="421" y="76"/>
                </a:moveTo>
                <a:lnTo>
                  <a:pt x="400" y="71"/>
                </a:lnTo>
                <a:lnTo>
                  <a:pt x="371" y="64"/>
                </a:lnTo>
                <a:lnTo>
                  <a:pt x="347" y="63"/>
                </a:lnTo>
                <a:lnTo>
                  <a:pt x="321" y="65"/>
                </a:lnTo>
                <a:lnTo>
                  <a:pt x="302" y="68"/>
                </a:lnTo>
                <a:lnTo>
                  <a:pt x="284" y="73"/>
                </a:lnTo>
                <a:lnTo>
                  <a:pt x="263" y="81"/>
                </a:lnTo>
                <a:lnTo>
                  <a:pt x="244" y="91"/>
                </a:lnTo>
                <a:lnTo>
                  <a:pt x="225" y="105"/>
                </a:lnTo>
                <a:lnTo>
                  <a:pt x="206" y="123"/>
                </a:lnTo>
                <a:lnTo>
                  <a:pt x="193" y="140"/>
                </a:lnTo>
                <a:lnTo>
                  <a:pt x="184" y="155"/>
                </a:lnTo>
                <a:lnTo>
                  <a:pt x="176" y="172"/>
                </a:lnTo>
                <a:lnTo>
                  <a:pt x="171" y="194"/>
                </a:lnTo>
                <a:lnTo>
                  <a:pt x="154" y="189"/>
                </a:lnTo>
                <a:lnTo>
                  <a:pt x="135" y="186"/>
                </a:lnTo>
                <a:lnTo>
                  <a:pt x="118" y="186"/>
                </a:lnTo>
                <a:lnTo>
                  <a:pt x="100" y="190"/>
                </a:lnTo>
                <a:lnTo>
                  <a:pt x="84" y="197"/>
                </a:lnTo>
                <a:lnTo>
                  <a:pt x="68" y="204"/>
                </a:lnTo>
                <a:lnTo>
                  <a:pt x="51" y="219"/>
                </a:lnTo>
                <a:lnTo>
                  <a:pt x="42" y="230"/>
                </a:lnTo>
                <a:lnTo>
                  <a:pt x="30" y="243"/>
                </a:lnTo>
                <a:lnTo>
                  <a:pt x="20" y="258"/>
                </a:lnTo>
                <a:lnTo>
                  <a:pt x="12" y="279"/>
                </a:lnTo>
                <a:lnTo>
                  <a:pt x="6" y="298"/>
                </a:lnTo>
                <a:lnTo>
                  <a:pt x="2" y="318"/>
                </a:lnTo>
                <a:lnTo>
                  <a:pt x="1" y="333"/>
                </a:lnTo>
                <a:lnTo>
                  <a:pt x="0" y="349"/>
                </a:lnTo>
                <a:lnTo>
                  <a:pt x="1" y="368"/>
                </a:lnTo>
                <a:lnTo>
                  <a:pt x="3" y="385"/>
                </a:lnTo>
                <a:lnTo>
                  <a:pt x="7" y="402"/>
                </a:lnTo>
                <a:lnTo>
                  <a:pt x="12" y="418"/>
                </a:lnTo>
                <a:lnTo>
                  <a:pt x="20" y="436"/>
                </a:lnTo>
                <a:lnTo>
                  <a:pt x="30" y="454"/>
                </a:lnTo>
                <a:lnTo>
                  <a:pt x="42" y="468"/>
                </a:lnTo>
                <a:lnTo>
                  <a:pt x="56" y="482"/>
                </a:lnTo>
                <a:lnTo>
                  <a:pt x="72" y="493"/>
                </a:lnTo>
                <a:lnTo>
                  <a:pt x="85" y="500"/>
                </a:lnTo>
                <a:lnTo>
                  <a:pt x="98" y="504"/>
                </a:lnTo>
                <a:lnTo>
                  <a:pt x="113" y="509"/>
                </a:lnTo>
                <a:lnTo>
                  <a:pt x="128" y="509"/>
                </a:lnTo>
                <a:lnTo>
                  <a:pt x="145" y="509"/>
                </a:lnTo>
                <a:lnTo>
                  <a:pt x="161" y="506"/>
                </a:lnTo>
                <a:lnTo>
                  <a:pt x="174" y="502"/>
                </a:lnTo>
                <a:lnTo>
                  <a:pt x="182" y="498"/>
                </a:lnTo>
                <a:lnTo>
                  <a:pt x="191" y="511"/>
                </a:lnTo>
                <a:lnTo>
                  <a:pt x="204" y="522"/>
                </a:lnTo>
                <a:lnTo>
                  <a:pt x="217" y="533"/>
                </a:lnTo>
                <a:lnTo>
                  <a:pt x="232" y="543"/>
                </a:lnTo>
                <a:lnTo>
                  <a:pt x="252" y="552"/>
                </a:lnTo>
                <a:lnTo>
                  <a:pt x="271" y="561"/>
                </a:lnTo>
                <a:lnTo>
                  <a:pt x="294" y="568"/>
                </a:lnTo>
                <a:lnTo>
                  <a:pt x="315" y="572"/>
                </a:lnTo>
                <a:lnTo>
                  <a:pt x="339" y="575"/>
                </a:lnTo>
                <a:lnTo>
                  <a:pt x="357" y="575"/>
                </a:lnTo>
                <a:lnTo>
                  <a:pt x="376" y="575"/>
                </a:lnTo>
                <a:lnTo>
                  <a:pt x="402" y="571"/>
                </a:lnTo>
                <a:lnTo>
                  <a:pt x="433" y="559"/>
                </a:lnTo>
                <a:lnTo>
                  <a:pt x="444" y="562"/>
                </a:lnTo>
                <a:lnTo>
                  <a:pt x="465" y="553"/>
                </a:lnTo>
                <a:lnTo>
                  <a:pt x="486" y="543"/>
                </a:lnTo>
                <a:lnTo>
                  <a:pt x="499" y="535"/>
                </a:lnTo>
                <a:lnTo>
                  <a:pt x="510" y="525"/>
                </a:lnTo>
                <a:lnTo>
                  <a:pt x="522" y="531"/>
                </a:lnTo>
                <a:lnTo>
                  <a:pt x="537" y="539"/>
                </a:lnTo>
                <a:lnTo>
                  <a:pt x="552" y="544"/>
                </a:lnTo>
                <a:lnTo>
                  <a:pt x="566" y="548"/>
                </a:lnTo>
                <a:lnTo>
                  <a:pt x="582" y="550"/>
                </a:lnTo>
                <a:lnTo>
                  <a:pt x="597" y="550"/>
                </a:lnTo>
                <a:lnTo>
                  <a:pt x="615" y="547"/>
                </a:lnTo>
                <a:lnTo>
                  <a:pt x="633" y="542"/>
                </a:lnTo>
                <a:lnTo>
                  <a:pt x="650" y="535"/>
                </a:lnTo>
                <a:lnTo>
                  <a:pt x="666" y="524"/>
                </a:lnTo>
                <a:lnTo>
                  <a:pt x="681" y="512"/>
                </a:lnTo>
                <a:lnTo>
                  <a:pt x="701" y="522"/>
                </a:lnTo>
                <a:lnTo>
                  <a:pt x="720" y="527"/>
                </a:lnTo>
                <a:lnTo>
                  <a:pt x="736" y="530"/>
                </a:lnTo>
                <a:lnTo>
                  <a:pt x="759" y="530"/>
                </a:lnTo>
                <a:lnTo>
                  <a:pt x="784" y="526"/>
                </a:lnTo>
                <a:lnTo>
                  <a:pt x="813" y="516"/>
                </a:lnTo>
                <a:lnTo>
                  <a:pt x="837" y="500"/>
                </a:lnTo>
                <a:lnTo>
                  <a:pt x="858" y="481"/>
                </a:lnTo>
                <a:lnTo>
                  <a:pt x="878" y="458"/>
                </a:lnTo>
                <a:lnTo>
                  <a:pt x="888" y="439"/>
                </a:lnTo>
                <a:lnTo>
                  <a:pt x="897" y="420"/>
                </a:lnTo>
                <a:lnTo>
                  <a:pt x="906" y="394"/>
                </a:lnTo>
                <a:lnTo>
                  <a:pt x="910" y="370"/>
                </a:lnTo>
                <a:lnTo>
                  <a:pt x="912" y="343"/>
                </a:lnTo>
                <a:lnTo>
                  <a:pt x="910" y="323"/>
                </a:lnTo>
                <a:lnTo>
                  <a:pt x="906" y="298"/>
                </a:lnTo>
                <a:lnTo>
                  <a:pt x="899" y="274"/>
                </a:lnTo>
                <a:lnTo>
                  <a:pt x="888" y="252"/>
                </a:lnTo>
                <a:lnTo>
                  <a:pt x="877" y="230"/>
                </a:lnTo>
                <a:lnTo>
                  <a:pt x="862" y="212"/>
                </a:lnTo>
                <a:lnTo>
                  <a:pt x="848" y="198"/>
                </a:lnTo>
                <a:lnTo>
                  <a:pt x="834" y="188"/>
                </a:lnTo>
                <a:lnTo>
                  <a:pt x="815" y="173"/>
                </a:lnTo>
                <a:lnTo>
                  <a:pt x="797" y="166"/>
                </a:lnTo>
                <a:lnTo>
                  <a:pt x="781" y="162"/>
                </a:lnTo>
                <a:lnTo>
                  <a:pt x="762" y="159"/>
                </a:lnTo>
                <a:lnTo>
                  <a:pt x="759" y="143"/>
                </a:lnTo>
                <a:lnTo>
                  <a:pt x="754" y="126"/>
                </a:lnTo>
                <a:lnTo>
                  <a:pt x="747" y="110"/>
                </a:lnTo>
                <a:lnTo>
                  <a:pt x="738" y="94"/>
                </a:lnTo>
                <a:lnTo>
                  <a:pt x="726" y="77"/>
                </a:lnTo>
                <a:lnTo>
                  <a:pt x="711" y="59"/>
                </a:lnTo>
                <a:lnTo>
                  <a:pt x="698" y="45"/>
                </a:lnTo>
                <a:lnTo>
                  <a:pt x="681" y="33"/>
                </a:lnTo>
                <a:lnTo>
                  <a:pt x="660" y="20"/>
                </a:lnTo>
                <a:lnTo>
                  <a:pt x="640" y="11"/>
                </a:lnTo>
                <a:lnTo>
                  <a:pt x="621" y="5"/>
                </a:lnTo>
                <a:lnTo>
                  <a:pt x="598" y="1"/>
                </a:lnTo>
                <a:lnTo>
                  <a:pt x="577" y="0"/>
                </a:lnTo>
                <a:lnTo>
                  <a:pt x="554" y="0"/>
                </a:lnTo>
                <a:lnTo>
                  <a:pt x="533" y="4"/>
                </a:lnTo>
                <a:lnTo>
                  <a:pt x="509" y="11"/>
                </a:lnTo>
                <a:lnTo>
                  <a:pt x="483" y="23"/>
                </a:lnTo>
                <a:lnTo>
                  <a:pt x="466" y="33"/>
                </a:lnTo>
                <a:lnTo>
                  <a:pt x="449" y="46"/>
                </a:lnTo>
                <a:lnTo>
                  <a:pt x="434" y="62"/>
                </a:lnTo>
                <a:lnTo>
                  <a:pt x="421" y="76"/>
                </a:lnTo>
              </a:path>
            </a:pathLst>
          </a:custGeom>
          <a:solidFill>
            <a:srgbClr val="4080ff"/>
          </a:solidFill>
          <a:ln cap="rnd" w="50760">
            <a:solidFill>
              <a:srgbClr val="c0e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2209680" y="3733920"/>
            <a:ext cx="1162800" cy="457200"/>
            <a:chOff x="2209680" y="3733920"/>
            <a:chExt cx="1162800" cy="457200"/>
          </a:xfrm>
        </p:grpSpPr>
        <p:sp>
          <p:nvSpPr>
            <p:cNvPr id="180" name=""/>
            <p:cNvSpPr/>
            <p:nvPr/>
          </p:nvSpPr>
          <p:spPr>
            <a:xfrm>
              <a:off x="2209680" y="3735720"/>
              <a:ext cx="1038600" cy="222120"/>
            </a:xfrm>
            <a:custGeom>
              <a:avLst/>
              <a:gdLst/>
              <a:ahLst/>
              <a:rect l="l" t="t" r="r" b="b"/>
              <a:pathLst>
                <a:path w="4860" h="679">
                  <a:moveTo>
                    <a:pt x="4860" y="679"/>
                  </a:moveTo>
                  <a:lnTo>
                    <a:pt x="669" y="679"/>
                  </a:lnTo>
                  <a:lnTo>
                    <a:pt x="0" y="0"/>
                  </a:lnTo>
                  <a:lnTo>
                    <a:pt x="4189" y="2"/>
                  </a:lnTo>
                  <a:lnTo>
                    <a:pt x="4860" y="679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52960" y="3953160"/>
              <a:ext cx="895680" cy="23688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09680" y="3733920"/>
              <a:ext cx="146160" cy="457200"/>
            </a:xfrm>
            <a:custGeom>
              <a:avLst/>
              <a:gdLst/>
              <a:ahLst/>
              <a:rect l="l" t="t" r="r" b="b"/>
              <a:pathLst>
                <a:path w="686" h="1396">
                  <a:moveTo>
                    <a:pt x="681" y="674"/>
                  </a:moveTo>
                  <a:lnTo>
                    <a:pt x="686" y="1396"/>
                  </a:lnTo>
                  <a:lnTo>
                    <a:pt x="0" y="716"/>
                  </a:lnTo>
                  <a:lnTo>
                    <a:pt x="1" y="0"/>
                  </a:lnTo>
                  <a:lnTo>
                    <a:pt x="681" y="674"/>
                  </a:lnTo>
                  <a:close/>
                </a:path>
              </a:pathLst>
            </a:cu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63760" y="3966480"/>
              <a:ext cx="749880" cy="21024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354400" y="4014720"/>
              <a:ext cx="26280" cy="47880"/>
              <a:chOff x="2354400" y="4014720"/>
              <a:chExt cx="26280" cy="47880"/>
            </a:xfrm>
          </p:grpSpPr>
          <p:sp>
            <p:nvSpPr>
              <p:cNvPr id="185" name=""/>
              <p:cNvSpPr/>
              <p:nvPr/>
            </p:nvSpPr>
            <p:spPr>
              <a:xfrm>
                <a:off x="2354400" y="4014720"/>
                <a:ext cx="26280" cy="720"/>
              </a:xfrm>
              <a:prstGeom prst="line">
                <a:avLst/>
              </a:prstGeom>
              <a:ln w="6480">
                <a:solidFill>
                  <a:srgbClr val="8d8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354400" y="4020840"/>
                <a:ext cx="26280" cy="720"/>
              </a:xfrm>
              <a:prstGeom prst="line">
                <a:avLst/>
              </a:prstGeom>
              <a:ln w="6480">
                <a:solidFill>
                  <a:srgbClr val="e1df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354400" y="4035240"/>
                <a:ext cx="26280" cy="720"/>
              </a:xfrm>
              <a:prstGeom prst="line">
                <a:avLst/>
              </a:prstGeom>
              <a:ln w="6480">
                <a:solidFill>
                  <a:srgbClr val="8d8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354400" y="4041000"/>
                <a:ext cx="26280" cy="720"/>
              </a:xfrm>
              <a:prstGeom prst="line">
                <a:avLst/>
              </a:prstGeom>
              <a:ln w="6480">
                <a:solidFill>
                  <a:srgbClr val="e1df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354400" y="4056120"/>
                <a:ext cx="26280" cy="360"/>
              </a:xfrm>
              <a:prstGeom prst="line">
                <a:avLst/>
              </a:prstGeom>
              <a:ln w="6480">
                <a:solidFill>
                  <a:srgbClr val="8d8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354400" y="4061880"/>
                <a:ext cx="26280" cy="720"/>
              </a:xfrm>
              <a:prstGeom prst="line">
                <a:avLst/>
              </a:prstGeom>
              <a:ln w="6480">
                <a:solidFill>
                  <a:srgbClr val="e1df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3114720" y="3945960"/>
              <a:ext cx="133200" cy="15120"/>
            </a:xfrm>
            <a:custGeom>
              <a:avLst/>
              <a:gdLst/>
              <a:ahLst/>
              <a:rect l="l" t="t" r="r" b="b"/>
              <a:pathLst>
                <a:path w="624" h="49">
                  <a:moveTo>
                    <a:pt x="0" y="27"/>
                  </a:moveTo>
                  <a:lnTo>
                    <a:pt x="104" y="40"/>
                  </a:lnTo>
                  <a:lnTo>
                    <a:pt x="208" y="45"/>
                  </a:lnTo>
                  <a:lnTo>
                    <a:pt x="310" y="49"/>
                  </a:lnTo>
                  <a:lnTo>
                    <a:pt x="418" y="45"/>
                  </a:lnTo>
                  <a:lnTo>
                    <a:pt x="520" y="38"/>
                  </a:lnTo>
                  <a:lnTo>
                    <a:pt x="624" y="27"/>
                  </a:lnTo>
                  <a:lnTo>
                    <a:pt x="559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2230920" y="3810600"/>
              <a:ext cx="39600" cy="213120"/>
              <a:chOff x="2230920" y="3810600"/>
              <a:chExt cx="39600" cy="213120"/>
            </a:xfrm>
          </p:grpSpPr>
          <p:grpSp>
            <p:nvGrpSpPr>
              <p:cNvPr id="193" name=""/>
              <p:cNvGrpSpPr/>
              <p:nvPr/>
            </p:nvGrpSpPr>
            <p:grpSpPr>
              <a:xfrm>
                <a:off x="2230920" y="3810600"/>
                <a:ext cx="39600" cy="67680"/>
                <a:chOff x="2230920" y="3810600"/>
                <a:chExt cx="39600" cy="6768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2230920" y="3810960"/>
                  <a:ext cx="38160" cy="6732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2232000" y="3810600"/>
                  <a:ext cx="38520" cy="6732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2230920" y="3834720"/>
                <a:ext cx="39600" cy="67680"/>
                <a:chOff x="2230920" y="3834720"/>
                <a:chExt cx="39600" cy="6768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2230920" y="3835080"/>
                  <a:ext cx="38160" cy="6732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2232000" y="3834720"/>
                  <a:ext cx="38520" cy="6732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2230920" y="3858840"/>
                <a:ext cx="39600" cy="68040"/>
                <a:chOff x="2230920" y="3858840"/>
                <a:chExt cx="39600" cy="6804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2230920" y="3859560"/>
                  <a:ext cx="38160" cy="6732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2232000" y="3858840"/>
                  <a:ext cx="38520" cy="6732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2230920" y="3882960"/>
                <a:ext cx="39600" cy="68040"/>
                <a:chOff x="2230920" y="3882960"/>
                <a:chExt cx="39600" cy="6804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2230920" y="3883680"/>
                  <a:ext cx="38160" cy="6732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2232000" y="3882960"/>
                  <a:ext cx="38520" cy="6732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2230920" y="3907440"/>
                <a:ext cx="39600" cy="67680"/>
                <a:chOff x="2230920" y="3907440"/>
                <a:chExt cx="39600" cy="676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2230920" y="3907800"/>
                  <a:ext cx="38160" cy="6732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2232000" y="3907440"/>
                  <a:ext cx="38520" cy="6732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2230920" y="3931920"/>
                <a:ext cx="39600" cy="67680"/>
                <a:chOff x="2230920" y="3931920"/>
                <a:chExt cx="39600" cy="6768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2230920" y="3932280"/>
                  <a:ext cx="38160" cy="6732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2232000" y="3931920"/>
                  <a:ext cx="38520" cy="6732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2230920" y="3956040"/>
                <a:ext cx="39600" cy="67680"/>
                <a:chOff x="2230920" y="3956040"/>
                <a:chExt cx="39600" cy="6768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2230920" y="3956400"/>
                  <a:ext cx="38160" cy="6732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2232000" y="3956040"/>
                  <a:ext cx="38520" cy="6732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2291040" y="3902040"/>
              <a:ext cx="38160" cy="212760"/>
              <a:chOff x="2291040" y="3902040"/>
              <a:chExt cx="38160" cy="21276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2291040" y="3902040"/>
                <a:ext cx="38160" cy="67320"/>
                <a:chOff x="2291040" y="3902040"/>
                <a:chExt cx="38160" cy="6732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2291040" y="3902760"/>
                  <a:ext cx="37080" cy="6660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2292120" y="3902040"/>
                  <a:ext cx="37080" cy="6660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2291040" y="3926160"/>
                <a:ext cx="38160" cy="67680"/>
                <a:chOff x="2291040" y="3926160"/>
                <a:chExt cx="38160" cy="6768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2291040" y="3926880"/>
                  <a:ext cx="37080" cy="6696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2292120" y="3926160"/>
                  <a:ext cx="37080" cy="6696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2291040" y="3950640"/>
                <a:ext cx="38160" cy="66960"/>
                <a:chOff x="2291040" y="3950640"/>
                <a:chExt cx="38160" cy="6696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2291040" y="3951000"/>
                  <a:ext cx="37080" cy="6660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2292120" y="3950640"/>
                  <a:ext cx="37080" cy="6660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2291040" y="3974760"/>
                <a:ext cx="38160" cy="66960"/>
                <a:chOff x="2291040" y="3974760"/>
                <a:chExt cx="38160" cy="669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2291040" y="3975120"/>
                  <a:ext cx="37080" cy="6660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2292120" y="3974760"/>
                  <a:ext cx="37080" cy="6660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2291040" y="3999240"/>
                <a:ext cx="38160" cy="66960"/>
                <a:chOff x="2291040" y="3999240"/>
                <a:chExt cx="38160" cy="6696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2291040" y="3999600"/>
                  <a:ext cx="37080" cy="6660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2292120" y="3999240"/>
                  <a:ext cx="37080" cy="6660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2291040" y="4023360"/>
                <a:ext cx="38160" cy="66960"/>
                <a:chOff x="2291040" y="4023360"/>
                <a:chExt cx="38160" cy="669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2291040" y="4023720"/>
                  <a:ext cx="37080" cy="6660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2292120" y="4023360"/>
                  <a:ext cx="37080" cy="6660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2291040" y="4047480"/>
                <a:ext cx="38160" cy="67320"/>
                <a:chOff x="2291040" y="4047480"/>
                <a:chExt cx="38160" cy="6732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2291040" y="4048200"/>
                  <a:ext cx="37080" cy="6660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2292120" y="4047480"/>
                  <a:ext cx="37080" cy="6660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6" name=""/>
            <p:cNvGrpSpPr/>
            <p:nvPr/>
          </p:nvGrpSpPr>
          <p:grpSpPr>
            <a:xfrm>
              <a:off x="2239560" y="3739680"/>
              <a:ext cx="155880" cy="204840"/>
              <a:chOff x="2239560" y="3739680"/>
              <a:chExt cx="155880" cy="204840"/>
            </a:xfrm>
          </p:grpSpPr>
          <p:sp>
            <p:nvSpPr>
              <p:cNvPr id="237" name=""/>
              <p:cNvSpPr/>
              <p:nvPr/>
            </p:nvSpPr>
            <p:spPr>
              <a:xfrm>
                <a:off x="2239560" y="3739680"/>
                <a:ext cx="39600" cy="24840"/>
              </a:xfrm>
              <a:prstGeom prst="ellipse">
                <a:avLst/>
              </a:pr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243520" y="3744000"/>
                <a:ext cx="34200" cy="21600"/>
              </a:xfrm>
              <a:prstGeom prst="ellipse">
                <a:avLst/>
              </a:prstGeom>
              <a:solidFill>
                <a:srgbClr val="e1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355840" y="3918960"/>
                <a:ext cx="39600" cy="24120"/>
              </a:xfrm>
              <a:prstGeom prst="ellipse">
                <a:avLst/>
              </a:pr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360160" y="3922920"/>
                <a:ext cx="34200" cy="21600"/>
              </a:xfrm>
              <a:prstGeom prst="ellipse">
                <a:avLst/>
              </a:prstGeom>
              <a:solidFill>
                <a:srgbClr val="e1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3063960" y="3739680"/>
              <a:ext cx="156240" cy="204840"/>
              <a:chOff x="3063960" y="3739680"/>
              <a:chExt cx="156240" cy="204840"/>
            </a:xfrm>
          </p:grpSpPr>
          <p:sp>
            <p:nvSpPr>
              <p:cNvPr id="242" name=""/>
              <p:cNvSpPr/>
              <p:nvPr/>
            </p:nvSpPr>
            <p:spPr>
              <a:xfrm>
                <a:off x="3063960" y="3739680"/>
                <a:ext cx="39600" cy="24840"/>
              </a:xfrm>
              <a:prstGeom prst="ellipse">
                <a:avLst/>
              </a:pr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67560" y="3744000"/>
                <a:ext cx="34560" cy="21600"/>
              </a:xfrm>
              <a:prstGeom prst="ellipse">
                <a:avLst/>
              </a:prstGeom>
              <a:solidFill>
                <a:srgbClr val="e1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180600" y="3918960"/>
                <a:ext cx="39600" cy="24120"/>
              </a:xfrm>
              <a:prstGeom prst="ellipse">
                <a:avLst/>
              </a:pr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184200" y="3922920"/>
                <a:ext cx="34560" cy="21600"/>
              </a:xfrm>
              <a:prstGeom prst="ellipse">
                <a:avLst/>
              </a:prstGeom>
              <a:solidFill>
                <a:srgbClr val="e1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2363760" y="3971880"/>
              <a:ext cx="754560" cy="200880"/>
              <a:chOff x="2363760" y="3971880"/>
              <a:chExt cx="754560" cy="200880"/>
            </a:xfrm>
          </p:grpSpPr>
          <p:sp>
            <p:nvSpPr>
              <p:cNvPr id="247" name=""/>
              <p:cNvSpPr/>
              <p:nvPr/>
            </p:nvSpPr>
            <p:spPr>
              <a:xfrm>
                <a:off x="2363760" y="3972600"/>
                <a:ext cx="710280" cy="1998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51000" y="3971880"/>
                <a:ext cx="67320" cy="200880"/>
              </a:xfrm>
              <a:prstGeom prst="flowChartDelay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>
              <a:off x="3143160" y="3963600"/>
              <a:ext cx="106200" cy="22716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50000">
                  <a:srgbClr val="749bc2"/>
                </a:gs>
                <a:gs pos="100000">
                  <a:srgbClr val="99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07440" y="3965400"/>
              <a:ext cx="3650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3COM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2396880" y="4000320"/>
              <a:ext cx="687600" cy="147240"/>
              <a:chOff x="2396880" y="4000320"/>
              <a:chExt cx="687600" cy="14724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3008160" y="4000320"/>
                <a:ext cx="76320" cy="28080"/>
                <a:chOff x="3008160" y="4000320"/>
                <a:chExt cx="76320" cy="28080"/>
              </a:xfrm>
            </p:grpSpPr>
            <p:grpSp>
              <p:nvGrpSpPr>
                <p:cNvPr id="253" name=""/>
                <p:cNvGrpSpPr/>
                <p:nvPr/>
              </p:nvGrpSpPr>
              <p:grpSpPr>
                <a:xfrm>
                  <a:off x="3008160" y="4000320"/>
                  <a:ext cx="23040" cy="28080"/>
                  <a:chOff x="3008160" y="4000320"/>
                  <a:chExt cx="23040" cy="28080"/>
                </a:xfrm>
              </p:grpSpPr>
              <p:sp>
                <p:nvSpPr>
                  <p:cNvPr id="254" name=""/>
                  <p:cNvSpPr/>
                  <p:nvPr/>
                </p:nvSpPr>
                <p:spPr>
                  <a:xfrm>
                    <a:off x="3015720" y="4005000"/>
                    <a:ext cx="15480" cy="54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3008160" y="4000320"/>
                    <a:ext cx="1332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1">
                        <a:moveTo>
                          <a:pt x="0" y="0"/>
                        </a:moveTo>
                        <a:lnTo>
                          <a:pt x="60" y="0"/>
                        </a:lnTo>
                        <a:lnTo>
                          <a:pt x="41" y="21"/>
                        </a:lnTo>
                        <a:lnTo>
                          <a:pt x="0" y="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3008160" y="4010040"/>
                    <a:ext cx="133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0">
                        <a:moveTo>
                          <a:pt x="0" y="20"/>
                        </a:moveTo>
                        <a:lnTo>
                          <a:pt x="60" y="20"/>
                        </a:lnTo>
                        <a:lnTo>
                          <a:pt x="41" y="0"/>
                        </a:lnTo>
                        <a:lnTo>
                          <a:pt x="0" y="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3008160" y="4019040"/>
                    <a:ext cx="15840" cy="54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3018240" y="4014360"/>
                    <a:ext cx="1296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19">
                        <a:moveTo>
                          <a:pt x="60" y="0"/>
                        </a:moveTo>
                        <a:lnTo>
                          <a:pt x="0" y="0"/>
                        </a:lnTo>
                        <a:lnTo>
                          <a:pt x="17" y="19"/>
                        </a:lnTo>
                        <a:lnTo>
                          <a:pt x="60" y="19"/>
                        </a:lnTo>
                        <a:lnTo>
                          <a:pt x="6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3017880" y="4023720"/>
                    <a:ext cx="133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18">
                        <a:moveTo>
                          <a:pt x="61" y="18"/>
                        </a:moveTo>
                        <a:lnTo>
                          <a:pt x="0" y="18"/>
                        </a:lnTo>
                        <a:lnTo>
                          <a:pt x="17" y="0"/>
                        </a:lnTo>
                        <a:lnTo>
                          <a:pt x="61" y="0"/>
                        </a:lnTo>
                        <a:lnTo>
                          <a:pt x="61" y="1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0" name=""/>
                <p:cNvGrpSpPr/>
                <p:nvPr/>
              </p:nvGrpSpPr>
              <p:grpSpPr>
                <a:xfrm>
                  <a:off x="3034800" y="4003560"/>
                  <a:ext cx="49680" cy="21960"/>
                  <a:chOff x="3034800" y="4003560"/>
                  <a:chExt cx="49680" cy="2196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034800" y="4003560"/>
                    <a:ext cx="49680" cy="86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034800" y="4016880"/>
                    <a:ext cx="49680" cy="86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3044160" y="4132800"/>
                <a:ext cx="38880" cy="14760"/>
                <a:chOff x="3044160" y="4132800"/>
                <a:chExt cx="38880" cy="1476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3044160" y="4132800"/>
                  <a:ext cx="38880" cy="68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3046680" y="4140720"/>
                  <a:ext cx="36360" cy="68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2970720" y="4020480"/>
                <a:ext cx="29520" cy="44640"/>
                <a:chOff x="2970720" y="4020480"/>
                <a:chExt cx="29520" cy="4464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2970720" y="4027320"/>
                  <a:ext cx="29520" cy="37800"/>
                </a:xfrm>
                <a:custGeom>
                  <a:avLst/>
                  <a:gdLst/>
                  <a:ahLst/>
                  <a:rect l="l" t="t" r="r" b="b"/>
                  <a:pathLst>
                    <a:path w="138" h="141">
                      <a:moveTo>
                        <a:pt x="0" y="141"/>
                      </a:moveTo>
                      <a:lnTo>
                        <a:pt x="0" y="0"/>
                      </a:lnTo>
                      <a:lnTo>
                        <a:pt x="138" y="0"/>
                      </a:lnTo>
                      <a:lnTo>
                        <a:pt x="138" y="138"/>
                      </a:lnTo>
                    </a:path>
                  </a:pathLst>
                </a:custGeom>
                <a:noFill/>
                <a:ln w="6480">
                  <a:solidFill>
                    <a:srgbClr val="8d856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2976120" y="4020480"/>
                  <a:ext cx="20160" cy="15120"/>
                </a:xfrm>
                <a:prstGeom prst="rect">
                  <a:avLst/>
                </a:pr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2978640" y="4022640"/>
                  <a:ext cx="14400" cy="11880"/>
                </a:xfrm>
                <a:prstGeom prst="rect">
                  <a:avLst/>
                </a:prstGeom>
                <a:solidFill>
                  <a:srgbClr val="5249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0" name=""/>
              <p:cNvSpPr/>
              <p:nvPr/>
            </p:nvSpPr>
            <p:spPr>
              <a:xfrm>
                <a:off x="2976120" y="4074120"/>
                <a:ext cx="9000" cy="1080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988000" y="4074120"/>
                <a:ext cx="9000" cy="1080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976120" y="4089960"/>
                <a:ext cx="9000" cy="1224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988000" y="4089960"/>
                <a:ext cx="9000" cy="1224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976120" y="4106880"/>
                <a:ext cx="9000" cy="1152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988000" y="4106880"/>
                <a:ext cx="9000" cy="1152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976120" y="4123440"/>
                <a:ext cx="9000" cy="1260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988000" y="4123440"/>
                <a:ext cx="9000" cy="1260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003480" y="4110120"/>
                <a:ext cx="29160" cy="90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603520" y="4020480"/>
                <a:ext cx="140760" cy="40320"/>
              </a:xfrm>
              <a:custGeom>
                <a:avLst/>
                <a:gdLst/>
                <a:ahLst/>
                <a:rect l="l" t="t" r="r" b="b"/>
                <a:pathLst>
                  <a:path w="667" h="146">
                    <a:moveTo>
                      <a:pt x="0" y="146"/>
                    </a:moveTo>
                    <a:lnTo>
                      <a:pt x="0" y="0"/>
                    </a:lnTo>
                    <a:lnTo>
                      <a:pt x="667" y="0"/>
                    </a:lnTo>
                    <a:lnTo>
                      <a:pt x="667" y="144"/>
                    </a:lnTo>
                  </a:path>
                </a:pathLst>
              </a:custGeom>
              <a:noFill/>
              <a:ln w="6480">
                <a:solidFill>
                  <a:srgbClr val="8d856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655720" y="4011840"/>
                <a:ext cx="42120" cy="16560"/>
              </a:xfrm>
              <a:prstGeom prst="rect">
                <a:avLst/>
              </a:prstGeom>
              <a:solidFill>
                <a:srgbClr val="a6a2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661480" y="4014360"/>
                <a:ext cx="29520" cy="12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2648160" y="4031280"/>
                <a:ext cx="55080" cy="26640"/>
                <a:chOff x="2648160" y="4031280"/>
                <a:chExt cx="55080" cy="2664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2648160" y="4031280"/>
                  <a:ext cx="55080" cy="7200"/>
                </a:xfrm>
                <a:prstGeom prst="rect">
                  <a:avLst/>
                </a:pr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2650680" y="4040640"/>
                  <a:ext cx="50040" cy="7200"/>
                </a:xfrm>
                <a:prstGeom prst="rect">
                  <a:avLst/>
                </a:pr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2655720" y="4050720"/>
                  <a:ext cx="40680" cy="7200"/>
                </a:xfrm>
                <a:prstGeom prst="rect">
                  <a:avLst/>
                </a:pr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2601720" y="4068000"/>
                <a:ext cx="71640" cy="63000"/>
                <a:chOff x="2601720" y="4068000"/>
                <a:chExt cx="71640" cy="6300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2601720" y="4068000"/>
                  <a:ext cx="71640" cy="11520"/>
                  <a:chOff x="2601720" y="4068000"/>
                  <a:chExt cx="71640" cy="1152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2601720" y="4068000"/>
                    <a:ext cx="900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2613960" y="4068000"/>
                    <a:ext cx="900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2626560" y="4068000"/>
                    <a:ext cx="900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2639520" y="4068000"/>
                    <a:ext cx="864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2651760" y="4068000"/>
                    <a:ext cx="900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2664360" y="4068000"/>
                    <a:ext cx="900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4" name=""/>
                <p:cNvGrpSpPr/>
                <p:nvPr/>
              </p:nvGrpSpPr>
              <p:grpSpPr>
                <a:xfrm>
                  <a:off x="2601720" y="4084560"/>
                  <a:ext cx="71640" cy="12240"/>
                  <a:chOff x="2601720" y="4084560"/>
                  <a:chExt cx="71640" cy="12240"/>
                </a:xfrm>
              </p:grpSpPr>
              <p:sp>
                <p:nvSpPr>
                  <p:cNvPr id="295" name=""/>
                  <p:cNvSpPr/>
                  <p:nvPr/>
                </p:nvSpPr>
                <p:spPr>
                  <a:xfrm>
                    <a:off x="2601720" y="4084560"/>
                    <a:ext cx="9000" cy="122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2613960" y="4084560"/>
                    <a:ext cx="9000" cy="122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2626560" y="4084560"/>
                    <a:ext cx="9000" cy="122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2639520" y="4084560"/>
                    <a:ext cx="8640" cy="122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2651760" y="4084560"/>
                    <a:ext cx="9000" cy="122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2664360" y="4084560"/>
                    <a:ext cx="9000" cy="122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1" name=""/>
                <p:cNvGrpSpPr/>
                <p:nvPr/>
              </p:nvGrpSpPr>
              <p:grpSpPr>
                <a:xfrm>
                  <a:off x="2601720" y="4101840"/>
                  <a:ext cx="71640" cy="11520"/>
                  <a:chOff x="2601720" y="4101840"/>
                  <a:chExt cx="71640" cy="11520"/>
                </a:xfrm>
              </p:grpSpPr>
              <p:sp>
                <p:nvSpPr>
                  <p:cNvPr id="302" name=""/>
                  <p:cNvSpPr/>
                  <p:nvPr/>
                </p:nvSpPr>
                <p:spPr>
                  <a:xfrm>
                    <a:off x="2601720" y="4101840"/>
                    <a:ext cx="900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2613960" y="4101840"/>
                    <a:ext cx="900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2626560" y="4101840"/>
                    <a:ext cx="900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2639520" y="4101840"/>
                    <a:ext cx="864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2651760" y="4101840"/>
                    <a:ext cx="900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2664360" y="4101840"/>
                    <a:ext cx="900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8" name=""/>
                <p:cNvGrpSpPr/>
                <p:nvPr/>
              </p:nvGrpSpPr>
              <p:grpSpPr>
                <a:xfrm>
                  <a:off x="2601720" y="4118760"/>
                  <a:ext cx="71640" cy="12240"/>
                  <a:chOff x="2601720" y="4118760"/>
                  <a:chExt cx="71640" cy="12240"/>
                </a:xfrm>
              </p:grpSpPr>
              <p:sp>
                <p:nvSpPr>
                  <p:cNvPr id="309" name=""/>
                  <p:cNvSpPr/>
                  <p:nvPr/>
                </p:nvSpPr>
                <p:spPr>
                  <a:xfrm>
                    <a:off x="2601720" y="4118760"/>
                    <a:ext cx="9000" cy="122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2613960" y="4118760"/>
                    <a:ext cx="9000" cy="122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2626560" y="4118760"/>
                    <a:ext cx="9000" cy="122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2639520" y="4118760"/>
                    <a:ext cx="8640" cy="122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2651760" y="4118760"/>
                    <a:ext cx="9000" cy="122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2664360" y="4118760"/>
                    <a:ext cx="9000" cy="122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5" name=""/>
              <p:cNvGrpSpPr/>
              <p:nvPr/>
            </p:nvGrpSpPr>
            <p:grpSpPr>
              <a:xfrm>
                <a:off x="2678040" y="4068000"/>
                <a:ext cx="71280" cy="63000"/>
                <a:chOff x="2678040" y="4068000"/>
                <a:chExt cx="71280" cy="63000"/>
              </a:xfrm>
            </p:grpSpPr>
            <p:grpSp>
              <p:nvGrpSpPr>
                <p:cNvPr id="316" name=""/>
                <p:cNvGrpSpPr/>
                <p:nvPr/>
              </p:nvGrpSpPr>
              <p:grpSpPr>
                <a:xfrm>
                  <a:off x="2678040" y="4068000"/>
                  <a:ext cx="71280" cy="11520"/>
                  <a:chOff x="2678040" y="4068000"/>
                  <a:chExt cx="71280" cy="11520"/>
                </a:xfrm>
              </p:grpSpPr>
              <p:sp>
                <p:nvSpPr>
                  <p:cNvPr id="317" name=""/>
                  <p:cNvSpPr/>
                  <p:nvPr/>
                </p:nvSpPr>
                <p:spPr>
                  <a:xfrm>
                    <a:off x="2678040" y="4068000"/>
                    <a:ext cx="864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2690280" y="4068000"/>
                    <a:ext cx="900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2702880" y="4068000"/>
                    <a:ext cx="900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2715120" y="4068000"/>
                    <a:ext cx="900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2727720" y="4068000"/>
                    <a:ext cx="900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2740680" y="4068000"/>
                    <a:ext cx="864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3" name=""/>
                <p:cNvGrpSpPr/>
                <p:nvPr/>
              </p:nvGrpSpPr>
              <p:grpSpPr>
                <a:xfrm>
                  <a:off x="2678040" y="4084560"/>
                  <a:ext cx="71280" cy="12240"/>
                  <a:chOff x="2678040" y="4084560"/>
                  <a:chExt cx="71280" cy="12240"/>
                </a:xfrm>
              </p:grpSpPr>
              <p:sp>
                <p:nvSpPr>
                  <p:cNvPr id="324" name=""/>
                  <p:cNvSpPr/>
                  <p:nvPr/>
                </p:nvSpPr>
                <p:spPr>
                  <a:xfrm>
                    <a:off x="2678040" y="4084560"/>
                    <a:ext cx="8640" cy="122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>
                    <a:off x="2690280" y="4084560"/>
                    <a:ext cx="9000" cy="122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>
                    <a:off x="2702880" y="4084560"/>
                    <a:ext cx="9000" cy="122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2715120" y="4084560"/>
                    <a:ext cx="9000" cy="122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2727720" y="4084560"/>
                    <a:ext cx="9000" cy="122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2740680" y="4084560"/>
                    <a:ext cx="8640" cy="122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0" name=""/>
                <p:cNvGrpSpPr/>
                <p:nvPr/>
              </p:nvGrpSpPr>
              <p:grpSpPr>
                <a:xfrm>
                  <a:off x="2678040" y="4101840"/>
                  <a:ext cx="71280" cy="11520"/>
                  <a:chOff x="2678040" y="4101840"/>
                  <a:chExt cx="71280" cy="11520"/>
                </a:xfrm>
              </p:grpSpPr>
              <p:sp>
                <p:nvSpPr>
                  <p:cNvPr id="331" name=""/>
                  <p:cNvSpPr/>
                  <p:nvPr/>
                </p:nvSpPr>
                <p:spPr>
                  <a:xfrm>
                    <a:off x="2678040" y="4101840"/>
                    <a:ext cx="864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2690280" y="4101840"/>
                    <a:ext cx="900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2702880" y="4101840"/>
                    <a:ext cx="900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715120" y="4101840"/>
                    <a:ext cx="900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2727720" y="4101840"/>
                    <a:ext cx="900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2740680" y="4101840"/>
                    <a:ext cx="864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7" name=""/>
                <p:cNvGrpSpPr/>
                <p:nvPr/>
              </p:nvGrpSpPr>
              <p:grpSpPr>
                <a:xfrm>
                  <a:off x="2678040" y="4118760"/>
                  <a:ext cx="71280" cy="12240"/>
                  <a:chOff x="2678040" y="4118760"/>
                  <a:chExt cx="71280" cy="12240"/>
                </a:xfrm>
              </p:grpSpPr>
              <p:sp>
                <p:nvSpPr>
                  <p:cNvPr id="338" name=""/>
                  <p:cNvSpPr/>
                  <p:nvPr/>
                </p:nvSpPr>
                <p:spPr>
                  <a:xfrm>
                    <a:off x="2678040" y="4118760"/>
                    <a:ext cx="8640" cy="122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2690280" y="4118760"/>
                    <a:ext cx="9000" cy="122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2702880" y="4118760"/>
                    <a:ext cx="9000" cy="122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2715120" y="4118760"/>
                    <a:ext cx="9000" cy="122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2727720" y="4118760"/>
                    <a:ext cx="9000" cy="122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2740680" y="4118760"/>
                    <a:ext cx="8640" cy="122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4" name=""/>
              <p:cNvGrpSpPr/>
              <p:nvPr/>
            </p:nvGrpSpPr>
            <p:grpSpPr>
              <a:xfrm>
                <a:off x="2396880" y="4089240"/>
                <a:ext cx="186480" cy="54720"/>
                <a:chOff x="2396880" y="4089240"/>
                <a:chExt cx="186480" cy="54720"/>
              </a:xfrm>
            </p:grpSpPr>
            <p:grpSp>
              <p:nvGrpSpPr>
                <p:cNvPr id="345" name=""/>
                <p:cNvGrpSpPr/>
                <p:nvPr/>
              </p:nvGrpSpPr>
              <p:grpSpPr>
                <a:xfrm>
                  <a:off x="2396880" y="4089240"/>
                  <a:ext cx="23040" cy="54720"/>
                  <a:chOff x="2396880" y="4089240"/>
                  <a:chExt cx="23040" cy="54720"/>
                </a:xfrm>
              </p:grpSpPr>
              <p:grpSp>
                <p:nvGrpSpPr>
                  <p:cNvPr id="346" name=""/>
                  <p:cNvGrpSpPr/>
                  <p:nvPr/>
                </p:nvGrpSpPr>
                <p:grpSpPr>
                  <a:xfrm>
                    <a:off x="2396880" y="4089240"/>
                    <a:ext cx="23040" cy="54720"/>
                    <a:chOff x="2396880" y="4089240"/>
                    <a:chExt cx="23040" cy="54720"/>
                  </a:xfrm>
                </p:grpSpPr>
                <p:sp>
                  <p:nvSpPr>
                    <p:cNvPr id="347" name=""/>
                    <p:cNvSpPr/>
                    <p:nvPr/>
                  </p:nvSpPr>
                  <p:spPr>
                    <a:xfrm>
                      <a:off x="2396880" y="4099680"/>
                      <a:ext cx="22320" cy="424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" bIns="-4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8" name=""/>
                    <p:cNvSpPr/>
                    <p:nvPr/>
                  </p:nvSpPr>
                  <p:spPr>
                    <a:xfrm>
                      <a:off x="2396880" y="4101840"/>
                      <a:ext cx="2880" cy="4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9" name=""/>
                    <p:cNvSpPr/>
                    <p:nvPr/>
                  </p:nvSpPr>
                  <p:spPr>
                    <a:xfrm>
                      <a:off x="2399040" y="4110120"/>
                      <a:ext cx="20880" cy="3348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0" name=""/>
                    <p:cNvSpPr/>
                    <p:nvPr/>
                  </p:nvSpPr>
                  <p:spPr>
                    <a:xfrm>
                      <a:off x="2396880" y="4101840"/>
                      <a:ext cx="23040" cy="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1" name=""/>
                    <p:cNvSpPr/>
                    <p:nvPr/>
                  </p:nvSpPr>
                  <p:spPr>
                    <a:xfrm>
                      <a:off x="2398320" y="4089240"/>
                      <a:ext cx="252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2" name=""/>
                    <p:cNvSpPr/>
                    <p:nvPr/>
                  </p:nvSpPr>
                  <p:spPr>
                    <a:xfrm>
                      <a:off x="2414880" y="4089240"/>
                      <a:ext cx="216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53" name=""/>
                  <p:cNvSpPr/>
                  <p:nvPr/>
                </p:nvSpPr>
                <p:spPr>
                  <a:xfrm>
                    <a:off x="2404080" y="4119480"/>
                    <a:ext cx="12600" cy="187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4" name=""/>
                <p:cNvGrpSpPr/>
                <p:nvPr/>
              </p:nvGrpSpPr>
              <p:grpSpPr>
                <a:xfrm>
                  <a:off x="2429280" y="4089240"/>
                  <a:ext cx="23040" cy="54720"/>
                  <a:chOff x="2429280" y="4089240"/>
                  <a:chExt cx="23040" cy="54720"/>
                </a:xfrm>
              </p:grpSpPr>
              <p:grpSp>
                <p:nvGrpSpPr>
                  <p:cNvPr id="355" name=""/>
                  <p:cNvGrpSpPr/>
                  <p:nvPr/>
                </p:nvGrpSpPr>
                <p:grpSpPr>
                  <a:xfrm>
                    <a:off x="2429280" y="4089240"/>
                    <a:ext cx="23040" cy="54720"/>
                    <a:chOff x="2429280" y="4089240"/>
                    <a:chExt cx="23040" cy="54720"/>
                  </a:xfrm>
                </p:grpSpPr>
                <p:sp>
                  <p:nvSpPr>
                    <p:cNvPr id="356" name=""/>
                    <p:cNvSpPr/>
                    <p:nvPr/>
                  </p:nvSpPr>
                  <p:spPr>
                    <a:xfrm>
                      <a:off x="2429280" y="4099680"/>
                      <a:ext cx="22320" cy="424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" bIns="-4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7" name=""/>
                    <p:cNvSpPr/>
                    <p:nvPr/>
                  </p:nvSpPr>
                  <p:spPr>
                    <a:xfrm>
                      <a:off x="2429280" y="4101840"/>
                      <a:ext cx="2880" cy="4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8" name=""/>
                    <p:cNvSpPr/>
                    <p:nvPr/>
                  </p:nvSpPr>
                  <p:spPr>
                    <a:xfrm>
                      <a:off x="2431440" y="4110120"/>
                      <a:ext cx="20880" cy="3348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9" name=""/>
                    <p:cNvSpPr/>
                    <p:nvPr/>
                  </p:nvSpPr>
                  <p:spPr>
                    <a:xfrm>
                      <a:off x="2429280" y="4101840"/>
                      <a:ext cx="23040" cy="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0" name=""/>
                    <p:cNvSpPr/>
                    <p:nvPr/>
                  </p:nvSpPr>
                  <p:spPr>
                    <a:xfrm>
                      <a:off x="2430720" y="4089240"/>
                      <a:ext cx="252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1" name=""/>
                    <p:cNvSpPr/>
                    <p:nvPr/>
                  </p:nvSpPr>
                  <p:spPr>
                    <a:xfrm>
                      <a:off x="2447280" y="4089240"/>
                      <a:ext cx="216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62" name=""/>
                  <p:cNvSpPr/>
                  <p:nvPr/>
                </p:nvSpPr>
                <p:spPr>
                  <a:xfrm>
                    <a:off x="2436480" y="4119480"/>
                    <a:ext cx="12600" cy="187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3" name=""/>
                <p:cNvGrpSpPr/>
                <p:nvPr/>
              </p:nvGrpSpPr>
              <p:grpSpPr>
                <a:xfrm>
                  <a:off x="2461680" y="4089240"/>
                  <a:ext cx="23400" cy="54720"/>
                  <a:chOff x="2461680" y="4089240"/>
                  <a:chExt cx="23400" cy="54720"/>
                </a:xfrm>
              </p:grpSpPr>
              <p:grpSp>
                <p:nvGrpSpPr>
                  <p:cNvPr id="364" name=""/>
                  <p:cNvGrpSpPr/>
                  <p:nvPr/>
                </p:nvGrpSpPr>
                <p:grpSpPr>
                  <a:xfrm>
                    <a:off x="2461680" y="4089240"/>
                    <a:ext cx="23400" cy="54720"/>
                    <a:chOff x="2461680" y="4089240"/>
                    <a:chExt cx="23400" cy="54720"/>
                  </a:xfrm>
                </p:grpSpPr>
                <p:sp>
                  <p:nvSpPr>
                    <p:cNvPr id="365" name=""/>
                    <p:cNvSpPr/>
                    <p:nvPr/>
                  </p:nvSpPr>
                  <p:spPr>
                    <a:xfrm>
                      <a:off x="2461680" y="4099680"/>
                      <a:ext cx="22680" cy="424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" bIns="-4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6" name=""/>
                    <p:cNvSpPr/>
                    <p:nvPr/>
                  </p:nvSpPr>
                  <p:spPr>
                    <a:xfrm>
                      <a:off x="2461680" y="4101840"/>
                      <a:ext cx="2880" cy="4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7" name=""/>
                    <p:cNvSpPr/>
                    <p:nvPr/>
                  </p:nvSpPr>
                  <p:spPr>
                    <a:xfrm>
                      <a:off x="2463840" y="4110120"/>
                      <a:ext cx="21240" cy="3348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8" name=""/>
                    <p:cNvSpPr/>
                    <p:nvPr/>
                  </p:nvSpPr>
                  <p:spPr>
                    <a:xfrm>
                      <a:off x="2461680" y="4101840"/>
                      <a:ext cx="23400" cy="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9" name=""/>
                    <p:cNvSpPr/>
                    <p:nvPr/>
                  </p:nvSpPr>
                  <p:spPr>
                    <a:xfrm>
                      <a:off x="2463120" y="4089240"/>
                      <a:ext cx="288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0" name=""/>
                    <p:cNvSpPr/>
                    <p:nvPr/>
                  </p:nvSpPr>
                  <p:spPr>
                    <a:xfrm>
                      <a:off x="2480040" y="4089240"/>
                      <a:ext cx="216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71" name=""/>
                  <p:cNvSpPr/>
                  <p:nvPr/>
                </p:nvSpPr>
                <p:spPr>
                  <a:xfrm>
                    <a:off x="2468880" y="4119480"/>
                    <a:ext cx="12960" cy="187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2" name=""/>
                <p:cNvGrpSpPr/>
                <p:nvPr/>
              </p:nvGrpSpPr>
              <p:grpSpPr>
                <a:xfrm>
                  <a:off x="2494800" y="4089240"/>
                  <a:ext cx="23040" cy="54720"/>
                  <a:chOff x="2494800" y="4089240"/>
                  <a:chExt cx="23040" cy="54720"/>
                </a:xfrm>
              </p:grpSpPr>
              <p:grpSp>
                <p:nvGrpSpPr>
                  <p:cNvPr id="373" name=""/>
                  <p:cNvGrpSpPr/>
                  <p:nvPr/>
                </p:nvGrpSpPr>
                <p:grpSpPr>
                  <a:xfrm>
                    <a:off x="2494800" y="4089240"/>
                    <a:ext cx="23040" cy="54720"/>
                    <a:chOff x="2494800" y="4089240"/>
                    <a:chExt cx="23040" cy="54720"/>
                  </a:xfrm>
                </p:grpSpPr>
                <p:sp>
                  <p:nvSpPr>
                    <p:cNvPr id="374" name=""/>
                    <p:cNvSpPr/>
                    <p:nvPr/>
                  </p:nvSpPr>
                  <p:spPr>
                    <a:xfrm>
                      <a:off x="2494800" y="4099680"/>
                      <a:ext cx="22320" cy="424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" bIns="-4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5" name=""/>
                    <p:cNvSpPr/>
                    <p:nvPr/>
                  </p:nvSpPr>
                  <p:spPr>
                    <a:xfrm>
                      <a:off x="2494800" y="4101840"/>
                      <a:ext cx="2880" cy="4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6" name=""/>
                    <p:cNvSpPr/>
                    <p:nvPr/>
                  </p:nvSpPr>
                  <p:spPr>
                    <a:xfrm>
                      <a:off x="2496960" y="4110120"/>
                      <a:ext cx="20880" cy="3348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7" name=""/>
                    <p:cNvSpPr/>
                    <p:nvPr/>
                  </p:nvSpPr>
                  <p:spPr>
                    <a:xfrm>
                      <a:off x="2494800" y="4101840"/>
                      <a:ext cx="23040" cy="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8" name=""/>
                    <p:cNvSpPr/>
                    <p:nvPr/>
                  </p:nvSpPr>
                  <p:spPr>
                    <a:xfrm>
                      <a:off x="2496240" y="4089240"/>
                      <a:ext cx="252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9" name=""/>
                    <p:cNvSpPr/>
                    <p:nvPr/>
                  </p:nvSpPr>
                  <p:spPr>
                    <a:xfrm>
                      <a:off x="2512800" y="4089240"/>
                      <a:ext cx="216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80" name=""/>
                  <p:cNvSpPr/>
                  <p:nvPr/>
                </p:nvSpPr>
                <p:spPr>
                  <a:xfrm>
                    <a:off x="2502000" y="4119480"/>
                    <a:ext cx="12600" cy="187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1" name=""/>
                <p:cNvGrpSpPr/>
                <p:nvPr/>
              </p:nvGrpSpPr>
              <p:grpSpPr>
                <a:xfrm>
                  <a:off x="2527200" y="4089240"/>
                  <a:ext cx="23040" cy="54720"/>
                  <a:chOff x="2527200" y="4089240"/>
                  <a:chExt cx="23040" cy="54720"/>
                </a:xfrm>
              </p:grpSpPr>
              <p:grpSp>
                <p:nvGrpSpPr>
                  <p:cNvPr id="382" name=""/>
                  <p:cNvGrpSpPr/>
                  <p:nvPr/>
                </p:nvGrpSpPr>
                <p:grpSpPr>
                  <a:xfrm>
                    <a:off x="2527200" y="4089240"/>
                    <a:ext cx="23040" cy="54720"/>
                    <a:chOff x="2527200" y="4089240"/>
                    <a:chExt cx="23040" cy="54720"/>
                  </a:xfrm>
                </p:grpSpPr>
                <p:sp>
                  <p:nvSpPr>
                    <p:cNvPr id="383" name=""/>
                    <p:cNvSpPr/>
                    <p:nvPr/>
                  </p:nvSpPr>
                  <p:spPr>
                    <a:xfrm>
                      <a:off x="2527200" y="4099680"/>
                      <a:ext cx="22320" cy="424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" bIns="-4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4" name=""/>
                    <p:cNvSpPr/>
                    <p:nvPr/>
                  </p:nvSpPr>
                  <p:spPr>
                    <a:xfrm>
                      <a:off x="2527200" y="4101840"/>
                      <a:ext cx="2880" cy="4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5" name=""/>
                    <p:cNvSpPr/>
                    <p:nvPr/>
                  </p:nvSpPr>
                  <p:spPr>
                    <a:xfrm>
                      <a:off x="2529360" y="4110120"/>
                      <a:ext cx="20880" cy="3348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6" name=""/>
                    <p:cNvSpPr/>
                    <p:nvPr/>
                  </p:nvSpPr>
                  <p:spPr>
                    <a:xfrm>
                      <a:off x="2527200" y="4101840"/>
                      <a:ext cx="23040" cy="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2528640" y="4089240"/>
                      <a:ext cx="252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2545200" y="4089240"/>
                      <a:ext cx="216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89" name=""/>
                  <p:cNvSpPr/>
                  <p:nvPr/>
                </p:nvSpPr>
                <p:spPr>
                  <a:xfrm>
                    <a:off x="2534400" y="4119480"/>
                    <a:ext cx="12600" cy="187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0" name=""/>
                <p:cNvGrpSpPr/>
                <p:nvPr/>
              </p:nvGrpSpPr>
              <p:grpSpPr>
                <a:xfrm>
                  <a:off x="2560320" y="4089240"/>
                  <a:ext cx="23040" cy="54720"/>
                  <a:chOff x="2560320" y="4089240"/>
                  <a:chExt cx="23040" cy="54720"/>
                </a:xfrm>
              </p:grpSpPr>
              <p:grpSp>
                <p:nvGrpSpPr>
                  <p:cNvPr id="391" name=""/>
                  <p:cNvGrpSpPr/>
                  <p:nvPr/>
                </p:nvGrpSpPr>
                <p:grpSpPr>
                  <a:xfrm>
                    <a:off x="2560320" y="4089240"/>
                    <a:ext cx="23040" cy="54720"/>
                    <a:chOff x="2560320" y="4089240"/>
                    <a:chExt cx="23040" cy="54720"/>
                  </a:xfrm>
                </p:grpSpPr>
                <p:sp>
                  <p:nvSpPr>
                    <p:cNvPr id="392" name=""/>
                    <p:cNvSpPr/>
                    <p:nvPr/>
                  </p:nvSpPr>
                  <p:spPr>
                    <a:xfrm>
                      <a:off x="2560320" y="4099680"/>
                      <a:ext cx="22320" cy="424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" bIns="-4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2560320" y="4101840"/>
                      <a:ext cx="2880" cy="4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2562480" y="4110120"/>
                      <a:ext cx="20880" cy="3348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5" name=""/>
                    <p:cNvSpPr/>
                    <p:nvPr/>
                  </p:nvSpPr>
                  <p:spPr>
                    <a:xfrm>
                      <a:off x="2560320" y="4101840"/>
                      <a:ext cx="23040" cy="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2561760" y="4089240"/>
                      <a:ext cx="252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2578320" y="4089240"/>
                      <a:ext cx="216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98" name=""/>
                  <p:cNvSpPr/>
                  <p:nvPr/>
                </p:nvSpPr>
                <p:spPr>
                  <a:xfrm>
                    <a:off x="2567520" y="4119480"/>
                    <a:ext cx="12600" cy="187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99" name=""/>
              <p:cNvGrpSpPr/>
              <p:nvPr/>
            </p:nvGrpSpPr>
            <p:grpSpPr>
              <a:xfrm>
                <a:off x="2777040" y="4082400"/>
                <a:ext cx="186480" cy="54720"/>
                <a:chOff x="2777040" y="4082400"/>
                <a:chExt cx="186480" cy="54720"/>
              </a:xfrm>
            </p:grpSpPr>
            <p:grpSp>
              <p:nvGrpSpPr>
                <p:cNvPr id="400" name=""/>
                <p:cNvGrpSpPr/>
                <p:nvPr/>
              </p:nvGrpSpPr>
              <p:grpSpPr>
                <a:xfrm>
                  <a:off x="2777040" y="4082400"/>
                  <a:ext cx="23040" cy="54720"/>
                  <a:chOff x="2777040" y="4082400"/>
                  <a:chExt cx="23040" cy="54720"/>
                </a:xfrm>
              </p:grpSpPr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777040" y="4082400"/>
                    <a:ext cx="23040" cy="54720"/>
                    <a:chOff x="2777040" y="4082400"/>
                    <a:chExt cx="23040" cy="5472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777040" y="4092840"/>
                      <a:ext cx="22320" cy="424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" bIns="-4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777040" y="4095000"/>
                      <a:ext cx="2880" cy="4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4" name=""/>
                    <p:cNvSpPr/>
                    <p:nvPr/>
                  </p:nvSpPr>
                  <p:spPr>
                    <a:xfrm>
                      <a:off x="2779200" y="4103280"/>
                      <a:ext cx="20880" cy="3348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2777040" y="4095000"/>
                      <a:ext cx="23040" cy="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2778480" y="4082400"/>
                      <a:ext cx="252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7" name=""/>
                    <p:cNvSpPr/>
                    <p:nvPr/>
                  </p:nvSpPr>
                  <p:spPr>
                    <a:xfrm>
                      <a:off x="2795040" y="4082400"/>
                      <a:ext cx="216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08" name=""/>
                  <p:cNvSpPr/>
                  <p:nvPr/>
                </p:nvSpPr>
                <p:spPr>
                  <a:xfrm>
                    <a:off x="2784240" y="4112640"/>
                    <a:ext cx="12600" cy="187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9" name=""/>
                <p:cNvGrpSpPr/>
                <p:nvPr/>
              </p:nvGrpSpPr>
              <p:grpSpPr>
                <a:xfrm>
                  <a:off x="2809440" y="4082400"/>
                  <a:ext cx="23040" cy="54720"/>
                  <a:chOff x="2809440" y="4082400"/>
                  <a:chExt cx="23040" cy="54720"/>
                </a:xfrm>
              </p:grpSpPr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2809440" y="4082400"/>
                    <a:ext cx="23040" cy="54720"/>
                    <a:chOff x="2809440" y="4082400"/>
                    <a:chExt cx="23040" cy="5472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2809440" y="4092840"/>
                      <a:ext cx="22320" cy="424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" bIns="-4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2809440" y="4095000"/>
                      <a:ext cx="2880" cy="4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3" name=""/>
                    <p:cNvSpPr/>
                    <p:nvPr/>
                  </p:nvSpPr>
                  <p:spPr>
                    <a:xfrm>
                      <a:off x="2811600" y="4103280"/>
                      <a:ext cx="20880" cy="3348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09440" y="4095000"/>
                      <a:ext cx="23040" cy="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10880" y="4082400"/>
                      <a:ext cx="252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6" name=""/>
                    <p:cNvSpPr/>
                    <p:nvPr/>
                  </p:nvSpPr>
                  <p:spPr>
                    <a:xfrm>
                      <a:off x="2827440" y="4082400"/>
                      <a:ext cx="216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17" name=""/>
                  <p:cNvSpPr/>
                  <p:nvPr/>
                </p:nvSpPr>
                <p:spPr>
                  <a:xfrm>
                    <a:off x="2816640" y="4112640"/>
                    <a:ext cx="12600" cy="187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8" name=""/>
                <p:cNvGrpSpPr/>
                <p:nvPr/>
              </p:nvGrpSpPr>
              <p:grpSpPr>
                <a:xfrm>
                  <a:off x="2841840" y="4082400"/>
                  <a:ext cx="23400" cy="54720"/>
                  <a:chOff x="2841840" y="4082400"/>
                  <a:chExt cx="23400" cy="54720"/>
                </a:xfrm>
              </p:grpSpPr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2841840" y="4082400"/>
                    <a:ext cx="23400" cy="54720"/>
                    <a:chOff x="2841840" y="4082400"/>
                    <a:chExt cx="23400" cy="5472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2841840" y="4092840"/>
                      <a:ext cx="22680" cy="424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" bIns="-4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2841840" y="4095000"/>
                      <a:ext cx="2880" cy="4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2" name=""/>
                    <p:cNvSpPr/>
                    <p:nvPr/>
                  </p:nvSpPr>
                  <p:spPr>
                    <a:xfrm>
                      <a:off x="2844000" y="4103280"/>
                      <a:ext cx="21240" cy="3348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2841840" y="4095000"/>
                      <a:ext cx="23400" cy="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2843280" y="4082400"/>
                      <a:ext cx="288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5" name=""/>
                    <p:cNvSpPr/>
                    <p:nvPr/>
                  </p:nvSpPr>
                  <p:spPr>
                    <a:xfrm>
                      <a:off x="2860200" y="4082400"/>
                      <a:ext cx="216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26" name=""/>
                  <p:cNvSpPr/>
                  <p:nvPr/>
                </p:nvSpPr>
                <p:spPr>
                  <a:xfrm>
                    <a:off x="2849040" y="4112640"/>
                    <a:ext cx="12960" cy="187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7" name=""/>
                <p:cNvGrpSpPr/>
                <p:nvPr/>
              </p:nvGrpSpPr>
              <p:grpSpPr>
                <a:xfrm>
                  <a:off x="2874960" y="4082400"/>
                  <a:ext cx="23040" cy="54720"/>
                  <a:chOff x="2874960" y="4082400"/>
                  <a:chExt cx="23040" cy="54720"/>
                </a:xfrm>
              </p:grpSpPr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2874960" y="4082400"/>
                    <a:ext cx="23040" cy="54720"/>
                    <a:chOff x="2874960" y="4082400"/>
                    <a:chExt cx="23040" cy="547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2874960" y="4092840"/>
                      <a:ext cx="22320" cy="424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" bIns="-4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2874960" y="4095000"/>
                      <a:ext cx="2880" cy="4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1" name=""/>
                    <p:cNvSpPr/>
                    <p:nvPr/>
                  </p:nvSpPr>
                  <p:spPr>
                    <a:xfrm>
                      <a:off x="2877120" y="4103280"/>
                      <a:ext cx="20880" cy="3348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2874960" y="4095000"/>
                      <a:ext cx="23040" cy="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2876400" y="4082400"/>
                      <a:ext cx="252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4" name=""/>
                    <p:cNvSpPr/>
                    <p:nvPr/>
                  </p:nvSpPr>
                  <p:spPr>
                    <a:xfrm>
                      <a:off x="2892960" y="4082400"/>
                      <a:ext cx="216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35" name=""/>
                  <p:cNvSpPr/>
                  <p:nvPr/>
                </p:nvSpPr>
                <p:spPr>
                  <a:xfrm>
                    <a:off x="2882160" y="4112640"/>
                    <a:ext cx="12600" cy="187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6" name=""/>
                <p:cNvGrpSpPr/>
                <p:nvPr/>
              </p:nvGrpSpPr>
              <p:grpSpPr>
                <a:xfrm>
                  <a:off x="2907360" y="4082400"/>
                  <a:ext cx="23040" cy="54720"/>
                  <a:chOff x="2907360" y="4082400"/>
                  <a:chExt cx="23040" cy="54720"/>
                </a:xfrm>
              </p:grpSpPr>
              <p:grpSp>
                <p:nvGrpSpPr>
                  <p:cNvPr id="437" name=""/>
                  <p:cNvGrpSpPr/>
                  <p:nvPr/>
                </p:nvGrpSpPr>
                <p:grpSpPr>
                  <a:xfrm>
                    <a:off x="2907360" y="4082400"/>
                    <a:ext cx="23040" cy="54720"/>
                    <a:chOff x="2907360" y="4082400"/>
                    <a:chExt cx="23040" cy="54720"/>
                  </a:xfrm>
                </p:grpSpPr>
                <p:sp>
                  <p:nvSpPr>
                    <p:cNvPr id="438" name=""/>
                    <p:cNvSpPr/>
                    <p:nvPr/>
                  </p:nvSpPr>
                  <p:spPr>
                    <a:xfrm>
                      <a:off x="2907360" y="4092840"/>
                      <a:ext cx="22320" cy="424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" bIns="-4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9" name=""/>
                    <p:cNvSpPr/>
                    <p:nvPr/>
                  </p:nvSpPr>
                  <p:spPr>
                    <a:xfrm>
                      <a:off x="2907360" y="4095000"/>
                      <a:ext cx="2880" cy="4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0" name=""/>
                    <p:cNvSpPr/>
                    <p:nvPr/>
                  </p:nvSpPr>
                  <p:spPr>
                    <a:xfrm>
                      <a:off x="2909520" y="4103280"/>
                      <a:ext cx="20880" cy="3348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1" name=""/>
                    <p:cNvSpPr/>
                    <p:nvPr/>
                  </p:nvSpPr>
                  <p:spPr>
                    <a:xfrm>
                      <a:off x="2907360" y="4095000"/>
                      <a:ext cx="23040" cy="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2" name=""/>
                    <p:cNvSpPr/>
                    <p:nvPr/>
                  </p:nvSpPr>
                  <p:spPr>
                    <a:xfrm>
                      <a:off x="2908800" y="4082400"/>
                      <a:ext cx="252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3" name=""/>
                    <p:cNvSpPr/>
                    <p:nvPr/>
                  </p:nvSpPr>
                  <p:spPr>
                    <a:xfrm>
                      <a:off x="2925360" y="4082400"/>
                      <a:ext cx="216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44" name=""/>
                  <p:cNvSpPr/>
                  <p:nvPr/>
                </p:nvSpPr>
                <p:spPr>
                  <a:xfrm>
                    <a:off x="2914560" y="4112640"/>
                    <a:ext cx="12600" cy="187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5" name=""/>
                <p:cNvGrpSpPr/>
                <p:nvPr/>
              </p:nvGrpSpPr>
              <p:grpSpPr>
                <a:xfrm>
                  <a:off x="2940480" y="4082400"/>
                  <a:ext cx="23040" cy="54720"/>
                  <a:chOff x="2940480" y="4082400"/>
                  <a:chExt cx="23040" cy="54720"/>
                </a:xfrm>
              </p:grpSpPr>
              <p:grpSp>
                <p:nvGrpSpPr>
                  <p:cNvPr id="446" name=""/>
                  <p:cNvGrpSpPr/>
                  <p:nvPr/>
                </p:nvGrpSpPr>
                <p:grpSpPr>
                  <a:xfrm>
                    <a:off x="2940480" y="4082400"/>
                    <a:ext cx="23040" cy="54720"/>
                    <a:chOff x="2940480" y="4082400"/>
                    <a:chExt cx="23040" cy="54720"/>
                  </a:xfrm>
                </p:grpSpPr>
                <p:sp>
                  <p:nvSpPr>
                    <p:cNvPr id="447" name=""/>
                    <p:cNvSpPr/>
                    <p:nvPr/>
                  </p:nvSpPr>
                  <p:spPr>
                    <a:xfrm>
                      <a:off x="2940480" y="4092840"/>
                      <a:ext cx="22320" cy="424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" bIns="-4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8" name=""/>
                    <p:cNvSpPr/>
                    <p:nvPr/>
                  </p:nvSpPr>
                  <p:spPr>
                    <a:xfrm>
                      <a:off x="2940480" y="4095000"/>
                      <a:ext cx="2880" cy="4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9" name=""/>
                    <p:cNvSpPr/>
                    <p:nvPr/>
                  </p:nvSpPr>
                  <p:spPr>
                    <a:xfrm>
                      <a:off x="2942640" y="4103280"/>
                      <a:ext cx="20880" cy="3348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0" name=""/>
                    <p:cNvSpPr/>
                    <p:nvPr/>
                  </p:nvSpPr>
                  <p:spPr>
                    <a:xfrm>
                      <a:off x="2940480" y="4095000"/>
                      <a:ext cx="23040" cy="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1" name=""/>
                    <p:cNvSpPr/>
                    <p:nvPr/>
                  </p:nvSpPr>
                  <p:spPr>
                    <a:xfrm>
                      <a:off x="2941920" y="4082400"/>
                      <a:ext cx="252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2" name=""/>
                    <p:cNvSpPr/>
                    <p:nvPr/>
                  </p:nvSpPr>
                  <p:spPr>
                    <a:xfrm>
                      <a:off x="2958480" y="4082400"/>
                      <a:ext cx="216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53" name=""/>
                  <p:cNvSpPr/>
                  <p:nvPr/>
                </p:nvSpPr>
                <p:spPr>
                  <a:xfrm>
                    <a:off x="2947680" y="4112640"/>
                    <a:ext cx="12600" cy="187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454" name="" descr=""/>
          <p:cNvPicPr/>
          <p:nvPr/>
        </p:nvPicPr>
        <p:blipFill>
          <a:blip r:embed="rId4"/>
          <a:stretch/>
        </p:blipFill>
        <p:spPr>
          <a:xfrm>
            <a:off x="1143000" y="2209680"/>
            <a:ext cx="652320" cy="114300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5"/>
          <a:stretch/>
        </p:blipFill>
        <p:spPr>
          <a:xfrm>
            <a:off x="1219320" y="3809880"/>
            <a:ext cx="652320" cy="114300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3124080" y="3809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191120" y="38098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" y="685800"/>
            <a:ext cx="185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dore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lic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489640" y="3276720"/>
            <a:ext cx="170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A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31520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068240" y="1981080"/>
            <a:ext cx="207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owser con so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 JAV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676520" y="281952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1828800" y="403812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066680" y="182880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/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26800" y="3429000"/>
            <a:ext cx="200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nix Carácter/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6"/>
          <a:stretch/>
        </p:blipFill>
        <p:spPr>
          <a:xfrm>
            <a:off x="1219320" y="5486400"/>
            <a:ext cx="652320" cy="11430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 flipV="1">
            <a:off x="1828800" y="4114440"/>
            <a:ext cx="91440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219320" y="510552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350880" y="251460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ant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067280" y="1855800"/>
            <a:ext cx="3168720" cy="493560"/>
          </a:xfrm>
          <a:custGeom>
            <a:avLst/>
            <a:gdLst/>
            <a:ahLst/>
            <a:rect l="l" t="t" r="r" b="b"/>
            <a:pathLst>
              <a:path w="1996" h="311">
                <a:moveTo>
                  <a:pt x="0" y="311"/>
                </a:moveTo>
                <a:cubicBezTo>
                  <a:pt x="242" y="193"/>
                  <a:pt x="484" y="76"/>
                  <a:pt x="817" y="38"/>
                </a:cubicBezTo>
                <a:cubicBezTo>
                  <a:pt x="1150" y="0"/>
                  <a:pt x="1800" y="76"/>
                  <a:pt x="1996" y="84"/>
                </a:cubicBezTo>
              </a:path>
            </a:pathLst>
          </a:custGeom>
          <a:noFill/>
          <a:ln w="9360">
            <a:solidFill>
              <a:srgbClr val="ff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914000" y="143352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835280" y="2565360"/>
            <a:ext cx="1512720" cy="1006560"/>
          </a:xfrm>
          <a:custGeom>
            <a:avLst/>
            <a:gdLst/>
            <a:ahLst/>
            <a:rect l="l" t="t" r="r" b="b"/>
            <a:pathLst>
              <a:path w="953" h="634">
                <a:moveTo>
                  <a:pt x="953" y="272"/>
                </a:moveTo>
                <a:cubicBezTo>
                  <a:pt x="919" y="453"/>
                  <a:pt x="885" y="634"/>
                  <a:pt x="726" y="589"/>
                </a:cubicBezTo>
                <a:cubicBezTo>
                  <a:pt x="567" y="544"/>
                  <a:pt x="121" y="9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124000" y="4076640"/>
            <a:ext cx="1511280" cy="1584360"/>
          </a:xfrm>
          <a:custGeom>
            <a:avLst/>
            <a:gdLst/>
            <a:ahLst/>
            <a:rect l="l" t="t" r="r" b="b"/>
            <a:pathLst>
              <a:path w="952" h="998">
                <a:moveTo>
                  <a:pt x="0" y="998"/>
                </a:moveTo>
                <a:cubicBezTo>
                  <a:pt x="147" y="718"/>
                  <a:pt x="294" y="438"/>
                  <a:pt x="453" y="272"/>
                </a:cubicBezTo>
                <a:cubicBezTo>
                  <a:pt x="612" y="106"/>
                  <a:pt x="869" y="45"/>
                  <a:pt x="952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460600" y="5394240"/>
            <a:ext cx="514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cia atrás habla protocolos como RDP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, telnet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SQUEMA TARANTEL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" descr="Diagram of the Secure Global Desktop web services architecture"/>
          <p:cNvPicPr/>
          <p:nvPr/>
        </p:nvPicPr>
        <p:blipFill>
          <a:blip r:embed="rId1"/>
          <a:stretch/>
        </p:blipFill>
        <p:spPr>
          <a:xfrm>
            <a:off x="468360" y="492120"/>
            <a:ext cx="8280360" cy="62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LIENTE LIVIANO BASADO EN H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4920" y="609120"/>
            <a:ext cx="853416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quina con recursos “limitados” orientada solo a la interface de usuar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eneralmente no pueden trabajar de forma independ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jemplo: Sun Ray de SunMicro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28600" y="838080"/>
            <a:ext cx="85345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SUN R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4920" y="533160"/>
            <a:ext cx="85341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erminales con soporte de video (modo gráfico, teclado, mouse, multimedia, tarjeta intelig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Sun Ray requiere enlaces dedicados de 100 Mbps (suiche) para operar de la mejor forma con aplicaciones multimed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28600" y="838080"/>
            <a:ext cx="85345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4800600" y="2971800"/>
            <a:ext cx="4114800" cy="307512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The Sun Ray 1 appliance ships with keyboard and mouse."/>
          <p:cNvPicPr/>
          <p:nvPr/>
        </p:nvPicPr>
        <p:blipFill>
          <a:blip r:embed="rId2"/>
          <a:stretch/>
        </p:blipFill>
        <p:spPr>
          <a:xfrm>
            <a:off x="0" y="3657600"/>
            <a:ext cx="457200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EMULACION DE TERMI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762120"/>
            <a:ext cx="85341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icialmente permiten “emular” una terminal de caracteres (video y teclado) de un sistema de tiempo compartido tipo UNIX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ener en cuenta que como el servicio lo indica, se trata de “emular” el hardware original y por tanto puede que toda la funcionalidad (teclas, efectos de video, etc) no corresponda o sea parcialmente  implementada (archivo termcap o terminf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general consumen bajo ancho de band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peran bien sobr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emplo: TELNET, rlogin, s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SUN R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4920" y="533520"/>
            <a:ext cx="85341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servidor ve los dispositivos de entrada y salida remotos, mediante drivers virtula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28600" y="838080"/>
            <a:ext cx="85345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8076960" cy="465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SUN RAY CON NT/W2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Sun Ray ejecuta el cliente ICA a través del cual corre aplicativos Wi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28600" y="838080"/>
            <a:ext cx="85345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925040" cy="506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SITIOS DE INTE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04920" y="609120"/>
            <a:ext cx="853416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rdesktop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TELN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5335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mulación de terminal orientada a carác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asada en TCP, puerto 23 (telnet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soportan diversos tipos de terminal como: ansi, vt100, vt220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el sistema accedido se indica el tipo con la variable TE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secuencias de cada terminal residen en /etc/termcap (en ascii) o /usr/lib/terminfo (compila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esquemas seguros se recomienda ssh. Telnet es insegu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ablecer una sesión Telnet a un puerto X, es la manera más sencilla de crear una conexión T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6248520" y="5105520"/>
          <a:ext cx="65232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5105520"/>
                    <a:ext cx="6523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828800" y="5791320"/>
            <a:ext cx="633240" cy="5443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676520" y="662940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553080" y="6248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57400" y="6324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67280" y="4267080"/>
            <a:ext cx="121932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21360" y="4419720"/>
            <a:ext cx="861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TEL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600200" y="4876920"/>
            <a:ext cx="929520" cy="914400"/>
            <a:chOff x="1600200" y="4876920"/>
            <a:chExt cx="929520" cy="914400"/>
          </a:xfrm>
        </p:grpSpPr>
        <p:sp>
          <p:nvSpPr>
            <p:cNvPr id="61" name=""/>
            <p:cNvSpPr/>
            <p:nvPr/>
          </p:nvSpPr>
          <p:spPr>
            <a:xfrm>
              <a:off x="1600200" y="4876920"/>
              <a:ext cx="914400" cy="914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15480" y="5087880"/>
              <a:ext cx="7142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Arial"/>
                </a:rPr>
                <a:t>TELN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Arial"/>
                </a:rPr>
                <a:t>CLIEN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895480" y="609588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69400" y="5751360"/>
            <a:ext cx="66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l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047760" y="647712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664080" y="6172200"/>
            <a:ext cx="116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deo (carác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login/rs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OJO: Se recomienda evitar su uso por insegu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rlogin/rlogind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ermite emulación similar a Telnet pero usa equivalencias mediante el archivo .rhosts y/o /etc/hosts.equiv, para evitar el proceso de log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transporte es UDP en vez de TC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rsh/rsh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utentica con .rhosts y /etc/hosts.equiv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uerto: 514 (TC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servidor verifica que la conexión se haga con puerto fuente entre 512 y 102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Ssh (Secure Shel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533520"/>
            <a:ext cx="853452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una suite que permite entre otras cosas: emular terminal, transferir archivos, creación de túneles; todo bajo un esquema seguro ya que maneja autenticación, encripción e integr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rea llaves simetricas que almacena en el directorio .ss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oporta subsistemas. Por ejemplo SCP o SFT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isponible e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mercial: </a:t>
            </a:r>
            <a:r>
              <a:rPr b="0" lang="es-ES_tradnl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ssh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re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openssh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</a:t>
            </a:r>
            <a:r>
              <a:rPr b="0" lang="es-ES_tradnl" sz="2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www.zip.com.au</a:t>
            </a:r>
            <a:r>
              <a:rPr b="0" lang="es-ES_tradnl" sz="2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/~roca/</a:t>
            </a:r>
            <a:r>
              <a:rPr b="0" lang="es-ES_tradnl" sz="28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ttssh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uerto: 22 UDP/TC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jecución de comandos remotos. Eje: ssh 10.1.0.1 d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s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os versiones incompatibles pero muchas veces soportadas por el mismo produc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SH1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a RSA, BlowFish, IDEA (default), 3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utenticación: .rhosts, RSA, pass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SH2 (Recomendado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a: DSA, DiffieHellman, Blowfish, 3DES (default), CAST128, 128AES, 256A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tegridad con: HMAC-SHA1, HMAC-MD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utenticación: Llave publica, Challenge-Response, Password convenc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porta crear pseudotty, conexiones X11, túneles TCP y túneles a agentes de autent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s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4000" y="475920"/>
            <a:ext cx="8534160" cy="638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rchivos de llaves: /etc/s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rchivos de configurac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920" indent="-285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/etc/ssh/ssh_config: Cliente s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920" indent="-285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/etc/ssh/sshd_config: Servidor s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920" indent="-285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$HOME/.ssh/conf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920" indent="-285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s llaves publicas utilizadas por el servidor son almacenadas en  ~/.ssh2/authorization. En archivo.pub queda cada llave.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s llaves publicas de los servidores a los que el cliente se conecta son almacenadas en el archivo known_hosts2 en el directorio del aplicativo o en $HOME/.ss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ra obtener el fingerprint asociado a una llave en el servidor ejecutar el comand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sh-keygen –l –f /etc/ssh/nombredearchivoconllavepub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Túneles s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4000" y="765000"/>
            <a:ext cx="8534160" cy="14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cliente 100.8.8.8 creo túnel ssh así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sh -N -f –L  4000:200.1.1.1:110 200.1.1.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l subir el cliente de pop3 digo que se conecte al puerto local 4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751040" y="5267160"/>
          <a:ext cx="65232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1040" y="5267160"/>
                    <a:ext cx="6523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3492360" y="4869000"/>
            <a:ext cx="2590920" cy="1676160"/>
          </a:xfrm>
          <a:custGeom>
            <a:avLst/>
            <a:gdLst/>
            <a:ahLst/>
            <a:rect l="l" t="t" r="r" b="b"/>
            <a:pathLst>
              <a:path w="913" h="576">
                <a:moveTo>
                  <a:pt x="421" y="76"/>
                </a:moveTo>
                <a:lnTo>
                  <a:pt x="400" y="71"/>
                </a:lnTo>
                <a:lnTo>
                  <a:pt x="371" y="64"/>
                </a:lnTo>
                <a:lnTo>
                  <a:pt x="347" y="63"/>
                </a:lnTo>
                <a:lnTo>
                  <a:pt x="321" y="65"/>
                </a:lnTo>
                <a:lnTo>
                  <a:pt x="302" y="68"/>
                </a:lnTo>
                <a:lnTo>
                  <a:pt x="284" y="73"/>
                </a:lnTo>
                <a:lnTo>
                  <a:pt x="263" y="81"/>
                </a:lnTo>
                <a:lnTo>
                  <a:pt x="244" y="91"/>
                </a:lnTo>
                <a:lnTo>
                  <a:pt x="225" y="105"/>
                </a:lnTo>
                <a:lnTo>
                  <a:pt x="206" y="123"/>
                </a:lnTo>
                <a:lnTo>
                  <a:pt x="193" y="140"/>
                </a:lnTo>
                <a:lnTo>
                  <a:pt x="184" y="155"/>
                </a:lnTo>
                <a:lnTo>
                  <a:pt x="176" y="172"/>
                </a:lnTo>
                <a:lnTo>
                  <a:pt x="171" y="194"/>
                </a:lnTo>
                <a:lnTo>
                  <a:pt x="154" y="189"/>
                </a:lnTo>
                <a:lnTo>
                  <a:pt x="135" y="186"/>
                </a:lnTo>
                <a:lnTo>
                  <a:pt x="118" y="186"/>
                </a:lnTo>
                <a:lnTo>
                  <a:pt x="100" y="190"/>
                </a:lnTo>
                <a:lnTo>
                  <a:pt x="84" y="197"/>
                </a:lnTo>
                <a:lnTo>
                  <a:pt x="68" y="204"/>
                </a:lnTo>
                <a:lnTo>
                  <a:pt x="51" y="219"/>
                </a:lnTo>
                <a:lnTo>
                  <a:pt x="42" y="230"/>
                </a:lnTo>
                <a:lnTo>
                  <a:pt x="30" y="243"/>
                </a:lnTo>
                <a:lnTo>
                  <a:pt x="20" y="258"/>
                </a:lnTo>
                <a:lnTo>
                  <a:pt x="12" y="279"/>
                </a:lnTo>
                <a:lnTo>
                  <a:pt x="6" y="298"/>
                </a:lnTo>
                <a:lnTo>
                  <a:pt x="2" y="318"/>
                </a:lnTo>
                <a:lnTo>
                  <a:pt x="1" y="333"/>
                </a:lnTo>
                <a:lnTo>
                  <a:pt x="0" y="349"/>
                </a:lnTo>
                <a:lnTo>
                  <a:pt x="1" y="368"/>
                </a:lnTo>
                <a:lnTo>
                  <a:pt x="3" y="385"/>
                </a:lnTo>
                <a:lnTo>
                  <a:pt x="7" y="402"/>
                </a:lnTo>
                <a:lnTo>
                  <a:pt x="12" y="418"/>
                </a:lnTo>
                <a:lnTo>
                  <a:pt x="20" y="436"/>
                </a:lnTo>
                <a:lnTo>
                  <a:pt x="30" y="454"/>
                </a:lnTo>
                <a:lnTo>
                  <a:pt x="42" y="468"/>
                </a:lnTo>
                <a:lnTo>
                  <a:pt x="56" y="482"/>
                </a:lnTo>
                <a:lnTo>
                  <a:pt x="72" y="493"/>
                </a:lnTo>
                <a:lnTo>
                  <a:pt x="85" y="500"/>
                </a:lnTo>
                <a:lnTo>
                  <a:pt x="98" y="504"/>
                </a:lnTo>
                <a:lnTo>
                  <a:pt x="113" y="509"/>
                </a:lnTo>
                <a:lnTo>
                  <a:pt x="128" y="509"/>
                </a:lnTo>
                <a:lnTo>
                  <a:pt x="145" y="509"/>
                </a:lnTo>
                <a:lnTo>
                  <a:pt x="161" y="506"/>
                </a:lnTo>
                <a:lnTo>
                  <a:pt x="174" y="502"/>
                </a:lnTo>
                <a:lnTo>
                  <a:pt x="182" y="498"/>
                </a:lnTo>
                <a:lnTo>
                  <a:pt x="191" y="511"/>
                </a:lnTo>
                <a:lnTo>
                  <a:pt x="204" y="522"/>
                </a:lnTo>
                <a:lnTo>
                  <a:pt x="217" y="533"/>
                </a:lnTo>
                <a:lnTo>
                  <a:pt x="232" y="543"/>
                </a:lnTo>
                <a:lnTo>
                  <a:pt x="252" y="552"/>
                </a:lnTo>
                <a:lnTo>
                  <a:pt x="271" y="561"/>
                </a:lnTo>
                <a:lnTo>
                  <a:pt x="294" y="568"/>
                </a:lnTo>
                <a:lnTo>
                  <a:pt x="315" y="572"/>
                </a:lnTo>
                <a:lnTo>
                  <a:pt x="339" y="575"/>
                </a:lnTo>
                <a:lnTo>
                  <a:pt x="357" y="575"/>
                </a:lnTo>
                <a:lnTo>
                  <a:pt x="376" y="575"/>
                </a:lnTo>
                <a:lnTo>
                  <a:pt x="402" y="571"/>
                </a:lnTo>
                <a:lnTo>
                  <a:pt x="433" y="559"/>
                </a:lnTo>
                <a:lnTo>
                  <a:pt x="444" y="562"/>
                </a:lnTo>
                <a:lnTo>
                  <a:pt x="465" y="553"/>
                </a:lnTo>
                <a:lnTo>
                  <a:pt x="486" y="543"/>
                </a:lnTo>
                <a:lnTo>
                  <a:pt x="499" y="535"/>
                </a:lnTo>
                <a:lnTo>
                  <a:pt x="510" y="525"/>
                </a:lnTo>
                <a:lnTo>
                  <a:pt x="522" y="531"/>
                </a:lnTo>
                <a:lnTo>
                  <a:pt x="537" y="539"/>
                </a:lnTo>
                <a:lnTo>
                  <a:pt x="552" y="544"/>
                </a:lnTo>
                <a:lnTo>
                  <a:pt x="566" y="548"/>
                </a:lnTo>
                <a:lnTo>
                  <a:pt x="582" y="550"/>
                </a:lnTo>
                <a:lnTo>
                  <a:pt x="597" y="550"/>
                </a:lnTo>
                <a:lnTo>
                  <a:pt x="615" y="547"/>
                </a:lnTo>
                <a:lnTo>
                  <a:pt x="633" y="542"/>
                </a:lnTo>
                <a:lnTo>
                  <a:pt x="650" y="535"/>
                </a:lnTo>
                <a:lnTo>
                  <a:pt x="666" y="524"/>
                </a:lnTo>
                <a:lnTo>
                  <a:pt x="681" y="512"/>
                </a:lnTo>
                <a:lnTo>
                  <a:pt x="701" y="522"/>
                </a:lnTo>
                <a:lnTo>
                  <a:pt x="720" y="527"/>
                </a:lnTo>
                <a:lnTo>
                  <a:pt x="736" y="530"/>
                </a:lnTo>
                <a:lnTo>
                  <a:pt x="759" y="530"/>
                </a:lnTo>
                <a:lnTo>
                  <a:pt x="784" y="526"/>
                </a:lnTo>
                <a:lnTo>
                  <a:pt x="813" y="516"/>
                </a:lnTo>
                <a:lnTo>
                  <a:pt x="837" y="500"/>
                </a:lnTo>
                <a:lnTo>
                  <a:pt x="858" y="481"/>
                </a:lnTo>
                <a:lnTo>
                  <a:pt x="878" y="458"/>
                </a:lnTo>
                <a:lnTo>
                  <a:pt x="888" y="439"/>
                </a:lnTo>
                <a:lnTo>
                  <a:pt x="897" y="420"/>
                </a:lnTo>
                <a:lnTo>
                  <a:pt x="906" y="394"/>
                </a:lnTo>
                <a:lnTo>
                  <a:pt x="910" y="370"/>
                </a:lnTo>
                <a:lnTo>
                  <a:pt x="912" y="343"/>
                </a:lnTo>
                <a:lnTo>
                  <a:pt x="910" y="323"/>
                </a:lnTo>
                <a:lnTo>
                  <a:pt x="906" y="298"/>
                </a:lnTo>
                <a:lnTo>
                  <a:pt x="899" y="274"/>
                </a:lnTo>
                <a:lnTo>
                  <a:pt x="888" y="252"/>
                </a:lnTo>
                <a:lnTo>
                  <a:pt x="877" y="230"/>
                </a:lnTo>
                <a:lnTo>
                  <a:pt x="862" y="212"/>
                </a:lnTo>
                <a:lnTo>
                  <a:pt x="848" y="198"/>
                </a:lnTo>
                <a:lnTo>
                  <a:pt x="834" y="188"/>
                </a:lnTo>
                <a:lnTo>
                  <a:pt x="815" y="173"/>
                </a:lnTo>
                <a:lnTo>
                  <a:pt x="797" y="166"/>
                </a:lnTo>
                <a:lnTo>
                  <a:pt x="781" y="162"/>
                </a:lnTo>
                <a:lnTo>
                  <a:pt x="762" y="159"/>
                </a:lnTo>
                <a:lnTo>
                  <a:pt x="759" y="143"/>
                </a:lnTo>
                <a:lnTo>
                  <a:pt x="754" y="126"/>
                </a:lnTo>
                <a:lnTo>
                  <a:pt x="747" y="110"/>
                </a:lnTo>
                <a:lnTo>
                  <a:pt x="738" y="94"/>
                </a:lnTo>
                <a:lnTo>
                  <a:pt x="726" y="77"/>
                </a:lnTo>
                <a:lnTo>
                  <a:pt x="711" y="59"/>
                </a:lnTo>
                <a:lnTo>
                  <a:pt x="698" y="45"/>
                </a:lnTo>
                <a:lnTo>
                  <a:pt x="681" y="33"/>
                </a:lnTo>
                <a:lnTo>
                  <a:pt x="660" y="20"/>
                </a:lnTo>
                <a:lnTo>
                  <a:pt x="640" y="11"/>
                </a:lnTo>
                <a:lnTo>
                  <a:pt x="621" y="5"/>
                </a:lnTo>
                <a:lnTo>
                  <a:pt x="598" y="1"/>
                </a:lnTo>
                <a:lnTo>
                  <a:pt x="577" y="0"/>
                </a:lnTo>
                <a:lnTo>
                  <a:pt x="554" y="0"/>
                </a:lnTo>
                <a:lnTo>
                  <a:pt x="533" y="4"/>
                </a:lnTo>
                <a:lnTo>
                  <a:pt x="509" y="11"/>
                </a:lnTo>
                <a:lnTo>
                  <a:pt x="483" y="23"/>
                </a:lnTo>
                <a:lnTo>
                  <a:pt x="466" y="33"/>
                </a:lnTo>
                <a:lnTo>
                  <a:pt x="449" y="46"/>
                </a:lnTo>
                <a:lnTo>
                  <a:pt x="434" y="62"/>
                </a:lnTo>
                <a:lnTo>
                  <a:pt x="421" y="76"/>
                </a:lnTo>
              </a:path>
            </a:pathLst>
          </a:custGeom>
          <a:solidFill>
            <a:srgbClr val="4080ff"/>
          </a:solidFill>
          <a:ln cap="rnd" w="50760">
            <a:solidFill>
              <a:srgbClr val="c0e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6359400" y="4186080"/>
          <a:ext cx="804960" cy="69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59400" y="4186080"/>
                    <a:ext cx="80496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3897360" y="5646600"/>
            <a:ext cx="17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5711760" y="4797360"/>
            <a:ext cx="804960" cy="3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971640" y="3645000"/>
            <a:ext cx="1161360" cy="689400"/>
            <a:chOff x="971640" y="3645000"/>
            <a:chExt cx="1161360" cy="689400"/>
          </a:xfrm>
        </p:grpSpPr>
        <p:sp>
          <p:nvSpPr>
            <p:cNvPr id="85" name=""/>
            <p:cNvSpPr/>
            <p:nvPr/>
          </p:nvSpPr>
          <p:spPr>
            <a:xfrm>
              <a:off x="971640" y="3645000"/>
              <a:ext cx="1135440" cy="684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063800" y="3814200"/>
              <a:ext cx="1069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ERVID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O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6877080" y="2637000"/>
            <a:ext cx="992160" cy="592920"/>
            <a:chOff x="6877080" y="2637000"/>
            <a:chExt cx="992160" cy="592920"/>
          </a:xfrm>
        </p:grpSpPr>
        <p:sp>
          <p:nvSpPr>
            <p:cNvPr id="88" name=""/>
            <p:cNvSpPr/>
            <p:nvPr/>
          </p:nvSpPr>
          <p:spPr>
            <a:xfrm>
              <a:off x="6877080" y="2637000"/>
              <a:ext cx="934920" cy="576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949440" y="2709720"/>
              <a:ext cx="919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LIEN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O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5940360" y="3357720"/>
            <a:ext cx="934920" cy="592920"/>
            <a:chOff x="5940360" y="3357720"/>
            <a:chExt cx="934920" cy="592920"/>
          </a:xfrm>
        </p:grpSpPr>
        <p:sp>
          <p:nvSpPr>
            <p:cNvPr id="91" name=""/>
            <p:cNvSpPr/>
            <p:nvPr/>
          </p:nvSpPr>
          <p:spPr>
            <a:xfrm>
              <a:off x="5940360" y="3357720"/>
              <a:ext cx="934920" cy="576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013440" y="3430440"/>
              <a:ext cx="761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UN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S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6216480" y="2697120"/>
            <a:ext cx="660600" cy="587520"/>
          </a:xfrm>
          <a:custGeom>
            <a:avLst/>
            <a:gdLst/>
            <a:ahLst/>
            <a:rect l="l" t="t" r="r" b="b"/>
            <a:pathLst>
              <a:path w="416" h="370">
                <a:moveTo>
                  <a:pt x="416" y="53"/>
                </a:moveTo>
                <a:cubicBezTo>
                  <a:pt x="261" y="26"/>
                  <a:pt x="106" y="0"/>
                  <a:pt x="53" y="53"/>
                </a:cubicBezTo>
                <a:cubicBezTo>
                  <a:pt x="0" y="106"/>
                  <a:pt x="91" y="317"/>
                  <a:pt x="98" y="37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40000" y="587700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124000" y="4437000"/>
            <a:ext cx="1006200" cy="631440"/>
            <a:chOff x="2124000" y="4437000"/>
            <a:chExt cx="1006200" cy="631440"/>
          </a:xfrm>
        </p:grpSpPr>
        <p:sp>
          <p:nvSpPr>
            <p:cNvPr id="96" name=""/>
            <p:cNvSpPr/>
            <p:nvPr/>
          </p:nvSpPr>
          <p:spPr>
            <a:xfrm>
              <a:off x="2124000" y="4437000"/>
              <a:ext cx="1006200" cy="631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201760" y="4516920"/>
              <a:ext cx="861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S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3060720" y="3860640"/>
            <a:ext cx="2952720" cy="1020960"/>
          </a:xfrm>
          <a:custGeom>
            <a:avLst/>
            <a:gdLst/>
            <a:ahLst/>
            <a:rect l="l" t="t" r="r" b="b"/>
            <a:pathLst>
              <a:path w="1860" h="643">
                <a:moveTo>
                  <a:pt x="1860" y="0"/>
                </a:moveTo>
                <a:cubicBezTo>
                  <a:pt x="1720" y="223"/>
                  <a:pt x="1580" y="447"/>
                  <a:pt x="1270" y="545"/>
                </a:cubicBezTo>
                <a:cubicBezTo>
                  <a:pt x="960" y="643"/>
                  <a:pt x="212" y="583"/>
                  <a:pt x="0" y="590"/>
                </a:cubicBezTo>
              </a:path>
            </a:pathLst>
          </a:custGeom>
          <a:noFill/>
          <a:ln w="936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51080" y="431316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281640" y="4889520"/>
            <a:ext cx="13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.8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95640" y="3838680"/>
            <a:ext cx="623880" cy="669960"/>
          </a:xfrm>
          <a:custGeom>
            <a:avLst/>
            <a:gdLst/>
            <a:ahLst/>
            <a:rect l="l" t="t" r="r" b="b"/>
            <a:pathLst>
              <a:path w="393" h="422">
                <a:moveTo>
                  <a:pt x="318" y="422"/>
                </a:moveTo>
                <a:cubicBezTo>
                  <a:pt x="355" y="271"/>
                  <a:pt x="393" y="120"/>
                  <a:pt x="363" y="60"/>
                </a:cubicBezTo>
                <a:cubicBezTo>
                  <a:pt x="333" y="0"/>
                  <a:pt x="196" y="60"/>
                  <a:pt x="136" y="60"/>
                </a:cubicBezTo>
                <a:cubicBezTo>
                  <a:pt x="76" y="60"/>
                  <a:pt x="30" y="60"/>
                  <a:pt x="0" y="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5T00:07:25Z</dcterms:created>
  <dc:creator>DigiNet Ltda.</dc:creator>
  <dc:description/>
  <dc:language>en-US</dc:language>
  <cp:lastModifiedBy>usuario</cp:lastModifiedBy>
  <dcterms:modified xsi:type="dcterms:W3CDTF">2009-02-09T21:45:10Z</dcterms:modified>
  <cp:revision>181</cp:revision>
  <dc:subject/>
  <dc:title>PLATAFORMAS COMPUTACIONALES DE RED</dc:title>
</cp:coreProperties>
</file>