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33640" y="690120"/>
            <a:ext cx="4590720" cy="34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7614-88DB-4489-9065-2E160D5819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na descripción de los campos viene en las fotocop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531-0391-49E0-BFDD-0DD33AA6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A85-1558-4504-9C49-8E80989D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AD2-1720-4FE6-B832-50FC4E6E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CA1-5272-4F80-A626-75F7744D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7BD4-88B3-4310-98EE-49636DDE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7837-D1BE-477D-BC21-4D72AC39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3143-3C0F-4459-9B54-DA279E80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4BF8-1E2A-4764-9F45-88D2C13F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2C50-98E1-4455-98F4-80EAF4D6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FCF5-A595-40B0-9FFE-9298557E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C1F9-770D-4749-884B-AFE8256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B0A-ED7C-453D-84C3-34F96359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8227-B34A-4FA0-ACA9-D1CC161B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AD33-225B-4E4D-A981-BD22D9E8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AC3E-A1FA-48A9-B2BB-DD54E13A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58CA-10AF-4E50-AFB6-5416CDE8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FBFC-8034-4EFE-865D-072D43D0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6E5-870A-4CD3-8731-5BEC846A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AE5-C05B-49D3-99D9-D75F58A2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395-4A69-4DBC-A31A-610A4751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04A-DA42-484E-812B-96076937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631-79F9-476A-AC66-7C8EFCD0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D6F-243D-4B06-82CA-7103B679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152-F95E-4D04-ADE0-FF639FC4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2A42-9FF5-4198-B88D-19AB166C0AD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A68A-7B7E-4157-B4A7-D5095CBC57B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5.wmf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jpeg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nswers.com/main/ntquery;jsessionid=p2szrg209dpa?method=4&amp;dsid=2222&amp;dekey=ETH+Zurich&amp;gwp=8&amp;curtab=2222_1&amp;sbid=lc02b" TargetMode="External"/><Relationship Id="rId2" Type="http://schemas.openxmlformats.org/officeDocument/2006/relationships/hyperlink" Target="http://www.answers.com/main/ntquery;jsessionid=p2szrg209dpa?method=4&amp;dsid=2222&amp;dekey=ETH+Zurich&amp;gwp=8&amp;curtab=2222_1&amp;sbid=lc02b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Firma_digital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jpeg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diginet.com.co/" TargetMode="External"/><Relationship Id="rId2" Type="http://schemas.openxmlformats.org/officeDocument/2006/relationships/hyperlink" Target="http://www.verisign.com/" TargetMode="Externa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dnblatam.com/DUNSRequest/ESP_DUNSForm.Asp?PRODTYPE=DUNSONLY" TargetMode="Externa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verisign.com/" TargetMode="External"/><Relationship Id="rId2" Type="http://schemas.openxmlformats.org/officeDocument/2006/relationships/hyperlink" Target="http://www.thawte.com/" TargetMode="External"/><Relationship Id="rId3" Type="http://schemas.openxmlformats.org/officeDocument/2006/relationships/hyperlink" Target="http://www.registerfly.com/" TargetMode="External"/><Relationship Id="rId4" Type="http://schemas.openxmlformats.org/officeDocument/2006/relationships/hyperlink" Target="http://www.cacert.org/" TargetMode="External"/><Relationship Id="rId5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www.diginet.com.co/" TargetMode="External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openssl.org/" TargetMode="External"/><Relationship Id="rId2" Type="http://schemas.openxmlformats.org/officeDocument/2006/relationships/hyperlink" Target="http://www.rsasecurity.com/" TargetMode="External"/><Relationship Id="rId3" Type="http://schemas.openxmlformats.org/officeDocument/2006/relationships/hyperlink" Target="http://httpd.apache.org/docs-2.0/ssl/ssl_intro.html" TargetMode="External"/><Relationship Id="rId4" Type="http://schemas.openxmlformats.org/officeDocument/2006/relationships/hyperlink" Target="http://www.apache-ssl.org/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GURIDAD EN COMUNICACIONES DE DAT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1700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O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AN CARLOS RESTRE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: juanrest@diginet.com.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.: 51405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o -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ón: 2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ellín-Colombi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51640" y="5643720"/>
          <a:ext cx="349236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5643720"/>
                    <a:ext cx="349236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YECTO DE SEGURIDA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o proyecto de seguridad debe comenzar por defini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 que se quiere pro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riegos potenc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ego se deben redactar las POLITICAS DE SEGURIDAD que serán el derrotero para implementar los MECANISMOS de segur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s políticas se deben revisar periódicamente y se deben modificar de acuerdo a los cambios del entor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su estudio la podemos dividir en SEGURIDAD FISICA Y SEGURIDAD LOG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GURIDAD FISI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761760"/>
            <a:ext cx="8207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O DE COMPU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de acc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s contra incen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eratura,  humedad: aire acondicion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inistro eléctrico: UPS y Transformadores de aisla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so fal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UP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aldo en cintas, CD o servi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ntote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5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GURIDAD FISI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35164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ios de contingencia en caso de desast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é sucede si hay un terremot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é sucede si hay un incend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nibilidad de los Equ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eglos de discos (RAI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a disponi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lerancia a fall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GURIDAD FISI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CSC(National Computer Security Center. “Trusted Computer System Evaluation Criteria” o “Orange Book”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: Protección mínima: no usuarios, no permiso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1: Seguridad discreta: no controla admón., labores administrativas solo por administrad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2: Protección de control de acceso: ACL, logs, admón. distribu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1: Protección etiquetada: seguridad multini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2: Protección estructurada: dispositivos con niveles de se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3: Dominios de seguridad: Hardware auxili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1: Diseño verificado: análisis matemático, canales de distribución seguro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S EL OBJETIVO DE ESTA CHARLA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GURIDAD LOG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907560"/>
            <a:ext cx="86868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ESGOS PONTENCIALES EN LA SEGURIDAD LO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0160" indent="-285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us informá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0160" indent="-285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es de program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0160" indent="-285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es en la manipulación de la información: al borrar, recuperar backup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0160" indent="-285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s mal intencion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0160" indent="-285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ños de dispositivos: discos, controladora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SPECTOS DE LA SEGURIDAD LOG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CIDAD: La información solo sea leída por el destinata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ENTICACIÓN:  Probar que alguien es quien dice 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RECHAZO: Quien haya hecho una operación no lo pueda luego neg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IDAD: En su camino hacia el destino el mensaje no sea alter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SPECTOS DE LA SEGURIDAD LOG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ONIBILIDAD: Posibilidad de usar el servicio cuando es requer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RIZACION: Control sobre quien utiliza los recur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TRADO: control del tráfico que fluye entre las re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0" y="3933720"/>
            <a:ext cx="2232000" cy="1224000"/>
          </a:xfrm>
          <a:custGeom>
            <a:avLst/>
            <a:gdLst/>
            <a:ahLst/>
            <a:rect l="l" t="t" r="r" b="b"/>
            <a:pathLst>
              <a:path w="1551" h="961">
                <a:moveTo>
                  <a:pt x="716" y="126"/>
                </a:moveTo>
                <a:lnTo>
                  <a:pt x="679" y="118"/>
                </a:lnTo>
                <a:lnTo>
                  <a:pt x="630" y="107"/>
                </a:lnTo>
                <a:lnTo>
                  <a:pt x="589" y="105"/>
                </a:lnTo>
                <a:lnTo>
                  <a:pt x="545" y="109"/>
                </a:lnTo>
                <a:lnTo>
                  <a:pt x="513" y="113"/>
                </a:lnTo>
                <a:lnTo>
                  <a:pt x="482" y="122"/>
                </a:lnTo>
                <a:lnTo>
                  <a:pt x="447" y="135"/>
                </a:lnTo>
                <a:lnTo>
                  <a:pt x="415" y="152"/>
                </a:lnTo>
                <a:lnTo>
                  <a:pt x="382" y="176"/>
                </a:lnTo>
                <a:lnTo>
                  <a:pt x="349" y="206"/>
                </a:lnTo>
                <a:lnTo>
                  <a:pt x="328" y="234"/>
                </a:lnTo>
                <a:lnTo>
                  <a:pt x="313" y="259"/>
                </a:lnTo>
                <a:lnTo>
                  <a:pt x="299" y="287"/>
                </a:lnTo>
                <a:lnTo>
                  <a:pt x="290" y="324"/>
                </a:lnTo>
                <a:lnTo>
                  <a:pt x="262" y="315"/>
                </a:lnTo>
                <a:lnTo>
                  <a:pt x="230" y="311"/>
                </a:lnTo>
                <a:lnTo>
                  <a:pt x="201" y="311"/>
                </a:lnTo>
                <a:lnTo>
                  <a:pt x="170" y="317"/>
                </a:lnTo>
                <a:lnTo>
                  <a:pt x="143" y="328"/>
                </a:lnTo>
                <a:lnTo>
                  <a:pt x="116" y="341"/>
                </a:lnTo>
                <a:lnTo>
                  <a:pt x="87" y="365"/>
                </a:lnTo>
                <a:lnTo>
                  <a:pt x="70" y="384"/>
                </a:lnTo>
                <a:lnTo>
                  <a:pt x="50" y="405"/>
                </a:lnTo>
                <a:lnTo>
                  <a:pt x="34" y="431"/>
                </a:lnTo>
                <a:lnTo>
                  <a:pt x="19" y="466"/>
                </a:lnTo>
                <a:lnTo>
                  <a:pt x="10" y="498"/>
                </a:lnTo>
                <a:lnTo>
                  <a:pt x="3" y="530"/>
                </a:lnTo>
                <a:lnTo>
                  <a:pt x="1" y="556"/>
                </a:lnTo>
                <a:lnTo>
                  <a:pt x="0" y="582"/>
                </a:lnTo>
                <a:lnTo>
                  <a:pt x="1" y="614"/>
                </a:lnTo>
                <a:lnTo>
                  <a:pt x="5" y="642"/>
                </a:lnTo>
                <a:lnTo>
                  <a:pt x="12" y="670"/>
                </a:lnTo>
                <a:lnTo>
                  <a:pt x="21" y="697"/>
                </a:lnTo>
                <a:lnTo>
                  <a:pt x="34" y="728"/>
                </a:lnTo>
                <a:lnTo>
                  <a:pt x="52" y="758"/>
                </a:lnTo>
                <a:lnTo>
                  <a:pt x="72" y="781"/>
                </a:lnTo>
                <a:lnTo>
                  <a:pt x="96" y="805"/>
                </a:lnTo>
                <a:lnTo>
                  <a:pt x="123" y="822"/>
                </a:lnTo>
                <a:lnTo>
                  <a:pt x="145" y="835"/>
                </a:lnTo>
                <a:lnTo>
                  <a:pt x="166" y="841"/>
                </a:lnTo>
                <a:lnTo>
                  <a:pt x="192" y="850"/>
                </a:lnTo>
                <a:lnTo>
                  <a:pt x="219" y="850"/>
                </a:lnTo>
                <a:lnTo>
                  <a:pt x="246" y="850"/>
                </a:lnTo>
                <a:lnTo>
                  <a:pt x="273" y="844"/>
                </a:lnTo>
                <a:lnTo>
                  <a:pt x="295" y="837"/>
                </a:lnTo>
                <a:lnTo>
                  <a:pt x="310" y="831"/>
                </a:lnTo>
                <a:lnTo>
                  <a:pt x="324" y="852"/>
                </a:lnTo>
                <a:lnTo>
                  <a:pt x="346" y="871"/>
                </a:lnTo>
                <a:lnTo>
                  <a:pt x="369" y="889"/>
                </a:lnTo>
                <a:lnTo>
                  <a:pt x="395" y="906"/>
                </a:lnTo>
                <a:lnTo>
                  <a:pt x="427" y="921"/>
                </a:lnTo>
                <a:lnTo>
                  <a:pt x="460" y="936"/>
                </a:lnTo>
                <a:lnTo>
                  <a:pt x="500" y="947"/>
                </a:lnTo>
                <a:lnTo>
                  <a:pt x="536" y="955"/>
                </a:lnTo>
                <a:lnTo>
                  <a:pt x="576" y="960"/>
                </a:lnTo>
                <a:lnTo>
                  <a:pt x="607" y="960"/>
                </a:lnTo>
                <a:lnTo>
                  <a:pt x="639" y="960"/>
                </a:lnTo>
                <a:lnTo>
                  <a:pt x="683" y="953"/>
                </a:lnTo>
                <a:lnTo>
                  <a:pt x="736" y="932"/>
                </a:lnTo>
                <a:lnTo>
                  <a:pt x="754" y="938"/>
                </a:lnTo>
                <a:lnTo>
                  <a:pt x="790" y="923"/>
                </a:lnTo>
                <a:lnTo>
                  <a:pt x="826" y="906"/>
                </a:lnTo>
                <a:lnTo>
                  <a:pt x="848" y="893"/>
                </a:lnTo>
                <a:lnTo>
                  <a:pt x="866" y="876"/>
                </a:lnTo>
                <a:lnTo>
                  <a:pt x="886" y="886"/>
                </a:lnTo>
                <a:lnTo>
                  <a:pt x="913" y="899"/>
                </a:lnTo>
                <a:lnTo>
                  <a:pt x="939" y="908"/>
                </a:lnTo>
                <a:lnTo>
                  <a:pt x="962" y="914"/>
                </a:lnTo>
                <a:lnTo>
                  <a:pt x="989" y="917"/>
                </a:lnTo>
                <a:lnTo>
                  <a:pt x="1015" y="917"/>
                </a:lnTo>
                <a:lnTo>
                  <a:pt x="1046" y="912"/>
                </a:lnTo>
                <a:lnTo>
                  <a:pt x="1076" y="904"/>
                </a:lnTo>
                <a:lnTo>
                  <a:pt x="1104" y="893"/>
                </a:lnTo>
                <a:lnTo>
                  <a:pt x="1131" y="874"/>
                </a:lnTo>
                <a:lnTo>
                  <a:pt x="1156" y="854"/>
                </a:lnTo>
                <a:lnTo>
                  <a:pt x="1191" y="871"/>
                </a:lnTo>
                <a:lnTo>
                  <a:pt x="1223" y="880"/>
                </a:lnTo>
                <a:lnTo>
                  <a:pt x="1250" y="884"/>
                </a:lnTo>
                <a:lnTo>
                  <a:pt x="1290" y="884"/>
                </a:lnTo>
                <a:lnTo>
                  <a:pt x="1332" y="878"/>
                </a:lnTo>
                <a:lnTo>
                  <a:pt x="1381" y="861"/>
                </a:lnTo>
                <a:lnTo>
                  <a:pt x="1423" y="835"/>
                </a:lnTo>
                <a:lnTo>
                  <a:pt x="1457" y="803"/>
                </a:lnTo>
                <a:lnTo>
                  <a:pt x="1491" y="764"/>
                </a:lnTo>
                <a:lnTo>
                  <a:pt x="1510" y="732"/>
                </a:lnTo>
                <a:lnTo>
                  <a:pt x="1524" y="700"/>
                </a:lnTo>
                <a:lnTo>
                  <a:pt x="1539" y="657"/>
                </a:lnTo>
                <a:lnTo>
                  <a:pt x="1546" y="618"/>
                </a:lnTo>
                <a:lnTo>
                  <a:pt x="1550" y="573"/>
                </a:lnTo>
                <a:lnTo>
                  <a:pt x="1546" y="539"/>
                </a:lnTo>
                <a:lnTo>
                  <a:pt x="1539" y="498"/>
                </a:lnTo>
                <a:lnTo>
                  <a:pt x="1528" y="457"/>
                </a:lnTo>
                <a:lnTo>
                  <a:pt x="1510" y="420"/>
                </a:lnTo>
                <a:lnTo>
                  <a:pt x="1490" y="384"/>
                </a:lnTo>
                <a:lnTo>
                  <a:pt x="1464" y="354"/>
                </a:lnTo>
                <a:lnTo>
                  <a:pt x="1441" y="330"/>
                </a:lnTo>
                <a:lnTo>
                  <a:pt x="1417" y="313"/>
                </a:lnTo>
                <a:lnTo>
                  <a:pt x="1385" y="289"/>
                </a:lnTo>
                <a:lnTo>
                  <a:pt x="1354" y="277"/>
                </a:lnTo>
                <a:lnTo>
                  <a:pt x="1327" y="270"/>
                </a:lnTo>
                <a:lnTo>
                  <a:pt x="1296" y="266"/>
                </a:lnTo>
                <a:lnTo>
                  <a:pt x="1290" y="238"/>
                </a:lnTo>
                <a:lnTo>
                  <a:pt x="1281" y="210"/>
                </a:lnTo>
                <a:lnTo>
                  <a:pt x="1269" y="184"/>
                </a:lnTo>
                <a:lnTo>
                  <a:pt x="1254" y="156"/>
                </a:lnTo>
                <a:lnTo>
                  <a:pt x="1234" y="128"/>
                </a:lnTo>
                <a:lnTo>
                  <a:pt x="1209" y="98"/>
                </a:lnTo>
                <a:lnTo>
                  <a:pt x="1185" y="75"/>
                </a:lnTo>
                <a:lnTo>
                  <a:pt x="1156" y="55"/>
                </a:lnTo>
                <a:lnTo>
                  <a:pt x="1122" y="34"/>
                </a:lnTo>
                <a:lnTo>
                  <a:pt x="1087" y="19"/>
                </a:lnTo>
                <a:lnTo>
                  <a:pt x="1055" y="8"/>
                </a:lnTo>
                <a:lnTo>
                  <a:pt x="1017" y="2"/>
                </a:lnTo>
                <a:lnTo>
                  <a:pt x="980" y="0"/>
                </a:lnTo>
                <a:lnTo>
                  <a:pt x="940" y="0"/>
                </a:lnTo>
                <a:lnTo>
                  <a:pt x="906" y="6"/>
                </a:lnTo>
                <a:lnTo>
                  <a:pt x="864" y="19"/>
                </a:lnTo>
                <a:lnTo>
                  <a:pt x="821" y="38"/>
                </a:lnTo>
                <a:lnTo>
                  <a:pt x="792" y="55"/>
                </a:lnTo>
                <a:lnTo>
                  <a:pt x="763" y="77"/>
                </a:lnTo>
                <a:lnTo>
                  <a:pt x="737" y="103"/>
                </a:lnTo>
                <a:lnTo>
                  <a:pt x="716" y="126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1341000"/>
            <a:ext cx="7157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233840" y="4437000"/>
            <a:ext cx="11282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8360" y="115920"/>
            <a:ext cx="820728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nkGothic Md BT"/>
              </a:rPr>
              <a:t>ESQUEMA TÍPICO DE CONEXIÓN 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2496960"/>
            <a:ext cx="2133720" cy="1067040"/>
          </a:xfrm>
          <a:custGeom>
            <a:avLst/>
            <a:gdLst/>
            <a:ahLst/>
            <a:rect l="l" t="t" r="r" b="b"/>
            <a:pathLst>
              <a:path w="1551" h="961">
                <a:moveTo>
                  <a:pt x="716" y="126"/>
                </a:moveTo>
                <a:lnTo>
                  <a:pt x="679" y="118"/>
                </a:lnTo>
                <a:lnTo>
                  <a:pt x="630" y="107"/>
                </a:lnTo>
                <a:lnTo>
                  <a:pt x="589" y="105"/>
                </a:lnTo>
                <a:lnTo>
                  <a:pt x="545" y="109"/>
                </a:lnTo>
                <a:lnTo>
                  <a:pt x="513" y="113"/>
                </a:lnTo>
                <a:lnTo>
                  <a:pt x="482" y="122"/>
                </a:lnTo>
                <a:lnTo>
                  <a:pt x="447" y="135"/>
                </a:lnTo>
                <a:lnTo>
                  <a:pt x="415" y="152"/>
                </a:lnTo>
                <a:lnTo>
                  <a:pt x="382" y="176"/>
                </a:lnTo>
                <a:lnTo>
                  <a:pt x="349" y="206"/>
                </a:lnTo>
                <a:lnTo>
                  <a:pt x="328" y="234"/>
                </a:lnTo>
                <a:lnTo>
                  <a:pt x="313" y="259"/>
                </a:lnTo>
                <a:lnTo>
                  <a:pt x="299" y="287"/>
                </a:lnTo>
                <a:lnTo>
                  <a:pt x="290" y="324"/>
                </a:lnTo>
                <a:lnTo>
                  <a:pt x="262" y="315"/>
                </a:lnTo>
                <a:lnTo>
                  <a:pt x="230" y="311"/>
                </a:lnTo>
                <a:lnTo>
                  <a:pt x="201" y="311"/>
                </a:lnTo>
                <a:lnTo>
                  <a:pt x="170" y="317"/>
                </a:lnTo>
                <a:lnTo>
                  <a:pt x="143" y="328"/>
                </a:lnTo>
                <a:lnTo>
                  <a:pt x="116" y="341"/>
                </a:lnTo>
                <a:lnTo>
                  <a:pt x="87" y="365"/>
                </a:lnTo>
                <a:lnTo>
                  <a:pt x="70" y="384"/>
                </a:lnTo>
                <a:lnTo>
                  <a:pt x="50" y="405"/>
                </a:lnTo>
                <a:lnTo>
                  <a:pt x="34" y="431"/>
                </a:lnTo>
                <a:lnTo>
                  <a:pt x="19" y="466"/>
                </a:lnTo>
                <a:lnTo>
                  <a:pt x="10" y="498"/>
                </a:lnTo>
                <a:lnTo>
                  <a:pt x="3" y="530"/>
                </a:lnTo>
                <a:lnTo>
                  <a:pt x="1" y="556"/>
                </a:lnTo>
                <a:lnTo>
                  <a:pt x="0" y="582"/>
                </a:lnTo>
                <a:lnTo>
                  <a:pt x="1" y="614"/>
                </a:lnTo>
                <a:lnTo>
                  <a:pt x="5" y="642"/>
                </a:lnTo>
                <a:lnTo>
                  <a:pt x="12" y="670"/>
                </a:lnTo>
                <a:lnTo>
                  <a:pt x="21" y="697"/>
                </a:lnTo>
                <a:lnTo>
                  <a:pt x="34" y="728"/>
                </a:lnTo>
                <a:lnTo>
                  <a:pt x="52" y="758"/>
                </a:lnTo>
                <a:lnTo>
                  <a:pt x="72" y="781"/>
                </a:lnTo>
                <a:lnTo>
                  <a:pt x="96" y="805"/>
                </a:lnTo>
                <a:lnTo>
                  <a:pt x="123" y="822"/>
                </a:lnTo>
                <a:lnTo>
                  <a:pt x="145" y="835"/>
                </a:lnTo>
                <a:lnTo>
                  <a:pt x="166" y="841"/>
                </a:lnTo>
                <a:lnTo>
                  <a:pt x="192" y="850"/>
                </a:lnTo>
                <a:lnTo>
                  <a:pt x="219" y="850"/>
                </a:lnTo>
                <a:lnTo>
                  <a:pt x="246" y="850"/>
                </a:lnTo>
                <a:lnTo>
                  <a:pt x="273" y="844"/>
                </a:lnTo>
                <a:lnTo>
                  <a:pt x="295" y="837"/>
                </a:lnTo>
                <a:lnTo>
                  <a:pt x="310" y="831"/>
                </a:lnTo>
                <a:lnTo>
                  <a:pt x="324" y="852"/>
                </a:lnTo>
                <a:lnTo>
                  <a:pt x="346" y="871"/>
                </a:lnTo>
                <a:lnTo>
                  <a:pt x="369" y="889"/>
                </a:lnTo>
                <a:lnTo>
                  <a:pt x="395" y="906"/>
                </a:lnTo>
                <a:lnTo>
                  <a:pt x="427" y="921"/>
                </a:lnTo>
                <a:lnTo>
                  <a:pt x="460" y="936"/>
                </a:lnTo>
                <a:lnTo>
                  <a:pt x="500" y="947"/>
                </a:lnTo>
                <a:lnTo>
                  <a:pt x="536" y="955"/>
                </a:lnTo>
                <a:lnTo>
                  <a:pt x="576" y="960"/>
                </a:lnTo>
                <a:lnTo>
                  <a:pt x="607" y="960"/>
                </a:lnTo>
                <a:lnTo>
                  <a:pt x="639" y="960"/>
                </a:lnTo>
                <a:lnTo>
                  <a:pt x="683" y="953"/>
                </a:lnTo>
                <a:lnTo>
                  <a:pt x="736" y="932"/>
                </a:lnTo>
                <a:lnTo>
                  <a:pt x="754" y="938"/>
                </a:lnTo>
                <a:lnTo>
                  <a:pt x="790" y="923"/>
                </a:lnTo>
                <a:lnTo>
                  <a:pt x="826" y="906"/>
                </a:lnTo>
                <a:lnTo>
                  <a:pt x="848" y="893"/>
                </a:lnTo>
                <a:lnTo>
                  <a:pt x="866" y="876"/>
                </a:lnTo>
                <a:lnTo>
                  <a:pt x="886" y="886"/>
                </a:lnTo>
                <a:lnTo>
                  <a:pt x="913" y="899"/>
                </a:lnTo>
                <a:lnTo>
                  <a:pt x="939" y="908"/>
                </a:lnTo>
                <a:lnTo>
                  <a:pt x="962" y="914"/>
                </a:lnTo>
                <a:lnTo>
                  <a:pt x="989" y="917"/>
                </a:lnTo>
                <a:lnTo>
                  <a:pt x="1015" y="917"/>
                </a:lnTo>
                <a:lnTo>
                  <a:pt x="1046" y="912"/>
                </a:lnTo>
                <a:lnTo>
                  <a:pt x="1076" y="904"/>
                </a:lnTo>
                <a:lnTo>
                  <a:pt x="1104" y="893"/>
                </a:lnTo>
                <a:lnTo>
                  <a:pt x="1131" y="874"/>
                </a:lnTo>
                <a:lnTo>
                  <a:pt x="1156" y="854"/>
                </a:lnTo>
                <a:lnTo>
                  <a:pt x="1191" y="871"/>
                </a:lnTo>
                <a:lnTo>
                  <a:pt x="1223" y="880"/>
                </a:lnTo>
                <a:lnTo>
                  <a:pt x="1250" y="884"/>
                </a:lnTo>
                <a:lnTo>
                  <a:pt x="1290" y="884"/>
                </a:lnTo>
                <a:lnTo>
                  <a:pt x="1332" y="878"/>
                </a:lnTo>
                <a:lnTo>
                  <a:pt x="1381" y="861"/>
                </a:lnTo>
                <a:lnTo>
                  <a:pt x="1423" y="835"/>
                </a:lnTo>
                <a:lnTo>
                  <a:pt x="1457" y="803"/>
                </a:lnTo>
                <a:lnTo>
                  <a:pt x="1491" y="764"/>
                </a:lnTo>
                <a:lnTo>
                  <a:pt x="1510" y="732"/>
                </a:lnTo>
                <a:lnTo>
                  <a:pt x="1524" y="700"/>
                </a:lnTo>
                <a:lnTo>
                  <a:pt x="1539" y="657"/>
                </a:lnTo>
                <a:lnTo>
                  <a:pt x="1546" y="618"/>
                </a:lnTo>
                <a:lnTo>
                  <a:pt x="1550" y="573"/>
                </a:lnTo>
                <a:lnTo>
                  <a:pt x="1546" y="539"/>
                </a:lnTo>
                <a:lnTo>
                  <a:pt x="1539" y="498"/>
                </a:lnTo>
                <a:lnTo>
                  <a:pt x="1528" y="457"/>
                </a:lnTo>
                <a:lnTo>
                  <a:pt x="1510" y="420"/>
                </a:lnTo>
                <a:lnTo>
                  <a:pt x="1490" y="384"/>
                </a:lnTo>
                <a:lnTo>
                  <a:pt x="1464" y="354"/>
                </a:lnTo>
                <a:lnTo>
                  <a:pt x="1441" y="330"/>
                </a:lnTo>
                <a:lnTo>
                  <a:pt x="1417" y="313"/>
                </a:lnTo>
                <a:lnTo>
                  <a:pt x="1385" y="289"/>
                </a:lnTo>
                <a:lnTo>
                  <a:pt x="1354" y="277"/>
                </a:lnTo>
                <a:lnTo>
                  <a:pt x="1327" y="270"/>
                </a:lnTo>
                <a:lnTo>
                  <a:pt x="1296" y="266"/>
                </a:lnTo>
                <a:lnTo>
                  <a:pt x="1290" y="238"/>
                </a:lnTo>
                <a:lnTo>
                  <a:pt x="1281" y="210"/>
                </a:lnTo>
                <a:lnTo>
                  <a:pt x="1269" y="184"/>
                </a:lnTo>
                <a:lnTo>
                  <a:pt x="1254" y="156"/>
                </a:lnTo>
                <a:lnTo>
                  <a:pt x="1234" y="128"/>
                </a:lnTo>
                <a:lnTo>
                  <a:pt x="1209" y="98"/>
                </a:lnTo>
                <a:lnTo>
                  <a:pt x="1185" y="75"/>
                </a:lnTo>
                <a:lnTo>
                  <a:pt x="1156" y="55"/>
                </a:lnTo>
                <a:lnTo>
                  <a:pt x="1122" y="34"/>
                </a:lnTo>
                <a:lnTo>
                  <a:pt x="1087" y="19"/>
                </a:lnTo>
                <a:lnTo>
                  <a:pt x="1055" y="8"/>
                </a:lnTo>
                <a:lnTo>
                  <a:pt x="1017" y="2"/>
                </a:lnTo>
                <a:lnTo>
                  <a:pt x="980" y="0"/>
                </a:lnTo>
                <a:lnTo>
                  <a:pt x="940" y="0"/>
                </a:lnTo>
                <a:lnTo>
                  <a:pt x="906" y="6"/>
                </a:lnTo>
                <a:lnTo>
                  <a:pt x="864" y="19"/>
                </a:lnTo>
                <a:lnTo>
                  <a:pt x="821" y="38"/>
                </a:lnTo>
                <a:lnTo>
                  <a:pt x="792" y="55"/>
                </a:lnTo>
                <a:lnTo>
                  <a:pt x="763" y="77"/>
                </a:lnTo>
                <a:lnTo>
                  <a:pt x="737" y="103"/>
                </a:lnTo>
                <a:lnTo>
                  <a:pt x="716" y="126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886200" y="4114800"/>
          <a:ext cx="8380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838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1402920" y="2924280"/>
            <a:ext cx="6134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79280" y="3573360"/>
            <a:ext cx="97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T/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8101080" y="2708280"/>
          <a:ext cx="57456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2708280"/>
                    <a:ext cx="5745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8026200" y="2421000"/>
            <a:ext cx="770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41800" y="6237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5"/>
          <a:stretch/>
        </p:blipFill>
        <p:spPr>
          <a:xfrm>
            <a:off x="4800600" y="5229360"/>
            <a:ext cx="465120" cy="8143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356000" y="5661000"/>
            <a:ext cx="520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97040" y="537372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BANCA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209680" y="1125360"/>
            <a:ext cx="990720" cy="533520"/>
            <a:chOff x="2209680" y="1125360"/>
            <a:chExt cx="990720" cy="533520"/>
          </a:xfrm>
        </p:grpSpPr>
        <p:pic>
          <p:nvPicPr>
            <p:cNvPr id="491" name="" descr=""/>
            <p:cNvPicPr/>
            <p:nvPr/>
          </p:nvPicPr>
          <p:blipFill>
            <a:blip r:embed="rId6"/>
            <a:stretch/>
          </p:blipFill>
          <p:spPr>
            <a:xfrm>
              <a:off x="2209680" y="112536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7"/>
            <a:stretch/>
          </p:blipFill>
          <p:spPr>
            <a:xfrm>
              <a:off x="2554200" y="112536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8"/>
            <a:stretch/>
          </p:blipFill>
          <p:spPr>
            <a:xfrm>
              <a:off x="2899080" y="112536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2252520" y="1658880"/>
              <a:ext cx="9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38920" y="1525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83440" y="1525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28320" y="1525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258920" y="2205000"/>
            <a:ext cx="11268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57200" y="1201680"/>
            <a:ext cx="990720" cy="533520"/>
            <a:chOff x="457200" y="1201680"/>
            <a:chExt cx="990720" cy="533520"/>
          </a:xfrm>
        </p:grpSpPr>
        <p:pic>
          <p:nvPicPr>
            <p:cNvPr id="500" name="" descr=""/>
            <p:cNvPicPr/>
            <p:nvPr/>
          </p:nvPicPr>
          <p:blipFill>
            <a:blip r:embed="rId9"/>
            <a:stretch/>
          </p:blipFill>
          <p:spPr>
            <a:xfrm>
              <a:off x="457200" y="120168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10"/>
            <a:stretch/>
          </p:blipFill>
          <p:spPr>
            <a:xfrm>
              <a:off x="801720" y="120168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11"/>
            <a:stretch/>
          </p:blipFill>
          <p:spPr>
            <a:xfrm>
              <a:off x="1146600" y="120168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00040" y="1735200"/>
              <a:ext cx="9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6440" y="160164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30960" y="160164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75840" y="160164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H="1">
            <a:off x="2209680" y="226836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92360" y="3502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2"/>
          <a:stretch/>
        </p:blipFill>
        <p:spPr>
          <a:xfrm>
            <a:off x="900000" y="5229360"/>
            <a:ext cx="463680" cy="6332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3"/>
          <a:stretch/>
        </p:blipFill>
        <p:spPr>
          <a:xfrm>
            <a:off x="2050920" y="5229360"/>
            <a:ext cx="463680" cy="63324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1403280" y="4438800"/>
            <a:ext cx="574920" cy="433080"/>
            <a:chOff x="1403280" y="4438800"/>
            <a:chExt cx="574920" cy="433080"/>
          </a:xfrm>
        </p:grpSpPr>
        <p:sp>
          <p:nvSpPr>
            <p:cNvPr id="512" name=""/>
            <p:cNvSpPr/>
            <p:nvPr/>
          </p:nvSpPr>
          <p:spPr>
            <a:xfrm>
              <a:off x="1403280" y="4439880"/>
              <a:ext cx="573840" cy="21096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82840" y="4646880"/>
              <a:ext cx="495000" cy="2235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03280" y="4438800"/>
              <a:ext cx="81360" cy="43308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88600" y="4659120"/>
              <a:ext cx="414720" cy="198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482840" y="4704480"/>
              <a:ext cx="15120" cy="45720"/>
              <a:chOff x="1482840" y="4704480"/>
              <a:chExt cx="15120" cy="45720"/>
            </a:xfrm>
          </p:grpSpPr>
          <p:sp>
            <p:nvSpPr>
              <p:cNvPr id="517" name=""/>
              <p:cNvSpPr/>
              <p:nvPr/>
            </p:nvSpPr>
            <p:spPr>
              <a:xfrm>
                <a:off x="1482840" y="4704480"/>
                <a:ext cx="1512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482840" y="4710600"/>
                <a:ext cx="1512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482840" y="4724280"/>
                <a:ext cx="1512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482840" y="4730040"/>
                <a:ext cx="1512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482840" y="4744440"/>
                <a:ext cx="1512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482840" y="4749840"/>
                <a:ext cx="1512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1904040" y="4640040"/>
              <a:ext cx="73080" cy="1332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1415160" y="4510440"/>
              <a:ext cx="21240" cy="202320"/>
              <a:chOff x="1415160" y="4510440"/>
              <a:chExt cx="21240" cy="2023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1415160" y="4510440"/>
                <a:ext cx="21240" cy="64440"/>
                <a:chOff x="1415160" y="4510440"/>
                <a:chExt cx="21240" cy="6444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415160" y="451080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415520" y="451044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1415160" y="4533120"/>
                <a:ext cx="21240" cy="64800"/>
                <a:chOff x="1415160" y="4533120"/>
                <a:chExt cx="21240" cy="648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1415160" y="4533480"/>
                  <a:ext cx="20880" cy="644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415520" y="453312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1415160" y="4556160"/>
                <a:ext cx="21240" cy="64440"/>
                <a:chOff x="1415160" y="4556160"/>
                <a:chExt cx="21240" cy="6444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1415160" y="455652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415520" y="455616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1415160" y="4579200"/>
                <a:ext cx="21240" cy="64440"/>
                <a:chOff x="1415160" y="4579200"/>
                <a:chExt cx="21240" cy="644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415160" y="457956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415520" y="4579200"/>
                  <a:ext cx="20880" cy="644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1415160" y="4602600"/>
                <a:ext cx="21240" cy="64440"/>
                <a:chOff x="1415160" y="4602600"/>
                <a:chExt cx="21240" cy="644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1415160" y="460296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415520" y="460260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1415160" y="4625640"/>
                <a:ext cx="21240" cy="64440"/>
                <a:chOff x="1415160" y="4625640"/>
                <a:chExt cx="21240" cy="644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415160" y="462600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415520" y="462564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1415160" y="4648320"/>
                <a:ext cx="21240" cy="64440"/>
                <a:chOff x="1415160" y="4648320"/>
                <a:chExt cx="21240" cy="6444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1415160" y="464868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415520" y="464832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6" name=""/>
            <p:cNvGrpSpPr/>
            <p:nvPr/>
          </p:nvGrpSpPr>
          <p:grpSpPr>
            <a:xfrm>
              <a:off x="1448280" y="4597920"/>
              <a:ext cx="20520" cy="200880"/>
              <a:chOff x="1448280" y="4597920"/>
              <a:chExt cx="20520" cy="200880"/>
            </a:xfrm>
          </p:grpSpPr>
          <p:grpSp>
            <p:nvGrpSpPr>
              <p:cNvPr id="547" name=""/>
              <p:cNvGrpSpPr/>
              <p:nvPr/>
            </p:nvGrpSpPr>
            <p:grpSpPr>
              <a:xfrm>
                <a:off x="1448280" y="4597920"/>
                <a:ext cx="20520" cy="63360"/>
                <a:chOff x="1448280" y="4597920"/>
                <a:chExt cx="20520" cy="6336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1448280" y="4598280"/>
                  <a:ext cx="2016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448640" y="459792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1448280" y="4620600"/>
                <a:ext cx="20520" cy="63360"/>
                <a:chOff x="1448280" y="4620600"/>
                <a:chExt cx="20520" cy="633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48280" y="4620960"/>
                  <a:ext cx="2016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8640" y="4620600"/>
                  <a:ext cx="2016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448280" y="4643640"/>
                <a:ext cx="20520" cy="63720"/>
                <a:chOff x="1448280" y="4643640"/>
                <a:chExt cx="20520" cy="63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1448280" y="464400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448640" y="4643640"/>
                  <a:ext cx="2016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1448280" y="4666680"/>
                <a:ext cx="20520" cy="63720"/>
                <a:chOff x="1448280" y="4666680"/>
                <a:chExt cx="20520" cy="637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1448280" y="466704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448640" y="466668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1448280" y="4689720"/>
                <a:ext cx="20520" cy="63720"/>
                <a:chOff x="1448280" y="4689720"/>
                <a:chExt cx="20520" cy="63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448280" y="469008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448640" y="468972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1448280" y="4712400"/>
                <a:ext cx="20520" cy="63720"/>
                <a:chOff x="1448280" y="4712400"/>
                <a:chExt cx="20520" cy="637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448280" y="471276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448640" y="471240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1448280" y="4735440"/>
                <a:ext cx="20520" cy="63360"/>
                <a:chOff x="1448280" y="4735440"/>
                <a:chExt cx="20520" cy="633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448280" y="4735800"/>
                  <a:ext cx="2016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448640" y="473544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1420200" y="4443840"/>
              <a:ext cx="86040" cy="194760"/>
              <a:chOff x="1420200" y="4443840"/>
              <a:chExt cx="86040" cy="194760"/>
            </a:xfrm>
          </p:grpSpPr>
          <p:sp>
            <p:nvSpPr>
              <p:cNvPr id="569" name=""/>
              <p:cNvSpPr/>
              <p:nvPr/>
            </p:nvSpPr>
            <p:spPr>
              <a:xfrm>
                <a:off x="1420200" y="4443840"/>
                <a:ext cx="21960" cy="237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22360" y="4448160"/>
                <a:ext cx="1872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484280" y="4614120"/>
                <a:ext cx="21960" cy="230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486800" y="4618080"/>
                <a:ext cx="1872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1875960" y="4443840"/>
              <a:ext cx="86040" cy="194760"/>
              <a:chOff x="1875960" y="4443840"/>
              <a:chExt cx="86040" cy="194760"/>
            </a:xfrm>
          </p:grpSpPr>
          <p:sp>
            <p:nvSpPr>
              <p:cNvPr id="574" name=""/>
              <p:cNvSpPr/>
              <p:nvPr/>
            </p:nvSpPr>
            <p:spPr>
              <a:xfrm>
                <a:off x="1875960" y="4443840"/>
                <a:ext cx="21960" cy="237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877760" y="4448160"/>
                <a:ext cx="1908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940040" y="4614120"/>
                <a:ext cx="21960" cy="230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942200" y="4618080"/>
                <a:ext cx="1908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1488600" y="4663080"/>
              <a:ext cx="416880" cy="190800"/>
              <a:chOff x="1488600" y="4663080"/>
              <a:chExt cx="416880" cy="190800"/>
            </a:xfrm>
          </p:grpSpPr>
          <p:sp>
            <p:nvSpPr>
              <p:cNvPr id="579" name=""/>
              <p:cNvSpPr/>
              <p:nvPr/>
            </p:nvSpPr>
            <p:spPr>
              <a:xfrm>
                <a:off x="1488600" y="4663800"/>
                <a:ext cx="392400" cy="189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68400" y="4663080"/>
                <a:ext cx="37080" cy="19080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1919520" y="4656600"/>
              <a:ext cx="58680" cy="2152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506960" y="4690800"/>
              <a:ext cx="379800" cy="139680"/>
              <a:chOff x="1506960" y="4690800"/>
              <a:chExt cx="379800" cy="13968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1844640" y="4690800"/>
                <a:ext cx="42120" cy="27000"/>
                <a:chOff x="1844640" y="4690800"/>
                <a:chExt cx="42120" cy="27000"/>
              </a:xfrm>
            </p:grpSpPr>
            <p:grpSp>
              <p:nvGrpSpPr>
                <p:cNvPr id="584" name=""/>
                <p:cNvGrpSpPr/>
                <p:nvPr/>
              </p:nvGrpSpPr>
              <p:grpSpPr>
                <a:xfrm>
                  <a:off x="1844640" y="4690800"/>
                  <a:ext cx="12600" cy="27000"/>
                  <a:chOff x="1844640" y="4690800"/>
                  <a:chExt cx="12600" cy="2700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1848960" y="4695120"/>
                    <a:ext cx="828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844640" y="4690800"/>
                    <a:ext cx="72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844640" y="4700160"/>
                    <a:ext cx="72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844640" y="4708440"/>
                    <a:ext cx="864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1850040" y="4704120"/>
                    <a:ext cx="68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1850040" y="4713120"/>
                    <a:ext cx="72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1859400" y="4693680"/>
                  <a:ext cx="27360" cy="20880"/>
                  <a:chOff x="1859400" y="4693680"/>
                  <a:chExt cx="27360" cy="2088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1859400" y="4693680"/>
                    <a:ext cx="27360" cy="8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859400" y="4706280"/>
                    <a:ext cx="27360" cy="8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4" name=""/>
              <p:cNvGrpSpPr/>
              <p:nvPr/>
            </p:nvGrpSpPr>
            <p:grpSpPr>
              <a:xfrm>
                <a:off x="1864800" y="4816440"/>
                <a:ext cx="21240" cy="14040"/>
                <a:chOff x="1864800" y="4816440"/>
                <a:chExt cx="21240" cy="140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1864800" y="4816440"/>
                  <a:ext cx="21240" cy="6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865880" y="4824000"/>
                  <a:ext cx="19800" cy="6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1824120" y="4709880"/>
                <a:ext cx="16200" cy="42480"/>
                <a:chOff x="1824120" y="4709880"/>
                <a:chExt cx="16200" cy="424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824120" y="4716360"/>
                  <a:ext cx="16200" cy="3600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827000" y="4709880"/>
                  <a:ext cx="11160" cy="1440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828440" y="4711680"/>
                  <a:ext cx="7920" cy="1116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1827000" y="4760640"/>
                <a:ext cx="4680" cy="104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833480" y="4760640"/>
                <a:ext cx="5040" cy="104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827000" y="4775760"/>
                <a:ext cx="468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833480" y="4775760"/>
                <a:ext cx="50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827000" y="4791960"/>
                <a:ext cx="4680" cy="111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833480" y="4791960"/>
                <a:ext cx="5040" cy="111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27000" y="4807800"/>
                <a:ext cx="468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33480" y="4807800"/>
                <a:ext cx="50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842120" y="4795200"/>
                <a:ext cx="1584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621080" y="4709880"/>
                <a:ext cx="77760" cy="3816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49880" y="4701960"/>
                <a:ext cx="23400" cy="1584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53120" y="4704120"/>
                <a:ext cx="16200" cy="1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" name=""/>
              <p:cNvGrpSpPr/>
              <p:nvPr/>
            </p:nvGrpSpPr>
            <p:grpSpPr>
              <a:xfrm>
                <a:off x="1645920" y="4719960"/>
                <a:ext cx="30240" cy="25200"/>
                <a:chOff x="1645920" y="4719960"/>
                <a:chExt cx="30240" cy="2520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1645920" y="4719960"/>
                  <a:ext cx="3024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647000" y="4728960"/>
                  <a:ext cx="2736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649880" y="4738320"/>
                  <a:ext cx="2232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1620000" y="4755240"/>
                <a:ext cx="39600" cy="59760"/>
                <a:chOff x="1620000" y="4755240"/>
                <a:chExt cx="39600" cy="59760"/>
              </a:xfrm>
            </p:grpSpPr>
            <p:grpSp>
              <p:nvGrpSpPr>
                <p:cNvPr id="618" name=""/>
                <p:cNvGrpSpPr/>
                <p:nvPr/>
              </p:nvGrpSpPr>
              <p:grpSpPr>
                <a:xfrm>
                  <a:off x="1620000" y="4755240"/>
                  <a:ext cx="39600" cy="10800"/>
                  <a:chOff x="1620000" y="4755240"/>
                  <a:chExt cx="39600" cy="1080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162000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162648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163368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640880" y="47552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164772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165456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5" name=""/>
                <p:cNvGrpSpPr/>
                <p:nvPr/>
              </p:nvGrpSpPr>
              <p:grpSpPr>
                <a:xfrm>
                  <a:off x="1620000" y="4771080"/>
                  <a:ext cx="39600" cy="11520"/>
                  <a:chOff x="1620000" y="4771080"/>
                  <a:chExt cx="39600" cy="1152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162000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62648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63368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640880" y="47710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164772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165456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1620000" y="4787640"/>
                  <a:ext cx="39600" cy="10800"/>
                  <a:chOff x="1620000" y="4787640"/>
                  <a:chExt cx="39600" cy="1080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>
                    <a:off x="162000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162648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163368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640880" y="47876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164772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165456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1620000" y="4803480"/>
                  <a:ext cx="39600" cy="11520"/>
                  <a:chOff x="1620000" y="4803480"/>
                  <a:chExt cx="39600" cy="1152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162000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162648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163368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1640880" y="48034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164772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165456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6" name=""/>
              <p:cNvGrpSpPr/>
              <p:nvPr/>
            </p:nvGrpSpPr>
            <p:grpSpPr>
              <a:xfrm>
                <a:off x="1662480" y="4755240"/>
                <a:ext cx="39240" cy="59760"/>
                <a:chOff x="1662480" y="4755240"/>
                <a:chExt cx="39240" cy="59760"/>
              </a:xfrm>
            </p:grpSpPr>
            <p:grpSp>
              <p:nvGrpSpPr>
                <p:cNvPr id="647" name=""/>
                <p:cNvGrpSpPr/>
                <p:nvPr/>
              </p:nvGrpSpPr>
              <p:grpSpPr>
                <a:xfrm>
                  <a:off x="1662480" y="4755240"/>
                  <a:ext cx="39240" cy="10800"/>
                  <a:chOff x="1662480" y="4755240"/>
                  <a:chExt cx="39240" cy="1080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1662480" y="47552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166896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167616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168300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168984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1697040" y="47552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1662480" y="4771080"/>
                  <a:ext cx="39240" cy="11520"/>
                  <a:chOff x="1662480" y="4771080"/>
                  <a:chExt cx="39240" cy="1152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1662480" y="47710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166896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167616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68300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168984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1697040" y="47710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1662480" y="4787640"/>
                  <a:ext cx="39240" cy="10800"/>
                  <a:chOff x="1662480" y="4787640"/>
                  <a:chExt cx="39240" cy="108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1662480" y="47876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166896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167616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168300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168984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1697040" y="47876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1662480" y="4803480"/>
                  <a:ext cx="39240" cy="11520"/>
                  <a:chOff x="1662480" y="4803480"/>
                  <a:chExt cx="39240" cy="115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>
                    <a:off x="1662480" y="48034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166896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167616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168300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168984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1697040" y="48034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5" name=""/>
              <p:cNvGrpSpPr/>
              <p:nvPr/>
            </p:nvGrpSpPr>
            <p:grpSpPr>
              <a:xfrm>
                <a:off x="1506960" y="4775040"/>
                <a:ext cx="102960" cy="52560"/>
                <a:chOff x="1506960" y="4775040"/>
                <a:chExt cx="102960" cy="52560"/>
              </a:xfrm>
            </p:grpSpPr>
            <p:grpSp>
              <p:nvGrpSpPr>
                <p:cNvPr id="676" name=""/>
                <p:cNvGrpSpPr/>
                <p:nvPr/>
              </p:nvGrpSpPr>
              <p:grpSpPr>
                <a:xfrm>
                  <a:off x="1506960" y="4775040"/>
                  <a:ext cx="12600" cy="52560"/>
                  <a:chOff x="1506960" y="4775040"/>
                  <a:chExt cx="12600" cy="52560"/>
                </a:xfrm>
              </p:grpSpPr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1506960" y="4775040"/>
                    <a:ext cx="12600" cy="52560"/>
                    <a:chOff x="1506960" y="4775040"/>
                    <a:chExt cx="12600" cy="5256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1506960" y="478476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150696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1508040" y="479484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1506960" y="478728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150768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151704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84" name=""/>
                  <p:cNvSpPr/>
                  <p:nvPr/>
                </p:nvSpPr>
                <p:spPr>
                  <a:xfrm>
                    <a:off x="1510920" y="480384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1524960" y="4775040"/>
                  <a:ext cx="12600" cy="52560"/>
                  <a:chOff x="1524960" y="4775040"/>
                  <a:chExt cx="12600" cy="52560"/>
                </a:xfrm>
              </p:grpSpPr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1524960" y="4775040"/>
                    <a:ext cx="12600" cy="52560"/>
                    <a:chOff x="1524960" y="4775040"/>
                    <a:chExt cx="12600" cy="52560"/>
                  </a:xfrm>
                </p:grpSpPr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1524960" y="478476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152496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526040" y="479484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524960" y="478728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52568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53504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3" name=""/>
                  <p:cNvSpPr/>
                  <p:nvPr/>
                </p:nvSpPr>
                <p:spPr>
                  <a:xfrm>
                    <a:off x="1528920" y="480384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1542960" y="4775040"/>
                  <a:ext cx="12960" cy="52560"/>
                  <a:chOff x="1542960" y="4775040"/>
                  <a:chExt cx="12960" cy="52560"/>
                </a:xfrm>
              </p:grpSpPr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1542960" y="4775040"/>
                    <a:ext cx="12960" cy="52560"/>
                    <a:chOff x="1542960" y="4775040"/>
                    <a:chExt cx="12960" cy="5256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542960" y="4784760"/>
                      <a:ext cx="1260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54296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544040" y="4794840"/>
                      <a:ext cx="1188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542960" y="4787280"/>
                      <a:ext cx="12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154368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155304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2" name=""/>
                  <p:cNvSpPr/>
                  <p:nvPr/>
                </p:nvSpPr>
                <p:spPr>
                  <a:xfrm>
                    <a:off x="1546920" y="4803840"/>
                    <a:ext cx="720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1560960" y="4775040"/>
                  <a:ext cx="12600" cy="52560"/>
                  <a:chOff x="1560960" y="4775040"/>
                  <a:chExt cx="12600" cy="52560"/>
                </a:xfrm>
              </p:grpSpPr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1560960" y="4775040"/>
                    <a:ext cx="12600" cy="52560"/>
                    <a:chOff x="1560960" y="4775040"/>
                    <a:chExt cx="12600" cy="5256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1560960" y="478476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156096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1562040" y="479484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1560960" y="478728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56168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157104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1" name=""/>
                  <p:cNvSpPr/>
                  <p:nvPr/>
                </p:nvSpPr>
                <p:spPr>
                  <a:xfrm>
                    <a:off x="1564920" y="480384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1578960" y="4775040"/>
                  <a:ext cx="12600" cy="52560"/>
                  <a:chOff x="1578960" y="4775040"/>
                  <a:chExt cx="12600" cy="52560"/>
                </a:xfrm>
              </p:grpSpPr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1578960" y="4775040"/>
                    <a:ext cx="12600" cy="52560"/>
                    <a:chOff x="1578960" y="4775040"/>
                    <a:chExt cx="12600" cy="52560"/>
                  </a:xfrm>
                </p:grpSpPr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578960" y="478476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57896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580040" y="479484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1578960" y="478728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157968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158904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0" name=""/>
                  <p:cNvSpPr/>
                  <p:nvPr/>
                </p:nvSpPr>
                <p:spPr>
                  <a:xfrm>
                    <a:off x="1582920" y="480384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1597320" y="4775040"/>
                  <a:ext cx="12600" cy="52560"/>
                  <a:chOff x="1597320" y="4775040"/>
                  <a:chExt cx="12600" cy="52560"/>
                </a:xfrm>
              </p:grpSpPr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1597320" y="4775040"/>
                    <a:ext cx="12600" cy="52560"/>
                    <a:chOff x="1597320" y="4775040"/>
                    <a:chExt cx="12600" cy="52560"/>
                  </a:xfrm>
                </p:grpSpPr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1597320" y="478476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59732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598400" y="479484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597320" y="478728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59804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60740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9" name=""/>
                  <p:cNvSpPr/>
                  <p:nvPr/>
                </p:nvSpPr>
                <p:spPr>
                  <a:xfrm>
                    <a:off x="1601280" y="480384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0" name=""/>
              <p:cNvGrpSpPr/>
              <p:nvPr/>
            </p:nvGrpSpPr>
            <p:grpSpPr>
              <a:xfrm>
                <a:off x="1717200" y="4768560"/>
                <a:ext cx="102960" cy="52560"/>
                <a:chOff x="1717200" y="4768560"/>
                <a:chExt cx="102960" cy="52560"/>
              </a:xfrm>
            </p:grpSpPr>
            <p:grpSp>
              <p:nvGrpSpPr>
                <p:cNvPr id="731" name=""/>
                <p:cNvGrpSpPr/>
                <p:nvPr/>
              </p:nvGrpSpPr>
              <p:grpSpPr>
                <a:xfrm>
                  <a:off x="1717200" y="4768560"/>
                  <a:ext cx="12600" cy="52560"/>
                  <a:chOff x="1717200" y="4768560"/>
                  <a:chExt cx="12600" cy="52560"/>
                </a:xfrm>
              </p:grpSpPr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1717200" y="4768560"/>
                    <a:ext cx="12600" cy="52560"/>
                    <a:chOff x="1717200" y="4768560"/>
                    <a:chExt cx="12600" cy="5256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717200" y="477828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71720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718280" y="478836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1717200" y="478080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71792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172728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39" name=""/>
                  <p:cNvSpPr/>
                  <p:nvPr/>
                </p:nvSpPr>
                <p:spPr>
                  <a:xfrm>
                    <a:off x="1721160" y="479736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0" name=""/>
                <p:cNvGrpSpPr/>
                <p:nvPr/>
              </p:nvGrpSpPr>
              <p:grpSpPr>
                <a:xfrm>
                  <a:off x="1735200" y="4768560"/>
                  <a:ext cx="12600" cy="52560"/>
                  <a:chOff x="1735200" y="4768560"/>
                  <a:chExt cx="12600" cy="52560"/>
                </a:xfrm>
              </p:grpSpPr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1735200" y="4768560"/>
                    <a:ext cx="12600" cy="52560"/>
                    <a:chOff x="1735200" y="4768560"/>
                    <a:chExt cx="12600" cy="5256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735200" y="477828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73520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736280" y="478836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735200" y="478080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73592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74528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48" name=""/>
                  <p:cNvSpPr/>
                  <p:nvPr/>
                </p:nvSpPr>
                <p:spPr>
                  <a:xfrm>
                    <a:off x="1739160" y="479736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9" name=""/>
                <p:cNvGrpSpPr/>
                <p:nvPr/>
              </p:nvGrpSpPr>
              <p:grpSpPr>
                <a:xfrm>
                  <a:off x="1753200" y="4768560"/>
                  <a:ext cx="12960" cy="52560"/>
                  <a:chOff x="1753200" y="4768560"/>
                  <a:chExt cx="12960" cy="52560"/>
                </a:xfrm>
              </p:grpSpPr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1753200" y="4768560"/>
                    <a:ext cx="12960" cy="52560"/>
                    <a:chOff x="1753200" y="4768560"/>
                    <a:chExt cx="12960" cy="5256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753200" y="4778280"/>
                      <a:ext cx="1260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75320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1754280" y="4788360"/>
                      <a:ext cx="1188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1753200" y="4780800"/>
                      <a:ext cx="12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175392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176328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7" name=""/>
                  <p:cNvSpPr/>
                  <p:nvPr/>
                </p:nvSpPr>
                <p:spPr>
                  <a:xfrm>
                    <a:off x="1757160" y="4797360"/>
                    <a:ext cx="720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1771200" y="4768560"/>
                  <a:ext cx="12600" cy="52560"/>
                  <a:chOff x="1771200" y="4768560"/>
                  <a:chExt cx="12600" cy="5256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1771200" y="4768560"/>
                    <a:ext cx="12600" cy="52560"/>
                    <a:chOff x="1771200" y="4768560"/>
                    <a:chExt cx="12600" cy="525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1771200" y="477828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177120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1772280" y="478836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1771200" y="478080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177192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>
                      <a:off x="178128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6" name=""/>
                  <p:cNvSpPr/>
                  <p:nvPr/>
                </p:nvSpPr>
                <p:spPr>
                  <a:xfrm>
                    <a:off x="1775160" y="479736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1789200" y="4768560"/>
                  <a:ext cx="12600" cy="52560"/>
                  <a:chOff x="1789200" y="4768560"/>
                  <a:chExt cx="12600" cy="52560"/>
                </a:xfrm>
              </p:grpSpPr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1789200" y="4768560"/>
                    <a:ext cx="12600" cy="52560"/>
                    <a:chOff x="1789200" y="4768560"/>
                    <a:chExt cx="12600" cy="5256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1789200" y="477828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178920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1790280" y="478836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1789200" y="478080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178992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179928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75" name=""/>
                  <p:cNvSpPr/>
                  <p:nvPr/>
                </p:nvSpPr>
                <p:spPr>
                  <a:xfrm>
                    <a:off x="1793160" y="479736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1807560" y="4768560"/>
                  <a:ext cx="12600" cy="52560"/>
                  <a:chOff x="1807560" y="4768560"/>
                  <a:chExt cx="12600" cy="52560"/>
                </a:xfrm>
              </p:grpSpPr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1807560" y="4768560"/>
                    <a:ext cx="12600" cy="52560"/>
                    <a:chOff x="1807560" y="4768560"/>
                    <a:chExt cx="12600" cy="5256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1807560" y="477828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180756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1808640" y="478836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1807560" y="478080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>
                      <a:off x="180828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181764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4" name=""/>
                  <p:cNvSpPr/>
                  <p:nvPr/>
                </p:nvSpPr>
                <p:spPr>
                  <a:xfrm>
                    <a:off x="1811520" y="479736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85" name=""/>
          <p:cNvSpPr/>
          <p:nvPr/>
        </p:nvSpPr>
        <p:spPr>
          <a:xfrm>
            <a:off x="1692360" y="4005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187280" y="479700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08000" y="479736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16000" y="170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40000" y="16304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4581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02880" y="6022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35240" y="47242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4120" y="7621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UCURSA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054160" y="7650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UCURSA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601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4"/>
          <a:stretch/>
        </p:blipFill>
        <p:spPr>
          <a:xfrm>
            <a:off x="971640" y="1989000"/>
            <a:ext cx="358560" cy="25416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15"/>
          <a:stretch/>
        </p:blipFill>
        <p:spPr>
          <a:xfrm>
            <a:off x="2195640" y="1989000"/>
            <a:ext cx="358560" cy="25416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16"/>
          <a:stretch/>
        </p:blipFill>
        <p:spPr>
          <a:xfrm>
            <a:off x="1476360" y="3789360"/>
            <a:ext cx="431640" cy="30636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17"/>
          <a:stretch/>
        </p:blipFill>
        <p:spPr>
          <a:xfrm>
            <a:off x="4932360" y="4316400"/>
            <a:ext cx="576360" cy="407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356000" y="4941720"/>
            <a:ext cx="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979640" y="4581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8172360" y="2997000"/>
            <a:ext cx="144720" cy="9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151160" y="2924280"/>
            <a:ext cx="4092840" cy="2665440"/>
          </a:xfrm>
          <a:custGeom>
            <a:avLst/>
            <a:gdLst/>
            <a:ahLst/>
            <a:rect l="l" t="t" r="r" b="b"/>
            <a:pathLst>
              <a:path w="2578" h="1679">
                <a:moveTo>
                  <a:pt x="401" y="1679"/>
                </a:moveTo>
                <a:cubicBezTo>
                  <a:pt x="200" y="1373"/>
                  <a:pt x="0" y="1067"/>
                  <a:pt x="265" y="908"/>
                </a:cubicBezTo>
                <a:cubicBezTo>
                  <a:pt x="530" y="749"/>
                  <a:pt x="1604" y="877"/>
                  <a:pt x="1989" y="726"/>
                </a:cubicBezTo>
                <a:cubicBezTo>
                  <a:pt x="2374" y="575"/>
                  <a:pt x="2480" y="121"/>
                  <a:pt x="2578" y="0"/>
                </a:cubicBezTo>
              </a:path>
            </a:pathLst>
          </a:custGeom>
          <a:noFill/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807440" y="836640"/>
            <a:ext cx="21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requi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IVA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UTENT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TEG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O REPUDI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651640" y="2637000"/>
            <a:ext cx="72072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296040" y="2665440"/>
            <a:ext cx="2771640" cy="2041560"/>
          </a:xfrm>
          <a:custGeom>
            <a:avLst/>
            <a:gdLst/>
            <a:ahLst/>
            <a:rect l="l" t="t" r="r" b="b"/>
            <a:pathLst>
              <a:path w="913" h="576">
                <a:moveTo>
                  <a:pt x="421" y="76"/>
                </a:moveTo>
                <a:lnTo>
                  <a:pt x="400" y="71"/>
                </a:lnTo>
                <a:lnTo>
                  <a:pt x="371" y="64"/>
                </a:lnTo>
                <a:lnTo>
                  <a:pt x="347" y="63"/>
                </a:lnTo>
                <a:lnTo>
                  <a:pt x="321" y="65"/>
                </a:lnTo>
                <a:lnTo>
                  <a:pt x="302" y="68"/>
                </a:lnTo>
                <a:lnTo>
                  <a:pt x="284" y="73"/>
                </a:lnTo>
                <a:lnTo>
                  <a:pt x="263" y="81"/>
                </a:lnTo>
                <a:lnTo>
                  <a:pt x="244" y="91"/>
                </a:lnTo>
                <a:lnTo>
                  <a:pt x="225" y="105"/>
                </a:lnTo>
                <a:lnTo>
                  <a:pt x="206" y="123"/>
                </a:lnTo>
                <a:lnTo>
                  <a:pt x="193" y="140"/>
                </a:lnTo>
                <a:lnTo>
                  <a:pt x="184" y="155"/>
                </a:lnTo>
                <a:lnTo>
                  <a:pt x="176" y="172"/>
                </a:lnTo>
                <a:lnTo>
                  <a:pt x="171" y="194"/>
                </a:lnTo>
                <a:lnTo>
                  <a:pt x="154" y="189"/>
                </a:lnTo>
                <a:lnTo>
                  <a:pt x="135" y="186"/>
                </a:lnTo>
                <a:lnTo>
                  <a:pt x="118" y="186"/>
                </a:lnTo>
                <a:lnTo>
                  <a:pt x="100" y="190"/>
                </a:lnTo>
                <a:lnTo>
                  <a:pt x="84" y="197"/>
                </a:lnTo>
                <a:lnTo>
                  <a:pt x="68" y="204"/>
                </a:lnTo>
                <a:lnTo>
                  <a:pt x="51" y="219"/>
                </a:lnTo>
                <a:lnTo>
                  <a:pt x="42" y="230"/>
                </a:lnTo>
                <a:lnTo>
                  <a:pt x="30" y="243"/>
                </a:lnTo>
                <a:lnTo>
                  <a:pt x="20" y="258"/>
                </a:lnTo>
                <a:lnTo>
                  <a:pt x="12" y="279"/>
                </a:lnTo>
                <a:lnTo>
                  <a:pt x="6" y="298"/>
                </a:lnTo>
                <a:lnTo>
                  <a:pt x="2" y="318"/>
                </a:lnTo>
                <a:lnTo>
                  <a:pt x="1" y="333"/>
                </a:lnTo>
                <a:lnTo>
                  <a:pt x="0" y="349"/>
                </a:lnTo>
                <a:lnTo>
                  <a:pt x="1" y="368"/>
                </a:lnTo>
                <a:lnTo>
                  <a:pt x="3" y="385"/>
                </a:lnTo>
                <a:lnTo>
                  <a:pt x="7" y="402"/>
                </a:lnTo>
                <a:lnTo>
                  <a:pt x="12" y="418"/>
                </a:lnTo>
                <a:lnTo>
                  <a:pt x="20" y="436"/>
                </a:lnTo>
                <a:lnTo>
                  <a:pt x="30" y="454"/>
                </a:lnTo>
                <a:lnTo>
                  <a:pt x="42" y="468"/>
                </a:lnTo>
                <a:lnTo>
                  <a:pt x="56" y="482"/>
                </a:lnTo>
                <a:lnTo>
                  <a:pt x="72" y="493"/>
                </a:lnTo>
                <a:lnTo>
                  <a:pt x="85" y="500"/>
                </a:lnTo>
                <a:lnTo>
                  <a:pt x="98" y="504"/>
                </a:lnTo>
                <a:lnTo>
                  <a:pt x="113" y="509"/>
                </a:lnTo>
                <a:lnTo>
                  <a:pt x="128" y="509"/>
                </a:lnTo>
                <a:lnTo>
                  <a:pt x="145" y="509"/>
                </a:lnTo>
                <a:lnTo>
                  <a:pt x="161" y="506"/>
                </a:lnTo>
                <a:lnTo>
                  <a:pt x="174" y="502"/>
                </a:lnTo>
                <a:lnTo>
                  <a:pt x="182" y="498"/>
                </a:lnTo>
                <a:lnTo>
                  <a:pt x="191" y="511"/>
                </a:lnTo>
                <a:lnTo>
                  <a:pt x="204" y="522"/>
                </a:lnTo>
                <a:lnTo>
                  <a:pt x="217" y="533"/>
                </a:lnTo>
                <a:lnTo>
                  <a:pt x="232" y="543"/>
                </a:lnTo>
                <a:lnTo>
                  <a:pt x="252" y="552"/>
                </a:lnTo>
                <a:lnTo>
                  <a:pt x="271" y="561"/>
                </a:lnTo>
                <a:lnTo>
                  <a:pt x="294" y="568"/>
                </a:lnTo>
                <a:lnTo>
                  <a:pt x="315" y="572"/>
                </a:lnTo>
                <a:lnTo>
                  <a:pt x="339" y="575"/>
                </a:lnTo>
                <a:lnTo>
                  <a:pt x="357" y="575"/>
                </a:lnTo>
                <a:lnTo>
                  <a:pt x="376" y="575"/>
                </a:lnTo>
                <a:lnTo>
                  <a:pt x="402" y="571"/>
                </a:lnTo>
                <a:lnTo>
                  <a:pt x="433" y="559"/>
                </a:lnTo>
                <a:lnTo>
                  <a:pt x="444" y="562"/>
                </a:lnTo>
                <a:lnTo>
                  <a:pt x="465" y="553"/>
                </a:lnTo>
                <a:lnTo>
                  <a:pt x="486" y="543"/>
                </a:lnTo>
                <a:lnTo>
                  <a:pt x="499" y="535"/>
                </a:lnTo>
                <a:lnTo>
                  <a:pt x="510" y="525"/>
                </a:lnTo>
                <a:lnTo>
                  <a:pt x="522" y="531"/>
                </a:lnTo>
                <a:lnTo>
                  <a:pt x="537" y="539"/>
                </a:lnTo>
                <a:lnTo>
                  <a:pt x="552" y="544"/>
                </a:lnTo>
                <a:lnTo>
                  <a:pt x="566" y="548"/>
                </a:lnTo>
                <a:lnTo>
                  <a:pt x="582" y="550"/>
                </a:lnTo>
                <a:lnTo>
                  <a:pt x="597" y="550"/>
                </a:lnTo>
                <a:lnTo>
                  <a:pt x="615" y="547"/>
                </a:lnTo>
                <a:lnTo>
                  <a:pt x="633" y="542"/>
                </a:lnTo>
                <a:lnTo>
                  <a:pt x="650" y="535"/>
                </a:lnTo>
                <a:lnTo>
                  <a:pt x="666" y="524"/>
                </a:lnTo>
                <a:lnTo>
                  <a:pt x="681" y="512"/>
                </a:lnTo>
                <a:lnTo>
                  <a:pt x="701" y="522"/>
                </a:lnTo>
                <a:lnTo>
                  <a:pt x="720" y="527"/>
                </a:lnTo>
                <a:lnTo>
                  <a:pt x="736" y="530"/>
                </a:lnTo>
                <a:lnTo>
                  <a:pt x="759" y="530"/>
                </a:lnTo>
                <a:lnTo>
                  <a:pt x="784" y="526"/>
                </a:lnTo>
                <a:lnTo>
                  <a:pt x="813" y="516"/>
                </a:lnTo>
                <a:lnTo>
                  <a:pt x="837" y="500"/>
                </a:lnTo>
                <a:lnTo>
                  <a:pt x="858" y="481"/>
                </a:lnTo>
                <a:lnTo>
                  <a:pt x="878" y="458"/>
                </a:lnTo>
                <a:lnTo>
                  <a:pt x="888" y="439"/>
                </a:lnTo>
                <a:lnTo>
                  <a:pt x="897" y="420"/>
                </a:lnTo>
                <a:lnTo>
                  <a:pt x="906" y="394"/>
                </a:lnTo>
                <a:lnTo>
                  <a:pt x="910" y="370"/>
                </a:lnTo>
                <a:lnTo>
                  <a:pt x="912" y="343"/>
                </a:lnTo>
                <a:lnTo>
                  <a:pt x="910" y="323"/>
                </a:lnTo>
                <a:lnTo>
                  <a:pt x="906" y="298"/>
                </a:lnTo>
                <a:lnTo>
                  <a:pt x="899" y="274"/>
                </a:lnTo>
                <a:lnTo>
                  <a:pt x="888" y="252"/>
                </a:lnTo>
                <a:lnTo>
                  <a:pt x="877" y="230"/>
                </a:lnTo>
                <a:lnTo>
                  <a:pt x="862" y="212"/>
                </a:lnTo>
                <a:lnTo>
                  <a:pt x="848" y="198"/>
                </a:lnTo>
                <a:lnTo>
                  <a:pt x="834" y="188"/>
                </a:lnTo>
                <a:lnTo>
                  <a:pt x="815" y="173"/>
                </a:lnTo>
                <a:lnTo>
                  <a:pt x="797" y="166"/>
                </a:lnTo>
                <a:lnTo>
                  <a:pt x="781" y="162"/>
                </a:lnTo>
                <a:lnTo>
                  <a:pt x="762" y="159"/>
                </a:lnTo>
                <a:lnTo>
                  <a:pt x="759" y="143"/>
                </a:lnTo>
                <a:lnTo>
                  <a:pt x="754" y="126"/>
                </a:lnTo>
                <a:lnTo>
                  <a:pt x="747" y="110"/>
                </a:lnTo>
                <a:lnTo>
                  <a:pt x="738" y="94"/>
                </a:lnTo>
                <a:lnTo>
                  <a:pt x="726" y="77"/>
                </a:lnTo>
                <a:lnTo>
                  <a:pt x="711" y="59"/>
                </a:lnTo>
                <a:lnTo>
                  <a:pt x="698" y="45"/>
                </a:lnTo>
                <a:lnTo>
                  <a:pt x="681" y="33"/>
                </a:lnTo>
                <a:lnTo>
                  <a:pt x="660" y="20"/>
                </a:lnTo>
                <a:lnTo>
                  <a:pt x="640" y="11"/>
                </a:lnTo>
                <a:lnTo>
                  <a:pt x="621" y="5"/>
                </a:lnTo>
                <a:lnTo>
                  <a:pt x="598" y="1"/>
                </a:lnTo>
                <a:lnTo>
                  <a:pt x="577" y="0"/>
                </a:lnTo>
                <a:lnTo>
                  <a:pt x="554" y="0"/>
                </a:lnTo>
                <a:lnTo>
                  <a:pt x="533" y="4"/>
                </a:lnTo>
                <a:lnTo>
                  <a:pt x="509" y="11"/>
                </a:lnTo>
                <a:lnTo>
                  <a:pt x="483" y="23"/>
                </a:lnTo>
                <a:lnTo>
                  <a:pt x="466" y="33"/>
                </a:lnTo>
                <a:lnTo>
                  <a:pt x="449" y="46"/>
                </a:lnTo>
                <a:lnTo>
                  <a:pt x="434" y="62"/>
                </a:lnTo>
                <a:lnTo>
                  <a:pt x="421" y="76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86960" y="3657600"/>
            <a:ext cx="139644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66680" y="152280"/>
            <a:ext cx="741708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nkGothic Md BT"/>
              </a:rPr>
              <a:t>TENDENCIA A INDEPENDIZAR EL T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2911320" y="3457440"/>
          <a:ext cx="8384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1320" y="3457440"/>
                    <a:ext cx="838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"/>
          <p:cNvSpPr/>
          <p:nvPr/>
        </p:nvSpPr>
        <p:spPr>
          <a:xfrm>
            <a:off x="461880" y="5689440"/>
            <a:ext cx="1532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D  IN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1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97480" y="3122640"/>
            <a:ext cx="89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3"/>
          <a:stretch/>
        </p:blipFill>
        <p:spPr>
          <a:xfrm>
            <a:off x="750960" y="4681440"/>
            <a:ext cx="49356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5" name=""/>
          <p:cNvGraphicFramePr/>
          <p:nvPr/>
        </p:nvGraphicFramePr>
        <p:xfrm>
          <a:off x="3597120" y="5010120"/>
          <a:ext cx="535320" cy="9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97120" y="5010120"/>
                    <a:ext cx="5353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"/>
          <p:cNvSpPr/>
          <p:nvPr/>
        </p:nvSpPr>
        <p:spPr>
          <a:xfrm>
            <a:off x="3309840" y="5443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2982960" y="1800360"/>
          <a:ext cx="83808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2960" y="1800360"/>
                    <a:ext cx="838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"/>
          <p:cNvSpPr/>
          <p:nvPr/>
        </p:nvSpPr>
        <p:spPr>
          <a:xfrm>
            <a:off x="2838960" y="1441440"/>
            <a:ext cx="1222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N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7451640" y="649440"/>
            <a:ext cx="1302840" cy="1655280"/>
            <a:chOff x="7451640" y="649440"/>
            <a:chExt cx="1302840" cy="1655280"/>
          </a:xfrm>
        </p:grpSpPr>
        <p:grpSp>
          <p:nvGrpSpPr>
            <p:cNvPr id="822" name=""/>
            <p:cNvGrpSpPr/>
            <p:nvPr/>
          </p:nvGrpSpPr>
          <p:grpSpPr>
            <a:xfrm>
              <a:off x="7451640" y="1097280"/>
              <a:ext cx="1302840" cy="462600"/>
              <a:chOff x="7451640" y="1097280"/>
              <a:chExt cx="1302840" cy="462600"/>
            </a:xfrm>
          </p:grpSpPr>
          <p:graphicFrame>
            <p:nvGraphicFramePr>
              <p:cNvPr id="823" name=""/>
              <p:cNvGraphicFramePr/>
              <p:nvPr/>
            </p:nvGraphicFramePr>
            <p:xfrm>
              <a:off x="7585920" y="1097280"/>
              <a:ext cx="582120" cy="4626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824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585920" y="1097280"/>
                        <a:ext cx="582120" cy="46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25" name=""/>
              <p:cNvGraphicFramePr/>
              <p:nvPr/>
            </p:nvGraphicFramePr>
            <p:xfrm>
              <a:off x="8172360" y="1097280"/>
              <a:ext cx="582120" cy="46260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826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8172360" y="1097280"/>
                        <a:ext cx="582120" cy="46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27" name=""/>
              <p:cNvSpPr/>
              <p:nvPr/>
            </p:nvSpPr>
            <p:spPr>
              <a:xfrm>
                <a:off x="7451640" y="1507680"/>
                <a:ext cx="120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28" name=""/>
            <p:cNvGraphicFramePr/>
            <p:nvPr/>
          </p:nvGraphicFramePr>
          <p:xfrm>
            <a:off x="7913520" y="1690560"/>
            <a:ext cx="382680" cy="614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2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13520" y="1690560"/>
                      <a:ext cx="382680" cy="61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0" name=""/>
            <p:cNvSpPr/>
            <p:nvPr/>
          </p:nvSpPr>
          <p:spPr>
            <a:xfrm>
              <a:off x="8097120" y="152100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545240" y="649440"/>
              <a:ext cx="871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10.2.0.0/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843680" y="5184720"/>
            <a:ext cx="1223640" cy="1522080"/>
            <a:chOff x="7843680" y="5184720"/>
            <a:chExt cx="1223640" cy="1522080"/>
          </a:xfrm>
        </p:grpSpPr>
        <p:graphicFrame>
          <p:nvGraphicFramePr>
            <p:cNvPr id="833" name=""/>
            <p:cNvGraphicFramePr/>
            <p:nvPr/>
          </p:nvGraphicFramePr>
          <p:xfrm>
            <a:off x="8487000" y="5921640"/>
            <a:ext cx="580320" cy="4471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83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487000" y="5921640"/>
                      <a:ext cx="580320" cy="44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5" name=""/>
            <p:cNvSpPr/>
            <p:nvPr/>
          </p:nvSpPr>
          <p:spPr>
            <a:xfrm>
              <a:off x="8027640" y="6247800"/>
              <a:ext cx="871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ogo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10.3.0.0/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7843680" y="5184720"/>
              <a:ext cx="1197000" cy="1183680"/>
              <a:chOff x="7843680" y="5184720"/>
              <a:chExt cx="1197000" cy="1183680"/>
            </a:xfrm>
          </p:grpSpPr>
          <p:graphicFrame>
            <p:nvGraphicFramePr>
              <p:cNvPr id="837" name=""/>
              <p:cNvGraphicFramePr/>
              <p:nvPr/>
            </p:nvGraphicFramePr>
            <p:xfrm>
              <a:off x="7934760" y="5922000"/>
              <a:ext cx="580680" cy="44640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838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7934760" y="5922000"/>
                        <a:ext cx="580680" cy="44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9" name=""/>
              <p:cNvSpPr/>
              <p:nvPr/>
            </p:nvSpPr>
            <p:spPr>
              <a:xfrm>
                <a:off x="7843680" y="590904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40" name=""/>
              <p:cNvGraphicFramePr/>
              <p:nvPr/>
            </p:nvGraphicFramePr>
            <p:xfrm>
              <a:off x="8304120" y="5184720"/>
              <a:ext cx="381240" cy="59292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841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8304120" y="5184720"/>
                        <a:ext cx="381240" cy="59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2" name=""/>
              <p:cNvSpPr/>
              <p:nvPr/>
            </p:nvSpPr>
            <p:spPr>
              <a:xfrm>
                <a:off x="8577720" y="5455080"/>
                <a:ext cx="0" cy="16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86640" y="5757480"/>
                <a:ext cx="0" cy="16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4" name=""/>
          <p:cNvSpPr/>
          <p:nvPr/>
        </p:nvSpPr>
        <p:spPr>
          <a:xfrm flipV="1">
            <a:off x="8528040" y="44658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024760" y="2305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047040" y="6019920"/>
            <a:ext cx="5418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M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309840" y="42908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227120" y="5035680"/>
            <a:ext cx="79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R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966960" y="4105440"/>
            <a:ext cx="144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966960" y="3673440"/>
            <a:ext cx="791640" cy="432000"/>
            <a:chOff x="966960" y="3673440"/>
            <a:chExt cx="791640" cy="432000"/>
          </a:xfrm>
        </p:grpSpPr>
        <p:sp>
          <p:nvSpPr>
            <p:cNvPr id="851" name=""/>
            <p:cNvSpPr/>
            <p:nvPr/>
          </p:nvSpPr>
          <p:spPr>
            <a:xfrm>
              <a:off x="966960" y="3674520"/>
              <a:ext cx="790560" cy="21060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076760" y="3880800"/>
              <a:ext cx="681840" cy="2228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66960" y="3673440"/>
              <a:ext cx="111960" cy="43200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84680" y="3893400"/>
              <a:ext cx="570960" cy="1983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1076760" y="3938400"/>
              <a:ext cx="20880" cy="45720"/>
              <a:chOff x="1076760" y="3938400"/>
              <a:chExt cx="20880" cy="45720"/>
            </a:xfrm>
          </p:grpSpPr>
          <p:sp>
            <p:nvSpPr>
              <p:cNvPr id="856" name=""/>
              <p:cNvSpPr/>
              <p:nvPr/>
            </p:nvSpPr>
            <p:spPr>
              <a:xfrm>
                <a:off x="1076760" y="3938400"/>
                <a:ext cx="2088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076760" y="3944520"/>
                <a:ext cx="2088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076760" y="3958200"/>
                <a:ext cx="2088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076760" y="3963960"/>
                <a:ext cx="2088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076760" y="3978360"/>
                <a:ext cx="2088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076760" y="3983760"/>
                <a:ext cx="2088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1656720" y="3874320"/>
              <a:ext cx="100800" cy="1332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983520" y="3745080"/>
              <a:ext cx="29880" cy="202320"/>
              <a:chOff x="983520" y="3745080"/>
              <a:chExt cx="29880" cy="202320"/>
            </a:xfrm>
          </p:grpSpPr>
          <p:grpSp>
            <p:nvGrpSpPr>
              <p:cNvPr id="864" name=""/>
              <p:cNvGrpSpPr/>
              <p:nvPr/>
            </p:nvGrpSpPr>
            <p:grpSpPr>
              <a:xfrm>
                <a:off x="983520" y="3745080"/>
                <a:ext cx="29880" cy="64440"/>
                <a:chOff x="983520" y="3745080"/>
                <a:chExt cx="29880" cy="6444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983520" y="3745440"/>
                  <a:ext cx="2880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984240" y="3745080"/>
                  <a:ext cx="2916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983520" y="3767760"/>
                <a:ext cx="29880" cy="64440"/>
                <a:chOff x="983520" y="3767760"/>
                <a:chExt cx="29880" cy="6444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983520" y="3768120"/>
                  <a:ext cx="2880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984240" y="3767760"/>
                  <a:ext cx="29160" cy="637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983520" y="3790800"/>
                <a:ext cx="29880" cy="64080"/>
                <a:chOff x="983520" y="3790800"/>
                <a:chExt cx="29880" cy="6408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983520" y="3791160"/>
                  <a:ext cx="28800" cy="637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984240" y="3790800"/>
                  <a:ext cx="29160" cy="637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983520" y="3813840"/>
                <a:ext cx="29880" cy="64080"/>
                <a:chOff x="983520" y="3813840"/>
                <a:chExt cx="29880" cy="6408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983520" y="3814200"/>
                  <a:ext cx="28800" cy="637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984240" y="3813840"/>
                  <a:ext cx="2916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983520" y="3836880"/>
                <a:ext cx="29880" cy="64440"/>
                <a:chOff x="983520" y="3836880"/>
                <a:chExt cx="29880" cy="644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983520" y="3837240"/>
                  <a:ext cx="2880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984240" y="3836880"/>
                  <a:ext cx="2916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983520" y="3859920"/>
                <a:ext cx="29880" cy="64440"/>
                <a:chOff x="983520" y="3859920"/>
                <a:chExt cx="29880" cy="644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983520" y="3860280"/>
                  <a:ext cx="2880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984240" y="3859920"/>
                  <a:ext cx="2916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983520" y="3882960"/>
                <a:ext cx="29880" cy="64440"/>
                <a:chOff x="983520" y="3882960"/>
                <a:chExt cx="29880" cy="6444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983520" y="3883320"/>
                  <a:ext cx="2880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984240" y="3882960"/>
                  <a:ext cx="2916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5" name=""/>
            <p:cNvGrpSpPr/>
            <p:nvPr/>
          </p:nvGrpSpPr>
          <p:grpSpPr>
            <a:xfrm>
              <a:off x="1028880" y="3832200"/>
              <a:ext cx="28800" cy="200160"/>
              <a:chOff x="1028880" y="3832200"/>
              <a:chExt cx="28800" cy="200160"/>
            </a:xfrm>
          </p:grpSpPr>
          <p:grpSp>
            <p:nvGrpSpPr>
              <p:cNvPr id="886" name=""/>
              <p:cNvGrpSpPr/>
              <p:nvPr/>
            </p:nvGrpSpPr>
            <p:grpSpPr>
              <a:xfrm>
                <a:off x="1028880" y="3832200"/>
                <a:ext cx="28800" cy="63000"/>
                <a:chOff x="1028880" y="3832200"/>
                <a:chExt cx="28800" cy="6300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028880" y="3832560"/>
                  <a:ext cx="28080" cy="62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029600" y="383220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028880" y="3854880"/>
                <a:ext cx="28800" cy="63360"/>
                <a:chOff x="1028880" y="3854880"/>
                <a:chExt cx="28800" cy="6336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028880" y="385524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029600" y="385488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028880" y="3877920"/>
                <a:ext cx="28800" cy="63360"/>
                <a:chOff x="1028880" y="3877920"/>
                <a:chExt cx="28800" cy="6336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028880" y="387828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029600" y="3877920"/>
                  <a:ext cx="28080" cy="62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028880" y="3900960"/>
                <a:ext cx="28800" cy="63360"/>
                <a:chOff x="1028880" y="3900960"/>
                <a:chExt cx="28800" cy="6336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028880" y="390132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029600" y="390096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028880" y="3923640"/>
                <a:ext cx="28800" cy="63360"/>
                <a:chOff x="1028880" y="3923640"/>
                <a:chExt cx="28800" cy="6336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028880" y="392400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029600" y="392364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028880" y="3946680"/>
                <a:ext cx="28800" cy="63360"/>
                <a:chOff x="1028880" y="3946680"/>
                <a:chExt cx="28800" cy="6336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028880" y="394704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029600" y="394668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1028880" y="3969360"/>
                <a:ext cx="28800" cy="63000"/>
                <a:chOff x="1028880" y="3969360"/>
                <a:chExt cx="28800" cy="6300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1028880" y="3969720"/>
                  <a:ext cx="28080" cy="62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029600" y="396936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7" name=""/>
            <p:cNvGrpSpPr/>
            <p:nvPr/>
          </p:nvGrpSpPr>
          <p:grpSpPr>
            <a:xfrm>
              <a:off x="990000" y="3678480"/>
              <a:ext cx="118440" cy="194400"/>
              <a:chOff x="990000" y="3678480"/>
              <a:chExt cx="118440" cy="194400"/>
            </a:xfrm>
          </p:grpSpPr>
          <p:sp>
            <p:nvSpPr>
              <p:cNvPr id="908" name=""/>
              <p:cNvSpPr/>
              <p:nvPr/>
            </p:nvSpPr>
            <p:spPr>
              <a:xfrm>
                <a:off x="990000" y="3678480"/>
                <a:ext cx="30240" cy="237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993240" y="3682800"/>
                <a:ext cx="25920" cy="201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078200" y="3848760"/>
                <a:ext cx="30240" cy="230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081440" y="3852360"/>
                <a:ext cx="2592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1618200" y="3678480"/>
              <a:ext cx="118080" cy="194400"/>
              <a:chOff x="1618200" y="3678480"/>
              <a:chExt cx="118080" cy="194400"/>
            </a:xfrm>
          </p:grpSpPr>
          <p:sp>
            <p:nvSpPr>
              <p:cNvPr id="913" name=""/>
              <p:cNvSpPr/>
              <p:nvPr/>
            </p:nvSpPr>
            <p:spPr>
              <a:xfrm>
                <a:off x="1618200" y="3678480"/>
                <a:ext cx="30240" cy="237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621080" y="3682800"/>
                <a:ext cx="26280" cy="201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706400" y="3848760"/>
                <a:ext cx="29880" cy="230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709640" y="3852360"/>
                <a:ext cx="2628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1084680" y="3897360"/>
              <a:ext cx="574200" cy="190440"/>
              <a:chOff x="1084680" y="3897360"/>
              <a:chExt cx="574200" cy="190440"/>
            </a:xfrm>
          </p:grpSpPr>
          <p:sp>
            <p:nvSpPr>
              <p:cNvPr id="918" name=""/>
              <p:cNvSpPr/>
              <p:nvPr/>
            </p:nvSpPr>
            <p:spPr>
              <a:xfrm>
                <a:off x="1084680" y="3898080"/>
                <a:ext cx="540360" cy="1893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607760" y="3897360"/>
                <a:ext cx="51120" cy="19044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1677960" y="3890520"/>
              <a:ext cx="80640" cy="2145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1109880" y="3924720"/>
              <a:ext cx="523080" cy="139320"/>
              <a:chOff x="1109880" y="3924720"/>
              <a:chExt cx="523080" cy="13932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1575000" y="3924720"/>
                <a:ext cx="57960" cy="27000"/>
                <a:chOff x="1575000" y="3924720"/>
                <a:chExt cx="57960" cy="27000"/>
              </a:xfrm>
            </p:grpSpPr>
            <p:grpSp>
              <p:nvGrpSpPr>
                <p:cNvPr id="923" name=""/>
                <p:cNvGrpSpPr/>
                <p:nvPr/>
              </p:nvGrpSpPr>
              <p:grpSpPr>
                <a:xfrm>
                  <a:off x="1575000" y="3924720"/>
                  <a:ext cx="17640" cy="27000"/>
                  <a:chOff x="1575000" y="3924720"/>
                  <a:chExt cx="17640" cy="2700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>
                    <a:off x="1580760" y="3929040"/>
                    <a:ext cx="1188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575000" y="3924720"/>
                    <a:ext cx="100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1575000" y="3934080"/>
                    <a:ext cx="10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575000" y="3942360"/>
                    <a:ext cx="1224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1582920" y="3938040"/>
                    <a:ext cx="9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1582560" y="3947040"/>
                    <a:ext cx="10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0" name=""/>
                <p:cNvGrpSpPr/>
                <p:nvPr/>
              </p:nvGrpSpPr>
              <p:grpSpPr>
                <a:xfrm>
                  <a:off x="1595160" y="3927600"/>
                  <a:ext cx="37800" cy="20880"/>
                  <a:chOff x="1595160" y="3927600"/>
                  <a:chExt cx="37800" cy="2088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>
                    <a:off x="1595160" y="3927600"/>
                    <a:ext cx="37800" cy="8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1595160" y="3940200"/>
                    <a:ext cx="37800" cy="8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3" name=""/>
              <p:cNvGrpSpPr/>
              <p:nvPr/>
            </p:nvGrpSpPr>
            <p:grpSpPr>
              <a:xfrm>
                <a:off x="1602360" y="4050000"/>
                <a:ext cx="29520" cy="14040"/>
                <a:chOff x="1602360" y="4050000"/>
                <a:chExt cx="29520" cy="140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1602360" y="4050000"/>
                  <a:ext cx="29520" cy="6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604160" y="4057560"/>
                  <a:ext cx="27720" cy="6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1546560" y="3943800"/>
                <a:ext cx="22320" cy="42480"/>
                <a:chOff x="1546560" y="3943800"/>
                <a:chExt cx="22320" cy="4248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1546560" y="3950280"/>
                  <a:ext cx="22320" cy="3600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550520" y="3943800"/>
                  <a:ext cx="15120" cy="1440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552680" y="3945600"/>
                  <a:ext cx="10800" cy="1116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0" name=""/>
              <p:cNvSpPr/>
              <p:nvPr/>
            </p:nvSpPr>
            <p:spPr>
              <a:xfrm>
                <a:off x="1550520" y="3994560"/>
                <a:ext cx="6840" cy="104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59520" y="3994560"/>
                <a:ext cx="6840" cy="104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550520" y="4009680"/>
                <a:ext cx="68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559520" y="4009680"/>
                <a:ext cx="68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550520" y="4025520"/>
                <a:ext cx="6840" cy="111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559520" y="4025520"/>
                <a:ext cx="6840" cy="111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550520" y="4041360"/>
                <a:ext cx="68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59520" y="4041360"/>
                <a:ext cx="68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571400" y="4028760"/>
                <a:ext cx="2196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267200" y="3943800"/>
                <a:ext cx="107280" cy="3816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306800" y="3935880"/>
                <a:ext cx="32040" cy="1584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311120" y="3938040"/>
                <a:ext cx="22320" cy="1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2" name=""/>
              <p:cNvGrpSpPr/>
              <p:nvPr/>
            </p:nvGrpSpPr>
            <p:grpSpPr>
              <a:xfrm>
                <a:off x="1301040" y="3953880"/>
                <a:ext cx="41760" cy="25200"/>
                <a:chOff x="1301040" y="3953880"/>
                <a:chExt cx="41760" cy="252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1301040" y="3953880"/>
                  <a:ext cx="4176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1302840" y="3962880"/>
                  <a:ext cx="3780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306800" y="3972240"/>
                  <a:ext cx="3096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1265760" y="3988800"/>
                <a:ext cx="54720" cy="59400"/>
                <a:chOff x="1265760" y="3988800"/>
                <a:chExt cx="54720" cy="59400"/>
              </a:xfrm>
            </p:grpSpPr>
            <p:grpSp>
              <p:nvGrpSpPr>
                <p:cNvPr id="957" name=""/>
                <p:cNvGrpSpPr/>
                <p:nvPr/>
              </p:nvGrpSpPr>
              <p:grpSpPr>
                <a:xfrm>
                  <a:off x="1265760" y="3988800"/>
                  <a:ext cx="54720" cy="10800"/>
                  <a:chOff x="1265760" y="3988800"/>
                  <a:chExt cx="54720" cy="108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126576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127512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28448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1294560" y="398880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130392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131364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1265760" y="4004280"/>
                  <a:ext cx="54720" cy="11520"/>
                  <a:chOff x="1265760" y="4004280"/>
                  <a:chExt cx="54720" cy="1152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126576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127512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28448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294560" y="40042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30392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131364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1265760" y="4020840"/>
                  <a:ext cx="54720" cy="10800"/>
                  <a:chOff x="1265760" y="4020840"/>
                  <a:chExt cx="54720" cy="1080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126576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127512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128448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1294560" y="402084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130392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131364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8" name=""/>
                <p:cNvGrpSpPr/>
                <p:nvPr/>
              </p:nvGrpSpPr>
              <p:grpSpPr>
                <a:xfrm>
                  <a:off x="1265760" y="4036680"/>
                  <a:ext cx="54720" cy="11520"/>
                  <a:chOff x="1265760" y="4036680"/>
                  <a:chExt cx="54720" cy="1152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126576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127512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128448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1294560" y="40366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130392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131364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5" name=""/>
              <p:cNvGrpSpPr/>
              <p:nvPr/>
            </p:nvGrpSpPr>
            <p:grpSpPr>
              <a:xfrm>
                <a:off x="1323720" y="3988800"/>
                <a:ext cx="54360" cy="59400"/>
                <a:chOff x="1323720" y="3988800"/>
                <a:chExt cx="54360" cy="59400"/>
              </a:xfrm>
            </p:grpSpPr>
            <p:grpSp>
              <p:nvGrpSpPr>
                <p:cNvPr id="986" name=""/>
                <p:cNvGrpSpPr/>
                <p:nvPr/>
              </p:nvGrpSpPr>
              <p:grpSpPr>
                <a:xfrm>
                  <a:off x="1323720" y="3988800"/>
                  <a:ext cx="54360" cy="10800"/>
                  <a:chOff x="1323720" y="3988800"/>
                  <a:chExt cx="54360" cy="1080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1323720" y="398880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133308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34244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135216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36152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1371600" y="398880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1323720" y="4004280"/>
                  <a:ext cx="54360" cy="11520"/>
                  <a:chOff x="1323720" y="4004280"/>
                  <a:chExt cx="54360" cy="1152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>
                    <a:off x="1323720" y="40042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133308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134244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135216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136152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1371600" y="40042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1323720" y="4020840"/>
                  <a:ext cx="54360" cy="10800"/>
                  <a:chOff x="1323720" y="4020840"/>
                  <a:chExt cx="54360" cy="1080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>
                    <a:off x="1323720" y="402084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33308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34244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35216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136152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1371600" y="402084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1323720" y="4036680"/>
                  <a:ext cx="54360" cy="11520"/>
                  <a:chOff x="1323720" y="4036680"/>
                  <a:chExt cx="54360" cy="1152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>
                    <a:off x="1323720" y="40366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133308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134244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35216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136152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371600" y="40366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4" name=""/>
              <p:cNvGrpSpPr/>
              <p:nvPr/>
            </p:nvGrpSpPr>
            <p:grpSpPr>
              <a:xfrm>
                <a:off x="1109880" y="4008960"/>
                <a:ext cx="141840" cy="51840"/>
                <a:chOff x="1109880" y="4008960"/>
                <a:chExt cx="141840" cy="51840"/>
              </a:xfrm>
            </p:grpSpPr>
            <p:grpSp>
              <p:nvGrpSpPr>
                <p:cNvPr id="1015" name=""/>
                <p:cNvGrpSpPr/>
                <p:nvPr/>
              </p:nvGrpSpPr>
              <p:grpSpPr>
                <a:xfrm>
                  <a:off x="1109880" y="4008960"/>
                  <a:ext cx="17640" cy="51840"/>
                  <a:chOff x="1109880" y="4008960"/>
                  <a:chExt cx="17640" cy="51840"/>
                </a:xfrm>
              </p:grpSpPr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1109880" y="4008960"/>
                    <a:ext cx="17640" cy="51840"/>
                    <a:chOff x="1109880" y="4008960"/>
                    <a:chExt cx="17640" cy="5184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110988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110988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111168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110988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>
                      <a:off x="111096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112392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3" name=""/>
                  <p:cNvSpPr/>
                  <p:nvPr/>
                </p:nvSpPr>
                <p:spPr>
                  <a:xfrm>
                    <a:off x="111528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1134360" y="4008960"/>
                  <a:ext cx="17640" cy="51840"/>
                  <a:chOff x="1134360" y="4008960"/>
                  <a:chExt cx="17640" cy="51840"/>
                </a:xfrm>
              </p:grpSpPr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1134360" y="4008960"/>
                    <a:ext cx="17640" cy="51840"/>
                    <a:chOff x="1134360" y="4008960"/>
                    <a:chExt cx="17640" cy="5184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113436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113436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113616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113436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113544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114840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113976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1159200" y="4008960"/>
                  <a:ext cx="17640" cy="51840"/>
                  <a:chOff x="1159200" y="4008960"/>
                  <a:chExt cx="17640" cy="51840"/>
                </a:xfrm>
              </p:grpSpPr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1159200" y="4008960"/>
                    <a:ext cx="17640" cy="51840"/>
                    <a:chOff x="1159200" y="4008960"/>
                    <a:chExt cx="17640" cy="5184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115920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115920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116100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15920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16028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117324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1" name=""/>
                  <p:cNvSpPr/>
                  <p:nvPr/>
                </p:nvSpPr>
                <p:spPr>
                  <a:xfrm>
                    <a:off x="116460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1184400" y="4008960"/>
                  <a:ext cx="17640" cy="51840"/>
                  <a:chOff x="1184400" y="4008960"/>
                  <a:chExt cx="17640" cy="5184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1184400" y="4008960"/>
                    <a:ext cx="17640" cy="51840"/>
                    <a:chOff x="1184400" y="4008960"/>
                    <a:chExt cx="17640" cy="518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118440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118440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118620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118440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118548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119844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0" name=""/>
                  <p:cNvSpPr/>
                  <p:nvPr/>
                </p:nvSpPr>
                <p:spPr>
                  <a:xfrm>
                    <a:off x="118980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1209240" y="4008960"/>
                  <a:ext cx="17640" cy="51840"/>
                  <a:chOff x="1209240" y="4008960"/>
                  <a:chExt cx="17640" cy="51840"/>
                </a:xfrm>
              </p:grpSpPr>
              <p:grpSp>
                <p:nvGrpSpPr>
                  <p:cNvPr id="1052" name=""/>
                  <p:cNvGrpSpPr/>
                  <p:nvPr/>
                </p:nvGrpSpPr>
                <p:grpSpPr>
                  <a:xfrm>
                    <a:off x="1209240" y="4008960"/>
                    <a:ext cx="17640" cy="51840"/>
                    <a:chOff x="1209240" y="4008960"/>
                    <a:chExt cx="17640" cy="51840"/>
                  </a:xfrm>
                </p:grpSpPr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120924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120924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121104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120924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121032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122328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9" name=""/>
                  <p:cNvSpPr/>
                  <p:nvPr/>
                </p:nvSpPr>
                <p:spPr>
                  <a:xfrm>
                    <a:off x="121464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1234080" y="4008960"/>
                  <a:ext cx="17640" cy="51840"/>
                  <a:chOff x="1234080" y="4008960"/>
                  <a:chExt cx="17640" cy="51840"/>
                </a:xfrm>
              </p:grpSpPr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1234080" y="4008960"/>
                    <a:ext cx="17640" cy="51840"/>
                    <a:chOff x="1234080" y="4008960"/>
                    <a:chExt cx="17640" cy="5184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123408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123408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123588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123408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123516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124812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8" name=""/>
                  <p:cNvSpPr/>
                  <p:nvPr/>
                </p:nvSpPr>
                <p:spPr>
                  <a:xfrm>
                    <a:off x="123948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1399320" y="4002480"/>
                <a:ext cx="141840" cy="51840"/>
                <a:chOff x="1399320" y="4002480"/>
                <a:chExt cx="141840" cy="51840"/>
              </a:xfrm>
            </p:grpSpPr>
            <p:grpSp>
              <p:nvGrpSpPr>
                <p:cNvPr id="1070" name=""/>
                <p:cNvGrpSpPr/>
                <p:nvPr/>
              </p:nvGrpSpPr>
              <p:grpSpPr>
                <a:xfrm>
                  <a:off x="1399320" y="4002480"/>
                  <a:ext cx="17640" cy="51840"/>
                  <a:chOff x="1399320" y="4002480"/>
                  <a:chExt cx="17640" cy="51840"/>
                </a:xfrm>
              </p:grpSpPr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1399320" y="4002480"/>
                    <a:ext cx="17640" cy="51840"/>
                    <a:chOff x="1399320" y="4002480"/>
                    <a:chExt cx="17640" cy="51840"/>
                  </a:xfrm>
                </p:grpSpPr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139932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139932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140112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139932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140040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141336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8" name=""/>
                  <p:cNvSpPr/>
                  <p:nvPr/>
                </p:nvSpPr>
                <p:spPr>
                  <a:xfrm>
                    <a:off x="140472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1423800" y="4002480"/>
                  <a:ext cx="17640" cy="51840"/>
                  <a:chOff x="1423800" y="4002480"/>
                  <a:chExt cx="17640" cy="51840"/>
                </a:xfrm>
              </p:grpSpPr>
              <p:grpSp>
                <p:nvGrpSpPr>
                  <p:cNvPr id="1080" name=""/>
                  <p:cNvGrpSpPr/>
                  <p:nvPr/>
                </p:nvGrpSpPr>
                <p:grpSpPr>
                  <a:xfrm>
                    <a:off x="1423800" y="4002480"/>
                    <a:ext cx="17640" cy="51840"/>
                    <a:chOff x="1423800" y="4002480"/>
                    <a:chExt cx="17640" cy="51840"/>
                  </a:xfrm>
                </p:grpSpPr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142380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142380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142560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142380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142488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43784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7" name=""/>
                  <p:cNvSpPr/>
                  <p:nvPr/>
                </p:nvSpPr>
                <p:spPr>
                  <a:xfrm>
                    <a:off x="142920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8" name=""/>
                <p:cNvGrpSpPr/>
                <p:nvPr/>
              </p:nvGrpSpPr>
              <p:grpSpPr>
                <a:xfrm>
                  <a:off x="1448640" y="4002480"/>
                  <a:ext cx="17640" cy="51840"/>
                  <a:chOff x="1448640" y="4002480"/>
                  <a:chExt cx="17640" cy="51840"/>
                </a:xfrm>
              </p:grpSpPr>
              <p:grpSp>
                <p:nvGrpSpPr>
                  <p:cNvPr id="1089" name=""/>
                  <p:cNvGrpSpPr/>
                  <p:nvPr/>
                </p:nvGrpSpPr>
                <p:grpSpPr>
                  <a:xfrm>
                    <a:off x="1448640" y="4002480"/>
                    <a:ext cx="17640" cy="51840"/>
                    <a:chOff x="1448640" y="4002480"/>
                    <a:chExt cx="17640" cy="51840"/>
                  </a:xfrm>
                </p:grpSpPr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144864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44864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45044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144864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144972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146268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6" name=""/>
                  <p:cNvSpPr/>
                  <p:nvPr/>
                </p:nvSpPr>
                <p:spPr>
                  <a:xfrm>
                    <a:off x="145404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1473840" y="4002480"/>
                  <a:ext cx="17640" cy="51840"/>
                  <a:chOff x="1473840" y="4002480"/>
                  <a:chExt cx="17640" cy="51840"/>
                </a:xfrm>
              </p:grpSpPr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1473840" y="4002480"/>
                    <a:ext cx="17640" cy="51840"/>
                    <a:chOff x="1473840" y="4002480"/>
                    <a:chExt cx="17640" cy="5184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147384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147384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147564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147384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147492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148788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5" name=""/>
                  <p:cNvSpPr/>
                  <p:nvPr/>
                </p:nvSpPr>
                <p:spPr>
                  <a:xfrm>
                    <a:off x="147924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6" name=""/>
                <p:cNvGrpSpPr/>
                <p:nvPr/>
              </p:nvGrpSpPr>
              <p:grpSpPr>
                <a:xfrm>
                  <a:off x="1498680" y="4002480"/>
                  <a:ext cx="17640" cy="51840"/>
                  <a:chOff x="1498680" y="4002480"/>
                  <a:chExt cx="17640" cy="51840"/>
                </a:xfrm>
              </p:grpSpPr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1498680" y="4002480"/>
                    <a:ext cx="17640" cy="51840"/>
                    <a:chOff x="1498680" y="4002480"/>
                    <a:chExt cx="17640" cy="51840"/>
                  </a:xfrm>
                </p:grpSpPr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149868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149868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150048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149868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149976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151272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4" name=""/>
                  <p:cNvSpPr/>
                  <p:nvPr/>
                </p:nvSpPr>
                <p:spPr>
                  <a:xfrm>
                    <a:off x="150408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5" name=""/>
                <p:cNvGrpSpPr/>
                <p:nvPr/>
              </p:nvGrpSpPr>
              <p:grpSpPr>
                <a:xfrm>
                  <a:off x="1523520" y="4002480"/>
                  <a:ext cx="17640" cy="51840"/>
                  <a:chOff x="1523520" y="4002480"/>
                  <a:chExt cx="17640" cy="51840"/>
                </a:xfrm>
              </p:grpSpPr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1523520" y="4002480"/>
                    <a:ext cx="17640" cy="51840"/>
                    <a:chOff x="1523520" y="4002480"/>
                    <a:chExt cx="17640" cy="51840"/>
                  </a:xfrm>
                </p:grpSpPr>
                <p:sp>
                  <p:nvSpPr>
                    <p:cNvPr id="1117" name=""/>
                    <p:cNvSpPr/>
                    <p:nvPr/>
                  </p:nvSpPr>
                  <p:spPr>
                    <a:xfrm>
                      <a:off x="152352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>
                      <a:off x="152352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>
                      <a:off x="152532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152352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152460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153756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23" name=""/>
                  <p:cNvSpPr/>
                  <p:nvPr/>
                </p:nvSpPr>
                <p:spPr>
                  <a:xfrm>
                    <a:off x="152892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24" name=""/>
          <p:cNvSpPr/>
          <p:nvPr/>
        </p:nvSpPr>
        <p:spPr>
          <a:xfrm flipV="1">
            <a:off x="1758960" y="2449080"/>
            <a:ext cx="144144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632040" y="2376360"/>
            <a:ext cx="1511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758960" y="3960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182600" y="3313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47680" y="1800360"/>
            <a:ext cx="1547640" cy="1079280"/>
          </a:xfrm>
          <a:custGeom>
            <a:avLst/>
            <a:gdLst/>
            <a:ahLst/>
            <a:rect l="l" t="t" r="r" b="b"/>
            <a:pathLst>
              <a:path w="913" h="576">
                <a:moveTo>
                  <a:pt x="421" y="76"/>
                </a:moveTo>
                <a:lnTo>
                  <a:pt x="400" y="71"/>
                </a:lnTo>
                <a:lnTo>
                  <a:pt x="371" y="64"/>
                </a:lnTo>
                <a:lnTo>
                  <a:pt x="347" y="63"/>
                </a:lnTo>
                <a:lnTo>
                  <a:pt x="321" y="65"/>
                </a:lnTo>
                <a:lnTo>
                  <a:pt x="302" y="68"/>
                </a:lnTo>
                <a:lnTo>
                  <a:pt x="284" y="73"/>
                </a:lnTo>
                <a:lnTo>
                  <a:pt x="263" y="81"/>
                </a:lnTo>
                <a:lnTo>
                  <a:pt x="244" y="91"/>
                </a:lnTo>
                <a:lnTo>
                  <a:pt x="225" y="105"/>
                </a:lnTo>
                <a:lnTo>
                  <a:pt x="206" y="123"/>
                </a:lnTo>
                <a:lnTo>
                  <a:pt x="193" y="140"/>
                </a:lnTo>
                <a:lnTo>
                  <a:pt x="184" y="155"/>
                </a:lnTo>
                <a:lnTo>
                  <a:pt x="176" y="172"/>
                </a:lnTo>
                <a:lnTo>
                  <a:pt x="171" y="194"/>
                </a:lnTo>
                <a:lnTo>
                  <a:pt x="154" y="189"/>
                </a:lnTo>
                <a:lnTo>
                  <a:pt x="135" y="186"/>
                </a:lnTo>
                <a:lnTo>
                  <a:pt x="118" y="186"/>
                </a:lnTo>
                <a:lnTo>
                  <a:pt x="100" y="190"/>
                </a:lnTo>
                <a:lnTo>
                  <a:pt x="84" y="197"/>
                </a:lnTo>
                <a:lnTo>
                  <a:pt x="68" y="204"/>
                </a:lnTo>
                <a:lnTo>
                  <a:pt x="51" y="219"/>
                </a:lnTo>
                <a:lnTo>
                  <a:pt x="42" y="230"/>
                </a:lnTo>
                <a:lnTo>
                  <a:pt x="30" y="243"/>
                </a:lnTo>
                <a:lnTo>
                  <a:pt x="20" y="258"/>
                </a:lnTo>
                <a:lnTo>
                  <a:pt x="12" y="279"/>
                </a:lnTo>
                <a:lnTo>
                  <a:pt x="6" y="298"/>
                </a:lnTo>
                <a:lnTo>
                  <a:pt x="2" y="318"/>
                </a:lnTo>
                <a:lnTo>
                  <a:pt x="1" y="333"/>
                </a:lnTo>
                <a:lnTo>
                  <a:pt x="0" y="349"/>
                </a:lnTo>
                <a:lnTo>
                  <a:pt x="1" y="368"/>
                </a:lnTo>
                <a:lnTo>
                  <a:pt x="3" y="385"/>
                </a:lnTo>
                <a:lnTo>
                  <a:pt x="7" y="402"/>
                </a:lnTo>
                <a:lnTo>
                  <a:pt x="12" y="418"/>
                </a:lnTo>
                <a:lnTo>
                  <a:pt x="20" y="436"/>
                </a:lnTo>
                <a:lnTo>
                  <a:pt x="30" y="454"/>
                </a:lnTo>
                <a:lnTo>
                  <a:pt x="42" y="468"/>
                </a:lnTo>
                <a:lnTo>
                  <a:pt x="56" y="482"/>
                </a:lnTo>
                <a:lnTo>
                  <a:pt x="72" y="493"/>
                </a:lnTo>
                <a:lnTo>
                  <a:pt x="85" y="500"/>
                </a:lnTo>
                <a:lnTo>
                  <a:pt x="98" y="504"/>
                </a:lnTo>
                <a:lnTo>
                  <a:pt x="113" y="509"/>
                </a:lnTo>
                <a:lnTo>
                  <a:pt x="128" y="509"/>
                </a:lnTo>
                <a:lnTo>
                  <a:pt x="145" y="509"/>
                </a:lnTo>
                <a:lnTo>
                  <a:pt x="161" y="506"/>
                </a:lnTo>
                <a:lnTo>
                  <a:pt x="174" y="502"/>
                </a:lnTo>
                <a:lnTo>
                  <a:pt x="182" y="498"/>
                </a:lnTo>
                <a:lnTo>
                  <a:pt x="191" y="511"/>
                </a:lnTo>
                <a:lnTo>
                  <a:pt x="204" y="522"/>
                </a:lnTo>
                <a:lnTo>
                  <a:pt x="217" y="533"/>
                </a:lnTo>
                <a:lnTo>
                  <a:pt x="232" y="543"/>
                </a:lnTo>
                <a:lnTo>
                  <a:pt x="252" y="552"/>
                </a:lnTo>
                <a:lnTo>
                  <a:pt x="271" y="561"/>
                </a:lnTo>
                <a:lnTo>
                  <a:pt x="294" y="568"/>
                </a:lnTo>
                <a:lnTo>
                  <a:pt x="315" y="572"/>
                </a:lnTo>
                <a:lnTo>
                  <a:pt x="339" y="575"/>
                </a:lnTo>
                <a:lnTo>
                  <a:pt x="357" y="575"/>
                </a:lnTo>
                <a:lnTo>
                  <a:pt x="376" y="575"/>
                </a:lnTo>
                <a:lnTo>
                  <a:pt x="402" y="571"/>
                </a:lnTo>
                <a:lnTo>
                  <a:pt x="433" y="559"/>
                </a:lnTo>
                <a:lnTo>
                  <a:pt x="444" y="562"/>
                </a:lnTo>
                <a:lnTo>
                  <a:pt x="465" y="553"/>
                </a:lnTo>
                <a:lnTo>
                  <a:pt x="486" y="543"/>
                </a:lnTo>
                <a:lnTo>
                  <a:pt x="499" y="535"/>
                </a:lnTo>
                <a:lnTo>
                  <a:pt x="510" y="525"/>
                </a:lnTo>
                <a:lnTo>
                  <a:pt x="522" y="531"/>
                </a:lnTo>
                <a:lnTo>
                  <a:pt x="537" y="539"/>
                </a:lnTo>
                <a:lnTo>
                  <a:pt x="552" y="544"/>
                </a:lnTo>
                <a:lnTo>
                  <a:pt x="566" y="548"/>
                </a:lnTo>
                <a:lnTo>
                  <a:pt x="582" y="550"/>
                </a:lnTo>
                <a:lnTo>
                  <a:pt x="597" y="550"/>
                </a:lnTo>
                <a:lnTo>
                  <a:pt x="615" y="547"/>
                </a:lnTo>
                <a:lnTo>
                  <a:pt x="633" y="542"/>
                </a:lnTo>
                <a:lnTo>
                  <a:pt x="650" y="535"/>
                </a:lnTo>
                <a:lnTo>
                  <a:pt x="666" y="524"/>
                </a:lnTo>
                <a:lnTo>
                  <a:pt x="681" y="512"/>
                </a:lnTo>
                <a:lnTo>
                  <a:pt x="701" y="522"/>
                </a:lnTo>
                <a:lnTo>
                  <a:pt x="720" y="527"/>
                </a:lnTo>
                <a:lnTo>
                  <a:pt x="736" y="530"/>
                </a:lnTo>
                <a:lnTo>
                  <a:pt x="759" y="530"/>
                </a:lnTo>
                <a:lnTo>
                  <a:pt x="784" y="526"/>
                </a:lnTo>
                <a:lnTo>
                  <a:pt x="813" y="516"/>
                </a:lnTo>
                <a:lnTo>
                  <a:pt x="837" y="500"/>
                </a:lnTo>
                <a:lnTo>
                  <a:pt x="858" y="481"/>
                </a:lnTo>
                <a:lnTo>
                  <a:pt x="878" y="458"/>
                </a:lnTo>
                <a:lnTo>
                  <a:pt x="888" y="439"/>
                </a:lnTo>
                <a:lnTo>
                  <a:pt x="897" y="420"/>
                </a:lnTo>
                <a:lnTo>
                  <a:pt x="906" y="394"/>
                </a:lnTo>
                <a:lnTo>
                  <a:pt x="910" y="370"/>
                </a:lnTo>
                <a:lnTo>
                  <a:pt x="912" y="343"/>
                </a:lnTo>
                <a:lnTo>
                  <a:pt x="910" y="323"/>
                </a:lnTo>
                <a:lnTo>
                  <a:pt x="906" y="298"/>
                </a:lnTo>
                <a:lnTo>
                  <a:pt x="899" y="274"/>
                </a:lnTo>
                <a:lnTo>
                  <a:pt x="888" y="252"/>
                </a:lnTo>
                <a:lnTo>
                  <a:pt x="877" y="230"/>
                </a:lnTo>
                <a:lnTo>
                  <a:pt x="862" y="212"/>
                </a:lnTo>
                <a:lnTo>
                  <a:pt x="848" y="198"/>
                </a:lnTo>
                <a:lnTo>
                  <a:pt x="834" y="188"/>
                </a:lnTo>
                <a:lnTo>
                  <a:pt x="815" y="173"/>
                </a:lnTo>
                <a:lnTo>
                  <a:pt x="797" y="166"/>
                </a:lnTo>
                <a:lnTo>
                  <a:pt x="781" y="162"/>
                </a:lnTo>
                <a:lnTo>
                  <a:pt x="762" y="159"/>
                </a:lnTo>
                <a:lnTo>
                  <a:pt x="759" y="143"/>
                </a:lnTo>
                <a:lnTo>
                  <a:pt x="754" y="126"/>
                </a:lnTo>
                <a:lnTo>
                  <a:pt x="747" y="110"/>
                </a:lnTo>
                <a:lnTo>
                  <a:pt x="738" y="94"/>
                </a:lnTo>
                <a:lnTo>
                  <a:pt x="726" y="77"/>
                </a:lnTo>
                <a:lnTo>
                  <a:pt x="711" y="59"/>
                </a:lnTo>
                <a:lnTo>
                  <a:pt x="698" y="45"/>
                </a:lnTo>
                <a:lnTo>
                  <a:pt x="681" y="33"/>
                </a:lnTo>
                <a:lnTo>
                  <a:pt x="660" y="20"/>
                </a:lnTo>
                <a:lnTo>
                  <a:pt x="640" y="11"/>
                </a:lnTo>
                <a:lnTo>
                  <a:pt x="621" y="5"/>
                </a:lnTo>
                <a:lnTo>
                  <a:pt x="598" y="1"/>
                </a:lnTo>
                <a:lnTo>
                  <a:pt x="577" y="0"/>
                </a:lnTo>
                <a:lnTo>
                  <a:pt x="554" y="0"/>
                </a:lnTo>
                <a:lnTo>
                  <a:pt x="533" y="4"/>
                </a:lnTo>
                <a:lnTo>
                  <a:pt x="509" y="11"/>
                </a:lnTo>
                <a:lnTo>
                  <a:pt x="483" y="23"/>
                </a:lnTo>
                <a:lnTo>
                  <a:pt x="466" y="33"/>
                </a:lnTo>
                <a:lnTo>
                  <a:pt x="449" y="46"/>
                </a:lnTo>
                <a:lnTo>
                  <a:pt x="434" y="62"/>
                </a:lnTo>
                <a:lnTo>
                  <a:pt x="421" y="76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1760" y="2209680"/>
            <a:ext cx="40752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63680" y="1657440"/>
            <a:ext cx="712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182600" y="2808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719680" y="396072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57840" y="345744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00760" y="3384720"/>
            <a:ext cx="35892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91320" y="3024360"/>
            <a:ext cx="1008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7808760" y="3673080"/>
            <a:ext cx="12589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296040" y="379404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808760" y="266544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389800" y="403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582240" y="1873080"/>
            <a:ext cx="1222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N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559320" y="3960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1360" y="2952720"/>
            <a:ext cx="88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OU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3" name=""/>
          <p:cNvGraphicFramePr/>
          <p:nvPr/>
        </p:nvGraphicFramePr>
        <p:xfrm>
          <a:off x="7159680" y="5040360"/>
          <a:ext cx="503280" cy="465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4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159680" y="5040360"/>
                    <a:ext cx="5032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5" name=""/>
          <p:cNvSpPr/>
          <p:nvPr/>
        </p:nvSpPr>
        <p:spPr>
          <a:xfrm flipV="1">
            <a:off x="7664400" y="4465800"/>
            <a:ext cx="64764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6" name=""/>
          <p:cNvGraphicFramePr/>
          <p:nvPr/>
        </p:nvGraphicFramePr>
        <p:xfrm>
          <a:off x="1542960" y="4537080"/>
          <a:ext cx="503280" cy="465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542960" y="4537080"/>
                    <a:ext cx="5032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8" name=""/>
          <p:cNvSpPr/>
          <p:nvPr/>
        </p:nvSpPr>
        <p:spPr>
          <a:xfrm>
            <a:off x="1542960" y="396072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5072040" y="2954160"/>
            <a:ext cx="537120" cy="358200"/>
            <a:chOff x="5072040" y="2954160"/>
            <a:chExt cx="537120" cy="358200"/>
          </a:xfrm>
        </p:grpSpPr>
        <p:grpSp>
          <p:nvGrpSpPr>
            <p:cNvPr id="1150" name=""/>
            <p:cNvGrpSpPr/>
            <p:nvPr/>
          </p:nvGrpSpPr>
          <p:grpSpPr>
            <a:xfrm>
              <a:off x="5072040" y="2954160"/>
              <a:ext cx="537120" cy="358200"/>
              <a:chOff x="5072040" y="2954160"/>
              <a:chExt cx="537120" cy="358200"/>
            </a:xfrm>
          </p:grpSpPr>
          <p:sp>
            <p:nvSpPr>
              <p:cNvPr id="1151" name=""/>
              <p:cNvSpPr/>
              <p:nvPr/>
            </p:nvSpPr>
            <p:spPr>
              <a:xfrm>
                <a:off x="5092200" y="2958480"/>
                <a:ext cx="293400" cy="2469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28200" y="3114000"/>
                <a:ext cx="259200" cy="146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3" name=""/>
              <p:cNvGrpSpPr/>
              <p:nvPr/>
            </p:nvGrpSpPr>
            <p:grpSpPr>
              <a:xfrm>
                <a:off x="5072040" y="3118320"/>
                <a:ext cx="306360" cy="193320"/>
                <a:chOff x="5072040" y="3118320"/>
                <a:chExt cx="306360" cy="19332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5108040" y="3156120"/>
                  <a:ext cx="261720" cy="1191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103360" y="3171240"/>
                  <a:ext cx="241200" cy="1270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072040" y="3118320"/>
                  <a:ext cx="53640" cy="867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326920" y="3226320"/>
                  <a:ext cx="51480" cy="853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" name=""/>
              <p:cNvSpPr/>
              <p:nvPr/>
            </p:nvSpPr>
            <p:spPr>
              <a:xfrm>
                <a:off x="5344920" y="3037320"/>
                <a:ext cx="264240" cy="2750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139360" y="2964600"/>
                <a:ext cx="444960" cy="2494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358600" y="3033000"/>
                <a:ext cx="250560" cy="202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105880" y="2954160"/>
                <a:ext cx="279720" cy="1724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135040" y="3165480"/>
              <a:ext cx="189360" cy="87840"/>
              <a:chOff x="5135040" y="3165480"/>
              <a:chExt cx="189360" cy="87840"/>
            </a:xfrm>
          </p:grpSpPr>
          <p:grpSp>
            <p:nvGrpSpPr>
              <p:cNvPr id="1163" name=""/>
              <p:cNvGrpSpPr/>
              <p:nvPr/>
            </p:nvGrpSpPr>
            <p:grpSpPr>
              <a:xfrm>
                <a:off x="5135040" y="3165480"/>
                <a:ext cx="6120" cy="7560"/>
                <a:chOff x="5135040" y="3165480"/>
                <a:chExt cx="6120" cy="756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5135040" y="3169080"/>
                  <a:ext cx="6120" cy="396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135040" y="3165480"/>
                  <a:ext cx="6120" cy="57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5182200" y="3182040"/>
                <a:ext cx="142200" cy="71280"/>
                <a:chOff x="5182200" y="3182040"/>
                <a:chExt cx="142200" cy="71280"/>
              </a:xfrm>
            </p:grpSpPr>
            <p:grpSp>
              <p:nvGrpSpPr>
                <p:cNvPr id="1167" name=""/>
                <p:cNvGrpSpPr/>
                <p:nvPr/>
              </p:nvGrpSpPr>
              <p:grpSpPr>
                <a:xfrm>
                  <a:off x="5182200" y="3188160"/>
                  <a:ext cx="142200" cy="65160"/>
                  <a:chOff x="5182200" y="3188160"/>
                  <a:chExt cx="142200" cy="65160"/>
                </a:xfrm>
              </p:grpSpPr>
              <p:sp>
                <p:nvSpPr>
                  <p:cNvPr id="1168" name=""/>
                  <p:cNvSpPr/>
                  <p:nvPr/>
                </p:nvSpPr>
                <p:spPr>
                  <a:xfrm>
                    <a:off x="5297760" y="3236760"/>
                    <a:ext cx="432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204160" y="3198600"/>
                    <a:ext cx="828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250600" y="3217680"/>
                    <a:ext cx="648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272920" y="3228120"/>
                    <a:ext cx="684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226480" y="3207240"/>
                    <a:ext cx="648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182200" y="3188160"/>
                    <a:ext cx="648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315400" y="3247200"/>
                    <a:ext cx="900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5" name=""/>
                <p:cNvGrpSpPr/>
                <p:nvPr/>
              </p:nvGrpSpPr>
              <p:grpSpPr>
                <a:xfrm>
                  <a:off x="5182200" y="3182040"/>
                  <a:ext cx="141480" cy="68760"/>
                  <a:chOff x="5182200" y="3182040"/>
                  <a:chExt cx="141480" cy="68760"/>
                </a:xfrm>
              </p:grpSpPr>
              <p:grpSp>
                <p:nvGrpSpPr>
                  <p:cNvPr id="1176" name=""/>
                  <p:cNvGrpSpPr/>
                  <p:nvPr/>
                </p:nvGrpSpPr>
                <p:grpSpPr>
                  <a:xfrm>
                    <a:off x="5204160" y="3192480"/>
                    <a:ext cx="119520" cy="58320"/>
                    <a:chOff x="5204160" y="3192480"/>
                    <a:chExt cx="119520" cy="58320"/>
                  </a:xfrm>
                </p:grpSpPr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5317200" y="3242880"/>
                      <a:ext cx="648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>
                      <a:off x="5226120" y="3200760"/>
                      <a:ext cx="8280" cy="10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>
                      <a:off x="5272560" y="3222000"/>
                      <a:ext cx="68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5294520" y="3232440"/>
                      <a:ext cx="68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5248080" y="3211200"/>
                      <a:ext cx="828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5204160" y="3192480"/>
                      <a:ext cx="828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3" name=""/>
                  <p:cNvSpPr/>
                  <p:nvPr/>
                </p:nvSpPr>
                <p:spPr>
                  <a:xfrm>
                    <a:off x="5182200" y="3182040"/>
                    <a:ext cx="6480" cy="8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84" name=""/>
          <p:cNvSpPr/>
          <p:nvPr/>
        </p:nvSpPr>
        <p:spPr>
          <a:xfrm>
            <a:off x="5359320" y="324000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145120" y="25923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24"/>
          <a:stretch/>
        </p:blipFill>
        <p:spPr>
          <a:xfrm>
            <a:off x="1039680" y="3024360"/>
            <a:ext cx="358920" cy="25380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/>
          <p:cNvPicPr/>
          <p:nvPr/>
        </p:nvPicPr>
        <p:blipFill>
          <a:blip r:embed="rId25"/>
          <a:stretch/>
        </p:blipFill>
        <p:spPr>
          <a:xfrm>
            <a:off x="5072040" y="3797280"/>
            <a:ext cx="503280" cy="355680"/>
          </a:xfrm>
          <a:prstGeom prst="rect">
            <a:avLst/>
          </a:prstGeom>
          <a:ln w="0">
            <a:noFill/>
          </a:ln>
        </p:spPr>
      </p:pic>
      <p:grpSp>
        <p:nvGrpSpPr>
          <p:cNvPr id="1188" name=""/>
          <p:cNvGrpSpPr/>
          <p:nvPr/>
        </p:nvGrpSpPr>
        <p:grpSpPr>
          <a:xfrm>
            <a:off x="1255680" y="792000"/>
            <a:ext cx="864720" cy="1081080"/>
            <a:chOff x="1255680" y="792000"/>
            <a:chExt cx="864720" cy="1081080"/>
          </a:xfrm>
        </p:grpSpPr>
        <p:sp>
          <p:nvSpPr>
            <p:cNvPr id="1189" name=""/>
            <p:cNvSpPr/>
            <p:nvPr/>
          </p:nvSpPr>
          <p:spPr>
            <a:xfrm flipH="1">
              <a:off x="1400040" y="1728720"/>
              <a:ext cx="71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1255680" y="1008000"/>
              <a:ext cx="780840" cy="414360"/>
              <a:chOff x="1255680" y="1008000"/>
              <a:chExt cx="780840" cy="414360"/>
            </a:xfrm>
          </p:grpSpPr>
          <p:pic>
            <p:nvPicPr>
              <p:cNvPr id="119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255680" y="1008000"/>
                <a:ext cx="2376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527120" y="1008000"/>
                <a:ext cx="23724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798920" y="1008000"/>
                <a:ext cx="237600" cy="31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4" name=""/>
              <p:cNvSpPr/>
              <p:nvPr/>
            </p:nvSpPr>
            <p:spPr>
              <a:xfrm>
                <a:off x="1289520" y="1422360"/>
                <a:ext cx="74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357200" y="131868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629000" y="131868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900800" y="131868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1400040" y="79200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SITIO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29"/>
            <a:stretch/>
          </p:blipFill>
          <p:spPr>
            <a:xfrm>
              <a:off x="1471320" y="1512720"/>
              <a:ext cx="35892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0" name=""/>
          <p:cNvGrpSpPr/>
          <p:nvPr/>
        </p:nvGrpSpPr>
        <p:grpSpPr>
          <a:xfrm>
            <a:off x="133200" y="806400"/>
            <a:ext cx="781200" cy="960120"/>
            <a:chOff x="133200" y="806400"/>
            <a:chExt cx="781200" cy="960120"/>
          </a:xfrm>
        </p:grpSpPr>
        <p:grpSp>
          <p:nvGrpSpPr>
            <p:cNvPr id="1201" name=""/>
            <p:cNvGrpSpPr/>
            <p:nvPr/>
          </p:nvGrpSpPr>
          <p:grpSpPr>
            <a:xfrm>
              <a:off x="133200" y="1015920"/>
              <a:ext cx="781200" cy="414360"/>
              <a:chOff x="133200" y="1015920"/>
              <a:chExt cx="781200" cy="414360"/>
            </a:xfrm>
          </p:grpSpPr>
          <p:pic>
            <p:nvPicPr>
              <p:cNvPr id="120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33200" y="1015920"/>
                <a:ext cx="2376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05000" y="1015920"/>
                <a:ext cx="2376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76440" y="1015920"/>
                <a:ext cx="237600" cy="31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5" name=""/>
              <p:cNvSpPr/>
              <p:nvPr/>
            </p:nvSpPr>
            <p:spPr>
              <a:xfrm>
                <a:off x="167040" y="1430280"/>
                <a:ext cx="74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35080" y="132660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06880" y="132660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78320" y="132660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168120" y="80640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SITIO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0" name="" descr=""/>
            <p:cNvPicPr/>
            <p:nvPr/>
          </p:nvPicPr>
          <p:blipFill>
            <a:blip r:embed="rId33"/>
            <a:stretch/>
          </p:blipFill>
          <p:spPr>
            <a:xfrm>
              <a:off x="457200" y="1512720"/>
              <a:ext cx="3585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"/>
          <p:cNvSpPr/>
          <p:nvPr/>
        </p:nvSpPr>
        <p:spPr>
          <a:xfrm>
            <a:off x="3703680" y="2089080"/>
            <a:ext cx="4248000" cy="1487520"/>
          </a:xfrm>
          <a:custGeom>
            <a:avLst/>
            <a:gdLst/>
            <a:ahLst/>
            <a:rect l="l" t="t" r="r" b="b"/>
            <a:pathLst>
              <a:path w="2676" h="937">
                <a:moveTo>
                  <a:pt x="0" y="0"/>
                </a:moveTo>
                <a:cubicBezTo>
                  <a:pt x="707" y="438"/>
                  <a:pt x="1414" y="877"/>
                  <a:pt x="1860" y="907"/>
                </a:cubicBezTo>
                <a:cubicBezTo>
                  <a:pt x="2306" y="937"/>
                  <a:pt x="2540" y="302"/>
                  <a:pt x="2676" y="181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DEFINICIO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424720" cy="571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ptografía: arte de escribir secret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iencia de la comunicación segu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ptoanálisis: arte de romper los esquemas de la criptografí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ipción: transformación de un texto en claro para que no pueda ser leí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o en claro: lo que se quiere encrip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ptograma: producto de la encrip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38188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ando se habla de seguridad se distinguen varios componen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 que se quiere proteger: bienes físicos, información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esgos que atentan contra lo que se quiere proteger: desastres naturales, terrorismo, virus, 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íticas y mecanismos que permite proteger el bien contra los riesgos poten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DEFINICIO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95280" y="685440"/>
            <a:ext cx="84247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encripción: Recuperar a partir del criptograma el texto original que fue encript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ipher: sistema criptográfico que permite transformar texto plano mediante transposición o sustitución de acuerdo a un algoritmo previamente establecido. Ejemplo: DES, 3D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ice, Bob y Trudy: Alice y Bob quieren tener una comunicación segura. Trudy es el malo del pase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QUEMA GENER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53440" cy="556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A:    D</a:t>
            </a:r>
            <a:r>
              <a:rPr b="0" lang="en-US" sz="3200" spc="-1" strike="noStrike" baseline="-2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P))=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texto plano. Lo que se quiere encrip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: Algoritmo de Encrip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: Algoritmo de Desencrip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: Llave. Mientras más robusta mejor. La llave con la que se encripta puede ser igual o diferente a la llave con la que se desencrip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QUEMA GENER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53440" cy="556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ípicamente el algoritmo de encripción es conoc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seguridad está basada en la llave: es secreta total o parcial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ECANISMOS DE SEGURID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53440" cy="556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mos de llave simétr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mos de llave asimétr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iones Has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mas digit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tificados Digit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LGORITMOS DE LLAVE SIMETR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28036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llave con la que se encripta es igual a la llave con la que se desencrip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mbién conocidos como algoritmos de llave privada, porque esta es conocida solo por los participantes en la comunica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 principal problema es la distribución de las lla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tamente eficientes (rápido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áciles de implementar en Hard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 bloque:  DES, 3DES, IDEA, AES, RC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tream (flujos): RC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"/>
          <p:cNvGrpSpPr/>
          <p:nvPr/>
        </p:nvGrpSpPr>
        <p:grpSpPr>
          <a:xfrm>
            <a:off x="34920" y="1700280"/>
            <a:ext cx="9072360" cy="3538440"/>
            <a:chOff x="34920" y="1700280"/>
            <a:chExt cx="9072360" cy="3538440"/>
          </a:xfrm>
        </p:grpSpPr>
        <p:pic>
          <p:nvPicPr>
            <p:cNvPr id="1225" name="" descr=""/>
            <p:cNvPicPr/>
            <p:nvPr/>
          </p:nvPicPr>
          <p:blipFill>
            <a:blip r:embed="rId1"/>
            <a:stretch/>
          </p:blipFill>
          <p:spPr>
            <a:xfrm>
              <a:off x="34920" y="1700280"/>
              <a:ext cx="5821200" cy="35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2"/>
            <a:stretch/>
          </p:blipFill>
          <p:spPr>
            <a:xfrm>
              <a:off x="3588120" y="1700280"/>
              <a:ext cx="551916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"/>
            <p:cNvSpPr/>
            <p:nvPr/>
          </p:nvSpPr>
          <p:spPr>
            <a:xfrm>
              <a:off x="3512880" y="1700280"/>
              <a:ext cx="2570040" cy="350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324000" y="158760"/>
            <a:ext cx="849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LGORITMOS DE LLAVE SIMET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8497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LGORITMOS DE LLAVE SIMETR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(Data Encription Standar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arrollado por IB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ipta bloques de 64 bits y produce bloques de 64 b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ave de 56 bits aunque se acostumbra escribir como 8 bytes (1 bit de parida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ápido y efic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zado en múltiples tecnologías como IPS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8497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LGORITMOS DE LLAVE SIMETR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DES o Triple 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a variación es 3DES que consiste en 3 procesos DES en caden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operar así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 = E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k3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E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k2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E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k1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P)))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lamado DES-EEE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 = E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k3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D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k2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E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k1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P)))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Llamado DES-E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uy utilizado también en IPS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/>
          </p:nvPr>
        </p:nvSpPr>
        <p:spPr>
          <a:xfrm>
            <a:off x="394920" y="1052280"/>
            <a:ext cx="8280360" cy="55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DEA (International Data Encription Algori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ado en Suiza por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Xuejia Lai y James L. Massey of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TH-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Zürich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lave de 128 b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ripta bloques de 64 bits y produce bloques de 64 b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do en PGP (Pretty Good Privacy – Correo segur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title"/>
          </p:nvPr>
        </p:nvSpPr>
        <p:spPr>
          <a:xfrm>
            <a:off x="323640" y="158760"/>
            <a:ext cx="8497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LGORITMOS DE LLAVE SIMETR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828036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C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ado por Riv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ripta bloques de 64b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lave de longitud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es veces más rápido que 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C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ado por Riv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lave de longitud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ripción de stre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uy utilizado en SS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title"/>
          </p:nvPr>
        </p:nvSpPr>
        <p:spPr>
          <a:xfrm>
            <a:off x="324000" y="87120"/>
            <a:ext cx="8496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LGORITMOS DE LLAVE SIMETR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38188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emos definir la seguridad como el conjunto de POLÍTICAS y MECANISMOS orientados a proteger un BIEN de unos RIESGOS o amenazas potenci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este curso nos concentraremos en la Seguridad Informática específicamente en la orientada a asegurar los canales de comun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24000" y="158760"/>
            <a:ext cx="8496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LGORITMOS DE LLAVE SIMETR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ES (Advance Encription Stand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algoritmo se llama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Rijnda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ado por 2 Europeo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ripta bloques de 128 bits y produce bloques de 128 b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lave de 128, 192 y 256 bi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robado por el NIST (National Institute of Standards and Technology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utiliza una llave para encriptar y otra llave para desencript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da usuario tiene entonces dos llaves: una PRIVADA conocida solo por el usuario y otra PUBLICA conocida por todo el mu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da una llave no se puede derivar la ot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s en la dificultad de factorizar números grandes y logaritmos discre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85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LGORITMOS DE LLAVE ASIMETR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íciles de implementar en Hard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 más lentos que los simétricos (De 100 a 10.000 ve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mente utilizados al comienzo de una sesión segura para el proceso de autenticación y/o para proteger el intercambio de llaves simétricas con las que después se continuará el proceso de encrip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RSA,  Diffie-Hell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85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LGORITMOS DE LLAVE ASIMETR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"/>
          <p:cNvGrpSpPr/>
          <p:nvPr/>
        </p:nvGrpSpPr>
        <p:grpSpPr>
          <a:xfrm>
            <a:off x="179280" y="1916280"/>
            <a:ext cx="8915400" cy="3395520"/>
            <a:chOff x="179280" y="1916280"/>
            <a:chExt cx="8915400" cy="3395520"/>
          </a:xfrm>
        </p:grpSpPr>
        <p:pic>
          <p:nvPicPr>
            <p:cNvPr id="1244" name="" descr=""/>
            <p:cNvPicPr/>
            <p:nvPr/>
          </p:nvPicPr>
          <p:blipFill>
            <a:blip r:embed="rId1"/>
            <a:stretch/>
          </p:blipFill>
          <p:spPr>
            <a:xfrm>
              <a:off x="179280" y="1916280"/>
              <a:ext cx="5257800" cy="33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" descr=""/>
            <p:cNvPicPr/>
            <p:nvPr/>
          </p:nvPicPr>
          <p:blipFill>
            <a:blip r:embed="rId2"/>
            <a:stretch/>
          </p:blipFill>
          <p:spPr>
            <a:xfrm>
              <a:off x="3379680" y="1916280"/>
              <a:ext cx="5715000" cy="33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3151080" y="1992240"/>
              <a:ext cx="2666880" cy="327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250920" y="228600"/>
            <a:ext cx="8785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LGORITMOS DE LLAVE ASIMET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LGORITMOS DE LLAVE ASIMETR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do por Ron Rivest, Adi Shamir, Leonard Adleman en 197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ado en la dificultad de factorizar números grandes (200 dígitos o má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a 10000 veces más lento que 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y utilizado en SS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aves típicas de 768 (no muy seguras), 1024, 2048 b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736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LGORITMOS DE LLAVE ASIMETR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SA EN DETA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me 2 primos p y q y obtenga su producto n=p*q.  p y q se almacenan o destruy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ja un número e &lt; n y primo relativo de (p-1)(q-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e e*d=1 mod (p-1)(q-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,n)=llave pública. (d,n)=llave priv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encriptar se calcula c=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desencriptar se calcula m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LGORITMOS DE LLAVE ASIMETR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81360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e-Hellm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a dos partes establecer una llave comú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basa en la dificultad para calcular logaritmos discre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utentica las par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y utilizando en IPS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en varios tipos de grupos de acuerdo a la longitud del modulo así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 Grupo 1:  768 b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 Group 2: 1024 b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 Group 5: 1536 b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LGORITMOS DE LLAVE ASIMETR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E-HELLMAN EN DETA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partes comparten dos números público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 m debe ser un número primo gra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genera un número aleatorio grand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 calcula X=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 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b genera un número aleatorio grand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 calcula   Y=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 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envía X a Bob y Bob envía Y a Al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b calcula K1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 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calcula K2=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 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1 y K2 =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 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NCIONES HAS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395280" y="971640"/>
            <a:ext cx="83534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ocidos también como message dig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ma una entrada de longitud variable y produce una salida de longitud fija que se puede considerar una huella digital de la entrada o un “resumen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los hash de dos mensajes son iguales muy probablemente los mensajes serán los mism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n en un solo sentido: dado el hash no es posible obtener la fuente origi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 MD5 y SHA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04920" y="11592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HASH MD5 Y SHA-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35344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D5 (Message Digests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do por Ron Riv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e un código de 128b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Unix/Linux con comando md5sum se puede calcular el hash de un archivo.  Util para verificar integ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FC 132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HA-1 (Secure Hash Algorith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do por NIST/NSA (National Institute of Standards and Technology/National Security Agenc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e un código de 160b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ás lento que MD5 pero más seg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" y="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3933720"/>
            <a:ext cx="2232000" cy="1224000"/>
          </a:xfrm>
          <a:custGeom>
            <a:avLst/>
            <a:gdLst/>
            <a:ahLst/>
            <a:rect l="l" t="t" r="r" b="b"/>
            <a:pathLst>
              <a:path w="1551" h="961">
                <a:moveTo>
                  <a:pt x="716" y="126"/>
                </a:moveTo>
                <a:lnTo>
                  <a:pt x="679" y="118"/>
                </a:lnTo>
                <a:lnTo>
                  <a:pt x="630" y="107"/>
                </a:lnTo>
                <a:lnTo>
                  <a:pt x="589" y="105"/>
                </a:lnTo>
                <a:lnTo>
                  <a:pt x="545" y="109"/>
                </a:lnTo>
                <a:lnTo>
                  <a:pt x="513" y="113"/>
                </a:lnTo>
                <a:lnTo>
                  <a:pt x="482" y="122"/>
                </a:lnTo>
                <a:lnTo>
                  <a:pt x="447" y="135"/>
                </a:lnTo>
                <a:lnTo>
                  <a:pt x="415" y="152"/>
                </a:lnTo>
                <a:lnTo>
                  <a:pt x="382" y="176"/>
                </a:lnTo>
                <a:lnTo>
                  <a:pt x="349" y="206"/>
                </a:lnTo>
                <a:lnTo>
                  <a:pt x="328" y="234"/>
                </a:lnTo>
                <a:lnTo>
                  <a:pt x="313" y="259"/>
                </a:lnTo>
                <a:lnTo>
                  <a:pt x="299" y="287"/>
                </a:lnTo>
                <a:lnTo>
                  <a:pt x="290" y="324"/>
                </a:lnTo>
                <a:lnTo>
                  <a:pt x="262" y="315"/>
                </a:lnTo>
                <a:lnTo>
                  <a:pt x="230" y="311"/>
                </a:lnTo>
                <a:lnTo>
                  <a:pt x="201" y="311"/>
                </a:lnTo>
                <a:lnTo>
                  <a:pt x="170" y="317"/>
                </a:lnTo>
                <a:lnTo>
                  <a:pt x="143" y="328"/>
                </a:lnTo>
                <a:lnTo>
                  <a:pt x="116" y="341"/>
                </a:lnTo>
                <a:lnTo>
                  <a:pt x="87" y="365"/>
                </a:lnTo>
                <a:lnTo>
                  <a:pt x="70" y="384"/>
                </a:lnTo>
                <a:lnTo>
                  <a:pt x="50" y="405"/>
                </a:lnTo>
                <a:lnTo>
                  <a:pt x="34" y="431"/>
                </a:lnTo>
                <a:lnTo>
                  <a:pt x="19" y="466"/>
                </a:lnTo>
                <a:lnTo>
                  <a:pt x="10" y="498"/>
                </a:lnTo>
                <a:lnTo>
                  <a:pt x="3" y="530"/>
                </a:lnTo>
                <a:lnTo>
                  <a:pt x="1" y="556"/>
                </a:lnTo>
                <a:lnTo>
                  <a:pt x="0" y="582"/>
                </a:lnTo>
                <a:lnTo>
                  <a:pt x="1" y="614"/>
                </a:lnTo>
                <a:lnTo>
                  <a:pt x="5" y="642"/>
                </a:lnTo>
                <a:lnTo>
                  <a:pt x="12" y="670"/>
                </a:lnTo>
                <a:lnTo>
                  <a:pt x="21" y="697"/>
                </a:lnTo>
                <a:lnTo>
                  <a:pt x="34" y="728"/>
                </a:lnTo>
                <a:lnTo>
                  <a:pt x="52" y="758"/>
                </a:lnTo>
                <a:lnTo>
                  <a:pt x="72" y="781"/>
                </a:lnTo>
                <a:lnTo>
                  <a:pt x="96" y="805"/>
                </a:lnTo>
                <a:lnTo>
                  <a:pt x="123" y="822"/>
                </a:lnTo>
                <a:lnTo>
                  <a:pt x="145" y="835"/>
                </a:lnTo>
                <a:lnTo>
                  <a:pt x="166" y="841"/>
                </a:lnTo>
                <a:lnTo>
                  <a:pt x="192" y="850"/>
                </a:lnTo>
                <a:lnTo>
                  <a:pt x="219" y="850"/>
                </a:lnTo>
                <a:lnTo>
                  <a:pt x="246" y="850"/>
                </a:lnTo>
                <a:lnTo>
                  <a:pt x="273" y="844"/>
                </a:lnTo>
                <a:lnTo>
                  <a:pt x="295" y="837"/>
                </a:lnTo>
                <a:lnTo>
                  <a:pt x="310" y="831"/>
                </a:lnTo>
                <a:lnTo>
                  <a:pt x="324" y="852"/>
                </a:lnTo>
                <a:lnTo>
                  <a:pt x="346" y="871"/>
                </a:lnTo>
                <a:lnTo>
                  <a:pt x="369" y="889"/>
                </a:lnTo>
                <a:lnTo>
                  <a:pt x="395" y="906"/>
                </a:lnTo>
                <a:lnTo>
                  <a:pt x="427" y="921"/>
                </a:lnTo>
                <a:lnTo>
                  <a:pt x="460" y="936"/>
                </a:lnTo>
                <a:lnTo>
                  <a:pt x="500" y="947"/>
                </a:lnTo>
                <a:lnTo>
                  <a:pt x="536" y="955"/>
                </a:lnTo>
                <a:lnTo>
                  <a:pt x="576" y="960"/>
                </a:lnTo>
                <a:lnTo>
                  <a:pt x="607" y="960"/>
                </a:lnTo>
                <a:lnTo>
                  <a:pt x="639" y="960"/>
                </a:lnTo>
                <a:lnTo>
                  <a:pt x="683" y="953"/>
                </a:lnTo>
                <a:lnTo>
                  <a:pt x="736" y="932"/>
                </a:lnTo>
                <a:lnTo>
                  <a:pt x="754" y="938"/>
                </a:lnTo>
                <a:lnTo>
                  <a:pt x="790" y="923"/>
                </a:lnTo>
                <a:lnTo>
                  <a:pt x="826" y="906"/>
                </a:lnTo>
                <a:lnTo>
                  <a:pt x="848" y="893"/>
                </a:lnTo>
                <a:lnTo>
                  <a:pt x="866" y="876"/>
                </a:lnTo>
                <a:lnTo>
                  <a:pt x="886" y="886"/>
                </a:lnTo>
                <a:lnTo>
                  <a:pt x="913" y="899"/>
                </a:lnTo>
                <a:lnTo>
                  <a:pt x="939" y="908"/>
                </a:lnTo>
                <a:lnTo>
                  <a:pt x="962" y="914"/>
                </a:lnTo>
                <a:lnTo>
                  <a:pt x="989" y="917"/>
                </a:lnTo>
                <a:lnTo>
                  <a:pt x="1015" y="917"/>
                </a:lnTo>
                <a:lnTo>
                  <a:pt x="1046" y="912"/>
                </a:lnTo>
                <a:lnTo>
                  <a:pt x="1076" y="904"/>
                </a:lnTo>
                <a:lnTo>
                  <a:pt x="1104" y="893"/>
                </a:lnTo>
                <a:lnTo>
                  <a:pt x="1131" y="874"/>
                </a:lnTo>
                <a:lnTo>
                  <a:pt x="1156" y="854"/>
                </a:lnTo>
                <a:lnTo>
                  <a:pt x="1191" y="871"/>
                </a:lnTo>
                <a:lnTo>
                  <a:pt x="1223" y="880"/>
                </a:lnTo>
                <a:lnTo>
                  <a:pt x="1250" y="884"/>
                </a:lnTo>
                <a:lnTo>
                  <a:pt x="1290" y="884"/>
                </a:lnTo>
                <a:lnTo>
                  <a:pt x="1332" y="878"/>
                </a:lnTo>
                <a:lnTo>
                  <a:pt x="1381" y="861"/>
                </a:lnTo>
                <a:lnTo>
                  <a:pt x="1423" y="835"/>
                </a:lnTo>
                <a:lnTo>
                  <a:pt x="1457" y="803"/>
                </a:lnTo>
                <a:lnTo>
                  <a:pt x="1491" y="764"/>
                </a:lnTo>
                <a:lnTo>
                  <a:pt x="1510" y="732"/>
                </a:lnTo>
                <a:lnTo>
                  <a:pt x="1524" y="700"/>
                </a:lnTo>
                <a:lnTo>
                  <a:pt x="1539" y="657"/>
                </a:lnTo>
                <a:lnTo>
                  <a:pt x="1546" y="618"/>
                </a:lnTo>
                <a:lnTo>
                  <a:pt x="1550" y="573"/>
                </a:lnTo>
                <a:lnTo>
                  <a:pt x="1546" y="539"/>
                </a:lnTo>
                <a:lnTo>
                  <a:pt x="1539" y="498"/>
                </a:lnTo>
                <a:lnTo>
                  <a:pt x="1528" y="457"/>
                </a:lnTo>
                <a:lnTo>
                  <a:pt x="1510" y="420"/>
                </a:lnTo>
                <a:lnTo>
                  <a:pt x="1490" y="384"/>
                </a:lnTo>
                <a:lnTo>
                  <a:pt x="1464" y="354"/>
                </a:lnTo>
                <a:lnTo>
                  <a:pt x="1441" y="330"/>
                </a:lnTo>
                <a:lnTo>
                  <a:pt x="1417" y="313"/>
                </a:lnTo>
                <a:lnTo>
                  <a:pt x="1385" y="289"/>
                </a:lnTo>
                <a:lnTo>
                  <a:pt x="1354" y="277"/>
                </a:lnTo>
                <a:lnTo>
                  <a:pt x="1327" y="270"/>
                </a:lnTo>
                <a:lnTo>
                  <a:pt x="1296" y="266"/>
                </a:lnTo>
                <a:lnTo>
                  <a:pt x="1290" y="238"/>
                </a:lnTo>
                <a:lnTo>
                  <a:pt x="1281" y="210"/>
                </a:lnTo>
                <a:lnTo>
                  <a:pt x="1269" y="184"/>
                </a:lnTo>
                <a:lnTo>
                  <a:pt x="1254" y="156"/>
                </a:lnTo>
                <a:lnTo>
                  <a:pt x="1234" y="128"/>
                </a:lnTo>
                <a:lnTo>
                  <a:pt x="1209" y="98"/>
                </a:lnTo>
                <a:lnTo>
                  <a:pt x="1185" y="75"/>
                </a:lnTo>
                <a:lnTo>
                  <a:pt x="1156" y="55"/>
                </a:lnTo>
                <a:lnTo>
                  <a:pt x="1122" y="34"/>
                </a:lnTo>
                <a:lnTo>
                  <a:pt x="1087" y="19"/>
                </a:lnTo>
                <a:lnTo>
                  <a:pt x="1055" y="8"/>
                </a:lnTo>
                <a:lnTo>
                  <a:pt x="1017" y="2"/>
                </a:lnTo>
                <a:lnTo>
                  <a:pt x="980" y="0"/>
                </a:lnTo>
                <a:lnTo>
                  <a:pt x="940" y="0"/>
                </a:lnTo>
                <a:lnTo>
                  <a:pt x="906" y="6"/>
                </a:lnTo>
                <a:lnTo>
                  <a:pt x="864" y="19"/>
                </a:lnTo>
                <a:lnTo>
                  <a:pt x="821" y="38"/>
                </a:lnTo>
                <a:lnTo>
                  <a:pt x="792" y="55"/>
                </a:lnTo>
                <a:lnTo>
                  <a:pt x="763" y="77"/>
                </a:lnTo>
                <a:lnTo>
                  <a:pt x="737" y="103"/>
                </a:lnTo>
                <a:lnTo>
                  <a:pt x="716" y="126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341000"/>
            <a:ext cx="7157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233840" y="4437000"/>
            <a:ext cx="11282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15920"/>
            <a:ext cx="820728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nkGothic Md BT"/>
              </a:rPr>
              <a:t>ESQUEMA TÍPICO DE CONEXIÓN 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496960"/>
            <a:ext cx="2133720" cy="1067040"/>
          </a:xfrm>
          <a:custGeom>
            <a:avLst/>
            <a:gdLst/>
            <a:ahLst/>
            <a:rect l="l" t="t" r="r" b="b"/>
            <a:pathLst>
              <a:path w="1551" h="961">
                <a:moveTo>
                  <a:pt x="716" y="126"/>
                </a:moveTo>
                <a:lnTo>
                  <a:pt x="679" y="118"/>
                </a:lnTo>
                <a:lnTo>
                  <a:pt x="630" y="107"/>
                </a:lnTo>
                <a:lnTo>
                  <a:pt x="589" y="105"/>
                </a:lnTo>
                <a:lnTo>
                  <a:pt x="545" y="109"/>
                </a:lnTo>
                <a:lnTo>
                  <a:pt x="513" y="113"/>
                </a:lnTo>
                <a:lnTo>
                  <a:pt x="482" y="122"/>
                </a:lnTo>
                <a:lnTo>
                  <a:pt x="447" y="135"/>
                </a:lnTo>
                <a:lnTo>
                  <a:pt x="415" y="152"/>
                </a:lnTo>
                <a:lnTo>
                  <a:pt x="382" y="176"/>
                </a:lnTo>
                <a:lnTo>
                  <a:pt x="349" y="206"/>
                </a:lnTo>
                <a:lnTo>
                  <a:pt x="328" y="234"/>
                </a:lnTo>
                <a:lnTo>
                  <a:pt x="313" y="259"/>
                </a:lnTo>
                <a:lnTo>
                  <a:pt x="299" y="287"/>
                </a:lnTo>
                <a:lnTo>
                  <a:pt x="290" y="324"/>
                </a:lnTo>
                <a:lnTo>
                  <a:pt x="262" y="315"/>
                </a:lnTo>
                <a:lnTo>
                  <a:pt x="230" y="311"/>
                </a:lnTo>
                <a:lnTo>
                  <a:pt x="201" y="311"/>
                </a:lnTo>
                <a:lnTo>
                  <a:pt x="170" y="317"/>
                </a:lnTo>
                <a:lnTo>
                  <a:pt x="143" y="328"/>
                </a:lnTo>
                <a:lnTo>
                  <a:pt x="116" y="341"/>
                </a:lnTo>
                <a:lnTo>
                  <a:pt x="87" y="365"/>
                </a:lnTo>
                <a:lnTo>
                  <a:pt x="70" y="384"/>
                </a:lnTo>
                <a:lnTo>
                  <a:pt x="50" y="405"/>
                </a:lnTo>
                <a:lnTo>
                  <a:pt x="34" y="431"/>
                </a:lnTo>
                <a:lnTo>
                  <a:pt x="19" y="466"/>
                </a:lnTo>
                <a:lnTo>
                  <a:pt x="10" y="498"/>
                </a:lnTo>
                <a:lnTo>
                  <a:pt x="3" y="530"/>
                </a:lnTo>
                <a:lnTo>
                  <a:pt x="1" y="556"/>
                </a:lnTo>
                <a:lnTo>
                  <a:pt x="0" y="582"/>
                </a:lnTo>
                <a:lnTo>
                  <a:pt x="1" y="614"/>
                </a:lnTo>
                <a:lnTo>
                  <a:pt x="5" y="642"/>
                </a:lnTo>
                <a:lnTo>
                  <a:pt x="12" y="670"/>
                </a:lnTo>
                <a:lnTo>
                  <a:pt x="21" y="697"/>
                </a:lnTo>
                <a:lnTo>
                  <a:pt x="34" y="728"/>
                </a:lnTo>
                <a:lnTo>
                  <a:pt x="52" y="758"/>
                </a:lnTo>
                <a:lnTo>
                  <a:pt x="72" y="781"/>
                </a:lnTo>
                <a:lnTo>
                  <a:pt x="96" y="805"/>
                </a:lnTo>
                <a:lnTo>
                  <a:pt x="123" y="822"/>
                </a:lnTo>
                <a:lnTo>
                  <a:pt x="145" y="835"/>
                </a:lnTo>
                <a:lnTo>
                  <a:pt x="166" y="841"/>
                </a:lnTo>
                <a:lnTo>
                  <a:pt x="192" y="850"/>
                </a:lnTo>
                <a:lnTo>
                  <a:pt x="219" y="850"/>
                </a:lnTo>
                <a:lnTo>
                  <a:pt x="246" y="850"/>
                </a:lnTo>
                <a:lnTo>
                  <a:pt x="273" y="844"/>
                </a:lnTo>
                <a:lnTo>
                  <a:pt x="295" y="837"/>
                </a:lnTo>
                <a:lnTo>
                  <a:pt x="310" y="831"/>
                </a:lnTo>
                <a:lnTo>
                  <a:pt x="324" y="852"/>
                </a:lnTo>
                <a:lnTo>
                  <a:pt x="346" y="871"/>
                </a:lnTo>
                <a:lnTo>
                  <a:pt x="369" y="889"/>
                </a:lnTo>
                <a:lnTo>
                  <a:pt x="395" y="906"/>
                </a:lnTo>
                <a:lnTo>
                  <a:pt x="427" y="921"/>
                </a:lnTo>
                <a:lnTo>
                  <a:pt x="460" y="936"/>
                </a:lnTo>
                <a:lnTo>
                  <a:pt x="500" y="947"/>
                </a:lnTo>
                <a:lnTo>
                  <a:pt x="536" y="955"/>
                </a:lnTo>
                <a:lnTo>
                  <a:pt x="576" y="960"/>
                </a:lnTo>
                <a:lnTo>
                  <a:pt x="607" y="960"/>
                </a:lnTo>
                <a:lnTo>
                  <a:pt x="639" y="960"/>
                </a:lnTo>
                <a:lnTo>
                  <a:pt x="683" y="953"/>
                </a:lnTo>
                <a:lnTo>
                  <a:pt x="736" y="932"/>
                </a:lnTo>
                <a:lnTo>
                  <a:pt x="754" y="938"/>
                </a:lnTo>
                <a:lnTo>
                  <a:pt x="790" y="923"/>
                </a:lnTo>
                <a:lnTo>
                  <a:pt x="826" y="906"/>
                </a:lnTo>
                <a:lnTo>
                  <a:pt x="848" y="893"/>
                </a:lnTo>
                <a:lnTo>
                  <a:pt x="866" y="876"/>
                </a:lnTo>
                <a:lnTo>
                  <a:pt x="886" y="886"/>
                </a:lnTo>
                <a:lnTo>
                  <a:pt x="913" y="899"/>
                </a:lnTo>
                <a:lnTo>
                  <a:pt x="939" y="908"/>
                </a:lnTo>
                <a:lnTo>
                  <a:pt x="962" y="914"/>
                </a:lnTo>
                <a:lnTo>
                  <a:pt x="989" y="917"/>
                </a:lnTo>
                <a:lnTo>
                  <a:pt x="1015" y="917"/>
                </a:lnTo>
                <a:lnTo>
                  <a:pt x="1046" y="912"/>
                </a:lnTo>
                <a:lnTo>
                  <a:pt x="1076" y="904"/>
                </a:lnTo>
                <a:lnTo>
                  <a:pt x="1104" y="893"/>
                </a:lnTo>
                <a:lnTo>
                  <a:pt x="1131" y="874"/>
                </a:lnTo>
                <a:lnTo>
                  <a:pt x="1156" y="854"/>
                </a:lnTo>
                <a:lnTo>
                  <a:pt x="1191" y="871"/>
                </a:lnTo>
                <a:lnTo>
                  <a:pt x="1223" y="880"/>
                </a:lnTo>
                <a:lnTo>
                  <a:pt x="1250" y="884"/>
                </a:lnTo>
                <a:lnTo>
                  <a:pt x="1290" y="884"/>
                </a:lnTo>
                <a:lnTo>
                  <a:pt x="1332" y="878"/>
                </a:lnTo>
                <a:lnTo>
                  <a:pt x="1381" y="861"/>
                </a:lnTo>
                <a:lnTo>
                  <a:pt x="1423" y="835"/>
                </a:lnTo>
                <a:lnTo>
                  <a:pt x="1457" y="803"/>
                </a:lnTo>
                <a:lnTo>
                  <a:pt x="1491" y="764"/>
                </a:lnTo>
                <a:lnTo>
                  <a:pt x="1510" y="732"/>
                </a:lnTo>
                <a:lnTo>
                  <a:pt x="1524" y="700"/>
                </a:lnTo>
                <a:lnTo>
                  <a:pt x="1539" y="657"/>
                </a:lnTo>
                <a:lnTo>
                  <a:pt x="1546" y="618"/>
                </a:lnTo>
                <a:lnTo>
                  <a:pt x="1550" y="573"/>
                </a:lnTo>
                <a:lnTo>
                  <a:pt x="1546" y="539"/>
                </a:lnTo>
                <a:lnTo>
                  <a:pt x="1539" y="498"/>
                </a:lnTo>
                <a:lnTo>
                  <a:pt x="1528" y="457"/>
                </a:lnTo>
                <a:lnTo>
                  <a:pt x="1510" y="420"/>
                </a:lnTo>
                <a:lnTo>
                  <a:pt x="1490" y="384"/>
                </a:lnTo>
                <a:lnTo>
                  <a:pt x="1464" y="354"/>
                </a:lnTo>
                <a:lnTo>
                  <a:pt x="1441" y="330"/>
                </a:lnTo>
                <a:lnTo>
                  <a:pt x="1417" y="313"/>
                </a:lnTo>
                <a:lnTo>
                  <a:pt x="1385" y="289"/>
                </a:lnTo>
                <a:lnTo>
                  <a:pt x="1354" y="277"/>
                </a:lnTo>
                <a:lnTo>
                  <a:pt x="1327" y="270"/>
                </a:lnTo>
                <a:lnTo>
                  <a:pt x="1296" y="266"/>
                </a:lnTo>
                <a:lnTo>
                  <a:pt x="1290" y="238"/>
                </a:lnTo>
                <a:lnTo>
                  <a:pt x="1281" y="210"/>
                </a:lnTo>
                <a:lnTo>
                  <a:pt x="1269" y="184"/>
                </a:lnTo>
                <a:lnTo>
                  <a:pt x="1254" y="156"/>
                </a:lnTo>
                <a:lnTo>
                  <a:pt x="1234" y="128"/>
                </a:lnTo>
                <a:lnTo>
                  <a:pt x="1209" y="98"/>
                </a:lnTo>
                <a:lnTo>
                  <a:pt x="1185" y="75"/>
                </a:lnTo>
                <a:lnTo>
                  <a:pt x="1156" y="55"/>
                </a:lnTo>
                <a:lnTo>
                  <a:pt x="1122" y="34"/>
                </a:lnTo>
                <a:lnTo>
                  <a:pt x="1087" y="19"/>
                </a:lnTo>
                <a:lnTo>
                  <a:pt x="1055" y="8"/>
                </a:lnTo>
                <a:lnTo>
                  <a:pt x="1017" y="2"/>
                </a:lnTo>
                <a:lnTo>
                  <a:pt x="980" y="0"/>
                </a:lnTo>
                <a:lnTo>
                  <a:pt x="940" y="0"/>
                </a:lnTo>
                <a:lnTo>
                  <a:pt x="906" y="6"/>
                </a:lnTo>
                <a:lnTo>
                  <a:pt x="864" y="19"/>
                </a:lnTo>
                <a:lnTo>
                  <a:pt x="821" y="38"/>
                </a:lnTo>
                <a:lnTo>
                  <a:pt x="792" y="55"/>
                </a:lnTo>
                <a:lnTo>
                  <a:pt x="763" y="77"/>
                </a:lnTo>
                <a:lnTo>
                  <a:pt x="737" y="103"/>
                </a:lnTo>
                <a:lnTo>
                  <a:pt x="716" y="126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86200" y="4114800"/>
          <a:ext cx="8380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838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402920" y="2924280"/>
            <a:ext cx="6134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78920" y="3716280"/>
            <a:ext cx="11725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229600" y="6019920"/>
          <a:ext cx="45396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6019920"/>
                    <a:ext cx="4539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8077320" y="525780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54920" y="6454800"/>
            <a:ext cx="770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1800" y="6237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800600" y="5229360"/>
            <a:ext cx="465120" cy="814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356000" y="5661000"/>
            <a:ext cx="520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94880" y="5229360"/>
            <a:ext cx="96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OR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09680" y="1125360"/>
            <a:ext cx="990720" cy="533520"/>
            <a:chOff x="2209680" y="1125360"/>
            <a:chExt cx="990720" cy="533520"/>
          </a:xfrm>
        </p:grpSpPr>
        <p:pic>
          <p:nvPicPr>
            <p:cNvPr id="135" name="" descr=""/>
            <p:cNvPicPr/>
            <p:nvPr/>
          </p:nvPicPr>
          <p:blipFill>
            <a:blip r:embed="rId6"/>
            <a:stretch/>
          </p:blipFill>
          <p:spPr>
            <a:xfrm>
              <a:off x="2209680" y="112536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2554200" y="112536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8"/>
            <a:stretch/>
          </p:blipFill>
          <p:spPr>
            <a:xfrm>
              <a:off x="2899080" y="112536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52520" y="1658880"/>
              <a:ext cx="9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38920" y="1525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83440" y="1525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28320" y="1525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258920" y="2205000"/>
            <a:ext cx="11268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57200" y="1201680"/>
            <a:ext cx="990720" cy="533520"/>
            <a:chOff x="457200" y="1201680"/>
            <a:chExt cx="990720" cy="533520"/>
          </a:xfrm>
        </p:grpSpPr>
        <p:pic>
          <p:nvPicPr>
            <p:cNvPr id="144" name="" descr=""/>
            <p:cNvPicPr/>
            <p:nvPr/>
          </p:nvPicPr>
          <p:blipFill>
            <a:blip r:embed="rId9"/>
            <a:stretch/>
          </p:blipFill>
          <p:spPr>
            <a:xfrm>
              <a:off x="457200" y="120168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0"/>
            <a:stretch/>
          </p:blipFill>
          <p:spPr>
            <a:xfrm>
              <a:off x="801720" y="120168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1"/>
            <a:stretch/>
          </p:blipFill>
          <p:spPr>
            <a:xfrm>
              <a:off x="1146600" y="1201680"/>
              <a:ext cx="301320" cy="40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00040" y="1735200"/>
              <a:ext cx="9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440" y="160164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30960" y="160164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75840" y="160164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2209680" y="226836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3502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2"/>
          <a:stretch/>
        </p:blipFill>
        <p:spPr>
          <a:xfrm>
            <a:off x="900000" y="5229360"/>
            <a:ext cx="463680" cy="633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3"/>
          <a:stretch/>
        </p:blipFill>
        <p:spPr>
          <a:xfrm>
            <a:off x="2050920" y="5229360"/>
            <a:ext cx="463680" cy="63324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403280" y="4438800"/>
            <a:ext cx="574920" cy="433080"/>
            <a:chOff x="1403280" y="4438800"/>
            <a:chExt cx="574920" cy="433080"/>
          </a:xfrm>
        </p:grpSpPr>
        <p:sp>
          <p:nvSpPr>
            <p:cNvPr id="156" name=""/>
            <p:cNvSpPr/>
            <p:nvPr/>
          </p:nvSpPr>
          <p:spPr>
            <a:xfrm>
              <a:off x="1403280" y="4439880"/>
              <a:ext cx="573840" cy="21096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82840" y="4646880"/>
              <a:ext cx="495000" cy="2235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03280" y="4438800"/>
              <a:ext cx="81360" cy="43308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88600" y="4659120"/>
              <a:ext cx="414720" cy="198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82840" y="4704480"/>
              <a:ext cx="15120" cy="45720"/>
              <a:chOff x="1482840" y="4704480"/>
              <a:chExt cx="15120" cy="45720"/>
            </a:xfrm>
          </p:grpSpPr>
          <p:sp>
            <p:nvSpPr>
              <p:cNvPr id="161" name=""/>
              <p:cNvSpPr/>
              <p:nvPr/>
            </p:nvSpPr>
            <p:spPr>
              <a:xfrm>
                <a:off x="1482840" y="4704480"/>
                <a:ext cx="1512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82840" y="4710600"/>
                <a:ext cx="1512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82840" y="4724280"/>
                <a:ext cx="1512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82840" y="4730040"/>
                <a:ext cx="1512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82840" y="4744440"/>
                <a:ext cx="1512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82840" y="4749840"/>
                <a:ext cx="1512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904040" y="4640040"/>
              <a:ext cx="73080" cy="1332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415160" y="4510440"/>
              <a:ext cx="21240" cy="202320"/>
              <a:chOff x="1415160" y="4510440"/>
              <a:chExt cx="21240" cy="2023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415160" y="4510440"/>
                <a:ext cx="21240" cy="64440"/>
                <a:chOff x="1415160" y="4510440"/>
                <a:chExt cx="21240" cy="644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415160" y="451080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415520" y="451044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415160" y="4533120"/>
                <a:ext cx="21240" cy="64800"/>
                <a:chOff x="1415160" y="4533120"/>
                <a:chExt cx="21240" cy="648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415160" y="4533480"/>
                  <a:ext cx="20880" cy="644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15520" y="453312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415160" y="4556160"/>
                <a:ext cx="21240" cy="64440"/>
                <a:chOff x="1415160" y="4556160"/>
                <a:chExt cx="21240" cy="644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415160" y="455652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415520" y="455616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415160" y="4579200"/>
                <a:ext cx="21240" cy="64440"/>
                <a:chOff x="1415160" y="4579200"/>
                <a:chExt cx="21240" cy="64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415160" y="457956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415520" y="4579200"/>
                  <a:ext cx="20880" cy="644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415160" y="4602600"/>
                <a:ext cx="21240" cy="64440"/>
                <a:chOff x="1415160" y="4602600"/>
                <a:chExt cx="21240" cy="64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415160" y="460296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415520" y="460260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415160" y="4625640"/>
                <a:ext cx="21240" cy="64440"/>
                <a:chOff x="1415160" y="4625640"/>
                <a:chExt cx="21240" cy="644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415160" y="462600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415520" y="462564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415160" y="4648320"/>
                <a:ext cx="21240" cy="64440"/>
                <a:chOff x="1415160" y="4648320"/>
                <a:chExt cx="21240" cy="644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415160" y="464868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415520" y="4648320"/>
                  <a:ext cx="2088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0" name=""/>
            <p:cNvGrpSpPr/>
            <p:nvPr/>
          </p:nvGrpSpPr>
          <p:grpSpPr>
            <a:xfrm>
              <a:off x="1448280" y="4597920"/>
              <a:ext cx="20520" cy="200880"/>
              <a:chOff x="1448280" y="4597920"/>
              <a:chExt cx="20520" cy="2008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448280" y="4597920"/>
                <a:ext cx="20520" cy="63360"/>
                <a:chOff x="1448280" y="4597920"/>
                <a:chExt cx="20520" cy="633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448280" y="4598280"/>
                  <a:ext cx="2016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48640" y="459792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448280" y="4620600"/>
                <a:ext cx="20520" cy="63360"/>
                <a:chOff x="1448280" y="4620600"/>
                <a:chExt cx="20520" cy="63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448280" y="4620960"/>
                  <a:ext cx="2016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448640" y="4620600"/>
                  <a:ext cx="2016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448280" y="4643640"/>
                <a:ext cx="20520" cy="63720"/>
                <a:chOff x="1448280" y="4643640"/>
                <a:chExt cx="20520" cy="637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448280" y="464400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448640" y="4643640"/>
                  <a:ext cx="2016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448280" y="4666680"/>
                <a:ext cx="20520" cy="63720"/>
                <a:chOff x="1448280" y="4666680"/>
                <a:chExt cx="20520" cy="637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448280" y="466704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448640" y="466668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448280" y="4689720"/>
                <a:ext cx="20520" cy="63720"/>
                <a:chOff x="1448280" y="4689720"/>
                <a:chExt cx="20520" cy="637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448280" y="469008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448640" y="468972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448280" y="4712400"/>
                <a:ext cx="20520" cy="63720"/>
                <a:chOff x="1448280" y="4712400"/>
                <a:chExt cx="20520" cy="637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448280" y="471276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448640" y="471240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1448280" y="4735440"/>
                <a:ext cx="20520" cy="63360"/>
                <a:chOff x="1448280" y="4735440"/>
                <a:chExt cx="20520" cy="633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448280" y="4735800"/>
                  <a:ext cx="2016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448640" y="4735440"/>
                  <a:ext cx="20160" cy="633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1420200" y="4443840"/>
              <a:ext cx="86040" cy="194760"/>
              <a:chOff x="1420200" y="4443840"/>
              <a:chExt cx="86040" cy="194760"/>
            </a:xfrm>
          </p:grpSpPr>
          <p:sp>
            <p:nvSpPr>
              <p:cNvPr id="213" name=""/>
              <p:cNvSpPr/>
              <p:nvPr/>
            </p:nvSpPr>
            <p:spPr>
              <a:xfrm>
                <a:off x="1420200" y="4443840"/>
                <a:ext cx="21960" cy="237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22360" y="4448160"/>
                <a:ext cx="1872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84280" y="4614120"/>
                <a:ext cx="21960" cy="230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86800" y="4618080"/>
                <a:ext cx="1872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875960" y="4443840"/>
              <a:ext cx="86040" cy="194760"/>
              <a:chOff x="1875960" y="4443840"/>
              <a:chExt cx="86040" cy="194760"/>
            </a:xfrm>
          </p:grpSpPr>
          <p:sp>
            <p:nvSpPr>
              <p:cNvPr id="218" name=""/>
              <p:cNvSpPr/>
              <p:nvPr/>
            </p:nvSpPr>
            <p:spPr>
              <a:xfrm>
                <a:off x="1875960" y="4443840"/>
                <a:ext cx="21960" cy="237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77760" y="4448160"/>
                <a:ext cx="1908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40040" y="4614120"/>
                <a:ext cx="21960" cy="230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42200" y="4618080"/>
                <a:ext cx="1908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488600" y="4663080"/>
              <a:ext cx="416880" cy="190800"/>
              <a:chOff x="1488600" y="4663080"/>
              <a:chExt cx="416880" cy="190800"/>
            </a:xfrm>
          </p:grpSpPr>
          <p:sp>
            <p:nvSpPr>
              <p:cNvPr id="223" name=""/>
              <p:cNvSpPr/>
              <p:nvPr/>
            </p:nvSpPr>
            <p:spPr>
              <a:xfrm>
                <a:off x="1488600" y="4663800"/>
                <a:ext cx="392400" cy="189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68400" y="4663080"/>
                <a:ext cx="37080" cy="19080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919520" y="4656600"/>
              <a:ext cx="58680" cy="2152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506960" y="4690800"/>
              <a:ext cx="379800" cy="139680"/>
              <a:chOff x="1506960" y="4690800"/>
              <a:chExt cx="379800" cy="1396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1844640" y="4690800"/>
                <a:ext cx="42120" cy="27000"/>
                <a:chOff x="1844640" y="4690800"/>
                <a:chExt cx="42120" cy="2700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1844640" y="4690800"/>
                  <a:ext cx="12600" cy="27000"/>
                  <a:chOff x="1844640" y="4690800"/>
                  <a:chExt cx="12600" cy="270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1848960" y="4695120"/>
                    <a:ext cx="828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1844640" y="4690800"/>
                    <a:ext cx="72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844640" y="4700160"/>
                    <a:ext cx="72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1844640" y="4708440"/>
                    <a:ext cx="864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1850040" y="4704120"/>
                    <a:ext cx="68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850040" y="4713120"/>
                    <a:ext cx="72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859400" y="4693680"/>
                  <a:ext cx="27360" cy="20880"/>
                  <a:chOff x="1859400" y="4693680"/>
                  <a:chExt cx="27360" cy="208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1859400" y="4693680"/>
                    <a:ext cx="27360" cy="8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59400" y="4706280"/>
                    <a:ext cx="27360" cy="8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" name=""/>
              <p:cNvGrpSpPr/>
              <p:nvPr/>
            </p:nvGrpSpPr>
            <p:grpSpPr>
              <a:xfrm>
                <a:off x="1864800" y="4816440"/>
                <a:ext cx="21240" cy="14040"/>
                <a:chOff x="1864800" y="4816440"/>
                <a:chExt cx="21240" cy="140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864800" y="4816440"/>
                  <a:ext cx="21240" cy="6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865880" y="4824000"/>
                  <a:ext cx="19800" cy="6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1824120" y="4709880"/>
                <a:ext cx="16200" cy="42480"/>
                <a:chOff x="1824120" y="4709880"/>
                <a:chExt cx="16200" cy="424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824120" y="4716360"/>
                  <a:ext cx="16200" cy="3600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827000" y="4709880"/>
                  <a:ext cx="11160" cy="1440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828440" y="4711680"/>
                  <a:ext cx="7920" cy="1116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1827000" y="4760640"/>
                <a:ext cx="4680" cy="104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33480" y="4760640"/>
                <a:ext cx="5040" cy="104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27000" y="4775760"/>
                <a:ext cx="468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33480" y="4775760"/>
                <a:ext cx="50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791960"/>
                <a:ext cx="4680" cy="111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33480" y="4791960"/>
                <a:ext cx="5040" cy="111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27000" y="4807800"/>
                <a:ext cx="468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33480" y="4807800"/>
                <a:ext cx="50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842120" y="4795200"/>
                <a:ext cx="1584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621080" y="4709880"/>
                <a:ext cx="77760" cy="3816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649880" y="4701960"/>
                <a:ext cx="23400" cy="1584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653120" y="4704120"/>
                <a:ext cx="16200" cy="1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645920" y="4719960"/>
                <a:ext cx="30240" cy="25200"/>
                <a:chOff x="1645920" y="4719960"/>
                <a:chExt cx="30240" cy="252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645920" y="4719960"/>
                  <a:ext cx="3024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647000" y="4728960"/>
                  <a:ext cx="2736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649880" y="4738320"/>
                  <a:ext cx="2232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620000" y="4755240"/>
                <a:ext cx="39600" cy="59760"/>
                <a:chOff x="1620000" y="4755240"/>
                <a:chExt cx="39600" cy="5976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1620000" y="4755240"/>
                  <a:ext cx="39600" cy="10800"/>
                  <a:chOff x="1620000" y="4755240"/>
                  <a:chExt cx="39600" cy="108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162000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162648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3368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640880" y="47552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4772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65456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1620000" y="4771080"/>
                  <a:ext cx="39600" cy="11520"/>
                  <a:chOff x="1620000" y="4771080"/>
                  <a:chExt cx="39600" cy="11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162000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62648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63368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640880" y="47710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64772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65456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1620000" y="4787640"/>
                  <a:ext cx="39600" cy="10800"/>
                  <a:chOff x="1620000" y="4787640"/>
                  <a:chExt cx="39600" cy="108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162000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62648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63368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1640880" y="47876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64772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65456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1620000" y="4803480"/>
                  <a:ext cx="39600" cy="11520"/>
                  <a:chOff x="1620000" y="4803480"/>
                  <a:chExt cx="39600" cy="1152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162000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162648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63368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640880" y="48034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64772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165456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1662480" y="4755240"/>
                <a:ext cx="39240" cy="59760"/>
                <a:chOff x="1662480" y="4755240"/>
                <a:chExt cx="39240" cy="59760"/>
              </a:xfrm>
            </p:grpSpPr>
            <p:grpSp>
              <p:nvGrpSpPr>
                <p:cNvPr id="291" name=""/>
                <p:cNvGrpSpPr/>
                <p:nvPr/>
              </p:nvGrpSpPr>
              <p:grpSpPr>
                <a:xfrm>
                  <a:off x="1662480" y="4755240"/>
                  <a:ext cx="39240" cy="10800"/>
                  <a:chOff x="1662480" y="4755240"/>
                  <a:chExt cx="39240" cy="108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1662480" y="47552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166896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67616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168300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1689840" y="47552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1697040" y="47552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1662480" y="4771080"/>
                  <a:ext cx="39240" cy="11520"/>
                  <a:chOff x="1662480" y="4771080"/>
                  <a:chExt cx="39240" cy="115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1662480" y="47710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166896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167616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68300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689840" y="47710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97040" y="47710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1662480" y="4787640"/>
                  <a:ext cx="39240" cy="10800"/>
                  <a:chOff x="1662480" y="4787640"/>
                  <a:chExt cx="39240" cy="1080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1662480" y="47876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166896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7616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168300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1689840" y="4787640"/>
                    <a:ext cx="50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1697040" y="4787640"/>
                    <a:ext cx="46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1662480" y="4803480"/>
                  <a:ext cx="39240" cy="11520"/>
                  <a:chOff x="1662480" y="4803480"/>
                  <a:chExt cx="39240" cy="1152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1662480" y="48034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166896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167616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168300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689840" y="4803480"/>
                    <a:ext cx="50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697040" y="4803480"/>
                    <a:ext cx="46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9" name=""/>
              <p:cNvGrpSpPr/>
              <p:nvPr/>
            </p:nvGrpSpPr>
            <p:grpSpPr>
              <a:xfrm>
                <a:off x="1506960" y="4775040"/>
                <a:ext cx="102960" cy="52560"/>
                <a:chOff x="1506960" y="4775040"/>
                <a:chExt cx="102960" cy="5256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1506960" y="4775040"/>
                  <a:ext cx="12600" cy="52560"/>
                  <a:chOff x="1506960" y="4775040"/>
                  <a:chExt cx="12600" cy="52560"/>
                </a:xfrm>
              </p:grpSpPr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1506960" y="4775040"/>
                    <a:ext cx="12600" cy="52560"/>
                    <a:chOff x="1506960" y="4775040"/>
                    <a:chExt cx="12600" cy="525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1506960" y="478476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150696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1508040" y="479484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1506960" y="478728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150768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151704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1510920" y="480384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1524960" y="4775040"/>
                  <a:ext cx="12600" cy="52560"/>
                  <a:chOff x="1524960" y="4775040"/>
                  <a:chExt cx="12600" cy="5256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1524960" y="4775040"/>
                    <a:ext cx="12600" cy="52560"/>
                    <a:chOff x="1524960" y="4775040"/>
                    <a:chExt cx="12600" cy="5256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1524960" y="478476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152496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1526040" y="479484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1524960" y="478728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152568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153504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7" name=""/>
                  <p:cNvSpPr/>
                  <p:nvPr/>
                </p:nvSpPr>
                <p:spPr>
                  <a:xfrm>
                    <a:off x="1528920" y="480384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1542960" y="4775040"/>
                  <a:ext cx="12960" cy="52560"/>
                  <a:chOff x="1542960" y="4775040"/>
                  <a:chExt cx="12960" cy="52560"/>
                </a:xfrm>
              </p:grpSpPr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1542960" y="4775040"/>
                    <a:ext cx="12960" cy="52560"/>
                    <a:chOff x="1542960" y="4775040"/>
                    <a:chExt cx="12960" cy="5256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1542960" y="4784760"/>
                      <a:ext cx="1260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154296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544040" y="4794840"/>
                      <a:ext cx="1188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542960" y="4787280"/>
                      <a:ext cx="12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54368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155304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6" name=""/>
                  <p:cNvSpPr/>
                  <p:nvPr/>
                </p:nvSpPr>
                <p:spPr>
                  <a:xfrm>
                    <a:off x="1546920" y="4803840"/>
                    <a:ext cx="720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1560960" y="4775040"/>
                  <a:ext cx="12600" cy="52560"/>
                  <a:chOff x="1560960" y="4775040"/>
                  <a:chExt cx="12600" cy="52560"/>
                </a:xfrm>
              </p:grpSpPr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1560960" y="4775040"/>
                    <a:ext cx="12600" cy="52560"/>
                    <a:chOff x="1560960" y="4775040"/>
                    <a:chExt cx="12600" cy="525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1560960" y="478476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156096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1562040" y="479484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1560960" y="478728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156168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157104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5" name=""/>
                  <p:cNvSpPr/>
                  <p:nvPr/>
                </p:nvSpPr>
                <p:spPr>
                  <a:xfrm>
                    <a:off x="1564920" y="480384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1578960" y="4775040"/>
                  <a:ext cx="12600" cy="52560"/>
                  <a:chOff x="1578960" y="4775040"/>
                  <a:chExt cx="12600" cy="52560"/>
                </a:xfrm>
              </p:grpSpPr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1578960" y="4775040"/>
                    <a:ext cx="12600" cy="52560"/>
                    <a:chOff x="1578960" y="4775040"/>
                    <a:chExt cx="12600" cy="5256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1578960" y="478476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157896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1580040" y="479484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1578960" y="478728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157968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158904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4" name=""/>
                  <p:cNvSpPr/>
                  <p:nvPr/>
                </p:nvSpPr>
                <p:spPr>
                  <a:xfrm>
                    <a:off x="1582920" y="480384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1597320" y="4775040"/>
                  <a:ext cx="12600" cy="52560"/>
                  <a:chOff x="1597320" y="4775040"/>
                  <a:chExt cx="12600" cy="52560"/>
                </a:xfrm>
              </p:grpSpPr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1597320" y="4775040"/>
                    <a:ext cx="12600" cy="52560"/>
                    <a:chOff x="1597320" y="4775040"/>
                    <a:chExt cx="12600" cy="5256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1597320" y="478476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1597320" y="478728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1598400" y="479484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1597320" y="478728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1598040" y="477504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1607400" y="477504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3" name=""/>
                  <p:cNvSpPr/>
                  <p:nvPr/>
                </p:nvSpPr>
                <p:spPr>
                  <a:xfrm>
                    <a:off x="1601280" y="480384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"/>
              <p:cNvGrpSpPr/>
              <p:nvPr/>
            </p:nvGrpSpPr>
            <p:grpSpPr>
              <a:xfrm>
                <a:off x="1717200" y="4768560"/>
                <a:ext cx="102960" cy="52560"/>
                <a:chOff x="1717200" y="4768560"/>
                <a:chExt cx="102960" cy="52560"/>
              </a:xfrm>
            </p:grpSpPr>
            <p:grpSp>
              <p:nvGrpSpPr>
                <p:cNvPr id="375" name=""/>
                <p:cNvGrpSpPr/>
                <p:nvPr/>
              </p:nvGrpSpPr>
              <p:grpSpPr>
                <a:xfrm>
                  <a:off x="1717200" y="4768560"/>
                  <a:ext cx="12600" cy="52560"/>
                  <a:chOff x="1717200" y="4768560"/>
                  <a:chExt cx="12600" cy="52560"/>
                </a:xfrm>
              </p:grpSpPr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1717200" y="4768560"/>
                    <a:ext cx="12600" cy="52560"/>
                    <a:chOff x="1717200" y="4768560"/>
                    <a:chExt cx="12600" cy="525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1717200" y="477828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171720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1718280" y="478836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1717200" y="478080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171792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172728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3" name=""/>
                  <p:cNvSpPr/>
                  <p:nvPr/>
                </p:nvSpPr>
                <p:spPr>
                  <a:xfrm>
                    <a:off x="1721160" y="479736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1735200" y="4768560"/>
                  <a:ext cx="12600" cy="52560"/>
                  <a:chOff x="1735200" y="4768560"/>
                  <a:chExt cx="12600" cy="52560"/>
                </a:xfrm>
              </p:grpSpPr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1735200" y="4768560"/>
                    <a:ext cx="12600" cy="52560"/>
                    <a:chOff x="1735200" y="4768560"/>
                    <a:chExt cx="12600" cy="5256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1735200" y="477828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173520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1736280" y="478836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1735200" y="478080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173592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174528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2" name=""/>
                  <p:cNvSpPr/>
                  <p:nvPr/>
                </p:nvSpPr>
                <p:spPr>
                  <a:xfrm>
                    <a:off x="1739160" y="479736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1753200" y="4768560"/>
                  <a:ext cx="12960" cy="52560"/>
                  <a:chOff x="1753200" y="4768560"/>
                  <a:chExt cx="12960" cy="525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1753200" y="4768560"/>
                    <a:ext cx="12960" cy="52560"/>
                    <a:chOff x="1753200" y="4768560"/>
                    <a:chExt cx="12960" cy="5256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1753200" y="4778280"/>
                      <a:ext cx="1260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75320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754280" y="4788360"/>
                      <a:ext cx="1188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753200" y="4780800"/>
                      <a:ext cx="12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175392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76328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1" name=""/>
                  <p:cNvSpPr/>
                  <p:nvPr/>
                </p:nvSpPr>
                <p:spPr>
                  <a:xfrm>
                    <a:off x="1757160" y="4797360"/>
                    <a:ext cx="720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1771200" y="4768560"/>
                  <a:ext cx="12600" cy="52560"/>
                  <a:chOff x="1771200" y="4768560"/>
                  <a:chExt cx="12600" cy="52560"/>
                </a:xfrm>
              </p:grpSpPr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1771200" y="4768560"/>
                    <a:ext cx="12600" cy="52560"/>
                    <a:chOff x="1771200" y="4768560"/>
                    <a:chExt cx="12600" cy="5256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771200" y="477828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77120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772280" y="478836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771200" y="478080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177192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178128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0" name=""/>
                  <p:cNvSpPr/>
                  <p:nvPr/>
                </p:nvSpPr>
                <p:spPr>
                  <a:xfrm>
                    <a:off x="1775160" y="479736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1789200" y="4768560"/>
                  <a:ext cx="12600" cy="52560"/>
                  <a:chOff x="1789200" y="4768560"/>
                  <a:chExt cx="12600" cy="52560"/>
                </a:xfrm>
              </p:grpSpPr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1789200" y="4768560"/>
                    <a:ext cx="12600" cy="52560"/>
                    <a:chOff x="1789200" y="4768560"/>
                    <a:chExt cx="12600" cy="5256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1789200" y="477828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178920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1790280" y="478836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1789200" y="478080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178992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179928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9" name=""/>
                  <p:cNvSpPr/>
                  <p:nvPr/>
                </p:nvSpPr>
                <p:spPr>
                  <a:xfrm>
                    <a:off x="1793160" y="479736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1807560" y="4768560"/>
                  <a:ext cx="12600" cy="52560"/>
                  <a:chOff x="1807560" y="4768560"/>
                  <a:chExt cx="12600" cy="52560"/>
                </a:xfrm>
              </p:grpSpPr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1807560" y="4768560"/>
                    <a:ext cx="12600" cy="52560"/>
                    <a:chOff x="1807560" y="4768560"/>
                    <a:chExt cx="12600" cy="5256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1807560" y="4778280"/>
                      <a:ext cx="1224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1807560" y="4780800"/>
                      <a:ext cx="14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1808640" y="4788360"/>
                      <a:ext cx="1152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1807560" y="4780800"/>
                      <a:ext cx="126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1808280" y="4768560"/>
                      <a:ext cx="14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1817640" y="4768560"/>
                      <a:ext cx="10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8" name=""/>
                  <p:cNvSpPr/>
                  <p:nvPr/>
                </p:nvSpPr>
                <p:spPr>
                  <a:xfrm>
                    <a:off x="1811520" y="4797360"/>
                    <a:ext cx="684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9" name=""/>
          <p:cNvSpPr/>
          <p:nvPr/>
        </p:nvSpPr>
        <p:spPr>
          <a:xfrm>
            <a:off x="1692360" y="4005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187280" y="479700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08000" y="479736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170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16304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35640" y="4581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02880" y="6022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35240" y="47242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4120" y="7621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UCURSA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4160" y="7650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UCURSA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01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4"/>
          <a:stretch/>
        </p:blipFill>
        <p:spPr>
          <a:xfrm>
            <a:off x="971640" y="1989000"/>
            <a:ext cx="358560" cy="2541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5"/>
          <a:stretch/>
        </p:blipFill>
        <p:spPr>
          <a:xfrm>
            <a:off x="2195640" y="1989000"/>
            <a:ext cx="358560" cy="2541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6"/>
          <a:stretch/>
        </p:blipFill>
        <p:spPr>
          <a:xfrm>
            <a:off x="1476360" y="3789360"/>
            <a:ext cx="431640" cy="3063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7"/>
          <a:stretch/>
        </p:blipFill>
        <p:spPr>
          <a:xfrm>
            <a:off x="4932360" y="4316400"/>
            <a:ext cx="576360" cy="4078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4356000" y="4941720"/>
            <a:ext cx="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4581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84360" y="1773360"/>
            <a:ext cx="4380120" cy="5040360"/>
          </a:xfrm>
          <a:custGeom>
            <a:avLst/>
            <a:gdLst/>
            <a:ahLst/>
            <a:rect l="l" t="t" r="r" b="b"/>
            <a:pathLst>
              <a:path w="2759" h="3175">
                <a:moveTo>
                  <a:pt x="975" y="0"/>
                </a:moveTo>
                <a:cubicBezTo>
                  <a:pt x="487" y="725"/>
                  <a:pt x="0" y="1451"/>
                  <a:pt x="249" y="1814"/>
                </a:cubicBezTo>
                <a:cubicBezTo>
                  <a:pt x="498" y="2177"/>
                  <a:pt x="2185" y="1950"/>
                  <a:pt x="2472" y="2177"/>
                </a:cubicBezTo>
                <a:cubicBezTo>
                  <a:pt x="2759" y="2404"/>
                  <a:pt x="2056" y="3009"/>
                  <a:pt x="1973" y="3175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0" name=""/>
          <p:cNvGrpSpPr/>
          <p:nvPr/>
        </p:nvGrpSpPr>
        <p:grpSpPr>
          <a:xfrm>
            <a:off x="1116000" y="1052640"/>
            <a:ext cx="7086600" cy="2157120"/>
            <a:chOff x="1116000" y="1052640"/>
            <a:chExt cx="7086600" cy="2157120"/>
          </a:xfrm>
        </p:grpSpPr>
        <p:pic>
          <p:nvPicPr>
            <p:cNvPr id="1261" name="" descr=""/>
            <p:cNvPicPr/>
            <p:nvPr/>
          </p:nvPicPr>
          <p:blipFill>
            <a:blip r:embed="rId1"/>
            <a:stretch/>
          </p:blipFill>
          <p:spPr>
            <a:xfrm>
              <a:off x="1116000" y="1052640"/>
              <a:ext cx="708660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3747960" y="1128600"/>
              <a:ext cx="107964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3853080" y="148428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796000" y="2565360"/>
            <a:ext cx="180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DIG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28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4920" y="22860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HASH MD5 Y SHA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1258920" y="3860640"/>
            <a:ext cx="7086600" cy="2157480"/>
            <a:chOff x="1258920" y="3860640"/>
            <a:chExt cx="7086600" cy="2157480"/>
          </a:xfrm>
        </p:grpSpPr>
        <p:pic>
          <p:nvPicPr>
            <p:cNvPr id="1267" name="" descr=""/>
            <p:cNvPicPr/>
            <p:nvPr/>
          </p:nvPicPr>
          <p:blipFill>
            <a:blip r:embed="rId2"/>
            <a:stretch/>
          </p:blipFill>
          <p:spPr>
            <a:xfrm>
              <a:off x="1258920" y="3860640"/>
              <a:ext cx="708660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3890880" y="3936960"/>
              <a:ext cx="10796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3853800" y="422100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8920" y="5373720"/>
            <a:ext cx="1800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DIG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60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AC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395280" y="971640"/>
            <a:ext cx="83534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Authenticacion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 donde interviene una llave simétr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ite garantizar la integridad de un mensa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69343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29400" cy="220968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/>
          <p:nvPr/>
        </p:nvSpPr>
        <p:spPr>
          <a:xfrm>
            <a:off x="3781800" y="677880"/>
            <a:ext cx="2391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ED MD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2"/>
          <a:stretch/>
        </p:blipFill>
        <p:spPr>
          <a:xfrm>
            <a:off x="1523880" y="4191120"/>
            <a:ext cx="6477120" cy="2666880"/>
          </a:xfrm>
          <a:prstGeom prst="rect">
            <a:avLst/>
          </a:prstGeom>
          <a:ln w="0">
            <a:noFill/>
          </a:ln>
        </p:spPr>
      </p:pic>
      <p:sp>
        <p:nvSpPr>
          <p:cNvPr id="1277" name=""/>
          <p:cNvSpPr/>
          <p:nvPr/>
        </p:nvSpPr>
        <p:spPr>
          <a:xfrm>
            <a:off x="3709080" y="3716280"/>
            <a:ext cx="276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MAC-MD5-9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04920" y="11592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ARIACIONES DE MD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534520" cy="3151080"/>
          </a:xfrm>
          <a:prstGeom prst="rect">
            <a:avLst/>
          </a:prstGeom>
          <a:ln w="0">
            <a:noFill/>
          </a:ln>
        </p:spPr>
      </p:pic>
      <p:sp>
        <p:nvSpPr>
          <p:cNvPr id="1280" name=""/>
          <p:cNvSpPr/>
          <p:nvPr/>
        </p:nvSpPr>
        <p:spPr>
          <a:xfrm>
            <a:off x="395280" y="971640"/>
            <a:ext cx="8353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 encriptado con la llave privada de un esquema asimét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do en SET (Secure Electronic Transac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04920" y="22860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IRMA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04920" y="11592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IRMA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92280"/>
            <a:ext cx="784872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bre dig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écnica de encripción de dos niveles a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mensaje es encriptado utilizando una tecnología simét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llave requerida para desencriptar el mensaje va encriptada con una tecnología asimétrica (llave public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jora el rendimiento al utilizar la criptografía asimétrica (que es lenta) solo para encriptar la llave simétrica con la que va encriptado el mensaj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"/>
          <p:cNvSpPr/>
          <p:nvPr/>
        </p:nvSpPr>
        <p:spPr>
          <a:xfrm>
            <a:off x="304920" y="22860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IGITAL ENVE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20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PLICACIÓN DE LA CRIPTOGRAFI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56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CIDA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ES, IDEA o R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ENTICACIÓN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S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RECHAZO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SA y MD5 o SHA-1 (Secure Hash Algorith). NSA/N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GRIDA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D5 y SHA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8497800" cy="97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EGURIDAD EN EL MODELO DE COMUNICACIONES POR CAP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800" y="13428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SICO: Fibra óptica, suiches en vez de hubs, medios encapsulados en gas a pre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LACE: PPP (CHAP, PAP), Ethernet (802.1x), PPTP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: enrutadores de filtrado, IPS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E: encripción de conexiones extremo a extremo. SSL, SOCKS, T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LICACIÓN: Proxy servers, SET, S-MINE, Kerbe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2020680" y="152280"/>
            <a:ext cx="4731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GURIDAD EN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>
            <a:off x="609480" y="692280"/>
            <a:ext cx="7696440" cy="508464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 flipH="1">
            <a:off x="822924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51240" y="5157720"/>
            <a:ext cx="2379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1c1c"/>
                </a:solidFill>
                <a:latin typeface="Times New Roman"/>
              </a:rPr>
              <a:t>PPTP, L2F, L2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965600" y="60213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IVEL FI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873680" y="5950080"/>
            <a:ext cx="29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bra Optica, Suich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18684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ECNOLOGIAS DE SEGURID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24000" y="806040"/>
            <a:ext cx="8496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PN: (Virtual Private Networks). Redes Privadas Virtua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PSec: DES, 3DES, HMAC-MD5-96, HMAC-SHA-1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PTP:Point to Point Tunneling Protoc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2T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SL: Secure Sockets Layers. RSA, RC4, SHA1, MD5, 3DES, DES, D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STANDARES DE SEGURIDA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en normas y recomendaciones internacion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de las más aceptadas actualmente es la norma ISO-1779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a fecha (Marzo de 2008) la más aceptada ya es 2700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18684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ECNOLOGIAS DE SEGURID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24000" y="806040"/>
            <a:ext cx="8496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: Secure Electronic Transactions. MasterCard and VISA. RSA, SHA-1, DES, HMAC-SHA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rberos: basado en KDC (Centro de Distribucion de Clav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GP: Usa MD5, Compresion Ziv-Lempel, RSA, IDEA. Llaves RSA de 384, 512 y 1024 bi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: Privacy Enhanced Mail. RSA, 3DES,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S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Sockets La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o orientado a la implementación de sesiones de transporte seguras: Privacidad, Autenticación, Integridad y no Repudi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ado por Netscape Corporation y RSA Data Secur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picamente utilizado con HTTP pero puede ser usado con cualquier tipo de servicio que lo soporte ya que es independiente de la aplic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os: correo con SMTP, POP3, IMAP4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neles VPN.  Ejemplo: OpenVP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S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e ubica entre el aplicativo y el transporte convencional TCP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está implementado en la aplicación que lo utiliz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portado por los principales Browsers y Servidores WEB: Internet  Explorer,IIS,Apache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as versio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SL2: Autentica solo el Servid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SL3: Autentica Cliente/Servido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S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 convención las aplicaciones HTTP que requieren una conexión SSL utilizan el URL  https://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mente el servidor escucha el puerto 443 para SS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orta compresión aunque muchos no lo implement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 mediante el intercambio de registros (SSL records) que contienen información de control y datos de usua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S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tiliza las tecnologías de encripción así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encryp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tream Ciph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C4 with 40-bit key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C4 with 128-bit key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BC Block Ciph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C2 with 40 bit ke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 with 40 bit ke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 with 56 bit ke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iple-DES with 168 bit ke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dea (128 bit key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ortezza (96 bit key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OCEDIMIENTO SS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1"/>
          <a:stretch/>
        </p:blipFill>
        <p:spPr>
          <a:xfrm>
            <a:off x="539640" y="828720"/>
            <a:ext cx="72010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ASOS DE SS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 la petición del cliente el servidor le envía su certificado digital y sus preferencias de seguridad: algoritmo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liente valida el certificado: nombre, fecha, firma etc. Si pasa la validación o el usuario acepta las advertencias continua el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ego el cliente genera una llave maestra y se la manda al servidor encriptada con la llave pública recibida en el certificado dig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ervidor obtiene la llave maestra y se autentica con el cliente enviando un mensaje autenticado con la maest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datos siguientes son encriptados y autenticados con llaves derivadas de la maest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una fase 2 (Opcional) el servidor puede solicitar al cliente que se autentiq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094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ASOS DE SSL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1"/>
          <a:stretch/>
        </p:blipFill>
        <p:spPr>
          <a:xfrm>
            <a:off x="1676520" y="836640"/>
            <a:ext cx="5562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6296040" y="2665440"/>
            <a:ext cx="2771640" cy="2041560"/>
          </a:xfrm>
          <a:custGeom>
            <a:avLst/>
            <a:gdLst/>
            <a:ahLst/>
            <a:rect l="l" t="t" r="r" b="b"/>
            <a:pathLst>
              <a:path w="913" h="576">
                <a:moveTo>
                  <a:pt x="421" y="76"/>
                </a:moveTo>
                <a:lnTo>
                  <a:pt x="400" y="71"/>
                </a:lnTo>
                <a:lnTo>
                  <a:pt x="371" y="64"/>
                </a:lnTo>
                <a:lnTo>
                  <a:pt x="347" y="63"/>
                </a:lnTo>
                <a:lnTo>
                  <a:pt x="321" y="65"/>
                </a:lnTo>
                <a:lnTo>
                  <a:pt x="302" y="68"/>
                </a:lnTo>
                <a:lnTo>
                  <a:pt x="284" y="73"/>
                </a:lnTo>
                <a:lnTo>
                  <a:pt x="263" y="81"/>
                </a:lnTo>
                <a:lnTo>
                  <a:pt x="244" y="91"/>
                </a:lnTo>
                <a:lnTo>
                  <a:pt x="225" y="105"/>
                </a:lnTo>
                <a:lnTo>
                  <a:pt x="206" y="123"/>
                </a:lnTo>
                <a:lnTo>
                  <a:pt x="193" y="140"/>
                </a:lnTo>
                <a:lnTo>
                  <a:pt x="184" y="155"/>
                </a:lnTo>
                <a:lnTo>
                  <a:pt x="176" y="172"/>
                </a:lnTo>
                <a:lnTo>
                  <a:pt x="171" y="194"/>
                </a:lnTo>
                <a:lnTo>
                  <a:pt x="154" y="189"/>
                </a:lnTo>
                <a:lnTo>
                  <a:pt x="135" y="186"/>
                </a:lnTo>
                <a:lnTo>
                  <a:pt x="118" y="186"/>
                </a:lnTo>
                <a:lnTo>
                  <a:pt x="100" y="190"/>
                </a:lnTo>
                <a:lnTo>
                  <a:pt x="84" y="197"/>
                </a:lnTo>
                <a:lnTo>
                  <a:pt x="68" y="204"/>
                </a:lnTo>
                <a:lnTo>
                  <a:pt x="51" y="219"/>
                </a:lnTo>
                <a:lnTo>
                  <a:pt x="42" y="230"/>
                </a:lnTo>
                <a:lnTo>
                  <a:pt x="30" y="243"/>
                </a:lnTo>
                <a:lnTo>
                  <a:pt x="20" y="258"/>
                </a:lnTo>
                <a:lnTo>
                  <a:pt x="12" y="279"/>
                </a:lnTo>
                <a:lnTo>
                  <a:pt x="6" y="298"/>
                </a:lnTo>
                <a:lnTo>
                  <a:pt x="2" y="318"/>
                </a:lnTo>
                <a:lnTo>
                  <a:pt x="1" y="333"/>
                </a:lnTo>
                <a:lnTo>
                  <a:pt x="0" y="349"/>
                </a:lnTo>
                <a:lnTo>
                  <a:pt x="1" y="368"/>
                </a:lnTo>
                <a:lnTo>
                  <a:pt x="3" y="385"/>
                </a:lnTo>
                <a:lnTo>
                  <a:pt x="7" y="402"/>
                </a:lnTo>
                <a:lnTo>
                  <a:pt x="12" y="418"/>
                </a:lnTo>
                <a:lnTo>
                  <a:pt x="20" y="436"/>
                </a:lnTo>
                <a:lnTo>
                  <a:pt x="30" y="454"/>
                </a:lnTo>
                <a:lnTo>
                  <a:pt x="42" y="468"/>
                </a:lnTo>
                <a:lnTo>
                  <a:pt x="56" y="482"/>
                </a:lnTo>
                <a:lnTo>
                  <a:pt x="72" y="493"/>
                </a:lnTo>
                <a:lnTo>
                  <a:pt x="85" y="500"/>
                </a:lnTo>
                <a:lnTo>
                  <a:pt x="98" y="504"/>
                </a:lnTo>
                <a:lnTo>
                  <a:pt x="113" y="509"/>
                </a:lnTo>
                <a:lnTo>
                  <a:pt x="128" y="509"/>
                </a:lnTo>
                <a:lnTo>
                  <a:pt x="145" y="509"/>
                </a:lnTo>
                <a:lnTo>
                  <a:pt x="161" y="506"/>
                </a:lnTo>
                <a:lnTo>
                  <a:pt x="174" y="502"/>
                </a:lnTo>
                <a:lnTo>
                  <a:pt x="182" y="498"/>
                </a:lnTo>
                <a:lnTo>
                  <a:pt x="191" y="511"/>
                </a:lnTo>
                <a:lnTo>
                  <a:pt x="204" y="522"/>
                </a:lnTo>
                <a:lnTo>
                  <a:pt x="217" y="533"/>
                </a:lnTo>
                <a:lnTo>
                  <a:pt x="232" y="543"/>
                </a:lnTo>
                <a:lnTo>
                  <a:pt x="252" y="552"/>
                </a:lnTo>
                <a:lnTo>
                  <a:pt x="271" y="561"/>
                </a:lnTo>
                <a:lnTo>
                  <a:pt x="294" y="568"/>
                </a:lnTo>
                <a:lnTo>
                  <a:pt x="315" y="572"/>
                </a:lnTo>
                <a:lnTo>
                  <a:pt x="339" y="575"/>
                </a:lnTo>
                <a:lnTo>
                  <a:pt x="357" y="575"/>
                </a:lnTo>
                <a:lnTo>
                  <a:pt x="376" y="575"/>
                </a:lnTo>
                <a:lnTo>
                  <a:pt x="402" y="571"/>
                </a:lnTo>
                <a:lnTo>
                  <a:pt x="433" y="559"/>
                </a:lnTo>
                <a:lnTo>
                  <a:pt x="444" y="562"/>
                </a:lnTo>
                <a:lnTo>
                  <a:pt x="465" y="553"/>
                </a:lnTo>
                <a:lnTo>
                  <a:pt x="486" y="543"/>
                </a:lnTo>
                <a:lnTo>
                  <a:pt x="499" y="535"/>
                </a:lnTo>
                <a:lnTo>
                  <a:pt x="510" y="525"/>
                </a:lnTo>
                <a:lnTo>
                  <a:pt x="522" y="531"/>
                </a:lnTo>
                <a:lnTo>
                  <a:pt x="537" y="539"/>
                </a:lnTo>
                <a:lnTo>
                  <a:pt x="552" y="544"/>
                </a:lnTo>
                <a:lnTo>
                  <a:pt x="566" y="548"/>
                </a:lnTo>
                <a:lnTo>
                  <a:pt x="582" y="550"/>
                </a:lnTo>
                <a:lnTo>
                  <a:pt x="597" y="550"/>
                </a:lnTo>
                <a:lnTo>
                  <a:pt x="615" y="547"/>
                </a:lnTo>
                <a:lnTo>
                  <a:pt x="633" y="542"/>
                </a:lnTo>
                <a:lnTo>
                  <a:pt x="650" y="535"/>
                </a:lnTo>
                <a:lnTo>
                  <a:pt x="666" y="524"/>
                </a:lnTo>
                <a:lnTo>
                  <a:pt x="681" y="512"/>
                </a:lnTo>
                <a:lnTo>
                  <a:pt x="701" y="522"/>
                </a:lnTo>
                <a:lnTo>
                  <a:pt x="720" y="527"/>
                </a:lnTo>
                <a:lnTo>
                  <a:pt x="736" y="530"/>
                </a:lnTo>
                <a:lnTo>
                  <a:pt x="759" y="530"/>
                </a:lnTo>
                <a:lnTo>
                  <a:pt x="784" y="526"/>
                </a:lnTo>
                <a:lnTo>
                  <a:pt x="813" y="516"/>
                </a:lnTo>
                <a:lnTo>
                  <a:pt x="837" y="500"/>
                </a:lnTo>
                <a:lnTo>
                  <a:pt x="858" y="481"/>
                </a:lnTo>
                <a:lnTo>
                  <a:pt x="878" y="458"/>
                </a:lnTo>
                <a:lnTo>
                  <a:pt x="888" y="439"/>
                </a:lnTo>
                <a:lnTo>
                  <a:pt x="897" y="420"/>
                </a:lnTo>
                <a:lnTo>
                  <a:pt x="906" y="394"/>
                </a:lnTo>
                <a:lnTo>
                  <a:pt x="910" y="370"/>
                </a:lnTo>
                <a:lnTo>
                  <a:pt x="912" y="343"/>
                </a:lnTo>
                <a:lnTo>
                  <a:pt x="910" y="323"/>
                </a:lnTo>
                <a:lnTo>
                  <a:pt x="906" y="298"/>
                </a:lnTo>
                <a:lnTo>
                  <a:pt x="899" y="274"/>
                </a:lnTo>
                <a:lnTo>
                  <a:pt x="888" y="252"/>
                </a:lnTo>
                <a:lnTo>
                  <a:pt x="877" y="230"/>
                </a:lnTo>
                <a:lnTo>
                  <a:pt x="862" y="212"/>
                </a:lnTo>
                <a:lnTo>
                  <a:pt x="848" y="198"/>
                </a:lnTo>
                <a:lnTo>
                  <a:pt x="834" y="188"/>
                </a:lnTo>
                <a:lnTo>
                  <a:pt x="815" y="173"/>
                </a:lnTo>
                <a:lnTo>
                  <a:pt x="797" y="166"/>
                </a:lnTo>
                <a:lnTo>
                  <a:pt x="781" y="162"/>
                </a:lnTo>
                <a:lnTo>
                  <a:pt x="762" y="159"/>
                </a:lnTo>
                <a:lnTo>
                  <a:pt x="759" y="143"/>
                </a:lnTo>
                <a:lnTo>
                  <a:pt x="754" y="126"/>
                </a:lnTo>
                <a:lnTo>
                  <a:pt x="747" y="110"/>
                </a:lnTo>
                <a:lnTo>
                  <a:pt x="738" y="94"/>
                </a:lnTo>
                <a:lnTo>
                  <a:pt x="726" y="77"/>
                </a:lnTo>
                <a:lnTo>
                  <a:pt x="711" y="59"/>
                </a:lnTo>
                <a:lnTo>
                  <a:pt x="698" y="45"/>
                </a:lnTo>
                <a:lnTo>
                  <a:pt x="681" y="33"/>
                </a:lnTo>
                <a:lnTo>
                  <a:pt x="660" y="20"/>
                </a:lnTo>
                <a:lnTo>
                  <a:pt x="640" y="11"/>
                </a:lnTo>
                <a:lnTo>
                  <a:pt x="621" y="5"/>
                </a:lnTo>
                <a:lnTo>
                  <a:pt x="598" y="1"/>
                </a:lnTo>
                <a:lnTo>
                  <a:pt x="577" y="0"/>
                </a:lnTo>
                <a:lnTo>
                  <a:pt x="554" y="0"/>
                </a:lnTo>
                <a:lnTo>
                  <a:pt x="533" y="4"/>
                </a:lnTo>
                <a:lnTo>
                  <a:pt x="509" y="11"/>
                </a:lnTo>
                <a:lnTo>
                  <a:pt x="483" y="23"/>
                </a:lnTo>
                <a:lnTo>
                  <a:pt x="466" y="33"/>
                </a:lnTo>
                <a:lnTo>
                  <a:pt x="449" y="46"/>
                </a:lnTo>
                <a:lnTo>
                  <a:pt x="434" y="62"/>
                </a:lnTo>
                <a:lnTo>
                  <a:pt x="421" y="76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086960" y="3657600"/>
            <a:ext cx="139644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066680" y="152280"/>
            <a:ext cx="7417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Md BT"/>
              </a:rPr>
              <a:t>ESQUEMA S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2911320" y="3457440"/>
          <a:ext cx="8384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1320" y="3457440"/>
                    <a:ext cx="838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"/>
          <p:cNvSpPr/>
          <p:nvPr/>
        </p:nvSpPr>
        <p:spPr>
          <a:xfrm>
            <a:off x="461880" y="5689440"/>
            <a:ext cx="1532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D  IN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1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697480" y="3122640"/>
            <a:ext cx="89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3"/>
          <a:stretch/>
        </p:blipFill>
        <p:spPr>
          <a:xfrm>
            <a:off x="750960" y="4681440"/>
            <a:ext cx="49356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2" name=""/>
          <p:cNvGraphicFramePr/>
          <p:nvPr/>
        </p:nvGraphicFramePr>
        <p:xfrm>
          <a:off x="3597120" y="5010120"/>
          <a:ext cx="535320" cy="9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97120" y="5010120"/>
                    <a:ext cx="5353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4" name=""/>
          <p:cNvSpPr/>
          <p:nvPr/>
        </p:nvSpPr>
        <p:spPr>
          <a:xfrm>
            <a:off x="3309840" y="5443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047040" y="6019920"/>
            <a:ext cx="5418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M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309840" y="42908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227120" y="5035680"/>
            <a:ext cx="79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R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966960" y="4105440"/>
            <a:ext cx="144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966960" y="3673440"/>
            <a:ext cx="791640" cy="432000"/>
            <a:chOff x="966960" y="3673440"/>
            <a:chExt cx="791640" cy="432000"/>
          </a:xfrm>
        </p:grpSpPr>
        <p:sp>
          <p:nvSpPr>
            <p:cNvPr id="1330" name=""/>
            <p:cNvSpPr/>
            <p:nvPr/>
          </p:nvSpPr>
          <p:spPr>
            <a:xfrm>
              <a:off x="966960" y="3674520"/>
              <a:ext cx="790560" cy="21060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76760" y="3880800"/>
              <a:ext cx="681840" cy="2228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966960" y="3673440"/>
              <a:ext cx="111960" cy="43200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084680" y="3893400"/>
              <a:ext cx="570960" cy="1983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1076760" y="3938400"/>
              <a:ext cx="20880" cy="45720"/>
              <a:chOff x="1076760" y="3938400"/>
              <a:chExt cx="20880" cy="45720"/>
            </a:xfrm>
          </p:grpSpPr>
          <p:sp>
            <p:nvSpPr>
              <p:cNvPr id="1335" name=""/>
              <p:cNvSpPr/>
              <p:nvPr/>
            </p:nvSpPr>
            <p:spPr>
              <a:xfrm>
                <a:off x="1076760" y="3938400"/>
                <a:ext cx="2088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076760" y="3944520"/>
                <a:ext cx="2088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076760" y="3958200"/>
                <a:ext cx="2088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076760" y="3963960"/>
                <a:ext cx="2088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076760" y="3978360"/>
                <a:ext cx="2088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076760" y="3983760"/>
                <a:ext cx="2088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1656720" y="3874320"/>
              <a:ext cx="100800" cy="1332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2" name=""/>
            <p:cNvGrpSpPr/>
            <p:nvPr/>
          </p:nvGrpSpPr>
          <p:grpSpPr>
            <a:xfrm>
              <a:off x="983520" y="3745080"/>
              <a:ext cx="29880" cy="202320"/>
              <a:chOff x="983520" y="3745080"/>
              <a:chExt cx="29880" cy="20232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983520" y="3745080"/>
                <a:ext cx="29880" cy="64440"/>
                <a:chOff x="983520" y="3745080"/>
                <a:chExt cx="29880" cy="6444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983520" y="3745440"/>
                  <a:ext cx="2880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984240" y="3745080"/>
                  <a:ext cx="2916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983520" y="3767760"/>
                <a:ext cx="29880" cy="64440"/>
                <a:chOff x="983520" y="3767760"/>
                <a:chExt cx="29880" cy="6444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983520" y="3768120"/>
                  <a:ext cx="2880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984240" y="3767760"/>
                  <a:ext cx="29160" cy="637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983520" y="3790800"/>
                <a:ext cx="29880" cy="64080"/>
                <a:chOff x="983520" y="3790800"/>
                <a:chExt cx="29880" cy="640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983520" y="3791160"/>
                  <a:ext cx="28800" cy="637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984240" y="3790800"/>
                  <a:ext cx="29160" cy="637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983520" y="3813840"/>
                <a:ext cx="29880" cy="64080"/>
                <a:chOff x="983520" y="3813840"/>
                <a:chExt cx="29880" cy="6408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983520" y="3814200"/>
                  <a:ext cx="28800" cy="637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984240" y="3813840"/>
                  <a:ext cx="2916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983520" y="3836880"/>
                <a:ext cx="29880" cy="64440"/>
                <a:chOff x="983520" y="3836880"/>
                <a:chExt cx="29880" cy="6444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983520" y="3837240"/>
                  <a:ext cx="2880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984240" y="3836880"/>
                  <a:ext cx="2916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983520" y="3859920"/>
                <a:ext cx="29880" cy="64440"/>
                <a:chOff x="983520" y="3859920"/>
                <a:chExt cx="29880" cy="644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983520" y="3860280"/>
                  <a:ext cx="2880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984240" y="3859920"/>
                  <a:ext cx="2916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983520" y="3882960"/>
                <a:ext cx="29880" cy="64440"/>
                <a:chOff x="983520" y="3882960"/>
                <a:chExt cx="29880" cy="6444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983520" y="3883320"/>
                  <a:ext cx="28800" cy="64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984240" y="3882960"/>
                  <a:ext cx="29160" cy="64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4" name=""/>
            <p:cNvGrpSpPr/>
            <p:nvPr/>
          </p:nvGrpSpPr>
          <p:grpSpPr>
            <a:xfrm>
              <a:off x="1028880" y="3832200"/>
              <a:ext cx="28800" cy="200160"/>
              <a:chOff x="1028880" y="3832200"/>
              <a:chExt cx="28800" cy="200160"/>
            </a:xfrm>
          </p:grpSpPr>
          <p:grpSp>
            <p:nvGrpSpPr>
              <p:cNvPr id="1365" name=""/>
              <p:cNvGrpSpPr/>
              <p:nvPr/>
            </p:nvGrpSpPr>
            <p:grpSpPr>
              <a:xfrm>
                <a:off x="1028880" y="3832200"/>
                <a:ext cx="28800" cy="63000"/>
                <a:chOff x="1028880" y="3832200"/>
                <a:chExt cx="28800" cy="6300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1028880" y="3832560"/>
                  <a:ext cx="28080" cy="62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029600" y="383220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1028880" y="3854880"/>
                <a:ext cx="28800" cy="63360"/>
                <a:chOff x="1028880" y="3854880"/>
                <a:chExt cx="28800" cy="6336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1028880" y="385524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029600" y="385488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028880" y="3877920"/>
                <a:ext cx="28800" cy="63360"/>
                <a:chOff x="1028880" y="3877920"/>
                <a:chExt cx="28800" cy="6336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1028880" y="387828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1029600" y="3877920"/>
                  <a:ext cx="28080" cy="62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1028880" y="3900960"/>
                <a:ext cx="28800" cy="63360"/>
                <a:chOff x="1028880" y="3900960"/>
                <a:chExt cx="28800" cy="6336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1028880" y="390132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1029600" y="390096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1028880" y="3923640"/>
                <a:ext cx="28800" cy="63360"/>
                <a:chOff x="1028880" y="3923640"/>
                <a:chExt cx="28800" cy="6336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1028880" y="392400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029600" y="392364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1028880" y="3946680"/>
                <a:ext cx="28800" cy="63360"/>
                <a:chOff x="1028880" y="3946680"/>
                <a:chExt cx="28800" cy="6336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1028880" y="394704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1029600" y="394668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1028880" y="3969360"/>
                <a:ext cx="28800" cy="63000"/>
                <a:chOff x="1028880" y="3969360"/>
                <a:chExt cx="28800" cy="6300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1028880" y="3969720"/>
                  <a:ext cx="28080" cy="62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1029600" y="3969360"/>
                  <a:ext cx="28080" cy="630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6" name=""/>
            <p:cNvGrpSpPr/>
            <p:nvPr/>
          </p:nvGrpSpPr>
          <p:grpSpPr>
            <a:xfrm>
              <a:off x="990000" y="3678480"/>
              <a:ext cx="118440" cy="194400"/>
              <a:chOff x="990000" y="3678480"/>
              <a:chExt cx="118440" cy="194400"/>
            </a:xfrm>
          </p:grpSpPr>
          <p:sp>
            <p:nvSpPr>
              <p:cNvPr id="1387" name=""/>
              <p:cNvSpPr/>
              <p:nvPr/>
            </p:nvSpPr>
            <p:spPr>
              <a:xfrm>
                <a:off x="990000" y="3678480"/>
                <a:ext cx="30240" cy="237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993240" y="3682800"/>
                <a:ext cx="25920" cy="201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078200" y="3848760"/>
                <a:ext cx="30240" cy="230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081440" y="3852360"/>
                <a:ext cx="2592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1618200" y="3678480"/>
              <a:ext cx="118080" cy="194400"/>
              <a:chOff x="1618200" y="3678480"/>
              <a:chExt cx="118080" cy="194400"/>
            </a:xfrm>
          </p:grpSpPr>
          <p:sp>
            <p:nvSpPr>
              <p:cNvPr id="1392" name=""/>
              <p:cNvSpPr/>
              <p:nvPr/>
            </p:nvSpPr>
            <p:spPr>
              <a:xfrm>
                <a:off x="1618200" y="3678480"/>
                <a:ext cx="30240" cy="237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621080" y="3682800"/>
                <a:ext cx="26280" cy="201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706400" y="3848760"/>
                <a:ext cx="29880" cy="230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709640" y="3852360"/>
                <a:ext cx="26280" cy="205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1084680" y="3897360"/>
              <a:ext cx="574200" cy="190440"/>
              <a:chOff x="1084680" y="3897360"/>
              <a:chExt cx="574200" cy="190440"/>
            </a:xfrm>
          </p:grpSpPr>
          <p:sp>
            <p:nvSpPr>
              <p:cNvPr id="1397" name=""/>
              <p:cNvSpPr/>
              <p:nvPr/>
            </p:nvSpPr>
            <p:spPr>
              <a:xfrm>
                <a:off x="1084680" y="3898080"/>
                <a:ext cx="540360" cy="1893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607760" y="3897360"/>
                <a:ext cx="51120" cy="19044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>
              <a:off x="1677960" y="3890520"/>
              <a:ext cx="80640" cy="2145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0" name=""/>
            <p:cNvGrpSpPr/>
            <p:nvPr/>
          </p:nvGrpSpPr>
          <p:grpSpPr>
            <a:xfrm>
              <a:off x="1109880" y="3924720"/>
              <a:ext cx="523080" cy="139320"/>
              <a:chOff x="1109880" y="3924720"/>
              <a:chExt cx="523080" cy="139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1575000" y="3924720"/>
                <a:ext cx="57960" cy="27000"/>
                <a:chOff x="1575000" y="3924720"/>
                <a:chExt cx="57960" cy="27000"/>
              </a:xfrm>
            </p:grpSpPr>
            <p:grpSp>
              <p:nvGrpSpPr>
                <p:cNvPr id="1402" name=""/>
                <p:cNvGrpSpPr/>
                <p:nvPr/>
              </p:nvGrpSpPr>
              <p:grpSpPr>
                <a:xfrm>
                  <a:off x="1575000" y="3924720"/>
                  <a:ext cx="17640" cy="27000"/>
                  <a:chOff x="1575000" y="3924720"/>
                  <a:chExt cx="17640" cy="27000"/>
                </a:xfrm>
              </p:grpSpPr>
              <p:sp>
                <p:nvSpPr>
                  <p:cNvPr id="1403" name=""/>
                  <p:cNvSpPr/>
                  <p:nvPr/>
                </p:nvSpPr>
                <p:spPr>
                  <a:xfrm>
                    <a:off x="1580760" y="3929040"/>
                    <a:ext cx="1188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1575000" y="3924720"/>
                    <a:ext cx="100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1575000" y="3934080"/>
                    <a:ext cx="10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1575000" y="3942360"/>
                    <a:ext cx="1224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1582920" y="3938040"/>
                    <a:ext cx="9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1582560" y="3947040"/>
                    <a:ext cx="10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9" name=""/>
                <p:cNvGrpSpPr/>
                <p:nvPr/>
              </p:nvGrpSpPr>
              <p:grpSpPr>
                <a:xfrm>
                  <a:off x="1595160" y="3927600"/>
                  <a:ext cx="37800" cy="20880"/>
                  <a:chOff x="1595160" y="3927600"/>
                  <a:chExt cx="37800" cy="20880"/>
                </a:xfrm>
              </p:grpSpPr>
              <p:sp>
                <p:nvSpPr>
                  <p:cNvPr id="1410" name=""/>
                  <p:cNvSpPr/>
                  <p:nvPr/>
                </p:nvSpPr>
                <p:spPr>
                  <a:xfrm>
                    <a:off x="1595160" y="3927600"/>
                    <a:ext cx="37800" cy="8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1595160" y="3940200"/>
                    <a:ext cx="37800" cy="8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2" name=""/>
              <p:cNvGrpSpPr/>
              <p:nvPr/>
            </p:nvGrpSpPr>
            <p:grpSpPr>
              <a:xfrm>
                <a:off x="1602360" y="4050000"/>
                <a:ext cx="29520" cy="14040"/>
                <a:chOff x="1602360" y="4050000"/>
                <a:chExt cx="29520" cy="1404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1602360" y="4050000"/>
                  <a:ext cx="29520" cy="6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1604160" y="4057560"/>
                  <a:ext cx="27720" cy="6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1546560" y="3943800"/>
                <a:ext cx="22320" cy="42480"/>
                <a:chOff x="1546560" y="3943800"/>
                <a:chExt cx="22320" cy="42480"/>
              </a:xfrm>
            </p:grpSpPr>
            <p:sp>
              <p:nvSpPr>
                <p:cNvPr id="1416" name=""/>
                <p:cNvSpPr/>
                <p:nvPr/>
              </p:nvSpPr>
              <p:spPr>
                <a:xfrm>
                  <a:off x="1546560" y="3950280"/>
                  <a:ext cx="22320" cy="3600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1550520" y="3943800"/>
                  <a:ext cx="15120" cy="1440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1552680" y="3945600"/>
                  <a:ext cx="10800" cy="1116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9" name=""/>
              <p:cNvSpPr/>
              <p:nvPr/>
            </p:nvSpPr>
            <p:spPr>
              <a:xfrm>
                <a:off x="1550520" y="3994560"/>
                <a:ext cx="6840" cy="104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559520" y="3994560"/>
                <a:ext cx="6840" cy="104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550520" y="4009680"/>
                <a:ext cx="68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59520" y="4009680"/>
                <a:ext cx="68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50520" y="4025520"/>
                <a:ext cx="6840" cy="111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559520" y="4025520"/>
                <a:ext cx="6840" cy="111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550520" y="4041360"/>
                <a:ext cx="68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559520" y="4041360"/>
                <a:ext cx="684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571400" y="4028760"/>
                <a:ext cx="2196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267200" y="3943800"/>
                <a:ext cx="107280" cy="3816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306800" y="3935880"/>
                <a:ext cx="32040" cy="1584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311120" y="3938040"/>
                <a:ext cx="22320" cy="1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1" name=""/>
              <p:cNvGrpSpPr/>
              <p:nvPr/>
            </p:nvGrpSpPr>
            <p:grpSpPr>
              <a:xfrm>
                <a:off x="1301040" y="3953880"/>
                <a:ext cx="41760" cy="25200"/>
                <a:chOff x="1301040" y="3953880"/>
                <a:chExt cx="41760" cy="2520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1301040" y="3953880"/>
                  <a:ext cx="4176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1302840" y="3962880"/>
                  <a:ext cx="3780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1306800" y="3972240"/>
                  <a:ext cx="30960" cy="6840"/>
                </a:xfrm>
                <a:prstGeom prst="rect">
                  <a:avLst/>
                </a:prstGeom>
                <a:solidFill>
                  <a:srgbClr val="00e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1265760" y="3988800"/>
                <a:ext cx="54720" cy="59400"/>
                <a:chOff x="1265760" y="3988800"/>
                <a:chExt cx="54720" cy="59400"/>
              </a:xfrm>
            </p:grpSpPr>
            <p:grpSp>
              <p:nvGrpSpPr>
                <p:cNvPr id="1436" name=""/>
                <p:cNvGrpSpPr/>
                <p:nvPr/>
              </p:nvGrpSpPr>
              <p:grpSpPr>
                <a:xfrm>
                  <a:off x="1265760" y="3988800"/>
                  <a:ext cx="54720" cy="10800"/>
                  <a:chOff x="1265760" y="3988800"/>
                  <a:chExt cx="54720" cy="1080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126576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127512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128448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1294560" y="398880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130392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131364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3" name=""/>
                <p:cNvGrpSpPr/>
                <p:nvPr/>
              </p:nvGrpSpPr>
              <p:grpSpPr>
                <a:xfrm>
                  <a:off x="1265760" y="4004280"/>
                  <a:ext cx="54720" cy="11520"/>
                  <a:chOff x="1265760" y="4004280"/>
                  <a:chExt cx="54720" cy="11520"/>
                </a:xfrm>
              </p:grpSpPr>
              <p:sp>
                <p:nvSpPr>
                  <p:cNvPr id="1444" name=""/>
                  <p:cNvSpPr/>
                  <p:nvPr/>
                </p:nvSpPr>
                <p:spPr>
                  <a:xfrm>
                    <a:off x="126576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127512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128448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1294560" y="40042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130392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131364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1265760" y="4020840"/>
                  <a:ext cx="54720" cy="10800"/>
                  <a:chOff x="1265760" y="4020840"/>
                  <a:chExt cx="54720" cy="1080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126576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127512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128448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1294560" y="402084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130392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131364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7" name=""/>
                <p:cNvGrpSpPr/>
                <p:nvPr/>
              </p:nvGrpSpPr>
              <p:grpSpPr>
                <a:xfrm>
                  <a:off x="1265760" y="4036680"/>
                  <a:ext cx="54720" cy="11520"/>
                  <a:chOff x="1265760" y="4036680"/>
                  <a:chExt cx="54720" cy="11520"/>
                </a:xfrm>
              </p:grpSpPr>
              <p:sp>
                <p:nvSpPr>
                  <p:cNvPr id="1458" name=""/>
                  <p:cNvSpPr/>
                  <p:nvPr/>
                </p:nvSpPr>
                <p:spPr>
                  <a:xfrm>
                    <a:off x="126576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127512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128448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1294560" y="40366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130392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131364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4" name=""/>
              <p:cNvGrpSpPr/>
              <p:nvPr/>
            </p:nvGrpSpPr>
            <p:grpSpPr>
              <a:xfrm>
                <a:off x="1323720" y="3988800"/>
                <a:ext cx="54360" cy="59400"/>
                <a:chOff x="1323720" y="3988800"/>
                <a:chExt cx="54360" cy="59400"/>
              </a:xfrm>
            </p:grpSpPr>
            <p:grpSp>
              <p:nvGrpSpPr>
                <p:cNvPr id="1465" name=""/>
                <p:cNvGrpSpPr/>
                <p:nvPr/>
              </p:nvGrpSpPr>
              <p:grpSpPr>
                <a:xfrm>
                  <a:off x="1323720" y="3988800"/>
                  <a:ext cx="54360" cy="10800"/>
                  <a:chOff x="1323720" y="3988800"/>
                  <a:chExt cx="54360" cy="10800"/>
                </a:xfrm>
              </p:grpSpPr>
              <p:sp>
                <p:nvSpPr>
                  <p:cNvPr id="1466" name=""/>
                  <p:cNvSpPr/>
                  <p:nvPr/>
                </p:nvSpPr>
                <p:spPr>
                  <a:xfrm>
                    <a:off x="1323720" y="398880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133308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134244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135216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1361520" y="398880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1371600" y="398880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1323720" y="4004280"/>
                  <a:ext cx="54360" cy="11520"/>
                  <a:chOff x="1323720" y="4004280"/>
                  <a:chExt cx="54360" cy="1152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>
                    <a:off x="1323720" y="40042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133308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34244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135216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1361520" y="40042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1371600" y="40042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9" name=""/>
                <p:cNvGrpSpPr/>
                <p:nvPr/>
              </p:nvGrpSpPr>
              <p:grpSpPr>
                <a:xfrm>
                  <a:off x="1323720" y="4020840"/>
                  <a:ext cx="54360" cy="10800"/>
                  <a:chOff x="1323720" y="4020840"/>
                  <a:chExt cx="54360" cy="10800"/>
                </a:xfrm>
              </p:grpSpPr>
              <p:sp>
                <p:nvSpPr>
                  <p:cNvPr id="1480" name=""/>
                  <p:cNvSpPr/>
                  <p:nvPr/>
                </p:nvSpPr>
                <p:spPr>
                  <a:xfrm>
                    <a:off x="1323720" y="402084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133308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134244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135216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1361520" y="4020840"/>
                    <a:ext cx="684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1371600" y="4020840"/>
                    <a:ext cx="6480" cy="108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6" name=""/>
                <p:cNvGrpSpPr/>
                <p:nvPr/>
              </p:nvGrpSpPr>
              <p:grpSpPr>
                <a:xfrm>
                  <a:off x="1323720" y="4036680"/>
                  <a:ext cx="54360" cy="11520"/>
                  <a:chOff x="1323720" y="4036680"/>
                  <a:chExt cx="54360" cy="11520"/>
                </a:xfrm>
              </p:grpSpPr>
              <p:sp>
                <p:nvSpPr>
                  <p:cNvPr id="1487" name=""/>
                  <p:cNvSpPr/>
                  <p:nvPr/>
                </p:nvSpPr>
                <p:spPr>
                  <a:xfrm>
                    <a:off x="1323720" y="40366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133308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134244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135216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1361520" y="4036680"/>
                    <a:ext cx="68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1371600" y="4036680"/>
                    <a:ext cx="64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93" name=""/>
              <p:cNvGrpSpPr/>
              <p:nvPr/>
            </p:nvGrpSpPr>
            <p:grpSpPr>
              <a:xfrm>
                <a:off x="1109880" y="4008960"/>
                <a:ext cx="141840" cy="51840"/>
                <a:chOff x="1109880" y="4008960"/>
                <a:chExt cx="141840" cy="51840"/>
              </a:xfrm>
            </p:grpSpPr>
            <p:grpSp>
              <p:nvGrpSpPr>
                <p:cNvPr id="1494" name=""/>
                <p:cNvGrpSpPr/>
                <p:nvPr/>
              </p:nvGrpSpPr>
              <p:grpSpPr>
                <a:xfrm>
                  <a:off x="1109880" y="4008960"/>
                  <a:ext cx="17640" cy="51840"/>
                  <a:chOff x="1109880" y="4008960"/>
                  <a:chExt cx="17640" cy="51840"/>
                </a:xfrm>
              </p:grpSpPr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1109880" y="4008960"/>
                    <a:ext cx="17640" cy="51840"/>
                    <a:chOff x="1109880" y="4008960"/>
                    <a:chExt cx="17640" cy="51840"/>
                  </a:xfrm>
                </p:grpSpPr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110988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110988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111168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110988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111096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1" name=""/>
                    <p:cNvSpPr/>
                    <p:nvPr/>
                  </p:nvSpPr>
                  <p:spPr>
                    <a:xfrm>
                      <a:off x="112392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02" name=""/>
                  <p:cNvSpPr/>
                  <p:nvPr/>
                </p:nvSpPr>
                <p:spPr>
                  <a:xfrm>
                    <a:off x="111528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3" name=""/>
                <p:cNvGrpSpPr/>
                <p:nvPr/>
              </p:nvGrpSpPr>
              <p:grpSpPr>
                <a:xfrm>
                  <a:off x="1134360" y="4008960"/>
                  <a:ext cx="17640" cy="51840"/>
                  <a:chOff x="1134360" y="4008960"/>
                  <a:chExt cx="17640" cy="51840"/>
                </a:xfrm>
              </p:grpSpPr>
              <p:grpSp>
                <p:nvGrpSpPr>
                  <p:cNvPr id="1504" name=""/>
                  <p:cNvGrpSpPr/>
                  <p:nvPr/>
                </p:nvGrpSpPr>
                <p:grpSpPr>
                  <a:xfrm>
                    <a:off x="1134360" y="4008960"/>
                    <a:ext cx="17640" cy="51840"/>
                    <a:chOff x="1134360" y="4008960"/>
                    <a:chExt cx="17640" cy="51840"/>
                  </a:xfrm>
                </p:grpSpPr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113436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>
                      <a:off x="113436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113616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113436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113544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114840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1" name=""/>
                  <p:cNvSpPr/>
                  <p:nvPr/>
                </p:nvSpPr>
                <p:spPr>
                  <a:xfrm>
                    <a:off x="113976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2" name=""/>
                <p:cNvGrpSpPr/>
                <p:nvPr/>
              </p:nvGrpSpPr>
              <p:grpSpPr>
                <a:xfrm>
                  <a:off x="1159200" y="4008960"/>
                  <a:ext cx="17640" cy="51840"/>
                  <a:chOff x="1159200" y="4008960"/>
                  <a:chExt cx="17640" cy="51840"/>
                </a:xfrm>
              </p:grpSpPr>
              <p:grpSp>
                <p:nvGrpSpPr>
                  <p:cNvPr id="1513" name=""/>
                  <p:cNvGrpSpPr/>
                  <p:nvPr/>
                </p:nvGrpSpPr>
                <p:grpSpPr>
                  <a:xfrm>
                    <a:off x="1159200" y="4008960"/>
                    <a:ext cx="17640" cy="51840"/>
                    <a:chOff x="1159200" y="4008960"/>
                    <a:chExt cx="17640" cy="51840"/>
                  </a:xfrm>
                </p:grpSpPr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115920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115920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6" name=""/>
                    <p:cNvSpPr/>
                    <p:nvPr/>
                  </p:nvSpPr>
                  <p:spPr>
                    <a:xfrm>
                      <a:off x="116100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115920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116028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117324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0" name=""/>
                  <p:cNvSpPr/>
                  <p:nvPr/>
                </p:nvSpPr>
                <p:spPr>
                  <a:xfrm>
                    <a:off x="116460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1" name=""/>
                <p:cNvGrpSpPr/>
                <p:nvPr/>
              </p:nvGrpSpPr>
              <p:grpSpPr>
                <a:xfrm>
                  <a:off x="1184400" y="4008960"/>
                  <a:ext cx="17640" cy="51840"/>
                  <a:chOff x="1184400" y="4008960"/>
                  <a:chExt cx="17640" cy="51840"/>
                </a:xfrm>
              </p:grpSpPr>
              <p:grpSp>
                <p:nvGrpSpPr>
                  <p:cNvPr id="1522" name=""/>
                  <p:cNvGrpSpPr/>
                  <p:nvPr/>
                </p:nvGrpSpPr>
                <p:grpSpPr>
                  <a:xfrm>
                    <a:off x="1184400" y="4008960"/>
                    <a:ext cx="17640" cy="51840"/>
                    <a:chOff x="1184400" y="4008960"/>
                    <a:chExt cx="17640" cy="51840"/>
                  </a:xfrm>
                </p:grpSpPr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118440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118440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118620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6" name=""/>
                    <p:cNvSpPr/>
                    <p:nvPr/>
                  </p:nvSpPr>
                  <p:spPr>
                    <a:xfrm>
                      <a:off x="118440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118548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119844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9" name=""/>
                  <p:cNvSpPr/>
                  <p:nvPr/>
                </p:nvSpPr>
                <p:spPr>
                  <a:xfrm>
                    <a:off x="118980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0" name=""/>
                <p:cNvGrpSpPr/>
                <p:nvPr/>
              </p:nvGrpSpPr>
              <p:grpSpPr>
                <a:xfrm>
                  <a:off x="1209240" y="4008960"/>
                  <a:ext cx="17640" cy="51840"/>
                  <a:chOff x="1209240" y="4008960"/>
                  <a:chExt cx="17640" cy="51840"/>
                </a:xfrm>
              </p:grpSpPr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1209240" y="4008960"/>
                    <a:ext cx="17640" cy="51840"/>
                    <a:chOff x="1209240" y="4008960"/>
                    <a:chExt cx="17640" cy="5184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120924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120924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121104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120924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6" name=""/>
                    <p:cNvSpPr/>
                    <p:nvPr/>
                  </p:nvSpPr>
                  <p:spPr>
                    <a:xfrm>
                      <a:off x="121032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122328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38" name=""/>
                  <p:cNvSpPr/>
                  <p:nvPr/>
                </p:nvSpPr>
                <p:spPr>
                  <a:xfrm>
                    <a:off x="121464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9" name=""/>
                <p:cNvGrpSpPr/>
                <p:nvPr/>
              </p:nvGrpSpPr>
              <p:grpSpPr>
                <a:xfrm>
                  <a:off x="1234080" y="4008960"/>
                  <a:ext cx="17640" cy="51840"/>
                  <a:chOff x="1234080" y="4008960"/>
                  <a:chExt cx="17640" cy="51840"/>
                </a:xfrm>
              </p:grpSpPr>
              <p:grpSp>
                <p:nvGrpSpPr>
                  <p:cNvPr id="1540" name=""/>
                  <p:cNvGrpSpPr/>
                  <p:nvPr/>
                </p:nvGrpSpPr>
                <p:grpSpPr>
                  <a:xfrm>
                    <a:off x="1234080" y="4008960"/>
                    <a:ext cx="17640" cy="51840"/>
                    <a:chOff x="1234080" y="4008960"/>
                    <a:chExt cx="17640" cy="51840"/>
                  </a:xfrm>
                </p:grpSpPr>
                <p:sp>
                  <p:nvSpPr>
                    <p:cNvPr id="1541" name=""/>
                    <p:cNvSpPr/>
                    <p:nvPr/>
                  </p:nvSpPr>
                  <p:spPr>
                    <a:xfrm>
                      <a:off x="1234080" y="401868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1234080" y="402084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>
                      <a:off x="1235880" y="402876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4" name=""/>
                    <p:cNvSpPr/>
                    <p:nvPr/>
                  </p:nvSpPr>
                  <p:spPr>
                    <a:xfrm>
                      <a:off x="1234080" y="402084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1235160" y="400896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1248120" y="400896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7" name=""/>
                  <p:cNvSpPr/>
                  <p:nvPr/>
                </p:nvSpPr>
                <p:spPr>
                  <a:xfrm>
                    <a:off x="1239480" y="403776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8" name=""/>
              <p:cNvGrpSpPr/>
              <p:nvPr/>
            </p:nvGrpSpPr>
            <p:grpSpPr>
              <a:xfrm>
                <a:off x="1399320" y="4002480"/>
                <a:ext cx="141840" cy="51840"/>
                <a:chOff x="1399320" y="4002480"/>
                <a:chExt cx="141840" cy="51840"/>
              </a:xfrm>
            </p:grpSpPr>
            <p:grpSp>
              <p:nvGrpSpPr>
                <p:cNvPr id="1549" name=""/>
                <p:cNvGrpSpPr/>
                <p:nvPr/>
              </p:nvGrpSpPr>
              <p:grpSpPr>
                <a:xfrm>
                  <a:off x="1399320" y="4002480"/>
                  <a:ext cx="17640" cy="51840"/>
                  <a:chOff x="1399320" y="4002480"/>
                  <a:chExt cx="17640" cy="51840"/>
                </a:xfrm>
              </p:grpSpPr>
              <p:grpSp>
                <p:nvGrpSpPr>
                  <p:cNvPr id="1550" name=""/>
                  <p:cNvGrpSpPr/>
                  <p:nvPr/>
                </p:nvGrpSpPr>
                <p:grpSpPr>
                  <a:xfrm>
                    <a:off x="1399320" y="4002480"/>
                    <a:ext cx="17640" cy="51840"/>
                    <a:chOff x="1399320" y="4002480"/>
                    <a:chExt cx="17640" cy="51840"/>
                  </a:xfrm>
                </p:grpSpPr>
                <p:sp>
                  <p:nvSpPr>
                    <p:cNvPr id="1551" name=""/>
                    <p:cNvSpPr/>
                    <p:nvPr/>
                  </p:nvSpPr>
                  <p:spPr>
                    <a:xfrm>
                      <a:off x="139932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2" name=""/>
                    <p:cNvSpPr/>
                    <p:nvPr/>
                  </p:nvSpPr>
                  <p:spPr>
                    <a:xfrm>
                      <a:off x="139932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3" name=""/>
                    <p:cNvSpPr/>
                    <p:nvPr/>
                  </p:nvSpPr>
                  <p:spPr>
                    <a:xfrm>
                      <a:off x="140112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4" name=""/>
                    <p:cNvSpPr/>
                    <p:nvPr/>
                  </p:nvSpPr>
                  <p:spPr>
                    <a:xfrm>
                      <a:off x="139932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5" name=""/>
                    <p:cNvSpPr/>
                    <p:nvPr/>
                  </p:nvSpPr>
                  <p:spPr>
                    <a:xfrm>
                      <a:off x="140040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6" name=""/>
                    <p:cNvSpPr/>
                    <p:nvPr/>
                  </p:nvSpPr>
                  <p:spPr>
                    <a:xfrm>
                      <a:off x="141336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7" name=""/>
                  <p:cNvSpPr/>
                  <p:nvPr/>
                </p:nvSpPr>
                <p:spPr>
                  <a:xfrm>
                    <a:off x="140472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8" name=""/>
                <p:cNvGrpSpPr/>
                <p:nvPr/>
              </p:nvGrpSpPr>
              <p:grpSpPr>
                <a:xfrm>
                  <a:off x="1423800" y="4002480"/>
                  <a:ext cx="17640" cy="51840"/>
                  <a:chOff x="1423800" y="4002480"/>
                  <a:chExt cx="17640" cy="51840"/>
                </a:xfrm>
              </p:grpSpPr>
              <p:grpSp>
                <p:nvGrpSpPr>
                  <p:cNvPr id="1559" name=""/>
                  <p:cNvGrpSpPr/>
                  <p:nvPr/>
                </p:nvGrpSpPr>
                <p:grpSpPr>
                  <a:xfrm>
                    <a:off x="1423800" y="4002480"/>
                    <a:ext cx="17640" cy="51840"/>
                    <a:chOff x="1423800" y="4002480"/>
                    <a:chExt cx="17640" cy="51840"/>
                  </a:xfrm>
                </p:grpSpPr>
                <p:sp>
                  <p:nvSpPr>
                    <p:cNvPr id="1560" name=""/>
                    <p:cNvSpPr/>
                    <p:nvPr/>
                  </p:nvSpPr>
                  <p:spPr>
                    <a:xfrm>
                      <a:off x="142380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1" name=""/>
                    <p:cNvSpPr/>
                    <p:nvPr/>
                  </p:nvSpPr>
                  <p:spPr>
                    <a:xfrm>
                      <a:off x="142380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2" name=""/>
                    <p:cNvSpPr/>
                    <p:nvPr/>
                  </p:nvSpPr>
                  <p:spPr>
                    <a:xfrm>
                      <a:off x="142560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142380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4" name=""/>
                    <p:cNvSpPr/>
                    <p:nvPr/>
                  </p:nvSpPr>
                  <p:spPr>
                    <a:xfrm>
                      <a:off x="142488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143784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66" name=""/>
                  <p:cNvSpPr/>
                  <p:nvPr/>
                </p:nvSpPr>
                <p:spPr>
                  <a:xfrm>
                    <a:off x="142920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7" name=""/>
                <p:cNvGrpSpPr/>
                <p:nvPr/>
              </p:nvGrpSpPr>
              <p:grpSpPr>
                <a:xfrm>
                  <a:off x="1448640" y="4002480"/>
                  <a:ext cx="17640" cy="51840"/>
                  <a:chOff x="1448640" y="4002480"/>
                  <a:chExt cx="17640" cy="51840"/>
                </a:xfrm>
              </p:grpSpPr>
              <p:grpSp>
                <p:nvGrpSpPr>
                  <p:cNvPr id="1568" name=""/>
                  <p:cNvGrpSpPr/>
                  <p:nvPr/>
                </p:nvGrpSpPr>
                <p:grpSpPr>
                  <a:xfrm>
                    <a:off x="1448640" y="4002480"/>
                    <a:ext cx="17640" cy="51840"/>
                    <a:chOff x="1448640" y="4002480"/>
                    <a:chExt cx="17640" cy="51840"/>
                  </a:xfrm>
                </p:grpSpPr>
                <p:sp>
                  <p:nvSpPr>
                    <p:cNvPr id="1569" name=""/>
                    <p:cNvSpPr/>
                    <p:nvPr/>
                  </p:nvSpPr>
                  <p:spPr>
                    <a:xfrm>
                      <a:off x="144864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0" name=""/>
                    <p:cNvSpPr/>
                    <p:nvPr/>
                  </p:nvSpPr>
                  <p:spPr>
                    <a:xfrm>
                      <a:off x="144864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1" name=""/>
                    <p:cNvSpPr/>
                    <p:nvPr/>
                  </p:nvSpPr>
                  <p:spPr>
                    <a:xfrm>
                      <a:off x="145044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2" name=""/>
                    <p:cNvSpPr/>
                    <p:nvPr/>
                  </p:nvSpPr>
                  <p:spPr>
                    <a:xfrm>
                      <a:off x="144864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3" name=""/>
                    <p:cNvSpPr/>
                    <p:nvPr/>
                  </p:nvSpPr>
                  <p:spPr>
                    <a:xfrm>
                      <a:off x="144972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4" name=""/>
                    <p:cNvSpPr/>
                    <p:nvPr/>
                  </p:nvSpPr>
                  <p:spPr>
                    <a:xfrm>
                      <a:off x="146268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75" name=""/>
                  <p:cNvSpPr/>
                  <p:nvPr/>
                </p:nvSpPr>
                <p:spPr>
                  <a:xfrm>
                    <a:off x="145404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6" name=""/>
                <p:cNvGrpSpPr/>
                <p:nvPr/>
              </p:nvGrpSpPr>
              <p:grpSpPr>
                <a:xfrm>
                  <a:off x="1473840" y="4002480"/>
                  <a:ext cx="17640" cy="51840"/>
                  <a:chOff x="1473840" y="4002480"/>
                  <a:chExt cx="17640" cy="51840"/>
                </a:xfrm>
              </p:grpSpPr>
              <p:grpSp>
                <p:nvGrpSpPr>
                  <p:cNvPr id="1577" name=""/>
                  <p:cNvGrpSpPr/>
                  <p:nvPr/>
                </p:nvGrpSpPr>
                <p:grpSpPr>
                  <a:xfrm>
                    <a:off x="1473840" y="4002480"/>
                    <a:ext cx="17640" cy="51840"/>
                    <a:chOff x="1473840" y="4002480"/>
                    <a:chExt cx="17640" cy="51840"/>
                  </a:xfrm>
                </p:grpSpPr>
                <p:sp>
                  <p:nvSpPr>
                    <p:cNvPr id="1578" name=""/>
                    <p:cNvSpPr/>
                    <p:nvPr/>
                  </p:nvSpPr>
                  <p:spPr>
                    <a:xfrm>
                      <a:off x="147384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9" name=""/>
                    <p:cNvSpPr/>
                    <p:nvPr/>
                  </p:nvSpPr>
                  <p:spPr>
                    <a:xfrm>
                      <a:off x="147384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0" name=""/>
                    <p:cNvSpPr/>
                    <p:nvPr/>
                  </p:nvSpPr>
                  <p:spPr>
                    <a:xfrm>
                      <a:off x="147564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1" name=""/>
                    <p:cNvSpPr/>
                    <p:nvPr/>
                  </p:nvSpPr>
                  <p:spPr>
                    <a:xfrm>
                      <a:off x="147384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2" name=""/>
                    <p:cNvSpPr/>
                    <p:nvPr/>
                  </p:nvSpPr>
                  <p:spPr>
                    <a:xfrm>
                      <a:off x="147492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3" name=""/>
                    <p:cNvSpPr/>
                    <p:nvPr/>
                  </p:nvSpPr>
                  <p:spPr>
                    <a:xfrm>
                      <a:off x="148788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84" name=""/>
                  <p:cNvSpPr/>
                  <p:nvPr/>
                </p:nvSpPr>
                <p:spPr>
                  <a:xfrm>
                    <a:off x="147924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1498680" y="4002480"/>
                  <a:ext cx="17640" cy="51840"/>
                  <a:chOff x="1498680" y="4002480"/>
                  <a:chExt cx="17640" cy="51840"/>
                </a:xfrm>
              </p:grpSpPr>
              <p:grpSp>
                <p:nvGrpSpPr>
                  <p:cNvPr id="1586" name=""/>
                  <p:cNvGrpSpPr/>
                  <p:nvPr/>
                </p:nvGrpSpPr>
                <p:grpSpPr>
                  <a:xfrm>
                    <a:off x="1498680" y="4002480"/>
                    <a:ext cx="17640" cy="51840"/>
                    <a:chOff x="1498680" y="4002480"/>
                    <a:chExt cx="17640" cy="51840"/>
                  </a:xfrm>
                </p:grpSpPr>
                <p:sp>
                  <p:nvSpPr>
                    <p:cNvPr id="1587" name=""/>
                    <p:cNvSpPr/>
                    <p:nvPr/>
                  </p:nvSpPr>
                  <p:spPr>
                    <a:xfrm>
                      <a:off x="149868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8" name=""/>
                    <p:cNvSpPr/>
                    <p:nvPr/>
                  </p:nvSpPr>
                  <p:spPr>
                    <a:xfrm>
                      <a:off x="149868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9" name=""/>
                    <p:cNvSpPr/>
                    <p:nvPr/>
                  </p:nvSpPr>
                  <p:spPr>
                    <a:xfrm>
                      <a:off x="150048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0" name=""/>
                    <p:cNvSpPr/>
                    <p:nvPr/>
                  </p:nvSpPr>
                  <p:spPr>
                    <a:xfrm>
                      <a:off x="149868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149976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>
                      <a:off x="151272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93" name=""/>
                  <p:cNvSpPr/>
                  <p:nvPr/>
                </p:nvSpPr>
                <p:spPr>
                  <a:xfrm>
                    <a:off x="150408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4" name=""/>
                <p:cNvGrpSpPr/>
                <p:nvPr/>
              </p:nvGrpSpPr>
              <p:grpSpPr>
                <a:xfrm>
                  <a:off x="1523520" y="4002480"/>
                  <a:ext cx="17640" cy="51840"/>
                  <a:chOff x="1523520" y="4002480"/>
                  <a:chExt cx="17640" cy="51840"/>
                </a:xfrm>
              </p:grpSpPr>
              <p:grpSp>
                <p:nvGrpSpPr>
                  <p:cNvPr id="1595" name=""/>
                  <p:cNvGrpSpPr/>
                  <p:nvPr/>
                </p:nvGrpSpPr>
                <p:grpSpPr>
                  <a:xfrm>
                    <a:off x="1523520" y="4002480"/>
                    <a:ext cx="17640" cy="51840"/>
                    <a:chOff x="1523520" y="4002480"/>
                    <a:chExt cx="17640" cy="51840"/>
                  </a:xfrm>
                </p:grpSpPr>
                <p:sp>
                  <p:nvSpPr>
                    <p:cNvPr id="1596" name=""/>
                    <p:cNvSpPr/>
                    <p:nvPr/>
                  </p:nvSpPr>
                  <p:spPr>
                    <a:xfrm>
                      <a:off x="1523520" y="4012200"/>
                      <a:ext cx="16920" cy="40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7" name=""/>
                    <p:cNvSpPr/>
                    <p:nvPr/>
                  </p:nvSpPr>
                  <p:spPr>
                    <a:xfrm>
                      <a:off x="1523520" y="4014360"/>
                      <a:ext cx="2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8" name=""/>
                    <p:cNvSpPr/>
                    <p:nvPr/>
                  </p:nvSpPr>
                  <p:spPr>
                    <a:xfrm>
                      <a:off x="1525320" y="4022280"/>
                      <a:ext cx="15840" cy="316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9" name=""/>
                    <p:cNvSpPr/>
                    <p:nvPr/>
                  </p:nvSpPr>
                  <p:spPr>
                    <a:xfrm>
                      <a:off x="1523520" y="4014360"/>
                      <a:ext cx="176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0" name=""/>
                    <p:cNvSpPr/>
                    <p:nvPr/>
                  </p:nvSpPr>
                  <p:spPr>
                    <a:xfrm>
                      <a:off x="1524600" y="400248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1" name=""/>
                    <p:cNvSpPr/>
                    <p:nvPr/>
                  </p:nvSpPr>
                  <p:spPr>
                    <a:xfrm>
                      <a:off x="1537560" y="4002480"/>
                      <a:ext cx="180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02" name=""/>
                  <p:cNvSpPr/>
                  <p:nvPr/>
                </p:nvSpPr>
                <p:spPr>
                  <a:xfrm>
                    <a:off x="1528920" y="4031280"/>
                    <a:ext cx="9720" cy="17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603" name=""/>
          <p:cNvSpPr/>
          <p:nvPr/>
        </p:nvSpPr>
        <p:spPr>
          <a:xfrm>
            <a:off x="1758960" y="3960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182600" y="3313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47680" y="1800360"/>
            <a:ext cx="1547640" cy="1079280"/>
          </a:xfrm>
          <a:custGeom>
            <a:avLst/>
            <a:gdLst/>
            <a:ahLst/>
            <a:rect l="l" t="t" r="r" b="b"/>
            <a:pathLst>
              <a:path w="913" h="576">
                <a:moveTo>
                  <a:pt x="421" y="76"/>
                </a:moveTo>
                <a:lnTo>
                  <a:pt x="400" y="71"/>
                </a:lnTo>
                <a:lnTo>
                  <a:pt x="371" y="64"/>
                </a:lnTo>
                <a:lnTo>
                  <a:pt x="347" y="63"/>
                </a:lnTo>
                <a:lnTo>
                  <a:pt x="321" y="65"/>
                </a:lnTo>
                <a:lnTo>
                  <a:pt x="302" y="68"/>
                </a:lnTo>
                <a:lnTo>
                  <a:pt x="284" y="73"/>
                </a:lnTo>
                <a:lnTo>
                  <a:pt x="263" y="81"/>
                </a:lnTo>
                <a:lnTo>
                  <a:pt x="244" y="91"/>
                </a:lnTo>
                <a:lnTo>
                  <a:pt x="225" y="105"/>
                </a:lnTo>
                <a:lnTo>
                  <a:pt x="206" y="123"/>
                </a:lnTo>
                <a:lnTo>
                  <a:pt x="193" y="140"/>
                </a:lnTo>
                <a:lnTo>
                  <a:pt x="184" y="155"/>
                </a:lnTo>
                <a:lnTo>
                  <a:pt x="176" y="172"/>
                </a:lnTo>
                <a:lnTo>
                  <a:pt x="171" y="194"/>
                </a:lnTo>
                <a:lnTo>
                  <a:pt x="154" y="189"/>
                </a:lnTo>
                <a:lnTo>
                  <a:pt x="135" y="186"/>
                </a:lnTo>
                <a:lnTo>
                  <a:pt x="118" y="186"/>
                </a:lnTo>
                <a:lnTo>
                  <a:pt x="100" y="190"/>
                </a:lnTo>
                <a:lnTo>
                  <a:pt x="84" y="197"/>
                </a:lnTo>
                <a:lnTo>
                  <a:pt x="68" y="204"/>
                </a:lnTo>
                <a:lnTo>
                  <a:pt x="51" y="219"/>
                </a:lnTo>
                <a:lnTo>
                  <a:pt x="42" y="230"/>
                </a:lnTo>
                <a:lnTo>
                  <a:pt x="30" y="243"/>
                </a:lnTo>
                <a:lnTo>
                  <a:pt x="20" y="258"/>
                </a:lnTo>
                <a:lnTo>
                  <a:pt x="12" y="279"/>
                </a:lnTo>
                <a:lnTo>
                  <a:pt x="6" y="298"/>
                </a:lnTo>
                <a:lnTo>
                  <a:pt x="2" y="318"/>
                </a:lnTo>
                <a:lnTo>
                  <a:pt x="1" y="333"/>
                </a:lnTo>
                <a:lnTo>
                  <a:pt x="0" y="349"/>
                </a:lnTo>
                <a:lnTo>
                  <a:pt x="1" y="368"/>
                </a:lnTo>
                <a:lnTo>
                  <a:pt x="3" y="385"/>
                </a:lnTo>
                <a:lnTo>
                  <a:pt x="7" y="402"/>
                </a:lnTo>
                <a:lnTo>
                  <a:pt x="12" y="418"/>
                </a:lnTo>
                <a:lnTo>
                  <a:pt x="20" y="436"/>
                </a:lnTo>
                <a:lnTo>
                  <a:pt x="30" y="454"/>
                </a:lnTo>
                <a:lnTo>
                  <a:pt x="42" y="468"/>
                </a:lnTo>
                <a:lnTo>
                  <a:pt x="56" y="482"/>
                </a:lnTo>
                <a:lnTo>
                  <a:pt x="72" y="493"/>
                </a:lnTo>
                <a:lnTo>
                  <a:pt x="85" y="500"/>
                </a:lnTo>
                <a:lnTo>
                  <a:pt x="98" y="504"/>
                </a:lnTo>
                <a:lnTo>
                  <a:pt x="113" y="509"/>
                </a:lnTo>
                <a:lnTo>
                  <a:pt x="128" y="509"/>
                </a:lnTo>
                <a:lnTo>
                  <a:pt x="145" y="509"/>
                </a:lnTo>
                <a:lnTo>
                  <a:pt x="161" y="506"/>
                </a:lnTo>
                <a:lnTo>
                  <a:pt x="174" y="502"/>
                </a:lnTo>
                <a:lnTo>
                  <a:pt x="182" y="498"/>
                </a:lnTo>
                <a:lnTo>
                  <a:pt x="191" y="511"/>
                </a:lnTo>
                <a:lnTo>
                  <a:pt x="204" y="522"/>
                </a:lnTo>
                <a:lnTo>
                  <a:pt x="217" y="533"/>
                </a:lnTo>
                <a:lnTo>
                  <a:pt x="232" y="543"/>
                </a:lnTo>
                <a:lnTo>
                  <a:pt x="252" y="552"/>
                </a:lnTo>
                <a:lnTo>
                  <a:pt x="271" y="561"/>
                </a:lnTo>
                <a:lnTo>
                  <a:pt x="294" y="568"/>
                </a:lnTo>
                <a:lnTo>
                  <a:pt x="315" y="572"/>
                </a:lnTo>
                <a:lnTo>
                  <a:pt x="339" y="575"/>
                </a:lnTo>
                <a:lnTo>
                  <a:pt x="357" y="575"/>
                </a:lnTo>
                <a:lnTo>
                  <a:pt x="376" y="575"/>
                </a:lnTo>
                <a:lnTo>
                  <a:pt x="402" y="571"/>
                </a:lnTo>
                <a:lnTo>
                  <a:pt x="433" y="559"/>
                </a:lnTo>
                <a:lnTo>
                  <a:pt x="444" y="562"/>
                </a:lnTo>
                <a:lnTo>
                  <a:pt x="465" y="553"/>
                </a:lnTo>
                <a:lnTo>
                  <a:pt x="486" y="543"/>
                </a:lnTo>
                <a:lnTo>
                  <a:pt x="499" y="535"/>
                </a:lnTo>
                <a:lnTo>
                  <a:pt x="510" y="525"/>
                </a:lnTo>
                <a:lnTo>
                  <a:pt x="522" y="531"/>
                </a:lnTo>
                <a:lnTo>
                  <a:pt x="537" y="539"/>
                </a:lnTo>
                <a:lnTo>
                  <a:pt x="552" y="544"/>
                </a:lnTo>
                <a:lnTo>
                  <a:pt x="566" y="548"/>
                </a:lnTo>
                <a:lnTo>
                  <a:pt x="582" y="550"/>
                </a:lnTo>
                <a:lnTo>
                  <a:pt x="597" y="550"/>
                </a:lnTo>
                <a:lnTo>
                  <a:pt x="615" y="547"/>
                </a:lnTo>
                <a:lnTo>
                  <a:pt x="633" y="542"/>
                </a:lnTo>
                <a:lnTo>
                  <a:pt x="650" y="535"/>
                </a:lnTo>
                <a:lnTo>
                  <a:pt x="666" y="524"/>
                </a:lnTo>
                <a:lnTo>
                  <a:pt x="681" y="512"/>
                </a:lnTo>
                <a:lnTo>
                  <a:pt x="701" y="522"/>
                </a:lnTo>
                <a:lnTo>
                  <a:pt x="720" y="527"/>
                </a:lnTo>
                <a:lnTo>
                  <a:pt x="736" y="530"/>
                </a:lnTo>
                <a:lnTo>
                  <a:pt x="759" y="530"/>
                </a:lnTo>
                <a:lnTo>
                  <a:pt x="784" y="526"/>
                </a:lnTo>
                <a:lnTo>
                  <a:pt x="813" y="516"/>
                </a:lnTo>
                <a:lnTo>
                  <a:pt x="837" y="500"/>
                </a:lnTo>
                <a:lnTo>
                  <a:pt x="858" y="481"/>
                </a:lnTo>
                <a:lnTo>
                  <a:pt x="878" y="458"/>
                </a:lnTo>
                <a:lnTo>
                  <a:pt x="888" y="439"/>
                </a:lnTo>
                <a:lnTo>
                  <a:pt x="897" y="420"/>
                </a:lnTo>
                <a:lnTo>
                  <a:pt x="906" y="394"/>
                </a:lnTo>
                <a:lnTo>
                  <a:pt x="910" y="370"/>
                </a:lnTo>
                <a:lnTo>
                  <a:pt x="912" y="343"/>
                </a:lnTo>
                <a:lnTo>
                  <a:pt x="910" y="323"/>
                </a:lnTo>
                <a:lnTo>
                  <a:pt x="906" y="298"/>
                </a:lnTo>
                <a:lnTo>
                  <a:pt x="899" y="274"/>
                </a:lnTo>
                <a:lnTo>
                  <a:pt x="888" y="252"/>
                </a:lnTo>
                <a:lnTo>
                  <a:pt x="877" y="230"/>
                </a:lnTo>
                <a:lnTo>
                  <a:pt x="862" y="212"/>
                </a:lnTo>
                <a:lnTo>
                  <a:pt x="848" y="198"/>
                </a:lnTo>
                <a:lnTo>
                  <a:pt x="834" y="188"/>
                </a:lnTo>
                <a:lnTo>
                  <a:pt x="815" y="173"/>
                </a:lnTo>
                <a:lnTo>
                  <a:pt x="797" y="166"/>
                </a:lnTo>
                <a:lnTo>
                  <a:pt x="781" y="162"/>
                </a:lnTo>
                <a:lnTo>
                  <a:pt x="762" y="159"/>
                </a:lnTo>
                <a:lnTo>
                  <a:pt x="759" y="143"/>
                </a:lnTo>
                <a:lnTo>
                  <a:pt x="754" y="126"/>
                </a:lnTo>
                <a:lnTo>
                  <a:pt x="747" y="110"/>
                </a:lnTo>
                <a:lnTo>
                  <a:pt x="738" y="94"/>
                </a:lnTo>
                <a:lnTo>
                  <a:pt x="726" y="77"/>
                </a:lnTo>
                <a:lnTo>
                  <a:pt x="711" y="59"/>
                </a:lnTo>
                <a:lnTo>
                  <a:pt x="698" y="45"/>
                </a:lnTo>
                <a:lnTo>
                  <a:pt x="681" y="33"/>
                </a:lnTo>
                <a:lnTo>
                  <a:pt x="660" y="20"/>
                </a:lnTo>
                <a:lnTo>
                  <a:pt x="640" y="11"/>
                </a:lnTo>
                <a:lnTo>
                  <a:pt x="621" y="5"/>
                </a:lnTo>
                <a:lnTo>
                  <a:pt x="598" y="1"/>
                </a:lnTo>
                <a:lnTo>
                  <a:pt x="577" y="0"/>
                </a:lnTo>
                <a:lnTo>
                  <a:pt x="554" y="0"/>
                </a:lnTo>
                <a:lnTo>
                  <a:pt x="533" y="4"/>
                </a:lnTo>
                <a:lnTo>
                  <a:pt x="509" y="11"/>
                </a:lnTo>
                <a:lnTo>
                  <a:pt x="483" y="23"/>
                </a:lnTo>
                <a:lnTo>
                  <a:pt x="466" y="33"/>
                </a:lnTo>
                <a:lnTo>
                  <a:pt x="449" y="46"/>
                </a:lnTo>
                <a:lnTo>
                  <a:pt x="434" y="62"/>
                </a:lnTo>
                <a:lnTo>
                  <a:pt x="421" y="76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61760" y="2209680"/>
            <a:ext cx="40752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63680" y="1657440"/>
            <a:ext cx="712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182600" y="2808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719680" y="396072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857840" y="345744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00760" y="3384720"/>
            <a:ext cx="35892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591320" y="3024360"/>
            <a:ext cx="1008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296040" y="379404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808760" y="266544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559320" y="3960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81360" y="2952720"/>
            <a:ext cx="88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OU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7" name=""/>
          <p:cNvGraphicFramePr/>
          <p:nvPr/>
        </p:nvGraphicFramePr>
        <p:xfrm>
          <a:off x="7740720" y="1341360"/>
          <a:ext cx="503280" cy="46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40720" y="1341360"/>
                    <a:ext cx="5032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"/>
          <p:cNvSpPr/>
          <p:nvPr/>
        </p:nvSpPr>
        <p:spPr>
          <a:xfrm flipV="1">
            <a:off x="8028000" y="1773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0" name=""/>
          <p:cNvGraphicFramePr/>
          <p:nvPr/>
        </p:nvGraphicFramePr>
        <p:xfrm>
          <a:off x="1542960" y="4537080"/>
          <a:ext cx="503280" cy="465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2960" y="4537080"/>
                    <a:ext cx="5032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2" name=""/>
          <p:cNvSpPr/>
          <p:nvPr/>
        </p:nvSpPr>
        <p:spPr>
          <a:xfrm>
            <a:off x="1542960" y="396072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3" name="" descr=""/>
          <p:cNvPicPr/>
          <p:nvPr/>
        </p:nvPicPr>
        <p:blipFill>
          <a:blip r:embed="rId10"/>
          <a:stretch/>
        </p:blipFill>
        <p:spPr>
          <a:xfrm>
            <a:off x="1039680" y="3024360"/>
            <a:ext cx="358920" cy="253800"/>
          </a:xfrm>
          <a:prstGeom prst="rect">
            <a:avLst/>
          </a:prstGeom>
          <a:ln w="0">
            <a:noFill/>
          </a:ln>
        </p:spPr>
      </p:pic>
      <p:pic>
        <p:nvPicPr>
          <p:cNvPr id="1624" name="" descr=""/>
          <p:cNvPicPr/>
          <p:nvPr/>
        </p:nvPicPr>
        <p:blipFill>
          <a:blip r:embed="rId11"/>
          <a:stretch/>
        </p:blipFill>
        <p:spPr>
          <a:xfrm>
            <a:off x="5072040" y="3797280"/>
            <a:ext cx="503280" cy="355680"/>
          </a:xfrm>
          <a:prstGeom prst="rect">
            <a:avLst/>
          </a:prstGeom>
          <a:ln w="0">
            <a:noFill/>
          </a:ln>
        </p:spPr>
      </p:pic>
      <p:grpSp>
        <p:nvGrpSpPr>
          <p:cNvPr id="1625" name=""/>
          <p:cNvGrpSpPr/>
          <p:nvPr/>
        </p:nvGrpSpPr>
        <p:grpSpPr>
          <a:xfrm>
            <a:off x="1255680" y="792000"/>
            <a:ext cx="864720" cy="1081080"/>
            <a:chOff x="1255680" y="792000"/>
            <a:chExt cx="864720" cy="1081080"/>
          </a:xfrm>
        </p:grpSpPr>
        <p:sp>
          <p:nvSpPr>
            <p:cNvPr id="1626" name=""/>
            <p:cNvSpPr/>
            <p:nvPr/>
          </p:nvSpPr>
          <p:spPr>
            <a:xfrm flipH="1">
              <a:off x="1400040" y="1728720"/>
              <a:ext cx="71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1255680" y="1008000"/>
              <a:ext cx="780840" cy="414360"/>
              <a:chOff x="1255680" y="1008000"/>
              <a:chExt cx="780840" cy="414360"/>
            </a:xfrm>
          </p:grpSpPr>
          <p:pic>
            <p:nvPicPr>
              <p:cNvPr id="162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55680" y="1008000"/>
                <a:ext cx="2376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527120" y="1008000"/>
                <a:ext cx="23724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798920" y="1008000"/>
                <a:ext cx="237600" cy="31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1" name=""/>
              <p:cNvSpPr/>
              <p:nvPr/>
            </p:nvSpPr>
            <p:spPr>
              <a:xfrm>
                <a:off x="1289520" y="1422360"/>
                <a:ext cx="74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1357200" y="131868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629000" y="131868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900800" y="131868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5" name=""/>
            <p:cNvSpPr/>
            <p:nvPr/>
          </p:nvSpPr>
          <p:spPr>
            <a:xfrm>
              <a:off x="1400040" y="79200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SITIO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36" name="" descr=""/>
            <p:cNvPicPr/>
            <p:nvPr/>
          </p:nvPicPr>
          <p:blipFill>
            <a:blip r:embed="rId15"/>
            <a:stretch/>
          </p:blipFill>
          <p:spPr>
            <a:xfrm>
              <a:off x="1471320" y="1512720"/>
              <a:ext cx="35892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7" name=""/>
          <p:cNvGrpSpPr/>
          <p:nvPr/>
        </p:nvGrpSpPr>
        <p:grpSpPr>
          <a:xfrm>
            <a:off x="133200" y="806400"/>
            <a:ext cx="781200" cy="960120"/>
            <a:chOff x="133200" y="806400"/>
            <a:chExt cx="781200" cy="960120"/>
          </a:xfrm>
        </p:grpSpPr>
        <p:grpSp>
          <p:nvGrpSpPr>
            <p:cNvPr id="1638" name=""/>
            <p:cNvGrpSpPr/>
            <p:nvPr/>
          </p:nvGrpSpPr>
          <p:grpSpPr>
            <a:xfrm>
              <a:off x="133200" y="1015920"/>
              <a:ext cx="781200" cy="414360"/>
              <a:chOff x="133200" y="1015920"/>
              <a:chExt cx="781200" cy="414360"/>
            </a:xfrm>
          </p:grpSpPr>
          <p:pic>
            <p:nvPicPr>
              <p:cNvPr id="163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3200" y="1015920"/>
                <a:ext cx="2376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05000" y="1015920"/>
                <a:ext cx="2376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76440" y="1015920"/>
                <a:ext cx="237600" cy="31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2" name=""/>
              <p:cNvSpPr/>
              <p:nvPr/>
            </p:nvSpPr>
            <p:spPr>
              <a:xfrm>
                <a:off x="167040" y="1430280"/>
                <a:ext cx="74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35080" y="132660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06880" y="132660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78320" y="1326600"/>
                <a:ext cx="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6" name=""/>
            <p:cNvSpPr/>
            <p:nvPr/>
          </p:nvSpPr>
          <p:spPr>
            <a:xfrm>
              <a:off x="168120" y="80640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SITIO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7" name="" descr=""/>
            <p:cNvPicPr/>
            <p:nvPr/>
          </p:nvPicPr>
          <p:blipFill>
            <a:blip r:embed="rId19"/>
            <a:stretch/>
          </p:blipFill>
          <p:spPr>
            <a:xfrm>
              <a:off x="457200" y="1512720"/>
              <a:ext cx="3585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8" name=""/>
          <p:cNvSpPr/>
          <p:nvPr/>
        </p:nvSpPr>
        <p:spPr>
          <a:xfrm>
            <a:off x="3011400" y="1844640"/>
            <a:ext cx="5065920" cy="3168720"/>
          </a:xfrm>
          <a:custGeom>
            <a:avLst/>
            <a:gdLst/>
            <a:ahLst/>
            <a:rect l="l" t="t" r="r" b="b"/>
            <a:pathLst>
              <a:path w="3191" h="1996">
                <a:moveTo>
                  <a:pt x="3024" y="0"/>
                </a:moveTo>
                <a:cubicBezTo>
                  <a:pt x="3107" y="253"/>
                  <a:pt x="3191" y="506"/>
                  <a:pt x="2752" y="680"/>
                </a:cubicBezTo>
                <a:cubicBezTo>
                  <a:pt x="2313" y="854"/>
                  <a:pt x="786" y="824"/>
                  <a:pt x="393" y="1043"/>
                </a:cubicBezTo>
                <a:cubicBezTo>
                  <a:pt x="0" y="1262"/>
                  <a:pt x="393" y="1837"/>
                  <a:pt x="393" y="1996"/>
                </a:cubicBezTo>
              </a:path>
            </a:pathLst>
          </a:custGeom>
          <a:noFill/>
          <a:ln w="12600">
            <a:solidFill>
              <a:srgbClr val="ff0000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426080" y="99540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ERTIFICADO DIGITA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 electrónico “firmado” por una entidad certificadora (CA – Certificate Authority) que permite conocer y asociar la llave pública de un participante en una comunicación segu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e asociar una llave pública a una ident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 certificado es auténtico y confiamos en la entidad certificadora tendremos certeza de que el participante tiene esa llave públ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tilizado en varios protocolos com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S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PS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eneralmente utilizan en su formato el estándar X.509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SO-17799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andar internacional de gran aceptación mund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e recomendaciones para la gestión de la seguridad de la inform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te de que la información es un acti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e la seguridad de la información como preservar: CONFIDENCIALIDAD, INTEGRIDAD Y DISPONI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depende de una tecnología en particular (es genera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 adopción no garantiza inmunidad a riesgos pero si los disminuy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X.509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endación desarrollada por la ITU (International Telecommunication Union), que define la estructura de un certificado dig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59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versión 1 es de 1.988 convirtiéndose en la primera propuesta de infraestructura de clave pública (PKI – Public Key Infraestructur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ualmente en la versión 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xtender la estructura del certifi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63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Tahoma"/>
              </a:rPr>
              <a:t>CAMPOS DEL X.509v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5" name="dibujo6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58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ERTIFICADO DIGITA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 otra información contiene la sigu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ón: actualmente la 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úmero de seri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quien se le emitió. Generalmente un nombre DNS. Ejemplo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diginet.com.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en lo emitió.  Ejemplo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verisign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o des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o ha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ve pública del ente a quien fue emit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ma digital del emisor del certificado.  Generalmente SHA1-R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163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X.509. Cam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7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: Versión del certifi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N: Número de serie. (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ra los CR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I: identificador del algoritmo de firma que sirve única y exclusivamente para identificar el algoritmo usado para firmar el paquete X.50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: Autoridad certificadora (nombre en formato X.500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Periodo de validez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: Propietario de la clave pública que se está firman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: Clave pública más identificador de algoritmo utilizado y más parámetros si son necesari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{I}:Firma digital de Y por I (con clave privada de una unidad certificado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0" name="dibujo4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5562720"/>
          </a:xfrm>
          <a:prstGeom prst="rect">
            <a:avLst/>
          </a:prstGeom>
          <a:ln w="0">
            <a:noFill/>
          </a:ln>
        </p:spPr>
      </p:pic>
      <p:sp>
        <p:nvSpPr>
          <p:cNvPr id="1661" name=""/>
          <p:cNvSpPr/>
          <p:nvPr/>
        </p:nvSpPr>
        <p:spPr>
          <a:xfrm>
            <a:off x="4572000" y="5668920"/>
            <a:ext cx="4572000" cy="12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A&lt;&lt;A&gt;&gt; = CA { V, SN, AI, CA, T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A, AP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onde Y&lt;&lt;X&gt;&gt; es el certificado del usuario X expedido por Y, siendo Y la autoridad certificadora. De esta forma se puede obtener cualquier X certificado por cualquier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56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llaves se soport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 (Mundo Uni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certifica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(Ja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KCS12 (Mundo Microsof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M: Utiliza codificación ASN.1 en formato BASE-64, con encabezados y final ASCI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ORMATOS PARA CERTIFICADOS Y LLAVE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228600" y="620640"/>
            <a:ext cx="8686800" cy="585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166320" indent="-1663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 de certificado en formato P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----BEGIN CERTIFICATE----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9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IIEGTCCAgGgAwIBAgIDASt1MA0GCSqGSIb3DQEBBAUAMHkxEDAOBgNVBAoTB1Jvb3QgQ0ExHjAcBgNVBAsTFWh0dHA6Ly93d3cuY2FjZXJ0Lm9yZzEiMCAGA1UEAxMZQ0EgQ2VydCBTaWduaW5nIEF1dGhvcml0eTEhMB8GCSqGSIb3DQEJARYSc3VwcG9ydEBjYWNlcnQub3JnMB4XDTA1MDUyODE1NDI1MloXDTA1MTEyNDE1NDI1MlowHjEcMBoGA1UEAxMTd3d3Mi5kaWdpbmV0LmNvbS5jbzCBnzANBgkqhkiG9w0BAQEFAAOBjQAwgYkCgYEAsPsNQD5Bvlio4aDwyINxpJGKNE2h74Ar72vwCWvXFv8/wEPxPU0/ijQ3Fkmlufn+ehfqPxZcNTseP87eKb9htjM3rH+kq0aQZ6ssZyP9Bk++l5tNXo2d4Lhro4IF4npWUa0tId2slIUuCqqV3KQHJyc7iuPaBjJICA5J8WWSY2ECAwEAAaOBiDCBhTAMBgNVHRMBAf8EAjAAMDQGA1UdJQQtMCsGCCsGAQUFBwMCBggrBgEFBQcDAQYJYIZIAYb4QgQBBgorBgEEAYI3CgMDMAsGA1UdDwQEAwIFoDAyBggrBgEFBQcBAQQmMCQwIgYIKwYBBQUHMAGGFmh0dHA6Ly9vY3NwLmNhY2VydC5vcmcwDQYJKoZIhvcNAQEEBQADggIBAKJLVkHLk77QrclV1rzWV7J0OMe1ibfcI7ugHVPIyXxsRX27rpnpmrcS9hW+1Einp/CK+nXMmdGIm4FyLIxtxZDzJc1SP36Agwb61j2y70dW1zlPXKJCkwO69AX2fZPhdFYEc1ugU83y6jeHw7p7AYGeKLR+S3a4DOoNiJfBoecbd7W1F62EMH+U9cb4NwZ5UZk6m/DeoIPtFOc9gQyP0c8T/AHbwIe7pdj0G1te77v5/tqr/TjzttJZlug5m9kuXRpaHLeBuAyPLfFo+i7KbzEP2bwWdPsyCNNkW2fGNJ/bVAmyr3eLTCuw+Z/bGnXUxu5LcKFYt2Mot3RitqBFsRegcYEWqpiZmH9n4L9F0+TnSFq04YEv/fDAYsejUeBwtCnzMxGHASGJYa1htgQ0W6wNrQc3Ka9IaFz8a7SFkZ6/ZpgvcYP+9V+yfUfQfex+/KuqbyXJntRDuojV85PO4O0V7x0aIaA7W+BUohyNdGEcC8x3kxSbRh48Q16TZbRPEPp+WTbF/u9gCUXm9PB4szdnYwDWz69zTmf//IEYGYa6lYOwtrNUmiqBUtwxM4rN2IBge4WUQQ6Rcfc/7fM1vdrrdC0Y6x/SnwkvcO1KVZYLK9VbX20T+4mCFhglYDIeozyGDB0N7ZP+/ejEEbVfS5IaH3dY+afa4Pf+AXt251D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----END CERTIFICATE----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ORMATOS PARA CERTIFICADOS Y LLAVE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/>
          </p:nvPr>
        </p:nvSpPr>
        <p:spPr>
          <a:xfrm>
            <a:off x="228600" y="836640"/>
            <a:ext cx="8686800" cy="564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7200" indent="-18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 de llave privada en P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-----BEGIN RSA PRIVATE KEY-----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c-Type: 4,ENCRYP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K-Info: DES-EDE3-CBC,C814158661DC14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FAZFbnQNrGjZJ/ZemdVSoZa3HWujxZuvBHzHNoesxeyqqidFvnydA=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-----END RSA PRIVATE KEY-----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ORMATOS PARA CERTIFICADOS Y LLAVE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56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ndo las opciones del aplicativo (IIS, Apache, etc), generar las llaves privada y pública y el CSR (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SimSun"/>
              </a:rPr>
              <a:t>Certificate Signing Request)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ntes de continuar con el proceso respaldar las llaves obtenidas utilizando las herramientas suministradas por el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licitar ante DUNS AND BRADSTREET el número DUN para la empresa el cual luego se utilizará ante la entidad certificadora (OPCION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dnblatam.com/DUNSRequest/ESP_DUNSForm.Asp?PRODTYPE=DUNS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Número DUN de DIGINET LTDA: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-U-N-S # 88-119-6906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ASOS PARA CREAR UN CERTIFICADO DIGITAL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quirir el certificado digital ante la respectiva entidad pegando donde se solicite el CSR generado en el primer pa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vez se recibe el certificado digital instalarlo en el servi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r los URL en las páginas WEB que requieran el certificado para que contengan https://.... 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=" (419,12) (433, 29)  https://servicios.bic.com.co/bicnet/##_top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=" (422,74) (433, 153)  https://servicios.bic.com.co/bicnet/##_to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ASOS PARA CREAR UN CERTIFICADO DIGITAL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/>
          </p:nvPr>
        </p:nvSpPr>
        <p:spPr>
          <a:xfrm>
            <a:off x="228600" y="765000"/>
            <a:ext cx="86868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Herramientas Administrativas</a:t>
            </a:r>
            <a:r>
              <a:rPr b="0" lang="es-ES_trad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Administrador de servicios de Internet</a:t>
            </a:r>
            <a:r>
              <a:rPr b="0" lang="es-ES_trad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Sitio Web xxx</a:t>
            </a:r>
            <a:r>
              <a:rPr b="0" lang="es-ES_trad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 Click derecho Propiedades</a:t>
            </a:r>
            <a:r>
              <a:rPr b="0" lang="es-ES_trad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Seguridad de directorios </a:t>
            </a:r>
            <a:r>
              <a:rPr b="0" lang="es-ES_trad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Certificado de Servidor</a:t>
            </a:r>
            <a:r>
              <a:rPr b="0" lang="es-ES_trad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Siguiente</a:t>
            </a:r>
            <a:r>
              <a:rPr b="0" lang="es-ES_trad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 Crear un certificado nuevo</a:t>
            </a:r>
            <a:r>
              <a:rPr b="0" lang="es-ES_trad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 Preparar la peticion ahora pero enviarla más tarde--&gt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Nombre: Eje: CERTIFICADOWEBDIGINE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Longitud de bits:  Típicamente 1024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Organización: Ejemplo: Diginet Ltda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Departamento: Ejemplo: Sistema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Nombre común: </a:t>
            </a:r>
            <a:r>
              <a:rPr b="1" lang="es-ES_tradnl" sz="2300" spc="-1" strike="noStrike">
                <a:solidFill>
                  <a:srgbClr val="000000"/>
                </a:solidFill>
                <a:latin typeface="Tahoma"/>
              </a:rPr>
              <a:t>OJO</a:t>
            </a: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: nombre DNS de la máquina que tendrá el certificado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Pais: CO(Colombia); Estado: Antioquia; Localidad: Medelli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ahoma"/>
              </a:rPr>
              <a:t>Nombre de archivo: C:\certreq.txt: NOTA: El contenido de este archivo es el que se pega al comprar el certificado digital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ASOS PARA GENERAR LLAVES Y CSR EN II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STANDARES DE SEGURIDA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BS: British Estandard Instit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24000" y="1719360"/>
            <a:ext cx="86040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o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cutar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mmc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Consola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r quitar complemento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r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ertificados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enta de equipo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Equipo local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Finalizar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Cerrar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Aceptar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Abrir certificados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Personal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Certificados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Click derecho en el certificado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Todas las tareas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Exportar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Siguiente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Exportar clave priv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title"/>
          </p:nvPr>
        </p:nvSpPr>
        <p:spPr>
          <a:xfrm>
            <a:off x="250560" y="371160"/>
            <a:ext cx="8713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SPALDO DE LLAVE PRIVADA DE UN CERTIFICADO EN II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icio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cutar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mmc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onsola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gregar quitar complemento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gregar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ertificados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enta de equipo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quipo local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Finalizar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errar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ceptar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brir certificados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ersonal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ertificados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lick derecho en panel derecho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Todas las tareas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Importar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Siguient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r el nombre del archivo generado en el proceso de exportación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Siguiente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ontraseña con la que se guardo el archivo en el respaldo y activar Marcar la clave privada como exportable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guient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Finaliz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activar en el IIS el certificado y la llave privada importada hacer lo sigu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rramientas Administrativas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dor de servicios de Internet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tio Web xxx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lick derecho Propiedades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guridad de directori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ertificado de Servidor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Siguiente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signar un certificado ya existente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legir el certificado import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CUPERACION DE LLAVE PRIVADA DE UN CERTIFICADO EN II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/>
          </p:nvPr>
        </p:nvSpPr>
        <p:spPr>
          <a:xfrm>
            <a:off x="228600" y="764640"/>
            <a:ext cx="8686800" cy="571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 – Crear las llaves y la solicitud (CSR)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penssl req -newkey rsa:1024 -keyout empresa.key -out empresa.cs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 – Remover la  clave de la llave privada para que la pueda usar el Apache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penssl rsa -in empresa.key -out empresa.cert.ke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 – Firmar yo mismo la solicitud o enviarla a la entidad certificadora (SI YO ME FIRMO EL CERTIFICADO)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penssl x509 -in empresa.csr -out empresa.cert -req -signkey new.cert.key -days 365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ificar la configuración del Apache para que use certificado digita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SLCertificateFile /path/to/certs/empresa.ce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SLCertificateKeyFile /path/to/certs/empresa.cert.key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ERTIFICADO DIGITAL CON APACHE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/>
          </p:nvPr>
        </p:nvSpPr>
        <p:spPr>
          <a:xfrm>
            <a:off x="228600" y="765000"/>
            <a:ext cx="86868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xaminar y verificar un CS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nssl req -in new.cert.csr -text -verify -noo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rear una llave privada y luego generar el respectivo CS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nssl genrsa -out key.pem 102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nssl req -new -key key.pem -out req.cs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 mismo pero usando req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nssl req –newkey rsa:1024 -keyout key.pem -out req.cs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enerar un certificado raiz autofirmad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nssl req -x509 -newkey rsa:1024 -keyout key.pem -out new.c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TROS COMANDOS CON OPENSSL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/>
          </p:nvPr>
        </p:nvSpPr>
        <p:spPr>
          <a:xfrm>
            <a:off x="228600" y="765000"/>
            <a:ext cx="86868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ra obtener el certificado de un sitio remoto. Ejemplo: obtener el certificado digital de Goog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ho | openssl s_client -connect 64.233.161.103:443 2&gt;&amp;1 | sed -ne '/-BEGIN CERTIFICATE-/,/-END CERTIFICATE-/p' &gt; cert.c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TROS COMANDOS CON OPENSSL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rci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isign: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verisign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hawte: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thawte.com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ister Fly: </a:t>
            </a:r>
            <a:r>
              <a:rPr b="0" lang="es-E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registerfly.com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(Económico: desde U$ 15.99 por un añ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ratui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CERT: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www.cacert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LGUNAS ENTIDADES CERTIFICADORA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 recibir el certificado el browser revi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emisor del certifi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 el certificado sea vál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 quien lo envía sea a quien me conecte. (Utiliza resolución inversa DNS y compara el nombre obtenido con el que trae el certifi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 alguno de estas validaciones no es exitosa el navegador lo repor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ALIDACIONES DEL CERTIFICADO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ONEXION A INTERNE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394920" y="1218960"/>
            <a:ext cx="8497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: Sistema o conjunto de sistemas para implementar POLÍTICAS DE SEGURIDAD entre redes.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re la red privada, Internet y la zona DM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ede ser un PC, un enrutador, un Mainfram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requiere administración continua revisando los log de seguridad, las alarmas, estableciendo políticas, etc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 presentación de Internetworking e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diginet.com.c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- Down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Tahoma"/>
              </a:rPr>
              <a:t>PGP - Pretty Good Priva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jemplo de seguridad en el nivel Aplicativo: Correo Segu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"/>
          <p:cNvSpPr/>
          <p:nvPr/>
        </p:nvSpPr>
        <p:spPr>
          <a:xfrm>
            <a:off x="1455120" y="4267080"/>
            <a:ext cx="823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750760" y="4267080"/>
            <a:ext cx="772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730760" y="4191120"/>
            <a:ext cx="63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627320" y="4191120"/>
            <a:ext cx="126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722200" y="4191120"/>
            <a:ext cx="90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941880" y="2362320"/>
            <a:ext cx="772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1143000" y="4495320"/>
            <a:ext cx="304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1219320" y="4647960"/>
            <a:ext cx="2895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286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672920" y="327672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lave privada de Ali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2767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505320" y="4495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886200" y="4343400"/>
            <a:ext cx="380880" cy="304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670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31120" y="5715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858000" y="4267080"/>
            <a:ext cx="380880" cy="304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561640" y="152388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lave Pública de 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3152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6480" y="220968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lave si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da en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55308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7086240" y="28195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629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31520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410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791320" y="304812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807732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946840" y="556272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O ASC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ARCO LEGAL EN COLOMB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35164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evo código penal desde el 24 de Julio de 2001 Ley 599 de 2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ulo 7 artículos 192, 193., 19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STANDARES DE SEGURIDA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BIBLIOGRAF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324000" y="761760"/>
            <a:ext cx="8496000" cy="57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etwork Security. KAUFMAN, Charlie, PERLMAN Radia, SPECINER Mike. Prentice H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uter Networks. TANENBAUM, Andrew.  Prentice Hall. 3ra Edi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CP/IP Tutorial and Technical Overview.IB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WWW.REDBOOKS.IBM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JAVA Cryptography. KNUDSEN, Jonathan. O’Reil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uia de Seguridad e Integridad de datos. LAN TI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rewall y la seguridad en Internet. Prentice H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ITIOS DE INTE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openssl.org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rsasecurity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httpd.apache.org/docs-2.0/ssl/ssl_intro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www.apache-ssl.org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STRUCTURA DE ISO17799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20:20:54Z</dcterms:created>
  <dc:creator>JUAN CARLOS RESTREPO</dc:creator>
  <dc:description/>
  <dc:language>en-US</dc:language>
  <cp:lastModifiedBy>usuario</cp:lastModifiedBy>
  <cp:lastPrinted>1999-04-20T19:25:34Z</cp:lastPrinted>
  <dcterms:modified xsi:type="dcterms:W3CDTF">2012-02-09T19:36:26Z</dcterms:modified>
  <cp:revision>518</cp:revision>
  <dc:subject/>
  <dc:title>SEGURIDAD EN REDES</dc:title>
</cp:coreProperties>
</file>