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445-9E9D-4C28-8128-BEAAF160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F17-0842-4FDF-98C2-361F0EC1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661-FE92-4CA2-BC11-DE8FD2B9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F6F-EAB9-4A31-959D-CF915392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0E5-FCF0-4433-BFFB-C6B7C2C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198-4F11-46BF-B7D1-47EE228F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0FF-EABD-43FD-B458-055C4C48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53D-7EB1-4637-8182-A5EA9AB4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340-7FD5-48DB-93DC-12BC0C39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052-17C8-4A67-A3E2-86D8A3F8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5DF-94D5-4CA1-A470-56C96187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B5B-860A-4DE8-8CA3-6D4B7975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8785-B7F0-491B-88D2-08EE92D46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raspppoe.com/" TargetMode="External"/><Relationship Id="rId2" Type="http://schemas.openxmlformats.org/officeDocument/2006/relationships/hyperlink" Target="http://www.protocols.com/pbook/ppp.htm" TargetMode="External"/><Relationship Id="rId3" Type="http://schemas.openxmlformats.org/officeDocument/2006/relationships/hyperlink" Target="http://www.roaringpenguin.com/penguin/open_source_rp-pppoe.php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PP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int to Poin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: 51405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ltima revisión: Marzo -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rsión: 2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5362560"/>
            <a:ext cx="32004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MA P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Byte stuffing example"/>
          <p:cNvPicPr/>
          <p:nvPr/>
        </p:nvPicPr>
        <p:blipFill>
          <a:blip r:embed="rId1"/>
          <a:stretch/>
        </p:blipFill>
        <p:spPr>
          <a:xfrm>
            <a:off x="1187280" y="836640"/>
            <a:ext cx="6769440" cy="172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00000" y="2832120"/>
            <a:ext cx="76327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30592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MPO PROTOCOL DE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620280"/>
            <a:ext cx="868680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tre  "0xxx" y "3xxx" identifican protocolos de nivel de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tre  "8xxx" y "bxxx" identifican paquetes asociados al respectivo NCP, si existe.  Ejemplo:  8021 IP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0021 Internet Protocol 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002b I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002d Van Jacobson Compressed TCP/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002f Van Jacobson Uncompressed TCP/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003d Fragmento Multil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021 Link Control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023 Password Authentication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025 Link Quality Re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029 CallBack Control Protocol (CBC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223 Challenge Handshake Authentication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281 Proprietary Authentication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TOCOLOS DE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CP: Link Control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el manejo de la línea subiendo la llamada, negociando opciones y terminando cuando no se requi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negociar parametros de nivel de enlace como compresion de encabezado de la trama, MTU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TOCOLOS DE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CP: Network Control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 la negociación de parámetros de nivel de red como direcciones IP, máscaras de red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specífico de acuerdo al nivel de red utiliz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8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P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8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PX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8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8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RDGC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EGURIDAD EN P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l manejo de la seguridad soporta dos protoco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P: Password Authentic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33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entica enviando el password en claro por la línea lo que lo hace muy vulnerable a ataques con Sniff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AP: Challenge-Handshake Authentic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33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assword no viaja por el ca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son op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recomienda utilizar CHAP y hacer la autenticación en ambos sent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GURIDAD EN PPP - CH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allenge-Handshake Authentication Protocol-RFC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entica en un esquema challenge-response donde el password no viaja por la lí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za 3 mensajes a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equipo autenticador envía un challenge que consiste en un string formado con su ID y un valor alea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equipo autenticado recibe el string y lo concatena con otros campos y la clave y produce un hash (generalmente MD5) y lo envía al autentic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utenticador devuelve un mensaje de éxito o f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proceso se puede repetir periódicamente para verificar la validez del en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lgoritmo de hash es arbitrario pero el RFC1994 dice que se debe soportar MD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TROS ESQUEMAS DE AUTENT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8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iantes de Microsoft:MS-CHAP y MS-CHAP 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-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vez de obtener un HASH, lo que hace es encriptar el reto usando DES y utilizando como llave el pass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enticación en un solo sen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-CHAP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icionalmente al password utiliza un string arbitrario para generar la ll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portado a partir de Windows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 la autenticación en ambos sentidos (mutual authentic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 dos llaves de encripción (una para cada sentid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ULTI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685440"/>
            <a:ext cx="8136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ión de dos o mas enlaces para que se vean como uno solo. Ejemplo: los dos canales B en RDSI para obtener 128kbps.   RFC 171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nda fragmentos PPP por cada ca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cuencia:  puede ser 12 o 24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ULTI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9280" y="907920"/>
            <a:ext cx="5977080" cy="5666400"/>
            <a:chOff x="179280" y="907920"/>
            <a:chExt cx="5977080" cy="5666400"/>
          </a:xfrm>
        </p:grpSpPr>
        <p:graphicFrame>
          <p:nvGraphicFramePr>
            <p:cNvPr id="138" name=""/>
            <p:cNvGraphicFramePr/>
            <p:nvPr/>
          </p:nvGraphicFramePr>
          <p:xfrm>
            <a:off x="179280" y="907920"/>
            <a:ext cx="5977080" cy="562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9280" y="907920"/>
                      <a:ext cx="5977080" cy="562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1910160" y="6237000"/>
              <a:ext cx="62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372360" y="981000"/>
            <a:ext cx="255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1 indica pr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0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=1 el último frag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PCIONES ESPEC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LINK QUALITY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mite el monitoreo de la calidad del enlace y si este alcanza el nivel critico, se cae la llam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CALL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 recibir la llamada el sitio central la devue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licitud de devolución de la llamada por seguridad o para centralizar la factu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ia 1984 Rick Adams crea SLIP para conectar estaciones Sun a Internet vía mod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LIP, C-SLIP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ial Line Internet Protocol y Compressed SL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capsula el paquete IP entre dos bytes 0xC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aprobado por IET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detección de err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multiprotocol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brinda control de en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brida segur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FC 1055 y 1144 Inform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PCIONES ESPEC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esión de encabezados TCP/IP en enlaces de baja velocid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los 40 bytes de encabezado TCP-IP en 3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tramas PPP con IP se identifican a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02d Compressed TCP. El encabezado TCP/IP es reemplazado por el encabezado comprim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021 Type IP. No lleva TCP, o es un fragmento o no puede ser comprim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02f Uncompressed TCP. El campo IP es reemplazado por el identificador de la entrada en la tabla de compres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esión de contenido (CCP: Compression Control Protoc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aquete se comprime y la trama se marca con hex 00FD (Compressed datagram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CRIP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P (Encryption Control Protoco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cion estándar – RFC19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ociado como otro NCP, utilizando Protocol=0x80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ofrece privacidad, no autenticación o un esquema para intercambio de ll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 DES y 3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trama va secuencializada con 16 bits para detectar perd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PPE (Microsoft Point to Point Encryption Protoco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quema desarrollado por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 PP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a RC4 con llaves de 40, 56 y 128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tiene la llave a partir de MS-CH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PCIONES ESPEC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IABLE LINK (ENLACE CONFI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ce retrasmisión de tramas cuando estas llegan con err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P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907920"/>
            <a:ext cx="8280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25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apsulación de PPP sobre Ethernet utilizado principalmente en accesos banda ancha como ADSL y cable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aprovechar las bondades de PPP como autenticación basada en PAP o CH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38560" y="31993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428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P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20640"/>
            <a:ext cx="842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acion de las tramas Ethernet con PPP (EtherType)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x8863 (Discovery S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x8864 (PPP Session St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verhead que pone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ethernet: 8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evo MTU:1500–8=149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38560" y="31993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95640" y="2178000"/>
            <a:ext cx="5113440" cy="4680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80000" y="4365720"/>
            <a:ext cx="536400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3789360"/>
            <a:ext cx="277164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5084640"/>
            <a:ext cx="1152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484360" y="4508640"/>
            <a:ext cx="446400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81280" y="582624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verhead PPP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P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907920"/>
            <a:ext cx="8280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dentificacion de las tramas Ethernet con PPP (EtherType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x8863 (Discovery S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x8864 (PPP Session Stag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1 2 3 4 5 6 7 8 9 0 1 2 3 4 5 6 7 8 9 0 1 2 3 4 5 6 7 8 9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+-+-+-+-+-+-+-+-+-+-+-+-+-+-+-+-+-+-+-+-+-+-+-+-+-+-+-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|  VER  | TYPE  |      CODE     |          SESSION_ID                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-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|            LENGTH             |           payload             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-+-+-+-+-+-+-+-+-+-+-+-+-+-+-+-+-+-+-+-+-+-+-+-+-+-+-+-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31993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1592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P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765000"/>
            <a:ext cx="828036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cuencia de mensaj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PPoE Active Discovery Initiation (PADI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viedo por el host, con destino broadcast (FF:FF:FF:FF:FF:FF), para ubicar el concent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PPoE Active Discovery Offer (PADO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viado por el concent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PPoE Active Discovery Request (PADR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PPoE Active Discovery Session-confirmation (PA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PPoE Active Discovery Terminate (PADT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38560" y="31993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UBICACIÓN DE PPP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RTCS TCPIP STACK"/>
          <p:cNvPicPr/>
          <p:nvPr/>
        </p:nvPicPr>
        <p:blipFill>
          <a:blip r:embed="rId1"/>
          <a:stretch/>
        </p:blipFill>
        <p:spPr>
          <a:xfrm>
            <a:off x="900000" y="907920"/>
            <a:ext cx="7272360" cy="5799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>
            <a:off x="6300720" y="537372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MPLEMENTACION DE PPPoE EN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9080" y="1111320"/>
            <a:ext cx="8604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PPoE con AD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4005360"/>
          <a:ext cx="107964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05360"/>
                    <a:ext cx="107964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916360" y="4346640"/>
          <a:ext cx="60948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4346640"/>
                    <a:ext cx="609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492360" y="4508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1341360"/>
            <a:ext cx="43164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2637000"/>
            <a:ext cx="934920" cy="215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8720" y="1197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3680" y="25876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1916280"/>
            <a:ext cx="720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4800" y="1820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7636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82720" y="4960800"/>
            <a:ext cx="13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314172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43080" y="30178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3789360"/>
            <a:ext cx="360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3789360"/>
            <a:ext cx="360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3789360"/>
            <a:ext cx="360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3789360"/>
            <a:ext cx="360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9120" y="5176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iente PPP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3440" y="3645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300720" y="4076640"/>
            <a:ext cx="647280" cy="1007640"/>
            <a:chOff x="6300720" y="4076640"/>
            <a:chExt cx="647280" cy="1007640"/>
          </a:xfrm>
        </p:grpSpPr>
        <p:sp>
          <p:nvSpPr>
            <p:cNvPr id="196" name=""/>
            <p:cNvSpPr/>
            <p:nvPr/>
          </p:nvSpPr>
          <p:spPr>
            <a:xfrm>
              <a:off x="6867720" y="4076640"/>
              <a:ext cx="80280" cy="1007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00720" y="4171680"/>
              <a:ext cx="569160" cy="9086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50040" y="4220280"/>
              <a:ext cx="469800" cy="4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42480" y="484164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12040" y="4841640"/>
              <a:ext cx="14616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79440" y="484164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63720" y="4365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5480" y="4365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47240" y="4365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90800" y="4365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32920" y="4365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74680" y="4365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16440" y="4365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58560" y="4365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0320" y="4365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44240" y="4365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6360" y="4365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99720" y="4913640"/>
              <a:ext cx="4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72880" y="491364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21560" y="491364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02520" y="4088520"/>
              <a:ext cx="633600" cy="756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46440" y="4365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88200" y="4365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9960" y="4365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4240" y="4365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16000" y="4365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57760" y="4365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99880" y="4365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41640" y="4365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83400" y="4365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6960" y="4365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69080" y="4365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915160" y="51577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8360" y="45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236000" y="3860640"/>
            <a:ext cx="1512720" cy="1272960"/>
            <a:chOff x="7236000" y="3860640"/>
            <a:chExt cx="1512720" cy="1272960"/>
          </a:xfrm>
        </p:grpSpPr>
        <p:sp>
          <p:nvSpPr>
            <p:cNvPr id="231" name=""/>
            <p:cNvSpPr/>
            <p:nvPr/>
          </p:nvSpPr>
          <p:spPr>
            <a:xfrm>
              <a:off x="7236000" y="3860640"/>
              <a:ext cx="1512720" cy="127296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29960" y="4390920"/>
              <a:ext cx="134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835280" y="1916280"/>
            <a:ext cx="431640" cy="21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2637000"/>
            <a:ext cx="720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79640" y="2637000"/>
            <a:ext cx="431640" cy="21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5080" y="3141720"/>
            <a:ext cx="935280" cy="21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1080" y="3139920"/>
            <a:ext cx="720720" cy="217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3141720"/>
            <a:ext cx="43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51640" y="1700280"/>
            <a:ext cx="43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174160" y="1628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int to Point Protocol surge como un estandar desarrollado por la IETF (Internet Engineering Task Force) para resolver las limitantes de SLI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protocolo de nivel de Enlace utilizado típicamente para comunicaciones seriales (sincrónicas y asincrónicas) principalmente telefónicas o vía RD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realidad son un conjunto de protocolos: LCP, NCP, PAP, CHAP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0920" y="907920"/>
            <a:ext cx="8686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nt 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capsulation 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pp authentication pap cal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pp pap sent-username diginet password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pp callback-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pp quality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pp multi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pp reliable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el router que reci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sername diginet password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FIGURACION  DE PPP EN 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FIGURACION  DE PPP EN 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1219320"/>
            <a:ext cx="86868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nterface bri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p address 10.101.0.1 255.255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ncapsulation 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pp callback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pp authentication ch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aler in-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aler callback-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aler idle-timeout 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aler map ip 10.101.0.2 name diginetcaracas class   diginetcaracas 5754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aler-grou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ulse-tim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981000"/>
            <a:ext cx="868680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liente PPPoE para Windows 95/98/98SE/ME/XP y Windows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raspppo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protocols.com/pbook/ppp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roaringpenguin.com/penguin/open_source_rp-pppoe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800" y="944640"/>
            <a:ext cx="2502000" cy="4767840"/>
            <a:chOff x="685800" y="944640"/>
            <a:chExt cx="2502000" cy="4767840"/>
          </a:xfrm>
        </p:grpSpPr>
        <p:sp>
          <p:nvSpPr>
            <p:cNvPr id="49" name=""/>
            <p:cNvSpPr/>
            <p:nvPr/>
          </p:nvSpPr>
          <p:spPr>
            <a:xfrm>
              <a:off x="685800" y="1523880"/>
              <a:ext cx="2489040" cy="384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21067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26575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2259000"/>
              <a:ext cx="2210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ESENT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170820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PLIC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9320" y="280836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E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00200" y="3886200"/>
              <a:ext cx="83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31800" y="5010120"/>
              <a:ext cx="1059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I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71600" y="4419720"/>
              <a:ext cx="166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32083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37591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43084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14400" y="335916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" y="48592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34480" y="944640"/>
              <a:ext cx="711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O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49520" y="260280"/>
            <a:ext cx="757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UBICACIÓN DE PPP RESPECTO A 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7400" y="4334040"/>
            <a:ext cx="50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P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HDLC, SDLC, FRAME-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57120" y="260280"/>
            <a:ext cx="3533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48036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886200" y="1752480"/>
            <a:ext cx="4875480" cy="2894040"/>
            <a:chOff x="3886200" y="1752480"/>
            <a:chExt cx="4875480" cy="2894040"/>
          </a:xfrm>
        </p:grpSpPr>
        <p:sp>
          <p:nvSpPr>
            <p:cNvPr id="69" name=""/>
            <p:cNvSpPr/>
            <p:nvPr/>
          </p:nvSpPr>
          <p:spPr>
            <a:xfrm>
              <a:off x="3886200" y="1752480"/>
              <a:ext cx="4875480" cy="289404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5280" y="2144520"/>
              <a:ext cx="28281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1557360"/>
            <a:ext cx="1295640" cy="111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981080" y="2209680"/>
            <a:ext cx="609840" cy="522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64680" y="304920"/>
            <a:ext cx="638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ENARIO DE PPP EN UN ESQUEMA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MU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72000" y="281952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60120" y="26668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2590920"/>
            <a:ext cx="1447920" cy="533160"/>
          </a:xfrm>
          <a:custGeom>
            <a:avLst/>
            <a:gdLst/>
            <a:ahLst/>
            <a:rect l="l" t="t" r="r" b="b"/>
            <a:pathLst>
              <a:path w="720" h="288">
                <a:moveTo>
                  <a:pt x="0" y="0"/>
                </a:moveTo>
                <a:cubicBezTo>
                  <a:pt x="152" y="36"/>
                  <a:pt x="304" y="72"/>
                  <a:pt x="336" y="96"/>
                </a:cubicBezTo>
                <a:cubicBezTo>
                  <a:pt x="368" y="120"/>
                  <a:pt x="128" y="112"/>
                  <a:pt x="192" y="144"/>
                </a:cubicBezTo>
                <a:cubicBezTo>
                  <a:pt x="256" y="176"/>
                  <a:pt x="632" y="264"/>
                  <a:pt x="72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6960" y="41911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7640" y="17524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724280"/>
            <a:ext cx="260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rial Asincr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24080" y="2743200"/>
            <a:ext cx="2485440" cy="1630800"/>
            <a:chOff x="3124080" y="2743200"/>
            <a:chExt cx="2485440" cy="1630800"/>
          </a:xfrm>
        </p:grpSpPr>
        <p:sp>
          <p:nvSpPr>
            <p:cNvPr id="83" name=""/>
            <p:cNvSpPr/>
            <p:nvPr/>
          </p:nvSpPr>
          <p:spPr>
            <a:xfrm>
              <a:off x="3124080" y="2743200"/>
              <a:ext cx="2485440" cy="163080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94240" y="2964240"/>
              <a:ext cx="192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STN/RD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52680" y="5027760"/>
            <a:ext cx="633240" cy="546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14320" y="5027760"/>
            <a:ext cx="6336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183360" y="4924440"/>
            <a:ext cx="633240" cy="54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47920" y="4191120"/>
            <a:ext cx="527040" cy="32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077840" y="4511520"/>
            <a:ext cx="527040" cy="70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816200" y="4511520"/>
            <a:ext cx="0" cy="70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975360" y="4924440"/>
            <a:ext cx="633600" cy="54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392800" y="4989600"/>
            <a:ext cx="633240" cy="544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5919840" y="4419360"/>
            <a:ext cx="48096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605640" y="3789360"/>
            <a:ext cx="54000" cy="12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572000"/>
            <a:ext cx="515880" cy="4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3505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711440" y="3803760"/>
            <a:ext cx="26352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5715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TI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320" y="59133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TI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0160" y="228600"/>
            <a:ext cx="44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ENARIO CON PPP SOBRE RD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4191120"/>
            <a:ext cx="527040" cy="32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77320" y="4343400"/>
            <a:ext cx="65232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934320" y="4343400"/>
            <a:ext cx="121896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2720" y="29718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7000" y="29718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8380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D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1523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1835280" y="3429000"/>
            <a:ext cx="576000" cy="407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6372360" y="3429000"/>
            <a:ext cx="57600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RACTERI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e una trama derivada de HDL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see mecanismos para detectar errores (no los corri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porta múltiples protocolos de nivel superior. Ej: IP, IPX, NetBEUI entre ot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vee mecanismos para negociar parámetros de nivel de red dinámic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vee mecanismos de segur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MA P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lag: Indica el inicio y fin de trama. 01111110. Si el flag esta en otra parte de la trama lo precede con 011111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dress: valor constante en 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: valor constante en 00000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ocol: indica el protocolo de nivel superior o tipo de contenido llevado por la t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: contenido llevado por la t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CS: secuencia para detectar errores, calculada sobre todos los campos excepto flags y F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46760" y="5105520"/>
            <a:ext cx="8514000" cy="882000"/>
            <a:chOff x="446760" y="5105520"/>
            <a:chExt cx="8514000" cy="882000"/>
          </a:xfrm>
        </p:grpSpPr>
        <p:sp>
          <p:nvSpPr>
            <p:cNvPr id="117" name=""/>
            <p:cNvSpPr/>
            <p:nvPr/>
          </p:nvSpPr>
          <p:spPr>
            <a:xfrm>
              <a:off x="446760" y="5527800"/>
              <a:ext cx="8514000" cy="4597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01111110  11111111  00000011  1/2 B    Variable   2/4B  01111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440" y="5105520"/>
              <a:ext cx="79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FLAG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ADDRESS  CONTROL PROTO.    DATOS      FCS    FL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6:55:30Z</dcterms:created>
  <dc:creator>Juan Carlos Restrepo</dc:creator>
  <dc:description/>
  <dc:language>en-US</dc:language>
  <cp:lastModifiedBy>juanrest</cp:lastModifiedBy>
  <dcterms:modified xsi:type="dcterms:W3CDTF">2007-03-03T23:11:54Z</dcterms:modified>
  <cp:revision>191</cp:revision>
  <dc:subject/>
  <dc:title>PPP Point to Point Protocol</dc:title>
</cp:coreProperties>
</file>