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3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41.png" ContentType="image/png"/>
  <Override PartName="/ppt/media/image9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DFF-3AF3-4F99-8C7E-F2BE8BD0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681-E2DF-4E19-BF1B-4F5A11B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7E9-4F09-4549-8172-75CDD5F8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1B8-BD63-4CEE-A298-F5280816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DF26-1850-4854-A8DF-A87B56F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CB8-D934-4730-AF68-8EB727C6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50F8-F4C1-4E95-BA2E-D084CB3F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EEA-22D3-4102-920A-AEC98650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214C-3251-42AF-9F99-51C55130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FFB-44E7-454E-A5C5-BEC16C41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FDAC-427B-4326-B125-3A2E31A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1FD-CFFB-425C-B8B4-86C6A18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997C-ADBD-4F81-86E6-994DBE5F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857-6B43-453B-B37B-E52AF57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01B3-46A1-49F4-8796-C28052EE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CA5D-8107-47E1-9D64-4FA2EBC8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024-BFDF-46D4-8AA6-0411DA35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DC6-B2F9-4E80-9889-FEB9C7DC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CDE-3AED-486F-A377-BA8ABE5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89B-9E7E-4093-ADDE-9D5ECB1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E2E-92FD-4818-AB6E-3E85BBB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391-46AE-470B-8651-D9169B6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731-AF7F-453B-9E45-304C996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8A7-C023-421D-8A95-6E6DF8C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E22F-5BCC-43E2-8680-5D8194A904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3CE6-0D9E-4DB0-A5E3-FF3A795A71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112716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NIVEL FISICO: CONCEPTOS GENERAL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63640" y="2204640"/>
            <a:ext cx="602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-mail: juanrest@diginet.com.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l.: 57-4-5140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sión: 1.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ltima actualización: Julio de 20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dellín-Colomb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940360" y="5361120"/>
            <a:ext cx="3203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62120" y="5256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unas clasificaciones de la comunicación 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 cantidad de bits transmitidos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UNICACIÓN SERIAL: Un bit tras de otro.Ej: RS-23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UNICACIÓN PARALELA: Varios bits a la vez. Ej: Centron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 sentido y simultane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PLE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un solo sentido. Ejemplo: Radio, TV conven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LF DUPLE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bos sentidos pero solo uno a la vez. Walkie-Talkie,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DUPL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mbos sentidos simultáneamente. Conversación conven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762120" y="5256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pos de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A 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ión usando señales digi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ión usando señales en un reducido ancho de b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ión manteniendo las frecuencias originales (base) de la señ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l primer caso usa todo el ancho de banda. Multiplexa con TDM. Ej: Eth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A ANCHA: Transmisión usando señales analógicas.  Multiplexa con FDM. Ej: CATV, R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62120" y="5256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 el número de estaciones en el me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NTO A PUNTO: 2 nodos comparten el medio. Ej: PC a PC vía mod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UNTO: Más de 2 nodos comparten el medio. Ej: Ethernet en co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TOPOLOGÍ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ción física o lógica de los equ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n tener un tipo de topología físico y otro lógico simultáneamente. Ej: Token Ring. Lógica: anillo, Física: estrell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ill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990720" y="2209680"/>
            <a:ext cx="1904400" cy="1676160"/>
            <a:chOff x="990720" y="2209680"/>
            <a:chExt cx="1904400" cy="1676160"/>
          </a:xfrm>
        </p:grpSpPr>
        <p:sp>
          <p:nvSpPr>
            <p:cNvPr id="1276" name=""/>
            <p:cNvSpPr/>
            <p:nvPr/>
          </p:nvSpPr>
          <p:spPr>
            <a:xfrm>
              <a:off x="1371600" y="2514240"/>
              <a:ext cx="114264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43200" y="2971440"/>
              <a:ext cx="15192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14600" y="3581280"/>
              <a:ext cx="15192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00200" y="3733560"/>
              <a:ext cx="15192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90720" y="304776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218960" y="243828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3360" y="220968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71600" y="2590560"/>
              <a:ext cx="75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33000" y="236196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1675800" y="35812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61960" y="34286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514600" y="304776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143000" y="3047760"/>
              <a:ext cx="228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4572000" y="2666880"/>
            <a:ext cx="2743200" cy="380880"/>
            <a:chOff x="4572000" y="2666880"/>
            <a:chExt cx="2743200" cy="380880"/>
          </a:xfrm>
        </p:grpSpPr>
        <p:sp>
          <p:nvSpPr>
            <p:cNvPr id="1290" name=""/>
            <p:cNvSpPr/>
            <p:nvPr/>
          </p:nvSpPr>
          <p:spPr>
            <a:xfrm>
              <a:off x="4572000" y="3047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800600" y="266688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33760" y="266688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3600" y="266688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629400" y="266688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87656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1008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1956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70536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553080" y="5334120"/>
            <a:ext cx="1143000" cy="990000"/>
            <a:chOff x="6553080" y="5334120"/>
            <a:chExt cx="1143000" cy="990000"/>
          </a:xfrm>
        </p:grpSpPr>
        <p:sp>
          <p:nvSpPr>
            <p:cNvPr id="1300" name=""/>
            <p:cNvSpPr/>
            <p:nvPr/>
          </p:nvSpPr>
          <p:spPr>
            <a:xfrm>
              <a:off x="6553080" y="53341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53080" y="6172200"/>
              <a:ext cx="152280" cy="151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67480" y="53341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43440" y="6172200"/>
              <a:ext cx="152640" cy="151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705360" y="541008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6705360" y="5409720"/>
              <a:ext cx="7621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29040" y="54864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304920" y="41148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ell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914400" y="5029200"/>
            <a:ext cx="1295280" cy="1447920"/>
            <a:chOff x="914400" y="5029200"/>
            <a:chExt cx="1295280" cy="1447920"/>
          </a:xfrm>
        </p:grpSpPr>
        <p:sp>
          <p:nvSpPr>
            <p:cNvPr id="1309" name=""/>
            <p:cNvSpPr/>
            <p:nvPr/>
          </p:nvSpPr>
          <p:spPr>
            <a:xfrm>
              <a:off x="990720" y="50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57400" y="50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23880" y="571500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14400" y="6324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057400" y="6324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1066680" y="57909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143000" y="51814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1600200" y="5181480"/>
              <a:ext cx="457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76520" y="58672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657600" y="556272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00600" y="556272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200400" y="640080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86200" y="640080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640080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257800" y="6400800"/>
            <a:ext cx="1522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51055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809880" y="5105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3276720" y="5638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733920" y="57150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4647960" y="5715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952880" y="571500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EL CANAL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avés del canal se propaga las señales que llevan la información.  Pueden ser de dos tip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UIADO O ALÁMBRIC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s señales se transmiten confinadas en un medio físico. Ej: la Fibra Optica, el cable coaxial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GUIADO O INALÁMBRIC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as señales se propagan por el espacio. Ej: comunicaciones de radio, microond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características del canal imponen restricciones sobre la velocida de  transmisión, la distancia, el costo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6840" y="212760"/>
            <a:ext cx="8381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ACTORES QUE AFECTAN LA TRANSMIS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ENUACIÓ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érdida de energía de la señal durante su propagación por el medio. Aumenta con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as intrínsecas: Por absorción del material, defectos de fabricación, oposición del medio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as extrínsecas: Deformación mecá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ENCI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osición al flujo de la corriente eléctrica. Depende del material, diámetro y largo. R=Rho * L /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CTANCI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osición al flujo de corriente alterna. Es Inductiva (Xi) y Capacitiva (X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EDANCI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SQR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Xi - X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eñales parásitas en el medio de diversa índole. Ej: ruido térmico (blanco o Gausiano),  paradiafonía (crosstalk y NEXT), ruido de cuantización (PCM)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C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Reflejo de la señal. En cortas distancias no se nota. En voz aceptable hasta 45 ms. Problema en datos. Se maneja v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416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cho suppressor: hacen que el canal opere half duplex (2-5 ms para inverti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416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cho cancelers: restan el eco de la señal.  permiten operación full dupl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title"/>
          </p:nvPr>
        </p:nvSpPr>
        <p:spPr>
          <a:xfrm>
            <a:off x="456840" y="212760"/>
            <a:ext cx="8381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ACTORES QUE AFECTAN LA TRANSMIS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1523880" y="5114880"/>
          <a:ext cx="6858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11488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"/>
          <p:cNvSpPr/>
          <p:nvPr/>
        </p:nvSpPr>
        <p:spPr>
          <a:xfrm>
            <a:off x="2057400" y="5419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57400" y="5648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2819520" y="5190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3200400" y="5079960"/>
            <a:ext cx="2209680" cy="381960"/>
            <a:chOff x="3200400" y="5079960"/>
            <a:chExt cx="2209680" cy="381960"/>
          </a:xfrm>
        </p:grpSpPr>
        <p:sp>
          <p:nvSpPr>
            <p:cNvPr id="1343" name=""/>
            <p:cNvSpPr/>
            <p:nvPr/>
          </p:nvSpPr>
          <p:spPr>
            <a:xfrm>
              <a:off x="3276360" y="5191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0400" y="5419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 rot="16542000">
              <a:off x="4095360" y="4896360"/>
              <a:ext cx="114120" cy="532800"/>
            </a:xfrm>
            <a:prstGeom prst="triangle">
              <a:avLst>
                <a:gd name="adj" fmla="val 10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 rot="5456400">
              <a:off x="4095360" y="5133240"/>
              <a:ext cx="114480" cy="533160"/>
            </a:xfrm>
            <a:prstGeom prst="triangle">
              <a:avLst>
                <a:gd name="adj" fmla="val 10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19360" y="511488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4419360" y="5267160"/>
              <a:ext cx="990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5334120" y="5267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6400800" y="5038560"/>
          <a:ext cx="6858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5038560"/>
                    <a:ext cx="685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2" name=""/>
          <p:cNvSpPr/>
          <p:nvPr/>
        </p:nvSpPr>
        <p:spPr>
          <a:xfrm>
            <a:off x="2819520" y="5648400"/>
            <a:ext cx="1522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3048120" y="6019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4290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 rot="16542000">
            <a:off x="4248000" y="5695200"/>
            <a:ext cx="114480" cy="533520"/>
          </a:xfrm>
          <a:prstGeom prst="triangle">
            <a:avLst>
              <a:gd name="adj" fmla="val 10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 rot="5456400">
            <a:off x="4248000" y="5932800"/>
            <a:ext cx="114120" cy="533520"/>
          </a:xfrm>
          <a:prstGeom prst="triangle">
            <a:avLst>
              <a:gd name="adj" fmla="val 10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0" y="59151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572000" y="606708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5486400" y="54194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505680" y="640080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o sup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Ñ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ción de un fenómeno físico (voltaje, luz, etc.) en el tiempo con un propósito específico.  En nuestro caso es transmitir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ción de una característica del medio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ÑALES DIGITALE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 señal toma valores discretos o discontinu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ÑALES ANÁLOGA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 señal toma valores en un rang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1752480" y="5410080"/>
            <a:ext cx="5257440" cy="762120"/>
            <a:chOff x="1752480" y="5410080"/>
            <a:chExt cx="5257440" cy="762120"/>
          </a:xfrm>
        </p:grpSpPr>
        <p:sp>
          <p:nvSpPr>
            <p:cNvPr id="1365" name=""/>
            <p:cNvSpPr/>
            <p:nvPr/>
          </p:nvSpPr>
          <p:spPr>
            <a:xfrm>
              <a:off x="1752480" y="5796360"/>
              <a:ext cx="5257440" cy="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2516040" y="5410080"/>
              <a:ext cx="3599640" cy="762120"/>
              <a:chOff x="2516040" y="5410080"/>
              <a:chExt cx="3599640" cy="762120"/>
            </a:xfrm>
          </p:grpSpPr>
          <p:sp>
            <p:nvSpPr>
              <p:cNvPr id="1367" name=""/>
              <p:cNvSpPr/>
              <p:nvPr/>
            </p:nvSpPr>
            <p:spPr>
              <a:xfrm>
                <a:off x="2516040" y="5665680"/>
                <a:ext cx="671040" cy="269280"/>
              </a:xfrm>
              <a:custGeom>
                <a:avLst/>
                <a:gdLst/>
                <a:ahLst/>
                <a:rect l="l" t="t" r="r" b="b"/>
                <a:pathLst>
                  <a:path w="275" h="198">
                    <a:moveTo>
                      <a:pt x="0" y="93"/>
                    </a:moveTo>
                    <a:lnTo>
                      <a:pt x="4" y="77"/>
                    </a:lnTo>
                    <a:lnTo>
                      <a:pt x="9" y="59"/>
                    </a:lnTo>
                    <a:lnTo>
                      <a:pt x="13" y="48"/>
                    </a:lnTo>
                    <a:lnTo>
                      <a:pt x="20" y="42"/>
                    </a:lnTo>
                    <a:lnTo>
                      <a:pt x="26" y="38"/>
                    </a:lnTo>
                    <a:lnTo>
                      <a:pt x="33" y="37"/>
                    </a:lnTo>
                    <a:lnTo>
                      <a:pt x="41" y="38"/>
                    </a:lnTo>
                    <a:lnTo>
                      <a:pt x="49" y="44"/>
                    </a:lnTo>
                    <a:lnTo>
                      <a:pt x="53" y="51"/>
                    </a:lnTo>
                    <a:lnTo>
                      <a:pt x="56" y="60"/>
                    </a:lnTo>
                    <a:lnTo>
                      <a:pt x="70" y="121"/>
                    </a:lnTo>
                    <a:lnTo>
                      <a:pt x="73" y="130"/>
                    </a:lnTo>
                    <a:lnTo>
                      <a:pt x="76" y="137"/>
                    </a:lnTo>
                    <a:lnTo>
                      <a:pt x="85" y="140"/>
                    </a:lnTo>
                    <a:lnTo>
                      <a:pt x="93" y="141"/>
                    </a:lnTo>
                    <a:lnTo>
                      <a:pt x="101" y="139"/>
                    </a:lnTo>
                    <a:lnTo>
                      <a:pt x="105" y="131"/>
                    </a:lnTo>
                    <a:lnTo>
                      <a:pt x="109" y="121"/>
                    </a:lnTo>
                    <a:lnTo>
                      <a:pt x="128" y="31"/>
                    </a:lnTo>
                    <a:lnTo>
                      <a:pt x="131" y="19"/>
                    </a:lnTo>
                    <a:lnTo>
                      <a:pt x="134" y="10"/>
                    </a:lnTo>
                    <a:lnTo>
                      <a:pt x="139" y="4"/>
                    </a:lnTo>
                    <a:lnTo>
                      <a:pt x="144" y="0"/>
                    </a:lnTo>
                    <a:lnTo>
                      <a:pt x="153" y="0"/>
                    </a:lnTo>
                    <a:lnTo>
                      <a:pt x="162" y="1"/>
                    </a:lnTo>
                    <a:lnTo>
                      <a:pt x="169" y="9"/>
                    </a:lnTo>
                    <a:lnTo>
                      <a:pt x="172" y="15"/>
                    </a:lnTo>
                    <a:lnTo>
                      <a:pt x="175" y="25"/>
                    </a:lnTo>
                    <a:lnTo>
                      <a:pt x="204" y="168"/>
                    </a:lnTo>
                    <a:lnTo>
                      <a:pt x="208" y="180"/>
                    </a:lnTo>
                    <a:lnTo>
                      <a:pt x="213" y="191"/>
                    </a:lnTo>
                    <a:lnTo>
                      <a:pt x="219" y="195"/>
                    </a:lnTo>
                    <a:lnTo>
                      <a:pt x="229" y="197"/>
                    </a:lnTo>
                    <a:lnTo>
                      <a:pt x="237" y="190"/>
                    </a:lnTo>
                    <a:lnTo>
                      <a:pt x="242" y="181"/>
                    </a:lnTo>
                    <a:lnTo>
                      <a:pt x="246" y="168"/>
                    </a:lnTo>
                    <a:lnTo>
                      <a:pt x="274" y="38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82400" y="5410080"/>
                <a:ext cx="1142280" cy="762120"/>
              </a:xfrm>
              <a:custGeom>
                <a:avLst/>
                <a:gdLst/>
                <a:ahLst/>
                <a:rect l="l" t="t" r="r" b="b"/>
                <a:pathLst>
                  <a:path w="468" h="560">
                    <a:moveTo>
                      <a:pt x="0" y="228"/>
                    </a:moveTo>
                    <a:lnTo>
                      <a:pt x="24" y="123"/>
                    </a:lnTo>
                    <a:lnTo>
                      <a:pt x="27" y="115"/>
                    </a:lnTo>
                    <a:lnTo>
                      <a:pt x="35" y="110"/>
                    </a:lnTo>
                    <a:lnTo>
                      <a:pt x="42" y="109"/>
                    </a:lnTo>
                    <a:lnTo>
                      <a:pt x="52" y="110"/>
                    </a:lnTo>
                    <a:lnTo>
                      <a:pt x="57" y="115"/>
                    </a:lnTo>
                    <a:lnTo>
                      <a:pt x="60" y="123"/>
                    </a:lnTo>
                    <a:lnTo>
                      <a:pt x="117" y="427"/>
                    </a:lnTo>
                    <a:lnTo>
                      <a:pt x="123" y="442"/>
                    </a:lnTo>
                    <a:lnTo>
                      <a:pt x="128" y="448"/>
                    </a:lnTo>
                    <a:lnTo>
                      <a:pt x="137" y="451"/>
                    </a:lnTo>
                    <a:lnTo>
                      <a:pt x="144" y="453"/>
                    </a:lnTo>
                    <a:lnTo>
                      <a:pt x="153" y="450"/>
                    </a:lnTo>
                    <a:lnTo>
                      <a:pt x="160" y="443"/>
                    </a:lnTo>
                    <a:lnTo>
                      <a:pt x="166" y="427"/>
                    </a:lnTo>
                    <a:lnTo>
                      <a:pt x="222" y="75"/>
                    </a:lnTo>
                    <a:lnTo>
                      <a:pt x="225" y="57"/>
                    </a:lnTo>
                    <a:lnTo>
                      <a:pt x="229" y="52"/>
                    </a:lnTo>
                    <a:lnTo>
                      <a:pt x="233" y="48"/>
                    </a:lnTo>
                    <a:lnTo>
                      <a:pt x="240" y="43"/>
                    </a:lnTo>
                    <a:lnTo>
                      <a:pt x="247" y="43"/>
                    </a:lnTo>
                    <a:lnTo>
                      <a:pt x="256" y="45"/>
                    </a:lnTo>
                    <a:lnTo>
                      <a:pt x="263" y="48"/>
                    </a:lnTo>
                    <a:lnTo>
                      <a:pt x="267" y="52"/>
                    </a:lnTo>
                    <a:lnTo>
                      <a:pt x="271" y="57"/>
                    </a:lnTo>
                    <a:lnTo>
                      <a:pt x="275" y="72"/>
                    </a:lnTo>
                    <a:lnTo>
                      <a:pt x="326" y="523"/>
                    </a:lnTo>
                    <a:lnTo>
                      <a:pt x="329" y="542"/>
                    </a:lnTo>
                    <a:lnTo>
                      <a:pt x="334" y="552"/>
                    </a:lnTo>
                    <a:lnTo>
                      <a:pt x="343" y="556"/>
                    </a:lnTo>
                    <a:lnTo>
                      <a:pt x="352" y="559"/>
                    </a:lnTo>
                    <a:lnTo>
                      <a:pt x="360" y="556"/>
                    </a:lnTo>
                    <a:lnTo>
                      <a:pt x="365" y="552"/>
                    </a:lnTo>
                    <a:lnTo>
                      <a:pt x="368" y="544"/>
                    </a:lnTo>
                    <a:lnTo>
                      <a:pt x="371" y="525"/>
                    </a:lnTo>
                    <a:lnTo>
                      <a:pt x="437" y="32"/>
                    </a:lnTo>
                    <a:lnTo>
                      <a:pt x="440" y="22"/>
                    </a:lnTo>
                    <a:lnTo>
                      <a:pt x="445" y="12"/>
                    </a:lnTo>
                    <a:lnTo>
                      <a:pt x="450" y="6"/>
                    </a:lnTo>
                    <a:lnTo>
                      <a:pt x="455" y="1"/>
                    </a:lnTo>
                    <a:lnTo>
                      <a:pt x="461" y="0"/>
                    </a:lnTo>
                    <a:lnTo>
                      <a:pt x="467" y="0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447160" y="5665680"/>
                <a:ext cx="668520" cy="269280"/>
              </a:xfrm>
              <a:custGeom>
                <a:avLst/>
                <a:gdLst/>
                <a:ahLst/>
                <a:rect l="l" t="t" r="r" b="b"/>
                <a:pathLst>
                  <a:path w="274" h="198">
                    <a:moveTo>
                      <a:pt x="273" y="93"/>
                    </a:moveTo>
                    <a:lnTo>
                      <a:pt x="269" y="77"/>
                    </a:lnTo>
                    <a:lnTo>
                      <a:pt x="264" y="59"/>
                    </a:lnTo>
                    <a:lnTo>
                      <a:pt x="260" y="48"/>
                    </a:lnTo>
                    <a:lnTo>
                      <a:pt x="254" y="42"/>
                    </a:lnTo>
                    <a:lnTo>
                      <a:pt x="247" y="38"/>
                    </a:lnTo>
                    <a:lnTo>
                      <a:pt x="240" y="37"/>
                    </a:lnTo>
                    <a:lnTo>
                      <a:pt x="231" y="38"/>
                    </a:lnTo>
                    <a:lnTo>
                      <a:pt x="225" y="44"/>
                    </a:lnTo>
                    <a:lnTo>
                      <a:pt x="221" y="51"/>
                    </a:lnTo>
                    <a:lnTo>
                      <a:pt x="217" y="60"/>
                    </a:lnTo>
                    <a:lnTo>
                      <a:pt x="203" y="121"/>
                    </a:lnTo>
                    <a:lnTo>
                      <a:pt x="199" y="130"/>
                    </a:lnTo>
                    <a:lnTo>
                      <a:pt x="197" y="137"/>
                    </a:lnTo>
                    <a:lnTo>
                      <a:pt x="188" y="140"/>
                    </a:lnTo>
                    <a:lnTo>
                      <a:pt x="180" y="141"/>
                    </a:lnTo>
                    <a:lnTo>
                      <a:pt x="172" y="139"/>
                    </a:lnTo>
                    <a:lnTo>
                      <a:pt x="169" y="131"/>
                    </a:lnTo>
                    <a:lnTo>
                      <a:pt x="165" y="121"/>
                    </a:lnTo>
                    <a:lnTo>
                      <a:pt x="146" y="31"/>
                    </a:lnTo>
                    <a:lnTo>
                      <a:pt x="142" y="19"/>
                    </a:lnTo>
                    <a:lnTo>
                      <a:pt x="139" y="10"/>
                    </a:lnTo>
                    <a:lnTo>
                      <a:pt x="134" y="4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11" y="1"/>
                    </a:lnTo>
                    <a:lnTo>
                      <a:pt x="104" y="9"/>
                    </a:lnTo>
                    <a:lnTo>
                      <a:pt x="101" y="15"/>
                    </a:lnTo>
                    <a:lnTo>
                      <a:pt x="98" y="25"/>
                    </a:lnTo>
                    <a:lnTo>
                      <a:pt x="69" y="168"/>
                    </a:lnTo>
                    <a:lnTo>
                      <a:pt x="66" y="180"/>
                    </a:lnTo>
                    <a:lnTo>
                      <a:pt x="61" y="191"/>
                    </a:lnTo>
                    <a:lnTo>
                      <a:pt x="55" y="195"/>
                    </a:lnTo>
                    <a:lnTo>
                      <a:pt x="44" y="197"/>
                    </a:lnTo>
                    <a:lnTo>
                      <a:pt x="36" y="190"/>
                    </a:lnTo>
                    <a:lnTo>
                      <a:pt x="31" y="181"/>
                    </a:lnTo>
                    <a:lnTo>
                      <a:pt x="27" y="168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07400" y="5410080"/>
                <a:ext cx="1141560" cy="762120"/>
              </a:xfrm>
              <a:custGeom>
                <a:avLst/>
                <a:gdLst/>
                <a:ahLst/>
                <a:rect l="l" t="t" r="r" b="b"/>
                <a:pathLst>
                  <a:path w="468" h="560">
                    <a:moveTo>
                      <a:pt x="467" y="229"/>
                    </a:moveTo>
                    <a:lnTo>
                      <a:pt x="443" y="123"/>
                    </a:lnTo>
                    <a:lnTo>
                      <a:pt x="439" y="115"/>
                    </a:lnTo>
                    <a:lnTo>
                      <a:pt x="432" y="110"/>
                    </a:lnTo>
                    <a:lnTo>
                      <a:pt x="425" y="109"/>
                    </a:lnTo>
                    <a:lnTo>
                      <a:pt x="415" y="110"/>
                    </a:lnTo>
                    <a:lnTo>
                      <a:pt x="410" y="115"/>
                    </a:lnTo>
                    <a:lnTo>
                      <a:pt x="406" y="123"/>
                    </a:lnTo>
                    <a:lnTo>
                      <a:pt x="350" y="427"/>
                    </a:lnTo>
                    <a:lnTo>
                      <a:pt x="344" y="442"/>
                    </a:lnTo>
                    <a:lnTo>
                      <a:pt x="340" y="448"/>
                    </a:lnTo>
                    <a:lnTo>
                      <a:pt x="330" y="451"/>
                    </a:lnTo>
                    <a:lnTo>
                      <a:pt x="323" y="453"/>
                    </a:lnTo>
                    <a:lnTo>
                      <a:pt x="314" y="450"/>
                    </a:lnTo>
                    <a:lnTo>
                      <a:pt x="306" y="443"/>
                    </a:lnTo>
                    <a:lnTo>
                      <a:pt x="301" y="427"/>
                    </a:lnTo>
                    <a:lnTo>
                      <a:pt x="245" y="75"/>
                    </a:lnTo>
                    <a:lnTo>
                      <a:pt x="241" y="57"/>
                    </a:lnTo>
                    <a:lnTo>
                      <a:pt x="238" y="52"/>
                    </a:lnTo>
                    <a:lnTo>
                      <a:pt x="234" y="48"/>
                    </a:lnTo>
                    <a:lnTo>
                      <a:pt x="227" y="43"/>
                    </a:lnTo>
                    <a:lnTo>
                      <a:pt x="221" y="43"/>
                    </a:lnTo>
                    <a:lnTo>
                      <a:pt x="211" y="45"/>
                    </a:lnTo>
                    <a:lnTo>
                      <a:pt x="204" y="48"/>
                    </a:lnTo>
                    <a:lnTo>
                      <a:pt x="199" y="52"/>
                    </a:lnTo>
                    <a:lnTo>
                      <a:pt x="196" y="57"/>
                    </a:lnTo>
                    <a:lnTo>
                      <a:pt x="192" y="72"/>
                    </a:lnTo>
                    <a:lnTo>
                      <a:pt x="141" y="523"/>
                    </a:lnTo>
                    <a:lnTo>
                      <a:pt x="137" y="542"/>
                    </a:lnTo>
                    <a:lnTo>
                      <a:pt x="133" y="552"/>
                    </a:lnTo>
                    <a:lnTo>
                      <a:pt x="124" y="556"/>
                    </a:lnTo>
                    <a:lnTo>
                      <a:pt x="116" y="559"/>
                    </a:lnTo>
                    <a:lnTo>
                      <a:pt x="107" y="556"/>
                    </a:lnTo>
                    <a:lnTo>
                      <a:pt x="103" y="552"/>
                    </a:lnTo>
                    <a:lnTo>
                      <a:pt x="99" y="544"/>
                    </a:lnTo>
                    <a:lnTo>
                      <a:pt x="96" y="525"/>
                    </a:lnTo>
                    <a:lnTo>
                      <a:pt x="30" y="32"/>
                    </a:lnTo>
                    <a:lnTo>
                      <a:pt x="27" y="22"/>
                    </a:lnTo>
                    <a:lnTo>
                      <a:pt x="23" y="12"/>
                    </a:lnTo>
                    <a:lnTo>
                      <a:pt x="17" y="6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1" name=""/>
          <p:cNvGrpSpPr/>
          <p:nvPr/>
        </p:nvGrpSpPr>
        <p:grpSpPr>
          <a:xfrm>
            <a:off x="1905120" y="4191120"/>
            <a:ext cx="5182560" cy="610920"/>
            <a:chOff x="1905120" y="4191120"/>
            <a:chExt cx="5182560" cy="610920"/>
          </a:xfrm>
        </p:grpSpPr>
        <p:sp>
          <p:nvSpPr>
            <p:cNvPr id="1372" name=""/>
            <p:cNvSpPr/>
            <p:nvPr/>
          </p:nvSpPr>
          <p:spPr>
            <a:xfrm>
              <a:off x="1905120" y="419112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514600" y="4495680"/>
              <a:ext cx="61056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24080" y="419112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733560" y="4495680"/>
              <a:ext cx="914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47960" y="44956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257800" y="4191120"/>
              <a:ext cx="61056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67280" y="44956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476760" y="419112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1676520" y="44956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TENDENCI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r señales y sistemas digitales por las siguientes 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minución en costo y tamaño de los circuitos requer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idad de los datos mediante mecanismos de detección y corrección de errores y mediante repetidores en vez de amplificadores que no crean ruido acumul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uridad y privacidad al usar técnicas como la encri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4920" y="7621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uede representar como una función s(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0880" y="411480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ellas que cumplan con la siguiente condición se considerarán periód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( t + T) = s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29200" y="1752480"/>
            <a:ext cx="388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(t)=Ase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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o T=1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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457200" y="1447920"/>
            <a:ext cx="4191120" cy="1447560"/>
            <a:chOff x="457200" y="1447920"/>
            <a:chExt cx="4191120" cy="1447560"/>
          </a:xfrm>
        </p:grpSpPr>
        <p:sp>
          <p:nvSpPr>
            <p:cNvPr id="1388" name=""/>
            <p:cNvSpPr/>
            <p:nvPr/>
          </p:nvSpPr>
          <p:spPr>
            <a:xfrm>
              <a:off x="457200" y="222696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12360" y="1447920"/>
              <a:ext cx="3518280" cy="1447560"/>
            </a:xfrm>
            <a:custGeom>
              <a:avLst/>
              <a:gdLst/>
              <a:ahLst/>
              <a:rect l="l" t="t" r="r" b="b"/>
              <a:pathLst>
                <a:path w="3264" h="936">
                  <a:moveTo>
                    <a:pt x="0" y="504"/>
                  </a:moveTo>
                  <a:cubicBezTo>
                    <a:pt x="100" y="252"/>
                    <a:pt x="200" y="0"/>
                    <a:pt x="336" y="72"/>
                  </a:cubicBezTo>
                  <a:cubicBezTo>
                    <a:pt x="472" y="144"/>
                    <a:pt x="664" y="936"/>
                    <a:pt x="816" y="936"/>
                  </a:cubicBezTo>
                  <a:cubicBezTo>
                    <a:pt x="968" y="936"/>
                    <a:pt x="1104" y="72"/>
                    <a:pt x="1248" y="72"/>
                  </a:cubicBezTo>
                  <a:cubicBezTo>
                    <a:pt x="1392" y="72"/>
                    <a:pt x="1536" y="936"/>
                    <a:pt x="1680" y="936"/>
                  </a:cubicBezTo>
                  <a:cubicBezTo>
                    <a:pt x="1824" y="936"/>
                    <a:pt x="1976" y="72"/>
                    <a:pt x="2112" y="72"/>
                  </a:cubicBezTo>
                  <a:cubicBezTo>
                    <a:pt x="2248" y="72"/>
                    <a:pt x="2368" y="936"/>
                    <a:pt x="2496" y="936"/>
                  </a:cubicBezTo>
                  <a:cubicBezTo>
                    <a:pt x="2624" y="936"/>
                    <a:pt x="2752" y="72"/>
                    <a:pt x="2880" y="72"/>
                  </a:cubicBezTo>
                  <a:cubicBezTo>
                    <a:pt x="3008" y="72"/>
                    <a:pt x="3208" y="792"/>
                    <a:pt x="3264" y="9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609480" y="1295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16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335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9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915840" y="2971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2952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-223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RESEÑA HISTORIC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3805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en del Universo hace 15.000 millones de años. Tierra 4.500’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bre: 2.5 millones; señas, sonidos, señales de hu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bre actual: 10.000 años: ha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critura:  4000-3000 AC con los Sumerios. Papel (105 DC en China). Imprenta de Gutenberg en 144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comunicación electrónica empieza con el Telégrafo en 1.834 el cual utilizaba el CÓDIGO Morse. Su problema era la no posibilidad de automatización por no haber SINCRONISMO, requiriendo intervención hum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1.874 Emil Baudot en Francia creó el CODIGO Baudot. Cada carácter se representa con 5 elementos de señal con duración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1.877 se instala la primera línea Telefó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1.869 comienzan trabajos sobre Teleimpresora. Hacia 1.928 finaliz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04920" y="533520"/>
            <a:ext cx="85341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ún los estudios realizados por Jean Baptiste Fourier cualquier señal s(t) periódica se puede expresar como una suma de componentes asi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t)=c +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f t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n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f t)  sumatoria con n=1 hasta infin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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(t)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f t) d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0 y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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(t) sen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f t) d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0 y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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(t)  dt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0 y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T es el período de s(t) entonces f=1/T es su frecuencia funda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ÓNICOS:Frecuencias múltiplos de frecuencia funda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término es un armónico 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sus ampli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80880" y="5335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Términos para el envío de un carácter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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 - cos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+ cos(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- cos(7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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 -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+ sen(7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- sen(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/4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3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3200400" y="5186520"/>
            <a:ext cx="2590920" cy="167148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2743200" y="3429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80880" y="38098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 de Fourier de una onda cuad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t)= (4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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 - 1/3 (cos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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) + 1/5 (cos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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) - 1/7 (cos 7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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) +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481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32767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767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809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581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2767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0384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34340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6483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6483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648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769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055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669040" y="2133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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76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8098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954680" y="3352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762120" y="381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COMPONENTES DE UNA SEÑAL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4552920" y="457200"/>
            <a:ext cx="4591080" cy="64008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3200400" cy="206532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403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PECTRO DE LA SEÑ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ngo de frecuencias de los elementos constitutivos de la señ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junto de frecuencias que la constituy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as señales periódicas son valores discretos. Ejempl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83059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304560" y="53352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FORMADA DE FURI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es una nueva función S(w) a partir de s(t) que refleja el peso que tienen las componentes de la función s(t).  Sirve para obtener la densidad espectral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iend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=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Entonce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(w)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t)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jw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utiliza para el análisis de las funciones no periód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4"/>
          <a:stretch/>
        </p:blipFill>
        <p:spPr>
          <a:xfrm>
            <a:off x="762120" y="3352680"/>
            <a:ext cx="7391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ALGUNAS TRANSFORMADAS DE FOURIER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320760" y="955800"/>
            <a:ext cx="1391040" cy="1450080"/>
            <a:chOff x="320760" y="955800"/>
            <a:chExt cx="1391040" cy="1450080"/>
          </a:xfrm>
        </p:grpSpPr>
        <p:sp>
          <p:nvSpPr>
            <p:cNvPr id="1432" name=""/>
            <p:cNvSpPr/>
            <p:nvPr/>
          </p:nvSpPr>
          <p:spPr>
            <a:xfrm>
              <a:off x="320760" y="1870200"/>
              <a:ext cx="137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06200" y="1184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701640" y="14886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1640" y="148896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11120" y="1488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4840" y="955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59200" y="19461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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53520" y="19461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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1611720" y="129528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f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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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380880" y="2895480"/>
            <a:ext cx="1371600" cy="1450440"/>
            <a:chOff x="380880" y="2895480"/>
            <a:chExt cx="1371600" cy="1450440"/>
          </a:xfrm>
        </p:grpSpPr>
        <p:sp>
          <p:nvSpPr>
            <p:cNvPr id="1442" name=""/>
            <p:cNvSpPr/>
            <p:nvPr/>
          </p:nvSpPr>
          <p:spPr>
            <a:xfrm>
              <a:off x="380880" y="3809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66680" y="3124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762120" y="33526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66680" y="335268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5680" y="289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20400" y="388620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14360" y="3886200"/>
              <a:ext cx="41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1639080" y="32767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f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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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9907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936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372320" y="5410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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80060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0" y="384"/>
                </a:moveTo>
                <a:cubicBezTo>
                  <a:pt x="80" y="192"/>
                  <a:pt x="160" y="0"/>
                  <a:pt x="240" y="0"/>
                </a:cubicBezTo>
                <a:cubicBezTo>
                  <a:pt x="320" y="0"/>
                  <a:pt x="440" y="320"/>
                  <a:pt x="48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61360" y="54100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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755360" y="4952880"/>
            <a:ext cx="57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f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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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486400" y="1828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934320" y="533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638680" y="762120"/>
            <a:ext cx="2590920" cy="1447560"/>
          </a:xfrm>
          <a:custGeom>
            <a:avLst/>
            <a:gdLst/>
            <a:ahLst/>
            <a:rect l="l" t="t" r="r" b="b"/>
            <a:pathLst>
              <a:path w="1440" h="912">
                <a:moveTo>
                  <a:pt x="0" y="624"/>
                </a:moveTo>
                <a:cubicBezTo>
                  <a:pt x="36" y="584"/>
                  <a:pt x="72" y="544"/>
                  <a:pt x="144" y="576"/>
                </a:cubicBezTo>
                <a:cubicBezTo>
                  <a:pt x="216" y="608"/>
                  <a:pt x="336" y="912"/>
                  <a:pt x="432" y="816"/>
                </a:cubicBezTo>
                <a:cubicBezTo>
                  <a:pt x="528" y="720"/>
                  <a:pt x="624" y="0"/>
                  <a:pt x="720" y="0"/>
                </a:cubicBezTo>
                <a:cubicBezTo>
                  <a:pt x="816" y="0"/>
                  <a:pt x="912" y="728"/>
                  <a:pt x="1008" y="816"/>
                </a:cubicBezTo>
                <a:cubicBezTo>
                  <a:pt x="1104" y="904"/>
                  <a:pt x="1224" y="552"/>
                  <a:pt x="1296" y="528"/>
                </a:cubicBezTo>
                <a:cubicBezTo>
                  <a:pt x="1368" y="504"/>
                  <a:pt x="1416" y="648"/>
                  <a:pt x="144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539400" y="49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058440" y="21337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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125840" y="21337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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CHO DE BAND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ango de frecuencias que pueden viajar por un medio.  Puede 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 mediante filtros. Ej: Sistema Telefónico convencional: 3000 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acterística del medio.  Ejemplo:  UTP Nivel 5: 100 M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UDI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os de señal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o igual a la velocidad de transmisión cuando a cada cambio de señal corresponde un b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ún Harry Nyquist dado un ancho de banda W, el máximo número de  Baudios 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=2*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LOCIDAD DE TRANSMISIÓ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tidad de bits transmitidos en una unidad de tiempo. Ejemplos: 9600 bps, 64 Kbps, 2 Mbps, etc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 del esquema de codificación o mod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PACIDAD DE UN CA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ún la Ley de Nyquist la Máxima velocidad de transmisión de un canal  sin ruido 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=2*W*L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=número d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= Ancho de b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LUSIÓ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 una señalización multinivel se pueden alcanzar altas velocidades. Sin embargo se hace complejo el sistema y el medio restringe a L por la resistencia, atenuació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EÑ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y de Hartly-Shannon: máxima velocidad de transmisión de un canal en presencia de ruido térmico o blanco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=W*L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 + S/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= Potencia de la señal transmit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Potencia del Ru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: En el sistema telefónico convencional se maneja una relación de ruido de 30dB que equivalen a un S/N=1000/1. Por ta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= 3100 * 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1 + 1000) = 30.894 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762120" y="-1584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DATOS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el mensaje  que se quiere transmi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eden ser de naturaleza análoga o digital.  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áloga: vo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: arch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E: Una cosa es la naturaleza de lo que se quiere transmitir (análoga o digital) y otra la manera en que se transmite (con señales análogas o digital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-223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RESEÑA HISTORIC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892 Guglielmo Marconi transmite una onda de radi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04 John Fleming patenta el diodo de tubo a vací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n 1.945 el ENIAC esta arriba.  En 1.947 se crea el transis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64 John Kemeny crea Basi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n 1.968 nace Intel y su primer procesador es lanzado en 1.97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n 1.969 sale al aire ARPANET origen de Intern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Hacia 1.970 Dennis Ritchie y Kenneth Thomson crean UN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73 Robert Metcalfe crea Ethern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77 se funda Apple y Microosf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Hacia 1.981 IBM lanza el IBM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n 1.984 Sony y Philips crean el CD RO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88 primer virus de importancia en la Intern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90 Berners-Lee crea el prototipo de World Wide Web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1.993 se crea Mosaic en NCS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Hacia mayo de 1.995 se libera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MULTIPLEX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anismo orientado a hacer un uso óptimo de la capacidad del canal, permitiendo que varios aplicativos lo utilicen “simultáneamente”. Existen básicamente 3 mecanism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requency Division Multiplexing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ación por Frecuenc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divide el ancho de banda en rangos de frecuencias (o canales) y se asignan a cada apl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 TV por cable. Radio 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o mecanismo de acceso al medio: F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1905120" y="4648320"/>
            <a:ext cx="1073160" cy="1370880"/>
            <a:chOff x="1905120" y="4648320"/>
            <a:chExt cx="1073160" cy="1370880"/>
          </a:xfrm>
        </p:grpSpPr>
        <p:grpSp>
          <p:nvGrpSpPr>
            <p:cNvPr id="1474" name=""/>
            <p:cNvGrpSpPr/>
            <p:nvPr/>
          </p:nvGrpSpPr>
          <p:grpSpPr>
            <a:xfrm>
              <a:off x="1905120" y="4648320"/>
              <a:ext cx="1073160" cy="1370880"/>
              <a:chOff x="1905120" y="4648320"/>
              <a:chExt cx="1073160" cy="1370880"/>
            </a:xfrm>
          </p:grpSpPr>
          <p:sp>
            <p:nvSpPr>
              <p:cNvPr id="1475" name=""/>
              <p:cNvSpPr/>
              <p:nvPr/>
            </p:nvSpPr>
            <p:spPr>
              <a:xfrm>
                <a:off x="1911600" y="4658040"/>
                <a:ext cx="8254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05120" y="4668480"/>
                <a:ext cx="0" cy="1339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11600" y="6019200"/>
                <a:ext cx="8254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 flipV="1">
                <a:off x="2737080" y="4648320"/>
                <a:ext cx="241200" cy="638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2737080" y="5410800"/>
                <a:ext cx="241200" cy="5976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>
              <a:off x="1968120" y="500652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324480" y="4572000"/>
            <a:ext cx="1067040" cy="1370880"/>
            <a:chOff x="6324480" y="4572000"/>
            <a:chExt cx="1067040" cy="1370880"/>
          </a:xfrm>
        </p:grpSpPr>
        <p:grpSp>
          <p:nvGrpSpPr>
            <p:cNvPr id="1482" name=""/>
            <p:cNvGrpSpPr/>
            <p:nvPr/>
          </p:nvGrpSpPr>
          <p:grpSpPr>
            <a:xfrm>
              <a:off x="6324480" y="4572000"/>
              <a:ext cx="1067040" cy="1370880"/>
              <a:chOff x="6324480" y="4572000"/>
              <a:chExt cx="1067040" cy="1370880"/>
            </a:xfrm>
          </p:grpSpPr>
          <p:sp>
            <p:nvSpPr>
              <p:cNvPr id="1483" name=""/>
              <p:cNvSpPr/>
              <p:nvPr/>
            </p:nvSpPr>
            <p:spPr>
              <a:xfrm flipH="1">
                <a:off x="6540480" y="4581720"/>
                <a:ext cx="851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85040" y="4592160"/>
                <a:ext cx="0" cy="1339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6540480" y="5942880"/>
                <a:ext cx="851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324480" y="4572000"/>
                <a:ext cx="216000" cy="638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324480" y="5334480"/>
                <a:ext cx="216000" cy="5976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>
              <a:off x="6457320" y="505332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2971800" y="50292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971800" y="5486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048120" y="5181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048120" y="53341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219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219320" y="5562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4674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4674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467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320" y="4648320"/>
            <a:ext cx="11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995960" y="4572000"/>
            <a:ext cx="11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MULTIPLEX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ime Division Multiplexing) Multiplexación por Tiempo: Se asigna el canal una determinada cantidad de tiempo a cada apl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erciben canales lógicos inde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= 24 canales PCM. (1.544 Mbps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9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: 32 canales PCM. (2.048 Mbp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9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mecanismo de acceso al medio T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981080" y="4724280"/>
            <a:ext cx="1073160" cy="1370880"/>
            <a:chOff x="1981080" y="4724280"/>
            <a:chExt cx="1073160" cy="1370880"/>
          </a:xfrm>
        </p:grpSpPr>
        <p:grpSp>
          <p:nvGrpSpPr>
            <p:cNvPr id="1504" name=""/>
            <p:cNvGrpSpPr/>
            <p:nvPr/>
          </p:nvGrpSpPr>
          <p:grpSpPr>
            <a:xfrm>
              <a:off x="1981080" y="4724280"/>
              <a:ext cx="1073160" cy="1370880"/>
              <a:chOff x="1981080" y="4724280"/>
              <a:chExt cx="1073160" cy="1370880"/>
            </a:xfrm>
          </p:grpSpPr>
          <p:sp>
            <p:nvSpPr>
              <p:cNvPr id="1505" name=""/>
              <p:cNvSpPr/>
              <p:nvPr/>
            </p:nvSpPr>
            <p:spPr>
              <a:xfrm>
                <a:off x="1987560" y="4734000"/>
                <a:ext cx="8254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81080" y="4744440"/>
                <a:ext cx="0" cy="1339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87560" y="6095160"/>
                <a:ext cx="8254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2813040" y="4724280"/>
                <a:ext cx="241200" cy="638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2813040" y="5486760"/>
                <a:ext cx="241200" cy="5976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0" name=""/>
            <p:cNvSpPr/>
            <p:nvPr/>
          </p:nvSpPr>
          <p:spPr>
            <a:xfrm>
              <a:off x="2044080" y="50824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6400800" y="4648320"/>
            <a:ext cx="1065960" cy="1370880"/>
            <a:chOff x="6400800" y="4648320"/>
            <a:chExt cx="1065960" cy="1370880"/>
          </a:xfrm>
        </p:grpSpPr>
        <p:grpSp>
          <p:nvGrpSpPr>
            <p:cNvPr id="1512" name=""/>
            <p:cNvGrpSpPr/>
            <p:nvPr/>
          </p:nvGrpSpPr>
          <p:grpSpPr>
            <a:xfrm>
              <a:off x="6400800" y="4648320"/>
              <a:ext cx="1065960" cy="1370880"/>
              <a:chOff x="6400800" y="4648320"/>
              <a:chExt cx="1065960" cy="1370880"/>
            </a:xfrm>
          </p:grpSpPr>
          <p:sp>
            <p:nvSpPr>
              <p:cNvPr id="1513" name=""/>
              <p:cNvSpPr/>
              <p:nvPr/>
            </p:nvSpPr>
            <p:spPr>
              <a:xfrm flipH="1">
                <a:off x="6616080" y="4658040"/>
                <a:ext cx="8506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461000" y="4668480"/>
                <a:ext cx="0" cy="1339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6616080" y="6019200"/>
                <a:ext cx="8506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400800" y="4648320"/>
                <a:ext cx="215640" cy="638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400800" y="5410800"/>
                <a:ext cx="215640" cy="5976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8" name=""/>
            <p:cNvSpPr/>
            <p:nvPr/>
          </p:nvSpPr>
          <p:spPr>
            <a:xfrm>
              <a:off x="6532920" y="512964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3048120" y="51055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048120" y="55627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29528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29528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2952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7339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4197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4100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320" y="4724280"/>
            <a:ext cx="11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995960" y="4648320"/>
            <a:ext cx="11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MULTIPLEX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D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Code Division Multiplexing) Multiplexación por código: Se asigna todo el ancho de banda todo el tiempo a todos. La multiplexación está dada por la elección del códi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nodo tiene un “código” con el cual transmite y recibe la señ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todos hablado, al mismo tiempo pero en diferente idio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lmente un bit se transmite utilizando muchos elementos de señal (chip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y utilizado como una de las alternativas de transmisión en las tecnologías Spread Spect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mecanismo de acceso al medio: CD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MULTIPLEX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04920" y="83808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D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velength Division Multiplexing): similar a FDM  solo que el dispositivo es un medio pasivo. En vez de frecuencia se habla de la longitud de ond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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1523880" y="2743200"/>
            <a:ext cx="1143000" cy="914400"/>
            <a:chOff x="1523880" y="2743200"/>
            <a:chExt cx="1143000" cy="914400"/>
          </a:xfrm>
        </p:grpSpPr>
        <p:sp>
          <p:nvSpPr>
            <p:cNvPr id="1537" name=""/>
            <p:cNvSpPr/>
            <p:nvPr/>
          </p:nvSpPr>
          <p:spPr>
            <a:xfrm flipV="1">
              <a:off x="1523880" y="274320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09680" y="274320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52388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876920" y="2743200"/>
            <a:ext cx="1143000" cy="914400"/>
            <a:chOff x="4876920" y="2743200"/>
            <a:chExt cx="1143000" cy="914400"/>
          </a:xfrm>
        </p:grpSpPr>
        <p:sp>
          <p:nvSpPr>
            <p:cNvPr id="1541" name=""/>
            <p:cNvSpPr/>
            <p:nvPr/>
          </p:nvSpPr>
          <p:spPr>
            <a:xfrm flipV="1">
              <a:off x="4876920" y="274320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562720" y="274320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87692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251460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914400" y="2666880"/>
            <a:ext cx="99072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905120" y="31240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838080" y="3352320"/>
            <a:ext cx="914400" cy="228600"/>
          </a:xfrm>
          <a:prstGeom prst="line">
            <a:avLst/>
          </a:prstGeom>
          <a:ln w="936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752480" y="3276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791320" y="2590560"/>
            <a:ext cx="106668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791320" y="3276720"/>
            <a:ext cx="1143000" cy="380880"/>
          </a:xfrm>
          <a:prstGeom prst="line">
            <a:avLst/>
          </a:prstGeom>
          <a:ln w="936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52578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181480" y="31240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663560" y="3699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879800" y="3581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071480" y="2251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a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63640" y="33526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7040" y="2514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a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20" y="3429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296360" y="236232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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15480" y="368784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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060760" y="217476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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060760" y="34704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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ar una señal que llamamos Moduladora a través de una señal denominada Portado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utiliza en la transmisión de señales Digitales o Analógicas a través de un medio de naturaleza Analóg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"/>
          <p:cNvSpPr/>
          <p:nvPr/>
        </p:nvSpPr>
        <p:spPr>
          <a:xfrm>
            <a:off x="2666880" y="3886200"/>
            <a:ext cx="8384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62120" y="54864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1240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32004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4812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05320" y="4343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05320" y="43434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05320" y="3352680"/>
            <a:ext cx="4267080" cy="1905120"/>
          </a:xfrm>
          <a:custGeom>
            <a:avLst/>
            <a:gdLst/>
            <a:ahLst/>
            <a:rect l="l" t="t" r="r" b="b"/>
            <a:pathLst>
              <a:path w="3984" h="1824">
                <a:moveTo>
                  <a:pt x="0" y="960"/>
                </a:moveTo>
                <a:cubicBezTo>
                  <a:pt x="44" y="732"/>
                  <a:pt x="88" y="504"/>
                  <a:pt x="192" y="576"/>
                </a:cubicBezTo>
                <a:cubicBezTo>
                  <a:pt x="296" y="648"/>
                  <a:pt x="464" y="1392"/>
                  <a:pt x="624" y="1392"/>
                </a:cubicBezTo>
                <a:cubicBezTo>
                  <a:pt x="784" y="1392"/>
                  <a:pt x="992" y="576"/>
                  <a:pt x="1152" y="576"/>
                </a:cubicBezTo>
                <a:cubicBezTo>
                  <a:pt x="1312" y="576"/>
                  <a:pt x="1416" y="1464"/>
                  <a:pt x="1584" y="1392"/>
                </a:cubicBezTo>
                <a:cubicBezTo>
                  <a:pt x="1752" y="1320"/>
                  <a:pt x="1944" y="72"/>
                  <a:pt x="2160" y="144"/>
                </a:cubicBezTo>
                <a:cubicBezTo>
                  <a:pt x="2376" y="216"/>
                  <a:pt x="2648" y="1824"/>
                  <a:pt x="2880" y="1824"/>
                </a:cubicBezTo>
                <a:cubicBezTo>
                  <a:pt x="3112" y="1824"/>
                  <a:pt x="3368" y="288"/>
                  <a:pt x="3552" y="144"/>
                </a:cubicBezTo>
                <a:cubicBezTo>
                  <a:pt x="3736" y="0"/>
                  <a:pt x="3912" y="824"/>
                  <a:pt x="3984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05320" y="3962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48006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2743200" y="4038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43200" y="4114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914400" y="5181480"/>
            <a:ext cx="2286000" cy="533520"/>
            <a:chOff x="914400" y="5181480"/>
            <a:chExt cx="2286000" cy="533520"/>
          </a:xfrm>
        </p:grpSpPr>
        <p:sp>
          <p:nvSpPr>
            <p:cNvPr id="1578" name=""/>
            <p:cNvSpPr/>
            <p:nvPr/>
          </p:nvSpPr>
          <p:spPr>
            <a:xfrm>
              <a:off x="914400" y="54687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99000" y="5181480"/>
              <a:ext cx="1919160" cy="533520"/>
            </a:xfrm>
            <a:custGeom>
              <a:avLst/>
              <a:gdLst/>
              <a:ahLst/>
              <a:rect l="l" t="t" r="r" b="b"/>
              <a:pathLst>
                <a:path w="3264" h="936">
                  <a:moveTo>
                    <a:pt x="0" y="504"/>
                  </a:moveTo>
                  <a:cubicBezTo>
                    <a:pt x="100" y="252"/>
                    <a:pt x="200" y="0"/>
                    <a:pt x="336" y="72"/>
                  </a:cubicBezTo>
                  <a:cubicBezTo>
                    <a:pt x="472" y="144"/>
                    <a:pt x="664" y="936"/>
                    <a:pt x="816" y="936"/>
                  </a:cubicBezTo>
                  <a:cubicBezTo>
                    <a:pt x="968" y="936"/>
                    <a:pt x="1104" y="72"/>
                    <a:pt x="1248" y="72"/>
                  </a:cubicBezTo>
                  <a:cubicBezTo>
                    <a:pt x="1392" y="72"/>
                    <a:pt x="1536" y="936"/>
                    <a:pt x="1680" y="936"/>
                  </a:cubicBezTo>
                  <a:cubicBezTo>
                    <a:pt x="1824" y="936"/>
                    <a:pt x="1976" y="72"/>
                    <a:pt x="2112" y="72"/>
                  </a:cubicBezTo>
                  <a:cubicBezTo>
                    <a:pt x="2248" y="72"/>
                    <a:pt x="2368" y="936"/>
                    <a:pt x="2496" y="936"/>
                  </a:cubicBezTo>
                  <a:cubicBezTo>
                    <a:pt x="2624" y="936"/>
                    <a:pt x="2752" y="72"/>
                    <a:pt x="2880" y="72"/>
                  </a:cubicBezTo>
                  <a:cubicBezTo>
                    <a:pt x="3008" y="72"/>
                    <a:pt x="3208" y="792"/>
                    <a:pt x="3264" y="9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9144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600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916200" y="2286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 1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919800" y="58672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39640" y="3276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969000" y="26668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ÑAL MOD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K (Amplitude Shift Keying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en hacer variaciones en la amplitud de la señal portadora con el fin de transportar los datos. Ejemplo: radio 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4114800" y="1905120"/>
            <a:ext cx="4114800" cy="1904760"/>
            <a:chOff x="4114800" y="1905120"/>
            <a:chExt cx="4114800" cy="1904760"/>
          </a:xfrm>
        </p:grpSpPr>
        <p:sp>
          <p:nvSpPr>
            <p:cNvPr id="1591" name=""/>
            <p:cNvSpPr/>
            <p:nvPr/>
          </p:nvSpPr>
          <p:spPr>
            <a:xfrm>
              <a:off x="4114800" y="28954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114800" y="1905120"/>
              <a:ext cx="4114800" cy="1904760"/>
            </a:xfrm>
            <a:custGeom>
              <a:avLst/>
              <a:gdLst/>
              <a:ahLst/>
              <a:rect l="l" t="t" r="r" b="b"/>
              <a:pathLst>
                <a:path w="3984" h="1824">
                  <a:moveTo>
                    <a:pt x="0" y="960"/>
                  </a:moveTo>
                  <a:cubicBezTo>
                    <a:pt x="44" y="732"/>
                    <a:pt x="88" y="504"/>
                    <a:pt x="192" y="576"/>
                  </a:cubicBezTo>
                  <a:cubicBezTo>
                    <a:pt x="296" y="648"/>
                    <a:pt x="464" y="1392"/>
                    <a:pt x="624" y="1392"/>
                  </a:cubicBezTo>
                  <a:cubicBezTo>
                    <a:pt x="784" y="1392"/>
                    <a:pt x="992" y="576"/>
                    <a:pt x="1152" y="576"/>
                  </a:cubicBezTo>
                  <a:cubicBezTo>
                    <a:pt x="1312" y="576"/>
                    <a:pt x="1416" y="1464"/>
                    <a:pt x="1584" y="1392"/>
                  </a:cubicBezTo>
                  <a:cubicBezTo>
                    <a:pt x="1752" y="1320"/>
                    <a:pt x="1944" y="72"/>
                    <a:pt x="2160" y="144"/>
                  </a:cubicBezTo>
                  <a:cubicBezTo>
                    <a:pt x="2376" y="216"/>
                    <a:pt x="2648" y="1824"/>
                    <a:pt x="2880" y="1824"/>
                  </a:cubicBezTo>
                  <a:cubicBezTo>
                    <a:pt x="3112" y="1824"/>
                    <a:pt x="3368" y="288"/>
                    <a:pt x="3552" y="144"/>
                  </a:cubicBezTo>
                  <a:cubicBezTo>
                    <a:pt x="3736" y="0"/>
                    <a:pt x="3912" y="824"/>
                    <a:pt x="3984" y="9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114800" y="2514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88240" y="3352680"/>
              <a:ext cx="404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11480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3735720" y="19051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172200" cy="251460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45720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57200" y="2438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08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5720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57200" y="1816200"/>
            <a:ext cx="990720" cy="1244520"/>
          </a:xfrm>
          <a:custGeom>
            <a:avLst/>
            <a:gdLst/>
            <a:ahLst/>
            <a:rect l="l" t="t" r="r" b="b"/>
            <a:pathLst>
              <a:path w="624" h="784">
                <a:moveTo>
                  <a:pt x="0" y="392"/>
                </a:moveTo>
                <a:cubicBezTo>
                  <a:pt x="64" y="196"/>
                  <a:pt x="128" y="0"/>
                  <a:pt x="192" y="56"/>
                </a:cubicBezTo>
                <a:cubicBezTo>
                  <a:pt x="256" y="112"/>
                  <a:pt x="312" y="672"/>
                  <a:pt x="384" y="728"/>
                </a:cubicBezTo>
                <a:cubicBezTo>
                  <a:pt x="456" y="784"/>
                  <a:pt x="584" y="448"/>
                  <a:pt x="624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0880" y="2971800"/>
            <a:ext cx="1447920" cy="2057400"/>
          </a:xfrm>
          <a:custGeom>
            <a:avLst/>
            <a:gdLst/>
            <a:ahLst/>
            <a:rect l="l" t="t" r="r" b="b"/>
            <a:pathLst>
              <a:path w="864" h="1400">
                <a:moveTo>
                  <a:pt x="0" y="760"/>
                </a:moveTo>
                <a:cubicBezTo>
                  <a:pt x="44" y="380"/>
                  <a:pt x="88" y="0"/>
                  <a:pt x="192" y="88"/>
                </a:cubicBezTo>
                <a:cubicBezTo>
                  <a:pt x="296" y="176"/>
                  <a:pt x="512" y="1176"/>
                  <a:pt x="624" y="1288"/>
                </a:cubicBezTo>
                <a:cubicBezTo>
                  <a:pt x="736" y="1400"/>
                  <a:pt x="824" y="848"/>
                  <a:pt x="864" y="7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0292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0199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662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814760" y="33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33920" y="164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46748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SK (Frequency Shift Keying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través de variaciones en la frecuencia de la onda portadora se transportan los datos. Ejemplo: radio F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"/>
          <p:cNvSpPr/>
          <p:nvPr/>
        </p:nvSpPr>
        <p:spPr>
          <a:xfrm>
            <a:off x="1676520" y="34290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676520" y="2895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76520" y="40384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676520" y="2793960"/>
            <a:ext cx="2286000" cy="1333440"/>
          </a:xfrm>
          <a:custGeom>
            <a:avLst/>
            <a:gdLst/>
            <a:ahLst/>
            <a:rect l="l" t="t" r="r" b="b"/>
            <a:pathLst>
              <a:path w="1296" h="840">
                <a:moveTo>
                  <a:pt x="0" y="400"/>
                </a:moveTo>
                <a:cubicBezTo>
                  <a:pt x="52" y="200"/>
                  <a:pt x="104" y="0"/>
                  <a:pt x="192" y="64"/>
                </a:cubicBezTo>
                <a:cubicBezTo>
                  <a:pt x="280" y="128"/>
                  <a:pt x="424" y="784"/>
                  <a:pt x="528" y="784"/>
                </a:cubicBezTo>
                <a:cubicBezTo>
                  <a:pt x="632" y="784"/>
                  <a:pt x="728" y="64"/>
                  <a:pt x="816" y="64"/>
                </a:cubicBezTo>
                <a:cubicBezTo>
                  <a:pt x="904" y="64"/>
                  <a:pt x="976" y="728"/>
                  <a:pt x="1056" y="784"/>
                </a:cubicBezTo>
                <a:cubicBezTo>
                  <a:pt x="1136" y="840"/>
                  <a:pt x="1256" y="464"/>
                  <a:pt x="1296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962520" y="2743200"/>
            <a:ext cx="1371600" cy="1333440"/>
          </a:xfrm>
          <a:custGeom>
            <a:avLst/>
            <a:gdLst/>
            <a:ahLst/>
            <a:rect l="l" t="t" r="r" b="b"/>
            <a:pathLst>
              <a:path w="1296" h="840">
                <a:moveTo>
                  <a:pt x="0" y="400"/>
                </a:moveTo>
                <a:cubicBezTo>
                  <a:pt x="52" y="200"/>
                  <a:pt x="104" y="0"/>
                  <a:pt x="192" y="64"/>
                </a:cubicBezTo>
                <a:cubicBezTo>
                  <a:pt x="280" y="128"/>
                  <a:pt x="424" y="784"/>
                  <a:pt x="528" y="784"/>
                </a:cubicBezTo>
                <a:cubicBezTo>
                  <a:pt x="632" y="784"/>
                  <a:pt x="728" y="64"/>
                  <a:pt x="816" y="64"/>
                </a:cubicBezTo>
                <a:cubicBezTo>
                  <a:pt x="904" y="64"/>
                  <a:pt x="976" y="728"/>
                  <a:pt x="1056" y="784"/>
                </a:cubicBezTo>
                <a:cubicBezTo>
                  <a:pt x="1136" y="840"/>
                  <a:pt x="1256" y="464"/>
                  <a:pt x="1296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895480" y="2438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676520" y="2438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962520" y="2438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4120" y="2514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059200" y="182880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SK (Phase Shift Keying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 datos se transportan mediante cambios en la f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"/>
          <p:cNvSpPr/>
          <p:nvPr/>
        </p:nvSpPr>
        <p:spPr>
          <a:xfrm>
            <a:off x="1828800" y="2666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75248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828800" y="4267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828800" y="2527200"/>
            <a:ext cx="1676520" cy="1866960"/>
          </a:xfrm>
          <a:custGeom>
            <a:avLst/>
            <a:gdLst/>
            <a:ahLst/>
            <a:rect l="l" t="t" r="r" b="b"/>
            <a:pathLst>
              <a:path w="1056" h="1176">
                <a:moveTo>
                  <a:pt x="0" y="568"/>
                </a:moveTo>
                <a:cubicBezTo>
                  <a:pt x="112" y="284"/>
                  <a:pt x="224" y="0"/>
                  <a:pt x="336" y="88"/>
                </a:cubicBezTo>
                <a:cubicBezTo>
                  <a:pt x="448" y="176"/>
                  <a:pt x="552" y="1016"/>
                  <a:pt x="672" y="1096"/>
                </a:cubicBezTo>
                <a:cubicBezTo>
                  <a:pt x="792" y="1176"/>
                  <a:pt x="992" y="656"/>
                  <a:pt x="1056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505320" y="2666880"/>
            <a:ext cx="2438280" cy="1727280"/>
          </a:xfrm>
          <a:custGeom>
            <a:avLst/>
            <a:gdLst/>
            <a:ahLst/>
            <a:rect l="l" t="t" r="r" b="b"/>
            <a:pathLst>
              <a:path w="1536" h="1088">
                <a:moveTo>
                  <a:pt x="0" y="480"/>
                </a:moveTo>
                <a:cubicBezTo>
                  <a:pt x="84" y="784"/>
                  <a:pt x="168" y="1088"/>
                  <a:pt x="288" y="1008"/>
                </a:cubicBezTo>
                <a:cubicBezTo>
                  <a:pt x="408" y="928"/>
                  <a:pt x="568" y="0"/>
                  <a:pt x="720" y="0"/>
                </a:cubicBezTo>
                <a:cubicBezTo>
                  <a:pt x="872" y="0"/>
                  <a:pt x="1064" y="928"/>
                  <a:pt x="1200" y="1008"/>
                </a:cubicBezTo>
                <a:cubicBezTo>
                  <a:pt x="1336" y="1088"/>
                  <a:pt x="1480" y="568"/>
                  <a:pt x="153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828800" y="2209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50532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4360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745000" y="17524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943600" y="2666880"/>
            <a:ext cx="2438280" cy="1727280"/>
          </a:xfrm>
          <a:custGeom>
            <a:avLst/>
            <a:gdLst/>
            <a:ahLst/>
            <a:rect l="l" t="t" r="r" b="b"/>
            <a:pathLst>
              <a:path w="1536" h="1088">
                <a:moveTo>
                  <a:pt x="0" y="480"/>
                </a:moveTo>
                <a:cubicBezTo>
                  <a:pt x="84" y="784"/>
                  <a:pt x="168" y="1088"/>
                  <a:pt x="288" y="1008"/>
                </a:cubicBezTo>
                <a:cubicBezTo>
                  <a:pt x="408" y="928"/>
                  <a:pt x="568" y="0"/>
                  <a:pt x="720" y="0"/>
                </a:cubicBezTo>
                <a:cubicBezTo>
                  <a:pt x="872" y="0"/>
                  <a:pt x="1064" y="928"/>
                  <a:pt x="1200" y="1008"/>
                </a:cubicBezTo>
                <a:cubicBezTo>
                  <a:pt x="1336" y="1088"/>
                  <a:pt x="1480" y="568"/>
                  <a:pt x="153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hacer mezclas de los esquemas arriba descritos como en el caso de QAM (Quadrature Amplitude Modulation) donde se mezcla ASK y P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"/>
          <p:cNvSpPr/>
          <p:nvPr/>
        </p:nvSpPr>
        <p:spPr>
          <a:xfrm>
            <a:off x="4191120" y="21337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362320" y="3581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2819520" y="2437920"/>
            <a:ext cx="274320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895480" y="2590920"/>
            <a:ext cx="2590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048120"/>
            <a:ext cx="15264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952880" y="3276720"/>
            <a:ext cx="15264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343400" y="289548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029200" y="274320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429000" y="403848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876920" y="411480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2819520"/>
            <a:ext cx="15228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886200" y="289548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581280" y="3124080"/>
            <a:ext cx="15264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352680" y="3352680"/>
            <a:ext cx="15264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76720" y="3733920"/>
            <a:ext cx="15228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809880" y="4267080"/>
            <a:ext cx="15264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419720" y="4267080"/>
            <a:ext cx="15228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952880" y="3733920"/>
            <a:ext cx="15264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181480" y="4343400"/>
            <a:ext cx="15264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124080" y="4343400"/>
            <a:ext cx="152640" cy="76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755720" y="541008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elación para QAM a 9.600 bps. V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M (Pulse Amplitude Mod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 una portadora dig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eñal se muestrea a 8.000 veces por segun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considera un esquema Análo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mente utilizado solo como una de las etapas de PC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1447920" y="4191120"/>
            <a:ext cx="5790960" cy="457200"/>
            <a:chOff x="1447920" y="4191120"/>
            <a:chExt cx="5790960" cy="457200"/>
          </a:xfrm>
        </p:grpSpPr>
        <p:sp>
          <p:nvSpPr>
            <p:cNvPr id="1660" name=""/>
            <p:cNvSpPr/>
            <p:nvPr/>
          </p:nvSpPr>
          <p:spPr>
            <a:xfrm>
              <a:off x="1447920" y="464832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1" name=""/>
            <p:cNvGrpSpPr/>
            <p:nvPr/>
          </p:nvGrpSpPr>
          <p:grpSpPr>
            <a:xfrm>
              <a:off x="1828800" y="4191120"/>
              <a:ext cx="151920" cy="457200"/>
              <a:chOff x="1828800" y="4191120"/>
              <a:chExt cx="151920" cy="457200"/>
            </a:xfrm>
          </p:grpSpPr>
          <p:sp>
            <p:nvSpPr>
              <p:cNvPr id="1662" name=""/>
              <p:cNvSpPr/>
              <p:nvPr/>
            </p:nvSpPr>
            <p:spPr>
              <a:xfrm flipV="1">
                <a:off x="182880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828800" y="41911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98072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2361960" y="4191120"/>
              <a:ext cx="152280" cy="457200"/>
              <a:chOff x="2361960" y="4191120"/>
              <a:chExt cx="152280" cy="457200"/>
            </a:xfrm>
          </p:grpSpPr>
          <p:sp>
            <p:nvSpPr>
              <p:cNvPr id="1666" name=""/>
              <p:cNvSpPr/>
              <p:nvPr/>
            </p:nvSpPr>
            <p:spPr>
              <a:xfrm flipV="1">
                <a:off x="236196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361960" y="4191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51424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2819160" y="4191120"/>
              <a:ext cx="152280" cy="457200"/>
              <a:chOff x="2819160" y="4191120"/>
              <a:chExt cx="152280" cy="457200"/>
            </a:xfrm>
          </p:grpSpPr>
          <p:sp>
            <p:nvSpPr>
              <p:cNvPr id="1670" name=""/>
              <p:cNvSpPr/>
              <p:nvPr/>
            </p:nvSpPr>
            <p:spPr>
              <a:xfrm flipV="1">
                <a:off x="281916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19160" y="4191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7144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3276360" y="4191120"/>
              <a:ext cx="152280" cy="457200"/>
              <a:chOff x="3276360" y="4191120"/>
              <a:chExt cx="152280" cy="457200"/>
            </a:xfrm>
          </p:grpSpPr>
          <p:sp>
            <p:nvSpPr>
              <p:cNvPr id="1674" name=""/>
              <p:cNvSpPr/>
              <p:nvPr/>
            </p:nvSpPr>
            <p:spPr>
              <a:xfrm flipV="1">
                <a:off x="327636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276360" y="4191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42864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3733560" y="4191120"/>
              <a:ext cx="152280" cy="457200"/>
              <a:chOff x="3733560" y="4191120"/>
              <a:chExt cx="152280" cy="457200"/>
            </a:xfrm>
          </p:grpSpPr>
          <p:sp>
            <p:nvSpPr>
              <p:cNvPr id="1678" name=""/>
              <p:cNvSpPr/>
              <p:nvPr/>
            </p:nvSpPr>
            <p:spPr>
              <a:xfrm flipV="1">
                <a:off x="373356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733560" y="4191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88584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4190760" y="4191120"/>
              <a:ext cx="152280" cy="457200"/>
              <a:chOff x="4190760" y="4191120"/>
              <a:chExt cx="152280" cy="457200"/>
            </a:xfrm>
          </p:grpSpPr>
          <p:sp>
            <p:nvSpPr>
              <p:cNvPr id="1682" name=""/>
              <p:cNvSpPr/>
              <p:nvPr/>
            </p:nvSpPr>
            <p:spPr>
              <a:xfrm flipV="1">
                <a:off x="419076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190760" y="4191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34304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4724280" y="4191120"/>
              <a:ext cx="151920" cy="457200"/>
              <a:chOff x="4724280" y="4191120"/>
              <a:chExt cx="151920" cy="457200"/>
            </a:xfrm>
          </p:grpSpPr>
          <p:sp>
            <p:nvSpPr>
              <p:cNvPr id="1686" name=""/>
              <p:cNvSpPr/>
              <p:nvPr/>
            </p:nvSpPr>
            <p:spPr>
              <a:xfrm flipV="1">
                <a:off x="472428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724280" y="41911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87620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5181480" y="4191120"/>
              <a:ext cx="151920" cy="457200"/>
              <a:chOff x="5181480" y="4191120"/>
              <a:chExt cx="151920" cy="457200"/>
            </a:xfrm>
          </p:grpSpPr>
          <p:sp>
            <p:nvSpPr>
              <p:cNvPr id="1690" name=""/>
              <p:cNvSpPr/>
              <p:nvPr/>
            </p:nvSpPr>
            <p:spPr>
              <a:xfrm flipV="1">
                <a:off x="518148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81480" y="41911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33340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5638680" y="4191120"/>
              <a:ext cx="151920" cy="457200"/>
              <a:chOff x="5638680" y="4191120"/>
              <a:chExt cx="151920" cy="457200"/>
            </a:xfrm>
          </p:grpSpPr>
          <p:sp>
            <p:nvSpPr>
              <p:cNvPr id="1694" name=""/>
              <p:cNvSpPr/>
              <p:nvPr/>
            </p:nvSpPr>
            <p:spPr>
              <a:xfrm flipV="1">
                <a:off x="563868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38680" y="41911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9060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6095880" y="4191120"/>
              <a:ext cx="151920" cy="457200"/>
              <a:chOff x="6095880" y="4191120"/>
              <a:chExt cx="151920" cy="457200"/>
            </a:xfrm>
          </p:grpSpPr>
          <p:sp>
            <p:nvSpPr>
              <p:cNvPr id="1698" name=""/>
              <p:cNvSpPr/>
              <p:nvPr/>
            </p:nvSpPr>
            <p:spPr>
              <a:xfrm flipV="1">
                <a:off x="609588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095880" y="41911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247800" y="4191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1" name=""/>
          <p:cNvSpPr/>
          <p:nvPr/>
        </p:nvSpPr>
        <p:spPr>
          <a:xfrm>
            <a:off x="1447920" y="61722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1828800" y="5943240"/>
            <a:ext cx="152280" cy="228960"/>
            <a:chOff x="1828800" y="5943240"/>
            <a:chExt cx="152280" cy="228960"/>
          </a:xfrm>
        </p:grpSpPr>
        <p:sp>
          <p:nvSpPr>
            <p:cNvPr id="1703" name=""/>
            <p:cNvSpPr/>
            <p:nvPr/>
          </p:nvSpPr>
          <p:spPr>
            <a:xfrm flipV="1">
              <a:off x="1828800" y="594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828800" y="5943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98108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362320" y="5410080"/>
            <a:ext cx="152280" cy="761760"/>
            <a:chOff x="2362320" y="5410080"/>
            <a:chExt cx="152280" cy="761760"/>
          </a:xfrm>
        </p:grpSpPr>
        <p:sp>
          <p:nvSpPr>
            <p:cNvPr id="1707" name=""/>
            <p:cNvSpPr/>
            <p:nvPr/>
          </p:nvSpPr>
          <p:spPr>
            <a:xfrm flipV="1">
              <a:off x="2362320" y="5410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623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14600" y="5410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2819520" y="5105160"/>
            <a:ext cx="152280" cy="1066320"/>
            <a:chOff x="2819520" y="5105160"/>
            <a:chExt cx="152280" cy="1066320"/>
          </a:xfrm>
        </p:grpSpPr>
        <p:sp>
          <p:nvSpPr>
            <p:cNvPr id="1711" name=""/>
            <p:cNvSpPr/>
            <p:nvPr/>
          </p:nvSpPr>
          <p:spPr>
            <a:xfrm flipV="1">
              <a:off x="2819520" y="5105160"/>
              <a:ext cx="0" cy="106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819520" y="5105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71800" y="5105520"/>
              <a:ext cx="0" cy="106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3276720" y="5257440"/>
            <a:ext cx="152280" cy="914400"/>
            <a:chOff x="3276720" y="5257440"/>
            <a:chExt cx="152280" cy="914400"/>
          </a:xfrm>
        </p:grpSpPr>
        <p:sp>
          <p:nvSpPr>
            <p:cNvPr id="1715" name=""/>
            <p:cNvSpPr/>
            <p:nvPr/>
          </p:nvSpPr>
          <p:spPr>
            <a:xfrm flipV="1">
              <a:off x="3276720" y="52574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276720" y="5257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429000" y="52578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733920" y="5486400"/>
            <a:ext cx="152280" cy="685440"/>
            <a:chOff x="3733920" y="5486400"/>
            <a:chExt cx="152280" cy="685440"/>
          </a:xfrm>
        </p:grpSpPr>
        <p:sp>
          <p:nvSpPr>
            <p:cNvPr id="1719" name=""/>
            <p:cNvSpPr/>
            <p:nvPr/>
          </p:nvSpPr>
          <p:spPr>
            <a:xfrm flipV="1">
              <a:off x="3733920" y="54864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3392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86200" y="54864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91120" y="5715000"/>
            <a:ext cx="152280" cy="457200"/>
            <a:chOff x="4191120" y="5715000"/>
            <a:chExt cx="152280" cy="457200"/>
          </a:xfrm>
        </p:grpSpPr>
        <p:sp>
          <p:nvSpPr>
            <p:cNvPr id="1723" name=""/>
            <p:cNvSpPr/>
            <p:nvPr/>
          </p:nvSpPr>
          <p:spPr>
            <a:xfrm flipV="1">
              <a:off x="4191120" y="57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191120" y="5715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43400" y="57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4724280" y="5866920"/>
            <a:ext cx="152280" cy="305280"/>
            <a:chOff x="4724280" y="5866920"/>
            <a:chExt cx="152280" cy="305280"/>
          </a:xfrm>
        </p:grpSpPr>
        <p:sp>
          <p:nvSpPr>
            <p:cNvPr id="1727" name=""/>
            <p:cNvSpPr/>
            <p:nvPr/>
          </p:nvSpPr>
          <p:spPr>
            <a:xfrm flipV="1">
              <a:off x="4724280" y="58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724280" y="5867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76560" y="5867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5181480" y="6019560"/>
            <a:ext cx="152280" cy="152640"/>
            <a:chOff x="5181480" y="6019560"/>
            <a:chExt cx="152280" cy="152640"/>
          </a:xfrm>
        </p:grpSpPr>
        <p:sp>
          <p:nvSpPr>
            <p:cNvPr id="1731" name=""/>
            <p:cNvSpPr/>
            <p:nvPr/>
          </p:nvSpPr>
          <p:spPr>
            <a:xfrm flipV="1">
              <a:off x="5181480" y="601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81480" y="6019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33376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5638680" y="5943240"/>
            <a:ext cx="152280" cy="228960"/>
            <a:chOff x="5638680" y="5943240"/>
            <a:chExt cx="152280" cy="228960"/>
          </a:xfrm>
        </p:grpSpPr>
        <p:sp>
          <p:nvSpPr>
            <p:cNvPr id="1735" name=""/>
            <p:cNvSpPr/>
            <p:nvPr/>
          </p:nvSpPr>
          <p:spPr>
            <a:xfrm flipV="1">
              <a:off x="5638680" y="594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638680" y="5943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79096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95880" y="5715000"/>
            <a:ext cx="152280" cy="457200"/>
            <a:chOff x="6095880" y="5715000"/>
            <a:chExt cx="152280" cy="457200"/>
          </a:xfrm>
        </p:grpSpPr>
        <p:sp>
          <p:nvSpPr>
            <p:cNvPr id="1739" name=""/>
            <p:cNvSpPr/>
            <p:nvPr/>
          </p:nvSpPr>
          <p:spPr>
            <a:xfrm flipV="1">
              <a:off x="6095880" y="57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95880" y="5715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248160" y="57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1371600" y="3505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447920" y="2743200"/>
            <a:ext cx="5029200" cy="1422360"/>
          </a:xfrm>
          <a:custGeom>
            <a:avLst/>
            <a:gdLst/>
            <a:ahLst/>
            <a:rect l="l" t="t" r="r" b="b"/>
            <a:pathLst>
              <a:path w="3168" h="896">
                <a:moveTo>
                  <a:pt x="0" y="488"/>
                </a:moveTo>
                <a:cubicBezTo>
                  <a:pt x="384" y="244"/>
                  <a:pt x="768" y="0"/>
                  <a:pt x="1152" y="56"/>
                </a:cubicBezTo>
                <a:cubicBezTo>
                  <a:pt x="1536" y="112"/>
                  <a:pt x="1968" y="752"/>
                  <a:pt x="2304" y="824"/>
                </a:cubicBezTo>
                <a:cubicBezTo>
                  <a:pt x="2640" y="896"/>
                  <a:pt x="3024" y="544"/>
                  <a:pt x="3168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880" y="2590920"/>
            <a:ext cx="1295640" cy="1066320"/>
            <a:chOff x="380880" y="2590920"/>
            <a:chExt cx="1295640" cy="1066320"/>
          </a:xfrm>
        </p:grpSpPr>
        <p:grpSp>
          <p:nvGrpSpPr>
            <p:cNvPr id="333" name=""/>
            <p:cNvGrpSpPr/>
            <p:nvPr/>
          </p:nvGrpSpPr>
          <p:grpSpPr>
            <a:xfrm>
              <a:off x="509760" y="2759040"/>
              <a:ext cx="263520" cy="113760"/>
              <a:chOff x="509760" y="2759040"/>
              <a:chExt cx="263520" cy="1137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509760" y="2759040"/>
                <a:ext cx="263520" cy="113760"/>
                <a:chOff x="509760" y="2759040"/>
                <a:chExt cx="263520" cy="113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09760" y="2759040"/>
                  <a:ext cx="263520" cy="11376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8920" y="2759040"/>
                  <a:ext cx="54360" cy="11340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535680" y="2760480"/>
                  <a:ext cx="153720" cy="110160"/>
                  <a:chOff x="535680" y="2760480"/>
                  <a:chExt cx="153720" cy="1101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flipH="1">
                    <a:off x="535680" y="2760480"/>
                    <a:ext cx="288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75280" y="276048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13080" y="276048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649800" y="2760840"/>
                    <a:ext cx="2880" cy="10980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89040" y="2760480"/>
                    <a:ext cx="36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3" name=""/>
              <p:cNvSpPr/>
              <p:nvPr/>
            </p:nvSpPr>
            <p:spPr>
              <a:xfrm>
                <a:off x="542160" y="2768400"/>
                <a:ext cx="218160" cy="10440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8640" y="2770920"/>
                <a:ext cx="20700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8920" y="276804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8920" y="280512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920" y="2823480"/>
                <a:ext cx="22608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8920" y="284220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8920" y="2860200"/>
                <a:ext cx="2264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9280" y="2786400"/>
                <a:ext cx="225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5720" y="2772360"/>
                <a:ext cx="360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8200" y="2772360"/>
                <a:ext cx="288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0680" y="2772720"/>
                <a:ext cx="288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3160" y="2772720"/>
                <a:ext cx="324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55" name=""/>
            <p:cNvGraphicFramePr/>
            <p:nvPr/>
          </p:nvGraphicFramePr>
          <p:xfrm>
            <a:off x="1506960" y="2873160"/>
            <a:ext cx="155880" cy="19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6960" y="2873160"/>
                      <a:ext cx="155880" cy="19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7" name=""/>
            <p:cNvGraphicFramePr/>
            <p:nvPr/>
          </p:nvGraphicFramePr>
          <p:xfrm>
            <a:off x="1205280" y="2656080"/>
            <a:ext cx="77400" cy="1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05280" y="2656080"/>
                      <a:ext cx="7740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"/>
            <p:cNvGraphicFramePr/>
            <p:nvPr/>
          </p:nvGraphicFramePr>
          <p:xfrm>
            <a:off x="1475280" y="2590920"/>
            <a:ext cx="201240" cy="24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5280" y="2590920"/>
                      <a:ext cx="20124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61" name=""/>
            <p:cNvGrpSpPr/>
            <p:nvPr/>
          </p:nvGrpSpPr>
          <p:grpSpPr>
            <a:xfrm>
              <a:off x="509760" y="2607120"/>
              <a:ext cx="263520" cy="114120"/>
              <a:chOff x="509760" y="2607120"/>
              <a:chExt cx="263520" cy="11412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509760" y="2607120"/>
                <a:ext cx="263520" cy="114120"/>
                <a:chOff x="509760" y="2607120"/>
                <a:chExt cx="263520" cy="114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09760" y="2607120"/>
                  <a:ext cx="263520" cy="11412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18920" y="2607120"/>
                  <a:ext cx="54360" cy="11376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535680" y="2608920"/>
                  <a:ext cx="153720" cy="110520"/>
                  <a:chOff x="535680" y="2608920"/>
                  <a:chExt cx="153720" cy="11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>
                    <a:off x="535680" y="2608920"/>
                    <a:ext cx="288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75280" y="260892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13080" y="260892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649800" y="2609280"/>
                    <a:ext cx="288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89040" y="2608920"/>
                    <a:ext cx="36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1" name=""/>
              <p:cNvSpPr/>
              <p:nvPr/>
            </p:nvSpPr>
            <p:spPr>
              <a:xfrm>
                <a:off x="542160" y="2616480"/>
                <a:ext cx="218160" cy="10476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48640" y="2619360"/>
                <a:ext cx="20700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38920" y="261612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8920" y="265320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8920" y="2671920"/>
                <a:ext cx="22608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38920" y="269028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8920" y="2708640"/>
                <a:ext cx="2264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9280" y="2634480"/>
                <a:ext cx="225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720" y="2620440"/>
                <a:ext cx="360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8200" y="2620440"/>
                <a:ext cx="288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0680" y="2621160"/>
                <a:ext cx="288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3160" y="2621160"/>
                <a:ext cx="324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77600" y="2614320"/>
              <a:ext cx="12960" cy="90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600" y="2614320"/>
              <a:ext cx="12960" cy="99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07600" y="3523320"/>
              <a:ext cx="2829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80880" y="3458520"/>
              <a:ext cx="537120" cy="198720"/>
              <a:chOff x="380880" y="3458520"/>
              <a:chExt cx="537120" cy="1987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380880" y="3458520"/>
                <a:ext cx="537120" cy="187200"/>
                <a:chOff x="380880" y="3458520"/>
                <a:chExt cx="537120" cy="187200"/>
              </a:xfrm>
            </p:grpSpPr>
            <p:sp>
              <p:nvSpPr>
                <p:cNvPr id="388" name=""/>
                <p:cNvSpPr/>
                <p:nvPr/>
              </p:nvSpPr>
              <p:spPr>
                <a:xfrm flipV="1">
                  <a:off x="380880" y="3458520"/>
                  <a:ext cx="33084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571320" y="3550680"/>
                  <a:ext cx="33084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80880" y="3554280"/>
                  <a:ext cx="20376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4240" y="3462120"/>
                  <a:ext cx="20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80880" y="3470040"/>
                <a:ext cx="537120" cy="187200"/>
                <a:chOff x="380880" y="3470040"/>
                <a:chExt cx="537120" cy="187200"/>
              </a:xfrm>
            </p:grpSpPr>
            <p:sp>
              <p:nvSpPr>
                <p:cNvPr id="393" name=""/>
                <p:cNvSpPr/>
                <p:nvPr/>
              </p:nvSpPr>
              <p:spPr>
                <a:xfrm flipV="1">
                  <a:off x="380880" y="3470040"/>
                  <a:ext cx="33084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571320" y="3561480"/>
                  <a:ext cx="33084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80880" y="3565080"/>
                  <a:ext cx="20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4240" y="3473280"/>
                  <a:ext cx="20376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507600" y="2612520"/>
              <a:ext cx="28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8" name=""/>
            <p:cNvGraphicFramePr/>
            <p:nvPr/>
          </p:nvGraphicFramePr>
          <p:xfrm>
            <a:off x="458640" y="2960280"/>
            <a:ext cx="333360" cy="36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8640" y="2960280"/>
                      <a:ext cx="33336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00" name=""/>
            <p:cNvGrpSpPr/>
            <p:nvPr/>
          </p:nvGrpSpPr>
          <p:grpSpPr>
            <a:xfrm>
              <a:off x="492120" y="2810160"/>
              <a:ext cx="125280" cy="258480"/>
              <a:chOff x="492120" y="2810160"/>
              <a:chExt cx="125280" cy="258480"/>
            </a:xfrm>
          </p:grpSpPr>
          <p:sp>
            <p:nvSpPr>
              <p:cNvPr id="401" name=""/>
              <p:cNvSpPr/>
              <p:nvPr/>
            </p:nvSpPr>
            <p:spPr>
              <a:xfrm>
                <a:off x="492120" y="2810160"/>
                <a:ext cx="12384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0800000">
                <a:off x="524880" y="2811960"/>
                <a:ext cx="9252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23800" y="2658240"/>
              <a:ext cx="93240" cy="128520"/>
              <a:chOff x="523800" y="2658240"/>
              <a:chExt cx="93240" cy="128520"/>
            </a:xfrm>
          </p:grpSpPr>
          <p:sp>
            <p:nvSpPr>
              <p:cNvPr id="404" name=""/>
              <p:cNvSpPr/>
              <p:nvPr/>
            </p:nvSpPr>
            <p:spPr>
              <a:xfrm>
                <a:off x="523800" y="2658240"/>
                <a:ext cx="9252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0800000">
                <a:off x="549000" y="2660400"/>
                <a:ext cx="68040" cy="1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694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flipV="1">
              <a:off x="1284480" y="2677680"/>
              <a:ext cx="20628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84480" y="2764440"/>
              <a:ext cx="22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2360" y="267768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2360" y="269928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0880" y="4572000"/>
            <a:ext cx="1447920" cy="1066320"/>
            <a:chOff x="380880" y="4572000"/>
            <a:chExt cx="1447920" cy="1066320"/>
          </a:xfrm>
        </p:grpSpPr>
        <p:grpSp>
          <p:nvGrpSpPr>
            <p:cNvPr id="411" name=""/>
            <p:cNvGrpSpPr/>
            <p:nvPr/>
          </p:nvGrpSpPr>
          <p:grpSpPr>
            <a:xfrm>
              <a:off x="524880" y="4740120"/>
              <a:ext cx="294480" cy="113760"/>
              <a:chOff x="524880" y="4740120"/>
              <a:chExt cx="294480" cy="1137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24880" y="4740120"/>
                <a:ext cx="294480" cy="113760"/>
                <a:chOff x="524880" y="4740120"/>
                <a:chExt cx="294480" cy="1137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24880" y="4740120"/>
                  <a:ext cx="294480" cy="11376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58520" y="4740120"/>
                  <a:ext cx="60840" cy="11340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553680" y="4741560"/>
                  <a:ext cx="172080" cy="110160"/>
                  <a:chOff x="553680" y="4741560"/>
                  <a:chExt cx="172080" cy="1101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>
                    <a:off x="553680" y="4741560"/>
                    <a:ext cx="324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98320" y="474156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40440" y="474156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681120" y="4741920"/>
                    <a:ext cx="3240" cy="10980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25400" y="4741560"/>
                    <a:ext cx="36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>
                <a:off x="561240" y="4749480"/>
                <a:ext cx="243720" cy="10440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8440" y="4752000"/>
                <a:ext cx="23148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57640" y="474912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7640" y="478620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7640" y="4804560"/>
                <a:ext cx="25236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7640" y="482328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7640" y="4841280"/>
                <a:ext cx="253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000" y="476748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840" y="4753440"/>
                <a:ext cx="396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7000" y="4753440"/>
                <a:ext cx="324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4880" y="4753800"/>
                <a:ext cx="324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2040" y="4753800"/>
                <a:ext cx="360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33" name=""/>
            <p:cNvGraphicFramePr/>
            <p:nvPr/>
          </p:nvGraphicFramePr>
          <p:xfrm>
            <a:off x="1639080" y="4854240"/>
            <a:ext cx="174240" cy="193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39080" y="4854240"/>
                      <a:ext cx="174240" cy="19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5" name=""/>
            <p:cNvGraphicFramePr/>
            <p:nvPr/>
          </p:nvGraphicFramePr>
          <p:xfrm>
            <a:off x="1302120" y="4637160"/>
            <a:ext cx="86760" cy="165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02120" y="4637160"/>
                      <a:ext cx="8676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7" name=""/>
            <p:cNvGraphicFramePr/>
            <p:nvPr/>
          </p:nvGraphicFramePr>
          <p:xfrm>
            <a:off x="1603800" y="4572000"/>
            <a:ext cx="225000" cy="246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03800" y="4572000"/>
                      <a:ext cx="22500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39" name=""/>
            <p:cNvGrpSpPr/>
            <p:nvPr/>
          </p:nvGrpSpPr>
          <p:grpSpPr>
            <a:xfrm>
              <a:off x="524880" y="4588200"/>
              <a:ext cx="294480" cy="114120"/>
              <a:chOff x="524880" y="4588200"/>
              <a:chExt cx="294480" cy="1141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524880" y="4588200"/>
                <a:ext cx="294480" cy="114120"/>
                <a:chOff x="524880" y="4588200"/>
                <a:chExt cx="294480" cy="114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24880" y="4588200"/>
                  <a:ext cx="294480" cy="11412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8520" y="4588200"/>
                  <a:ext cx="60840" cy="11376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553680" y="4590000"/>
                  <a:ext cx="172080" cy="110520"/>
                  <a:chOff x="553680" y="4590000"/>
                  <a:chExt cx="172080" cy="110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>
                    <a:off x="553680" y="4590000"/>
                    <a:ext cx="324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98320" y="459000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40440" y="459000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>
                    <a:off x="681120" y="4590360"/>
                    <a:ext cx="324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25400" y="4590000"/>
                    <a:ext cx="36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561240" y="4597560"/>
                <a:ext cx="243720" cy="10476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8440" y="4600440"/>
                <a:ext cx="23148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7640" y="459720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7640" y="463428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7640" y="4653000"/>
                <a:ext cx="25236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7640" y="467136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7640" y="4689720"/>
                <a:ext cx="253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8000" y="461556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9840" y="4601520"/>
                <a:ext cx="396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7000" y="4601520"/>
                <a:ext cx="324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4880" y="4602240"/>
                <a:ext cx="324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2040" y="4602240"/>
                <a:ext cx="360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824400" y="4595400"/>
              <a:ext cx="14400" cy="90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2720" y="4595400"/>
              <a:ext cx="14760" cy="99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22720" y="5504400"/>
              <a:ext cx="3164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80880" y="5439600"/>
              <a:ext cx="600120" cy="198720"/>
              <a:chOff x="380880" y="5439600"/>
              <a:chExt cx="600120" cy="19872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380880" y="5439600"/>
                <a:ext cx="600120" cy="187200"/>
                <a:chOff x="380880" y="5439600"/>
                <a:chExt cx="600120" cy="187200"/>
              </a:xfrm>
            </p:grpSpPr>
            <p:sp>
              <p:nvSpPr>
                <p:cNvPr id="466" name=""/>
                <p:cNvSpPr/>
                <p:nvPr/>
              </p:nvSpPr>
              <p:spPr>
                <a:xfrm flipV="1">
                  <a:off x="380880" y="5439600"/>
                  <a:ext cx="36972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593640" y="5531760"/>
                  <a:ext cx="36972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0880" y="5535360"/>
                  <a:ext cx="22752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3480" y="5443200"/>
                  <a:ext cx="2275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80880" y="5451120"/>
                <a:ext cx="600120" cy="187200"/>
                <a:chOff x="380880" y="5451120"/>
                <a:chExt cx="600120" cy="187200"/>
              </a:xfrm>
            </p:grpSpPr>
            <p:sp>
              <p:nvSpPr>
                <p:cNvPr id="471" name=""/>
                <p:cNvSpPr/>
                <p:nvPr/>
              </p:nvSpPr>
              <p:spPr>
                <a:xfrm flipV="1">
                  <a:off x="380880" y="5451120"/>
                  <a:ext cx="36972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593640" y="5542560"/>
                  <a:ext cx="36972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80880" y="5546160"/>
                  <a:ext cx="2275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53480" y="5454360"/>
                  <a:ext cx="22752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522720" y="459360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68000" y="4941360"/>
            <a:ext cx="372600" cy="360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8000" y="4941360"/>
                      <a:ext cx="3726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8" name=""/>
            <p:cNvGrpSpPr/>
            <p:nvPr/>
          </p:nvGrpSpPr>
          <p:grpSpPr>
            <a:xfrm>
              <a:off x="505440" y="4791240"/>
              <a:ext cx="140400" cy="258480"/>
              <a:chOff x="505440" y="4791240"/>
              <a:chExt cx="140400" cy="258480"/>
            </a:xfrm>
          </p:grpSpPr>
          <p:sp>
            <p:nvSpPr>
              <p:cNvPr id="479" name=""/>
              <p:cNvSpPr/>
              <p:nvPr/>
            </p:nvSpPr>
            <p:spPr>
              <a:xfrm>
                <a:off x="505440" y="4791240"/>
                <a:ext cx="13824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0800000">
                <a:off x="542520" y="4793040"/>
                <a:ext cx="10332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40720" y="4639320"/>
              <a:ext cx="104760" cy="128520"/>
              <a:chOff x="540720" y="4639320"/>
              <a:chExt cx="104760" cy="128520"/>
            </a:xfrm>
          </p:grpSpPr>
          <p:sp>
            <p:nvSpPr>
              <p:cNvPr id="482" name=""/>
              <p:cNvSpPr/>
              <p:nvPr/>
            </p:nvSpPr>
            <p:spPr>
              <a:xfrm>
                <a:off x="540720" y="4639320"/>
                <a:ext cx="10296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0800000">
                <a:off x="568800" y="4641480"/>
                <a:ext cx="76680" cy="1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694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flipV="1">
              <a:off x="1390680" y="4658760"/>
              <a:ext cx="2304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90680" y="4745520"/>
              <a:ext cx="2484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0600" y="4658760"/>
              <a:ext cx="46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0600" y="4680360"/>
              <a:ext cx="46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H="1">
            <a:off x="228240" y="144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447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282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" y="2743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5640" y="6095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124080"/>
            <a:ext cx="609840" cy="169200"/>
          </a:xfrm>
          <a:custGeom>
            <a:avLst/>
            <a:gdLst>
              <a:gd name="textAreaLeft" fmla="*/ 0 w 609840"/>
              <a:gd name="textAreaRight" fmla="*/ 610200 w 609840"/>
              <a:gd name="textAreaTop" fmla="*/ 0 h 169200"/>
              <a:gd name="textAreaBottom" fmla="*/ 169560 h 16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90920" y="2971800"/>
            <a:ext cx="1041120" cy="504720"/>
            <a:chOff x="2590920" y="2971800"/>
            <a:chExt cx="1041120" cy="504720"/>
          </a:xfrm>
        </p:grpSpPr>
        <p:sp>
          <p:nvSpPr>
            <p:cNvPr id="497" name=""/>
            <p:cNvSpPr/>
            <p:nvPr/>
          </p:nvSpPr>
          <p:spPr>
            <a:xfrm>
              <a:off x="2590920" y="2971800"/>
              <a:ext cx="1041120" cy="50472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87480" y="305424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D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673680" y="2890800"/>
            <a:ext cx="161640" cy="247680"/>
            <a:chOff x="6673680" y="2890800"/>
            <a:chExt cx="161640" cy="247680"/>
          </a:xfrm>
        </p:grpSpPr>
        <p:sp>
          <p:nvSpPr>
            <p:cNvPr id="501" name=""/>
            <p:cNvSpPr/>
            <p:nvPr/>
          </p:nvSpPr>
          <p:spPr>
            <a:xfrm>
              <a:off x="6681240" y="3044880"/>
              <a:ext cx="342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50000" y="305424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28040" y="303552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16"/>
                  </a:lnTo>
                  <a:lnTo>
                    <a:pt x="10" y="13"/>
                  </a:lnTo>
                  <a:lnTo>
                    <a:pt x="16" y="2"/>
                  </a:lnTo>
                  <a:lnTo>
                    <a:pt x="1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81240" y="297180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16" y="5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73680" y="2914560"/>
              <a:ext cx="34200" cy="182880"/>
            </a:xfrm>
            <a:custGeom>
              <a:avLst/>
              <a:gdLst/>
              <a:ahLst/>
              <a:rect l="l" t="t" r="r" b="b"/>
              <a:pathLst>
                <a:path w="17" h="115">
                  <a:moveTo>
                    <a:pt x="16" y="0"/>
                  </a:moveTo>
                  <a:lnTo>
                    <a:pt x="0" y="7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2" y="17"/>
                  </a:lnTo>
                  <a:lnTo>
                    <a:pt x="16" y="11"/>
                  </a:lnTo>
                  <a:lnTo>
                    <a:pt x="16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73680" y="3095640"/>
              <a:ext cx="149400" cy="4284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0" y="2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63" y="9"/>
                  </a:lnTo>
                  <a:lnTo>
                    <a:pt x="63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99600" y="3044880"/>
              <a:ext cx="52560" cy="525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3" y="32"/>
                  </a:moveTo>
                  <a:lnTo>
                    <a:pt x="3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3" y="3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01120" y="311004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6748200" y="2962440"/>
              <a:ext cx="52200" cy="39600"/>
              <a:chOff x="6748200" y="2962440"/>
              <a:chExt cx="52200" cy="39600"/>
            </a:xfrm>
          </p:grpSpPr>
          <p:sp>
            <p:nvSpPr>
              <p:cNvPr id="510" name=""/>
              <p:cNvSpPr/>
              <p:nvPr/>
            </p:nvSpPr>
            <p:spPr>
              <a:xfrm>
                <a:off x="6766200" y="297504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0"/>
                    </a:moveTo>
                    <a:lnTo>
                      <a:pt x="0" y="13"/>
                    </a:lnTo>
                    <a:lnTo>
                      <a:pt x="2" y="16"/>
                    </a:lnTo>
                    <a:lnTo>
                      <a:pt x="16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748200" y="296244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16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05720" y="2890800"/>
              <a:ext cx="57960" cy="203400"/>
              <a:chOff x="6705720" y="2890800"/>
              <a:chExt cx="57960" cy="203400"/>
            </a:xfrm>
          </p:grpSpPr>
          <p:sp>
            <p:nvSpPr>
              <p:cNvPr id="513" name=""/>
              <p:cNvSpPr/>
              <p:nvPr/>
            </p:nvSpPr>
            <p:spPr>
              <a:xfrm>
                <a:off x="6705720" y="2890800"/>
                <a:ext cx="42480" cy="203400"/>
              </a:xfrm>
              <a:custGeom>
                <a:avLst/>
                <a:gdLst/>
                <a:ahLst/>
                <a:rect l="l" t="t" r="r" b="b"/>
                <a:pathLst>
                  <a:path w="21" h="128">
                    <a:moveTo>
                      <a:pt x="13" y="2"/>
                    </a:moveTo>
                    <a:lnTo>
                      <a:pt x="12" y="4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7" y="14"/>
                    </a:lnTo>
                    <a:lnTo>
                      <a:pt x="6" y="19"/>
                    </a:lnTo>
                    <a:lnTo>
                      <a:pt x="3" y="24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2"/>
                    </a:lnTo>
                    <a:lnTo>
                      <a:pt x="2" y="74"/>
                    </a:lnTo>
                    <a:lnTo>
                      <a:pt x="3" y="82"/>
                    </a:lnTo>
                    <a:lnTo>
                      <a:pt x="5" y="93"/>
                    </a:lnTo>
                    <a:lnTo>
                      <a:pt x="7" y="102"/>
                    </a:lnTo>
                    <a:lnTo>
                      <a:pt x="10" y="111"/>
                    </a:lnTo>
                    <a:lnTo>
                      <a:pt x="12" y="116"/>
                    </a:lnTo>
                    <a:lnTo>
                      <a:pt x="14" y="122"/>
                    </a:lnTo>
                    <a:lnTo>
                      <a:pt x="16" y="125"/>
                    </a:lnTo>
                    <a:lnTo>
                      <a:pt x="19" y="126"/>
                    </a:lnTo>
                    <a:lnTo>
                      <a:pt x="20" y="127"/>
                    </a:lnTo>
                    <a:lnTo>
                      <a:pt x="17" y="0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13640" y="2890800"/>
                <a:ext cx="50040" cy="203400"/>
              </a:xfrm>
              <a:custGeom>
                <a:avLst/>
                <a:gdLst/>
                <a:ahLst/>
                <a:rect l="l" t="t" r="r" b="b"/>
                <a:pathLst>
                  <a:path w="25" h="128">
                    <a:moveTo>
                      <a:pt x="12" y="0"/>
                    </a:moveTo>
                    <a:lnTo>
                      <a:pt x="11" y="1"/>
                    </a:lnTo>
                    <a:lnTo>
                      <a:pt x="9" y="5"/>
                    </a:lnTo>
                    <a:lnTo>
                      <a:pt x="8" y="9"/>
                    </a:lnTo>
                    <a:lnTo>
                      <a:pt x="6" y="14"/>
                    </a:lnTo>
                    <a:lnTo>
                      <a:pt x="5" y="18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42"/>
                    </a:lnTo>
                    <a:lnTo>
                      <a:pt x="0" y="53"/>
                    </a:lnTo>
                    <a:lnTo>
                      <a:pt x="1" y="63"/>
                    </a:lnTo>
                    <a:lnTo>
                      <a:pt x="2" y="75"/>
                    </a:lnTo>
                    <a:lnTo>
                      <a:pt x="2" y="84"/>
                    </a:lnTo>
                    <a:lnTo>
                      <a:pt x="4" y="90"/>
                    </a:lnTo>
                    <a:lnTo>
                      <a:pt x="5" y="96"/>
                    </a:lnTo>
                    <a:lnTo>
                      <a:pt x="6" y="103"/>
                    </a:lnTo>
                    <a:lnTo>
                      <a:pt x="8" y="108"/>
                    </a:lnTo>
                    <a:lnTo>
                      <a:pt x="9" y="113"/>
                    </a:lnTo>
                    <a:lnTo>
                      <a:pt x="11" y="117"/>
                    </a:lnTo>
                    <a:lnTo>
                      <a:pt x="13" y="121"/>
                    </a:lnTo>
                    <a:lnTo>
                      <a:pt x="14" y="125"/>
                    </a:lnTo>
                    <a:lnTo>
                      <a:pt x="15" y="127"/>
                    </a:lnTo>
                    <a:lnTo>
                      <a:pt x="16" y="126"/>
                    </a:lnTo>
                    <a:lnTo>
                      <a:pt x="17" y="124"/>
                    </a:lnTo>
                    <a:lnTo>
                      <a:pt x="17" y="122"/>
                    </a:lnTo>
                    <a:lnTo>
                      <a:pt x="19" y="118"/>
                    </a:lnTo>
                    <a:lnTo>
                      <a:pt x="20" y="112"/>
                    </a:lnTo>
                    <a:lnTo>
                      <a:pt x="21" y="106"/>
                    </a:lnTo>
                    <a:lnTo>
                      <a:pt x="22" y="100"/>
                    </a:lnTo>
                    <a:lnTo>
                      <a:pt x="23" y="94"/>
                    </a:lnTo>
                    <a:lnTo>
                      <a:pt x="23" y="87"/>
                    </a:lnTo>
                    <a:lnTo>
                      <a:pt x="23" y="82"/>
                    </a:lnTo>
                    <a:lnTo>
                      <a:pt x="24" y="76"/>
                    </a:lnTo>
                    <a:lnTo>
                      <a:pt x="23" y="70"/>
                    </a:lnTo>
                    <a:lnTo>
                      <a:pt x="23" y="62"/>
                    </a:lnTo>
                    <a:lnTo>
                      <a:pt x="23" y="52"/>
                    </a:lnTo>
                    <a:lnTo>
                      <a:pt x="22" y="46"/>
                    </a:lnTo>
                    <a:lnTo>
                      <a:pt x="21" y="37"/>
                    </a:lnTo>
                    <a:lnTo>
                      <a:pt x="19" y="30"/>
                    </a:lnTo>
                    <a:lnTo>
                      <a:pt x="18" y="22"/>
                    </a:lnTo>
                    <a:lnTo>
                      <a:pt x="17" y="17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697800" y="2948040"/>
              <a:ext cx="98640" cy="109440"/>
              <a:chOff x="6697800" y="2948040"/>
              <a:chExt cx="98640" cy="109440"/>
            </a:xfrm>
          </p:grpSpPr>
          <p:sp>
            <p:nvSpPr>
              <p:cNvPr id="516" name=""/>
              <p:cNvSpPr/>
              <p:nvPr/>
            </p:nvSpPr>
            <p:spPr>
              <a:xfrm>
                <a:off x="6697800" y="2948040"/>
                <a:ext cx="9864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62240" y="2971800"/>
                <a:ext cx="342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14" y="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16" y="0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774480" y="2951280"/>
              <a:ext cx="54000" cy="34920"/>
              <a:chOff x="6774480" y="2951280"/>
              <a:chExt cx="54000" cy="34920"/>
            </a:xfrm>
          </p:grpSpPr>
          <p:sp>
            <p:nvSpPr>
              <p:cNvPr id="519" name=""/>
              <p:cNvSpPr/>
              <p:nvPr/>
            </p:nvSpPr>
            <p:spPr>
              <a:xfrm>
                <a:off x="6774480" y="295272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16" y="10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88520" y="29512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2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3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94280" y="29512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3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a0a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78440" y="295920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6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86720" y="295740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24" name=""/>
          <p:cNvGraphicFramePr/>
          <p:nvPr/>
        </p:nvGraphicFramePr>
        <p:xfrm>
          <a:off x="4470480" y="2217600"/>
          <a:ext cx="720720" cy="87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70480" y="2217600"/>
                    <a:ext cx="7207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6" name=""/>
          <p:cNvGrpSpPr/>
          <p:nvPr/>
        </p:nvGrpSpPr>
        <p:grpSpPr>
          <a:xfrm>
            <a:off x="6095880" y="2125080"/>
            <a:ext cx="686160" cy="1019520"/>
            <a:chOff x="6095880" y="2125080"/>
            <a:chExt cx="686160" cy="1019520"/>
          </a:xfrm>
        </p:grpSpPr>
        <p:grpSp>
          <p:nvGrpSpPr>
            <p:cNvPr id="527" name=""/>
            <p:cNvGrpSpPr/>
            <p:nvPr/>
          </p:nvGrpSpPr>
          <p:grpSpPr>
            <a:xfrm>
              <a:off x="6632280" y="2514600"/>
              <a:ext cx="149760" cy="630000"/>
              <a:chOff x="6632280" y="2514600"/>
              <a:chExt cx="149760" cy="6300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6632280" y="2730240"/>
                <a:ext cx="149400" cy="414360"/>
                <a:chOff x="6632280" y="2730240"/>
                <a:chExt cx="149400" cy="41436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6686640" y="2741760"/>
                  <a:ext cx="95040" cy="399960"/>
                  <a:chOff x="6686640" y="2741760"/>
                  <a:chExt cx="95040" cy="3999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>
                    <a:off x="6710760" y="274176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flipV="1">
                    <a:off x="6710760" y="2744640"/>
                    <a:ext cx="42480" cy="838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>
                    <a:off x="6696360" y="2828880"/>
                    <a:ext cx="56520" cy="1796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flipV="1">
                    <a:off x="6696720" y="3003480"/>
                    <a:ext cx="84960" cy="136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6686640" y="3006720"/>
                    <a:ext cx="82800" cy="1350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flipV="1">
                    <a:off x="6702480" y="2830680"/>
                    <a:ext cx="68040" cy="172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6702840" y="2743200"/>
                    <a:ext cx="40320" cy="921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flipH="1" flipV="1">
                  <a:off x="6652080" y="2979360"/>
                  <a:ext cx="36360" cy="1652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650280" y="2833920"/>
                  <a:ext cx="52560" cy="1476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6690960" y="2733840"/>
                  <a:ext cx="12240" cy="1000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6686640" y="2730240"/>
                  <a:ext cx="20160" cy="126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6674400" y="2743200"/>
                  <a:ext cx="32040" cy="763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680520" y="2819520"/>
                  <a:ext cx="11880" cy="1872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632280" y="3005280"/>
                  <a:ext cx="60480" cy="9036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6637680" y="2534760"/>
                <a:ext cx="144360" cy="605520"/>
                <a:chOff x="6637680" y="2534760"/>
                <a:chExt cx="144360" cy="605520"/>
              </a:xfrm>
            </p:grpSpPr>
            <p:sp>
              <p:nvSpPr>
                <p:cNvPr id="545" name=""/>
                <p:cNvSpPr/>
                <p:nvPr/>
              </p:nvSpPr>
              <p:spPr>
                <a:xfrm flipH="1" flipV="1">
                  <a:off x="6725160" y="2534760"/>
                  <a:ext cx="56880" cy="60012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686640" y="2551320"/>
                  <a:ext cx="36720" cy="58896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>
                  <a:off x="6637680" y="3088800"/>
                  <a:ext cx="48600" cy="4932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6637680" y="2548080"/>
                  <a:ext cx="81000" cy="54612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686280" y="3135240"/>
                  <a:ext cx="95400" cy="180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6707160" y="2514600"/>
                <a:ext cx="32400" cy="63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6095880" y="2125080"/>
              <a:ext cx="659520" cy="913320"/>
              <a:chOff x="6095880" y="2125080"/>
              <a:chExt cx="659520" cy="9133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6095880" y="2125080"/>
                <a:ext cx="428760" cy="913320"/>
                <a:chOff x="6095880" y="2125080"/>
                <a:chExt cx="428760" cy="9133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095880" y="2125080"/>
                  <a:ext cx="353160" cy="9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12" y="21179"/>
                      </a:moveTo>
                      <a:arcTo wR="10800" hR="10800" stAng="6363528" swAng="91616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12" y="21179"/>
                      </a:moveTo>
                      <a:arcTo wR="10800" hR="10800" stAng="6363528" swAng="9161664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68960" y="2183400"/>
                  <a:ext cx="307800" cy="78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56" y="21132"/>
                      </a:moveTo>
                      <a:arcTo wR="10800" hR="10800" stAng="6415502" swAng="91008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56" y="21132"/>
                      </a:moveTo>
                      <a:arcTo wR="10800" hR="10800" stAng="6415502" swAng="9100862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42040" y="2252520"/>
                  <a:ext cx="282600" cy="66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10" y="21149"/>
                      </a:moveTo>
                      <a:arcTo wR="10800" hR="10800" stAng="6397447" swAng="91143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10" y="21149"/>
                      </a:moveTo>
                      <a:arcTo wR="10800" hR="10800" stAng="6397447" swAng="9114335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6307200" y="2297520"/>
                <a:ext cx="362520" cy="603360"/>
                <a:chOff x="6307200" y="2297520"/>
                <a:chExt cx="362520" cy="6033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307200" y="2297520"/>
                  <a:ext cx="295560" cy="603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26" y="21183"/>
                      </a:moveTo>
                      <a:arcTo wR="10800" hR="10800" stAng="6358948" swAng="91287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26" y="21183"/>
                      </a:moveTo>
                      <a:arcTo wR="10800" hR="10800" stAng="6358948" swAng="9128755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369480" y="2334600"/>
                  <a:ext cx="255240" cy="51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87" y="21200"/>
                      </a:moveTo>
                      <a:arcTo wR="10800" hR="10800" stAng="6338817" swAng="91489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87" y="21200"/>
                      </a:moveTo>
                      <a:arcTo wR="10800" hR="10800" stAng="6338817" swAng="9148957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431040" y="2382120"/>
                  <a:ext cx="238680" cy="438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42" y="21187"/>
                      </a:moveTo>
                      <a:arcTo wR="10800" hR="10800" stAng="6353863" swAng="908103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42" y="21187"/>
                      </a:moveTo>
                      <a:arcTo wR="10800" hR="10800" stAng="6353863" swAng="9081038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6483600" y="2422800"/>
                <a:ext cx="214920" cy="37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18" y="21208"/>
                    </a:moveTo>
                    <a:arcTo wR="10800" hR="10800" stAng="6328629" swAng="90965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18" y="21208"/>
                    </a:moveTo>
                    <a:arcTo wR="10800" hR="10800" stAng="6328629" swAng="9096513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45160" y="2445840"/>
                <a:ext cx="185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08" y="21148"/>
                    </a:moveTo>
                    <a:arcTo wR="10800" hR="10800" stAng="6398275" swAng="90473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08" y="21148"/>
                    </a:moveTo>
                    <a:arcTo wR="10800" hR="10800" stAng="6398275" swAng="9047303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597360" y="2489040"/>
                <a:ext cx="158040" cy="25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12" y="21055"/>
                    </a:moveTo>
                    <a:arcTo wR="10800" hR="10800" stAng="6496981" swAng="89087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12" y="21055"/>
                    </a:moveTo>
                    <a:arcTo wR="10800" hR="10800" stAng="6496981" swAng="8908745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42360" y="2526840"/>
                <a:ext cx="93240" cy="18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77" y="21076"/>
                    </a:moveTo>
                    <a:arcTo wR="10800" hR="10800" stAng="6475178" swAng="89828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77" y="21076"/>
                    </a:moveTo>
                    <a:arcTo wR="10800" hR="10800" stAng="6475178" swAng="8982891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4157640" y="2952720"/>
            <a:ext cx="118800" cy="193680"/>
            <a:chOff x="4157640" y="2952720"/>
            <a:chExt cx="118800" cy="193680"/>
          </a:xfrm>
        </p:grpSpPr>
        <p:sp>
          <p:nvSpPr>
            <p:cNvPr id="565" name=""/>
            <p:cNvSpPr/>
            <p:nvPr/>
          </p:nvSpPr>
          <p:spPr>
            <a:xfrm>
              <a:off x="4240440" y="3070440"/>
              <a:ext cx="34200" cy="41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95800" y="307836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2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15960" y="306396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5" y="16"/>
                  </a:lnTo>
                  <a:lnTo>
                    <a:pt x="0" y="4"/>
                  </a:lnTo>
                  <a:lnTo>
                    <a:pt x="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42240" y="301464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1"/>
                  </a:lnTo>
                  <a:lnTo>
                    <a:pt x="16" y="1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40440" y="2971800"/>
              <a:ext cx="34200" cy="139680"/>
            </a:xfrm>
            <a:custGeom>
              <a:avLst/>
              <a:gdLst/>
              <a:ahLst/>
              <a:rect l="l" t="t" r="r" b="b"/>
              <a:pathLst>
                <a:path w="17" h="88">
                  <a:moveTo>
                    <a:pt x="0" y="0"/>
                  </a:moveTo>
                  <a:lnTo>
                    <a:pt x="16" y="5"/>
                  </a:lnTo>
                  <a:lnTo>
                    <a:pt x="16" y="87"/>
                  </a:lnTo>
                  <a:lnTo>
                    <a:pt x="14" y="87"/>
                  </a:lnTo>
                  <a:lnTo>
                    <a:pt x="14" y="13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7640" y="3110040"/>
              <a:ext cx="10116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49" y="19"/>
                  </a:moveTo>
                  <a:lnTo>
                    <a:pt x="49" y="0"/>
                  </a:lnTo>
                  <a:lnTo>
                    <a:pt x="38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8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49" y="1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5880" y="3070440"/>
              <a:ext cx="36000" cy="410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25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25"/>
                  </a:lnTo>
                  <a:lnTo>
                    <a:pt x="15" y="2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67360" y="311940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4183560" y="3008520"/>
              <a:ext cx="40320" cy="36360"/>
              <a:chOff x="4183560" y="3008520"/>
              <a:chExt cx="40320" cy="36360"/>
            </a:xfrm>
          </p:grpSpPr>
          <p:sp>
            <p:nvSpPr>
              <p:cNvPr id="574" name=""/>
              <p:cNvSpPr/>
              <p:nvPr/>
            </p:nvSpPr>
            <p:spPr>
              <a:xfrm>
                <a:off x="4183560" y="30178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16" y="13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89680" y="300852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8"/>
                    </a:lnTo>
                    <a:lnTo>
                      <a:pt x="14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197600" y="2952720"/>
              <a:ext cx="43560" cy="157320"/>
              <a:chOff x="4197600" y="2952720"/>
              <a:chExt cx="43560" cy="157320"/>
            </a:xfrm>
          </p:grpSpPr>
          <p:sp>
            <p:nvSpPr>
              <p:cNvPr id="577" name=""/>
              <p:cNvSpPr/>
              <p:nvPr/>
            </p:nvSpPr>
            <p:spPr>
              <a:xfrm>
                <a:off x="4207320" y="2952720"/>
                <a:ext cx="3384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5" y="2"/>
                    </a:moveTo>
                    <a:lnTo>
                      <a:pt x="6" y="3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10" y="11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4" y="25"/>
                    </a:lnTo>
                    <a:lnTo>
                      <a:pt x="16" y="32"/>
                    </a:lnTo>
                    <a:lnTo>
                      <a:pt x="16" y="39"/>
                    </a:lnTo>
                    <a:lnTo>
                      <a:pt x="14" y="48"/>
                    </a:lnTo>
                    <a:lnTo>
                      <a:pt x="14" y="57"/>
                    </a:lnTo>
                    <a:lnTo>
                      <a:pt x="13" y="63"/>
                    </a:lnTo>
                    <a:lnTo>
                      <a:pt x="12" y="72"/>
                    </a:lnTo>
                    <a:lnTo>
                      <a:pt x="10" y="79"/>
                    </a:lnTo>
                    <a:lnTo>
                      <a:pt x="8" y="86"/>
                    </a:lnTo>
                    <a:lnTo>
                      <a:pt x="6" y="89"/>
                    </a:lnTo>
                    <a:lnTo>
                      <a:pt x="4" y="94"/>
                    </a:lnTo>
                    <a:lnTo>
                      <a:pt x="3" y="96"/>
                    </a:lnTo>
                    <a:lnTo>
                      <a:pt x="1" y="97"/>
                    </a:lnTo>
                    <a:lnTo>
                      <a:pt x="0" y="98"/>
                    </a:lnTo>
                    <a:lnTo>
                      <a:pt x="2" y="0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197600" y="2952720"/>
                <a:ext cx="3384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7" y="0"/>
                    </a:moveTo>
                    <a:lnTo>
                      <a:pt x="8" y="1"/>
                    </a:lnTo>
                    <a:lnTo>
                      <a:pt x="9" y="4"/>
                    </a:lnTo>
                    <a:lnTo>
                      <a:pt x="10" y="7"/>
                    </a:lnTo>
                    <a:lnTo>
                      <a:pt x="11" y="11"/>
                    </a:lnTo>
                    <a:lnTo>
                      <a:pt x="12" y="14"/>
                    </a:lnTo>
                    <a:lnTo>
                      <a:pt x="13" y="19"/>
                    </a:lnTo>
                    <a:lnTo>
                      <a:pt x="14" y="24"/>
                    </a:lnTo>
                    <a:lnTo>
                      <a:pt x="16" y="32"/>
                    </a:lnTo>
                    <a:lnTo>
                      <a:pt x="16" y="41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13" y="70"/>
                    </a:lnTo>
                    <a:lnTo>
                      <a:pt x="12" y="74"/>
                    </a:lnTo>
                    <a:lnTo>
                      <a:pt x="11" y="79"/>
                    </a:lnTo>
                    <a:lnTo>
                      <a:pt x="10" y="83"/>
                    </a:lnTo>
                    <a:lnTo>
                      <a:pt x="9" y="87"/>
                    </a:lnTo>
                    <a:lnTo>
                      <a:pt x="8" y="90"/>
                    </a:lnTo>
                    <a:lnTo>
                      <a:pt x="7" y="93"/>
                    </a:lnTo>
                    <a:lnTo>
                      <a:pt x="6" y="97"/>
                    </a:lnTo>
                    <a:lnTo>
                      <a:pt x="6" y="98"/>
                    </a:lnTo>
                    <a:lnTo>
                      <a:pt x="5" y="97"/>
                    </a:lnTo>
                    <a:lnTo>
                      <a:pt x="4" y="96"/>
                    </a:lnTo>
                    <a:lnTo>
                      <a:pt x="4" y="94"/>
                    </a:lnTo>
                    <a:lnTo>
                      <a:pt x="3" y="91"/>
                    </a:lnTo>
                    <a:lnTo>
                      <a:pt x="3" y="86"/>
                    </a:lnTo>
                    <a:lnTo>
                      <a:pt x="2" y="82"/>
                    </a:lnTo>
                    <a:lnTo>
                      <a:pt x="1" y="77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2" y="28"/>
                    </a:lnTo>
                    <a:lnTo>
                      <a:pt x="3" y="23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5" y="8"/>
                    </a:lnTo>
                    <a:lnTo>
                      <a:pt x="6" y="5"/>
                    </a:lnTo>
                    <a:lnTo>
                      <a:pt x="6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175640" y="2995560"/>
              <a:ext cx="68040" cy="85680"/>
              <a:chOff x="4175640" y="2995560"/>
              <a:chExt cx="68040" cy="85680"/>
            </a:xfrm>
          </p:grpSpPr>
          <p:sp>
            <p:nvSpPr>
              <p:cNvPr id="580" name=""/>
              <p:cNvSpPr/>
              <p:nvPr/>
            </p:nvSpPr>
            <p:spPr>
              <a:xfrm>
                <a:off x="4177440" y="299556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32" y="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175640" y="3014640"/>
                <a:ext cx="33840" cy="6660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1" y="1"/>
                    </a:moveTo>
                    <a:lnTo>
                      <a:pt x="16" y="40"/>
                    </a:lnTo>
                    <a:lnTo>
                      <a:pt x="14" y="41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163400" y="2997360"/>
              <a:ext cx="50400" cy="34920"/>
              <a:chOff x="4163400" y="2997360"/>
              <a:chExt cx="50400" cy="34920"/>
            </a:xfrm>
          </p:grpSpPr>
          <p:sp>
            <p:nvSpPr>
              <p:cNvPr id="583" name=""/>
              <p:cNvSpPr/>
              <p:nvPr/>
            </p:nvSpPr>
            <p:spPr>
              <a:xfrm>
                <a:off x="4171320" y="300204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16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67360" y="29973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2"/>
                    </a:move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63400" y="299880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a0a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79600" y="30052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75640" y="30034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88" name=""/>
          <p:cNvGraphicFramePr/>
          <p:nvPr/>
        </p:nvGraphicFramePr>
        <p:xfrm>
          <a:off x="3886200" y="2743200"/>
          <a:ext cx="828720" cy="763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2743200"/>
                    <a:ext cx="8287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6629400" y="2819520"/>
            <a:ext cx="835920" cy="760320"/>
            <a:chOff x="6629400" y="2819520"/>
            <a:chExt cx="835920" cy="760320"/>
          </a:xfrm>
        </p:grpSpPr>
        <p:sp>
          <p:nvSpPr>
            <p:cNvPr id="591" name=""/>
            <p:cNvSpPr/>
            <p:nvPr/>
          </p:nvSpPr>
          <p:spPr>
            <a:xfrm>
              <a:off x="7124400" y="3352680"/>
              <a:ext cx="2160" cy="4284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8"/>
                  </a:moveTo>
                  <a:lnTo>
                    <a:pt x="0" y="26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6629400" y="2819520"/>
              <a:ext cx="835920" cy="760320"/>
              <a:chOff x="6629400" y="2819520"/>
              <a:chExt cx="835920" cy="76032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822000" y="2819520"/>
                <a:ext cx="634320" cy="685800"/>
                <a:chOff x="6822000" y="2819520"/>
                <a:chExt cx="634320" cy="6858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822000" y="2962080"/>
                  <a:ext cx="634320" cy="543240"/>
                </a:xfrm>
                <a:custGeom>
                  <a:avLst/>
                  <a:gdLst/>
                  <a:ahLst/>
                  <a:rect l="l" t="t" r="r" b="b"/>
                  <a:pathLst>
                    <a:path w="313" h="342">
                      <a:moveTo>
                        <a:pt x="0" y="0"/>
                      </a:moveTo>
                      <a:lnTo>
                        <a:pt x="0" y="341"/>
                      </a:lnTo>
                      <a:lnTo>
                        <a:pt x="300" y="341"/>
                      </a:lnTo>
                      <a:lnTo>
                        <a:pt x="300" y="278"/>
                      </a:lnTo>
                      <a:lnTo>
                        <a:pt x="306" y="274"/>
                      </a:lnTo>
                      <a:lnTo>
                        <a:pt x="306" y="231"/>
                      </a:lnTo>
                      <a:lnTo>
                        <a:pt x="312" y="2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5" name=""/>
                <p:cNvGrpSpPr/>
                <p:nvPr/>
              </p:nvGrpSpPr>
              <p:grpSpPr>
                <a:xfrm>
                  <a:off x="7369560" y="3398760"/>
                  <a:ext cx="64440" cy="31680"/>
                  <a:chOff x="7369560" y="3398760"/>
                  <a:chExt cx="64440" cy="3168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7369560" y="3398760"/>
                    <a:ext cx="320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375320" y="3400200"/>
                    <a:ext cx="3240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381440" y="3400200"/>
                    <a:ext cx="32400" cy="2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387560" y="3400200"/>
                    <a:ext cx="32040" cy="2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393680" y="3403440"/>
                    <a:ext cx="320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401600" y="3403440"/>
                    <a:ext cx="3240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260120" y="3349440"/>
                  <a:ext cx="90360" cy="68400"/>
                  <a:chOff x="7260120" y="3349440"/>
                  <a:chExt cx="90360" cy="684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7260120" y="3349440"/>
                    <a:ext cx="1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267680" y="3351240"/>
                    <a:ext cx="2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279920" y="3352680"/>
                    <a:ext cx="1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286040" y="3355920"/>
                    <a:ext cx="1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296120" y="3357360"/>
                    <a:ext cx="342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3">
                        <a:moveTo>
                          <a:pt x="16" y="0"/>
                        </a:moveTo>
                        <a:lnTo>
                          <a:pt x="16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306200" y="3360600"/>
                    <a:ext cx="2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316280" y="3363840"/>
                    <a:ext cx="342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4">
                        <a:moveTo>
                          <a:pt x="16" y="0"/>
                        </a:moveTo>
                        <a:lnTo>
                          <a:pt x="16" y="33"/>
                        </a:lnTo>
                        <a:lnTo>
                          <a:pt x="0" y="33"/>
                        </a:lnTo>
                        <a:lnTo>
                          <a:pt x="0" y="1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7099560" y="3306600"/>
                  <a:ext cx="117000" cy="79560"/>
                  <a:chOff x="7099560" y="3306600"/>
                  <a:chExt cx="117000" cy="795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7099560" y="3306600"/>
                    <a:ext cx="342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0">
                        <a:moveTo>
                          <a:pt x="16" y="0"/>
                        </a:moveTo>
                        <a:lnTo>
                          <a:pt x="16" y="39"/>
                        </a:lnTo>
                        <a:lnTo>
                          <a:pt x="0" y="39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115760" y="3309840"/>
                    <a:ext cx="342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6" y="0"/>
                        </a:move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1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133760" y="3314520"/>
                    <a:ext cx="342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16" y="0"/>
                        </a:moveTo>
                        <a:lnTo>
                          <a:pt x="16" y="38"/>
                        </a:lnTo>
                        <a:lnTo>
                          <a:pt x="0" y="38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150320" y="3316320"/>
                    <a:ext cx="342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6" y="0"/>
                        </a:move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164000" y="3319560"/>
                    <a:ext cx="34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6" y="0"/>
                        </a:move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1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182360" y="3324240"/>
                    <a:ext cx="342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16" y="0"/>
                        </a:moveTo>
                        <a:lnTo>
                          <a:pt x="16" y="38"/>
                        </a:lnTo>
                        <a:lnTo>
                          <a:pt x="0" y="38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856200" y="3259080"/>
                  <a:ext cx="143280" cy="82440"/>
                  <a:chOff x="6856200" y="3259080"/>
                  <a:chExt cx="143280" cy="824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6856200" y="3259080"/>
                    <a:ext cx="34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16" y="0"/>
                        </a:moveTo>
                        <a:lnTo>
                          <a:pt x="16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886440" y="3263760"/>
                    <a:ext cx="21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9">
                        <a:moveTo>
                          <a:pt x="0" y="0"/>
                        </a:move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12720" y="3267000"/>
                    <a:ext cx="18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8">
                        <a:moveTo>
                          <a:pt x="0" y="0"/>
                        </a:moveTo>
                        <a:lnTo>
                          <a:pt x="0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939000" y="3273480"/>
                    <a:ext cx="342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16" y="0"/>
                        </a:moveTo>
                        <a:lnTo>
                          <a:pt x="16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965280" y="3281400"/>
                    <a:ext cx="342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16" y="0"/>
                        </a:moveTo>
                        <a:lnTo>
                          <a:pt x="16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>
                  <a:off x="6822000" y="3314520"/>
                  <a:ext cx="608040" cy="157320"/>
                </a:xfrm>
                <a:custGeom>
                  <a:avLst/>
                  <a:gdLst/>
                  <a:ahLst/>
                  <a:rect l="l" t="t" r="r" b="b"/>
                  <a:pathLst>
                    <a:path w="300" h="99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99" y="72"/>
                      </a:lnTo>
                      <a:lnTo>
                        <a:pt x="299" y="98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822000" y="3128760"/>
                  <a:ext cx="620640" cy="26856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46"/>
                      </a:moveTo>
                      <a:lnTo>
                        <a:pt x="0" y="0"/>
                      </a:lnTo>
                      <a:lnTo>
                        <a:pt x="305" y="147"/>
                      </a:lnTo>
                      <a:lnTo>
                        <a:pt x="305" y="168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822000" y="2819520"/>
                  <a:ext cx="634320" cy="500040"/>
                </a:xfrm>
                <a:custGeom>
                  <a:avLst/>
                  <a:gdLst/>
                  <a:ahLst/>
                  <a:rect l="l" t="t" r="r" b="b"/>
                  <a:pathLst>
                    <a:path w="313" h="315">
                      <a:moveTo>
                        <a:pt x="0" y="111"/>
                      </a:moveTo>
                      <a:lnTo>
                        <a:pt x="0" y="0"/>
                      </a:lnTo>
                      <a:lnTo>
                        <a:pt x="312" y="274"/>
                      </a:lnTo>
                      <a:lnTo>
                        <a:pt x="312" y="314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6629400" y="2820960"/>
                <a:ext cx="200160" cy="682560"/>
                <a:chOff x="6629400" y="2820960"/>
                <a:chExt cx="200160" cy="6825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6680160" y="3440160"/>
                  <a:ext cx="137160" cy="63360"/>
                </a:xfrm>
                <a:custGeom>
                  <a:avLst/>
                  <a:gdLst/>
                  <a:ahLst/>
                  <a:rect l="l" t="t" r="r" b="b"/>
                  <a:pathLst>
                    <a:path w="68" h="40">
                      <a:moveTo>
                        <a:pt x="67" y="0"/>
                      </a:moveTo>
                      <a:lnTo>
                        <a:pt x="0" y="12"/>
                      </a:lnTo>
                      <a:lnTo>
                        <a:pt x="0" y="29"/>
                      </a:lnTo>
                      <a:lnTo>
                        <a:pt x="67" y="39"/>
                      </a:lnTo>
                      <a:lnTo>
                        <a:pt x="67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629400" y="2984400"/>
                  <a:ext cx="188280" cy="479520"/>
                </a:xfrm>
                <a:custGeom>
                  <a:avLst/>
                  <a:gdLst/>
                  <a:ahLst/>
                  <a:rect l="l" t="t" r="r" b="b"/>
                  <a:pathLst>
                    <a:path w="93" h="302">
                      <a:moveTo>
                        <a:pt x="92" y="0"/>
                      </a:moveTo>
                      <a:lnTo>
                        <a:pt x="0" y="158"/>
                      </a:lnTo>
                      <a:lnTo>
                        <a:pt x="12" y="158"/>
                      </a:lnTo>
                      <a:lnTo>
                        <a:pt x="12" y="213"/>
                      </a:lnTo>
                      <a:lnTo>
                        <a:pt x="8" y="219"/>
                      </a:lnTo>
                      <a:lnTo>
                        <a:pt x="12" y="219"/>
                      </a:lnTo>
                      <a:lnTo>
                        <a:pt x="12" y="292"/>
                      </a:lnTo>
                      <a:lnTo>
                        <a:pt x="22" y="301"/>
                      </a:lnTo>
                      <a:lnTo>
                        <a:pt x="92" y="289"/>
                      </a:lnTo>
                      <a:lnTo>
                        <a:pt x="9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629400" y="2820960"/>
                  <a:ext cx="188280" cy="411120"/>
                </a:xfrm>
                <a:custGeom>
                  <a:avLst/>
                  <a:gdLst/>
                  <a:ahLst/>
                  <a:rect l="l" t="t" r="r" b="b"/>
                  <a:pathLst>
                    <a:path w="93" h="259">
                      <a:moveTo>
                        <a:pt x="92" y="0"/>
                      </a:moveTo>
                      <a:lnTo>
                        <a:pt x="92" y="109"/>
                      </a:lnTo>
                      <a:lnTo>
                        <a:pt x="0" y="258"/>
                      </a:lnTo>
                      <a:lnTo>
                        <a:pt x="0" y="195"/>
                      </a:lnTo>
                      <a:lnTo>
                        <a:pt x="92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0" name=""/>
                <p:cNvGrpSpPr/>
                <p:nvPr/>
              </p:nvGrpSpPr>
              <p:grpSpPr>
                <a:xfrm>
                  <a:off x="6666120" y="3222720"/>
                  <a:ext cx="163440" cy="230040"/>
                  <a:chOff x="6666120" y="3222720"/>
                  <a:chExt cx="163440" cy="2300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6666120" y="33415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6671880" y="333360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6681960" y="3324240"/>
                    <a:ext cx="342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14"/>
                        </a:moveTo>
                        <a:lnTo>
                          <a:pt x="16" y="64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692040" y="331776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698160" y="330984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708240" y="33019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716520" y="329400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728400" y="32875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734880" y="327960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742440" y="327168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750720" y="32623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760800" y="3254400"/>
                    <a:ext cx="34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9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8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769080" y="324648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777000" y="323856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787080" y="323064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795360" y="322272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671880" y="3063960"/>
                  <a:ext cx="157680" cy="247680"/>
                  <a:chOff x="6671880" y="3063960"/>
                  <a:chExt cx="157680" cy="2476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671880" y="3216240"/>
                    <a:ext cx="342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0">
                        <a:moveTo>
                          <a:pt x="16" y="14"/>
                        </a:moveTo>
                        <a:lnTo>
                          <a:pt x="16" y="49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681960" y="3206520"/>
                    <a:ext cx="342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7">
                        <a:moveTo>
                          <a:pt x="16" y="13"/>
                        </a:moveTo>
                        <a:lnTo>
                          <a:pt x="16" y="46"/>
                        </a:lnTo>
                        <a:lnTo>
                          <a:pt x="0" y="56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692040" y="3195720"/>
                    <a:ext cx="34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9">
                        <a:moveTo>
                          <a:pt x="16" y="13"/>
                        </a:moveTo>
                        <a:lnTo>
                          <a:pt x="16" y="53"/>
                        </a:lnTo>
                        <a:lnTo>
                          <a:pt x="0" y="58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697800" y="3182760"/>
                    <a:ext cx="342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2">
                        <a:moveTo>
                          <a:pt x="16" y="14"/>
                        </a:moveTo>
                        <a:lnTo>
                          <a:pt x="16" y="55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707880" y="3171600"/>
                    <a:ext cx="3420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14"/>
                        </a:moveTo>
                        <a:lnTo>
                          <a:pt x="16" y="64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716160" y="316080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728040" y="315108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6734520" y="31399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6742440" y="312876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750720" y="311796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4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760800" y="310824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769080" y="309708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777000" y="30859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787080" y="307476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795360" y="306396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3" name=""/>
                <p:cNvSpPr/>
                <p:nvPr/>
              </p:nvSpPr>
              <p:spPr>
                <a:xfrm>
                  <a:off x="6643440" y="3128760"/>
                  <a:ext cx="173880" cy="204840"/>
                </a:xfrm>
                <a:custGeom>
                  <a:avLst/>
                  <a:gdLst/>
                  <a:ahLst/>
                  <a:rect l="l" t="t" r="r" b="b"/>
                  <a:pathLst>
                    <a:path w="86" h="129">
                      <a:moveTo>
                        <a:pt x="85" y="0"/>
                      </a:moveTo>
                      <a:lnTo>
                        <a:pt x="0" y="101"/>
                      </a:lnTo>
                      <a:lnTo>
                        <a:pt x="0" y="128"/>
                      </a:lnTo>
                      <a:lnTo>
                        <a:pt x="85" y="46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51720" y="3314520"/>
                  <a:ext cx="165600" cy="135000"/>
                </a:xfrm>
                <a:custGeom>
                  <a:avLst/>
                  <a:gdLst/>
                  <a:ahLst/>
                  <a:rect l="l" t="t" r="r" b="b"/>
                  <a:pathLst>
                    <a:path w="82" h="85">
                      <a:moveTo>
                        <a:pt x="81" y="0"/>
                      </a:moveTo>
                      <a:lnTo>
                        <a:pt x="0" y="54"/>
                      </a:lnTo>
                      <a:lnTo>
                        <a:pt x="0" y="84"/>
                      </a:lnTo>
                      <a:lnTo>
                        <a:pt x="81" y="54"/>
                      </a:lnTo>
                      <a:lnTo>
                        <a:pt x="81" y="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6935400" y="2833560"/>
                <a:ext cx="529920" cy="746280"/>
                <a:chOff x="6935400" y="2833560"/>
                <a:chExt cx="529920" cy="74628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7156440" y="2998800"/>
                  <a:ext cx="106920" cy="581040"/>
                  <a:chOff x="7156440" y="2998800"/>
                  <a:chExt cx="106920" cy="58104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7156440" y="2998800"/>
                    <a:ext cx="70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66">
                        <a:moveTo>
                          <a:pt x="0" y="31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4" y="1"/>
                        </a:lnTo>
                        <a:lnTo>
                          <a:pt x="30" y="19"/>
                        </a:lnTo>
                        <a:lnTo>
                          <a:pt x="34" y="14"/>
                        </a:lnTo>
                        <a:lnTo>
                          <a:pt x="34" y="364"/>
                        </a:lnTo>
                        <a:lnTo>
                          <a:pt x="29" y="349"/>
                        </a:lnTo>
                        <a:lnTo>
                          <a:pt x="25" y="349"/>
                        </a:lnTo>
                        <a:lnTo>
                          <a:pt x="25" y="365"/>
                        </a:lnTo>
                        <a:lnTo>
                          <a:pt x="21" y="365"/>
                        </a:lnTo>
                        <a:lnTo>
                          <a:pt x="17" y="357"/>
                        </a:lnTo>
                        <a:lnTo>
                          <a:pt x="17" y="48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7229160" y="3021120"/>
                    <a:ext cx="342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52">
                        <a:moveTo>
                          <a:pt x="0" y="0"/>
                        </a:moveTo>
                        <a:lnTo>
                          <a:pt x="0" y="351"/>
                        </a:lnTo>
                        <a:lnTo>
                          <a:pt x="16" y="35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7202520" y="2998800"/>
                    <a:ext cx="216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6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365"/>
                        </a:lnTo>
                        <a:lnTo>
                          <a:pt x="0" y="365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210800" y="3014640"/>
                    <a:ext cx="3420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46">
                        <a:moveTo>
                          <a:pt x="16" y="345"/>
                        </a:moveTo>
                        <a:lnTo>
                          <a:pt x="16" y="16"/>
                        </a:lnTo>
                        <a:lnTo>
                          <a:pt x="0" y="0"/>
                        </a:lnTo>
                        <a:lnTo>
                          <a:pt x="0" y="345"/>
                        </a:lnTo>
                        <a:lnTo>
                          <a:pt x="16" y="34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6935400" y="2833560"/>
                  <a:ext cx="104760" cy="744480"/>
                  <a:chOff x="6935400" y="2833560"/>
                  <a:chExt cx="104760" cy="74448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935400" y="2833560"/>
                    <a:ext cx="9108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69">
                        <a:moveTo>
                          <a:pt x="0" y="40"/>
                        </a:move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1" y="2"/>
                        </a:lnTo>
                        <a:lnTo>
                          <a:pt x="39" y="25"/>
                        </a:lnTo>
                        <a:lnTo>
                          <a:pt x="44" y="18"/>
                        </a:lnTo>
                        <a:lnTo>
                          <a:pt x="44" y="466"/>
                        </a:lnTo>
                        <a:lnTo>
                          <a:pt x="37" y="448"/>
                        </a:lnTo>
                        <a:lnTo>
                          <a:pt x="32" y="448"/>
                        </a:lnTo>
                        <a:lnTo>
                          <a:pt x="32" y="468"/>
                        </a:lnTo>
                        <a:lnTo>
                          <a:pt x="26" y="468"/>
                        </a:lnTo>
                        <a:lnTo>
                          <a:pt x="23" y="457"/>
                        </a:lnTo>
                        <a:lnTo>
                          <a:pt x="23" y="62"/>
                        </a:lnTo>
                        <a:lnTo>
                          <a:pt x="0" y="4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7032600" y="2862360"/>
                    <a:ext cx="1800" cy="71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9">
                        <a:moveTo>
                          <a:pt x="0" y="0"/>
                        </a:moveTo>
                        <a:lnTo>
                          <a:pt x="0" y="448"/>
                        </a:lnTo>
                        <a:lnTo>
                          <a:pt x="0" y="448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995880" y="2833560"/>
                    <a:ext cx="342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69">
                        <a:moveTo>
                          <a:pt x="16" y="2"/>
                        </a:moveTo>
                        <a:lnTo>
                          <a:pt x="0" y="0"/>
                        </a:lnTo>
                        <a:lnTo>
                          <a:pt x="0" y="468"/>
                        </a:lnTo>
                        <a:lnTo>
                          <a:pt x="16" y="468"/>
                        </a:lnTo>
                        <a:lnTo>
                          <a:pt x="16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7005960" y="2852640"/>
                    <a:ext cx="3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43">
                        <a:moveTo>
                          <a:pt x="16" y="442"/>
                        </a:moveTo>
                        <a:lnTo>
                          <a:pt x="16" y="22"/>
                        </a:lnTo>
                        <a:lnTo>
                          <a:pt x="0" y="0"/>
                        </a:lnTo>
                        <a:lnTo>
                          <a:pt x="0" y="442"/>
                        </a:lnTo>
                        <a:lnTo>
                          <a:pt x="16" y="44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7291800" y="3105000"/>
                  <a:ext cx="92880" cy="465120"/>
                  <a:chOff x="7291800" y="3105000"/>
                  <a:chExt cx="92880" cy="4651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7291800" y="3105000"/>
                    <a:ext cx="5688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3">
                        <a:moveTo>
                          <a:pt x="0" y="25"/>
                        </a:move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9" y="1"/>
                        </a:lnTo>
                        <a:lnTo>
                          <a:pt x="24" y="16"/>
                        </a:lnTo>
                        <a:lnTo>
                          <a:pt x="27" y="11"/>
                        </a:lnTo>
                        <a:lnTo>
                          <a:pt x="27" y="291"/>
                        </a:lnTo>
                        <a:lnTo>
                          <a:pt x="23" y="279"/>
                        </a:lnTo>
                        <a:lnTo>
                          <a:pt x="19" y="279"/>
                        </a:lnTo>
                        <a:lnTo>
                          <a:pt x="19" y="292"/>
                        </a:lnTo>
                        <a:lnTo>
                          <a:pt x="16" y="292"/>
                        </a:lnTo>
                        <a:lnTo>
                          <a:pt x="14" y="285"/>
                        </a:lnTo>
                        <a:lnTo>
                          <a:pt x="14" y="39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350480" y="3120840"/>
                    <a:ext cx="34200" cy="44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1">
                        <a:moveTo>
                          <a:pt x="0" y="0"/>
                        </a:moveTo>
                        <a:lnTo>
                          <a:pt x="0" y="280"/>
                        </a:lnTo>
                        <a:lnTo>
                          <a:pt x="16" y="280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328160" y="3105000"/>
                    <a:ext cx="180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9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0" y="292"/>
                        </a:lnTo>
                        <a:lnTo>
                          <a:pt x="0" y="29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7338600" y="3114720"/>
                    <a:ext cx="18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78">
                        <a:moveTo>
                          <a:pt x="0" y="277"/>
                        </a:moveTo>
                        <a:lnTo>
                          <a:pt x="0" y="13"/>
                        </a:lnTo>
                        <a:lnTo>
                          <a:pt x="0" y="0"/>
                        </a:lnTo>
                        <a:lnTo>
                          <a:pt x="0" y="277"/>
                        </a:lnTo>
                        <a:lnTo>
                          <a:pt x="0" y="27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7383240" y="3176640"/>
                  <a:ext cx="82080" cy="380880"/>
                  <a:chOff x="7383240" y="3176640"/>
                  <a:chExt cx="82080" cy="38088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7383240" y="3176640"/>
                    <a:ext cx="5004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9">
                        <a:moveTo>
                          <a:pt x="0" y="19"/>
                        </a:moveTo>
                        <a:lnTo>
                          <a:pt x="13" y="0"/>
                        </a:lnTo>
                        <a:lnTo>
                          <a:pt x="14" y="0"/>
                        </a:lnTo>
                        <a:lnTo>
                          <a:pt x="17" y="1"/>
                        </a:lnTo>
                        <a:lnTo>
                          <a:pt x="22" y="13"/>
                        </a:lnTo>
                        <a:lnTo>
                          <a:pt x="24" y="9"/>
                        </a:lnTo>
                        <a:lnTo>
                          <a:pt x="24" y="238"/>
                        </a:lnTo>
                        <a:lnTo>
                          <a:pt x="20" y="228"/>
                        </a:lnTo>
                        <a:lnTo>
                          <a:pt x="17" y="228"/>
                        </a:lnTo>
                        <a:lnTo>
                          <a:pt x="17" y="238"/>
                        </a:lnTo>
                        <a:lnTo>
                          <a:pt x="14" y="238"/>
                        </a:lnTo>
                        <a:lnTo>
                          <a:pt x="12" y="234"/>
                        </a:lnTo>
                        <a:lnTo>
                          <a:pt x="12" y="31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431480" y="3190680"/>
                    <a:ext cx="3384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0">
                        <a:moveTo>
                          <a:pt x="0" y="0"/>
                        </a:moveTo>
                        <a:lnTo>
                          <a:pt x="0" y="229"/>
                        </a:lnTo>
                        <a:lnTo>
                          <a:pt x="16" y="229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7414920" y="3176640"/>
                    <a:ext cx="216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0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239"/>
                        </a:lnTo>
                        <a:lnTo>
                          <a:pt x="0" y="239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7423200" y="3186000"/>
                    <a:ext cx="3420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5">
                        <a:moveTo>
                          <a:pt x="16" y="224"/>
                        </a:moveTo>
                        <a:lnTo>
                          <a:pt x="16" y="12"/>
                        </a:lnTo>
                        <a:lnTo>
                          <a:pt x="0" y="0"/>
                        </a:lnTo>
                        <a:lnTo>
                          <a:pt x="0" y="224"/>
                        </a:lnTo>
                        <a:lnTo>
                          <a:pt x="16" y="22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86" name=""/>
          <p:cNvSpPr/>
          <p:nvPr/>
        </p:nvSpPr>
        <p:spPr>
          <a:xfrm>
            <a:off x="73152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05920" y="2666880"/>
            <a:ext cx="379800" cy="887040"/>
            <a:chOff x="8305920" y="2666880"/>
            <a:chExt cx="379800" cy="887040"/>
          </a:xfrm>
        </p:grpSpPr>
        <p:sp>
          <p:nvSpPr>
            <p:cNvPr id="688" name=""/>
            <p:cNvSpPr/>
            <p:nvPr/>
          </p:nvSpPr>
          <p:spPr>
            <a:xfrm>
              <a:off x="8305920" y="2666880"/>
              <a:ext cx="3740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8307720" y="2666880"/>
              <a:ext cx="378000" cy="887040"/>
              <a:chOff x="8307720" y="2666880"/>
              <a:chExt cx="378000" cy="88704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8330040" y="2666880"/>
                <a:ext cx="333360" cy="879840"/>
                <a:chOff x="8330040" y="2666880"/>
                <a:chExt cx="333360" cy="87984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8477280" y="2666880"/>
                  <a:ext cx="186120" cy="879840"/>
                  <a:chOff x="8477280" y="2666880"/>
                  <a:chExt cx="186120" cy="879840"/>
                </a:xfrm>
              </p:grpSpPr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8477280" y="2666880"/>
                    <a:ext cx="186120" cy="879840"/>
                    <a:chOff x="8477280" y="2666880"/>
                    <a:chExt cx="186120" cy="879840"/>
                  </a:xfrm>
                </p:grpSpPr>
                <p:grpSp>
                  <p:nvGrpSpPr>
                    <p:cNvPr id="693" name=""/>
                    <p:cNvGrpSpPr/>
                    <p:nvPr/>
                  </p:nvGrpSpPr>
                  <p:grpSpPr>
                    <a:xfrm>
                      <a:off x="8530200" y="2666880"/>
                      <a:ext cx="65520" cy="41040"/>
                      <a:chOff x="8530200" y="2666880"/>
                      <a:chExt cx="65520" cy="41040"/>
                    </a:xfrm>
                  </p:grpSpPr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8549280" y="2666880"/>
                        <a:ext cx="4644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2">
                            <a:moveTo>
                              <a:pt x="0" y="0"/>
                            </a:moveTo>
                            <a:lnTo>
                              <a:pt x="28" y="10"/>
                            </a:lnTo>
                            <a:lnTo>
                              <a:pt x="28" y="31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8530200" y="2666880"/>
                        <a:ext cx="2700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5">
                            <a:moveTo>
                              <a:pt x="16" y="0"/>
                            </a:moveTo>
                            <a:lnTo>
                              <a:pt x="16" y="20"/>
                            </a:lnTo>
                            <a:lnTo>
                              <a:pt x="0" y="34"/>
                            </a:lnTo>
                            <a:lnTo>
                              <a:pt x="0" y="1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8533440" y="26751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3">
                            <a:moveTo>
                              <a:pt x="0" y="22"/>
                            </a:moveTo>
                            <a:lnTo>
                              <a:pt x="0" y="9"/>
                            </a:lnTo>
                            <a:lnTo>
                              <a:pt x="16" y="0"/>
                            </a:lnTo>
                            <a:lnTo>
                              <a:pt x="16" y="12"/>
                            </a:lnTo>
                            <a:lnTo>
                              <a:pt x="0" y="22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8477280" y="2684520"/>
                      <a:ext cx="186120" cy="862200"/>
                      <a:chOff x="8477280" y="2684520"/>
                      <a:chExt cx="186120" cy="862200"/>
                    </a:xfrm>
                  </p:grpSpPr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8477280" y="2685240"/>
                        <a:ext cx="64080" cy="85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722">
                            <a:moveTo>
                              <a:pt x="0" y="72"/>
                            </a:moveTo>
                            <a:lnTo>
                              <a:pt x="39" y="0"/>
                            </a:lnTo>
                            <a:lnTo>
                              <a:pt x="39" y="721"/>
                            </a:lnTo>
                            <a:lnTo>
                              <a:pt x="0" y="717"/>
                            </a:lnTo>
                            <a:lnTo>
                              <a:pt x="0" y="7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8549280" y="2684520"/>
                        <a:ext cx="105840" cy="85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722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53" y="688"/>
                            </a:lnTo>
                            <a:lnTo>
                              <a:pt x="58" y="694"/>
                            </a:lnTo>
                            <a:lnTo>
                              <a:pt x="60" y="708"/>
                            </a:lnTo>
                            <a:lnTo>
                              <a:pt x="65" y="721"/>
                            </a:lnTo>
                            <a:lnTo>
                              <a:pt x="0" y="7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8549280" y="2685240"/>
                        <a:ext cx="114120" cy="86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729">
                            <a:moveTo>
                              <a:pt x="0" y="0"/>
                            </a:moveTo>
                            <a:lnTo>
                              <a:pt x="57" y="25"/>
                            </a:lnTo>
                            <a:lnTo>
                              <a:pt x="57" y="695"/>
                            </a:lnTo>
                            <a:lnTo>
                              <a:pt x="62" y="700"/>
                            </a:lnTo>
                            <a:lnTo>
                              <a:pt x="65" y="715"/>
                            </a:lnTo>
                            <a:lnTo>
                              <a:pt x="70" y="728"/>
                            </a:lnTo>
                            <a:lnTo>
                              <a:pt x="0" y="7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8477280" y="2686680"/>
                    <a:ext cx="157320" cy="846720"/>
                    <a:chOff x="8477280" y="2686680"/>
                    <a:chExt cx="157320" cy="846720"/>
                  </a:xfrm>
                </p:grpSpPr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8549640" y="2686680"/>
                      <a:ext cx="84960" cy="822240"/>
                      <a:chOff x="8549640" y="2686680"/>
                      <a:chExt cx="84960" cy="822240"/>
                    </a:xfrm>
                  </p:grpSpPr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8549640" y="3331800"/>
                        <a:ext cx="84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7">
                            <a:moveTo>
                              <a:pt x="0" y="0"/>
                            </a:moveTo>
                            <a:lnTo>
                              <a:pt x="52" y="2"/>
                            </a:lnTo>
                            <a:lnTo>
                              <a:pt x="51" y="26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8549640" y="3483000"/>
                        <a:ext cx="849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2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8549640" y="3431880"/>
                        <a:ext cx="849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8549640" y="3382200"/>
                        <a:ext cx="849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8549640" y="3280680"/>
                        <a:ext cx="8496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8">
                            <a:moveTo>
                              <a:pt x="0" y="0"/>
                            </a:moveTo>
                            <a:lnTo>
                              <a:pt x="52" y="5"/>
                            </a:lnTo>
                            <a:lnTo>
                              <a:pt x="52" y="27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8549640" y="3232440"/>
                        <a:ext cx="849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0">
                            <a:moveTo>
                              <a:pt x="0" y="0"/>
                            </a:moveTo>
                            <a:lnTo>
                              <a:pt x="52" y="8"/>
                            </a:lnTo>
                            <a:lnTo>
                              <a:pt x="52" y="29"/>
                            </a:lnTo>
                            <a:lnTo>
                              <a:pt x="0" y="2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8549640" y="3180240"/>
                        <a:ext cx="8496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3">
                            <a:moveTo>
                              <a:pt x="0" y="0"/>
                            </a:moveTo>
                            <a:lnTo>
                              <a:pt x="52" y="10"/>
                            </a:lnTo>
                            <a:lnTo>
                              <a:pt x="52" y="32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8549640" y="3129840"/>
                        <a:ext cx="8496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0">
                            <a:moveTo>
                              <a:pt x="0" y="0"/>
                            </a:moveTo>
                            <a:lnTo>
                              <a:pt x="52" y="16"/>
                            </a:lnTo>
                            <a:lnTo>
                              <a:pt x="52" y="39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8549640" y="3081240"/>
                        <a:ext cx="849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9">
                            <a:moveTo>
                              <a:pt x="0" y="0"/>
                            </a:moveTo>
                            <a:lnTo>
                              <a:pt x="52" y="15"/>
                            </a:lnTo>
                            <a:lnTo>
                              <a:pt x="52" y="38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8549640" y="3030120"/>
                        <a:ext cx="8496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3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8549640" y="2978280"/>
                        <a:ext cx="8496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1" y="20"/>
                            </a:lnTo>
                            <a:lnTo>
                              <a:pt x="52" y="46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8549640" y="2929680"/>
                        <a:ext cx="8496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6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5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8549640" y="2876760"/>
                        <a:ext cx="8496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0">
                            <a:moveTo>
                              <a:pt x="0" y="0"/>
                            </a:moveTo>
                            <a:lnTo>
                              <a:pt x="52" y="24"/>
                            </a:lnTo>
                            <a:lnTo>
                              <a:pt x="52" y="49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8549640" y="2821320"/>
                        <a:ext cx="84960" cy="6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6">
                            <a:moveTo>
                              <a:pt x="0" y="0"/>
                            </a:moveTo>
                            <a:lnTo>
                              <a:pt x="52" y="26"/>
                            </a:lnTo>
                            <a:lnTo>
                              <a:pt x="52" y="55"/>
                            </a:lnTo>
                            <a:lnTo>
                              <a:pt x="0" y="3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8549640" y="2778840"/>
                        <a:ext cx="8496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2"/>
                            </a:lnTo>
                            <a:lnTo>
                              <a:pt x="52" y="43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8549640" y="2730240"/>
                        <a:ext cx="8496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6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8549640" y="2686680"/>
                        <a:ext cx="8496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5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4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8557560" y="2688840"/>
                      <a:ext cx="73800" cy="844560"/>
                      <a:chOff x="8557560" y="2688840"/>
                      <a:chExt cx="73800" cy="84456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8631360" y="2710800"/>
                        <a:ext cx="0" cy="8114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8620200" y="2708640"/>
                        <a:ext cx="0" cy="8172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8610840" y="2703960"/>
                        <a:ext cx="0" cy="8233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>
                        <a:off x="8599320" y="2701440"/>
                        <a:ext cx="0" cy="830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8589600" y="2697120"/>
                        <a:ext cx="0" cy="8348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8579880" y="2694600"/>
                        <a:ext cx="0" cy="8269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8568720" y="2694600"/>
                        <a:ext cx="0" cy="8280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8557560" y="2688840"/>
                        <a:ext cx="0" cy="8445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9" name=""/>
                    <p:cNvGrpSpPr/>
                    <p:nvPr/>
                  </p:nvGrpSpPr>
                  <p:grpSpPr>
                    <a:xfrm>
                      <a:off x="8477280" y="2730240"/>
                      <a:ext cx="70560" cy="752400"/>
                      <a:chOff x="8477280" y="2730240"/>
                      <a:chExt cx="70560" cy="752400"/>
                    </a:xfrm>
                  </p:grpSpPr>
                  <p:sp>
                    <p:nvSpPr>
                      <p:cNvPr id="730" name=""/>
                      <p:cNvSpPr/>
                      <p:nvPr/>
                    </p:nvSpPr>
                    <p:spPr>
                      <a:xfrm flipH="1">
                        <a:off x="8477280" y="2730240"/>
                        <a:ext cx="70560" cy="78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1" name=""/>
                      <p:cNvSpPr/>
                      <p:nvPr/>
                    </p:nvSpPr>
                    <p:spPr>
                      <a:xfrm flipH="1">
                        <a:off x="8477280" y="2778480"/>
                        <a:ext cx="70560" cy="72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2" name=""/>
                      <p:cNvSpPr/>
                      <p:nvPr/>
                    </p:nvSpPr>
                    <p:spPr>
                      <a:xfrm flipH="1">
                        <a:off x="8477280" y="2822040"/>
                        <a:ext cx="70560" cy="74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 flipH="1">
                        <a:off x="8477280" y="2877840"/>
                        <a:ext cx="70560" cy="65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 flipH="1">
                        <a:off x="8477280" y="2929680"/>
                        <a:ext cx="70560" cy="59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 flipH="1">
                        <a:off x="8477280" y="2979360"/>
                        <a:ext cx="70560" cy="54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 flipH="1">
                        <a:off x="8477280" y="3031560"/>
                        <a:ext cx="70560" cy="47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 flipH="1">
                        <a:off x="8477280" y="3080880"/>
                        <a:ext cx="7056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 flipH="1">
                        <a:off x="8477280" y="3130560"/>
                        <a:ext cx="70560" cy="37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 flipH="1">
                        <a:off x="8477280" y="3181320"/>
                        <a:ext cx="70560" cy="35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 flipH="1">
                        <a:off x="8477280" y="3232080"/>
                        <a:ext cx="70560" cy="28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 flipH="1">
                        <a:off x="8477280" y="3280680"/>
                        <a:ext cx="70560" cy="25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 flipH="1">
                        <a:off x="8477280" y="3332520"/>
                        <a:ext cx="70560" cy="18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 flipH="1">
                        <a:off x="8480160" y="3382200"/>
                        <a:ext cx="67320" cy="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 flipH="1">
                        <a:off x="8480160" y="3432960"/>
                        <a:ext cx="67320" cy="6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 flipH="1">
                        <a:off x="8478720" y="3482640"/>
                        <a:ext cx="691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8330040" y="2859480"/>
                  <a:ext cx="134280" cy="685080"/>
                  <a:chOff x="8330040" y="2859480"/>
                  <a:chExt cx="134280" cy="68508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8376840" y="2861640"/>
                    <a:ext cx="74160" cy="67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70">
                        <a:moveTo>
                          <a:pt x="0" y="0"/>
                        </a:moveTo>
                        <a:lnTo>
                          <a:pt x="45" y="17"/>
                        </a:lnTo>
                        <a:lnTo>
                          <a:pt x="45" y="569"/>
                        </a:lnTo>
                        <a:lnTo>
                          <a:pt x="0" y="56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8376840" y="2859480"/>
                    <a:ext cx="82080" cy="68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80">
                        <a:moveTo>
                          <a:pt x="0" y="0"/>
                        </a:moveTo>
                        <a:lnTo>
                          <a:pt x="50" y="18"/>
                        </a:lnTo>
                        <a:lnTo>
                          <a:pt x="50" y="579"/>
                        </a:lnTo>
                        <a:lnTo>
                          <a:pt x="0" y="5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8330040" y="2859480"/>
                    <a:ext cx="134280" cy="676800"/>
                    <a:chOff x="8330040" y="2859480"/>
                    <a:chExt cx="134280" cy="676800"/>
                  </a:xfrm>
                </p:grpSpPr>
                <p:grpSp>
                  <p:nvGrpSpPr>
                    <p:cNvPr id="750" name=""/>
                    <p:cNvGrpSpPr/>
                    <p:nvPr/>
                  </p:nvGrpSpPr>
                  <p:grpSpPr>
                    <a:xfrm>
                      <a:off x="8330040" y="2859480"/>
                      <a:ext cx="52560" cy="676800"/>
                      <a:chOff x="8330040" y="2859480"/>
                      <a:chExt cx="52560" cy="676800"/>
                    </a:xfrm>
                  </p:grpSpPr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8330040" y="2859480"/>
                        <a:ext cx="41400" cy="67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73">
                            <a:moveTo>
                              <a:pt x="0" y="45"/>
                            </a:moveTo>
                            <a:lnTo>
                              <a:pt x="25" y="0"/>
                            </a:lnTo>
                            <a:lnTo>
                              <a:pt x="25" y="572"/>
                            </a:lnTo>
                            <a:lnTo>
                              <a:pt x="0" y="57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 flipH="1">
                        <a:off x="8359920" y="2877120"/>
                        <a:ext cx="3240" cy="651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8346240" y="2894760"/>
                        <a:ext cx="0" cy="637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8357040" y="3499920"/>
                        <a:ext cx="25560" cy="30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8343000" y="3499920"/>
                        <a:ext cx="25200" cy="30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6" name=""/>
                    <p:cNvGrpSpPr/>
                    <p:nvPr/>
                  </p:nvGrpSpPr>
                  <p:grpSpPr>
                    <a:xfrm>
                      <a:off x="8379720" y="2906640"/>
                      <a:ext cx="84600" cy="622800"/>
                      <a:chOff x="8379720" y="2906640"/>
                      <a:chExt cx="84600" cy="622800"/>
                    </a:xfrm>
                  </p:grpSpPr>
                  <p:grpSp>
                    <p:nvGrpSpPr>
                      <p:cNvPr id="757" name=""/>
                      <p:cNvGrpSpPr/>
                      <p:nvPr/>
                    </p:nvGrpSpPr>
                    <p:grpSpPr>
                      <a:xfrm>
                        <a:off x="8389440" y="3491280"/>
                        <a:ext cx="74880" cy="38160"/>
                        <a:chOff x="8389440" y="3491280"/>
                        <a:chExt cx="74880" cy="38160"/>
                      </a:xfrm>
                    </p:grpSpPr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>
                          <a:off x="8424360" y="3492000"/>
                          <a:ext cx="25200" cy="37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9360" bIns="-9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>
                          <a:off x="8438760" y="3492000"/>
                          <a:ext cx="25560" cy="363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>
                          <a:off x="8389440" y="3491280"/>
                          <a:ext cx="25200" cy="37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9360" bIns="-9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>
                          <a:off x="8402040" y="3491280"/>
                          <a:ext cx="25200" cy="37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9360" bIns="-9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2" name=""/>
                      <p:cNvGrpSpPr/>
                      <p:nvPr/>
                    </p:nvGrpSpPr>
                    <p:grpSpPr>
                      <a:xfrm>
                        <a:off x="8379720" y="2913840"/>
                        <a:ext cx="66960" cy="547560"/>
                        <a:chOff x="8379720" y="2913840"/>
                        <a:chExt cx="66960" cy="547560"/>
                      </a:xfrm>
                    </p:grpSpPr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>
                          <a:off x="8379720" y="2913840"/>
                          <a:ext cx="6696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6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5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>
                          <a:off x="8379720" y="2944080"/>
                          <a:ext cx="66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7">
                              <a:moveTo>
                                <a:pt x="0" y="0"/>
                              </a:moveTo>
                              <a:lnTo>
                                <a:pt x="41" y="13"/>
                              </a:lnTo>
                              <a:lnTo>
                                <a:pt x="41" y="2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>
                          <a:off x="8379720" y="2978640"/>
                          <a:ext cx="66960" cy="2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>
                          <a:off x="8379720" y="3010320"/>
                          <a:ext cx="66960" cy="2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>
                          <a:off x="8379720" y="3041280"/>
                          <a:ext cx="669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>
                          <a:off x="8379720" y="3070440"/>
                          <a:ext cx="669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>
                          <a:off x="8379720" y="3102480"/>
                          <a:ext cx="669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>
                          <a:off x="8379720" y="3134520"/>
                          <a:ext cx="6696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0"/>
                              </a:moveTo>
                              <a:lnTo>
                                <a:pt x="41" y="9"/>
                              </a:lnTo>
                              <a:lnTo>
                                <a:pt x="41" y="21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>
                          <a:off x="8379720" y="3166200"/>
                          <a:ext cx="66960" cy="2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960" bIns="-21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>
                          <a:off x="8379720" y="3197160"/>
                          <a:ext cx="6696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>
                          <a:off x="8379720" y="3231360"/>
                          <a:ext cx="6696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19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>
                          <a:off x="8379720" y="3264120"/>
                          <a:ext cx="66960" cy="2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960" bIns="-21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8379720" y="3299760"/>
                          <a:ext cx="6696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9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8379720" y="3333960"/>
                          <a:ext cx="6696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9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8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8379720" y="3369600"/>
                          <a:ext cx="66960" cy="2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8">
                              <a:moveTo>
                                <a:pt x="0" y="0"/>
                              </a:moveTo>
                              <a:lnTo>
                                <a:pt x="41" y="6"/>
                              </a:lnTo>
                              <a:lnTo>
                                <a:pt x="41" y="17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8379720" y="3405960"/>
                          <a:ext cx="669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4"/>
                              </a:lnTo>
                              <a:lnTo>
                                <a:pt x="41" y="16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8379720" y="3441600"/>
                          <a:ext cx="669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2"/>
                              </a:lnTo>
                              <a:lnTo>
                                <a:pt x="41" y="1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0" name=""/>
                      <p:cNvGrpSpPr/>
                      <p:nvPr/>
                    </p:nvGrpSpPr>
                    <p:grpSpPr>
                      <a:xfrm>
                        <a:off x="8397360" y="2906640"/>
                        <a:ext cx="41040" cy="588240"/>
                        <a:chOff x="8397360" y="2906640"/>
                        <a:chExt cx="41040" cy="588240"/>
                      </a:xfrm>
                    </p:grpSpPr>
                    <p:grpSp>
                      <p:nvGrpSpPr>
                        <p:cNvPr id="781" name=""/>
                        <p:cNvGrpSpPr/>
                        <p:nvPr/>
                      </p:nvGrpSpPr>
                      <p:grpSpPr>
                        <a:xfrm>
                          <a:off x="8397360" y="2906640"/>
                          <a:ext cx="9360" cy="588240"/>
                          <a:chOff x="8397360" y="2906640"/>
                          <a:chExt cx="9360" cy="588240"/>
                        </a:xfrm>
                      </p:grpSpPr>
                      <p:sp>
                        <p:nvSpPr>
                          <p:cNvPr id="782" name=""/>
                          <p:cNvSpPr/>
                          <p:nvPr/>
                        </p:nvSpPr>
                        <p:spPr>
                          <a:xfrm flipV="1">
                            <a:off x="8397360" y="2906640"/>
                            <a:ext cx="0" cy="588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83" name=""/>
                          <p:cNvSpPr/>
                          <p:nvPr/>
                        </p:nvSpPr>
                        <p:spPr>
                          <a:xfrm flipV="1">
                            <a:off x="8406720" y="2907000"/>
                            <a:ext cx="0" cy="58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4" name=""/>
                        <p:cNvGrpSpPr/>
                        <p:nvPr/>
                      </p:nvGrpSpPr>
                      <p:grpSpPr>
                        <a:xfrm>
                          <a:off x="8429040" y="2913840"/>
                          <a:ext cx="9360" cy="581040"/>
                          <a:chOff x="8429040" y="2913840"/>
                          <a:chExt cx="9360" cy="581040"/>
                        </a:xfrm>
                      </p:grpSpPr>
                      <p:sp>
                        <p:nvSpPr>
                          <p:cNvPr id="785" name=""/>
                          <p:cNvSpPr/>
                          <p:nvPr/>
                        </p:nvSpPr>
                        <p:spPr>
                          <a:xfrm flipV="1">
                            <a:off x="8429040" y="2913840"/>
                            <a:ext cx="0" cy="581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86" name=""/>
                          <p:cNvSpPr/>
                          <p:nvPr/>
                        </p:nvSpPr>
                        <p:spPr>
                          <a:xfrm flipV="1">
                            <a:off x="8438400" y="2914200"/>
                            <a:ext cx="0" cy="579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787" name=""/>
              <p:cNvGrpSpPr/>
              <p:nvPr/>
            </p:nvGrpSpPr>
            <p:grpSpPr>
              <a:xfrm>
                <a:off x="8307720" y="3368520"/>
                <a:ext cx="378000" cy="185400"/>
                <a:chOff x="8307720" y="3368520"/>
                <a:chExt cx="378000" cy="1854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8544960" y="3492360"/>
                  <a:ext cx="61560" cy="6156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27"/>
                      </a:move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4" y="12"/>
                      </a:lnTo>
                      <a:lnTo>
                        <a:pt x="5" y="8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34" y="12"/>
                      </a:lnTo>
                      <a:lnTo>
                        <a:pt x="35" y="14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4" y="25"/>
                      </a:lnTo>
                      <a:lnTo>
                        <a:pt x="35" y="27"/>
                      </a:lnTo>
                      <a:lnTo>
                        <a:pt x="35" y="30"/>
                      </a:lnTo>
                      <a:lnTo>
                        <a:pt x="34" y="31"/>
                      </a:lnTo>
                      <a:lnTo>
                        <a:pt x="33" y="32"/>
                      </a:lnTo>
                      <a:lnTo>
                        <a:pt x="33" y="34"/>
                      </a:lnTo>
                      <a:lnTo>
                        <a:pt x="33" y="36"/>
                      </a:lnTo>
                      <a:lnTo>
                        <a:pt x="33" y="37"/>
                      </a:lnTo>
                      <a:lnTo>
                        <a:pt x="34" y="38"/>
                      </a:lnTo>
                      <a:lnTo>
                        <a:pt x="36" y="39"/>
                      </a:lnTo>
                      <a:lnTo>
                        <a:pt x="36" y="42"/>
                      </a:lnTo>
                      <a:lnTo>
                        <a:pt x="36" y="44"/>
                      </a:lnTo>
                      <a:lnTo>
                        <a:pt x="34" y="45"/>
                      </a:lnTo>
                      <a:lnTo>
                        <a:pt x="33" y="46"/>
                      </a:lnTo>
                      <a:lnTo>
                        <a:pt x="32" y="47"/>
                      </a:lnTo>
                      <a:lnTo>
                        <a:pt x="29" y="49"/>
                      </a:lnTo>
                      <a:lnTo>
                        <a:pt x="23" y="51"/>
                      </a:lnTo>
                      <a:lnTo>
                        <a:pt x="19" y="51"/>
                      </a:lnTo>
                      <a:lnTo>
                        <a:pt x="18" y="51"/>
                      </a:lnTo>
                      <a:lnTo>
                        <a:pt x="17" y="48"/>
                      </a:lnTo>
                      <a:lnTo>
                        <a:pt x="15" y="47"/>
                      </a:lnTo>
                      <a:lnTo>
                        <a:pt x="13" y="46"/>
                      </a:lnTo>
                      <a:lnTo>
                        <a:pt x="11" y="49"/>
                      </a:lnTo>
                      <a:lnTo>
                        <a:pt x="9" y="50"/>
                      </a:lnTo>
                      <a:lnTo>
                        <a:pt x="4" y="49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4"/>
                      </a:lnTo>
                      <a:lnTo>
                        <a:pt x="2" y="42"/>
                      </a:lnTo>
                      <a:lnTo>
                        <a:pt x="3" y="39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3" y="31"/>
                      </a:lnTo>
                      <a:lnTo>
                        <a:pt x="1" y="3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648640" y="3491280"/>
                  <a:ext cx="37080" cy="6012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26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7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6" y="3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20" y="12"/>
                      </a:lnTo>
                      <a:lnTo>
                        <a:pt x="21" y="13"/>
                      </a:lnTo>
                      <a:lnTo>
                        <a:pt x="21" y="14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0" y="22"/>
                      </a:lnTo>
                      <a:lnTo>
                        <a:pt x="20" y="25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30"/>
                      </a:lnTo>
                      <a:lnTo>
                        <a:pt x="20" y="31"/>
                      </a:lnTo>
                      <a:lnTo>
                        <a:pt x="19" y="33"/>
                      </a:lnTo>
                      <a:lnTo>
                        <a:pt x="19" y="35"/>
                      </a:lnTo>
                      <a:lnTo>
                        <a:pt x="20" y="36"/>
                      </a:lnTo>
                      <a:lnTo>
                        <a:pt x="20" y="36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0" y="44"/>
                      </a:lnTo>
                      <a:lnTo>
                        <a:pt x="20" y="45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6" y="47"/>
                      </a:lnTo>
                      <a:lnTo>
                        <a:pt x="5" y="48"/>
                      </a:lnTo>
                      <a:lnTo>
                        <a:pt x="2" y="48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30"/>
                      </a:lnTo>
                      <a:lnTo>
                        <a:pt x="0" y="28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456040" y="3368520"/>
                  <a:ext cx="32400" cy="171000"/>
                </a:xfrm>
                <a:custGeom>
                  <a:avLst/>
                  <a:gdLst/>
                  <a:ahLst/>
                  <a:rect l="l" t="t" r="r" b="b"/>
                  <a:pathLst>
                    <a:path w="20" h="145">
                      <a:moveTo>
                        <a:pt x="0" y="76"/>
                      </a:moveTo>
                      <a:lnTo>
                        <a:pt x="0" y="67"/>
                      </a:lnTo>
                      <a:lnTo>
                        <a:pt x="1" y="58"/>
                      </a:lnTo>
                      <a:lnTo>
                        <a:pt x="1" y="50"/>
                      </a:lnTo>
                      <a:lnTo>
                        <a:pt x="2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2" y="17"/>
                      </a:lnTo>
                      <a:lnTo>
                        <a:pt x="3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9" y="5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6"/>
                      </a:lnTo>
                      <a:lnTo>
                        <a:pt x="17" y="13"/>
                      </a:lnTo>
                      <a:lnTo>
                        <a:pt x="17" y="18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33"/>
                      </a:lnTo>
                      <a:lnTo>
                        <a:pt x="18" y="37"/>
                      </a:lnTo>
                      <a:lnTo>
                        <a:pt x="19" y="39"/>
                      </a:lnTo>
                      <a:lnTo>
                        <a:pt x="19" y="45"/>
                      </a:lnTo>
                      <a:lnTo>
                        <a:pt x="19" y="50"/>
                      </a:lnTo>
                      <a:lnTo>
                        <a:pt x="19" y="54"/>
                      </a:lnTo>
                      <a:lnTo>
                        <a:pt x="18" y="57"/>
                      </a:lnTo>
                      <a:lnTo>
                        <a:pt x="18" y="62"/>
                      </a:lnTo>
                      <a:lnTo>
                        <a:pt x="18" y="70"/>
                      </a:lnTo>
                      <a:lnTo>
                        <a:pt x="18" y="73"/>
                      </a:lnTo>
                      <a:lnTo>
                        <a:pt x="18" y="83"/>
                      </a:lnTo>
                      <a:lnTo>
                        <a:pt x="18" y="86"/>
                      </a:lnTo>
                      <a:lnTo>
                        <a:pt x="17" y="88"/>
                      </a:lnTo>
                      <a:lnTo>
                        <a:pt x="17" y="95"/>
                      </a:lnTo>
                      <a:lnTo>
                        <a:pt x="17" y="100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7"/>
                      </a:lnTo>
                      <a:lnTo>
                        <a:pt x="19" y="116"/>
                      </a:lnTo>
                      <a:lnTo>
                        <a:pt x="18" y="121"/>
                      </a:lnTo>
                      <a:lnTo>
                        <a:pt x="18" y="126"/>
                      </a:lnTo>
                      <a:lnTo>
                        <a:pt x="17" y="129"/>
                      </a:lnTo>
                      <a:lnTo>
                        <a:pt x="17" y="134"/>
                      </a:lnTo>
                      <a:lnTo>
                        <a:pt x="15" y="138"/>
                      </a:lnTo>
                      <a:lnTo>
                        <a:pt x="12" y="142"/>
                      </a:lnTo>
                      <a:lnTo>
                        <a:pt x="10" y="144"/>
                      </a:lnTo>
                      <a:lnTo>
                        <a:pt x="9" y="143"/>
                      </a:lnTo>
                      <a:lnTo>
                        <a:pt x="9" y="137"/>
                      </a:lnTo>
                      <a:lnTo>
                        <a:pt x="8" y="132"/>
                      </a:lnTo>
                      <a:lnTo>
                        <a:pt x="7" y="132"/>
                      </a:lnTo>
                      <a:lnTo>
                        <a:pt x="6" y="138"/>
                      </a:lnTo>
                      <a:lnTo>
                        <a:pt x="4" y="140"/>
                      </a:lnTo>
                      <a:lnTo>
                        <a:pt x="2" y="139"/>
                      </a:lnTo>
                      <a:lnTo>
                        <a:pt x="1" y="137"/>
                      </a:lnTo>
                      <a:lnTo>
                        <a:pt x="1" y="129"/>
                      </a:lnTo>
                      <a:lnTo>
                        <a:pt x="1" y="123"/>
                      </a:lnTo>
                      <a:lnTo>
                        <a:pt x="1" y="116"/>
                      </a:lnTo>
                      <a:lnTo>
                        <a:pt x="2" y="108"/>
                      </a:lnTo>
                      <a:lnTo>
                        <a:pt x="2" y="98"/>
                      </a:lnTo>
                      <a:lnTo>
                        <a:pt x="2" y="92"/>
                      </a:lnTo>
                      <a:lnTo>
                        <a:pt x="1" y="86"/>
                      </a:lnTo>
                      <a:lnTo>
                        <a:pt x="0" y="83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512920" y="3502800"/>
                  <a:ext cx="27360" cy="4824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4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5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5" y="23"/>
                      </a:lnTo>
                      <a:lnTo>
                        <a:pt x="15" y="24"/>
                      </a:lnTo>
                      <a:lnTo>
                        <a:pt x="14" y="25"/>
                      </a:lnTo>
                      <a:lnTo>
                        <a:pt x="14" y="27"/>
                      </a:lnTo>
                      <a:lnTo>
                        <a:pt x="14" y="28"/>
                      </a:lnTo>
                      <a:lnTo>
                        <a:pt x="14" y="30"/>
                      </a:lnTo>
                      <a:lnTo>
                        <a:pt x="15" y="30"/>
                      </a:lnTo>
                      <a:lnTo>
                        <a:pt x="15" y="31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15" y="35"/>
                      </a:lnTo>
                      <a:lnTo>
                        <a:pt x="14" y="36"/>
                      </a:lnTo>
                      <a:lnTo>
                        <a:pt x="14" y="37"/>
                      </a:lnTo>
                      <a:lnTo>
                        <a:pt x="12" y="38"/>
                      </a:lnTo>
                      <a:lnTo>
                        <a:pt x="10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37"/>
                      </a:lnTo>
                      <a:lnTo>
                        <a:pt x="5" y="37"/>
                      </a:lnTo>
                      <a:lnTo>
                        <a:pt x="5" y="38"/>
                      </a:lnTo>
                      <a:lnTo>
                        <a:pt x="3" y="39"/>
                      </a:lnTo>
                      <a:lnTo>
                        <a:pt x="2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480520" y="3502800"/>
                  <a:ext cx="28800" cy="4824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6" y="30"/>
                      </a:lnTo>
                      <a:lnTo>
                        <a:pt x="16" y="30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7" y="34"/>
                      </a:lnTo>
                      <a:lnTo>
                        <a:pt x="16" y="35"/>
                      </a:lnTo>
                      <a:lnTo>
                        <a:pt x="16" y="36"/>
                      </a:lnTo>
                      <a:lnTo>
                        <a:pt x="15" y="37"/>
                      </a:lnTo>
                      <a:lnTo>
                        <a:pt x="13" y="38"/>
                      </a:lnTo>
                      <a:lnTo>
                        <a:pt x="11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7" y="37"/>
                      </a:lnTo>
                      <a:lnTo>
                        <a:pt x="6" y="37"/>
                      </a:lnTo>
                      <a:lnTo>
                        <a:pt x="5" y="38"/>
                      </a:lnTo>
                      <a:lnTo>
                        <a:pt x="4" y="39"/>
                      </a:lnTo>
                      <a:lnTo>
                        <a:pt x="1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0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307720" y="3486240"/>
                  <a:ext cx="36720" cy="59040"/>
                </a:xfrm>
                <a:custGeom>
                  <a:avLst/>
                  <a:gdLst/>
                  <a:ahLst/>
                  <a:rect l="l" t="t" r="r" b="b"/>
                  <a:pathLst>
                    <a:path w="23" h="50">
                      <a:moveTo>
                        <a:pt x="0" y="25"/>
                      </a:move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1"/>
                      </a:lnTo>
                      <a:lnTo>
                        <a:pt x="20" y="24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9" y="34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1" y="44"/>
                      </a:lnTo>
                      <a:lnTo>
                        <a:pt x="20" y="44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49"/>
                      </a:lnTo>
                      <a:lnTo>
                        <a:pt x="11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8" y="45"/>
                      </a:lnTo>
                      <a:lnTo>
                        <a:pt x="7" y="47"/>
                      </a:lnTo>
                      <a:lnTo>
                        <a:pt x="6" y="48"/>
                      </a:lnTo>
                      <a:lnTo>
                        <a:pt x="2" y="48"/>
                      </a:lnTo>
                      <a:lnTo>
                        <a:pt x="2" y="47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94" name=""/>
          <p:cNvGrpSpPr/>
          <p:nvPr/>
        </p:nvGrpSpPr>
        <p:grpSpPr>
          <a:xfrm>
            <a:off x="5638680" y="4724280"/>
            <a:ext cx="990000" cy="1103040"/>
            <a:chOff x="5638680" y="4724280"/>
            <a:chExt cx="990000" cy="1103040"/>
          </a:xfrm>
        </p:grpSpPr>
        <p:grpSp>
          <p:nvGrpSpPr>
            <p:cNvPr id="795" name=""/>
            <p:cNvGrpSpPr/>
            <p:nvPr/>
          </p:nvGrpSpPr>
          <p:grpSpPr>
            <a:xfrm>
              <a:off x="5980320" y="4724280"/>
              <a:ext cx="309240" cy="426600"/>
              <a:chOff x="5980320" y="4724280"/>
              <a:chExt cx="309240" cy="426600"/>
            </a:xfrm>
          </p:grpSpPr>
          <p:sp>
            <p:nvSpPr>
              <p:cNvPr id="796" name=""/>
              <p:cNvSpPr/>
              <p:nvPr/>
            </p:nvSpPr>
            <p:spPr>
              <a:xfrm>
                <a:off x="6213960" y="4989600"/>
                <a:ext cx="67320" cy="903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6" y="3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87240" y="5005800"/>
                <a:ext cx="67320" cy="46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146640" y="4973400"/>
                <a:ext cx="67320" cy="46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16"/>
                    </a:lnTo>
                    <a:lnTo>
                      <a:pt x="5" y="13"/>
                    </a:lnTo>
                    <a:lnTo>
                      <a:pt x="0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222240" y="4863600"/>
                <a:ext cx="67320" cy="46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11"/>
                    </a:lnTo>
                    <a:lnTo>
                      <a:pt x="16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13960" y="4764960"/>
                <a:ext cx="67320" cy="315000"/>
              </a:xfrm>
              <a:custGeom>
                <a:avLst/>
                <a:gdLst/>
                <a:ahLst/>
                <a:rect l="l" t="t" r="r" b="b"/>
                <a:pathLst>
                  <a:path w="17" h="115">
                    <a:moveTo>
                      <a:pt x="0" y="0"/>
                    </a:moveTo>
                    <a:lnTo>
                      <a:pt x="16" y="7"/>
                    </a:lnTo>
                    <a:lnTo>
                      <a:pt x="16" y="114"/>
                    </a:lnTo>
                    <a:lnTo>
                      <a:pt x="13" y="114"/>
                    </a:lnTo>
                    <a:lnTo>
                      <a:pt x="13" y="17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980320" y="5077080"/>
                <a:ext cx="285120" cy="738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71" y="26"/>
                    </a:moveTo>
                    <a:lnTo>
                      <a:pt x="71" y="0"/>
                    </a:lnTo>
                    <a:lnTo>
                      <a:pt x="56" y="0"/>
                    </a:lnTo>
                    <a:lnTo>
                      <a:pt x="52" y="4"/>
                    </a:lnTo>
                    <a:lnTo>
                      <a:pt x="43" y="4"/>
                    </a:lnTo>
                    <a:lnTo>
                      <a:pt x="40" y="9"/>
                    </a:lnTo>
                    <a:lnTo>
                      <a:pt x="9" y="9"/>
                    </a:lnTo>
                    <a:lnTo>
                      <a:pt x="9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71" y="2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110640" y="4989600"/>
                <a:ext cx="107640" cy="903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3" y="32"/>
                    </a:moveTo>
                    <a:lnTo>
                      <a:pt x="2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32"/>
                    </a:lnTo>
                    <a:lnTo>
                      <a:pt x="23" y="3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003360" y="5101920"/>
                <a:ext cx="67320" cy="46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" name=""/>
              <p:cNvGrpSpPr/>
              <p:nvPr/>
            </p:nvGrpSpPr>
            <p:grpSpPr>
              <a:xfrm>
                <a:off x="6051240" y="4847400"/>
                <a:ext cx="74520" cy="67320"/>
                <a:chOff x="6051240" y="4847400"/>
                <a:chExt cx="74520" cy="6732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051240" y="4868640"/>
                  <a:ext cx="6660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2" y="0"/>
                      </a:move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0" y="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059160" y="4847400"/>
                  <a:ext cx="6660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13" y="16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6090840" y="4724280"/>
                <a:ext cx="114120" cy="349920"/>
                <a:chOff x="6090840" y="4724280"/>
                <a:chExt cx="114120" cy="3499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122880" y="4724280"/>
                  <a:ext cx="82080" cy="349920"/>
                </a:xfrm>
                <a:custGeom>
                  <a:avLst/>
                  <a:gdLst/>
                  <a:ahLst/>
                  <a:rect l="l" t="t" r="r" b="b"/>
                  <a:pathLst>
                    <a:path w="21" h="128">
                      <a:moveTo>
                        <a:pt x="7" y="2"/>
                      </a:moveTo>
                      <a:lnTo>
                        <a:pt x="9" y="4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14" y="14"/>
                      </a:lnTo>
                      <a:lnTo>
                        <a:pt x="15" y="19"/>
                      </a:lnTo>
                      <a:lnTo>
                        <a:pt x="17" y="24"/>
                      </a:lnTo>
                      <a:lnTo>
                        <a:pt x="18" y="33"/>
                      </a:lnTo>
                      <a:lnTo>
                        <a:pt x="20" y="41"/>
                      </a:lnTo>
                      <a:lnTo>
                        <a:pt x="20" y="50"/>
                      </a:lnTo>
                      <a:lnTo>
                        <a:pt x="19" y="62"/>
                      </a:lnTo>
                      <a:lnTo>
                        <a:pt x="19" y="74"/>
                      </a:lnTo>
                      <a:lnTo>
                        <a:pt x="18" y="82"/>
                      </a:lnTo>
                      <a:lnTo>
                        <a:pt x="15" y="93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8" y="116"/>
                      </a:lnTo>
                      <a:lnTo>
                        <a:pt x="6" y="122"/>
                      </a:lnTo>
                      <a:lnTo>
                        <a:pt x="4" y="125"/>
                      </a:lnTo>
                      <a:lnTo>
                        <a:pt x="2" y="126"/>
                      </a:lnTo>
                      <a:lnTo>
                        <a:pt x="0" y="127"/>
                      </a:lnTo>
                      <a:lnTo>
                        <a:pt x="4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90840" y="4724280"/>
                  <a:ext cx="99000" cy="349920"/>
                </a:xfrm>
                <a:custGeom>
                  <a:avLst/>
                  <a:gdLst/>
                  <a:ahLst/>
                  <a:rect l="l" t="t" r="r" b="b"/>
                  <a:pathLst>
                    <a:path w="25" h="128">
                      <a:moveTo>
                        <a:pt x="12" y="0"/>
                      </a:moveTo>
                      <a:lnTo>
                        <a:pt x="13" y="1"/>
                      </a:lnTo>
                      <a:lnTo>
                        <a:pt x="15" y="5"/>
                      </a:lnTo>
                      <a:lnTo>
                        <a:pt x="16" y="9"/>
                      </a:lnTo>
                      <a:lnTo>
                        <a:pt x="18" y="14"/>
                      </a:lnTo>
                      <a:lnTo>
                        <a:pt x="19" y="18"/>
                      </a:lnTo>
                      <a:lnTo>
                        <a:pt x="21" y="25"/>
                      </a:lnTo>
                      <a:lnTo>
                        <a:pt x="22" y="31"/>
                      </a:lnTo>
                      <a:lnTo>
                        <a:pt x="23" y="42"/>
                      </a:lnTo>
                      <a:lnTo>
                        <a:pt x="24" y="53"/>
                      </a:lnTo>
                      <a:lnTo>
                        <a:pt x="23" y="63"/>
                      </a:lnTo>
                      <a:lnTo>
                        <a:pt x="22" y="75"/>
                      </a:lnTo>
                      <a:lnTo>
                        <a:pt x="22" y="84"/>
                      </a:lnTo>
                      <a:lnTo>
                        <a:pt x="20" y="90"/>
                      </a:lnTo>
                      <a:lnTo>
                        <a:pt x="19" y="96"/>
                      </a:lnTo>
                      <a:lnTo>
                        <a:pt x="18" y="103"/>
                      </a:lnTo>
                      <a:lnTo>
                        <a:pt x="16" y="108"/>
                      </a:lnTo>
                      <a:lnTo>
                        <a:pt x="15" y="113"/>
                      </a:lnTo>
                      <a:lnTo>
                        <a:pt x="13" y="117"/>
                      </a:lnTo>
                      <a:lnTo>
                        <a:pt x="11" y="121"/>
                      </a:lnTo>
                      <a:lnTo>
                        <a:pt x="10" y="125"/>
                      </a:lnTo>
                      <a:lnTo>
                        <a:pt x="9" y="127"/>
                      </a:lnTo>
                      <a:lnTo>
                        <a:pt x="8" y="126"/>
                      </a:lnTo>
                      <a:lnTo>
                        <a:pt x="7" y="124"/>
                      </a:lnTo>
                      <a:lnTo>
                        <a:pt x="7" y="122"/>
                      </a:lnTo>
                      <a:lnTo>
                        <a:pt x="5" y="118"/>
                      </a:lnTo>
                      <a:lnTo>
                        <a:pt x="4" y="112"/>
                      </a:lnTo>
                      <a:lnTo>
                        <a:pt x="3" y="106"/>
                      </a:lnTo>
                      <a:lnTo>
                        <a:pt x="2" y="100"/>
                      </a:lnTo>
                      <a:lnTo>
                        <a:pt x="1" y="94"/>
                      </a:lnTo>
                      <a:lnTo>
                        <a:pt x="1" y="87"/>
                      </a:lnTo>
                      <a:lnTo>
                        <a:pt x="1" y="82"/>
                      </a:lnTo>
                      <a:lnTo>
                        <a:pt x="0" y="76"/>
                      </a:lnTo>
                      <a:lnTo>
                        <a:pt x="1" y="70"/>
                      </a:lnTo>
                      <a:lnTo>
                        <a:pt x="1" y="62"/>
                      </a:lnTo>
                      <a:lnTo>
                        <a:pt x="1" y="52"/>
                      </a:lnTo>
                      <a:lnTo>
                        <a:pt x="2" y="46"/>
                      </a:lnTo>
                      <a:lnTo>
                        <a:pt x="3" y="37"/>
                      </a:lnTo>
                      <a:lnTo>
                        <a:pt x="5" y="30"/>
                      </a:lnTo>
                      <a:lnTo>
                        <a:pt x="6" y="22"/>
                      </a:lnTo>
                      <a:lnTo>
                        <a:pt x="7" y="17"/>
                      </a:lnTo>
                      <a:lnTo>
                        <a:pt x="8" y="10"/>
                      </a:lnTo>
                      <a:lnTo>
                        <a:pt x="10" y="6"/>
                      </a:lnTo>
                      <a:lnTo>
                        <a:pt x="10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6027840" y="4822560"/>
                <a:ext cx="196560" cy="187560"/>
                <a:chOff x="6027840" y="4822560"/>
                <a:chExt cx="196560" cy="1875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6031080" y="4822560"/>
                  <a:ext cx="193320" cy="4608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8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48" y="8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027840" y="4863240"/>
                  <a:ext cx="66960" cy="146880"/>
                </a:xfrm>
                <a:custGeom>
                  <a:avLst/>
                  <a:gdLst/>
                  <a:ahLst/>
                  <a:rect l="l" t="t" r="r" b="b"/>
                  <a:pathLst>
                    <a:path w="17" h="54">
                      <a:moveTo>
                        <a:pt x="2" y="1"/>
                      </a:moveTo>
                      <a:lnTo>
                        <a:pt x="16" y="52"/>
                      </a:lnTo>
                      <a:lnTo>
                        <a:pt x="15" y="53"/>
                      </a:lnTo>
                      <a:lnTo>
                        <a:pt x="0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5991840" y="4828320"/>
                <a:ext cx="114120" cy="59400"/>
                <a:chOff x="5991840" y="4828320"/>
                <a:chExt cx="114120" cy="594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011280" y="4830480"/>
                  <a:ext cx="6696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14" y="5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0" y="10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c0c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007680" y="4828320"/>
                  <a:ext cx="6696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6" y="2"/>
                      </a:move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6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14" y="8"/>
                      </a:lnTo>
                      <a:lnTo>
                        <a:pt x="14" y="11"/>
                      </a:lnTo>
                      <a:lnTo>
                        <a:pt x="12" y="12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8" y="16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4" y="3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991840" y="4828320"/>
                  <a:ext cx="6696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4" y="3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5"/>
                      </a:lnTo>
                      <a:lnTo>
                        <a:pt x="14" y="3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039000" y="4841640"/>
                  <a:ext cx="6696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6" y="8"/>
                      </a:lnTo>
                      <a:lnTo>
                        <a:pt x="12" y="9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031080" y="4838760"/>
                  <a:ext cx="66960" cy="460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1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0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819" name=""/>
            <p:cNvGraphicFramePr/>
            <p:nvPr/>
          </p:nvGraphicFramePr>
          <p:xfrm>
            <a:off x="5638680" y="5181120"/>
            <a:ext cx="990000" cy="646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638680" y="5181120"/>
                      <a:ext cx="99000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1" name=""/>
          <p:cNvSpPr/>
          <p:nvPr/>
        </p:nvSpPr>
        <p:spPr>
          <a:xfrm>
            <a:off x="83808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AMPLIA COVERTURA TIP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712120" y="457200"/>
            <a:ext cx="538560" cy="228600"/>
            <a:chOff x="5712120" y="457200"/>
            <a:chExt cx="538560" cy="228600"/>
          </a:xfrm>
        </p:grpSpPr>
        <p:sp>
          <p:nvSpPr>
            <p:cNvPr id="823" name=""/>
            <p:cNvSpPr/>
            <p:nvPr/>
          </p:nvSpPr>
          <p:spPr>
            <a:xfrm>
              <a:off x="5872680" y="457200"/>
              <a:ext cx="217800" cy="228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 rot="16080000">
              <a:off x="6077160" y="483840"/>
              <a:ext cx="168840" cy="172080"/>
            </a:xfrm>
            <a:custGeom>
              <a:avLst/>
              <a:gdLst>
                <a:gd name="textAreaLeft" fmla="*/ 37080 w 168840"/>
                <a:gd name="textAreaRight" fmla="*/ 131760 w 168840"/>
                <a:gd name="textAreaTop" fmla="*/ 37800 h 172080"/>
                <a:gd name="textAreaBottom" fmla="*/ 134280 h 1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 rot="5520000">
              <a:off x="5716800" y="484920"/>
              <a:ext cx="168840" cy="172800"/>
            </a:xfrm>
            <a:custGeom>
              <a:avLst/>
              <a:gdLst>
                <a:gd name="textAreaLeft" fmla="*/ 37080 w 168840"/>
                <a:gd name="textAreaRight" fmla="*/ 131760 w 16884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6934320" y="1219320"/>
            <a:ext cx="372240" cy="685440"/>
            <a:chOff x="6934320" y="1219320"/>
            <a:chExt cx="372240" cy="685440"/>
          </a:xfrm>
        </p:grpSpPr>
        <p:sp>
          <p:nvSpPr>
            <p:cNvPr id="827" name=""/>
            <p:cNvSpPr/>
            <p:nvPr/>
          </p:nvSpPr>
          <p:spPr>
            <a:xfrm>
              <a:off x="6934320" y="1219320"/>
              <a:ext cx="36648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35760" y="1219320"/>
              <a:ext cx="370800" cy="685440"/>
              <a:chOff x="6935760" y="1219320"/>
              <a:chExt cx="370800" cy="68544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957360" y="1219320"/>
                <a:ext cx="327600" cy="679680"/>
                <a:chOff x="6957360" y="1219320"/>
                <a:chExt cx="327600" cy="679680"/>
              </a:xfrm>
            </p:grpSpPr>
            <p:grpSp>
              <p:nvGrpSpPr>
                <p:cNvPr id="830" name=""/>
                <p:cNvGrpSpPr/>
                <p:nvPr/>
              </p:nvGrpSpPr>
              <p:grpSpPr>
                <a:xfrm>
                  <a:off x="7101360" y="1219320"/>
                  <a:ext cx="183600" cy="679680"/>
                  <a:chOff x="7101360" y="1219320"/>
                  <a:chExt cx="183600" cy="679680"/>
                </a:xfrm>
              </p:grpSpPr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7101720" y="1219320"/>
                    <a:ext cx="183240" cy="679680"/>
                    <a:chOff x="7101720" y="1219320"/>
                    <a:chExt cx="183240" cy="679680"/>
                  </a:xfrm>
                </p:grpSpPr>
                <p:grpSp>
                  <p:nvGrpSpPr>
                    <p:cNvPr id="832" name=""/>
                    <p:cNvGrpSpPr/>
                    <p:nvPr/>
                  </p:nvGrpSpPr>
                  <p:grpSpPr>
                    <a:xfrm>
                      <a:off x="7153560" y="1219320"/>
                      <a:ext cx="64440" cy="31680"/>
                      <a:chOff x="7153560" y="1219320"/>
                      <a:chExt cx="64440" cy="31680"/>
                    </a:xfrm>
                  </p:grpSpPr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7172280" y="1219320"/>
                        <a:ext cx="457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2">
                            <a:moveTo>
                              <a:pt x="0" y="0"/>
                            </a:moveTo>
                            <a:lnTo>
                              <a:pt x="28" y="10"/>
                            </a:lnTo>
                            <a:lnTo>
                              <a:pt x="28" y="31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7153560" y="1219320"/>
                        <a:ext cx="266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5">
                            <a:moveTo>
                              <a:pt x="16" y="0"/>
                            </a:moveTo>
                            <a:lnTo>
                              <a:pt x="16" y="20"/>
                            </a:lnTo>
                            <a:lnTo>
                              <a:pt x="0" y="34"/>
                            </a:lnTo>
                            <a:lnTo>
                              <a:pt x="0" y="1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7156440" y="1225440"/>
                        <a:ext cx="266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3">
                            <a:moveTo>
                              <a:pt x="0" y="22"/>
                            </a:moveTo>
                            <a:lnTo>
                              <a:pt x="0" y="9"/>
                            </a:lnTo>
                            <a:lnTo>
                              <a:pt x="16" y="0"/>
                            </a:lnTo>
                            <a:lnTo>
                              <a:pt x="16" y="12"/>
                            </a:lnTo>
                            <a:lnTo>
                              <a:pt x="0" y="22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7101720" y="1232640"/>
                      <a:ext cx="183240" cy="666360"/>
                      <a:chOff x="7101720" y="1232640"/>
                      <a:chExt cx="183240" cy="666360"/>
                    </a:xfrm>
                  </p:grpSpPr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7101720" y="1233360"/>
                        <a:ext cx="63000" cy="65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722">
                            <a:moveTo>
                              <a:pt x="0" y="72"/>
                            </a:moveTo>
                            <a:lnTo>
                              <a:pt x="39" y="0"/>
                            </a:lnTo>
                            <a:lnTo>
                              <a:pt x="39" y="721"/>
                            </a:lnTo>
                            <a:lnTo>
                              <a:pt x="0" y="717"/>
                            </a:lnTo>
                            <a:lnTo>
                              <a:pt x="0" y="7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7172640" y="1232640"/>
                        <a:ext cx="104400" cy="65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722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53" y="688"/>
                            </a:lnTo>
                            <a:lnTo>
                              <a:pt x="58" y="694"/>
                            </a:lnTo>
                            <a:lnTo>
                              <a:pt x="60" y="708"/>
                            </a:lnTo>
                            <a:lnTo>
                              <a:pt x="65" y="721"/>
                            </a:lnTo>
                            <a:lnTo>
                              <a:pt x="0" y="7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9" name=""/>
                      <p:cNvSpPr/>
                      <p:nvPr/>
                    </p:nvSpPr>
                    <p:spPr>
                      <a:xfrm>
                        <a:off x="7172640" y="1233360"/>
                        <a:ext cx="112320" cy="66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729">
                            <a:moveTo>
                              <a:pt x="0" y="0"/>
                            </a:moveTo>
                            <a:lnTo>
                              <a:pt x="57" y="25"/>
                            </a:lnTo>
                            <a:lnTo>
                              <a:pt x="57" y="695"/>
                            </a:lnTo>
                            <a:lnTo>
                              <a:pt x="62" y="700"/>
                            </a:lnTo>
                            <a:lnTo>
                              <a:pt x="65" y="715"/>
                            </a:lnTo>
                            <a:lnTo>
                              <a:pt x="70" y="728"/>
                            </a:lnTo>
                            <a:lnTo>
                              <a:pt x="0" y="7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7101360" y="1234800"/>
                    <a:ext cx="155160" cy="654480"/>
                    <a:chOff x="7101360" y="1234800"/>
                    <a:chExt cx="155160" cy="654480"/>
                  </a:xfrm>
                </p:grpSpPr>
                <p:grpSp>
                  <p:nvGrpSpPr>
                    <p:cNvPr id="841" name=""/>
                    <p:cNvGrpSpPr/>
                    <p:nvPr/>
                  </p:nvGrpSpPr>
                  <p:grpSpPr>
                    <a:xfrm>
                      <a:off x="7172640" y="1234800"/>
                      <a:ext cx="83880" cy="634680"/>
                      <a:chOff x="7172640" y="1234800"/>
                      <a:chExt cx="83880" cy="634680"/>
                    </a:xfrm>
                  </p:grpSpPr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7172640" y="1733040"/>
                        <a:ext cx="838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7">
                            <a:moveTo>
                              <a:pt x="0" y="0"/>
                            </a:moveTo>
                            <a:lnTo>
                              <a:pt x="52" y="2"/>
                            </a:lnTo>
                            <a:lnTo>
                              <a:pt x="51" y="26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7172640" y="1849680"/>
                        <a:ext cx="838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2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" name=""/>
                      <p:cNvSpPr/>
                      <p:nvPr/>
                    </p:nvSpPr>
                    <p:spPr>
                      <a:xfrm>
                        <a:off x="7172640" y="1810440"/>
                        <a:ext cx="838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" name=""/>
                      <p:cNvSpPr/>
                      <p:nvPr/>
                    </p:nvSpPr>
                    <p:spPr>
                      <a:xfrm>
                        <a:off x="7172640" y="1772280"/>
                        <a:ext cx="838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" name=""/>
                      <p:cNvSpPr/>
                      <p:nvPr/>
                    </p:nvSpPr>
                    <p:spPr>
                      <a:xfrm>
                        <a:off x="7172640" y="1693800"/>
                        <a:ext cx="8388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8">
                            <a:moveTo>
                              <a:pt x="0" y="0"/>
                            </a:moveTo>
                            <a:lnTo>
                              <a:pt x="52" y="5"/>
                            </a:lnTo>
                            <a:lnTo>
                              <a:pt x="52" y="27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7172640" y="1656360"/>
                        <a:ext cx="838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0">
                            <a:moveTo>
                              <a:pt x="0" y="0"/>
                            </a:moveTo>
                            <a:lnTo>
                              <a:pt x="52" y="8"/>
                            </a:lnTo>
                            <a:lnTo>
                              <a:pt x="52" y="29"/>
                            </a:lnTo>
                            <a:lnTo>
                              <a:pt x="0" y="2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7172640" y="1616040"/>
                        <a:ext cx="8388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3">
                            <a:moveTo>
                              <a:pt x="0" y="0"/>
                            </a:moveTo>
                            <a:lnTo>
                              <a:pt x="52" y="10"/>
                            </a:lnTo>
                            <a:lnTo>
                              <a:pt x="52" y="32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7172640" y="1576800"/>
                        <a:ext cx="8388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0">
                            <a:moveTo>
                              <a:pt x="0" y="0"/>
                            </a:moveTo>
                            <a:lnTo>
                              <a:pt x="52" y="16"/>
                            </a:lnTo>
                            <a:lnTo>
                              <a:pt x="52" y="39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7172640" y="1539360"/>
                        <a:ext cx="8388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9">
                            <a:moveTo>
                              <a:pt x="0" y="0"/>
                            </a:moveTo>
                            <a:lnTo>
                              <a:pt x="52" y="15"/>
                            </a:lnTo>
                            <a:lnTo>
                              <a:pt x="52" y="38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1" name=""/>
                      <p:cNvSpPr/>
                      <p:nvPr/>
                    </p:nvSpPr>
                    <p:spPr>
                      <a:xfrm>
                        <a:off x="7172640" y="1500120"/>
                        <a:ext cx="838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3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2" name=""/>
                      <p:cNvSpPr/>
                      <p:nvPr/>
                    </p:nvSpPr>
                    <p:spPr>
                      <a:xfrm>
                        <a:off x="7172640" y="1460160"/>
                        <a:ext cx="838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1" y="20"/>
                            </a:lnTo>
                            <a:lnTo>
                              <a:pt x="52" y="46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>
                        <a:off x="7172640" y="1422720"/>
                        <a:ext cx="8388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6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5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7172640" y="1381680"/>
                        <a:ext cx="838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0">
                            <a:moveTo>
                              <a:pt x="0" y="0"/>
                            </a:moveTo>
                            <a:lnTo>
                              <a:pt x="52" y="24"/>
                            </a:lnTo>
                            <a:lnTo>
                              <a:pt x="52" y="49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7172640" y="1338840"/>
                        <a:ext cx="8388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6">
                            <a:moveTo>
                              <a:pt x="0" y="0"/>
                            </a:moveTo>
                            <a:lnTo>
                              <a:pt x="52" y="26"/>
                            </a:lnTo>
                            <a:lnTo>
                              <a:pt x="52" y="55"/>
                            </a:lnTo>
                            <a:lnTo>
                              <a:pt x="0" y="3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7172640" y="1305720"/>
                        <a:ext cx="838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2"/>
                            </a:lnTo>
                            <a:lnTo>
                              <a:pt x="52" y="43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7" name=""/>
                      <p:cNvSpPr/>
                      <p:nvPr/>
                    </p:nvSpPr>
                    <p:spPr>
                      <a:xfrm>
                        <a:off x="7172640" y="1268280"/>
                        <a:ext cx="838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6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8" name=""/>
                      <p:cNvSpPr/>
                      <p:nvPr/>
                    </p:nvSpPr>
                    <p:spPr>
                      <a:xfrm>
                        <a:off x="7172640" y="1234800"/>
                        <a:ext cx="838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5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4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59" name=""/>
                    <p:cNvGrpSpPr/>
                    <p:nvPr/>
                  </p:nvGrpSpPr>
                  <p:grpSpPr>
                    <a:xfrm>
                      <a:off x="7180560" y="1236600"/>
                      <a:ext cx="72720" cy="652680"/>
                      <a:chOff x="7180560" y="1236600"/>
                      <a:chExt cx="72720" cy="652680"/>
                    </a:xfrm>
                  </p:grpSpPr>
                  <p:sp>
                    <p:nvSpPr>
                      <p:cNvPr id="860" name=""/>
                      <p:cNvSpPr/>
                      <p:nvPr/>
                    </p:nvSpPr>
                    <p:spPr>
                      <a:xfrm>
                        <a:off x="7253280" y="1253520"/>
                        <a:ext cx="0" cy="6271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1" name=""/>
                      <p:cNvSpPr/>
                      <p:nvPr/>
                    </p:nvSpPr>
                    <p:spPr>
                      <a:xfrm>
                        <a:off x="7242120" y="1252080"/>
                        <a:ext cx="0" cy="6314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7232760" y="1248120"/>
                        <a:ext cx="0" cy="6361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7221600" y="1246320"/>
                        <a:ext cx="0" cy="6415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7211880" y="1242720"/>
                        <a:ext cx="0" cy="6451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7202520" y="1240920"/>
                        <a:ext cx="0" cy="6390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7191360" y="1240920"/>
                        <a:ext cx="0" cy="6397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7180560" y="1236600"/>
                        <a:ext cx="0" cy="6526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8" name=""/>
                    <p:cNvGrpSpPr/>
                    <p:nvPr/>
                  </p:nvGrpSpPr>
                  <p:grpSpPr>
                    <a:xfrm>
                      <a:off x="7101360" y="1268280"/>
                      <a:ext cx="69480" cy="581400"/>
                      <a:chOff x="7101360" y="1268280"/>
                      <a:chExt cx="69480" cy="581400"/>
                    </a:xfrm>
                  </p:grpSpPr>
                  <p:sp>
                    <p:nvSpPr>
                      <p:cNvPr id="869" name=""/>
                      <p:cNvSpPr/>
                      <p:nvPr/>
                    </p:nvSpPr>
                    <p:spPr>
                      <a:xfrm flipH="1">
                        <a:off x="7101360" y="1268280"/>
                        <a:ext cx="69480" cy="60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7101360" y="1305720"/>
                        <a:ext cx="69480" cy="55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 flipH="1">
                        <a:off x="7101360" y="1339200"/>
                        <a:ext cx="69480" cy="57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H="1">
                        <a:off x="7101360" y="1382040"/>
                        <a:ext cx="69480" cy="51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H="1">
                        <a:off x="7101360" y="1422360"/>
                        <a:ext cx="69480" cy="45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 flipH="1">
                        <a:off x="7101360" y="1460520"/>
                        <a:ext cx="69480" cy="41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 flipH="1">
                        <a:off x="7101360" y="1500840"/>
                        <a:ext cx="69480" cy="37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 flipH="1">
                        <a:off x="7101360" y="1539360"/>
                        <a:ext cx="69480" cy="34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 flipH="1">
                        <a:off x="7101360" y="1577520"/>
                        <a:ext cx="69480" cy="29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 flipH="1">
                        <a:off x="7101360" y="1617120"/>
                        <a:ext cx="6948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" name=""/>
                      <p:cNvSpPr/>
                      <p:nvPr/>
                    </p:nvSpPr>
                    <p:spPr>
                      <a:xfrm flipH="1">
                        <a:off x="7101360" y="1656000"/>
                        <a:ext cx="6948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0" name=""/>
                      <p:cNvSpPr/>
                      <p:nvPr/>
                    </p:nvSpPr>
                    <p:spPr>
                      <a:xfrm flipH="1">
                        <a:off x="7101360" y="1693440"/>
                        <a:ext cx="6948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1" name=""/>
                      <p:cNvSpPr/>
                      <p:nvPr/>
                    </p:nvSpPr>
                    <p:spPr>
                      <a:xfrm flipH="1">
                        <a:off x="7101360" y="1733760"/>
                        <a:ext cx="69480" cy="14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 flipH="1">
                        <a:off x="7104600" y="1771920"/>
                        <a:ext cx="66240" cy="10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 flipH="1">
                        <a:off x="7104600" y="1811520"/>
                        <a:ext cx="66240" cy="5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 flipH="1">
                        <a:off x="7102440" y="1849680"/>
                        <a:ext cx="68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6957360" y="1368000"/>
                  <a:ext cx="132120" cy="529200"/>
                  <a:chOff x="6957360" y="1368000"/>
                  <a:chExt cx="132120" cy="52920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7003080" y="1369800"/>
                    <a:ext cx="72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70">
                        <a:moveTo>
                          <a:pt x="0" y="0"/>
                        </a:moveTo>
                        <a:lnTo>
                          <a:pt x="45" y="17"/>
                        </a:lnTo>
                        <a:lnTo>
                          <a:pt x="45" y="569"/>
                        </a:lnTo>
                        <a:lnTo>
                          <a:pt x="0" y="56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7003080" y="1368000"/>
                    <a:ext cx="80640" cy="52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80">
                        <a:moveTo>
                          <a:pt x="0" y="0"/>
                        </a:moveTo>
                        <a:lnTo>
                          <a:pt x="50" y="18"/>
                        </a:lnTo>
                        <a:lnTo>
                          <a:pt x="50" y="579"/>
                        </a:lnTo>
                        <a:lnTo>
                          <a:pt x="0" y="5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6957360" y="1368000"/>
                    <a:ext cx="132120" cy="522720"/>
                    <a:chOff x="6957360" y="1368000"/>
                    <a:chExt cx="132120" cy="522720"/>
                  </a:xfrm>
                </p:grpSpPr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6957360" y="1368000"/>
                      <a:ext cx="51840" cy="522720"/>
                      <a:chOff x="6957360" y="1368000"/>
                      <a:chExt cx="51840" cy="522720"/>
                    </a:xfrm>
                  </p:grpSpPr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6957360" y="1368000"/>
                        <a:ext cx="41040" cy="52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73">
                            <a:moveTo>
                              <a:pt x="0" y="45"/>
                            </a:moveTo>
                            <a:lnTo>
                              <a:pt x="25" y="0"/>
                            </a:lnTo>
                            <a:lnTo>
                              <a:pt x="25" y="572"/>
                            </a:lnTo>
                            <a:lnTo>
                              <a:pt x="0" y="57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 flipH="1">
                        <a:off x="6987240" y="1381320"/>
                        <a:ext cx="2880" cy="503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2" name=""/>
                      <p:cNvSpPr/>
                      <p:nvPr/>
                    </p:nvSpPr>
                    <p:spPr>
                      <a:xfrm>
                        <a:off x="6973200" y="1395000"/>
                        <a:ext cx="0" cy="492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3" name=""/>
                      <p:cNvSpPr/>
                      <p:nvPr/>
                    </p:nvSpPr>
                    <p:spPr>
                      <a:xfrm>
                        <a:off x="6984000" y="1862640"/>
                        <a:ext cx="25200" cy="23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400" bIns="-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6969960" y="1862640"/>
                        <a:ext cx="24840" cy="23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400" bIns="-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95" name=""/>
                    <p:cNvGrpSpPr/>
                    <p:nvPr/>
                  </p:nvGrpSpPr>
                  <p:grpSpPr>
                    <a:xfrm>
                      <a:off x="7006320" y="1404360"/>
                      <a:ext cx="83160" cy="481680"/>
                      <a:chOff x="7006320" y="1404360"/>
                      <a:chExt cx="83160" cy="481680"/>
                    </a:xfrm>
                  </p:grpSpPr>
                  <p:grpSp>
                    <p:nvGrpSpPr>
                      <p:cNvPr id="896" name=""/>
                      <p:cNvGrpSpPr/>
                      <p:nvPr/>
                    </p:nvGrpSpPr>
                    <p:grpSpPr>
                      <a:xfrm>
                        <a:off x="7015680" y="1856160"/>
                        <a:ext cx="73800" cy="29880"/>
                        <a:chOff x="7015680" y="1856160"/>
                        <a:chExt cx="73800" cy="29880"/>
                      </a:xfrm>
                    </p:grpSpPr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>
                          <a:off x="7050240" y="1856880"/>
                          <a:ext cx="24840" cy="291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7640" bIns="-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>
                          <a:off x="7064280" y="1856880"/>
                          <a:ext cx="2520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720" bIns="-18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>
                          <a:off x="7015680" y="1856160"/>
                          <a:ext cx="24840" cy="291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7640" bIns="-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>
                          <a:off x="7027920" y="1856160"/>
                          <a:ext cx="24840" cy="291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7640" bIns="-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1" name=""/>
                      <p:cNvGrpSpPr/>
                      <p:nvPr/>
                    </p:nvGrpSpPr>
                    <p:grpSpPr>
                      <a:xfrm>
                        <a:off x="7006320" y="1409760"/>
                        <a:ext cx="66240" cy="423360"/>
                        <a:chOff x="7006320" y="1409760"/>
                        <a:chExt cx="66240" cy="423360"/>
                      </a:xfrm>
                    </p:grpSpPr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>
                          <a:off x="7006320" y="1409760"/>
                          <a:ext cx="6624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6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5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>
                          <a:off x="7006320" y="1433160"/>
                          <a:ext cx="6624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7">
                              <a:moveTo>
                                <a:pt x="0" y="0"/>
                              </a:moveTo>
                              <a:lnTo>
                                <a:pt x="41" y="13"/>
                              </a:lnTo>
                              <a:lnTo>
                                <a:pt x="41" y="2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>
                          <a:off x="7006320" y="1459800"/>
                          <a:ext cx="66240" cy="2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>
                          <a:off x="7006320" y="1484280"/>
                          <a:ext cx="66240" cy="2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>
                          <a:off x="7006320" y="1508040"/>
                          <a:ext cx="662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>
                          <a:off x="7006320" y="1530720"/>
                          <a:ext cx="662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8" name=""/>
                        <p:cNvSpPr/>
                        <p:nvPr/>
                      </p:nvSpPr>
                      <p:spPr>
                        <a:xfrm>
                          <a:off x="7006320" y="1555560"/>
                          <a:ext cx="662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9" name=""/>
                        <p:cNvSpPr/>
                        <p:nvPr/>
                      </p:nvSpPr>
                      <p:spPr>
                        <a:xfrm>
                          <a:off x="7006320" y="1580040"/>
                          <a:ext cx="6624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0"/>
                              </a:moveTo>
                              <a:lnTo>
                                <a:pt x="41" y="9"/>
                              </a:lnTo>
                              <a:lnTo>
                                <a:pt x="41" y="21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0" name=""/>
                        <p:cNvSpPr/>
                        <p:nvPr/>
                      </p:nvSpPr>
                      <p:spPr>
                        <a:xfrm>
                          <a:off x="7006320" y="1604880"/>
                          <a:ext cx="6624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1" name=""/>
                        <p:cNvSpPr/>
                        <p:nvPr/>
                      </p:nvSpPr>
                      <p:spPr>
                        <a:xfrm>
                          <a:off x="7006320" y="1628640"/>
                          <a:ext cx="6624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7006320" y="1654920"/>
                          <a:ext cx="6624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19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7006320" y="1680480"/>
                          <a:ext cx="6624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4" name=""/>
                        <p:cNvSpPr/>
                        <p:nvPr/>
                      </p:nvSpPr>
                      <p:spPr>
                        <a:xfrm>
                          <a:off x="7006320" y="1708200"/>
                          <a:ext cx="6624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9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>
                          <a:off x="7006320" y="1734480"/>
                          <a:ext cx="6624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9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8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>
                          <a:off x="7006320" y="1761840"/>
                          <a:ext cx="6624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8">
                              <a:moveTo>
                                <a:pt x="0" y="0"/>
                              </a:moveTo>
                              <a:lnTo>
                                <a:pt x="41" y="6"/>
                              </a:lnTo>
                              <a:lnTo>
                                <a:pt x="41" y="17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>
                          <a:off x="7006320" y="1789920"/>
                          <a:ext cx="6624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4"/>
                              </a:lnTo>
                              <a:lnTo>
                                <a:pt x="41" y="16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>
                          <a:off x="7006320" y="1817640"/>
                          <a:ext cx="6624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2"/>
                              </a:lnTo>
                              <a:lnTo>
                                <a:pt x="41" y="1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9" name=""/>
                      <p:cNvGrpSpPr/>
                      <p:nvPr/>
                    </p:nvGrpSpPr>
                    <p:grpSpPr>
                      <a:xfrm>
                        <a:off x="7023600" y="1404360"/>
                        <a:ext cx="40320" cy="454320"/>
                        <a:chOff x="7023600" y="1404360"/>
                        <a:chExt cx="40320" cy="454320"/>
                      </a:xfrm>
                    </p:grpSpPr>
                    <p:grpSp>
                      <p:nvGrpSpPr>
                        <p:cNvPr id="920" name=""/>
                        <p:cNvGrpSpPr/>
                        <p:nvPr/>
                      </p:nvGrpSpPr>
                      <p:grpSpPr>
                        <a:xfrm>
                          <a:off x="7023600" y="1404360"/>
                          <a:ext cx="9000" cy="454320"/>
                          <a:chOff x="7023600" y="1404360"/>
                          <a:chExt cx="9000" cy="454320"/>
                        </a:xfrm>
                      </p:grpSpPr>
                      <p:sp>
                        <p:nvSpPr>
                          <p:cNvPr id="921" name=""/>
                          <p:cNvSpPr/>
                          <p:nvPr/>
                        </p:nvSpPr>
                        <p:spPr>
                          <a:xfrm flipV="1">
                            <a:off x="7023600" y="1404360"/>
                            <a:ext cx="0" cy="454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2" name=""/>
                          <p:cNvSpPr/>
                          <p:nvPr/>
                        </p:nvSpPr>
                        <p:spPr>
                          <a:xfrm flipV="1">
                            <a:off x="7032600" y="1405080"/>
                            <a:ext cx="0" cy="45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3" name=""/>
                        <p:cNvGrpSpPr/>
                        <p:nvPr/>
                      </p:nvGrpSpPr>
                      <p:grpSpPr>
                        <a:xfrm>
                          <a:off x="7054920" y="1409760"/>
                          <a:ext cx="9000" cy="448560"/>
                          <a:chOff x="7054920" y="1409760"/>
                          <a:chExt cx="9000" cy="448560"/>
                        </a:xfrm>
                      </p:grpSpPr>
                      <p:sp>
                        <p:nvSpPr>
                          <p:cNvPr id="924" name=""/>
                          <p:cNvSpPr/>
                          <p:nvPr/>
                        </p:nvSpPr>
                        <p:spPr>
                          <a:xfrm flipV="1">
                            <a:off x="7054920" y="1409760"/>
                            <a:ext cx="0" cy="4485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5" name=""/>
                          <p:cNvSpPr/>
                          <p:nvPr/>
                        </p:nvSpPr>
                        <p:spPr>
                          <a:xfrm flipV="1">
                            <a:off x="7063920" y="1410480"/>
                            <a:ext cx="0" cy="447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926" name=""/>
              <p:cNvGrpSpPr/>
              <p:nvPr/>
            </p:nvGrpSpPr>
            <p:grpSpPr>
              <a:xfrm>
                <a:off x="6935760" y="1761480"/>
                <a:ext cx="370800" cy="143280"/>
                <a:chOff x="6935760" y="1761480"/>
                <a:chExt cx="370800" cy="14328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168680" y="185724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27"/>
                      </a:move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4" y="12"/>
                      </a:lnTo>
                      <a:lnTo>
                        <a:pt x="5" y="8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34" y="12"/>
                      </a:lnTo>
                      <a:lnTo>
                        <a:pt x="35" y="14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4" y="25"/>
                      </a:lnTo>
                      <a:lnTo>
                        <a:pt x="35" y="27"/>
                      </a:lnTo>
                      <a:lnTo>
                        <a:pt x="35" y="30"/>
                      </a:lnTo>
                      <a:lnTo>
                        <a:pt x="34" y="31"/>
                      </a:lnTo>
                      <a:lnTo>
                        <a:pt x="33" y="32"/>
                      </a:lnTo>
                      <a:lnTo>
                        <a:pt x="33" y="34"/>
                      </a:lnTo>
                      <a:lnTo>
                        <a:pt x="33" y="36"/>
                      </a:lnTo>
                      <a:lnTo>
                        <a:pt x="33" y="37"/>
                      </a:lnTo>
                      <a:lnTo>
                        <a:pt x="34" y="38"/>
                      </a:lnTo>
                      <a:lnTo>
                        <a:pt x="36" y="39"/>
                      </a:lnTo>
                      <a:lnTo>
                        <a:pt x="36" y="42"/>
                      </a:lnTo>
                      <a:lnTo>
                        <a:pt x="36" y="44"/>
                      </a:lnTo>
                      <a:lnTo>
                        <a:pt x="34" y="45"/>
                      </a:lnTo>
                      <a:lnTo>
                        <a:pt x="33" y="46"/>
                      </a:lnTo>
                      <a:lnTo>
                        <a:pt x="32" y="47"/>
                      </a:lnTo>
                      <a:lnTo>
                        <a:pt x="29" y="49"/>
                      </a:lnTo>
                      <a:lnTo>
                        <a:pt x="23" y="51"/>
                      </a:lnTo>
                      <a:lnTo>
                        <a:pt x="19" y="51"/>
                      </a:lnTo>
                      <a:lnTo>
                        <a:pt x="18" y="51"/>
                      </a:lnTo>
                      <a:lnTo>
                        <a:pt x="17" y="48"/>
                      </a:lnTo>
                      <a:lnTo>
                        <a:pt x="15" y="47"/>
                      </a:lnTo>
                      <a:lnTo>
                        <a:pt x="13" y="46"/>
                      </a:lnTo>
                      <a:lnTo>
                        <a:pt x="11" y="49"/>
                      </a:lnTo>
                      <a:lnTo>
                        <a:pt x="9" y="50"/>
                      </a:lnTo>
                      <a:lnTo>
                        <a:pt x="4" y="49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4"/>
                      </a:lnTo>
                      <a:lnTo>
                        <a:pt x="2" y="42"/>
                      </a:lnTo>
                      <a:lnTo>
                        <a:pt x="3" y="39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3" y="31"/>
                      </a:lnTo>
                      <a:lnTo>
                        <a:pt x="1" y="3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270200" y="1856160"/>
                  <a:ext cx="36360" cy="4644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26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7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6" y="3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20" y="12"/>
                      </a:lnTo>
                      <a:lnTo>
                        <a:pt x="21" y="13"/>
                      </a:lnTo>
                      <a:lnTo>
                        <a:pt x="21" y="14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0" y="22"/>
                      </a:lnTo>
                      <a:lnTo>
                        <a:pt x="20" y="25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30"/>
                      </a:lnTo>
                      <a:lnTo>
                        <a:pt x="20" y="31"/>
                      </a:lnTo>
                      <a:lnTo>
                        <a:pt x="19" y="33"/>
                      </a:lnTo>
                      <a:lnTo>
                        <a:pt x="19" y="35"/>
                      </a:lnTo>
                      <a:lnTo>
                        <a:pt x="20" y="36"/>
                      </a:lnTo>
                      <a:lnTo>
                        <a:pt x="20" y="36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0" y="44"/>
                      </a:lnTo>
                      <a:lnTo>
                        <a:pt x="20" y="45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6" y="47"/>
                      </a:lnTo>
                      <a:lnTo>
                        <a:pt x="5" y="48"/>
                      </a:lnTo>
                      <a:lnTo>
                        <a:pt x="2" y="48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30"/>
                      </a:lnTo>
                      <a:lnTo>
                        <a:pt x="0" y="28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081200" y="1761480"/>
                  <a:ext cx="31680" cy="132120"/>
                </a:xfrm>
                <a:custGeom>
                  <a:avLst/>
                  <a:gdLst/>
                  <a:ahLst/>
                  <a:rect l="l" t="t" r="r" b="b"/>
                  <a:pathLst>
                    <a:path w="20" h="145">
                      <a:moveTo>
                        <a:pt x="0" y="76"/>
                      </a:moveTo>
                      <a:lnTo>
                        <a:pt x="0" y="67"/>
                      </a:lnTo>
                      <a:lnTo>
                        <a:pt x="1" y="58"/>
                      </a:lnTo>
                      <a:lnTo>
                        <a:pt x="1" y="50"/>
                      </a:lnTo>
                      <a:lnTo>
                        <a:pt x="2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2" y="17"/>
                      </a:lnTo>
                      <a:lnTo>
                        <a:pt x="3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9" y="5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6"/>
                      </a:lnTo>
                      <a:lnTo>
                        <a:pt x="17" y="13"/>
                      </a:lnTo>
                      <a:lnTo>
                        <a:pt x="17" y="18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33"/>
                      </a:lnTo>
                      <a:lnTo>
                        <a:pt x="18" y="37"/>
                      </a:lnTo>
                      <a:lnTo>
                        <a:pt x="19" y="39"/>
                      </a:lnTo>
                      <a:lnTo>
                        <a:pt x="19" y="45"/>
                      </a:lnTo>
                      <a:lnTo>
                        <a:pt x="19" y="50"/>
                      </a:lnTo>
                      <a:lnTo>
                        <a:pt x="19" y="54"/>
                      </a:lnTo>
                      <a:lnTo>
                        <a:pt x="18" y="57"/>
                      </a:lnTo>
                      <a:lnTo>
                        <a:pt x="18" y="62"/>
                      </a:lnTo>
                      <a:lnTo>
                        <a:pt x="18" y="70"/>
                      </a:lnTo>
                      <a:lnTo>
                        <a:pt x="18" y="73"/>
                      </a:lnTo>
                      <a:lnTo>
                        <a:pt x="18" y="83"/>
                      </a:lnTo>
                      <a:lnTo>
                        <a:pt x="18" y="86"/>
                      </a:lnTo>
                      <a:lnTo>
                        <a:pt x="17" y="88"/>
                      </a:lnTo>
                      <a:lnTo>
                        <a:pt x="17" y="95"/>
                      </a:lnTo>
                      <a:lnTo>
                        <a:pt x="17" y="100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7"/>
                      </a:lnTo>
                      <a:lnTo>
                        <a:pt x="19" y="116"/>
                      </a:lnTo>
                      <a:lnTo>
                        <a:pt x="18" y="121"/>
                      </a:lnTo>
                      <a:lnTo>
                        <a:pt x="18" y="126"/>
                      </a:lnTo>
                      <a:lnTo>
                        <a:pt x="17" y="129"/>
                      </a:lnTo>
                      <a:lnTo>
                        <a:pt x="17" y="134"/>
                      </a:lnTo>
                      <a:lnTo>
                        <a:pt x="15" y="138"/>
                      </a:lnTo>
                      <a:lnTo>
                        <a:pt x="12" y="142"/>
                      </a:lnTo>
                      <a:lnTo>
                        <a:pt x="10" y="144"/>
                      </a:lnTo>
                      <a:lnTo>
                        <a:pt x="9" y="143"/>
                      </a:lnTo>
                      <a:lnTo>
                        <a:pt x="9" y="137"/>
                      </a:lnTo>
                      <a:lnTo>
                        <a:pt x="8" y="132"/>
                      </a:lnTo>
                      <a:lnTo>
                        <a:pt x="7" y="132"/>
                      </a:lnTo>
                      <a:lnTo>
                        <a:pt x="6" y="138"/>
                      </a:lnTo>
                      <a:lnTo>
                        <a:pt x="4" y="140"/>
                      </a:lnTo>
                      <a:lnTo>
                        <a:pt x="2" y="139"/>
                      </a:lnTo>
                      <a:lnTo>
                        <a:pt x="1" y="137"/>
                      </a:lnTo>
                      <a:lnTo>
                        <a:pt x="1" y="129"/>
                      </a:lnTo>
                      <a:lnTo>
                        <a:pt x="1" y="123"/>
                      </a:lnTo>
                      <a:lnTo>
                        <a:pt x="1" y="116"/>
                      </a:lnTo>
                      <a:lnTo>
                        <a:pt x="2" y="108"/>
                      </a:lnTo>
                      <a:lnTo>
                        <a:pt x="2" y="98"/>
                      </a:lnTo>
                      <a:lnTo>
                        <a:pt x="2" y="92"/>
                      </a:lnTo>
                      <a:lnTo>
                        <a:pt x="1" y="86"/>
                      </a:lnTo>
                      <a:lnTo>
                        <a:pt x="0" y="83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137000" y="1865520"/>
                  <a:ext cx="26640" cy="3744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4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5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5" y="23"/>
                      </a:lnTo>
                      <a:lnTo>
                        <a:pt x="15" y="24"/>
                      </a:lnTo>
                      <a:lnTo>
                        <a:pt x="14" y="25"/>
                      </a:lnTo>
                      <a:lnTo>
                        <a:pt x="14" y="27"/>
                      </a:lnTo>
                      <a:lnTo>
                        <a:pt x="14" y="28"/>
                      </a:lnTo>
                      <a:lnTo>
                        <a:pt x="14" y="30"/>
                      </a:lnTo>
                      <a:lnTo>
                        <a:pt x="15" y="30"/>
                      </a:lnTo>
                      <a:lnTo>
                        <a:pt x="15" y="31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15" y="35"/>
                      </a:lnTo>
                      <a:lnTo>
                        <a:pt x="14" y="36"/>
                      </a:lnTo>
                      <a:lnTo>
                        <a:pt x="14" y="37"/>
                      </a:lnTo>
                      <a:lnTo>
                        <a:pt x="12" y="38"/>
                      </a:lnTo>
                      <a:lnTo>
                        <a:pt x="10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37"/>
                      </a:lnTo>
                      <a:lnTo>
                        <a:pt x="5" y="37"/>
                      </a:lnTo>
                      <a:lnTo>
                        <a:pt x="5" y="38"/>
                      </a:lnTo>
                      <a:lnTo>
                        <a:pt x="3" y="39"/>
                      </a:lnTo>
                      <a:lnTo>
                        <a:pt x="2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05320" y="1865520"/>
                  <a:ext cx="28080" cy="3744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6" y="30"/>
                      </a:lnTo>
                      <a:lnTo>
                        <a:pt x="16" y="30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7" y="34"/>
                      </a:lnTo>
                      <a:lnTo>
                        <a:pt x="16" y="35"/>
                      </a:lnTo>
                      <a:lnTo>
                        <a:pt x="16" y="36"/>
                      </a:lnTo>
                      <a:lnTo>
                        <a:pt x="15" y="37"/>
                      </a:lnTo>
                      <a:lnTo>
                        <a:pt x="13" y="38"/>
                      </a:lnTo>
                      <a:lnTo>
                        <a:pt x="11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7" y="37"/>
                      </a:lnTo>
                      <a:lnTo>
                        <a:pt x="6" y="37"/>
                      </a:lnTo>
                      <a:lnTo>
                        <a:pt x="5" y="38"/>
                      </a:lnTo>
                      <a:lnTo>
                        <a:pt x="4" y="39"/>
                      </a:lnTo>
                      <a:lnTo>
                        <a:pt x="1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0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935760" y="1852560"/>
                  <a:ext cx="36000" cy="45720"/>
                </a:xfrm>
                <a:custGeom>
                  <a:avLst/>
                  <a:gdLst/>
                  <a:ahLst/>
                  <a:rect l="l" t="t" r="r" b="b"/>
                  <a:pathLst>
                    <a:path w="23" h="50">
                      <a:moveTo>
                        <a:pt x="0" y="25"/>
                      </a:move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1"/>
                      </a:lnTo>
                      <a:lnTo>
                        <a:pt x="20" y="24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9" y="34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1" y="44"/>
                      </a:lnTo>
                      <a:lnTo>
                        <a:pt x="20" y="44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49"/>
                      </a:lnTo>
                      <a:lnTo>
                        <a:pt x="11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8" y="45"/>
                      </a:lnTo>
                      <a:lnTo>
                        <a:pt x="7" y="47"/>
                      </a:lnTo>
                      <a:lnTo>
                        <a:pt x="6" y="48"/>
                      </a:lnTo>
                      <a:lnTo>
                        <a:pt x="2" y="48"/>
                      </a:lnTo>
                      <a:lnTo>
                        <a:pt x="2" y="47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3" name=""/>
          <p:cNvGrpSpPr/>
          <p:nvPr/>
        </p:nvGrpSpPr>
        <p:grpSpPr>
          <a:xfrm>
            <a:off x="1904760" y="1959840"/>
            <a:ext cx="492480" cy="713520"/>
            <a:chOff x="1904760" y="1959840"/>
            <a:chExt cx="492480" cy="713520"/>
          </a:xfrm>
        </p:grpSpPr>
        <p:sp>
          <p:nvSpPr>
            <p:cNvPr id="934" name=""/>
            <p:cNvSpPr/>
            <p:nvPr/>
          </p:nvSpPr>
          <p:spPr>
            <a:xfrm rot="10560000">
              <a:off x="2017800" y="1971720"/>
              <a:ext cx="36360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6" y="0"/>
                  </a:moveTo>
                  <a:arcTo wR="10800" hR="10800" stAng="-5423708" swAng="5423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6" y="0"/>
                  </a:moveTo>
                  <a:arcTo wR="10800" hR="10800" stAng="-5423708" swAng="5423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86200" y="2386440"/>
              <a:ext cx="60480" cy="28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1965240" y="2386440"/>
              <a:ext cx="120600" cy="28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904760" y="2673360"/>
              <a:ext cx="30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 flipV="1">
            <a:off x="2057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362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219320" y="3352680"/>
            <a:ext cx="480960" cy="368280"/>
            <a:chOff x="1219320" y="3352680"/>
            <a:chExt cx="480960" cy="368280"/>
          </a:xfrm>
        </p:grpSpPr>
        <p:sp>
          <p:nvSpPr>
            <p:cNvPr id="941" name=""/>
            <p:cNvSpPr/>
            <p:nvPr/>
          </p:nvSpPr>
          <p:spPr>
            <a:xfrm>
              <a:off x="1219320" y="3352680"/>
              <a:ext cx="48096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292040" y="3414240"/>
              <a:ext cx="37260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H="1">
            <a:off x="1676160" y="36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1676160" y="3581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62320" y="38862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362320" y="36576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6000" y="39625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954080" y="32763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030400" y="32763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106720" y="32763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666880" y="3733920"/>
            <a:ext cx="1041480" cy="504720"/>
            <a:chOff x="2666880" y="3733920"/>
            <a:chExt cx="1041480" cy="504720"/>
          </a:xfrm>
        </p:grpSpPr>
        <p:sp>
          <p:nvSpPr>
            <p:cNvPr id="952" name=""/>
            <p:cNvSpPr/>
            <p:nvPr/>
          </p:nvSpPr>
          <p:spPr>
            <a:xfrm>
              <a:off x="2666880" y="3733920"/>
              <a:ext cx="1041480" cy="50472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863800" y="38401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T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286000" y="609480"/>
            <a:ext cx="3425760" cy="1666800"/>
            <a:chOff x="2286000" y="609480"/>
            <a:chExt cx="3425760" cy="1666800"/>
          </a:xfrm>
        </p:grpSpPr>
        <p:sp>
          <p:nvSpPr>
            <p:cNvPr id="955" name=""/>
            <p:cNvSpPr/>
            <p:nvPr/>
          </p:nvSpPr>
          <p:spPr>
            <a:xfrm flipV="1">
              <a:off x="2286000" y="1598040"/>
              <a:ext cx="793800" cy="6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79800" y="1598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079800" y="1083960"/>
              <a:ext cx="1040040" cy="8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20200" y="108432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120200" y="609480"/>
              <a:ext cx="1591560" cy="8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944040" y="824760"/>
            <a:ext cx="371160" cy="470520"/>
            <a:chOff x="6944040" y="824760"/>
            <a:chExt cx="371160" cy="470520"/>
          </a:xfrm>
        </p:grpSpPr>
        <p:sp>
          <p:nvSpPr>
            <p:cNvPr id="961" name=""/>
            <p:cNvSpPr/>
            <p:nvPr/>
          </p:nvSpPr>
          <p:spPr>
            <a:xfrm rot="11040000">
              <a:off x="6954120" y="833760"/>
              <a:ext cx="276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6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629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7131960" y="1107000"/>
              <a:ext cx="4572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78040" y="1107000"/>
              <a:ext cx="9108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86600" y="1295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248160" y="609120"/>
            <a:ext cx="913680" cy="457200"/>
            <a:chOff x="6248160" y="609120"/>
            <a:chExt cx="913680" cy="457200"/>
          </a:xfrm>
        </p:grpSpPr>
        <p:sp>
          <p:nvSpPr>
            <p:cNvPr id="966" name=""/>
            <p:cNvSpPr/>
            <p:nvPr/>
          </p:nvSpPr>
          <p:spPr>
            <a:xfrm flipH="1" flipV="1">
              <a:off x="6950520" y="870120"/>
              <a:ext cx="21132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950880" y="8704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6667920" y="739440"/>
              <a:ext cx="2829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67920" y="7398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6248160" y="609120"/>
              <a:ext cx="41940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803120" y="205740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CROON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590920" y="5029200"/>
          <a:ext cx="45396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5029200"/>
                    <a:ext cx="453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4" name=""/>
          <p:cNvGrpSpPr/>
          <p:nvPr/>
        </p:nvGrpSpPr>
        <p:grpSpPr>
          <a:xfrm>
            <a:off x="1981080" y="3809880"/>
            <a:ext cx="381240" cy="266760"/>
            <a:chOff x="1981080" y="3809880"/>
            <a:chExt cx="381240" cy="266760"/>
          </a:xfrm>
        </p:grpSpPr>
        <p:grpSp>
          <p:nvGrpSpPr>
            <p:cNvPr id="975" name=""/>
            <p:cNvGrpSpPr/>
            <p:nvPr/>
          </p:nvGrpSpPr>
          <p:grpSpPr>
            <a:xfrm>
              <a:off x="1981080" y="3809880"/>
              <a:ext cx="381240" cy="266760"/>
              <a:chOff x="1981080" y="3809880"/>
              <a:chExt cx="381240" cy="266760"/>
            </a:xfrm>
          </p:grpSpPr>
          <p:sp>
            <p:nvSpPr>
              <p:cNvPr id="976" name=""/>
              <p:cNvSpPr/>
              <p:nvPr/>
            </p:nvSpPr>
            <p:spPr>
              <a:xfrm>
                <a:off x="1995480" y="381312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021040" y="3929040"/>
                <a:ext cx="183960" cy="1094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8" name=""/>
              <p:cNvGrpSpPr/>
              <p:nvPr/>
            </p:nvGrpSpPr>
            <p:grpSpPr>
              <a:xfrm>
                <a:off x="1981080" y="3932280"/>
                <a:ext cx="217800" cy="144360"/>
                <a:chOff x="1981080" y="3932280"/>
                <a:chExt cx="217800" cy="14436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2006640" y="3960720"/>
                  <a:ext cx="185760" cy="88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003400" y="3971880"/>
                  <a:ext cx="171360" cy="9504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81080" y="393228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162160" y="4012920"/>
                  <a:ext cx="36720" cy="63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" name=""/>
              <p:cNvSpPr/>
              <p:nvPr/>
            </p:nvSpPr>
            <p:spPr>
              <a:xfrm>
                <a:off x="2174760" y="3871800"/>
                <a:ext cx="187560" cy="2048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028960" y="3817800"/>
                <a:ext cx="315720" cy="1857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184480" y="3868560"/>
                <a:ext cx="177840" cy="1508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005200" y="3809880"/>
                <a:ext cx="198360" cy="1285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2025720" y="3967200"/>
              <a:ext cx="135000" cy="66600"/>
              <a:chOff x="2025720" y="3967200"/>
              <a:chExt cx="135000" cy="6660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2025720" y="3967200"/>
                <a:ext cx="4680" cy="6120"/>
                <a:chOff x="2025720" y="3967200"/>
                <a:chExt cx="4680" cy="61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2025720" y="3970080"/>
                  <a:ext cx="468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025720" y="3967200"/>
                  <a:ext cx="468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2059200" y="3979800"/>
                <a:ext cx="101520" cy="54000"/>
                <a:chOff x="2059200" y="3979800"/>
                <a:chExt cx="101520" cy="5400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2059200" y="3984480"/>
                  <a:ext cx="101520" cy="49320"/>
                  <a:chOff x="2059200" y="3984480"/>
                  <a:chExt cx="101520" cy="4932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2141640" y="4021200"/>
                    <a:ext cx="32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075040" y="3992400"/>
                    <a:ext cx="612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108160" y="4006800"/>
                    <a:ext cx="46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124000" y="4014720"/>
                    <a:ext cx="504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090880" y="3998880"/>
                    <a:ext cx="46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059200" y="3984480"/>
                    <a:ext cx="46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154240" y="4029120"/>
                    <a:ext cx="648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2059200" y="3979800"/>
                  <a:ext cx="101520" cy="52200"/>
                  <a:chOff x="2059200" y="3979800"/>
                  <a:chExt cx="101520" cy="52200"/>
                </a:xfrm>
              </p:grpSpPr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2075040" y="3987720"/>
                    <a:ext cx="85680" cy="44280"/>
                    <a:chOff x="2075040" y="3987720"/>
                    <a:chExt cx="85680" cy="44280"/>
                  </a:xfrm>
                </p:grpSpPr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2156040" y="402588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2090880" y="3994200"/>
                      <a:ext cx="612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2124000" y="4010040"/>
                      <a:ext cx="504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2139840" y="4017960"/>
                      <a:ext cx="504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2106720" y="4002120"/>
                      <a:ext cx="61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2075040" y="3987720"/>
                      <a:ext cx="612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8" name=""/>
                  <p:cNvSpPr/>
                  <p:nvPr/>
                </p:nvSpPr>
                <p:spPr>
                  <a:xfrm>
                    <a:off x="2059200" y="3979800"/>
                    <a:ext cx="4680" cy="6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09" name=""/>
          <p:cNvSpPr/>
          <p:nvPr/>
        </p:nvSpPr>
        <p:spPr>
          <a:xfrm>
            <a:off x="1828800" y="3505320"/>
            <a:ext cx="477720" cy="1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2971800" y="5029200"/>
            <a:ext cx="380520" cy="266760"/>
            <a:chOff x="2971800" y="5029200"/>
            <a:chExt cx="380520" cy="266760"/>
          </a:xfrm>
        </p:grpSpPr>
        <p:grpSp>
          <p:nvGrpSpPr>
            <p:cNvPr id="1011" name=""/>
            <p:cNvGrpSpPr/>
            <p:nvPr/>
          </p:nvGrpSpPr>
          <p:grpSpPr>
            <a:xfrm>
              <a:off x="2971800" y="5029200"/>
              <a:ext cx="380520" cy="266760"/>
              <a:chOff x="2971800" y="5029200"/>
              <a:chExt cx="380520" cy="266760"/>
            </a:xfrm>
          </p:grpSpPr>
          <p:sp>
            <p:nvSpPr>
              <p:cNvPr id="1012" name=""/>
              <p:cNvSpPr/>
              <p:nvPr/>
            </p:nvSpPr>
            <p:spPr>
              <a:xfrm>
                <a:off x="2985840" y="5032440"/>
                <a:ext cx="207720" cy="183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11400" y="5148360"/>
                <a:ext cx="183600" cy="1094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2971800" y="5151600"/>
                <a:ext cx="217080" cy="144360"/>
                <a:chOff x="2971800" y="5151600"/>
                <a:chExt cx="217080" cy="14436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2997000" y="5180040"/>
                  <a:ext cx="185400" cy="88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993760" y="5191200"/>
                  <a:ext cx="171000" cy="9504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971800" y="5151600"/>
                  <a:ext cx="37800" cy="648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152520" y="5232240"/>
                  <a:ext cx="36360" cy="63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3165120" y="5091120"/>
                <a:ext cx="187200" cy="2048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19320" y="5037120"/>
                <a:ext cx="315360" cy="1857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174840" y="5087880"/>
                <a:ext cx="177480" cy="1508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95560" y="5029200"/>
                <a:ext cx="198000" cy="1285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3016080" y="5186520"/>
              <a:ext cx="133920" cy="66600"/>
              <a:chOff x="3016080" y="5186520"/>
              <a:chExt cx="133920" cy="6660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3016080" y="5186520"/>
                <a:ext cx="4320" cy="6120"/>
                <a:chOff x="3016080" y="5186520"/>
                <a:chExt cx="4320" cy="61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016080" y="5189400"/>
                  <a:ext cx="432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016080" y="5186520"/>
                  <a:ext cx="432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3049200" y="5199120"/>
                <a:ext cx="100800" cy="54000"/>
                <a:chOff x="3049200" y="5199120"/>
                <a:chExt cx="100800" cy="5400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3049200" y="5203800"/>
                  <a:ext cx="100800" cy="49320"/>
                  <a:chOff x="3049200" y="5203800"/>
                  <a:chExt cx="100800" cy="4932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3131280" y="5240520"/>
                    <a:ext cx="28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064680" y="5211720"/>
                    <a:ext cx="57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097800" y="5226120"/>
                    <a:ext cx="432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113640" y="5234040"/>
                    <a:ext cx="46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080520" y="5218200"/>
                    <a:ext cx="432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9200" y="5203800"/>
                    <a:ext cx="43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143880" y="5248440"/>
                    <a:ext cx="612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049200" y="5199120"/>
                  <a:ext cx="100440" cy="52200"/>
                  <a:chOff x="3049200" y="5199120"/>
                  <a:chExt cx="100440" cy="52200"/>
                </a:xfrm>
              </p:grpSpPr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3064680" y="5207040"/>
                    <a:ext cx="84960" cy="44280"/>
                    <a:chOff x="3064680" y="5207040"/>
                    <a:chExt cx="84960" cy="4428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145320" y="5245200"/>
                      <a:ext cx="43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3080160" y="5213520"/>
                      <a:ext cx="576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3113280" y="522936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3129120" y="523728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096000" y="5221440"/>
                      <a:ext cx="576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3064680" y="5207040"/>
                      <a:ext cx="576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3049200" y="5199120"/>
                    <a:ext cx="4320" cy="6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45" name=""/>
          <p:cNvSpPr/>
          <p:nvPr/>
        </p:nvSpPr>
        <p:spPr>
          <a:xfrm flipV="1">
            <a:off x="3200400" y="426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5181480" y="5181480"/>
            <a:ext cx="381240" cy="266760"/>
            <a:chOff x="5181480" y="5181480"/>
            <a:chExt cx="381240" cy="266760"/>
          </a:xfrm>
        </p:grpSpPr>
        <p:grpSp>
          <p:nvGrpSpPr>
            <p:cNvPr id="1047" name=""/>
            <p:cNvGrpSpPr/>
            <p:nvPr/>
          </p:nvGrpSpPr>
          <p:grpSpPr>
            <a:xfrm>
              <a:off x="5181480" y="5181480"/>
              <a:ext cx="381240" cy="266760"/>
              <a:chOff x="5181480" y="5181480"/>
              <a:chExt cx="381240" cy="266760"/>
            </a:xfrm>
          </p:grpSpPr>
          <p:sp>
            <p:nvSpPr>
              <p:cNvPr id="1048" name=""/>
              <p:cNvSpPr/>
              <p:nvPr/>
            </p:nvSpPr>
            <p:spPr>
              <a:xfrm>
                <a:off x="5195880" y="518472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21440" y="5300640"/>
                <a:ext cx="183960" cy="1094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5181480" y="5303880"/>
                <a:ext cx="217800" cy="144360"/>
                <a:chOff x="5181480" y="5303880"/>
                <a:chExt cx="217800" cy="14436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5207040" y="5332320"/>
                  <a:ext cx="185760" cy="88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203800" y="5343480"/>
                  <a:ext cx="171360" cy="9504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181480" y="530388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62560" y="5384520"/>
                  <a:ext cx="36720" cy="63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>
                <a:off x="5375160" y="5243400"/>
                <a:ext cx="187560" cy="2048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29360" y="5189400"/>
                <a:ext cx="315720" cy="1857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84880" y="5240160"/>
                <a:ext cx="177840" cy="1508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205600" y="5181480"/>
                <a:ext cx="198360" cy="1285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5226120" y="5338800"/>
              <a:ext cx="135000" cy="66600"/>
              <a:chOff x="5226120" y="5338800"/>
              <a:chExt cx="135000" cy="666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5226120" y="5338800"/>
                <a:ext cx="4680" cy="6120"/>
                <a:chOff x="5226120" y="5338800"/>
                <a:chExt cx="4680" cy="61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5226120" y="5341680"/>
                  <a:ext cx="468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226120" y="5338800"/>
                  <a:ext cx="468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5259600" y="5351400"/>
                <a:ext cx="101520" cy="54000"/>
                <a:chOff x="5259600" y="5351400"/>
                <a:chExt cx="101520" cy="5400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5259600" y="5356080"/>
                  <a:ext cx="101520" cy="49320"/>
                  <a:chOff x="5259600" y="5356080"/>
                  <a:chExt cx="101520" cy="4932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5342040" y="5392800"/>
                    <a:ext cx="32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275440" y="5364000"/>
                    <a:ext cx="612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308560" y="5378400"/>
                    <a:ext cx="46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324400" y="5386320"/>
                    <a:ext cx="504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291280" y="5370480"/>
                    <a:ext cx="46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9600" y="5356080"/>
                    <a:ext cx="46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354640" y="5400720"/>
                    <a:ext cx="648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5259600" y="5351400"/>
                  <a:ext cx="101520" cy="52200"/>
                  <a:chOff x="5259600" y="5351400"/>
                  <a:chExt cx="101520" cy="52200"/>
                </a:xfrm>
              </p:grpSpPr>
              <p:grpSp>
                <p:nvGrpSpPr>
                  <p:cNvPr id="1073" name=""/>
                  <p:cNvGrpSpPr/>
                  <p:nvPr/>
                </p:nvGrpSpPr>
                <p:grpSpPr>
                  <a:xfrm>
                    <a:off x="5275440" y="5359320"/>
                    <a:ext cx="85680" cy="44280"/>
                    <a:chOff x="5275440" y="5359320"/>
                    <a:chExt cx="85680" cy="44280"/>
                  </a:xfrm>
                </p:grpSpPr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5356440" y="539748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5291280" y="5365800"/>
                      <a:ext cx="612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5324400" y="5381640"/>
                      <a:ext cx="504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5340240" y="5389560"/>
                      <a:ext cx="504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5307120" y="5373720"/>
                      <a:ext cx="61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5275440" y="5359320"/>
                      <a:ext cx="612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0" name=""/>
                  <p:cNvSpPr/>
                  <p:nvPr/>
                </p:nvSpPr>
                <p:spPr>
                  <a:xfrm>
                    <a:off x="5259600" y="5351400"/>
                    <a:ext cx="4680" cy="6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81" name=""/>
          <p:cNvSpPr/>
          <p:nvPr/>
        </p:nvSpPr>
        <p:spPr>
          <a:xfrm>
            <a:off x="3505320" y="41911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86400" y="5334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93680" y="3581280"/>
            <a:ext cx="14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a 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380880" y="582480"/>
            <a:ext cx="1447920" cy="1397880"/>
            <a:chOff x="380880" y="582480"/>
            <a:chExt cx="1447920" cy="1397880"/>
          </a:xfrm>
        </p:grpSpPr>
        <p:grpSp>
          <p:nvGrpSpPr>
            <p:cNvPr id="1085" name=""/>
            <p:cNvGrpSpPr/>
            <p:nvPr/>
          </p:nvGrpSpPr>
          <p:grpSpPr>
            <a:xfrm>
              <a:off x="525600" y="1082520"/>
              <a:ext cx="293400" cy="114480"/>
              <a:chOff x="525600" y="1082520"/>
              <a:chExt cx="293400" cy="11448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525600" y="1082520"/>
                <a:ext cx="293400" cy="114480"/>
                <a:chOff x="525600" y="1082520"/>
                <a:chExt cx="293400" cy="1144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525600" y="1082520"/>
                  <a:ext cx="293400" cy="11448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58160" y="1082520"/>
                  <a:ext cx="60480" cy="11412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9" name=""/>
                <p:cNvGrpSpPr/>
                <p:nvPr/>
              </p:nvGrpSpPr>
              <p:grpSpPr>
                <a:xfrm>
                  <a:off x="554040" y="1083960"/>
                  <a:ext cx="171720" cy="110880"/>
                  <a:chOff x="554040" y="1083960"/>
                  <a:chExt cx="171720" cy="11088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 flipH="1">
                    <a:off x="554040" y="1083960"/>
                    <a:ext cx="324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98320" y="10839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40440" y="10839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>
                    <a:off x="681120" y="1084320"/>
                    <a:ext cx="324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25400" y="1083960"/>
                    <a:ext cx="36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95" name=""/>
              <p:cNvSpPr/>
              <p:nvPr/>
            </p:nvSpPr>
            <p:spPr>
              <a:xfrm>
                <a:off x="561960" y="1091880"/>
                <a:ext cx="242640" cy="10512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8800" y="1094760"/>
                <a:ext cx="230400" cy="9216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58360" y="109152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58360" y="1128960"/>
                <a:ext cx="2516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58360" y="1147320"/>
                <a:ext cx="25164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58360" y="116604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58360" y="118440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58720" y="1110240"/>
                <a:ext cx="2512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10200" y="1095840"/>
                <a:ext cx="396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57360" y="1095840"/>
                <a:ext cx="3240" cy="9144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04880" y="1096560"/>
                <a:ext cx="324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2040" y="1096560"/>
                <a:ext cx="360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07" name=""/>
            <p:cNvGraphicFramePr/>
            <p:nvPr/>
          </p:nvGraphicFramePr>
          <p:xfrm>
            <a:off x="1639800" y="1197000"/>
            <a:ext cx="173160" cy="193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1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639800" y="1197000"/>
                      <a:ext cx="173160" cy="1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9" name=""/>
            <p:cNvGraphicFramePr/>
            <p:nvPr/>
          </p:nvGraphicFramePr>
          <p:xfrm>
            <a:off x="1301760" y="979560"/>
            <a:ext cx="87480" cy="1648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1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301760" y="979560"/>
                      <a:ext cx="8748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1" name=""/>
            <p:cNvGraphicFramePr/>
            <p:nvPr/>
          </p:nvGraphicFramePr>
          <p:xfrm>
            <a:off x="1603440" y="914400"/>
            <a:ext cx="225360" cy="2462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1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603440" y="914400"/>
                      <a:ext cx="22536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13" name=""/>
            <p:cNvGrpSpPr/>
            <p:nvPr/>
          </p:nvGrpSpPr>
          <p:grpSpPr>
            <a:xfrm>
              <a:off x="525600" y="930240"/>
              <a:ext cx="293400" cy="114480"/>
              <a:chOff x="525600" y="930240"/>
              <a:chExt cx="293400" cy="11448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525600" y="930240"/>
                <a:ext cx="293400" cy="114480"/>
                <a:chOff x="525600" y="930240"/>
                <a:chExt cx="293400" cy="1144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525600" y="930240"/>
                  <a:ext cx="293400" cy="11448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58160" y="930240"/>
                  <a:ext cx="60480" cy="11412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554040" y="932040"/>
                  <a:ext cx="171720" cy="110880"/>
                  <a:chOff x="554040" y="932040"/>
                  <a:chExt cx="171720" cy="11088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 flipH="1">
                    <a:off x="554040" y="932040"/>
                    <a:ext cx="324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598320" y="93204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40440" y="93204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>
                    <a:off x="681120" y="932400"/>
                    <a:ext cx="324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725400" y="932040"/>
                    <a:ext cx="36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3" name=""/>
              <p:cNvSpPr/>
              <p:nvPr/>
            </p:nvSpPr>
            <p:spPr>
              <a:xfrm>
                <a:off x="561960" y="939600"/>
                <a:ext cx="242640" cy="10512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68800" y="942480"/>
                <a:ext cx="230400" cy="9216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58360" y="93924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58360" y="976680"/>
                <a:ext cx="2516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8360" y="995400"/>
                <a:ext cx="25164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58360" y="101376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8360" y="103212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58720" y="957960"/>
                <a:ext cx="2512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0200" y="943560"/>
                <a:ext cx="396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57360" y="943560"/>
                <a:ext cx="3240" cy="9144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04880" y="944280"/>
                <a:ext cx="324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52040" y="944280"/>
                <a:ext cx="360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824040" y="938160"/>
              <a:ext cx="15840" cy="90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360" y="938160"/>
              <a:ext cx="15840" cy="9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522360" y="1847520"/>
              <a:ext cx="3175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380880" y="1780920"/>
              <a:ext cx="600120" cy="199440"/>
              <a:chOff x="380880" y="1780920"/>
              <a:chExt cx="600120" cy="19944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380880" y="1780920"/>
                <a:ext cx="600120" cy="187920"/>
                <a:chOff x="380880" y="1780920"/>
                <a:chExt cx="600120" cy="187920"/>
              </a:xfrm>
            </p:grpSpPr>
            <p:sp>
              <p:nvSpPr>
                <p:cNvPr id="1140" name=""/>
                <p:cNvSpPr/>
                <p:nvPr/>
              </p:nvSpPr>
              <p:spPr>
                <a:xfrm flipV="1">
                  <a:off x="380880" y="1780920"/>
                  <a:ext cx="36972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593640" y="1873440"/>
                  <a:ext cx="36972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80880" y="1877400"/>
                  <a:ext cx="227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53480" y="1784880"/>
                  <a:ext cx="2275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380880" y="1792440"/>
                <a:ext cx="600120" cy="187920"/>
                <a:chOff x="380880" y="1792440"/>
                <a:chExt cx="600120" cy="187920"/>
              </a:xfrm>
            </p:grpSpPr>
            <p:sp>
              <p:nvSpPr>
                <p:cNvPr id="1145" name=""/>
                <p:cNvSpPr/>
                <p:nvPr/>
              </p:nvSpPr>
              <p:spPr>
                <a:xfrm flipV="1">
                  <a:off x="380880" y="1792440"/>
                  <a:ext cx="36972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593640" y="1884240"/>
                  <a:ext cx="36972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80880" y="1888200"/>
                  <a:ext cx="2275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53480" y="1796400"/>
                  <a:ext cx="227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522360" y="936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0" name=""/>
            <p:cNvGraphicFramePr/>
            <p:nvPr/>
          </p:nvGraphicFramePr>
          <p:xfrm>
            <a:off x="468360" y="1284120"/>
            <a:ext cx="372960" cy="3603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15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68360" y="1284120"/>
                      <a:ext cx="3729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52" name=""/>
            <p:cNvGrpSpPr/>
            <p:nvPr/>
          </p:nvGrpSpPr>
          <p:grpSpPr>
            <a:xfrm>
              <a:off x="505080" y="1133640"/>
              <a:ext cx="140760" cy="258120"/>
              <a:chOff x="505080" y="1133640"/>
              <a:chExt cx="140760" cy="258120"/>
            </a:xfrm>
          </p:grpSpPr>
          <p:sp>
            <p:nvSpPr>
              <p:cNvPr id="1153" name=""/>
              <p:cNvSpPr/>
              <p:nvPr/>
            </p:nvSpPr>
            <p:spPr>
              <a:xfrm>
                <a:off x="505080" y="1133640"/>
                <a:ext cx="138960" cy="25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0800000">
                <a:off x="541800" y="1135800"/>
                <a:ext cx="104040" cy="25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540360" y="981000"/>
              <a:ext cx="105840" cy="129960"/>
              <a:chOff x="540360" y="981000"/>
              <a:chExt cx="105840" cy="129960"/>
            </a:xfrm>
          </p:grpSpPr>
          <p:sp>
            <p:nvSpPr>
              <p:cNvPr id="1156" name=""/>
              <p:cNvSpPr/>
              <p:nvPr/>
            </p:nvSpPr>
            <p:spPr>
              <a:xfrm>
                <a:off x="540360" y="981000"/>
                <a:ext cx="10368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0800000">
                <a:off x="568800" y="983160"/>
                <a:ext cx="7740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694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 flipV="1">
              <a:off x="1390680" y="1001520"/>
              <a:ext cx="2300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90680" y="1089000"/>
              <a:ext cx="24912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41320" y="10018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41320" y="102240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16200" y="5824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4680" y="56386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BLEADO ESTRUCTU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7440" y="388620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62120" y="2819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356280" y="6094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LACE SATEL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4320" y="533412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m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íneas conmu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CM: 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uestrea, cuantifica y codifica la señal análoga a razón de 8000 veces por segundo usando para cada muestra un byte. Por tanto 1 segundo de señal requiere 64000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como un mecanismo de conversión A/D (Analog to Digi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do en sistema telefónico (troncales), formato del CD de audio y el formato WA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/N=6n - adB, donde a constante entre 0 y 1.  n=número de bits adicio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"/>
          <p:cNvSpPr/>
          <p:nvPr/>
        </p:nvSpPr>
        <p:spPr>
          <a:xfrm>
            <a:off x="1523880" y="5029200"/>
            <a:ext cx="990720" cy="12142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048120" y="5257800"/>
            <a:ext cx="761760" cy="838080"/>
            <a:chOff x="3048120" y="5257800"/>
            <a:chExt cx="761760" cy="838080"/>
          </a:xfrm>
        </p:grpSpPr>
        <p:sp>
          <p:nvSpPr>
            <p:cNvPr id="1748" name=""/>
            <p:cNvSpPr/>
            <p:nvPr/>
          </p:nvSpPr>
          <p:spPr>
            <a:xfrm>
              <a:off x="3048120" y="5257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48120" y="5638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48120" y="5270400"/>
              <a:ext cx="761760" cy="799560"/>
            </a:xfrm>
            <a:custGeom>
              <a:avLst/>
              <a:gdLst/>
              <a:ahLst/>
              <a:rect l="l" t="t" r="r" b="b"/>
              <a:pathLst>
                <a:path w="480" h="504">
                  <a:moveTo>
                    <a:pt x="0" y="232"/>
                  </a:moveTo>
                  <a:cubicBezTo>
                    <a:pt x="44" y="116"/>
                    <a:pt x="88" y="0"/>
                    <a:pt x="144" y="40"/>
                  </a:cubicBezTo>
                  <a:cubicBezTo>
                    <a:pt x="200" y="80"/>
                    <a:pt x="280" y="440"/>
                    <a:pt x="336" y="472"/>
                  </a:cubicBezTo>
                  <a:cubicBezTo>
                    <a:pt x="392" y="504"/>
                    <a:pt x="456" y="272"/>
                    <a:pt x="480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228600" y="5257800"/>
            <a:ext cx="762120" cy="838080"/>
            <a:chOff x="228600" y="5257800"/>
            <a:chExt cx="762120" cy="838080"/>
          </a:xfrm>
        </p:grpSpPr>
        <p:sp>
          <p:nvSpPr>
            <p:cNvPr id="1752" name=""/>
            <p:cNvSpPr/>
            <p:nvPr/>
          </p:nvSpPr>
          <p:spPr>
            <a:xfrm>
              <a:off x="228600" y="5257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8600" y="5638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28600" y="5270400"/>
              <a:ext cx="762120" cy="799560"/>
            </a:xfrm>
            <a:custGeom>
              <a:avLst/>
              <a:gdLst/>
              <a:ahLst/>
              <a:rect l="l" t="t" r="r" b="b"/>
              <a:pathLst>
                <a:path w="480" h="504">
                  <a:moveTo>
                    <a:pt x="0" y="232"/>
                  </a:moveTo>
                  <a:cubicBezTo>
                    <a:pt x="44" y="116"/>
                    <a:pt x="88" y="0"/>
                    <a:pt x="144" y="40"/>
                  </a:cubicBezTo>
                  <a:cubicBezTo>
                    <a:pt x="200" y="80"/>
                    <a:pt x="280" y="440"/>
                    <a:pt x="336" y="472"/>
                  </a:cubicBezTo>
                  <a:cubicBezTo>
                    <a:pt x="392" y="504"/>
                    <a:pt x="456" y="272"/>
                    <a:pt x="480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4343400" y="5029200"/>
            <a:ext cx="990720" cy="12142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5029200"/>
            <a:ext cx="990360" cy="12142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295640" y="6400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189680" y="64008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476040" y="6400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815328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153280" y="5715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532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3818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3818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200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767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50532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5812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6576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71500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7150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943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1722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24852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32448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6868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6868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781" name="" descr="waveform_coding-3.gif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782" name="" descr="waveform_coding-2.gif"/>
          <p:cNvPicPr/>
          <p:nvPr/>
        </p:nvPicPr>
        <p:blipFill>
          <a:blip r:embed="rId2"/>
          <a:stretch/>
        </p:blipFill>
        <p:spPr>
          <a:xfrm>
            <a:off x="0" y="1052640"/>
            <a:ext cx="5229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CM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 y A-La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asignación de los valores a las amplitudes de la señal no se hace lineal sino logarítmica para mantener una relación uniforme Señal Ruido a lo largo de todas las amplitudes de la señ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h + k log (w).  w=amplitud original.  h y k const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principalmente dos esquem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do en Norteamérica y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aso mínimo es 2/815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La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do en Europ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aso mínimo es 2/40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DPCM: Adaptative Differential 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ide la diferencia entre el anterior valor de la señal y el actual y es esta información es la que se env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 4 bits por muestra, para codificar la difer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segundo requiere 32000 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"/>
          <p:cNvSpPr/>
          <p:nvPr/>
        </p:nvSpPr>
        <p:spPr>
          <a:xfrm>
            <a:off x="826920" y="61657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208160" y="3727440"/>
            <a:ext cx="4724280" cy="2387520"/>
          </a:xfrm>
          <a:custGeom>
            <a:avLst/>
            <a:gdLst/>
            <a:ahLst/>
            <a:rect l="l" t="t" r="r" b="b"/>
            <a:pathLst>
              <a:path w="2976" h="1504">
                <a:moveTo>
                  <a:pt x="0" y="1504"/>
                </a:moveTo>
                <a:cubicBezTo>
                  <a:pt x="236" y="992"/>
                  <a:pt x="472" y="480"/>
                  <a:pt x="672" y="352"/>
                </a:cubicBezTo>
                <a:cubicBezTo>
                  <a:pt x="872" y="224"/>
                  <a:pt x="976" y="784"/>
                  <a:pt x="1200" y="736"/>
                </a:cubicBezTo>
                <a:cubicBezTo>
                  <a:pt x="1424" y="688"/>
                  <a:pt x="1792" y="128"/>
                  <a:pt x="2016" y="64"/>
                </a:cubicBezTo>
                <a:cubicBezTo>
                  <a:pt x="2240" y="0"/>
                  <a:pt x="2384" y="328"/>
                  <a:pt x="2544" y="352"/>
                </a:cubicBezTo>
                <a:cubicBezTo>
                  <a:pt x="2704" y="376"/>
                  <a:pt x="2904" y="232"/>
                  <a:pt x="2976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1589040" y="540396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893600" y="4794120"/>
            <a:ext cx="1404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351160" y="4260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2732040" y="4260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112920" y="4489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46440" y="4489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4027320" y="41079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4408560" y="38037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187280" y="328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762120" y="6048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ODUL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53416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SP (Digital Signal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ador especializado en el tratamiento de señales ya sean de naturaleza análoga o dig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su nombre lo indica, estos procesadores de propósito específico, están orientados al tratamiento de señales como audio, video, permitiendo su digitalización, compresión y en términos generales su manipulación  de forma eficiente y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CODIFIC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ÓDIGO: Asociación entre dos conjuntos de ele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FICACIÓN: Transmisión de datos digitales con señales digi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ociación entre uno o más bits y elementos de señal Digit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anera en que se representan los unos y ceros en el medio con señales Digi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7123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acterísticas de un buen sistema de codificació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sincronism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ce uso óptimo del ancho de b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la detección  de error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ácil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ple seguro al medio: Preferible transformadores AC que conexión directa con componentes para D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CODIFICACIÓ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RZ (Non-Return to Ze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 pero no provee sincronismo ni detección de err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do en distancias cortas y no altas velocidades (Electricamen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stado 1 cuando no hay transmisión. Con la transición a 0 se indica comienzo de byte (start b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do en RS-232 o V.24. Opticamente mediante dos intensidades de lu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839880" y="4419720"/>
            <a:ext cx="6780240" cy="2438280"/>
            <a:chOff x="839880" y="4419720"/>
            <a:chExt cx="6780240" cy="2438280"/>
          </a:xfrm>
        </p:grpSpPr>
        <p:pic>
          <p:nvPicPr>
            <p:cNvPr id="1805" name="" descr=""/>
            <p:cNvPicPr/>
            <p:nvPr/>
          </p:nvPicPr>
          <p:blipFill>
            <a:blip r:embed="rId1"/>
            <a:stretch/>
          </p:blipFill>
          <p:spPr>
            <a:xfrm>
              <a:off x="1371600" y="4419720"/>
              <a:ext cx="62485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6" name=""/>
            <p:cNvSpPr/>
            <p:nvPr/>
          </p:nvSpPr>
          <p:spPr>
            <a:xfrm>
              <a:off x="1295280" y="571500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398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RZI (Non-Return to Zero Inver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os 0’s se hace una trans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chorros de 1’s se evitan desde el nivel de enlace como en HDLC/SDL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ptos para altas velocidades ya que no hay balance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543800" cy="2674800"/>
          </a:xfrm>
          <a:prstGeom prst="rect">
            <a:avLst/>
          </a:prstGeom>
          <a:ln w="0">
            <a:noFill/>
          </a:ln>
        </p:spPr>
      </p:pic>
      <p:sp>
        <p:nvSpPr>
          <p:cNvPr id="1811" name=""/>
          <p:cNvSpPr/>
          <p:nvPr/>
        </p:nvSpPr>
        <p:spPr>
          <a:xfrm>
            <a:off x="838080" y="51055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sincronismo, pero no detección de err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do en Eth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191800" cy="3181320"/>
          </a:xfrm>
          <a:prstGeom prst="rect">
            <a:avLst/>
          </a:prstGeom>
          <a:ln w="0">
            <a:noFill/>
          </a:ln>
        </p:spPr>
      </p:pic>
      <p:sp>
        <p:nvSpPr>
          <p:cNvPr id="1815" name=""/>
          <p:cNvSpPr/>
          <p:nvPr/>
        </p:nvSpPr>
        <p:spPr>
          <a:xfrm>
            <a:off x="685800" y="43434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SEUDOTER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balanceado (busca que se gaste el mismo tiempo en cada est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ronismo en 0´s pero no en 1´s. Detecta errores en 0´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da en el bus local RDSI (Puntos T y 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8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848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557208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1227960" y="2286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CION DE VOZ, FAX DATOS CON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2B1Q (2-Binary 1-Qaternar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e 4 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da en el punto U de RDSI y en HDS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bits por bau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8001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 CON SUBSTITU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utiliza para evitar secuencias largas de 0’s o 1’s mediante su substitución con patrones especiales. Algunos derivados de AM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DB3 (High Density Bipolar Three Zer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do en los enlaces E1 y definido en la recomendación G.7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4" name="" descr=""/>
          <p:cNvPicPr/>
          <p:nvPr/>
        </p:nvPicPr>
        <p:blipFill>
          <a:blip r:embed="rId3"/>
          <a:stretch/>
        </p:blipFill>
        <p:spPr>
          <a:xfrm>
            <a:off x="533520" y="3575160"/>
            <a:ext cx="83055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 CON SUBSTITUCIÓN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8ZS (Bipolar with eight zeros Substit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do en los enlaces T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endo del bit precedente se hace la substit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57909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 EN BLOQUE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grupo de bits de datos se envía con más símbolos en el medi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4B/5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grupo de 4 bits se envía como un grupo de 5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do en Fibra Optica con FDDI  o en cobre con Ethernet 100Base-TX (Fast Etherne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8B/10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detectar err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do en Fiber Channel (parte de Gigabit Ethernet) y en AT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delimitar el principio y fin de la trama sin usar fla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228600" y="90000"/>
            <a:ext cx="8610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DIFICACIÓN EN BLOQUE EN GIGABIT ETHERNET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0769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304920" y="318600"/>
            <a:ext cx="8610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ESQUEMA DE FIBER CHANNEL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762120" y="9000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CRAMBLING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s de enviar el patrón de bits se le hace una operación OR con un patrón predefinido para lograr buena tempor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s por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do en ATM25 Mbps, FDDI sobre UTP 5 y 100VG Any 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762120" y="-223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INCRONISMO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anismo para temporizar la transmisión de la información y poder saber donde empieza y donde termina un bit, un byte, un mensaje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damental en las redes digi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mplementar de diversas form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nte el suministro de señales independientes en el medio. Ejemplo: Señales 15, 17 y 24 en RS-232-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l esquema de Codificicación. Eje: Manches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762120" y="-223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INCRONISMO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dispositivos pueden trabajar con un reloj interno (típicamente de poca precisión) o fuentes de reloj exter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a definición de relojes se dice si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estro: Temporiza los otros nodos de la 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clavo: Es temporizado por un reloj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o: Si la fuente de reloj es inter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o: Si la fuente es exter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 su precisión los relojes se catalogan en: Stratum 1,2 y 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57600" y="6576840"/>
            <a:ext cx="7200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.Q.U. 3/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905120" y="228600"/>
            <a:ext cx="5333760" cy="609480"/>
          </a:xfrm>
          <a:prstGeom prst="roundRect">
            <a:avLst>
              <a:gd name="adj" fmla="val 12495"/>
            </a:avLst>
          </a:prstGeom>
          <a:solidFill>
            <a:srgbClr val="00c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CRO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ESTRO-ESCLAVO JERARQU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823240" y="6576840"/>
            <a:ext cx="2415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04920" y="2362320"/>
            <a:ext cx="8686800" cy="0"/>
          </a:xfrm>
          <a:prstGeom prst="line">
            <a:avLst/>
          </a:prstGeom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04920" y="3733920"/>
            <a:ext cx="8686800" cy="0"/>
          </a:xfrm>
          <a:prstGeom prst="line">
            <a:avLst/>
          </a:prstGeom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04920" y="4952880"/>
            <a:ext cx="8686800" cy="0"/>
          </a:xfrm>
          <a:prstGeom prst="line">
            <a:avLst/>
          </a:prstGeom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137720" y="378612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Nodo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130560" y="1073160"/>
            <a:ext cx="977760" cy="977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f0e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530360" y="2749680"/>
            <a:ext cx="1130400" cy="6728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d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301760" y="3968640"/>
            <a:ext cx="673200" cy="6732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3b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I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01480" y="5187960"/>
            <a:ext cx="1054440" cy="67320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37c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654440" y="2749680"/>
            <a:ext cx="1130400" cy="6728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d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254320" y="5187960"/>
            <a:ext cx="1054080" cy="67320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37c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006800" y="5187960"/>
            <a:ext cx="1054080" cy="67320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37c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759280" y="5187960"/>
            <a:ext cx="1054440" cy="67320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37c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072920" y="966960"/>
            <a:ext cx="160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008840" y="2490840"/>
            <a:ext cx="173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Nodo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961680" y="5310360"/>
            <a:ext cx="178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Nodo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2133720" y="2057040"/>
            <a:ext cx="1218960" cy="60948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 flipV="1">
            <a:off x="3885840" y="2057040"/>
            <a:ext cx="1219320" cy="60948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21000" y="3968640"/>
            <a:ext cx="673200" cy="6732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3b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I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340240" y="3968640"/>
            <a:ext cx="673200" cy="6732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3b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 I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1676520" y="3505320"/>
            <a:ext cx="380880" cy="380880"/>
          </a:xfrm>
          <a:prstGeom prst="line">
            <a:avLst/>
          </a:prstGeom>
          <a:ln w="25560">
            <a:solidFill>
              <a:srgbClr val="fe9b0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3886200" y="3580920"/>
            <a:ext cx="1219320" cy="304920"/>
          </a:xfrm>
          <a:prstGeom prst="line">
            <a:avLst/>
          </a:prstGeom>
          <a:ln w="25560">
            <a:solidFill>
              <a:srgbClr val="fe9b0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 flipV="1">
            <a:off x="5409720" y="3580920"/>
            <a:ext cx="304920" cy="304920"/>
          </a:xfrm>
          <a:prstGeom prst="line">
            <a:avLst/>
          </a:prstGeom>
          <a:ln w="25560">
            <a:solidFill>
              <a:srgbClr val="fe9b0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133720" y="4343400"/>
            <a:ext cx="1066680" cy="0"/>
          </a:xfrm>
          <a:prstGeom prst="line">
            <a:avLst/>
          </a:prstGeom>
          <a:ln w="25560">
            <a:solidFill>
              <a:srgbClr val="d5d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1066680" y="4723920"/>
            <a:ext cx="381240" cy="381240"/>
          </a:xfrm>
          <a:prstGeom prst="line">
            <a:avLst/>
          </a:prstGeom>
          <a:ln w="25560">
            <a:solidFill>
              <a:srgbClr val="d5d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1905120" y="4648320"/>
            <a:ext cx="838080" cy="457200"/>
          </a:xfrm>
          <a:prstGeom prst="line">
            <a:avLst/>
          </a:prstGeom>
          <a:ln w="25560">
            <a:solidFill>
              <a:srgbClr val="d5d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 flipV="1">
            <a:off x="5866920" y="4723920"/>
            <a:ext cx="381240" cy="381240"/>
          </a:xfrm>
          <a:prstGeom prst="line">
            <a:avLst/>
          </a:prstGeom>
          <a:ln w="25560">
            <a:solidFill>
              <a:srgbClr val="d5d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4648320" y="4648320"/>
            <a:ext cx="838080" cy="457200"/>
          </a:xfrm>
          <a:prstGeom prst="line">
            <a:avLst/>
          </a:prstGeom>
          <a:ln w="25560">
            <a:solidFill>
              <a:srgbClr val="d5d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 flipV="1">
            <a:off x="3733920" y="4723920"/>
            <a:ext cx="761760" cy="381240"/>
          </a:xfrm>
          <a:prstGeom prst="line">
            <a:avLst/>
          </a:prstGeom>
          <a:ln w="25560">
            <a:solidFill>
              <a:srgbClr val="d5d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96920" y="4076640"/>
            <a:ext cx="1033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I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96920" y="2857680"/>
            <a:ext cx="1033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96920" y="1638360"/>
            <a:ext cx="1033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349880" y="1225440"/>
            <a:ext cx="1206360" cy="749520"/>
          </a:xfrm>
          <a:prstGeom prst="leftArrow">
            <a:avLst>
              <a:gd name="adj1" fmla="val 75009"/>
              <a:gd name="adj2" fmla="val 804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f0e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433640" y="1576440"/>
            <a:ext cx="100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G.8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1 x 10</a:t>
            </a:r>
            <a:r>
              <a:rPr b="1" lang="en-US" sz="1800" spc="-1" strike="noStrike" baseline="30000">
                <a:solidFill>
                  <a:srgbClr val="767900"/>
                </a:solidFill>
                <a:latin typeface="Arial"/>
              </a:rPr>
              <a:t>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406640" y="2948040"/>
            <a:ext cx="93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G.8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1 x 10</a:t>
            </a:r>
            <a:r>
              <a:rPr b="1" lang="en-US" sz="1800" spc="-1" strike="noStrike" baseline="30000">
                <a:solidFill>
                  <a:srgbClr val="767900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460280" y="4243320"/>
            <a:ext cx="93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G.8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767900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7679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0" name=""/>
          <p:cNvGraphicFramePr/>
          <p:nvPr/>
        </p:nvGraphicFramePr>
        <p:xfrm>
          <a:off x="2741760" y="1593720"/>
          <a:ext cx="911160" cy="18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1760" y="1593720"/>
                    <a:ext cx="91116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2" name=""/>
          <p:cNvGraphicFramePr/>
          <p:nvPr/>
        </p:nvGraphicFramePr>
        <p:xfrm>
          <a:off x="5800680" y="1746360"/>
          <a:ext cx="584280" cy="17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1746360"/>
                    <a:ext cx="5842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1209600" y="13644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QUEMA GENERAL DE COMUN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20040000">
            <a:off x="4063680" y="1734840"/>
            <a:ext cx="6087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20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20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20040000">
            <a:off x="4368240" y="1734480"/>
            <a:ext cx="6094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20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20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20040000">
            <a:off x="4673160" y="1734480"/>
            <a:ext cx="6094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20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20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20040000">
            <a:off x="5054040" y="1658160"/>
            <a:ext cx="6094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20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20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20040000">
            <a:off x="5358960" y="1658160"/>
            <a:ext cx="6094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20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20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20040000">
            <a:off x="5663880" y="1658520"/>
            <a:ext cx="6087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20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20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53960" y="1278000"/>
            <a:ext cx="222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SOR/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002280" y="1278000"/>
            <a:ext cx="222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SOR/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4880" y="2573280"/>
            <a:ext cx="1540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AL: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11320" y="1143000"/>
            <a:ext cx="183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S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IGO: IDI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276720" y="5334120"/>
            <a:ext cx="2439360" cy="609480"/>
            <a:chOff x="3276720" y="5334120"/>
            <a:chExt cx="2439360" cy="609480"/>
          </a:xfrm>
        </p:grpSpPr>
        <p:sp>
          <p:nvSpPr>
            <p:cNvPr id="1186" name=""/>
            <p:cNvSpPr/>
            <p:nvPr/>
          </p:nvSpPr>
          <p:spPr>
            <a:xfrm>
              <a:off x="5354640" y="5334120"/>
              <a:ext cx="361440" cy="609480"/>
            </a:xfrm>
            <a:custGeom>
              <a:avLst/>
              <a:gdLst/>
              <a:ahLst/>
              <a:rect l="l" t="t" r="r" b="b"/>
              <a:pathLst>
                <a:path w="178" h="384">
                  <a:moveTo>
                    <a:pt x="88" y="0"/>
                  </a:moveTo>
                  <a:lnTo>
                    <a:pt x="96" y="8"/>
                  </a:lnTo>
                  <a:lnTo>
                    <a:pt x="110" y="23"/>
                  </a:lnTo>
                  <a:lnTo>
                    <a:pt x="122" y="36"/>
                  </a:lnTo>
                  <a:lnTo>
                    <a:pt x="132" y="49"/>
                  </a:lnTo>
                  <a:lnTo>
                    <a:pt x="142" y="62"/>
                  </a:lnTo>
                  <a:lnTo>
                    <a:pt x="150" y="77"/>
                  </a:lnTo>
                  <a:lnTo>
                    <a:pt x="158" y="93"/>
                  </a:lnTo>
                  <a:lnTo>
                    <a:pt x="164" y="111"/>
                  </a:lnTo>
                  <a:lnTo>
                    <a:pt x="170" y="125"/>
                  </a:lnTo>
                  <a:lnTo>
                    <a:pt x="173" y="143"/>
                  </a:lnTo>
                  <a:lnTo>
                    <a:pt x="176" y="157"/>
                  </a:lnTo>
                  <a:lnTo>
                    <a:pt x="177" y="176"/>
                  </a:lnTo>
                  <a:lnTo>
                    <a:pt x="176" y="195"/>
                  </a:lnTo>
                  <a:lnTo>
                    <a:pt x="174" y="214"/>
                  </a:lnTo>
                  <a:lnTo>
                    <a:pt x="172" y="229"/>
                  </a:lnTo>
                  <a:lnTo>
                    <a:pt x="168" y="242"/>
                  </a:lnTo>
                  <a:lnTo>
                    <a:pt x="162" y="259"/>
                  </a:lnTo>
                  <a:lnTo>
                    <a:pt x="157" y="274"/>
                  </a:lnTo>
                  <a:lnTo>
                    <a:pt x="147" y="291"/>
                  </a:lnTo>
                  <a:lnTo>
                    <a:pt x="138" y="307"/>
                  </a:lnTo>
                  <a:lnTo>
                    <a:pt x="127" y="322"/>
                  </a:lnTo>
                  <a:lnTo>
                    <a:pt x="116" y="336"/>
                  </a:lnTo>
                  <a:lnTo>
                    <a:pt x="101" y="351"/>
                  </a:lnTo>
                  <a:lnTo>
                    <a:pt x="85" y="365"/>
                  </a:lnTo>
                  <a:lnTo>
                    <a:pt x="67" y="379"/>
                  </a:lnTo>
                  <a:lnTo>
                    <a:pt x="62" y="383"/>
                  </a:lnTo>
                  <a:lnTo>
                    <a:pt x="0" y="374"/>
                  </a:lnTo>
                  <a:lnTo>
                    <a:pt x="18" y="363"/>
                  </a:lnTo>
                  <a:lnTo>
                    <a:pt x="36" y="349"/>
                  </a:lnTo>
                  <a:lnTo>
                    <a:pt x="50" y="335"/>
                  </a:lnTo>
                  <a:lnTo>
                    <a:pt x="62" y="320"/>
                  </a:lnTo>
                  <a:lnTo>
                    <a:pt x="76" y="303"/>
                  </a:lnTo>
                  <a:lnTo>
                    <a:pt x="86" y="287"/>
                  </a:lnTo>
                  <a:lnTo>
                    <a:pt x="94" y="272"/>
                  </a:lnTo>
                  <a:lnTo>
                    <a:pt x="101" y="254"/>
                  </a:lnTo>
                  <a:lnTo>
                    <a:pt x="106" y="237"/>
                  </a:lnTo>
                  <a:lnTo>
                    <a:pt x="110" y="221"/>
                  </a:lnTo>
                  <a:lnTo>
                    <a:pt x="112" y="204"/>
                  </a:lnTo>
                  <a:lnTo>
                    <a:pt x="114" y="191"/>
                  </a:lnTo>
                  <a:lnTo>
                    <a:pt x="113" y="173"/>
                  </a:lnTo>
                  <a:lnTo>
                    <a:pt x="111" y="155"/>
                  </a:lnTo>
                  <a:lnTo>
                    <a:pt x="108" y="138"/>
                  </a:lnTo>
                  <a:lnTo>
                    <a:pt x="103" y="121"/>
                  </a:lnTo>
                  <a:lnTo>
                    <a:pt x="97" y="103"/>
                  </a:lnTo>
                  <a:lnTo>
                    <a:pt x="88" y="87"/>
                  </a:lnTo>
                  <a:lnTo>
                    <a:pt x="80" y="70"/>
                  </a:lnTo>
                  <a:lnTo>
                    <a:pt x="69" y="55"/>
                  </a:lnTo>
                  <a:lnTo>
                    <a:pt x="55" y="38"/>
                  </a:lnTo>
                  <a:lnTo>
                    <a:pt x="40" y="23"/>
                  </a:lnTo>
                  <a:lnTo>
                    <a:pt x="24" y="10"/>
                  </a:lnTo>
                  <a:lnTo>
                    <a:pt x="88" y="0"/>
                  </a:lnTo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90760" y="5369040"/>
              <a:ext cx="300240" cy="542880"/>
            </a:xfrm>
            <a:custGeom>
              <a:avLst/>
              <a:gdLst/>
              <a:ahLst/>
              <a:rect l="l" t="t" r="r" b="b"/>
              <a:pathLst>
                <a:path w="148" h="342">
                  <a:moveTo>
                    <a:pt x="79" y="0"/>
                  </a:moveTo>
                  <a:lnTo>
                    <a:pt x="93" y="14"/>
                  </a:lnTo>
                  <a:lnTo>
                    <a:pt x="102" y="27"/>
                  </a:lnTo>
                  <a:lnTo>
                    <a:pt x="112" y="41"/>
                  </a:lnTo>
                  <a:lnTo>
                    <a:pt x="121" y="56"/>
                  </a:lnTo>
                  <a:lnTo>
                    <a:pt x="128" y="71"/>
                  </a:lnTo>
                  <a:lnTo>
                    <a:pt x="134" y="89"/>
                  </a:lnTo>
                  <a:lnTo>
                    <a:pt x="140" y="104"/>
                  </a:lnTo>
                  <a:lnTo>
                    <a:pt x="143" y="121"/>
                  </a:lnTo>
                  <a:lnTo>
                    <a:pt x="146" y="136"/>
                  </a:lnTo>
                  <a:lnTo>
                    <a:pt x="147" y="154"/>
                  </a:lnTo>
                  <a:lnTo>
                    <a:pt x="146" y="173"/>
                  </a:lnTo>
                  <a:lnTo>
                    <a:pt x="144" y="192"/>
                  </a:lnTo>
                  <a:lnTo>
                    <a:pt x="142" y="207"/>
                  </a:lnTo>
                  <a:lnTo>
                    <a:pt x="139" y="220"/>
                  </a:lnTo>
                  <a:lnTo>
                    <a:pt x="133" y="237"/>
                  </a:lnTo>
                  <a:lnTo>
                    <a:pt x="127" y="252"/>
                  </a:lnTo>
                  <a:lnTo>
                    <a:pt x="119" y="269"/>
                  </a:lnTo>
                  <a:lnTo>
                    <a:pt x="109" y="285"/>
                  </a:lnTo>
                  <a:lnTo>
                    <a:pt x="98" y="300"/>
                  </a:lnTo>
                  <a:lnTo>
                    <a:pt x="86" y="314"/>
                  </a:lnTo>
                  <a:lnTo>
                    <a:pt x="72" y="329"/>
                  </a:lnTo>
                  <a:lnTo>
                    <a:pt x="59" y="341"/>
                  </a:lnTo>
                  <a:lnTo>
                    <a:pt x="0" y="331"/>
                  </a:lnTo>
                  <a:lnTo>
                    <a:pt x="8" y="328"/>
                  </a:lnTo>
                  <a:lnTo>
                    <a:pt x="23" y="314"/>
                  </a:lnTo>
                  <a:lnTo>
                    <a:pt x="34" y="299"/>
                  </a:lnTo>
                  <a:lnTo>
                    <a:pt x="48" y="281"/>
                  </a:lnTo>
                  <a:lnTo>
                    <a:pt x="57" y="266"/>
                  </a:lnTo>
                  <a:lnTo>
                    <a:pt x="65" y="250"/>
                  </a:lnTo>
                  <a:lnTo>
                    <a:pt x="72" y="232"/>
                  </a:lnTo>
                  <a:lnTo>
                    <a:pt x="77" y="215"/>
                  </a:lnTo>
                  <a:lnTo>
                    <a:pt x="81" y="199"/>
                  </a:lnTo>
                  <a:lnTo>
                    <a:pt x="83" y="182"/>
                  </a:lnTo>
                  <a:lnTo>
                    <a:pt x="85" y="169"/>
                  </a:lnTo>
                  <a:lnTo>
                    <a:pt x="84" y="152"/>
                  </a:lnTo>
                  <a:lnTo>
                    <a:pt x="82" y="133"/>
                  </a:lnTo>
                  <a:lnTo>
                    <a:pt x="79" y="116"/>
                  </a:lnTo>
                  <a:lnTo>
                    <a:pt x="75" y="99"/>
                  </a:lnTo>
                  <a:lnTo>
                    <a:pt x="68" y="81"/>
                  </a:lnTo>
                  <a:lnTo>
                    <a:pt x="60" y="65"/>
                  </a:lnTo>
                  <a:lnTo>
                    <a:pt x="51" y="48"/>
                  </a:lnTo>
                  <a:lnTo>
                    <a:pt x="40" y="33"/>
                  </a:lnTo>
                  <a:lnTo>
                    <a:pt x="26" y="16"/>
                  </a:lnTo>
                  <a:lnTo>
                    <a:pt x="15" y="8"/>
                  </a:lnTo>
                  <a:lnTo>
                    <a:pt x="79" y="0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809960" y="5399280"/>
              <a:ext cx="255960" cy="477720"/>
            </a:xfrm>
            <a:custGeom>
              <a:avLst/>
              <a:gdLst/>
              <a:ahLst/>
              <a:rect l="l" t="t" r="r" b="b"/>
              <a:pathLst>
                <a:path w="126" h="301">
                  <a:moveTo>
                    <a:pt x="81" y="8"/>
                  </a:moveTo>
                  <a:lnTo>
                    <a:pt x="90" y="21"/>
                  </a:lnTo>
                  <a:lnTo>
                    <a:pt x="99" y="36"/>
                  </a:lnTo>
                  <a:lnTo>
                    <a:pt x="106" y="51"/>
                  </a:lnTo>
                  <a:lnTo>
                    <a:pt x="112" y="69"/>
                  </a:lnTo>
                  <a:lnTo>
                    <a:pt x="118" y="84"/>
                  </a:lnTo>
                  <a:lnTo>
                    <a:pt x="121" y="101"/>
                  </a:lnTo>
                  <a:lnTo>
                    <a:pt x="124" y="116"/>
                  </a:lnTo>
                  <a:lnTo>
                    <a:pt x="125" y="135"/>
                  </a:lnTo>
                  <a:lnTo>
                    <a:pt x="125" y="156"/>
                  </a:lnTo>
                  <a:lnTo>
                    <a:pt x="122" y="173"/>
                  </a:lnTo>
                  <a:lnTo>
                    <a:pt x="120" y="187"/>
                  </a:lnTo>
                  <a:lnTo>
                    <a:pt x="117" y="201"/>
                  </a:lnTo>
                  <a:lnTo>
                    <a:pt x="111" y="218"/>
                  </a:lnTo>
                  <a:lnTo>
                    <a:pt x="105" y="233"/>
                  </a:lnTo>
                  <a:lnTo>
                    <a:pt x="97" y="250"/>
                  </a:lnTo>
                  <a:lnTo>
                    <a:pt x="87" y="266"/>
                  </a:lnTo>
                  <a:lnTo>
                    <a:pt x="75" y="281"/>
                  </a:lnTo>
                  <a:lnTo>
                    <a:pt x="65" y="295"/>
                  </a:lnTo>
                  <a:lnTo>
                    <a:pt x="59" y="300"/>
                  </a:lnTo>
                  <a:lnTo>
                    <a:pt x="0" y="291"/>
                  </a:lnTo>
                  <a:lnTo>
                    <a:pt x="12" y="279"/>
                  </a:lnTo>
                  <a:lnTo>
                    <a:pt x="26" y="262"/>
                  </a:lnTo>
                  <a:lnTo>
                    <a:pt x="35" y="246"/>
                  </a:lnTo>
                  <a:lnTo>
                    <a:pt x="43" y="231"/>
                  </a:lnTo>
                  <a:lnTo>
                    <a:pt x="50" y="213"/>
                  </a:lnTo>
                  <a:lnTo>
                    <a:pt x="55" y="196"/>
                  </a:lnTo>
                  <a:lnTo>
                    <a:pt x="59" y="179"/>
                  </a:lnTo>
                  <a:lnTo>
                    <a:pt x="61" y="163"/>
                  </a:lnTo>
                  <a:lnTo>
                    <a:pt x="62" y="150"/>
                  </a:lnTo>
                  <a:lnTo>
                    <a:pt x="62" y="132"/>
                  </a:lnTo>
                  <a:lnTo>
                    <a:pt x="61" y="114"/>
                  </a:lnTo>
                  <a:lnTo>
                    <a:pt x="57" y="97"/>
                  </a:lnTo>
                  <a:lnTo>
                    <a:pt x="53" y="80"/>
                  </a:lnTo>
                  <a:lnTo>
                    <a:pt x="46" y="62"/>
                  </a:lnTo>
                  <a:lnTo>
                    <a:pt x="37" y="45"/>
                  </a:lnTo>
                  <a:lnTo>
                    <a:pt x="29" y="28"/>
                  </a:lnTo>
                  <a:lnTo>
                    <a:pt x="18" y="13"/>
                  </a:lnTo>
                  <a:lnTo>
                    <a:pt x="14" y="9"/>
                  </a:lnTo>
                  <a:lnTo>
                    <a:pt x="75" y="0"/>
                  </a:lnTo>
                  <a:lnTo>
                    <a:pt x="81" y="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50400" y="5432400"/>
              <a:ext cx="226800" cy="412920"/>
            </a:xfrm>
            <a:custGeom>
              <a:avLst/>
              <a:gdLst/>
              <a:ahLst/>
              <a:rect l="l" t="t" r="r" b="b"/>
              <a:pathLst>
                <a:path w="112" h="260">
                  <a:moveTo>
                    <a:pt x="76" y="0"/>
                  </a:moveTo>
                  <a:lnTo>
                    <a:pt x="83" y="14"/>
                  </a:lnTo>
                  <a:lnTo>
                    <a:pt x="92" y="30"/>
                  </a:lnTo>
                  <a:lnTo>
                    <a:pt x="98" y="48"/>
                  </a:lnTo>
                  <a:lnTo>
                    <a:pt x="103" y="62"/>
                  </a:lnTo>
                  <a:lnTo>
                    <a:pt x="106" y="79"/>
                  </a:lnTo>
                  <a:lnTo>
                    <a:pt x="109" y="94"/>
                  </a:lnTo>
                  <a:lnTo>
                    <a:pt x="111" y="113"/>
                  </a:lnTo>
                  <a:lnTo>
                    <a:pt x="110" y="131"/>
                  </a:lnTo>
                  <a:lnTo>
                    <a:pt x="108" y="150"/>
                  </a:lnTo>
                  <a:lnTo>
                    <a:pt x="106" y="165"/>
                  </a:lnTo>
                  <a:lnTo>
                    <a:pt x="102" y="179"/>
                  </a:lnTo>
                  <a:lnTo>
                    <a:pt x="97" y="195"/>
                  </a:lnTo>
                  <a:lnTo>
                    <a:pt x="90" y="211"/>
                  </a:lnTo>
                  <a:lnTo>
                    <a:pt x="82" y="228"/>
                  </a:lnTo>
                  <a:lnTo>
                    <a:pt x="71" y="243"/>
                  </a:lnTo>
                  <a:lnTo>
                    <a:pt x="60" y="259"/>
                  </a:lnTo>
                  <a:lnTo>
                    <a:pt x="0" y="250"/>
                  </a:lnTo>
                  <a:lnTo>
                    <a:pt x="11" y="240"/>
                  </a:lnTo>
                  <a:lnTo>
                    <a:pt x="20" y="224"/>
                  </a:lnTo>
                  <a:lnTo>
                    <a:pt x="27" y="208"/>
                  </a:lnTo>
                  <a:lnTo>
                    <a:pt x="34" y="190"/>
                  </a:lnTo>
                  <a:lnTo>
                    <a:pt x="40" y="174"/>
                  </a:lnTo>
                  <a:lnTo>
                    <a:pt x="43" y="157"/>
                  </a:lnTo>
                  <a:lnTo>
                    <a:pt x="45" y="141"/>
                  </a:lnTo>
                  <a:lnTo>
                    <a:pt x="48" y="128"/>
                  </a:lnTo>
                  <a:lnTo>
                    <a:pt x="46" y="110"/>
                  </a:lnTo>
                  <a:lnTo>
                    <a:pt x="45" y="92"/>
                  </a:lnTo>
                  <a:lnTo>
                    <a:pt x="41" y="75"/>
                  </a:lnTo>
                  <a:lnTo>
                    <a:pt x="38" y="58"/>
                  </a:lnTo>
                  <a:lnTo>
                    <a:pt x="30" y="40"/>
                  </a:lnTo>
                  <a:lnTo>
                    <a:pt x="23" y="24"/>
                  </a:lnTo>
                  <a:lnTo>
                    <a:pt x="13" y="8"/>
                  </a:lnTo>
                  <a:lnTo>
                    <a:pt x="76" y="0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94080" y="5462640"/>
              <a:ext cx="190440" cy="352440"/>
            </a:xfrm>
            <a:custGeom>
              <a:avLst/>
              <a:gdLst/>
              <a:ahLst/>
              <a:rect l="l" t="t" r="r" b="b"/>
              <a:pathLst>
                <a:path w="94" h="222">
                  <a:moveTo>
                    <a:pt x="65" y="0"/>
                  </a:moveTo>
                  <a:lnTo>
                    <a:pt x="74" y="11"/>
                  </a:lnTo>
                  <a:lnTo>
                    <a:pt x="81" y="29"/>
                  </a:lnTo>
                  <a:lnTo>
                    <a:pt x="86" y="44"/>
                  </a:lnTo>
                  <a:lnTo>
                    <a:pt x="88" y="61"/>
                  </a:lnTo>
                  <a:lnTo>
                    <a:pt x="91" y="76"/>
                  </a:lnTo>
                  <a:lnTo>
                    <a:pt x="93" y="95"/>
                  </a:lnTo>
                  <a:lnTo>
                    <a:pt x="92" y="113"/>
                  </a:lnTo>
                  <a:lnTo>
                    <a:pt x="90" y="133"/>
                  </a:lnTo>
                  <a:lnTo>
                    <a:pt x="88" y="148"/>
                  </a:lnTo>
                  <a:lnTo>
                    <a:pt x="84" y="161"/>
                  </a:lnTo>
                  <a:lnTo>
                    <a:pt x="79" y="178"/>
                  </a:lnTo>
                  <a:lnTo>
                    <a:pt x="72" y="193"/>
                  </a:lnTo>
                  <a:lnTo>
                    <a:pt x="64" y="210"/>
                  </a:lnTo>
                  <a:lnTo>
                    <a:pt x="60" y="221"/>
                  </a:lnTo>
                  <a:lnTo>
                    <a:pt x="0" y="212"/>
                  </a:lnTo>
                  <a:lnTo>
                    <a:pt x="3" y="207"/>
                  </a:lnTo>
                  <a:lnTo>
                    <a:pt x="11" y="191"/>
                  </a:lnTo>
                  <a:lnTo>
                    <a:pt x="18" y="173"/>
                  </a:lnTo>
                  <a:lnTo>
                    <a:pt x="23" y="156"/>
                  </a:lnTo>
                  <a:lnTo>
                    <a:pt x="27" y="140"/>
                  </a:lnTo>
                  <a:lnTo>
                    <a:pt x="29" y="123"/>
                  </a:lnTo>
                  <a:lnTo>
                    <a:pt x="31" y="110"/>
                  </a:lnTo>
                  <a:lnTo>
                    <a:pt x="29" y="92"/>
                  </a:lnTo>
                  <a:lnTo>
                    <a:pt x="28" y="74"/>
                  </a:lnTo>
                  <a:lnTo>
                    <a:pt x="24" y="57"/>
                  </a:lnTo>
                  <a:lnTo>
                    <a:pt x="21" y="39"/>
                  </a:lnTo>
                  <a:lnTo>
                    <a:pt x="13" y="21"/>
                  </a:lnTo>
                  <a:lnTo>
                    <a:pt x="2" y="8"/>
                  </a:lnTo>
                  <a:lnTo>
                    <a:pt x="65" y="0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38120" y="5486400"/>
              <a:ext cx="188640" cy="298440"/>
            </a:xfrm>
            <a:custGeom>
              <a:avLst/>
              <a:gdLst/>
              <a:ahLst/>
              <a:rect l="l" t="t" r="r" b="b"/>
              <a:pathLst>
                <a:path w="93" h="188">
                  <a:moveTo>
                    <a:pt x="75" y="0"/>
                  </a:moveTo>
                  <a:lnTo>
                    <a:pt x="81" y="10"/>
                  </a:lnTo>
                  <a:lnTo>
                    <a:pt x="85" y="23"/>
                  </a:lnTo>
                  <a:lnTo>
                    <a:pt x="90" y="41"/>
                  </a:lnTo>
                  <a:lnTo>
                    <a:pt x="91" y="54"/>
                  </a:lnTo>
                  <a:lnTo>
                    <a:pt x="92" y="73"/>
                  </a:lnTo>
                  <a:lnTo>
                    <a:pt x="91" y="92"/>
                  </a:lnTo>
                  <a:lnTo>
                    <a:pt x="89" y="111"/>
                  </a:lnTo>
                  <a:lnTo>
                    <a:pt x="87" y="126"/>
                  </a:lnTo>
                  <a:lnTo>
                    <a:pt x="84" y="139"/>
                  </a:lnTo>
                  <a:lnTo>
                    <a:pt x="77" y="155"/>
                  </a:lnTo>
                  <a:lnTo>
                    <a:pt x="72" y="171"/>
                  </a:lnTo>
                  <a:lnTo>
                    <a:pt x="62" y="187"/>
                  </a:lnTo>
                  <a:lnTo>
                    <a:pt x="0" y="177"/>
                  </a:lnTo>
                  <a:lnTo>
                    <a:pt x="8" y="168"/>
                  </a:lnTo>
                  <a:lnTo>
                    <a:pt x="15" y="150"/>
                  </a:lnTo>
                  <a:lnTo>
                    <a:pt x="20" y="134"/>
                  </a:lnTo>
                  <a:lnTo>
                    <a:pt x="24" y="118"/>
                  </a:lnTo>
                  <a:lnTo>
                    <a:pt x="26" y="101"/>
                  </a:lnTo>
                  <a:lnTo>
                    <a:pt x="28" y="88"/>
                  </a:lnTo>
                  <a:lnTo>
                    <a:pt x="27" y="71"/>
                  </a:lnTo>
                  <a:lnTo>
                    <a:pt x="27" y="52"/>
                  </a:lnTo>
                  <a:lnTo>
                    <a:pt x="25" y="35"/>
                  </a:lnTo>
                  <a:lnTo>
                    <a:pt x="18" y="18"/>
                  </a:lnTo>
                  <a:lnTo>
                    <a:pt x="11" y="9"/>
                  </a:lnTo>
                  <a:lnTo>
                    <a:pt x="75" y="0"/>
                  </a:lnTo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88280" y="5521320"/>
              <a:ext cx="155880" cy="235080"/>
            </a:xfrm>
            <a:custGeom>
              <a:avLst/>
              <a:gdLst/>
              <a:ahLst/>
              <a:rect l="l" t="t" r="r" b="b"/>
              <a:pathLst>
                <a:path w="77" h="148">
                  <a:moveTo>
                    <a:pt x="63" y="0"/>
                  </a:moveTo>
                  <a:lnTo>
                    <a:pt x="69" y="12"/>
                  </a:lnTo>
                  <a:lnTo>
                    <a:pt x="71" y="26"/>
                  </a:lnTo>
                  <a:lnTo>
                    <a:pt x="74" y="41"/>
                  </a:lnTo>
                  <a:lnTo>
                    <a:pt x="76" y="60"/>
                  </a:lnTo>
                  <a:lnTo>
                    <a:pt x="75" y="78"/>
                  </a:lnTo>
                  <a:lnTo>
                    <a:pt x="73" y="97"/>
                  </a:lnTo>
                  <a:lnTo>
                    <a:pt x="71" y="112"/>
                  </a:lnTo>
                  <a:lnTo>
                    <a:pt x="67" y="126"/>
                  </a:lnTo>
                  <a:lnTo>
                    <a:pt x="66" y="139"/>
                  </a:lnTo>
                  <a:lnTo>
                    <a:pt x="64" y="147"/>
                  </a:lnTo>
                  <a:lnTo>
                    <a:pt x="0" y="136"/>
                  </a:lnTo>
                  <a:lnTo>
                    <a:pt x="5" y="121"/>
                  </a:lnTo>
                  <a:lnTo>
                    <a:pt x="9" y="104"/>
                  </a:lnTo>
                  <a:lnTo>
                    <a:pt x="12" y="88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2" y="38"/>
                  </a:lnTo>
                  <a:lnTo>
                    <a:pt x="7" y="22"/>
                  </a:lnTo>
                  <a:lnTo>
                    <a:pt x="2" y="8"/>
                  </a:lnTo>
                  <a:lnTo>
                    <a:pt x="63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522240" y="5551560"/>
              <a:ext cx="148320" cy="171360"/>
            </a:xfrm>
            <a:custGeom>
              <a:avLst/>
              <a:gdLst/>
              <a:ahLst/>
              <a:rect l="l" t="t" r="r" b="b"/>
              <a:pathLst>
                <a:path w="73" h="108">
                  <a:moveTo>
                    <a:pt x="64" y="0"/>
                  </a:moveTo>
                  <a:lnTo>
                    <a:pt x="71" y="19"/>
                  </a:lnTo>
                  <a:lnTo>
                    <a:pt x="72" y="38"/>
                  </a:lnTo>
                  <a:lnTo>
                    <a:pt x="72" y="57"/>
                  </a:lnTo>
                  <a:lnTo>
                    <a:pt x="70" y="76"/>
                  </a:lnTo>
                  <a:lnTo>
                    <a:pt x="67" y="91"/>
                  </a:lnTo>
                  <a:lnTo>
                    <a:pt x="59" y="107"/>
                  </a:lnTo>
                  <a:lnTo>
                    <a:pt x="0" y="98"/>
                  </a:lnTo>
                  <a:lnTo>
                    <a:pt x="5" y="83"/>
                  </a:lnTo>
                  <a:lnTo>
                    <a:pt x="7" y="66"/>
                  </a:lnTo>
                  <a:lnTo>
                    <a:pt x="10" y="53"/>
                  </a:lnTo>
                  <a:lnTo>
                    <a:pt x="8" y="33"/>
                  </a:lnTo>
                  <a:lnTo>
                    <a:pt x="7" y="17"/>
                  </a:lnTo>
                  <a:lnTo>
                    <a:pt x="2" y="8"/>
                  </a:lnTo>
                  <a:lnTo>
                    <a:pt x="64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76720" y="5576760"/>
              <a:ext cx="13968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67" y="10"/>
                  </a:moveTo>
                  <a:lnTo>
                    <a:pt x="68" y="28"/>
                  </a:lnTo>
                  <a:lnTo>
                    <a:pt x="67" y="46"/>
                  </a:lnTo>
                  <a:lnTo>
                    <a:pt x="64" y="62"/>
                  </a:lnTo>
                  <a:lnTo>
                    <a:pt x="59" y="72"/>
                  </a:lnTo>
                  <a:lnTo>
                    <a:pt x="0" y="63"/>
                  </a:lnTo>
                  <a:lnTo>
                    <a:pt x="3" y="44"/>
                  </a:lnTo>
                  <a:lnTo>
                    <a:pt x="4" y="26"/>
                  </a:lnTo>
                  <a:lnTo>
                    <a:pt x="4" y="9"/>
                  </a:lnTo>
                  <a:lnTo>
                    <a:pt x="64" y="0"/>
                  </a:lnTo>
                  <a:lnTo>
                    <a:pt x="67" y="1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5" name=""/>
          <p:cNvGraphicFramePr/>
          <p:nvPr/>
        </p:nvGraphicFramePr>
        <p:xfrm>
          <a:off x="6324480" y="5334120"/>
          <a:ext cx="49392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5334120"/>
                    <a:ext cx="49392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7" name=""/>
          <p:cNvSpPr/>
          <p:nvPr/>
        </p:nvSpPr>
        <p:spPr>
          <a:xfrm flipV="1">
            <a:off x="6705720" y="464832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76440" y="4237200"/>
            <a:ext cx="858960" cy="501480"/>
          </a:xfrm>
          <a:custGeom>
            <a:avLst/>
            <a:gdLst/>
            <a:ahLst/>
            <a:rect l="l" t="t" r="r" b="b"/>
            <a:pathLst>
              <a:path w="541" h="316">
                <a:moveTo>
                  <a:pt x="111" y="18"/>
                </a:moveTo>
                <a:lnTo>
                  <a:pt x="180" y="0"/>
                </a:lnTo>
                <a:lnTo>
                  <a:pt x="225" y="0"/>
                </a:lnTo>
                <a:lnTo>
                  <a:pt x="270" y="30"/>
                </a:lnTo>
                <a:lnTo>
                  <a:pt x="315" y="30"/>
                </a:lnTo>
                <a:lnTo>
                  <a:pt x="360" y="30"/>
                </a:lnTo>
                <a:lnTo>
                  <a:pt x="405" y="45"/>
                </a:lnTo>
                <a:lnTo>
                  <a:pt x="450" y="75"/>
                </a:lnTo>
                <a:lnTo>
                  <a:pt x="495" y="90"/>
                </a:lnTo>
                <a:lnTo>
                  <a:pt x="510" y="135"/>
                </a:lnTo>
                <a:lnTo>
                  <a:pt x="525" y="180"/>
                </a:lnTo>
                <a:lnTo>
                  <a:pt x="540" y="225"/>
                </a:lnTo>
                <a:lnTo>
                  <a:pt x="540" y="270"/>
                </a:lnTo>
                <a:lnTo>
                  <a:pt x="510" y="315"/>
                </a:lnTo>
                <a:lnTo>
                  <a:pt x="465" y="300"/>
                </a:lnTo>
                <a:lnTo>
                  <a:pt x="420" y="300"/>
                </a:lnTo>
                <a:lnTo>
                  <a:pt x="255" y="306"/>
                </a:lnTo>
                <a:lnTo>
                  <a:pt x="63" y="306"/>
                </a:lnTo>
                <a:lnTo>
                  <a:pt x="111" y="306"/>
                </a:lnTo>
                <a:lnTo>
                  <a:pt x="90" y="270"/>
                </a:lnTo>
                <a:lnTo>
                  <a:pt x="45" y="240"/>
                </a:lnTo>
                <a:lnTo>
                  <a:pt x="0" y="210"/>
                </a:lnTo>
                <a:lnTo>
                  <a:pt x="0" y="165"/>
                </a:lnTo>
                <a:lnTo>
                  <a:pt x="15" y="120"/>
                </a:lnTo>
                <a:lnTo>
                  <a:pt x="60" y="90"/>
                </a:lnTo>
                <a:lnTo>
                  <a:pt x="111" y="18"/>
                </a:lnTo>
                <a:lnTo>
                  <a:pt x="111" y="18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1752480" y="449424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77120" y="4191120"/>
            <a:ext cx="858600" cy="501480"/>
          </a:xfrm>
          <a:custGeom>
            <a:avLst/>
            <a:gdLst/>
            <a:ahLst/>
            <a:rect l="l" t="t" r="r" b="b"/>
            <a:pathLst>
              <a:path w="541" h="316">
                <a:moveTo>
                  <a:pt x="111" y="18"/>
                </a:moveTo>
                <a:lnTo>
                  <a:pt x="180" y="0"/>
                </a:lnTo>
                <a:lnTo>
                  <a:pt x="225" y="0"/>
                </a:lnTo>
                <a:lnTo>
                  <a:pt x="270" y="30"/>
                </a:lnTo>
                <a:lnTo>
                  <a:pt x="315" y="30"/>
                </a:lnTo>
                <a:lnTo>
                  <a:pt x="360" y="30"/>
                </a:lnTo>
                <a:lnTo>
                  <a:pt x="405" y="45"/>
                </a:lnTo>
                <a:lnTo>
                  <a:pt x="450" y="75"/>
                </a:lnTo>
                <a:lnTo>
                  <a:pt x="495" y="90"/>
                </a:lnTo>
                <a:lnTo>
                  <a:pt x="510" y="135"/>
                </a:lnTo>
                <a:lnTo>
                  <a:pt x="525" y="180"/>
                </a:lnTo>
                <a:lnTo>
                  <a:pt x="540" y="225"/>
                </a:lnTo>
                <a:lnTo>
                  <a:pt x="540" y="270"/>
                </a:lnTo>
                <a:lnTo>
                  <a:pt x="510" y="315"/>
                </a:lnTo>
                <a:lnTo>
                  <a:pt x="465" y="300"/>
                </a:lnTo>
                <a:lnTo>
                  <a:pt x="420" y="300"/>
                </a:lnTo>
                <a:lnTo>
                  <a:pt x="255" y="306"/>
                </a:lnTo>
                <a:lnTo>
                  <a:pt x="63" y="306"/>
                </a:lnTo>
                <a:lnTo>
                  <a:pt x="111" y="306"/>
                </a:lnTo>
                <a:lnTo>
                  <a:pt x="90" y="270"/>
                </a:lnTo>
                <a:lnTo>
                  <a:pt x="45" y="240"/>
                </a:lnTo>
                <a:lnTo>
                  <a:pt x="0" y="210"/>
                </a:lnTo>
                <a:lnTo>
                  <a:pt x="0" y="165"/>
                </a:lnTo>
                <a:lnTo>
                  <a:pt x="15" y="120"/>
                </a:lnTo>
                <a:lnTo>
                  <a:pt x="60" y="90"/>
                </a:lnTo>
                <a:lnTo>
                  <a:pt x="111" y="18"/>
                </a:lnTo>
                <a:lnTo>
                  <a:pt x="111" y="18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4646520"/>
            <a:ext cx="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2133720" y="5410080"/>
          <a:ext cx="69048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410080"/>
                    <a:ext cx="690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4" name=""/>
          <p:cNvSpPr/>
          <p:nvPr/>
        </p:nvSpPr>
        <p:spPr>
          <a:xfrm>
            <a:off x="1432440" y="3851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e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1520" y="3733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e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039560" y="6172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677600" y="59436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er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54880" y="6095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í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2640" y="47242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nerv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25909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56272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INCRONISMO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quema típico los DCE ponen los reloj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SINCRONISMO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quema típico de derivación de reloj a través de un circuito Phase Locked Loop: (P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46748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609480" y="2438280"/>
            <a:ext cx="6934320" cy="3276720"/>
          </a:xfrm>
          <a:prstGeom prst="roundRect">
            <a:avLst>
              <a:gd name="adj" fmla="val 7551"/>
            </a:avLst>
          </a:pr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5" name="" descr=""/>
          <p:cNvPicPr/>
          <p:nvPr/>
        </p:nvPicPr>
        <p:blipFill>
          <a:blip r:embed="rId1"/>
          <a:stretch/>
        </p:blipFill>
        <p:spPr>
          <a:xfrm>
            <a:off x="290520" y="1085760"/>
            <a:ext cx="1290600" cy="893880"/>
          </a:xfrm>
          <a:prstGeom prst="rect">
            <a:avLst/>
          </a:prstGeom>
          <a:ln w="0">
            <a:noFill/>
          </a:ln>
        </p:spPr>
      </p:pic>
      <p:sp>
        <p:nvSpPr>
          <p:cNvPr id="1886" name=""/>
          <p:cNvSpPr/>
          <p:nvPr/>
        </p:nvSpPr>
        <p:spPr>
          <a:xfrm>
            <a:off x="3661920" y="1270080"/>
            <a:ext cx="1671120" cy="366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télites 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7" name="" descr=""/>
          <p:cNvPicPr/>
          <p:nvPr/>
        </p:nvPicPr>
        <p:blipFill>
          <a:blip r:embed="rId2"/>
          <a:stretch/>
        </p:blipFill>
        <p:spPr>
          <a:xfrm>
            <a:off x="1905120" y="1085760"/>
            <a:ext cx="1290600" cy="89388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4097520" y="2984400"/>
            <a:ext cx="1482120" cy="366840"/>
          </a:xfrm>
          <a:prstGeom prst="rect">
            <a:avLst/>
          </a:prstGeom>
          <a:noFill/>
          <a:ln w="12600">
            <a:solidFill>
              <a:srgbClr val="00c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fbc"/>
                </a:solidFill>
                <a:latin typeface="Arial"/>
              </a:rPr>
              <a:t>Fibra ó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092960" y="3817800"/>
            <a:ext cx="1506240" cy="366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ena 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950720" y="3803760"/>
            <a:ext cx="1544400" cy="366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faz 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745760" y="3722760"/>
            <a:ext cx="999000" cy="641160"/>
          </a:xfrm>
          <a:prstGeom prst="rect">
            <a:avLst/>
          </a:prstGeom>
          <a:noFill/>
          <a:ln w="12600">
            <a:solidFill>
              <a:srgbClr val="00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4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400"/>
                </a:solidFill>
                <a:latin typeface="Arial"/>
              </a:rPr>
              <a:t>E1 o 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004760" y="1962000"/>
            <a:ext cx="436680" cy="505080"/>
          </a:xfrm>
          <a:custGeom>
            <a:avLst/>
            <a:gdLst/>
            <a:ahLst/>
            <a:rect l="l" t="t" r="r" b="b"/>
            <a:pathLst>
              <a:path w="275" h="318">
                <a:moveTo>
                  <a:pt x="0" y="0"/>
                </a:moveTo>
                <a:lnTo>
                  <a:pt x="194" y="122"/>
                </a:lnTo>
                <a:lnTo>
                  <a:pt x="74" y="188"/>
                </a:lnTo>
                <a:lnTo>
                  <a:pt x="274" y="317"/>
                </a:lnTo>
              </a:path>
            </a:pathLst>
          </a:custGeom>
          <a:noFill/>
          <a:ln cap="rnd" w="25560">
            <a:solidFill>
              <a:srgbClr val="0200f8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133720" y="1962000"/>
            <a:ext cx="436320" cy="505080"/>
          </a:xfrm>
          <a:custGeom>
            <a:avLst/>
            <a:gdLst/>
            <a:ahLst/>
            <a:rect l="l" t="t" r="r" b="b"/>
            <a:pathLst>
              <a:path w="275" h="318">
                <a:moveTo>
                  <a:pt x="274" y="0"/>
                </a:moveTo>
                <a:lnTo>
                  <a:pt x="80" y="122"/>
                </a:lnTo>
                <a:lnTo>
                  <a:pt x="200" y="188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0200f8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905120" y="228600"/>
            <a:ext cx="5333760" cy="609480"/>
          </a:xfrm>
          <a:prstGeom prst="roundRect">
            <a:avLst>
              <a:gd name="adj" fmla="val 12495"/>
            </a:avLst>
          </a:prstGeom>
          <a:solidFill>
            <a:srgbClr val="00c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STEMA RECEPTOR 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600" y="6576840"/>
            <a:ext cx="7200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.Q.U. 6/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822880" y="6576840"/>
            <a:ext cx="2977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" descr=""/>
          <p:cNvPicPr/>
          <p:nvPr/>
        </p:nvPicPr>
        <p:blipFill>
          <a:blip r:embed="rId3"/>
          <a:stretch/>
        </p:blipFill>
        <p:spPr>
          <a:xfrm>
            <a:off x="1085760" y="2624040"/>
            <a:ext cx="1505160" cy="1008000"/>
          </a:xfrm>
          <a:prstGeom prst="rect">
            <a:avLst/>
          </a:prstGeom>
          <a:ln w="0">
            <a:noFill/>
          </a:ln>
        </p:spPr>
      </p:pic>
      <p:pic>
        <p:nvPicPr>
          <p:cNvPr id="1898" name="" descr=""/>
          <p:cNvPicPr/>
          <p:nvPr/>
        </p:nvPicPr>
        <p:blipFill>
          <a:blip r:embed="rId4"/>
          <a:stretch/>
        </p:blipFill>
        <p:spPr>
          <a:xfrm>
            <a:off x="4348080" y="4367160"/>
            <a:ext cx="2967120" cy="109080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7391520" y="4724280"/>
            <a:ext cx="761760" cy="0"/>
          </a:xfrm>
          <a:prstGeom prst="line">
            <a:avLst/>
          </a:prstGeom>
          <a:ln w="50760">
            <a:solidFill>
              <a:srgbClr val="00a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971800" y="3124080"/>
            <a:ext cx="915840" cy="1830600"/>
          </a:xfrm>
          <a:custGeom>
            <a:avLst/>
            <a:gdLst/>
            <a:ahLst/>
            <a:rect l="l" t="t" r="r" b="b"/>
            <a:pathLst>
              <a:path w="577" h="1153">
                <a:moveTo>
                  <a:pt x="0" y="0"/>
                </a:moveTo>
                <a:lnTo>
                  <a:pt x="576" y="0"/>
                </a:lnTo>
                <a:lnTo>
                  <a:pt x="0" y="1152"/>
                </a:lnTo>
                <a:lnTo>
                  <a:pt x="576" y="1152"/>
                </a:lnTo>
              </a:path>
            </a:pathLst>
          </a:custGeom>
          <a:noFill/>
          <a:ln cap="rnd" w="50760">
            <a:solidFill>
              <a:srgbClr val="00cfb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391520" y="5029200"/>
            <a:ext cx="761760" cy="0"/>
          </a:xfrm>
          <a:prstGeom prst="line">
            <a:avLst/>
          </a:prstGeom>
          <a:ln w="50760">
            <a:solidFill>
              <a:srgbClr val="00a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935240" y="2171880"/>
            <a:ext cx="2431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STEMA RECEPTOR 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/>
          <p:nvPr/>
        </p:nvSpPr>
        <p:spPr>
          <a:xfrm>
            <a:off x="2759040" y="537228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206960" y="21718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0" y="0"/>
                </a:ln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905120" y="228600"/>
            <a:ext cx="5333760" cy="609480"/>
          </a:xfrm>
          <a:prstGeom prst="roundRect">
            <a:avLst>
              <a:gd name="adj" fmla="val 12495"/>
            </a:avLst>
          </a:prstGeom>
          <a:solidFill>
            <a:srgbClr val="00c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MISION DEL SINCRON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TRAVES DE ENLACES DE 2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768320" y="2476440"/>
            <a:ext cx="586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2073240" y="2171880"/>
            <a:ext cx="5183280" cy="610920"/>
            <a:chOff x="2073240" y="2171880"/>
            <a:chExt cx="5183280" cy="610920"/>
          </a:xfrm>
        </p:grpSpPr>
        <p:sp>
          <p:nvSpPr>
            <p:cNvPr id="1908" name=""/>
            <p:cNvSpPr/>
            <p:nvPr/>
          </p:nvSpPr>
          <p:spPr>
            <a:xfrm>
              <a:off x="2073240" y="21718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83080" y="247644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292560" y="21718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902040" y="247644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816440" y="24764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26280" y="21718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35760" y="24764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  <a:lnTo>
                    <a:pt x="192" y="0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645240" y="21718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236232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97180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58128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9112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80060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41008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01992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629400" y="1752480"/>
            <a:ext cx="28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768320" y="3848040"/>
            <a:ext cx="586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2072880" y="3543480"/>
            <a:ext cx="5183640" cy="306360"/>
            <a:chOff x="2072880" y="3543480"/>
            <a:chExt cx="5183640" cy="306360"/>
          </a:xfrm>
        </p:grpSpPr>
        <p:sp>
          <p:nvSpPr>
            <p:cNvPr id="1926" name=""/>
            <p:cNvSpPr/>
            <p:nvPr/>
          </p:nvSpPr>
          <p:spPr>
            <a:xfrm>
              <a:off x="2378160" y="35434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987640" y="35434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597480" y="35434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206960" y="35434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16440" y="35434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26280" y="35434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35760" y="35434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645240" y="35434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2072880" y="3848040"/>
              <a:ext cx="304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190440" y="3429000"/>
            <a:ext cx="8763120" cy="0"/>
          </a:xfrm>
          <a:prstGeom prst="line">
            <a:avLst/>
          </a:prstGeom>
          <a:ln w="1260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749240" y="4876920"/>
            <a:ext cx="436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749240" y="4724280"/>
            <a:ext cx="436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235160" y="5295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35160" y="54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32080" y="5257800"/>
            <a:ext cx="753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25 µ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311120" y="54482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1311120" y="5143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3" name=""/>
          <p:cNvGrpSpPr/>
          <p:nvPr/>
        </p:nvGrpSpPr>
        <p:grpSpPr>
          <a:xfrm>
            <a:off x="2835000" y="5067360"/>
            <a:ext cx="5640840" cy="306360"/>
            <a:chOff x="2835000" y="5067360"/>
            <a:chExt cx="5640840" cy="306360"/>
          </a:xfrm>
        </p:grpSpPr>
        <p:sp>
          <p:nvSpPr>
            <p:cNvPr id="1944" name=""/>
            <p:cNvSpPr/>
            <p:nvPr/>
          </p:nvSpPr>
          <p:spPr>
            <a:xfrm>
              <a:off x="2987640" y="506736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97480" y="5372280"/>
              <a:ext cx="6094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206960" y="5372280"/>
              <a:ext cx="6094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16440" y="5372280"/>
              <a:ext cx="6098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426280" y="506736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035760" y="5372280"/>
              <a:ext cx="6094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645240" y="5372280"/>
              <a:ext cx="6098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255080" y="5372280"/>
              <a:ext cx="6094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864560" y="506736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192"/>
                  </a:lnTo>
                  <a:lnTo>
                    <a:pt x="384" y="192"/>
                  </a:lnTo>
                </a:path>
              </a:pathLst>
            </a:custGeom>
            <a:noFill/>
            <a:ln cap="rnd"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2835000" y="5372280"/>
              <a:ext cx="1522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 flipV="1">
            <a:off x="2987640" y="4609800"/>
            <a:ext cx="0" cy="22860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5425920" y="4609800"/>
            <a:ext cx="0" cy="22860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987640" y="4686480"/>
            <a:ext cx="2438280" cy="0"/>
          </a:xfrm>
          <a:prstGeom prst="line">
            <a:avLst/>
          </a:prstGeom>
          <a:ln w="1260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01720" y="4343400"/>
            <a:ext cx="1439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25 µS » 8 K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149560" y="5219640"/>
            <a:ext cx="914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-288360" y="5067360"/>
            <a:ext cx="5790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-2727000" y="4915080"/>
            <a:ext cx="106671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066320" y="2209680"/>
            <a:ext cx="718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HDB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34120" y="2514600"/>
            <a:ext cx="1068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048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35200" y="3657600"/>
            <a:ext cx="1047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.048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1546200" y="5295960"/>
            <a:ext cx="901800" cy="914400"/>
            <a:chOff x="1546200" y="5295960"/>
            <a:chExt cx="901800" cy="914400"/>
          </a:xfrm>
        </p:grpSpPr>
        <p:sp>
          <p:nvSpPr>
            <p:cNvPr id="1965" name=""/>
            <p:cNvSpPr/>
            <p:nvPr/>
          </p:nvSpPr>
          <p:spPr>
            <a:xfrm>
              <a:off x="1749600" y="5867640"/>
              <a:ext cx="436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49600" y="5639040"/>
              <a:ext cx="436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546200" y="5302440"/>
              <a:ext cx="6372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622520" y="5302440"/>
              <a:ext cx="8254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546200" y="5454720"/>
              <a:ext cx="6372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622520" y="5454720"/>
              <a:ext cx="8254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46200" y="5607000"/>
              <a:ext cx="6372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622520" y="5607000"/>
              <a:ext cx="8254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546200" y="5759640"/>
              <a:ext cx="6372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622520" y="5759640"/>
              <a:ext cx="8254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546200" y="5911920"/>
              <a:ext cx="6372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22520" y="5911920"/>
              <a:ext cx="8254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546200" y="6064200"/>
              <a:ext cx="6372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622520" y="6064200"/>
              <a:ext cx="8254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9236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76868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84464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2096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99728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7324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14956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2588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30184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78160" y="5295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9236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6868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84464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92096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99728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07324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14956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22588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30184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378160" y="54482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69236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76868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84464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92096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99728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07324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14956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22588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30184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378160" y="5600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69236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6868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84464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92096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99728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07324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14956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2588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30184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78160" y="57531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9236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6868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84464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92096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99728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07324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14956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22588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30184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78160" y="59054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69236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76868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84464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92096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9728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07324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14956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22588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30184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378160" y="60580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9" name=""/>
          <p:cNvSpPr/>
          <p:nvPr/>
        </p:nvSpPr>
        <p:spPr>
          <a:xfrm>
            <a:off x="1295280" y="6234120"/>
            <a:ext cx="263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445760" y="6234120"/>
            <a:ext cx="1160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 1 2 3 .................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7960" y="6576840"/>
            <a:ext cx="7765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.Q.U. 10/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823240" y="6576840"/>
            <a:ext cx="314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894400" y="4853160"/>
            <a:ext cx="37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s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333040" y="4853160"/>
            <a:ext cx="37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s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771320" y="4853160"/>
            <a:ext cx="37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s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7032600" y="2940120"/>
            <a:ext cx="825480" cy="406440"/>
            <a:chOff x="7032600" y="2940120"/>
            <a:chExt cx="825480" cy="406440"/>
          </a:xfrm>
        </p:grpSpPr>
        <p:sp>
          <p:nvSpPr>
            <p:cNvPr id="2047" name=""/>
            <p:cNvSpPr/>
            <p:nvPr/>
          </p:nvSpPr>
          <p:spPr>
            <a:xfrm>
              <a:off x="7032600" y="2940120"/>
              <a:ext cx="825480" cy="40644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99360" y="2954520"/>
              <a:ext cx="292320" cy="291960"/>
            </a:xfrm>
            <a:prstGeom prst="rect">
              <a:avLst/>
            </a:prstGeom>
            <a:solidFill>
              <a:srgbClr val="00cf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9" name=""/>
            <p:cNvGrpSpPr/>
            <p:nvPr/>
          </p:nvGrpSpPr>
          <p:grpSpPr>
            <a:xfrm>
              <a:off x="7322760" y="2995560"/>
              <a:ext cx="150840" cy="63720"/>
              <a:chOff x="7322760" y="2995560"/>
              <a:chExt cx="150840" cy="63720"/>
            </a:xfrm>
          </p:grpSpPr>
          <p:sp>
            <p:nvSpPr>
              <p:cNvPr id="2050" name=""/>
              <p:cNvSpPr/>
              <p:nvPr/>
            </p:nvSpPr>
            <p:spPr>
              <a:xfrm rot="5400000">
                <a:off x="7372080" y="3002040"/>
                <a:ext cx="50760" cy="50760"/>
              </a:xfrm>
              <a:prstGeom prst="triangle">
                <a:avLst>
                  <a:gd name="adj" fmla="val 49995"/>
                </a:avLst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431120" y="2995560"/>
                <a:ext cx="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7322760" y="3027600"/>
                <a:ext cx="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>
                <a:off x="7430760" y="3027600"/>
                <a:ext cx="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4" name=""/>
            <p:cNvSpPr/>
            <p:nvPr/>
          </p:nvSpPr>
          <p:spPr>
            <a:xfrm flipV="1">
              <a:off x="7293240" y="294768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05840" y="3110040"/>
              <a:ext cx="3664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449640" y="121932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TTER: Diferencia entre el reloj correcto y el reloj deri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762120" y="-223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BER (BIT ERROR RATE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da de la tasa de error de un canal en un tiemp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expresa como una potencia en base 1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 BER=1x 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6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 1 error en 1000000 de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tiempo t debe ser suficientemente grande para recoger el comportamiento típico del canal.  Generalmente 24 ho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os puntos hasta donde se quiere hacer la medida se colocan loops, que pueden ser lógicos o fís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MENDACIÓ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 canales se deben recibir acompañados de una prueba de 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762120" y="-2232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BER (BIT ERROR RATE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 utilizando mod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0: Termina loop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1: Local analog loop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3: Local digital loopbac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4: Habilita las solicitudes de loop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5: Desabilita las solicitudes de loo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6: Ejecuta loop digital remo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8: Habilita loop análogo remo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"/>
          <p:cNvSpPr/>
          <p:nvPr/>
        </p:nvSpPr>
        <p:spPr>
          <a:xfrm>
            <a:off x="7010280" y="5867280"/>
            <a:ext cx="10670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791320" y="6019920"/>
            <a:ext cx="8380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505320" y="6248520"/>
            <a:ext cx="228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666880" y="6019920"/>
            <a:ext cx="9144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629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162920" y="6095880"/>
            <a:ext cx="698400" cy="304920"/>
          </a:xfrm>
          <a:custGeom>
            <a:avLst/>
            <a:gdLst/>
            <a:ahLst/>
            <a:rect l="l" t="t" r="r" b="b"/>
            <a:pathLst>
              <a:path w="440" h="192">
                <a:moveTo>
                  <a:pt x="0" y="0"/>
                </a:moveTo>
                <a:cubicBezTo>
                  <a:pt x="212" y="8"/>
                  <a:pt x="424" y="16"/>
                  <a:pt x="432" y="48"/>
                </a:cubicBezTo>
                <a:cubicBezTo>
                  <a:pt x="440" y="80"/>
                  <a:pt x="112" y="168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562720" y="6172200"/>
            <a:ext cx="546120" cy="228600"/>
          </a:xfrm>
          <a:custGeom>
            <a:avLst/>
            <a:gdLst/>
            <a:ahLst/>
            <a:rect l="l" t="t" r="r" b="b"/>
            <a:pathLst>
              <a:path w="344" h="144">
                <a:moveTo>
                  <a:pt x="0" y="0"/>
                </a:moveTo>
                <a:cubicBezTo>
                  <a:pt x="164" y="12"/>
                  <a:pt x="328" y="24"/>
                  <a:pt x="336" y="48"/>
                </a:cubicBezTo>
                <a:cubicBezTo>
                  <a:pt x="344" y="72"/>
                  <a:pt x="96" y="128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990720" y="6019920"/>
            <a:ext cx="10666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28600" y="5029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dor de Protoc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745720" y="6400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793840" y="6400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088400" y="5334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057400" y="6248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590920" y="6172200"/>
            <a:ext cx="546120" cy="228600"/>
          </a:xfrm>
          <a:custGeom>
            <a:avLst/>
            <a:gdLst/>
            <a:ahLst/>
            <a:rect l="l" t="t" r="r" b="b"/>
            <a:pathLst>
              <a:path w="344" h="144">
                <a:moveTo>
                  <a:pt x="0" y="0"/>
                </a:moveTo>
                <a:cubicBezTo>
                  <a:pt x="164" y="12"/>
                  <a:pt x="328" y="24"/>
                  <a:pt x="336" y="48"/>
                </a:cubicBezTo>
                <a:cubicBezTo>
                  <a:pt x="344" y="72"/>
                  <a:pt x="96" y="128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29000" y="6172200"/>
            <a:ext cx="546120" cy="228600"/>
          </a:xfrm>
          <a:custGeom>
            <a:avLst/>
            <a:gdLst/>
            <a:ahLst/>
            <a:rect l="l" t="t" r="r" b="b"/>
            <a:pathLst>
              <a:path w="344" h="144">
                <a:moveTo>
                  <a:pt x="0" y="0"/>
                </a:moveTo>
                <a:cubicBezTo>
                  <a:pt x="164" y="12"/>
                  <a:pt x="328" y="24"/>
                  <a:pt x="336" y="48"/>
                </a:cubicBezTo>
                <a:cubicBezTo>
                  <a:pt x="344" y="72"/>
                  <a:pt x="96" y="128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400800" y="6172200"/>
            <a:ext cx="546120" cy="228600"/>
          </a:xfrm>
          <a:custGeom>
            <a:avLst/>
            <a:gdLst/>
            <a:ahLst/>
            <a:rect l="l" t="t" r="r" b="b"/>
            <a:pathLst>
              <a:path w="344" h="144">
                <a:moveTo>
                  <a:pt x="0" y="0"/>
                </a:moveTo>
                <a:cubicBezTo>
                  <a:pt x="164" y="12"/>
                  <a:pt x="328" y="24"/>
                  <a:pt x="336" y="48"/>
                </a:cubicBezTo>
                <a:cubicBezTo>
                  <a:pt x="344" y="72"/>
                  <a:pt x="96" y="128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825920" y="441972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digital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438280" y="48769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3733920" y="54100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818080" y="49528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análogo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494240" y="41148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análogo rem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410080" y="464832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940720" y="45720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digital rem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705720" y="518148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296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LECTURAS RECOMENDAD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 a los sistemas de comunicació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G. Stremler. Tercera Ed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ítulos del 1 al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s. Andrew S. Tanenbaum. Tercera Ed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ulo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etworks. Concepts, Theory, and Practice. Uyless Black. Prentice-Hall International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ítulos 1 al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iones y redes de Computadores. William Stalings. Quinta Edic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ítulos 1 y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Speed Networking Technology: An Introductory Survey.www.redbooks.ibm.com/pubs/pdfs/redbooks/gg243816.pdf.  Capitulo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 type="title"/>
          </p:nvPr>
        </p:nvSpPr>
        <p:spPr>
          <a:xfrm>
            <a:off x="990360" y="152280"/>
            <a:ext cx="7296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LECTURAS RECOMENDAD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1209600" y="13644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QUEMA GENERAL DE COMUN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760840" y="1676520"/>
            <a:ext cx="3419280" cy="533160"/>
            <a:chOff x="2760840" y="1676520"/>
            <a:chExt cx="3419280" cy="533160"/>
          </a:xfrm>
        </p:grpSpPr>
        <p:sp>
          <p:nvSpPr>
            <p:cNvPr id="1214" name=""/>
            <p:cNvSpPr/>
            <p:nvPr/>
          </p:nvSpPr>
          <p:spPr>
            <a:xfrm>
              <a:off x="2760840" y="1946880"/>
              <a:ext cx="3419280" cy="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3257640" y="1676520"/>
              <a:ext cx="2341440" cy="533160"/>
              <a:chOff x="3257640" y="1676520"/>
              <a:chExt cx="2341440" cy="533160"/>
            </a:xfrm>
          </p:grpSpPr>
          <p:sp>
            <p:nvSpPr>
              <p:cNvPr id="1216" name=""/>
              <p:cNvSpPr/>
              <p:nvPr/>
            </p:nvSpPr>
            <p:spPr>
              <a:xfrm>
                <a:off x="3257640" y="1855440"/>
                <a:ext cx="436680" cy="188280"/>
              </a:xfrm>
              <a:custGeom>
                <a:avLst/>
                <a:gdLst/>
                <a:ahLst/>
                <a:rect l="l" t="t" r="r" b="b"/>
                <a:pathLst>
                  <a:path w="275" h="198">
                    <a:moveTo>
                      <a:pt x="0" y="93"/>
                    </a:moveTo>
                    <a:lnTo>
                      <a:pt x="4" y="77"/>
                    </a:lnTo>
                    <a:lnTo>
                      <a:pt x="9" y="59"/>
                    </a:lnTo>
                    <a:lnTo>
                      <a:pt x="13" y="48"/>
                    </a:lnTo>
                    <a:lnTo>
                      <a:pt x="20" y="42"/>
                    </a:lnTo>
                    <a:lnTo>
                      <a:pt x="26" y="38"/>
                    </a:lnTo>
                    <a:lnTo>
                      <a:pt x="33" y="37"/>
                    </a:lnTo>
                    <a:lnTo>
                      <a:pt x="41" y="38"/>
                    </a:lnTo>
                    <a:lnTo>
                      <a:pt x="49" y="44"/>
                    </a:lnTo>
                    <a:lnTo>
                      <a:pt x="53" y="51"/>
                    </a:lnTo>
                    <a:lnTo>
                      <a:pt x="56" y="60"/>
                    </a:lnTo>
                    <a:lnTo>
                      <a:pt x="70" y="121"/>
                    </a:lnTo>
                    <a:lnTo>
                      <a:pt x="73" y="130"/>
                    </a:lnTo>
                    <a:lnTo>
                      <a:pt x="76" y="137"/>
                    </a:lnTo>
                    <a:lnTo>
                      <a:pt x="85" y="140"/>
                    </a:lnTo>
                    <a:lnTo>
                      <a:pt x="93" y="141"/>
                    </a:lnTo>
                    <a:lnTo>
                      <a:pt x="101" y="139"/>
                    </a:lnTo>
                    <a:lnTo>
                      <a:pt x="105" y="131"/>
                    </a:lnTo>
                    <a:lnTo>
                      <a:pt x="109" y="121"/>
                    </a:lnTo>
                    <a:lnTo>
                      <a:pt x="128" y="31"/>
                    </a:lnTo>
                    <a:lnTo>
                      <a:pt x="131" y="19"/>
                    </a:lnTo>
                    <a:lnTo>
                      <a:pt x="134" y="10"/>
                    </a:lnTo>
                    <a:lnTo>
                      <a:pt x="139" y="4"/>
                    </a:lnTo>
                    <a:lnTo>
                      <a:pt x="144" y="0"/>
                    </a:lnTo>
                    <a:lnTo>
                      <a:pt x="153" y="0"/>
                    </a:lnTo>
                    <a:lnTo>
                      <a:pt x="162" y="1"/>
                    </a:lnTo>
                    <a:lnTo>
                      <a:pt x="169" y="9"/>
                    </a:lnTo>
                    <a:lnTo>
                      <a:pt x="172" y="15"/>
                    </a:lnTo>
                    <a:lnTo>
                      <a:pt x="175" y="25"/>
                    </a:lnTo>
                    <a:lnTo>
                      <a:pt x="204" y="168"/>
                    </a:lnTo>
                    <a:lnTo>
                      <a:pt x="208" y="180"/>
                    </a:lnTo>
                    <a:lnTo>
                      <a:pt x="213" y="191"/>
                    </a:lnTo>
                    <a:lnTo>
                      <a:pt x="219" y="195"/>
                    </a:lnTo>
                    <a:lnTo>
                      <a:pt x="229" y="197"/>
                    </a:lnTo>
                    <a:lnTo>
                      <a:pt x="237" y="190"/>
                    </a:lnTo>
                    <a:lnTo>
                      <a:pt x="242" y="181"/>
                    </a:lnTo>
                    <a:lnTo>
                      <a:pt x="246" y="168"/>
                    </a:lnTo>
                    <a:lnTo>
                      <a:pt x="274" y="38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91080" y="1676520"/>
                <a:ext cx="743040" cy="533160"/>
              </a:xfrm>
              <a:custGeom>
                <a:avLst/>
                <a:gdLst/>
                <a:ahLst/>
                <a:rect l="l" t="t" r="r" b="b"/>
                <a:pathLst>
                  <a:path w="468" h="560">
                    <a:moveTo>
                      <a:pt x="0" y="228"/>
                    </a:moveTo>
                    <a:lnTo>
                      <a:pt x="24" y="123"/>
                    </a:lnTo>
                    <a:lnTo>
                      <a:pt x="27" y="115"/>
                    </a:lnTo>
                    <a:lnTo>
                      <a:pt x="35" y="110"/>
                    </a:lnTo>
                    <a:lnTo>
                      <a:pt x="42" y="109"/>
                    </a:lnTo>
                    <a:lnTo>
                      <a:pt x="52" y="110"/>
                    </a:lnTo>
                    <a:lnTo>
                      <a:pt x="57" y="115"/>
                    </a:lnTo>
                    <a:lnTo>
                      <a:pt x="60" y="123"/>
                    </a:lnTo>
                    <a:lnTo>
                      <a:pt x="117" y="427"/>
                    </a:lnTo>
                    <a:lnTo>
                      <a:pt x="123" y="442"/>
                    </a:lnTo>
                    <a:lnTo>
                      <a:pt x="128" y="448"/>
                    </a:lnTo>
                    <a:lnTo>
                      <a:pt x="137" y="451"/>
                    </a:lnTo>
                    <a:lnTo>
                      <a:pt x="144" y="453"/>
                    </a:lnTo>
                    <a:lnTo>
                      <a:pt x="153" y="450"/>
                    </a:lnTo>
                    <a:lnTo>
                      <a:pt x="160" y="443"/>
                    </a:lnTo>
                    <a:lnTo>
                      <a:pt x="166" y="427"/>
                    </a:lnTo>
                    <a:lnTo>
                      <a:pt x="222" y="75"/>
                    </a:lnTo>
                    <a:lnTo>
                      <a:pt x="225" y="57"/>
                    </a:lnTo>
                    <a:lnTo>
                      <a:pt x="229" y="52"/>
                    </a:lnTo>
                    <a:lnTo>
                      <a:pt x="233" y="48"/>
                    </a:lnTo>
                    <a:lnTo>
                      <a:pt x="240" y="43"/>
                    </a:lnTo>
                    <a:lnTo>
                      <a:pt x="247" y="43"/>
                    </a:lnTo>
                    <a:lnTo>
                      <a:pt x="256" y="45"/>
                    </a:lnTo>
                    <a:lnTo>
                      <a:pt x="263" y="48"/>
                    </a:lnTo>
                    <a:lnTo>
                      <a:pt x="267" y="52"/>
                    </a:lnTo>
                    <a:lnTo>
                      <a:pt x="271" y="57"/>
                    </a:lnTo>
                    <a:lnTo>
                      <a:pt x="275" y="72"/>
                    </a:lnTo>
                    <a:lnTo>
                      <a:pt x="326" y="523"/>
                    </a:lnTo>
                    <a:lnTo>
                      <a:pt x="329" y="542"/>
                    </a:lnTo>
                    <a:lnTo>
                      <a:pt x="334" y="552"/>
                    </a:lnTo>
                    <a:lnTo>
                      <a:pt x="343" y="556"/>
                    </a:lnTo>
                    <a:lnTo>
                      <a:pt x="352" y="559"/>
                    </a:lnTo>
                    <a:lnTo>
                      <a:pt x="360" y="556"/>
                    </a:lnTo>
                    <a:lnTo>
                      <a:pt x="365" y="552"/>
                    </a:lnTo>
                    <a:lnTo>
                      <a:pt x="368" y="544"/>
                    </a:lnTo>
                    <a:lnTo>
                      <a:pt x="371" y="525"/>
                    </a:lnTo>
                    <a:lnTo>
                      <a:pt x="437" y="32"/>
                    </a:lnTo>
                    <a:lnTo>
                      <a:pt x="440" y="22"/>
                    </a:lnTo>
                    <a:lnTo>
                      <a:pt x="445" y="12"/>
                    </a:lnTo>
                    <a:lnTo>
                      <a:pt x="450" y="6"/>
                    </a:lnTo>
                    <a:lnTo>
                      <a:pt x="455" y="1"/>
                    </a:lnTo>
                    <a:lnTo>
                      <a:pt x="461" y="0"/>
                    </a:lnTo>
                    <a:lnTo>
                      <a:pt x="467" y="0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164200" y="1855440"/>
                <a:ext cx="434880" cy="188280"/>
              </a:xfrm>
              <a:custGeom>
                <a:avLst/>
                <a:gdLst/>
                <a:ahLst/>
                <a:rect l="l" t="t" r="r" b="b"/>
                <a:pathLst>
                  <a:path w="274" h="198">
                    <a:moveTo>
                      <a:pt x="273" y="93"/>
                    </a:moveTo>
                    <a:lnTo>
                      <a:pt x="269" y="77"/>
                    </a:lnTo>
                    <a:lnTo>
                      <a:pt x="264" y="59"/>
                    </a:lnTo>
                    <a:lnTo>
                      <a:pt x="260" y="48"/>
                    </a:lnTo>
                    <a:lnTo>
                      <a:pt x="254" y="42"/>
                    </a:lnTo>
                    <a:lnTo>
                      <a:pt x="247" y="38"/>
                    </a:lnTo>
                    <a:lnTo>
                      <a:pt x="240" y="37"/>
                    </a:lnTo>
                    <a:lnTo>
                      <a:pt x="231" y="38"/>
                    </a:lnTo>
                    <a:lnTo>
                      <a:pt x="225" y="44"/>
                    </a:lnTo>
                    <a:lnTo>
                      <a:pt x="221" y="51"/>
                    </a:lnTo>
                    <a:lnTo>
                      <a:pt x="217" y="60"/>
                    </a:lnTo>
                    <a:lnTo>
                      <a:pt x="203" y="121"/>
                    </a:lnTo>
                    <a:lnTo>
                      <a:pt x="199" y="130"/>
                    </a:lnTo>
                    <a:lnTo>
                      <a:pt x="197" y="137"/>
                    </a:lnTo>
                    <a:lnTo>
                      <a:pt x="188" y="140"/>
                    </a:lnTo>
                    <a:lnTo>
                      <a:pt x="180" y="141"/>
                    </a:lnTo>
                    <a:lnTo>
                      <a:pt x="172" y="139"/>
                    </a:lnTo>
                    <a:lnTo>
                      <a:pt x="169" y="131"/>
                    </a:lnTo>
                    <a:lnTo>
                      <a:pt x="165" y="121"/>
                    </a:lnTo>
                    <a:lnTo>
                      <a:pt x="146" y="31"/>
                    </a:lnTo>
                    <a:lnTo>
                      <a:pt x="142" y="19"/>
                    </a:lnTo>
                    <a:lnTo>
                      <a:pt x="139" y="10"/>
                    </a:lnTo>
                    <a:lnTo>
                      <a:pt x="134" y="4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11" y="1"/>
                    </a:lnTo>
                    <a:lnTo>
                      <a:pt x="104" y="9"/>
                    </a:lnTo>
                    <a:lnTo>
                      <a:pt x="101" y="15"/>
                    </a:lnTo>
                    <a:lnTo>
                      <a:pt x="98" y="25"/>
                    </a:lnTo>
                    <a:lnTo>
                      <a:pt x="69" y="168"/>
                    </a:lnTo>
                    <a:lnTo>
                      <a:pt x="66" y="180"/>
                    </a:lnTo>
                    <a:lnTo>
                      <a:pt x="61" y="191"/>
                    </a:lnTo>
                    <a:lnTo>
                      <a:pt x="55" y="195"/>
                    </a:lnTo>
                    <a:lnTo>
                      <a:pt x="44" y="197"/>
                    </a:lnTo>
                    <a:lnTo>
                      <a:pt x="36" y="190"/>
                    </a:lnTo>
                    <a:lnTo>
                      <a:pt x="31" y="181"/>
                    </a:lnTo>
                    <a:lnTo>
                      <a:pt x="27" y="168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422960" y="1676520"/>
                <a:ext cx="742680" cy="533160"/>
              </a:xfrm>
              <a:custGeom>
                <a:avLst/>
                <a:gdLst/>
                <a:ahLst/>
                <a:rect l="l" t="t" r="r" b="b"/>
                <a:pathLst>
                  <a:path w="468" h="560">
                    <a:moveTo>
                      <a:pt x="467" y="229"/>
                    </a:moveTo>
                    <a:lnTo>
                      <a:pt x="443" y="123"/>
                    </a:lnTo>
                    <a:lnTo>
                      <a:pt x="439" y="115"/>
                    </a:lnTo>
                    <a:lnTo>
                      <a:pt x="432" y="110"/>
                    </a:lnTo>
                    <a:lnTo>
                      <a:pt x="425" y="109"/>
                    </a:lnTo>
                    <a:lnTo>
                      <a:pt x="415" y="110"/>
                    </a:lnTo>
                    <a:lnTo>
                      <a:pt x="410" y="115"/>
                    </a:lnTo>
                    <a:lnTo>
                      <a:pt x="406" y="123"/>
                    </a:lnTo>
                    <a:lnTo>
                      <a:pt x="350" y="427"/>
                    </a:lnTo>
                    <a:lnTo>
                      <a:pt x="344" y="442"/>
                    </a:lnTo>
                    <a:lnTo>
                      <a:pt x="340" y="448"/>
                    </a:lnTo>
                    <a:lnTo>
                      <a:pt x="330" y="451"/>
                    </a:lnTo>
                    <a:lnTo>
                      <a:pt x="323" y="453"/>
                    </a:lnTo>
                    <a:lnTo>
                      <a:pt x="314" y="450"/>
                    </a:lnTo>
                    <a:lnTo>
                      <a:pt x="306" y="443"/>
                    </a:lnTo>
                    <a:lnTo>
                      <a:pt x="301" y="427"/>
                    </a:lnTo>
                    <a:lnTo>
                      <a:pt x="245" y="75"/>
                    </a:lnTo>
                    <a:lnTo>
                      <a:pt x="241" y="57"/>
                    </a:lnTo>
                    <a:lnTo>
                      <a:pt x="238" y="52"/>
                    </a:lnTo>
                    <a:lnTo>
                      <a:pt x="234" y="48"/>
                    </a:lnTo>
                    <a:lnTo>
                      <a:pt x="227" y="43"/>
                    </a:lnTo>
                    <a:lnTo>
                      <a:pt x="221" y="43"/>
                    </a:lnTo>
                    <a:lnTo>
                      <a:pt x="211" y="45"/>
                    </a:lnTo>
                    <a:lnTo>
                      <a:pt x="204" y="48"/>
                    </a:lnTo>
                    <a:lnTo>
                      <a:pt x="199" y="52"/>
                    </a:lnTo>
                    <a:lnTo>
                      <a:pt x="196" y="57"/>
                    </a:lnTo>
                    <a:lnTo>
                      <a:pt x="192" y="72"/>
                    </a:lnTo>
                    <a:lnTo>
                      <a:pt x="141" y="523"/>
                    </a:lnTo>
                    <a:lnTo>
                      <a:pt x="137" y="542"/>
                    </a:lnTo>
                    <a:lnTo>
                      <a:pt x="133" y="552"/>
                    </a:lnTo>
                    <a:lnTo>
                      <a:pt x="124" y="556"/>
                    </a:lnTo>
                    <a:lnTo>
                      <a:pt x="116" y="559"/>
                    </a:lnTo>
                    <a:lnTo>
                      <a:pt x="107" y="556"/>
                    </a:lnTo>
                    <a:lnTo>
                      <a:pt x="103" y="552"/>
                    </a:lnTo>
                    <a:lnTo>
                      <a:pt x="99" y="544"/>
                    </a:lnTo>
                    <a:lnTo>
                      <a:pt x="96" y="525"/>
                    </a:lnTo>
                    <a:lnTo>
                      <a:pt x="30" y="32"/>
                    </a:lnTo>
                    <a:lnTo>
                      <a:pt x="27" y="22"/>
                    </a:lnTo>
                    <a:lnTo>
                      <a:pt x="23" y="12"/>
                    </a:lnTo>
                    <a:lnTo>
                      <a:pt x="17" y="6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" name=""/>
          <p:cNvSpPr/>
          <p:nvPr/>
        </p:nvSpPr>
        <p:spPr>
          <a:xfrm>
            <a:off x="2155680" y="1582560"/>
            <a:ext cx="596880" cy="57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94520" y="1655640"/>
            <a:ext cx="596880" cy="57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7108920" y="1216080"/>
            <a:ext cx="1206360" cy="720720"/>
            <a:chOff x="7108920" y="1216080"/>
            <a:chExt cx="1206360" cy="720720"/>
          </a:xfrm>
        </p:grpSpPr>
        <p:sp>
          <p:nvSpPr>
            <p:cNvPr id="1223" name=""/>
            <p:cNvSpPr/>
            <p:nvPr/>
          </p:nvSpPr>
          <p:spPr>
            <a:xfrm>
              <a:off x="7337520" y="1216080"/>
              <a:ext cx="825480" cy="501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08920" y="1730520"/>
              <a:ext cx="1206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1920960" y="187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708120" y="1143000"/>
            <a:ext cx="1206360" cy="720720"/>
            <a:chOff x="708120" y="1143000"/>
            <a:chExt cx="1206360" cy="720720"/>
          </a:xfrm>
        </p:grpSpPr>
        <p:sp>
          <p:nvSpPr>
            <p:cNvPr id="1227" name=""/>
            <p:cNvSpPr/>
            <p:nvPr/>
          </p:nvSpPr>
          <p:spPr>
            <a:xfrm>
              <a:off x="936720" y="1143000"/>
              <a:ext cx="82548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08120" y="1655640"/>
              <a:ext cx="1206360" cy="20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6797520" y="1943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286000" y="4343400"/>
            <a:ext cx="2965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 tren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x, Cable mod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ra Op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eado Estruc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a Telefón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SI, X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57040" y="10666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5880" y="10666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5640" y="2438280"/>
            <a:ext cx="1655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-23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3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-44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.2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XS/F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7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3720" y="2003400"/>
            <a:ext cx="1247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3048120" y="2057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638680" y="4267080"/>
            <a:ext cx="35053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ACION/ COD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1066680" y="198108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4952880" y="228600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066680" y="7621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391160" y="7621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"/>
          <p:cNvGrpSpPr/>
          <p:nvPr/>
        </p:nvGrpSpPr>
        <p:grpSpPr>
          <a:xfrm>
            <a:off x="228600" y="0"/>
            <a:ext cx="2590560" cy="6427440"/>
            <a:chOff x="228600" y="0"/>
            <a:chExt cx="2590560" cy="6427440"/>
          </a:xfrm>
        </p:grpSpPr>
        <p:sp>
          <p:nvSpPr>
            <p:cNvPr id="1242" name=""/>
            <p:cNvSpPr/>
            <p:nvPr/>
          </p:nvSpPr>
          <p:spPr>
            <a:xfrm>
              <a:off x="228600" y="842400"/>
              <a:ext cx="2577240" cy="558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8600" y="168984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600" y="24912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6280" y="1911600"/>
              <a:ext cx="228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5120" y="1110240"/>
              <a:ext cx="21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L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2280" y="2710440"/>
              <a:ext cx="141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175400" y="4278240"/>
              <a:ext cx="85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06280" y="5912640"/>
              <a:ext cx="1094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Í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38520" y="5054040"/>
              <a:ext cx="1727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28600" y="32922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28600" y="40932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8600" y="48924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5120" y="3511440"/>
              <a:ext cx="21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8600" y="56934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315080" y="0"/>
              <a:ext cx="178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3582000" y="304920"/>
            <a:ext cx="250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 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124080" y="5715000"/>
            <a:ext cx="5791320" cy="8254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s, Interfaces, señales, sincronismo, modulación, codificación, et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48120" y="4800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ado, detección y/o corrección de errores, control de flujo, control de acceso a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48120" y="1905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ipción, compresión, sintaxis, cód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48120" y="3505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s comunicación extremo a extre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48120" y="251460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s de conexión mejorados como sincronización entre aplicacion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24080" y="4191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utamiento, control de congest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48120" y="1066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ón entre aplic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62120" y="1440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l esquema básico de una comunicación intervienen los siguientes componentes: EMISOR, MENSAJE, CÓDIGO, CANAL y un RECEP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general todos los esquemas de comunicación se basan en la variación o perturbación de un medio que llamamos canal, para con estos cambios transmitir los mensaj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endo de un esquema básico de comunicación definamos algunos conceptos bás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ata Terminal Equipment): Equipo terminal como un computador, una impresora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ata Circuit-Terminating Equipment): Equipo de comunicaciones. Modems, multiplexores, etc. Algunos equipos de comunicaciones se comportan también como DTE, principalmente cuando están en cadena. Ej: Router conectado a MUX.  Router=DTE, MUX=D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4:10:51Z</dcterms:created>
  <dc:creator>JUAN CARLOS RESTREPO</dc:creator>
  <dc:description/>
  <dc:language>en-US</dc:language>
  <cp:lastModifiedBy>JUAN CARLOS RESTREPO</cp:lastModifiedBy>
  <dcterms:modified xsi:type="dcterms:W3CDTF">2004-09-01T23:59:43Z</dcterms:modified>
  <cp:revision>415</cp:revision>
  <dc:subject/>
  <dc:title>MODULO DE LINEAS DE TRANSMISION</dc:title>
</cp:coreProperties>
</file>