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5AD1-E1D9-44F6-9621-DA956E81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E1A-0272-41BF-81A0-99EF2437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0F4-0F8B-4BE2-ABF3-8066A286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B99-F9F8-4DB9-A562-ECE618DE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AA1B-9C34-4530-95CC-22DF13CC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1D4-BE35-49FB-8DE2-5227AEED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C363-337A-41F5-81BC-9C1E27D9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140-E034-41CC-963B-0DDFD19D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5DD-3699-4D2B-AAFE-D74AA57F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D03-69CD-48B4-902C-0692A8A7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C89-F6B8-4E82-8208-07283278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CCD-B568-49BF-A39D-545D7AC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3646-CC64-407E-9358-976433D41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pepito@abc.com" TargetMode="External"/><Relationship Id="rId2" Type="http://schemas.openxmlformats.org/officeDocument/2006/relationships/hyperlink" Target="mailto:maria@xyz.com" TargetMode="External"/><Relationship Id="rId3" Type="http://schemas.openxmlformats.org/officeDocument/2006/relationships/hyperlink" Target="mailto:pepito@abc.com" TargetMode="External"/><Relationship Id="rId4" Type="http://schemas.openxmlformats.org/officeDocument/2006/relationships/hyperlink" Target="mailto:maria@xyz.com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206064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: 51405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ón: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 revisión: Agosto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ellín-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19840" y="5772240"/>
            <a:ext cx="2324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gar a varios. Poner en varias par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empre que distribuyo se requiere comunicación y se vuelve crítico este asp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es lo que se distribu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aplica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stema opera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rvi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que distribuy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desempeño o efic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contin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760" indent="-50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ta donde distribu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: No debo perder el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en distribu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24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ersona que desarro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24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aplic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24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istema Oper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n un conjunto de computadores independientes y las hacen operar como una sola máquina desde el punto de vista d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sistema operativo el que es distrib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n de forma similar al cerebro: una o más neuronas en sitios diferentes trabajando en lo m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ienen n copias del sistema operativo (microkern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ueden construir sobre un S.O. ya existente o sobre el Hardware direct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basan en microker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ros servicios (directorio, archivos) se proveen por proceso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5181480"/>
            <a:ext cx="121896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rvicio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5181480"/>
            <a:ext cx="121896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rvicio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5181480"/>
            <a:ext cx="121932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rvicio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ic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een las siguie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ció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 sistema lo constituyen varias máquinas autónomas pero integ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elism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cesos individuales se ejecutan simultáneamente en diferentes procesadores. Ejemplo: coman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arencia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l usuario no sabe donde se ejecutan sus procesos, donde residen los archivos, que hay más usuarios, y la manera en que se hace el paralelismo de la ejecución (esto lo hace el sistema opera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empeñ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 incrementa a mayor número de máquinas. Se maneja balanceo de cargas. Debe ser escalable, confiable y flex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n comunes. Ejemplo: Amoeb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UCION DE LA PLATAFORMA DE COMP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’: Tiempo compartido. Computador costoso compartido por vari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os usuarios utilizan un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’: Computación personal. Computador económico para un usuario.  Toma fuerza el concepto de “networking” para unir la proliferación de is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 usuario utiliza un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’: Computación paralela: Un usuario utiliza varios computadores a la vez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 usuario utiliza muchos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RED ES EL COMPUTAD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05120" y="1143000"/>
            <a:ext cx="5256720" cy="3656520"/>
            <a:chOff x="1905120" y="1143000"/>
            <a:chExt cx="5256720" cy="3656520"/>
          </a:xfrm>
        </p:grpSpPr>
        <p:sp>
          <p:nvSpPr>
            <p:cNvPr id="93" name=""/>
            <p:cNvSpPr/>
            <p:nvPr/>
          </p:nvSpPr>
          <p:spPr>
            <a:xfrm>
              <a:off x="1905120" y="1143000"/>
              <a:ext cx="5256720" cy="365652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02480" y="2812320"/>
              <a:ext cx="27284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AN/MAN/W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4419720" y="3657600"/>
          <a:ext cx="9666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657600"/>
                    <a:ext cx="966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4114800" y="2286000"/>
          <a:ext cx="96696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286000"/>
                    <a:ext cx="9669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30400" y="5029200"/>
            <a:ext cx="864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 debe ver la red como un todo, un sistema integrado y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partes aisladas e independientes simplemente conect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mos pasar de la simple CONECTIVIDAD a la INTEG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OffiecConnect Dual Speed Switch 16"/>
          <p:cNvPicPr/>
          <p:nvPr/>
        </p:nvPicPr>
        <p:blipFill>
          <a:blip r:embed="rId5"/>
          <a:stretch/>
        </p:blipFill>
        <p:spPr>
          <a:xfrm>
            <a:off x="3352680" y="4038480"/>
            <a:ext cx="838440" cy="282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OffiecConnect Dual Speed Switch 16"/>
          <p:cNvPicPr/>
          <p:nvPr/>
        </p:nvPicPr>
        <p:blipFill>
          <a:blip r:embed="rId6"/>
          <a:stretch/>
        </p:blipFill>
        <p:spPr>
          <a:xfrm>
            <a:off x="5562720" y="3505320"/>
            <a:ext cx="10666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OffiecConnect Dual Speed Switch 16"/>
          <p:cNvPicPr/>
          <p:nvPr/>
        </p:nvPicPr>
        <p:blipFill>
          <a:blip r:embed="rId7"/>
          <a:stretch/>
        </p:blipFill>
        <p:spPr>
          <a:xfrm>
            <a:off x="4724280" y="1676520"/>
            <a:ext cx="106704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867280" y="2286000"/>
            <a:ext cx="65268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2057400" y="2895480"/>
            <a:ext cx="633240" cy="544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666880" y="3505320"/>
            <a:ext cx="633600" cy="544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00400" y="2286000"/>
            <a:ext cx="6318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534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S OPERATIVOS TIP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124080" y="2209680"/>
            <a:ext cx="2819160" cy="1904760"/>
            <a:chOff x="3124080" y="2209680"/>
            <a:chExt cx="2819160" cy="1904760"/>
          </a:xfrm>
        </p:grpSpPr>
        <p:sp>
          <p:nvSpPr>
            <p:cNvPr id="109" name=""/>
            <p:cNvSpPr/>
            <p:nvPr/>
          </p:nvSpPr>
          <p:spPr>
            <a:xfrm>
              <a:off x="3124080" y="2209680"/>
              <a:ext cx="2819160" cy="190476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4520" y="3079080"/>
              <a:ext cx="158868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N/MAN/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924480" y="640080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GRACION BAJO ESQUEMAS DE SERVI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3560" y="1371600"/>
            <a:ext cx="953280" cy="106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Unix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Solarix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Linux,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46600" y="1371600"/>
            <a:ext cx="866520" cy="824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Ne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3400" y="3886200"/>
            <a:ext cx="971640" cy="106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95/98/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9480" y="3733920"/>
            <a:ext cx="957960" cy="1310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OT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B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OS/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JAV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762120"/>
            <a:ext cx="6629400" cy="5181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4864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nsaj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1720" y="9144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9320" y="144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m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720" y="5486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ack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2640" y="16002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Im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60" y="46483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560" y="76212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36880" y="48006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65232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65268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76720" y="4572000"/>
            <a:ext cx="65232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652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O INTEGRO? ESTRUCTURA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su estudio en un nivel más alto podemos agrupar los diferentes modelos como OSI, TCP/IP, Ethernet, Frame Relay, X.25, etc, de la siguie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sajería, archiv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saje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ión, tiemp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E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, Fiber channel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Ring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nde el nivel Físico y el nivel de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municación no muere ni termina en la interface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NIC (Network Interface Card) es la puerta de entrada y salida de de información hacia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preferir las interfaces “inteligentes” sobre las que delegan todo el trabajo al procesador central (CP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entender claramente lo que sucede cuando arriba una trama o frame a una interface de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 arribar una trama de interés (unicast, multicast o broadcast), la interface guarda la trama en memoria temporal y luego genera la interrupción para que el driver procese la trama.  El driver mueve la trama a sus buffers y procesa la trama, entregando su contenido al protocolo de nivel superior interes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trama no es para la tarjeta no genera interru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la trama es para la tarjeta: su MAC, broadcast o un grupo Multicast al que pertenece genera interrupción y procesamiento en el n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3693960" cy="3733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5105520"/>
            <a:ext cx="2438280" cy="1752480"/>
          </a:xfrm>
          <a:custGeom>
            <a:avLst/>
            <a:gdLst/>
            <a:ahLst/>
            <a:rect l="l" t="t" r="r" b="b"/>
            <a:pathLst>
              <a:path w="1536" h="1104">
                <a:moveTo>
                  <a:pt x="1536" y="0"/>
                </a:moveTo>
                <a:cubicBezTo>
                  <a:pt x="972" y="168"/>
                  <a:pt x="408" y="336"/>
                  <a:pt x="336" y="432"/>
                </a:cubicBezTo>
                <a:cubicBezTo>
                  <a:pt x="264" y="528"/>
                  <a:pt x="1160" y="464"/>
                  <a:pt x="1104" y="576"/>
                </a:cubicBezTo>
                <a:cubicBezTo>
                  <a:pt x="1048" y="688"/>
                  <a:pt x="184" y="1016"/>
                  <a:pt x="0" y="1104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8862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200" y="31654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uf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9880" y="3581280"/>
            <a:ext cx="1511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360" y="6137280"/>
            <a:ext cx="127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962520" y="2514600"/>
            <a:ext cx="1295280" cy="838080"/>
            <a:chOff x="3962520" y="2514600"/>
            <a:chExt cx="1295280" cy="838080"/>
          </a:xfrm>
        </p:grpSpPr>
        <p:sp>
          <p:nvSpPr>
            <p:cNvPr id="142" name=""/>
            <p:cNvSpPr/>
            <p:nvPr/>
          </p:nvSpPr>
          <p:spPr>
            <a:xfrm>
              <a:off x="3962520" y="2514600"/>
              <a:ext cx="12952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5200" y="2666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410080" y="2438280"/>
            <a:ext cx="1295280" cy="838080"/>
            <a:chOff x="5410080" y="2438280"/>
            <a:chExt cx="1295280" cy="838080"/>
          </a:xfrm>
        </p:grpSpPr>
        <p:sp>
          <p:nvSpPr>
            <p:cNvPr id="145" name=""/>
            <p:cNvSpPr/>
            <p:nvPr/>
          </p:nvSpPr>
          <p:spPr>
            <a:xfrm>
              <a:off x="5410080" y="2438280"/>
              <a:ext cx="12952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3480" y="259056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IP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781680" y="2438280"/>
            <a:ext cx="1295280" cy="838080"/>
            <a:chOff x="6781680" y="2438280"/>
            <a:chExt cx="1295280" cy="838080"/>
          </a:xfrm>
        </p:grpSpPr>
        <p:sp>
          <p:nvSpPr>
            <p:cNvPr id="148" name=""/>
            <p:cNvSpPr/>
            <p:nvPr/>
          </p:nvSpPr>
          <p:spPr>
            <a:xfrm>
              <a:off x="6781680" y="2438280"/>
              <a:ext cx="12952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5080" y="25905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N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2209680" y="6019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6705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48006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695720" y="480060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6095880"/>
            <a:ext cx="1143000" cy="30492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181480"/>
            <a:ext cx="2057400" cy="68580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6019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6019920"/>
            <a:ext cx="1143000" cy="304560"/>
          </a:xfrm>
          <a:prstGeom prst="flowChartInputOutpu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248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6248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763120" y="3962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84872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3412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94320" y="4648320"/>
            <a:ext cx="127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848720" y="3124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552720" y="32004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410080" y="3276720"/>
            <a:ext cx="1067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142120" y="2362320"/>
            <a:ext cx="1083960" cy="838080"/>
            <a:chOff x="8142120" y="2362320"/>
            <a:chExt cx="1083960" cy="838080"/>
          </a:xfrm>
        </p:grpSpPr>
        <p:sp>
          <p:nvSpPr>
            <p:cNvPr id="170" name=""/>
            <p:cNvSpPr/>
            <p:nvPr/>
          </p:nvSpPr>
          <p:spPr>
            <a:xfrm>
              <a:off x="8142120" y="2362320"/>
              <a:ext cx="10512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53880" y="25146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AR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7315200" y="33523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DE COMP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E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ador, Memoria, Discos, Periféricos, Bus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/2, VM/ESA (S/390), Unix (Linux, Solarix, AIX) , Windows (95/98/NT/2K) , Netware, VOS (transaccional y 7x24), MAC Os.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o electrónico, transferencia de archivos, navegación, impresió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preferir los medios suicheados sobre los compart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: los broadcast se propagan por igual en los 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bra mucha importancia la transmisión MULTICAST, al reducir procesamiento y consumo de ancho de banda versus el Broad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suiches no inteligentes propagan el Multicast como si fuera broadc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suiches inteligentes, identifican las estaciones interesadas en Multicast y solo a estas entregan este tipo de t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E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 prestar especial atención a la comunicación que sucede al interior del n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a se logra con enlaces de alta velocidad si el cuello de botella se presenta al interior del nodo en los buses de los discos, los buses de da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947880"/>
            <a:ext cx="6172200" cy="5910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79640" y="304920"/>
            <a:ext cx="74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TECTURA INTERNA DE UN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690480" y="762120"/>
          <a:ext cx="8008920" cy="60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762120"/>
                    <a:ext cx="80089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GUNOS BUSES/INTERFACES/PU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952560"/>
          <a:ext cx="824868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52560"/>
                    <a:ext cx="8248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NOLOGIA DE DISCOS 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FIGURACION DE DISCOS IDE: Ev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TA- ATA2 - ATA3- ULTRA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grammed I/O poco utilizado por lento al usar CP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IO Mode 0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he fastest data transfer rate reaches 3.3Mbyte/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IO Mode 1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he fastest data transfer rate reaches 5.2Mbyte/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IO Mode 2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he fastest data transfer rate reaches 8.3Mbyte/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IO Mode 3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he fastest data transfer rate reaches 11.1Mbyte/se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IO Mode 4: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The fastest data transfer rate reaches 16.6Mbyte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o Requiere la intervención de la CPU. Transferencia directa DISCO-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MA Mode 0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The fastest data transfer rate reaches 4.16Mbyte/s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MA Mode 1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The fastest data transfer rate reaches 13.3Mbyte/se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MA Mode 2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The fastest data transfer rate reaches 16.6Mbyte/sec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849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NOLOGIA DE DISCOS IDE/SC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Ultra DM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ycle Time    Max.Transfer Rate(MB/s) Defining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6.7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1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5.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2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.3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3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4.4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4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6.7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ode 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00.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A/ATAPI-6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Para mode 4 y 5 se requiere el cable de 80 hilos (el viejo de 40 tiene problemas).  Longitud máxima recomendada 18 pulg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El dispositivo maestro debe quedar al final del cable y el esclavo en el med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Maxima Velocidad actual SCSI: 320MB/se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nde los niveles de Red y Transporte de protocolos como TCP/IP e IPX/SP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ben evitar al máximo los broadcast ya que consumen ciclos de reloj de la “red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 y RARP:  usan broadc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UTAMIENTO: RIP V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P: Service Advertisement Protoc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3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actuales niveles de integración se deben principalmente a la estandarización de TCP/IP como protocolo d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actualidad la mayoría de plataformas de cómputo lo implement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ntes de transporte (TCP o UDP) operan Peer-to-Peer (no hay maestros ni escla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 PRESENTACION DE TRANSPORTE EN TCPIP LA INTERFACE QUE ME BRINDA EL SISTEMA OPERATIVO PARA  ACCEDER EL NIEVEL DE TRANSPO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ece como las aplicaciones se comunican entre s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mente en un esquema cliente serv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ferencia de la mayoría de los otros protocolos en TCP/IP están claramente definidos (estandarizados) una serie de SERVICIOS en el nivel aplicativo: TELNET, FTP, SMTP, SNMP, HTTP, LPD, LD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bran especial importancia las interfaces  que conectan los diferentes dispositivos, especialmente las NIC (Network Interface Card) y los bu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procesos de boot se pueden hacer desde la red con protocolos como PXE, BOOTP y DH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ge el concepto de cliente liviano: estación con recursos limitados (poca memoria, sin disco o disco pequeño, teclado, mouse)  ya que el procesamiento pesado lo hace el Servidor de Apl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rvidor de aplicaciones evoluciona de un acceso carácter a un acces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95600" y="22860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TECTURA DE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56040" y="838080"/>
            <a:ext cx="314784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06880" y="96048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83808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51080" y="982800"/>
            <a:ext cx="3794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191120"/>
            <a:ext cx="65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3187800"/>
            <a:ext cx="316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3975120"/>
            <a:ext cx="316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4759200"/>
            <a:ext cx="3163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403440"/>
            <a:ext cx="25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6480" y="31766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99072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H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5640" y="96048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8400" y="96048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403848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CM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82960" y="4373640"/>
            <a:ext cx="66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53000" y="4373640"/>
            <a:ext cx="77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6480" y="5029200"/>
            <a:ext cx="325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B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:Ethernet, Token Ring,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N: X.25, Frame Relay, AT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IP, P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82960" y="4373640"/>
            <a:ext cx="1444680" cy="35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60020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213372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190512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190512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243828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14800" y="198108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2362320"/>
            <a:ext cx="387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53352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mente se utiliza un esquema Cliente/Servi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nive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s niveles: Browser, Servidor Aplicativo, Servidor de Bas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onversación entre el cliente y el servidor se puede hacer de dos for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81080" y="4084560"/>
            <a:ext cx="464832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JEMPLO: SMTP ENTRE SERVIDORES DE COR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Conexión TCP al puerto 25 --------------------------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220 xyz.com SMTP servic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HELO 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250 xyz.com says hello to 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MAIL FROM: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pito@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250 sender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RCPT TO: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aria@xyz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250 recipient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354 Send mail; end with “.” on a line by itse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From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pito@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To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aria@xyz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MIME-Version: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: 250 Message a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: Q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6095880" y="5867280"/>
            <a:ext cx="870120" cy="990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1066680" y="5867280"/>
            <a:ext cx="1143000" cy="75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0" y="6400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EMPLO: HTTP ENTRE EL BROWSER Y EL WEB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exión TCP al puerto 80 --------------------------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GET /index.html HTTP/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HTTP/1.0 200 Document fo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MIME-Version: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Server: CERN/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&lt;HEAD&gt; &lt;TITLE&gt; Pagina WEB &lt;/TITLE&gt; 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: 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876920" y="5029200"/>
            <a:ext cx="869760" cy="1447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66680" y="54100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09680" y="5791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unas implementaciones o distribuciones de productos de Networking solo suministran el componente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liente y el servidor pueden residir en la misma máquina o en máquinas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vez cobran mayor importancia esquemas de compresión y el manejo de la presentación en general para interoperar en diferentes platafor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algunos casos es importante el concepto de c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 LOS NIVELES DE INTEGRACION ESPUESTOS COBRA FUNDAMENTAL IMPORTANCIA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implementaciones utilizan un SuperDemonio o Servicio Especial encargado de lanzar los aplicativos asociados a cada servicio.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td (Unix/Linux/Net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los nombres de los servicios y puertos en /etc/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hivo de configuración: /etc/inetd.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</a:rPr>
              <a:t>ftp stream tcp nowait root /usr/sbin/ftpd ft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</a:rPr>
              <a:t>ntalk dgram udp wait root /usr/sbin/talkd talk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</a:rPr>
              <a:t>time stream tcp nowait root in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Unicode MS"/>
              </a:rPr>
              <a:t>time dgram udp wait root 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servicios se arrancan con shell scripts ubicados en /etc/rc.d/init.d, al iniciar la máqu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in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chivos de configuración por servicio ubicado en: /etc/xinetd.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ice 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able =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gs           = R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cket_type     =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it            =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er            =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rver          = /usr/sbin/in.telne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g_on_failure  += USE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se hace un cambio ejecutar: /etc/rc.d/init.d/xinetd re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servicios del nivel aplicativo los podemos clasificar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RVICIOS AUXILIA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yudan a la configuración, administración y el buen funcionamiento de la red.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figuración automática del nodo: BOOTP, DH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olución de nombres: DNS, N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 de la red: SN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macenamiento de información de la red: LD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RVICIOS DE USUARIO FINAL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ermiten la implementación de aplicaciones para el usuario.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ulacion de terminal: TELNET, RDP, X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rreo electronico: SMTP, POP3, IMAP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eb: HT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ferencia de archivos: FTP, TFTP, NFS, S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lefonia: Vo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ENTE LIVIANO (thin clien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a la interface con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los costos de propiedad (TCO) al trasladar las actualizaciones de las estaciones al serv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 las labores administrativas: actualizaciones de software, instalaciones, backu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 de Network Computer (N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O EN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dores básicos. Ej: SunRay de Sun Microsystems. Requiere software en Serv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O EN TERMINALE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servidor de aplicaciones evoluciona de un acceso carácter a un acceso gráfico: X-Windows, WBT (Windows Base Termin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ADAS E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n tecnologías como páginas HTML y JAVA para la visu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que realiza las siguientes fun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r los recursos como memoria, discos, procesado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una interface (API’s, llamados al sistema) para la ejecución y uso de los recursos de los  programas de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lta la complejidad del hardware a través de una interface común de API’s o llamadas a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conoce también como el kern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crokerne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rnel reducido que maneja procesos, memoria, entrada/salida básica y mecanismos de comunicación entr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QUINA VIRTUAL EXTENDIDA DE LA MÁQUINA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609120"/>
            <a:ext cx="88390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actualidad es fundamental el componente de la comunicación: Conectividad, Transporte y Apl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vuelve crítica la capacidad del sistema operativo para operar con tecnologías de comunicación de  altas velocidades: Gbps, T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vuelven crítico el soporte de múltiples servicios a nivel aplica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mulación de terminal (Grafica y carác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icios de archiv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o re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ión rem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rvicios de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istinguen varios tipos de sistema operativo desde el punto de vista de su capacidad para operar en “r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procesor 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rocesor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ROCESSOR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 máquina con múltiples proces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ene solo una copia del sistema oper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como un computador vir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mente las CPU’s comparten una memoria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amente integ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4114800"/>
            <a:ext cx="2819160" cy="19810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36560" y="4495680"/>
            <a:ext cx="7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8160" y="4495680"/>
            <a:ext cx="7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6560" y="5334120"/>
            <a:ext cx="7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8160" y="5334120"/>
            <a:ext cx="77220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3352680"/>
            <a:ext cx="4267080" cy="3505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4720" y="3276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.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 OPERA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usuario se conecta a una máquina no a la red (esto cambia un poco con los servicios de directo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recursos se accesan de acuerdo a su ubicación o loc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ccesa cada máquina de forma indepe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 percibe como una máquina virtual uniproces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tiene una copia del sistema operativo por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Linux, Windows NT, Netware, UNIX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4008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5257800"/>
            <a:ext cx="109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5257800"/>
            <a:ext cx="10951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257800"/>
            <a:ext cx="10954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.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3:03:50Z</dcterms:created>
  <dc:creator>JUAN CARLOS RESTREPO</dc:creator>
  <dc:description/>
  <dc:language>en-US</dc:language>
  <cp:lastModifiedBy>JUAN CARLOS RESTREPO</cp:lastModifiedBy>
  <dcterms:modified xsi:type="dcterms:W3CDTF">2003-08-06T00:25:17Z</dcterms:modified>
  <cp:revision>361</cp:revision>
  <dc:subject/>
  <dc:title>MODULO DE LINEAS DE TRANSMISION</dc:title>
</cp:coreProperties>
</file>