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E11B-CCDE-4427-96BF-DEF3F35958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ldImg"/>
          </p:nvPr>
        </p:nvSpPr>
        <p:spPr>
          <a:xfrm>
            <a:off x="1420920" y="782640"/>
            <a:ext cx="4027320" cy="302112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On the WAN sid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It is possible to link several 4400 over any packet network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This is completely transparent to existing voice applica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Native packet interfaces enables User Class of Service rou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Native support of IP interface enables as well user class of service call rou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79A-5DA8-4C94-B751-8B9636A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C50-7615-4A31-84CE-1BC21565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176-2117-436F-918E-26969D74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B6A-FB88-4B16-A3E5-78F26F23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D59-3444-424D-B11B-CEF9EA3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19F-D4EB-46FA-A3B2-3103BE86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02E-1177-4476-B727-A506B53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CC8-69C6-44E3-AF79-9840A0D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194-65FF-4F3F-A880-63ADD03F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634-697D-4558-8F1A-D1B5482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9F4-1451-4A8A-9969-EFC6A18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DC9-76FC-4964-9C4C-2F89674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64B6-917B-4CEB-9703-C7A1BC0771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3.wmf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3.wmf"/><Relationship Id="rId21" Type="http://schemas.openxmlformats.org/officeDocument/2006/relationships/image" Target="../media/image1.png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.wmf"/><Relationship Id="rId19" Type="http://schemas.openxmlformats.org/officeDocument/2006/relationships/image" Target="../media/image15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.wmf"/><Relationship Id="rId1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.wmf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.wmf"/><Relationship Id="rId2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15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4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.wmf"/><Relationship Id="rId2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5.bin"/><Relationship Id="rId17" Type="http://schemas.openxmlformats.org/officeDocument/2006/relationships/image" Target="../media/image3.wmf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hyperlink" Target="http://krnet.or.kr/krnet2002/2002PDF/G2-3.PDF" TargetMode="External"/><Relationship Id="rId2" Type="http://schemas.openxmlformats.org/officeDocument/2006/relationships/hyperlink" Target="http://www.cisco.com/warp/public/788/voip/understand-gatekeepers.html" TargetMode="External"/><Relationship Id="rId3" Type="http://schemas.openxmlformats.org/officeDocument/2006/relationships/hyperlink" Target="http://www.cisco.com/warp/public/788/voip/understand-gatekeepers.html" TargetMode="External"/><Relationship Id="rId4" Type="http://schemas.openxmlformats.org/officeDocument/2006/relationships/hyperlink" Target="http://www.iec.org/online/tutorials/h323/" TargetMode="External"/><Relationship Id="rId5" Type="http://schemas.openxmlformats.org/officeDocument/2006/relationships/hyperlink" Target="http://www.cs.unc.edu/Courses/comp249-s03/lectures/comp249_s03_5/sld001.htm" TargetMode="External"/><Relationship Id="rId6" Type="http://schemas.openxmlformats.org/officeDocument/2006/relationships/hyperlink" Target="http://www.openss7.org/overview.html" TargetMode="External"/><Relationship Id="rId7" Type="http://schemas.openxmlformats.org/officeDocument/2006/relationships/hyperlink" Target="http://www.electronics2000.com/hacker/anatcall.html" TargetMode="External"/><Relationship Id="rId8" Type="http://schemas.openxmlformats.org/officeDocument/2006/relationships/hyperlink" Target="http://www.ietf.org/proceedings/00mar/slides/vompls-ref-00mar/sld001.htm" TargetMode="External"/><Relationship Id="rId9" Type="http://schemas.openxmlformats.org/officeDocument/2006/relationships/hyperlink" Target="http://siving.hia.no/ikt02/ssolberg/Evaluation%20of%20VoMPLS%20compared%20to%20VoIP%20v12.htm#_Toc9233337" TargetMode="External"/><Relationship Id="rId10" Type="http://schemas.openxmlformats.org/officeDocument/2006/relationships/hyperlink" Target="http://siving.hia.no/ikt02/ssolberg/Evaluation%20of%20VoMPLS%20compared%20to%20VoIP%20v12.htm" TargetMode="External"/><Relationship Id="rId11" Type="http://schemas.openxmlformats.org/officeDocument/2006/relationships/hyperlink" Target="http://www.mplsworld.com/archi_drafts/focus/analy-swallow.htm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LEFONIA SOBRE RED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242064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éfono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ón: 3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ltima revisión: Agosto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27640" y="5494320"/>
            <a:ext cx="29163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 DE LA COMPUTACION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577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391520" y="5410080"/>
          <a:ext cx="45720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5410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518200" y="1523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352680" y="4267080"/>
            <a:ext cx="2666880" cy="1752480"/>
            <a:chOff x="3352680" y="4267080"/>
            <a:chExt cx="2666880" cy="1752480"/>
          </a:xfrm>
        </p:grpSpPr>
        <p:sp>
          <p:nvSpPr>
            <p:cNvPr id="221" name=""/>
            <p:cNvSpPr/>
            <p:nvPr/>
          </p:nvSpPr>
          <p:spPr>
            <a:xfrm>
              <a:off x="3352680" y="4267080"/>
              <a:ext cx="2666880" cy="17524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4960" y="506700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6858000" y="5410080"/>
          <a:ext cx="4572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410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227240" y="49528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61000" y="4800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5257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19760" y="53341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920" y="3505320"/>
            <a:ext cx="3047400" cy="914400"/>
            <a:chOff x="304920" y="3505320"/>
            <a:chExt cx="3047400" cy="914400"/>
          </a:xfrm>
        </p:grpSpPr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304920" y="3505320"/>
              <a:ext cx="9140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33160" y="44197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7"/>
            <a:stretch/>
          </p:blipFill>
          <p:spPr>
            <a:xfrm>
              <a:off x="1295280" y="3505320"/>
              <a:ext cx="9140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8"/>
            <a:stretch/>
          </p:blipFill>
          <p:spPr>
            <a:xfrm>
              <a:off x="2361960" y="3505320"/>
              <a:ext cx="91404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/>
          <p:cNvSpPr/>
          <p:nvPr/>
        </p:nvSpPr>
        <p:spPr>
          <a:xfrm>
            <a:off x="17524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9"/>
          <a:stretch/>
        </p:blipFill>
        <p:spPr>
          <a:xfrm>
            <a:off x="7162920" y="3429000"/>
            <a:ext cx="914400" cy="785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0"/>
          <a:stretch/>
        </p:blipFill>
        <p:spPr>
          <a:xfrm>
            <a:off x="8229600" y="3429000"/>
            <a:ext cx="914400" cy="785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23888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6553080" y="3276720"/>
            <a:ext cx="522360" cy="914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>
            <a:off x="281952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6477120" y="1981080"/>
            <a:ext cx="630000" cy="83844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581280" y="1676520"/>
            <a:ext cx="2516040" cy="1523520"/>
            <a:chOff x="3581280" y="1676520"/>
            <a:chExt cx="2516040" cy="1523520"/>
          </a:xfrm>
        </p:grpSpPr>
        <p:sp>
          <p:nvSpPr>
            <p:cNvPr id="246" name=""/>
            <p:cNvSpPr/>
            <p:nvPr/>
          </p:nvSpPr>
          <p:spPr>
            <a:xfrm>
              <a:off x="3581280" y="1676520"/>
              <a:ext cx="2516040" cy="15235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0440" y="2372040"/>
              <a:ext cx="1591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TELEFON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7816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981080" y="1828800"/>
          <a:ext cx="38124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1828800"/>
                    <a:ext cx="381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81080" y="2286000"/>
          <a:ext cx="38124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286000"/>
                    <a:ext cx="381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286000" y="20574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620120" y="2133720"/>
          <a:ext cx="38088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2133720"/>
                    <a:ext cx="3808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 flipV="1">
            <a:off x="7010280" y="2514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543800" y="838080"/>
          <a:ext cx="380880" cy="382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838080"/>
                    <a:ext cx="380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543800" y="1295280"/>
          <a:ext cx="380880" cy="382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1295280"/>
                    <a:ext cx="380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 flipV="1">
            <a:off x="7086600" y="10666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086600" y="152352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4400" y="1523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3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 DE LA COMPUTACION-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32400" y="48006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275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684440" y="2514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8200" y="23623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8153280" y="4800600"/>
            <a:ext cx="73512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7391520" y="4800600"/>
          <a:ext cx="457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006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7391520" y="5334120"/>
          <a:ext cx="4572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1520" y="53341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391520" y="5867280"/>
          <a:ext cx="45720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58672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28600" y="4572000"/>
          <a:ext cx="457200" cy="38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4572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28600" y="5105520"/>
          <a:ext cx="4572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51055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28600" y="5638680"/>
          <a:ext cx="457200" cy="38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" y="56386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09480" y="48769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09480" y="52574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09480" y="5410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534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80560" y="5029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57200" y="3276720"/>
            <a:ext cx="1324440" cy="457200"/>
            <a:chOff x="457200" y="3276720"/>
            <a:chExt cx="1324440" cy="457200"/>
          </a:xfrm>
        </p:grpSpPr>
        <p:sp>
          <p:nvSpPr>
            <p:cNvPr id="317" name=""/>
            <p:cNvSpPr/>
            <p:nvPr/>
          </p:nvSpPr>
          <p:spPr>
            <a:xfrm>
              <a:off x="457200" y="3278520"/>
              <a:ext cx="1211400" cy="22212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4600" y="3495960"/>
              <a:ext cx="1044360" cy="236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7200" y="3276720"/>
              <a:ext cx="170640" cy="45720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6840" y="3509280"/>
              <a:ext cx="874440" cy="210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25680" y="3557520"/>
              <a:ext cx="30600" cy="47880"/>
              <a:chOff x="625680" y="3557520"/>
              <a:chExt cx="30600" cy="47880"/>
            </a:xfrm>
          </p:grpSpPr>
          <p:sp>
            <p:nvSpPr>
              <p:cNvPr id="322" name=""/>
              <p:cNvSpPr/>
              <p:nvPr/>
            </p:nvSpPr>
            <p:spPr>
              <a:xfrm>
                <a:off x="625680" y="355752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5680" y="356364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5680" y="357804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5680" y="358380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5680" y="3598920"/>
                <a:ext cx="306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5680" y="360468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512720" y="3488760"/>
              <a:ext cx="155520" cy="151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81680" y="3353400"/>
              <a:ext cx="46080" cy="213120"/>
              <a:chOff x="481680" y="3353400"/>
              <a:chExt cx="46080" cy="2131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81680" y="3353400"/>
                <a:ext cx="46080" cy="67680"/>
                <a:chOff x="481680" y="3353400"/>
                <a:chExt cx="46080" cy="67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81680" y="335376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83120" y="335340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481680" y="3377520"/>
                <a:ext cx="46080" cy="67680"/>
                <a:chOff x="481680" y="3377520"/>
                <a:chExt cx="46080" cy="676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81680" y="337788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3120" y="337752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81680" y="3401640"/>
                <a:ext cx="46080" cy="68040"/>
                <a:chOff x="481680" y="3401640"/>
                <a:chExt cx="46080" cy="680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81680" y="340236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83120" y="340164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81680" y="3425760"/>
                <a:ext cx="46080" cy="68040"/>
                <a:chOff x="481680" y="3425760"/>
                <a:chExt cx="46080" cy="680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1680" y="342648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83120" y="342576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81680" y="3450240"/>
                <a:ext cx="46080" cy="67680"/>
                <a:chOff x="481680" y="3450240"/>
                <a:chExt cx="46080" cy="676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81680" y="345060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3120" y="345024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81680" y="3474720"/>
                <a:ext cx="46080" cy="67680"/>
                <a:chOff x="481680" y="3474720"/>
                <a:chExt cx="46080" cy="676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81680" y="347508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83120" y="347472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81680" y="3498840"/>
                <a:ext cx="46080" cy="67680"/>
                <a:chOff x="481680" y="3498840"/>
                <a:chExt cx="46080" cy="67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81680" y="349920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3120" y="349884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552240" y="3444840"/>
              <a:ext cx="44640" cy="212760"/>
              <a:chOff x="552240" y="3444840"/>
              <a:chExt cx="44640" cy="21276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552240" y="3444840"/>
                <a:ext cx="44640" cy="67320"/>
                <a:chOff x="552240" y="3444840"/>
                <a:chExt cx="44640" cy="673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52240" y="344556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3680" y="34448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552240" y="3468960"/>
                <a:ext cx="44640" cy="67680"/>
                <a:chOff x="552240" y="3468960"/>
                <a:chExt cx="44640" cy="67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52240" y="3469680"/>
                  <a:ext cx="43200" cy="669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3680" y="3468960"/>
                  <a:ext cx="43200" cy="669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52240" y="3493440"/>
                <a:ext cx="44640" cy="66960"/>
                <a:chOff x="552240" y="3493440"/>
                <a:chExt cx="44640" cy="669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52240" y="349380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53680" y="34934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52240" y="3517560"/>
                <a:ext cx="44640" cy="66960"/>
                <a:chOff x="552240" y="3517560"/>
                <a:chExt cx="44640" cy="669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52240" y="351792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3680" y="351756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52240" y="3542040"/>
                <a:ext cx="44640" cy="66960"/>
                <a:chOff x="552240" y="3542040"/>
                <a:chExt cx="44640" cy="66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52240" y="354240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3680" y="35420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52240" y="3566160"/>
                <a:ext cx="44640" cy="66960"/>
                <a:chOff x="552240" y="3566160"/>
                <a:chExt cx="44640" cy="669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52240" y="356652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53680" y="356616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52240" y="3590280"/>
                <a:ext cx="44640" cy="67320"/>
                <a:chOff x="552240" y="3590280"/>
                <a:chExt cx="44640" cy="673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52240" y="359100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53680" y="359028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3" name=""/>
            <p:cNvGrpSpPr/>
            <p:nvPr/>
          </p:nvGrpSpPr>
          <p:grpSpPr>
            <a:xfrm>
              <a:off x="492120" y="3282480"/>
              <a:ext cx="181440" cy="204840"/>
              <a:chOff x="492120" y="3282480"/>
              <a:chExt cx="181440" cy="204840"/>
            </a:xfrm>
          </p:grpSpPr>
          <p:sp>
            <p:nvSpPr>
              <p:cNvPr id="374" name=""/>
              <p:cNvSpPr/>
              <p:nvPr/>
            </p:nvSpPr>
            <p:spPr>
              <a:xfrm>
                <a:off x="492120" y="3282480"/>
                <a:ext cx="4608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6800" y="3286800"/>
                <a:ext cx="396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7480" y="3461760"/>
                <a:ext cx="4608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32160" y="3465720"/>
                <a:ext cx="396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1453680" y="3282480"/>
              <a:ext cx="182520" cy="204840"/>
              <a:chOff x="1453680" y="3282480"/>
              <a:chExt cx="182520" cy="204840"/>
            </a:xfrm>
          </p:grpSpPr>
          <p:sp>
            <p:nvSpPr>
              <p:cNvPr id="379" name=""/>
              <p:cNvSpPr/>
              <p:nvPr/>
            </p:nvSpPr>
            <p:spPr>
              <a:xfrm>
                <a:off x="1453680" y="3282480"/>
                <a:ext cx="4644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58000" y="3286800"/>
                <a:ext cx="4032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89760" y="3461760"/>
                <a:ext cx="4644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94440" y="3465720"/>
                <a:ext cx="4032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36840" y="3514680"/>
              <a:ext cx="879840" cy="200880"/>
              <a:chOff x="636840" y="3514680"/>
              <a:chExt cx="879840" cy="200880"/>
            </a:xfrm>
          </p:grpSpPr>
          <p:sp>
            <p:nvSpPr>
              <p:cNvPr id="384" name=""/>
              <p:cNvSpPr/>
              <p:nvPr/>
            </p:nvSpPr>
            <p:spPr>
              <a:xfrm>
                <a:off x="636840" y="3515400"/>
                <a:ext cx="828000" cy="199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38200" y="3514680"/>
                <a:ext cx="78480" cy="20088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545840" y="3506400"/>
              <a:ext cx="123840" cy="227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6600" y="346104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75360" y="3543120"/>
              <a:ext cx="801720" cy="147240"/>
              <a:chOff x="675360" y="3543120"/>
              <a:chExt cx="801720" cy="1472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1387800" y="3543120"/>
                <a:ext cx="89280" cy="28080"/>
                <a:chOff x="1387800" y="3543120"/>
                <a:chExt cx="89280" cy="2808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1387800" y="3543120"/>
                  <a:ext cx="26640" cy="28080"/>
                  <a:chOff x="1387800" y="3543120"/>
                  <a:chExt cx="26640" cy="280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396800" y="3547800"/>
                    <a:ext cx="1764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387800" y="354312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387800" y="3552840"/>
                    <a:ext cx="15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387800" y="3561840"/>
                    <a:ext cx="1836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399680" y="3557160"/>
                    <a:ext cx="147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398960" y="3566520"/>
                    <a:ext cx="15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1419120" y="3546360"/>
                  <a:ext cx="57960" cy="21960"/>
                  <a:chOff x="1419120" y="3546360"/>
                  <a:chExt cx="57960" cy="219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419120" y="3546360"/>
                    <a:ext cx="5796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419120" y="3559680"/>
                    <a:ext cx="5796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0" name=""/>
              <p:cNvGrpSpPr/>
              <p:nvPr/>
            </p:nvGrpSpPr>
            <p:grpSpPr>
              <a:xfrm>
                <a:off x="1429920" y="3675600"/>
                <a:ext cx="45360" cy="14760"/>
                <a:chOff x="1429920" y="3675600"/>
                <a:chExt cx="45360" cy="147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429920" y="3675600"/>
                  <a:ext cx="4536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32800" y="3683520"/>
                  <a:ext cx="4248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344600" y="3563280"/>
                <a:ext cx="34560" cy="44640"/>
                <a:chOff x="1344600" y="3563280"/>
                <a:chExt cx="34560" cy="446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344600" y="3570120"/>
                  <a:ext cx="34560" cy="378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51080" y="3563280"/>
                  <a:ext cx="23400" cy="1512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353960" y="3565440"/>
                  <a:ext cx="16920" cy="1188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350360" y="3616920"/>
                <a:ext cx="1044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64400" y="3616920"/>
                <a:ext cx="1044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50360" y="3632760"/>
                <a:ext cx="1044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64400" y="3632760"/>
                <a:ext cx="1044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50360" y="3649680"/>
                <a:ext cx="1044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4400" y="3649680"/>
                <a:ext cx="1044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50360" y="3666240"/>
                <a:ext cx="1044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64400" y="3666240"/>
                <a:ext cx="1044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82400" y="3652920"/>
                <a:ext cx="33840" cy="9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6200" y="3563280"/>
                <a:ext cx="164160" cy="4032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977040" y="3554640"/>
                <a:ext cx="49320" cy="165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83880" y="3557160"/>
                <a:ext cx="34560" cy="1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968400" y="3574080"/>
                <a:ext cx="64080" cy="26640"/>
                <a:chOff x="968400" y="3574080"/>
                <a:chExt cx="64080" cy="266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968400" y="3574080"/>
                  <a:ext cx="6408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71280" y="3583440"/>
                  <a:ext cx="5796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77040" y="3593520"/>
                  <a:ext cx="4716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914400" y="3610800"/>
                <a:ext cx="83880" cy="63000"/>
                <a:chOff x="914400" y="3610800"/>
                <a:chExt cx="83880" cy="6300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914400" y="3610800"/>
                  <a:ext cx="83880" cy="11520"/>
                  <a:chOff x="914400" y="3610800"/>
                  <a:chExt cx="83880" cy="115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91440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2844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94356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958320" y="361080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7272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98748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914400" y="3627360"/>
                  <a:ext cx="83880" cy="12240"/>
                  <a:chOff x="914400" y="3627360"/>
                  <a:chExt cx="83880" cy="122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91440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92844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4356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58320" y="36273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7272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98748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914400" y="3644640"/>
                  <a:ext cx="83880" cy="11520"/>
                  <a:chOff x="914400" y="3644640"/>
                  <a:chExt cx="83880" cy="115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91440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92844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94356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958320" y="364464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97272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98748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914400" y="3661560"/>
                  <a:ext cx="83880" cy="12240"/>
                  <a:chOff x="914400" y="3661560"/>
                  <a:chExt cx="83880" cy="122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91440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92844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94356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958320" y="36615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97272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98748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1003320" y="3610800"/>
                <a:ext cx="83160" cy="63000"/>
                <a:chOff x="1003320" y="3610800"/>
                <a:chExt cx="83160" cy="6300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1003320" y="3610800"/>
                  <a:ext cx="83160" cy="11520"/>
                  <a:chOff x="1003320" y="3610800"/>
                  <a:chExt cx="83160" cy="11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003320" y="361080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01736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103212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104652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061280" y="361080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076400" y="361080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1003320" y="3627360"/>
                  <a:ext cx="83160" cy="12240"/>
                  <a:chOff x="1003320" y="3627360"/>
                  <a:chExt cx="83160" cy="122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1003320" y="36273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01736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103212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04652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061280" y="36273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1076400" y="36273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1003320" y="3644640"/>
                  <a:ext cx="83160" cy="11520"/>
                  <a:chOff x="1003320" y="3644640"/>
                  <a:chExt cx="83160" cy="115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1003320" y="364464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01736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03212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04652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061280" y="364464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1076400" y="364464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1003320" y="3661560"/>
                  <a:ext cx="83160" cy="12240"/>
                  <a:chOff x="1003320" y="3661560"/>
                  <a:chExt cx="83160" cy="1224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1003320" y="36615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01736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103212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104652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1061280" y="366156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076400" y="366156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675360" y="3632040"/>
                <a:ext cx="217440" cy="54720"/>
                <a:chOff x="675360" y="3632040"/>
                <a:chExt cx="217440" cy="547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675360" y="3632040"/>
                  <a:ext cx="27000" cy="54720"/>
                  <a:chOff x="675360" y="3632040"/>
                  <a:chExt cx="27000" cy="54720"/>
                </a:xfrm>
              </p:grpSpPr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675360" y="3632040"/>
                    <a:ext cx="27000" cy="54720"/>
                    <a:chOff x="675360" y="3632040"/>
                    <a:chExt cx="27000" cy="5472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675360" y="364248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67536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67788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675360" y="364464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67680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696600" y="36320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0" name=""/>
                  <p:cNvSpPr/>
                  <p:nvPr/>
                </p:nvSpPr>
                <p:spPr>
                  <a:xfrm>
                    <a:off x="683640" y="366228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713160" y="3632040"/>
                  <a:ext cx="27000" cy="54720"/>
                  <a:chOff x="713160" y="3632040"/>
                  <a:chExt cx="27000" cy="54720"/>
                </a:xfrm>
              </p:grpSpPr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713160" y="3632040"/>
                    <a:ext cx="27000" cy="54720"/>
                    <a:chOff x="713160" y="3632040"/>
                    <a:chExt cx="27000" cy="547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713160" y="364248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71316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71568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713160" y="364464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71460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734400" y="36320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9" name=""/>
                  <p:cNvSpPr/>
                  <p:nvPr/>
                </p:nvSpPr>
                <p:spPr>
                  <a:xfrm>
                    <a:off x="721440" y="366228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50960" y="3632040"/>
                  <a:ext cx="27360" cy="54720"/>
                  <a:chOff x="750960" y="3632040"/>
                  <a:chExt cx="27360" cy="54720"/>
                </a:xfrm>
              </p:grpSpPr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750960" y="3632040"/>
                    <a:ext cx="27360" cy="54720"/>
                    <a:chOff x="750960" y="3632040"/>
                    <a:chExt cx="27360" cy="547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750960" y="3642480"/>
                      <a:ext cx="262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75096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75348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750960" y="3644640"/>
                      <a:ext cx="2736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75240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772560" y="363204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" name=""/>
                  <p:cNvSpPr/>
                  <p:nvPr/>
                </p:nvSpPr>
                <p:spPr>
                  <a:xfrm>
                    <a:off x="759240" y="3662280"/>
                    <a:ext cx="1512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89480" y="3632040"/>
                  <a:ext cx="27000" cy="54720"/>
                  <a:chOff x="789480" y="3632040"/>
                  <a:chExt cx="27000" cy="54720"/>
                </a:xfrm>
              </p:grpSpPr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789480" y="3632040"/>
                    <a:ext cx="27000" cy="54720"/>
                    <a:chOff x="789480" y="3632040"/>
                    <a:chExt cx="27000" cy="5472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789480" y="364248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78948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79200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789480" y="364464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79092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810720" y="36320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>
                    <a:off x="797760" y="366228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827280" y="3632040"/>
                  <a:ext cx="27000" cy="54720"/>
                  <a:chOff x="827280" y="3632040"/>
                  <a:chExt cx="27000" cy="54720"/>
                </a:xfrm>
              </p:grpSpPr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827280" y="3632040"/>
                    <a:ext cx="27000" cy="54720"/>
                    <a:chOff x="827280" y="3632040"/>
                    <a:chExt cx="27000" cy="54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827280" y="364248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82728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82980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827280" y="364464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82872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848520" y="36320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835560" y="366228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865800" y="3632040"/>
                  <a:ext cx="27000" cy="54720"/>
                  <a:chOff x="865800" y="3632040"/>
                  <a:chExt cx="27000" cy="54720"/>
                </a:xfrm>
              </p:grpSpPr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865800" y="3632040"/>
                    <a:ext cx="27000" cy="54720"/>
                    <a:chOff x="865800" y="3632040"/>
                    <a:chExt cx="27000" cy="547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865800" y="364248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865800" y="364464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868320" y="365292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865800" y="364464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867240" y="363204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887040" y="363204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5" name=""/>
                  <p:cNvSpPr/>
                  <p:nvPr/>
                </p:nvSpPr>
                <p:spPr>
                  <a:xfrm>
                    <a:off x="874080" y="366228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1118880" y="3625200"/>
                <a:ext cx="217440" cy="54720"/>
                <a:chOff x="1118880" y="3625200"/>
                <a:chExt cx="217440" cy="54720"/>
              </a:xfrm>
            </p:grpSpPr>
            <p:grpSp>
              <p:nvGrpSpPr>
                <p:cNvPr id="537" name=""/>
                <p:cNvGrpSpPr/>
                <p:nvPr/>
              </p:nvGrpSpPr>
              <p:grpSpPr>
                <a:xfrm>
                  <a:off x="1118880" y="3625200"/>
                  <a:ext cx="27000" cy="54720"/>
                  <a:chOff x="1118880" y="3625200"/>
                  <a:chExt cx="27000" cy="5472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1118880" y="3625200"/>
                    <a:ext cx="27000" cy="54720"/>
                    <a:chOff x="1118880" y="3625200"/>
                    <a:chExt cx="27000" cy="547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1118880" y="363564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111888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112140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1118880" y="363780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112032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1140120" y="36252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45" name=""/>
                  <p:cNvSpPr/>
                  <p:nvPr/>
                </p:nvSpPr>
                <p:spPr>
                  <a:xfrm>
                    <a:off x="1127160" y="365544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1156680" y="3625200"/>
                  <a:ext cx="27000" cy="54720"/>
                  <a:chOff x="1156680" y="3625200"/>
                  <a:chExt cx="27000" cy="54720"/>
                </a:xfrm>
              </p:grpSpPr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1156680" y="3625200"/>
                    <a:ext cx="27000" cy="54720"/>
                    <a:chOff x="1156680" y="3625200"/>
                    <a:chExt cx="27000" cy="5472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1156680" y="363564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115668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115920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1156680" y="363780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115812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1177920" y="36252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>
                    <a:off x="1164960" y="365544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1194480" y="3625200"/>
                  <a:ext cx="27360" cy="54720"/>
                  <a:chOff x="1194480" y="3625200"/>
                  <a:chExt cx="27360" cy="54720"/>
                </a:xfrm>
              </p:grpSpPr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1194480" y="3625200"/>
                    <a:ext cx="27360" cy="54720"/>
                    <a:chOff x="1194480" y="3625200"/>
                    <a:chExt cx="27360" cy="547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1194480" y="3635640"/>
                      <a:ext cx="262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119448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119700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1194480" y="3637800"/>
                      <a:ext cx="2736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119592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1216080" y="362520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3" name=""/>
                  <p:cNvSpPr/>
                  <p:nvPr/>
                </p:nvSpPr>
                <p:spPr>
                  <a:xfrm>
                    <a:off x="1202760" y="3655440"/>
                    <a:ext cx="1512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1233000" y="3625200"/>
                  <a:ext cx="27000" cy="54720"/>
                  <a:chOff x="1233000" y="3625200"/>
                  <a:chExt cx="27000" cy="54720"/>
                </a:xfrm>
              </p:grpSpPr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1233000" y="3625200"/>
                    <a:ext cx="27000" cy="54720"/>
                    <a:chOff x="1233000" y="3625200"/>
                    <a:chExt cx="27000" cy="5472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1233000" y="363564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123300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123552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1233000" y="363780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123444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1254240" y="36252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2" name=""/>
                  <p:cNvSpPr/>
                  <p:nvPr/>
                </p:nvSpPr>
                <p:spPr>
                  <a:xfrm>
                    <a:off x="1241280" y="365544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270800" y="3625200"/>
                  <a:ext cx="27000" cy="54720"/>
                  <a:chOff x="1270800" y="3625200"/>
                  <a:chExt cx="27000" cy="54720"/>
                </a:xfrm>
              </p:grpSpPr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1270800" y="3625200"/>
                    <a:ext cx="27000" cy="54720"/>
                    <a:chOff x="1270800" y="3625200"/>
                    <a:chExt cx="27000" cy="5472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1270800" y="363564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127080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127332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270800" y="363780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127224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1292040" y="36252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1" name=""/>
                  <p:cNvSpPr/>
                  <p:nvPr/>
                </p:nvSpPr>
                <p:spPr>
                  <a:xfrm>
                    <a:off x="1279080" y="365544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1309320" y="3625200"/>
                  <a:ext cx="27000" cy="54720"/>
                  <a:chOff x="1309320" y="3625200"/>
                  <a:chExt cx="27000" cy="54720"/>
                </a:xfrm>
              </p:grpSpPr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1309320" y="3625200"/>
                    <a:ext cx="27000" cy="54720"/>
                    <a:chOff x="1309320" y="3625200"/>
                    <a:chExt cx="27000" cy="5472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1309320" y="363564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1309320" y="363780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1311840" y="364608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1309320" y="363780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1310760" y="362520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1330560" y="362520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0" name=""/>
                  <p:cNvSpPr/>
                  <p:nvPr/>
                </p:nvSpPr>
                <p:spPr>
                  <a:xfrm>
                    <a:off x="1317600" y="365544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1" name=""/>
          <p:cNvSpPr/>
          <p:nvPr/>
        </p:nvSpPr>
        <p:spPr>
          <a:xfrm flipV="1">
            <a:off x="1219320" y="2133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53920" y="335268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z-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12193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7818480" y="3200400"/>
            <a:ext cx="1324440" cy="457200"/>
            <a:chOff x="7818480" y="3200400"/>
            <a:chExt cx="1324440" cy="457200"/>
          </a:xfrm>
        </p:grpSpPr>
        <p:sp>
          <p:nvSpPr>
            <p:cNvPr id="595" name=""/>
            <p:cNvSpPr/>
            <p:nvPr/>
          </p:nvSpPr>
          <p:spPr>
            <a:xfrm>
              <a:off x="7818480" y="3202200"/>
              <a:ext cx="1211400" cy="22212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85880" y="3419640"/>
              <a:ext cx="1044360" cy="2368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18480" y="3200400"/>
              <a:ext cx="170640" cy="45720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8120" y="3432960"/>
              <a:ext cx="874440" cy="210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986960" y="3481200"/>
              <a:ext cx="30600" cy="47880"/>
              <a:chOff x="7986960" y="3481200"/>
              <a:chExt cx="30600" cy="47880"/>
            </a:xfrm>
          </p:grpSpPr>
          <p:sp>
            <p:nvSpPr>
              <p:cNvPr id="600" name=""/>
              <p:cNvSpPr/>
              <p:nvPr/>
            </p:nvSpPr>
            <p:spPr>
              <a:xfrm>
                <a:off x="7986960" y="348120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86960" y="348732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986960" y="3501720"/>
                <a:ext cx="306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986960" y="350748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986960" y="3522600"/>
                <a:ext cx="306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986960" y="3528360"/>
                <a:ext cx="306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8874000" y="3412440"/>
              <a:ext cx="155520" cy="151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7842960" y="3277080"/>
              <a:ext cx="46080" cy="213120"/>
              <a:chOff x="7842960" y="3277080"/>
              <a:chExt cx="46080" cy="21312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7842960" y="3277080"/>
                <a:ext cx="46080" cy="67680"/>
                <a:chOff x="7842960" y="3277080"/>
                <a:chExt cx="46080" cy="676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7842960" y="327744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844400" y="327708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7842960" y="3301200"/>
                <a:ext cx="46080" cy="67680"/>
                <a:chOff x="7842960" y="3301200"/>
                <a:chExt cx="46080" cy="67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7842960" y="330156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844400" y="330120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7842960" y="3325320"/>
                <a:ext cx="46080" cy="68040"/>
                <a:chOff x="7842960" y="3325320"/>
                <a:chExt cx="46080" cy="68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7842960" y="332604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844400" y="332532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842960" y="3349440"/>
                <a:ext cx="46080" cy="68040"/>
                <a:chOff x="7842960" y="3349440"/>
                <a:chExt cx="46080" cy="680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842960" y="335016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844400" y="334944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7842960" y="3373920"/>
                <a:ext cx="46080" cy="67680"/>
                <a:chOff x="7842960" y="3373920"/>
                <a:chExt cx="46080" cy="676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7842960" y="337428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7844400" y="337392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7842960" y="3398400"/>
                <a:ext cx="46080" cy="67680"/>
                <a:chOff x="7842960" y="3398400"/>
                <a:chExt cx="46080" cy="67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7842960" y="339876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844400" y="339840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7842960" y="3422520"/>
                <a:ext cx="46080" cy="67680"/>
                <a:chOff x="7842960" y="3422520"/>
                <a:chExt cx="46080" cy="676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7842960" y="3422880"/>
                  <a:ext cx="44280" cy="673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7844400" y="3422520"/>
                  <a:ext cx="44640" cy="673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7913520" y="3368520"/>
              <a:ext cx="44640" cy="212760"/>
              <a:chOff x="7913520" y="3368520"/>
              <a:chExt cx="44640" cy="21276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7913520" y="3368520"/>
                <a:ext cx="44640" cy="67320"/>
                <a:chOff x="7913520" y="3368520"/>
                <a:chExt cx="44640" cy="673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913520" y="33692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914960" y="336852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913520" y="3392640"/>
                <a:ext cx="44640" cy="67680"/>
                <a:chOff x="7913520" y="3392640"/>
                <a:chExt cx="44640" cy="676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7913520" y="3393360"/>
                  <a:ext cx="43200" cy="6696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914960" y="3392640"/>
                  <a:ext cx="43200" cy="6696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7913520" y="3417120"/>
                <a:ext cx="44640" cy="66960"/>
                <a:chOff x="7913520" y="3417120"/>
                <a:chExt cx="44640" cy="6696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7913520" y="341748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914960" y="341712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913520" y="3441240"/>
                <a:ext cx="44640" cy="66960"/>
                <a:chOff x="7913520" y="3441240"/>
                <a:chExt cx="44640" cy="66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913520" y="344160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914960" y="34412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7913520" y="3465720"/>
                <a:ext cx="44640" cy="66960"/>
                <a:chOff x="7913520" y="3465720"/>
                <a:chExt cx="44640" cy="669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7913520" y="346608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914960" y="346572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7913520" y="3489840"/>
                <a:ext cx="44640" cy="66960"/>
                <a:chOff x="7913520" y="3489840"/>
                <a:chExt cx="44640" cy="6696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913520" y="349020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914960" y="348984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7913520" y="3513960"/>
                <a:ext cx="44640" cy="67320"/>
                <a:chOff x="7913520" y="3513960"/>
                <a:chExt cx="44640" cy="6732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7913520" y="351468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914960" y="3513960"/>
                  <a:ext cx="43200" cy="666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7853400" y="3206160"/>
              <a:ext cx="181440" cy="204840"/>
              <a:chOff x="7853400" y="3206160"/>
              <a:chExt cx="181440" cy="204840"/>
            </a:xfrm>
          </p:grpSpPr>
          <p:sp>
            <p:nvSpPr>
              <p:cNvPr id="652" name=""/>
              <p:cNvSpPr/>
              <p:nvPr/>
            </p:nvSpPr>
            <p:spPr>
              <a:xfrm>
                <a:off x="7853400" y="3206160"/>
                <a:ext cx="4608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858080" y="3210480"/>
                <a:ext cx="396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88760" y="3385440"/>
                <a:ext cx="4608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993440" y="3389400"/>
                <a:ext cx="3960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8814960" y="3206160"/>
              <a:ext cx="182520" cy="204840"/>
              <a:chOff x="8814960" y="3206160"/>
              <a:chExt cx="182520" cy="204840"/>
            </a:xfrm>
          </p:grpSpPr>
          <p:sp>
            <p:nvSpPr>
              <p:cNvPr id="657" name=""/>
              <p:cNvSpPr/>
              <p:nvPr/>
            </p:nvSpPr>
            <p:spPr>
              <a:xfrm>
                <a:off x="8814960" y="3206160"/>
                <a:ext cx="46440" cy="248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819280" y="3210480"/>
                <a:ext cx="4032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51040" y="3385440"/>
                <a:ext cx="46440" cy="2412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955720" y="3389400"/>
                <a:ext cx="40320" cy="2160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998120" y="3438360"/>
              <a:ext cx="879840" cy="200880"/>
              <a:chOff x="7998120" y="3438360"/>
              <a:chExt cx="879840" cy="200880"/>
            </a:xfrm>
          </p:grpSpPr>
          <p:sp>
            <p:nvSpPr>
              <p:cNvPr id="662" name=""/>
              <p:cNvSpPr/>
              <p:nvPr/>
            </p:nvSpPr>
            <p:spPr>
              <a:xfrm>
                <a:off x="7998120" y="3439080"/>
                <a:ext cx="828000" cy="199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799480" y="3438360"/>
                <a:ext cx="78480" cy="20088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8907120" y="3430080"/>
              <a:ext cx="123840" cy="227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777880" y="338472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8036640" y="3466800"/>
              <a:ext cx="801720" cy="147240"/>
              <a:chOff x="8036640" y="3466800"/>
              <a:chExt cx="801720" cy="14724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8749080" y="3466800"/>
                <a:ext cx="89280" cy="28080"/>
                <a:chOff x="8749080" y="3466800"/>
                <a:chExt cx="89280" cy="2808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8749080" y="3466800"/>
                  <a:ext cx="26640" cy="28080"/>
                  <a:chOff x="8749080" y="3466800"/>
                  <a:chExt cx="26640" cy="2808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8758080" y="3471480"/>
                    <a:ext cx="1764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8749080" y="3466800"/>
                    <a:ext cx="15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8749080" y="3476520"/>
                    <a:ext cx="15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8749080" y="3485520"/>
                    <a:ext cx="18360" cy="54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8760960" y="3480840"/>
                    <a:ext cx="147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8760240" y="3490200"/>
                    <a:ext cx="15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8780400" y="3470040"/>
                  <a:ext cx="57960" cy="21960"/>
                  <a:chOff x="8780400" y="3470040"/>
                  <a:chExt cx="57960" cy="2196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8780400" y="3470040"/>
                    <a:ext cx="5796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8780400" y="3483360"/>
                    <a:ext cx="57960" cy="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8" name=""/>
              <p:cNvGrpSpPr/>
              <p:nvPr/>
            </p:nvGrpSpPr>
            <p:grpSpPr>
              <a:xfrm>
                <a:off x="8791200" y="3599280"/>
                <a:ext cx="45360" cy="14760"/>
                <a:chOff x="8791200" y="3599280"/>
                <a:chExt cx="45360" cy="147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8791200" y="3599280"/>
                  <a:ext cx="4536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794080" y="3607200"/>
                  <a:ext cx="42480" cy="6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8705880" y="3486960"/>
                <a:ext cx="34560" cy="44640"/>
                <a:chOff x="8705880" y="3486960"/>
                <a:chExt cx="34560" cy="4464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8705880" y="3493800"/>
                  <a:ext cx="34560" cy="3780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712360" y="3486960"/>
                  <a:ext cx="23400" cy="1512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715240" y="3489120"/>
                  <a:ext cx="16920" cy="1188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8711640" y="3540600"/>
                <a:ext cx="1044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725680" y="3540600"/>
                <a:ext cx="10440" cy="108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11640" y="3556440"/>
                <a:ext cx="1044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725680" y="3556440"/>
                <a:ext cx="10440" cy="122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711640" y="3573360"/>
                <a:ext cx="1044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725680" y="3573360"/>
                <a:ext cx="10440" cy="11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711640" y="3589920"/>
                <a:ext cx="1044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25680" y="3589920"/>
                <a:ext cx="10440" cy="126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743680" y="3576600"/>
                <a:ext cx="33840" cy="9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277480" y="3486960"/>
                <a:ext cx="164160" cy="4032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338320" y="3478320"/>
                <a:ext cx="49320" cy="165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345160" y="3480840"/>
                <a:ext cx="34560" cy="12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8329680" y="3497760"/>
                <a:ext cx="64080" cy="26640"/>
                <a:chOff x="8329680" y="3497760"/>
                <a:chExt cx="64080" cy="2664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8329680" y="3497760"/>
                  <a:ext cx="6408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332560" y="3507120"/>
                  <a:ext cx="5796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338320" y="3517200"/>
                  <a:ext cx="47160" cy="72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8275680" y="3534480"/>
                <a:ext cx="83880" cy="63000"/>
                <a:chOff x="8275680" y="3534480"/>
                <a:chExt cx="83880" cy="630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8275680" y="3534480"/>
                  <a:ext cx="83880" cy="11520"/>
                  <a:chOff x="8275680" y="3534480"/>
                  <a:chExt cx="83880" cy="115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827568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828972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830484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8319600" y="353448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833400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834876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8275680" y="3551040"/>
                  <a:ext cx="83880" cy="12240"/>
                  <a:chOff x="8275680" y="3551040"/>
                  <a:chExt cx="83880" cy="1224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>
                    <a:off x="827568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828972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30484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8319600" y="35510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833400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834876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8275680" y="3568320"/>
                  <a:ext cx="83880" cy="11520"/>
                  <a:chOff x="8275680" y="3568320"/>
                  <a:chExt cx="83880" cy="115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827568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828972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830484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8319600" y="356832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833400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834876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8275680" y="3585240"/>
                  <a:ext cx="83880" cy="12240"/>
                  <a:chOff x="8275680" y="3585240"/>
                  <a:chExt cx="83880" cy="1224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827568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828972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30484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8319600" y="35852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3400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834876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0" name=""/>
              <p:cNvGrpSpPr/>
              <p:nvPr/>
            </p:nvGrpSpPr>
            <p:grpSpPr>
              <a:xfrm>
                <a:off x="8364600" y="3534480"/>
                <a:ext cx="83160" cy="63000"/>
                <a:chOff x="8364600" y="3534480"/>
                <a:chExt cx="83160" cy="6300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8364600" y="3534480"/>
                  <a:ext cx="83160" cy="11520"/>
                  <a:chOff x="8364600" y="3534480"/>
                  <a:chExt cx="83160" cy="115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8364600" y="353448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837864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39340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840780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8422560" y="353448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437680" y="353448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8364600" y="3551040"/>
                  <a:ext cx="83160" cy="12240"/>
                  <a:chOff x="8364600" y="3551040"/>
                  <a:chExt cx="83160" cy="122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8364600" y="35510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37864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39340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40780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8422560" y="35510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8437680" y="35510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8364600" y="3568320"/>
                  <a:ext cx="83160" cy="11520"/>
                  <a:chOff x="8364600" y="3568320"/>
                  <a:chExt cx="83160" cy="1152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8364600" y="356832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37864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839340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40780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8422560" y="3568320"/>
                    <a:ext cx="1080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437680" y="3568320"/>
                    <a:ext cx="10080" cy="115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8364600" y="3585240"/>
                  <a:ext cx="83160" cy="12240"/>
                  <a:chOff x="8364600" y="3585240"/>
                  <a:chExt cx="83160" cy="1224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8364600" y="35852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37864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839340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840780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8422560" y="3585240"/>
                    <a:ext cx="1080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8437680" y="3585240"/>
                    <a:ext cx="10080" cy="1224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9" name=""/>
              <p:cNvGrpSpPr/>
              <p:nvPr/>
            </p:nvGrpSpPr>
            <p:grpSpPr>
              <a:xfrm>
                <a:off x="8036640" y="3555720"/>
                <a:ext cx="217440" cy="54720"/>
                <a:chOff x="8036640" y="3555720"/>
                <a:chExt cx="217440" cy="54720"/>
              </a:xfrm>
            </p:grpSpPr>
            <p:grpSp>
              <p:nvGrpSpPr>
                <p:cNvPr id="760" name=""/>
                <p:cNvGrpSpPr/>
                <p:nvPr/>
              </p:nvGrpSpPr>
              <p:grpSpPr>
                <a:xfrm>
                  <a:off x="8036640" y="3555720"/>
                  <a:ext cx="27000" cy="54720"/>
                  <a:chOff x="8036640" y="3555720"/>
                  <a:chExt cx="27000" cy="5472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8036640" y="3555720"/>
                    <a:ext cx="27000" cy="54720"/>
                    <a:chOff x="8036640" y="3555720"/>
                    <a:chExt cx="27000" cy="5472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8036640" y="356616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803664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803916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>
                      <a:off x="8036640" y="356832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803808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8057880" y="3555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8" name=""/>
                  <p:cNvSpPr/>
                  <p:nvPr/>
                </p:nvSpPr>
                <p:spPr>
                  <a:xfrm>
                    <a:off x="8044920" y="358596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9" name=""/>
                <p:cNvGrpSpPr/>
                <p:nvPr/>
              </p:nvGrpSpPr>
              <p:grpSpPr>
                <a:xfrm>
                  <a:off x="8074440" y="3555720"/>
                  <a:ext cx="27000" cy="54720"/>
                  <a:chOff x="8074440" y="3555720"/>
                  <a:chExt cx="27000" cy="54720"/>
                </a:xfrm>
              </p:grpSpPr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8074440" y="3555720"/>
                    <a:ext cx="27000" cy="54720"/>
                    <a:chOff x="8074440" y="3555720"/>
                    <a:chExt cx="27000" cy="547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8074440" y="356616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807444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807696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8074440" y="356832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807588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8095680" y="3555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>
                    <a:off x="8082720" y="358596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8112240" y="3555720"/>
                  <a:ext cx="27360" cy="54720"/>
                  <a:chOff x="8112240" y="3555720"/>
                  <a:chExt cx="27360" cy="54720"/>
                </a:xfrm>
              </p:grpSpPr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8112240" y="3555720"/>
                    <a:ext cx="27360" cy="54720"/>
                    <a:chOff x="8112240" y="3555720"/>
                    <a:chExt cx="27360" cy="5472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8112240" y="3566160"/>
                      <a:ext cx="262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811224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811476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8112240" y="3568320"/>
                      <a:ext cx="2736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811368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8133840" y="35557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" name=""/>
                  <p:cNvSpPr/>
                  <p:nvPr/>
                </p:nvSpPr>
                <p:spPr>
                  <a:xfrm>
                    <a:off x="8120520" y="3585960"/>
                    <a:ext cx="1512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8150760" y="3555720"/>
                  <a:ext cx="27000" cy="54720"/>
                  <a:chOff x="8150760" y="3555720"/>
                  <a:chExt cx="27000" cy="54720"/>
                </a:xfrm>
              </p:grpSpPr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8150760" y="3555720"/>
                    <a:ext cx="27000" cy="54720"/>
                    <a:chOff x="8150760" y="3555720"/>
                    <a:chExt cx="27000" cy="5472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8150760" y="356616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815076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815328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8150760" y="356832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815220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8172000" y="3555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5" name=""/>
                  <p:cNvSpPr/>
                  <p:nvPr/>
                </p:nvSpPr>
                <p:spPr>
                  <a:xfrm>
                    <a:off x="8159040" y="358596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8188560" y="3555720"/>
                  <a:ext cx="27000" cy="54720"/>
                  <a:chOff x="8188560" y="3555720"/>
                  <a:chExt cx="27000" cy="54720"/>
                </a:xfrm>
              </p:grpSpPr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8188560" y="3555720"/>
                    <a:ext cx="27000" cy="54720"/>
                    <a:chOff x="8188560" y="3555720"/>
                    <a:chExt cx="27000" cy="5472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8188560" y="356616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818856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819108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8188560" y="356832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819000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8209800" y="3555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4" name=""/>
                  <p:cNvSpPr/>
                  <p:nvPr/>
                </p:nvSpPr>
                <p:spPr>
                  <a:xfrm>
                    <a:off x="8196840" y="358596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8227080" y="3555720"/>
                  <a:ext cx="27000" cy="54720"/>
                  <a:chOff x="8227080" y="3555720"/>
                  <a:chExt cx="27000" cy="54720"/>
                </a:xfrm>
              </p:grpSpPr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8227080" y="3555720"/>
                    <a:ext cx="27000" cy="54720"/>
                    <a:chOff x="8227080" y="3555720"/>
                    <a:chExt cx="27000" cy="5472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8227080" y="356616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8227080" y="356832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8229600" y="357660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8227080" y="356832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8228520" y="355572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8248320" y="35557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3" name=""/>
                  <p:cNvSpPr/>
                  <p:nvPr/>
                </p:nvSpPr>
                <p:spPr>
                  <a:xfrm>
                    <a:off x="8235360" y="358596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8480160" y="3548880"/>
                <a:ext cx="217440" cy="54720"/>
                <a:chOff x="8480160" y="3548880"/>
                <a:chExt cx="217440" cy="54720"/>
              </a:xfrm>
            </p:grpSpPr>
            <p:grpSp>
              <p:nvGrpSpPr>
                <p:cNvPr id="815" name=""/>
                <p:cNvGrpSpPr/>
                <p:nvPr/>
              </p:nvGrpSpPr>
              <p:grpSpPr>
                <a:xfrm>
                  <a:off x="8480160" y="3548880"/>
                  <a:ext cx="27000" cy="54720"/>
                  <a:chOff x="8480160" y="3548880"/>
                  <a:chExt cx="27000" cy="54720"/>
                </a:xfrm>
              </p:grpSpPr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8480160" y="3548880"/>
                    <a:ext cx="27000" cy="54720"/>
                    <a:chOff x="8480160" y="3548880"/>
                    <a:chExt cx="27000" cy="5472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8480160" y="355932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848016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848268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8480160" y="356148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48160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501400" y="35488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3" name=""/>
                  <p:cNvSpPr/>
                  <p:nvPr/>
                </p:nvSpPr>
                <p:spPr>
                  <a:xfrm>
                    <a:off x="8488440" y="357912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8517960" y="3548880"/>
                  <a:ext cx="27000" cy="54720"/>
                  <a:chOff x="8517960" y="3548880"/>
                  <a:chExt cx="27000" cy="54720"/>
                </a:xfrm>
              </p:grpSpPr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8517960" y="3548880"/>
                    <a:ext cx="27000" cy="54720"/>
                    <a:chOff x="8517960" y="3548880"/>
                    <a:chExt cx="27000" cy="5472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8517960" y="355932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851796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852048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8517960" y="356148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851940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8539200" y="35488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8526240" y="357912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8555760" y="3548880"/>
                  <a:ext cx="27360" cy="54720"/>
                  <a:chOff x="8555760" y="3548880"/>
                  <a:chExt cx="27360" cy="54720"/>
                </a:xfrm>
              </p:grpSpPr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8555760" y="3548880"/>
                    <a:ext cx="27360" cy="54720"/>
                    <a:chOff x="8555760" y="3548880"/>
                    <a:chExt cx="27360" cy="5472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8555760" y="3559320"/>
                      <a:ext cx="2628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855576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855828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8555760" y="3561480"/>
                      <a:ext cx="2736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855720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8577360" y="35488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1" name=""/>
                  <p:cNvSpPr/>
                  <p:nvPr/>
                </p:nvSpPr>
                <p:spPr>
                  <a:xfrm>
                    <a:off x="8564040" y="3579120"/>
                    <a:ext cx="1512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8594280" y="3548880"/>
                  <a:ext cx="27000" cy="54720"/>
                  <a:chOff x="8594280" y="3548880"/>
                  <a:chExt cx="27000" cy="54720"/>
                </a:xfrm>
              </p:grpSpPr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8594280" y="3548880"/>
                    <a:ext cx="27000" cy="54720"/>
                    <a:chOff x="8594280" y="3548880"/>
                    <a:chExt cx="27000" cy="54720"/>
                  </a:xfrm>
                </p:grpSpPr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8594280" y="355932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859428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859680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8594280" y="356148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859572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8615520" y="35488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0" name=""/>
                  <p:cNvSpPr/>
                  <p:nvPr/>
                </p:nvSpPr>
                <p:spPr>
                  <a:xfrm>
                    <a:off x="8602560" y="357912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8632080" y="3548880"/>
                  <a:ext cx="27000" cy="54720"/>
                  <a:chOff x="8632080" y="3548880"/>
                  <a:chExt cx="27000" cy="54720"/>
                </a:xfrm>
              </p:grpSpPr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8632080" y="3548880"/>
                    <a:ext cx="27000" cy="54720"/>
                    <a:chOff x="8632080" y="3548880"/>
                    <a:chExt cx="27000" cy="5472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8632080" y="355932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863208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863460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8632080" y="356148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863352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8653320" y="35488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9" name=""/>
                  <p:cNvSpPr/>
                  <p:nvPr/>
                </p:nvSpPr>
                <p:spPr>
                  <a:xfrm>
                    <a:off x="8640360" y="357912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8670600" y="3548880"/>
                  <a:ext cx="27000" cy="54720"/>
                  <a:chOff x="8670600" y="3548880"/>
                  <a:chExt cx="27000" cy="54720"/>
                </a:xfrm>
              </p:grpSpPr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8670600" y="3548880"/>
                    <a:ext cx="27000" cy="54720"/>
                    <a:chOff x="8670600" y="3548880"/>
                    <a:chExt cx="27000" cy="54720"/>
                  </a:xfrm>
                </p:grpSpPr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8670600" y="3559320"/>
                      <a:ext cx="25920" cy="42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8670600" y="3561480"/>
                      <a:ext cx="324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8673120" y="3569760"/>
                      <a:ext cx="24480" cy="3348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8670600" y="3561480"/>
                      <a:ext cx="27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8672040" y="3548880"/>
                      <a:ext cx="324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8691840" y="35488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" name=""/>
                  <p:cNvSpPr/>
                  <p:nvPr/>
                </p:nvSpPr>
                <p:spPr>
                  <a:xfrm>
                    <a:off x="8678880" y="3579120"/>
                    <a:ext cx="14760" cy="187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69" name=""/>
          <p:cNvSpPr/>
          <p:nvPr/>
        </p:nvSpPr>
        <p:spPr>
          <a:xfrm flipV="1">
            <a:off x="8610480" y="3657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5345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772400" y="4952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724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848720" y="56383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661080" y="321300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z-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948360" y="357300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21"/>
          <a:stretch/>
        </p:blipFill>
        <p:spPr>
          <a:xfrm>
            <a:off x="7885080" y="6269040"/>
            <a:ext cx="1258920" cy="58896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6443640" y="4076640"/>
            <a:ext cx="531720" cy="646200"/>
            <a:chOff x="6443640" y="4076640"/>
            <a:chExt cx="531720" cy="646200"/>
          </a:xfrm>
        </p:grpSpPr>
        <p:pic>
          <p:nvPicPr>
            <p:cNvPr id="878" name="" descr=""/>
            <p:cNvPicPr/>
            <p:nvPr/>
          </p:nvPicPr>
          <p:blipFill>
            <a:blip r:embed="rId22"/>
            <a:stretch/>
          </p:blipFill>
          <p:spPr>
            <a:xfrm>
              <a:off x="6443640" y="4076640"/>
              <a:ext cx="5317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6514920" y="4435200"/>
              <a:ext cx="36036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304920" y="304920"/>
            <a:ext cx="830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FOQUE DE LA COMPUTAC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481120" y="219564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086600" cy="57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228600" y="0"/>
            <a:ext cx="845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LEFONOS Y PLANTA CONECTADOS A LA RED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81120" y="219564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30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6" name=""/>
          <p:cNvGraphicFramePr/>
          <p:nvPr/>
        </p:nvGraphicFramePr>
        <p:xfrm>
          <a:off x="5003640" y="4221000"/>
          <a:ext cx="1041480" cy="15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4221000"/>
                    <a:ext cx="10414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"/>
          <p:cNvSpPr/>
          <p:nvPr/>
        </p:nvSpPr>
        <p:spPr>
          <a:xfrm>
            <a:off x="3924360" y="378936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708360" y="331920"/>
            <a:ext cx="2971440" cy="2003040"/>
            <a:chOff x="3708360" y="331920"/>
            <a:chExt cx="2971440" cy="2003040"/>
          </a:xfrm>
        </p:grpSpPr>
        <p:sp>
          <p:nvSpPr>
            <p:cNvPr id="890" name=""/>
            <p:cNvSpPr/>
            <p:nvPr/>
          </p:nvSpPr>
          <p:spPr>
            <a:xfrm>
              <a:off x="3708360" y="331920"/>
              <a:ext cx="2971440" cy="2003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81200" y="1246320"/>
              <a:ext cx="11163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2" name="" descr=""/>
          <p:cNvPicPr/>
          <p:nvPr/>
        </p:nvPicPr>
        <p:blipFill>
          <a:blip r:embed="rId4"/>
          <a:stretch/>
        </p:blipFill>
        <p:spPr>
          <a:xfrm>
            <a:off x="3348000" y="2494080"/>
            <a:ext cx="1295280" cy="65700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 flipV="1">
            <a:off x="3564000" y="3069720"/>
            <a:ext cx="288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211640" y="2278080"/>
            <a:ext cx="21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669080" y="2060640"/>
            <a:ext cx="1252080" cy="504720"/>
            <a:chOff x="7669080" y="2060640"/>
            <a:chExt cx="1252080" cy="504720"/>
          </a:xfrm>
        </p:grpSpPr>
        <p:sp>
          <p:nvSpPr>
            <p:cNvPr id="896" name=""/>
            <p:cNvSpPr/>
            <p:nvPr/>
          </p:nvSpPr>
          <p:spPr>
            <a:xfrm>
              <a:off x="7669080" y="2062800"/>
              <a:ext cx="1132200" cy="24516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5320" y="2302560"/>
              <a:ext cx="976320" cy="2613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69080" y="2060640"/>
              <a:ext cx="159480" cy="50472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36840" y="2317320"/>
              <a:ext cx="817560" cy="2318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7826760" y="2370600"/>
              <a:ext cx="28800" cy="52920"/>
              <a:chOff x="7826760" y="2370600"/>
              <a:chExt cx="28800" cy="52920"/>
            </a:xfrm>
          </p:grpSpPr>
          <p:sp>
            <p:nvSpPr>
              <p:cNvPr id="901" name=""/>
              <p:cNvSpPr/>
              <p:nvPr/>
            </p:nvSpPr>
            <p:spPr>
              <a:xfrm>
                <a:off x="7826760" y="2370600"/>
                <a:ext cx="288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26760" y="237744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826760" y="2393280"/>
                <a:ext cx="28800" cy="7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826760" y="239976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26760" y="2416320"/>
                <a:ext cx="28800" cy="36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826760" y="2422800"/>
                <a:ext cx="28800" cy="7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8655840" y="2295000"/>
              <a:ext cx="145440" cy="1692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692120" y="2145240"/>
              <a:ext cx="42840" cy="234720"/>
              <a:chOff x="7692120" y="2145240"/>
              <a:chExt cx="42840" cy="23472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7692120" y="2145240"/>
                <a:ext cx="42840" cy="74520"/>
                <a:chOff x="7692120" y="2145240"/>
                <a:chExt cx="42840" cy="745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7692120" y="214560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693200" y="214524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7692120" y="2171880"/>
                <a:ext cx="42840" cy="74880"/>
                <a:chOff x="7692120" y="2171880"/>
                <a:chExt cx="42840" cy="7488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7692120" y="217224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693200" y="217188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7692120" y="2198520"/>
                <a:ext cx="42840" cy="75240"/>
                <a:chOff x="7692120" y="2198520"/>
                <a:chExt cx="42840" cy="7524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7692120" y="219924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693200" y="219852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7692120" y="2225160"/>
                <a:ext cx="42840" cy="75240"/>
                <a:chOff x="7692120" y="2225160"/>
                <a:chExt cx="42840" cy="7524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692120" y="222588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693200" y="2225160"/>
                  <a:ext cx="41760" cy="7452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1" name=""/>
              <p:cNvGrpSpPr/>
              <p:nvPr/>
            </p:nvGrpSpPr>
            <p:grpSpPr>
              <a:xfrm>
                <a:off x="7692120" y="2252160"/>
                <a:ext cx="42840" cy="74520"/>
                <a:chOff x="7692120" y="2252160"/>
                <a:chExt cx="42840" cy="745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7692120" y="225252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693200" y="225216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7692120" y="2278800"/>
                <a:ext cx="42840" cy="74520"/>
                <a:chOff x="7692120" y="2278800"/>
                <a:chExt cx="42840" cy="745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7692120" y="227916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693200" y="227880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7692120" y="2305440"/>
                <a:ext cx="42840" cy="74520"/>
                <a:chOff x="7692120" y="2305440"/>
                <a:chExt cx="42840" cy="745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7692120" y="2305800"/>
                  <a:ext cx="41400" cy="7416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693200" y="2305440"/>
                  <a:ext cx="41760" cy="7416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0" name=""/>
            <p:cNvGrpSpPr/>
            <p:nvPr/>
          </p:nvGrpSpPr>
          <p:grpSpPr>
            <a:xfrm>
              <a:off x="7757640" y="2246040"/>
              <a:ext cx="41400" cy="235440"/>
              <a:chOff x="7757640" y="2246040"/>
              <a:chExt cx="41400" cy="23544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7757640" y="2246040"/>
                <a:ext cx="41400" cy="74520"/>
                <a:chOff x="7757640" y="2246040"/>
                <a:chExt cx="41400" cy="745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7757640" y="22467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758720" y="224604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757640" y="2272680"/>
                <a:ext cx="41400" cy="74520"/>
                <a:chOff x="7757640" y="2272680"/>
                <a:chExt cx="41400" cy="745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757640" y="227340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758720" y="2272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7757640" y="2299680"/>
                <a:ext cx="41400" cy="74160"/>
                <a:chOff x="7757640" y="2299680"/>
                <a:chExt cx="41400" cy="7416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7757640" y="230004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758720" y="2299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7757640" y="2326320"/>
                <a:ext cx="41400" cy="74160"/>
                <a:chOff x="7757640" y="2326320"/>
                <a:chExt cx="41400" cy="7416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7757640" y="2326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758720" y="2326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7757640" y="2353320"/>
                <a:ext cx="41400" cy="74160"/>
                <a:chOff x="7757640" y="2353320"/>
                <a:chExt cx="41400" cy="7416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7757640" y="2353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758720" y="2353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7757640" y="2379960"/>
                <a:ext cx="41400" cy="74160"/>
                <a:chOff x="7757640" y="2379960"/>
                <a:chExt cx="41400" cy="7416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7757640" y="238032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758720" y="23799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7757640" y="2406960"/>
                <a:ext cx="41400" cy="74520"/>
                <a:chOff x="7757640" y="2406960"/>
                <a:chExt cx="41400" cy="745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7757640" y="240768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758720" y="2406960"/>
                  <a:ext cx="40320" cy="7380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2" name=""/>
            <p:cNvGrpSpPr/>
            <p:nvPr/>
          </p:nvGrpSpPr>
          <p:grpSpPr>
            <a:xfrm>
              <a:off x="7701840" y="2067120"/>
              <a:ext cx="169920" cy="226080"/>
              <a:chOff x="7701840" y="2067120"/>
              <a:chExt cx="169920" cy="226080"/>
            </a:xfrm>
          </p:grpSpPr>
          <p:sp>
            <p:nvSpPr>
              <p:cNvPr id="953" name=""/>
              <p:cNvSpPr/>
              <p:nvPr/>
            </p:nvSpPr>
            <p:spPr>
              <a:xfrm>
                <a:off x="7701840" y="2067120"/>
                <a:ext cx="43200" cy="273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6160" y="2072160"/>
                <a:ext cx="3708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828560" y="2265120"/>
                <a:ext cx="43200" cy="266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833240" y="2269440"/>
                <a:ext cx="3708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8600400" y="2067120"/>
              <a:ext cx="170280" cy="226080"/>
              <a:chOff x="8600400" y="2067120"/>
              <a:chExt cx="170280" cy="226080"/>
            </a:xfrm>
          </p:grpSpPr>
          <p:sp>
            <p:nvSpPr>
              <p:cNvPr id="958" name=""/>
              <p:cNvSpPr/>
              <p:nvPr/>
            </p:nvSpPr>
            <p:spPr>
              <a:xfrm>
                <a:off x="8600400" y="2067120"/>
                <a:ext cx="43560" cy="273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604360" y="2072160"/>
                <a:ext cx="3780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727480" y="2265120"/>
                <a:ext cx="43200" cy="2664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731800" y="2269440"/>
                <a:ext cx="37800" cy="237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7836840" y="2323080"/>
              <a:ext cx="822600" cy="221760"/>
              <a:chOff x="7836840" y="2323080"/>
              <a:chExt cx="822600" cy="221760"/>
            </a:xfrm>
          </p:grpSpPr>
          <p:sp>
            <p:nvSpPr>
              <p:cNvPr id="963" name=""/>
              <p:cNvSpPr/>
              <p:nvPr/>
            </p:nvSpPr>
            <p:spPr>
              <a:xfrm>
                <a:off x="7836840" y="2323800"/>
                <a:ext cx="774000" cy="22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586000" y="2323080"/>
                <a:ext cx="73440" cy="22176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8686800" y="2314080"/>
              <a:ext cx="115920" cy="250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556120" y="210708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872840" y="2354760"/>
              <a:ext cx="749880" cy="162720"/>
              <a:chOff x="7872840" y="2354760"/>
              <a:chExt cx="749880" cy="16272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8539200" y="2354760"/>
                <a:ext cx="83520" cy="31320"/>
                <a:chOff x="8539200" y="2354760"/>
                <a:chExt cx="83520" cy="31320"/>
              </a:xfrm>
            </p:grpSpPr>
            <p:grpSp>
              <p:nvGrpSpPr>
                <p:cNvPr id="969" name=""/>
                <p:cNvGrpSpPr/>
                <p:nvPr/>
              </p:nvGrpSpPr>
              <p:grpSpPr>
                <a:xfrm>
                  <a:off x="8539200" y="2354760"/>
                  <a:ext cx="25200" cy="31320"/>
                  <a:chOff x="8539200" y="2354760"/>
                  <a:chExt cx="25200" cy="3132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8547480" y="2359800"/>
                    <a:ext cx="1692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8539200" y="235476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8539200" y="236556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8539200" y="2375280"/>
                    <a:ext cx="17280" cy="57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8550360" y="2370240"/>
                    <a:ext cx="14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8550000" y="238068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8568360" y="2358000"/>
                  <a:ext cx="54360" cy="23760"/>
                  <a:chOff x="8568360" y="2358000"/>
                  <a:chExt cx="54360" cy="2376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8568360" y="2358000"/>
                    <a:ext cx="54360" cy="9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8568360" y="2372400"/>
                    <a:ext cx="54360" cy="936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9" name=""/>
              <p:cNvGrpSpPr/>
              <p:nvPr/>
            </p:nvGrpSpPr>
            <p:grpSpPr>
              <a:xfrm>
                <a:off x="8578440" y="2500920"/>
                <a:ext cx="42480" cy="16560"/>
                <a:chOff x="8578440" y="2500920"/>
                <a:chExt cx="42480" cy="1656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8578440" y="2500920"/>
                  <a:ext cx="42480" cy="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580960" y="2509920"/>
                  <a:ext cx="39600" cy="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8498520" y="2376720"/>
                <a:ext cx="32400" cy="49320"/>
                <a:chOff x="8498520" y="2376720"/>
                <a:chExt cx="32400" cy="4932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8498520" y="2384280"/>
                  <a:ext cx="32400" cy="4176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504640" y="2376720"/>
                  <a:ext cx="21960" cy="1656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507520" y="2378880"/>
                  <a:ext cx="15840" cy="129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8503920" y="2436120"/>
                <a:ext cx="972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517240" y="2436120"/>
                <a:ext cx="9720" cy="118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3920" y="2453760"/>
                <a:ext cx="9720" cy="13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517240" y="2453760"/>
                <a:ext cx="9720" cy="136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503920" y="2472120"/>
                <a:ext cx="972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517240" y="2472120"/>
                <a:ext cx="9720" cy="129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503920" y="2490480"/>
                <a:ext cx="972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517240" y="2490480"/>
                <a:ext cx="9720" cy="14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533800" y="2475720"/>
                <a:ext cx="31680" cy="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097840" y="2376720"/>
                <a:ext cx="153360" cy="4428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55080" y="2367720"/>
                <a:ext cx="46080" cy="1836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161200" y="2370240"/>
                <a:ext cx="32400" cy="13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8" name=""/>
              <p:cNvGrpSpPr/>
              <p:nvPr/>
            </p:nvGrpSpPr>
            <p:grpSpPr>
              <a:xfrm>
                <a:off x="8146800" y="2388960"/>
                <a:ext cx="59760" cy="29520"/>
                <a:chOff x="8146800" y="2388960"/>
                <a:chExt cx="59760" cy="295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8146800" y="2388960"/>
                  <a:ext cx="59760" cy="79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149320" y="2399400"/>
                  <a:ext cx="54360" cy="79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8155080" y="2410560"/>
                  <a:ext cx="43920" cy="79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8096040" y="2429640"/>
                <a:ext cx="78480" cy="69120"/>
                <a:chOff x="8096040" y="2429640"/>
                <a:chExt cx="78480" cy="6912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8096040" y="2429640"/>
                  <a:ext cx="78480" cy="12600"/>
                  <a:chOff x="8096040" y="2429640"/>
                  <a:chExt cx="78480" cy="1260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>
                    <a:off x="80960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810936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81230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8137080" y="242964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815040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816444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8096040" y="2448000"/>
                  <a:ext cx="78480" cy="13320"/>
                  <a:chOff x="8096040" y="2448000"/>
                  <a:chExt cx="78480" cy="1332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80960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810936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81230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8137080" y="244800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815040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816444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8096040" y="2467080"/>
                  <a:ext cx="78480" cy="12600"/>
                  <a:chOff x="8096040" y="2467080"/>
                  <a:chExt cx="78480" cy="1260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80960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810936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81230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8137080" y="246708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815040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6444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8096040" y="2485440"/>
                  <a:ext cx="78480" cy="13320"/>
                  <a:chOff x="8096040" y="2485440"/>
                  <a:chExt cx="78480" cy="1332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80960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810936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81230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8137080" y="248544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815040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816444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8179200" y="2429640"/>
                <a:ext cx="77400" cy="69120"/>
                <a:chOff x="8179200" y="2429640"/>
                <a:chExt cx="77400" cy="6912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8179200" y="2429640"/>
                  <a:ext cx="77400" cy="12600"/>
                  <a:chOff x="8179200" y="2429640"/>
                  <a:chExt cx="77400" cy="126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8179200" y="2429640"/>
                    <a:ext cx="972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819252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20620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821952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8233560" y="242964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8247240" y="242964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8179200" y="2448000"/>
                  <a:ext cx="77400" cy="13320"/>
                  <a:chOff x="8179200" y="2448000"/>
                  <a:chExt cx="77400" cy="1332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8179200" y="2448000"/>
                    <a:ext cx="972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819252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820620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821952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233560" y="244800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8247240" y="244800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8179200" y="2467080"/>
                  <a:ext cx="77400" cy="12600"/>
                  <a:chOff x="8179200" y="2467080"/>
                  <a:chExt cx="77400" cy="1260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8179200" y="2467080"/>
                    <a:ext cx="972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819252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820620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821952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8233560" y="2467080"/>
                    <a:ext cx="1008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8247240" y="2467080"/>
                    <a:ext cx="9360" cy="1260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3" name=""/>
                <p:cNvGrpSpPr/>
                <p:nvPr/>
              </p:nvGrpSpPr>
              <p:grpSpPr>
                <a:xfrm>
                  <a:off x="8179200" y="2485440"/>
                  <a:ext cx="77400" cy="13320"/>
                  <a:chOff x="8179200" y="2485440"/>
                  <a:chExt cx="77400" cy="133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8179200" y="2485440"/>
                    <a:ext cx="972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819252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820620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821952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8233560" y="2485440"/>
                    <a:ext cx="1008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8247240" y="2485440"/>
                    <a:ext cx="9360" cy="133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0" name=""/>
              <p:cNvGrpSpPr/>
              <p:nvPr/>
            </p:nvGrpSpPr>
            <p:grpSpPr>
              <a:xfrm>
                <a:off x="7872840" y="2452680"/>
                <a:ext cx="203400" cy="60840"/>
                <a:chOff x="7872840" y="2452680"/>
                <a:chExt cx="203400" cy="60840"/>
              </a:xfrm>
            </p:grpSpPr>
            <p:grpSp>
              <p:nvGrpSpPr>
                <p:cNvPr id="1061" name=""/>
                <p:cNvGrpSpPr/>
                <p:nvPr/>
              </p:nvGrpSpPr>
              <p:grpSpPr>
                <a:xfrm>
                  <a:off x="7872840" y="2452680"/>
                  <a:ext cx="25200" cy="60840"/>
                  <a:chOff x="7872840" y="2452680"/>
                  <a:chExt cx="25200" cy="60840"/>
                </a:xfrm>
              </p:grpSpPr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7872840" y="2452680"/>
                    <a:ext cx="25200" cy="60840"/>
                    <a:chOff x="7872840" y="2452680"/>
                    <a:chExt cx="25200" cy="6084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78728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78728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78753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78728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78742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78926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9" name=""/>
                  <p:cNvSpPr/>
                  <p:nvPr/>
                </p:nvSpPr>
                <p:spPr>
                  <a:xfrm>
                    <a:off x="78807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7908120" y="2452680"/>
                  <a:ext cx="25200" cy="60840"/>
                  <a:chOff x="7908120" y="2452680"/>
                  <a:chExt cx="25200" cy="60840"/>
                </a:xfrm>
              </p:grpSpPr>
              <p:grpSp>
                <p:nvGrpSpPr>
                  <p:cNvPr id="1071" name=""/>
                  <p:cNvGrpSpPr/>
                  <p:nvPr/>
                </p:nvGrpSpPr>
                <p:grpSpPr>
                  <a:xfrm>
                    <a:off x="7908120" y="2452680"/>
                    <a:ext cx="25200" cy="60840"/>
                    <a:chOff x="7908120" y="2452680"/>
                    <a:chExt cx="25200" cy="60840"/>
                  </a:xfrm>
                </p:grpSpPr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790812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790812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791064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90812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90956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92792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8" name=""/>
                  <p:cNvSpPr/>
                  <p:nvPr/>
                </p:nvSpPr>
                <p:spPr>
                  <a:xfrm>
                    <a:off x="791604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7943760" y="2452680"/>
                  <a:ext cx="25560" cy="60840"/>
                  <a:chOff x="7943760" y="2452680"/>
                  <a:chExt cx="25560" cy="60840"/>
                </a:xfrm>
              </p:grpSpPr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7943760" y="2452680"/>
                    <a:ext cx="25560" cy="60840"/>
                    <a:chOff x="7943760" y="2452680"/>
                    <a:chExt cx="25560" cy="6084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943760" y="2464200"/>
                      <a:ext cx="2484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794376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946280" y="2475720"/>
                      <a:ext cx="2304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943760" y="2466720"/>
                      <a:ext cx="255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94520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96392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7" name=""/>
                  <p:cNvSpPr/>
                  <p:nvPr/>
                </p:nvSpPr>
                <p:spPr>
                  <a:xfrm>
                    <a:off x="795168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8" name=""/>
                <p:cNvGrpSpPr/>
                <p:nvPr/>
              </p:nvGrpSpPr>
              <p:grpSpPr>
                <a:xfrm>
                  <a:off x="7979400" y="2452680"/>
                  <a:ext cx="25200" cy="60840"/>
                  <a:chOff x="7979400" y="2452680"/>
                  <a:chExt cx="25200" cy="60840"/>
                </a:xfrm>
              </p:grpSpPr>
              <p:grpSp>
                <p:nvGrpSpPr>
                  <p:cNvPr id="1089" name=""/>
                  <p:cNvGrpSpPr/>
                  <p:nvPr/>
                </p:nvGrpSpPr>
                <p:grpSpPr>
                  <a:xfrm>
                    <a:off x="7979400" y="2452680"/>
                    <a:ext cx="25200" cy="60840"/>
                    <a:chOff x="7979400" y="2452680"/>
                    <a:chExt cx="25200" cy="60840"/>
                  </a:xfrm>
                </p:grpSpPr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797940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797940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798192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797940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798084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799920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798732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7" name=""/>
                <p:cNvGrpSpPr/>
                <p:nvPr/>
              </p:nvGrpSpPr>
              <p:grpSpPr>
                <a:xfrm>
                  <a:off x="8015040" y="2452680"/>
                  <a:ext cx="25200" cy="60840"/>
                  <a:chOff x="8015040" y="2452680"/>
                  <a:chExt cx="25200" cy="60840"/>
                </a:xfrm>
              </p:grpSpPr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8015040" y="2452680"/>
                    <a:ext cx="25200" cy="60840"/>
                    <a:chOff x="8015040" y="2452680"/>
                    <a:chExt cx="25200" cy="60840"/>
                  </a:xfrm>
                </p:grpSpPr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80150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80150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80175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80150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80164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80348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5" name=""/>
                  <p:cNvSpPr/>
                  <p:nvPr/>
                </p:nvSpPr>
                <p:spPr>
                  <a:xfrm>
                    <a:off x="80229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6" name=""/>
                <p:cNvGrpSpPr/>
                <p:nvPr/>
              </p:nvGrpSpPr>
              <p:grpSpPr>
                <a:xfrm>
                  <a:off x="8051040" y="2452680"/>
                  <a:ext cx="25200" cy="60840"/>
                  <a:chOff x="8051040" y="2452680"/>
                  <a:chExt cx="25200" cy="60840"/>
                </a:xfrm>
              </p:grpSpPr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8051040" y="2452680"/>
                    <a:ext cx="25200" cy="60840"/>
                    <a:chOff x="8051040" y="2452680"/>
                    <a:chExt cx="25200" cy="6084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8051040" y="246420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8051040" y="246672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8053560" y="247572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8051040" y="246672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8052480" y="245268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8070840" y="245268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4" name=""/>
                  <p:cNvSpPr/>
                  <p:nvPr/>
                </p:nvSpPr>
                <p:spPr>
                  <a:xfrm>
                    <a:off x="8058960" y="248616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5" name=""/>
              <p:cNvGrpSpPr/>
              <p:nvPr/>
            </p:nvGrpSpPr>
            <p:grpSpPr>
              <a:xfrm>
                <a:off x="8287200" y="2445120"/>
                <a:ext cx="203400" cy="60840"/>
                <a:chOff x="8287200" y="2445120"/>
                <a:chExt cx="203400" cy="60840"/>
              </a:xfrm>
            </p:grpSpPr>
            <p:grpSp>
              <p:nvGrpSpPr>
                <p:cNvPr id="1116" name=""/>
                <p:cNvGrpSpPr/>
                <p:nvPr/>
              </p:nvGrpSpPr>
              <p:grpSpPr>
                <a:xfrm>
                  <a:off x="8287200" y="2445120"/>
                  <a:ext cx="25200" cy="60840"/>
                  <a:chOff x="8287200" y="2445120"/>
                  <a:chExt cx="25200" cy="60840"/>
                </a:xfrm>
              </p:grpSpPr>
              <p:grpSp>
                <p:nvGrpSpPr>
                  <p:cNvPr id="1117" name=""/>
                  <p:cNvGrpSpPr/>
                  <p:nvPr/>
                </p:nvGrpSpPr>
                <p:grpSpPr>
                  <a:xfrm>
                    <a:off x="8287200" y="2445120"/>
                    <a:ext cx="25200" cy="60840"/>
                    <a:chOff x="8287200" y="2445120"/>
                    <a:chExt cx="25200" cy="60840"/>
                  </a:xfrm>
                </p:grpSpPr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82872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82872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82897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82872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82886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3070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4" name=""/>
                  <p:cNvSpPr/>
                  <p:nvPr/>
                </p:nvSpPr>
                <p:spPr>
                  <a:xfrm>
                    <a:off x="82951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8322480" y="2445120"/>
                  <a:ext cx="25200" cy="60840"/>
                  <a:chOff x="8322480" y="2445120"/>
                  <a:chExt cx="25200" cy="6084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2480" y="2445120"/>
                    <a:ext cx="25200" cy="60840"/>
                    <a:chOff x="8322480" y="2445120"/>
                    <a:chExt cx="25200" cy="6084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248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2248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500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832248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2392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834228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3" name=""/>
                  <p:cNvSpPr/>
                  <p:nvPr/>
                </p:nvSpPr>
                <p:spPr>
                  <a:xfrm>
                    <a:off x="833040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8358120" y="2445120"/>
                  <a:ext cx="25560" cy="60840"/>
                  <a:chOff x="8358120" y="2445120"/>
                  <a:chExt cx="25560" cy="60840"/>
                </a:xfrm>
              </p:grpSpPr>
              <p:grpSp>
                <p:nvGrpSpPr>
                  <p:cNvPr id="1135" name=""/>
                  <p:cNvGrpSpPr/>
                  <p:nvPr/>
                </p:nvGrpSpPr>
                <p:grpSpPr>
                  <a:xfrm>
                    <a:off x="8358120" y="2445120"/>
                    <a:ext cx="25560" cy="60840"/>
                    <a:chOff x="8358120" y="2445120"/>
                    <a:chExt cx="25560" cy="60840"/>
                  </a:xfrm>
                </p:grpSpPr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58120" y="2456640"/>
                      <a:ext cx="2484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5812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8360640" y="2468160"/>
                      <a:ext cx="2304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8358120" y="2459160"/>
                      <a:ext cx="255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835956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837828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2" name=""/>
                  <p:cNvSpPr/>
                  <p:nvPr/>
                </p:nvSpPr>
                <p:spPr>
                  <a:xfrm>
                    <a:off x="836604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8393760" y="2445120"/>
                  <a:ext cx="25200" cy="60840"/>
                  <a:chOff x="8393760" y="2445120"/>
                  <a:chExt cx="25200" cy="60840"/>
                </a:xfrm>
              </p:grpSpPr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8393760" y="2445120"/>
                    <a:ext cx="25200" cy="60840"/>
                    <a:chOff x="8393760" y="2445120"/>
                    <a:chExt cx="25200" cy="6084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839376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839376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839628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839376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9520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841356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1" name=""/>
                  <p:cNvSpPr/>
                  <p:nvPr/>
                </p:nvSpPr>
                <p:spPr>
                  <a:xfrm>
                    <a:off x="840168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429400" y="2445120"/>
                  <a:ext cx="25200" cy="60840"/>
                  <a:chOff x="8429400" y="2445120"/>
                  <a:chExt cx="25200" cy="60840"/>
                </a:xfrm>
              </p:grpSpPr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8429400" y="2445120"/>
                    <a:ext cx="25200" cy="60840"/>
                    <a:chOff x="8429400" y="2445120"/>
                    <a:chExt cx="25200" cy="6084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84294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84294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84319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84294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84308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84492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0" name=""/>
                  <p:cNvSpPr/>
                  <p:nvPr/>
                </p:nvSpPr>
                <p:spPr>
                  <a:xfrm>
                    <a:off x="84373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8465400" y="2445120"/>
                  <a:ext cx="25200" cy="60840"/>
                  <a:chOff x="8465400" y="2445120"/>
                  <a:chExt cx="25200" cy="60840"/>
                </a:xfrm>
              </p:grpSpPr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8465400" y="2445120"/>
                    <a:ext cx="25200" cy="60840"/>
                    <a:chOff x="8465400" y="2445120"/>
                    <a:chExt cx="25200" cy="6084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8465400" y="2456640"/>
                      <a:ext cx="24480" cy="468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8465400" y="2459160"/>
                      <a:ext cx="32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8467920" y="2468160"/>
                      <a:ext cx="22680" cy="3672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8465400" y="2459160"/>
                      <a:ext cx="25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8466840" y="2445120"/>
                      <a:ext cx="288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485200" y="2445120"/>
                      <a:ext cx="2520" cy="7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9" name=""/>
                  <p:cNvSpPr/>
                  <p:nvPr/>
                </p:nvSpPr>
                <p:spPr>
                  <a:xfrm>
                    <a:off x="8473320" y="2478600"/>
                    <a:ext cx="1404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170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1295640" cy="65700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6661080" y="134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740720" y="1701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7669080" y="249408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17080" y="2421000"/>
            <a:ext cx="21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6229440" y="2852640"/>
          <a:ext cx="914400" cy="78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9440" y="2852640"/>
                    <a:ext cx="9144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"/>
          <p:cNvSpPr/>
          <p:nvPr/>
        </p:nvSpPr>
        <p:spPr>
          <a:xfrm flipV="1">
            <a:off x="6588000" y="24940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54720" y="273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38520" y="6444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134160" y="393372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734520" y="2060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86560" y="5546880"/>
            <a:ext cx="15951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BX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jeta de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323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6948360" y="4221000"/>
          <a:ext cx="503280" cy="57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48360" y="4221000"/>
                    <a:ext cx="5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5" name=""/>
          <p:cNvSpPr/>
          <p:nvPr/>
        </p:nvSpPr>
        <p:spPr>
          <a:xfrm>
            <a:off x="6084720" y="458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012000" y="551664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084720" y="5373720"/>
            <a:ext cx="935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877080" y="5229360"/>
            <a:ext cx="1511280" cy="1223640"/>
            <a:chOff x="6877080" y="5229360"/>
            <a:chExt cx="1511280" cy="1223640"/>
          </a:xfrm>
        </p:grpSpPr>
        <p:sp>
          <p:nvSpPr>
            <p:cNvPr id="1189" name=""/>
            <p:cNvSpPr/>
            <p:nvPr/>
          </p:nvSpPr>
          <p:spPr>
            <a:xfrm>
              <a:off x="6877080" y="5229360"/>
              <a:ext cx="1511280" cy="122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18360" y="5788080"/>
              <a:ext cx="9212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1" name=""/>
          <p:cNvGraphicFramePr/>
          <p:nvPr/>
        </p:nvGraphicFramePr>
        <p:xfrm>
          <a:off x="8459640" y="4724280"/>
          <a:ext cx="432000" cy="50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459640" y="4724280"/>
                    <a:ext cx="432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3" name=""/>
          <p:cNvSpPr/>
          <p:nvPr/>
        </p:nvSpPr>
        <p:spPr>
          <a:xfrm flipV="1">
            <a:off x="8028000" y="5084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7308720" y="2997360"/>
            <a:ext cx="531720" cy="645480"/>
            <a:chOff x="7308720" y="2997360"/>
            <a:chExt cx="531720" cy="645480"/>
          </a:xfrm>
        </p:grpSpPr>
        <p:pic>
          <p:nvPicPr>
            <p:cNvPr id="1195" name="" descr=""/>
            <p:cNvPicPr/>
            <p:nvPr/>
          </p:nvPicPr>
          <p:blipFill>
            <a:blip r:embed="rId12"/>
            <a:stretch/>
          </p:blipFill>
          <p:spPr>
            <a:xfrm>
              <a:off x="7308720" y="2997360"/>
              <a:ext cx="531720" cy="40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7380000" y="3355560"/>
              <a:ext cx="36036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8244000" y="2997360"/>
            <a:ext cx="531720" cy="645480"/>
            <a:chOff x="8244000" y="2997360"/>
            <a:chExt cx="531720" cy="645480"/>
          </a:xfrm>
        </p:grpSpPr>
        <p:pic>
          <p:nvPicPr>
            <p:cNvPr id="1198" name="" descr=""/>
            <p:cNvPicPr/>
            <p:nvPr/>
          </p:nvPicPr>
          <p:blipFill>
            <a:blip r:embed="rId13"/>
            <a:stretch/>
          </p:blipFill>
          <p:spPr>
            <a:xfrm>
              <a:off x="8244000" y="2997360"/>
              <a:ext cx="531720" cy="40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8315280" y="3355560"/>
              <a:ext cx="36036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3851280" y="5084640"/>
            <a:ext cx="6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 flipV="1">
            <a:off x="3151080" y="3152160"/>
            <a:ext cx="2814840" cy="476280"/>
          </a:xfrm>
          <a:custGeom>
            <a:avLst/>
            <a:gdLst/>
            <a:ahLst/>
            <a:rect l="l" t="t" r="r" b="b"/>
            <a:pathLst>
              <a:path w="1825" h="241">
                <a:moveTo>
                  <a:pt x="0" y="192"/>
                </a:moveTo>
                <a:lnTo>
                  <a:pt x="432" y="0"/>
                </a:lnTo>
                <a:lnTo>
                  <a:pt x="1248" y="0"/>
                </a:lnTo>
                <a:lnTo>
                  <a:pt x="1824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6600960" y="2155320"/>
            <a:ext cx="788760" cy="59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0960" y="2735280"/>
            <a:ext cx="85860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170160" y="2550960"/>
            <a:ext cx="2675160" cy="397080"/>
          </a:xfrm>
          <a:custGeom>
            <a:avLst/>
            <a:gdLst/>
            <a:ahLst/>
            <a:rect l="l" t="t" r="r" b="b"/>
            <a:pathLst>
              <a:path w="1825" h="241">
                <a:moveTo>
                  <a:pt x="0" y="192"/>
                </a:moveTo>
                <a:lnTo>
                  <a:pt x="432" y="0"/>
                </a:lnTo>
                <a:lnTo>
                  <a:pt x="1248" y="0"/>
                </a:lnTo>
                <a:lnTo>
                  <a:pt x="1824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20920" y="315288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940120" y="1995480"/>
            <a:ext cx="3166920" cy="792000"/>
          </a:xfrm>
          <a:custGeom>
            <a:avLst/>
            <a:gdLst/>
            <a:ahLst/>
            <a:rect l="l" t="t" r="r" b="b"/>
            <a:pathLst>
              <a:path w="2161" h="481">
                <a:moveTo>
                  <a:pt x="0" y="480"/>
                </a:moveTo>
                <a:lnTo>
                  <a:pt x="672" y="0"/>
                </a:lnTo>
                <a:lnTo>
                  <a:pt x="1584" y="0"/>
                </a:lnTo>
                <a:lnTo>
                  <a:pt x="2160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7391520" y="2440080"/>
            <a:ext cx="430200" cy="52524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7391520" y="1758960"/>
            <a:ext cx="430200" cy="52560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1468440" y="2049480"/>
            <a:ext cx="979560" cy="70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487520" y="2708280"/>
            <a:ext cx="97956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3811680" y="3389400"/>
            <a:ext cx="1491480" cy="527760"/>
            <a:chOff x="3811680" y="3389400"/>
            <a:chExt cx="1491480" cy="527760"/>
          </a:xfrm>
        </p:grpSpPr>
        <p:grpSp>
          <p:nvGrpSpPr>
            <p:cNvPr id="1212" name=""/>
            <p:cNvGrpSpPr/>
            <p:nvPr/>
          </p:nvGrpSpPr>
          <p:grpSpPr>
            <a:xfrm>
              <a:off x="3818520" y="3405600"/>
              <a:ext cx="1484640" cy="511560"/>
              <a:chOff x="3818520" y="3405600"/>
              <a:chExt cx="1484640" cy="511560"/>
            </a:xfrm>
          </p:grpSpPr>
          <p:sp>
            <p:nvSpPr>
              <p:cNvPr id="1213" name=""/>
              <p:cNvSpPr/>
              <p:nvPr/>
            </p:nvSpPr>
            <p:spPr>
              <a:xfrm>
                <a:off x="4333680" y="3405600"/>
                <a:ext cx="638640" cy="2080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983040" y="3459240"/>
                <a:ext cx="474120" cy="213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18520" y="3586320"/>
                <a:ext cx="323280" cy="1713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15720" y="3677400"/>
                <a:ext cx="487800" cy="1756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279320" y="3702600"/>
                <a:ext cx="741600" cy="2145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66400" y="3469320"/>
                <a:ext cx="468000" cy="159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50640" y="3582720"/>
                <a:ext cx="452520" cy="150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02040" y="3615840"/>
                <a:ext cx="446760" cy="2671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078800" y="3526560"/>
                <a:ext cx="963720" cy="2739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3811680" y="3389400"/>
              <a:ext cx="1457280" cy="511560"/>
              <a:chOff x="3811680" y="3389400"/>
              <a:chExt cx="1457280" cy="511560"/>
            </a:xfrm>
          </p:grpSpPr>
          <p:sp>
            <p:nvSpPr>
              <p:cNvPr id="1223" name=""/>
              <p:cNvSpPr/>
              <p:nvPr/>
            </p:nvSpPr>
            <p:spPr>
              <a:xfrm>
                <a:off x="4319640" y="3389400"/>
                <a:ext cx="621360" cy="2034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963240" y="3446640"/>
                <a:ext cx="473760" cy="2034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11680" y="3576600"/>
                <a:ext cx="307800" cy="1638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908880" y="3653640"/>
                <a:ext cx="479520" cy="18144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265640" y="3686400"/>
                <a:ext cx="728640" cy="2145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46240" y="3453120"/>
                <a:ext cx="452520" cy="15732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16440" y="3560040"/>
                <a:ext cx="452520" cy="1605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66400" y="3596040"/>
                <a:ext cx="460800" cy="26856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079160" y="3512520"/>
                <a:ext cx="942120" cy="2674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2" name=""/>
          <p:cNvSpPr/>
          <p:nvPr/>
        </p:nvSpPr>
        <p:spPr>
          <a:xfrm>
            <a:off x="4286880" y="3521160"/>
            <a:ext cx="399960" cy="30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uturaA Md BT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36920" y="2867040"/>
            <a:ext cx="234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A Md BT"/>
              </a:rPr>
              <a:t>Leased line With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849840" y="2333520"/>
            <a:ext cx="1413720" cy="553320"/>
            <a:chOff x="3849840" y="2333520"/>
            <a:chExt cx="1413720" cy="553320"/>
          </a:xfrm>
        </p:grpSpPr>
        <p:grpSp>
          <p:nvGrpSpPr>
            <p:cNvPr id="1235" name=""/>
            <p:cNvGrpSpPr/>
            <p:nvPr/>
          </p:nvGrpSpPr>
          <p:grpSpPr>
            <a:xfrm>
              <a:off x="3895200" y="2333520"/>
              <a:ext cx="1368360" cy="550080"/>
              <a:chOff x="3895200" y="2333520"/>
              <a:chExt cx="1368360" cy="550080"/>
            </a:xfrm>
          </p:grpSpPr>
          <p:sp>
            <p:nvSpPr>
              <p:cNvPr id="1236" name=""/>
              <p:cNvSpPr/>
              <p:nvPr/>
            </p:nvSpPr>
            <p:spPr>
              <a:xfrm>
                <a:off x="3895200" y="2455200"/>
                <a:ext cx="554760" cy="2354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035600" y="2646360"/>
                <a:ext cx="569520" cy="1760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376520" y="2763360"/>
                <a:ext cx="459720" cy="120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618440" y="2667960"/>
                <a:ext cx="471240" cy="18108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690440" y="2438640"/>
                <a:ext cx="573120" cy="2732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065480" y="2358000"/>
                <a:ext cx="426960" cy="172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365000" y="2333520"/>
                <a:ext cx="402480" cy="1681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453200" y="2354760"/>
                <a:ext cx="715320" cy="1645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19200" y="2428920"/>
                <a:ext cx="730080" cy="3589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3849840" y="2345040"/>
              <a:ext cx="1364400" cy="541800"/>
              <a:chOff x="3849840" y="2345040"/>
              <a:chExt cx="1364400" cy="541800"/>
            </a:xfrm>
          </p:grpSpPr>
          <p:sp>
            <p:nvSpPr>
              <p:cNvPr id="1246" name=""/>
              <p:cNvSpPr/>
              <p:nvPr/>
            </p:nvSpPr>
            <p:spPr>
              <a:xfrm>
                <a:off x="3849840" y="2465280"/>
                <a:ext cx="544680" cy="2304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997080" y="2652840"/>
                <a:ext cx="543240" cy="1760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43760" y="2773080"/>
                <a:ext cx="438480" cy="1137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51480" y="2671200"/>
                <a:ext cx="486000" cy="17784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640400" y="2448720"/>
                <a:ext cx="573840" cy="2700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16160" y="2369520"/>
                <a:ext cx="424080" cy="1681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302720" y="2345040"/>
                <a:ext cx="428760" cy="16812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404600" y="2359800"/>
                <a:ext cx="716400" cy="17280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178520" y="2438640"/>
                <a:ext cx="714960" cy="3477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5" name=""/>
          <p:cNvSpPr/>
          <p:nvPr/>
        </p:nvSpPr>
        <p:spPr>
          <a:xfrm>
            <a:off x="4187160" y="241308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uturaA Md BT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446600" y="3548160"/>
            <a:ext cx="45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Fax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7" name="" descr=""/>
          <p:cNvPicPr/>
          <p:nvPr/>
        </p:nvPicPr>
        <p:blipFill>
          <a:blip r:embed="rId3"/>
          <a:stretch/>
        </p:blipFill>
        <p:spPr>
          <a:xfrm>
            <a:off x="1130400" y="2392200"/>
            <a:ext cx="431640" cy="52560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/>
          <p:nvPr/>
        </p:nvSpPr>
        <p:spPr>
          <a:xfrm>
            <a:off x="6616800" y="3103560"/>
            <a:ext cx="84456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028880" y="3182760"/>
            <a:ext cx="409320" cy="6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045800" y="3548160"/>
            <a:ext cx="45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FuturaA Md BT"/>
              </a:rPr>
              <a:t>Fax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1533600" y="3103200"/>
            <a:ext cx="8636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44360" y="1147680"/>
            <a:ext cx="178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A Md BT"/>
              </a:rPr>
              <a:t>On-demand / back 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uturaA Md BT"/>
              </a:rPr>
              <a:t>with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3824280" y="1701720"/>
            <a:ext cx="1469160" cy="553320"/>
            <a:chOff x="3824280" y="1701720"/>
            <a:chExt cx="1469160" cy="553320"/>
          </a:xfrm>
        </p:grpSpPr>
        <p:grpSp>
          <p:nvGrpSpPr>
            <p:cNvPr id="1264" name=""/>
            <p:cNvGrpSpPr/>
            <p:nvPr/>
          </p:nvGrpSpPr>
          <p:grpSpPr>
            <a:xfrm>
              <a:off x="3871440" y="1701720"/>
              <a:ext cx="1422000" cy="550080"/>
              <a:chOff x="3871440" y="1701720"/>
              <a:chExt cx="1422000" cy="550080"/>
            </a:xfrm>
          </p:grpSpPr>
          <p:sp>
            <p:nvSpPr>
              <p:cNvPr id="1265" name=""/>
              <p:cNvSpPr/>
              <p:nvPr/>
            </p:nvSpPr>
            <p:spPr>
              <a:xfrm>
                <a:off x="3871440" y="1823400"/>
                <a:ext cx="576720" cy="2354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17600" y="2014560"/>
                <a:ext cx="591840" cy="1760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371480" y="2131560"/>
                <a:ext cx="477720" cy="1202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623120" y="2036160"/>
                <a:ext cx="489600" cy="18108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698000" y="1806840"/>
                <a:ext cx="595440" cy="2732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048200" y="1726200"/>
                <a:ext cx="443880" cy="1728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359600" y="1701720"/>
                <a:ext cx="418320" cy="1681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451400" y="1722960"/>
                <a:ext cx="743040" cy="1645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208040" y="1797120"/>
                <a:ext cx="758520" cy="3589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3824280" y="1713240"/>
              <a:ext cx="1418040" cy="541800"/>
              <a:chOff x="3824280" y="1713240"/>
              <a:chExt cx="1418040" cy="541800"/>
            </a:xfrm>
          </p:grpSpPr>
          <p:sp>
            <p:nvSpPr>
              <p:cNvPr id="1275" name=""/>
              <p:cNvSpPr/>
              <p:nvPr/>
            </p:nvSpPr>
            <p:spPr>
              <a:xfrm>
                <a:off x="3824280" y="1833480"/>
                <a:ext cx="565920" cy="2304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77280" y="2021040"/>
                <a:ext cx="564480" cy="1760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337640" y="2141280"/>
                <a:ext cx="455760" cy="11376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53640" y="2039400"/>
                <a:ext cx="505080" cy="1778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645800" y="1816920"/>
                <a:ext cx="596520" cy="2700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997440" y="1737720"/>
                <a:ext cx="440640" cy="1681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295160" y="1713240"/>
                <a:ext cx="445680" cy="1681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00640" y="1728000"/>
                <a:ext cx="744840" cy="1728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165920" y="1806840"/>
                <a:ext cx="743040" cy="34776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4266000" y="185904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uturaA Md BT"/>
              </a:rPr>
              <a:t>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9080" y="3309840"/>
            <a:ext cx="473040" cy="238320"/>
          </a:xfrm>
          <a:prstGeom prst="rect">
            <a:avLst/>
          </a:prstGeom>
          <a:solidFill>
            <a:srgbClr val="ccffcc"/>
          </a:solidFill>
          <a:ln w="12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372440" y="3309840"/>
            <a:ext cx="473040" cy="238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4"/>
          <a:stretch/>
        </p:blipFill>
        <p:spPr>
          <a:xfrm>
            <a:off x="1111320" y="1636560"/>
            <a:ext cx="431640" cy="52560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 flipV="1">
            <a:off x="3048120" y="3124080"/>
            <a:ext cx="3268440" cy="1214640"/>
          </a:xfrm>
          <a:custGeom>
            <a:avLst/>
            <a:gdLst/>
            <a:ahLst/>
            <a:rect l="l" t="t" r="r" b="b"/>
            <a:pathLst>
              <a:path w="1825" h="241">
                <a:moveTo>
                  <a:pt x="0" y="192"/>
                </a:moveTo>
                <a:lnTo>
                  <a:pt x="432" y="0"/>
                </a:lnTo>
                <a:lnTo>
                  <a:pt x="1248" y="0"/>
                </a:lnTo>
                <a:lnTo>
                  <a:pt x="1824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811680" y="4125960"/>
            <a:ext cx="1491480" cy="529560"/>
            <a:chOff x="3811680" y="4125960"/>
            <a:chExt cx="1491480" cy="529560"/>
          </a:xfrm>
        </p:grpSpPr>
        <p:grpSp>
          <p:nvGrpSpPr>
            <p:cNvPr id="1290" name=""/>
            <p:cNvGrpSpPr/>
            <p:nvPr/>
          </p:nvGrpSpPr>
          <p:grpSpPr>
            <a:xfrm>
              <a:off x="3818520" y="4142160"/>
              <a:ext cx="1484640" cy="513360"/>
              <a:chOff x="3818520" y="4142160"/>
              <a:chExt cx="1484640" cy="513360"/>
            </a:xfrm>
          </p:grpSpPr>
          <p:sp>
            <p:nvSpPr>
              <p:cNvPr id="1291" name=""/>
              <p:cNvSpPr/>
              <p:nvPr/>
            </p:nvSpPr>
            <p:spPr>
              <a:xfrm>
                <a:off x="4333680" y="4142160"/>
                <a:ext cx="638640" cy="2088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983040" y="4196160"/>
                <a:ext cx="474120" cy="2142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818520" y="4323240"/>
                <a:ext cx="323280" cy="17208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915720" y="4415040"/>
                <a:ext cx="487800" cy="1764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279320" y="4440240"/>
                <a:ext cx="741600" cy="21528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766400" y="4206240"/>
                <a:ext cx="468000" cy="1602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850640" y="4320000"/>
                <a:ext cx="452520" cy="1512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802040" y="4353120"/>
                <a:ext cx="446760" cy="2682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078800" y="4263480"/>
                <a:ext cx="963720" cy="27504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3811680" y="4125960"/>
              <a:ext cx="1457280" cy="513360"/>
              <a:chOff x="3811680" y="4125960"/>
              <a:chExt cx="1457280" cy="513360"/>
            </a:xfrm>
          </p:grpSpPr>
          <p:sp>
            <p:nvSpPr>
              <p:cNvPr id="1301" name=""/>
              <p:cNvSpPr/>
              <p:nvPr/>
            </p:nvSpPr>
            <p:spPr>
              <a:xfrm>
                <a:off x="4319640" y="4125960"/>
                <a:ext cx="621360" cy="20412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963240" y="4183560"/>
                <a:ext cx="473760" cy="20412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11680" y="4313520"/>
                <a:ext cx="307800" cy="16452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908880" y="4390920"/>
                <a:ext cx="479520" cy="18180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265640" y="4424040"/>
                <a:ext cx="728640" cy="21528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746240" y="4190040"/>
                <a:ext cx="452520" cy="15804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816440" y="4297320"/>
                <a:ext cx="452520" cy="16128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766400" y="4333320"/>
                <a:ext cx="460800" cy="26928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79160" y="4249440"/>
                <a:ext cx="942120" cy="268560"/>
              </a:xfrm>
              <a:prstGeom prst="ellipse">
                <a:avLst/>
              </a:prstGeom>
              <a:solidFill>
                <a:srgbClr val="f8f8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0" name=""/>
          <p:cNvSpPr/>
          <p:nvPr/>
        </p:nvSpPr>
        <p:spPr>
          <a:xfrm>
            <a:off x="4339800" y="418140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FuturaA Md BT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03440" y="5459400"/>
            <a:ext cx="78786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438640" y="3733920"/>
            <a:ext cx="7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A Md BT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QUEMA DE LA TELEFO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43960" y="3733920"/>
            <a:ext cx="7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uturaA Md BT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5"/>
          <a:stretch/>
        </p:blipFill>
        <p:spPr>
          <a:xfrm>
            <a:off x="2438280" y="2590920"/>
            <a:ext cx="735120" cy="106668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893880" y="4952880"/>
            <a:ext cx="7583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uturaA Md B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uturaA Md BT"/>
              </a:rPr>
              <a:t>Se adiciona a las centrales interfaces y protocolos de datos: Ethernet, IP, F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139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QUEMA DE TELEFONIA SOBRE IP -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3492360" y="3284640"/>
            <a:ext cx="2232000" cy="1468440"/>
            <a:chOff x="3492360" y="3284640"/>
            <a:chExt cx="2232000" cy="1468440"/>
          </a:xfrm>
        </p:grpSpPr>
        <p:sp>
          <p:nvSpPr>
            <p:cNvPr id="1320" name=""/>
            <p:cNvSpPr/>
            <p:nvPr/>
          </p:nvSpPr>
          <p:spPr>
            <a:xfrm>
              <a:off x="3492360" y="3284640"/>
              <a:ext cx="2232000" cy="14684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6720" y="3716640"/>
              <a:ext cx="1527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WAN DAT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P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flipH="1">
            <a:off x="4887720" y="740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240760" y="7400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111360" y="702000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468360" y="1627200"/>
            <a:ext cx="2231640" cy="1829880"/>
            <a:chOff x="468360" y="1627200"/>
            <a:chExt cx="2231640" cy="1829880"/>
          </a:xfrm>
        </p:grpSpPr>
        <p:sp>
          <p:nvSpPr>
            <p:cNvPr id="1326" name=""/>
            <p:cNvSpPr/>
            <p:nvPr/>
          </p:nvSpPr>
          <p:spPr>
            <a:xfrm>
              <a:off x="468360" y="1627200"/>
              <a:ext cx="2231640" cy="18298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73440" y="2462400"/>
              <a:ext cx="11498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8" name=""/>
          <p:cNvGraphicFramePr/>
          <p:nvPr/>
        </p:nvGraphicFramePr>
        <p:xfrm>
          <a:off x="973080" y="1844640"/>
          <a:ext cx="4460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84464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1908000" y="1844640"/>
          <a:ext cx="44640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1844640"/>
                    <a:ext cx="446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"/>
          <p:cNvGraphicFramePr/>
          <p:nvPr/>
        </p:nvGraphicFramePr>
        <p:xfrm>
          <a:off x="1476360" y="2852640"/>
          <a:ext cx="4460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285264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"/>
          <p:cNvSpPr/>
          <p:nvPr/>
        </p:nvSpPr>
        <p:spPr>
          <a:xfrm flipH="1" flipV="1">
            <a:off x="1115640" y="2418840"/>
            <a:ext cx="360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1908000" y="249192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405080" y="21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468360" y="1195560"/>
          <a:ext cx="3603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119556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"/>
          <p:cNvSpPr/>
          <p:nvPr/>
        </p:nvSpPr>
        <p:spPr>
          <a:xfrm>
            <a:off x="757080" y="1555920"/>
            <a:ext cx="287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0" name=""/>
          <p:cNvGraphicFramePr/>
          <p:nvPr/>
        </p:nvGraphicFramePr>
        <p:xfrm>
          <a:off x="1116000" y="1123920"/>
          <a:ext cx="36036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112392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2" name=""/>
          <p:cNvSpPr/>
          <p:nvPr/>
        </p:nvSpPr>
        <p:spPr>
          <a:xfrm flipH="1">
            <a:off x="1189080" y="148428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757080" y="3643200"/>
          <a:ext cx="36036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7080" y="3643200"/>
                    <a:ext cx="36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 flipV="1">
            <a:off x="1044720" y="350028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629080" y="3355920"/>
            <a:ext cx="477360" cy="728640"/>
            <a:chOff x="2629080" y="3355920"/>
            <a:chExt cx="477360" cy="728640"/>
          </a:xfrm>
        </p:grpSpPr>
        <p:sp>
          <p:nvSpPr>
            <p:cNvPr id="1347" name=""/>
            <p:cNvSpPr/>
            <p:nvPr/>
          </p:nvSpPr>
          <p:spPr>
            <a:xfrm>
              <a:off x="3047400" y="335592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29080" y="342468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65440" y="345996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59680" y="390888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784960" y="390888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08440" y="390888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755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061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370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7694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8000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3104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86200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9296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239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5632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87280" y="356472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02160" y="396108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29960" y="39610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39400" y="396108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30520" y="336420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625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935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2448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75688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8784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880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497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88036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113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9437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74320" y="356472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"/>
          <p:cNvSpPr/>
          <p:nvPr/>
        </p:nvSpPr>
        <p:spPr>
          <a:xfrm>
            <a:off x="3060720" y="3860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908000" y="3500280"/>
            <a:ext cx="721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486160" y="4076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557440" y="5156280"/>
            <a:ext cx="477360" cy="728640"/>
            <a:chOff x="2557440" y="5156280"/>
            <a:chExt cx="477360" cy="728640"/>
          </a:xfrm>
        </p:grpSpPr>
        <p:sp>
          <p:nvSpPr>
            <p:cNvPr id="1383" name=""/>
            <p:cNvSpPr/>
            <p:nvPr/>
          </p:nvSpPr>
          <p:spPr>
            <a:xfrm>
              <a:off x="2975760" y="515628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57440" y="522504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93800" y="526032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88040" y="570924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13320" y="570924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36800" y="570924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038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344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654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978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284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5940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9036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82132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522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8468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915640" y="536508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30520" y="576144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58320" y="5761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67760" y="576144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558880" y="516456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909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218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5284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8524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1620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4716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781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0872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396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20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902680" y="536508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/>
          <p:cNvSpPr/>
          <p:nvPr/>
        </p:nvSpPr>
        <p:spPr>
          <a:xfrm flipV="1">
            <a:off x="2989440" y="4579560"/>
            <a:ext cx="718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413080" y="5877000"/>
            <a:ext cx="6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7" name=""/>
          <p:cNvGraphicFramePr/>
          <p:nvPr/>
        </p:nvGraphicFramePr>
        <p:xfrm>
          <a:off x="1549440" y="5011560"/>
          <a:ext cx="36036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9440" y="5011560"/>
                    <a:ext cx="36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9" name=""/>
          <p:cNvSpPr/>
          <p:nvPr/>
        </p:nvSpPr>
        <p:spPr>
          <a:xfrm>
            <a:off x="1836720" y="52275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1549440" y="6019920"/>
          <a:ext cx="36036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49440" y="601992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 flipV="1">
            <a:off x="1765440" y="558756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4645080" y="5227560"/>
            <a:ext cx="477360" cy="728640"/>
            <a:chOff x="4645080" y="5227560"/>
            <a:chExt cx="477360" cy="728640"/>
          </a:xfrm>
        </p:grpSpPr>
        <p:sp>
          <p:nvSpPr>
            <p:cNvPr id="1424" name=""/>
            <p:cNvSpPr/>
            <p:nvPr/>
          </p:nvSpPr>
          <p:spPr>
            <a:xfrm>
              <a:off x="5063400" y="522756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645080" y="529632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681440" y="533160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675680" y="57805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800960" y="578052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924440" y="57805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915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7221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7530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854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160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4704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87800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90896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399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7232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03280" y="54363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18160" y="583272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45960" y="5832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55400" y="58327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46520" y="523584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5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095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74048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7288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80384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83480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657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89636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9273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597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990320" y="54363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6" name=""/>
          <p:cNvSpPr/>
          <p:nvPr/>
        </p:nvSpPr>
        <p:spPr>
          <a:xfrm>
            <a:off x="4645080" y="4724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278240" y="601992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6372360" y="3213000"/>
            <a:ext cx="1366560" cy="863640"/>
            <a:chOff x="6372360" y="3213000"/>
            <a:chExt cx="1366560" cy="863640"/>
          </a:xfrm>
        </p:grpSpPr>
        <p:sp>
          <p:nvSpPr>
            <p:cNvPr id="1459" name=""/>
            <p:cNvSpPr/>
            <p:nvPr/>
          </p:nvSpPr>
          <p:spPr>
            <a:xfrm>
              <a:off x="6372360" y="3213000"/>
              <a:ext cx="136656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30920" y="3530520"/>
              <a:ext cx="93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6443640" y="4221000"/>
            <a:ext cx="1366920" cy="863640"/>
            <a:chOff x="6443640" y="4221000"/>
            <a:chExt cx="1366920" cy="863640"/>
          </a:xfrm>
        </p:grpSpPr>
        <p:sp>
          <p:nvSpPr>
            <p:cNvPr id="1462" name=""/>
            <p:cNvSpPr/>
            <p:nvPr/>
          </p:nvSpPr>
          <p:spPr>
            <a:xfrm>
              <a:off x="6443640" y="4221000"/>
              <a:ext cx="136692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802560" y="4538520"/>
              <a:ext cx="936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H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3059280" y="1341360"/>
            <a:ext cx="3528360" cy="1726920"/>
            <a:chOff x="3059280" y="1341360"/>
            <a:chExt cx="3528360" cy="1726920"/>
          </a:xfrm>
        </p:grpSpPr>
        <p:sp>
          <p:nvSpPr>
            <p:cNvPr id="1465" name=""/>
            <p:cNvSpPr/>
            <p:nvPr/>
          </p:nvSpPr>
          <p:spPr>
            <a:xfrm>
              <a:off x="3059280" y="1341360"/>
              <a:ext cx="3528360" cy="17269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857400" y="1849320"/>
              <a:ext cx="1259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 flipH="1" flipV="1">
            <a:off x="5651280" y="4149360"/>
            <a:ext cx="865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580000" y="378936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4716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780000" y="26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58160" y="2565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7164360" y="5373720"/>
          <a:ext cx="576360" cy="495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164360" y="5373720"/>
                    <a:ext cx="57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4" name=""/>
          <p:cNvSpPr/>
          <p:nvPr/>
        </p:nvSpPr>
        <p:spPr>
          <a:xfrm>
            <a:off x="7308720" y="501336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5" name=""/>
          <p:cNvGraphicFramePr/>
          <p:nvPr/>
        </p:nvGraphicFramePr>
        <p:xfrm>
          <a:off x="7667640" y="2565360"/>
          <a:ext cx="576360" cy="495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7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667640" y="2565360"/>
                    <a:ext cx="57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7" name=""/>
          <p:cNvSpPr/>
          <p:nvPr/>
        </p:nvSpPr>
        <p:spPr>
          <a:xfrm flipV="1">
            <a:off x="7451640" y="3068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692360" y="836640"/>
            <a:ext cx="6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63640" y="3645000"/>
            <a:ext cx="6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 es solo uno de los posibles transpor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quieren otros compo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s para integrar la telefonía tradicional (Plantas y Teléfonos) a la red de datos.  Permite la entrega de Voz y Señ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canismos de codificación/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canismos de transporte de la voz y la señalización:  IP, Frame Relay , ATM,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765360" y="2743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1486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8" name=""/>
          <p:cNvSpPr/>
          <p:nvPr/>
        </p:nvSpPr>
        <p:spPr>
          <a:xfrm>
            <a:off x="1684440" y="2514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600200" y="2971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018200" y="23623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543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1495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7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8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9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1501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3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4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5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 flipV="1">
            <a:off x="1981080" y="3200400"/>
            <a:ext cx="5335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908720" y="51814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143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295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2742840" y="6093000"/>
            <a:ext cx="676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300720" y="609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498480" y="573408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NSPORTE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OZ Y SEÑ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 flipV="1">
            <a:off x="2514240" y="30477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96200" y="4219560"/>
            <a:ext cx="22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DIFIC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PRE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6" name=""/>
          <p:cNvGraphicFramePr/>
          <p:nvPr/>
        </p:nvGraphicFramePr>
        <p:xfrm>
          <a:off x="7308720" y="3141720"/>
          <a:ext cx="45720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8720" y="3141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8" name=""/>
          <p:cNvGraphicFramePr/>
          <p:nvPr/>
        </p:nvGraphicFramePr>
        <p:xfrm>
          <a:off x="7885080" y="3141720"/>
          <a:ext cx="457200" cy="380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885080" y="3141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0" name=""/>
          <p:cNvGraphicFramePr/>
          <p:nvPr/>
        </p:nvGraphicFramePr>
        <p:xfrm>
          <a:off x="228600" y="3276720"/>
          <a:ext cx="457200" cy="380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2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3276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2" name=""/>
          <p:cNvGraphicFramePr/>
          <p:nvPr/>
        </p:nvGraphicFramePr>
        <p:xfrm>
          <a:off x="228600" y="3809880"/>
          <a:ext cx="457200" cy="38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4" name=""/>
          <p:cNvGraphicFramePr/>
          <p:nvPr/>
        </p:nvGraphicFramePr>
        <p:xfrm>
          <a:off x="228600" y="4343400"/>
          <a:ext cx="45720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" y="4343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6" name=""/>
          <p:cNvSpPr/>
          <p:nvPr/>
        </p:nvSpPr>
        <p:spPr>
          <a:xfrm>
            <a:off x="60948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09480" y="3962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609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028000" y="285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8000" y="2852640"/>
            <a:ext cx="360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619280" y="2997000"/>
            <a:ext cx="57636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ndo de la computación adopta interfaces del mundo de la telefon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XS/F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.703 PARA E1/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DSI: Básico y Prim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ndo de la Telefonía adopta interfaces y protocolos del mundo de la Compu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CP/IP sobre Eth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operativos como Un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TERFACES FXS/FX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Interface telefónica análog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FXS (Foreign eXchange Station): Es la interface hacia el teléfono. Genera ring, voltaje y el tono de llamado. Simula una líne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FXO (Foreign eXchange Office): Simula al teléfono para la cent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Típicamente en conector RJ-11 (Registered Jack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imes New Roman"/>
              </a:rPr>
              <a:t>Ventaja: No se requieren tarjetas especiales en el lado de la planta telefónica ya que puedo usar troncales o extension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icialmente plataforma de COMPUTO y TELEFÓNIA totalmente independientes, cada uno con sus requerimi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efoní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áfico sensible a los retar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de transferencia pequeñ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ut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áfico no tan sensible a los retardos (generalme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de transferencia gra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rge entonces la idea de una plataforma única que permita soportar los requerimientos de ambos mun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 FXS/F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73512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8" name=""/>
          <p:cNvGraphicFramePr/>
          <p:nvPr/>
        </p:nvGraphicFramePr>
        <p:xfrm>
          <a:off x="7772400" y="3581280"/>
          <a:ext cx="45720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35812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"/>
          <p:cNvSpPr/>
          <p:nvPr/>
        </p:nvSpPr>
        <p:spPr>
          <a:xfrm>
            <a:off x="689400" y="3276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3352680" y="2133720"/>
            <a:ext cx="3276360" cy="2361240"/>
            <a:chOff x="3352680" y="2133720"/>
            <a:chExt cx="3276360" cy="2361240"/>
          </a:xfrm>
        </p:grpSpPr>
        <p:sp>
          <p:nvSpPr>
            <p:cNvPr id="1542" name=""/>
            <p:cNvSpPr/>
            <p:nvPr/>
          </p:nvSpPr>
          <p:spPr>
            <a:xfrm>
              <a:off x="3352680" y="2133720"/>
              <a:ext cx="3276360" cy="23612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093560" y="321192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4" name=""/>
          <p:cNvGraphicFramePr/>
          <p:nvPr/>
        </p:nvGraphicFramePr>
        <p:xfrm>
          <a:off x="7238880" y="3581280"/>
          <a:ext cx="4572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35812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6" name=""/>
          <p:cNvSpPr/>
          <p:nvPr/>
        </p:nvSpPr>
        <p:spPr>
          <a:xfrm>
            <a:off x="1608120" y="30481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523880" y="3505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942240" y="28954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467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9718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629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457200" y="1219320"/>
            <a:ext cx="3048120" cy="914400"/>
            <a:chOff x="457200" y="1219320"/>
            <a:chExt cx="3048120" cy="914400"/>
          </a:xfrm>
        </p:grpSpPr>
        <p:pic>
          <p:nvPicPr>
            <p:cNvPr id="1553" name="" descr=""/>
            <p:cNvPicPr/>
            <p:nvPr/>
          </p:nvPicPr>
          <p:blipFill>
            <a:blip r:embed="rId6"/>
            <a:stretch/>
          </p:blipFill>
          <p:spPr>
            <a:xfrm>
              <a:off x="45720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>
              <a:off x="685800" y="2133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5" name="" descr=""/>
            <p:cNvPicPr/>
            <p:nvPr/>
          </p:nvPicPr>
          <p:blipFill>
            <a:blip r:embed="rId7"/>
            <a:stretch/>
          </p:blipFill>
          <p:spPr>
            <a:xfrm>
              <a:off x="144792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8"/>
            <a:stretch/>
          </p:blipFill>
          <p:spPr>
            <a:xfrm>
              <a:off x="251460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7" name=""/>
          <p:cNvSpPr/>
          <p:nvPr/>
        </p:nvSpPr>
        <p:spPr>
          <a:xfrm>
            <a:off x="2133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5867280" y="1066680"/>
            <a:ext cx="3048120" cy="914400"/>
            <a:chOff x="5867280" y="1066680"/>
            <a:chExt cx="3048120" cy="914400"/>
          </a:xfrm>
        </p:grpSpPr>
        <p:pic>
          <p:nvPicPr>
            <p:cNvPr id="1559" name="" descr=""/>
            <p:cNvPicPr/>
            <p:nvPr/>
          </p:nvPicPr>
          <p:blipFill>
            <a:blip r:embed="rId9"/>
            <a:stretch/>
          </p:blipFill>
          <p:spPr>
            <a:xfrm>
              <a:off x="5867280" y="106668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"/>
            <p:cNvSpPr/>
            <p:nvPr/>
          </p:nvSpPr>
          <p:spPr>
            <a:xfrm>
              <a:off x="6095880" y="19810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1" name="" descr=""/>
            <p:cNvPicPr/>
            <p:nvPr/>
          </p:nvPicPr>
          <p:blipFill>
            <a:blip r:embed="rId10"/>
            <a:stretch/>
          </p:blipFill>
          <p:spPr>
            <a:xfrm>
              <a:off x="6858000" y="106668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11"/>
            <a:stretch/>
          </p:blipFill>
          <p:spPr>
            <a:xfrm>
              <a:off x="7924680" y="106668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3" name=""/>
          <p:cNvSpPr/>
          <p:nvPr/>
        </p:nvSpPr>
        <p:spPr>
          <a:xfrm>
            <a:off x="762012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9246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2057400" y="3733560"/>
            <a:ext cx="3808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362320" y="495288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400800" y="358092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22800" y="4724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66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219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371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34600" y="54100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76320" y="3809880"/>
          <a:ext cx="457200" cy="381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32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5" name=""/>
          <p:cNvSpPr/>
          <p:nvPr/>
        </p:nvSpPr>
        <p:spPr>
          <a:xfrm>
            <a:off x="5335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20" y="4191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39960" y="3962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773120" y="3962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50984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1547640" y="349992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 FXS/FXO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734760" cy="106704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/>
          <p:nvPr/>
        </p:nvSpPr>
        <p:spPr>
          <a:xfrm>
            <a:off x="460800" y="3276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3124080" y="2133720"/>
            <a:ext cx="3276360" cy="2361240"/>
            <a:chOff x="3124080" y="2133720"/>
            <a:chExt cx="3276360" cy="2361240"/>
          </a:xfrm>
        </p:grpSpPr>
        <p:sp>
          <p:nvSpPr>
            <p:cNvPr id="1585" name=""/>
            <p:cNvSpPr/>
            <p:nvPr/>
          </p:nvSpPr>
          <p:spPr>
            <a:xfrm>
              <a:off x="3124080" y="2133720"/>
              <a:ext cx="3276360" cy="23612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864960" y="321192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1379520" y="30481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1447920" y="3505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713640" y="28954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2388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00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380880" y="1219320"/>
            <a:ext cx="3048120" cy="914400"/>
            <a:chOff x="380880" y="1219320"/>
            <a:chExt cx="3048120" cy="914400"/>
          </a:xfrm>
        </p:grpSpPr>
        <p:pic>
          <p:nvPicPr>
            <p:cNvPr id="159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5" name=""/>
            <p:cNvSpPr/>
            <p:nvPr/>
          </p:nvSpPr>
          <p:spPr>
            <a:xfrm>
              <a:off x="609480" y="2133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6" name="" descr=""/>
            <p:cNvPicPr/>
            <p:nvPr/>
          </p:nvPicPr>
          <p:blipFill>
            <a:blip r:embed="rId3"/>
            <a:stretch/>
          </p:blipFill>
          <p:spPr>
            <a:xfrm>
              <a:off x="137160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4"/>
            <a:stretch/>
          </p:blipFill>
          <p:spPr>
            <a:xfrm>
              <a:off x="243828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8" name=""/>
          <p:cNvSpPr/>
          <p:nvPr/>
        </p:nvSpPr>
        <p:spPr>
          <a:xfrm>
            <a:off x="1905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6095880" y="1371600"/>
            <a:ext cx="3048120" cy="914400"/>
            <a:chOff x="6095880" y="1371600"/>
            <a:chExt cx="3048120" cy="914400"/>
          </a:xfrm>
        </p:grpSpPr>
        <p:pic>
          <p:nvPicPr>
            <p:cNvPr id="1600" name="" descr=""/>
            <p:cNvPicPr/>
            <p:nvPr/>
          </p:nvPicPr>
          <p:blipFill>
            <a:blip r:embed="rId5"/>
            <a:stretch/>
          </p:blipFill>
          <p:spPr>
            <a:xfrm>
              <a:off x="609588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"/>
            <p:cNvSpPr/>
            <p:nvPr/>
          </p:nvSpPr>
          <p:spPr>
            <a:xfrm>
              <a:off x="6324480" y="22860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2" name="" descr=""/>
            <p:cNvPicPr/>
            <p:nvPr/>
          </p:nvPicPr>
          <p:blipFill>
            <a:blip r:embed="rId6"/>
            <a:stretch/>
          </p:blipFill>
          <p:spPr>
            <a:xfrm>
              <a:off x="708660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3" name="" descr=""/>
            <p:cNvPicPr/>
            <p:nvPr/>
          </p:nvPicPr>
          <p:blipFill>
            <a:blip r:embed="rId7"/>
            <a:stretch/>
          </p:blipFill>
          <p:spPr>
            <a:xfrm>
              <a:off x="815328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4" name=""/>
          <p:cNvSpPr/>
          <p:nvPr/>
        </p:nvSpPr>
        <p:spPr>
          <a:xfrm>
            <a:off x="73915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6960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 flipV="1">
            <a:off x="1828440" y="373356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286000" y="48006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5943600" y="35812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952520" y="457200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ran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38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990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143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06000" y="541008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8"/>
          <a:stretch/>
        </p:blipFill>
        <p:spPr>
          <a:xfrm>
            <a:off x="7086600" y="3886200"/>
            <a:ext cx="73512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5" name=""/>
          <p:cNvGraphicFramePr/>
          <p:nvPr/>
        </p:nvGraphicFramePr>
        <p:xfrm>
          <a:off x="8458200" y="3962520"/>
          <a:ext cx="457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58200" y="39625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7" name=""/>
          <p:cNvSpPr/>
          <p:nvPr/>
        </p:nvSpPr>
        <p:spPr>
          <a:xfrm>
            <a:off x="731520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4674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201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782760" y="54864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7848720" y="4190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76320" y="3809880"/>
          <a:ext cx="4572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457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20" y="4191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163640" y="3429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97160" y="3429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04920" y="499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7742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81550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8458200" y="4572000"/>
          <a:ext cx="45720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58200" y="4572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"/>
          <p:cNvSpPr/>
          <p:nvPr/>
        </p:nvSpPr>
        <p:spPr>
          <a:xfrm>
            <a:off x="7848720" y="4572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319200" y="6156360"/>
            <a:ext cx="58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ere DISA (Direct Inward System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Operadora para salir a troncales locales desde PB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1476360" y="349992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nterface telefónica para conexión entre conmutad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ombre derivado de los hilos E: Ear (Recibe), M: Mouth (Transmite)  para señalización: cuelgue, descuelgue, etc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nterface Troncal-Tronc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náloga, antigua y con muchas variantes (complej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La cantidad de hilos varía entre 4 y 8 dependiendo del tipo de interface: I, II, III, IV y V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os o cuatro hilos para señalización y dos o cuatro hilos para la voz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es confu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&amp;M 2 hil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tiliza  una interface con 2-hilos compartidos para transmitir y recibir y 2 o 4 hilos para los E y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&amp;M 4 hil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utiliza  4 hilos (2 para transmitir y 2 para recibir) y 2 o 4 hilos para  E y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requiere plan de numeración consistente entre todas las cent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la planta hace forwarding de los dígitos marcados en la fuente hacia el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odas las centrales soportan esta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be ser muy cuidadoso al elegir la interfaz tanto en el router o equipo de datos como en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en Estados Unidos se usa tipo I.  En el resto del mundo tipo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 E&amp;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2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643" name=""/>
          <p:cNvSpPr/>
          <p:nvPr/>
        </p:nvSpPr>
        <p:spPr>
          <a:xfrm>
            <a:off x="542520" y="328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3124080" y="2133720"/>
            <a:ext cx="3276360" cy="2361240"/>
            <a:chOff x="3124080" y="2133720"/>
            <a:chExt cx="3276360" cy="2361240"/>
          </a:xfrm>
        </p:grpSpPr>
        <p:sp>
          <p:nvSpPr>
            <p:cNvPr id="1645" name=""/>
            <p:cNvSpPr/>
            <p:nvPr/>
          </p:nvSpPr>
          <p:spPr>
            <a:xfrm>
              <a:off x="3124080" y="2133720"/>
              <a:ext cx="3276360" cy="23612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64960" y="321192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7" name=""/>
          <p:cNvSpPr/>
          <p:nvPr/>
        </p:nvSpPr>
        <p:spPr>
          <a:xfrm>
            <a:off x="1379520" y="30481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1447920" y="3505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713640" y="28954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2388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4008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80880" y="1219320"/>
            <a:ext cx="3048120" cy="914400"/>
            <a:chOff x="380880" y="1219320"/>
            <a:chExt cx="3048120" cy="914400"/>
          </a:xfrm>
        </p:grpSpPr>
        <p:pic>
          <p:nvPicPr>
            <p:cNvPr id="1654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>
              <a:off x="609480" y="2133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6" name="" descr=""/>
            <p:cNvPicPr/>
            <p:nvPr/>
          </p:nvPicPr>
          <p:blipFill>
            <a:blip r:embed="rId3"/>
            <a:stretch/>
          </p:blipFill>
          <p:spPr>
            <a:xfrm>
              <a:off x="137160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4"/>
            <a:stretch/>
          </p:blipFill>
          <p:spPr>
            <a:xfrm>
              <a:off x="2438280" y="121932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8" name=""/>
          <p:cNvSpPr/>
          <p:nvPr/>
        </p:nvSpPr>
        <p:spPr>
          <a:xfrm>
            <a:off x="1905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6095880" y="1371600"/>
            <a:ext cx="3048120" cy="914400"/>
            <a:chOff x="6095880" y="1371600"/>
            <a:chExt cx="3048120" cy="914400"/>
          </a:xfrm>
        </p:grpSpPr>
        <p:pic>
          <p:nvPicPr>
            <p:cNvPr id="1660" name="" descr=""/>
            <p:cNvPicPr/>
            <p:nvPr/>
          </p:nvPicPr>
          <p:blipFill>
            <a:blip r:embed="rId5"/>
            <a:stretch/>
          </p:blipFill>
          <p:spPr>
            <a:xfrm>
              <a:off x="609588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1" name=""/>
            <p:cNvSpPr/>
            <p:nvPr/>
          </p:nvSpPr>
          <p:spPr>
            <a:xfrm>
              <a:off x="6324480" y="22860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2" name="" descr=""/>
            <p:cNvPicPr/>
            <p:nvPr/>
          </p:nvPicPr>
          <p:blipFill>
            <a:blip r:embed="rId6"/>
            <a:stretch/>
          </p:blipFill>
          <p:spPr>
            <a:xfrm>
              <a:off x="708660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7"/>
            <a:stretch/>
          </p:blipFill>
          <p:spPr>
            <a:xfrm>
              <a:off x="8153280" y="1371600"/>
              <a:ext cx="91440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4" name=""/>
          <p:cNvSpPr/>
          <p:nvPr/>
        </p:nvSpPr>
        <p:spPr>
          <a:xfrm>
            <a:off x="73915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 flipV="1">
            <a:off x="1905120" y="3580920"/>
            <a:ext cx="7617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210760" y="5029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172200" y="358092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792400" y="4724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9907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43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295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8280" y="533412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8"/>
          <a:stretch/>
        </p:blipFill>
        <p:spPr>
          <a:xfrm>
            <a:off x="7086600" y="3657600"/>
            <a:ext cx="73512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4" name=""/>
          <p:cNvGraphicFramePr/>
          <p:nvPr/>
        </p:nvGraphicFramePr>
        <p:xfrm>
          <a:off x="76320" y="3809880"/>
          <a:ext cx="45720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6" name=""/>
          <p:cNvSpPr/>
          <p:nvPr/>
        </p:nvSpPr>
        <p:spPr>
          <a:xfrm>
            <a:off x="457200" y="4038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7" name=""/>
          <p:cNvGraphicFramePr/>
          <p:nvPr/>
        </p:nvGraphicFramePr>
        <p:xfrm>
          <a:off x="8153280" y="4724280"/>
          <a:ext cx="4572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3280" y="47242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9" name=""/>
          <p:cNvGraphicFramePr/>
          <p:nvPr/>
        </p:nvGraphicFramePr>
        <p:xfrm>
          <a:off x="8121600" y="3809880"/>
          <a:ext cx="45720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2160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1" name=""/>
          <p:cNvSpPr/>
          <p:nvPr/>
        </p:nvSpPr>
        <p:spPr>
          <a:xfrm>
            <a:off x="8122320" y="4191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154360" y="5105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7724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772400" y="4648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20" y="3352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S G.703 PARA E1/T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 dig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1=32 canales PCM=30 VOZ + 1 Señalización (16) + 1 Sincronismo (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1=24 canales PCM=23 VOZ + 1 Señ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ípicamente usa 4 hilos o dos coax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elve el problema de alta densidad de canales en el sitio cent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quieren esquemas de señalización como R2, MD, QSI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FACE G.7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9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87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0" name=""/>
          <p:cNvGraphicFramePr/>
          <p:nvPr/>
        </p:nvGraphicFramePr>
        <p:xfrm>
          <a:off x="7543800" y="3200400"/>
          <a:ext cx="4572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3200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2" name=""/>
          <p:cNvSpPr/>
          <p:nvPr/>
        </p:nvSpPr>
        <p:spPr>
          <a:xfrm>
            <a:off x="613080" y="4572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3124080" y="1752480"/>
            <a:ext cx="3276360" cy="2361600"/>
            <a:chOff x="3124080" y="1752480"/>
            <a:chExt cx="3276360" cy="2361600"/>
          </a:xfrm>
        </p:grpSpPr>
        <p:sp>
          <p:nvSpPr>
            <p:cNvPr id="1694" name=""/>
            <p:cNvSpPr/>
            <p:nvPr/>
          </p:nvSpPr>
          <p:spPr>
            <a:xfrm>
              <a:off x="3124080" y="1752480"/>
              <a:ext cx="327636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864960" y="2830680"/>
              <a:ext cx="118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6" name=""/>
          <p:cNvGraphicFramePr/>
          <p:nvPr/>
        </p:nvGraphicFramePr>
        <p:xfrm>
          <a:off x="7010280" y="3200400"/>
          <a:ext cx="4572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3200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8" name=""/>
          <p:cNvSpPr/>
          <p:nvPr/>
        </p:nvSpPr>
        <p:spPr>
          <a:xfrm>
            <a:off x="1379520" y="26668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14479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713640" y="2514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238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74320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609480" y="1143000"/>
            <a:ext cx="2819160" cy="685800"/>
            <a:chOff x="609480" y="1143000"/>
            <a:chExt cx="2819160" cy="685800"/>
          </a:xfrm>
        </p:grpSpPr>
        <p:pic>
          <p:nvPicPr>
            <p:cNvPr id="1705" name="" descr=""/>
            <p:cNvPicPr/>
            <p:nvPr/>
          </p:nvPicPr>
          <p:blipFill>
            <a:blip r:embed="rId6"/>
            <a:stretch/>
          </p:blipFill>
          <p:spPr>
            <a:xfrm>
              <a:off x="609480" y="1143000"/>
              <a:ext cx="845640" cy="5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>
              <a:off x="820800" y="1828800"/>
              <a:ext cx="260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7" name="" descr=""/>
            <p:cNvPicPr/>
            <p:nvPr/>
          </p:nvPicPr>
          <p:blipFill>
            <a:blip r:embed="rId7"/>
            <a:stretch/>
          </p:blipFill>
          <p:spPr>
            <a:xfrm>
              <a:off x="1525680" y="1143000"/>
              <a:ext cx="845640" cy="5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8"/>
            <a:stretch/>
          </p:blipFill>
          <p:spPr>
            <a:xfrm>
              <a:off x="2512440" y="1143000"/>
              <a:ext cx="845640" cy="5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9" name=""/>
          <p:cNvSpPr/>
          <p:nvPr/>
        </p:nvSpPr>
        <p:spPr>
          <a:xfrm>
            <a:off x="1905120" y="1752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0" name=""/>
          <p:cNvGrpSpPr/>
          <p:nvPr/>
        </p:nvGrpSpPr>
        <p:grpSpPr>
          <a:xfrm>
            <a:off x="6248520" y="990720"/>
            <a:ext cx="2590200" cy="838080"/>
            <a:chOff x="6248520" y="990720"/>
            <a:chExt cx="2590200" cy="838080"/>
          </a:xfrm>
        </p:grpSpPr>
        <p:pic>
          <p:nvPicPr>
            <p:cNvPr id="1711" name="" descr=""/>
            <p:cNvPicPr/>
            <p:nvPr/>
          </p:nvPicPr>
          <p:blipFill>
            <a:blip r:embed="rId9"/>
            <a:stretch/>
          </p:blipFill>
          <p:spPr>
            <a:xfrm>
              <a:off x="6248520" y="990720"/>
              <a:ext cx="776880" cy="7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>
              <a:off x="6442560" y="1828800"/>
              <a:ext cx="23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3" name="" descr=""/>
            <p:cNvPicPr/>
            <p:nvPr/>
          </p:nvPicPr>
          <p:blipFill>
            <a:blip r:embed="rId10"/>
            <a:stretch/>
          </p:blipFill>
          <p:spPr>
            <a:xfrm>
              <a:off x="7090200" y="990720"/>
              <a:ext cx="776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4" name="" descr=""/>
            <p:cNvPicPr/>
            <p:nvPr/>
          </p:nvPicPr>
          <p:blipFill>
            <a:blip r:embed="rId11"/>
            <a:stretch/>
          </p:blipFill>
          <p:spPr>
            <a:xfrm>
              <a:off x="7997040" y="990720"/>
              <a:ext cx="776880" cy="7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5" name=""/>
          <p:cNvSpPr/>
          <p:nvPr/>
        </p:nvSpPr>
        <p:spPr>
          <a:xfrm>
            <a:off x="739152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960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046400" y="43434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72428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" descr=""/>
          <p:cNvPicPr/>
          <p:nvPr/>
        </p:nvPicPr>
        <p:blipFill>
          <a:blip r:embed="rId12"/>
          <a:stretch/>
        </p:blipFill>
        <p:spPr>
          <a:xfrm>
            <a:off x="4267080" y="5029200"/>
            <a:ext cx="787680" cy="1143000"/>
          </a:xfrm>
          <a:prstGeom prst="rect">
            <a:avLst/>
          </a:prstGeom>
          <a:ln w="0">
            <a:noFill/>
          </a:ln>
        </p:spPr>
      </p:pic>
      <p:sp>
        <p:nvSpPr>
          <p:cNvPr id="1720" name=""/>
          <p:cNvSpPr/>
          <p:nvPr/>
        </p:nvSpPr>
        <p:spPr>
          <a:xfrm>
            <a:off x="47242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978920" y="37623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G.703 (E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55800" y="3505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X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 flipV="1">
            <a:off x="7848360" y="3048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3048120" y="487656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H="1" flipV="1">
            <a:off x="1752480" y="3352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35268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200400" y="2895480"/>
            <a:ext cx="1549440" cy="1143000"/>
          </a:xfrm>
          <a:custGeom>
            <a:avLst/>
            <a:gdLst/>
            <a:ahLst/>
            <a:rect l="l" t="t" r="r" b="b"/>
            <a:pathLst>
              <a:path w="976" h="720">
                <a:moveTo>
                  <a:pt x="0" y="0"/>
                </a:moveTo>
                <a:cubicBezTo>
                  <a:pt x="328" y="60"/>
                  <a:pt x="656" y="120"/>
                  <a:pt x="816" y="240"/>
                </a:cubicBezTo>
                <a:cubicBezTo>
                  <a:pt x="976" y="360"/>
                  <a:pt x="936" y="640"/>
                  <a:pt x="960" y="7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03800" y="40384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13"/>
          <a:stretch/>
        </p:blipFill>
        <p:spPr>
          <a:xfrm>
            <a:off x="6553080" y="4876920"/>
            <a:ext cx="787680" cy="1143000"/>
          </a:xfrm>
          <a:prstGeom prst="rect">
            <a:avLst/>
          </a:prstGeom>
          <a:ln w="0">
            <a:noFill/>
          </a:ln>
        </p:spPr>
      </p:pic>
      <p:sp>
        <p:nvSpPr>
          <p:cNvPr id="1730" name=""/>
          <p:cNvSpPr/>
          <p:nvPr/>
        </p:nvSpPr>
        <p:spPr>
          <a:xfrm>
            <a:off x="69343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819520" y="2895480"/>
            <a:ext cx="4038480" cy="1143000"/>
          </a:xfrm>
          <a:custGeom>
            <a:avLst/>
            <a:gdLst/>
            <a:ahLst/>
            <a:rect l="l" t="t" r="r" b="b"/>
            <a:pathLst>
              <a:path w="2544" h="720">
                <a:moveTo>
                  <a:pt x="0" y="0"/>
                </a:moveTo>
                <a:cubicBezTo>
                  <a:pt x="820" y="36"/>
                  <a:pt x="1640" y="72"/>
                  <a:pt x="2064" y="192"/>
                </a:cubicBezTo>
                <a:cubicBezTo>
                  <a:pt x="2488" y="312"/>
                  <a:pt x="2464" y="632"/>
                  <a:pt x="2544" y="72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392600" y="4572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25800" y="5589720"/>
            <a:ext cx="15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X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on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D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JO: Los routers tradicionales tren interfaces RDSI para transmisión de datos diferentes y no para soporte de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DS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ás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B+1D donde B=64Kbps y D=16K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imar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uropeo: 30B+1D donde B=64Kbps y D=64K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ericano: 23B+1D donde B=64Kbps y D=64K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1067040" y="0"/>
            <a:ext cx="649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 DIGITAL DE SERVICIOS 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7" name=""/>
          <p:cNvGraphicFramePr/>
          <p:nvPr/>
        </p:nvGraphicFramePr>
        <p:xfrm>
          <a:off x="2286000" y="2219400"/>
          <a:ext cx="11206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19400"/>
                    <a:ext cx="11206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9" name=""/>
          <p:cNvSpPr/>
          <p:nvPr/>
        </p:nvSpPr>
        <p:spPr>
          <a:xfrm flipV="1">
            <a:off x="1371600" y="3034800"/>
            <a:ext cx="103824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172240" y="1882800"/>
            <a:ext cx="166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NTRAL RD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5937120" y="2255760"/>
          <a:ext cx="121932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7120" y="2255760"/>
                    <a:ext cx="12193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3" name=""/>
          <p:cNvSpPr/>
          <p:nvPr/>
        </p:nvSpPr>
        <p:spPr>
          <a:xfrm>
            <a:off x="5845680" y="1920960"/>
            <a:ext cx="1668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ENTRAL RD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7162920" y="2073240"/>
            <a:ext cx="5205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086600" y="3218040"/>
            <a:ext cx="52056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429000" y="2619360"/>
            <a:ext cx="2514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3924360" y="3357720"/>
          <a:ext cx="112068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3357720"/>
                    <a:ext cx="11206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3200400" y="3086280"/>
            <a:ext cx="723960" cy="630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003640" y="3141720"/>
            <a:ext cx="1008360" cy="61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696080" y="1828800"/>
            <a:ext cx="609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4191120" y="2209320"/>
            <a:ext cx="914040" cy="304560"/>
            <a:chOff x="4191120" y="2209320"/>
            <a:chExt cx="914040" cy="304560"/>
          </a:xfrm>
        </p:grpSpPr>
        <p:grpSp>
          <p:nvGrpSpPr>
            <p:cNvPr id="1753" name=""/>
            <p:cNvGrpSpPr/>
            <p:nvPr/>
          </p:nvGrpSpPr>
          <p:grpSpPr>
            <a:xfrm>
              <a:off x="4495680" y="2209320"/>
              <a:ext cx="304560" cy="304560"/>
              <a:chOff x="4495680" y="2209320"/>
              <a:chExt cx="304560" cy="304560"/>
            </a:xfrm>
          </p:grpSpPr>
          <p:sp>
            <p:nvSpPr>
              <p:cNvPr id="1754" name=""/>
              <p:cNvSpPr/>
              <p:nvPr/>
            </p:nvSpPr>
            <p:spPr>
              <a:xfrm>
                <a:off x="4495680" y="251388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4617360" y="220932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617360" y="2209680"/>
                <a:ext cx="18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800240" y="220968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8" name=""/>
            <p:cNvGrpSpPr/>
            <p:nvPr/>
          </p:nvGrpSpPr>
          <p:grpSpPr>
            <a:xfrm>
              <a:off x="4191120" y="2209320"/>
              <a:ext cx="304560" cy="304560"/>
              <a:chOff x="4191120" y="2209320"/>
              <a:chExt cx="304560" cy="304560"/>
            </a:xfrm>
          </p:grpSpPr>
          <p:sp>
            <p:nvSpPr>
              <p:cNvPr id="1759" name=""/>
              <p:cNvSpPr/>
              <p:nvPr/>
            </p:nvSpPr>
            <p:spPr>
              <a:xfrm>
                <a:off x="4191120" y="251388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4312800" y="220932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12800" y="2209680"/>
                <a:ext cx="18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495680" y="220968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4800240" y="2209320"/>
              <a:ext cx="304920" cy="304560"/>
              <a:chOff x="4800240" y="2209320"/>
              <a:chExt cx="304920" cy="30456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00240" y="2513880"/>
                <a:ext cx="12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4922280" y="220932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922280" y="2209680"/>
                <a:ext cx="1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105160" y="220968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8" name=""/>
          <p:cNvSpPr/>
          <p:nvPr/>
        </p:nvSpPr>
        <p:spPr>
          <a:xfrm flipH="1" flipV="1">
            <a:off x="1905120" y="34290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85800" y="16002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0" y="2057400"/>
            <a:ext cx="457200" cy="380520"/>
            <a:chOff x="0" y="2057400"/>
            <a:chExt cx="457200" cy="380520"/>
          </a:xfrm>
        </p:grpSpPr>
        <p:grpSp>
          <p:nvGrpSpPr>
            <p:cNvPr id="1771" name=""/>
            <p:cNvGrpSpPr/>
            <p:nvPr/>
          </p:nvGrpSpPr>
          <p:grpSpPr>
            <a:xfrm>
              <a:off x="0" y="2220840"/>
              <a:ext cx="392760" cy="216720"/>
              <a:chOff x="0" y="2220840"/>
              <a:chExt cx="392760" cy="216720"/>
            </a:xfrm>
          </p:grpSpPr>
          <p:sp>
            <p:nvSpPr>
              <p:cNvPr id="1772" name=""/>
              <p:cNvSpPr/>
              <p:nvPr/>
            </p:nvSpPr>
            <p:spPr>
              <a:xfrm>
                <a:off x="11880" y="2250720"/>
                <a:ext cx="380880" cy="55800"/>
              </a:xfrm>
              <a:custGeom>
                <a:avLst/>
                <a:gdLst/>
                <a:ahLst/>
                <a:rect l="l" t="t" r="r" b="b"/>
                <a:pathLst>
                  <a:path w="500" h="54">
                    <a:moveTo>
                      <a:pt x="499" y="16"/>
                    </a:moveTo>
                    <a:lnTo>
                      <a:pt x="450" y="53"/>
                    </a:lnTo>
                    <a:lnTo>
                      <a:pt x="0" y="42"/>
                    </a:lnTo>
                    <a:lnTo>
                      <a:pt x="79" y="0"/>
                    </a:lnTo>
                    <a:lnTo>
                      <a:pt x="499" y="1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352960"/>
                <a:ext cx="358200" cy="84600"/>
              </a:xfrm>
              <a:custGeom>
                <a:avLst/>
                <a:gdLst/>
                <a:ahLst/>
                <a:rect l="l" t="t" r="r" b="b"/>
                <a:pathLst>
                  <a:path w="470" h="82">
                    <a:moveTo>
                      <a:pt x="464" y="20"/>
                    </a:moveTo>
                    <a:lnTo>
                      <a:pt x="469" y="81"/>
                    </a:lnTo>
                    <a:lnTo>
                      <a:pt x="22" y="55"/>
                    </a:lnTo>
                    <a:lnTo>
                      <a:pt x="0" y="0"/>
                    </a:lnTo>
                    <a:lnTo>
                      <a:pt x="464" y="2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2295000"/>
                <a:ext cx="354960" cy="79560"/>
              </a:xfrm>
              <a:custGeom>
                <a:avLst/>
                <a:gdLst/>
                <a:ahLst/>
                <a:rect l="l" t="t" r="r" b="b"/>
                <a:pathLst>
                  <a:path w="466" h="77">
                    <a:moveTo>
                      <a:pt x="465" y="76"/>
                    </a:moveTo>
                    <a:lnTo>
                      <a:pt x="0" y="56"/>
                    </a:lnTo>
                    <a:lnTo>
                      <a:pt x="16" y="0"/>
                    </a:lnTo>
                    <a:lnTo>
                      <a:pt x="465" y="11"/>
                    </a:lnTo>
                    <a:lnTo>
                      <a:pt x="465" y="7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5640" y="2220840"/>
                <a:ext cx="355680" cy="73080"/>
              </a:xfrm>
              <a:custGeom>
                <a:avLst/>
                <a:gdLst/>
                <a:ahLst/>
                <a:rect l="l" t="t" r="r" b="b"/>
                <a:pathLst>
                  <a:path w="467" h="71">
                    <a:moveTo>
                      <a:pt x="451" y="0"/>
                    </a:moveTo>
                    <a:lnTo>
                      <a:pt x="451" y="8"/>
                    </a:lnTo>
                    <a:lnTo>
                      <a:pt x="466" y="12"/>
                    </a:lnTo>
                    <a:lnTo>
                      <a:pt x="413" y="59"/>
                    </a:lnTo>
                    <a:lnTo>
                      <a:pt x="408" y="70"/>
                    </a:lnTo>
                    <a:lnTo>
                      <a:pt x="0" y="61"/>
                    </a:lnTo>
                    <a:lnTo>
                      <a:pt x="10" y="50"/>
                    </a:lnTo>
                    <a:lnTo>
                      <a:pt x="72" y="16"/>
                    </a:lnTo>
                    <a:lnTo>
                      <a:pt x="77" y="0"/>
                    </a:lnTo>
                    <a:lnTo>
                      <a:pt x="451" y="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79920" y="2184480"/>
              <a:ext cx="377280" cy="82800"/>
            </a:xfrm>
            <a:custGeom>
              <a:avLst/>
              <a:gdLst/>
              <a:ahLst/>
              <a:rect l="l" t="t" r="r" b="b"/>
              <a:pathLst>
                <a:path w="495" h="80">
                  <a:moveTo>
                    <a:pt x="494" y="0"/>
                  </a:moveTo>
                  <a:lnTo>
                    <a:pt x="90" y="0"/>
                  </a:lnTo>
                  <a:lnTo>
                    <a:pt x="0" y="72"/>
                  </a:lnTo>
                  <a:lnTo>
                    <a:pt x="409" y="79"/>
                  </a:lnTo>
                  <a:lnTo>
                    <a:pt x="494" y="0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6560" y="2112120"/>
              <a:ext cx="191160" cy="100080"/>
            </a:xfrm>
            <a:custGeom>
              <a:avLst/>
              <a:gdLst/>
              <a:ahLst/>
              <a:rect l="l" t="t" r="r" b="b"/>
              <a:pathLst>
                <a:path w="251" h="97">
                  <a:moveTo>
                    <a:pt x="230" y="96"/>
                  </a:moveTo>
                  <a:lnTo>
                    <a:pt x="250" y="1"/>
                  </a:lnTo>
                  <a:lnTo>
                    <a:pt x="40" y="0"/>
                  </a:lnTo>
                  <a:lnTo>
                    <a:pt x="0" y="96"/>
                  </a:lnTo>
                  <a:lnTo>
                    <a:pt x="230" y="9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4240" y="2267280"/>
              <a:ext cx="101880" cy="170640"/>
            </a:xfrm>
            <a:custGeom>
              <a:avLst/>
              <a:gdLst/>
              <a:ahLst/>
              <a:rect l="l" t="t" r="r" b="b"/>
              <a:pathLst>
                <a:path w="134" h="165">
                  <a:moveTo>
                    <a:pt x="1" y="37"/>
                  </a:moveTo>
                  <a:lnTo>
                    <a:pt x="0" y="104"/>
                  </a:lnTo>
                  <a:lnTo>
                    <a:pt x="5" y="164"/>
                  </a:lnTo>
                  <a:lnTo>
                    <a:pt x="133" y="26"/>
                  </a:lnTo>
                  <a:lnTo>
                    <a:pt x="133" y="17"/>
                  </a:lnTo>
                  <a:lnTo>
                    <a:pt x="60" y="95"/>
                  </a:lnTo>
                  <a:lnTo>
                    <a:pt x="50" y="0"/>
                  </a:lnTo>
                  <a:lnTo>
                    <a:pt x="1" y="37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92400" y="2184480"/>
              <a:ext cx="64440" cy="182160"/>
            </a:xfrm>
            <a:custGeom>
              <a:avLst/>
              <a:gdLst/>
              <a:ahLst/>
              <a:rect l="l" t="t" r="r" b="b"/>
              <a:pathLst>
                <a:path w="85" h="176">
                  <a:moveTo>
                    <a:pt x="9" y="175"/>
                  </a:moveTo>
                  <a:lnTo>
                    <a:pt x="84" y="95"/>
                  </a:lnTo>
                  <a:lnTo>
                    <a:pt x="84" y="0"/>
                  </a:lnTo>
                  <a:lnTo>
                    <a:pt x="0" y="80"/>
                  </a:lnTo>
                  <a:lnTo>
                    <a:pt x="9" y="175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4520" y="2066760"/>
              <a:ext cx="232920" cy="163080"/>
            </a:xfrm>
            <a:custGeom>
              <a:avLst/>
              <a:gdLst/>
              <a:ahLst/>
              <a:rect l="l" t="t" r="r" b="b"/>
              <a:pathLst>
                <a:path w="306" h="158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1" y="157"/>
                  </a:lnTo>
                  <a:lnTo>
                    <a:pt x="0" y="155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6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1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6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55160" y="2064600"/>
              <a:ext cx="233280" cy="164520"/>
            </a:xfrm>
            <a:custGeom>
              <a:avLst/>
              <a:gdLst/>
              <a:ahLst/>
              <a:rect l="l" t="t" r="r" b="b"/>
              <a:pathLst>
                <a:path w="306" h="159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0" y="158"/>
                  </a:lnTo>
                  <a:lnTo>
                    <a:pt x="0" y="156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8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7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9760" y="2057400"/>
              <a:ext cx="232560" cy="165240"/>
            </a:xfrm>
            <a:custGeom>
              <a:avLst/>
              <a:gdLst/>
              <a:ahLst/>
              <a:rect l="l" t="t" r="r" b="b"/>
              <a:pathLst>
                <a:path w="305" h="160">
                  <a:moveTo>
                    <a:pt x="264" y="23"/>
                  </a:moveTo>
                  <a:lnTo>
                    <a:pt x="257" y="38"/>
                  </a:lnTo>
                  <a:lnTo>
                    <a:pt x="251" y="56"/>
                  </a:lnTo>
                  <a:lnTo>
                    <a:pt x="210" y="159"/>
                  </a:lnTo>
                  <a:lnTo>
                    <a:pt x="0" y="15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71" y="17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304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5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4"/>
                  </a:lnTo>
                  <a:lnTo>
                    <a:pt x="269" y="17"/>
                  </a:lnTo>
                  <a:lnTo>
                    <a:pt x="266" y="19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178920" y="2079000"/>
              <a:ext cx="159480" cy="108360"/>
              <a:chOff x="178920" y="2079000"/>
              <a:chExt cx="159480" cy="108360"/>
            </a:xfrm>
          </p:grpSpPr>
          <p:sp>
            <p:nvSpPr>
              <p:cNvPr id="1784" name=""/>
              <p:cNvSpPr/>
              <p:nvPr/>
            </p:nvSpPr>
            <p:spPr>
              <a:xfrm>
                <a:off x="216000" y="207900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11320" y="20923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03040" y="211572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96920" y="212832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92240" y="213984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90080" y="215100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3960" y="217260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78920" y="2187360"/>
                <a:ext cx="12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>
              <a:off x="33480" y="2314080"/>
              <a:ext cx="25920" cy="1944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3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6040" y="2316960"/>
              <a:ext cx="24120" cy="194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0"/>
                  </a:moveTo>
                  <a:lnTo>
                    <a:pt x="0" y="17"/>
                  </a:lnTo>
                  <a:lnTo>
                    <a:pt x="26" y="18"/>
                  </a:lnTo>
                  <a:lnTo>
                    <a:pt x="31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0760" y="2319120"/>
              <a:ext cx="25200" cy="19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2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51280" y="2324520"/>
              <a:ext cx="24120" cy="205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4" y="0"/>
                  </a:moveTo>
                  <a:lnTo>
                    <a:pt x="0" y="18"/>
                  </a:lnTo>
                  <a:lnTo>
                    <a:pt x="27" y="19"/>
                  </a:lnTo>
                  <a:lnTo>
                    <a:pt x="31" y="1"/>
                  </a:lnTo>
                  <a:lnTo>
                    <a:pt x="4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64240" y="2268360"/>
              <a:ext cx="72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0" y="1523880"/>
            <a:ext cx="380520" cy="380880"/>
            <a:chOff x="0" y="1523880"/>
            <a:chExt cx="380520" cy="380880"/>
          </a:xfrm>
        </p:grpSpPr>
        <p:grpSp>
          <p:nvGrpSpPr>
            <p:cNvPr id="1798" name=""/>
            <p:cNvGrpSpPr/>
            <p:nvPr/>
          </p:nvGrpSpPr>
          <p:grpSpPr>
            <a:xfrm>
              <a:off x="72720" y="1523880"/>
              <a:ext cx="232920" cy="380880"/>
              <a:chOff x="72720" y="1523880"/>
              <a:chExt cx="232920" cy="3808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76680" y="1527120"/>
                <a:ext cx="226800" cy="377640"/>
                <a:chOff x="76680" y="1527120"/>
                <a:chExt cx="226800" cy="37764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76680" y="1527120"/>
                  <a:ext cx="225720" cy="377640"/>
                </a:xfrm>
                <a:custGeom>
                  <a:avLst/>
                  <a:gdLst>
                    <a:gd name="textAreaLeft" fmla="*/ 7920 w 225720"/>
                    <a:gd name="textAreaRight" fmla="*/ 217800 w 225720"/>
                    <a:gd name="textAreaTop" fmla="*/ 7920 h 377640"/>
                    <a:gd name="textAreaBottom" fmla="*/ 369720 h 377640"/>
                  </a:gdLst>
                  <a:ahLst/>
                  <a:rect l="textAreaLeft" t="textAreaTop" r="textAreaRight" b="textAreaBottom"/>
                  <a:pathLst>
                    <a:path w="21600" h="36115">
                      <a:moveTo>
                        <a:pt x="2688" y="0"/>
                      </a:moveTo>
                      <a:arcTo wR="2688" hR="2688" stAng="16200000" swAng="-5400000"/>
                      <a:lnTo>
                        <a:pt x="0" y="33427"/>
                      </a:lnTo>
                      <a:arcTo wR="2688" hR="2688" stAng="10800000" swAng="-5400000"/>
                      <a:lnTo>
                        <a:pt x="18912" y="36115"/>
                      </a:lnTo>
                      <a:arcTo wR="2688" hR="2688" stAng="5400000" swAng="-5400000"/>
                      <a:lnTo>
                        <a:pt x="21600" y="2688"/>
                      </a:lnTo>
                      <a:arcTo wR="2688" hR="2688" stAng="0" swAng="-5400000"/>
                      <a:close/>
                    </a:path>
                  </a:pathLst>
                </a:custGeom>
                <a:solidFill>
                  <a:srgbClr val="00e0e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76680" y="1679400"/>
                  <a:ext cx="226800" cy="54360"/>
                </a:xfrm>
                <a:prstGeom prst="rect">
                  <a:avLst/>
                </a:prstGeom>
                <a:solidFill>
                  <a:srgbClr val="0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6680" y="1706040"/>
                  <a:ext cx="226800" cy="197640"/>
                </a:xfrm>
                <a:prstGeom prst="roundRect">
                  <a:avLst>
                    <a:gd name="adj" fmla="val 12352"/>
                  </a:avLst>
                </a:prstGeom>
                <a:solidFill>
                  <a:srgbClr val="00e0e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3" name=""/>
              <p:cNvSpPr/>
              <p:nvPr/>
            </p:nvSpPr>
            <p:spPr>
              <a:xfrm>
                <a:off x="72720" y="1523880"/>
                <a:ext cx="232920" cy="152280"/>
              </a:xfrm>
              <a:custGeom>
                <a:avLst/>
                <a:gdLst/>
                <a:ahLst/>
                <a:rect l="l" t="t" r="r" b="b"/>
                <a:pathLst>
                  <a:path w="224" h="131">
                    <a:moveTo>
                      <a:pt x="53" y="129"/>
                    </a:moveTo>
                    <a:lnTo>
                      <a:pt x="53" y="48"/>
                    </a:lnTo>
                    <a:lnTo>
                      <a:pt x="0" y="23"/>
                    </a:lnTo>
                    <a:lnTo>
                      <a:pt x="1" y="19"/>
                    </a:lnTo>
                    <a:lnTo>
                      <a:pt x="3" y="14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199" y="0"/>
                    </a:lnTo>
                    <a:lnTo>
                      <a:pt x="202" y="1"/>
                    </a:lnTo>
                    <a:lnTo>
                      <a:pt x="206" y="2"/>
                    </a:lnTo>
                    <a:lnTo>
                      <a:pt x="210" y="4"/>
                    </a:lnTo>
                    <a:lnTo>
                      <a:pt x="213" y="6"/>
                    </a:lnTo>
                    <a:lnTo>
                      <a:pt x="215" y="8"/>
                    </a:lnTo>
                    <a:lnTo>
                      <a:pt x="218" y="11"/>
                    </a:lnTo>
                    <a:lnTo>
                      <a:pt x="220" y="14"/>
                    </a:lnTo>
                    <a:lnTo>
                      <a:pt x="222" y="17"/>
                    </a:lnTo>
                    <a:lnTo>
                      <a:pt x="223" y="21"/>
                    </a:lnTo>
                    <a:lnTo>
                      <a:pt x="171" y="47"/>
                    </a:lnTo>
                    <a:lnTo>
                      <a:pt x="171" y="130"/>
                    </a:lnTo>
                    <a:lnTo>
                      <a:pt x="156" y="130"/>
                    </a:lnTo>
                    <a:lnTo>
                      <a:pt x="156" y="40"/>
                    </a:lnTo>
                    <a:lnTo>
                      <a:pt x="68" y="40"/>
                    </a:lnTo>
                    <a:lnTo>
                      <a:pt x="68" y="130"/>
                    </a:lnTo>
                    <a:lnTo>
                      <a:pt x="53" y="12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136440" y="1748160"/>
              <a:ext cx="101520" cy="113400"/>
              <a:chOff x="136440" y="1748160"/>
              <a:chExt cx="101520" cy="113400"/>
            </a:xfrm>
          </p:grpSpPr>
          <p:grpSp>
            <p:nvGrpSpPr>
              <p:cNvPr id="1805" name=""/>
              <p:cNvGrpSpPr/>
              <p:nvPr/>
            </p:nvGrpSpPr>
            <p:grpSpPr>
              <a:xfrm>
                <a:off x="136440" y="1843560"/>
                <a:ext cx="22680" cy="18000"/>
                <a:chOff x="136440" y="1843560"/>
                <a:chExt cx="22680" cy="1800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136440" y="1843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36440" y="1847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8" name=""/>
              <p:cNvGrpSpPr/>
              <p:nvPr/>
            </p:nvGrpSpPr>
            <p:grpSpPr>
              <a:xfrm>
                <a:off x="175680" y="1843560"/>
                <a:ext cx="22680" cy="18000"/>
                <a:chOff x="175680" y="1843560"/>
                <a:chExt cx="22680" cy="1800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175680" y="1843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75680" y="1847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215280" y="1843560"/>
                <a:ext cx="22680" cy="18000"/>
                <a:chOff x="215280" y="1843560"/>
                <a:chExt cx="22680" cy="1800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215280" y="1843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215280" y="1847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4" name=""/>
              <p:cNvGrpSpPr/>
              <p:nvPr/>
            </p:nvGrpSpPr>
            <p:grpSpPr>
              <a:xfrm>
                <a:off x="136440" y="1811880"/>
                <a:ext cx="22680" cy="16920"/>
                <a:chOff x="136440" y="1811880"/>
                <a:chExt cx="22680" cy="1692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136440" y="1811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6440" y="1815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7" name=""/>
              <p:cNvGrpSpPr/>
              <p:nvPr/>
            </p:nvGrpSpPr>
            <p:grpSpPr>
              <a:xfrm>
                <a:off x="136440" y="1780560"/>
                <a:ext cx="22680" cy="15480"/>
                <a:chOff x="136440" y="1780560"/>
                <a:chExt cx="22680" cy="1548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136440" y="1780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36440" y="1783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136440" y="1748160"/>
                <a:ext cx="22680" cy="16920"/>
                <a:chOff x="136440" y="1748160"/>
                <a:chExt cx="22680" cy="1692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136440" y="1748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36440" y="1751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175680" y="1811880"/>
                <a:ext cx="22680" cy="16920"/>
                <a:chOff x="175680" y="1811880"/>
                <a:chExt cx="22680" cy="1692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175680" y="1811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75680" y="1815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6" name=""/>
              <p:cNvGrpSpPr/>
              <p:nvPr/>
            </p:nvGrpSpPr>
            <p:grpSpPr>
              <a:xfrm>
                <a:off x="175680" y="1780560"/>
                <a:ext cx="22680" cy="15480"/>
                <a:chOff x="175680" y="1780560"/>
                <a:chExt cx="22680" cy="15480"/>
              </a:xfrm>
            </p:grpSpPr>
            <p:sp>
              <p:nvSpPr>
                <p:cNvPr id="1827" name=""/>
                <p:cNvSpPr/>
                <p:nvPr/>
              </p:nvSpPr>
              <p:spPr>
                <a:xfrm>
                  <a:off x="175680" y="1780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175680" y="1783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9" name=""/>
              <p:cNvGrpSpPr/>
              <p:nvPr/>
            </p:nvGrpSpPr>
            <p:grpSpPr>
              <a:xfrm>
                <a:off x="175680" y="1748160"/>
                <a:ext cx="22680" cy="16920"/>
                <a:chOff x="175680" y="1748160"/>
                <a:chExt cx="22680" cy="16920"/>
              </a:xfrm>
            </p:grpSpPr>
            <p:sp>
              <p:nvSpPr>
                <p:cNvPr id="1830" name=""/>
                <p:cNvSpPr/>
                <p:nvPr/>
              </p:nvSpPr>
              <p:spPr>
                <a:xfrm>
                  <a:off x="175680" y="1748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75680" y="1751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215280" y="1811880"/>
                <a:ext cx="22680" cy="16920"/>
                <a:chOff x="215280" y="1811880"/>
                <a:chExt cx="22680" cy="1692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215280" y="1811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15280" y="1815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5" name=""/>
              <p:cNvGrpSpPr/>
              <p:nvPr/>
            </p:nvGrpSpPr>
            <p:grpSpPr>
              <a:xfrm>
                <a:off x="215280" y="1780560"/>
                <a:ext cx="22680" cy="15480"/>
                <a:chOff x="215280" y="1780560"/>
                <a:chExt cx="22680" cy="1548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215280" y="1780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15280" y="1783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8" name=""/>
              <p:cNvGrpSpPr/>
              <p:nvPr/>
            </p:nvGrpSpPr>
            <p:grpSpPr>
              <a:xfrm>
                <a:off x="215280" y="1748160"/>
                <a:ext cx="22680" cy="16920"/>
                <a:chOff x="215280" y="1748160"/>
                <a:chExt cx="22680" cy="16920"/>
              </a:xfrm>
            </p:grpSpPr>
            <p:sp>
              <p:nvSpPr>
                <p:cNvPr id="1839" name=""/>
                <p:cNvSpPr/>
                <p:nvPr/>
              </p:nvSpPr>
              <p:spPr>
                <a:xfrm>
                  <a:off x="215280" y="1748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215280" y="1751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1" name=""/>
            <p:cNvGrpSpPr/>
            <p:nvPr/>
          </p:nvGrpSpPr>
          <p:grpSpPr>
            <a:xfrm>
              <a:off x="0" y="1564200"/>
              <a:ext cx="380520" cy="105840"/>
              <a:chOff x="0" y="1564200"/>
              <a:chExt cx="380520" cy="105840"/>
            </a:xfrm>
          </p:grpSpPr>
          <p:sp>
            <p:nvSpPr>
              <p:cNvPr id="1842" name=""/>
              <p:cNvSpPr/>
              <p:nvPr/>
            </p:nvSpPr>
            <p:spPr>
              <a:xfrm>
                <a:off x="2880" y="1564200"/>
                <a:ext cx="100800" cy="105840"/>
              </a:xfrm>
              <a:prstGeom prst="ellipse">
                <a:avLst/>
              </a:prstGeom>
              <a:solidFill>
                <a:srgbClr val="0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1576800"/>
                <a:ext cx="35280" cy="79920"/>
              </a:xfrm>
              <a:custGeom>
                <a:avLst/>
                <a:gdLst/>
                <a:ahLst/>
                <a:rect l="l" t="t" r="r" b="b"/>
                <a:pathLst>
                  <a:path w="34" h="69">
                    <a:moveTo>
                      <a:pt x="33" y="9"/>
                    </a:moveTo>
                    <a:lnTo>
                      <a:pt x="33" y="59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6" y="58"/>
                    </a:lnTo>
                    <a:lnTo>
                      <a:pt x="3" y="52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5" y="0"/>
                    </a:lnTo>
                    <a:lnTo>
                      <a:pt x="33" y="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73600" y="1564200"/>
                <a:ext cx="100800" cy="105840"/>
              </a:xfrm>
              <a:prstGeom prst="ellipse">
                <a:avLst/>
              </a:prstGeom>
              <a:solidFill>
                <a:srgbClr val="0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45240" y="1576800"/>
                <a:ext cx="35280" cy="79920"/>
              </a:xfrm>
              <a:custGeom>
                <a:avLst/>
                <a:gdLst/>
                <a:ahLst/>
                <a:rect l="l" t="t" r="r" b="b"/>
                <a:pathLst>
                  <a:path w="34" h="69">
                    <a:moveTo>
                      <a:pt x="0" y="9"/>
                    </a:moveTo>
                    <a:lnTo>
                      <a:pt x="0" y="59"/>
                    </a:lnTo>
                    <a:lnTo>
                      <a:pt x="19" y="68"/>
                    </a:lnTo>
                    <a:lnTo>
                      <a:pt x="23" y="64"/>
                    </a:lnTo>
                    <a:lnTo>
                      <a:pt x="27" y="58"/>
                    </a:lnTo>
                    <a:lnTo>
                      <a:pt x="30" y="52"/>
                    </a:lnTo>
                    <a:lnTo>
                      <a:pt x="32" y="46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1" y="23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3" y="5"/>
                    </a:lnTo>
                    <a:lnTo>
                      <a:pt x="1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000" y="1590840"/>
                <a:ext cx="306000" cy="48600"/>
              </a:xfrm>
              <a:prstGeom prst="rect">
                <a:avLst/>
              </a:prstGeom>
              <a:solidFill>
                <a:srgbClr val="0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7" name=""/>
          <p:cNvSpPr/>
          <p:nvPr/>
        </p:nvSpPr>
        <p:spPr>
          <a:xfrm>
            <a:off x="7620120" y="3352680"/>
            <a:ext cx="6094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7162920" y="457200"/>
            <a:ext cx="1752120" cy="609480"/>
            <a:chOff x="7162920" y="457200"/>
            <a:chExt cx="1752120" cy="609480"/>
          </a:xfrm>
        </p:grpSpPr>
        <p:pic>
          <p:nvPicPr>
            <p:cNvPr id="1849" name="" descr=""/>
            <p:cNvPicPr/>
            <p:nvPr/>
          </p:nvPicPr>
          <p:blipFill>
            <a:blip r:embed="rId7"/>
            <a:stretch/>
          </p:blipFill>
          <p:spPr>
            <a:xfrm>
              <a:off x="7162920" y="4572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0" name="" descr=""/>
            <p:cNvPicPr/>
            <p:nvPr/>
          </p:nvPicPr>
          <p:blipFill>
            <a:blip r:embed="rId8"/>
            <a:stretch/>
          </p:blipFill>
          <p:spPr>
            <a:xfrm>
              <a:off x="7772400" y="45720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1" name="" descr=""/>
            <p:cNvPicPr/>
            <p:nvPr/>
          </p:nvPicPr>
          <p:blipFill>
            <a:blip r:embed="rId9"/>
            <a:stretch/>
          </p:blipFill>
          <p:spPr>
            <a:xfrm>
              <a:off x="8381880" y="45720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7238880" y="10666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391160" y="914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01000" y="914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610480" y="914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792468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10"/>
          <a:stretch/>
        </p:blipFill>
        <p:spPr>
          <a:xfrm>
            <a:off x="838080" y="4648320"/>
            <a:ext cx="762120" cy="65700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>
            <a:off x="762120" y="3581280"/>
            <a:ext cx="6094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80880" y="4191120"/>
            <a:ext cx="456480" cy="456120"/>
            <a:chOff x="380880" y="4191120"/>
            <a:chExt cx="456480" cy="456120"/>
          </a:xfrm>
        </p:grpSpPr>
        <p:grpSp>
          <p:nvGrpSpPr>
            <p:cNvPr id="1860" name=""/>
            <p:cNvGrpSpPr/>
            <p:nvPr/>
          </p:nvGrpSpPr>
          <p:grpSpPr>
            <a:xfrm>
              <a:off x="380880" y="4191120"/>
              <a:ext cx="456480" cy="456120"/>
              <a:chOff x="380880" y="4191120"/>
              <a:chExt cx="456480" cy="456120"/>
            </a:xfrm>
          </p:grpSpPr>
          <p:sp>
            <p:nvSpPr>
              <p:cNvPr id="1861" name=""/>
              <p:cNvSpPr/>
              <p:nvPr/>
            </p:nvSpPr>
            <p:spPr>
              <a:xfrm>
                <a:off x="397800" y="4196520"/>
                <a:ext cx="24912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28400" y="4394880"/>
                <a:ext cx="22032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3" name=""/>
              <p:cNvGrpSpPr/>
              <p:nvPr/>
            </p:nvGrpSpPr>
            <p:grpSpPr>
              <a:xfrm>
                <a:off x="380880" y="4400280"/>
                <a:ext cx="260280" cy="246240"/>
                <a:chOff x="380880" y="4400280"/>
                <a:chExt cx="260280" cy="246240"/>
              </a:xfrm>
            </p:grpSpPr>
            <p:sp>
              <p:nvSpPr>
                <p:cNvPr id="1864" name=""/>
                <p:cNvSpPr/>
                <p:nvPr/>
              </p:nvSpPr>
              <p:spPr>
                <a:xfrm>
                  <a:off x="411120" y="4448880"/>
                  <a:ext cx="22212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07520" y="4467600"/>
                  <a:ext cx="2048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380880" y="4400280"/>
                  <a:ext cx="4536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597240" y="453780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8" name=""/>
              <p:cNvSpPr/>
              <p:nvPr/>
            </p:nvSpPr>
            <p:spPr>
              <a:xfrm>
                <a:off x="612720" y="4296960"/>
                <a:ext cx="22464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8120" y="4204440"/>
                <a:ext cx="378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4240" y="4291200"/>
                <a:ext cx="21276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09680" y="4191120"/>
                <a:ext cx="2376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434160" y="4460400"/>
              <a:ext cx="160560" cy="111960"/>
              <a:chOff x="434160" y="4460400"/>
              <a:chExt cx="160560" cy="111960"/>
            </a:xfrm>
          </p:grpSpPr>
          <p:grpSp>
            <p:nvGrpSpPr>
              <p:cNvPr id="1873" name=""/>
              <p:cNvGrpSpPr/>
              <p:nvPr/>
            </p:nvGrpSpPr>
            <p:grpSpPr>
              <a:xfrm>
                <a:off x="434160" y="4460400"/>
                <a:ext cx="5040" cy="9360"/>
                <a:chOff x="434160" y="4460400"/>
                <a:chExt cx="5040" cy="9360"/>
              </a:xfrm>
            </p:grpSpPr>
            <p:sp>
              <p:nvSpPr>
                <p:cNvPr id="1874" name=""/>
                <p:cNvSpPr/>
                <p:nvPr/>
              </p:nvSpPr>
              <p:spPr>
                <a:xfrm>
                  <a:off x="434160" y="4464720"/>
                  <a:ext cx="50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434160" y="4460400"/>
                  <a:ext cx="50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474120" y="4481640"/>
                <a:ext cx="120600" cy="90720"/>
                <a:chOff x="474120" y="4481640"/>
                <a:chExt cx="120600" cy="90720"/>
              </a:xfrm>
            </p:grpSpPr>
            <p:grpSp>
              <p:nvGrpSpPr>
                <p:cNvPr id="1877" name=""/>
                <p:cNvGrpSpPr/>
                <p:nvPr/>
              </p:nvGrpSpPr>
              <p:grpSpPr>
                <a:xfrm>
                  <a:off x="474120" y="4489560"/>
                  <a:ext cx="120600" cy="82800"/>
                  <a:chOff x="474120" y="4489560"/>
                  <a:chExt cx="120600" cy="82800"/>
                </a:xfrm>
              </p:grpSpPr>
              <p:sp>
                <p:nvSpPr>
                  <p:cNvPr id="1878" name=""/>
                  <p:cNvSpPr/>
                  <p:nvPr/>
                </p:nvSpPr>
                <p:spPr>
                  <a:xfrm>
                    <a:off x="572040" y="4551480"/>
                    <a:ext cx="36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492840" y="4502880"/>
                    <a:ext cx="720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532080" y="4527000"/>
                    <a:ext cx="54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551160" y="4540320"/>
                    <a:ext cx="576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511560" y="4513680"/>
                    <a:ext cx="54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474120" y="4489560"/>
                    <a:ext cx="54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587160" y="4564800"/>
                    <a:ext cx="756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474120" y="4481640"/>
                  <a:ext cx="120240" cy="87120"/>
                  <a:chOff x="474120" y="4481640"/>
                  <a:chExt cx="120240" cy="87120"/>
                </a:xfrm>
              </p:grpSpPr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492840" y="4494960"/>
                    <a:ext cx="101520" cy="73800"/>
                    <a:chOff x="492840" y="4494960"/>
                    <a:chExt cx="101520" cy="7380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588960" y="4558680"/>
                      <a:ext cx="54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511560" y="4505760"/>
                      <a:ext cx="720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550800" y="4532400"/>
                      <a:ext cx="57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569520" y="4545360"/>
                      <a:ext cx="57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530280" y="451908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492840" y="4494960"/>
                      <a:ext cx="720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3" name=""/>
                  <p:cNvSpPr/>
                  <p:nvPr/>
                </p:nvSpPr>
                <p:spPr>
                  <a:xfrm>
                    <a:off x="474120" y="4481640"/>
                    <a:ext cx="54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94" name=""/>
          <p:cNvSpPr/>
          <p:nvPr/>
        </p:nvSpPr>
        <p:spPr>
          <a:xfrm>
            <a:off x="91440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H="1" flipV="1">
            <a:off x="761760" y="44953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685800" y="39625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H="1" flipV="1">
            <a:off x="1447920" y="22856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38080" y="2133720"/>
            <a:ext cx="609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7696080" y="1143000"/>
            <a:ext cx="456480" cy="456120"/>
            <a:chOff x="7696080" y="1143000"/>
            <a:chExt cx="456480" cy="456120"/>
          </a:xfrm>
        </p:grpSpPr>
        <p:grpSp>
          <p:nvGrpSpPr>
            <p:cNvPr id="1900" name=""/>
            <p:cNvGrpSpPr/>
            <p:nvPr/>
          </p:nvGrpSpPr>
          <p:grpSpPr>
            <a:xfrm>
              <a:off x="7696080" y="1143000"/>
              <a:ext cx="456480" cy="456120"/>
              <a:chOff x="7696080" y="1143000"/>
              <a:chExt cx="456480" cy="456120"/>
            </a:xfrm>
          </p:grpSpPr>
          <p:sp>
            <p:nvSpPr>
              <p:cNvPr id="1901" name=""/>
              <p:cNvSpPr/>
              <p:nvPr/>
            </p:nvSpPr>
            <p:spPr>
              <a:xfrm>
                <a:off x="7713000" y="1148400"/>
                <a:ext cx="249120" cy="3146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743600" y="1346760"/>
                <a:ext cx="220320" cy="18720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7696080" y="1352160"/>
                <a:ext cx="260280" cy="246240"/>
                <a:chOff x="7696080" y="1352160"/>
                <a:chExt cx="260280" cy="24624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7726320" y="1400760"/>
                  <a:ext cx="222120" cy="151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7722720" y="1419480"/>
                  <a:ext cx="204840" cy="16236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7696080" y="1352160"/>
                  <a:ext cx="45360" cy="11052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7912440" y="1489680"/>
                  <a:ext cx="43920" cy="108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8" name=""/>
              <p:cNvSpPr/>
              <p:nvPr/>
            </p:nvSpPr>
            <p:spPr>
              <a:xfrm>
                <a:off x="7927920" y="1248840"/>
                <a:ext cx="224640" cy="35028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753320" y="1156320"/>
                <a:ext cx="378000" cy="31788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39440" y="1243080"/>
                <a:ext cx="212760" cy="2581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724880" y="1143000"/>
                <a:ext cx="237600" cy="21996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7749360" y="1412280"/>
              <a:ext cx="160560" cy="111960"/>
              <a:chOff x="7749360" y="1412280"/>
              <a:chExt cx="160560" cy="111960"/>
            </a:xfrm>
          </p:grpSpPr>
          <p:grpSp>
            <p:nvGrpSpPr>
              <p:cNvPr id="1913" name=""/>
              <p:cNvGrpSpPr/>
              <p:nvPr/>
            </p:nvGrpSpPr>
            <p:grpSpPr>
              <a:xfrm>
                <a:off x="7749360" y="1412280"/>
                <a:ext cx="5040" cy="9360"/>
                <a:chOff x="7749360" y="1412280"/>
                <a:chExt cx="5040" cy="9360"/>
              </a:xfrm>
            </p:grpSpPr>
            <p:sp>
              <p:nvSpPr>
                <p:cNvPr id="1914" name=""/>
                <p:cNvSpPr/>
                <p:nvPr/>
              </p:nvSpPr>
              <p:spPr>
                <a:xfrm>
                  <a:off x="7749360" y="1416600"/>
                  <a:ext cx="5040" cy="50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7749360" y="1412280"/>
                  <a:ext cx="5040" cy="720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6" name=""/>
              <p:cNvGrpSpPr/>
              <p:nvPr/>
            </p:nvGrpSpPr>
            <p:grpSpPr>
              <a:xfrm>
                <a:off x="7789320" y="1433520"/>
                <a:ext cx="120600" cy="90720"/>
                <a:chOff x="7789320" y="1433520"/>
                <a:chExt cx="120600" cy="90720"/>
              </a:xfrm>
            </p:grpSpPr>
            <p:grpSp>
              <p:nvGrpSpPr>
                <p:cNvPr id="1917" name=""/>
                <p:cNvGrpSpPr/>
                <p:nvPr/>
              </p:nvGrpSpPr>
              <p:grpSpPr>
                <a:xfrm>
                  <a:off x="7789320" y="1441440"/>
                  <a:ext cx="120600" cy="82800"/>
                  <a:chOff x="7789320" y="1441440"/>
                  <a:chExt cx="120600" cy="8280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7887240" y="1503360"/>
                    <a:ext cx="36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7808040" y="1454760"/>
                    <a:ext cx="720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7847280" y="1478880"/>
                    <a:ext cx="54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7866360" y="1492200"/>
                    <a:ext cx="576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7826760" y="1465560"/>
                    <a:ext cx="5400" cy="100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7789320" y="1441440"/>
                    <a:ext cx="5400" cy="10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7902360" y="1516680"/>
                    <a:ext cx="7560" cy="75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5" name=""/>
                <p:cNvGrpSpPr/>
                <p:nvPr/>
              </p:nvGrpSpPr>
              <p:grpSpPr>
                <a:xfrm>
                  <a:off x="7789320" y="1433520"/>
                  <a:ext cx="120240" cy="87120"/>
                  <a:chOff x="7789320" y="1433520"/>
                  <a:chExt cx="120240" cy="87120"/>
                </a:xfrm>
              </p:grpSpPr>
              <p:grpSp>
                <p:nvGrpSpPr>
                  <p:cNvPr id="1926" name=""/>
                  <p:cNvGrpSpPr/>
                  <p:nvPr/>
                </p:nvGrpSpPr>
                <p:grpSpPr>
                  <a:xfrm>
                    <a:off x="7808040" y="1446840"/>
                    <a:ext cx="101520" cy="73800"/>
                    <a:chOff x="7808040" y="1446840"/>
                    <a:chExt cx="101520" cy="73800"/>
                  </a:xfrm>
                </p:grpSpPr>
                <p:sp>
                  <p:nvSpPr>
                    <p:cNvPr id="1927" name=""/>
                    <p:cNvSpPr/>
                    <p:nvPr/>
                  </p:nvSpPr>
                  <p:spPr>
                    <a:xfrm>
                      <a:off x="7904160" y="1510560"/>
                      <a:ext cx="54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8" name=""/>
                    <p:cNvSpPr/>
                    <p:nvPr/>
                  </p:nvSpPr>
                  <p:spPr>
                    <a:xfrm>
                      <a:off x="7826760" y="1457640"/>
                      <a:ext cx="7200" cy="12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9" name=""/>
                    <p:cNvSpPr/>
                    <p:nvPr/>
                  </p:nvSpPr>
                  <p:spPr>
                    <a:xfrm>
                      <a:off x="7866000" y="1484280"/>
                      <a:ext cx="57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7884720" y="1497240"/>
                      <a:ext cx="576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1" name=""/>
                    <p:cNvSpPr/>
                    <p:nvPr/>
                  </p:nvSpPr>
                  <p:spPr>
                    <a:xfrm>
                      <a:off x="7845480" y="1470960"/>
                      <a:ext cx="7200" cy="100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>
                      <a:off x="7808040" y="1446840"/>
                      <a:ext cx="7200" cy="10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3" name=""/>
                  <p:cNvSpPr/>
                  <p:nvPr/>
                </p:nvSpPr>
                <p:spPr>
                  <a:xfrm>
                    <a:off x="7789320" y="1433520"/>
                    <a:ext cx="54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934" name=""/>
          <p:cNvSpPr/>
          <p:nvPr/>
        </p:nvSpPr>
        <p:spPr>
          <a:xfrm>
            <a:off x="7924680" y="1066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822960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6" name=""/>
          <p:cNvGrpSpPr/>
          <p:nvPr/>
        </p:nvGrpSpPr>
        <p:grpSpPr>
          <a:xfrm>
            <a:off x="6095880" y="4495680"/>
            <a:ext cx="2819160" cy="2133360"/>
            <a:chOff x="6095880" y="4495680"/>
            <a:chExt cx="2819160" cy="2133360"/>
          </a:xfrm>
        </p:grpSpPr>
        <p:sp>
          <p:nvSpPr>
            <p:cNvPr id="1937" name=""/>
            <p:cNvSpPr/>
            <p:nvPr/>
          </p:nvSpPr>
          <p:spPr>
            <a:xfrm>
              <a:off x="6095880" y="4495680"/>
              <a:ext cx="2819160" cy="21333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212160" y="5428800"/>
              <a:ext cx="263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RED D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9" name=""/>
          <p:cNvSpPr/>
          <p:nvPr/>
        </p:nvSpPr>
        <p:spPr>
          <a:xfrm>
            <a:off x="5076720" y="4149720"/>
            <a:ext cx="1324080" cy="95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04920" y="1828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572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304920" y="4952880"/>
            <a:ext cx="380520" cy="380880"/>
            <a:chOff x="304920" y="4952880"/>
            <a:chExt cx="380520" cy="380880"/>
          </a:xfrm>
        </p:grpSpPr>
        <p:grpSp>
          <p:nvGrpSpPr>
            <p:cNvPr id="1943" name=""/>
            <p:cNvGrpSpPr/>
            <p:nvPr/>
          </p:nvGrpSpPr>
          <p:grpSpPr>
            <a:xfrm>
              <a:off x="377640" y="4952880"/>
              <a:ext cx="232920" cy="380880"/>
              <a:chOff x="377640" y="4952880"/>
              <a:chExt cx="232920" cy="38088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381600" y="4956120"/>
                <a:ext cx="226800" cy="377640"/>
                <a:chOff x="381600" y="4956120"/>
                <a:chExt cx="226800" cy="37764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381600" y="4956120"/>
                  <a:ext cx="225720" cy="377640"/>
                </a:xfrm>
                <a:custGeom>
                  <a:avLst/>
                  <a:gdLst>
                    <a:gd name="textAreaLeft" fmla="*/ 7920 w 225720"/>
                    <a:gd name="textAreaRight" fmla="*/ 217800 w 225720"/>
                    <a:gd name="textAreaTop" fmla="*/ 7920 h 377640"/>
                    <a:gd name="textAreaBottom" fmla="*/ 369720 h 377640"/>
                  </a:gdLst>
                  <a:ahLst/>
                  <a:rect l="textAreaLeft" t="textAreaTop" r="textAreaRight" b="textAreaBottom"/>
                  <a:pathLst>
                    <a:path w="21600" h="36115">
                      <a:moveTo>
                        <a:pt x="2688" y="0"/>
                      </a:moveTo>
                      <a:arcTo wR="2688" hR="2688" stAng="16200000" swAng="-5400000"/>
                      <a:lnTo>
                        <a:pt x="0" y="33427"/>
                      </a:lnTo>
                      <a:arcTo wR="2688" hR="2688" stAng="10800000" swAng="-5400000"/>
                      <a:lnTo>
                        <a:pt x="18912" y="36115"/>
                      </a:lnTo>
                      <a:arcTo wR="2688" hR="2688" stAng="5400000" swAng="-5400000"/>
                      <a:lnTo>
                        <a:pt x="21600" y="2688"/>
                      </a:lnTo>
                      <a:arcTo wR="2688" hR="2688" stAng="0" swAng="-5400000"/>
                      <a:close/>
                    </a:path>
                  </a:pathLst>
                </a:custGeom>
                <a:solidFill>
                  <a:srgbClr val="00e0e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381600" y="5108400"/>
                  <a:ext cx="226800" cy="54360"/>
                </a:xfrm>
                <a:prstGeom prst="rect">
                  <a:avLst/>
                </a:prstGeom>
                <a:solidFill>
                  <a:srgbClr val="0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381600" y="5135040"/>
                  <a:ext cx="226800" cy="197640"/>
                </a:xfrm>
                <a:prstGeom prst="roundRect">
                  <a:avLst>
                    <a:gd name="adj" fmla="val 12352"/>
                  </a:avLst>
                </a:prstGeom>
                <a:solidFill>
                  <a:srgbClr val="00e0e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8" name=""/>
              <p:cNvSpPr/>
              <p:nvPr/>
            </p:nvSpPr>
            <p:spPr>
              <a:xfrm>
                <a:off x="377640" y="4952880"/>
                <a:ext cx="232920" cy="152280"/>
              </a:xfrm>
              <a:custGeom>
                <a:avLst/>
                <a:gdLst/>
                <a:ahLst/>
                <a:rect l="l" t="t" r="r" b="b"/>
                <a:pathLst>
                  <a:path w="224" h="131">
                    <a:moveTo>
                      <a:pt x="53" y="129"/>
                    </a:moveTo>
                    <a:lnTo>
                      <a:pt x="53" y="48"/>
                    </a:lnTo>
                    <a:lnTo>
                      <a:pt x="0" y="23"/>
                    </a:lnTo>
                    <a:lnTo>
                      <a:pt x="1" y="19"/>
                    </a:lnTo>
                    <a:lnTo>
                      <a:pt x="3" y="14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199" y="0"/>
                    </a:lnTo>
                    <a:lnTo>
                      <a:pt x="202" y="1"/>
                    </a:lnTo>
                    <a:lnTo>
                      <a:pt x="206" y="2"/>
                    </a:lnTo>
                    <a:lnTo>
                      <a:pt x="210" y="4"/>
                    </a:lnTo>
                    <a:lnTo>
                      <a:pt x="213" y="6"/>
                    </a:lnTo>
                    <a:lnTo>
                      <a:pt x="215" y="8"/>
                    </a:lnTo>
                    <a:lnTo>
                      <a:pt x="218" y="11"/>
                    </a:lnTo>
                    <a:lnTo>
                      <a:pt x="220" y="14"/>
                    </a:lnTo>
                    <a:lnTo>
                      <a:pt x="222" y="17"/>
                    </a:lnTo>
                    <a:lnTo>
                      <a:pt x="223" y="21"/>
                    </a:lnTo>
                    <a:lnTo>
                      <a:pt x="171" y="47"/>
                    </a:lnTo>
                    <a:lnTo>
                      <a:pt x="171" y="130"/>
                    </a:lnTo>
                    <a:lnTo>
                      <a:pt x="156" y="130"/>
                    </a:lnTo>
                    <a:lnTo>
                      <a:pt x="156" y="40"/>
                    </a:lnTo>
                    <a:lnTo>
                      <a:pt x="68" y="40"/>
                    </a:lnTo>
                    <a:lnTo>
                      <a:pt x="68" y="130"/>
                    </a:lnTo>
                    <a:lnTo>
                      <a:pt x="53" y="12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441360" y="5177160"/>
              <a:ext cx="101520" cy="113400"/>
              <a:chOff x="441360" y="5177160"/>
              <a:chExt cx="101520" cy="113400"/>
            </a:xfrm>
          </p:grpSpPr>
          <p:grpSp>
            <p:nvGrpSpPr>
              <p:cNvPr id="1950" name=""/>
              <p:cNvGrpSpPr/>
              <p:nvPr/>
            </p:nvGrpSpPr>
            <p:grpSpPr>
              <a:xfrm>
                <a:off x="441360" y="5272560"/>
                <a:ext cx="22680" cy="18000"/>
                <a:chOff x="441360" y="5272560"/>
                <a:chExt cx="22680" cy="180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441360" y="5272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441360" y="5276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480600" y="5272560"/>
                <a:ext cx="22680" cy="18000"/>
                <a:chOff x="480600" y="5272560"/>
                <a:chExt cx="22680" cy="1800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480600" y="5272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480600" y="5276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520200" y="5272560"/>
                <a:ext cx="22680" cy="18000"/>
                <a:chOff x="520200" y="5272560"/>
                <a:chExt cx="22680" cy="1800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20200" y="527256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520200" y="527688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441360" y="5240880"/>
                <a:ext cx="22680" cy="16920"/>
                <a:chOff x="441360" y="5240880"/>
                <a:chExt cx="22680" cy="1692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441360" y="5240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441360" y="5244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441360" y="5209560"/>
                <a:ext cx="22680" cy="15480"/>
                <a:chOff x="441360" y="5209560"/>
                <a:chExt cx="22680" cy="1548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441360" y="5209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41360" y="5212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441360" y="5177160"/>
                <a:ext cx="22680" cy="16920"/>
                <a:chOff x="441360" y="5177160"/>
                <a:chExt cx="22680" cy="1692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41360" y="5177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441360" y="5180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8" name=""/>
              <p:cNvGrpSpPr/>
              <p:nvPr/>
            </p:nvGrpSpPr>
            <p:grpSpPr>
              <a:xfrm>
                <a:off x="480600" y="5240880"/>
                <a:ext cx="22680" cy="16920"/>
                <a:chOff x="480600" y="5240880"/>
                <a:chExt cx="22680" cy="16920"/>
              </a:xfrm>
            </p:grpSpPr>
            <p:sp>
              <p:nvSpPr>
                <p:cNvPr id="1969" name=""/>
                <p:cNvSpPr/>
                <p:nvPr/>
              </p:nvSpPr>
              <p:spPr>
                <a:xfrm>
                  <a:off x="480600" y="5240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80600" y="5244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480600" y="5209560"/>
                <a:ext cx="22680" cy="15480"/>
                <a:chOff x="480600" y="5209560"/>
                <a:chExt cx="22680" cy="1548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80600" y="5209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480600" y="5212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480600" y="5177160"/>
                <a:ext cx="22680" cy="16920"/>
                <a:chOff x="480600" y="5177160"/>
                <a:chExt cx="22680" cy="16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480600" y="5177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480600" y="5180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520200" y="5240880"/>
                <a:ext cx="22680" cy="16920"/>
                <a:chOff x="520200" y="5240880"/>
                <a:chExt cx="22680" cy="16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520200" y="5240880"/>
                  <a:ext cx="22680" cy="1476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520200" y="524412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520200" y="5209560"/>
                <a:ext cx="22680" cy="15480"/>
                <a:chOff x="520200" y="5209560"/>
                <a:chExt cx="22680" cy="1548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520200" y="520956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520200" y="5212800"/>
                  <a:ext cx="22680" cy="1224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520200" y="5177160"/>
                <a:ext cx="22680" cy="16920"/>
                <a:chOff x="520200" y="5177160"/>
                <a:chExt cx="22680" cy="1692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520200" y="517716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520200" y="5180400"/>
                  <a:ext cx="22680" cy="13680"/>
                </a:xfrm>
                <a:prstGeom prst="rect">
                  <a:avLst/>
                </a:prstGeom>
                <a:solidFill>
                  <a:srgbClr val="c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6" name=""/>
            <p:cNvGrpSpPr/>
            <p:nvPr/>
          </p:nvGrpSpPr>
          <p:grpSpPr>
            <a:xfrm>
              <a:off x="304920" y="4993200"/>
              <a:ext cx="380520" cy="105840"/>
              <a:chOff x="304920" y="4993200"/>
              <a:chExt cx="380520" cy="105840"/>
            </a:xfrm>
          </p:grpSpPr>
          <p:sp>
            <p:nvSpPr>
              <p:cNvPr id="1987" name=""/>
              <p:cNvSpPr/>
              <p:nvPr/>
            </p:nvSpPr>
            <p:spPr>
              <a:xfrm>
                <a:off x="307800" y="4993200"/>
                <a:ext cx="100800" cy="105840"/>
              </a:xfrm>
              <a:prstGeom prst="ellipse">
                <a:avLst/>
              </a:prstGeom>
              <a:solidFill>
                <a:srgbClr val="0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4920" y="5005800"/>
                <a:ext cx="35280" cy="79920"/>
              </a:xfrm>
              <a:custGeom>
                <a:avLst/>
                <a:gdLst/>
                <a:ahLst/>
                <a:rect l="l" t="t" r="r" b="b"/>
                <a:pathLst>
                  <a:path w="34" h="69">
                    <a:moveTo>
                      <a:pt x="33" y="9"/>
                    </a:moveTo>
                    <a:lnTo>
                      <a:pt x="33" y="59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6" y="58"/>
                    </a:lnTo>
                    <a:lnTo>
                      <a:pt x="3" y="52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5" y="0"/>
                    </a:lnTo>
                    <a:lnTo>
                      <a:pt x="33" y="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8520" y="4993200"/>
                <a:ext cx="100800" cy="105840"/>
              </a:xfrm>
              <a:prstGeom prst="ellipse">
                <a:avLst/>
              </a:prstGeom>
              <a:solidFill>
                <a:srgbClr val="0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50160" y="5005800"/>
                <a:ext cx="35280" cy="79920"/>
              </a:xfrm>
              <a:custGeom>
                <a:avLst/>
                <a:gdLst/>
                <a:ahLst/>
                <a:rect l="l" t="t" r="r" b="b"/>
                <a:pathLst>
                  <a:path w="34" h="69">
                    <a:moveTo>
                      <a:pt x="0" y="9"/>
                    </a:moveTo>
                    <a:lnTo>
                      <a:pt x="0" y="59"/>
                    </a:lnTo>
                    <a:lnTo>
                      <a:pt x="19" y="68"/>
                    </a:lnTo>
                    <a:lnTo>
                      <a:pt x="23" y="64"/>
                    </a:lnTo>
                    <a:lnTo>
                      <a:pt x="27" y="58"/>
                    </a:lnTo>
                    <a:lnTo>
                      <a:pt x="30" y="52"/>
                    </a:lnTo>
                    <a:lnTo>
                      <a:pt x="32" y="46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1" y="23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3" y="5"/>
                    </a:lnTo>
                    <a:lnTo>
                      <a:pt x="1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0920" y="5019840"/>
                <a:ext cx="306000" cy="48600"/>
              </a:xfrm>
              <a:prstGeom prst="rect">
                <a:avLst/>
              </a:prstGeom>
              <a:solidFill>
                <a:srgbClr val="0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2" name=""/>
          <p:cNvSpPr/>
          <p:nvPr/>
        </p:nvSpPr>
        <p:spPr>
          <a:xfrm flipV="1">
            <a:off x="533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1371600" y="2514240"/>
            <a:ext cx="685440" cy="304560"/>
            <a:chOff x="1371600" y="2514240"/>
            <a:chExt cx="685440" cy="304560"/>
          </a:xfrm>
        </p:grpSpPr>
        <p:grpSp>
          <p:nvGrpSpPr>
            <p:cNvPr id="1994" name=""/>
            <p:cNvGrpSpPr/>
            <p:nvPr/>
          </p:nvGrpSpPr>
          <p:grpSpPr>
            <a:xfrm>
              <a:off x="1599840" y="2514240"/>
              <a:ext cx="228240" cy="304560"/>
              <a:chOff x="1599840" y="2514240"/>
              <a:chExt cx="228240" cy="304560"/>
            </a:xfrm>
          </p:grpSpPr>
          <p:sp>
            <p:nvSpPr>
              <p:cNvPr id="1995" name=""/>
              <p:cNvSpPr/>
              <p:nvPr/>
            </p:nvSpPr>
            <p:spPr>
              <a:xfrm>
                <a:off x="1599840" y="281880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691280" y="251424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691280" y="2514600"/>
                <a:ext cx="1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828080" y="251460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1371600" y="2514240"/>
              <a:ext cx="228240" cy="304560"/>
              <a:chOff x="1371600" y="2514240"/>
              <a:chExt cx="228240" cy="304560"/>
            </a:xfrm>
          </p:grpSpPr>
          <p:sp>
            <p:nvSpPr>
              <p:cNvPr id="2000" name=""/>
              <p:cNvSpPr/>
              <p:nvPr/>
            </p:nvSpPr>
            <p:spPr>
              <a:xfrm>
                <a:off x="1371600" y="281880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1463040" y="251424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463040" y="2514600"/>
                <a:ext cx="1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599840" y="251460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1828440" y="2514240"/>
              <a:ext cx="228600" cy="304560"/>
              <a:chOff x="1828440" y="2514240"/>
              <a:chExt cx="228600" cy="304560"/>
            </a:xfrm>
          </p:grpSpPr>
          <p:sp>
            <p:nvSpPr>
              <p:cNvPr id="2005" name=""/>
              <p:cNvSpPr/>
              <p:nvPr/>
            </p:nvSpPr>
            <p:spPr>
              <a:xfrm>
                <a:off x="1828440" y="281880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19880" y="251424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919880" y="2514600"/>
                <a:ext cx="13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057040" y="2514600"/>
                <a:ext cx="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9" name=""/>
          <p:cNvGrpSpPr/>
          <p:nvPr/>
        </p:nvGrpSpPr>
        <p:grpSpPr>
          <a:xfrm>
            <a:off x="7238880" y="2362320"/>
            <a:ext cx="685440" cy="303840"/>
            <a:chOff x="7238880" y="2362320"/>
            <a:chExt cx="685440" cy="303840"/>
          </a:xfrm>
        </p:grpSpPr>
        <p:grpSp>
          <p:nvGrpSpPr>
            <p:cNvPr id="2010" name=""/>
            <p:cNvGrpSpPr/>
            <p:nvPr/>
          </p:nvGrpSpPr>
          <p:grpSpPr>
            <a:xfrm>
              <a:off x="7467120" y="2362320"/>
              <a:ext cx="228240" cy="303840"/>
              <a:chOff x="7467120" y="2362320"/>
              <a:chExt cx="228240" cy="303840"/>
            </a:xfrm>
          </p:grpSpPr>
          <p:sp>
            <p:nvSpPr>
              <p:cNvPr id="2011" name=""/>
              <p:cNvSpPr/>
              <p:nvPr/>
            </p:nvSpPr>
            <p:spPr>
              <a:xfrm>
                <a:off x="7467120" y="266616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755856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558560" y="2362320"/>
                <a:ext cx="1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69536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5" name=""/>
            <p:cNvGrpSpPr/>
            <p:nvPr/>
          </p:nvGrpSpPr>
          <p:grpSpPr>
            <a:xfrm>
              <a:off x="7238880" y="2362320"/>
              <a:ext cx="228240" cy="303840"/>
              <a:chOff x="7238880" y="2362320"/>
              <a:chExt cx="228240" cy="303840"/>
            </a:xfrm>
          </p:grpSpPr>
          <p:sp>
            <p:nvSpPr>
              <p:cNvPr id="2016" name=""/>
              <p:cNvSpPr/>
              <p:nvPr/>
            </p:nvSpPr>
            <p:spPr>
              <a:xfrm>
                <a:off x="7238880" y="266616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733032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30320" y="2362320"/>
                <a:ext cx="13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46712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7695720" y="2362320"/>
              <a:ext cx="228600" cy="303840"/>
              <a:chOff x="7695720" y="2362320"/>
              <a:chExt cx="228600" cy="303840"/>
            </a:xfrm>
          </p:grpSpPr>
          <p:sp>
            <p:nvSpPr>
              <p:cNvPr id="2021" name=""/>
              <p:cNvSpPr/>
              <p:nvPr/>
            </p:nvSpPr>
            <p:spPr>
              <a:xfrm>
                <a:off x="7695720" y="2666160"/>
                <a:ext cx="9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778716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787160" y="2362320"/>
                <a:ext cx="137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4320" y="2362320"/>
                <a:ext cx="0" cy="30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5" name=""/>
          <p:cNvSpPr/>
          <p:nvPr/>
        </p:nvSpPr>
        <p:spPr>
          <a:xfrm>
            <a:off x="5867640" y="43927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 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V="1">
            <a:off x="4716360" y="508428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541680" y="5321160"/>
            <a:ext cx="23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rto RD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ásico o Pri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6084720" y="5013360"/>
            <a:ext cx="647640" cy="863280"/>
            <a:chOff x="6084720" y="5013360"/>
            <a:chExt cx="647640" cy="863280"/>
          </a:xfrm>
        </p:grpSpPr>
        <p:sp>
          <p:nvSpPr>
            <p:cNvPr id="2029" name=""/>
            <p:cNvSpPr/>
            <p:nvPr/>
          </p:nvSpPr>
          <p:spPr>
            <a:xfrm>
              <a:off x="6652080" y="5013360"/>
              <a:ext cx="80280" cy="863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084720" y="5094720"/>
              <a:ext cx="569520" cy="7786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134040" y="5136480"/>
              <a:ext cx="470160" cy="39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126480" y="5668920"/>
              <a:ext cx="14832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296040" y="5668920"/>
              <a:ext cx="14616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63800" y="5668920"/>
              <a:ext cx="148320" cy="1861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14772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18948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23124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27516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1692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5868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0080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44256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48468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2860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570360" y="5261040"/>
              <a:ext cx="0" cy="334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183720" y="573048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357240" y="57304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505560" y="57304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086520" y="5023440"/>
              <a:ext cx="633960" cy="648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13044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17220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21396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25824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30000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4212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38388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42564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6776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51132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53080" y="5261040"/>
              <a:ext cx="0" cy="334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CANISMOS DE CODIFICACION/COM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a telefonía tradicional se convierte un canal análogo de voz  (4000Hz) en un flujo digital de 64 K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viar estos 64Kbps por la WAN saturaría los canales típicos en nuestro medio, por tanto se requiere de técnicas de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plican tecnologí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resión de silen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eneración de ruido de fo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iminación de redund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una buena calidad se requiere que el retardo total extremo a extremo no exceda 150 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JO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almente la telefonía se integrará como un aplicativo más de la infraestructura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tanto se debe acondicionar esta infraestructura para manejar este tipo de tráf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oy, la infraestructura de datos esta soportada principalmente sobre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CANISMOS DE CODIFICACION/COM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ada los limitantes de ancho de banda en empresas no carrier o de Infraestructuras como Internet se utilizan esquemas de codificación denominados vocoders, que operan partiendo del hecho de que están codificando voz y no una onda como lo hace PCM o ADPCM, por tanto son más efic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JO: El sistema de codificación debe poder distinguir entre voz, fax, modem para darle tratamiento especial a los dos úl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5" name=""/>
          <p:cNvGraphicFramePr/>
          <p:nvPr/>
        </p:nvGraphicFramePr>
        <p:xfrm>
          <a:off x="533520" y="1523880"/>
          <a:ext cx="8001000" cy="3521160"/>
        </p:xfrm>
        <a:graphic>
          <a:graphicData uri="http://schemas.openxmlformats.org/drawingml/2006/table">
            <a:tbl>
              <a:tblPr/>
              <a:tblGrid>
                <a:gridCol w="1143000"/>
                <a:gridCol w="1523880"/>
                <a:gridCol w="1333440"/>
                <a:gridCol w="1333440"/>
                <a:gridCol w="1333800"/>
                <a:gridCol w="1333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N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. (Kb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S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J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Publ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5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2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-ML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y 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P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-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D-CE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25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y 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-CE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729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-CE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6" name=""/>
          <p:cNvSpPr/>
          <p:nvPr/>
        </p:nvSpPr>
        <p:spPr>
          <a:xfrm>
            <a:off x="0" y="304920"/>
            <a:ext cx="889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CANISMOS DE CODIFICACION/COMPRE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"/>
          <p:cNvSpPr/>
          <p:nvPr/>
        </p:nvSpPr>
        <p:spPr>
          <a:xfrm>
            <a:off x="32400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A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8" name=""/>
          <p:cNvGrpSpPr/>
          <p:nvPr/>
        </p:nvGrpSpPr>
        <p:grpSpPr>
          <a:xfrm>
            <a:off x="1239840" y="1492200"/>
            <a:ext cx="9144000" cy="360"/>
            <a:chOff x="1239840" y="1492200"/>
            <a:chExt cx="9144000" cy="360"/>
          </a:xfrm>
        </p:grpSpPr>
        <p:sp>
          <p:nvSpPr>
            <p:cNvPr id="2069" name=""/>
            <p:cNvSpPr/>
            <p:nvPr/>
          </p:nvSpPr>
          <p:spPr>
            <a:xfrm>
              <a:off x="1239840" y="1492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0" name=""/>
            <p:cNvGrpSpPr/>
            <p:nvPr/>
          </p:nvGrpSpPr>
          <p:grpSpPr>
            <a:xfrm>
              <a:off x="1239840" y="1492200"/>
              <a:ext cx="9144000" cy="360"/>
              <a:chOff x="1239840" y="1492200"/>
              <a:chExt cx="9144000" cy="360"/>
            </a:xfrm>
          </p:grpSpPr>
          <p:sp>
            <p:nvSpPr>
              <p:cNvPr id="2071" name=""/>
              <p:cNvSpPr/>
              <p:nvPr/>
            </p:nvSpPr>
            <p:spPr>
              <a:xfrm>
                <a:off x="1239840" y="1492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239840" y="1492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120" rIns="114120" tIns="360" bIns="-11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3" name=""/>
          <p:cNvSpPr/>
          <p:nvPr/>
        </p:nvSpPr>
        <p:spPr>
          <a:xfrm>
            <a:off x="1239840" y="1492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-113760" bIns="-113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99896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/>
          <p:nvPr/>
        </p:nvSpPr>
        <p:spPr>
          <a:xfrm>
            <a:off x="5994000" y="1504800"/>
            <a:ext cx="99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38320" y="620640"/>
            <a:ext cx="81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dos por: codificación/decodificación, manejo de colas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, la paquetización, la seri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DIFICADORES/DECOD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.723.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estras de 24-30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ardo total un sentido: 2*(30ms+7.5ms+30ms)=135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.7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estras de 10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ardo total un sentido: 2*(10ms+5ms+10ms.)=50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.729A requiere menos procesamiento que G.72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RITERIOS PARA ELEGIR LA COD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 de voz dese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cho de banda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ardo asociado a la codificación-decodif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erimientos de proces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Times New Roman"/>
              </a:rPr>
              <a:t>Calificación de la calidad de 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652760" y="1847880"/>
            <a:ext cx="5433840" cy="46292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080" rIns="460080" tIns="237960" bIns="237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600200" y="1752480"/>
            <a:ext cx="5257800" cy="4464000"/>
          </a:xfrm>
          <a:prstGeom prst="rect">
            <a:avLst/>
          </a:prstGeom>
          <a:gradFill rotWithShape="0">
            <a:gsLst>
              <a:gs pos="0">
                <a:srgbClr val="002028"/>
              </a:gs>
              <a:gs pos="50000">
                <a:srgbClr val="006c88"/>
              </a:gs>
              <a:gs pos="100000">
                <a:srgbClr val="002028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080" rIns="460080" tIns="237960" bIns="237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600200" y="1751040"/>
            <a:ext cx="5257800" cy="896760"/>
          </a:xfrm>
          <a:prstGeom prst="rect">
            <a:avLst/>
          </a:prstGeom>
          <a:gradFill rotWithShape="0">
            <a:gsLst>
              <a:gs pos="0">
                <a:srgbClr val="001217"/>
              </a:gs>
              <a:gs pos="50000">
                <a:srgbClr val="003e4e"/>
              </a:gs>
              <a:gs pos="100000">
                <a:srgbClr val="001217"/>
              </a:gs>
            </a:gsLst>
            <a:lin ang="135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237960" bIns="237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69320" y="1601640"/>
            <a:ext cx="2867040" cy="12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ncod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759680" y="2610000"/>
            <a:ext cx="2332080" cy="10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11 P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A-Law/</a:t>
            </a:r>
            <a:r>
              <a:rPr b="1" i="1" lang="en-US" sz="1800" spc="-1" strike="noStrike">
                <a:solidFill>
                  <a:srgbClr val="ccccff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-L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61120" y="4430880"/>
            <a:ext cx="244332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26 ADP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761120" y="3909960"/>
            <a:ext cx="267192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27 E-ADP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759320" y="3376440"/>
            <a:ext cx="277416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29 CS-AC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758960" y="5497560"/>
            <a:ext cx="2597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28 LD-C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752480" y="4952880"/>
            <a:ext cx="240696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G.723.1 C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563840" y="2666880"/>
            <a:ext cx="529416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37960" bIns="-237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563840" y="3490920"/>
            <a:ext cx="5294160" cy="144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23560" bIns="-22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563840" y="4032360"/>
            <a:ext cx="5294160" cy="612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31840" bIns="-23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335480" y="1755720"/>
            <a:ext cx="0" cy="44816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237960" bIns="237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111560" y="1676520"/>
            <a:ext cx="3022560" cy="12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2400" spc="-1" strike="noStrike">
                <a:solidFill>
                  <a:srgbClr val="ccccff"/>
                </a:solidFill>
                <a:latin typeface="Arial"/>
              </a:rPr>
              <a:t>Mean Opi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2400" spc="-1" strike="noStrike">
                <a:solidFill>
                  <a:srgbClr val="ccccff"/>
                </a:solidFill>
                <a:latin typeface="Arial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797360" y="2819520"/>
            <a:ext cx="123804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769280" y="4430880"/>
            <a:ext cx="1364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3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762800" y="3389400"/>
            <a:ext cx="1364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3.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97720" y="5497560"/>
            <a:ext cx="1364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3.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797720" y="3962520"/>
            <a:ext cx="1364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3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791600" y="4952880"/>
            <a:ext cx="1364400" cy="75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080" rIns="460080" tIns="238320" bIns="238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s-CO" sz="1800" spc="-1" strike="noStrike">
                <a:solidFill>
                  <a:srgbClr val="ccccff"/>
                </a:solidFill>
                <a:latin typeface="Arial"/>
              </a:rPr>
              <a:t>3.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600200" y="4572000"/>
            <a:ext cx="525780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37960" bIns="-237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600200" y="5567400"/>
            <a:ext cx="5257800" cy="64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31480" bIns="-231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593720" y="5081760"/>
            <a:ext cx="525780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080" rIns="460080" tIns="-237960" bIns="-237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193760" y="3390840"/>
            <a:ext cx="6324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413080" y="640080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729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EXIÓN DE F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do que se tiene un puerto telefónico normal, se pensaría que se puede conectar un dispositivo cualquiera como fax o mode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quiere un soporte espe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fax/modem se requiere que localmente se decodifique la señal, para extraer los datos, se envíen como datos al otro extremo, y allí se reproduzca la señal original para el dispositivo 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envío del fax entre los gateway se usa T.38 (Fax sobre IP) que puede operar sobre UDP o TCP al igual que la codificación ASN.1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EXIÓN DE FAXES Y MOD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1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2112" name=""/>
          <p:cNvSpPr/>
          <p:nvPr/>
        </p:nvSpPr>
        <p:spPr>
          <a:xfrm>
            <a:off x="765360" y="2743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2114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1684440" y="2514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V="1">
            <a:off x="1600200" y="2971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018200" y="23623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543800" y="28195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2123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4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5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6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7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2129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0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1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2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3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143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295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7" name=""/>
          <p:cNvGraphicFramePr/>
          <p:nvPr/>
        </p:nvGraphicFramePr>
        <p:xfrm>
          <a:off x="228600" y="3276720"/>
          <a:ext cx="45720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276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9" name=""/>
          <p:cNvGraphicFramePr/>
          <p:nvPr/>
        </p:nvGraphicFramePr>
        <p:xfrm>
          <a:off x="228600" y="3809880"/>
          <a:ext cx="457200" cy="3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60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1" name=""/>
          <p:cNvGraphicFramePr/>
          <p:nvPr/>
        </p:nvGraphicFramePr>
        <p:xfrm>
          <a:off x="228600" y="4343400"/>
          <a:ext cx="457200" cy="380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4343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3" name=""/>
          <p:cNvSpPr/>
          <p:nvPr/>
        </p:nvSpPr>
        <p:spPr>
          <a:xfrm>
            <a:off x="60948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609480" y="3962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09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073280" y="4915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X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514600" y="29718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287800" y="40356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X RE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6019920" y="2971440"/>
            <a:ext cx="13716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087160" y="529920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dula, extray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datos de fax, y los env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1295280" y="3124080"/>
            <a:ext cx="106704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25000" y="571500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be los datos de fax, y mod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l fax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3" name=""/>
          <p:cNvGrpSpPr/>
          <p:nvPr/>
        </p:nvGrpSpPr>
        <p:grpSpPr>
          <a:xfrm>
            <a:off x="2050920" y="3284640"/>
            <a:ext cx="1179360" cy="642600"/>
            <a:chOff x="2050920" y="3284640"/>
            <a:chExt cx="1179360" cy="642600"/>
          </a:xfrm>
        </p:grpSpPr>
        <p:grpSp>
          <p:nvGrpSpPr>
            <p:cNvPr id="2154" name=""/>
            <p:cNvGrpSpPr/>
            <p:nvPr/>
          </p:nvGrpSpPr>
          <p:grpSpPr>
            <a:xfrm>
              <a:off x="2050920" y="3560400"/>
              <a:ext cx="1014120" cy="365760"/>
              <a:chOff x="2050920" y="3560400"/>
              <a:chExt cx="1014120" cy="365760"/>
            </a:xfrm>
          </p:grpSpPr>
          <p:sp>
            <p:nvSpPr>
              <p:cNvPr id="2155" name=""/>
              <p:cNvSpPr/>
              <p:nvPr/>
            </p:nvSpPr>
            <p:spPr>
              <a:xfrm>
                <a:off x="2081880" y="3610800"/>
                <a:ext cx="983160" cy="93960"/>
              </a:xfrm>
              <a:custGeom>
                <a:avLst/>
                <a:gdLst/>
                <a:ahLst/>
                <a:rect l="l" t="t" r="r" b="b"/>
                <a:pathLst>
                  <a:path w="500" h="54">
                    <a:moveTo>
                      <a:pt x="499" y="16"/>
                    </a:moveTo>
                    <a:lnTo>
                      <a:pt x="450" y="53"/>
                    </a:lnTo>
                    <a:lnTo>
                      <a:pt x="0" y="42"/>
                    </a:lnTo>
                    <a:lnTo>
                      <a:pt x="79" y="0"/>
                    </a:lnTo>
                    <a:lnTo>
                      <a:pt x="499" y="1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050920" y="3783240"/>
                <a:ext cx="923760" cy="142920"/>
              </a:xfrm>
              <a:custGeom>
                <a:avLst/>
                <a:gdLst/>
                <a:ahLst/>
                <a:rect l="l" t="t" r="r" b="b"/>
                <a:pathLst>
                  <a:path w="470" h="82">
                    <a:moveTo>
                      <a:pt x="464" y="20"/>
                    </a:moveTo>
                    <a:lnTo>
                      <a:pt x="469" y="81"/>
                    </a:lnTo>
                    <a:lnTo>
                      <a:pt x="22" y="55"/>
                    </a:lnTo>
                    <a:lnTo>
                      <a:pt x="0" y="0"/>
                    </a:lnTo>
                    <a:lnTo>
                      <a:pt x="464" y="2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050920" y="3685680"/>
                <a:ext cx="916200" cy="134280"/>
              </a:xfrm>
              <a:custGeom>
                <a:avLst/>
                <a:gdLst/>
                <a:ahLst/>
                <a:rect l="l" t="t" r="r" b="b"/>
                <a:pathLst>
                  <a:path w="466" h="77">
                    <a:moveTo>
                      <a:pt x="465" y="76"/>
                    </a:moveTo>
                    <a:lnTo>
                      <a:pt x="0" y="56"/>
                    </a:lnTo>
                    <a:lnTo>
                      <a:pt x="16" y="0"/>
                    </a:lnTo>
                    <a:lnTo>
                      <a:pt x="465" y="11"/>
                    </a:lnTo>
                    <a:lnTo>
                      <a:pt x="465" y="7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143080" y="3560400"/>
                <a:ext cx="918000" cy="123840"/>
              </a:xfrm>
              <a:custGeom>
                <a:avLst/>
                <a:gdLst/>
                <a:ahLst/>
                <a:rect l="l" t="t" r="r" b="b"/>
                <a:pathLst>
                  <a:path w="467" h="71">
                    <a:moveTo>
                      <a:pt x="451" y="0"/>
                    </a:moveTo>
                    <a:lnTo>
                      <a:pt x="451" y="8"/>
                    </a:lnTo>
                    <a:lnTo>
                      <a:pt x="466" y="12"/>
                    </a:lnTo>
                    <a:lnTo>
                      <a:pt x="413" y="59"/>
                    </a:lnTo>
                    <a:lnTo>
                      <a:pt x="408" y="70"/>
                    </a:lnTo>
                    <a:lnTo>
                      <a:pt x="0" y="61"/>
                    </a:lnTo>
                    <a:lnTo>
                      <a:pt x="10" y="50"/>
                    </a:lnTo>
                    <a:lnTo>
                      <a:pt x="72" y="16"/>
                    </a:lnTo>
                    <a:lnTo>
                      <a:pt x="77" y="0"/>
                    </a:lnTo>
                    <a:lnTo>
                      <a:pt x="451" y="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"/>
            <p:cNvSpPr/>
            <p:nvPr/>
          </p:nvSpPr>
          <p:spPr>
            <a:xfrm>
              <a:off x="2257200" y="3499200"/>
              <a:ext cx="973080" cy="139680"/>
            </a:xfrm>
            <a:custGeom>
              <a:avLst/>
              <a:gdLst/>
              <a:ahLst/>
              <a:rect l="l" t="t" r="r" b="b"/>
              <a:pathLst>
                <a:path w="495" h="80">
                  <a:moveTo>
                    <a:pt x="494" y="0"/>
                  </a:moveTo>
                  <a:lnTo>
                    <a:pt x="90" y="0"/>
                  </a:lnTo>
                  <a:lnTo>
                    <a:pt x="0" y="72"/>
                  </a:lnTo>
                  <a:lnTo>
                    <a:pt x="409" y="79"/>
                  </a:lnTo>
                  <a:lnTo>
                    <a:pt x="494" y="0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557800" y="3377160"/>
              <a:ext cx="493560" cy="168840"/>
            </a:xfrm>
            <a:custGeom>
              <a:avLst/>
              <a:gdLst/>
              <a:ahLst/>
              <a:rect l="l" t="t" r="r" b="b"/>
              <a:pathLst>
                <a:path w="251" h="97">
                  <a:moveTo>
                    <a:pt x="230" y="96"/>
                  </a:moveTo>
                  <a:lnTo>
                    <a:pt x="250" y="1"/>
                  </a:lnTo>
                  <a:lnTo>
                    <a:pt x="40" y="0"/>
                  </a:lnTo>
                  <a:lnTo>
                    <a:pt x="0" y="96"/>
                  </a:lnTo>
                  <a:lnTo>
                    <a:pt x="230" y="9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964960" y="3638880"/>
              <a:ext cx="263520" cy="288360"/>
            </a:xfrm>
            <a:custGeom>
              <a:avLst/>
              <a:gdLst/>
              <a:ahLst/>
              <a:rect l="l" t="t" r="r" b="b"/>
              <a:pathLst>
                <a:path w="134" h="165">
                  <a:moveTo>
                    <a:pt x="1" y="37"/>
                  </a:moveTo>
                  <a:lnTo>
                    <a:pt x="0" y="104"/>
                  </a:lnTo>
                  <a:lnTo>
                    <a:pt x="5" y="164"/>
                  </a:lnTo>
                  <a:lnTo>
                    <a:pt x="133" y="26"/>
                  </a:lnTo>
                  <a:lnTo>
                    <a:pt x="133" y="17"/>
                  </a:lnTo>
                  <a:lnTo>
                    <a:pt x="60" y="95"/>
                  </a:lnTo>
                  <a:lnTo>
                    <a:pt x="50" y="0"/>
                  </a:lnTo>
                  <a:lnTo>
                    <a:pt x="1" y="37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063600" y="3499200"/>
              <a:ext cx="166680" cy="307080"/>
            </a:xfrm>
            <a:custGeom>
              <a:avLst/>
              <a:gdLst/>
              <a:ahLst/>
              <a:rect l="l" t="t" r="r" b="b"/>
              <a:pathLst>
                <a:path w="85" h="176">
                  <a:moveTo>
                    <a:pt x="9" y="175"/>
                  </a:moveTo>
                  <a:lnTo>
                    <a:pt x="84" y="95"/>
                  </a:lnTo>
                  <a:lnTo>
                    <a:pt x="84" y="0"/>
                  </a:lnTo>
                  <a:lnTo>
                    <a:pt x="0" y="80"/>
                  </a:lnTo>
                  <a:lnTo>
                    <a:pt x="9" y="175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75360" y="3300480"/>
              <a:ext cx="601560" cy="275400"/>
            </a:xfrm>
            <a:custGeom>
              <a:avLst/>
              <a:gdLst/>
              <a:ahLst/>
              <a:rect l="l" t="t" r="r" b="b"/>
              <a:pathLst>
                <a:path w="306" h="158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1" y="157"/>
                  </a:lnTo>
                  <a:lnTo>
                    <a:pt x="0" y="155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6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1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6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451600" y="3296880"/>
              <a:ext cx="601920" cy="277560"/>
            </a:xfrm>
            <a:custGeom>
              <a:avLst/>
              <a:gdLst/>
              <a:ahLst/>
              <a:rect l="l" t="t" r="r" b="b"/>
              <a:pathLst>
                <a:path w="306" h="159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0" y="158"/>
                  </a:lnTo>
                  <a:lnTo>
                    <a:pt x="0" y="156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8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7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437920" y="3284640"/>
              <a:ext cx="599760" cy="279000"/>
            </a:xfrm>
            <a:custGeom>
              <a:avLst/>
              <a:gdLst/>
              <a:ahLst/>
              <a:rect l="l" t="t" r="r" b="b"/>
              <a:pathLst>
                <a:path w="305" h="160">
                  <a:moveTo>
                    <a:pt x="264" y="23"/>
                  </a:moveTo>
                  <a:lnTo>
                    <a:pt x="257" y="38"/>
                  </a:lnTo>
                  <a:lnTo>
                    <a:pt x="251" y="56"/>
                  </a:lnTo>
                  <a:lnTo>
                    <a:pt x="210" y="159"/>
                  </a:lnTo>
                  <a:lnTo>
                    <a:pt x="0" y="15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71" y="17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304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5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4"/>
                  </a:lnTo>
                  <a:lnTo>
                    <a:pt x="269" y="17"/>
                  </a:lnTo>
                  <a:lnTo>
                    <a:pt x="266" y="19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2512800" y="3321360"/>
              <a:ext cx="412560" cy="182880"/>
              <a:chOff x="2512800" y="3321360"/>
              <a:chExt cx="412560" cy="182880"/>
            </a:xfrm>
          </p:grpSpPr>
          <p:sp>
            <p:nvSpPr>
              <p:cNvPr id="2167" name=""/>
              <p:cNvSpPr/>
              <p:nvPr/>
            </p:nvSpPr>
            <p:spPr>
              <a:xfrm>
                <a:off x="2608920" y="332136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597040" y="3343680"/>
                <a:ext cx="31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575440" y="338364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559960" y="340452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547720" y="342396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541960" y="344304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526480" y="347976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512800" y="3504240"/>
                <a:ext cx="31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5" name=""/>
            <p:cNvSpPr/>
            <p:nvPr/>
          </p:nvSpPr>
          <p:spPr>
            <a:xfrm>
              <a:off x="2137320" y="3717720"/>
              <a:ext cx="66600" cy="32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3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72680" y="3723120"/>
              <a:ext cx="62640" cy="33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0"/>
                  </a:moveTo>
                  <a:lnTo>
                    <a:pt x="0" y="17"/>
                  </a:lnTo>
                  <a:lnTo>
                    <a:pt x="26" y="18"/>
                  </a:lnTo>
                  <a:lnTo>
                    <a:pt x="31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414160" y="3726720"/>
              <a:ext cx="64800" cy="32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2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699640" y="3735360"/>
              <a:ext cx="62640" cy="34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4" y="0"/>
                  </a:moveTo>
                  <a:lnTo>
                    <a:pt x="0" y="18"/>
                  </a:lnTo>
                  <a:lnTo>
                    <a:pt x="27" y="19"/>
                  </a:lnTo>
                  <a:lnTo>
                    <a:pt x="31" y="1"/>
                  </a:lnTo>
                  <a:lnTo>
                    <a:pt x="4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33120" y="3640680"/>
              <a:ext cx="186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020000" y="4221000"/>
            <a:ext cx="1179000" cy="642600"/>
            <a:chOff x="7020000" y="4221000"/>
            <a:chExt cx="1179000" cy="642600"/>
          </a:xfrm>
        </p:grpSpPr>
        <p:grpSp>
          <p:nvGrpSpPr>
            <p:cNvPr id="2181" name=""/>
            <p:cNvGrpSpPr/>
            <p:nvPr/>
          </p:nvGrpSpPr>
          <p:grpSpPr>
            <a:xfrm>
              <a:off x="7020000" y="4496760"/>
              <a:ext cx="1013760" cy="365760"/>
              <a:chOff x="7020000" y="4496760"/>
              <a:chExt cx="1013760" cy="365760"/>
            </a:xfrm>
          </p:grpSpPr>
          <p:sp>
            <p:nvSpPr>
              <p:cNvPr id="2182" name=""/>
              <p:cNvSpPr/>
              <p:nvPr/>
            </p:nvSpPr>
            <p:spPr>
              <a:xfrm>
                <a:off x="7050960" y="4547160"/>
                <a:ext cx="982800" cy="93960"/>
              </a:xfrm>
              <a:custGeom>
                <a:avLst/>
                <a:gdLst/>
                <a:ahLst/>
                <a:rect l="l" t="t" r="r" b="b"/>
                <a:pathLst>
                  <a:path w="500" h="54">
                    <a:moveTo>
                      <a:pt x="499" y="16"/>
                    </a:moveTo>
                    <a:lnTo>
                      <a:pt x="450" y="53"/>
                    </a:lnTo>
                    <a:lnTo>
                      <a:pt x="0" y="42"/>
                    </a:lnTo>
                    <a:lnTo>
                      <a:pt x="79" y="0"/>
                    </a:lnTo>
                    <a:lnTo>
                      <a:pt x="499" y="1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020000" y="4719600"/>
                <a:ext cx="923400" cy="142920"/>
              </a:xfrm>
              <a:custGeom>
                <a:avLst/>
                <a:gdLst/>
                <a:ahLst/>
                <a:rect l="l" t="t" r="r" b="b"/>
                <a:pathLst>
                  <a:path w="470" h="82">
                    <a:moveTo>
                      <a:pt x="464" y="20"/>
                    </a:moveTo>
                    <a:lnTo>
                      <a:pt x="469" y="81"/>
                    </a:lnTo>
                    <a:lnTo>
                      <a:pt x="22" y="55"/>
                    </a:lnTo>
                    <a:lnTo>
                      <a:pt x="0" y="0"/>
                    </a:lnTo>
                    <a:lnTo>
                      <a:pt x="464" y="2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020000" y="4622040"/>
                <a:ext cx="915840" cy="134280"/>
              </a:xfrm>
              <a:custGeom>
                <a:avLst/>
                <a:gdLst/>
                <a:ahLst/>
                <a:rect l="l" t="t" r="r" b="b"/>
                <a:pathLst>
                  <a:path w="466" h="77">
                    <a:moveTo>
                      <a:pt x="465" y="76"/>
                    </a:moveTo>
                    <a:lnTo>
                      <a:pt x="0" y="56"/>
                    </a:lnTo>
                    <a:lnTo>
                      <a:pt x="16" y="0"/>
                    </a:lnTo>
                    <a:lnTo>
                      <a:pt x="465" y="11"/>
                    </a:lnTo>
                    <a:lnTo>
                      <a:pt x="465" y="76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112160" y="4496760"/>
                <a:ext cx="917640" cy="123840"/>
              </a:xfrm>
              <a:custGeom>
                <a:avLst/>
                <a:gdLst/>
                <a:ahLst/>
                <a:rect l="l" t="t" r="r" b="b"/>
                <a:pathLst>
                  <a:path w="467" h="71">
                    <a:moveTo>
                      <a:pt x="451" y="0"/>
                    </a:moveTo>
                    <a:lnTo>
                      <a:pt x="451" y="8"/>
                    </a:lnTo>
                    <a:lnTo>
                      <a:pt x="466" y="12"/>
                    </a:lnTo>
                    <a:lnTo>
                      <a:pt x="413" y="59"/>
                    </a:lnTo>
                    <a:lnTo>
                      <a:pt x="408" y="70"/>
                    </a:lnTo>
                    <a:lnTo>
                      <a:pt x="0" y="61"/>
                    </a:lnTo>
                    <a:lnTo>
                      <a:pt x="10" y="50"/>
                    </a:lnTo>
                    <a:lnTo>
                      <a:pt x="72" y="16"/>
                    </a:lnTo>
                    <a:lnTo>
                      <a:pt x="77" y="0"/>
                    </a:lnTo>
                    <a:lnTo>
                      <a:pt x="451" y="0"/>
                    </a:lnTo>
                  </a:path>
                </a:pathLst>
              </a:custGeom>
              <a:solidFill>
                <a:srgbClr val="fcfeb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6" name=""/>
            <p:cNvSpPr/>
            <p:nvPr/>
          </p:nvSpPr>
          <p:spPr>
            <a:xfrm>
              <a:off x="7226280" y="4435560"/>
              <a:ext cx="972720" cy="139680"/>
            </a:xfrm>
            <a:custGeom>
              <a:avLst/>
              <a:gdLst/>
              <a:ahLst/>
              <a:rect l="l" t="t" r="r" b="b"/>
              <a:pathLst>
                <a:path w="495" h="80">
                  <a:moveTo>
                    <a:pt x="494" y="0"/>
                  </a:moveTo>
                  <a:lnTo>
                    <a:pt x="90" y="0"/>
                  </a:lnTo>
                  <a:lnTo>
                    <a:pt x="0" y="72"/>
                  </a:lnTo>
                  <a:lnTo>
                    <a:pt x="409" y="79"/>
                  </a:lnTo>
                  <a:lnTo>
                    <a:pt x="494" y="0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526880" y="4313520"/>
              <a:ext cx="493200" cy="168840"/>
            </a:xfrm>
            <a:custGeom>
              <a:avLst/>
              <a:gdLst/>
              <a:ahLst/>
              <a:rect l="l" t="t" r="r" b="b"/>
              <a:pathLst>
                <a:path w="251" h="97">
                  <a:moveTo>
                    <a:pt x="230" y="96"/>
                  </a:moveTo>
                  <a:lnTo>
                    <a:pt x="250" y="1"/>
                  </a:lnTo>
                  <a:lnTo>
                    <a:pt x="40" y="0"/>
                  </a:lnTo>
                  <a:lnTo>
                    <a:pt x="0" y="96"/>
                  </a:lnTo>
                  <a:lnTo>
                    <a:pt x="230" y="96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933680" y="4575240"/>
              <a:ext cx="263160" cy="288360"/>
            </a:xfrm>
            <a:custGeom>
              <a:avLst/>
              <a:gdLst/>
              <a:ahLst/>
              <a:rect l="l" t="t" r="r" b="b"/>
              <a:pathLst>
                <a:path w="134" h="165">
                  <a:moveTo>
                    <a:pt x="1" y="37"/>
                  </a:moveTo>
                  <a:lnTo>
                    <a:pt x="0" y="104"/>
                  </a:lnTo>
                  <a:lnTo>
                    <a:pt x="5" y="164"/>
                  </a:lnTo>
                  <a:lnTo>
                    <a:pt x="133" y="26"/>
                  </a:lnTo>
                  <a:lnTo>
                    <a:pt x="133" y="17"/>
                  </a:lnTo>
                  <a:lnTo>
                    <a:pt x="60" y="95"/>
                  </a:lnTo>
                  <a:lnTo>
                    <a:pt x="50" y="0"/>
                  </a:lnTo>
                  <a:lnTo>
                    <a:pt x="1" y="37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032320" y="4435560"/>
              <a:ext cx="166680" cy="307080"/>
            </a:xfrm>
            <a:custGeom>
              <a:avLst/>
              <a:gdLst/>
              <a:ahLst/>
              <a:rect l="l" t="t" r="r" b="b"/>
              <a:pathLst>
                <a:path w="85" h="176">
                  <a:moveTo>
                    <a:pt x="9" y="175"/>
                  </a:moveTo>
                  <a:lnTo>
                    <a:pt x="84" y="95"/>
                  </a:lnTo>
                  <a:lnTo>
                    <a:pt x="84" y="0"/>
                  </a:lnTo>
                  <a:lnTo>
                    <a:pt x="0" y="80"/>
                  </a:lnTo>
                  <a:lnTo>
                    <a:pt x="9" y="175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444440" y="4236840"/>
              <a:ext cx="601200" cy="275400"/>
            </a:xfrm>
            <a:custGeom>
              <a:avLst/>
              <a:gdLst/>
              <a:ahLst/>
              <a:rect l="l" t="t" r="r" b="b"/>
              <a:pathLst>
                <a:path w="306" h="158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1" y="157"/>
                  </a:lnTo>
                  <a:lnTo>
                    <a:pt x="0" y="155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6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1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6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420680" y="4233240"/>
              <a:ext cx="601560" cy="277560"/>
            </a:xfrm>
            <a:custGeom>
              <a:avLst/>
              <a:gdLst/>
              <a:ahLst/>
              <a:rect l="l" t="t" r="r" b="b"/>
              <a:pathLst>
                <a:path w="306" h="159">
                  <a:moveTo>
                    <a:pt x="264" y="23"/>
                  </a:moveTo>
                  <a:lnTo>
                    <a:pt x="257" y="37"/>
                  </a:lnTo>
                  <a:lnTo>
                    <a:pt x="251" y="55"/>
                  </a:lnTo>
                  <a:lnTo>
                    <a:pt x="210" y="158"/>
                  </a:lnTo>
                  <a:lnTo>
                    <a:pt x="0" y="156"/>
                  </a:lnTo>
                  <a:lnTo>
                    <a:pt x="59" y="34"/>
                  </a:lnTo>
                  <a:lnTo>
                    <a:pt x="64" y="25"/>
                  </a:lnTo>
                  <a:lnTo>
                    <a:pt x="72" y="17"/>
                  </a:lnTo>
                  <a:lnTo>
                    <a:pt x="79" y="10"/>
                  </a:lnTo>
                  <a:lnTo>
                    <a:pt x="88" y="5"/>
                  </a:lnTo>
                  <a:lnTo>
                    <a:pt x="99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305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6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3"/>
                  </a:lnTo>
                  <a:lnTo>
                    <a:pt x="269" y="17"/>
                  </a:lnTo>
                  <a:lnTo>
                    <a:pt x="266" y="20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406640" y="4221000"/>
              <a:ext cx="599400" cy="279000"/>
            </a:xfrm>
            <a:custGeom>
              <a:avLst/>
              <a:gdLst/>
              <a:ahLst/>
              <a:rect l="l" t="t" r="r" b="b"/>
              <a:pathLst>
                <a:path w="305" h="160">
                  <a:moveTo>
                    <a:pt x="264" y="23"/>
                  </a:moveTo>
                  <a:lnTo>
                    <a:pt x="257" y="38"/>
                  </a:lnTo>
                  <a:lnTo>
                    <a:pt x="251" y="56"/>
                  </a:lnTo>
                  <a:lnTo>
                    <a:pt x="210" y="159"/>
                  </a:lnTo>
                  <a:lnTo>
                    <a:pt x="0" y="15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71" y="17"/>
                  </a:lnTo>
                  <a:lnTo>
                    <a:pt x="79" y="10"/>
                  </a:lnTo>
                  <a:lnTo>
                    <a:pt x="87" y="5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304" y="0"/>
                  </a:lnTo>
                  <a:lnTo>
                    <a:pt x="296" y="2"/>
                  </a:lnTo>
                  <a:lnTo>
                    <a:pt x="291" y="4"/>
                  </a:lnTo>
                  <a:lnTo>
                    <a:pt x="285" y="6"/>
                  </a:lnTo>
                  <a:lnTo>
                    <a:pt x="280" y="8"/>
                  </a:lnTo>
                  <a:lnTo>
                    <a:pt x="275" y="11"/>
                  </a:lnTo>
                  <a:lnTo>
                    <a:pt x="272" y="14"/>
                  </a:lnTo>
                  <a:lnTo>
                    <a:pt x="269" y="17"/>
                  </a:lnTo>
                  <a:lnTo>
                    <a:pt x="266" y="19"/>
                  </a:lnTo>
                  <a:lnTo>
                    <a:pt x="264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3" name=""/>
            <p:cNvGrpSpPr/>
            <p:nvPr/>
          </p:nvGrpSpPr>
          <p:grpSpPr>
            <a:xfrm>
              <a:off x="7481880" y="4257720"/>
              <a:ext cx="412200" cy="182880"/>
              <a:chOff x="7481880" y="4257720"/>
              <a:chExt cx="412200" cy="182880"/>
            </a:xfrm>
          </p:grpSpPr>
          <p:sp>
            <p:nvSpPr>
              <p:cNvPr id="2194" name=""/>
              <p:cNvSpPr/>
              <p:nvPr/>
            </p:nvSpPr>
            <p:spPr>
              <a:xfrm>
                <a:off x="7578000" y="425772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565760" y="4280040"/>
                <a:ext cx="31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544520" y="432000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529040" y="434088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516800" y="436032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511040" y="437940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495560" y="441612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481880" y="444060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>
              <a:off x="7106400" y="4654080"/>
              <a:ext cx="66600" cy="32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3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241760" y="4659480"/>
              <a:ext cx="62640" cy="33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0"/>
                  </a:moveTo>
                  <a:lnTo>
                    <a:pt x="0" y="17"/>
                  </a:lnTo>
                  <a:lnTo>
                    <a:pt x="26" y="18"/>
                  </a:lnTo>
                  <a:lnTo>
                    <a:pt x="31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383240" y="4663080"/>
              <a:ext cx="64800" cy="3276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6" y="0"/>
                  </a:moveTo>
                  <a:lnTo>
                    <a:pt x="0" y="17"/>
                  </a:lnTo>
                  <a:lnTo>
                    <a:pt x="28" y="18"/>
                  </a:lnTo>
                  <a:lnTo>
                    <a:pt x="32" y="1"/>
                  </a:lnTo>
                  <a:lnTo>
                    <a:pt x="6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668360" y="4671720"/>
              <a:ext cx="62640" cy="34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4" y="0"/>
                  </a:moveTo>
                  <a:lnTo>
                    <a:pt x="0" y="18"/>
                  </a:lnTo>
                  <a:lnTo>
                    <a:pt x="27" y="19"/>
                  </a:lnTo>
                  <a:lnTo>
                    <a:pt x="31" y="1"/>
                  </a:lnTo>
                  <a:lnTo>
                    <a:pt x="4" y="0"/>
                  </a:lnTo>
                </a:path>
              </a:pathLst>
            </a:custGeom>
            <a:solidFill>
              <a:srgbClr val="e0e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701840" y="4577040"/>
              <a:ext cx="18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132000" y="2565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986360" y="22255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867280" y="256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CANISMOS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8435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ransporte de la voz sobre la red de datos se puede hacer de varias f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IP / 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MP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Frame Re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oz sobre Ethernet (Solo sobre la LAN, esquema propietario de 3COM con sus plantas NBX y teléfonos Ethern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 preferido y normatizado: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tardo (Delay): en una sola dirección la norma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U-G.114 recomienda no más de 150 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itter: variación en los retar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aquetes de voz varían típicamente entre 80 y 256 bytes (en G.729 se envían típicamente 20 bytes por paquete),  los de datos entre 1500 y 18.000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uesta del mundo de la Telefon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DSI y ATM surgen como una propuestas para integrar voz y datos y en general tráfico sensible y no sensible a los retardos en una sola platafor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uesta del mundo de la compu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arrollan sobre IP tecnologías para implementar aplicaciones multimedia con calidad de servicio: RTP/RTCP/RSV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os desarrollan algoritmos de tratamiento de voz y DSP’s que hacen posible buena calidad con bajo consumo de capacidad del ca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OZ SOBRE FRAME R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nor overhead que voz sobre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ado en normas del Frame Relay Forum G.76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RF.11: define formatos de tramas y tipos de codificación de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RF.12: standard que permite fragmentar tramas de datos y ser mezcladas con tráfico de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nque se utilizó mucho en un comienzo, actualmente ha sido desplazado por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NSPORTE CON 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8435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ginalmente TCP/IP no fue pensado para llevar tráfico Multimedia, pero gracias a mejoras y nuevas tecnologías ya es po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adecuar a TCP/IP para este tipo de tráfico, se han creado esquemas de Calidad de Servicio (QoS)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con TOS (Campo del encabezado I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S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fSer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ejo de c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esión de encabe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ejo de MTU y fragmentación en el nivel 2 o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NSPORTE CON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nto la voz como la señálización se transportan sobre TCP/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l transporte de la voz se utilizan tecnologías como RTP/R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icialmente el transporte y la señalización se manejo siguiendo el modelo de H.32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mente para la señalización existen varios modelos y tecnología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3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G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GACO/H.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 DE VOZ SOBRE IP CON H.323/SIP/MGCP/MEG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1" name="" descr=""/>
          <p:cNvPicPr/>
          <p:nvPr/>
        </p:nvPicPr>
        <p:blipFill>
          <a:blip r:embed="rId1"/>
          <a:stretch/>
        </p:blipFill>
        <p:spPr>
          <a:xfrm>
            <a:off x="228600" y="1341360"/>
            <a:ext cx="8915400" cy="5292720"/>
          </a:xfrm>
          <a:prstGeom prst="rect">
            <a:avLst/>
          </a:prstGeom>
          <a:ln w="0">
            <a:noFill/>
          </a:ln>
        </p:spPr>
      </p:pic>
      <p:sp>
        <p:nvSpPr>
          <p:cNvPr id="2222" name=""/>
          <p:cNvSpPr/>
          <p:nvPr/>
        </p:nvSpPr>
        <p:spPr>
          <a:xfrm>
            <a:off x="329760" y="2565360"/>
            <a:ext cx="1331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Z:G.7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723.1,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90000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quitectura o framework desarrollado por la ITU-T para la implementación de  Multimedia (Audio, Video y Datos) sobre redes de conmutación de paque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 versión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tecnologías relacion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320 Multimedia sobre ISDN (RD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324 Multimedia sobre sistema telefónico conven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MPONENTES EN DE H.3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Requieren el conjunto de protocolos de H.323 y obligatoriamente deben soportar audio. Video y datos son opcionales. Pueden comunicarse directamente sin intervención de un Gateway o Gatekee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TEWAY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miten la conexión a otros sistemas, por ejemplo al sistema telefónico tr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TEKEEPE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Ante el se registran las terminales y solicitan conexiones. Traducen direcciones, controlan permisos para llamar, anchos de banda, contabilización para facturación y la señalización. Es op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CU (MULTIPOINT CONTROL UNIT)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mite la conexión de tres o más terminales en confere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NENTES DE 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9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812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230" name=""/>
          <p:cNvGrpSpPr/>
          <p:nvPr/>
        </p:nvGrpSpPr>
        <p:grpSpPr>
          <a:xfrm>
            <a:off x="3429000" y="2514600"/>
            <a:ext cx="2971440" cy="2361600"/>
            <a:chOff x="3429000" y="2514600"/>
            <a:chExt cx="2971440" cy="2361600"/>
          </a:xfrm>
        </p:grpSpPr>
        <p:sp>
          <p:nvSpPr>
            <p:cNvPr id="2231" name=""/>
            <p:cNvSpPr/>
            <p:nvPr/>
          </p:nvSpPr>
          <p:spPr>
            <a:xfrm>
              <a:off x="3429000" y="2514600"/>
              <a:ext cx="297144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02920" y="3592800"/>
              <a:ext cx="139536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D 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3" name=""/>
          <p:cNvSpPr/>
          <p:nvPr/>
        </p:nvSpPr>
        <p:spPr>
          <a:xfrm>
            <a:off x="30481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211480" y="44956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5" name=""/>
          <p:cNvGraphicFramePr/>
          <p:nvPr/>
        </p:nvGraphicFramePr>
        <p:xfrm>
          <a:off x="228600" y="3048120"/>
          <a:ext cx="45720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7" name=""/>
          <p:cNvGraphicFramePr/>
          <p:nvPr/>
        </p:nvGraphicFramePr>
        <p:xfrm>
          <a:off x="228600" y="4191120"/>
          <a:ext cx="45720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911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9" name=""/>
          <p:cNvSpPr/>
          <p:nvPr/>
        </p:nvSpPr>
        <p:spPr>
          <a:xfrm>
            <a:off x="609480" y="3276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85800" y="4038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762120" y="2895480"/>
            <a:ext cx="1371600" cy="1295280"/>
            <a:chOff x="762120" y="2895480"/>
            <a:chExt cx="1371600" cy="1295280"/>
          </a:xfrm>
        </p:grpSpPr>
        <p:sp>
          <p:nvSpPr>
            <p:cNvPr id="2242" name=""/>
            <p:cNvSpPr/>
            <p:nvPr/>
          </p:nvSpPr>
          <p:spPr>
            <a:xfrm>
              <a:off x="762120" y="2895480"/>
              <a:ext cx="1371600" cy="12952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74240" y="3486960"/>
              <a:ext cx="9212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4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38088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5" name=""/>
          <p:cNvGraphicFramePr/>
          <p:nvPr/>
        </p:nvGraphicFramePr>
        <p:xfrm>
          <a:off x="8458200" y="3276720"/>
          <a:ext cx="45720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58200" y="3276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"/>
          <p:cNvSpPr/>
          <p:nvPr/>
        </p:nvSpPr>
        <p:spPr>
          <a:xfrm>
            <a:off x="21337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4008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7086600" y="365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" descr=""/>
          <p:cNvPicPr/>
          <p:nvPr/>
        </p:nvPicPr>
        <p:blipFill>
          <a:blip r:embed="rId9"/>
          <a:stretch/>
        </p:blipFill>
        <p:spPr>
          <a:xfrm>
            <a:off x="4343400" y="5257800"/>
            <a:ext cx="380880" cy="1066680"/>
          </a:xfrm>
          <a:prstGeom prst="rect">
            <a:avLst/>
          </a:prstGeom>
          <a:ln w="0">
            <a:noFill/>
          </a:ln>
        </p:spPr>
      </p:pic>
      <p:pic>
        <p:nvPicPr>
          <p:cNvPr id="2251" name="" descr=""/>
          <p:cNvPicPr/>
          <p:nvPr/>
        </p:nvPicPr>
        <p:blipFill>
          <a:blip r:embed="rId10"/>
          <a:stretch/>
        </p:blipFill>
        <p:spPr>
          <a:xfrm>
            <a:off x="3429000" y="1600200"/>
            <a:ext cx="914400" cy="785880"/>
          </a:xfrm>
          <a:prstGeom prst="rect">
            <a:avLst/>
          </a:prstGeom>
          <a:ln w="0">
            <a:noFill/>
          </a:ln>
        </p:spPr>
      </p:pic>
      <p:sp>
        <p:nvSpPr>
          <p:cNvPr id="2252" name=""/>
          <p:cNvSpPr/>
          <p:nvPr/>
        </p:nvSpPr>
        <p:spPr>
          <a:xfrm>
            <a:off x="2972880" y="121932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MINAL H.3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962520" y="2362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963960" y="632448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AT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4495680" y="4876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6" name="" descr=""/>
          <p:cNvPicPr/>
          <p:nvPr/>
        </p:nvPicPr>
        <p:blipFill>
          <a:blip r:embed="rId11"/>
          <a:stretch/>
        </p:blipFill>
        <p:spPr>
          <a:xfrm>
            <a:off x="5486400" y="1600200"/>
            <a:ext cx="914400" cy="785880"/>
          </a:xfrm>
          <a:prstGeom prst="rect">
            <a:avLst/>
          </a:prstGeom>
          <a:ln w="0">
            <a:noFill/>
          </a:ln>
        </p:spPr>
      </p:pic>
      <p:sp>
        <p:nvSpPr>
          <p:cNvPr id="2257" name=""/>
          <p:cNvSpPr/>
          <p:nvPr/>
        </p:nvSpPr>
        <p:spPr>
          <a:xfrm>
            <a:off x="5030280" y="121932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MINAL H.3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5715000" y="2362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326280" y="44197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0" name="" descr=""/>
          <p:cNvPicPr/>
          <p:nvPr/>
        </p:nvPicPr>
        <p:blipFill>
          <a:blip r:embed="rId12"/>
          <a:stretch/>
        </p:blipFill>
        <p:spPr>
          <a:xfrm>
            <a:off x="5867280" y="5257800"/>
            <a:ext cx="381240" cy="1066680"/>
          </a:xfrm>
          <a:prstGeom prst="rect">
            <a:avLst/>
          </a:prstGeom>
          <a:ln w="0">
            <a:noFill/>
          </a:ln>
        </p:spPr>
      </p:pic>
      <p:sp>
        <p:nvSpPr>
          <p:cNvPr id="2261" name=""/>
          <p:cNvSpPr/>
          <p:nvPr/>
        </p:nvSpPr>
        <p:spPr>
          <a:xfrm>
            <a:off x="563868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5792760" y="63244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6019920" y="259056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948720" y="1628640"/>
            <a:ext cx="12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5" name="" descr=""/>
          <p:cNvPicPr/>
          <p:nvPr/>
        </p:nvPicPr>
        <p:blipFill>
          <a:blip r:embed="rId13"/>
          <a:stretch/>
        </p:blipFill>
        <p:spPr>
          <a:xfrm>
            <a:off x="7543800" y="32767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2266" name=""/>
          <p:cNvSpPr/>
          <p:nvPr/>
        </p:nvSpPr>
        <p:spPr>
          <a:xfrm>
            <a:off x="7546680" y="28195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848720" y="43434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8001000" y="4343400"/>
            <a:ext cx="14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8305920" y="35049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0" name=""/>
          <p:cNvGraphicFramePr/>
          <p:nvPr/>
        </p:nvGraphicFramePr>
        <p:xfrm>
          <a:off x="8458200" y="3962520"/>
          <a:ext cx="457200" cy="38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58200" y="39625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2" name=""/>
          <p:cNvSpPr/>
          <p:nvPr/>
        </p:nvSpPr>
        <p:spPr>
          <a:xfrm>
            <a:off x="8305920" y="4114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7315200" y="5181480"/>
            <a:ext cx="1371600" cy="1295280"/>
            <a:chOff x="7315200" y="5181480"/>
            <a:chExt cx="1371600" cy="1295280"/>
          </a:xfrm>
        </p:grpSpPr>
        <p:sp>
          <p:nvSpPr>
            <p:cNvPr id="2274" name=""/>
            <p:cNvSpPr/>
            <p:nvPr/>
          </p:nvSpPr>
          <p:spPr>
            <a:xfrm>
              <a:off x="7315200" y="5181480"/>
              <a:ext cx="1371600" cy="129528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627320" y="5772960"/>
              <a:ext cx="9212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6659640" y="2205000"/>
            <a:ext cx="531720" cy="646200"/>
            <a:chOff x="6659640" y="2205000"/>
            <a:chExt cx="531720" cy="646200"/>
          </a:xfrm>
        </p:grpSpPr>
        <p:pic>
          <p:nvPicPr>
            <p:cNvPr id="2277" name="" descr=""/>
            <p:cNvPicPr/>
            <p:nvPr/>
          </p:nvPicPr>
          <p:blipFill>
            <a:blip r:embed="rId16"/>
            <a:stretch/>
          </p:blipFill>
          <p:spPr>
            <a:xfrm>
              <a:off x="6659640" y="2205000"/>
              <a:ext cx="53172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8" name=""/>
            <p:cNvSpPr/>
            <p:nvPr/>
          </p:nvSpPr>
          <p:spPr>
            <a:xfrm>
              <a:off x="6730920" y="2563560"/>
              <a:ext cx="36036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RMINAL H.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s y compon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1" name="" descr="Drawing"/>
          <p:cNvPicPr/>
          <p:nvPr/>
        </p:nvPicPr>
        <p:blipFill>
          <a:blip r:embed="rId1"/>
          <a:stretch/>
        </p:blipFill>
        <p:spPr>
          <a:xfrm>
            <a:off x="380880" y="1828800"/>
            <a:ext cx="8305920" cy="4762440"/>
          </a:xfrm>
          <a:prstGeom prst="rect">
            <a:avLst/>
          </a:prstGeom>
          <a:ln w="0">
            <a:noFill/>
          </a:ln>
        </p:spPr>
      </p:pic>
      <p:sp>
        <p:nvSpPr>
          <p:cNvPr id="2282" name=""/>
          <p:cNvSpPr/>
          <p:nvPr/>
        </p:nvSpPr>
        <p:spPr>
          <a:xfrm>
            <a:off x="6157800" y="2421000"/>
            <a:ext cx="7322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949800" y="2421000"/>
            <a:ext cx="596880" cy="824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137280" y="3881520"/>
            <a:ext cx="790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949800" y="3933720"/>
            <a:ext cx="586080" cy="1797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796000" y="4149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867280" y="4869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867280" y="551664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TP/R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1048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altime Transport Protocol/Realtime Transport Control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s orientados a la implementación de aplicaciones en tiempo real y sensibles a los retardos, sobre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n sobre U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reserva recursos ni garantiza tiempos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mente se implementa en el nivel aplicativo en la fuente y el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TP/R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1048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uertos utilizados son negociados durante el establecimiento de la sesión a través de protocolos como H.245 en H.323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Cisco utiliza desde el puerto UDP 16384.Por cada llamada adicional se agregan 4.  Segunda llamada: 163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pasar RTP a través de firewall se requie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el firewall entiende el protocolo de negociación para abrir dinámicamente los pu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brir los rangos de puertos adecu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á disponible para JAVA a través de Java Multimedia Frame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gunas aplicaciones que usan RTP/RTCP son: BambaPhone (video teléfono), Cu-SeeMe (video,audio y texto), IP/TV, Rexdez-Vous (Videoconferencia,Unicast/Multic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781680" y="4495680"/>
          <a:ext cx="457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495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00200" y="4572000"/>
          <a:ext cx="457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57200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flipV="1">
            <a:off x="2286000" y="47239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5484960"/>
          <a:ext cx="380880" cy="38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484960"/>
                    <a:ext cx="3808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85800" y="4538520"/>
          <a:ext cx="380880" cy="38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538520"/>
                    <a:ext cx="38088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85800" y="4038480"/>
          <a:ext cx="380880" cy="38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038480"/>
                    <a:ext cx="380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39880" y="5205240"/>
            <a:ext cx="41040" cy="46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9880" y="5038560"/>
            <a:ext cx="41040" cy="46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9880" y="5372280"/>
            <a:ext cx="41040" cy="45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3160" y="4425840"/>
            <a:ext cx="44460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6840" y="51055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14400" y="5257800"/>
            <a:ext cx="762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923240" y="3886200"/>
            <a:ext cx="382680" cy="1904760"/>
            <a:chOff x="7923240" y="3886200"/>
            <a:chExt cx="382680" cy="1904760"/>
          </a:xfrm>
        </p:grpSpPr>
        <p:graphicFrame>
          <p:nvGraphicFramePr>
            <p:cNvPr id="78" name=""/>
            <p:cNvGraphicFramePr/>
            <p:nvPr/>
          </p:nvGraphicFramePr>
          <p:xfrm>
            <a:off x="7923240" y="5391720"/>
            <a:ext cx="382680" cy="39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3240" y="539172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7923240" y="4407120"/>
            <a:ext cx="382680" cy="399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923240" y="440712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7923240" y="3886200"/>
            <a:ext cx="382680" cy="399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23240" y="3886200"/>
                      <a:ext cx="382680" cy="39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"/>
            <p:cNvSpPr/>
            <p:nvPr/>
          </p:nvSpPr>
          <p:spPr>
            <a:xfrm>
              <a:off x="8077680" y="5101200"/>
              <a:ext cx="41400" cy="47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77680" y="4927320"/>
              <a:ext cx="41400" cy="47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680" y="5275080"/>
              <a:ext cx="41400" cy="478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858000" y="403848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238880" y="4184640"/>
            <a:ext cx="71928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4800600"/>
            <a:ext cx="676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5105520"/>
            <a:ext cx="718920" cy="69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11480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24080" y="990720"/>
            <a:ext cx="2513880" cy="1294560"/>
            <a:chOff x="3124080" y="990720"/>
            <a:chExt cx="2513880" cy="1294560"/>
          </a:xfrm>
        </p:grpSpPr>
        <p:sp>
          <p:nvSpPr>
            <p:cNvPr id="93" name=""/>
            <p:cNvSpPr/>
            <p:nvPr/>
          </p:nvSpPr>
          <p:spPr>
            <a:xfrm>
              <a:off x="3124080" y="990720"/>
              <a:ext cx="2513880" cy="129456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5680" y="1262880"/>
              <a:ext cx="17460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WAN DA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QUE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6000" y="350532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14560" y="3352680"/>
            <a:ext cx="142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057400" y="1295280"/>
            <a:ext cx="456840" cy="533160"/>
            <a:chOff x="2057400" y="1295280"/>
            <a:chExt cx="456840" cy="533160"/>
          </a:xfrm>
        </p:grpSpPr>
        <p:grpSp>
          <p:nvGrpSpPr>
            <p:cNvPr id="99" name=""/>
            <p:cNvGrpSpPr/>
            <p:nvPr/>
          </p:nvGrpSpPr>
          <p:grpSpPr>
            <a:xfrm>
              <a:off x="2073600" y="1298160"/>
              <a:ext cx="440640" cy="530280"/>
              <a:chOff x="2073600" y="1298160"/>
              <a:chExt cx="440640" cy="530280"/>
            </a:xfrm>
          </p:grpSpPr>
          <p:sp>
            <p:nvSpPr>
              <p:cNvPr id="100" name=""/>
              <p:cNvSpPr/>
              <p:nvPr/>
            </p:nvSpPr>
            <p:spPr>
              <a:xfrm>
                <a:off x="2073600" y="1298160"/>
                <a:ext cx="440640" cy="55080"/>
              </a:xfrm>
              <a:custGeom>
                <a:avLst/>
                <a:gdLst/>
                <a:ahLst/>
                <a:rect l="l" t="t" r="r" b="b"/>
                <a:pathLst>
                  <a:path w="352" h="36">
                    <a:moveTo>
                      <a:pt x="0" y="35"/>
                    </a:moveTo>
                    <a:lnTo>
                      <a:pt x="42" y="0"/>
                    </a:lnTo>
                    <a:lnTo>
                      <a:pt x="351" y="0"/>
                    </a:lnTo>
                    <a:lnTo>
                      <a:pt x="312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73600" y="1357560"/>
                <a:ext cx="390240" cy="46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68880" y="1298160"/>
                <a:ext cx="45000" cy="530280"/>
              </a:xfrm>
              <a:custGeom>
                <a:avLst/>
                <a:gdLst/>
                <a:ahLst/>
                <a:rect l="l" t="t" r="r" b="b"/>
                <a:pathLst>
                  <a:path w="36" h="347">
                    <a:moveTo>
                      <a:pt x="0" y="38"/>
                    </a:moveTo>
                    <a:lnTo>
                      <a:pt x="35" y="0"/>
                    </a:lnTo>
                    <a:lnTo>
                      <a:pt x="35" y="303"/>
                    </a:lnTo>
                    <a:lnTo>
                      <a:pt x="0" y="346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057400" y="1295280"/>
              <a:ext cx="440640" cy="53640"/>
            </a:xfrm>
            <a:custGeom>
              <a:avLst/>
              <a:gdLst/>
              <a:ahLst/>
              <a:rect l="l" t="t" r="r" b="b"/>
              <a:pathLst>
                <a:path w="352" h="35">
                  <a:moveTo>
                    <a:pt x="0" y="34"/>
                  </a:moveTo>
                  <a:lnTo>
                    <a:pt x="42" y="0"/>
                  </a:lnTo>
                  <a:lnTo>
                    <a:pt x="351" y="0"/>
                  </a:lnTo>
                  <a:lnTo>
                    <a:pt x="312" y="34"/>
                  </a:lnTo>
                  <a:lnTo>
                    <a:pt x="0" y="3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62440" y="1362240"/>
              <a:ext cx="380520" cy="455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54120" y="1295280"/>
              <a:ext cx="43560" cy="530280"/>
            </a:xfrm>
            <a:custGeom>
              <a:avLst/>
              <a:gdLst/>
              <a:ahLst/>
              <a:rect l="l" t="t" r="r" b="b"/>
              <a:pathLst>
                <a:path w="35" h="347">
                  <a:moveTo>
                    <a:pt x="0" y="38"/>
                  </a:moveTo>
                  <a:lnTo>
                    <a:pt x="34" y="0"/>
                  </a:lnTo>
                  <a:lnTo>
                    <a:pt x="34" y="303"/>
                  </a:lnTo>
                  <a:lnTo>
                    <a:pt x="0" y="346"/>
                  </a:lnTo>
                  <a:lnTo>
                    <a:pt x="0" y="3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22560" y="1466280"/>
              <a:ext cx="272880" cy="279720"/>
            </a:xfrm>
            <a:custGeom>
              <a:avLst/>
              <a:gdLst/>
              <a:ahLst/>
              <a:rect l="l" t="t" r="r" b="b"/>
              <a:pathLst>
                <a:path w="218" h="183">
                  <a:moveTo>
                    <a:pt x="217" y="182"/>
                  </a:moveTo>
                  <a:lnTo>
                    <a:pt x="151" y="182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6440" y="1466280"/>
              <a:ext cx="284040" cy="279720"/>
            </a:xfrm>
            <a:custGeom>
              <a:avLst/>
              <a:gdLst/>
              <a:ahLst/>
              <a:rect l="l" t="t" r="r" b="b"/>
              <a:pathLst>
                <a:path w="227" h="183">
                  <a:moveTo>
                    <a:pt x="0" y="182"/>
                  </a:moveTo>
                  <a:lnTo>
                    <a:pt x="65" y="182"/>
                  </a:lnTo>
                  <a:lnTo>
                    <a:pt x="152" y="0"/>
                  </a:lnTo>
                  <a:lnTo>
                    <a:pt x="22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6640" y="1413000"/>
              <a:ext cx="50040" cy="10080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0"/>
                  </a:moveTo>
                  <a:lnTo>
                    <a:pt x="0" y="65"/>
                  </a:lnTo>
                  <a:lnTo>
                    <a:pt x="39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6640" y="1690920"/>
              <a:ext cx="50040" cy="10080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0"/>
                  </a:moveTo>
                  <a:lnTo>
                    <a:pt x="0" y="65"/>
                  </a:lnTo>
                  <a:lnTo>
                    <a:pt x="39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3680" y="1413000"/>
              <a:ext cx="51120" cy="10080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65"/>
                  </a:moveTo>
                  <a:lnTo>
                    <a:pt x="40" y="0"/>
                  </a:lnTo>
                  <a:lnTo>
                    <a:pt x="0" y="34"/>
                  </a:lnTo>
                  <a:lnTo>
                    <a:pt x="4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3680" y="1698480"/>
              <a:ext cx="51120" cy="10080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65"/>
                  </a:moveTo>
                  <a:lnTo>
                    <a:pt x="40" y="0"/>
                  </a:lnTo>
                  <a:lnTo>
                    <a:pt x="0" y="30"/>
                  </a:lnTo>
                  <a:lnTo>
                    <a:pt x="4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0800000">
              <a:off x="2206440" y="1548720"/>
              <a:ext cx="99000" cy="111600"/>
            </a:xfrm>
            <a:prstGeom prst="triangle">
              <a:avLst>
                <a:gd name="adj" fmla="val 49986"/>
              </a:avLst>
            </a:prstGeom>
            <a:solidFill>
              <a:srgbClr val="ff50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77120" y="1295280"/>
            <a:ext cx="456840" cy="533160"/>
            <a:chOff x="6477120" y="1295280"/>
            <a:chExt cx="456840" cy="533160"/>
          </a:xfrm>
        </p:grpSpPr>
        <p:grpSp>
          <p:nvGrpSpPr>
            <p:cNvPr id="114" name=""/>
            <p:cNvGrpSpPr/>
            <p:nvPr/>
          </p:nvGrpSpPr>
          <p:grpSpPr>
            <a:xfrm>
              <a:off x="6493320" y="1298160"/>
              <a:ext cx="440640" cy="530280"/>
              <a:chOff x="6493320" y="1298160"/>
              <a:chExt cx="440640" cy="530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493320" y="1298160"/>
                <a:ext cx="440640" cy="55080"/>
              </a:xfrm>
              <a:custGeom>
                <a:avLst/>
                <a:gdLst/>
                <a:ahLst/>
                <a:rect l="l" t="t" r="r" b="b"/>
                <a:pathLst>
                  <a:path w="352" h="36">
                    <a:moveTo>
                      <a:pt x="0" y="35"/>
                    </a:moveTo>
                    <a:lnTo>
                      <a:pt x="42" y="0"/>
                    </a:lnTo>
                    <a:lnTo>
                      <a:pt x="351" y="0"/>
                    </a:lnTo>
                    <a:lnTo>
                      <a:pt x="312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93320" y="1357560"/>
                <a:ext cx="390240" cy="46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88600" y="1298160"/>
                <a:ext cx="45000" cy="530280"/>
              </a:xfrm>
              <a:custGeom>
                <a:avLst/>
                <a:gdLst/>
                <a:ahLst/>
                <a:rect l="l" t="t" r="r" b="b"/>
                <a:pathLst>
                  <a:path w="36" h="347">
                    <a:moveTo>
                      <a:pt x="0" y="38"/>
                    </a:moveTo>
                    <a:lnTo>
                      <a:pt x="35" y="0"/>
                    </a:lnTo>
                    <a:lnTo>
                      <a:pt x="35" y="303"/>
                    </a:lnTo>
                    <a:lnTo>
                      <a:pt x="0" y="346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6477120" y="1295280"/>
              <a:ext cx="440640" cy="53640"/>
            </a:xfrm>
            <a:custGeom>
              <a:avLst/>
              <a:gdLst/>
              <a:ahLst/>
              <a:rect l="l" t="t" r="r" b="b"/>
              <a:pathLst>
                <a:path w="352" h="35">
                  <a:moveTo>
                    <a:pt x="0" y="34"/>
                  </a:moveTo>
                  <a:lnTo>
                    <a:pt x="42" y="0"/>
                  </a:lnTo>
                  <a:lnTo>
                    <a:pt x="351" y="0"/>
                  </a:lnTo>
                  <a:lnTo>
                    <a:pt x="312" y="34"/>
                  </a:lnTo>
                  <a:lnTo>
                    <a:pt x="0" y="3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82160" y="1362240"/>
              <a:ext cx="380520" cy="455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3840" y="1295280"/>
              <a:ext cx="43560" cy="530280"/>
            </a:xfrm>
            <a:custGeom>
              <a:avLst/>
              <a:gdLst/>
              <a:ahLst/>
              <a:rect l="l" t="t" r="r" b="b"/>
              <a:pathLst>
                <a:path w="35" h="347">
                  <a:moveTo>
                    <a:pt x="0" y="38"/>
                  </a:moveTo>
                  <a:lnTo>
                    <a:pt x="34" y="0"/>
                  </a:lnTo>
                  <a:lnTo>
                    <a:pt x="34" y="303"/>
                  </a:lnTo>
                  <a:lnTo>
                    <a:pt x="0" y="346"/>
                  </a:lnTo>
                  <a:lnTo>
                    <a:pt x="0" y="38"/>
                  </a:lnTo>
                </a:path>
              </a:pathLst>
            </a:custGeom>
            <a:solidFill>
              <a:srgbClr val="47474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42280" y="1466280"/>
              <a:ext cx="272880" cy="279720"/>
            </a:xfrm>
            <a:custGeom>
              <a:avLst/>
              <a:gdLst/>
              <a:ahLst/>
              <a:rect l="l" t="t" r="r" b="b"/>
              <a:pathLst>
                <a:path w="218" h="183">
                  <a:moveTo>
                    <a:pt x="217" y="182"/>
                  </a:moveTo>
                  <a:lnTo>
                    <a:pt x="151" y="182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6160" y="1466280"/>
              <a:ext cx="284040" cy="279720"/>
            </a:xfrm>
            <a:custGeom>
              <a:avLst/>
              <a:gdLst/>
              <a:ahLst/>
              <a:rect l="l" t="t" r="r" b="b"/>
              <a:pathLst>
                <a:path w="227" h="183">
                  <a:moveTo>
                    <a:pt x="0" y="182"/>
                  </a:moveTo>
                  <a:lnTo>
                    <a:pt x="65" y="182"/>
                  </a:lnTo>
                  <a:lnTo>
                    <a:pt x="152" y="0"/>
                  </a:lnTo>
                  <a:lnTo>
                    <a:pt x="22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6360" y="1413000"/>
              <a:ext cx="50040" cy="10080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0"/>
                  </a:moveTo>
                  <a:lnTo>
                    <a:pt x="0" y="65"/>
                  </a:lnTo>
                  <a:lnTo>
                    <a:pt x="39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6360" y="1690920"/>
              <a:ext cx="50040" cy="10080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0"/>
                  </a:moveTo>
                  <a:lnTo>
                    <a:pt x="0" y="65"/>
                  </a:lnTo>
                  <a:lnTo>
                    <a:pt x="39" y="3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03400" y="1413000"/>
              <a:ext cx="51120" cy="10080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65"/>
                  </a:moveTo>
                  <a:lnTo>
                    <a:pt x="40" y="0"/>
                  </a:lnTo>
                  <a:lnTo>
                    <a:pt x="0" y="34"/>
                  </a:lnTo>
                  <a:lnTo>
                    <a:pt x="4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03400" y="1698480"/>
              <a:ext cx="51120" cy="100800"/>
            </a:xfrm>
            <a:custGeom>
              <a:avLst/>
              <a:gdLst/>
              <a:ahLst/>
              <a:rect l="l" t="t" r="r" b="b"/>
              <a:pathLst>
                <a:path w="41" h="66">
                  <a:moveTo>
                    <a:pt x="40" y="65"/>
                  </a:moveTo>
                  <a:lnTo>
                    <a:pt x="40" y="0"/>
                  </a:lnTo>
                  <a:lnTo>
                    <a:pt x="0" y="30"/>
                  </a:lnTo>
                  <a:lnTo>
                    <a:pt x="40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0800000">
              <a:off x="6626160" y="1548720"/>
              <a:ext cx="99000" cy="111600"/>
            </a:xfrm>
            <a:prstGeom prst="triangle">
              <a:avLst>
                <a:gd name="adj" fmla="val 49986"/>
              </a:avLst>
            </a:prstGeom>
            <a:solidFill>
              <a:srgbClr val="ff500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200400" y="3886200"/>
            <a:ext cx="2742480" cy="1370880"/>
            <a:chOff x="3200400" y="3886200"/>
            <a:chExt cx="2742480" cy="1370880"/>
          </a:xfrm>
        </p:grpSpPr>
        <p:sp>
          <p:nvSpPr>
            <p:cNvPr id="129" name=""/>
            <p:cNvSpPr/>
            <p:nvPr/>
          </p:nvSpPr>
          <p:spPr>
            <a:xfrm>
              <a:off x="3200400" y="3886200"/>
              <a:ext cx="2742480" cy="137088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5200" y="4174560"/>
              <a:ext cx="2000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RED TELEFON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UB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2209680" y="4572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572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46483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600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0574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90512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5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1600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914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914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990720" y="91440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8"/>
          <a:stretch/>
        </p:blipFill>
        <p:spPr>
          <a:xfrm>
            <a:off x="990720" y="152388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9"/>
          <a:stretch/>
        </p:blipFill>
        <p:spPr>
          <a:xfrm>
            <a:off x="990720" y="213372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0"/>
          <a:stretch/>
        </p:blipFill>
        <p:spPr>
          <a:xfrm>
            <a:off x="7620120" y="76212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1"/>
          <a:stretch/>
        </p:blipFill>
        <p:spPr>
          <a:xfrm>
            <a:off x="7620120" y="1371600"/>
            <a:ext cx="34452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2"/>
          <a:stretch/>
        </p:blipFill>
        <p:spPr>
          <a:xfrm>
            <a:off x="7696080" y="2057400"/>
            <a:ext cx="34452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143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1752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3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TP/R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capsulación utilizando R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305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 de transferencia R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e mecanismos de sincronización (temporización) y secuencialización para mantener el orden de env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e varios tipos de formatos de contenido: GSM, JPEG, G.723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8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96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VERHEAD SOBRE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ción de voz (típicamente 20ms) se encapsula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-UDP-RTP-V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ENCABEZADO=IP(20B)+UDP(8B)+RTP(12B)=40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quema típico se envían muestras de 20 ms, por tanto 50 en un segun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overhead de IP/UDP/RTP es 40 Bytes=320 bits, de entrada habría un overhead de 16 Kbps en encabe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tanto se requieren de mecanismos de compresión (cRTP)  para enlaces de baja capacidad (menos de 2Mb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nlaces de alta capacidad (2 Mbps, 10 Mbps, etc) es preferible no comprim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VERHEAD SOBRE 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4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RESION DE RTP - cR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7628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7" name="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6858000" cy="2565360"/>
          </a:xfrm>
          <a:prstGeom prst="rect">
            <a:avLst/>
          </a:prstGeom>
          <a:ln w="0">
            <a:noFill/>
          </a:ln>
        </p:spPr>
      </p:pic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rime los encabezados IP/UDP/RTP en 2 o 4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cada extremo se crea una entrada en una tabla de sesiones, donde se guardan los campos que no cambian: IP’s, puertos, SSRC, Payload typ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s campos son reemplazados por un índice en la tabla llamado CID (Session Context Identifi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ando los campos cambian se manda el paquete compl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 caso anterior el overhead pasa 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6Kbps=4bytes*8bits*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28600" y="836280"/>
            <a:ext cx="861048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 Time Control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mecanismos para notificar el estado de la distribución y calidad del tráfico entre la fuente y el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 el puerto RTP+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varios tipos de formatos para la fuente y el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RANSPORTE CON MP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or las facilidades de Calidad de servicio, Ingeniería de tráfico se plantea la posibilidad de llevar voz sobre MP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IPoM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M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oIPoMP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oz sobre IP convencional se transporte a través de la red MP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quema defendido por el IETF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bicuidad de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las técnicas de compresión de encabezados consumo de ancho de banda 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a en los mecanismos de Q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capsulación Voz/RTP/UDP/IP + Lab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 tener extremo a extremo (teléfono IP, softphone, et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VoMP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voz se encapsula directamente con encabezados MP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limina IP (Se pierde la ubicuidad de I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ilar a la voz sobre ATM o Frame R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duce el over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mente rechazada por IETF en pro de VoIPoMP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provechan las capacidades de MPLS como QoS, Ingeniería de tráfico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pueden crear túneles para manejo de voz entre gate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 label externo se identifica el LSP y con uno interno la llamada en parti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algunos casos los Gateways deben convertir de nuevo a VoIP ya que VoMPLS en solo en el core MP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grar bajo una sola plataforma de comunicaciones DATOS y VOZ, principalmente para reducir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trata solo de llevar voz, sino de implementar servicios de la telefonía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ción por tonos (DTMF) o pul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vío y recepción de f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porte de conexión de mod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lamada en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ferencia de llam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dentificación de llamada (Caller I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o de 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0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4896000"/>
          </a:xfrm>
          <a:prstGeom prst="rect">
            <a:avLst/>
          </a:prstGeom>
          <a:ln w="0">
            <a:noFill/>
          </a:ln>
        </p:spPr>
      </p:pic>
      <p:sp>
        <p:nvSpPr>
          <p:cNvPr id="2321" name=""/>
          <p:cNvSpPr/>
          <p:nvPr/>
        </p:nvSpPr>
        <p:spPr>
          <a:xfrm>
            <a:off x="1238040" y="589752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WF: InterNetwork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3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820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61048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bicado en el borde de la red MP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funcionalidad hacia red tradi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ST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o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oA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Hacia MPLS pue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blecer un nuevo L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blecer la calidad de servicio requer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capsular voz en paquetes MPLS p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STRUCTURA DEL PDU MP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7" name="" descr=""/>
          <p:cNvPicPr/>
          <p:nvPr/>
        </p:nvPicPr>
        <p:blipFill>
          <a:blip r:embed="rId1"/>
          <a:stretch/>
        </p:blipFill>
        <p:spPr>
          <a:xfrm>
            <a:off x="395280" y="4103640"/>
            <a:ext cx="7993080" cy="2754360"/>
          </a:xfrm>
          <a:prstGeom prst="rect">
            <a:avLst/>
          </a:prstGeom>
          <a:ln w="0">
            <a:noFill/>
          </a:ln>
        </p:spPr>
      </p:pic>
      <p:sp>
        <p:nvSpPr>
          <p:cNvPr id="2328" name=""/>
          <p:cNvSpPr/>
          <p:nvPr/>
        </p:nvSpPr>
        <p:spPr>
          <a:xfrm>
            <a:off x="4716360" y="4292640"/>
            <a:ext cx="2087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Payload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50920" y="692280"/>
            <a:ext cx="861048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el Externo (Mandato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el Interno (Opcion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ormación de control (Opcion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s tipos de Paylo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ry Payload: lleva la vo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Payload: lleva la señ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580720" y="6093000"/>
            <a:ext cx="184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load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 PRIMARY PAY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61048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D: Identifica una llamada al interior de un L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-247 Canales de voz de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48: Reservado para procedimientos de adminis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49: Señ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0-255: Reserv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yload type: indica esquema de codific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-192 V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3-223: Reserv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4-255: Control payloa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3" name="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6624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RUCTURA CONTROL PAY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304920" y="765000"/>
            <a:ext cx="86104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D: Igual que primary payl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yload typ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40 (Dialed Dig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41 (Channel Associated Sign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90544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104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ULTIPLEXACION DE VARIAS LLAMADAS SOBRE L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8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IGNALING (SEÑALIZACION):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Indicaciones o información entre los diversos componentes en el sistema telefónico (PABX, centrales, teléfonos) para el establecimiento, mantenimiento y terminación de una comunicación o llam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jemplo: señales o mensajes para indicar el cuelgue, descuelgue, marcación, ocupado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IN-BAND SIGNALING (SEÑALIZACION EN BANDA):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la señalización se hace por el mismo “canal” utilizado para el envío de la información. Ej: sistema telefónico convenc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OUT-BAND SIGNALING (SEÑALIZACION FUERA DE BANDA: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 La señalización tiene un canal especial. Ejemplo: RDSI con el canal 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EN ENLACES DIG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MON CHANNEL SIGNALING (SEÑALIZACION DE CANAL COMUN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un enlace de varios canales (Ej: E1/T1), uno de los canales se reserva para la señalización de todos. Eje: Canal D en RD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LL ASSOCIATED SIGNALING (SEÑALIZACION DE CANAL ASOCIADO)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ñalización viaja en el ca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solución de telefonía sobre datos se presentan dos señaliz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los equipos en el dominio de datos. Eje: H.323, SI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los equipos telefónicos tradicionales: Eje:  DTMF, R2, SS7, QSI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EN LA RED DE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s esqu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ue parten de que el terminal es inteligente. Enfoque distribui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.323 (ITU-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P (IET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que parten de que el terminal es bruto -teléfono básico. Enfoque centr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GCP (IET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GACO (IETF) -H.248 (ITU-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des privadas (no carriers) fue adoptado H.323 pero hay tendencia a migrar a S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arriers es típico MEGACO/H.2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 haber tantos estándares es el componente más comple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NDO DE LA COMPUT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 sus equipos (Enrutadores, computadores,  Frads o Multiplexores) para recibir el mundo de la telefonía. Ejemplo: Cisco, Micom, 3C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a Gateways dedicados a la telefonía. Ej: Quin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NDO DE LA TELEFO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 sus equipos (plantas telefónicas) y teléfonos para acoplarse al mundo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ALCATEL, Ericsson, Avaya, Nortel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2472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TELEFONIA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28600" y="105228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de los esquemas de señalización de la telefonía tradicional má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T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1/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S7  (Actualmente la más utilizada en redes públic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D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SIG (Generalmente utilizada en redes pri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gateways entre la telefonía tradicional y la basada en redes de datos deben manejar la señalización de ambos m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ÑALIZACIONES EN RED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8" name=""/>
          <p:cNvGraphicFramePr/>
          <p:nvPr/>
        </p:nvGraphicFramePr>
        <p:xfrm>
          <a:off x="685800" y="3284640"/>
          <a:ext cx="735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84640"/>
                    <a:ext cx="735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0" name=""/>
          <p:cNvSpPr/>
          <p:nvPr/>
        </p:nvSpPr>
        <p:spPr>
          <a:xfrm>
            <a:off x="314640" y="2716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3419640" y="1628640"/>
            <a:ext cx="2655360" cy="2160360"/>
            <a:chOff x="3419640" y="1628640"/>
            <a:chExt cx="2655360" cy="2160360"/>
          </a:xfrm>
        </p:grpSpPr>
        <p:sp>
          <p:nvSpPr>
            <p:cNvPr id="2352" name=""/>
            <p:cNvSpPr/>
            <p:nvPr/>
          </p:nvSpPr>
          <p:spPr>
            <a:xfrm>
              <a:off x="3419640" y="1628640"/>
              <a:ext cx="2655360" cy="21603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020480" y="2614680"/>
              <a:ext cx="16567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4" name=""/>
          <p:cNvSpPr/>
          <p:nvPr/>
        </p:nvSpPr>
        <p:spPr>
          <a:xfrm>
            <a:off x="1771560" y="24922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 flipV="1">
            <a:off x="1403280" y="2949480"/>
            <a:ext cx="52560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451560" y="249228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132000" y="2708280"/>
            <a:ext cx="38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138720" y="2873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1563840" y="1461960"/>
            <a:ext cx="1655280" cy="609840"/>
            <a:chOff x="1563840" y="1461960"/>
            <a:chExt cx="1655280" cy="609840"/>
          </a:xfrm>
        </p:grpSpPr>
        <p:pic>
          <p:nvPicPr>
            <p:cNvPr id="2360" name="" descr=""/>
            <p:cNvPicPr/>
            <p:nvPr/>
          </p:nvPicPr>
          <p:blipFill>
            <a:blip r:embed="rId3"/>
            <a:stretch/>
          </p:blipFill>
          <p:spPr>
            <a:xfrm>
              <a:off x="1563840" y="1461960"/>
              <a:ext cx="49644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1" name=""/>
            <p:cNvSpPr/>
            <p:nvPr/>
          </p:nvSpPr>
          <p:spPr>
            <a:xfrm>
              <a:off x="1687680" y="2071800"/>
              <a:ext cx="153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2" name="" descr=""/>
            <p:cNvPicPr/>
            <p:nvPr/>
          </p:nvPicPr>
          <p:blipFill>
            <a:blip r:embed="rId4"/>
            <a:stretch/>
          </p:blipFill>
          <p:spPr>
            <a:xfrm>
              <a:off x="2101680" y="1461960"/>
              <a:ext cx="49644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3" name="" descr=""/>
            <p:cNvPicPr/>
            <p:nvPr/>
          </p:nvPicPr>
          <p:blipFill>
            <a:blip r:embed="rId5"/>
            <a:stretch/>
          </p:blipFill>
          <p:spPr>
            <a:xfrm>
              <a:off x="2681280" y="1461960"/>
              <a:ext cx="49644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4" name=""/>
          <p:cNvSpPr/>
          <p:nvPr/>
        </p:nvSpPr>
        <p:spPr>
          <a:xfrm>
            <a:off x="229716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6381720" y="1501920"/>
            <a:ext cx="1655280" cy="609480"/>
            <a:chOff x="6381720" y="1501920"/>
            <a:chExt cx="1655280" cy="609480"/>
          </a:xfrm>
        </p:grpSpPr>
        <p:pic>
          <p:nvPicPr>
            <p:cNvPr id="2366" name="" descr=""/>
            <p:cNvPicPr/>
            <p:nvPr/>
          </p:nvPicPr>
          <p:blipFill>
            <a:blip r:embed="rId6"/>
            <a:stretch/>
          </p:blipFill>
          <p:spPr>
            <a:xfrm>
              <a:off x="6381720" y="1501920"/>
              <a:ext cx="4964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7" name=""/>
            <p:cNvSpPr/>
            <p:nvPr/>
          </p:nvSpPr>
          <p:spPr>
            <a:xfrm>
              <a:off x="6505560" y="2111400"/>
              <a:ext cx="153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8" name="" descr=""/>
            <p:cNvPicPr/>
            <p:nvPr/>
          </p:nvPicPr>
          <p:blipFill>
            <a:blip r:embed="rId7"/>
            <a:stretch/>
          </p:blipFill>
          <p:spPr>
            <a:xfrm>
              <a:off x="6919560" y="1501920"/>
              <a:ext cx="49644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9" name="" descr=""/>
            <p:cNvPicPr/>
            <p:nvPr/>
          </p:nvPicPr>
          <p:blipFill>
            <a:blip r:embed="rId8"/>
            <a:stretch/>
          </p:blipFill>
          <p:spPr>
            <a:xfrm>
              <a:off x="7499160" y="1501920"/>
              <a:ext cx="49644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0" name=""/>
          <p:cNvSpPr/>
          <p:nvPr/>
        </p:nvSpPr>
        <p:spPr>
          <a:xfrm>
            <a:off x="712944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14400" y="435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066680" y="435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219320" y="435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443640" y="4795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8459640" y="3068640"/>
          <a:ext cx="4572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59640" y="306864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7" name=""/>
          <p:cNvGraphicFramePr/>
          <p:nvPr/>
        </p:nvGraphicFramePr>
        <p:xfrm>
          <a:off x="8459640" y="2421000"/>
          <a:ext cx="45720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59640" y="24210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9" name=""/>
          <p:cNvGraphicFramePr/>
          <p:nvPr/>
        </p:nvGraphicFramePr>
        <p:xfrm>
          <a:off x="0" y="3284640"/>
          <a:ext cx="457200" cy="38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328464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1" name=""/>
          <p:cNvGraphicFramePr/>
          <p:nvPr/>
        </p:nvGraphicFramePr>
        <p:xfrm>
          <a:off x="0" y="3817800"/>
          <a:ext cx="457200" cy="38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381780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"/>
          <p:cNvGraphicFramePr/>
          <p:nvPr/>
        </p:nvGraphicFramePr>
        <p:xfrm>
          <a:off x="0" y="4351320"/>
          <a:ext cx="4572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0" y="43513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5" name=""/>
          <p:cNvSpPr/>
          <p:nvPr/>
        </p:nvSpPr>
        <p:spPr>
          <a:xfrm>
            <a:off x="380880" y="35892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380880" y="397008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380880" y="4122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995480" y="2830680"/>
            <a:ext cx="36036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03280" y="2975040"/>
            <a:ext cx="66348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430160" y="450864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.323, S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3058920" y="47959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7812000" y="26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7812000" y="292428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7887600" y="5084640"/>
            <a:ext cx="102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/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5" name=""/>
          <p:cNvGraphicFramePr/>
          <p:nvPr/>
        </p:nvGraphicFramePr>
        <p:xfrm>
          <a:off x="8172360" y="3645000"/>
          <a:ext cx="735120" cy="1066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72360" y="3645000"/>
                    <a:ext cx="735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7" name=""/>
          <p:cNvSpPr/>
          <p:nvPr/>
        </p:nvSpPr>
        <p:spPr>
          <a:xfrm>
            <a:off x="7524720" y="292428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97800" y="5084640"/>
            <a:ext cx="102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/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133200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0" y="558972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914400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8820000" y="5445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774036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BICACIÓN DE LAS SEÑALIZACIONES EN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3924360" y="3786120"/>
            <a:ext cx="2232000" cy="1468440"/>
            <a:chOff x="3924360" y="3786120"/>
            <a:chExt cx="2232000" cy="1468440"/>
          </a:xfrm>
        </p:grpSpPr>
        <p:sp>
          <p:nvSpPr>
            <p:cNvPr id="2406" name=""/>
            <p:cNvSpPr/>
            <p:nvPr/>
          </p:nvSpPr>
          <p:spPr>
            <a:xfrm>
              <a:off x="3924360" y="3786120"/>
              <a:ext cx="2232000" cy="14684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428720" y="4218120"/>
              <a:ext cx="1527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WAN DAT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8" name=""/>
          <p:cNvGrpSpPr/>
          <p:nvPr/>
        </p:nvGrpSpPr>
        <p:grpSpPr>
          <a:xfrm>
            <a:off x="900000" y="2128680"/>
            <a:ext cx="2231640" cy="1830240"/>
            <a:chOff x="900000" y="2128680"/>
            <a:chExt cx="2231640" cy="1830240"/>
          </a:xfrm>
        </p:grpSpPr>
        <p:sp>
          <p:nvSpPr>
            <p:cNvPr id="2409" name=""/>
            <p:cNvSpPr/>
            <p:nvPr/>
          </p:nvSpPr>
          <p:spPr>
            <a:xfrm>
              <a:off x="900000" y="2128680"/>
              <a:ext cx="2231640" cy="18302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05080" y="2964240"/>
              <a:ext cx="114984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11" name=""/>
          <p:cNvGraphicFramePr/>
          <p:nvPr/>
        </p:nvGraphicFramePr>
        <p:xfrm>
          <a:off x="1405080" y="2346480"/>
          <a:ext cx="4460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234648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3" name=""/>
          <p:cNvGraphicFramePr/>
          <p:nvPr/>
        </p:nvGraphicFramePr>
        <p:xfrm>
          <a:off x="2340000" y="2346480"/>
          <a:ext cx="4460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2346480"/>
                    <a:ext cx="4460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5" name=""/>
          <p:cNvGraphicFramePr/>
          <p:nvPr/>
        </p:nvGraphicFramePr>
        <p:xfrm>
          <a:off x="1908000" y="3354480"/>
          <a:ext cx="4464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354480"/>
                    <a:ext cx="446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7" name=""/>
          <p:cNvSpPr/>
          <p:nvPr/>
        </p:nvSpPr>
        <p:spPr>
          <a:xfrm flipH="1" flipV="1">
            <a:off x="1547280" y="29210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V="1">
            <a:off x="2340000" y="299412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836720" y="26337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0" name=""/>
          <p:cNvGraphicFramePr/>
          <p:nvPr/>
        </p:nvGraphicFramePr>
        <p:xfrm>
          <a:off x="1189080" y="4145040"/>
          <a:ext cx="3603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9080" y="414504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2" name=""/>
          <p:cNvSpPr/>
          <p:nvPr/>
        </p:nvSpPr>
        <p:spPr>
          <a:xfrm flipV="1">
            <a:off x="1476360" y="40021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060720" y="3857760"/>
            <a:ext cx="477360" cy="728640"/>
            <a:chOff x="3060720" y="3857760"/>
            <a:chExt cx="477360" cy="728640"/>
          </a:xfrm>
        </p:grpSpPr>
        <p:sp>
          <p:nvSpPr>
            <p:cNvPr id="2424" name=""/>
            <p:cNvSpPr/>
            <p:nvPr/>
          </p:nvSpPr>
          <p:spPr>
            <a:xfrm>
              <a:off x="3479040" y="385776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060720" y="392652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097080" y="396180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091320" y="44107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216600" y="441072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340080" y="44107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10716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13776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16872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0112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23172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26268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29364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32460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35556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38796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418920" y="40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133800" y="446292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261600" y="44629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371040" y="44629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062160" y="386604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09420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12516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15612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18852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21948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25044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28140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31200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34296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37536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405960" y="40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6" name=""/>
          <p:cNvSpPr/>
          <p:nvPr/>
        </p:nvSpPr>
        <p:spPr>
          <a:xfrm>
            <a:off x="3492360" y="4362480"/>
            <a:ext cx="432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340000" y="400212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918160" y="4578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2989440" y="5657760"/>
            <a:ext cx="477360" cy="728640"/>
            <a:chOff x="2989440" y="5657760"/>
            <a:chExt cx="477360" cy="728640"/>
          </a:xfrm>
        </p:grpSpPr>
        <p:sp>
          <p:nvSpPr>
            <p:cNvPr id="2460" name=""/>
            <p:cNvSpPr/>
            <p:nvPr/>
          </p:nvSpPr>
          <p:spPr>
            <a:xfrm>
              <a:off x="3407760" y="565776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989440" y="5726520"/>
              <a:ext cx="41976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025800" y="5761800"/>
              <a:ext cx="34668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020040" y="62107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145320" y="6210720"/>
              <a:ext cx="1076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268800" y="621072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03588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06648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09744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12984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16044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19140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22236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25332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28428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31668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347640" y="586656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062520" y="626292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190320" y="62629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299760" y="62629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990880" y="5666040"/>
              <a:ext cx="46728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2292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5388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08484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11724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14820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7916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21012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24072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27168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30408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334680" y="586656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2" name=""/>
          <p:cNvSpPr/>
          <p:nvPr/>
        </p:nvSpPr>
        <p:spPr>
          <a:xfrm flipV="1">
            <a:off x="3421080" y="5081760"/>
            <a:ext cx="7192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844720" y="6378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4" name=""/>
          <p:cNvGraphicFramePr/>
          <p:nvPr/>
        </p:nvGraphicFramePr>
        <p:xfrm>
          <a:off x="1981080" y="5513400"/>
          <a:ext cx="36036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51340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6" name=""/>
          <p:cNvSpPr/>
          <p:nvPr/>
        </p:nvSpPr>
        <p:spPr>
          <a:xfrm>
            <a:off x="2268360" y="572940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7" name=""/>
          <p:cNvGraphicFramePr/>
          <p:nvPr/>
        </p:nvGraphicFramePr>
        <p:xfrm>
          <a:off x="1979640" y="6281640"/>
          <a:ext cx="36036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79640" y="6281640"/>
                    <a:ext cx="360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9" name=""/>
          <p:cNvSpPr/>
          <p:nvPr/>
        </p:nvSpPr>
        <p:spPr>
          <a:xfrm flipV="1">
            <a:off x="2197080" y="608976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0" name=""/>
          <p:cNvGrpSpPr/>
          <p:nvPr/>
        </p:nvGrpSpPr>
        <p:grpSpPr>
          <a:xfrm>
            <a:off x="5076720" y="5729400"/>
            <a:ext cx="477720" cy="728640"/>
            <a:chOff x="5076720" y="5729400"/>
            <a:chExt cx="477720" cy="728640"/>
          </a:xfrm>
        </p:grpSpPr>
        <p:sp>
          <p:nvSpPr>
            <p:cNvPr id="2501" name=""/>
            <p:cNvSpPr/>
            <p:nvPr/>
          </p:nvSpPr>
          <p:spPr>
            <a:xfrm>
              <a:off x="5495400" y="5729400"/>
              <a:ext cx="59040" cy="72864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076720" y="5798160"/>
              <a:ext cx="420120" cy="657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113080" y="5833440"/>
              <a:ext cx="347040" cy="3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07320" y="628236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32600" y="6282360"/>
              <a:ext cx="10800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356440" y="6282360"/>
              <a:ext cx="109440" cy="1569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2316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15412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18508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1712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4808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7904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31000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34096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37156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0432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35280" y="5938200"/>
              <a:ext cx="0" cy="2822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49800" y="6334560"/>
              <a:ext cx="3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277600" y="6334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387400" y="633456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078160" y="5737680"/>
              <a:ext cx="467640" cy="547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11020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14116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17212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20452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23548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26644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29740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32836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35932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39136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22320" y="5938200"/>
              <a:ext cx="0" cy="2822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5076720" y="52261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710240" y="6521400"/>
            <a:ext cx="15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6804000" y="3714840"/>
            <a:ext cx="1366920" cy="863640"/>
            <a:chOff x="6804000" y="3714840"/>
            <a:chExt cx="1366920" cy="863640"/>
          </a:xfrm>
        </p:grpSpPr>
        <p:sp>
          <p:nvSpPr>
            <p:cNvPr id="2536" name=""/>
            <p:cNvSpPr/>
            <p:nvPr/>
          </p:nvSpPr>
          <p:spPr>
            <a:xfrm>
              <a:off x="6804000" y="3714840"/>
              <a:ext cx="136692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62920" y="4032360"/>
              <a:ext cx="936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8" name=""/>
          <p:cNvGrpSpPr/>
          <p:nvPr/>
        </p:nvGrpSpPr>
        <p:grpSpPr>
          <a:xfrm>
            <a:off x="6875640" y="4722840"/>
            <a:ext cx="1366560" cy="863640"/>
            <a:chOff x="6875640" y="4722840"/>
            <a:chExt cx="1366560" cy="863640"/>
          </a:xfrm>
        </p:grpSpPr>
        <p:sp>
          <p:nvSpPr>
            <p:cNvPr id="2539" name=""/>
            <p:cNvSpPr/>
            <p:nvPr/>
          </p:nvSpPr>
          <p:spPr>
            <a:xfrm>
              <a:off x="6875640" y="4722840"/>
              <a:ext cx="1366560" cy="8636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234200" y="5040360"/>
              <a:ext cx="9363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H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3490920" y="1843200"/>
            <a:ext cx="3528720" cy="1726560"/>
            <a:chOff x="3490920" y="1843200"/>
            <a:chExt cx="3528720" cy="1726560"/>
          </a:xfrm>
        </p:grpSpPr>
        <p:sp>
          <p:nvSpPr>
            <p:cNvPr id="2542" name=""/>
            <p:cNvSpPr/>
            <p:nvPr/>
          </p:nvSpPr>
          <p:spPr>
            <a:xfrm>
              <a:off x="3490920" y="1843200"/>
              <a:ext cx="3528720" cy="17265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4289040" y="2351160"/>
              <a:ext cx="1259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4" name=""/>
          <p:cNvSpPr/>
          <p:nvPr/>
        </p:nvSpPr>
        <p:spPr>
          <a:xfrm flipH="1" flipV="1">
            <a:off x="6082920" y="4651200"/>
            <a:ext cx="865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H="1">
            <a:off x="6012000" y="42908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5148360" y="3498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211640" y="31384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790160" y="3067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9" name=""/>
          <p:cNvGraphicFramePr/>
          <p:nvPr/>
        </p:nvGraphicFramePr>
        <p:xfrm>
          <a:off x="7596360" y="5875200"/>
          <a:ext cx="576000" cy="49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96360" y="5875200"/>
                    <a:ext cx="576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1" name=""/>
          <p:cNvSpPr/>
          <p:nvPr/>
        </p:nvSpPr>
        <p:spPr>
          <a:xfrm>
            <a:off x="7740720" y="551484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2" name=""/>
          <p:cNvGraphicFramePr/>
          <p:nvPr/>
        </p:nvGraphicFramePr>
        <p:xfrm>
          <a:off x="8099280" y="3067200"/>
          <a:ext cx="576360" cy="495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5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099280" y="3067200"/>
                    <a:ext cx="57636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4" name=""/>
          <p:cNvSpPr/>
          <p:nvPr/>
        </p:nvSpPr>
        <p:spPr>
          <a:xfrm flipV="1">
            <a:off x="7883640" y="357012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3419640" y="1482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826560" y="24908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7" name=""/>
          <p:cNvGraphicFramePr/>
          <p:nvPr/>
        </p:nvGraphicFramePr>
        <p:xfrm>
          <a:off x="682560" y="2274840"/>
          <a:ext cx="360360" cy="380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5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82560" y="2274840"/>
                    <a:ext cx="360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9" name=""/>
          <p:cNvSpPr/>
          <p:nvPr/>
        </p:nvSpPr>
        <p:spPr>
          <a:xfrm>
            <a:off x="4574160" y="112248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.323, 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GCP, MEGACO/H.2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236000" y="1554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431280" y="1482840"/>
            <a:ext cx="75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556000" y="14828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405440" y="112248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T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S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1/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ÑALIZACION EN LA RED DE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4768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s esqu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que parten de que el terminal es inteligente. Enfoque distribui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323 (ITU-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P (IET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que parten de que el terminal es bruto -teléfono básico. Enfoque central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GCP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GACO (IETF) -H.248 (ITU-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redes privadas (no carriers) fue adoptado H.323 pero hay tendencia a migrar a SI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arriers es típico MEGACO/H.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haber tantos estándares es el componente más comple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ÑALIZACION DE 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terminales H.323 pueden operar en presencia o ausencia de un Gatekee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xiste un gatekeeper, los terminales, gateways y MCU lo deben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tekeeper mínimamente debe soport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versión de direcciones: alias (pc1@diginet.com.co) o números E.164 a 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ol de adm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ol de ancho de b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ministración de la 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eñalización se da mediante varios protocolos a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.225 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.225 Call Contro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.24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ÑALIZACION DE 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.225 RAS (Registration, Admision and Signling Control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los puntos terminales y el Gatekeep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el descubrimiento del Gatekeeper, el registro de los terminales, la localización de terminales y el control de ad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UD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tekeeper se puede ubicar dinámicamente con la dirección multicast 224.0.1.41, puerto 1718. Luego la operación continua por el puerto UDP 17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ÑALIZACION DE 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.225 CAL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 señalización de llamada y funciones de contr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xiste un Gatekeeper se da  entre el Gatekeeper y las terminales. De lo contrario es entre termin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TCP puerto 1720. Esta basado en Q.9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mensajes SETUP, CALL PROCEEDING, ALERT, CONN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ensaje CONNECT tiene la información del puerto TCP y la dirección IP para continuar la negociación H.2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.931: permite establecer, controlar y terminar sesiones de comunicación. Se originó como protocolo de señalización en el canal D de RDSI. La manera en que se usa en H.323 está establecida en la norma H.22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ÑALIZACION DE H.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.245 conferenc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negociar capacidades de una terminal: codificadores (G.711, G.729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terminar tiempos de retraso en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mite negociar los canales RTP y RTCP y los puertos que utilizar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icionalmente permite el control de conferencia definiendo maestros y escla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EN  H.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ñalización direc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EN  H.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ñalización a través del gatekeep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atekeeper-Routed Call Signaling (GKR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8839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 DE LA COMPUTACION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735120" cy="106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5360" y="27432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29000" y="1600200"/>
            <a:ext cx="3277800" cy="2361600"/>
            <a:chOff x="3429000" y="1600200"/>
            <a:chExt cx="3277800" cy="2361600"/>
          </a:xfrm>
        </p:grpSpPr>
        <p:sp>
          <p:nvSpPr>
            <p:cNvPr id="165" name=""/>
            <p:cNvSpPr/>
            <p:nvPr/>
          </p:nvSpPr>
          <p:spPr>
            <a:xfrm>
              <a:off x="3429000" y="1600200"/>
              <a:ext cx="3277800" cy="236160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69880" y="2678400"/>
              <a:ext cx="16588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IP/FR/A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84440" y="251460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00200" y="2971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8200" y="2362320"/>
            <a:ext cx="13968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2743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1523880"/>
            <a:ext cx="2742840" cy="609840"/>
            <a:chOff x="685800" y="1523880"/>
            <a:chExt cx="2742840" cy="60984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68580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91360" y="213372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57716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2537280" y="1523880"/>
              <a:ext cx="822600" cy="52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/>
          <p:nvPr/>
        </p:nvSpPr>
        <p:spPr>
          <a:xfrm>
            <a:off x="2209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400800" y="1371600"/>
            <a:ext cx="2742840" cy="609480"/>
            <a:chOff x="6400800" y="1371600"/>
            <a:chExt cx="2742840" cy="60948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640080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06360" y="198108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729216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8252280" y="1371600"/>
              <a:ext cx="8226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76960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339640" y="3068640"/>
            <a:ext cx="174600" cy="203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10520" y="518148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CES TELEFO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315200" y="3124080"/>
          <a:ext cx="457200" cy="381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3124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924680" y="3124080"/>
          <a:ext cx="457200" cy="38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1240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28600" y="3276720"/>
          <a:ext cx="457200" cy="380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8600" y="327672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28600" y="3809880"/>
          <a:ext cx="457200" cy="381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3809880"/>
                    <a:ext cx="457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343400"/>
          <a:ext cx="45720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8600" y="4343400"/>
                    <a:ext cx="457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0948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480" y="3962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39120" y="603576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quipo de datos puede tambi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 un Frad o un Multiple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19280" y="2997360"/>
            <a:ext cx="64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2924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2708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85080" y="2708280"/>
            <a:ext cx="36036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29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53520" y="2349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8"/>
          <a:stretch/>
        </p:blipFill>
        <p:spPr>
          <a:xfrm>
            <a:off x="0" y="6100920"/>
            <a:ext cx="16192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ssion Initiation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rrollado por IETF (RFC 2543) como protocolo de señalización  multi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Iniciar, modificar y terminar llamadas multimedia que como telefonía Internet, conferencias  u otras que incluyan audio, video o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negociar características como codificadores, servici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rge como una alternativa de señalización mucho menos compleja y más rápida que  H.323 (H.225 y H.24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sesiones unicast y multicast y sesiones punto a punto y multip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xtensible lo que permite crear nuevas funciones y servicios que se pueden registrar ante el IANA (Internet Assigned Numbers Authorit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za direcciones SIP-URL. Eje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p:username@hostname.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p:5140532@200.69.98.15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ípicamente utiliza el puerto 5060 TCP o UD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mente se utiliza UDP sin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nque soporta telefonía, más orientado a aplicaciones de nueva generación sobr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lamada controlada por el Proxy/Redirect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MPONENTES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228600" y="620280"/>
            <a:ext cx="868680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NTO TERM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las aplicaciones de usuario final, en los extremos de la llamada. Ej: un teléfono IP, un gatewa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den hacer comunicación direc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n UAC (User Agent Client) y un  UAS (User Agent Serv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ER PROXY/RE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actúan con los puntos term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a o redirecciona la llam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uede estar configurado en el cliente o ser ubicado a partir de la dirección SIP. Eje: juanrest@diginet.com.co. En el último caso requiere resolución DNS si no se especifica la dirección I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5332320"/>
          </a:xfrm>
          <a:prstGeom prst="rect">
            <a:avLst/>
          </a:prstGeom>
          <a:ln w="0">
            <a:noFill/>
          </a:ln>
        </p:spPr>
      </p:pic>
      <p:pic>
        <p:nvPicPr>
          <p:cNvPr id="2588" name="" descr=""/>
          <p:cNvPicPr/>
          <p:nvPr/>
        </p:nvPicPr>
        <p:blipFill>
          <a:blip r:embed="rId2"/>
          <a:stretch/>
        </p:blipFill>
        <p:spPr>
          <a:xfrm>
            <a:off x="0" y="4805280"/>
            <a:ext cx="5148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DORES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camina Peticiones/Respuestas hacia el destin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esta al mensaje INVITE con uno de redirección indicando como contactar al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iene la localización actual de un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NSAJES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conocidos como méto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os 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iciones iniciadas por l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puestas devueltas por los serv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enen cabeceras como HTTP: To, From, Subject, Content-typ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incipales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ITE: invita al otro extremo a participar en una llam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K:permite aceptar la inv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TIONS: para consultar opciones de UA y Serv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YE: Permite terminar una llam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CEL: para cancelar una petición en progr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ISTER: permite registrar información de localización en los servidores S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6269040"/>
          </a:xfrm>
          <a:prstGeom prst="rect">
            <a:avLst/>
          </a:prstGeom>
          <a:ln w="0">
            <a:noFill/>
          </a:ln>
        </p:spPr>
      </p:pic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TERACCION ENTRE SERVIDORES S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MEGACO/H.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86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a Gateway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de trabajo conjunto IETF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FC 3015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GACO) y la ITU-T (H.24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sado en parte en MG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porta multime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de operar sobre IP, ATM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a TCP y UDP, puertos 2944 y 29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 Gateway Controller (MGC), también conocido como Call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ia Gateway (M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gnaling Gateway (S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MEGACO/H.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868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GC: Coordina todo el proceso de la llam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G: Interactúa con los sistemas tradicionales para la transferencia de la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G: Tiene a cargo el intercambio de la señ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9" name="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7848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7315200" cy="3008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5640" y="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RUTADOR CON PUERTOS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20640"/>
            <a:ext cx="84358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router soportan interfaces de 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Cisco, aparte de los puertos de voz se requi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memoria RAM y Fl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OS P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router con soporte de voz pasa a ser un Gateway de vo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MEGACO/H.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86800" cy="57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xto: colección de terminaciones (entes que participan en una llamada). Ejemplo: un flujo RTP y un canal DS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rminación: donde nace o termina  uno o mas fluj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operación del protocolo se basa en la creación, mantenimiento y terminación de contextos y sus caracterís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esto se tienen  comandos que fluyen del MGC hacia el MG, excepto el comando Notify y el ServiceChan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MEGACO/H.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86800" cy="57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comando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d: adicionar terminaciones a un contex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ify: modificar las propiedades, eventos y señales de un contex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bstract: borra una terminación de un contex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ify: permite que el media gateway informe al MGC de eventos en el gate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ditValue: permite obtener propiedades y ev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eChange: permite notificar al MGC la presencia del MG, la salida de terminacion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ALIZACION MEGACO/H.2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5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8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569080" cy="4849920"/>
          </a:xfrm>
          <a:prstGeom prst="rect">
            <a:avLst/>
          </a:prstGeom>
          <a:ln w="0">
            <a:noFill/>
          </a:ln>
        </p:spPr>
      </p:pic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39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SION DE UNA RED CONV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BLIOGRAFIA Y SITIOS DE INT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rnet.or.kr/krnet2002/2002PDF/G2-3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www.cisco.com/warp/public/788/voip/understand-gatekeeper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iec.org/online/tutorials/h32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cs.unc.edu/Courses/comp249-s03/lectures/comp249_s03_5/sld001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openss7.org/overview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electronics2000.com/hacker/anatcall.html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(Anatomia de una llama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OZ Y MP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ietf.org/proceedings/00mar/slides/vompls-ref-00mar/sld001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siving.hia.no/ikt02/ssolberg/Evaluation%20of%20VoMPLS%20compared%20to%20VoIP%20v12.htm#_Toc92333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tp://siving.hia.no/ikt02/ssolberg/Evaluation%20of%20VoMPLS%20compared%20to%20VoIP%20v12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http://www.mplsworld.com/archi_drafts/focus/analy-swallow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3:47:29Z</dcterms:created>
  <dc:creator>Juan Carlos Restrepo</dc:creator>
  <dc:description/>
  <dc:language>en-US</dc:language>
  <cp:lastModifiedBy>JUAN CARLOS RESTREPO</cp:lastModifiedBy>
  <dcterms:modified xsi:type="dcterms:W3CDTF">2003-12-10T00:43:12Z</dcterms:modified>
  <cp:revision>640</cp:revision>
  <dc:subject/>
  <dc:title>INTERFACES DE VOZ</dc:title>
</cp:coreProperties>
</file>