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48A-A742-4C88-A5BC-E6B9D35F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7D1-FCCE-402C-AB2D-C241DE7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F40-8CD8-4C19-A776-878C7D49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843-EA48-4D15-92AA-2A68011B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E8F-A82F-4D06-9017-D466745C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B5CB-41CB-4055-A0AC-0404868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521D-C8FD-40C3-9D8C-2BC62FA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432F-D6F9-44E1-A6B9-363BF568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C82B-A72F-4238-8FF4-BE160872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645A-B52F-4F9E-A5CB-BF82FD11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3D6-3536-4FC0-AA05-53587ACF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DC5-442C-41CA-9C60-875539D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515-0F7B-4203-839B-6299C95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F1F-AA48-44D0-A727-039CF493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F131-2EB2-46AD-8542-2CEE9E06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182-76F3-4E17-92DE-BDD81F00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948-6DB9-42DC-8A6C-52575397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F22-3B72-4811-A4A8-87882CB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E07-77E9-44B9-8EFF-85491C73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186-223E-4ADA-92E0-BB39FBD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432-14AD-4517-ACDD-DDF4115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813-81CE-431A-81D1-F3194C0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D07-E73C-4DF1-BA6C-9A6576B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F45-B49C-4855-804F-F8DCEFA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09C1-CA5F-49BC-B9C3-0703CC7DEAAF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288-C42A-41AC-8513-A70B49FE9D8D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1.png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1.png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2.wmf"/><Relationship Id="rId30" Type="http://schemas.openxmlformats.org/officeDocument/2006/relationships/image" Target="../media/image12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3.png"/><Relationship Id="rId18" Type="http://schemas.openxmlformats.org/officeDocument/2006/relationships/image" Target="../media/image9.png"/><Relationship Id="rId19" Type="http://schemas.openxmlformats.org/officeDocument/2006/relationships/image" Target="../media/image10.wmf"/><Relationship Id="rId20" Type="http://schemas.openxmlformats.org/officeDocument/2006/relationships/image" Target="../media/image12.wmf"/><Relationship Id="rId21" Type="http://schemas.openxmlformats.org/officeDocument/2006/relationships/image" Target="../media/image10.wmf"/><Relationship Id="rId22" Type="http://schemas.openxmlformats.org/officeDocument/2006/relationships/image" Target="../media/image13.png"/><Relationship Id="rId23" Type="http://schemas.openxmlformats.org/officeDocument/2006/relationships/image" Target="../media/image12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Arial Narrow"/>
              </a:rPr>
              <a:t>MPLS</a:t>
            </a:r>
            <a:br>
              <a:rPr sz="4000"/>
            </a:br>
            <a:r>
              <a:rPr b="0" lang="es-ES_tradnl" sz="4000" spc="-1" strike="noStrike">
                <a:solidFill>
                  <a:srgbClr val="ff9900"/>
                </a:solidFill>
                <a:latin typeface="Arial Narrow"/>
              </a:rPr>
              <a:t>MIGRANDO A MPL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26920" y="177336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SION: 1.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ltima revisión: Septiembre - 200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438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AToM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jemplo: ATM a través de MPL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704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PROCESO DE MIGRA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Paso 1: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PROCESO DE MIGRA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Paso 2: Habilitar MPLS en los suiches ATM y poner equipos de frontera para los nuevos servicios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0" y="3176640"/>
            <a:ext cx="9144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PROCESO DE MIGRA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Paso 3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ESCENARI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os escenarios típic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rriers con ATM/FR que necesitan una infraestructura convergente para poder continuar ofreciendo los servicios típicos de nivel 3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en creación de circuitos rápidamente con diferentes LS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en que la señalización de nivel 2 se mantenga en el trayecto MPL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rriers e ISP con enrutamiento IP Pur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MOTIVACION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La mayoria de los backbone de los carrier están contruidos sobre ATM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ATM al ser orientado a circuitos virtuales requiere una gran cantidad de circuitos si se quieret trabajar en esquema de malla completa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Facilita el aprovisionamiento de nuevos circuitos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Crecimiento de nuevas tecnologias como ADSL, VPN, Voz sobre IP, etc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ESQUEMAS DE MIGRACION – OPCION 1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Crear el core MPLS sobre los actuales sistemas de transmisión (Fibra oscura, Sonet/SDH) o sobre nuevos (Ethernet metropolitano), como una red paralela a ATM/FR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Luego mover los clientes de una red a la otra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Se puede contruir con core sobre tecnología más amigables con IP: Ethernet, PPP, etc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42080" y="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MPLS PARALELA A ATM/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280" y="35002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76280"/>
            <a:ext cx="7010640" cy="60768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3080" y="62164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78520" y="3573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77080" y="62164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229600" y="2057400"/>
            <a:ext cx="608760" cy="456120"/>
            <a:chOff x="8229600" y="2057400"/>
            <a:chExt cx="608760" cy="456120"/>
          </a:xfrm>
        </p:grpSpPr>
        <p:grpSp>
          <p:nvGrpSpPr>
            <p:cNvPr id="157" name=""/>
            <p:cNvGrpSpPr/>
            <p:nvPr/>
          </p:nvGrpSpPr>
          <p:grpSpPr>
            <a:xfrm>
              <a:off x="8229600" y="2057400"/>
              <a:ext cx="608760" cy="456120"/>
              <a:chOff x="8229600" y="2057400"/>
              <a:chExt cx="608760" cy="456120"/>
            </a:xfrm>
          </p:grpSpPr>
          <p:sp>
            <p:nvSpPr>
              <p:cNvPr id="158" name=""/>
              <p:cNvSpPr/>
              <p:nvPr/>
            </p:nvSpPr>
            <p:spPr>
              <a:xfrm>
                <a:off x="8252280" y="20628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93320" y="22611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8229600" y="2266560"/>
                <a:ext cx="347040" cy="246240"/>
                <a:chOff x="8229600" y="2266560"/>
                <a:chExt cx="347040" cy="24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270280" y="23151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264880" y="23338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229600" y="22665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518320" y="24040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8538840" y="21632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05920" y="20707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54320" y="21574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68120" y="20574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300880" y="2326680"/>
              <a:ext cx="214200" cy="111960"/>
              <a:chOff x="8300880" y="2326680"/>
              <a:chExt cx="214200" cy="1119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8300880" y="2326680"/>
                <a:ext cx="6840" cy="9360"/>
                <a:chOff x="8300880" y="2326680"/>
                <a:chExt cx="6840" cy="9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00880" y="23310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00880" y="23266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354160" y="2347920"/>
                <a:ext cx="160920" cy="90720"/>
                <a:chOff x="8354160" y="2347920"/>
                <a:chExt cx="160920" cy="907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8354160" y="2355840"/>
                  <a:ext cx="160920" cy="82800"/>
                  <a:chOff x="8354160" y="2355840"/>
                  <a:chExt cx="160920" cy="828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8485200" y="2417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8379000" y="23691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431920" y="23932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457120" y="24066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8404200" y="23799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8354160" y="23558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8505000" y="24310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8354160" y="2347920"/>
                  <a:ext cx="160200" cy="87120"/>
                  <a:chOff x="8354160" y="2347920"/>
                  <a:chExt cx="160200" cy="8712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8379000" y="2361240"/>
                    <a:ext cx="135360" cy="73800"/>
                    <a:chOff x="8379000" y="2361240"/>
                    <a:chExt cx="135360" cy="7380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507160" y="2424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403840" y="23720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456400" y="23986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481600" y="24116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429040" y="23853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379000" y="23612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>
                    <a:off x="8354160" y="23479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91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0" y="144792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609480" y="144792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4479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19320" y="144792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4479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76320" y="2057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6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76360" y="2349360"/>
            <a:ext cx="647280" cy="1008000"/>
            <a:chOff x="1476360" y="2349360"/>
            <a:chExt cx="647280" cy="1008000"/>
          </a:xfrm>
        </p:grpSpPr>
        <p:sp>
          <p:nvSpPr>
            <p:cNvPr id="217" name=""/>
            <p:cNvSpPr/>
            <p:nvPr/>
          </p:nvSpPr>
          <p:spPr>
            <a:xfrm>
              <a:off x="2043360" y="2349360"/>
              <a:ext cx="80280" cy="100800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6360" y="2444400"/>
              <a:ext cx="569160" cy="909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5680" y="249336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1812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7680" y="311472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08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93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811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22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644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085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03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20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42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59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19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620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75360" y="31867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4852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9720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8160" y="236124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20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38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5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498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916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334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755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72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90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2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447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250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32360" y="5300640"/>
            <a:ext cx="576000" cy="800280"/>
            <a:chOff x="4932360" y="5300640"/>
            <a:chExt cx="576000" cy="800280"/>
          </a:xfrm>
        </p:grpSpPr>
        <p:sp>
          <p:nvSpPr>
            <p:cNvPr id="284" name=""/>
            <p:cNvSpPr/>
            <p:nvPr/>
          </p:nvSpPr>
          <p:spPr>
            <a:xfrm>
              <a:off x="543708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3236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628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694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2028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6968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881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56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626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015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390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760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3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506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8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272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64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056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7464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0676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3416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730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01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75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68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238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613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98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8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2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18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49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1332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49840" y="2637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800" y="220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0"/>
          <a:stretch/>
        </p:blipFill>
        <p:spPr>
          <a:xfrm>
            <a:off x="2195640" y="3789360"/>
            <a:ext cx="504720" cy="792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1"/>
          <a:stretch/>
        </p:blipFill>
        <p:spPr>
          <a:xfrm>
            <a:off x="6227640" y="3573360"/>
            <a:ext cx="505080" cy="792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2"/>
          <a:stretch/>
        </p:blipFill>
        <p:spPr>
          <a:xfrm>
            <a:off x="3492360" y="4508640"/>
            <a:ext cx="505080" cy="792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995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51672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484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3"/>
          <a:srcRect l="5187" t="36580" r="5555" b="36580"/>
          <a:stretch/>
        </p:blipFill>
        <p:spPr>
          <a:xfrm>
            <a:off x="1835280" y="4653000"/>
            <a:ext cx="930240" cy="3110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4"/>
          <a:stretch/>
        </p:blipFill>
        <p:spPr>
          <a:xfrm>
            <a:off x="1258920" y="508464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5"/>
          <a:stretch/>
        </p:blipFill>
        <p:spPr>
          <a:xfrm>
            <a:off x="1763640" y="5373720"/>
            <a:ext cx="504720" cy="431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1619280" y="486900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05092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95640" y="450864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4508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6"/>
          <a:srcRect l="5187" t="36580" r="5555" b="36580"/>
          <a:stretch/>
        </p:blipFill>
        <p:spPr>
          <a:xfrm>
            <a:off x="6443640" y="4437000"/>
            <a:ext cx="930240" cy="3110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7"/>
          <a:stretch/>
        </p:blipFill>
        <p:spPr>
          <a:xfrm>
            <a:off x="6659640" y="508464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8"/>
          <a:stretch/>
        </p:blipFill>
        <p:spPr>
          <a:xfrm>
            <a:off x="7308720" y="4869000"/>
            <a:ext cx="505080" cy="431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804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472428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588000" y="429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9"/>
          <a:stretch/>
        </p:blipFill>
        <p:spPr>
          <a:xfrm>
            <a:off x="324000" y="2319480"/>
            <a:ext cx="576000" cy="3380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0"/>
          <a:stretch/>
        </p:blipFill>
        <p:spPr>
          <a:xfrm>
            <a:off x="324000" y="6021360"/>
            <a:ext cx="576000" cy="338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V="1">
            <a:off x="755640" y="566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0920" y="6392880"/>
            <a:ext cx="1008000" cy="465120"/>
            <a:chOff x="250920" y="6392880"/>
            <a:chExt cx="1008000" cy="465120"/>
          </a:xfrm>
        </p:grpSpPr>
        <p:pic>
          <p:nvPicPr>
            <p:cNvPr id="343" name="" descr=""/>
            <p:cNvPicPr/>
            <p:nvPr/>
          </p:nvPicPr>
          <p:blipFill>
            <a:blip r:embed="rId31"/>
            <a:stretch/>
          </p:blipFill>
          <p:spPr>
            <a:xfrm>
              <a:off x="250920" y="6392880"/>
              <a:ext cx="3067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32"/>
            <a:stretch/>
          </p:blipFill>
          <p:spPr>
            <a:xfrm>
              <a:off x="601560" y="6392880"/>
              <a:ext cx="3063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33"/>
            <a:stretch/>
          </p:blipFill>
          <p:spPr>
            <a:xfrm>
              <a:off x="952200" y="6392880"/>
              <a:ext cx="30672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94480" y="6858000"/>
              <a:ext cx="9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2320" y="674172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2960" y="674172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83600" y="674172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681640" y="38592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70520" y="5373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ESQUEMAS DE MIGRACION – OPCION 2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Actualizar los actuales equipos ATM, para convertirlos en ATM-LSR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Continua el problema de la ineficiencia de ATM al transportar IP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41360" y="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UALIZAR LOS SUICHES ATM A ATM-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332000" y="3789360"/>
          <a:ext cx="5331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789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355640" y="587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440" y="37162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476280"/>
            <a:ext cx="7010640" cy="60768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01080" y="62164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5029200"/>
            <a:ext cx="42408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78520" y="3573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50920" y="5157720"/>
          <a:ext cx="4334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5157720"/>
                    <a:ext cx="433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V="1">
            <a:off x="611280" y="4508280"/>
            <a:ext cx="93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229600" y="2057400"/>
            <a:ext cx="608760" cy="456120"/>
            <a:chOff x="8229600" y="2057400"/>
            <a:chExt cx="608760" cy="456120"/>
          </a:xfrm>
        </p:grpSpPr>
        <p:grpSp>
          <p:nvGrpSpPr>
            <p:cNvPr id="383" name=""/>
            <p:cNvGrpSpPr/>
            <p:nvPr/>
          </p:nvGrpSpPr>
          <p:grpSpPr>
            <a:xfrm>
              <a:off x="8229600" y="2057400"/>
              <a:ext cx="608760" cy="456120"/>
              <a:chOff x="8229600" y="2057400"/>
              <a:chExt cx="608760" cy="456120"/>
            </a:xfrm>
          </p:grpSpPr>
          <p:sp>
            <p:nvSpPr>
              <p:cNvPr id="384" name=""/>
              <p:cNvSpPr/>
              <p:nvPr/>
            </p:nvSpPr>
            <p:spPr>
              <a:xfrm>
                <a:off x="8252280" y="20628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293320" y="22611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8229600" y="2266560"/>
                <a:ext cx="347040" cy="246240"/>
                <a:chOff x="8229600" y="2266560"/>
                <a:chExt cx="347040" cy="246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270280" y="23151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264880" y="23338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229600" y="22665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518320" y="24040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8538840" y="21632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05920" y="20707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554320" y="21574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68120" y="20574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300880" y="2326680"/>
              <a:ext cx="214200" cy="111960"/>
              <a:chOff x="8300880" y="2326680"/>
              <a:chExt cx="214200" cy="1119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8300880" y="2326680"/>
                <a:ext cx="6840" cy="9360"/>
                <a:chOff x="8300880" y="2326680"/>
                <a:chExt cx="6840" cy="93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300880" y="23310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300880" y="23266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8354160" y="2347920"/>
                <a:ext cx="160920" cy="90720"/>
                <a:chOff x="8354160" y="2347920"/>
                <a:chExt cx="160920" cy="907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8354160" y="2355840"/>
                  <a:ext cx="160920" cy="82800"/>
                  <a:chOff x="8354160" y="2355840"/>
                  <a:chExt cx="160920" cy="828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8485200" y="2417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379000" y="23691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431920" y="23932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457120" y="24066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404200" y="23799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354160" y="23558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505000" y="24310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8354160" y="2347920"/>
                  <a:ext cx="160200" cy="87120"/>
                  <a:chOff x="8354160" y="2347920"/>
                  <a:chExt cx="160200" cy="87120"/>
                </a:xfrm>
              </p:grpSpPr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8379000" y="2361240"/>
                    <a:ext cx="135360" cy="73800"/>
                    <a:chOff x="8379000" y="2361240"/>
                    <a:chExt cx="135360" cy="7380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8507160" y="2424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8403840" y="23720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56400" y="23986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81600" y="24116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8429040" y="23853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79000" y="23612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>
                    <a:off x="8354160" y="23479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17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1484280"/>
            <a:ext cx="1212840" cy="612360"/>
            <a:chOff x="0" y="1484280"/>
            <a:chExt cx="1212840" cy="612360"/>
          </a:xfrm>
        </p:grpSpPr>
        <p:pic>
          <p:nvPicPr>
            <p:cNvPr id="419" name="" descr=""/>
            <p:cNvPicPr/>
            <p:nvPr/>
          </p:nvPicPr>
          <p:blipFill>
            <a:blip r:embed="rId9"/>
            <a:stretch/>
          </p:blipFill>
          <p:spPr>
            <a:xfrm>
              <a:off x="0" y="1484280"/>
              <a:ext cx="369000" cy="462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20" name=""/>
            <p:cNvGraphicFramePr/>
            <p:nvPr/>
          </p:nvGraphicFramePr>
          <p:xfrm>
            <a:off x="421560" y="1484280"/>
            <a:ext cx="369000" cy="46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1560" y="1484280"/>
                      <a:ext cx="36900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843840" y="1484280"/>
            <a:ext cx="369000" cy="462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43840" y="1484280"/>
                      <a:ext cx="36900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"/>
            <p:cNvSpPr/>
            <p:nvPr/>
          </p:nvSpPr>
          <p:spPr>
            <a:xfrm>
              <a:off x="52560" y="2096640"/>
              <a:ext cx="11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8040" y="1943640"/>
              <a:ext cx="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960" y="1943640"/>
              <a:ext cx="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01880" y="1943640"/>
              <a:ext cx="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391520" y="1341360"/>
            <a:ext cx="1501200" cy="563760"/>
            <a:chOff x="7391520" y="1341360"/>
            <a:chExt cx="1501200" cy="563760"/>
          </a:xfrm>
        </p:grpSpPr>
        <p:pic>
          <p:nvPicPr>
            <p:cNvPr id="430" name="" descr=""/>
            <p:cNvPicPr/>
            <p:nvPr/>
          </p:nvPicPr>
          <p:blipFill>
            <a:blip r:embed="rId14"/>
            <a:stretch/>
          </p:blipFill>
          <p:spPr>
            <a:xfrm>
              <a:off x="7391520" y="1341360"/>
              <a:ext cx="45684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5"/>
            <a:stretch/>
          </p:blipFill>
          <p:spPr>
            <a:xfrm>
              <a:off x="7913880" y="1341360"/>
              <a:ext cx="45648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6"/>
            <a:stretch/>
          </p:blipFill>
          <p:spPr>
            <a:xfrm>
              <a:off x="8435880" y="1341360"/>
              <a:ext cx="4568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456680" y="1905120"/>
              <a:ext cx="143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87000" y="17640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109720" y="17640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31720" y="17640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050920" y="2133720"/>
            <a:ext cx="504720" cy="647640"/>
            <a:chOff x="2050920" y="2133720"/>
            <a:chExt cx="504720" cy="647640"/>
          </a:xfrm>
        </p:grpSpPr>
        <p:sp>
          <p:nvSpPr>
            <p:cNvPr id="443" name=""/>
            <p:cNvSpPr/>
            <p:nvPr/>
          </p:nvSpPr>
          <p:spPr>
            <a:xfrm>
              <a:off x="2493360" y="2133720"/>
              <a:ext cx="62280" cy="647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50920" y="2194560"/>
              <a:ext cx="443880" cy="583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89440" y="2226240"/>
              <a:ext cx="366480" cy="2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83320" y="2625480"/>
              <a:ext cx="11556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15800" y="2625480"/>
              <a:ext cx="11412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46480" y="2625480"/>
              <a:ext cx="11556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9988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264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6540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924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3200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6440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9716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2992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6268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9688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29640" y="231948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28320" y="267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63320" y="267156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8880" y="267156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2360" y="2141280"/>
              <a:ext cx="494280" cy="48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8656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1896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5172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8628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1868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5144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420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660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4936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8356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15960" y="231948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476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9"/>
          <a:stretch/>
        </p:blipFill>
        <p:spPr>
          <a:xfrm>
            <a:off x="1332000" y="2708280"/>
            <a:ext cx="504720" cy="4316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0"/>
          <a:stretch/>
        </p:blipFill>
        <p:spPr>
          <a:xfrm>
            <a:off x="324000" y="2319480"/>
            <a:ext cx="576000" cy="338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629080" y="22050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TM-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692360" y="2565000"/>
            <a:ext cx="358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40000" y="278136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835280" y="349992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88720" y="31417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1"/>
          <a:stretch/>
        </p:blipFill>
        <p:spPr>
          <a:xfrm>
            <a:off x="5076720" y="5734080"/>
            <a:ext cx="505080" cy="43164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5148360" y="4869000"/>
            <a:ext cx="504360" cy="647640"/>
            <a:chOff x="5148360" y="4869000"/>
            <a:chExt cx="504360" cy="647640"/>
          </a:xfrm>
        </p:grpSpPr>
        <p:sp>
          <p:nvSpPr>
            <p:cNvPr id="519" name=""/>
            <p:cNvSpPr/>
            <p:nvPr/>
          </p:nvSpPr>
          <p:spPr>
            <a:xfrm>
              <a:off x="5590440" y="4869000"/>
              <a:ext cx="62280" cy="647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48360" y="4929840"/>
              <a:ext cx="443520" cy="583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86880" y="4961520"/>
              <a:ext cx="366120" cy="2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80760" y="5360760"/>
              <a:ext cx="11556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3240" y="5360760"/>
              <a:ext cx="11376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43560" y="5360760"/>
              <a:ext cx="115560" cy="139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9732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3008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6248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668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2908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6184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9460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2700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5976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396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26720" y="5054760"/>
              <a:ext cx="0" cy="250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25400" y="540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60400" y="540684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76320" y="540684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49800" y="4876560"/>
              <a:ext cx="493920" cy="48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8400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1640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4916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8336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12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4888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128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404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4680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8064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13400" y="5054760"/>
              <a:ext cx="0" cy="2509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29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21440" y="43657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TM-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1440" y="5805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3"/>
          <a:stretch/>
        </p:blipFill>
        <p:spPr>
          <a:xfrm>
            <a:off x="8172360" y="6237360"/>
            <a:ext cx="576360" cy="338040"/>
          </a:xfrm>
          <a:prstGeom prst="rect">
            <a:avLst/>
          </a:prstGeom>
          <a:ln w="0">
            <a:noFill/>
          </a:ln>
        </p:spPr>
      </p:pic>
      <p:grpSp>
        <p:nvGrpSpPr>
          <p:cNvPr id="555" name=""/>
          <p:cNvGrpSpPr/>
          <p:nvPr/>
        </p:nvGrpSpPr>
        <p:grpSpPr>
          <a:xfrm>
            <a:off x="7812000" y="5445000"/>
            <a:ext cx="1008000" cy="538200"/>
            <a:chOff x="7812000" y="5445000"/>
            <a:chExt cx="1008000" cy="538200"/>
          </a:xfrm>
        </p:grpSpPr>
        <p:pic>
          <p:nvPicPr>
            <p:cNvPr id="556" name="" descr=""/>
            <p:cNvPicPr/>
            <p:nvPr/>
          </p:nvPicPr>
          <p:blipFill>
            <a:blip r:embed="rId24"/>
            <a:stretch/>
          </p:blipFill>
          <p:spPr>
            <a:xfrm>
              <a:off x="7812000" y="5445000"/>
              <a:ext cx="30672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25"/>
            <a:stretch/>
          </p:blipFill>
          <p:spPr>
            <a:xfrm>
              <a:off x="8162640" y="5445000"/>
              <a:ext cx="30636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26"/>
            <a:stretch/>
          </p:blipFill>
          <p:spPr>
            <a:xfrm>
              <a:off x="8513280" y="5445000"/>
              <a:ext cx="306720" cy="4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855560" y="5983200"/>
              <a:ext cx="9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43400" y="5848560"/>
              <a:ext cx="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94040" y="5848560"/>
              <a:ext cx="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44680" y="5848560"/>
              <a:ext cx="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508720" y="6093000"/>
            <a:ext cx="2663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459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EMPLAZO DE COMPONENT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Los suiches ATM convencionales fueron creados antes de MPLS, optimizados para FR y sin considerar IP y por tanto deben ser reemplazados.  Su actualizacion no es recomendable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AToM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Any Transport over MPL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ermite llevar Frame Relay, ATM, Ethernet, PPP, HDLC sobre MPL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Desarrollado por Cisc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Basado en estándares del IETF com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ransport of Layer 2 Frames over MPLS” (draft-martini-12circuit-transmpls-08.txt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he encapsulation method for transporting Layer 2 frames over MPLS is based on the Internet-Draft “Encapsulation Methods for Transport of Layer 2 Frames over IP and MPLS Networks” (draft-martini-12circuit-encap-mpls-04.txt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Layer 2 QoS engineer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he architecture for Layer 2 VPNs over MPLS, as well as plans to support other provisioning models contained therein, is based on the Internet-Draft “An Architecture for L2VPNs” (draft-ietf-ppvpn-12vpn-00.txt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1:52:23Z</dcterms:created>
  <dc:creator>Juan Carlos Restrepo</dc:creator>
  <dc:description/>
  <dc:language>en-US</dc:language>
  <cp:lastModifiedBy>JUAN CARLOS RESTREPO</cp:lastModifiedBy>
  <dcterms:modified xsi:type="dcterms:W3CDTF">2003-11-13T20:40:28Z</dcterms:modified>
  <cp:revision>418</cp:revision>
  <dc:subject/>
  <dc:title>Presentación de PowerPoint</dc:title>
</cp:coreProperties>
</file>