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21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33280" y="688680"/>
            <a:ext cx="459252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E2BF-1C45-4A00-93C0-7A7716C921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B4EE-782E-4B44-A679-56643DAF66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886200" y="-1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3886200" y="872820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0" y="872820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0" y="-1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3886200" y="-1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0" y="872820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0" y="-1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body"/>
          </p:nvPr>
        </p:nvSpPr>
        <p:spPr>
          <a:xfrm>
            <a:off x="990720" y="4289400"/>
            <a:ext cx="50292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 type="sldImg"/>
          </p:nvPr>
        </p:nvSpPr>
        <p:spPr>
          <a:xfrm>
            <a:off x="798480" y="244440"/>
            <a:ext cx="5367240" cy="4025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2308-E59B-4ED8-A1E6-2F2C5C45D5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886200" y="-1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3886200" y="872820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0" y="872820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0" y="-1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886200" y="-1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0" y="872820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0" y="-1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1"/>
          <p:cNvSpPr>
            <a:spLocks noGrp="1"/>
          </p:cNvSpPr>
          <p:nvPr>
            <p:ph type="body"/>
          </p:nvPr>
        </p:nvSpPr>
        <p:spPr>
          <a:xfrm>
            <a:off x="990720" y="4289400"/>
            <a:ext cx="50292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sldImg"/>
          </p:nvPr>
        </p:nvSpPr>
        <p:spPr>
          <a:xfrm>
            <a:off x="798480" y="244440"/>
            <a:ext cx="5367240" cy="4025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E28-4777-4254-99BF-2CBDC61E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B45-B6E6-43BE-9405-20DB2FE6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EFF-94C5-45EB-AE0F-C35B7C42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64B-9E5A-44D1-8800-3C9834C4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BBD4-9537-4728-8EBB-1E934EDF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8A9C-3D7B-4F84-9C0B-9CF50086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F587-141B-4504-A335-D65217A7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D944-2D7C-4147-9955-1CCF5EF7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1A8F-0ECD-4A08-B4F8-87258F22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1DB1-3D5C-4B8E-B639-C58908DA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9072-1B8D-4E4F-90B1-9FDE1850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9CF-837B-42ED-AF45-972AB03D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FD30-5689-4968-BE4A-A023EFAD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0813-75AA-4215-A931-B03A68AB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0EDA-EDF8-47EE-82D1-9978B611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B985-79A9-496A-94C3-010F3184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B561-9FC5-4DAA-987C-33C3C670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C11-729E-438A-893D-DA5201B3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4FB-403C-4542-A60C-9C26D960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FC8-25B9-4675-A0FD-F57EBF9E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DE8-10D5-41ED-8B73-402F88BB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ACC-91CF-4505-B355-986B035E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D37-037F-4629-852B-4A03B7A7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9A8-BF0C-4E66-8225-294D3B50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523E-269B-4396-BDD1-482F7D50A6F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60DA-E0EA-423A-8687-CC14C963DC3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4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5.wmf"/><Relationship Id="rId23" Type="http://schemas.openxmlformats.org/officeDocument/2006/relationships/image" Target="../media/image10.jpeg"/><Relationship Id="rId24" Type="http://schemas.openxmlformats.org/officeDocument/2006/relationships/image" Target="../media/image10.jpeg"/><Relationship Id="rId2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16.png"/><Relationship Id="rId18" Type="http://schemas.openxmlformats.org/officeDocument/2006/relationships/image" Target="../media/image18.wmf"/><Relationship Id="rId19" Type="http://schemas.openxmlformats.org/officeDocument/2006/relationships/image" Target="../media/image18.wmf"/><Relationship Id="rId20" Type="http://schemas.openxmlformats.org/officeDocument/2006/relationships/image" Target="../media/image20.png"/><Relationship Id="rId21" Type="http://schemas.openxmlformats.org/officeDocument/2006/relationships/image" Target="../media/image18.wmf"/><Relationship Id="rId22" Type="http://schemas.openxmlformats.org/officeDocument/2006/relationships/image" Target="../media/image18.wmf"/><Relationship Id="rId23" Type="http://schemas.openxmlformats.org/officeDocument/2006/relationships/image" Target="../media/image18.wmf"/><Relationship Id="rId24" Type="http://schemas.openxmlformats.org/officeDocument/2006/relationships/image" Target="../media/image20.png"/><Relationship Id="rId2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16.png"/><Relationship Id="rId18" Type="http://schemas.openxmlformats.org/officeDocument/2006/relationships/image" Target="../media/image18.wmf"/><Relationship Id="rId19" Type="http://schemas.openxmlformats.org/officeDocument/2006/relationships/image" Target="../media/image20.png"/><Relationship Id="rId20" Type="http://schemas.openxmlformats.org/officeDocument/2006/relationships/image" Target="../media/image18.wmf"/><Relationship Id="rId21" Type="http://schemas.openxmlformats.org/officeDocument/2006/relationships/image" Target="../media/image18.wmf"/><Relationship Id="rId22" Type="http://schemas.openxmlformats.org/officeDocument/2006/relationships/image" Target="../media/image18.wmf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18.wmf"/><Relationship Id="rId28" Type="http://schemas.openxmlformats.org/officeDocument/2006/relationships/image" Target="../media/image20.png"/><Relationship Id="rId2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diginet.com.co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image" Target="../media/image10.jpeg"/><Relationship Id="rId30" Type="http://schemas.openxmlformats.org/officeDocument/2006/relationships/image" Target="../media/image10.jpeg"/><Relationship Id="rId31" Type="http://schemas.openxmlformats.org/officeDocument/2006/relationships/image" Target="../media/image10.jpeg"/><Relationship Id="rId3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5.wmf"/><Relationship Id="rId19" Type="http://schemas.openxmlformats.org/officeDocument/2006/relationships/image" Target="../media/image11.png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oleObject" Target="../embeddings/oleObject9.bin"/><Relationship Id="rId30" Type="http://schemas.openxmlformats.org/officeDocument/2006/relationships/image" Target="../media/image7.wmf"/><Relationship Id="rId31" Type="http://schemas.openxmlformats.org/officeDocument/2006/relationships/image" Target="../media/image12.png"/><Relationship Id="rId32" Type="http://schemas.openxmlformats.org/officeDocument/2006/relationships/oleObject" Target="../embeddings/oleObject10.bin"/><Relationship Id="rId33" Type="http://schemas.openxmlformats.org/officeDocument/2006/relationships/image" Target="../media/image7.wmf"/><Relationship Id="rId34" Type="http://schemas.openxmlformats.org/officeDocument/2006/relationships/image" Target="../media/image12.png"/><Relationship Id="rId3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3.pn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5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5.wmf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4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5.wmf"/><Relationship Id="rId19" Type="http://schemas.openxmlformats.org/officeDocument/2006/relationships/image" Target="../media/image3.pn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9900"/>
                </a:solidFill>
                <a:latin typeface="Arial Narrow"/>
              </a:rPr>
              <a:t>REDES CONVERGENTES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el.: 514053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VERSION: 1.5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Ultima revisión: Mayo - 2006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edellín-Colomb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24480" y="5334120"/>
            <a:ext cx="2438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FOQUE DE LA COMPUTACION- 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914400" y="4572000"/>
            <a:ext cx="735120" cy="106668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1832400" y="48006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429000" y="1600200"/>
            <a:ext cx="3277800" cy="2361600"/>
            <a:chOff x="3429000" y="1600200"/>
            <a:chExt cx="3277800" cy="2361600"/>
          </a:xfrm>
        </p:grpSpPr>
        <p:sp>
          <p:nvSpPr>
            <p:cNvPr id="1181" name=""/>
            <p:cNvSpPr/>
            <p:nvPr/>
          </p:nvSpPr>
          <p:spPr>
            <a:xfrm>
              <a:off x="3429000" y="1600200"/>
              <a:ext cx="3277800" cy="236160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9880" y="2678400"/>
              <a:ext cx="16588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IP/FR/A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30481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057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685800" y="1523880"/>
            <a:ext cx="2742840" cy="609840"/>
            <a:chOff x="685800" y="1523880"/>
            <a:chExt cx="2742840" cy="609840"/>
          </a:xfrm>
        </p:grpSpPr>
        <p:pic>
          <p:nvPicPr>
            <p:cNvPr id="1186" name="" descr=""/>
            <p:cNvPicPr/>
            <p:nvPr/>
          </p:nvPicPr>
          <p:blipFill>
            <a:blip r:embed="rId2"/>
            <a:stretch/>
          </p:blipFill>
          <p:spPr>
            <a:xfrm>
              <a:off x="68580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"/>
            <p:cNvSpPr/>
            <p:nvPr/>
          </p:nvSpPr>
          <p:spPr>
            <a:xfrm>
              <a:off x="891360" y="213372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8" name="" descr=""/>
            <p:cNvPicPr/>
            <p:nvPr/>
          </p:nvPicPr>
          <p:blipFill>
            <a:blip r:embed="rId3"/>
            <a:stretch/>
          </p:blipFill>
          <p:spPr>
            <a:xfrm>
              <a:off x="157716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9" name="" descr=""/>
            <p:cNvPicPr/>
            <p:nvPr/>
          </p:nvPicPr>
          <p:blipFill>
            <a:blip r:embed="rId4"/>
            <a:stretch/>
          </p:blipFill>
          <p:spPr>
            <a:xfrm>
              <a:off x="253728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0" name=""/>
          <p:cNvSpPr/>
          <p:nvPr/>
        </p:nvSpPr>
        <p:spPr>
          <a:xfrm>
            <a:off x="22096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6400800" y="1371600"/>
            <a:ext cx="2742840" cy="609480"/>
            <a:chOff x="6400800" y="1371600"/>
            <a:chExt cx="2742840" cy="609480"/>
          </a:xfrm>
        </p:grpSpPr>
        <p:pic>
          <p:nvPicPr>
            <p:cNvPr id="1192" name="" descr=""/>
            <p:cNvPicPr/>
            <p:nvPr/>
          </p:nvPicPr>
          <p:blipFill>
            <a:blip r:embed="rId5"/>
            <a:stretch/>
          </p:blipFill>
          <p:spPr>
            <a:xfrm>
              <a:off x="640080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3" name=""/>
            <p:cNvSpPr/>
            <p:nvPr/>
          </p:nvSpPr>
          <p:spPr>
            <a:xfrm>
              <a:off x="6606360" y="198108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4" name="" descr=""/>
            <p:cNvPicPr/>
            <p:nvPr/>
          </p:nvPicPr>
          <p:blipFill>
            <a:blip r:embed="rId6"/>
            <a:stretch/>
          </p:blipFill>
          <p:spPr>
            <a:xfrm>
              <a:off x="729216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7"/>
            <a:stretch/>
          </p:blipFill>
          <p:spPr>
            <a:xfrm>
              <a:off x="825228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6" name=""/>
          <p:cNvSpPr/>
          <p:nvPr/>
        </p:nvSpPr>
        <p:spPr>
          <a:xfrm>
            <a:off x="76960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1430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2952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447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8"/>
          <a:stretch/>
        </p:blipFill>
        <p:spPr>
          <a:xfrm>
            <a:off x="8153280" y="4800600"/>
            <a:ext cx="73512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1" name=""/>
          <p:cNvGraphicFramePr/>
          <p:nvPr/>
        </p:nvGraphicFramePr>
        <p:xfrm>
          <a:off x="7391520" y="4800600"/>
          <a:ext cx="45720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8006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3" name=""/>
          <p:cNvGraphicFramePr/>
          <p:nvPr/>
        </p:nvGraphicFramePr>
        <p:xfrm>
          <a:off x="7391520" y="5334120"/>
          <a:ext cx="45720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91520" y="53341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5" name=""/>
          <p:cNvGraphicFramePr/>
          <p:nvPr/>
        </p:nvGraphicFramePr>
        <p:xfrm>
          <a:off x="7391520" y="5867280"/>
          <a:ext cx="45720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91520" y="58672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7" name=""/>
          <p:cNvGraphicFramePr/>
          <p:nvPr/>
        </p:nvGraphicFramePr>
        <p:xfrm>
          <a:off x="228600" y="4572000"/>
          <a:ext cx="45720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" y="45720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9" name=""/>
          <p:cNvGraphicFramePr/>
          <p:nvPr/>
        </p:nvGraphicFramePr>
        <p:xfrm>
          <a:off x="228600" y="5105520"/>
          <a:ext cx="45720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" y="51055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1" name=""/>
          <p:cNvGraphicFramePr/>
          <p:nvPr/>
        </p:nvGraphicFramePr>
        <p:xfrm>
          <a:off x="228600" y="5638680"/>
          <a:ext cx="457200" cy="381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600" y="56386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3" name=""/>
          <p:cNvSpPr/>
          <p:nvPr/>
        </p:nvSpPr>
        <p:spPr>
          <a:xfrm>
            <a:off x="609480" y="48769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609480" y="52574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609480" y="5410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38188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853452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686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8148960" y="4365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1219320" y="2133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763280" y="321300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w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z-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12193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8610480" y="36572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534520" y="1981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72400" y="49528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7240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848720" y="56383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658920" y="326232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z-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6877080" y="3573360"/>
            <a:ext cx="1295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6516720" y="4508640"/>
          <a:ext cx="457200" cy="38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16720" y="450864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2" name="" descr=""/>
          <p:cNvPicPr/>
          <p:nvPr/>
        </p:nvPicPr>
        <p:blipFill>
          <a:blip r:embed="rId23"/>
          <a:stretch/>
        </p:blipFill>
        <p:spPr>
          <a:xfrm>
            <a:off x="2050920" y="2492280"/>
            <a:ext cx="720720" cy="51120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24"/>
          <a:stretch/>
        </p:blipFill>
        <p:spPr>
          <a:xfrm>
            <a:off x="7093080" y="2390760"/>
            <a:ext cx="718920" cy="50976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826920" y="3284640"/>
            <a:ext cx="792360" cy="36036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8172360" y="3213000"/>
            <a:ext cx="647640" cy="43200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228600" y="0"/>
            <a:ext cx="8458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TRO ENFOQUE: TELEFONOS Y PLANTA CONECTADOS A LA RED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7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30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8" name=""/>
          <p:cNvGraphicFramePr/>
          <p:nvPr/>
        </p:nvGraphicFramePr>
        <p:xfrm>
          <a:off x="5003640" y="4221000"/>
          <a:ext cx="1041480" cy="15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4221000"/>
                    <a:ext cx="10414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0" name=""/>
          <p:cNvSpPr/>
          <p:nvPr/>
        </p:nvSpPr>
        <p:spPr>
          <a:xfrm>
            <a:off x="3924360" y="378936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708360" y="620640"/>
            <a:ext cx="2971440" cy="1714320"/>
            <a:chOff x="3708360" y="620640"/>
            <a:chExt cx="2971440" cy="1714320"/>
          </a:xfrm>
        </p:grpSpPr>
        <p:sp>
          <p:nvSpPr>
            <p:cNvPr id="1242" name=""/>
            <p:cNvSpPr/>
            <p:nvPr/>
          </p:nvSpPr>
          <p:spPr>
            <a:xfrm>
              <a:off x="3708360" y="620640"/>
              <a:ext cx="2971440" cy="171432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381200" y="1403280"/>
              <a:ext cx="111636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 flipV="1">
            <a:off x="3564000" y="3069720"/>
            <a:ext cx="288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4211640" y="2278080"/>
            <a:ext cx="21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7669080" y="2060640"/>
            <a:ext cx="1252080" cy="504720"/>
            <a:chOff x="7669080" y="2060640"/>
            <a:chExt cx="1252080" cy="504720"/>
          </a:xfrm>
        </p:grpSpPr>
        <p:sp>
          <p:nvSpPr>
            <p:cNvPr id="1247" name=""/>
            <p:cNvSpPr/>
            <p:nvPr/>
          </p:nvSpPr>
          <p:spPr>
            <a:xfrm>
              <a:off x="7669080" y="2062800"/>
              <a:ext cx="1132200" cy="24516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825320" y="2302560"/>
              <a:ext cx="976320" cy="2613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669080" y="2060640"/>
              <a:ext cx="159480" cy="50472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836840" y="2317320"/>
              <a:ext cx="817560" cy="2318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7826760" y="2370600"/>
              <a:ext cx="28800" cy="52920"/>
              <a:chOff x="7826760" y="2370600"/>
              <a:chExt cx="28800" cy="52920"/>
            </a:xfrm>
          </p:grpSpPr>
          <p:sp>
            <p:nvSpPr>
              <p:cNvPr id="1252" name=""/>
              <p:cNvSpPr/>
              <p:nvPr/>
            </p:nvSpPr>
            <p:spPr>
              <a:xfrm>
                <a:off x="7826760" y="2370600"/>
                <a:ext cx="288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826760" y="2377440"/>
                <a:ext cx="288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826760" y="2393280"/>
                <a:ext cx="288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826760" y="2399760"/>
                <a:ext cx="288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826760" y="2416320"/>
                <a:ext cx="2880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826760" y="2422800"/>
                <a:ext cx="288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8655840" y="2295000"/>
              <a:ext cx="145440" cy="1692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7692120" y="2145240"/>
              <a:ext cx="42840" cy="234720"/>
              <a:chOff x="7692120" y="2145240"/>
              <a:chExt cx="42840" cy="234720"/>
            </a:xfrm>
          </p:grpSpPr>
          <p:grpSp>
            <p:nvGrpSpPr>
              <p:cNvPr id="1260" name=""/>
              <p:cNvGrpSpPr/>
              <p:nvPr/>
            </p:nvGrpSpPr>
            <p:grpSpPr>
              <a:xfrm>
                <a:off x="7692120" y="2145240"/>
                <a:ext cx="42840" cy="74520"/>
                <a:chOff x="7692120" y="2145240"/>
                <a:chExt cx="42840" cy="7452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7692120" y="2145600"/>
                  <a:ext cx="41400" cy="741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7693200" y="2145240"/>
                  <a:ext cx="41760" cy="741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7692120" y="2171880"/>
                <a:ext cx="42840" cy="74880"/>
                <a:chOff x="7692120" y="2171880"/>
                <a:chExt cx="42840" cy="748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7692120" y="2172240"/>
                  <a:ext cx="41400" cy="745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7693200" y="2171880"/>
                  <a:ext cx="41760" cy="745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7692120" y="2198520"/>
                <a:ext cx="42840" cy="75240"/>
                <a:chOff x="7692120" y="2198520"/>
                <a:chExt cx="42840" cy="7524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7692120" y="2199240"/>
                  <a:ext cx="41400" cy="745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7693200" y="2198520"/>
                  <a:ext cx="41760" cy="745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7692120" y="2225160"/>
                <a:ext cx="42840" cy="75240"/>
                <a:chOff x="7692120" y="2225160"/>
                <a:chExt cx="42840" cy="7524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7692120" y="2225880"/>
                  <a:ext cx="41400" cy="745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7693200" y="2225160"/>
                  <a:ext cx="41760" cy="745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7692120" y="2252160"/>
                <a:ext cx="42840" cy="74520"/>
                <a:chOff x="7692120" y="2252160"/>
                <a:chExt cx="42840" cy="7452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7692120" y="2252520"/>
                  <a:ext cx="41400" cy="741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7693200" y="2252160"/>
                  <a:ext cx="41760" cy="741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7692120" y="2278800"/>
                <a:ext cx="42840" cy="74520"/>
                <a:chOff x="7692120" y="2278800"/>
                <a:chExt cx="42840" cy="7452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7692120" y="2279160"/>
                  <a:ext cx="41400" cy="741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693200" y="2278800"/>
                  <a:ext cx="41760" cy="741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7692120" y="2305440"/>
                <a:ext cx="42840" cy="74520"/>
                <a:chOff x="7692120" y="2305440"/>
                <a:chExt cx="42840" cy="7452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7692120" y="2305800"/>
                  <a:ext cx="41400" cy="741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7693200" y="2305440"/>
                  <a:ext cx="41760" cy="741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1" name=""/>
            <p:cNvGrpSpPr/>
            <p:nvPr/>
          </p:nvGrpSpPr>
          <p:grpSpPr>
            <a:xfrm>
              <a:off x="7757640" y="2246040"/>
              <a:ext cx="41400" cy="235440"/>
              <a:chOff x="7757640" y="2246040"/>
              <a:chExt cx="41400" cy="23544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7757640" y="2246040"/>
                <a:ext cx="41400" cy="74520"/>
                <a:chOff x="7757640" y="2246040"/>
                <a:chExt cx="41400" cy="7452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7757640" y="224676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758720" y="224604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5" name=""/>
              <p:cNvGrpSpPr/>
              <p:nvPr/>
            </p:nvGrpSpPr>
            <p:grpSpPr>
              <a:xfrm>
                <a:off x="7757640" y="2272680"/>
                <a:ext cx="41400" cy="74520"/>
                <a:chOff x="7757640" y="2272680"/>
                <a:chExt cx="41400" cy="7452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7757640" y="227340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7758720" y="227268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7757640" y="2299680"/>
                <a:ext cx="41400" cy="74160"/>
                <a:chOff x="7757640" y="2299680"/>
                <a:chExt cx="41400" cy="741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7757640" y="230004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7758720" y="229968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"/>
              <p:cNvGrpSpPr/>
              <p:nvPr/>
            </p:nvGrpSpPr>
            <p:grpSpPr>
              <a:xfrm>
                <a:off x="7757640" y="2326320"/>
                <a:ext cx="41400" cy="74160"/>
                <a:chOff x="7757640" y="2326320"/>
                <a:chExt cx="41400" cy="7416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7757640" y="232668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7758720" y="232632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7757640" y="2353320"/>
                <a:ext cx="41400" cy="74160"/>
                <a:chOff x="7757640" y="2353320"/>
                <a:chExt cx="41400" cy="7416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7757640" y="235368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758720" y="235332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7757640" y="2379960"/>
                <a:ext cx="41400" cy="74160"/>
                <a:chOff x="7757640" y="2379960"/>
                <a:chExt cx="41400" cy="7416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7757640" y="238032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7758720" y="237996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"/>
              <p:cNvGrpSpPr/>
              <p:nvPr/>
            </p:nvGrpSpPr>
            <p:grpSpPr>
              <a:xfrm>
                <a:off x="7757640" y="2406960"/>
                <a:ext cx="41400" cy="74520"/>
                <a:chOff x="7757640" y="2406960"/>
                <a:chExt cx="41400" cy="7452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7757640" y="240768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758720" y="240696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3" name=""/>
            <p:cNvGrpSpPr/>
            <p:nvPr/>
          </p:nvGrpSpPr>
          <p:grpSpPr>
            <a:xfrm>
              <a:off x="7701840" y="2067120"/>
              <a:ext cx="169920" cy="226080"/>
              <a:chOff x="7701840" y="2067120"/>
              <a:chExt cx="169920" cy="226080"/>
            </a:xfrm>
          </p:grpSpPr>
          <p:sp>
            <p:nvSpPr>
              <p:cNvPr id="1304" name=""/>
              <p:cNvSpPr/>
              <p:nvPr/>
            </p:nvSpPr>
            <p:spPr>
              <a:xfrm>
                <a:off x="7701840" y="2067120"/>
                <a:ext cx="43200" cy="273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706160" y="2072160"/>
                <a:ext cx="37080" cy="237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828560" y="2265120"/>
                <a:ext cx="43200" cy="266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833240" y="2269440"/>
                <a:ext cx="37080" cy="237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8600400" y="2067120"/>
              <a:ext cx="170280" cy="226080"/>
              <a:chOff x="8600400" y="2067120"/>
              <a:chExt cx="170280" cy="226080"/>
            </a:xfrm>
          </p:grpSpPr>
          <p:sp>
            <p:nvSpPr>
              <p:cNvPr id="1309" name=""/>
              <p:cNvSpPr/>
              <p:nvPr/>
            </p:nvSpPr>
            <p:spPr>
              <a:xfrm>
                <a:off x="8600400" y="2067120"/>
                <a:ext cx="43560" cy="273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604360" y="2072160"/>
                <a:ext cx="37800" cy="237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727480" y="2265120"/>
                <a:ext cx="43200" cy="266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731800" y="2269440"/>
                <a:ext cx="37800" cy="237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7836840" y="2323080"/>
              <a:ext cx="822600" cy="221760"/>
              <a:chOff x="7836840" y="2323080"/>
              <a:chExt cx="822600" cy="221760"/>
            </a:xfrm>
          </p:grpSpPr>
          <p:sp>
            <p:nvSpPr>
              <p:cNvPr id="1314" name=""/>
              <p:cNvSpPr/>
              <p:nvPr/>
            </p:nvSpPr>
            <p:spPr>
              <a:xfrm>
                <a:off x="7836840" y="2323800"/>
                <a:ext cx="774000" cy="22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586000" y="2323080"/>
                <a:ext cx="73440" cy="22176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8686800" y="2314080"/>
              <a:ext cx="115920" cy="2509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556120" y="210708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8" name=""/>
            <p:cNvGrpSpPr/>
            <p:nvPr/>
          </p:nvGrpSpPr>
          <p:grpSpPr>
            <a:xfrm>
              <a:off x="7872840" y="2354760"/>
              <a:ext cx="749880" cy="162720"/>
              <a:chOff x="7872840" y="2354760"/>
              <a:chExt cx="749880" cy="162720"/>
            </a:xfrm>
          </p:grpSpPr>
          <p:grpSp>
            <p:nvGrpSpPr>
              <p:cNvPr id="1319" name=""/>
              <p:cNvGrpSpPr/>
              <p:nvPr/>
            </p:nvGrpSpPr>
            <p:grpSpPr>
              <a:xfrm>
                <a:off x="8539200" y="2354760"/>
                <a:ext cx="83520" cy="31320"/>
                <a:chOff x="8539200" y="2354760"/>
                <a:chExt cx="83520" cy="31320"/>
              </a:xfrm>
            </p:grpSpPr>
            <p:grpSp>
              <p:nvGrpSpPr>
                <p:cNvPr id="1320" name=""/>
                <p:cNvGrpSpPr/>
                <p:nvPr/>
              </p:nvGrpSpPr>
              <p:grpSpPr>
                <a:xfrm>
                  <a:off x="8539200" y="2354760"/>
                  <a:ext cx="25200" cy="31320"/>
                  <a:chOff x="8539200" y="2354760"/>
                  <a:chExt cx="25200" cy="3132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>
                    <a:off x="8547480" y="2359800"/>
                    <a:ext cx="1692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8539200" y="2354760"/>
                    <a:ext cx="14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8539200" y="236556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8539200" y="2375280"/>
                    <a:ext cx="1728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8550360" y="2370240"/>
                    <a:ext cx="140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8550000" y="238068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7" name=""/>
                <p:cNvGrpSpPr/>
                <p:nvPr/>
              </p:nvGrpSpPr>
              <p:grpSpPr>
                <a:xfrm>
                  <a:off x="8568360" y="2358000"/>
                  <a:ext cx="54360" cy="23760"/>
                  <a:chOff x="8568360" y="2358000"/>
                  <a:chExt cx="54360" cy="2376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8568360" y="2358000"/>
                    <a:ext cx="54360" cy="9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8568360" y="2372400"/>
                    <a:ext cx="54360" cy="9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30" name=""/>
              <p:cNvGrpSpPr/>
              <p:nvPr/>
            </p:nvGrpSpPr>
            <p:grpSpPr>
              <a:xfrm>
                <a:off x="8578440" y="2500920"/>
                <a:ext cx="42480" cy="16560"/>
                <a:chOff x="8578440" y="2500920"/>
                <a:chExt cx="42480" cy="1656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8578440" y="2500920"/>
                  <a:ext cx="42480" cy="7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8580960" y="2509920"/>
                  <a:ext cx="39600" cy="7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8498520" y="2376720"/>
                <a:ext cx="32400" cy="49320"/>
                <a:chOff x="8498520" y="2376720"/>
                <a:chExt cx="32400" cy="4932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8498520" y="2384280"/>
                  <a:ext cx="32400" cy="4176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8504640" y="2376720"/>
                  <a:ext cx="21960" cy="1656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8507520" y="2378880"/>
                  <a:ext cx="15840" cy="1296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>
                <a:off x="8503920" y="2436120"/>
                <a:ext cx="972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8517240" y="2436120"/>
                <a:ext cx="972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503920" y="2453760"/>
                <a:ext cx="9720" cy="136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517240" y="2453760"/>
                <a:ext cx="9720" cy="136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503920" y="2472120"/>
                <a:ext cx="9720" cy="129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517240" y="2472120"/>
                <a:ext cx="9720" cy="129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503920" y="2490480"/>
                <a:ext cx="9720" cy="14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517240" y="2490480"/>
                <a:ext cx="9720" cy="14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533800" y="2475720"/>
                <a:ext cx="31680" cy="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8097840" y="2376720"/>
                <a:ext cx="153360" cy="4428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155080" y="2367720"/>
                <a:ext cx="46080" cy="1836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161200" y="2370240"/>
                <a:ext cx="32400" cy="13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9" name=""/>
              <p:cNvGrpSpPr/>
              <p:nvPr/>
            </p:nvGrpSpPr>
            <p:grpSpPr>
              <a:xfrm>
                <a:off x="8146800" y="2388960"/>
                <a:ext cx="59760" cy="29520"/>
                <a:chOff x="8146800" y="2388960"/>
                <a:chExt cx="59760" cy="2952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8146800" y="2388960"/>
                  <a:ext cx="59760" cy="7920"/>
                </a:xfrm>
                <a:prstGeom prst="rect">
                  <a:avLst/>
                </a:prstGeom>
                <a:solidFill>
                  <a:srgbClr val="f5eb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149320" y="2399400"/>
                  <a:ext cx="54360" cy="7920"/>
                </a:xfrm>
                <a:prstGeom prst="rect">
                  <a:avLst/>
                </a:prstGeom>
                <a:solidFill>
                  <a:srgbClr val="f5eb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155080" y="2410560"/>
                  <a:ext cx="43920" cy="7920"/>
                </a:xfrm>
                <a:prstGeom prst="rect">
                  <a:avLst/>
                </a:prstGeom>
                <a:solidFill>
                  <a:srgbClr val="f5eb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8096040" y="2429640"/>
                <a:ext cx="78480" cy="69120"/>
                <a:chOff x="8096040" y="2429640"/>
                <a:chExt cx="78480" cy="69120"/>
              </a:xfrm>
            </p:grpSpPr>
            <p:grpSp>
              <p:nvGrpSpPr>
                <p:cNvPr id="1354" name=""/>
                <p:cNvGrpSpPr/>
                <p:nvPr/>
              </p:nvGrpSpPr>
              <p:grpSpPr>
                <a:xfrm>
                  <a:off x="8096040" y="2429640"/>
                  <a:ext cx="78480" cy="12600"/>
                  <a:chOff x="8096040" y="2429640"/>
                  <a:chExt cx="78480" cy="1260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>
                    <a:off x="809604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810936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812304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8137080" y="2429640"/>
                    <a:ext cx="936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815040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816444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1" name=""/>
                <p:cNvGrpSpPr/>
                <p:nvPr/>
              </p:nvGrpSpPr>
              <p:grpSpPr>
                <a:xfrm>
                  <a:off x="8096040" y="2448000"/>
                  <a:ext cx="78480" cy="13320"/>
                  <a:chOff x="8096040" y="2448000"/>
                  <a:chExt cx="78480" cy="1332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>
                    <a:off x="809604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810936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812304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8137080" y="2448000"/>
                    <a:ext cx="936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815040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816444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8" name=""/>
                <p:cNvGrpSpPr/>
                <p:nvPr/>
              </p:nvGrpSpPr>
              <p:grpSpPr>
                <a:xfrm>
                  <a:off x="8096040" y="2467080"/>
                  <a:ext cx="78480" cy="12600"/>
                  <a:chOff x="8096040" y="2467080"/>
                  <a:chExt cx="78480" cy="12600"/>
                </a:xfrm>
              </p:grpSpPr>
              <p:sp>
                <p:nvSpPr>
                  <p:cNvPr id="1369" name=""/>
                  <p:cNvSpPr/>
                  <p:nvPr/>
                </p:nvSpPr>
                <p:spPr>
                  <a:xfrm>
                    <a:off x="809604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810936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812304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8137080" y="2467080"/>
                    <a:ext cx="936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815040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816444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8096040" y="2485440"/>
                  <a:ext cx="78480" cy="13320"/>
                  <a:chOff x="8096040" y="2485440"/>
                  <a:chExt cx="78480" cy="13320"/>
                </a:xfrm>
              </p:grpSpPr>
              <p:sp>
                <p:nvSpPr>
                  <p:cNvPr id="1376" name=""/>
                  <p:cNvSpPr/>
                  <p:nvPr/>
                </p:nvSpPr>
                <p:spPr>
                  <a:xfrm>
                    <a:off x="809604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810936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812304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8137080" y="2485440"/>
                    <a:ext cx="936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815040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816444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2" name=""/>
              <p:cNvGrpSpPr/>
              <p:nvPr/>
            </p:nvGrpSpPr>
            <p:grpSpPr>
              <a:xfrm>
                <a:off x="8179200" y="2429640"/>
                <a:ext cx="77400" cy="69120"/>
                <a:chOff x="8179200" y="2429640"/>
                <a:chExt cx="77400" cy="69120"/>
              </a:xfrm>
            </p:grpSpPr>
            <p:grpSp>
              <p:nvGrpSpPr>
                <p:cNvPr id="1383" name=""/>
                <p:cNvGrpSpPr/>
                <p:nvPr/>
              </p:nvGrpSpPr>
              <p:grpSpPr>
                <a:xfrm>
                  <a:off x="8179200" y="2429640"/>
                  <a:ext cx="77400" cy="12600"/>
                  <a:chOff x="8179200" y="2429640"/>
                  <a:chExt cx="77400" cy="12600"/>
                </a:xfrm>
              </p:grpSpPr>
              <p:sp>
                <p:nvSpPr>
                  <p:cNvPr id="1384" name=""/>
                  <p:cNvSpPr/>
                  <p:nvPr/>
                </p:nvSpPr>
                <p:spPr>
                  <a:xfrm>
                    <a:off x="8179200" y="2429640"/>
                    <a:ext cx="972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819252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820620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821952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823356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8247240" y="2429640"/>
                    <a:ext cx="936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0" name=""/>
                <p:cNvGrpSpPr/>
                <p:nvPr/>
              </p:nvGrpSpPr>
              <p:grpSpPr>
                <a:xfrm>
                  <a:off x="8179200" y="2448000"/>
                  <a:ext cx="77400" cy="13320"/>
                  <a:chOff x="8179200" y="2448000"/>
                  <a:chExt cx="77400" cy="13320"/>
                </a:xfrm>
              </p:grpSpPr>
              <p:sp>
                <p:nvSpPr>
                  <p:cNvPr id="1391" name=""/>
                  <p:cNvSpPr/>
                  <p:nvPr/>
                </p:nvSpPr>
                <p:spPr>
                  <a:xfrm>
                    <a:off x="8179200" y="2448000"/>
                    <a:ext cx="972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819252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820620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821952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823356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8247240" y="2448000"/>
                    <a:ext cx="936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7" name=""/>
                <p:cNvGrpSpPr/>
                <p:nvPr/>
              </p:nvGrpSpPr>
              <p:grpSpPr>
                <a:xfrm>
                  <a:off x="8179200" y="2467080"/>
                  <a:ext cx="77400" cy="12600"/>
                  <a:chOff x="8179200" y="2467080"/>
                  <a:chExt cx="77400" cy="12600"/>
                </a:xfrm>
              </p:grpSpPr>
              <p:sp>
                <p:nvSpPr>
                  <p:cNvPr id="1398" name=""/>
                  <p:cNvSpPr/>
                  <p:nvPr/>
                </p:nvSpPr>
                <p:spPr>
                  <a:xfrm>
                    <a:off x="8179200" y="2467080"/>
                    <a:ext cx="972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819252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820620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821952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823356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8247240" y="2467080"/>
                    <a:ext cx="936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4" name=""/>
                <p:cNvGrpSpPr/>
                <p:nvPr/>
              </p:nvGrpSpPr>
              <p:grpSpPr>
                <a:xfrm>
                  <a:off x="8179200" y="2485440"/>
                  <a:ext cx="77400" cy="13320"/>
                  <a:chOff x="8179200" y="2485440"/>
                  <a:chExt cx="77400" cy="13320"/>
                </a:xfrm>
              </p:grpSpPr>
              <p:sp>
                <p:nvSpPr>
                  <p:cNvPr id="1405" name=""/>
                  <p:cNvSpPr/>
                  <p:nvPr/>
                </p:nvSpPr>
                <p:spPr>
                  <a:xfrm>
                    <a:off x="8179200" y="2485440"/>
                    <a:ext cx="972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819252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820620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821952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823356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8247240" y="2485440"/>
                    <a:ext cx="936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1" name=""/>
              <p:cNvGrpSpPr/>
              <p:nvPr/>
            </p:nvGrpSpPr>
            <p:grpSpPr>
              <a:xfrm>
                <a:off x="7872840" y="2452680"/>
                <a:ext cx="203400" cy="60840"/>
                <a:chOff x="7872840" y="2452680"/>
                <a:chExt cx="203400" cy="60840"/>
              </a:xfrm>
            </p:grpSpPr>
            <p:grpSp>
              <p:nvGrpSpPr>
                <p:cNvPr id="1412" name=""/>
                <p:cNvGrpSpPr/>
                <p:nvPr/>
              </p:nvGrpSpPr>
              <p:grpSpPr>
                <a:xfrm>
                  <a:off x="7872840" y="2452680"/>
                  <a:ext cx="25200" cy="60840"/>
                  <a:chOff x="7872840" y="2452680"/>
                  <a:chExt cx="25200" cy="60840"/>
                </a:xfrm>
              </p:grpSpPr>
              <p:grpSp>
                <p:nvGrpSpPr>
                  <p:cNvPr id="1413" name=""/>
                  <p:cNvGrpSpPr/>
                  <p:nvPr/>
                </p:nvGrpSpPr>
                <p:grpSpPr>
                  <a:xfrm>
                    <a:off x="7872840" y="2452680"/>
                    <a:ext cx="25200" cy="60840"/>
                    <a:chOff x="7872840" y="2452680"/>
                    <a:chExt cx="25200" cy="60840"/>
                  </a:xfrm>
                </p:grpSpPr>
                <p:sp>
                  <p:nvSpPr>
                    <p:cNvPr id="1414" name=""/>
                    <p:cNvSpPr/>
                    <p:nvPr/>
                  </p:nvSpPr>
                  <p:spPr>
                    <a:xfrm>
                      <a:off x="7872840" y="246420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5" name=""/>
                    <p:cNvSpPr/>
                    <p:nvPr/>
                  </p:nvSpPr>
                  <p:spPr>
                    <a:xfrm>
                      <a:off x="7872840" y="246672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6" name=""/>
                    <p:cNvSpPr/>
                    <p:nvPr/>
                  </p:nvSpPr>
                  <p:spPr>
                    <a:xfrm>
                      <a:off x="7875360" y="247572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7872840" y="246672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7874280" y="24526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9" name=""/>
                    <p:cNvSpPr/>
                    <p:nvPr/>
                  </p:nvSpPr>
                  <p:spPr>
                    <a:xfrm>
                      <a:off x="7892640" y="24526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20" name=""/>
                  <p:cNvSpPr/>
                  <p:nvPr/>
                </p:nvSpPr>
                <p:spPr>
                  <a:xfrm>
                    <a:off x="7880760" y="248616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1" name=""/>
                <p:cNvGrpSpPr/>
                <p:nvPr/>
              </p:nvGrpSpPr>
              <p:grpSpPr>
                <a:xfrm>
                  <a:off x="7908120" y="2452680"/>
                  <a:ext cx="25200" cy="60840"/>
                  <a:chOff x="7908120" y="2452680"/>
                  <a:chExt cx="25200" cy="60840"/>
                </a:xfrm>
              </p:grpSpPr>
              <p:grpSp>
                <p:nvGrpSpPr>
                  <p:cNvPr id="1422" name=""/>
                  <p:cNvGrpSpPr/>
                  <p:nvPr/>
                </p:nvGrpSpPr>
                <p:grpSpPr>
                  <a:xfrm>
                    <a:off x="7908120" y="2452680"/>
                    <a:ext cx="25200" cy="60840"/>
                    <a:chOff x="7908120" y="2452680"/>
                    <a:chExt cx="25200" cy="60840"/>
                  </a:xfrm>
                </p:grpSpPr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7908120" y="246420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4" name=""/>
                    <p:cNvSpPr/>
                    <p:nvPr/>
                  </p:nvSpPr>
                  <p:spPr>
                    <a:xfrm>
                      <a:off x="7908120" y="246672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5" name=""/>
                    <p:cNvSpPr/>
                    <p:nvPr/>
                  </p:nvSpPr>
                  <p:spPr>
                    <a:xfrm>
                      <a:off x="7910640" y="247572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6" name=""/>
                    <p:cNvSpPr/>
                    <p:nvPr/>
                  </p:nvSpPr>
                  <p:spPr>
                    <a:xfrm>
                      <a:off x="7908120" y="246672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7" name=""/>
                    <p:cNvSpPr/>
                    <p:nvPr/>
                  </p:nvSpPr>
                  <p:spPr>
                    <a:xfrm>
                      <a:off x="7909560" y="24526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8" name=""/>
                    <p:cNvSpPr/>
                    <p:nvPr/>
                  </p:nvSpPr>
                  <p:spPr>
                    <a:xfrm>
                      <a:off x="7927920" y="24526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29" name=""/>
                  <p:cNvSpPr/>
                  <p:nvPr/>
                </p:nvSpPr>
                <p:spPr>
                  <a:xfrm>
                    <a:off x="7916040" y="248616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0" name=""/>
                <p:cNvGrpSpPr/>
                <p:nvPr/>
              </p:nvGrpSpPr>
              <p:grpSpPr>
                <a:xfrm>
                  <a:off x="7943760" y="2452680"/>
                  <a:ext cx="25560" cy="60840"/>
                  <a:chOff x="7943760" y="2452680"/>
                  <a:chExt cx="25560" cy="60840"/>
                </a:xfrm>
              </p:grpSpPr>
              <p:grpSp>
                <p:nvGrpSpPr>
                  <p:cNvPr id="1431" name=""/>
                  <p:cNvGrpSpPr/>
                  <p:nvPr/>
                </p:nvGrpSpPr>
                <p:grpSpPr>
                  <a:xfrm>
                    <a:off x="7943760" y="2452680"/>
                    <a:ext cx="25560" cy="60840"/>
                    <a:chOff x="7943760" y="2452680"/>
                    <a:chExt cx="25560" cy="60840"/>
                  </a:xfrm>
                </p:grpSpPr>
                <p:sp>
                  <p:nvSpPr>
                    <p:cNvPr id="1432" name=""/>
                    <p:cNvSpPr/>
                    <p:nvPr/>
                  </p:nvSpPr>
                  <p:spPr>
                    <a:xfrm>
                      <a:off x="7943760" y="2464200"/>
                      <a:ext cx="2484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3" name=""/>
                    <p:cNvSpPr/>
                    <p:nvPr/>
                  </p:nvSpPr>
                  <p:spPr>
                    <a:xfrm>
                      <a:off x="7943760" y="246672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4" name=""/>
                    <p:cNvSpPr/>
                    <p:nvPr/>
                  </p:nvSpPr>
                  <p:spPr>
                    <a:xfrm>
                      <a:off x="7946280" y="2475720"/>
                      <a:ext cx="2304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5" name=""/>
                    <p:cNvSpPr/>
                    <p:nvPr/>
                  </p:nvSpPr>
                  <p:spPr>
                    <a:xfrm>
                      <a:off x="7943760" y="2466720"/>
                      <a:ext cx="255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6" name=""/>
                    <p:cNvSpPr/>
                    <p:nvPr/>
                  </p:nvSpPr>
                  <p:spPr>
                    <a:xfrm>
                      <a:off x="7945200" y="24526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7" name=""/>
                    <p:cNvSpPr/>
                    <p:nvPr/>
                  </p:nvSpPr>
                  <p:spPr>
                    <a:xfrm>
                      <a:off x="7963920" y="24526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38" name=""/>
                  <p:cNvSpPr/>
                  <p:nvPr/>
                </p:nvSpPr>
                <p:spPr>
                  <a:xfrm>
                    <a:off x="7951680" y="248616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9" name=""/>
                <p:cNvGrpSpPr/>
                <p:nvPr/>
              </p:nvGrpSpPr>
              <p:grpSpPr>
                <a:xfrm>
                  <a:off x="7979400" y="2452680"/>
                  <a:ext cx="25200" cy="60840"/>
                  <a:chOff x="7979400" y="2452680"/>
                  <a:chExt cx="25200" cy="60840"/>
                </a:xfrm>
              </p:grpSpPr>
              <p:grpSp>
                <p:nvGrpSpPr>
                  <p:cNvPr id="1440" name=""/>
                  <p:cNvGrpSpPr/>
                  <p:nvPr/>
                </p:nvGrpSpPr>
                <p:grpSpPr>
                  <a:xfrm>
                    <a:off x="7979400" y="2452680"/>
                    <a:ext cx="25200" cy="60840"/>
                    <a:chOff x="7979400" y="2452680"/>
                    <a:chExt cx="25200" cy="60840"/>
                  </a:xfrm>
                </p:grpSpPr>
                <p:sp>
                  <p:nvSpPr>
                    <p:cNvPr id="1441" name=""/>
                    <p:cNvSpPr/>
                    <p:nvPr/>
                  </p:nvSpPr>
                  <p:spPr>
                    <a:xfrm>
                      <a:off x="7979400" y="246420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2" name=""/>
                    <p:cNvSpPr/>
                    <p:nvPr/>
                  </p:nvSpPr>
                  <p:spPr>
                    <a:xfrm>
                      <a:off x="7979400" y="246672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3" name=""/>
                    <p:cNvSpPr/>
                    <p:nvPr/>
                  </p:nvSpPr>
                  <p:spPr>
                    <a:xfrm>
                      <a:off x="7981920" y="247572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4" name=""/>
                    <p:cNvSpPr/>
                    <p:nvPr/>
                  </p:nvSpPr>
                  <p:spPr>
                    <a:xfrm>
                      <a:off x="7979400" y="246672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5" name=""/>
                    <p:cNvSpPr/>
                    <p:nvPr/>
                  </p:nvSpPr>
                  <p:spPr>
                    <a:xfrm>
                      <a:off x="7980840" y="24526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>
                      <a:off x="7999200" y="24526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7" name=""/>
                  <p:cNvSpPr/>
                  <p:nvPr/>
                </p:nvSpPr>
                <p:spPr>
                  <a:xfrm>
                    <a:off x="7987320" y="248616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8" name=""/>
                <p:cNvGrpSpPr/>
                <p:nvPr/>
              </p:nvGrpSpPr>
              <p:grpSpPr>
                <a:xfrm>
                  <a:off x="8015040" y="2452680"/>
                  <a:ext cx="25200" cy="60840"/>
                  <a:chOff x="8015040" y="2452680"/>
                  <a:chExt cx="25200" cy="60840"/>
                </a:xfrm>
              </p:grpSpPr>
              <p:grpSp>
                <p:nvGrpSpPr>
                  <p:cNvPr id="1449" name=""/>
                  <p:cNvGrpSpPr/>
                  <p:nvPr/>
                </p:nvGrpSpPr>
                <p:grpSpPr>
                  <a:xfrm>
                    <a:off x="8015040" y="2452680"/>
                    <a:ext cx="25200" cy="60840"/>
                    <a:chOff x="8015040" y="2452680"/>
                    <a:chExt cx="25200" cy="60840"/>
                  </a:xfrm>
                </p:grpSpPr>
                <p:sp>
                  <p:nvSpPr>
                    <p:cNvPr id="1450" name=""/>
                    <p:cNvSpPr/>
                    <p:nvPr/>
                  </p:nvSpPr>
                  <p:spPr>
                    <a:xfrm>
                      <a:off x="8015040" y="246420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8015040" y="246672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8017560" y="247572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3" name=""/>
                    <p:cNvSpPr/>
                    <p:nvPr/>
                  </p:nvSpPr>
                  <p:spPr>
                    <a:xfrm>
                      <a:off x="8015040" y="246672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8016480" y="24526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5" name=""/>
                    <p:cNvSpPr/>
                    <p:nvPr/>
                  </p:nvSpPr>
                  <p:spPr>
                    <a:xfrm>
                      <a:off x="8034840" y="24526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6" name=""/>
                  <p:cNvSpPr/>
                  <p:nvPr/>
                </p:nvSpPr>
                <p:spPr>
                  <a:xfrm>
                    <a:off x="8022960" y="248616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7" name=""/>
                <p:cNvGrpSpPr/>
                <p:nvPr/>
              </p:nvGrpSpPr>
              <p:grpSpPr>
                <a:xfrm>
                  <a:off x="8051040" y="2452680"/>
                  <a:ext cx="25200" cy="60840"/>
                  <a:chOff x="8051040" y="2452680"/>
                  <a:chExt cx="25200" cy="60840"/>
                </a:xfrm>
              </p:grpSpPr>
              <p:grpSp>
                <p:nvGrpSpPr>
                  <p:cNvPr id="1458" name=""/>
                  <p:cNvGrpSpPr/>
                  <p:nvPr/>
                </p:nvGrpSpPr>
                <p:grpSpPr>
                  <a:xfrm>
                    <a:off x="8051040" y="2452680"/>
                    <a:ext cx="25200" cy="60840"/>
                    <a:chOff x="8051040" y="2452680"/>
                    <a:chExt cx="25200" cy="60840"/>
                  </a:xfrm>
                </p:grpSpPr>
                <p:sp>
                  <p:nvSpPr>
                    <p:cNvPr id="1459" name=""/>
                    <p:cNvSpPr/>
                    <p:nvPr/>
                  </p:nvSpPr>
                  <p:spPr>
                    <a:xfrm>
                      <a:off x="8051040" y="246420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0" name=""/>
                    <p:cNvSpPr/>
                    <p:nvPr/>
                  </p:nvSpPr>
                  <p:spPr>
                    <a:xfrm>
                      <a:off x="8051040" y="246672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1" name=""/>
                    <p:cNvSpPr/>
                    <p:nvPr/>
                  </p:nvSpPr>
                  <p:spPr>
                    <a:xfrm>
                      <a:off x="8053560" y="247572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2" name=""/>
                    <p:cNvSpPr/>
                    <p:nvPr/>
                  </p:nvSpPr>
                  <p:spPr>
                    <a:xfrm>
                      <a:off x="8051040" y="246672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3" name=""/>
                    <p:cNvSpPr/>
                    <p:nvPr/>
                  </p:nvSpPr>
                  <p:spPr>
                    <a:xfrm>
                      <a:off x="8052480" y="24526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4" name=""/>
                    <p:cNvSpPr/>
                    <p:nvPr/>
                  </p:nvSpPr>
                  <p:spPr>
                    <a:xfrm>
                      <a:off x="8070840" y="24526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65" name=""/>
                  <p:cNvSpPr/>
                  <p:nvPr/>
                </p:nvSpPr>
                <p:spPr>
                  <a:xfrm>
                    <a:off x="8058960" y="248616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6" name=""/>
              <p:cNvGrpSpPr/>
              <p:nvPr/>
            </p:nvGrpSpPr>
            <p:grpSpPr>
              <a:xfrm>
                <a:off x="8287200" y="2445120"/>
                <a:ext cx="203400" cy="60840"/>
                <a:chOff x="8287200" y="2445120"/>
                <a:chExt cx="203400" cy="60840"/>
              </a:xfrm>
            </p:grpSpPr>
            <p:grpSp>
              <p:nvGrpSpPr>
                <p:cNvPr id="1467" name=""/>
                <p:cNvGrpSpPr/>
                <p:nvPr/>
              </p:nvGrpSpPr>
              <p:grpSpPr>
                <a:xfrm>
                  <a:off x="8287200" y="2445120"/>
                  <a:ext cx="25200" cy="60840"/>
                  <a:chOff x="8287200" y="2445120"/>
                  <a:chExt cx="25200" cy="60840"/>
                </a:xfrm>
              </p:grpSpPr>
              <p:grpSp>
                <p:nvGrpSpPr>
                  <p:cNvPr id="1468" name=""/>
                  <p:cNvGrpSpPr/>
                  <p:nvPr/>
                </p:nvGrpSpPr>
                <p:grpSpPr>
                  <a:xfrm>
                    <a:off x="8287200" y="2445120"/>
                    <a:ext cx="25200" cy="60840"/>
                    <a:chOff x="8287200" y="2445120"/>
                    <a:chExt cx="25200" cy="60840"/>
                  </a:xfrm>
                </p:grpSpPr>
                <p:sp>
                  <p:nvSpPr>
                    <p:cNvPr id="1469" name=""/>
                    <p:cNvSpPr/>
                    <p:nvPr/>
                  </p:nvSpPr>
                  <p:spPr>
                    <a:xfrm>
                      <a:off x="8287200" y="245664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0" name=""/>
                    <p:cNvSpPr/>
                    <p:nvPr/>
                  </p:nvSpPr>
                  <p:spPr>
                    <a:xfrm>
                      <a:off x="8287200" y="245916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1" name=""/>
                    <p:cNvSpPr/>
                    <p:nvPr/>
                  </p:nvSpPr>
                  <p:spPr>
                    <a:xfrm>
                      <a:off x="8289720" y="246816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8287200" y="245916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3" name=""/>
                    <p:cNvSpPr/>
                    <p:nvPr/>
                  </p:nvSpPr>
                  <p:spPr>
                    <a:xfrm>
                      <a:off x="8288640" y="24451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4" name=""/>
                    <p:cNvSpPr/>
                    <p:nvPr/>
                  </p:nvSpPr>
                  <p:spPr>
                    <a:xfrm>
                      <a:off x="8307000" y="24451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5" name=""/>
                  <p:cNvSpPr/>
                  <p:nvPr/>
                </p:nvSpPr>
                <p:spPr>
                  <a:xfrm>
                    <a:off x="8295120" y="247860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6" name=""/>
                <p:cNvGrpSpPr/>
                <p:nvPr/>
              </p:nvGrpSpPr>
              <p:grpSpPr>
                <a:xfrm>
                  <a:off x="8322480" y="2445120"/>
                  <a:ext cx="25200" cy="60840"/>
                  <a:chOff x="8322480" y="2445120"/>
                  <a:chExt cx="25200" cy="6084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8322480" y="2445120"/>
                    <a:ext cx="25200" cy="60840"/>
                    <a:chOff x="8322480" y="2445120"/>
                    <a:chExt cx="25200" cy="60840"/>
                  </a:xfrm>
                </p:grpSpPr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8322480" y="245664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8322480" y="245916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8325000" y="246816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1" name=""/>
                    <p:cNvSpPr/>
                    <p:nvPr/>
                  </p:nvSpPr>
                  <p:spPr>
                    <a:xfrm>
                      <a:off x="8322480" y="245916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8323920" y="24451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8342280" y="24451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4" name=""/>
                  <p:cNvSpPr/>
                  <p:nvPr/>
                </p:nvSpPr>
                <p:spPr>
                  <a:xfrm>
                    <a:off x="8330400" y="247860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5" name=""/>
                <p:cNvGrpSpPr/>
                <p:nvPr/>
              </p:nvGrpSpPr>
              <p:grpSpPr>
                <a:xfrm>
                  <a:off x="8358120" y="2445120"/>
                  <a:ext cx="25560" cy="60840"/>
                  <a:chOff x="8358120" y="2445120"/>
                  <a:chExt cx="25560" cy="60840"/>
                </a:xfrm>
              </p:grpSpPr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8358120" y="2445120"/>
                    <a:ext cx="25560" cy="60840"/>
                    <a:chOff x="8358120" y="2445120"/>
                    <a:chExt cx="25560" cy="6084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8358120" y="2456640"/>
                      <a:ext cx="2484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8358120" y="245916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8360640" y="2468160"/>
                      <a:ext cx="2304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8358120" y="2459160"/>
                      <a:ext cx="255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1" name=""/>
                    <p:cNvSpPr/>
                    <p:nvPr/>
                  </p:nvSpPr>
                  <p:spPr>
                    <a:xfrm>
                      <a:off x="8359560" y="24451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8378280" y="24451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3" name=""/>
                  <p:cNvSpPr/>
                  <p:nvPr/>
                </p:nvSpPr>
                <p:spPr>
                  <a:xfrm>
                    <a:off x="8366040" y="247860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4" name=""/>
                <p:cNvGrpSpPr/>
                <p:nvPr/>
              </p:nvGrpSpPr>
              <p:grpSpPr>
                <a:xfrm>
                  <a:off x="8393760" y="2445120"/>
                  <a:ext cx="25200" cy="60840"/>
                  <a:chOff x="8393760" y="2445120"/>
                  <a:chExt cx="25200" cy="60840"/>
                </a:xfrm>
              </p:grpSpPr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8393760" y="2445120"/>
                    <a:ext cx="25200" cy="60840"/>
                    <a:chOff x="8393760" y="2445120"/>
                    <a:chExt cx="25200" cy="60840"/>
                  </a:xfrm>
                </p:grpSpPr>
                <p:sp>
                  <p:nvSpPr>
                    <p:cNvPr id="1496" name=""/>
                    <p:cNvSpPr/>
                    <p:nvPr/>
                  </p:nvSpPr>
                  <p:spPr>
                    <a:xfrm>
                      <a:off x="8393760" y="245664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8393760" y="245916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8396280" y="246816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8393760" y="245916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8395200" y="24451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1" name=""/>
                    <p:cNvSpPr/>
                    <p:nvPr/>
                  </p:nvSpPr>
                  <p:spPr>
                    <a:xfrm>
                      <a:off x="8413560" y="24451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02" name=""/>
                  <p:cNvSpPr/>
                  <p:nvPr/>
                </p:nvSpPr>
                <p:spPr>
                  <a:xfrm>
                    <a:off x="8401680" y="247860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3" name=""/>
                <p:cNvGrpSpPr/>
                <p:nvPr/>
              </p:nvGrpSpPr>
              <p:grpSpPr>
                <a:xfrm>
                  <a:off x="8429400" y="2445120"/>
                  <a:ext cx="25200" cy="60840"/>
                  <a:chOff x="8429400" y="2445120"/>
                  <a:chExt cx="25200" cy="60840"/>
                </a:xfrm>
              </p:grpSpPr>
              <p:grpSp>
                <p:nvGrpSpPr>
                  <p:cNvPr id="1504" name=""/>
                  <p:cNvGrpSpPr/>
                  <p:nvPr/>
                </p:nvGrpSpPr>
                <p:grpSpPr>
                  <a:xfrm>
                    <a:off x="8429400" y="2445120"/>
                    <a:ext cx="25200" cy="60840"/>
                    <a:chOff x="8429400" y="2445120"/>
                    <a:chExt cx="25200" cy="60840"/>
                  </a:xfrm>
                </p:grpSpPr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8429400" y="245664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6" name=""/>
                    <p:cNvSpPr/>
                    <p:nvPr/>
                  </p:nvSpPr>
                  <p:spPr>
                    <a:xfrm>
                      <a:off x="8429400" y="245916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8431920" y="246816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8429400" y="245916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8430840" y="24451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8449200" y="24451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1" name=""/>
                  <p:cNvSpPr/>
                  <p:nvPr/>
                </p:nvSpPr>
                <p:spPr>
                  <a:xfrm>
                    <a:off x="8437320" y="247860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2" name=""/>
                <p:cNvGrpSpPr/>
                <p:nvPr/>
              </p:nvGrpSpPr>
              <p:grpSpPr>
                <a:xfrm>
                  <a:off x="8465400" y="2445120"/>
                  <a:ext cx="25200" cy="60840"/>
                  <a:chOff x="8465400" y="2445120"/>
                  <a:chExt cx="25200" cy="60840"/>
                </a:xfrm>
              </p:grpSpPr>
              <p:grpSp>
                <p:nvGrpSpPr>
                  <p:cNvPr id="1513" name=""/>
                  <p:cNvGrpSpPr/>
                  <p:nvPr/>
                </p:nvGrpSpPr>
                <p:grpSpPr>
                  <a:xfrm>
                    <a:off x="8465400" y="2445120"/>
                    <a:ext cx="25200" cy="60840"/>
                    <a:chOff x="8465400" y="2445120"/>
                    <a:chExt cx="25200" cy="60840"/>
                  </a:xfrm>
                </p:grpSpPr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8465400" y="245664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8465400" y="245916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6" name=""/>
                    <p:cNvSpPr/>
                    <p:nvPr/>
                  </p:nvSpPr>
                  <p:spPr>
                    <a:xfrm>
                      <a:off x="8467920" y="246816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8465400" y="245916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8466840" y="24451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8485200" y="24451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0" name=""/>
                  <p:cNvSpPr/>
                  <p:nvPr/>
                </p:nvSpPr>
                <p:spPr>
                  <a:xfrm>
                    <a:off x="8473320" y="247860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21" name=""/>
          <p:cNvSpPr/>
          <p:nvPr/>
        </p:nvSpPr>
        <p:spPr>
          <a:xfrm>
            <a:off x="6661080" y="134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740720" y="1701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7669080" y="2494080"/>
            <a:ext cx="287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17080" y="2421000"/>
            <a:ext cx="21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6229440" y="2852640"/>
          <a:ext cx="914400" cy="78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9440" y="2852640"/>
                    <a:ext cx="9144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7" name=""/>
          <p:cNvSpPr/>
          <p:nvPr/>
        </p:nvSpPr>
        <p:spPr>
          <a:xfrm flipV="1">
            <a:off x="6588000" y="24940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554720" y="2730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520" y="64440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134160" y="393372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734520" y="2060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786560" y="5546880"/>
            <a:ext cx="15951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BX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jeta de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.323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3" name=""/>
          <p:cNvGraphicFramePr/>
          <p:nvPr/>
        </p:nvGraphicFramePr>
        <p:xfrm>
          <a:off x="6948360" y="4221000"/>
          <a:ext cx="503280" cy="5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48360" y="4221000"/>
                    <a:ext cx="503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5" name=""/>
          <p:cNvSpPr/>
          <p:nvPr/>
        </p:nvSpPr>
        <p:spPr>
          <a:xfrm>
            <a:off x="6084720" y="458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012000" y="5516640"/>
            <a:ext cx="936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084720" y="5373720"/>
            <a:ext cx="935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6877080" y="5229360"/>
            <a:ext cx="1511280" cy="1223640"/>
            <a:chOff x="6877080" y="5229360"/>
            <a:chExt cx="1511280" cy="1223640"/>
          </a:xfrm>
        </p:grpSpPr>
        <p:sp>
          <p:nvSpPr>
            <p:cNvPr id="1539" name=""/>
            <p:cNvSpPr/>
            <p:nvPr/>
          </p:nvSpPr>
          <p:spPr>
            <a:xfrm>
              <a:off x="6877080" y="5229360"/>
              <a:ext cx="1511280" cy="12236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218360" y="5788080"/>
              <a:ext cx="9212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41" name=""/>
          <p:cNvGraphicFramePr/>
          <p:nvPr/>
        </p:nvGraphicFramePr>
        <p:xfrm>
          <a:off x="8459640" y="4724280"/>
          <a:ext cx="432000" cy="505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59640" y="4724280"/>
                    <a:ext cx="432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3" name=""/>
          <p:cNvSpPr/>
          <p:nvPr/>
        </p:nvSpPr>
        <p:spPr>
          <a:xfrm flipV="1">
            <a:off x="8028000" y="508464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7308720" y="2997360"/>
            <a:ext cx="531720" cy="645480"/>
            <a:chOff x="7308720" y="2997360"/>
            <a:chExt cx="531720" cy="645480"/>
          </a:xfrm>
        </p:grpSpPr>
        <p:pic>
          <p:nvPicPr>
            <p:cNvPr id="1545" name="" descr=""/>
            <p:cNvPicPr/>
            <p:nvPr/>
          </p:nvPicPr>
          <p:blipFill>
            <a:blip r:embed="rId10"/>
            <a:stretch/>
          </p:blipFill>
          <p:spPr>
            <a:xfrm>
              <a:off x="7308720" y="2997360"/>
              <a:ext cx="531720" cy="40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6" name=""/>
            <p:cNvSpPr/>
            <p:nvPr/>
          </p:nvSpPr>
          <p:spPr>
            <a:xfrm>
              <a:off x="7380000" y="3355560"/>
              <a:ext cx="36036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8244000" y="2997360"/>
            <a:ext cx="531720" cy="645480"/>
            <a:chOff x="8244000" y="2997360"/>
            <a:chExt cx="531720" cy="645480"/>
          </a:xfrm>
        </p:grpSpPr>
        <p:pic>
          <p:nvPicPr>
            <p:cNvPr id="1548" name="" descr=""/>
            <p:cNvPicPr/>
            <p:nvPr/>
          </p:nvPicPr>
          <p:blipFill>
            <a:blip r:embed="rId11"/>
            <a:stretch/>
          </p:blipFill>
          <p:spPr>
            <a:xfrm>
              <a:off x="8244000" y="2997360"/>
              <a:ext cx="531720" cy="40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9" name=""/>
            <p:cNvSpPr/>
            <p:nvPr/>
          </p:nvSpPr>
          <p:spPr>
            <a:xfrm>
              <a:off x="8315280" y="3355560"/>
              <a:ext cx="36036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3851280" y="5084640"/>
            <a:ext cx="64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3492360" y="5013360"/>
            <a:ext cx="531720" cy="646200"/>
            <a:chOff x="3492360" y="5013360"/>
            <a:chExt cx="531720" cy="646200"/>
          </a:xfrm>
        </p:grpSpPr>
        <p:pic>
          <p:nvPicPr>
            <p:cNvPr id="1552" name="" descr=""/>
            <p:cNvPicPr/>
            <p:nvPr/>
          </p:nvPicPr>
          <p:blipFill>
            <a:blip r:embed="rId12"/>
            <a:stretch/>
          </p:blipFill>
          <p:spPr>
            <a:xfrm>
              <a:off x="3492360" y="5013360"/>
              <a:ext cx="53172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>
              <a:off x="3563640" y="5371920"/>
              <a:ext cx="36036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3492360" y="3860640"/>
            <a:ext cx="28764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" descr=""/>
          <p:cNvPicPr/>
          <p:nvPr/>
        </p:nvPicPr>
        <p:blipFill>
          <a:blip r:embed="rId13"/>
          <a:stretch/>
        </p:blipFill>
        <p:spPr>
          <a:xfrm>
            <a:off x="3708360" y="2637000"/>
            <a:ext cx="576360" cy="407880"/>
          </a:xfrm>
          <a:prstGeom prst="rect">
            <a:avLst/>
          </a:prstGeom>
          <a:ln w="0">
            <a:noFill/>
          </a:ln>
        </p:spPr>
      </p:pic>
      <p:pic>
        <p:nvPicPr>
          <p:cNvPr id="1556" name="" descr=""/>
          <p:cNvPicPr/>
          <p:nvPr/>
        </p:nvPicPr>
        <p:blipFill>
          <a:blip r:embed="rId14"/>
          <a:stretch/>
        </p:blipFill>
        <p:spPr>
          <a:xfrm>
            <a:off x="7236000" y="1268280"/>
            <a:ext cx="576000" cy="4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REDES CONVERGENTES - DEFINIC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s una filosofía que se puede implementar mediante diferentes tecnologí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ATM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IP Puro y tecnologías de calidad de servicio como DiffServ, 802.1Q/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MPL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endencia en empresas Carrier y no Carrie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ANTECEDENT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61048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Ubicuidad y aceptación de TCP/IP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N y W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des públicas y privada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Aplicaciones de datos, voz, video,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onvergencia, popularidad, bajo costo  y cobertura de Interne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ayores requerimientos por transporte de datos y servicios de valor agregado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Ineficiencias de ATM cuando transporta TCP/I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ANTECEDENT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61048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onvergencia de servicios sobre IP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Multimedi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elefonía sobre redes de dat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des Privadas Virtuales (VPN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l acceso a Internet o servicios de valor agregado pasa a ser el negocio principal vs. la telefonía tradiciona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écnicas de suicheo convenciona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écnicas de enrutamiento convenciona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INTENTOS FALLIDO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61048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ISDN (Integrated Service Digital Network), soportada por ATM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RAZON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Altos cost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Ineficiente al transmitir datos (optima para la voz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SUICHE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692280"/>
            <a:ext cx="86104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Opera sobre tramas o celdas (nivel de enlace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Generalmente mediante etiquetas así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ntra por puerto N con etiqueta 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ale por puerto M con etiqueta 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Antes de poder transmitir se crea un camino virtual por donde fluirán las tramas (PVC o SVC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uy  rápido y eficiente al trabajar en el nivel 2 y hacer la operación por hardwar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No verifica el contenido de las tramas: IGNORA EL PAQUET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No tiene problemas de conflictos de direccionamiento en el nivel 3: Direcciones I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SUICHE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04920" y="692280"/>
            <a:ext cx="86104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iendo la red “pública” (varias empresas se conectan a la red), la seguridad y el control la dan los mecanismos de acceso y el circuito lógico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quiero un puerto en el suiche y un mecanismo físico del proveedor para llegar a la nube (Radios, Banda Bases, Modems, etc.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quiero que el Carrier cree un circuit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jemplo: Frame Relay (DLCI), ATM (VPI/VCI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3508920" y="0"/>
            <a:ext cx="2741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435480" y="2597040"/>
            <a:ext cx="596880" cy="520920"/>
          </a:xfrm>
          <a:prstGeom prst="octagon">
            <a:avLst>
              <a:gd name="adj" fmla="val 29278"/>
            </a:avLst>
          </a:prstGeom>
          <a:solidFill>
            <a:srgbClr val="f5eb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654440" y="4044960"/>
            <a:ext cx="596880" cy="520560"/>
          </a:xfrm>
          <a:prstGeom prst="octagon">
            <a:avLst>
              <a:gd name="adj" fmla="val 29278"/>
            </a:avLst>
          </a:prstGeom>
          <a:solidFill>
            <a:srgbClr val="f5eb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950080" y="2521080"/>
            <a:ext cx="596880" cy="520560"/>
          </a:xfrm>
          <a:prstGeom prst="octagon">
            <a:avLst>
              <a:gd name="adj" fmla="val 29278"/>
            </a:avLst>
          </a:prstGeom>
          <a:solidFill>
            <a:srgbClr val="f5eb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5105520" y="297144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4038480" y="2819160"/>
            <a:ext cx="1905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886200" y="3124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6477120" y="1844280"/>
            <a:ext cx="126360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4038480" y="2666880"/>
            <a:ext cx="1905120" cy="76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6400800" y="1676520"/>
            <a:ext cx="1371600" cy="83808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828800" y="1981080"/>
            <a:ext cx="1600200" cy="76212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733920" y="3124080"/>
            <a:ext cx="990360" cy="10670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2819520" y="1676520"/>
            <a:ext cx="4266360" cy="3047040"/>
            <a:chOff x="2819520" y="1676520"/>
            <a:chExt cx="4266360" cy="3047040"/>
          </a:xfrm>
        </p:grpSpPr>
        <p:sp>
          <p:nvSpPr>
            <p:cNvPr id="1582" name=""/>
            <p:cNvSpPr/>
            <p:nvPr/>
          </p:nvSpPr>
          <p:spPr>
            <a:xfrm>
              <a:off x="2819520" y="1676520"/>
              <a:ext cx="4266360" cy="30470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789720" y="3067560"/>
              <a:ext cx="1591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F.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4" name=""/>
          <p:cNvSpPr/>
          <p:nvPr/>
        </p:nvSpPr>
        <p:spPr>
          <a:xfrm flipV="1">
            <a:off x="3581280" y="2514600"/>
            <a:ext cx="2819520" cy="7632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429000" y="2743200"/>
            <a:ext cx="1371600" cy="175248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4495680" y="3962520"/>
            <a:ext cx="766440" cy="611280"/>
            <a:chOff x="4495680" y="3962520"/>
            <a:chExt cx="766440" cy="611280"/>
          </a:xfrm>
        </p:grpSpPr>
        <p:sp>
          <p:nvSpPr>
            <p:cNvPr id="1587" name=""/>
            <p:cNvSpPr/>
            <p:nvPr/>
          </p:nvSpPr>
          <p:spPr>
            <a:xfrm>
              <a:off x="4495680" y="39625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496040" y="4114800"/>
              <a:ext cx="76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3429000" y="2590920"/>
            <a:ext cx="766440" cy="611280"/>
            <a:chOff x="3429000" y="2590920"/>
            <a:chExt cx="766440" cy="611280"/>
          </a:xfrm>
        </p:grpSpPr>
        <p:sp>
          <p:nvSpPr>
            <p:cNvPr id="1590" name=""/>
            <p:cNvSpPr/>
            <p:nvPr/>
          </p:nvSpPr>
          <p:spPr>
            <a:xfrm>
              <a:off x="3429000" y="25909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429360" y="2743200"/>
              <a:ext cx="76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15000" y="2362320"/>
            <a:ext cx="766440" cy="611280"/>
            <a:chOff x="5715000" y="2362320"/>
            <a:chExt cx="766440" cy="611280"/>
          </a:xfrm>
        </p:grpSpPr>
        <p:sp>
          <p:nvSpPr>
            <p:cNvPr id="1593" name=""/>
            <p:cNvSpPr/>
            <p:nvPr/>
          </p:nvSpPr>
          <p:spPr>
            <a:xfrm>
              <a:off x="5715000" y="23623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715360" y="2514600"/>
              <a:ext cx="76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5" name=""/>
          <p:cNvSpPr/>
          <p:nvPr/>
        </p:nvSpPr>
        <p:spPr>
          <a:xfrm>
            <a:off x="4114800" y="2743200"/>
            <a:ext cx="16765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V="1">
            <a:off x="5029200" y="2895480"/>
            <a:ext cx="914400" cy="10670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038480" y="3200400"/>
            <a:ext cx="609840" cy="7621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429000" y="14479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800800" y="10317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rcuito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304920" y="838080"/>
            <a:ext cx="1752120" cy="609480"/>
            <a:chOff x="304920" y="838080"/>
            <a:chExt cx="1752120" cy="609480"/>
          </a:xfrm>
        </p:grpSpPr>
        <p:pic>
          <p:nvPicPr>
            <p:cNvPr id="1601" name="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2" name="" descr=""/>
            <p:cNvPicPr/>
            <p:nvPr/>
          </p:nvPicPr>
          <p:blipFill>
            <a:blip r:embed="rId2"/>
            <a:stretch/>
          </p:blipFill>
          <p:spPr>
            <a:xfrm>
              <a:off x="914400" y="8380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3" name="" descr=""/>
            <p:cNvPicPr/>
            <p:nvPr/>
          </p:nvPicPr>
          <p:blipFill>
            <a:blip r:embed="rId3"/>
            <a:stretch/>
          </p:blipFill>
          <p:spPr>
            <a:xfrm>
              <a:off x="1523880" y="8380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4" name=""/>
            <p:cNvSpPr/>
            <p:nvPr/>
          </p:nvSpPr>
          <p:spPr>
            <a:xfrm>
              <a:off x="380880" y="14475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3316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14300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75248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7162920" y="609480"/>
            <a:ext cx="1752120" cy="609480"/>
            <a:chOff x="7162920" y="609480"/>
            <a:chExt cx="1752120" cy="60948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7162920" y="6094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0" name="" descr=""/>
            <p:cNvPicPr/>
            <p:nvPr/>
          </p:nvPicPr>
          <p:blipFill>
            <a:blip r:embed="rId5"/>
            <a:stretch/>
          </p:blipFill>
          <p:spPr>
            <a:xfrm>
              <a:off x="7772400" y="6094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1" name="" descr=""/>
            <p:cNvPicPr/>
            <p:nvPr/>
          </p:nvPicPr>
          <p:blipFill>
            <a:blip r:embed="rId6"/>
            <a:stretch/>
          </p:blipFill>
          <p:spPr>
            <a:xfrm>
              <a:off x="8381880" y="6094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7238880" y="12189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39116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00100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61048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1143000" y="5867280"/>
            <a:ext cx="1752120" cy="609480"/>
            <a:chOff x="1143000" y="5867280"/>
            <a:chExt cx="1752120" cy="609480"/>
          </a:xfrm>
        </p:grpSpPr>
        <p:pic>
          <p:nvPicPr>
            <p:cNvPr id="1617" name="" descr=""/>
            <p:cNvPicPr/>
            <p:nvPr/>
          </p:nvPicPr>
          <p:blipFill>
            <a:blip r:embed="rId7"/>
            <a:stretch/>
          </p:blipFill>
          <p:spPr>
            <a:xfrm>
              <a:off x="1143000" y="5867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8" name="" descr=""/>
            <p:cNvPicPr/>
            <p:nvPr/>
          </p:nvPicPr>
          <p:blipFill>
            <a:blip r:embed="rId8"/>
            <a:stretch/>
          </p:blipFill>
          <p:spPr>
            <a:xfrm>
              <a:off x="1752480" y="5867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9" name="" descr=""/>
            <p:cNvPicPr/>
            <p:nvPr/>
          </p:nvPicPr>
          <p:blipFill>
            <a:blip r:embed="rId9"/>
            <a:stretch/>
          </p:blipFill>
          <p:spPr>
            <a:xfrm>
              <a:off x="2361960" y="5867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0" name=""/>
            <p:cNvSpPr/>
            <p:nvPr/>
          </p:nvSpPr>
          <p:spPr>
            <a:xfrm>
              <a:off x="1218960" y="6476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37124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98108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59056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687960" y="2057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2916360" y="4495320"/>
            <a:ext cx="165564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2819520" y="4419720"/>
            <a:ext cx="1752480" cy="99036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97396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96432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73608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83400" y="2286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EDEL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354840" y="59436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692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42152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982160" y="251460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LCI=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743560" y="335268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LCI=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44280" y="449568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LCI=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744280" y="198108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LCI=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22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7520" y="243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79348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096960" y="198108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LCI=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166880" y="22860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OG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25996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4" name="" descr=""/>
          <p:cNvPicPr/>
          <p:nvPr/>
        </p:nvPicPr>
        <p:blipFill>
          <a:blip r:embed="rId10"/>
          <a:stretch/>
        </p:blipFill>
        <p:spPr>
          <a:xfrm>
            <a:off x="1258920" y="1557360"/>
            <a:ext cx="719280" cy="50940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11"/>
          <a:stretch/>
        </p:blipFill>
        <p:spPr>
          <a:xfrm>
            <a:off x="7667640" y="1484280"/>
            <a:ext cx="719280" cy="50976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 flipH="1" flipV="1">
            <a:off x="1979280" y="1989000"/>
            <a:ext cx="1584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H="1" flipV="1">
            <a:off x="1979280" y="1844640"/>
            <a:ext cx="1584360" cy="72072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12"/>
          <a:stretch/>
        </p:blipFill>
        <p:spPr>
          <a:xfrm>
            <a:off x="2195640" y="5157720"/>
            <a:ext cx="71892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152280" y="2666880"/>
            <a:ext cx="1600200" cy="38124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52280" y="2286000"/>
            <a:ext cx="2819520" cy="38088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562120" y="260280"/>
            <a:ext cx="433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RAME RELAY - T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58760" y="19112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58760" y="270360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58760" y="4748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527280" y="2703600"/>
            <a:ext cx="58104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38320" y="2703600"/>
            <a:ext cx="5763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347920" y="2703600"/>
            <a:ext cx="5778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755720" y="2703600"/>
            <a:ext cx="5796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527280" y="2306520"/>
            <a:ext cx="58104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938320" y="2306520"/>
            <a:ext cx="5763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58760" y="3956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58760" y="1911240"/>
            <a:ext cx="3949560" cy="321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473840" y="19987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473840" y="49021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76280" y="239400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76280" y="279252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958480" y="23842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668040" y="239400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776960" y="2814480"/>
            <a:ext cx="52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369520" y="2814480"/>
            <a:ext cx="53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1716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66804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530000" y="411012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530000" y="444024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302840" y="3517920"/>
            <a:ext cx="9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481640" y="1419120"/>
            <a:ext cx="4587480" cy="58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10 BITS CONFORMAN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MECANISMO DE DIREC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DE CIRCUITOS VIRTUAL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DLCI ( DATA LINK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IDENTIFI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REPARTIDOS EN DOS OCT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DIFER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EL DLCI SERA LEIDO POR LA RE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EN EL NODO DE ACCESO SE CRUZ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EN LA TABLA DE REFERENCI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ENRUTAMIENTO CON LA CONEX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LOGICA CORRESPOND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ALGUNOS DLCI SON RESERV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PARA USO DE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30040" y="13716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 2   3     4     5     6     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REDES CONVERGENTES - DEFINIC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(Converged Network - Convergence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Infraestructura de comunicaciones capaz de integrar múltiples servicio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Dat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Multimedi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elefonía, etc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garantizando a cada uno de ellos los requerimientos para su correcta operación mediante mecanismos como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alidad de servici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Ingeniería de tráfic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VPN`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TABLA DE SUICHEO DE LA TRAMA F.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79" name=""/>
          <p:cNvGrpSpPr/>
          <p:nvPr/>
        </p:nvGrpSpPr>
        <p:grpSpPr>
          <a:xfrm>
            <a:off x="1066680" y="1219320"/>
            <a:ext cx="7010280" cy="1904760"/>
            <a:chOff x="1066680" y="1219320"/>
            <a:chExt cx="7010280" cy="1904760"/>
          </a:xfrm>
        </p:grpSpPr>
        <p:sp>
          <p:nvSpPr>
            <p:cNvPr id="1680" name=""/>
            <p:cNvSpPr/>
            <p:nvPr/>
          </p:nvSpPr>
          <p:spPr>
            <a:xfrm>
              <a:off x="1066680" y="1219320"/>
              <a:ext cx="7010280" cy="1904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66680" y="18288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647960" y="1219320"/>
              <a:ext cx="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298160" y="1219320"/>
              <a:ext cx="13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66880" y="1219320"/>
              <a:ext cx="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898360" y="1219320"/>
              <a:ext cx="13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LC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03480" y="1219320"/>
              <a:ext cx="104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632280" y="1219320"/>
              <a:ext cx="104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L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172200" y="12193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066680" y="24382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066680" y="31240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585800" y="1869840"/>
              <a:ext cx="589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525680" y="2514600"/>
              <a:ext cx="589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3" name=""/>
          <p:cNvSpPr/>
          <p:nvPr/>
        </p:nvSpPr>
        <p:spPr>
          <a:xfrm>
            <a:off x="83808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bla del suiche 1 circuito Medellín-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4" name=""/>
          <p:cNvGrpSpPr/>
          <p:nvPr/>
        </p:nvGrpSpPr>
        <p:grpSpPr>
          <a:xfrm>
            <a:off x="1295280" y="4495680"/>
            <a:ext cx="7010280" cy="1905120"/>
            <a:chOff x="1295280" y="4495680"/>
            <a:chExt cx="7010280" cy="1905120"/>
          </a:xfrm>
        </p:grpSpPr>
        <p:sp>
          <p:nvSpPr>
            <p:cNvPr id="1695" name=""/>
            <p:cNvSpPr/>
            <p:nvPr/>
          </p:nvSpPr>
          <p:spPr>
            <a:xfrm>
              <a:off x="1295280" y="4495680"/>
              <a:ext cx="701028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95280" y="510552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876560" y="44956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526760" y="4495680"/>
              <a:ext cx="13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895480" y="44956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126960" y="4495680"/>
              <a:ext cx="13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LC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032080" y="4495680"/>
              <a:ext cx="104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860880" y="4495680"/>
              <a:ext cx="104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L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400800" y="44956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295280" y="57150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295280" y="64008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814400" y="5146560"/>
              <a:ext cx="57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754280" y="5791320"/>
              <a:ext cx="589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8" name=""/>
          <p:cNvSpPr/>
          <p:nvPr/>
        </p:nvSpPr>
        <p:spPr>
          <a:xfrm>
            <a:off x="1066680" y="3886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bla del suiche 3 circuito Medellín-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/>
          <p:nvPr/>
        </p:nvSpPr>
        <p:spPr>
          <a:xfrm>
            <a:off x="3506760" y="0"/>
            <a:ext cx="2901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PI/VCI EN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435480" y="2597040"/>
            <a:ext cx="596880" cy="520920"/>
          </a:xfrm>
          <a:prstGeom prst="octagon">
            <a:avLst>
              <a:gd name="adj" fmla="val 29278"/>
            </a:avLst>
          </a:prstGeom>
          <a:solidFill>
            <a:srgbClr val="f5eb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654440" y="4044960"/>
            <a:ext cx="596880" cy="520560"/>
          </a:xfrm>
          <a:prstGeom prst="octagon">
            <a:avLst>
              <a:gd name="adj" fmla="val 29278"/>
            </a:avLst>
          </a:prstGeom>
          <a:solidFill>
            <a:srgbClr val="f5eb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950080" y="2521080"/>
            <a:ext cx="596880" cy="520560"/>
          </a:xfrm>
          <a:prstGeom prst="octagon">
            <a:avLst>
              <a:gd name="adj" fmla="val 29278"/>
            </a:avLst>
          </a:prstGeom>
          <a:solidFill>
            <a:srgbClr val="f5eb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5105520" y="297144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4038480" y="2819160"/>
            <a:ext cx="1905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886200" y="3124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908000" y="1916280"/>
            <a:ext cx="1597320" cy="75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6477120" y="1844280"/>
            <a:ext cx="126360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979640" y="1916280"/>
            <a:ext cx="1676520" cy="68580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4038480" y="2666880"/>
            <a:ext cx="1905120" cy="76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6400800" y="1676520"/>
            <a:ext cx="1371600" cy="83808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828800" y="1981080"/>
            <a:ext cx="1600200" cy="76212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733920" y="3124080"/>
            <a:ext cx="990360" cy="10670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3" name=""/>
          <p:cNvGrpSpPr/>
          <p:nvPr/>
        </p:nvGrpSpPr>
        <p:grpSpPr>
          <a:xfrm>
            <a:off x="2843280" y="1700280"/>
            <a:ext cx="4266360" cy="3047040"/>
            <a:chOff x="2843280" y="1700280"/>
            <a:chExt cx="4266360" cy="3047040"/>
          </a:xfrm>
        </p:grpSpPr>
        <p:sp>
          <p:nvSpPr>
            <p:cNvPr id="1724" name=""/>
            <p:cNvSpPr/>
            <p:nvPr/>
          </p:nvSpPr>
          <p:spPr>
            <a:xfrm>
              <a:off x="2843280" y="1700280"/>
              <a:ext cx="4266360" cy="30470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813480" y="3091320"/>
              <a:ext cx="1591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F.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6" name=""/>
          <p:cNvSpPr/>
          <p:nvPr/>
        </p:nvSpPr>
        <p:spPr>
          <a:xfrm flipV="1">
            <a:off x="3581280" y="2514600"/>
            <a:ext cx="2819520" cy="7632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429000" y="2743200"/>
            <a:ext cx="1371600" cy="175248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8" name=""/>
          <p:cNvGrpSpPr/>
          <p:nvPr/>
        </p:nvGrpSpPr>
        <p:grpSpPr>
          <a:xfrm>
            <a:off x="4495680" y="3962520"/>
            <a:ext cx="766440" cy="611280"/>
            <a:chOff x="4495680" y="3962520"/>
            <a:chExt cx="766440" cy="611280"/>
          </a:xfrm>
        </p:grpSpPr>
        <p:sp>
          <p:nvSpPr>
            <p:cNvPr id="1729" name=""/>
            <p:cNvSpPr/>
            <p:nvPr/>
          </p:nvSpPr>
          <p:spPr>
            <a:xfrm>
              <a:off x="4495680" y="39625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496040" y="4114800"/>
              <a:ext cx="76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3429000" y="2590920"/>
            <a:ext cx="766440" cy="611280"/>
            <a:chOff x="3429000" y="2590920"/>
            <a:chExt cx="766440" cy="611280"/>
          </a:xfrm>
        </p:grpSpPr>
        <p:sp>
          <p:nvSpPr>
            <p:cNvPr id="1732" name=""/>
            <p:cNvSpPr/>
            <p:nvPr/>
          </p:nvSpPr>
          <p:spPr>
            <a:xfrm>
              <a:off x="3429000" y="25909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429360" y="2743200"/>
              <a:ext cx="76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4" name=""/>
          <p:cNvGrpSpPr/>
          <p:nvPr/>
        </p:nvGrpSpPr>
        <p:grpSpPr>
          <a:xfrm>
            <a:off x="5715000" y="2362320"/>
            <a:ext cx="766440" cy="611280"/>
            <a:chOff x="5715000" y="2362320"/>
            <a:chExt cx="766440" cy="611280"/>
          </a:xfrm>
        </p:grpSpPr>
        <p:sp>
          <p:nvSpPr>
            <p:cNvPr id="1735" name=""/>
            <p:cNvSpPr/>
            <p:nvPr/>
          </p:nvSpPr>
          <p:spPr>
            <a:xfrm>
              <a:off x="5715000" y="23623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715360" y="2514600"/>
              <a:ext cx="76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7" name=""/>
          <p:cNvSpPr/>
          <p:nvPr/>
        </p:nvSpPr>
        <p:spPr>
          <a:xfrm>
            <a:off x="4114800" y="2743200"/>
            <a:ext cx="16765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V="1">
            <a:off x="5029200" y="2895480"/>
            <a:ext cx="914400" cy="10670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038480" y="3200400"/>
            <a:ext cx="609840" cy="7621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429000" y="14479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800800" y="10317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rcuito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304920" y="838080"/>
            <a:ext cx="1752120" cy="609480"/>
            <a:chOff x="304920" y="838080"/>
            <a:chExt cx="1752120" cy="609480"/>
          </a:xfrm>
        </p:grpSpPr>
        <p:pic>
          <p:nvPicPr>
            <p:cNvPr id="1743" name="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4" name="" descr=""/>
            <p:cNvPicPr/>
            <p:nvPr/>
          </p:nvPicPr>
          <p:blipFill>
            <a:blip r:embed="rId2"/>
            <a:stretch/>
          </p:blipFill>
          <p:spPr>
            <a:xfrm>
              <a:off x="914400" y="8380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" descr=""/>
            <p:cNvPicPr/>
            <p:nvPr/>
          </p:nvPicPr>
          <p:blipFill>
            <a:blip r:embed="rId3"/>
            <a:stretch/>
          </p:blipFill>
          <p:spPr>
            <a:xfrm>
              <a:off x="1523880" y="8380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6" name=""/>
            <p:cNvSpPr/>
            <p:nvPr/>
          </p:nvSpPr>
          <p:spPr>
            <a:xfrm>
              <a:off x="380880" y="14475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3316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14300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75248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162920" y="609480"/>
            <a:ext cx="1752120" cy="609480"/>
            <a:chOff x="7162920" y="609480"/>
            <a:chExt cx="1752120" cy="609480"/>
          </a:xfrm>
        </p:grpSpPr>
        <p:pic>
          <p:nvPicPr>
            <p:cNvPr id="1751" name="" descr=""/>
            <p:cNvPicPr/>
            <p:nvPr/>
          </p:nvPicPr>
          <p:blipFill>
            <a:blip r:embed="rId4"/>
            <a:stretch/>
          </p:blipFill>
          <p:spPr>
            <a:xfrm>
              <a:off x="7162920" y="6094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2" name="" descr=""/>
            <p:cNvPicPr/>
            <p:nvPr/>
          </p:nvPicPr>
          <p:blipFill>
            <a:blip r:embed="rId5"/>
            <a:stretch/>
          </p:blipFill>
          <p:spPr>
            <a:xfrm>
              <a:off x="7772400" y="6094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3" name="" descr=""/>
            <p:cNvPicPr/>
            <p:nvPr/>
          </p:nvPicPr>
          <p:blipFill>
            <a:blip r:embed="rId6"/>
            <a:stretch/>
          </p:blipFill>
          <p:spPr>
            <a:xfrm>
              <a:off x="8381880" y="6094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4" name=""/>
            <p:cNvSpPr/>
            <p:nvPr/>
          </p:nvSpPr>
          <p:spPr>
            <a:xfrm>
              <a:off x="7238880" y="12189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39116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00100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61048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1143000" y="5867280"/>
            <a:ext cx="1752120" cy="609480"/>
            <a:chOff x="1143000" y="5867280"/>
            <a:chExt cx="1752120" cy="609480"/>
          </a:xfrm>
        </p:grpSpPr>
        <p:pic>
          <p:nvPicPr>
            <p:cNvPr id="1759" name="" descr=""/>
            <p:cNvPicPr/>
            <p:nvPr/>
          </p:nvPicPr>
          <p:blipFill>
            <a:blip r:embed="rId7"/>
            <a:stretch/>
          </p:blipFill>
          <p:spPr>
            <a:xfrm>
              <a:off x="1143000" y="5867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0" name="" descr=""/>
            <p:cNvPicPr/>
            <p:nvPr/>
          </p:nvPicPr>
          <p:blipFill>
            <a:blip r:embed="rId8"/>
            <a:stretch/>
          </p:blipFill>
          <p:spPr>
            <a:xfrm>
              <a:off x="1752480" y="5867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1" name="" descr=""/>
            <p:cNvPicPr/>
            <p:nvPr/>
          </p:nvPicPr>
          <p:blipFill>
            <a:blip r:embed="rId9"/>
            <a:stretch/>
          </p:blipFill>
          <p:spPr>
            <a:xfrm>
              <a:off x="2361960" y="5867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2" name=""/>
            <p:cNvSpPr/>
            <p:nvPr/>
          </p:nvSpPr>
          <p:spPr>
            <a:xfrm>
              <a:off x="1218960" y="6476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37124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98108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59056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6" name=""/>
          <p:cNvSpPr/>
          <p:nvPr/>
        </p:nvSpPr>
        <p:spPr>
          <a:xfrm>
            <a:off x="687960" y="2057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7620120" y="1752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2916360" y="4495320"/>
            <a:ext cx="165564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2819520" y="4419720"/>
            <a:ext cx="1752480" cy="99036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97396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96432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73608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83400" y="2286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EDEL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354840" y="59436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2692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42152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691280" y="24922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VPI/VCI=1/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276000" y="357336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1/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2986920" y="458136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1/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742120" y="19810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VPI/VCI=2/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122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707520" y="243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79348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5160" y="198108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2/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166880" y="22860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OG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25996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10"/>
          <a:stretch/>
        </p:blipFill>
        <p:spPr>
          <a:xfrm>
            <a:off x="1258920" y="1557360"/>
            <a:ext cx="719280" cy="509400"/>
          </a:xfrm>
          <a:prstGeom prst="rect">
            <a:avLst/>
          </a:prstGeom>
          <a:ln w="0">
            <a:noFill/>
          </a:ln>
        </p:spPr>
      </p:pic>
      <p:pic>
        <p:nvPicPr>
          <p:cNvPr id="1788" name="" descr=""/>
          <p:cNvPicPr/>
          <p:nvPr/>
        </p:nvPicPr>
        <p:blipFill>
          <a:blip r:embed="rId11"/>
          <a:stretch/>
        </p:blipFill>
        <p:spPr>
          <a:xfrm>
            <a:off x="7667640" y="1341360"/>
            <a:ext cx="719280" cy="509760"/>
          </a:xfrm>
          <a:prstGeom prst="rect">
            <a:avLst/>
          </a:prstGeom>
          <a:ln w="0">
            <a:noFill/>
          </a:ln>
        </p:spPr>
      </p:pic>
      <p:pic>
        <p:nvPicPr>
          <p:cNvPr id="1789" name="" descr=""/>
          <p:cNvPicPr/>
          <p:nvPr/>
        </p:nvPicPr>
        <p:blipFill>
          <a:blip r:embed="rId12"/>
          <a:stretch/>
        </p:blipFill>
        <p:spPr>
          <a:xfrm>
            <a:off x="2124000" y="5300640"/>
            <a:ext cx="71928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1981080" y="1816200"/>
            <a:ext cx="5132520" cy="3494160"/>
          </a:xfrm>
          <a:custGeom>
            <a:avLst/>
            <a:gdLst/>
            <a:ahLst/>
            <a:rect l="l" t="t" r="r" b="b"/>
            <a:pathLst>
              <a:path w="3233" h="2201">
                <a:moveTo>
                  <a:pt x="64" y="2192"/>
                </a:moveTo>
                <a:lnTo>
                  <a:pt x="64" y="1560"/>
                </a:lnTo>
                <a:lnTo>
                  <a:pt x="128" y="1496"/>
                </a:lnTo>
                <a:lnTo>
                  <a:pt x="0" y="1368"/>
                </a:lnTo>
                <a:lnTo>
                  <a:pt x="72" y="1248"/>
                </a:lnTo>
                <a:lnTo>
                  <a:pt x="72" y="0"/>
                </a:lnTo>
                <a:lnTo>
                  <a:pt x="3176" y="0"/>
                </a:lnTo>
                <a:lnTo>
                  <a:pt x="3176" y="1272"/>
                </a:lnTo>
                <a:lnTo>
                  <a:pt x="3088" y="1360"/>
                </a:lnTo>
                <a:lnTo>
                  <a:pt x="3232" y="1472"/>
                </a:lnTo>
                <a:lnTo>
                  <a:pt x="3160" y="1568"/>
                </a:lnTo>
                <a:lnTo>
                  <a:pt x="3160" y="2200"/>
                </a:lnTo>
                <a:lnTo>
                  <a:pt x="64" y="2192"/>
                </a:lnTo>
              </a:path>
            </a:pathLst>
          </a:cu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5400000"/>
          </a:gradFill>
          <a:ln cap="rnd" w="25560">
            <a:solidFill>
              <a:srgbClr val="f5eb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341720" y="5452920"/>
            <a:ext cx="643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PI: Virtual Path Identifi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P: Cell Loss 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CI: Virtual Channel Identifi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C: Header Error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I:  Payload Type Indic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FC: Generic Flow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400480" y="1776240"/>
            <a:ext cx="4418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c705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GFC</a:t>
            </a:r>
            <a:r>
              <a:rPr b="1" lang="en-US" sz="1600" spc="-1" strike="noStrike">
                <a:solidFill>
                  <a:srgbClr val="f2c70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V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VPI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  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VCI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PTI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         C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c705"/>
                </a:solidFill>
                <a:latin typeface="Arial"/>
              </a:rPr>
              <a:t>H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2100240" y="2077560"/>
            <a:ext cx="4903920" cy="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106720" y="2386080"/>
            <a:ext cx="490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100240" y="2911320"/>
            <a:ext cx="4910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106720" y="3176640"/>
            <a:ext cx="4903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392720" y="2657520"/>
            <a:ext cx="0" cy="257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392720" y="1778040"/>
            <a:ext cx="0" cy="609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419880" y="165744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392720" y="164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801960" y="1638360"/>
            <a:ext cx="0" cy="16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211560" y="1638360"/>
            <a:ext cx="0" cy="16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629080" y="164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688000" y="16383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048280" y="164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26224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79576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32892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97656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58640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23404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90868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613560" y="15098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146240" y="1782720"/>
            <a:ext cx="8694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177680" y="2271600"/>
            <a:ext cx="9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237080" y="4076640"/>
            <a:ext cx="106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130880" y="1843200"/>
            <a:ext cx="517680" cy="482400"/>
          </a:xfrm>
          <a:custGeom>
            <a:avLst/>
            <a:gdLst/>
            <a:ahLst/>
            <a:rect l="l" t="t" r="r" b="b"/>
            <a:pathLst>
              <a:path w="326" h="304">
                <a:moveTo>
                  <a:pt x="82" y="0"/>
                </a:moveTo>
                <a:lnTo>
                  <a:pt x="0" y="50"/>
                </a:lnTo>
                <a:lnTo>
                  <a:pt x="82" y="101"/>
                </a:lnTo>
                <a:lnTo>
                  <a:pt x="82" y="76"/>
                </a:lnTo>
                <a:lnTo>
                  <a:pt x="244" y="76"/>
                </a:lnTo>
                <a:lnTo>
                  <a:pt x="256" y="79"/>
                </a:lnTo>
                <a:lnTo>
                  <a:pt x="264" y="86"/>
                </a:lnTo>
                <a:lnTo>
                  <a:pt x="269" y="96"/>
                </a:lnTo>
                <a:lnTo>
                  <a:pt x="271" y="110"/>
                </a:lnTo>
                <a:lnTo>
                  <a:pt x="271" y="126"/>
                </a:lnTo>
                <a:lnTo>
                  <a:pt x="271" y="303"/>
                </a:lnTo>
                <a:lnTo>
                  <a:pt x="325" y="303"/>
                </a:lnTo>
                <a:lnTo>
                  <a:pt x="325" y="126"/>
                </a:lnTo>
                <a:lnTo>
                  <a:pt x="325" y="102"/>
                </a:lnTo>
                <a:lnTo>
                  <a:pt x="323" y="91"/>
                </a:lnTo>
                <a:lnTo>
                  <a:pt x="321" y="79"/>
                </a:lnTo>
                <a:lnTo>
                  <a:pt x="317" y="71"/>
                </a:lnTo>
                <a:lnTo>
                  <a:pt x="313" y="62"/>
                </a:lnTo>
                <a:lnTo>
                  <a:pt x="308" y="54"/>
                </a:lnTo>
                <a:lnTo>
                  <a:pt x="299" y="46"/>
                </a:lnTo>
                <a:lnTo>
                  <a:pt x="290" y="39"/>
                </a:lnTo>
                <a:lnTo>
                  <a:pt x="281" y="34"/>
                </a:lnTo>
                <a:lnTo>
                  <a:pt x="270" y="29"/>
                </a:lnTo>
                <a:lnTo>
                  <a:pt x="256" y="26"/>
                </a:lnTo>
                <a:lnTo>
                  <a:pt x="244" y="25"/>
                </a:lnTo>
                <a:lnTo>
                  <a:pt x="82" y="25"/>
                </a:lnTo>
                <a:lnTo>
                  <a:pt x="82" y="0"/>
                </a:lnTo>
              </a:path>
            </a:pathLst>
          </a:cu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lin ang="5400000"/>
          </a:gradFill>
          <a:ln cap="rnd" w="12600">
            <a:solidFill>
              <a:srgbClr val="fe9b03"/>
            </a:solidFill>
            <a:round/>
          </a:ln>
          <a:effectLst>
            <a:outerShdw dist="53966" dir="2700000" blurRad="0" rotWithShape="0">
              <a:srgbClr val="4c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126200" y="2637000"/>
            <a:ext cx="519120" cy="482400"/>
          </a:xfrm>
          <a:custGeom>
            <a:avLst/>
            <a:gdLst/>
            <a:ahLst/>
            <a:rect l="l" t="t" r="r" b="b"/>
            <a:pathLst>
              <a:path w="327" h="304">
                <a:moveTo>
                  <a:pt x="82" y="303"/>
                </a:moveTo>
                <a:lnTo>
                  <a:pt x="0" y="253"/>
                </a:lnTo>
                <a:lnTo>
                  <a:pt x="82" y="202"/>
                </a:lnTo>
                <a:lnTo>
                  <a:pt x="82" y="227"/>
                </a:lnTo>
                <a:lnTo>
                  <a:pt x="245" y="227"/>
                </a:lnTo>
                <a:lnTo>
                  <a:pt x="257" y="224"/>
                </a:lnTo>
                <a:lnTo>
                  <a:pt x="265" y="217"/>
                </a:lnTo>
                <a:lnTo>
                  <a:pt x="270" y="207"/>
                </a:lnTo>
                <a:lnTo>
                  <a:pt x="272" y="193"/>
                </a:lnTo>
                <a:lnTo>
                  <a:pt x="272" y="177"/>
                </a:lnTo>
                <a:lnTo>
                  <a:pt x="272" y="0"/>
                </a:lnTo>
                <a:lnTo>
                  <a:pt x="326" y="0"/>
                </a:lnTo>
                <a:lnTo>
                  <a:pt x="326" y="177"/>
                </a:lnTo>
                <a:lnTo>
                  <a:pt x="326" y="201"/>
                </a:lnTo>
                <a:lnTo>
                  <a:pt x="324" y="212"/>
                </a:lnTo>
                <a:lnTo>
                  <a:pt x="322" y="224"/>
                </a:lnTo>
                <a:lnTo>
                  <a:pt x="318" y="232"/>
                </a:lnTo>
                <a:lnTo>
                  <a:pt x="314" y="241"/>
                </a:lnTo>
                <a:lnTo>
                  <a:pt x="308" y="249"/>
                </a:lnTo>
                <a:lnTo>
                  <a:pt x="300" y="257"/>
                </a:lnTo>
                <a:lnTo>
                  <a:pt x="291" y="264"/>
                </a:lnTo>
                <a:lnTo>
                  <a:pt x="281" y="269"/>
                </a:lnTo>
                <a:lnTo>
                  <a:pt x="271" y="274"/>
                </a:lnTo>
                <a:lnTo>
                  <a:pt x="257" y="277"/>
                </a:lnTo>
                <a:lnTo>
                  <a:pt x="245" y="278"/>
                </a:lnTo>
                <a:lnTo>
                  <a:pt x="82" y="278"/>
                </a:lnTo>
                <a:lnTo>
                  <a:pt x="82" y="303"/>
                </a:lnTo>
              </a:path>
            </a:pathLst>
          </a:cu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lin ang="5400000"/>
          </a:gradFill>
          <a:ln cap="rnd" w="12600">
            <a:solidFill>
              <a:srgbClr val="fe9b03"/>
            </a:solidFill>
            <a:round/>
          </a:ln>
          <a:effectLst>
            <a:outerShdw dist="53966" dir="2700000" blurRad="0" rotWithShape="0">
              <a:srgbClr val="4c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142040" y="3281400"/>
            <a:ext cx="516240" cy="682560"/>
          </a:xfrm>
          <a:custGeom>
            <a:avLst/>
            <a:gdLst/>
            <a:ahLst/>
            <a:rect l="l" t="t" r="r" b="b"/>
            <a:pathLst>
              <a:path w="325" h="430">
                <a:moveTo>
                  <a:pt x="81" y="0"/>
                </a:moveTo>
                <a:lnTo>
                  <a:pt x="0" y="71"/>
                </a:lnTo>
                <a:lnTo>
                  <a:pt x="81" y="143"/>
                </a:lnTo>
                <a:lnTo>
                  <a:pt x="81" y="107"/>
                </a:lnTo>
                <a:lnTo>
                  <a:pt x="243" y="107"/>
                </a:lnTo>
                <a:lnTo>
                  <a:pt x="255" y="112"/>
                </a:lnTo>
                <a:lnTo>
                  <a:pt x="264" y="122"/>
                </a:lnTo>
                <a:lnTo>
                  <a:pt x="268" y="136"/>
                </a:lnTo>
                <a:lnTo>
                  <a:pt x="270" y="156"/>
                </a:lnTo>
                <a:lnTo>
                  <a:pt x="270" y="179"/>
                </a:lnTo>
                <a:lnTo>
                  <a:pt x="270" y="429"/>
                </a:lnTo>
                <a:lnTo>
                  <a:pt x="324" y="429"/>
                </a:lnTo>
                <a:lnTo>
                  <a:pt x="324" y="179"/>
                </a:lnTo>
                <a:lnTo>
                  <a:pt x="324" y="144"/>
                </a:lnTo>
                <a:lnTo>
                  <a:pt x="322" y="129"/>
                </a:lnTo>
                <a:lnTo>
                  <a:pt x="320" y="112"/>
                </a:lnTo>
                <a:lnTo>
                  <a:pt x="316" y="100"/>
                </a:lnTo>
                <a:lnTo>
                  <a:pt x="312" y="88"/>
                </a:lnTo>
                <a:lnTo>
                  <a:pt x="307" y="77"/>
                </a:lnTo>
                <a:lnTo>
                  <a:pt x="298" y="65"/>
                </a:lnTo>
                <a:lnTo>
                  <a:pt x="289" y="55"/>
                </a:lnTo>
                <a:lnTo>
                  <a:pt x="280" y="48"/>
                </a:lnTo>
                <a:lnTo>
                  <a:pt x="269" y="41"/>
                </a:lnTo>
                <a:lnTo>
                  <a:pt x="256" y="36"/>
                </a:lnTo>
                <a:lnTo>
                  <a:pt x="243" y="36"/>
                </a:lnTo>
                <a:lnTo>
                  <a:pt x="81" y="36"/>
                </a:lnTo>
                <a:lnTo>
                  <a:pt x="81" y="0"/>
                </a:lnTo>
              </a:path>
            </a:pathLst>
          </a:cu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lin ang="5400000"/>
          </a:gradFill>
          <a:ln cap="rnd" w="12600">
            <a:solidFill>
              <a:srgbClr val="fe9b03"/>
            </a:solidFill>
            <a:round/>
          </a:ln>
          <a:effectLst>
            <a:outerShdw dist="53966" dir="2700000" blurRad="0" rotWithShape="0">
              <a:srgbClr val="4c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135920" y="4503600"/>
            <a:ext cx="547560" cy="754200"/>
          </a:xfrm>
          <a:custGeom>
            <a:avLst/>
            <a:gdLst/>
            <a:ahLst/>
            <a:rect l="l" t="t" r="r" b="b"/>
            <a:pathLst>
              <a:path w="345" h="475">
                <a:moveTo>
                  <a:pt x="86" y="474"/>
                </a:moveTo>
                <a:lnTo>
                  <a:pt x="0" y="395"/>
                </a:lnTo>
                <a:lnTo>
                  <a:pt x="86" y="316"/>
                </a:lnTo>
                <a:lnTo>
                  <a:pt x="86" y="356"/>
                </a:lnTo>
                <a:lnTo>
                  <a:pt x="258" y="356"/>
                </a:lnTo>
                <a:lnTo>
                  <a:pt x="271" y="350"/>
                </a:lnTo>
                <a:lnTo>
                  <a:pt x="280" y="339"/>
                </a:lnTo>
                <a:lnTo>
                  <a:pt x="285" y="324"/>
                </a:lnTo>
                <a:lnTo>
                  <a:pt x="287" y="301"/>
                </a:lnTo>
                <a:lnTo>
                  <a:pt x="287" y="277"/>
                </a:lnTo>
                <a:lnTo>
                  <a:pt x="287" y="0"/>
                </a:lnTo>
                <a:lnTo>
                  <a:pt x="344" y="0"/>
                </a:lnTo>
                <a:lnTo>
                  <a:pt x="344" y="277"/>
                </a:lnTo>
                <a:lnTo>
                  <a:pt x="344" y="315"/>
                </a:lnTo>
                <a:lnTo>
                  <a:pt x="342" y="332"/>
                </a:lnTo>
                <a:lnTo>
                  <a:pt x="339" y="350"/>
                </a:lnTo>
                <a:lnTo>
                  <a:pt x="336" y="363"/>
                </a:lnTo>
                <a:lnTo>
                  <a:pt x="331" y="377"/>
                </a:lnTo>
                <a:lnTo>
                  <a:pt x="326" y="389"/>
                </a:lnTo>
                <a:lnTo>
                  <a:pt x="317" y="402"/>
                </a:lnTo>
                <a:lnTo>
                  <a:pt x="307" y="413"/>
                </a:lnTo>
                <a:lnTo>
                  <a:pt x="297" y="421"/>
                </a:lnTo>
                <a:lnTo>
                  <a:pt x="286" y="429"/>
                </a:lnTo>
                <a:lnTo>
                  <a:pt x="271" y="434"/>
                </a:lnTo>
                <a:lnTo>
                  <a:pt x="258" y="435"/>
                </a:lnTo>
                <a:lnTo>
                  <a:pt x="86" y="435"/>
                </a:lnTo>
                <a:lnTo>
                  <a:pt x="86" y="474"/>
                </a:lnTo>
              </a:path>
            </a:pathLst>
          </a:custGeom>
          <a:gradFill rotWithShape="0">
            <a:gsLst>
              <a:gs pos="0">
                <a:srgbClr val="fe9b03"/>
              </a:gs>
              <a:gs pos="100000">
                <a:srgbClr val="4b2e00"/>
              </a:gs>
            </a:gsLst>
            <a:lin ang="5400000"/>
          </a:gradFill>
          <a:ln cap="rnd" w="12600">
            <a:solidFill>
              <a:srgbClr val="fe9b03"/>
            </a:solidFill>
            <a:round/>
          </a:ln>
          <a:effectLst>
            <a:outerShdw dist="53966" dir="2700000" blurRad="0" rotWithShape="0">
              <a:srgbClr val="4c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106720" y="2654280"/>
            <a:ext cx="490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101680" y="3957480"/>
            <a:ext cx="4884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8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400800" y="2666880"/>
            <a:ext cx="0" cy="257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33520" y="3049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UCTURA DE LA CELDA 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SUICHEO AT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1619280" y="2349360"/>
            <a:ext cx="7010280" cy="1994040"/>
            <a:chOff x="1619280" y="2349360"/>
            <a:chExt cx="7010280" cy="1994040"/>
          </a:xfrm>
        </p:grpSpPr>
        <p:sp>
          <p:nvSpPr>
            <p:cNvPr id="1827" name=""/>
            <p:cNvSpPr/>
            <p:nvPr/>
          </p:nvSpPr>
          <p:spPr>
            <a:xfrm>
              <a:off x="1619280" y="2349360"/>
              <a:ext cx="7010280" cy="192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9280" y="29620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5187600" y="2349360"/>
              <a:ext cx="12600" cy="19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850040" y="23493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219480" y="2349360"/>
              <a:ext cx="23760" cy="19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450240" y="23493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VPI/VCI 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355360" y="234936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183440" y="2349360"/>
              <a:ext cx="106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VPI/VCI 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700680" y="2349360"/>
              <a:ext cx="23760" cy="19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619280" y="357336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619280" y="42624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137680" y="3003480"/>
              <a:ext cx="61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/100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1/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077920" y="365112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0" name=""/>
          <p:cNvSpPr/>
          <p:nvPr/>
        </p:nvSpPr>
        <p:spPr>
          <a:xfrm>
            <a:off x="826920" y="7650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se especifica un protocolo de enrutamiento en particular al establecer el circuito (rut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el proceso de conmutación es suficiente el VP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1619280" y="4863960"/>
            <a:ext cx="7010280" cy="1994040"/>
            <a:chOff x="1619280" y="4863960"/>
            <a:chExt cx="7010280" cy="1994040"/>
          </a:xfrm>
        </p:grpSpPr>
        <p:sp>
          <p:nvSpPr>
            <p:cNvPr id="1842" name=""/>
            <p:cNvSpPr/>
            <p:nvPr/>
          </p:nvSpPr>
          <p:spPr>
            <a:xfrm>
              <a:off x="1619280" y="4863960"/>
              <a:ext cx="7010280" cy="192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619280" y="54766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5187600" y="4863960"/>
              <a:ext cx="12600" cy="19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50040" y="48639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219480" y="4863960"/>
              <a:ext cx="23760" cy="19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450240" y="48639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VPI/VCI 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355360" y="4863960"/>
              <a:ext cx="101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183440" y="4863960"/>
              <a:ext cx="106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VPI/VCI 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6700680" y="4863960"/>
              <a:ext cx="23760" cy="19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619280" y="608796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619280" y="67770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137680" y="5518080"/>
              <a:ext cx="61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/300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1/4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077920" y="616572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5" name=""/>
          <p:cNvSpPr/>
          <p:nvPr/>
        </p:nvSpPr>
        <p:spPr>
          <a:xfrm>
            <a:off x="504360" y="304632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69440" y="544500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OBLEMAS DE LAS REDES TRADICIONA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304920" y="907920"/>
            <a:ext cx="861048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squema típico basado en Frame Relay/ATM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Overhead asociado  a la encapsulación de ATM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AAL5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A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elda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ATM no se la lleva bien con TCP/IP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quiere la creación del circuito virtual antes de poder transmiti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Overhead asociado a las celda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536760" y="260280"/>
            <a:ext cx="82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ACKBONE DE CARRIER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rot="90600">
            <a:off x="4266720" y="466704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rot="5577000">
            <a:off x="2438280" y="329544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rot="15408000">
            <a:off x="5714640" y="3066480"/>
            <a:ext cx="685800" cy="83844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3200400" y="3600360"/>
            <a:ext cx="2438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200400" y="375300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4648320" y="360036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567960" y="371628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ET/S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133720" y="1847880"/>
            <a:ext cx="4647960" cy="396252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8" name=""/>
          <p:cNvGraphicFramePr/>
          <p:nvPr/>
        </p:nvGraphicFramePr>
        <p:xfrm>
          <a:off x="1371600" y="4133880"/>
          <a:ext cx="533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338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"/>
          <p:cNvSpPr/>
          <p:nvPr/>
        </p:nvSpPr>
        <p:spPr>
          <a:xfrm flipV="1">
            <a:off x="1905120" y="382860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1" name=""/>
          <p:cNvGraphicFramePr/>
          <p:nvPr/>
        </p:nvGraphicFramePr>
        <p:xfrm>
          <a:off x="3886200" y="5886360"/>
          <a:ext cx="5335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88636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3" name=""/>
          <p:cNvGraphicFramePr/>
          <p:nvPr/>
        </p:nvGraphicFramePr>
        <p:xfrm>
          <a:off x="6248520" y="207648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0764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5" name=""/>
          <p:cNvSpPr/>
          <p:nvPr/>
        </p:nvSpPr>
        <p:spPr>
          <a:xfrm flipV="1">
            <a:off x="6400800" y="29142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4191120" y="55054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067760" y="497196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o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26920" y="1341360"/>
            <a:ext cx="7250400" cy="551664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591640" y="606276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716080" y="146700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2133720" y="352440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553080" y="352440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724280" y="55054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80600" y="42102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867640" y="542916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6" name=""/>
          <p:cNvGraphicFramePr/>
          <p:nvPr/>
        </p:nvGraphicFramePr>
        <p:xfrm>
          <a:off x="228600" y="5048280"/>
          <a:ext cx="5857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048280"/>
                    <a:ext cx="5857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8" name=""/>
          <p:cNvSpPr/>
          <p:nvPr/>
        </p:nvSpPr>
        <p:spPr>
          <a:xfrm flipV="1">
            <a:off x="533520" y="474300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120" y="30672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7543800" y="283824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1" name="" descr=""/>
          <p:cNvPicPr/>
          <p:nvPr/>
        </p:nvPicPr>
        <p:blipFill>
          <a:blip r:embed="rId9"/>
          <a:stretch/>
        </p:blipFill>
        <p:spPr>
          <a:xfrm>
            <a:off x="0" y="1924200"/>
            <a:ext cx="533520" cy="46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2" name=""/>
          <p:cNvGraphicFramePr/>
          <p:nvPr/>
        </p:nvGraphicFramePr>
        <p:xfrm>
          <a:off x="609480" y="1924200"/>
          <a:ext cx="533520" cy="46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192420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4" name=""/>
          <p:cNvGraphicFramePr/>
          <p:nvPr/>
        </p:nvGraphicFramePr>
        <p:xfrm>
          <a:off x="1219320" y="1924200"/>
          <a:ext cx="533160" cy="460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1924200"/>
                    <a:ext cx="533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6" name=""/>
          <p:cNvSpPr/>
          <p:nvPr/>
        </p:nvSpPr>
        <p:spPr>
          <a:xfrm>
            <a:off x="76320" y="2533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28600" y="2381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38080" y="2381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447920" y="2381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533520" y="2533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7391520" y="1771560"/>
            <a:ext cx="1752120" cy="609480"/>
            <a:chOff x="7391520" y="1771560"/>
            <a:chExt cx="1752120" cy="609480"/>
          </a:xfrm>
        </p:grpSpPr>
        <p:pic>
          <p:nvPicPr>
            <p:cNvPr id="1902" name="" descr=""/>
            <p:cNvPicPr/>
            <p:nvPr/>
          </p:nvPicPr>
          <p:blipFill>
            <a:blip r:embed="rId14"/>
            <a:stretch/>
          </p:blipFill>
          <p:spPr>
            <a:xfrm>
              <a:off x="7391520" y="177156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3" name="" descr=""/>
            <p:cNvPicPr/>
            <p:nvPr/>
          </p:nvPicPr>
          <p:blipFill>
            <a:blip r:embed="rId15"/>
            <a:stretch/>
          </p:blipFill>
          <p:spPr>
            <a:xfrm>
              <a:off x="8001000" y="177156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4" name="" descr=""/>
            <p:cNvPicPr/>
            <p:nvPr/>
          </p:nvPicPr>
          <p:blipFill>
            <a:blip r:embed="rId16"/>
            <a:stretch/>
          </p:blipFill>
          <p:spPr>
            <a:xfrm>
              <a:off x="8610480" y="177156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5" name=""/>
            <p:cNvSpPr/>
            <p:nvPr/>
          </p:nvSpPr>
          <p:spPr>
            <a:xfrm>
              <a:off x="7467480" y="238104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619760" y="2228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229600" y="2228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839080" y="2228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9" name=""/>
          <p:cNvSpPr/>
          <p:nvPr/>
        </p:nvSpPr>
        <p:spPr>
          <a:xfrm>
            <a:off x="8458200" y="2381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36440" y="14526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391520" y="1390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800" y="3295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8155080" y="2990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664760" y="3689280"/>
            <a:ext cx="171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cios de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.2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1476360" y="2825640"/>
            <a:ext cx="647280" cy="1007640"/>
            <a:chOff x="1476360" y="2825640"/>
            <a:chExt cx="647280" cy="1007640"/>
          </a:xfrm>
        </p:grpSpPr>
        <p:sp>
          <p:nvSpPr>
            <p:cNvPr id="1916" name=""/>
            <p:cNvSpPr/>
            <p:nvPr/>
          </p:nvSpPr>
          <p:spPr>
            <a:xfrm>
              <a:off x="2043360" y="2825640"/>
              <a:ext cx="80280" cy="1007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76360" y="2920680"/>
              <a:ext cx="569160" cy="9086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525680" y="2969280"/>
              <a:ext cx="469800" cy="4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518120" y="359064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687680" y="3590640"/>
              <a:ext cx="14616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855080" y="359064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53936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58112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62288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66644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70856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75032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79208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83420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87596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91988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962000" y="3114720"/>
              <a:ext cx="0" cy="390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575360" y="3662640"/>
              <a:ext cx="4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748520" y="366264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897200" y="366264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478160" y="2837520"/>
              <a:ext cx="633600" cy="756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52208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56384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60560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64988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69164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3340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77552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81728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85904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90260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944720" y="3114720"/>
              <a:ext cx="0" cy="390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948360" y="3257640"/>
            <a:ext cx="576000" cy="799920"/>
            <a:chOff x="6948360" y="3257640"/>
            <a:chExt cx="576000" cy="799920"/>
          </a:xfrm>
        </p:grpSpPr>
        <p:sp>
          <p:nvSpPr>
            <p:cNvPr id="1949" name=""/>
            <p:cNvSpPr/>
            <p:nvPr/>
          </p:nvSpPr>
          <p:spPr>
            <a:xfrm>
              <a:off x="7453080" y="3257640"/>
              <a:ext cx="71280" cy="79992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948360" y="3332880"/>
              <a:ext cx="506520" cy="7210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92280" y="337176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985440" y="3864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136280" y="386496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285680" y="3864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00416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04160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07868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11756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15500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19208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22952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26660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30404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34328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380360" y="348696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036560" y="392184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190640" y="392184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322760" y="392184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950160" y="3267000"/>
              <a:ext cx="563760" cy="5976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98904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02612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06356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10280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13988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17732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21440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25184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28892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32780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365240" y="348696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1" name=""/>
          <p:cNvSpPr/>
          <p:nvPr/>
        </p:nvSpPr>
        <p:spPr>
          <a:xfrm>
            <a:off x="6948360" y="3112920"/>
            <a:ext cx="648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5076720" y="5776920"/>
            <a:ext cx="576000" cy="799920"/>
            <a:chOff x="5076720" y="5776920"/>
            <a:chExt cx="576000" cy="799920"/>
          </a:xfrm>
        </p:grpSpPr>
        <p:sp>
          <p:nvSpPr>
            <p:cNvPr id="1983" name=""/>
            <p:cNvSpPr/>
            <p:nvPr/>
          </p:nvSpPr>
          <p:spPr>
            <a:xfrm>
              <a:off x="5581440" y="5776920"/>
              <a:ext cx="71280" cy="79992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076720" y="5852160"/>
              <a:ext cx="506520" cy="7210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120640" y="589104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113800" y="638424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264640" y="638424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414040" y="638424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13252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16996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20704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24592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28336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2044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5788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39496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3240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7164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508720" y="600624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164920" y="644112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319000" y="644112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51120" y="644112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78520" y="5786280"/>
              <a:ext cx="563760" cy="5976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11740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15448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19192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23116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26824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30568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34276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38020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1728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45616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493600" y="600624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5" name=""/>
          <p:cNvSpPr/>
          <p:nvPr/>
        </p:nvSpPr>
        <p:spPr>
          <a:xfrm flipV="1">
            <a:off x="1332000" y="2681280"/>
            <a:ext cx="936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856560" y="407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49840" y="311292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973800" y="2681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9" name="" descr=""/>
          <p:cNvPicPr/>
          <p:nvPr/>
        </p:nvPicPr>
        <p:blipFill>
          <a:blip r:embed="rId20"/>
          <a:stretch/>
        </p:blipFill>
        <p:spPr>
          <a:xfrm>
            <a:off x="324000" y="2825640"/>
            <a:ext cx="539640" cy="38268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21"/>
          <a:stretch/>
        </p:blipFill>
        <p:spPr>
          <a:xfrm>
            <a:off x="8244000" y="2610000"/>
            <a:ext cx="539640" cy="382320"/>
          </a:xfrm>
          <a:prstGeom prst="rect">
            <a:avLst/>
          </a:prstGeom>
          <a:ln w="0">
            <a:noFill/>
          </a:ln>
        </p:spPr>
      </p:pic>
      <p:sp>
        <p:nvSpPr>
          <p:cNvPr id="2021" name=""/>
          <p:cNvSpPr/>
          <p:nvPr/>
        </p:nvSpPr>
        <p:spPr>
          <a:xfrm>
            <a:off x="2411280" y="2133720"/>
            <a:ext cx="792360" cy="14436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257640" y="20080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2268360" y="2382840"/>
            <a:ext cx="1151280" cy="144360"/>
            <a:chOff x="2268360" y="2382840"/>
            <a:chExt cx="1151280" cy="144360"/>
          </a:xfrm>
        </p:grpSpPr>
        <p:sp>
          <p:nvSpPr>
            <p:cNvPr id="2024" name=""/>
            <p:cNvSpPr/>
            <p:nvPr/>
          </p:nvSpPr>
          <p:spPr>
            <a:xfrm>
              <a:off x="2268360" y="2382840"/>
              <a:ext cx="1151280" cy="142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627280" y="2382840"/>
              <a:ext cx="792360" cy="144360"/>
            </a:xfrm>
            <a:prstGeom prst="rect">
              <a:avLst/>
            </a:prstGeom>
            <a:solidFill>
              <a:srgbClr val="f5eb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6" name=""/>
          <p:cNvSpPr/>
          <p:nvPr/>
        </p:nvSpPr>
        <p:spPr>
          <a:xfrm>
            <a:off x="3461760" y="227664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L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195640" y="2708280"/>
            <a:ext cx="28872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2698920" y="2708280"/>
            <a:ext cx="28872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130560" y="2708280"/>
            <a:ext cx="28908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562200" y="2708280"/>
            <a:ext cx="28908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903840" y="26575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41964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>
            <a:off x="1611000" y="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CKBONE DE CARRIER 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rot="90600">
            <a:off x="4266720" y="41907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rot="5577000">
            <a:off x="2438280" y="28191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rot="15408000">
            <a:off x="5714640" y="2590200"/>
            <a:ext cx="685800" cy="83844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3200400" y="3124080"/>
            <a:ext cx="2438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200400" y="32767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V="1">
            <a:off x="4648320" y="312408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661560" y="25909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ET/S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133720" y="1371600"/>
            <a:ext cx="4647960" cy="396252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2" name=""/>
          <p:cNvGraphicFramePr/>
          <p:nvPr/>
        </p:nvGraphicFramePr>
        <p:xfrm>
          <a:off x="1371600" y="3657600"/>
          <a:ext cx="533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4" name=""/>
          <p:cNvSpPr/>
          <p:nvPr/>
        </p:nvSpPr>
        <p:spPr>
          <a:xfrm flipV="1">
            <a:off x="1905120" y="3352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5" name=""/>
          <p:cNvGraphicFramePr/>
          <p:nvPr/>
        </p:nvGraphicFramePr>
        <p:xfrm>
          <a:off x="3886200" y="5410080"/>
          <a:ext cx="5335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410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7" name=""/>
          <p:cNvGraphicFramePr/>
          <p:nvPr/>
        </p:nvGraphicFramePr>
        <p:xfrm>
          <a:off x="6248520" y="160020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60020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9" name=""/>
          <p:cNvSpPr/>
          <p:nvPr/>
        </p:nvSpPr>
        <p:spPr>
          <a:xfrm flipV="1">
            <a:off x="6400800" y="2437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41911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067760" y="44956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o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066680" y="476280"/>
            <a:ext cx="7010640" cy="607680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591640" y="55864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5716080" y="99072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133720" y="3048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553080" y="304812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724280" y="50292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780600" y="373392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867640" y="495288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0" name=""/>
          <p:cNvGraphicFramePr/>
          <p:nvPr/>
        </p:nvGraphicFramePr>
        <p:xfrm>
          <a:off x="228600" y="4572000"/>
          <a:ext cx="5857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572000"/>
                    <a:ext cx="5857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2" name=""/>
          <p:cNvSpPr/>
          <p:nvPr/>
        </p:nvSpPr>
        <p:spPr>
          <a:xfrm flipV="1">
            <a:off x="533520" y="42667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762120" y="25909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7543800" y="23619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5" name="" descr=""/>
          <p:cNvPicPr/>
          <p:nvPr/>
        </p:nvPicPr>
        <p:blipFill>
          <a:blip r:embed="rId9"/>
          <a:stretch/>
        </p:blipFill>
        <p:spPr>
          <a:xfrm>
            <a:off x="0" y="1447920"/>
            <a:ext cx="533520" cy="46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6" name=""/>
          <p:cNvGraphicFramePr/>
          <p:nvPr/>
        </p:nvGraphicFramePr>
        <p:xfrm>
          <a:off x="609480" y="1447920"/>
          <a:ext cx="533520" cy="46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144792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8" name=""/>
          <p:cNvGraphicFramePr/>
          <p:nvPr/>
        </p:nvGraphicFramePr>
        <p:xfrm>
          <a:off x="1219320" y="1447920"/>
          <a:ext cx="533160" cy="460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1447920"/>
                    <a:ext cx="533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0" name=""/>
          <p:cNvSpPr/>
          <p:nvPr/>
        </p:nvSpPr>
        <p:spPr>
          <a:xfrm>
            <a:off x="76320" y="20574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286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83808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53352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5" name=""/>
          <p:cNvGrpSpPr/>
          <p:nvPr/>
        </p:nvGrpSpPr>
        <p:grpSpPr>
          <a:xfrm>
            <a:off x="7391520" y="1295280"/>
            <a:ext cx="1752120" cy="609480"/>
            <a:chOff x="7391520" y="1295280"/>
            <a:chExt cx="1752120" cy="609480"/>
          </a:xfrm>
        </p:grpSpPr>
        <p:pic>
          <p:nvPicPr>
            <p:cNvPr id="2076" name="" descr=""/>
            <p:cNvPicPr/>
            <p:nvPr/>
          </p:nvPicPr>
          <p:blipFill>
            <a:blip r:embed="rId14"/>
            <a:stretch/>
          </p:blipFill>
          <p:spPr>
            <a:xfrm>
              <a:off x="739152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7" name="" descr=""/>
            <p:cNvPicPr/>
            <p:nvPr/>
          </p:nvPicPr>
          <p:blipFill>
            <a:blip r:embed="rId15"/>
            <a:stretch/>
          </p:blipFill>
          <p:spPr>
            <a:xfrm>
              <a:off x="8001000" y="1295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8" name="" descr=""/>
            <p:cNvPicPr/>
            <p:nvPr/>
          </p:nvPicPr>
          <p:blipFill>
            <a:blip r:embed="rId16"/>
            <a:stretch/>
          </p:blipFill>
          <p:spPr>
            <a:xfrm>
              <a:off x="861048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9" name=""/>
            <p:cNvSpPr/>
            <p:nvPr/>
          </p:nvSpPr>
          <p:spPr>
            <a:xfrm>
              <a:off x="7467480" y="1904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61976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22960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83908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84582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36440" y="97632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7391520" y="9144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800" y="2819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8155080" y="2514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664760" y="3213000"/>
            <a:ext cx="171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cios de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.2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1476360" y="2349360"/>
            <a:ext cx="647280" cy="1008000"/>
            <a:chOff x="1476360" y="2349360"/>
            <a:chExt cx="647280" cy="1008000"/>
          </a:xfrm>
        </p:grpSpPr>
        <p:sp>
          <p:nvSpPr>
            <p:cNvPr id="2090" name=""/>
            <p:cNvSpPr/>
            <p:nvPr/>
          </p:nvSpPr>
          <p:spPr>
            <a:xfrm>
              <a:off x="2043360" y="2349360"/>
              <a:ext cx="80280" cy="100800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476360" y="2444400"/>
              <a:ext cx="569160" cy="909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525680" y="2493360"/>
              <a:ext cx="469800" cy="4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518120" y="311472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687680" y="3114720"/>
              <a:ext cx="14616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855080" y="311472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5393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58112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6228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66644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7085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75032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7920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83420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8759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9198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96200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575360" y="3186720"/>
              <a:ext cx="4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748520" y="318672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897200" y="318672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478160" y="2361240"/>
              <a:ext cx="633600" cy="756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5220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5638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6056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6498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6916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7334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77552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8172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8590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9026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94472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6948360" y="2781360"/>
            <a:ext cx="576000" cy="799920"/>
            <a:chOff x="6948360" y="2781360"/>
            <a:chExt cx="576000" cy="799920"/>
          </a:xfrm>
        </p:grpSpPr>
        <p:sp>
          <p:nvSpPr>
            <p:cNvPr id="2123" name=""/>
            <p:cNvSpPr/>
            <p:nvPr/>
          </p:nvSpPr>
          <p:spPr>
            <a:xfrm>
              <a:off x="7453080" y="2781360"/>
              <a:ext cx="71280" cy="79992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948360" y="2856600"/>
              <a:ext cx="506520" cy="7210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992280" y="289548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985440" y="338868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136280" y="338868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85680" y="338868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041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416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786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1175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1550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1920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22952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2666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30404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432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3803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036560" y="344556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190640" y="34455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322760" y="34455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950160" y="2790720"/>
              <a:ext cx="563760" cy="5976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9890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0261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06356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1028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13988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1773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2144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2518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2889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3278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3652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5" name=""/>
          <p:cNvSpPr/>
          <p:nvPr/>
        </p:nvSpPr>
        <p:spPr>
          <a:xfrm>
            <a:off x="6948360" y="2637000"/>
            <a:ext cx="64800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6" name=""/>
          <p:cNvGrpSpPr/>
          <p:nvPr/>
        </p:nvGrpSpPr>
        <p:grpSpPr>
          <a:xfrm>
            <a:off x="5076720" y="5300640"/>
            <a:ext cx="576000" cy="800280"/>
            <a:chOff x="5076720" y="5300640"/>
            <a:chExt cx="576000" cy="800280"/>
          </a:xfrm>
        </p:grpSpPr>
        <p:sp>
          <p:nvSpPr>
            <p:cNvPr id="2157" name=""/>
            <p:cNvSpPr/>
            <p:nvPr/>
          </p:nvSpPr>
          <p:spPr>
            <a:xfrm>
              <a:off x="5581440" y="5300640"/>
              <a:ext cx="71280" cy="80028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076720" y="5375880"/>
              <a:ext cx="506520" cy="721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120640" y="541476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11380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264640" y="590796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41404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1325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1699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2070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2459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833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3204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35788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3949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43240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716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5087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164920" y="596520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31900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45112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078520" y="5310000"/>
              <a:ext cx="563760" cy="601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1174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1544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19192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2311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26824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3056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3427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3802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4172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4561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4936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9" name=""/>
          <p:cNvSpPr/>
          <p:nvPr/>
        </p:nvSpPr>
        <p:spPr>
          <a:xfrm flipV="1">
            <a:off x="1332000" y="2205000"/>
            <a:ext cx="936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856560" y="359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049840" y="2637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973800" y="2205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3" name="" descr=""/>
          <p:cNvPicPr/>
          <p:nvPr/>
        </p:nvPicPr>
        <p:blipFill>
          <a:blip r:embed="rId20"/>
          <a:stretch/>
        </p:blipFill>
        <p:spPr>
          <a:xfrm>
            <a:off x="324000" y="2349360"/>
            <a:ext cx="539640" cy="382680"/>
          </a:xfrm>
          <a:prstGeom prst="rect">
            <a:avLst/>
          </a:prstGeom>
          <a:ln w="0">
            <a:noFill/>
          </a:ln>
        </p:spPr>
      </p:pic>
      <p:pic>
        <p:nvPicPr>
          <p:cNvPr id="2194" name="" descr=""/>
          <p:cNvPicPr/>
          <p:nvPr/>
        </p:nvPicPr>
        <p:blipFill>
          <a:blip r:embed="rId21"/>
          <a:stretch/>
        </p:blipFill>
        <p:spPr>
          <a:xfrm>
            <a:off x="8244000" y="2133720"/>
            <a:ext cx="53964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AAL5  (ATM ADAPTATION LAYER 5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6" name=""/>
          <p:cNvSpPr/>
          <p:nvPr/>
        </p:nvSpPr>
        <p:spPr>
          <a:xfrm>
            <a:off x="2819520" y="1066680"/>
            <a:ext cx="2819160" cy="53352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33720" y="1981080"/>
            <a:ext cx="4343400" cy="53352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133720" y="1981080"/>
            <a:ext cx="6094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867280" y="1981080"/>
            <a:ext cx="60984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1371600" y="3048120"/>
            <a:ext cx="1371600" cy="53316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371600" y="3048120"/>
            <a:ext cx="6094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886200" y="3048120"/>
            <a:ext cx="1693800" cy="53316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400800" y="3048120"/>
            <a:ext cx="1371600" cy="53316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596360" y="3068640"/>
            <a:ext cx="6094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869800" y="907920"/>
            <a:ext cx="24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QUETE IP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MA 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19112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708240" y="19810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8385120" y="30481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142640" y="3500280"/>
            <a:ext cx="189000" cy="995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771640" y="3573360"/>
            <a:ext cx="276480" cy="92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1" name=""/>
          <p:cNvGrpSpPr/>
          <p:nvPr/>
        </p:nvGrpSpPr>
        <p:grpSpPr>
          <a:xfrm>
            <a:off x="228600" y="4495680"/>
            <a:ext cx="2819520" cy="533520"/>
            <a:chOff x="228600" y="4495680"/>
            <a:chExt cx="2819520" cy="533520"/>
          </a:xfrm>
        </p:grpSpPr>
        <p:sp>
          <p:nvSpPr>
            <p:cNvPr id="2212" name=""/>
            <p:cNvSpPr/>
            <p:nvPr/>
          </p:nvSpPr>
          <p:spPr>
            <a:xfrm>
              <a:off x="228600" y="4495680"/>
              <a:ext cx="2819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14300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4" name=""/>
          <p:cNvGrpSpPr/>
          <p:nvPr/>
        </p:nvGrpSpPr>
        <p:grpSpPr>
          <a:xfrm>
            <a:off x="3276720" y="4495680"/>
            <a:ext cx="2819160" cy="533520"/>
            <a:chOff x="3276720" y="4495680"/>
            <a:chExt cx="2819160" cy="533520"/>
          </a:xfrm>
        </p:grpSpPr>
        <p:sp>
          <p:nvSpPr>
            <p:cNvPr id="2215" name=""/>
            <p:cNvSpPr/>
            <p:nvPr/>
          </p:nvSpPr>
          <p:spPr>
            <a:xfrm>
              <a:off x="3276720" y="4495680"/>
              <a:ext cx="2819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19076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6324480" y="4495680"/>
            <a:ext cx="2819520" cy="533520"/>
            <a:chOff x="6324480" y="4495680"/>
            <a:chExt cx="2819520" cy="533520"/>
          </a:xfrm>
        </p:grpSpPr>
        <p:sp>
          <p:nvSpPr>
            <p:cNvPr id="2218" name=""/>
            <p:cNvSpPr/>
            <p:nvPr/>
          </p:nvSpPr>
          <p:spPr>
            <a:xfrm>
              <a:off x="6324480" y="4495680"/>
              <a:ext cx="2819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23888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0" name=""/>
          <p:cNvSpPr/>
          <p:nvPr/>
        </p:nvSpPr>
        <p:spPr>
          <a:xfrm>
            <a:off x="3924360" y="3500280"/>
            <a:ext cx="266760" cy="995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638680" y="35812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443640" y="3573360"/>
            <a:ext cx="795240" cy="92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8153280" y="35812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433680" y="586728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LDAS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H="1" flipV="1">
            <a:off x="2133360" y="51811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 flipV="1">
            <a:off x="4419720" y="518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flipV="1">
            <a:off x="5715000" y="518112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41911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70160" y="45086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765440" y="45086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971640" y="191628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880" y="22766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AAL5 (ATM ADAPTATION LAYER 5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Actualmente los campos UU y CPI no se usan pero deben estar asi: UU=cualquier valor, CPI=0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os 8 bytes del final de la unidad de CS están al final de la última celd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última celda de cada unidad CS, se identifica por el bit de orden inferior del PTI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Para identificar que protocolo superior lleva AAL5 hay dos opcion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otocolo por circuit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ncapsulación LLC/SNAP: 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Permite PPP, Ethernet, IP, etc sobre AAL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5" name=""/>
          <p:cNvSpPr/>
          <p:nvPr/>
        </p:nvSpPr>
        <p:spPr>
          <a:xfrm>
            <a:off x="533520" y="5742000"/>
            <a:ext cx="8001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257800" y="574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791320" y="574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324480" y="574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7238880" y="574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257800" y="586728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U   CPI Length      C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604160" y="589428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YLOAD (1-655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260320" y="528480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B    1B   2B          4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IP/PPP   vs. IP/PPP/ATM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304920" y="692280"/>
            <a:ext cx="86104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Paquete IP de 1500 byte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ncabezado de PPP(Flags(2),Address (1), Control(1), Protocol (2),FCS(2)=10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otal enviados=1510Bytes  Overhead=1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Para llevar 1500B se enviaron 1510. Overhead=0.6%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Paquete IP de 1500 byt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Paquete IP con overhead de PPP=1510B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AAL5 overhead = 8B.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otal a llevar en celdas=1518. Total celdas=1518/48 = 3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Overhead asociado a celdas = 32 * 5 = 160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otal enviados= 1510 + 8 + 160 = 1678.  Overhead = 178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Para llevar 1500B se enviaron 1678.  Overhead = 11.86%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OJO: Aparte de esto se debe tener en cuenta el mayor procesamiento requerid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REDES CONVERGENTES - DEFINIC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n el caso del carrier (proveedor de servicio de comunicaciones) permite integrar 4 redes antes separad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d de telefonía convenciona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d de televisión por cabl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omunicaciones móvil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d para acceso a Interne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ENRUTAMIENT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591400" cy="57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Opera sobre el encabezado del paquete  (nivel de red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ada nodo (router) en el camino repite el proceso de análisis del encabezad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sta operación generalmente es por software por tanto más lent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No tiene en cuenta la procedencia del paquete o el puerto de ingres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La tabla de enrutamiento maneja “PREFIJOS” para identificar la red o nodo destino. Ejemplo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10.2.0.0/16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Prefijo que referencia una re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10.2.0.1/32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Prefijo que referencia un nod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"/>
          <p:cNvSpPr/>
          <p:nvPr/>
        </p:nvSpPr>
        <p:spPr>
          <a:xfrm>
            <a:off x="2521800" y="0"/>
            <a:ext cx="527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L PAQUETE IP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8" name=""/>
          <p:cNvGrpSpPr/>
          <p:nvPr/>
        </p:nvGrpSpPr>
        <p:grpSpPr>
          <a:xfrm>
            <a:off x="2514600" y="1143000"/>
            <a:ext cx="5333760" cy="5486400"/>
            <a:chOff x="2514600" y="1143000"/>
            <a:chExt cx="5333760" cy="5486400"/>
          </a:xfrm>
        </p:grpSpPr>
        <p:sp>
          <p:nvSpPr>
            <p:cNvPr id="2249" name=""/>
            <p:cNvSpPr/>
            <p:nvPr/>
          </p:nvSpPr>
          <p:spPr>
            <a:xfrm>
              <a:off x="2514600" y="1143000"/>
              <a:ext cx="5105160" cy="548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14800" y="289584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SOURCE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14600" y="1676520"/>
              <a:ext cx="510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105160" y="114300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124080" y="11430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962160" y="3505320"/>
              <a:ext cx="2667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DESTINATION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124080" y="1295640"/>
              <a:ext cx="76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H.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590560" y="1295640"/>
              <a:ext cx="68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514600" y="2210040"/>
              <a:ext cx="510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590560" y="281952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590560" y="335304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590560" y="396252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809880" y="11430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886200" y="1143000"/>
              <a:ext cx="1066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YPE O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486400" y="1295640"/>
              <a:ext cx="1752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OTAL LEN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590560" y="449604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419360" y="4038840"/>
              <a:ext cx="1067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OPTION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114800" y="5486400"/>
              <a:ext cx="190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DATOS- PAYLO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809880" y="22100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333760" y="1676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562360" y="1676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790960" y="1676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895480" y="236232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886200" y="2362320"/>
              <a:ext cx="13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581280" y="1828800"/>
              <a:ext cx="914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790960" y="1828800"/>
              <a:ext cx="2057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FRAGMENT OFF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257800" y="2362320"/>
              <a:ext cx="2286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HEADER CHECK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562360" y="1752840"/>
              <a:ext cx="3049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333760" y="1676520"/>
              <a:ext cx="3049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8" name=""/>
          <p:cNvSpPr/>
          <p:nvPr/>
        </p:nvSpPr>
        <p:spPr>
          <a:xfrm>
            <a:off x="1752480" y="1219320"/>
            <a:ext cx="0" cy="99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918000" y="24382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752480" y="3048120"/>
            <a:ext cx="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363760" y="5335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0     4        8             16                            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990720" y="4495680"/>
            <a:ext cx="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94120" y="522288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990720" y="5715000"/>
            <a:ext cx="0" cy="838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/>
          <p:nvPr/>
        </p:nvSpPr>
        <p:spPr>
          <a:xfrm>
            <a:off x="6095880" y="5672160"/>
            <a:ext cx="1295640" cy="6523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 flipV="1">
            <a:off x="533520" y="4343040"/>
            <a:ext cx="990360" cy="2286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V="1">
            <a:off x="7467480" y="5714640"/>
            <a:ext cx="762120" cy="609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324480" y="3289320"/>
            <a:ext cx="1371600" cy="557280"/>
          </a:xfrm>
          <a:custGeom>
            <a:avLst/>
            <a:gdLst/>
            <a:ahLst/>
            <a:rect l="l" t="t" r="r" b="b"/>
            <a:pathLst>
              <a:path w="968" h="351">
                <a:moveTo>
                  <a:pt x="518" y="330"/>
                </a:moveTo>
                <a:lnTo>
                  <a:pt x="968" y="0"/>
                </a:lnTo>
                <a:lnTo>
                  <a:pt x="0" y="0"/>
                </a:lnTo>
                <a:lnTo>
                  <a:pt x="458" y="351"/>
                </a:lnTo>
                <a:lnTo>
                  <a:pt x="518" y="33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7156440" y="3930480"/>
            <a:ext cx="12762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657600" y="3314880"/>
            <a:ext cx="1371600" cy="1039680"/>
          </a:xfrm>
          <a:custGeom>
            <a:avLst/>
            <a:gdLst/>
            <a:ahLst/>
            <a:rect l="l" t="t" r="r" b="b"/>
            <a:pathLst>
              <a:path w="954" h="655">
                <a:moveTo>
                  <a:pt x="510" y="615"/>
                </a:moveTo>
                <a:lnTo>
                  <a:pt x="954" y="0"/>
                </a:lnTo>
                <a:lnTo>
                  <a:pt x="0" y="0"/>
                </a:lnTo>
                <a:lnTo>
                  <a:pt x="450" y="655"/>
                </a:lnTo>
                <a:lnTo>
                  <a:pt x="510" y="61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914400" y="3314880"/>
            <a:ext cx="1371600" cy="1047600"/>
          </a:xfrm>
          <a:custGeom>
            <a:avLst/>
            <a:gdLst/>
            <a:ahLst/>
            <a:rect l="l" t="t" r="r" b="b"/>
            <a:pathLst>
              <a:path w="960" h="660">
                <a:moveTo>
                  <a:pt x="456" y="660"/>
                </a:moveTo>
                <a:lnTo>
                  <a:pt x="0" y="0"/>
                </a:lnTo>
                <a:lnTo>
                  <a:pt x="960" y="0"/>
                </a:lnTo>
                <a:lnTo>
                  <a:pt x="666" y="655"/>
                </a:lnTo>
                <a:lnTo>
                  <a:pt x="606" y="61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  <a:ea typeface="PMingLiU"/>
              </a:rPr>
              <a:t>ENRUTAMIENTO TRADICION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3" name=""/>
          <p:cNvSpPr/>
          <p:nvPr/>
        </p:nvSpPr>
        <p:spPr>
          <a:xfrm>
            <a:off x="4529160" y="4692600"/>
            <a:ext cx="1652400" cy="118584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 flipV="1">
            <a:off x="4379760" y="3930480"/>
            <a:ext cx="2552760" cy="4240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127240" y="4354560"/>
            <a:ext cx="24764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586040" y="489744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876560" y="392436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505280" y="35812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V="1">
            <a:off x="5054760" y="4121280"/>
            <a:ext cx="1333440" cy="233280"/>
          </a:xfrm>
          <a:prstGeom prst="line">
            <a:avLst/>
          </a:prstGeom>
          <a:ln w="5076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4829040" y="5116680"/>
            <a:ext cx="827280" cy="591840"/>
          </a:xfrm>
          <a:prstGeom prst="line">
            <a:avLst/>
          </a:prstGeom>
          <a:ln w="5076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201760" y="4524480"/>
            <a:ext cx="1576440" cy="0"/>
          </a:xfrm>
          <a:prstGeom prst="line">
            <a:avLst/>
          </a:prstGeom>
          <a:ln w="5076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-260280" y="5700600"/>
            <a:ext cx="229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Routing Updates (OSPF, EIGRP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224080" y="5973840"/>
            <a:ext cx="41580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225440" y="4818240"/>
            <a:ext cx="2514600" cy="483840"/>
          </a:xfrm>
          <a:prstGeom prst="wedgeRoundRectCallout">
            <a:avLst>
              <a:gd name="adj1" fmla="val 41037"/>
              <a:gd name="adj2" fmla="val -100162"/>
              <a:gd name="adj3" fmla="val 16667"/>
            </a:avLst>
          </a:prstGeom>
          <a:solidFill>
            <a:srgbClr val="00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302840" y="4788000"/>
            <a:ext cx="23094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PMingLiU"/>
              </a:rPr>
              <a:t>You Can Reach 128.89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PMingLiU"/>
              </a:rPr>
              <a:t>and 171.69 thru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348160" y="4440240"/>
            <a:ext cx="3200400" cy="457200"/>
          </a:xfrm>
          <a:prstGeom prst="wedgeRoundRectCallout">
            <a:avLst>
              <a:gd name="adj1" fmla="val -22620"/>
              <a:gd name="adj2" fmla="val -97916"/>
              <a:gd name="adj3" fmla="val 16667"/>
            </a:avLst>
          </a:prstGeom>
          <a:solidFill>
            <a:srgbClr val="00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5427360" y="4516560"/>
            <a:ext cx="3097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PMingLiU"/>
              </a:rPr>
              <a:t>You Can Reach 128.89 thru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719440" y="5784840"/>
            <a:ext cx="3078000" cy="457200"/>
          </a:xfrm>
          <a:prstGeom prst="wedgeRoundRectCallout">
            <a:avLst>
              <a:gd name="adj1" fmla="val 35921"/>
              <a:gd name="adj2" fmla="val -73263"/>
              <a:gd name="adj3" fmla="val 16667"/>
            </a:avLst>
          </a:prstGeom>
          <a:solidFill>
            <a:srgbClr val="000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722320" y="5878440"/>
            <a:ext cx="3097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PMingLiU"/>
              </a:rPr>
              <a:t>You Can Reach 171.69 thru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0" name=""/>
          <p:cNvGraphicFramePr/>
          <p:nvPr/>
        </p:nvGraphicFramePr>
        <p:xfrm>
          <a:off x="914400" y="1447920"/>
          <a:ext cx="1371600" cy="1854000"/>
        </p:xfrm>
        <a:graphic>
          <a:graphicData uri="http://schemas.openxmlformats.org/drawingml/2006/table">
            <a:tbl>
              <a:tblPr/>
              <a:tblGrid>
                <a:gridCol w="876240"/>
                <a:gridCol w="49536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311" name=""/>
          <p:cNvSpPr/>
          <p:nvPr/>
        </p:nvSpPr>
        <p:spPr>
          <a:xfrm>
            <a:off x="2247480" y="40384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2" name="" descr=""/>
          <p:cNvPicPr/>
          <p:nvPr/>
        </p:nvPicPr>
        <p:blipFill>
          <a:blip r:embed="rId1"/>
          <a:stretch/>
        </p:blipFill>
        <p:spPr>
          <a:xfrm>
            <a:off x="1333440" y="411480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2313" name="" descr=""/>
          <p:cNvPicPr/>
          <p:nvPr/>
        </p:nvPicPr>
        <p:blipFill>
          <a:blip r:embed="rId2"/>
          <a:stretch/>
        </p:blipFill>
        <p:spPr>
          <a:xfrm>
            <a:off x="6667560" y="3657600"/>
            <a:ext cx="83808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4" name=""/>
          <p:cNvGraphicFramePr/>
          <p:nvPr/>
        </p:nvGraphicFramePr>
        <p:xfrm>
          <a:off x="3657600" y="1447920"/>
          <a:ext cx="1371600" cy="1854000"/>
        </p:xfrm>
        <a:graphic>
          <a:graphicData uri="http://schemas.openxmlformats.org/drawingml/2006/table">
            <a:tbl>
              <a:tblPr/>
              <a:tblGrid>
                <a:gridCol w="876240"/>
                <a:gridCol w="49536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grpSp>
        <p:nvGrpSpPr>
          <p:cNvPr id="2315" name=""/>
          <p:cNvGrpSpPr/>
          <p:nvPr/>
        </p:nvGrpSpPr>
        <p:grpSpPr>
          <a:xfrm>
            <a:off x="7962840" y="3581280"/>
            <a:ext cx="1181160" cy="712800"/>
            <a:chOff x="7962840" y="3581280"/>
            <a:chExt cx="1181160" cy="712800"/>
          </a:xfrm>
        </p:grpSpPr>
        <p:pic>
          <p:nvPicPr>
            <p:cNvPr id="2316" name="" descr=""/>
            <p:cNvPicPr/>
            <p:nvPr/>
          </p:nvPicPr>
          <p:blipFill>
            <a:blip r:embed="rId3"/>
            <a:stretch/>
          </p:blipFill>
          <p:spPr>
            <a:xfrm>
              <a:off x="7962840" y="358128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7" name=""/>
            <p:cNvSpPr/>
            <p:nvPr/>
          </p:nvSpPr>
          <p:spPr>
            <a:xfrm>
              <a:off x="8150040" y="377028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28.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7772400" y="5257800"/>
            <a:ext cx="1181160" cy="712800"/>
            <a:chOff x="7772400" y="5257800"/>
            <a:chExt cx="1181160" cy="712800"/>
          </a:xfrm>
        </p:grpSpPr>
        <p:pic>
          <p:nvPicPr>
            <p:cNvPr id="2319" name="" descr=""/>
            <p:cNvPicPr/>
            <p:nvPr/>
          </p:nvPicPr>
          <p:blipFill>
            <a:blip r:embed="rId4"/>
            <a:stretch/>
          </p:blipFill>
          <p:spPr>
            <a:xfrm>
              <a:off x="7772400" y="525780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>
              <a:off x="7959600" y="544680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71.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1" name=""/>
          <p:cNvGrpSpPr/>
          <p:nvPr/>
        </p:nvGrpSpPr>
        <p:grpSpPr>
          <a:xfrm>
            <a:off x="0" y="4419720"/>
            <a:ext cx="762120" cy="533160"/>
            <a:chOff x="0" y="4419720"/>
            <a:chExt cx="762120" cy="533160"/>
          </a:xfrm>
        </p:grpSpPr>
        <p:pic>
          <p:nvPicPr>
            <p:cNvPr id="2322" name="" descr=""/>
            <p:cNvPicPr/>
            <p:nvPr/>
          </p:nvPicPr>
          <p:blipFill>
            <a:blip r:embed="rId5"/>
            <a:stretch/>
          </p:blipFill>
          <p:spPr>
            <a:xfrm>
              <a:off x="0" y="4419720"/>
              <a:ext cx="7621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3" name=""/>
            <p:cNvSpPr/>
            <p:nvPr/>
          </p:nvSpPr>
          <p:spPr>
            <a:xfrm>
              <a:off x="87120" y="4560840"/>
              <a:ext cx="1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4" name="" descr=""/>
          <p:cNvPicPr/>
          <p:nvPr/>
        </p:nvPicPr>
        <p:blipFill>
          <a:blip r:embed="rId6"/>
          <a:stretch/>
        </p:blipFill>
        <p:spPr>
          <a:xfrm>
            <a:off x="5867280" y="5562720"/>
            <a:ext cx="838440" cy="457200"/>
          </a:xfrm>
          <a:prstGeom prst="rect">
            <a:avLst/>
          </a:prstGeom>
          <a:ln w="0">
            <a:noFill/>
          </a:ln>
        </p:spPr>
      </p:pic>
      <p:sp>
        <p:nvSpPr>
          <p:cNvPr id="2325" name=""/>
          <p:cNvSpPr/>
          <p:nvPr/>
        </p:nvSpPr>
        <p:spPr>
          <a:xfrm>
            <a:off x="6324120" y="365760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6" name="" descr=""/>
          <p:cNvPicPr/>
          <p:nvPr/>
        </p:nvPicPr>
        <p:blipFill>
          <a:blip r:embed="rId7"/>
          <a:stretch/>
        </p:blipFill>
        <p:spPr>
          <a:xfrm>
            <a:off x="7086600" y="6095880"/>
            <a:ext cx="83808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7" name=""/>
          <p:cNvGraphicFramePr/>
          <p:nvPr/>
        </p:nvGraphicFramePr>
        <p:xfrm>
          <a:off x="6324480" y="1447920"/>
          <a:ext cx="1371600" cy="1854000"/>
        </p:xfrm>
        <a:graphic>
          <a:graphicData uri="http://schemas.openxmlformats.org/drawingml/2006/table">
            <a:tbl>
              <a:tblPr/>
              <a:tblGrid>
                <a:gridCol w="876600"/>
                <a:gridCol w="49500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2328" name="" descr=""/>
          <p:cNvPicPr/>
          <p:nvPr/>
        </p:nvPicPr>
        <p:blipFill>
          <a:blip r:embed="rId8"/>
          <a:stretch/>
        </p:blipFill>
        <p:spPr>
          <a:xfrm>
            <a:off x="3924360" y="4292640"/>
            <a:ext cx="8380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"/>
          <p:cNvSpPr/>
          <p:nvPr/>
        </p:nvSpPr>
        <p:spPr>
          <a:xfrm>
            <a:off x="6095880" y="5672160"/>
            <a:ext cx="1295640" cy="6523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flipV="1">
            <a:off x="7467480" y="5714640"/>
            <a:ext cx="762120" cy="609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324480" y="3289320"/>
            <a:ext cx="1371600" cy="557280"/>
          </a:xfrm>
          <a:custGeom>
            <a:avLst/>
            <a:gdLst/>
            <a:ahLst/>
            <a:rect l="l" t="t" r="r" b="b"/>
            <a:pathLst>
              <a:path w="968" h="351">
                <a:moveTo>
                  <a:pt x="518" y="330"/>
                </a:moveTo>
                <a:lnTo>
                  <a:pt x="968" y="0"/>
                </a:lnTo>
                <a:lnTo>
                  <a:pt x="0" y="0"/>
                </a:lnTo>
                <a:lnTo>
                  <a:pt x="458" y="351"/>
                </a:lnTo>
                <a:lnTo>
                  <a:pt x="518" y="33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657600" y="3314880"/>
            <a:ext cx="1371600" cy="1039680"/>
          </a:xfrm>
          <a:custGeom>
            <a:avLst/>
            <a:gdLst/>
            <a:ahLst/>
            <a:rect l="l" t="t" r="r" b="b"/>
            <a:pathLst>
              <a:path w="954" h="655">
                <a:moveTo>
                  <a:pt x="510" y="615"/>
                </a:moveTo>
                <a:lnTo>
                  <a:pt x="954" y="0"/>
                </a:lnTo>
                <a:lnTo>
                  <a:pt x="0" y="0"/>
                </a:lnTo>
                <a:lnTo>
                  <a:pt x="450" y="655"/>
                </a:lnTo>
                <a:lnTo>
                  <a:pt x="510" y="61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914400" y="3314880"/>
            <a:ext cx="1371600" cy="1047600"/>
          </a:xfrm>
          <a:custGeom>
            <a:avLst/>
            <a:gdLst/>
            <a:ahLst/>
            <a:rect l="l" t="t" r="r" b="b"/>
            <a:pathLst>
              <a:path w="960" h="660">
                <a:moveTo>
                  <a:pt x="456" y="660"/>
                </a:moveTo>
                <a:lnTo>
                  <a:pt x="0" y="0"/>
                </a:lnTo>
                <a:lnTo>
                  <a:pt x="960" y="0"/>
                </a:lnTo>
                <a:lnTo>
                  <a:pt x="666" y="655"/>
                </a:lnTo>
                <a:lnTo>
                  <a:pt x="606" y="61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4" name=""/>
          <p:cNvGraphicFramePr/>
          <p:nvPr/>
        </p:nvGraphicFramePr>
        <p:xfrm>
          <a:off x="914400" y="1447920"/>
          <a:ext cx="1371600" cy="1854000"/>
        </p:xfrm>
        <a:graphic>
          <a:graphicData uri="http://schemas.openxmlformats.org/drawingml/2006/table">
            <a:tbl>
              <a:tblPr/>
              <a:tblGrid>
                <a:gridCol w="876240"/>
                <a:gridCol w="49536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00"/>
                    </a:soli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335" name=""/>
          <p:cNvGraphicFramePr/>
          <p:nvPr/>
        </p:nvGraphicFramePr>
        <p:xfrm>
          <a:off x="3657600" y="1447920"/>
          <a:ext cx="1371600" cy="1854000"/>
        </p:xfrm>
        <a:graphic>
          <a:graphicData uri="http://schemas.openxmlformats.org/drawingml/2006/table">
            <a:tbl>
              <a:tblPr/>
              <a:tblGrid>
                <a:gridCol w="876240"/>
                <a:gridCol w="49536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00"/>
                    </a:soli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1.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336" name=""/>
          <p:cNvSpPr/>
          <p:nvPr/>
        </p:nvSpPr>
        <p:spPr>
          <a:xfrm flipV="1">
            <a:off x="533520" y="4343040"/>
            <a:ext cx="990360" cy="2286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7156440" y="3930480"/>
            <a:ext cx="12762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4529160" y="4692600"/>
            <a:ext cx="1652400" cy="118584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4379760" y="3930480"/>
            <a:ext cx="2552760" cy="4240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2127240" y="4354560"/>
            <a:ext cx="24764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586040" y="489744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876560" y="392436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7505280" y="35812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722320" y="5878440"/>
            <a:ext cx="3097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You Can Reach 171.69 thru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247480" y="403848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6" name="" descr=""/>
          <p:cNvPicPr/>
          <p:nvPr/>
        </p:nvPicPr>
        <p:blipFill>
          <a:blip r:embed="rId1"/>
          <a:stretch/>
        </p:blipFill>
        <p:spPr>
          <a:xfrm>
            <a:off x="1333440" y="411480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2347" name="" descr=""/>
          <p:cNvPicPr/>
          <p:nvPr/>
        </p:nvPicPr>
        <p:blipFill>
          <a:blip r:embed="rId2"/>
          <a:stretch/>
        </p:blipFill>
        <p:spPr>
          <a:xfrm>
            <a:off x="6667560" y="3657600"/>
            <a:ext cx="838080" cy="457200"/>
          </a:xfrm>
          <a:prstGeom prst="rect">
            <a:avLst/>
          </a:prstGeom>
          <a:ln w="0">
            <a:noFill/>
          </a:ln>
        </p:spPr>
      </p:pic>
      <p:grpSp>
        <p:nvGrpSpPr>
          <p:cNvPr id="2348" name=""/>
          <p:cNvGrpSpPr/>
          <p:nvPr/>
        </p:nvGrpSpPr>
        <p:grpSpPr>
          <a:xfrm>
            <a:off x="7962840" y="3581280"/>
            <a:ext cx="1181160" cy="712800"/>
            <a:chOff x="7962840" y="3581280"/>
            <a:chExt cx="1181160" cy="712800"/>
          </a:xfrm>
        </p:grpSpPr>
        <p:pic>
          <p:nvPicPr>
            <p:cNvPr id="2349" name="" descr=""/>
            <p:cNvPicPr/>
            <p:nvPr/>
          </p:nvPicPr>
          <p:blipFill>
            <a:blip r:embed="rId3"/>
            <a:stretch/>
          </p:blipFill>
          <p:spPr>
            <a:xfrm>
              <a:off x="7962840" y="358128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0" name=""/>
            <p:cNvSpPr/>
            <p:nvPr/>
          </p:nvSpPr>
          <p:spPr>
            <a:xfrm>
              <a:off x="8150040" y="377028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28.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1" name=""/>
          <p:cNvGrpSpPr/>
          <p:nvPr/>
        </p:nvGrpSpPr>
        <p:grpSpPr>
          <a:xfrm>
            <a:off x="0" y="4419720"/>
            <a:ext cx="762120" cy="533160"/>
            <a:chOff x="0" y="4419720"/>
            <a:chExt cx="762120" cy="533160"/>
          </a:xfrm>
        </p:grpSpPr>
        <p:pic>
          <p:nvPicPr>
            <p:cNvPr id="2352" name="" descr=""/>
            <p:cNvPicPr/>
            <p:nvPr/>
          </p:nvPicPr>
          <p:blipFill>
            <a:blip r:embed="rId4"/>
            <a:stretch/>
          </p:blipFill>
          <p:spPr>
            <a:xfrm>
              <a:off x="0" y="4419720"/>
              <a:ext cx="7621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3" name=""/>
            <p:cNvSpPr/>
            <p:nvPr/>
          </p:nvSpPr>
          <p:spPr>
            <a:xfrm>
              <a:off x="87120" y="4560840"/>
              <a:ext cx="1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4" name=""/>
          <p:cNvSpPr/>
          <p:nvPr/>
        </p:nvSpPr>
        <p:spPr>
          <a:xfrm>
            <a:off x="762120" y="4952880"/>
            <a:ext cx="75060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666880" y="4572000"/>
            <a:ext cx="75096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0" y="5877000"/>
            <a:ext cx="266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ackets Forwarded Based on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2590920" y="5181480"/>
            <a:ext cx="380880" cy="53352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562720" y="4343400"/>
            <a:ext cx="75060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696080" y="4343400"/>
            <a:ext cx="750960" cy="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0" name="" descr=""/>
          <p:cNvPicPr/>
          <p:nvPr/>
        </p:nvPicPr>
        <p:blipFill>
          <a:blip r:embed="rId5"/>
          <a:stretch/>
        </p:blipFill>
        <p:spPr>
          <a:xfrm>
            <a:off x="5867280" y="5562720"/>
            <a:ext cx="8384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1" name=""/>
          <p:cNvGraphicFramePr/>
          <p:nvPr/>
        </p:nvGraphicFramePr>
        <p:xfrm>
          <a:off x="6324480" y="1447920"/>
          <a:ext cx="1371600" cy="1854000"/>
        </p:xfrm>
        <a:graphic>
          <a:graphicData uri="http://schemas.openxmlformats.org/drawingml/2006/table">
            <a:tbl>
              <a:tblPr/>
              <a:tblGrid>
                <a:gridCol w="876600"/>
                <a:gridCol w="495000"/>
              </a:tblGrid>
              <a:tr h="47628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t</a:t>
                      </a:r>
                      <a:br>
                        <a:rPr sz="1300"/>
                      </a:b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3812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00"/>
                    </a:soli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  <a:tr h="469800"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872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73080" rIns="7308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AU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gradFill rotWithShape="0">
                      <a:gsLst>
                        <a:gs pos="0">
                          <a:srgbClr val="755e00"/>
                        </a:gs>
                        <a:gs pos="50000">
                          <a:srgbClr val="ffcc00"/>
                        </a:gs>
                        <a:gs pos="100000">
                          <a:srgbClr val="755e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362" name=""/>
          <p:cNvSpPr/>
          <p:nvPr/>
        </p:nvSpPr>
        <p:spPr>
          <a:xfrm>
            <a:off x="6324120" y="3657600"/>
            <a:ext cx="2595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3" name=""/>
          <p:cNvGrpSpPr/>
          <p:nvPr/>
        </p:nvGrpSpPr>
        <p:grpSpPr>
          <a:xfrm>
            <a:off x="7772400" y="5257800"/>
            <a:ext cx="1181160" cy="712800"/>
            <a:chOff x="7772400" y="5257800"/>
            <a:chExt cx="1181160" cy="712800"/>
          </a:xfrm>
        </p:grpSpPr>
        <p:pic>
          <p:nvPicPr>
            <p:cNvPr id="2364" name="" descr=""/>
            <p:cNvPicPr/>
            <p:nvPr/>
          </p:nvPicPr>
          <p:blipFill>
            <a:blip r:embed="rId6"/>
            <a:stretch/>
          </p:blipFill>
          <p:spPr>
            <a:xfrm>
              <a:off x="7772400" y="5257800"/>
              <a:ext cx="1181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"/>
            <p:cNvSpPr/>
            <p:nvPr/>
          </p:nvSpPr>
          <p:spPr>
            <a:xfrm>
              <a:off x="7959600" y="544680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71.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66" name="" descr=""/>
          <p:cNvPicPr/>
          <p:nvPr/>
        </p:nvPicPr>
        <p:blipFill>
          <a:blip r:embed="rId7"/>
          <a:stretch/>
        </p:blipFill>
        <p:spPr>
          <a:xfrm>
            <a:off x="7086600" y="6095880"/>
            <a:ext cx="838080" cy="457200"/>
          </a:xfrm>
          <a:prstGeom prst="rect">
            <a:avLst/>
          </a:prstGeom>
          <a:ln w="0">
            <a:noFill/>
          </a:ln>
        </p:spPr>
      </p:pic>
      <p:sp>
        <p:nvSpPr>
          <p:cNvPr id="2367" name=""/>
          <p:cNvSpPr/>
          <p:nvPr/>
        </p:nvSpPr>
        <p:spPr>
          <a:xfrm>
            <a:off x="2133720" y="4759200"/>
            <a:ext cx="500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8" name=""/>
          <p:cNvGrpSpPr/>
          <p:nvPr/>
        </p:nvGrpSpPr>
        <p:grpSpPr>
          <a:xfrm>
            <a:off x="2057400" y="4648320"/>
            <a:ext cx="1905120" cy="339480"/>
            <a:chOff x="2057400" y="4648320"/>
            <a:chExt cx="1905120" cy="339480"/>
          </a:xfrm>
        </p:grpSpPr>
        <p:sp>
          <p:nvSpPr>
            <p:cNvPr id="2369" name=""/>
            <p:cNvSpPr/>
            <p:nvPr/>
          </p:nvSpPr>
          <p:spPr>
            <a:xfrm>
              <a:off x="2065320" y="4648320"/>
              <a:ext cx="1200240" cy="339480"/>
            </a:xfrm>
            <a:prstGeom prst="rect">
              <a:avLst/>
            </a:prstGeom>
            <a:gradFill rotWithShape="0">
              <a:gsLst>
                <a:gs pos="0">
                  <a:srgbClr val="00493f"/>
                </a:gs>
                <a:gs pos="50000">
                  <a:srgbClr val="00a089"/>
                </a:gs>
                <a:gs pos="100000">
                  <a:srgbClr val="00493f"/>
                </a:gs>
              </a:gsLst>
              <a:lin ang="13500000"/>
            </a:gradFill>
            <a:ln w="93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057400" y="4648320"/>
              <a:ext cx="1176480" cy="309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128.89.25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276720" y="4648320"/>
              <a:ext cx="685800" cy="339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2" name=""/>
          <p:cNvGrpSpPr/>
          <p:nvPr/>
        </p:nvGrpSpPr>
        <p:grpSpPr>
          <a:xfrm>
            <a:off x="76320" y="5070600"/>
            <a:ext cx="1904400" cy="339480"/>
            <a:chOff x="76320" y="5070600"/>
            <a:chExt cx="1904400" cy="339480"/>
          </a:xfrm>
        </p:grpSpPr>
        <p:sp>
          <p:nvSpPr>
            <p:cNvPr id="2373" name=""/>
            <p:cNvSpPr/>
            <p:nvPr/>
          </p:nvSpPr>
          <p:spPr>
            <a:xfrm>
              <a:off x="83880" y="5070600"/>
              <a:ext cx="1199880" cy="339480"/>
            </a:xfrm>
            <a:prstGeom prst="rect">
              <a:avLst/>
            </a:prstGeom>
            <a:gradFill rotWithShape="0">
              <a:gsLst>
                <a:gs pos="0">
                  <a:srgbClr val="00493f"/>
                </a:gs>
                <a:gs pos="50000">
                  <a:srgbClr val="00a089"/>
                </a:gs>
                <a:gs pos="100000">
                  <a:srgbClr val="00493f"/>
                </a:gs>
              </a:gsLst>
              <a:lin ang="13500000"/>
            </a:gradFill>
            <a:ln w="93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6320" y="5070600"/>
              <a:ext cx="1176120" cy="309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128.89.25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295280" y="5070600"/>
              <a:ext cx="685440" cy="339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6" name=""/>
          <p:cNvGrpSpPr/>
          <p:nvPr/>
        </p:nvGrpSpPr>
        <p:grpSpPr>
          <a:xfrm>
            <a:off x="5029200" y="4495680"/>
            <a:ext cx="1905120" cy="339840"/>
            <a:chOff x="5029200" y="4495680"/>
            <a:chExt cx="1905120" cy="339840"/>
          </a:xfrm>
        </p:grpSpPr>
        <p:sp>
          <p:nvSpPr>
            <p:cNvPr id="2377" name=""/>
            <p:cNvSpPr/>
            <p:nvPr/>
          </p:nvSpPr>
          <p:spPr>
            <a:xfrm>
              <a:off x="5037120" y="4495680"/>
              <a:ext cx="1200240" cy="339840"/>
            </a:xfrm>
            <a:prstGeom prst="rect">
              <a:avLst/>
            </a:prstGeom>
            <a:gradFill rotWithShape="0">
              <a:gsLst>
                <a:gs pos="0">
                  <a:srgbClr val="00493f"/>
                </a:gs>
                <a:gs pos="50000">
                  <a:srgbClr val="00a089"/>
                </a:gs>
                <a:gs pos="100000">
                  <a:srgbClr val="00493f"/>
                </a:gs>
              </a:gsLst>
              <a:lin ang="13500000"/>
            </a:gradFill>
            <a:ln w="93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029200" y="4495680"/>
              <a:ext cx="1176480" cy="30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128.89.25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48520" y="4495680"/>
              <a:ext cx="685800" cy="339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7238880" y="4495680"/>
            <a:ext cx="1905120" cy="339840"/>
            <a:chOff x="7238880" y="4495680"/>
            <a:chExt cx="1905120" cy="339840"/>
          </a:xfrm>
        </p:grpSpPr>
        <p:sp>
          <p:nvSpPr>
            <p:cNvPr id="2381" name=""/>
            <p:cNvSpPr/>
            <p:nvPr/>
          </p:nvSpPr>
          <p:spPr>
            <a:xfrm>
              <a:off x="7246800" y="4495680"/>
              <a:ext cx="1200240" cy="339840"/>
            </a:xfrm>
            <a:prstGeom prst="rect">
              <a:avLst/>
            </a:prstGeom>
            <a:gradFill rotWithShape="0">
              <a:gsLst>
                <a:gs pos="0">
                  <a:srgbClr val="00493f"/>
                </a:gs>
                <a:gs pos="50000">
                  <a:srgbClr val="00a089"/>
                </a:gs>
                <a:gs pos="100000">
                  <a:srgbClr val="00493f"/>
                </a:gs>
              </a:gsLst>
              <a:lin ang="13500000"/>
            </a:gradFill>
            <a:ln w="93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238880" y="4495680"/>
              <a:ext cx="1176480" cy="30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128.89.25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458200" y="4495680"/>
              <a:ext cx="685800" cy="339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a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  <a:ea typeface="PMingLiU"/>
              </a:rPr>
              <a:t>ENRUTAMIENTO TRADICION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85" name="" descr=""/>
          <p:cNvPicPr/>
          <p:nvPr/>
        </p:nvPicPr>
        <p:blipFill>
          <a:blip r:embed="rId8"/>
          <a:stretch/>
        </p:blipFill>
        <p:spPr>
          <a:xfrm>
            <a:off x="3924360" y="4221000"/>
            <a:ext cx="8380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/>
          <p:nvPr/>
        </p:nvSpPr>
        <p:spPr>
          <a:xfrm>
            <a:off x="0" y="1676520"/>
            <a:ext cx="72388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TABLA DE ENRUTAMIENT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388" name=""/>
          <p:cNvGrpSpPr/>
          <p:nvPr/>
        </p:nvGrpSpPr>
        <p:grpSpPr>
          <a:xfrm>
            <a:off x="3124080" y="2209680"/>
            <a:ext cx="2411280" cy="2057040"/>
            <a:chOff x="3124080" y="2209680"/>
            <a:chExt cx="2411280" cy="2057040"/>
          </a:xfrm>
        </p:grpSpPr>
        <p:sp>
          <p:nvSpPr>
            <p:cNvPr id="2389" name=""/>
            <p:cNvSpPr/>
            <p:nvPr/>
          </p:nvSpPr>
          <p:spPr>
            <a:xfrm>
              <a:off x="3124080" y="2209680"/>
              <a:ext cx="2411280" cy="20570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3672000" y="3148560"/>
              <a:ext cx="1674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RAME R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91" name=""/>
          <p:cNvGraphicFramePr/>
          <p:nvPr/>
        </p:nvGraphicFramePr>
        <p:xfrm>
          <a:off x="150840" y="1039680"/>
          <a:ext cx="96660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1039680"/>
                    <a:ext cx="9666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3" name=""/>
          <p:cNvSpPr/>
          <p:nvPr/>
        </p:nvSpPr>
        <p:spPr>
          <a:xfrm>
            <a:off x="1270080" y="81756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4" name=""/>
          <p:cNvGraphicFramePr/>
          <p:nvPr/>
        </p:nvGraphicFramePr>
        <p:xfrm>
          <a:off x="76320" y="2486160"/>
          <a:ext cx="96660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486160"/>
                    <a:ext cx="96660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6" name=""/>
          <p:cNvSpPr/>
          <p:nvPr/>
        </p:nvSpPr>
        <p:spPr>
          <a:xfrm>
            <a:off x="129528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-1080" y="762120"/>
            <a:ext cx="9896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1.0.1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74880" y="2928960"/>
            <a:ext cx="11937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1.0.10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90600" y="195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971640" y="126216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896760" y="2652840"/>
            <a:ext cx="37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2" name=""/>
          <p:cNvGraphicFramePr/>
          <p:nvPr/>
        </p:nvGraphicFramePr>
        <p:xfrm>
          <a:off x="7510320" y="838080"/>
          <a:ext cx="94788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10320" y="838080"/>
                    <a:ext cx="947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4" name=""/>
          <p:cNvGraphicFramePr/>
          <p:nvPr/>
        </p:nvGraphicFramePr>
        <p:xfrm>
          <a:off x="7510320" y="2514600"/>
          <a:ext cx="94788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10320" y="2514600"/>
                    <a:ext cx="9478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6" name=""/>
          <p:cNvSpPr/>
          <p:nvPr/>
        </p:nvSpPr>
        <p:spPr>
          <a:xfrm>
            <a:off x="7595280" y="40464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2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7037280" y="762120"/>
            <a:ext cx="0" cy="21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324480" y="169380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7666920" y="306864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2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620120" y="1922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010280" y="2836800"/>
            <a:ext cx="3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590920" y="198108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V="1">
            <a:off x="5029200" y="2057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5105520" y="5791320"/>
            <a:ext cx="40384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8000280" y="658188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3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6" name=""/>
          <p:cNvGraphicFramePr/>
          <p:nvPr/>
        </p:nvGraphicFramePr>
        <p:xfrm>
          <a:off x="8077320" y="5943600"/>
          <a:ext cx="947520" cy="54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77320" y="5943600"/>
                    <a:ext cx="947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8" name=""/>
          <p:cNvGraphicFramePr/>
          <p:nvPr/>
        </p:nvGraphicFramePr>
        <p:xfrm>
          <a:off x="5181480" y="6019920"/>
          <a:ext cx="947880" cy="54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81480" y="6019920"/>
                    <a:ext cx="9478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0" name=""/>
          <p:cNvSpPr/>
          <p:nvPr/>
        </p:nvSpPr>
        <p:spPr>
          <a:xfrm>
            <a:off x="5257080" y="658188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3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 flipV="1">
            <a:off x="3428640" y="2895120"/>
            <a:ext cx="3352680" cy="1752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3429000" y="24382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666880" y="1981080"/>
            <a:ext cx="7621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590920" y="205740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180040" y="2286000"/>
            <a:ext cx="933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200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6247080" y="4038480"/>
            <a:ext cx="11937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201.0.2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34960" y="137160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7773840" y="129528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293840" y="914400"/>
            <a:ext cx="933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0.0.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818080" y="1905120"/>
            <a:ext cx="933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200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132280" y="2362320"/>
            <a:ext cx="933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201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6934320" y="5409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5627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85345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1447920" y="2209320"/>
            <a:ext cx="53316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7200" y="4419720"/>
            <a:ext cx="40273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TINO  RUTA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ET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.2.0.0/16  10.200.0.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.3.0.0/16  10.201.0.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.1.0.0/16    DIRECT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.200.0.0/16   DIRECT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.201.0.0/16   DIRECT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7020360" y="177336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D: 10.2.0.0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085080" y="602136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D: 10.3.0.0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251280" y="33336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D: 10.1.0.0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0" name="" descr=""/>
          <p:cNvPicPr/>
          <p:nvPr/>
        </p:nvPicPr>
        <p:blipFill>
          <a:blip r:embed="rId13"/>
          <a:stretch/>
        </p:blipFill>
        <p:spPr>
          <a:xfrm>
            <a:off x="6659640" y="4703760"/>
            <a:ext cx="720720" cy="511200"/>
          </a:xfrm>
          <a:prstGeom prst="rect">
            <a:avLst/>
          </a:prstGeom>
          <a:ln w="0">
            <a:noFill/>
          </a:ln>
        </p:spPr>
      </p:pic>
      <p:pic>
        <p:nvPicPr>
          <p:cNvPr id="2441" name="" descr=""/>
          <p:cNvPicPr/>
          <p:nvPr/>
        </p:nvPicPr>
        <p:blipFill>
          <a:blip r:embed="rId14"/>
          <a:stretch/>
        </p:blipFill>
        <p:spPr>
          <a:xfrm>
            <a:off x="5651640" y="1644480"/>
            <a:ext cx="720720" cy="511200"/>
          </a:xfrm>
          <a:prstGeom prst="rect">
            <a:avLst/>
          </a:prstGeom>
          <a:ln w="0">
            <a:noFill/>
          </a:ln>
        </p:spPr>
      </p:pic>
      <p:pic>
        <p:nvPicPr>
          <p:cNvPr id="2442" name="" descr=""/>
          <p:cNvPicPr/>
          <p:nvPr/>
        </p:nvPicPr>
        <p:blipFill>
          <a:blip r:embed="rId15"/>
          <a:stretch/>
        </p:blipFill>
        <p:spPr>
          <a:xfrm>
            <a:off x="1908000" y="1413000"/>
            <a:ext cx="72108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ALTERNATIVA A MPLS:  IP PUR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61048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squema basado en enrutadores convencionales de alto desempeño con características como DiffServ, RSVP, entre otra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Con equipos de enrutamiento convencional el Carrier recibe los paquetes del cliente que deben ser enrutados entre los siti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El cliente origina túneles VPN utilizando tecnologías como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Túneles GR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Túneles IPSE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odelo actual de Interne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 rot="90600">
            <a:off x="4266720" y="41907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rot="5577000">
            <a:off x="3423960" y="292104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rot="15408000">
            <a:off x="4900320" y="2955240"/>
            <a:ext cx="685800" cy="622440"/>
          </a:xfrm>
          <a:prstGeom prst="triangle">
            <a:avLst>
              <a:gd name="adj" fmla="val 50000"/>
            </a:avLst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211640" y="33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140360" y="3357720"/>
            <a:ext cx="507960" cy="83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V="1">
            <a:off x="4648320" y="3357360"/>
            <a:ext cx="284040" cy="83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661560" y="25909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ET/S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133720" y="1371600"/>
            <a:ext cx="4647960" cy="396252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3" name=""/>
          <p:cNvGraphicFramePr/>
          <p:nvPr/>
        </p:nvGraphicFramePr>
        <p:xfrm>
          <a:off x="1371600" y="3657600"/>
          <a:ext cx="533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5" name=""/>
          <p:cNvSpPr/>
          <p:nvPr/>
        </p:nvSpPr>
        <p:spPr>
          <a:xfrm flipV="1">
            <a:off x="1692360" y="328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6" name=""/>
          <p:cNvGraphicFramePr/>
          <p:nvPr/>
        </p:nvGraphicFramePr>
        <p:xfrm>
          <a:off x="3886200" y="5410080"/>
          <a:ext cx="5335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410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8" name=""/>
          <p:cNvGraphicFramePr/>
          <p:nvPr/>
        </p:nvGraphicFramePr>
        <p:xfrm>
          <a:off x="6012000" y="119700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19700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0" name=""/>
          <p:cNvSpPr/>
          <p:nvPr/>
        </p:nvSpPr>
        <p:spPr>
          <a:xfrm flipH="1">
            <a:off x="41911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67760" y="44956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o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1066680" y="476280"/>
            <a:ext cx="7010640" cy="607680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2591640" y="55864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509440" y="62064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7020000" y="3141720"/>
            <a:ext cx="3808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724280" y="50292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867640" y="495288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8" name=""/>
          <p:cNvGraphicFramePr/>
          <p:nvPr/>
        </p:nvGraphicFramePr>
        <p:xfrm>
          <a:off x="228600" y="4572000"/>
          <a:ext cx="5857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572000"/>
                    <a:ext cx="5857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0" name=""/>
          <p:cNvSpPr/>
          <p:nvPr/>
        </p:nvSpPr>
        <p:spPr>
          <a:xfrm flipV="1">
            <a:off x="533520" y="42667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228600" y="2362320"/>
            <a:ext cx="608760" cy="456120"/>
            <a:chOff x="228600" y="2362320"/>
            <a:chExt cx="608760" cy="456120"/>
          </a:xfrm>
        </p:grpSpPr>
        <p:grpSp>
          <p:nvGrpSpPr>
            <p:cNvPr id="2472" name=""/>
            <p:cNvGrpSpPr/>
            <p:nvPr/>
          </p:nvGrpSpPr>
          <p:grpSpPr>
            <a:xfrm>
              <a:off x="228600" y="2362320"/>
              <a:ext cx="608760" cy="456120"/>
              <a:chOff x="228600" y="2362320"/>
              <a:chExt cx="608760" cy="456120"/>
            </a:xfrm>
          </p:grpSpPr>
          <p:sp>
            <p:nvSpPr>
              <p:cNvPr id="2473" name=""/>
              <p:cNvSpPr/>
              <p:nvPr/>
            </p:nvSpPr>
            <p:spPr>
              <a:xfrm>
                <a:off x="251280" y="2367720"/>
                <a:ext cx="332280" cy="3146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92320" y="2566080"/>
                <a:ext cx="293760" cy="187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5" name=""/>
              <p:cNvGrpSpPr/>
              <p:nvPr/>
            </p:nvGrpSpPr>
            <p:grpSpPr>
              <a:xfrm>
                <a:off x="228600" y="2571480"/>
                <a:ext cx="347040" cy="246240"/>
                <a:chOff x="228600" y="2571480"/>
                <a:chExt cx="347040" cy="246240"/>
              </a:xfrm>
            </p:grpSpPr>
            <p:sp>
              <p:nvSpPr>
                <p:cNvPr id="2476" name=""/>
                <p:cNvSpPr/>
                <p:nvPr/>
              </p:nvSpPr>
              <p:spPr>
                <a:xfrm>
                  <a:off x="269280" y="2620080"/>
                  <a:ext cx="296280" cy="151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263880" y="2638800"/>
                  <a:ext cx="273240" cy="162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228600" y="2571480"/>
                  <a:ext cx="60840" cy="1105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517320" y="2709000"/>
                  <a:ext cx="58320" cy="108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0" name=""/>
              <p:cNvSpPr/>
              <p:nvPr/>
            </p:nvSpPr>
            <p:spPr>
              <a:xfrm>
                <a:off x="537840" y="2468160"/>
                <a:ext cx="299520" cy="3502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04920" y="2375640"/>
                <a:ext cx="504000" cy="3178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53320" y="2462400"/>
                <a:ext cx="284040" cy="2581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267120" y="2362320"/>
                <a:ext cx="316800" cy="2199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4" name=""/>
            <p:cNvGrpSpPr/>
            <p:nvPr/>
          </p:nvGrpSpPr>
          <p:grpSpPr>
            <a:xfrm>
              <a:off x="299880" y="2631600"/>
              <a:ext cx="214200" cy="111960"/>
              <a:chOff x="299880" y="2631600"/>
              <a:chExt cx="214200" cy="111960"/>
            </a:xfrm>
          </p:grpSpPr>
          <p:grpSp>
            <p:nvGrpSpPr>
              <p:cNvPr id="2485" name=""/>
              <p:cNvGrpSpPr/>
              <p:nvPr/>
            </p:nvGrpSpPr>
            <p:grpSpPr>
              <a:xfrm>
                <a:off x="299880" y="2631600"/>
                <a:ext cx="6840" cy="9360"/>
                <a:chOff x="299880" y="2631600"/>
                <a:chExt cx="6840" cy="9360"/>
              </a:xfrm>
            </p:grpSpPr>
            <p:sp>
              <p:nvSpPr>
                <p:cNvPr id="2486" name=""/>
                <p:cNvSpPr/>
                <p:nvPr/>
              </p:nvSpPr>
              <p:spPr>
                <a:xfrm>
                  <a:off x="299880" y="2635920"/>
                  <a:ext cx="684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299880" y="2631600"/>
                  <a:ext cx="684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8" name=""/>
              <p:cNvGrpSpPr/>
              <p:nvPr/>
            </p:nvGrpSpPr>
            <p:grpSpPr>
              <a:xfrm>
                <a:off x="353160" y="2652840"/>
                <a:ext cx="160920" cy="90720"/>
                <a:chOff x="353160" y="2652840"/>
                <a:chExt cx="160920" cy="90720"/>
              </a:xfrm>
            </p:grpSpPr>
            <p:grpSp>
              <p:nvGrpSpPr>
                <p:cNvPr id="2489" name=""/>
                <p:cNvGrpSpPr/>
                <p:nvPr/>
              </p:nvGrpSpPr>
              <p:grpSpPr>
                <a:xfrm>
                  <a:off x="353160" y="2660760"/>
                  <a:ext cx="160920" cy="82800"/>
                  <a:chOff x="353160" y="2660760"/>
                  <a:chExt cx="160920" cy="82800"/>
                </a:xfrm>
              </p:grpSpPr>
              <p:sp>
                <p:nvSpPr>
                  <p:cNvPr id="2490" name=""/>
                  <p:cNvSpPr/>
                  <p:nvPr/>
                </p:nvSpPr>
                <p:spPr>
                  <a:xfrm>
                    <a:off x="484200" y="2722680"/>
                    <a:ext cx="504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>
                    <a:off x="378000" y="2674080"/>
                    <a:ext cx="972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430920" y="269820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456120" y="2711520"/>
                    <a:ext cx="792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403200" y="268488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353160" y="2660760"/>
                    <a:ext cx="720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>
                    <a:off x="504000" y="2736000"/>
                    <a:ext cx="1008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7" name=""/>
                <p:cNvGrpSpPr/>
                <p:nvPr/>
              </p:nvGrpSpPr>
              <p:grpSpPr>
                <a:xfrm>
                  <a:off x="353160" y="2652840"/>
                  <a:ext cx="160200" cy="87120"/>
                  <a:chOff x="353160" y="2652840"/>
                  <a:chExt cx="160200" cy="87120"/>
                </a:xfrm>
              </p:grpSpPr>
              <p:grpSp>
                <p:nvGrpSpPr>
                  <p:cNvPr id="2498" name=""/>
                  <p:cNvGrpSpPr/>
                  <p:nvPr/>
                </p:nvGrpSpPr>
                <p:grpSpPr>
                  <a:xfrm>
                    <a:off x="378000" y="2666160"/>
                    <a:ext cx="135360" cy="73800"/>
                    <a:chOff x="378000" y="2666160"/>
                    <a:chExt cx="135360" cy="73800"/>
                  </a:xfrm>
                </p:grpSpPr>
                <p:sp>
                  <p:nvSpPr>
                    <p:cNvPr id="2499" name=""/>
                    <p:cNvSpPr/>
                    <p:nvPr/>
                  </p:nvSpPr>
                  <p:spPr>
                    <a:xfrm>
                      <a:off x="506160" y="2729880"/>
                      <a:ext cx="72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0" name=""/>
                    <p:cNvSpPr/>
                    <p:nvPr/>
                  </p:nvSpPr>
                  <p:spPr>
                    <a:xfrm>
                      <a:off x="402840" y="2676960"/>
                      <a:ext cx="9360" cy="12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1" name=""/>
                    <p:cNvSpPr/>
                    <p:nvPr/>
                  </p:nvSpPr>
                  <p:spPr>
                    <a:xfrm>
                      <a:off x="455400" y="270360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2" name=""/>
                    <p:cNvSpPr/>
                    <p:nvPr/>
                  </p:nvSpPr>
                  <p:spPr>
                    <a:xfrm>
                      <a:off x="480600" y="271656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3" name=""/>
                    <p:cNvSpPr/>
                    <p:nvPr/>
                  </p:nvSpPr>
                  <p:spPr>
                    <a:xfrm>
                      <a:off x="428040" y="2690280"/>
                      <a:ext cx="93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4" name=""/>
                    <p:cNvSpPr/>
                    <p:nvPr/>
                  </p:nvSpPr>
                  <p:spPr>
                    <a:xfrm>
                      <a:off x="378000" y="266616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05" name=""/>
                  <p:cNvSpPr/>
                  <p:nvPr/>
                </p:nvSpPr>
                <p:spPr>
                  <a:xfrm>
                    <a:off x="353160" y="2652840"/>
                    <a:ext cx="72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506" name=""/>
          <p:cNvSpPr/>
          <p:nvPr/>
        </p:nvSpPr>
        <p:spPr>
          <a:xfrm flipV="1">
            <a:off x="762120" y="2565000"/>
            <a:ext cx="10015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8229600" y="2057400"/>
            <a:ext cx="608760" cy="456120"/>
            <a:chOff x="8229600" y="2057400"/>
            <a:chExt cx="608760" cy="456120"/>
          </a:xfrm>
        </p:grpSpPr>
        <p:grpSp>
          <p:nvGrpSpPr>
            <p:cNvPr id="2508" name=""/>
            <p:cNvGrpSpPr/>
            <p:nvPr/>
          </p:nvGrpSpPr>
          <p:grpSpPr>
            <a:xfrm>
              <a:off x="8229600" y="2057400"/>
              <a:ext cx="608760" cy="456120"/>
              <a:chOff x="8229600" y="2057400"/>
              <a:chExt cx="608760" cy="456120"/>
            </a:xfrm>
          </p:grpSpPr>
          <p:sp>
            <p:nvSpPr>
              <p:cNvPr id="2509" name=""/>
              <p:cNvSpPr/>
              <p:nvPr/>
            </p:nvSpPr>
            <p:spPr>
              <a:xfrm>
                <a:off x="8252280" y="2062800"/>
                <a:ext cx="332280" cy="3146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8293320" y="2261160"/>
                <a:ext cx="293760" cy="187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1" name=""/>
              <p:cNvGrpSpPr/>
              <p:nvPr/>
            </p:nvGrpSpPr>
            <p:grpSpPr>
              <a:xfrm>
                <a:off x="8229600" y="2266560"/>
                <a:ext cx="347040" cy="246240"/>
                <a:chOff x="8229600" y="2266560"/>
                <a:chExt cx="347040" cy="246240"/>
              </a:xfrm>
            </p:grpSpPr>
            <p:sp>
              <p:nvSpPr>
                <p:cNvPr id="2512" name=""/>
                <p:cNvSpPr/>
                <p:nvPr/>
              </p:nvSpPr>
              <p:spPr>
                <a:xfrm>
                  <a:off x="8270280" y="2315160"/>
                  <a:ext cx="296280" cy="151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8264880" y="2333880"/>
                  <a:ext cx="273240" cy="162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8229600" y="2266560"/>
                  <a:ext cx="60840" cy="1105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8518320" y="2404080"/>
                  <a:ext cx="58320" cy="108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6" name=""/>
              <p:cNvSpPr/>
              <p:nvPr/>
            </p:nvSpPr>
            <p:spPr>
              <a:xfrm>
                <a:off x="8538840" y="2163240"/>
                <a:ext cx="299520" cy="3502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305920" y="2070720"/>
                <a:ext cx="504000" cy="3178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554320" y="2157480"/>
                <a:ext cx="284040" cy="2581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68120" y="2057400"/>
                <a:ext cx="316800" cy="2199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0" name=""/>
            <p:cNvGrpSpPr/>
            <p:nvPr/>
          </p:nvGrpSpPr>
          <p:grpSpPr>
            <a:xfrm>
              <a:off x="8300880" y="2326680"/>
              <a:ext cx="214200" cy="111960"/>
              <a:chOff x="8300880" y="2326680"/>
              <a:chExt cx="214200" cy="111960"/>
            </a:xfrm>
          </p:grpSpPr>
          <p:grpSp>
            <p:nvGrpSpPr>
              <p:cNvPr id="2521" name=""/>
              <p:cNvGrpSpPr/>
              <p:nvPr/>
            </p:nvGrpSpPr>
            <p:grpSpPr>
              <a:xfrm>
                <a:off x="8300880" y="2326680"/>
                <a:ext cx="6840" cy="9360"/>
                <a:chOff x="8300880" y="2326680"/>
                <a:chExt cx="6840" cy="9360"/>
              </a:xfrm>
            </p:grpSpPr>
            <p:sp>
              <p:nvSpPr>
                <p:cNvPr id="2522" name=""/>
                <p:cNvSpPr/>
                <p:nvPr/>
              </p:nvSpPr>
              <p:spPr>
                <a:xfrm>
                  <a:off x="8300880" y="2331000"/>
                  <a:ext cx="684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8300880" y="2326680"/>
                  <a:ext cx="684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4" name=""/>
              <p:cNvGrpSpPr/>
              <p:nvPr/>
            </p:nvGrpSpPr>
            <p:grpSpPr>
              <a:xfrm>
                <a:off x="8354160" y="2347920"/>
                <a:ext cx="160920" cy="90720"/>
                <a:chOff x="8354160" y="2347920"/>
                <a:chExt cx="160920" cy="90720"/>
              </a:xfrm>
            </p:grpSpPr>
            <p:grpSp>
              <p:nvGrpSpPr>
                <p:cNvPr id="2525" name=""/>
                <p:cNvGrpSpPr/>
                <p:nvPr/>
              </p:nvGrpSpPr>
              <p:grpSpPr>
                <a:xfrm>
                  <a:off x="8354160" y="2355840"/>
                  <a:ext cx="160920" cy="82800"/>
                  <a:chOff x="8354160" y="2355840"/>
                  <a:chExt cx="160920" cy="82800"/>
                </a:xfrm>
              </p:grpSpPr>
              <p:sp>
                <p:nvSpPr>
                  <p:cNvPr id="2526" name=""/>
                  <p:cNvSpPr/>
                  <p:nvPr/>
                </p:nvSpPr>
                <p:spPr>
                  <a:xfrm>
                    <a:off x="8485200" y="2417760"/>
                    <a:ext cx="504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8379000" y="2369160"/>
                    <a:ext cx="972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8431920" y="239328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8457120" y="2406600"/>
                    <a:ext cx="792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8404200" y="237996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>
                    <a:off x="8354160" y="2355840"/>
                    <a:ext cx="720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>
                    <a:off x="8505000" y="2431080"/>
                    <a:ext cx="1008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3" name=""/>
                <p:cNvGrpSpPr/>
                <p:nvPr/>
              </p:nvGrpSpPr>
              <p:grpSpPr>
                <a:xfrm>
                  <a:off x="8354160" y="2347920"/>
                  <a:ext cx="160200" cy="87120"/>
                  <a:chOff x="8354160" y="2347920"/>
                  <a:chExt cx="160200" cy="87120"/>
                </a:xfrm>
              </p:grpSpPr>
              <p:grpSp>
                <p:nvGrpSpPr>
                  <p:cNvPr id="2534" name=""/>
                  <p:cNvGrpSpPr/>
                  <p:nvPr/>
                </p:nvGrpSpPr>
                <p:grpSpPr>
                  <a:xfrm>
                    <a:off x="8379000" y="2361240"/>
                    <a:ext cx="135360" cy="73800"/>
                    <a:chOff x="8379000" y="2361240"/>
                    <a:chExt cx="135360" cy="73800"/>
                  </a:xfrm>
                </p:grpSpPr>
                <p:sp>
                  <p:nvSpPr>
                    <p:cNvPr id="2535" name=""/>
                    <p:cNvSpPr/>
                    <p:nvPr/>
                  </p:nvSpPr>
                  <p:spPr>
                    <a:xfrm>
                      <a:off x="8507160" y="2424960"/>
                      <a:ext cx="72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6" name=""/>
                    <p:cNvSpPr/>
                    <p:nvPr/>
                  </p:nvSpPr>
                  <p:spPr>
                    <a:xfrm>
                      <a:off x="8403840" y="2372040"/>
                      <a:ext cx="9360" cy="12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7" name=""/>
                    <p:cNvSpPr/>
                    <p:nvPr/>
                  </p:nvSpPr>
                  <p:spPr>
                    <a:xfrm>
                      <a:off x="8456400" y="239868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8" name=""/>
                    <p:cNvSpPr/>
                    <p:nvPr/>
                  </p:nvSpPr>
                  <p:spPr>
                    <a:xfrm>
                      <a:off x="8481600" y="241164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9" name=""/>
                    <p:cNvSpPr/>
                    <p:nvPr/>
                  </p:nvSpPr>
                  <p:spPr>
                    <a:xfrm>
                      <a:off x="8429040" y="2385360"/>
                      <a:ext cx="93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0" name=""/>
                    <p:cNvSpPr/>
                    <p:nvPr/>
                  </p:nvSpPr>
                  <p:spPr>
                    <a:xfrm>
                      <a:off x="8379000" y="236124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41" name=""/>
                  <p:cNvSpPr/>
                  <p:nvPr/>
                </p:nvSpPr>
                <p:spPr>
                  <a:xfrm>
                    <a:off x="8354160" y="2347920"/>
                    <a:ext cx="72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542" name=""/>
          <p:cNvSpPr/>
          <p:nvPr/>
        </p:nvSpPr>
        <p:spPr>
          <a:xfrm flipV="1">
            <a:off x="7740720" y="2361960"/>
            <a:ext cx="5652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3" name="" descr=""/>
          <p:cNvPicPr/>
          <p:nvPr/>
        </p:nvPicPr>
        <p:blipFill>
          <a:blip r:embed="rId9"/>
          <a:stretch/>
        </p:blipFill>
        <p:spPr>
          <a:xfrm>
            <a:off x="0" y="1447920"/>
            <a:ext cx="533520" cy="46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4" name=""/>
          <p:cNvGraphicFramePr/>
          <p:nvPr/>
        </p:nvGraphicFramePr>
        <p:xfrm>
          <a:off x="609480" y="1447920"/>
          <a:ext cx="533520" cy="46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4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144792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6" name=""/>
          <p:cNvGraphicFramePr/>
          <p:nvPr/>
        </p:nvGraphicFramePr>
        <p:xfrm>
          <a:off x="1219320" y="1447920"/>
          <a:ext cx="533160" cy="460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1447920"/>
                    <a:ext cx="533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8" name=""/>
          <p:cNvSpPr/>
          <p:nvPr/>
        </p:nvSpPr>
        <p:spPr>
          <a:xfrm>
            <a:off x="76320" y="20574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286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83808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53352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3" name=""/>
          <p:cNvGrpSpPr/>
          <p:nvPr/>
        </p:nvGrpSpPr>
        <p:grpSpPr>
          <a:xfrm>
            <a:off x="7391520" y="1295280"/>
            <a:ext cx="1752120" cy="609480"/>
            <a:chOff x="7391520" y="1295280"/>
            <a:chExt cx="1752120" cy="609480"/>
          </a:xfrm>
        </p:grpSpPr>
        <p:pic>
          <p:nvPicPr>
            <p:cNvPr id="2554" name="" descr=""/>
            <p:cNvPicPr/>
            <p:nvPr/>
          </p:nvPicPr>
          <p:blipFill>
            <a:blip r:embed="rId14"/>
            <a:stretch/>
          </p:blipFill>
          <p:spPr>
            <a:xfrm>
              <a:off x="739152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15"/>
            <a:stretch/>
          </p:blipFill>
          <p:spPr>
            <a:xfrm>
              <a:off x="8001000" y="1295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6"/>
            <a:stretch/>
          </p:blipFill>
          <p:spPr>
            <a:xfrm>
              <a:off x="861048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7" name=""/>
            <p:cNvSpPr/>
            <p:nvPr/>
          </p:nvSpPr>
          <p:spPr>
            <a:xfrm>
              <a:off x="7467480" y="1904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61976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822960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883908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1" name=""/>
          <p:cNvSpPr/>
          <p:nvPr/>
        </p:nvSpPr>
        <p:spPr>
          <a:xfrm>
            <a:off x="84582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36440" y="97632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7391520" y="9144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800" y="2819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155080" y="2514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5076720" y="5300640"/>
            <a:ext cx="576000" cy="800280"/>
            <a:chOff x="5076720" y="5300640"/>
            <a:chExt cx="576000" cy="800280"/>
          </a:xfrm>
        </p:grpSpPr>
        <p:sp>
          <p:nvSpPr>
            <p:cNvPr id="2567" name=""/>
            <p:cNvSpPr/>
            <p:nvPr/>
          </p:nvSpPr>
          <p:spPr>
            <a:xfrm>
              <a:off x="5581440" y="5300640"/>
              <a:ext cx="71280" cy="80028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076720" y="5375880"/>
              <a:ext cx="506520" cy="721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120640" y="541476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11380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264640" y="590796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41404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1325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1699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2070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2459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2833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3204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35788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3949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43240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4716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5087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164920" y="596520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31900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45112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078520" y="5310000"/>
              <a:ext cx="563760" cy="601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1174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1544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19192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2311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26824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3056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3427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3802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4172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4561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936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9" name=""/>
          <p:cNvSpPr/>
          <p:nvPr/>
        </p:nvSpPr>
        <p:spPr>
          <a:xfrm>
            <a:off x="6856560" y="359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0" name="" descr=""/>
          <p:cNvPicPr/>
          <p:nvPr/>
        </p:nvPicPr>
        <p:blipFill>
          <a:blip r:embed="rId18"/>
          <a:stretch/>
        </p:blipFill>
        <p:spPr>
          <a:xfrm>
            <a:off x="7308720" y="3357720"/>
            <a:ext cx="648000" cy="380880"/>
          </a:xfrm>
          <a:prstGeom prst="rect">
            <a:avLst/>
          </a:prstGeom>
          <a:ln w="0">
            <a:noFill/>
          </a:ln>
        </p:spPr>
      </p:pic>
      <p:pic>
        <p:nvPicPr>
          <p:cNvPr id="2601" name="" descr=""/>
          <p:cNvPicPr/>
          <p:nvPr/>
        </p:nvPicPr>
        <p:blipFill>
          <a:blip r:embed="rId19"/>
          <a:stretch/>
        </p:blipFill>
        <p:spPr>
          <a:xfrm>
            <a:off x="6443640" y="2205000"/>
            <a:ext cx="720720" cy="424080"/>
          </a:xfrm>
          <a:prstGeom prst="rect">
            <a:avLst/>
          </a:prstGeom>
          <a:ln w="0">
            <a:noFill/>
          </a:ln>
        </p:spPr>
      </p:pic>
      <p:pic>
        <p:nvPicPr>
          <p:cNvPr id="2602" name="" descr=""/>
          <p:cNvPicPr/>
          <p:nvPr/>
        </p:nvPicPr>
        <p:blipFill>
          <a:blip r:embed="rId20"/>
          <a:srcRect l="5187" t="36580" r="5555" b="36580"/>
          <a:stretch/>
        </p:blipFill>
        <p:spPr>
          <a:xfrm>
            <a:off x="6588000" y="2924280"/>
            <a:ext cx="930240" cy="311040"/>
          </a:xfrm>
          <a:prstGeom prst="rect">
            <a:avLst/>
          </a:prstGeom>
          <a:ln w="0">
            <a:noFill/>
          </a:ln>
        </p:spPr>
      </p:pic>
      <p:pic>
        <p:nvPicPr>
          <p:cNvPr id="2603" name="" descr=""/>
          <p:cNvPicPr/>
          <p:nvPr/>
        </p:nvPicPr>
        <p:blipFill>
          <a:blip r:embed="rId21"/>
          <a:stretch/>
        </p:blipFill>
        <p:spPr>
          <a:xfrm>
            <a:off x="5724360" y="2924280"/>
            <a:ext cx="719280" cy="422280"/>
          </a:xfrm>
          <a:prstGeom prst="rect">
            <a:avLst/>
          </a:prstGeom>
          <a:ln w="0">
            <a:noFill/>
          </a:ln>
        </p:spPr>
      </p:pic>
      <p:sp>
        <p:nvSpPr>
          <p:cNvPr id="2604" name=""/>
          <p:cNvSpPr/>
          <p:nvPr/>
        </p:nvSpPr>
        <p:spPr>
          <a:xfrm>
            <a:off x="6804000" y="2565360"/>
            <a:ext cx="7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6443640" y="2060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644364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508720" y="31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8" name="" descr=""/>
          <p:cNvPicPr/>
          <p:nvPr/>
        </p:nvPicPr>
        <p:blipFill>
          <a:blip r:embed="rId22"/>
          <a:stretch/>
        </p:blipFill>
        <p:spPr>
          <a:xfrm>
            <a:off x="2340000" y="2997360"/>
            <a:ext cx="719280" cy="422280"/>
          </a:xfrm>
          <a:prstGeom prst="rect">
            <a:avLst/>
          </a:prstGeom>
          <a:ln w="0">
            <a:noFill/>
          </a:ln>
        </p:spPr>
      </p:pic>
      <p:pic>
        <p:nvPicPr>
          <p:cNvPr id="2609" name="" descr=""/>
          <p:cNvPicPr/>
          <p:nvPr/>
        </p:nvPicPr>
        <p:blipFill>
          <a:blip r:embed="rId23"/>
          <a:stretch/>
        </p:blipFill>
        <p:spPr>
          <a:xfrm>
            <a:off x="1619280" y="2421000"/>
            <a:ext cx="720720" cy="423720"/>
          </a:xfrm>
          <a:prstGeom prst="rect">
            <a:avLst/>
          </a:prstGeom>
          <a:ln w="0">
            <a:noFill/>
          </a:ln>
        </p:spPr>
      </p:pic>
      <p:pic>
        <p:nvPicPr>
          <p:cNvPr id="2610" name="" descr=""/>
          <p:cNvPicPr/>
          <p:nvPr/>
        </p:nvPicPr>
        <p:blipFill>
          <a:blip r:embed="rId24"/>
          <a:srcRect l="5187" t="36580" r="5555" b="36580"/>
          <a:stretch/>
        </p:blipFill>
        <p:spPr>
          <a:xfrm>
            <a:off x="1258920" y="2997360"/>
            <a:ext cx="930240" cy="311040"/>
          </a:xfrm>
          <a:prstGeom prst="rect">
            <a:avLst/>
          </a:prstGeom>
          <a:ln w="0">
            <a:noFill/>
          </a:ln>
        </p:spPr>
      </p:pic>
      <p:sp>
        <p:nvSpPr>
          <p:cNvPr id="2611" name=""/>
          <p:cNvSpPr/>
          <p:nvPr/>
        </p:nvSpPr>
        <p:spPr>
          <a:xfrm>
            <a:off x="298764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1692360" y="2708280"/>
            <a:ext cx="287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19564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04920" y="763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BACKBONE IP PURO:  IP/ETHERNET – IP/S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"/>
          <p:cNvSpPr/>
          <p:nvPr/>
        </p:nvSpPr>
        <p:spPr>
          <a:xfrm>
            <a:off x="2133720" y="1371600"/>
            <a:ext cx="4647960" cy="396252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6" name=""/>
          <p:cNvGraphicFramePr/>
          <p:nvPr/>
        </p:nvGraphicFramePr>
        <p:xfrm>
          <a:off x="1371600" y="3657600"/>
          <a:ext cx="533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8" name=""/>
          <p:cNvSpPr/>
          <p:nvPr/>
        </p:nvSpPr>
        <p:spPr>
          <a:xfrm flipV="1">
            <a:off x="1692360" y="328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9" name=""/>
          <p:cNvGraphicFramePr/>
          <p:nvPr/>
        </p:nvGraphicFramePr>
        <p:xfrm>
          <a:off x="3886200" y="5410080"/>
          <a:ext cx="5335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410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1" name=""/>
          <p:cNvGraphicFramePr/>
          <p:nvPr/>
        </p:nvGraphicFramePr>
        <p:xfrm>
          <a:off x="6012000" y="119700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19700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3" name=""/>
          <p:cNvSpPr/>
          <p:nvPr/>
        </p:nvSpPr>
        <p:spPr>
          <a:xfrm flipH="1">
            <a:off x="41911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1067760" y="44956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o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1066680" y="476280"/>
            <a:ext cx="7010640" cy="607680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2591640" y="55864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509440" y="62064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4724280" y="50292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867640" y="495288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0" name=""/>
          <p:cNvGraphicFramePr/>
          <p:nvPr/>
        </p:nvGraphicFramePr>
        <p:xfrm>
          <a:off x="228600" y="4572000"/>
          <a:ext cx="5857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572000"/>
                    <a:ext cx="5857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2" name=""/>
          <p:cNvSpPr/>
          <p:nvPr/>
        </p:nvSpPr>
        <p:spPr>
          <a:xfrm flipV="1">
            <a:off x="533520" y="42667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228600" y="2362320"/>
            <a:ext cx="608760" cy="456120"/>
            <a:chOff x="228600" y="2362320"/>
            <a:chExt cx="608760" cy="456120"/>
          </a:xfrm>
        </p:grpSpPr>
        <p:grpSp>
          <p:nvGrpSpPr>
            <p:cNvPr id="2634" name=""/>
            <p:cNvGrpSpPr/>
            <p:nvPr/>
          </p:nvGrpSpPr>
          <p:grpSpPr>
            <a:xfrm>
              <a:off x="228600" y="2362320"/>
              <a:ext cx="608760" cy="456120"/>
              <a:chOff x="228600" y="2362320"/>
              <a:chExt cx="608760" cy="456120"/>
            </a:xfrm>
          </p:grpSpPr>
          <p:sp>
            <p:nvSpPr>
              <p:cNvPr id="2635" name=""/>
              <p:cNvSpPr/>
              <p:nvPr/>
            </p:nvSpPr>
            <p:spPr>
              <a:xfrm>
                <a:off x="251280" y="2367720"/>
                <a:ext cx="332280" cy="3146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92320" y="2566080"/>
                <a:ext cx="293760" cy="187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7" name=""/>
              <p:cNvGrpSpPr/>
              <p:nvPr/>
            </p:nvGrpSpPr>
            <p:grpSpPr>
              <a:xfrm>
                <a:off x="228600" y="2571480"/>
                <a:ext cx="347040" cy="246240"/>
                <a:chOff x="228600" y="2571480"/>
                <a:chExt cx="347040" cy="24624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269280" y="2620080"/>
                  <a:ext cx="296280" cy="151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263880" y="2638800"/>
                  <a:ext cx="273240" cy="162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228600" y="2571480"/>
                  <a:ext cx="60840" cy="1105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517320" y="2709000"/>
                  <a:ext cx="58320" cy="108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2" name=""/>
              <p:cNvSpPr/>
              <p:nvPr/>
            </p:nvSpPr>
            <p:spPr>
              <a:xfrm>
                <a:off x="537840" y="2468160"/>
                <a:ext cx="299520" cy="3502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04920" y="2375640"/>
                <a:ext cx="504000" cy="3178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553320" y="2462400"/>
                <a:ext cx="284040" cy="2581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67120" y="2362320"/>
                <a:ext cx="316800" cy="2199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6" name=""/>
            <p:cNvGrpSpPr/>
            <p:nvPr/>
          </p:nvGrpSpPr>
          <p:grpSpPr>
            <a:xfrm>
              <a:off x="299880" y="2631600"/>
              <a:ext cx="214200" cy="111960"/>
              <a:chOff x="299880" y="2631600"/>
              <a:chExt cx="214200" cy="111960"/>
            </a:xfrm>
          </p:grpSpPr>
          <p:grpSp>
            <p:nvGrpSpPr>
              <p:cNvPr id="2647" name=""/>
              <p:cNvGrpSpPr/>
              <p:nvPr/>
            </p:nvGrpSpPr>
            <p:grpSpPr>
              <a:xfrm>
                <a:off x="299880" y="2631600"/>
                <a:ext cx="6840" cy="9360"/>
                <a:chOff x="299880" y="2631600"/>
                <a:chExt cx="6840" cy="9360"/>
              </a:xfrm>
            </p:grpSpPr>
            <p:sp>
              <p:nvSpPr>
                <p:cNvPr id="2648" name=""/>
                <p:cNvSpPr/>
                <p:nvPr/>
              </p:nvSpPr>
              <p:spPr>
                <a:xfrm>
                  <a:off x="299880" y="2635920"/>
                  <a:ext cx="684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299880" y="2631600"/>
                  <a:ext cx="684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0" name=""/>
              <p:cNvGrpSpPr/>
              <p:nvPr/>
            </p:nvGrpSpPr>
            <p:grpSpPr>
              <a:xfrm>
                <a:off x="353160" y="2652840"/>
                <a:ext cx="160920" cy="90720"/>
                <a:chOff x="353160" y="2652840"/>
                <a:chExt cx="160920" cy="90720"/>
              </a:xfrm>
            </p:grpSpPr>
            <p:grpSp>
              <p:nvGrpSpPr>
                <p:cNvPr id="2651" name=""/>
                <p:cNvGrpSpPr/>
                <p:nvPr/>
              </p:nvGrpSpPr>
              <p:grpSpPr>
                <a:xfrm>
                  <a:off x="353160" y="2660760"/>
                  <a:ext cx="160920" cy="82800"/>
                  <a:chOff x="353160" y="2660760"/>
                  <a:chExt cx="160920" cy="82800"/>
                </a:xfrm>
              </p:grpSpPr>
              <p:sp>
                <p:nvSpPr>
                  <p:cNvPr id="2652" name=""/>
                  <p:cNvSpPr/>
                  <p:nvPr/>
                </p:nvSpPr>
                <p:spPr>
                  <a:xfrm>
                    <a:off x="484200" y="2722680"/>
                    <a:ext cx="504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378000" y="2674080"/>
                    <a:ext cx="972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430920" y="269820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456120" y="2711520"/>
                    <a:ext cx="792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403200" y="268488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>
                    <a:off x="353160" y="2660760"/>
                    <a:ext cx="720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504000" y="2736000"/>
                    <a:ext cx="1008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9" name=""/>
                <p:cNvGrpSpPr/>
                <p:nvPr/>
              </p:nvGrpSpPr>
              <p:grpSpPr>
                <a:xfrm>
                  <a:off x="353160" y="2652840"/>
                  <a:ext cx="160200" cy="87120"/>
                  <a:chOff x="353160" y="2652840"/>
                  <a:chExt cx="160200" cy="87120"/>
                </a:xfrm>
              </p:grpSpPr>
              <p:grpSp>
                <p:nvGrpSpPr>
                  <p:cNvPr id="2660" name=""/>
                  <p:cNvGrpSpPr/>
                  <p:nvPr/>
                </p:nvGrpSpPr>
                <p:grpSpPr>
                  <a:xfrm>
                    <a:off x="378000" y="2666160"/>
                    <a:ext cx="135360" cy="73800"/>
                    <a:chOff x="378000" y="2666160"/>
                    <a:chExt cx="135360" cy="73800"/>
                  </a:xfrm>
                </p:grpSpPr>
                <p:sp>
                  <p:nvSpPr>
                    <p:cNvPr id="2661" name=""/>
                    <p:cNvSpPr/>
                    <p:nvPr/>
                  </p:nvSpPr>
                  <p:spPr>
                    <a:xfrm>
                      <a:off x="506160" y="2729880"/>
                      <a:ext cx="72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2" name=""/>
                    <p:cNvSpPr/>
                    <p:nvPr/>
                  </p:nvSpPr>
                  <p:spPr>
                    <a:xfrm>
                      <a:off x="402840" y="2676960"/>
                      <a:ext cx="9360" cy="12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3" name=""/>
                    <p:cNvSpPr/>
                    <p:nvPr/>
                  </p:nvSpPr>
                  <p:spPr>
                    <a:xfrm>
                      <a:off x="455400" y="270360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4" name=""/>
                    <p:cNvSpPr/>
                    <p:nvPr/>
                  </p:nvSpPr>
                  <p:spPr>
                    <a:xfrm>
                      <a:off x="480600" y="271656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5" name=""/>
                    <p:cNvSpPr/>
                    <p:nvPr/>
                  </p:nvSpPr>
                  <p:spPr>
                    <a:xfrm>
                      <a:off x="428040" y="2690280"/>
                      <a:ext cx="93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6" name=""/>
                    <p:cNvSpPr/>
                    <p:nvPr/>
                  </p:nvSpPr>
                  <p:spPr>
                    <a:xfrm>
                      <a:off x="378000" y="266616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67" name=""/>
                  <p:cNvSpPr/>
                  <p:nvPr/>
                </p:nvSpPr>
                <p:spPr>
                  <a:xfrm>
                    <a:off x="353160" y="2652840"/>
                    <a:ext cx="72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68" name=""/>
          <p:cNvSpPr/>
          <p:nvPr/>
        </p:nvSpPr>
        <p:spPr>
          <a:xfrm flipV="1">
            <a:off x="762120" y="2565000"/>
            <a:ext cx="10015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9" name=""/>
          <p:cNvGrpSpPr/>
          <p:nvPr/>
        </p:nvGrpSpPr>
        <p:grpSpPr>
          <a:xfrm>
            <a:off x="8229600" y="2057400"/>
            <a:ext cx="608760" cy="456120"/>
            <a:chOff x="8229600" y="2057400"/>
            <a:chExt cx="608760" cy="456120"/>
          </a:xfrm>
        </p:grpSpPr>
        <p:grpSp>
          <p:nvGrpSpPr>
            <p:cNvPr id="2670" name=""/>
            <p:cNvGrpSpPr/>
            <p:nvPr/>
          </p:nvGrpSpPr>
          <p:grpSpPr>
            <a:xfrm>
              <a:off x="8229600" y="2057400"/>
              <a:ext cx="608760" cy="456120"/>
              <a:chOff x="8229600" y="2057400"/>
              <a:chExt cx="608760" cy="456120"/>
            </a:xfrm>
          </p:grpSpPr>
          <p:sp>
            <p:nvSpPr>
              <p:cNvPr id="2671" name=""/>
              <p:cNvSpPr/>
              <p:nvPr/>
            </p:nvSpPr>
            <p:spPr>
              <a:xfrm>
                <a:off x="8252280" y="2062800"/>
                <a:ext cx="332280" cy="3146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8293320" y="2261160"/>
                <a:ext cx="293760" cy="187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3" name=""/>
              <p:cNvGrpSpPr/>
              <p:nvPr/>
            </p:nvGrpSpPr>
            <p:grpSpPr>
              <a:xfrm>
                <a:off x="8229600" y="2266560"/>
                <a:ext cx="347040" cy="246240"/>
                <a:chOff x="8229600" y="2266560"/>
                <a:chExt cx="347040" cy="246240"/>
              </a:xfrm>
            </p:grpSpPr>
            <p:sp>
              <p:nvSpPr>
                <p:cNvPr id="2674" name=""/>
                <p:cNvSpPr/>
                <p:nvPr/>
              </p:nvSpPr>
              <p:spPr>
                <a:xfrm>
                  <a:off x="8270280" y="2315160"/>
                  <a:ext cx="296280" cy="151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8264880" y="2333880"/>
                  <a:ext cx="273240" cy="162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8229600" y="2266560"/>
                  <a:ext cx="60840" cy="1105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8518320" y="2404080"/>
                  <a:ext cx="58320" cy="108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8" name=""/>
              <p:cNvSpPr/>
              <p:nvPr/>
            </p:nvSpPr>
            <p:spPr>
              <a:xfrm>
                <a:off x="8538840" y="2163240"/>
                <a:ext cx="299520" cy="3502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8305920" y="2070720"/>
                <a:ext cx="504000" cy="3178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8554320" y="2157480"/>
                <a:ext cx="284040" cy="2581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8268120" y="2057400"/>
                <a:ext cx="316800" cy="2199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2" name=""/>
            <p:cNvGrpSpPr/>
            <p:nvPr/>
          </p:nvGrpSpPr>
          <p:grpSpPr>
            <a:xfrm>
              <a:off x="8300880" y="2326680"/>
              <a:ext cx="214200" cy="111960"/>
              <a:chOff x="8300880" y="2326680"/>
              <a:chExt cx="214200" cy="111960"/>
            </a:xfrm>
          </p:grpSpPr>
          <p:grpSp>
            <p:nvGrpSpPr>
              <p:cNvPr id="2683" name=""/>
              <p:cNvGrpSpPr/>
              <p:nvPr/>
            </p:nvGrpSpPr>
            <p:grpSpPr>
              <a:xfrm>
                <a:off x="8300880" y="2326680"/>
                <a:ext cx="6840" cy="9360"/>
                <a:chOff x="8300880" y="2326680"/>
                <a:chExt cx="6840" cy="9360"/>
              </a:xfrm>
            </p:grpSpPr>
            <p:sp>
              <p:nvSpPr>
                <p:cNvPr id="2684" name=""/>
                <p:cNvSpPr/>
                <p:nvPr/>
              </p:nvSpPr>
              <p:spPr>
                <a:xfrm>
                  <a:off x="8300880" y="2331000"/>
                  <a:ext cx="684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8300880" y="2326680"/>
                  <a:ext cx="684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6" name=""/>
              <p:cNvGrpSpPr/>
              <p:nvPr/>
            </p:nvGrpSpPr>
            <p:grpSpPr>
              <a:xfrm>
                <a:off x="8354160" y="2347920"/>
                <a:ext cx="160920" cy="90720"/>
                <a:chOff x="8354160" y="2347920"/>
                <a:chExt cx="160920" cy="90720"/>
              </a:xfrm>
            </p:grpSpPr>
            <p:grpSp>
              <p:nvGrpSpPr>
                <p:cNvPr id="2687" name=""/>
                <p:cNvGrpSpPr/>
                <p:nvPr/>
              </p:nvGrpSpPr>
              <p:grpSpPr>
                <a:xfrm>
                  <a:off x="8354160" y="2355840"/>
                  <a:ext cx="160920" cy="82800"/>
                  <a:chOff x="8354160" y="2355840"/>
                  <a:chExt cx="160920" cy="82800"/>
                </a:xfrm>
              </p:grpSpPr>
              <p:sp>
                <p:nvSpPr>
                  <p:cNvPr id="2688" name=""/>
                  <p:cNvSpPr/>
                  <p:nvPr/>
                </p:nvSpPr>
                <p:spPr>
                  <a:xfrm>
                    <a:off x="8485200" y="2417760"/>
                    <a:ext cx="504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>
                    <a:off x="8379000" y="2369160"/>
                    <a:ext cx="972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8431920" y="239328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>
                    <a:off x="8457120" y="2406600"/>
                    <a:ext cx="792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>
                    <a:off x="8404200" y="237996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>
                    <a:off x="8354160" y="2355840"/>
                    <a:ext cx="720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>
                    <a:off x="8505000" y="2431080"/>
                    <a:ext cx="1008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5" name=""/>
                <p:cNvGrpSpPr/>
                <p:nvPr/>
              </p:nvGrpSpPr>
              <p:grpSpPr>
                <a:xfrm>
                  <a:off x="8354160" y="2347920"/>
                  <a:ext cx="160200" cy="87120"/>
                  <a:chOff x="8354160" y="2347920"/>
                  <a:chExt cx="160200" cy="87120"/>
                </a:xfrm>
              </p:grpSpPr>
              <p:grpSp>
                <p:nvGrpSpPr>
                  <p:cNvPr id="2696" name=""/>
                  <p:cNvGrpSpPr/>
                  <p:nvPr/>
                </p:nvGrpSpPr>
                <p:grpSpPr>
                  <a:xfrm>
                    <a:off x="8379000" y="2361240"/>
                    <a:ext cx="135360" cy="73800"/>
                    <a:chOff x="8379000" y="2361240"/>
                    <a:chExt cx="135360" cy="73800"/>
                  </a:xfrm>
                </p:grpSpPr>
                <p:sp>
                  <p:nvSpPr>
                    <p:cNvPr id="2697" name=""/>
                    <p:cNvSpPr/>
                    <p:nvPr/>
                  </p:nvSpPr>
                  <p:spPr>
                    <a:xfrm>
                      <a:off x="8507160" y="2424960"/>
                      <a:ext cx="72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8" name=""/>
                    <p:cNvSpPr/>
                    <p:nvPr/>
                  </p:nvSpPr>
                  <p:spPr>
                    <a:xfrm>
                      <a:off x="8403840" y="2372040"/>
                      <a:ext cx="9360" cy="12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9" name=""/>
                    <p:cNvSpPr/>
                    <p:nvPr/>
                  </p:nvSpPr>
                  <p:spPr>
                    <a:xfrm>
                      <a:off x="8456400" y="239868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0" name=""/>
                    <p:cNvSpPr/>
                    <p:nvPr/>
                  </p:nvSpPr>
                  <p:spPr>
                    <a:xfrm>
                      <a:off x="8481600" y="241164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1" name=""/>
                    <p:cNvSpPr/>
                    <p:nvPr/>
                  </p:nvSpPr>
                  <p:spPr>
                    <a:xfrm>
                      <a:off x="8429040" y="2385360"/>
                      <a:ext cx="93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2" name=""/>
                    <p:cNvSpPr/>
                    <p:nvPr/>
                  </p:nvSpPr>
                  <p:spPr>
                    <a:xfrm>
                      <a:off x="8379000" y="236124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03" name=""/>
                  <p:cNvSpPr/>
                  <p:nvPr/>
                </p:nvSpPr>
                <p:spPr>
                  <a:xfrm>
                    <a:off x="8354160" y="2347920"/>
                    <a:ext cx="72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704" name=""/>
          <p:cNvSpPr/>
          <p:nvPr/>
        </p:nvSpPr>
        <p:spPr>
          <a:xfrm>
            <a:off x="781200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5" name="" descr=""/>
          <p:cNvPicPr/>
          <p:nvPr/>
        </p:nvPicPr>
        <p:blipFill>
          <a:blip r:embed="rId9"/>
          <a:stretch/>
        </p:blipFill>
        <p:spPr>
          <a:xfrm>
            <a:off x="0" y="1447920"/>
            <a:ext cx="533520" cy="46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6" name=""/>
          <p:cNvGraphicFramePr/>
          <p:nvPr/>
        </p:nvGraphicFramePr>
        <p:xfrm>
          <a:off x="609480" y="1447920"/>
          <a:ext cx="533520" cy="460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144792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8" name=""/>
          <p:cNvGraphicFramePr/>
          <p:nvPr/>
        </p:nvGraphicFramePr>
        <p:xfrm>
          <a:off x="1219320" y="1447920"/>
          <a:ext cx="533160" cy="460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0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1447920"/>
                    <a:ext cx="533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0" name=""/>
          <p:cNvSpPr/>
          <p:nvPr/>
        </p:nvSpPr>
        <p:spPr>
          <a:xfrm>
            <a:off x="76320" y="20574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286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83808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53352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5" name=""/>
          <p:cNvGrpSpPr/>
          <p:nvPr/>
        </p:nvGrpSpPr>
        <p:grpSpPr>
          <a:xfrm>
            <a:off x="7391520" y="1295280"/>
            <a:ext cx="1752120" cy="609480"/>
            <a:chOff x="7391520" y="1295280"/>
            <a:chExt cx="1752120" cy="609480"/>
          </a:xfrm>
        </p:grpSpPr>
        <p:pic>
          <p:nvPicPr>
            <p:cNvPr id="2716" name="" descr=""/>
            <p:cNvPicPr/>
            <p:nvPr/>
          </p:nvPicPr>
          <p:blipFill>
            <a:blip r:embed="rId14"/>
            <a:stretch/>
          </p:blipFill>
          <p:spPr>
            <a:xfrm>
              <a:off x="739152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7" name="" descr=""/>
            <p:cNvPicPr/>
            <p:nvPr/>
          </p:nvPicPr>
          <p:blipFill>
            <a:blip r:embed="rId15"/>
            <a:stretch/>
          </p:blipFill>
          <p:spPr>
            <a:xfrm>
              <a:off x="8001000" y="1295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8" name="" descr=""/>
            <p:cNvPicPr/>
            <p:nvPr/>
          </p:nvPicPr>
          <p:blipFill>
            <a:blip r:embed="rId16"/>
            <a:stretch/>
          </p:blipFill>
          <p:spPr>
            <a:xfrm>
              <a:off x="861048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9" name=""/>
            <p:cNvSpPr/>
            <p:nvPr/>
          </p:nvSpPr>
          <p:spPr>
            <a:xfrm>
              <a:off x="7467480" y="1904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61976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22960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83908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3" name=""/>
          <p:cNvSpPr/>
          <p:nvPr/>
        </p:nvSpPr>
        <p:spPr>
          <a:xfrm>
            <a:off x="84582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36440" y="97632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7391520" y="9144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1800" y="2819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8155080" y="2514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8" name=""/>
          <p:cNvGrpSpPr/>
          <p:nvPr/>
        </p:nvGrpSpPr>
        <p:grpSpPr>
          <a:xfrm>
            <a:off x="5076720" y="5300640"/>
            <a:ext cx="576000" cy="800280"/>
            <a:chOff x="5076720" y="5300640"/>
            <a:chExt cx="576000" cy="800280"/>
          </a:xfrm>
        </p:grpSpPr>
        <p:sp>
          <p:nvSpPr>
            <p:cNvPr id="2729" name=""/>
            <p:cNvSpPr/>
            <p:nvPr/>
          </p:nvSpPr>
          <p:spPr>
            <a:xfrm>
              <a:off x="5581440" y="5300640"/>
              <a:ext cx="71280" cy="80028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076720" y="5375880"/>
              <a:ext cx="506520" cy="721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120640" y="541476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11380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264640" y="590796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1404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1325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1699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2070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2459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2833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3204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35788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3949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43240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4716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5087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164920" y="596520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31900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45112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078520" y="5310000"/>
              <a:ext cx="563760" cy="601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1174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1544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19192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2311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26824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3056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3427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3802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4172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4561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4936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1" name=""/>
          <p:cNvSpPr/>
          <p:nvPr/>
        </p:nvSpPr>
        <p:spPr>
          <a:xfrm>
            <a:off x="6856560" y="359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2" name="" descr=""/>
          <p:cNvPicPr/>
          <p:nvPr/>
        </p:nvPicPr>
        <p:blipFill>
          <a:blip r:embed="rId18"/>
          <a:stretch/>
        </p:blipFill>
        <p:spPr>
          <a:xfrm>
            <a:off x="7236000" y="2421000"/>
            <a:ext cx="576000" cy="339840"/>
          </a:xfrm>
          <a:prstGeom prst="rect">
            <a:avLst/>
          </a:prstGeom>
          <a:ln w="0">
            <a:noFill/>
          </a:ln>
        </p:spPr>
      </p:pic>
      <p:pic>
        <p:nvPicPr>
          <p:cNvPr id="2763" name="" descr=""/>
          <p:cNvPicPr/>
          <p:nvPr/>
        </p:nvPicPr>
        <p:blipFill>
          <a:blip r:embed="rId19"/>
          <a:srcRect l="5187" t="36580" r="5555" b="36580"/>
          <a:stretch/>
        </p:blipFill>
        <p:spPr>
          <a:xfrm>
            <a:off x="7026120" y="2924280"/>
            <a:ext cx="930600" cy="311040"/>
          </a:xfrm>
          <a:prstGeom prst="rect">
            <a:avLst/>
          </a:prstGeom>
          <a:ln w="0">
            <a:noFill/>
          </a:ln>
        </p:spPr>
      </p:pic>
      <p:pic>
        <p:nvPicPr>
          <p:cNvPr id="2764" name="" descr=""/>
          <p:cNvPicPr/>
          <p:nvPr/>
        </p:nvPicPr>
        <p:blipFill>
          <a:blip r:embed="rId20"/>
          <a:stretch/>
        </p:blipFill>
        <p:spPr>
          <a:xfrm>
            <a:off x="6084720" y="2913120"/>
            <a:ext cx="719280" cy="422280"/>
          </a:xfrm>
          <a:prstGeom prst="rect">
            <a:avLst/>
          </a:prstGeom>
          <a:ln w="0">
            <a:noFill/>
          </a:ln>
        </p:spPr>
      </p:pic>
      <p:sp>
        <p:nvSpPr>
          <p:cNvPr id="2765" name=""/>
          <p:cNvSpPr/>
          <p:nvPr/>
        </p:nvSpPr>
        <p:spPr>
          <a:xfrm>
            <a:off x="6443640" y="2060640"/>
            <a:ext cx="865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6" name="" descr=""/>
          <p:cNvPicPr/>
          <p:nvPr/>
        </p:nvPicPr>
        <p:blipFill>
          <a:blip r:embed="rId21"/>
          <a:stretch/>
        </p:blipFill>
        <p:spPr>
          <a:xfrm>
            <a:off x="2411280" y="2924280"/>
            <a:ext cx="719280" cy="422280"/>
          </a:xfrm>
          <a:prstGeom prst="rect">
            <a:avLst/>
          </a:prstGeom>
          <a:ln w="0">
            <a:noFill/>
          </a:ln>
        </p:spPr>
      </p:pic>
      <p:pic>
        <p:nvPicPr>
          <p:cNvPr id="2767" name="" descr=""/>
          <p:cNvPicPr/>
          <p:nvPr/>
        </p:nvPicPr>
        <p:blipFill>
          <a:blip r:embed="rId22"/>
          <a:stretch/>
        </p:blipFill>
        <p:spPr>
          <a:xfrm>
            <a:off x="1619280" y="2505240"/>
            <a:ext cx="576360" cy="339480"/>
          </a:xfrm>
          <a:prstGeom prst="rect">
            <a:avLst/>
          </a:prstGeom>
          <a:ln w="0">
            <a:noFill/>
          </a:ln>
        </p:spPr>
      </p:pic>
      <p:pic>
        <p:nvPicPr>
          <p:cNvPr id="2768" name="" descr=""/>
          <p:cNvPicPr/>
          <p:nvPr/>
        </p:nvPicPr>
        <p:blipFill>
          <a:blip r:embed="rId23"/>
          <a:srcRect l="5187" t="36580" r="5555" b="36580"/>
          <a:stretch/>
        </p:blipFill>
        <p:spPr>
          <a:xfrm>
            <a:off x="1258920" y="2997360"/>
            <a:ext cx="930240" cy="311040"/>
          </a:xfrm>
          <a:prstGeom prst="rect">
            <a:avLst/>
          </a:prstGeom>
          <a:ln w="0">
            <a:noFill/>
          </a:ln>
        </p:spPr>
      </p:pic>
      <p:sp>
        <p:nvSpPr>
          <p:cNvPr id="2769" name=""/>
          <p:cNvSpPr/>
          <p:nvPr/>
        </p:nvSpPr>
        <p:spPr>
          <a:xfrm flipH="1">
            <a:off x="1692000" y="278136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304920" y="7632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BACKBONE IP PURO:  IP/ETHE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24"/>
          <a:srcRect l="5187" t="36580" r="5555" b="36580"/>
          <a:stretch/>
        </p:blipFill>
        <p:spPr>
          <a:xfrm>
            <a:off x="3348000" y="2924280"/>
            <a:ext cx="930240" cy="3110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25"/>
          <a:srcRect l="5187" t="36580" r="5555" b="36580"/>
          <a:stretch/>
        </p:blipFill>
        <p:spPr>
          <a:xfrm>
            <a:off x="5076720" y="2924280"/>
            <a:ext cx="930240" cy="311040"/>
          </a:xfrm>
          <a:prstGeom prst="rect">
            <a:avLst/>
          </a:prstGeom>
          <a:ln w="0">
            <a:noFill/>
          </a:ln>
        </p:spPr>
      </p:pic>
      <p:pic>
        <p:nvPicPr>
          <p:cNvPr id="2773" name="" descr=""/>
          <p:cNvPicPr/>
          <p:nvPr/>
        </p:nvPicPr>
        <p:blipFill>
          <a:blip r:embed="rId26"/>
          <a:srcRect l="5187" t="36580" r="5555" b="36580"/>
          <a:stretch/>
        </p:blipFill>
        <p:spPr>
          <a:xfrm>
            <a:off x="4211640" y="4941720"/>
            <a:ext cx="930240" cy="311400"/>
          </a:xfrm>
          <a:prstGeom prst="rect">
            <a:avLst/>
          </a:prstGeom>
          <a:ln w="0">
            <a:noFill/>
          </a:ln>
        </p:spPr>
      </p:pic>
      <p:pic>
        <p:nvPicPr>
          <p:cNvPr id="2774" name="" descr=""/>
          <p:cNvPicPr/>
          <p:nvPr/>
        </p:nvPicPr>
        <p:blipFill>
          <a:blip r:embed="rId27"/>
          <a:stretch/>
        </p:blipFill>
        <p:spPr>
          <a:xfrm>
            <a:off x="4356000" y="4424400"/>
            <a:ext cx="720720" cy="422280"/>
          </a:xfrm>
          <a:prstGeom prst="rect">
            <a:avLst/>
          </a:prstGeom>
          <a:ln w="0">
            <a:noFill/>
          </a:ln>
        </p:spPr>
      </p:pic>
      <p:pic>
        <p:nvPicPr>
          <p:cNvPr id="2775" name="" descr=""/>
          <p:cNvPicPr/>
          <p:nvPr/>
        </p:nvPicPr>
        <p:blipFill>
          <a:blip r:embed="rId28"/>
          <a:srcRect l="5187" t="36580" r="5555" b="36580"/>
          <a:stretch/>
        </p:blipFill>
        <p:spPr>
          <a:xfrm>
            <a:off x="4211640" y="4005360"/>
            <a:ext cx="930240" cy="311040"/>
          </a:xfrm>
          <a:prstGeom prst="rect">
            <a:avLst/>
          </a:prstGeom>
          <a:ln w="0">
            <a:noFill/>
          </a:ln>
        </p:spPr>
      </p:pic>
      <p:sp>
        <p:nvSpPr>
          <p:cNvPr id="2776" name=""/>
          <p:cNvSpPr/>
          <p:nvPr/>
        </p:nvSpPr>
        <p:spPr>
          <a:xfrm>
            <a:off x="3708360" y="3141720"/>
            <a:ext cx="9349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 flipV="1">
            <a:off x="4859280" y="3141360"/>
            <a:ext cx="6494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4284720" y="306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464328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64328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680400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752472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212400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3059280" y="314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618720" y="236844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P PUR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61048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n todo caso se requiere un nivel 2:  PPP, Ethernet, SDH/SONET,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Requiere consistencia en el esquema de direccionamiento desde la interface WAN del router del client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squema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Subconjunto de Interne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Red totalmente independiente de Internet con direcciones Publica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Red con direcciones privada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P PUR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Simplicidad y amplio conocimiento de IP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Menor overhead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ada vez mayor disponibilidad de ancho de banda (Ej: 10GB Ethernet a 40Kmts), a menor cost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DESVENTAJ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scacez de direcciones IP pública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omo IP convencional no tiene mecanismos para distinguir paquetes con la misma dirección IP que van para destinos diferentes, se requiere crear los túneles desde el client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0920" y="152280"/>
            <a:ext cx="84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QUEMA DEL SISTEMA TELEFONIC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41000" y="1752480"/>
            <a:ext cx="8097480" cy="4791960"/>
            <a:chOff x="441000" y="1752480"/>
            <a:chExt cx="8097480" cy="4791960"/>
          </a:xfrm>
        </p:grpSpPr>
        <p:grpSp>
          <p:nvGrpSpPr>
            <p:cNvPr id="133" name=""/>
            <p:cNvGrpSpPr/>
            <p:nvPr/>
          </p:nvGrpSpPr>
          <p:grpSpPr>
            <a:xfrm>
              <a:off x="685800" y="1752480"/>
              <a:ext cx="3380040" cy="2192400"/>
              <a:chOff x="685800" y="1752480"/>
              <a:chExt cx="3380040" cy="2192400"/>
            </a:xfrm>
          </p:grpSpPr>
          <p:graphicFrame>
            <p:nvGraphicFramePr>
              <p:cNvPr id="134" name=""/>
              <p:cNvGraphicFramePr/>
              <p:nvPr/>
            </p:nvGraphicFramePr>
            <p:xfrm>
              <a:off x="2286000" y="2219040"/>
              <a:ext cx="1121040" cy="888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2219040"/>
                        <a:ext cx="1121040" cy="888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6" name=""/>
              <p:cNvSpPr/>
              <p:nvPr/>
            </p:nvSpPr>
            <p:spPr>
              <a:xfrm>
                <a:off x="1143000" y="2018880"/>
                <a:ext cx="1114560" cy="28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43000" y="26856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1219320" y="3035160"/>
                <a:ext cx="1190520" cy="64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85800" y="1752480"/>
                <a:ext cx="585720" cy="2192400"/>
                <a:chOff x="685800" y="1752480"/>
                <a:chExt cx="585720" cy="2192400"/>
              </a:xfrm>
            </p:grpSpPr>
            <p:graphicFrame>
              <p:nvGraphicFramePr>
                <p:cNvPr id="140" name=""/>
                <p:cNvGraphicFramePr/>
                <p:nvPr/>
              </p:nvGraphicFramePr>
              <p:xfrm>
                <a:off x="685800" y="3485520"/>
                <a:ext cx="585720" cy="4593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85800" y="3485520"/>
                          <a:ext cx="585720" cy="459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42" name=""/>
                <p:cNvGraphicFramePr/>
                <p:nvPr/>
              </p:nvGraphicFramePr>
              <p:xfrm>
                <a:off x="685800" y="2352240"/>
                <a:ext cx="585720" cy="4597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43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85800" y="2352240"/>
                          <a:ext cx="585720" cy="459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44" name=""/>
                <p:cNvGraphicFramePr/>
                <p:nvPr/>
              </p:nvGraphicFramePr>
              <p:xfrm>
                <a:off x="685800" y="1752480"/>
                <a:ext cx="585720" cy="4597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685800" y="1752480"/>
                          <a:ext cx="585720" cy="459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6" name=""/>
                <p:cNvSpPr/>
                <p:nvPr/>
              </p:nvSpPr>
              <p:spPr>
                <a:xfrm>
                  <a:off x="922320" y="3150720"/>
                  <a:ext cx="63360" cy="55080"/>
                </a:xfrm>
                <a:prstGeom prst="ellipse">
                  <a:avLst/>
                </a:prstGeom>
                <a:solidFill>
                  <a:srgbClr val="f5ebc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922320" y="2950920"/>
                  <a:ext cx="63360" cy="55080"/>
                </a:xfrm>
                <a:prstGeom prst="ellipse">
                  <a:avLst/>
                </a:prstGeom>
                <a:solidFill>
                  <a:srgbClr val="f5ebc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22320" y="3350880"/>
                  <a:ext cx="63360" cy="55080"/>
                </a:xfrm>
                <a:prstGeom prst="ellipse">
                  <a:avLst/>
                </a:prstGeom>
                <a:solidFill>
                  <a:srgbClr val="f5ebc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2171520" y="1883160"/>
                <a:ext cx="18943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CENTRAL TELEFONIC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845680" y="1752480"/>
              <a:ext cx="2275920" cy="2192400"/>
              <a:chOff x="5845680" y="1752480"/>
              <a:chExt cx="2275920" cy="2192400"/>
            </a:xfrm>
          </p:grpSpPr>
          <p:graphicFrame>
            <p:nvGraphicFramePr>
              <p:cNvPr id="151" name=""/>
              <p:cNvGraphicFramePr/>
              <p:nvPr/>
            </p:nvGraphicFramePr>
            <p:xfrm>
              <a:off x="5937120" y="2256480"/>
              <a:ext cx="1219320" cy="965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5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937120" y="2256480"/>
                        <a:ext cx="1219320" cy="96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53" name=""/>
              <p:cNvGrpSpPr/>
              <p:nvPr/>
            </p:nvGrpSpPr>
            <p:grpSpPr>
              <a:xfrm>
                <a:off x="7535880" y="1752480"/>
                <a:ext cx="585720" cy="2192400"/>
                <a:chOff x="7535880" y="1752480"/>
                <a:chExt cx="585720" cy="2192400"/>
              </a:xfrm>
            </p:grpSpPr>
            <p:graphicFrame>
              <p:nvGraphicFramePr>
                <p:cNvPr id="154" name=""/>
                <p:cNvGraphicFramePr/>
                <p:nvPr/>
              </p:nvGraphicFramePr>
              <p:xfrm>
                <a:off x="7535880" y="3485160"/>
                <a:ext cx="585720" cy="4597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155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7535880" y="3485160"/>
                          <a:ext cx="585720" cy="459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56" name=""/>
                <p:cNvGraphicFramePr/>
                <p:nvPr/>
              </p:nvGraphicFramePr>
              <p:xfrm>
                <a:off x="7535880" y="2352240"/>
                <a:ext cx="585720" cy="45972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157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7535880" y="2352240"/>
                          <a:ext cx="585720" cy="459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58" name=""/>
                <p:cNvGraphicFramePr/>
                <p:nvPr/>
              </p:nvGraphicFramePr>
              <p:xfrm>
                <a:off x="7535880" y="1752480"/>
                <a:ext cx="585720" cy="45972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159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535880" y="1752480"/>
                          <a:ext cx="585720" cy="459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60" name=""/>
                <p:cNvSpPr/>
                <p:nvPr/>
              </p:nvSpPr>
              <p:spPr>
                <a:xfrm>
                  <a:off x="7772400" y="3150720"/>
                  <a:ext cx="63360" cy="55080"/>
                </a:xfrm>
                <a:prstGeom prst="ellipse">
                  <a:avLst/>
                </a:prstGeom>
                <a:solidFill>
                  <a:srgbClr val="f5ebc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772400" y="2950920"/>
                  <a:ext cx="63360" cy="55080"/>
                </a:xfrm>
                <a:prstGeom prst="ellipse">
                  <a:avLst/>
                </a:prstGeom>
                <a:solidFill>
                  <a:srgbClr val="f5ebc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772400" y="3350880"/>
                  <a:ext cx="63360" cy="55080"/>
                </a:xfrm>
                <a:prstGeom prst="ellipse">
                  <a:avLst/>
                </a:prstGeom>
                <a:solidFill>
                  <a:srgbClr val="f5ebc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5845680" y="1920600"/>
                <a:ext cx="8931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CEN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7162920" y="2072880"/>
                <a:ext cx="520560" cy="27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38880" y="2612160"/>
                <a:ext cx="3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86600" y="3217680"/>
                <a:ext cx="520560" cy="32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429000" y="2619000"/>
              <a:ext cx="2514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743200" y="4352040"/>
              <a:ext cx="3380040" cy="2192400"/>
              <a:chOff x="2743200" y="4352040"/>
              <a:chExt cx="3380040" cy="2192400"/>
            </a:xfrm>
          </p:grpSpPr>
          <p:graphicFrame>
            <p:nvGraphicFramePr>
              <p:cNvPr id="169" name=""/>
              <p:cNvGraphicFramePr/>
              <p:nvPr/>
            </p:nvGraphicFramePr>
            <p:xfrm>
              <a:off x="4343400" y="4818600"/>
              <a:ext cx="1121040" cy="8884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70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343400" y="4818600"/>
                        <a:ext cx="1121040" cy="888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1" name=""/>
              <p:cNvSpPr/>
              <p:nvPr/>
            </p:nvSpPr>
            <p:spPr>
              <a:xfrm>
                <a:off x="3200400" y="4618440"/>
                <a:ext cx="1114560" cy="28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00400" y="528516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3276720" y="5634720"/>
                <a:ext cx="1190520" cy="64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2743200" y="4352040"/>
                <a:ext cx="585720" cy="2192400"/>
                <a:chOff x="2743200" y="4352040"/>
                <a:chExt cx="585720" cy="2192400"/>
              </a:xfrm>
            </p:grpSpPr>
            <p:graphicFrame>
              <p:nvGraphicFramePr>
                <p:cNvPr id="175" name=""/>
                <p:cNvGraphicFramePr/>
                <p:nvPr/>
              </p:nvGraphicFramePr>
              <p:xfrm>
                <a:off x="2743200" y="6085080"/>
                <a:ext cx="585720" cy="4593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176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2743200" y="6085080"/>
                          <a:ext cx="585720" cy="459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77" name=""/>
                <p:cNvGraphicFramePr/>
                <p:nvPr/>
              </p:nvGraphicFramePr>
              <p:xfrm>
                <a:off x="2743200" y="4951800"/>
                <a:ext cx="585720" cy="45972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178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2743200" y="4951800"/>
                          <a:ext cx="585720" cy="459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79" name=""/>
                <p:cNvGraphicFramePr/>
                <p:nvPr/>
              </p:nvGraphicFramePr>
              <p:xfrm>
                <a:off x="2743200" y="4352040"/>
                <a:ext cx="585720" cy="45972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180" name="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2743200" y="4352040"/>
                          <a:ext cx="585720" cy="459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81" name=""/>
                <p:cNvSpPr/>
                <p:nvPr/>
              </p:nvSpPr>
              <p:spPr>
                <a:xfrm>
                  <a:off x="2979720" y="5750280"/>
                  <a:ext cx="63360" cy="55080"/>
                </a:xfrm>
                <a:prstGeom prst="ellipse">
                  <a:avLst/>
                </a:prstGeom>
                <a:solidFill>
                  <a:srgbClr val="f5ebc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979720" y="5550480"/>
                  <a:ext cx="63360" cy="55080"/>
                </a:xfrm>
                <a:prstGeom prst="ellipse">
                  <a:avLst/>
                </a:prstGeom>
                <a:solidFill>
                  <a:srgbClr val="f5ebc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979720" y="5950440"/>
                  <a:ext cx="63360" cy="55080"/>
                </a:xfrm>
                <a:prstGeom prst="ellipse">
                  <a:avLst/>
                </a:prstGeom>
                <a:solidFill>
                  <a:srgbClr val="f5ebc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4228920" y="4482720"/>
                <a:ext cx="18943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CENTRAL TELEFONIC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3200400" y="3085920"/>
              <a:ext cx="1523880" cy="173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105520" y="3219120"/>
              <a:ext cx="1143000" cy="159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13840" y="3152160"/>
              <a:ext cx="19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ONC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95280" y="3485880"/>
              <a:ext cx="533520" cy="173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000" y="5456160"/>
              <a:ext cx="149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oop lo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40680" y="535356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bon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924680" y="4085640"/>
              <a:ext cx="0" cy="9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24280" y="2685240"/>
              <a:ext cx="0" cy="46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00600" y="35521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343400" y="3552120"/>
              <a:ext cx="4572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48800" y="9558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9900"/>
                </a:solidFill>
                <a:latin typeface="Arial Narrow"/>
              </a:rPr>
              <a:t>MPLS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MULTIPROTOCOL LABEL SWITCH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INTRODUCC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POR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JUAN CARLOS RESTREP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-mail: juanrest@diginet.com.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el.: 514053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VERSION: 1.5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Ultima revisión: Noviembre -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Medellín-Colombi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92" name="" descr=""/>
          <p:cNvPicPr/>
          <p:nvPr/>
        </p:nvPicPr>
        <p:blipFill>
          <a:blip r:embed="rId1"/>
          <a:stretch/>
        </p:blipFill>
        <p:spPr>
          <a:xfrm>
            <a:off x="6324480" y="5334120"/>
            <a:ext cx="2438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INTRODUCC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UAL ES EL SUEÑO DE LOS CARRIER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Una plataforma Multiservicio (Red Convergente) única que permita atender las necesidades propias y las de sus client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VP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Voz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alidad de servici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Ingeniería de tráfic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MPLS es una alternativa para implementar esa red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Narrow"/>
              </a:rPr>
              <a:t>Un Core IP Puro es otra alternativa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INTRODUCC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PLS es una “nueva” tecnología y por tanto se debe tratar con cautela, para que no se repita la historia con ATM: Se suponía que iva a estar en la LAN y la WAN y hoy solo está en el core del Carrie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MPLS se basa en técnicas de enrutamiento y suiche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Actualmente existen dos tendenci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os defensores de MPLS, como una mejora a IP convencional o Pur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os defensores de un backbone IP Pur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OJO: Hoy Internet está construida con IP pur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RESEÑA HISTORIC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304920" y="746280"/>
            <a:ext cx="8610480" cy="56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rígenes a mediados de los 90’ de varios esfuerzos intentando conciliar IP y ATM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JO: En esa época los suiches ATM tenían mejor desempeño, calidad de servicio y cubrían mayores distancias que los route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oluciones propuestas (hacia 1996)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3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psilon: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P Switching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scade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P Navegator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3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sco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g Swi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l objetivo era mejorar el desempeño de IP utilizando un protocolo de enrutamiento estándar como OSPF para hallar ruta hacia los destinos y utilizar suiches ATM como transport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 1997 IETF crea un grupo de trabajo para crear estánda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RESEÑA HISTORIC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304920" y="692280"/>
            <a:ext cx="861048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n 2001 se presenta el primer estándar de MP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acia finales de 1990 ya se tenían routers tan rápidos como los suiches ATM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PLS pasa entonces a ser una tecnología en si misma independiente de ATM que según sus defensores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duce el tiempo de procesamiento del paquete IP en los route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mite enrutar por criterios diferentes a la dirección destin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cilita el soporte de Q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yuda en la implementación de Traffic enginee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cilita la implementación de Virtual Private Network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QUE ES MPLS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ecnología desarrollada por la IETF (RFC 3031 y otros) para la implementación de un core basado en enrutamiento y suiche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Actualmente es una opción para la implementación de un  core “más compatible con TCP/IP” en la infraestructura de los Carrie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Dos visiones de MPL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Una escuela lo ve como una mejora a IP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otra escuela como una nueva tecnología de nivel 2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OJO: MPLS no resuelve todos los problemas de ATM (Segmentación/Reensamble, tamaño limitado de la celda, Overhead, más procesamiento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92468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MPLS E IP CONVENCIONA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Teniendo en cuenta que MPLS sobre IP, es el IP convencional más otros protocolos (LDP, etc) es recomendable revisar en este punto los siguientes protocolos de enrutamiento IP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OSPF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BGP-4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IS-I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Ver presentación “TCP/IP parte 2: enrutamiento” en </a:t>
            </a:r>
            <a:r>
              <a:rPr b="0" lang="es-ES_tradnl" sz="3200" spc="-1" strike="noStrike" u="sng">
                <a:solidFill>
                  <a:srgbClr val="d4876c"/>
                </a:solidFill>
                <a:uFillTx/>
                <a:latin typeface="Arial Narrow"/>
                <a:hlinkClick r:id="rId3"/>
              </a:rPr>
              <a:t>www.diginet.com.co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Download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1044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ARQUITECTURA TIPICA DE UN IS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404640"/>
            <a:ext cx="7632720" cy="3457800"/>
          </a:xfrm>
          <a:custGeom>
            <a:avLst/>
            <a:gdLst/>
            <a:ahLst/>
            <a:rect l="l" t="t" r="r" b="b"/>
            <a:pathLst>
              <a:path w="913" h="576">
                <a:moveTo>
                  <a:pt x="421" y="76"/>
                </a:moveTo>
                <a:lnTo>
                  <a:pt x="400" y="71"/>
                </a:lnTo>
                <a:lnTo>
                  <a:pt x="371" y="64"/>
                </a:lnTo>
                <a:lnTo>
                  <a:pt x="347" y="63"/>
                </a:lnTo>
                <a:lnTo>
                  <a:pt x="321" y="65"/>
                </a:lnTo>
                <a:lnTo>
                  <a:pt x="302" y="68"/>
                </a:lnTo>
                <a:lnTo>
                  <a:pt x="284" y="73"/>
                </a:lnTo>
                <a:lnTo>
                  <a:pt x="263" y="81"/>
                </a:lnTo>
                <a:lnTo>
                  <a:pt x="244" y="91"/>
                </a:lnTo>
                <a:lnTo>
                  <a:pt x="225" y="105"/>
                </a:lnTo>
                <a:lnTo>
                  <a:pt x="206" y="123"/>
                </a:lnTo>
                <a:lnTo>
                  <a:pt x="193" y="140"/>
                </a:lnTo>
                <a:lnTo>
                  <a:pt x="184" y="155"/>
                </a:lnTo>
                <a:lnTo>
                  <a:pt x="176" y="172"/>
                </a:lnTo>
                <a:lnTo>
                  <a:pt x="171" y="194"/>
                </a:lnTo>
                <a:lnTo>
                  <a:pt x="154" y="189"/>
                </a:lnTo>
                <a:lnTo>
                  <a:pt x="135" y="186"/>
                </a:lnTo>
                <a:lnTo>
                  <a:pt x="118" y="186"/>
                </a:lnTo>
                <a:lnTo>
                  <a:pt x="100" y="190"/>
                </a:lnTo>
                <a:lnTo>
                  <a:pt x="84" y="197"/>
                </a:lnTo>
                <a:lnTo>
                  <a:pt x="68" y="204"/>
                </a:lnTo>
                <a:lnTo>
                  <a:pt x="51" y="219"/>
                </a:lnTo>
                <a:lnTo>
                  <a:pt x="42" y="230"/>
                </a:lnTo>
                <a:lnTo>
                  <a:pt x="30" y="243"/>
                </a:lnTo>
                <a:lnTo>
                  <a:pt x="20" y="258"/>
                </a:lnTo>
                <a:lnTo>
                  <a:pt x="12" y="279"/>
                </a:lnTo>
                <a:lnTo>
                  <a:pt x="6" y="298"/>
                </a:lnTo>
                <a:lnTo>
                  <a:pt x="2" y="318"/>
                </a:lnTo>
                <a:lnTo>
                  <a:pt x="1" y="333"/>
                </a:lnTo>
                <a:lnTo>
                  <a:pt x="0" y="349"/>
                </a:lnTo>
                <a:lnTo>
                  <a:pt x="1" y="368"/>
                </a:lnTo>
                <a:lnTo>
                  <a:pt x="3" y="385"/>
                </a:lnTo>
                <a:lnTo>
                  <a:pt x="7" y="402"/>
                </a:lnTo>
                <a:lnTo>
                  <a:pt x="12" y="418"/>
                </a:lnTo>
                <a:lnTo>
                  <a:pt x="20" y="436"/>
                </a:lnTo>
                <a:lnTo>
                  <a:pt x="30" y="454"/>
                </a:lnTo>
                <a:lnTo>
                  <a:pt x="42" y="468"/>
                </a:lnTo>
                <a:lnTo>
                  <a:pt x="56" y="482"/>
                </a:lnTo>
                <a:lnTo>
                  <a:pt x="72" y="493"/>
                </a:lnTo>
                <a:lnTo>
                  <a:pt x="85" y="500"/>
                </a:lnTo>
                <a:lnTo>
                  <a:pt x="98" y="504"/>
                </a:lnTo>
                <a:lnTo>
                  <a:pt x="113" y="509"/>
                </a:lnTo>
                <a:lnTo>
                  <a:pt x="128" y="509"/>
                </a:lnTo>
                <a:lnTo>
                  <a:pt x="145" y="509"/>
                </a:lnTo>
                <a:lnTo>
                  <a:pt x="161" y="506"/>
                </a:lnTo>
                <a:lnTo>
                  <a:pt x="174" y="502"/>
                </a:lnTo>
                <a:lnTo>
                  <a:pt x="182" y="498"/>
                </a:lnTo>
                <a:lnTo>
                  <a:pt x="191" y="511"/>
                </a:lnTo>
                <a:lnTo>
                  <a:pt x="204" y="522"/>
                </a:lnTo>
                <a:lnTo>
                  <a:pt x="217" y="533"/>
                </a:lnTo>
                <a:lnTo>
                  <a:pt x="232" y="543"/>
                </a:lnTo>
                <a:lnTo>
                  <a:pt x="252" y="552"/>
                </a:lnTo>
                <a:lnTo>
                  <a:pt x="271" y="561"/>
                </a:lnTo>
                <a:lnTo>
                  <a:pt x="294" y="568"/>
                </a:lnTo>
                <a:lnTo>
                  <a:pt x="315" y="572"/>
                </a:lnTo>
                <a:lnTo>
                  <a:pt x="339" y="575"/>
                </a:lnTo>
                <a:lnTo>
                  <a:pt x="357" y="575"/>
                </a:lnTo>
                <a:lnTo>
                  <a:pt x="376" y="575"/>
                </a:lnTo>
                <a:lnTo>
                  <a:pt x="402" y="571"/>
                </a:lnTo>
                <a:lnTo>
                  <a:pt x="433" y="559"/>
                </a:lnTo>
                <a:lnTo>
                  <a:pt x="444" y="562"/>
                </a:lnTo>
                <a:lnTo>
                  <a:pt x="465" y="553"/>
                </a:lnTo>
                <a:lnTo>
                  <a:pt x="486" y="543"/>
                </a:lnTo>
                <a:lnTo>
                  <a:pt x="499" y="535"/>
                </a:lnTo>
                <a:lnTo>
                  <a:pt x="510" y="525"/>
                </a:lnTo>
                <a:lnTo>
                  <a:pt x="522" y="531"/>
                </a:lnTo>
                <a:lnTo>
                  <a:pt x="537" y="539"/>
                </a:lnTo>
                <a:lnTo>
                  <a:pt x="552" y="544"/>
                </a:lnTo>
                <a:lnTo>
                  <a:pt x="566" y="548"/>
                </a:lnTo>
                <a:lnTo>
                  <a:pt x="582" y="550"/>
                </a:lnTo>
                <a:lnTo>
                  <a:pt x="597" y="550"/>
                </a:lnTo>
                <a:lnTo>
                  <a:pt x="615" y="547"/>
                </a:lnTo>
                <a:lnTo>
                  <a:pt x="633" y="542"/>
                </a:lnTo>
                <a:lnTo>
                  <a:pt x="650" y="535"/>
                </a:lnTo>
                <a:lnTo>
                  <a:pt x="666" y="524"/>
                </a:lnTo>
                <a:lnTo>
                  <a:pt x="681" y="512"/>
                </a:lnTo>
                <a:lnTo>
                  <a:pt x="701" y="522"/>
                </a:lnTo>
                <a:lnTo>
                  <a:pt x="720" y="527"/>
                </a:lnTo>
                <a:lnTo>
                  <a:pt x="736" y="530"/>
                </a:lnTo>
                <a:lnTo>
                  <a:pt x="759" y="530"/>
                </a:lnTo>
                <a:lnTo>
                  <a:pt x="784" y="526"/>
                </a:lnTo>
                <a:lnTo>
                  <a:pt x="813" y="516"/>
                </a:lnTo>
                <a:lnTo>
                  <a:pt x="837" y="500"/>
                </a:lnTo>
                <a:lnTo>
                  <a:pt x="858" y="481"/>
                </a:lnTo>
                <a:lnTo>
                  <a:pt x="878" y="458"/>
                </a:lnTo>
                <a:lnTo>
                  <a:pt x="888" y="439"/>
                </a:lnTo>
                <a:lnTo>
                  <a:pt x="897" y="420"/>
                </a:lnTo>
                <a:lnTo>
                  <a:pt x="906" y="394"/>
                </a:lnTo>
                <a:lnTo>
                  <a:pt x="910" y="370"/>
                </a:lnTo>
                <a:lnTo>
                  <a:pt x="912" y="343"/>
                </a:lnTo>
                <a:lnTo>
                  <a:pt x="910" y="323"/>
                </a:lnTo>
                <a:lnTo>
                  <a:pt x="906" y="298"/>
                </a:lnTo>
                <a:lnTo>
                  <a:pt x="899" y="274"/>
                </a:lnTo>
                <a:lnTo>
                  <a:pt x="888" y="252"/>
                </a:lnTo>
                <a:lnTo>
                  <a:pt x="877" y="230"/>
                </a:lnTo>
                <a:lnTo>
                  <a:pt x="862" y="212"/>
                </a:lnTo>
                <a:lnTo>
                  <a:pt x="848" y="198"/>
                </a:lnTo>
                <a:lnTo>
                  <a:pt x="834" y="188"/>
                </a:lnTo>
                <a:lnTo>
                  <a:pt x="815" y="173"/>
                </a:lnTo>
                <a:lnTo>
                  <a:pt x="797" y="166"/>
                </a:lnTo>
                <a:lnTo>
                  <a:pt x="781" y="162"/>
                </a:lnTo>
                <a:lnTo>
                  <a:pt x="762" y="159"/>
                </a:lnTo>
                <a:lnTo>
                  <a:pt x="759" y="143"/>
                </a:lnTo>
                <a:lnTo>
                  <a:pt x="754" y="126"/>
                </a:lnTo>
                <a:lnTo>
                  <a:pt x="747" y="110"/>
                </a:lnTo>
                <a:lnTo>
                  <a:pt x="738" y="94"/>
                </a:lnTo>
                <a:lnTo>
                  <a:pt x="726" y="77"/>
                </a:lnTo>
                <a:lnTo>
                  <a:pt x="711" y="59"/>
                </a:lnTo>
                <a:lnTo>
                  <a:pt x="698" y="45"/>
                </a:lnTo>
                <a:lnTo>
                  <a:pt x="681" y="33"/>
                </a:lnTo>
                <a:lnTo>
                  <a:pt x="660" y="20"/>
                </a:lnTo>
                <a:lnTo>
                  <a:pt x="640" y="11"/>
                </a:lnTo>
                <a:lnTo>
                  <a:pt x="621" y="5"/>
                </a:lnTo>
                <a:lnTo>
                  <a:pt x="598" y="1"/>
                </a:lnTo>
                <a:lnTo>
                  <a:pt x="577" y="0"/>
                </a:lnTo>
                <a:lnTo>
                  <a:pt x="554" y="0"/>
                </a:lnTo>
                <a:lnTo>
                  <a:pt x="533" y="4"/>
                </a:lnTo>
                <a:lnTo>
                  <a:pt x="509" y="11"/>
                </a:lnTo>
                <a:lnTo>
                  <a:pt x="483" y="23"/>
                </a:lnTo>
                <a:lnTo>
                  <a:pt x="466" y="33"/>
                </a:lnTo>
                <a:lnTo>
                  <a:pt x="449" y="46"/>
                </a:lnTo>
                <a:lnTo>
                  <a:pt x="434" y="62"/>
                </a:lnTo>
                <a:lnTo>
                  <a:pt x="421" y="76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84360" y="54936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7240" y="249228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UTER P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482920" y="3645000"/>
          <a:ext cx="58716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2920" y="3645000"/>
                    <a:ext cx="5871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490920" y="3645000"/>
          <a:ext cx="58752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0920" y="3645000"/>
                    <a:ext cx="5875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716360" y="3645000"/>
          <a:ext cx="58752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3645000"/>
                    <a:ext cx="5875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940360" y="3645000"/>
          <a:ext cx="587520" cy="50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3645000"/>
                    <a:ext cx="5875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1800" y="3500280"/>
            <a:ext cx="27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pos de acce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, ADSL, Radi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92000" y="1341360"/>
            <a:ext cx="863640" cy="1008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572000" y="1916280"/>
            <a:ext cx="504720" cy="504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11480" y="2270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91600" y="306864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UTER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440" y="98100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EDORES INTER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5240" y="1557360"/>
            <a:ext cx="27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P LOCALES Y N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4365720"/>
            <a:ext cx="1295280" cy="718920"/>
            <a:chOff x="0" y="4365720"/>
            <a:chExt cx="1295280" cy="718920"/>
          </a:xfrm>
        </p:grpSpPr>
        <p:sp>
          <p:nvSpPr>
            <p:cNvPr id="216" name=""/>
            <p:cNvSpPr/>
            <p:nvPr/>
          </p:nvSpPr>
          <p:spPr>
            <a:xfrm>
              <a:off x="0" y="4365720"/>
              <a:ext cx="1295280" cy="718920"/>
            </a:xfrm>
            <a:custGeom>
              <a:avLst/>
              <a:gdLst/>
              <a:ahLst/>
              <a:rect l="l" t="t" r="r" b="b"/>
              <a:pathLst>
                <a:path w="913" h="576">
                  <a:moveTo>
                    <a:pt x="421" y="76"/>
                  </a:moveTo>
                  <a:lnTo>
                    <a:pt x="400" y="71"/>
                  </a:lnTo>
                  <a:lnTo>
                    <a:pt x="371" y="64"/>
                  </a:lnTo>
                  <a:lnTo>
                    <a:pt x="347" y="63"/>
                  </a:lnTo>
                  <a:lnTo>
                    <a:pt x="321" y="65"/>
                  </a:lnTo>
                  <a:lnTo>
                    <a:pt x="302" y="68"/>
                  </a:lnTo>
                  <a:lnTo>
                    <a:pt x="284" y="73"/>
                  </a:lnTo>
                  <a:lnTo>
                    <a:pt x="263" y="81"/>
                  </a:lnTo>
                  <a:lnTo>
                    <a:pt x="244" y="91"/>
                  </a:lnTo>
                  <a:lnTo>
                    <a:pt x="225" y="105"/>
                  </a:lnTo>
                  <a:lnTo>
                    <a:pt x="206" y="123"/>
                  </a:lnTo>
                  <a:lnTo>
                    <a:pt x="193" y="140"/>
                  </a:lnTo>
                  <a:lnTo>
                    <a:pt x="184" y="155"/>
                  </a:lnTo>
                  <a:lnTo>
                    <a:pt x="176" y="172"/>
                  </a:lnTo>
                  <a:lnTo>
                    <a:pt x="171" y="194"/>
                  </a:lnTo>
                  <a:lnTo>
                    <a:pt x="154" y="189"/>
                  </a:lnTo>
                  <a:lnTo>
                    <a:pt x="135" y="186"/>
                  </a:lnTo>
                  <a:lnTo>
                    <a:pt x="118" y="186"/>
                  </a:lnTo>
                  <a:lnTo>
                    <a:pt x="100" y="190"/>
                  </a:lnTo>
                  <a:lnTo>
                    <a:pt x="84" y="197"/>
                  </a:lnTo>
                  <a:lnTo>
                    <a:pt x="68" y="204"/>
                  </a:lnTo>
                  <a:lnTo>
                    <a:pt x="51" y="219"/>
                  </a:lnTo>
                  <a:lnTo>
                    <a:pt x="42" y="230"/>
                  </a:lnTo>
                  <a:lnTo>
                    <a:pt x="30" y="243"/>
                  </a:lnTo>
                  <a:lnTo>
                    <a:pt x="20" y="258"/>
                  </a:lnTo>
                  <a:lnTo>
                    <a:pt x="12" y="279"/>
                  </a:lnTo>
                  <a:lnTo>
                    <a:pt x="6" y="298"/>
                  </a:lnTo>
                  <a:lnTo>
                    <a:pt x="2" y="318"/>
                  </a:lnTo>
                  <a:lnTo>
                    <a:pt x="1" y="333"/>
                  </a:lnTo>
                  <a:lnTo>
                    <a:pt x="0" y="349"/>
                  </a:lnTo>
                  <a:lnTo>
                    <a:pt x="1" y="368"/>
                  </a:lnTo>
                  <a:lnTo>
                    <a:pt x="3" y="385"/>
                  </a:lnTo>
                  <a:lnTo>
                    <a:pt x="7" y="402"/>
                  </a:lnTo>
                  <a:lnTo>
                    <a:pt x="12" y="418"/>
                  </a:lnTo>
                  <a:lnTo>
                    <a:pt x="20" y="436"/>
                  </a:lnTo>
                  <a:lnTo>
                    <a:pt x="30" y="454"/>
                  </a:lnTo>
                  <a:lnTo>
                    <a:pt x="42" y="468"/>
                  </a:lnTo>
                  <a:lnTo>
                    <a:pt x="56" y="482"/>
                  </a:lnTo>
                  <a:lnTo>
                    <a:pt x="72" y="493"/>
                  </a:lnTo>
                  <a:lnTo>
                    <a:pt x="85" y="500"/>
                  </a:lnTo>
                  <a:lnTo>
                    <a:pt x="98" y="504"/>
                  </a:lnTo>
                  <a:lnTo>
                    <a:pt x="113" y="509"/>
                  </a:lnTo>
                  <a:lnTo>
                    <a:pt x="128" y="509"/>
                  </a:lnTo>
                  <a:lnTo>
                    <a:pt x="145" y="509"/>
                  </a:lnTo>
                  <a:lnTo>
                    <a:pt x="161" y="506"/>
                  </a:lnTo>
                  <a:lnTo>
                    <a:pt x="174" y="502"/>
                  </a:lnTo>
                  <a:lnTo>
                    <a:pt x="182" y="498"/>
                  </a:lnTo>
                  <a:lnTo>
                    <a:pt x="191" y="511"/>
                  </a:lnTo>
                  <a:lnTo>
                    <a:pt x="204" y="522"/>
                  </a:lnTo>
                  <a:lnTo>
                    <a:pt x="217" y="533"/>
                  </a:lnTo>
                  <a:lnTo>
                    <a:pt x="232" y="543"/>
                  </a:lnTo>
                  <a:lnTo>
                    <a:pt x="252" y="552"/>
                  </a:lnTo>
                  <a:lnTo>
                    <a:pt x="271" y="561"/>
                  </a:lnTo>
                  <a:lnTo>
                    <a:pt x="294" y="568"/>
                  </a:lnTo>
                  <a:lnTo>
                    <a:pt x="315" y="572"/>
                  </a:lnTo>
                  <a:lnTo>
                    <a:pt x="339" y="575"/>
                  </a:lnTo>
                  <a:lnTo>
                    <a:pt x="357" y="575"/>
                  </a:lnTo>
                  <a:lnTo>
                    <a:pt x="376" y="575"/>
                  </a:lnTo>
                  <a:lnTo>
                    <a:pt x="402" y="571"/>
                  </a:lnTo>
                  <a:lnTo>
                    <a:pt x="433" y="559"/>
                  </a:lnTo>
                  <a:lnTo>
                    <a:pt x="444" y="562"/>
                  </a:lnTo>
                  <a:lnTo>
                    <a:pt x="465" y="553"/>
                  </a:lnTo>
                  <a:lnTo>
                    <a:pt x="486" y="543"/>
                  </a:lnTo>
                  <a:lnTo>
                    <a:pt x="499" y="535"/>
                  </a:lnTo>
                  <a:lnTo>
                    <a:pt x="510" y="525"/>
                  </a:lnTo>
                  <a:lnTo>
                    <a:pt x="522" y="531"/>
                  </a:lnTo>
                  <a:lnTo>
                    <a:pt x="537" y="539"/>
                  </a:lnTo>
                  <a:lnTo>
                    <a:pt x="552" y="544"/>
                  </a:lnTo>
                  <a:lnTo>
                    <a:pt x="566" y="548"/>
                  </a:lnTo>
                  <a:lnTo>
                    <a:pt x="582" y="550"/>
                  </a:lnTo>
                  <a:lnTo>
                    <a:pt x="597" y="550"/>
                  </a:lnTo>
                  <a:lnTo>
                    <a:pt x="615" y="547"/>
                  </a:lnTo>
                  <a:lnTo>
                    <a:pt x="633" y="542"/>
                  </a:lnTo>
                  <a:lnTo>
                    <a:pt x="650" y="535"/>
                  </a:lnTo>
                  <a:lnTo>
                    <a:pt x="666" y="524"/>
                  </a:lnTo>
                  <a:lnTo>
                    <a:pt x="681" y="512"/>
                  </a:lnTo>
                  <a:lnTo>
                    <a:pt x="701" y="522"/>
                  </a:lnTo>
                  <a:lnTo>
                    <a:pt x="720" y="527"/>
                  </a:lnTo>
                  <a:lnTo>
                    <a:pt x="736" y="530"/>
                  </a:lnTo>
                  <a:lnTo>
                    <a:pt x="759" y="530"/>
                  </a:lnTo>
                  <a:lnTo>
                    <a:pt x="784" y="526"/>
                  </a:lnTo>
                  <a:lnTo>
                    <a:pt x="813" y="516"/>
                  </a:lnTo>
                  <a:lnTo>
                    <a:pt x="837" y="500"/>
                  </a:lnTo>
                  <a:lnTo>
                    <a:pt x="858" y="481"/>
                  </a:lnTo>
                  <a:lnTo>
                    <a:pt x="878" y="458"/>
                  </a:lnTo>
                  <a:lnTo>
                    <a:pt x="888" y="439"/>
                  </a:lnTo>
                  <a:lnTo>
                    <a:pt x="897" y="420"/>
                  </a:lnTo>
                  <a:lnTo>
                    <a:pt x="906" y="394"/>
                  </a:lnTo>
                  <a:lnTo>
                    <a:pt x="910" y="370"/>
                  </a:lnTo>
                  <a:lnTo>
                    <a:pt x="912" y="343"/>
                  </a:lnTo>
                  <a:lnTo>
                    <a:pt x="910" y="323"/>
                  </a:lnTo>
                  <a:lnTo>
                    <a:pt x="906" y="298"/>
                  </a:lnTo>
                  <a:lnTo>
                    <a:pt x="899" y="274"/>
                  </a:lnTo>
                  <a:lnTo>
                    <a:pt x="888" y="252"/>
                  </a:lnTo>
                  <a:lnTo>
                    <a:pt x="877" y="230"/>
                  </a:lnTo>
                  <a:lnTo>
                    <a:pt x="862" y="212"/>
                  </a:lnTo>
                  <a:lnTo>
                    <a:pt x="848" y="198"/>
                  </a:lnTo>
                  <a:lnTo>
                    <a:pt x="834" y="188"/>
                  </a:lnTo>
                  <a:lnTo>
                    <a:pt x="815" y="173"/>
                  </a:lnTo>
                  <a:lnTo>
                    <a:pt x="797" y="166"/>
                  </a:lnTo>
                  <a:lnTo>
                    <a:pt x="781" y="162"/>
                  </a:lnTo>
                  <a:lnTo>
                    <a:pt x="762" y="159"/>
                  </a:lnTo>
                  <a:lnTo>
                    <a:pt x="759" y="143"/>
                  </a:lnTo>
                  <a:lnTo>
                    <a:pt x="754" y="126"/>
                  </a:lnTo>
                  <a:lnTo>
                    <a:pt x="747" y="110"/>
                  </a:lnTo>
                  <a:lnTo>
                    <a:pt x="738" y="94"/>
                  </a:lnTo>
                  <a:lnTo>
                    <a:pt x="726" y="77"/>
                  </a:lnTo>
                  <a:lnTo>
                    <a:pt x="711" y="59"/>
                  </a:lnTo>
                  <a:lnTo>
                    <a:pt x="698" y="45"/>
                  </a:lnTo>
                  <a:lnTo>
                    <a:pt x="681" y="33"/>
                  </a:lnTo>
                  <a:lnTo>
                    <a:pt x="660" y="20"/>
                  </a:lnTo>
                  <a:lnTo>
                    <a:pt x="640" y="11"/>
                  </a:lnTo>
                  <a:lnTo>
                    <a:pt x="621" y="5"/>
                  </a:lnTo>
                  <a:lnTo>
                    <a:pt x="598" y="1"/>
                  </a:lnTo>
                  <a:lnTo>
                    <a:pt x="577" y="0"/>
                  </a:lnTo>
                  <a:lnTo>
                    <a:pt x="554" y="0"/>
                  </a:lnTo>
                  <a:lnTo>
                    <a:pt x="533" y="4"/>
                  </a:lnTo>
                  <a:lnTo>
                    <a:pt x="509" y="11"/>
                  </a:lnTo>
                  <a:lnTo>
                    <a:pt x="483" y="23"/>
                  </a:lnTo>
                  <a:lnTo>
                    <a:pt x="466" y="33"/>
                  </a:lnTo>
                  <a:lnTo>
                    <a:pt x="449" y="46"/>
                  </a:lnTo>
                  <a:lnTo>
                    <a:pt x="434" y="62"/>
                  </a:lnTo>
                  <a:lnTo>
                    <a:pt x="421" y="76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2720" y="46530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763640" y="4076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6093000"/>
          <a:ext cx="57600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6093000"/>
                    <a:ext cx="5760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116000" y="5535720"/>
            <a:ext cx="1191240" cy="1324080"/>
            <a:chOff x="1116000" y="5535720"/>
            <a:chExt cx="1191240" cy="1324080"/>
          </a:xfrm>
        </p:grpSpPr>
        <p:graphicFrame>
          <p:nvGraphicFramePr>
            <p:cNvPr id="222" name=""/>
            <p:cNvGraphicFramePr/>
            <p:nvPr/>
          </p:nvGraphicFramePr>
          <p:xfrm>
            <a:off x="1194480" y="6185160"/>
            <a:ext cx="49824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94480" y="6185160"/>
                      <a:ext cx="4982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1668240" y="6185160"/>
            <a:ext cx="498240" cy="393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668240" y="6185160"/>
                      <a:ext cx="4982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1116000" y="6174000"/>
              <a:ext cx="102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1511280" y="5535720"/>
            <a:ext cx="327240" cy="522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511280" y="5535720"/>
                      <a:ext cx="32724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1746360" y="5774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76200" y="6400800"/>
              <a:ext cx="103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D 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68240" y="60404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 flipV="1">
            <a:off x="539640" y="5013360"/>
            <a:ext cx="7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42920" y="501336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547640" y="4292640"/>
            <a:ext cx="1368720" cy="718920"/>
            <a:chOff x="1547640" y="4292640"/>
            <a:chExt cx="1368720" cy="718920"/>
          </a:xfrm>
        </p:grpSpPr>
        <p:sp>
          <p:nvSpPr>
            <p:cNvPr id="235" name=""/>
            <p:cNvSpPr/>
            <p:nvPr/>
          </p:nvSpPr>
          <p:spPr>
            <a:xfrm>
              <a:off x="1547640" y="4292640"/>
              <a:ext cx="1368720" cy="718920"/>
            </a:xfrm>
            <a:custGeom>
              <a:avLst/>
              <a:gdLst/>
              <a:ahLst/>
              <a:rect l="l" t="t" r="r" b="b"/>
              <a:pathLst>
                <a:path w="913" h="576">
                  <a:moveTo>
                    <a:pt x="421" y="76"/>
                  </a:moveTo>
                  <a:lnTo>
                    <a:pt x="400" y="71"/>
                  </a:lnTo>
                  <a:lnTo>
                    <a:pt x="371" y="64"/>
                  </a:lnTo>
                  <a:lnTo>
                    <a:pt x="347" y="63"/>
                  </a:lnTo>
                  <a:lnTo>
                    <a:pt x="321" y="65"/>
                  </a:lnTo>
                  <a:lnTo>
                    <a:pt x="302" y="68"/>
                  </a:lnTo>
                  <a:lnTo>
                    <a:pt x="284" y="73"/>
                  </a:lnTo>
                  <a:lnTo>
                    <a:pt x="263" y="81"/>
                  </a:lnTo>
                  <a:lnTo>
                    <a:pt x="244" y="91"/>
                  </a:lnTo>
                  <a:lnTo>
                    <a:pt x="225" y="105"/>
                  </a:lnTo>
                  <a:lnTo>
                    <a:pt x="206" y="123"/>
                  </a:lnTo>
                  <a:lnTo>
                    <a:pt x="193" y="140"/>
                  </a:lnTo>
                  <a:lnTo>
                    <a:pt x="184" y="155"/>
                  </a:lnTo>
                  <a:lnTo>
                    <a:pt x="176" y="172"/>
                  </a:lnTo>
                  <a:lnTo>
                    <a:pt x="171" y="194"/>
                  </a:lnTo>
                  <a:lnTo>
                    <a:pt x="154" y="189"/>
                  </a:lnTo>
                  <a:lnTo>
                    <a:pt x="135" y="186"/>
                  </a:lnTo>
                  <a:lnTo>
                    <a:pt x="118" y="186"/>
                  </a:lnTo>
                  <a:lnTo>
                    <a:pt x="100" y="190"/>
                  </a:lnTo>
                  <a:lnTo>
                    <a:pt x="84" y="197"/>
                  </a:lnTo>
                  <a:lnTo>
                    <a:pt x="68" y="204"/>
                  </a:lnTo>
                  <a:lnTo>
                    <a:pt x="51" y="219"/>
                  </a:lnTo>
                  <a:lnTo>
                    <a:pt x="42" y="230"/>
                  </a:lnTo>
                  <a:lnTo>
                    <a:pt x="30" y="243"/>
                  </a:lnTo>
                  <a:lnTo>
                    <a:pt x="20" y="258"/>
                  </a:lnTo>
                  <a:lnTo>
                    <a:pt x="12" y="279"/>
                  </a:lnTo>
                  <a:lnTo>
                    <a:pt x="6" y="298"/>
                  </a:lnTo>
                  <a:lnTo>
                    <a:pt x="2" y="318"/>
                  </a:lnTo>
                  <a:lnTo>
                    <a:pt x="1" y="333"/>
                  </a:lnTo>
                  <a:lnTo>
                    <a:pt x="0" y="349"/>
                  </a:lnTo>
                  <a:lnTo>
                    <a:pt x="1" y="368"/>
                  </a:lnTo>
                  <a:lnTo>
                    <a:pt x="3" y="385"/>
                  </a:lnTo>
                  <a:lnTo>
                    <a:pt x="7" y="402"/>
                  </a:lnTo>
                  <a:lnTo>
                    <a:pt x="12" y="418"/>
                  </a:lnTo>
                  <a:lnTo>
                    <a:pt x="20" y="436"/>
                  </a:lnTo>
                  <a:lnTo>
                    <a:pt x="30" y="454"/>
                  </a:lnTo>
                  <a:lnTo>
                    <a:pt x="42" y="468"/>
                  </a:lnTo>
                  <a:lnTo>
                    <a:pt x="56" y="482"/>
                  </a:lnTo>
                  <a:lnTo>
                    <a:pt x="72" y="493"/>
                  </a:lnTo>
                  <a:lnTo>
                    <a:pt x="85" y="500"/>
                  </a:lnTo>
                  <a:lnTo>
                    <a:pt x="98" y="504"/>
                  </a:lnTo>
                  <a:lnTo>
                    <a:pt x="113" y="509"/>
                  </a:lnTo>
                  <a:lnTo>
                    <a:pt x="128" y="509"/>
                  </a:lnTo>
                  <a:lnTo>
                    <a:pt x="145" y="509"/>
                  </a:lnTo>
                  <a:lnTo>
                    <a:pt x="161" y="506"/>
                  </a:lnTo>
                  <a:lnTo>
                    <a:pt x="174" y="502"/>
                  </a:lnTo>
                  <a:lnTo>
                    <a:pt x="182" y="498"/>
                  </a:lnTo>
                  <a:lnTo>
                    <a:pt x="191" y="511"/>
                  </a:lnTo>
                  <a:lnTo>
                    <a:pt x="204" y="522"/>
                  </a:lnTo>
                  <a:lnTo>
                    <a:pt x="217" y="533"/>
                  </a:lnTo>
                  <a:lnTo>
                    <a:pt x="232" y="543"/>
                  </a:lnTo>
                  <a:lnTo>
                    <a:pt x="252" y="552"/>
                  </a:lnTo>
                  <a:lnTo>
                    <a:pt x="271" y="561"/>
                  </a:lnTo>
                  <a:lnTo>
                    <a:pt x="294" y="568"/>
                  </a:lnTo>
                  <a:lnTo>
                    <a:pt x="315" y="572"/>
                  </a:lnTo>
                  <a:lnTo>
                    <a:pt x="339" y="575"/>
                  </a:lnTo>
                  <a:lnTo>
                    <a:pt x="357" y="575"/>
                  </a:lnTo>
                  <a:lnTo>
                    <a:pt x="376" y="575"/>
                  </a:lnTo>
                  <a:lnTo>
                    <a:pt x="402" y="571"/>
                  </a:lnTo>
                  <a:lnTo>
                    <a:pt x="433" y="559"/>
                  </a:lnTo>
                  <a:lnTo>
                    <a:pt x="444" y="562"/>
                  </a:lnTo>
                  <a:lnTo>
                    <a:pt x="465" y="553"/>
                  </a:lnTo>
                  <a:lnTo>
                    <a:pt x="486" y="543"/>
                  </a:lnTo>
                  <a:lnTo>
                    <a:pt x="499" y="535"/>
                  </a:lnTo>
                  <a:lnTo>
                    <a:pt x="510" y="525"/>
                  </a:lnTo>
                  <a:lnTo>
                    <a:pt x="522" y="531"/>
                  </a:lnTo>
                  <a:lnTo>
                    <a:pt x="537" y="539"/>
                  </a:lnTo>
                  <a:lnTo>
                    <a:pt x="552" y="544"/>
                  </a:lnTo>
                  <a:lnTo>
                    <a:pt x="566" y="548"/>
                  </a:lnTo>
                  <a:lnTo>
                    <a:pt x="582" y="550"/>
                  </a:lnTo>
                  <a:lnTo>
                    <a:pt x="597" y="550"/>
                  </a:lnTo>
                  <a:lnTo>
                    <a:pt x="615" y="547"/>
                  </a:lnTo>
                  <a:lnTo>
                    <a:pt x="633" y="542"/>
                  </a:lnTo>
                  <a:lnTo>
                    <a:pt x="650" y="535"/>
                  </a:lnTo>
                  <a:lnTo>
                    <a:pt x="666" y="524"/>
                  </a:lnTo>
                  <a:lnTo>
                    <a:pt x="681" y="512"/>
                  </a:lnTo>
                  <a:lnTo>
                    <a:pt x="701" y="522"/>
                  </a:lnTo>
                  <a:lnTo>
                    <a:pt x="720" y="527"/>
                  </a:lnTo>
                  <a:lnTo>
                    <a:pt x="736" y="530"/>
                  </a:lnTo>
                  <a:lnTo>
                    <a:pt x="759" y="530"/>
                  </a:lnTo>
                  <a:lnTo>
                    <a:pt x="784" y="526"/>
                  </a:lnTo>
                  <a:lnTo>
                    <a:pt x="813" y="516"/>
                  </a:lnTo>
                  <a:lnTo>
                    <a:pt x="837" y="500"/>
                  </a:lnTo>
                  <a:lnTo>
                    <a:pt x="858" y="481"/>
                  </a:lnTo>
                  <a:lnTo>
                    <a:pt x="878" y="458"/>
                  </a:lnTo>
                  <a:lnTo>
                    <a:pt x="888" y="439"/>
                  </a:lnTo>
                  <a:lnTo>
                    <a:pt x="897" y="420"/>
                  </a:lnTo>
                  <a:lnTo>
                    <a:pt x="906" y="394"/>
                  </a:lnTo>
                  <a:lnTo>
                    <a:pt x="910" y="370"/>
                  </a:lnTo>
                  <a:lnTo>
                    <a:pt x="912" y="343"/>
                  </a:lnTo>
                  <a:lnTo>
                    <a:pt x="910" y="323"/>
                  </a:lnTo>
                  <a:lnTo>
                    <a:pt x="906" y="298"/>
                  </a:lnTo>
                  <a:lnTo>
                    <a:pt x="899" y="274"/>
                  </a:lnTo>
                  <a:lnTo>
                    <a:pt x="888" y="252"/>
                  </a:lnTo>
                  <a:lnTo>
                    <a:pt x="877" y="230"/>
                  </a:lnTo>
                  <a:lnTo>
                    <a:pt x="862" y="212"/>
                  </a:lnTo>
                  <a:lnTo>
                    <a:pt x="848" y="198"/>
                  </a:lnTo>
                  <a:lnTo>
                    <a:pt x="834" y="188"/>
                  </a:lnTo>
                  <a:lnTo>
                    <a:pt x="815" y="173"/>
                  </a:lnTo>
                  <a:lnTo>
                    <a:pt x="797" y="166"/>
                  </a:lnTo>
                  <a:lnTo>
                    <a:pt x="781" y="162"/>
                  </a:lnTo>
                  <a:lnTo>
                    <a:pt x="762" y="159"/>
                  </a:lnTo>
                  <a:lnTo>
                    <a:pt x="759" y="143"/>
                  </a:lnTo>
                  <a:lnTo>
                    <a:pt x="754" y="126"/>
                  </a:lnTo>
                  <a:lnTo>
                    <a:pt x="747" y="110"/>
                  </a:lnTo>
                  <a:lnTo>
                    <a:pt x="738" y="94"/>
                  </a:lnTo>
                  <a:lnTo>
                    <a:pt x="726" y="77"/>
                  </a:lnTo>
                  <a:lnTo>
                    <a:pt x="711" y="59"/>
                  </a:lnTo>
                  <a:lnTo>
                    <a:pt x="698" y="45"/>
                  </a:lnTo>
                  <a:lnTo>
                    <a:pt x="681" y="33"/>
                  </a:lnTo>
                  <a:lnTo>
                    <a:pt x="660" y="20"/>
                  </a:lnTo>
                  <a:lnTo>
                    <a:pt x="640" y="11"/>
                  </a:lnTo>
                  <a:lnTo>
                    <a:pt x="621" y="5"/>
                  </a:lnTo>
                  <a:lnTo>
                    <a:pt x="598" y="1"/>
                  </a:lnTo>
                  <a:lnTo>
                    <a:pt x="577" y="0"/>
                  </a:lnTo>
                  <a:lnTo>
                    <a:pt x="554" y="0"/>
                  </a:lnTo>
                  <a:lnTo>
                    <a:pt x="533" y="4"/>
                  </a:lnTo>
                  <a:lnTo>
                    <a:pt x="509" y="11"/>
                  </a:lnTo>
                  <a:lnTo>
                    <a:pt x="483" y="23"/>
                  </a:lnTo>
                  <a:lnTo>
                    <a:pt x="466" y="33"/>
                  </a:lnTo>
                  <a:lnTo>
                    <a:pt x="449" y="46"/>
                  </a:lnTo>
                  <a:lnTo>
                    <a:pt x="434" y="62"/>
                  </a:lnTo>
                  <a:lnTo>
                    <a:pt x="421" y="76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4480" y="457992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D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32000" y="4292640"/>
            <a:ext cx="1366920" cy="718920"/>
            <a:chOff x="3132000" y="4292640"/>
            <a:chExt cx="1366920" cy="718920"/>
          </a:xfrm>
        </p:grpSpPr>
        <p:sp>
          <p:nvSpPr>
            <p:cNvPr id="238" name=""/>
            <p:cNvSpPr/>
            <p:nvPr/>
          </p:nvSpPr>
          <p:spPr>
            <a:xfrm>
              <a:off x="3132000" y="4292640"/>
              <a:ext cx="1366920" cy="718920"/>
            </a:xfrm>
            <a:custGeom>
              <a:avLst/>
              <a:gdLst/>
              <a:ahLst/>
              <a:rect l="l" t="t" r="r" b="b"/>
              <a:pathLst>
                <a:path w="913" h="576">
                  <a:moveTo>
                    <a:pt x="421" y="76"/>
                  </a:moveTo>
                  <a:lnTo>
                    <a:pt x="400" y="71"/>
                  </a:lnTo>
                  <a:lnTo>
                    <a:pt x="371" y="64"/>
                  </a:lnTo>
                  <a:lnTo>
                    <a:pt x="347" y="63"/>
                  </a:lnTo>
                  <a:lnTo>
                    <a:pt x="321" y="65"/>
                  </a:lnTo>
                  <a:lnTo>
                    <a:pt x="302" y="68"/>
                  </a:lnTo>
                  <a:lnTo>
                    <a:pt x="284" y="73"/>
                  </a:lnTo>
                  <a:lnTo>
                    <a:pt x="263" y="81"/>
                  </a:lnTo>
                  <a:lnTo>
                    <a:pt x="244" y="91"/>
                  </a:lnTo>
                  <a:lnTo>
                    <a:pt x="225" y="105"/>
                  </a:lnTo>
                  <a:lnTo>
                    <a:pt x="206" y="123"/>
                  </a:lnTo>
                  <a:lnTo>
                    <a:pt x="193" y="140"/>
                  </a:lnTo>
                  <a:lnTo>
                    <a:pt x="184" y="155"/>
                  </a:lnTo>
                  <a:lnTo>
                    <a:pt x="176" y="172"/>
                  </a:lnTo>
                  <a:lnTo>
                    <a:pt x="171" y="194"/>
                  </a:lnTo>
                  <a:lnTo>
                    <a:pt x="154" y="189"/>
                  </a:lnTo>
                  <a:lnTo>
                    <a:pt x="135" y="186"/>
                  </a:lnTo>
                  <a:lnTo>
                    <a:pt x="118" y="186"/>
                  </a:lnTo>
                  <a:lnTo>
                    <a:pt x="100" y="190"/>
                  </a:lnTo>
                  <a:lnTo>
                    <a:pt x="84" y="197"/>
                  </a:lnTo>
                  <a:lnTo>
                    <a:pt x="68" y="204"/>
                  </a:lnTo>
                  <a:lnTo>
                    <a:pt x="51" y="219"/>
                  </a:lnTo>
                  <a:lnTo>
                    <a:pt x="42" y="230"/>
                  </a:lnTo>
                  <a:lnTo>
                    <a:pt x="30" y="243"/>
                  </a:lnTo>
                  <a:lnTo>
                    <a:pt x="20" y="258"/>
                  </a:lnTo>
                  <a:lnTo>
                    <a:pt x="12" y="279"/>
                  </a:lnTo>
                  <a:lnTo>
                    <a:pt x="6" y="298"/>
                  </a:lnTo>
                  <a:lnTo>
                    <a:pt x="2" y="318"/>
                  </a:lnTo>
                  <a:lnTo>
                    <a:pt x="1" y="333"/>
                  </a:lnTo>
                  <a:lnTo>
                    <a:pt x="0" y="349"/>
                  </a:lnTo>
                  <a:lnTo>
                    <a:pt x="1" y="368"/>
                  </a:lnTo>
                  <a:lnTo>
                    <a:pt x="3" y="385"/>
                  </a:lnTo>
                  <a:lnTo>
                    <a:pt x="7" y="402"/>
                  </a:lnTo>
                  <a:lnTo>
                    <a:pt x="12" y="418"/>
                  </a:lnTo>
                  <a:lnTo>
                    <a:pt x="20" y="436"/>
                  </a:lnTo>
                  <a:lnTo>
                    <a:pt x="30" y="454"/>
                  </a:lnTo>
                  <a:lnTo>
                    <a:pt x="42" y="468"/>
                  </a:lnTo>
                  <a:lnTo>
                    <a:pt x="56" y="482"/>
                  </a:lnTo>
                  <a:lnTo>
                    <a:pt x="72" y="493"/>
                  </a:lnTo>
                  <a:lnTo>
                    <a:pt x="85" y="500"/>
                  </a:lnTo>
                  <a:lnTo>
                    <a:pt x="98" y="504"/>
                  </a:lnTo>
                  <a:lnTo>
                    <a:pt x="113" y="509"/>
                  </a:lnTo>
                  <a:lnTo>
                    <a:pt x="128" y="509"/>
                  </a:lnTo>
                  <a:lnTo>
                    <a:pt x="145" y="509"/>
                  </a:lnTo>
                  <a:lnTo>
                    <a:pt x="161" y="506"/>
                  </a:lnTo>
                  <a:lnTo>
                    <a:pt x="174" y="502"/>
                  </a:lnTo>
                  <a:lnTo>
                    <a:pt x="182" y="498"/>
                  </a:lnTo>
                  <a:lnTo>
                    <a:pt x="191" y="511"/>
                  </a:lnTo>
                  <a:lnTo>
                    <a:pt x="204" y="522"/>
                  </a:lnTo>
                  <a:lnTo>
                    <a:pt x="217" y="533"/>
                  </a:lnTo>
                  <a:lnTo>
                    <a:pt x="232" y="543"/>
                  </a:lnTo>
                  <a:lnTo>
                    <a:pt x="252" y="552"/>
                  </a:lnTo>
                  <a:lnTo>
                    <a:pt x="271" y="561"/>
                  </a:lnTo>
                  <a:lnTo>
                    <a:pt x="294" y="568"/>
                  </a:lnTo>
                  <a:lnTo>
                    <a:pt x="315" y="572"/>
                  </a:lnTo>
                  <a:lnTo>
                    <a:pt x="339" y="575"/>
                  </a:lnTo>
                  <a:lnTo>
                    <a:pt x="357" y="575"/>
                  </a:lnTo>
                  <a:lnTo>
                    <a:pt x="376" y="575"/>
                  </a:lnTo>
                  <a:lnTo>
                    <a:pt x="402" y="571"/>
                  </a:lnTo>
                  <a:lnTo>
                    <a:pt x="433" y="559"/>
                  </a:lnTo>
                  <a:lnTo>
                    <a:pt x="444" y="562"/>
                  </a:lnTo>
                  <a:lnTo>
                    <a:pt x="465" y="553"/>
                  </a:lnTo>
                  <a:lnTo>
                    <a:pt x="486" y="543"/>
                  </a:lnTo>
                  <a:lnTo>
                    <a:pt x="499" y="535"/>
                  </a:lnTo>
                  <a:lnTo>
                    <a:pt x="510" y="525"/>
                  </a:lnTo>
                  <a:lnTo>
                    <a:pt x="522" y="531"/>
                  </a:lnTo>
                  <a:lnTo>
                    <a:pt x="537" y="539"/>
                  </a:lnTo>
                  <a:lnTo>
                    <a:pt x="552" y="544"/>
                  </a:lnTo>
                  <a:lnTo>
                    <a:pt x="566" y="548"/>
                  </a:lnTo>
                  <a:lnTo>
                    <a:pt x="582" y="550"/>
                  </a:lnTo>
                  <a:lnTo>
                    <a:pt x="597" y="550"/>
                  </a:lnTo>
                  <a:lnTo>
                    <a:pt x="615" y="547"/>
                  </a:lnTo>
                  <a:lnTo>
                    <a:pt x="633" y="542"/>
                  </a:lnTo>
                  <a:lnTo>
                    <a:pt x="650" y="535"/>
                  </a:lnTo>
                  <a:lnTo>
                    <a:pt x="666" y="524"/>
                  </a:lnTo>
                  <a:lnTo>
                    <a:pt x="681" y="512"/>
                  </a:lnTo>
                  <a:lnTo>
                    <a:pt x="701" y="522"/>
                  </a:lnTo>
                  <a:lnTo>
                    <a:pt x="720" y="527"/>
                  </a:lnTo>
                  <a:lnTo>
                    <a:pt x="736" y="530"/>
                  </a:lnTo>
                  <a:lnTo>
                    <a:pt x="759" y="530"/>
                  </a:lnTo>
                  <a:lnTo>
                    <a:pt x="784" y="526"/>
                  </a:lnTo>
                  <a:lnTo>
                    <a:pt x="813" y="516"/>
                  </a:lnTo>
                  <a:lnTo>
                    <a:pt x="837" y="500"/>
                  </a:lnTo>
                  <a:lnTo>
                    <a:pt x="858" y="481"/>
                  </a:lnTo>
                  <a:lnTo>
                    <a:pt x="878" y="458"/>
                  </a:lnTo>
                  <a:lnTo>
                    <a:pt x="888" y="439"/>
                  </a:lnTo>
                  <a:lnTo>
                    <a:pt x="897" y="420"/>
                  </a:lnTo>
                  <a:lnTo>
                    <a:pt x="906" y="394"/>
                  </a:lnTo>
                  <a:lnTo>
                    <a:pt x="910" y="370"/>
                  </a:lnTo>
                  <a:lnTo>
                    <a:pt x="912" y="343"/>
                  </a:lnTo>
                  <a:lnTo>
                    <a:pt x="910" y="323"/>
                  </a:lnTo>
                  <a:lnTo>
                    <a:pt x="906" y="298"/>
                  </a:lnTo>
                  <a:lnTo>
                    <a:pt x="899" y="274"/>
                  </a:lnTo>
                  <a:lnTo>
                    <a:pt x="888" y="252"/>
                  </a:lnTo>
                  <a:lnTo>
                    <a:pt x="877" y="230"/>
                  </a:lnTo>
                  <a:lnTo>
                    <a:pt x="862" y="212"/>
                  </a:lnTo>
                  <a:lnTo>
                    <a:pt x="848" y="198"/>
                  </a:lnTo>
                  <a:lnTo>
                    <a:pt x="834" y="188"/>
                  </a:lnTo>
                  <a:lnTo>
                    <a:pt x="815" y="173"/>
                  </a:lnTo>
                  <a:lnTo>
                    <a:pt x="797" y="166"/>
                  </a:lnTo>
                  <a:lnTo>
                    <a:pt x="781" y="162"/>
                  </a:lnTo>
                  <a:lnTo>
                    <a:pt x="762" y="159"/>
                  </a:lnTo>
                  <a:lnTo>
                    <a:pt x="759" y="143"/>
                  </a:lnTo>
                  <a:lnTo>
                    <a:pt x="754" y="126"/>
                  </a:lnTo>
                  <a:lnTo>
                    <a:pt x="747" y="110"/>
                  </a:lnTo>
                  <a:lnTo>
                    <a:pt x="738" y="94"/>
                  </a:lnTo>
                  <a:lnTo>
                    <a:pt x="726" y="77"/>
                  </a:lnTo>
                  <a:lnTo>
                    <a:pt x="711" y="59"/>
                  </a:lnTo>
                  <a:lnTo>
                    <a:pt x="698" y="45"/>
                  </a:lnTo>
                  <a:lnTo>
                    <a:pt x="681" y="33"/>
                  </a:lnTo>
                  <a:lnTo>
                    <a:pt x="660" y="20"/>
                  </a:lnTo>
                  <a:lnTo>
                    <a:pt x="640" y="11"/>
                  </a:lnTo>
                  <a:lnTo>
                    <a:pt x="621" y="5"/>
                  </a:lnTo>
                  <a:lnTo>
                    <a:pt x="598" y="1"/>
                  </a:lnTo>
                  <a:lnTo>
                    <a:pt x="577" y="0"/>
                  </a:lnTo>
                  <a:lnTo>
                    <a:pt x="554" y="0"/>
                  </a:lnTo>
                  <a:lnTo>
                    <a:pt x="533" y="4"/>
                  </a:lnTo>
                  <a:lnTo>
                    <a:pt x="509" y="11"/>
                  </a:lnTo>
                  <a:lnTo>
                    <a:pt x="483" y="23"/>
                  </a:lnTo>
                  <a:lnTo>
                    <a:pt x="466" y="33"/>
                  </a:lnTo>
                  <a:lnTo>
                    <a:pt x="449" y="46"/>
                  </a:lnTo>
                  <a:lnTo>
                    <a:pt x="434" y="62"/>
                  </a:lnTo>
                  <a:lnTo>
                    <a:pt x="421" y="76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88480" y="457992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D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572000" y="4292640"/>
            <a:ext cx="1775160" cy="718920"/>
            <a:chOff x="4572000" y="4292640"/>
            <a:chExt cx="1775160" cy="718920"/>
          </a:xfrm>
        </p:grpSpPr>
        <p:sp>
          <p:nvSpPr>
            <p:cNvPr id="241" name=""/>
            <p:cNvSpPr/>
            <p:nvPr/>
          </p:nvSpPr>
          <p:spPr>
            <a:xfrm>
              <a:off x="4572000" y="4292640"/>
              <a:ext cx="1728720" cy="718920"/>
            </a:xfrm>
            <a:custGeom>
              <a:avLst/>
              <a:gdLst/>
              <a:ahLst/>
              <a:rect l="l" t="t" r="r" b="b"/>
              <a:pathLst>
                <a:path w="913" h="576">
                  <a:moveTo>
                    <a:pt x="421" y="76"/>
                  </a:moveTo>
                  <a:lnTo>
                    <a:pt x="400" y="71"/>
                  </a:lnTo>
                  <a:lnTo>
                    <a:pt x="371" y="64"/>
                  </a:lnTo>
                  <a:lnTo>
                    <a:pt x="347" y="63"/>
                  </a:lnTo>
                  <a:lnTo>
                    <a:pt x="321" y="65"/>
                  </a:lnTo>
                  <a:lnTo>
                    <a:pt x="302" y="68"/>
                  </a:lnTo>
                  <a:lnTo>
                    <a:pt x="284" y="73"/>
                  </a:lnTo>
                  <a:lnTo>
                    <a:pt x="263" y="81"/>
                  </a:lnTo>
                  <a:lnTo>
                    <a:pt x="244" y="91"/>
                  </a:lnTo>
                  <a:lnTo>
                    <a:pt x="225" y="105"/>
                  </a:lnTo>
                  <a:lnTo>
                    <a:pt x="206" y="123"/>
                  </a:lnTo>
                  <a:lnTo>
                    <a:pt x="193" y="140"/>
                  </a:lnTo>
                  <a:lnTo>
                    <a:pt x="184" y="155"/>
                  </a:lnTo>
                  <a:lnTo>
                    <a:pt x="176" y="172"/>
                  </a:lnTo>
                  <a:lnTo>
                    <a:pt x="171" y="194"/>
                  </a:lnTo>
                  <a:lnTo>
                    <a:pt x="154" y="189"/>
                  </a:lnTo>
                  <a:lnTo>
                    <a:pt x="135" y="186"/>
                  </a:lnTo>
                  <a:lnTo>
                    <a:pt x="118" y="186"/>
                  </a:lnTo>
                  <a:lnTo>
                    <a:pt x="100" y="190"/>
                  </a:lnTo>
                  <a:lnTo>
                    <a:pt x="84" y="197"/>
                  </a:lnTo>
                  <a:lnTo>
                    <a:pt x="68" y="204"/>
                  </a:lnTo>
                  <a:lnTo>
                    <a:pt x="51" y="219"/>
                  </a:lnTo>
                  <a:lnTo>
                    <a:pt x="42" y="230"/>
                  </a:lnTo>
                  <a:lnTo>
                    <a:pt x="30" y="243"/>
                  </a:lnTo>
                  <a:lnTo>
                    <a:pt x="20" y="258"/>
                  </a:lnTo>
                  <a:lnTo>
                    <a:pt x="12" y="279"/>
                  </a:lnTo>
                  <a:lnTo>
                    <a:pt x="6" y="298"/>
                  </a:lnTo>
                  <a:lnTo>
                    <a:pt x="2" y="318"/>
                  </a:lnTo>
                  <a:lnTo>
                    <a:pt x="1" y="333"/>
                  </a:lnTo>
                  <a:lnTo>
                    <a:pt x="0" y="349"/>
                  </a:lnTo>
                  <a:lnTo>
                    <a:pt x="1" y="368"/>
                  </a:lnTo>
                  <a:lnTo>
                    <a:pt x="3" y="385"/>
                  </a:lnTo>
                  <a:lnTo>
                    <a:pt x="7" y="402"/>
                  </a:lnTo>
                  <a:lnTo>
                    <a:pt x="12" y="418"/>
                  </a:lnTo>
                  <a:lnTo>
                    <a:pt x="20" y="436"/>
                  </a:lnTo>
                  <a:lnTo>
                    <a:pt x="30" y="454"/>
                  </a:lnTo>
                  <a:lnTo>
                    <a:pt x="42" y="468"/>
                  </a:lnTo>
                  <a:lnTo>
                    <a:pt x="56" y="482"/>
                  </a:lnTo>
                  <a:lnTo>
                    <a:pt x="72" y="493"/>
                  </a:lnTo>
                  <a:lnTo>
                    <a:pt x="85" y="500"/>
                  </a:lnTo>
                  <a:lnTo>
                    <a:pt x="98" y="504"/>
                  </a:lnTo>
                  <a:lnTo>
                    <a:pt x="113" y="509"/>
                  </a:lnTo>
                  <a:lnTo>
                    <a:pt x="128" y="509"/>
                  </a:lnTo>
                  <a:lnTo>
                    <a:pt x="145" y="509"/>
                  </a:lnTo>
                  <a:lnTo>
                    <a:pt x="161" y="506"/>
                  </a:lnTo>
                  <a:lnTo>
                    <a:pt x="174" y="502"/>
                  </a:lnTo>
                  <a:lnTo>
                    <a:pt x="182" y="498"/>
                  </a:lnTo>
                  <a:lnTo>
                    <a:pt x="191" y="511"/>
                  </a:lnTo>
                  <a:lnTo>
                    <a:pt x="204" y="522"/>
                  </a:lnTo>
                  <a:lnTo>
                    <a:pt x="217" y="533"/>
                  </a:lnTo>
                  <a:lnTo>
                    <a:pt x="232" y="543"/>
                  </a:lnTo>
                  <a:lnTo>
                    <a:pt x="252" y="552"/>
                  </a:lnTo>
                  <a:lnTo>
                    <a:pt x="271" y="561"/>
                  </a:lnTo>
                  <a:lnTo>
                    <a:pt x="294" y="568"/>
                  </a:lnTo>
                  <a:lnTo>
                    <a:pt x="315" y="572"/>
                  </a:lnTo>
                  <a:lnTo>
                    <a:pt x="339" y="575"/>
                  </a:lnTo>
                  <a:lnTo>
                    <a:pt x="357" y="575"/>
                  </a:lnTo>
                  <a:lnTo>
                    <a:pt x="376" y="575"/>
                  </a:lnTo>
                  <a:lnTo>
                    <a:pt x="402" y="571"/>
                  </a:lnTo>
                  <a:lnTo>
                    <a:pt x="433" y="559"/>
                  </a:lnTo>
                  <a:lnTo>
                    <a:pt x="444" y="562"/>
                  </a:lnTo>
                  <a:lnTo>
                    <a:pt x="465" y="553"/>
                  </a:lnTo>
                  <a:lnTo>
                    <a:pt x="486" y="543"/>
                  </a:lnTo>
                  <a:lnTo>
                    <a:pt x="499" y="535"/>
                  </a:lnTo>
                  <a:lnTo>
                    <a:pt x="510" y="525"/>
                  </a:lnTo>
                  <a:lnTo>
                    <a:pt x="522" y="531"/>
                  </a:lnTo>
                  <a:lnTo>
                    <a:pt x="537" y="539"/>
                  </a:lnTo>
                  <a:lnTo>
                    <a:pt x="552" y="544"/>
                  </a:lnTo>
                  <a:lnTo>
                    <a:pt x="566" y="548"/>
                  </a:lnTo>
                  <a:lnTo>
                    <a:pt x="582" y="550"/>
                  </a:lnTo>
                  <a:lnTo>
                    <a:pt x="597" y="550"/>
                  </a:lnTo>
                  <a:lnTo>
                    <a:pt x="615" y="547"/>
                  </a:lnTo>
                  <a:lnTo>
                    <a:pt x="633" y="542"/>
                  </a:lnTo>
                  <a:lnTo>
                    <a:pt x="650" y="535"/>
                  </a:lnTo>
                  <a:lnTo>
                    <a:pt x="666" y="524"/>
                  </a:lnTo>
                  <a:lnTo>
                    <a:pt x="681" y="512"/>
                  </a:lnTo>
                  <a:lnTo>
                    <a:pt x="701" y="522"/>
                  </a:lnTo>
                  <a:lnTo>
                    <a:pt x="720" y="527"/>
                  </a:lnTo>
                  <a:lnTo>
                    <a:pt x="736" y="530"/>
                  </a:lnTo>
                  <a:lnTo>
                    <a:pt x="759" y="530"/>
                  </a:lnTo>
                  <a:lnTo>
                    <a:pt x="784" y="526"/>
                  </a:lnTo>
                  <a:lnTo>
                    <a:pt x="813" y="516"/>
                  </a:lnTo>
                  <a:lnTo>
                    <a:pt x="837" y="500"/>
                  </a:lnTo>
                  <a:lnTo>
                    <a:pt x="858" y="481"/>
                  </a:lnTo>
                  <a:lnTo>
                    <a:pt x="878" y="458"/>
                  </a:lnTo>
                  <a:lnTo>
                    <a:pt x="888" y="439"/>
                  </a:lnTo>
                  <a:lnTo>
                    <a:pt x="897" y="420"/>
                  </a:lnTo>
                  <a:lnTo>
                    <a:pt x="906" y="394"/>
                  </a:lnTo>
                  <a:lnTo>
                    <a:pt x="910" y="370"/>
                  </a:lnTo>
                  <a:lnTo>
                    <a:pt x="912" y="343"/>
                  </a:lnTo>
                  <a:lnTo>
                    <a:pt x="910" y="323"/>
                  </a:lnTo>
                  <a:lnTo>
                    <a:pt x="906" y="298"/>
                  </a:lnTo>
                  <a:lnTo>
                    <a:pt x="899" y="274"/>
                  </a:lnTo>
                  <a:lnTo>
                    <a:pt x="888" y="252"/>
                  </a:lnTo>
                  <a:lnTo>
                    <a:pt x="877" y="230"/>
                  </a:lnTo>
                  <a:lnTo>
                    <a:pt x="862" y="212"/>
                  </a:lnTo>
                  <a:lnTo>
                    <a:pt x="848" y="198"/>
                  </a:lnTo>
                  <a:lnTo>
                    <a:pt x="834" y="188"/>
                  </a:lnTo>
                  <a:lnTo>
                    <a:pt x="815" y="173"/>
                  </a:lnTo>
                  <a:lnTo>
                    <a:pt x="797" y="166"/>
                  </a:lnTo>
                  <a:lnTo>
                    <a:pt x="781" y="162"/>
                  </a:lnTo>
                  <a:lnTo>
                    <a:pt x="762" y="159"/>
                  </a:lnTo>
                  <a:lnTo>
                    <a:pt x="759" y="143"/>
                  </a:lnTo>
                  <a:lnTo>
                    <a:pt x="754" y="126"/>
                  </a:lnTo>
                  <a:lnTo>
                    <a:pt x="747" y="110"/>
                  </a:lnTo>
                  <a:lnTo>
                    <a:pt x="738" y="94"/>
                  </a:lnTo>
                  <a:lnTo>
                    <a:pt x="726" y="77"/>
                  </a:lnTo>
                  <a:lnTo>
                    <a:pt x="711" y="59"/>
                  </a:lnTo>
                  <a:lnTo>
                    <a:pt x="698" y="45"/>
                  </a:lnTo>
                  <a:lnTo>
                    <a:pt x="681" y="33"/>
                  </a:lnTo>
                  <a:lnTo>
                    <a:pt x="660" y="20"/>
                  </a:lnTo>
                  <a:lnTo>
                    <a:pt x="640" y="11"/>
                  </a:lnTo>
                  <a:lnTo>
                    <a:pt x="621" y="5"/>
                  </a:lnTo>
                  <a:lnTo>
                    <a:pt x="598" y="1"/>
                  </a:lnTo>
                  <a:lnTo>
                    <a:pt x="577" y="0"/>
                  </a:lnTo>
                  <a:lnTo>
                    <a:pt x="554" y="0"/>
                  </a:lnTo>
                  <a:lnTo>
                    <a:pt x="533" y="4"/>
                  </a:lnTo>
                  <a:lnTo>
                    <a:pt x="509" y="11"/>
                  </a:lnTo>
                  <a:lnTo>
                    <a:pt x="483" y="23"/>
                  </a:lnTo>
                  <a:lnTo>
                    <a:pt x="466" y="33"/>
                  </a:lnTo>
                  <a:lnTo>
                    <a:pt x="449" y="46"/>
                  </a:lnTo>
                  <a:lnTo>
                    <a:pt x="434" y="62"/>
                  </a:lnTo>
                  <a:lnTo>
                    <a:pt x="421" y="76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4000" y="4579920"/>
              <a:ext cx="170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ABLEMOD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300720" y="4221000"/>
            <a:ext cx="1774080" cy="719280"/>
            <a:chOff x="6300720" y="4221000"/>
            <a:chExt cx="1774080" cy="719280"/>
          </a:xfrm>
        </p:grpSpPr>
        <p:sp>
          <p:nvSpPr>
            <p:cNvPr id="244" name=""/>
            <p:cNvSpPr/>
            <p:nvPr/>
          </p:nvSpPr>
          <p:spPr>
            <a:xfrm>
              <a:off x="6300720" y="4221000"/>
              <a:ext cx="1729080" cy="719280"/>
            </a:xfrm>
            <a:custGeom>
              <a:avLst/>
              <a:gdLst/>
              <a:ahLst/>
              <a:rect l="l" t="t" r="r" b="b"/>
              <a:pathLst>
                <a:path w="913" h="576">
                  <a:moveTo>
                    <a:pt x="421" y="76"/>
                  </a:moveTo>
                  <a:lnTo>
                    <a:pt x="400" y="71"/>
                  </a:lnTo>
                  <a:lnTo>
                    <a:pt x="371" y="64"/>
                  </a:lnTo>
                  <a:lnTo>
                    <a:pt x="347" y="63"/>
                  </a:lnTo>
                  <a:lnTo>
                    <a:pt x="321" y="65"/>
                  </a:lnTo>
                  <a:lnTo>
                    <a:pt x="302" y="68"/>
                  </a:lnTo>
                  <a:lnTo>
                    <a:pt x="284" y="73"/>
                  </a:lnTo>
                  <a:lnTo>
                    <a:pt x="263" y="81"/>
                  </a:lnTo>
                  <a:lnTo>
                    <a:pt x="244" y="91"/>
                  </a:lnTo>
                  <a:lnTo>
                    <a:pt x="225" y="105"/>
                  </a:lnTo>
                  <a:lnTo>
                    <a:pt x="206" y="123"/>
                  </a:lnTo>
                  <a:lnTo>
                    <a:pt x="193" y="140"/>
                  </a:lnTo>
                  <a:lnTo>
                    <a:pt x="184" y="155"/>
                  </a:lnTo>
                  <a:lnTo>
                    <a:pt x="176" y="172"/>
                  </a:lnTo>
                  <a:lnTo>
                    <a:pt x="171" y="194"/>
                  </a:lnTo>
                  <a:lnTo>
                    <a:pt x="154" y="189"/>
                  </a:lnTo>
                  <a:lnTo>
                    <a:pt x="135" y="186"/>
                  </a:lnTo>
                  <a:lnTo>
                    <a:pt x="118" y="186"/>
                  </a:lnTo>
                  <a:lnTo>
                    <a:pt x="100" y="190"/>
                  </a:lnTo>
                  <a:lnTo>
                    <a:pt x="84" y="197"/>
                  </a:lnTo>
                  <a:lnTo>
                    <a:pt x="68" y="204"/>
                  </a:lnTo>
                  <a:lnTo>
                    <a:pt x="51" y="219"/>
                  </a:lnTo>
                  <a:lnTo>
                    <a:pt x="42" y="230"/>
                  </a:lnTo>
                  <a:lnTo>
                    <a:pt x="30" y="243"/>
                  </a:lnTo>
                  <a:lnTo>
                    <a:pt x="20" y="258"/>
                  </a:lnTo>
                  <a:lnTo>
                    <a:pt x="12" y="279"/>
                  </a:lnTo>
                  <a:lnTo>
                    <a:pt x="6" y="298"/>
                  </a:lnTo>
                  <a:lnTo>
                    <a:pt x="2" y="318"/>
                  </a:lnTo>
                  <a:lnTo>
                    <a:pt x="1" y="333"/>
                  </a:lnTo>
                  <a:lnTo>
                    <a:pt x="0" y="349"/>
                  </a:lnTo>
                  <a:lnTo>
                    <a:pt x="1" y="368"/>
                  </a:lnTo>
                  <a:lnTo>
                    <a:pt x="3" y="385"/>
                  </a:lnTo>
                  <a:lnTo>
                    <a:pt x="7" y="402"/>
                  </a:lnTo>
                  <a:lnTo>
                    <a:pt x="12" y="418"/>
                  </a:lnTo>
                  <a:lnTo>
                    <a:pt x="20" y="436"/>
                  </a:lnTo>
                  <a:lnTo>
                    <a:pt x="30" y="454"/>
                  </a:lnTo>
                  <a:lnTo>
                    <a:pt x="42" y="468"/>
                  </a:lnTo>
                  <a:lnTo>
                    <a:pt x="56" y="482"/>
                  </a:lnTo>
                  <a:lnTo>
                    <a:pt x="72" y="493"/>
                  </a:lnTo>
                  <a:lnTo>
                    <a:pt x="85" y="500"/>
                  </a:lnTo>
                  <a:lnTo>
                    <a:pt x="98" y="504"/>
                  </a:lnTo>
                  <a:lnTo>
                    <a:pt x="113" y="509"/>
                  </a:lnTo>
                  <a:lnTo>
                    <a:pt x="128" y="509"/>
                  </a:lnTo>
                  <a:lnTo>
                    <a:pt x="145" y="509"/>
                  </a:lnTo>
                  <a:lnTo>
                    <a:pt x="161" y="506"/>
                  </a:lnTo>
                  <a:lnTo>
                    <a:pt x="174" y="502"/>
                  </a:lnTo>
                  <a:lnTo>
                    <a:pt x="182" y="498"/>
                  </a:lnTo>
                  <a:lnTo>
                    <a:pt x="191" y="511"/>
                  </a:lnTo>
                  <a:lnTo>
                    <a:pt x="204" y="522"/>
                  </a:lnTo>
                  <a:lnTo>
                    <a:pt x="217" y="533"/>
                  </a:lnTo>
                  <a:lnTo>
                    <a:pt x="232" y="543"/>
                  </a:lnTo>
                  <a:lnTo>
                    <a:pt x="252" y="552"/>
                  </a:lnTo>
                  <a:lnTo>
                    <a:pt x="271" y="561"/>
                  </a:lnTo>
                  <a:lnTo>
                    <a:pt x="294" y="568"/>
                  </a:lnTo>
                  <a:lnTo>
                    <a:pt x="315" y="572"/>
                  </a:lnTo>
                  <a:lnTo>
                    <a:pt x="339" y="575"/>
                  </a:lnTo>
                  <a:lnTo>
                    <a:pt x="357" y="575"/>
                  </a:lnTo>
                  <a:lnTo>
                    <a:pt x="376" y="575"/>
                  </a:lnTo>
                  <a:lnTo>
                    <a:pt x="402" y="571"/>
                  </a:lnTo>
                  <a:lnTo>
                    <a:pt x="433" y="559"/>
                  </a:lnTo>
                  <a:lnTo>
                    <a:pt x="444" y="562"/>
                  </a:lnTo>
                  <a:lnTo>
                    <a:pt x="465" y="553"/>
                  </a:lnTo>
                  <a:lnTo>
                    <a:pt x="486" y="543"/>
                  </a:lnTo>
                  <a:lnTo>
                    <a:pt x="499" y="535"/>
                  </a:lnTo>
                  <a:lnTo>
                    <a:pt x="510" y="525"/>
                  </a:lnTo>
                  <a:lnTo>
                    <a:pt x="522" y="531"/>
                  </a:lnTo>
                  <a:lnTo>
                    <a:pt x="537" y="539"/>
                  </a:lnTo>
                  <a:lnTo>
                    <a:pt x="552" y="544"/>
                  </a:lnTo>
                  <a:lnTo>
                    <a:pt x="566" y="548"/>
                  </a:lnTo>
                  <a:lnTo>
                    <a:pt x="582" y="550"/>
                  </a:lnTo>
                  <a:lnTo>
                    <a:pt x="597" y="550"/>
                  </a:lnTo>
                  <a:lnTo>
                    <a:pt x="615" y="547"/>
                  </a:lnTo>
                  <a:lnTo>
                    <a:pt x="633" y="542"/>
                  </a:lnTo>
                  <a:lnTo>
                    <a:pt x="650" y="535"/>
                  </a:lnTo>
                  <a:lnTo>
                    <a:pt x="666" y="524"/>
                  </a:lnTo>
                  <a:lnTo>
                    <a:pt x="681" y="512"/>
                  </a:lnTo>
                  <a:lnTo>
                    <a:pt x="701" y="522"/>
                  </a:lnTo>
                  <a:lnTo>
                    <a:pt x="720" y="527"/>
                  </a:lnTo>
                  <a:lnTo>
                    <a:pt x="736" y="530"/>
                  </a:lnTo>
                  <a:lnTo>
                    <a:pt x="759" y="530"/>
                  </a:lnTo>
                  <a:lnTo>
                    <a:pt x="784" y="526"/>
                  </a:lnTo>
                  <a:lnTo>
                    <a:pt x="813" y="516"/>
                  </a:lnTo>
                  <a:lnTo>
                    <a:pt x="837" y="500"/>
                  </a:lnTo>
                  <a:lnTo>
                    <a:pt x="858" y="481"/>
                  </a:lnTo>
                  <a:lnTo>
                    <a:pt x="878" y="458"/>
                  </a:lnTo>
                  <a:lnTo>
                    <a:pt x="888" y="439"/>
                  </a:lnTo>
                  <a:lnTo>
                    <a:pt x="897" y="420"/>
                  </a:lnTo>
                  <a:lnTo>
                    <a:pt x="906" y="394"/>
                  </a:lnTo>
                  <a:lnTo>
                    <a:pt x="910" y="370"/>
                  </a:lnTo>
                  <a:lnTo>
                    <a:pt x="912" y="343"/>
                  </a:lnTo>
                  <a:lnTo>
                    <a:pt x="910" y="323"/>
                  </a:lnTo>
                  <a:lnTo>
                    <a:pt x="906" y="298"/>
                  </a:lnTo>
                  <a:lnTo>
                    <a:pt x="899" y="274"/>
                  </a:lnTo>
                  <a:lnTo>
                    <a:pt x="888" y="252"/>
                  </a:lnTo>
                  <a:lnTo>
                    <a:pt x="877" y="230"/>
                  </a:lnTo>
                  <a:lnTo>
                    <a:pt x="862" y="212"/>
                  </a:lnTo>
                  <a:lnTo>
                    <a:pt x="848" y="198"/>
                  </a:lnTo>
                  <a:lnTo>
                    <a:pt x="834" y="188"/>
                  </a:lnTo>
                  <a:lnTo>
                    <a:pt x="815" y="173"/>
                  </a:lnTo>
                  <a:lnTo>
                    <a:pt x="797" y="166"/>
                  </a:lnTo>
                  <a:lnTo>
                    <a:pt x="781" y="162"/>
                  </a:lnTo>
                  <a:lnTo>
                    <a:pt x="762" y="159"/>
                  </a:lnTo>
                  <a:lnTo>
                    <a:pt x="759" y="143"/>
                  </a:lnTo>
                  <a:lnTo>
                    <a:pt x="754" y="126"/>
                  </a:lnTo>
                  <a:lnTo>
                    <a:pt x="747" y="110"/>
                  </a:lnTo>
                  <a:lnTo>
                    <a:pt x="738" y="94"/>
                  </a:lnTo>
                  <a:lnTo>
                    <a:pt x="726" y="77"/>
                  </a:lnTo>
                  <a:lnTo>
                    <a:pt x="711" y="59"/>
                  </a:lnTo>
                  <a:lnTo>
                    <a:pt x="698" y="45"/>
                  </a:lnTo>
                  <a:lnTo>
                    <a:pt x="681" y="33"/>
                  </a:lnTo>
                  <a:lnTo>
                    <a:pt x="660" y="20"/>
                  </a:lnTo>
                  <a:lnTo>
                    <a:pt x="640" y="11"/>
                  </a:lnTo>
                  <a:lnTo>
                    <a:pt x="621" y="5"/>
                  </a:lnTo>
                  <a:lnTo>
                    <a:pt x="598" y="1"/>
                  </a:lnTo>
                  <a:lnTo>
                    <a:pt x="577" y="0"/>
                  </a:lnTo>
                  <a:lnTo>
                    <a:pt x="554" y="0"/>
                  </a:lnTo>
                  <a:lnTo>
                    <a:pt x="533" y="4"/>
                  </a:lnTo>
                  <a:lnTo>
                    <a:pt x="509" y="11"/>
                  </a:lnTo>
                  <a:lnTo>
                    <a:pt x="483" y="23"/>
                  </a:lnTo>
                  <a:lnTo>
                    <a:pt x="466" y="33"/>
                  </a:lnTo>
                  <a:lnTo>
                    <a:pt x="449" y="46"/>
                  </a:lnTo>
                  <a:lnTo>
                    <a:pt x="434" y="62"/>
                  </a:lnTo>
                  <a:lnTo>
                    <a:pt x="421" y="76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3080" y="4508640"/>
              <a:ext cx="170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AME-R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848720" y="4149720"/>
            <a:ext cx="1295280" cy="718920"/>
            <a:chOff x="7848720" y="4149720"/>
            <a:chExt cx="1295280" cy="718920"/>
          </a:xfrm>
        </p:grpSpPr>
        <p:sp>
          <p:nvSpPr>
            <p:cNvPr id="247" name=""/>
            <p:cNvSpPr/>
            <p:nvPr/>
          </p:nvSpPr>
          <p:spPr>
            <a:xfrm>
              <a:off x="7848720" y="4149720"/>
              <a:ext cx="1295280" cy="718920"/>
            </a:xfrm>
            <a:custGeom>
              <a:avLst/>
              <a:gdLst/>
              <a:ahLst/>
              <a:rect l="l" t="t" r="r" b="b"/>
              <a:pathLst>
                <a:path w="913" h="576">
                  <a:moveTo>
                    <a:pt x="421" y="76"/>
                  </a:moveTo>
                  <a:lnTo>
                    <a:pt x="400" y="71"/>
                  </a:lnTo>
                  <a:lnTo>
                    <a:pt x="371" y="64"/>
                  </a:lnTo>
                  <a:lnTo>
                    <a:pt x="347" y="63"/>
                  </a:lnTo>
                  <a:lnTo>
                    <a:pt x="321" y="65"/>
                  </a:lnTo>
                  <a:lnTo>
                    <a:pt x="302" y="68"/>
                  </a:lnTo>
                  <a:lnTo>
                    <a:pt x="284" y="73"/>
                  </a:lnTo>
                  <a:lnTo>
                    <a:pt x="263" y="81"/>
                  </a:lnTo>
                  <a:lnTo>
                    <a:pt x="244" y="91"/>
                  </a:lnTo>
                  <a:lnTo>
                    <a:pt x="225" y="105"/>
                  </a:lnTo>
                  <a:lnTo>
                    <a:pt x="206" y="123"/>
                  </a:lnTo>
                  <a:lnTo>
                    <a:pt x="193" y="140"/>
                  </a:lnTo>
                  <a:lnTo>
                    <a:pt x="184" y="155"/>
                  </a:lnTo>
                  <a:lnTo>
                    <a:pt x="176" y="172"/>
                  </a:lnTo>
                  <a:lnTo>
                    <a:pt x="171" y="194"/>
                  </a:lnTo>
                  <a:lnTo>
                    <a:pt x="154" y="189"/>
                  </a:lnTo>
                  <a:lnTo>
                    <a:pt x="135" y="186"/>
                  </a:lnTo>
                  <a:lnTo>
                    <a:pt x="118" y="186"/>
                  </a:lnTo>
                  <a:lnTo>
                    <a:pt x="100" y="190"/>
                  </a:lnTo>
                  <a:lnTo>
                    <a:pt x="84" y="197"/>
                  </a:lnTo>
                  <a:lnTo>
                    <a:pt x="68" y="204"/>
                  </a:lnTo>
                  <a:lnTo>
                    <a:pt x="51" y="219"/>
                  </a:lnTo>
                  <a:lnTo>
                    <a:pt x="42" y="230"/>
                  </a:lnTo>
                  <a:lnTo>
                    <a:pt x="30" y="243"/>
                  </a:lnTo>
                  <a:lnTo>
                    <a:pt x="20" y="258"/>
                  </a:lnTo>
                  <a:lnTo>
                    <a:pt x="12" y="279"/>
                  </a:lnTo>
                  <a:lnTo>
                    <a:pt x="6" y="298"/>
                  </a:lnTo>
                  <a:lnTo>
                    <a:pt x="2" y="318"/>
                  </a:lnTo>
                  <a:lnTo>
                    <a:pt x="1" y="333"/>
                  </a:lnTo>
                  <a:lnTo>
                    <a:pt x="0" y="349"/>
                  </a:lnTo>
                  <a:lnTo>
                    <a:pt x="1" y="368"/>
                  </a:lnTo>
                  <a:lnTo>
                    <a:pt x="3" y="385"/>
                  </a:lnTo>
                  <a:lnTo>
                    <a:pt x="7" y="402"/>
                  </a:lnTo>
                  <a:lnTo>
                    <a:pt x="12" y="418"/>
                  </a:lnTo>
                  <a:lnTo>
                    <a:pt x="20" y="436"/>
                  </a:lnTo>
                  <a:lnTo>
                    <a:pt x="30" y="454"/>
                  </a:lnTo>
                  <a:lnTo>
                    <a:pt x="42" y="468"/>
                  </a:lnTo>
                  <a:lnTo>
                    <a:pt x="56" y="482"/>
                  </a:lnTo>
                  <a:lnTo>
                    <a:pt x="72" y="493"/>
                  </a:lnTo>
                  <a:lnTo>
                    <a:pt x="85" y="500"/>
                  </a:lnTo>
                  <a:lnTo>
                    <a:pt x="98" y="504"/>
                  </a:lnTo>
                  <a:lnTo>
                    <a:pt x="113" y="509"/>
                  </a:lnTo>
                  <a:lnTo>
                    <a:pt x="128" y="509"/>
                  </a:lnTo>
                  <a:lnTo>
                    <a:pt x="145" y="509"/>
                  </a:lnTo>
                  <a:lnTo>
                    <a:pt x="161" y="506"/>
                  </a:lnTo>
                  <a:lnTo>
                    <a:pt x="174" y="502"/>
                  </a:lnTo>
                  <a:lnTo>
                    <a:pt x="182" y="498"/>
                  </a:lnTo>
                  <a:lnTo>
                    <a:pt x="191" y="511"/>
                  </a:lnTo>
                  <a:lnTo>
                    <a:pt x="204" y="522"/>
                  </a:lnTo>
                  <a:lnTo>
                    <a:pt x="217" y="533"/>
                  </a:lnTo>
                  <a:lnTo>
                    <a:pt x="232" y="543"/>
                  </a:lnTo>
                  <a:lnTo>
                    <a:pt x="252" y="552"/>
                  </a:lnTo>
                  <a:lnTo>
                    <a:pt x="271" y="561"/>
                  </a:lnTo>
                  <a:lnTo>
                    <a:pt x="294" y="568"/>
                  </a:lnTo>
                  <a:lnTo>
                    <a:pt x="315" y="572"/>
                  </a:lnTo>
                  <a:lnTo>
                    <a:pt x="339" y="575"/>
                  </a:lnTo>
                  <a:lnTo>
                    <a:pt x="357" y="575"/>
                  </a:lnTo>
                  <a:lnTo>
                    <a:pt x="376" y="575"/>
                  </a:lnTo>
                  <a:lnTo>
                    <a:pt x="402" y="571"/>
                  </a:lnTo>
                  <a:lnTo>
                    <a:pt x="433" y="559"/>
                  </a:lnTo>
                  <a:lnTo>
                    <a:pt x="444" y="562"/>
                  </a:lnTo>
                  <a:lnTo>
                    <a:pt x="465" y="553"/>
                  </a:lnTo>
                  <a:lnTo>
                    <a:pt x="486" y="543"/>
                  </a:lnTo>
                  <a:lnTo>
                    <a:pt x="499" y="535"/>
                  </a:lnTo>
                  <a:lnTo>
                    <a:pt x="510" y="525"/>
                  </a:lnTo>
                  <a:lnTo>
                    <a:pt x="522" y="531"/>
                  </a:lnTo>
                  <a:lnTo>
                    <a:pt x="537" y="539"/>
                  </a:lnTo>
                  <a:lnTo>
                    <a:pt x="552" y="544"/>
                  </a:lnTo>
                  <a:lnTo>
                    <a:pt x="566" y="548"/>
                  </a:lnTo>
                  <a:lnTo>
                    <a:pt x="582" y="550"/>
                  </a:lnTo>
                  <a:lnTo>
                    <a:pt x="597" y="550"/>
                  </a:lnTo>
                  <a:lnTo>
                    <a:pt x="615" y="547"/>
                  </a:lnTo>
                  <a:lnTo>
                    <a:pt x="633" y="542"/>
                  </a:lnTo>
                  <a:lnTo>
                    <a:pt x="650" y="535"/>
                  </a:lnTo>
                  <a:lnTo>
                    <a:pt x="666" y="524"/>
                  </a:lnTo>
                  <a:lnTo>
                    <a:pt x="681" y="512"/>
                  </a:lnTo>
                  <a:lnTo>
                    <a:pt x="701" y="522"/>
                  </a:lnTo>
                  <a:lnTo>
                    <a:pt x="720" y="527"/>
                  </a:lnTo>
                  <a:lnTo>
                    <a:pt x="736" y="530"/>
                  </a:lnTo>
                  <a:lnTo>
                    <a:pt x="759" y="530"/>
                  </a:lnTo>
                  <a:lnTo>
                    <a:pt x="784" y="526"/>
                  </a:lnTo>
                  <a:lnTo>
                    <a:pt x="813" y="516"/>
                  </a:lnTo>
                  <a:lnTo>
                    <a:pt x="837" y="500"/>
                  </a:lnTo>
                  <a:lnTo>
                    <a:pt x="858" y="481"/>
                  </a:lnTo>
                  <a:lnTo>
                    <a:pt x="878" y="458"/>
                  </a:lnTo>
                  <a:lnTo>
                    <a:pt x="888" y="439"/>
                  </a:lnTo>
                  <a:lnTo>
                    <a:pt x="897" y="420"/>
                  </a:lnTo>
                  <a:lnTo>
                    <a:pt x="906" y="394"/>
                  </a:lnTo>
                  <a:lnTo>
                    <a:pt x="910" y="370"/>
                  </a:lnTo>
                  <a:lnTo>
                    <a:pt x="912" y="343"/>
                  </a:lnTo>
                  <a:lnTo>
                    <a:pt x="910" y="323"/>
                  </a:lnTo>
                  <a:lnTo>
                    <a:pt x="906" y="298"/>
                  </a:lnTo>
                  <a:lnTo>
                    <a:pt x="899" y="274"/>
                  </a:lnTo>
                  <a:lnTo>
                    <a:pt x="888" y="252"/>
                  </a:lnTo>
                  <a:lnTo>
                    <a:pt x="877" y="230"/>
                  </a:lnTo>
                  <a:lnTo>
                    <a:pt x="862" y="212"/>
                  </a:lnTo>
                  <a:lnTo>
                    <a:pt x="848" y="198"/>
                  </a:lnTo>
                  <a:lnTo>
                    <a:pt x="834" y="188"/>
                  </a:lnTo>
                  <a:lnTo>
                    <a:pt x="815" y="173"/>
                  </a:lnTo>
                  <a:lnTo>
                    <a:pt x="797" y="166"/>
                  </a:lnTo>
                  <a:lnTo>
                    <a:pt x="781" y="162"/>
                  </a:lnTo>
                  <a:lnTo>
                    <a:pt x="762" y="159"/>
                  </a:lnTo>
                  <a:lnTo>
                    <a:pt x="759" y="143"/>
                  </a:lnTo>
                  <a:lnTo>
                    <a:pt x="754" y="126"/>
                  </a:lnTo>
                  <a:lnTo>
                    <a:pt x="747" y="110"/>
                  </a:lnTo>
                  <a:lnTo>
                    <a:pt x="738" y="94"/>
                  </a:lnTo>
                  <a:lnTo>
                    <a:pt x="726" y="77"/>
                  </a:lnTo>
                  <a:lnTo>
                    <a:pt x="711" y="59"/>
                  </a:lnTo>
                  <a:lnTo>
                    <a:pt x="698" y="45"/>
                  </a:lnTo>
                  <a:lnTo>
                    <a:pt x="681" y="33"/>
                  </a:lnTo>
                  <a:lnTo>
                    <a:pt x="660" y="20"/>
                  </a:lnTo>
                  <a:lnTo>
                    <a:pt x="640" y="11"/>
                  </a:lnTo>
                  <a:lnTo>
                    <a:pt x="621" y="5"/>
                  </a:lnTo>
                  <a:lnTo>
                    <a:pt x="598" y="1"/>
                  </a:lnTo>
                  <a:lnTo>
                    <a:pt x="577" y="0"/>
                  </a:lnTo>
                  <a:lnTo>
                    <a:pt x="554" y="0"/>
                  </a:lnTo>
                  <a:lnTo>
                    <a:pt x="533" y="4"/>
                  </a:lnTo>
                  <a:lnTo>
                    <a:pt x="509" y="11"/>
                  </a:lnTo>
                  <a:lnTo>
                    <a:pt x="483" y="23"/>
                  </a:lnTo>
                  <a:lnTo>
                    <a:pt x="466" y="33"/>
                  </a:lnTo>
                  <a:lnTo>
                    <a:pt x="449" y="46"/>
                  </a:lnTo>
                  <a:lnTo>
                    <a:pt x="434" y="62"/>
                  </a:lnTo>
                  <a:lnTo>
                    <a:pt x="421" y="76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2160" y="4437000"/>
              <a:ext cx="85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A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V="1">
            <a:off x="826920" y="3933720"/>
            <a:ext cx="1800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708360" y="4076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76720" y="4149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3640" y="407664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3860640"/>
            <a:ext cx="187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220500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68560" y="22701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843280" y="3357720"/>
            <a:ext cx="7207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284720" y="2997360"/>
            <a:ext cx="1046520" cy="360360"/>
            <a:chOff x="4284720" y="2997360"/>
            <a:chExt cx="1046520" cy="360360"/>
          </a:xfrm>
        </p:grpSpPr>
        <p:sp>
          <p:nvSpPr>
            <p:cNvPr id="258" name=""/>
            <p:cNvSpPr/>
            <p:nvPr/>
          </p:nvSpPr>
          <p:spPr>
            <a:xfrm>
              <a:off x="4284720" y="2998800"/>
              <a:ext cx="915480" cy="17496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1080" y="3170160"/>
              <a:ext cx="789480" cy="1868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84720" y="2997360"/>
              <a:ext cx="128880" cy="36036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20440" y="3180600"/>
              <a:ext cx="660960" cy="1656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412160" y="3218760"/>
              <a:ext cx="23040" cy="37800"/>
              <a:chOff x="4412160" y="3218760"/>
              <a:chExt cx="23040" cy="37800"/>
            </a:xfrm>
          </p:grpSpPr>
          <p:sp>
            <p:nvSpPr>
              <p:cNvPr id="263" name=""/>
              <p:cNvSpPr/>
              <p:nvPr/>
            </p:nvSpPr>
            <p:spPr>
              <a:xfrm>
                <a:off x="4412160" y="3218760"/>
                <a:ext cx="2304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412160" y="3223800"/>
                <a:ext cx="2304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12160" y="3234960"/>
                <a:ext cx="2304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12160" y="3239640"/>
                <a:ext cx="2304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12160" y="3251520"/>
                <a:ext cx="2304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12160" y="3256200"/>
                <a:ext cx="23040" cy="36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5082480" y="3164760"/>
              <a:ext cx="117360" cy="1188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303440" y="3057840"/>
              <a:ext cx="34920" cy="168120"/>
              <a:chOff x="4303440" y="3057840"/>
              <a:chExt cx="34920" cy="16812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4303440" y="3057840"/>
                <a:ext cx="34920" cy="53640"/>
                <a:chOff x="4303440" y="3057840"/>
                <a:chExt cx="34920" cy="536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303440" y="3058200"/>
                  <a:ext cx="33480" cy="532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304520" y="305784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303440" y="3076920"/>
                <a:ext cx="34920" cy="53640"/>
                <a:chOff x="4303440" y="3076920"/>
                <a:chExt cx="34920" cy="536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4303440" y="3077280"/>
                  <a:ext cx="33480" cy="532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304520" y="307692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303440" y="3096000"/>
                <a:ext cx="34920" cy="53640"/>
                <a:chOff x="4303440" y="3096000"/>
                <a:chExt cx="34920" cy="536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303440" y="3096360"/>
                  <a:ext cx="33480" cy="532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304520" y="309600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303440" y="3115080"/>
                <a:ext cx="34920" cy="53640"/>
                <a:chOff x="4303440" y="3115080"/>
                <a:chExt cx="34920" cy="536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303440" y="3115440"/>
                  <a:ext cx="33480" cy="532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304520" y="311508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4303440" y="3134160"/>
                <a:ext cx="34920" cy="53640"/>
                <a:chOff x="4303440" y="3134160"/>
                <a:chExt cx="34920" cy="536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4303440" y="3134520"/>
                  <a:ext cx="33480" cy="532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304520" y="313416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4303440" y="3153240"/>
                <a:ext cx="34920" cy="53640"/>
                <a:chOff x="4303440" y="3153240"/>
                <a:chExt cx="34920" cy="536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4303440" y="3153600"/>
                  <a:ext cx="33480" cy="532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304520" y="315324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3440" y="3172320"/>
                <a:ext cx="34920" cy="53640"/>
                <a:chOff x="4303440" y="3172320"/>
                <a:chExt cx="34920" cy="536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4303440" y="3172680"/>
                  <a:ext cx="33480" cy="532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304520" y="317232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" name=""/>
            <p:cNvGrpSpPr/>
            <p:nvPr/>
          </p:nvGrpSpPr>
          <p:grpSpPr>
            <a:xfrm>
              <a:off x="4356360" y="3129840"/>
              <a:ext cx="33840" cy="168120"/>
              <a:chOff x="4356360" y="3129840"/>
              <a:chExt cx="33840" cy="16812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356360" y="3129840"/>
                <a:ext cx="33840" cy="53280"/>
                <a:chOff x="4356360" y="3129840"/>
                <a:chExt cx="33840" cy="532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356360" y="313020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357440" y="312984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356360" y="3148920"/>
                <a:ext cx="33840" cy="53280"/>
                <a:chOff x="4356360" y="3148920"/>
                <a:chExt cx="33840" cy="53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356360" y="314928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57440" y="314892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356360" y="3168000"/>
                <a:ext cx="33840" cy="53280"/>
                <a:chOff x="4356360" y="3168000"/>
                <a:chExt cx="33840" cy="532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356360" y="316836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357440" y="316800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356360" y="3187080"/>
                <a:ext cx="33840" cy="53280"/>
                <a:chOff x="4356360" y="3187080"/>
                <a:chExt cx="33840" cy="532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356360" y="318744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57440" y="318708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356360" y="3206520"/>
                <a:ext cx="33840" cy="53280"/>
                <a:chOff x="4356360" y="3206520"/>
                <a:chExt cx="33840" cy="532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356360" y="320688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357440" y="320652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356360" y="3225600"/>
                <a:ext cx="33840" cy="53280"/>
                <a:chOff x="4356360" y="3225600"/>
                <a:chExt cx="33840" cy="532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356360" y="322596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57440" y="322560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356360" y="3244680"/>
                <a:ext cx="33840" cy="53280"/>
                <a:chOff x="4356360" y="3244680"/>
                <a:chExt cx="33840" cy="532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356360" y="324504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57440" y="3244680"/>
                  <a:ext cx="32760" cy="52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4311000" y="3002040"/>
              <a:ext cx="137160" cy="161280"/>
              <a:chOff x="4311000" y="3002040"/>
              <a:chExt cx="137160" cy="161280"/>
            </a:xfrm>
          </p:grpSpPr>
          <p:sp>
            <p:nvSpPr>
              <p:cNvPr id="315" name=""/>
              <p:cNvSpPr/>
              <p:nvPr/>
            </p:nvSpPr>
            <p:spPr>
              <a:xfrm>
                <a:off x="4311000" y="3002040"/>
                <a:ext cx="34920" cy="194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14600" y="3005640"/>
                <a:ext cx="29880" cy="169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13240" y="3143520"/>
                <a:ext cx="34920" cy="190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416840" y="3146400"/>
                <a:ext cx="29880" cy="169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37840" y="3002040"/>
              <a:ext cx="137880" cy="161280"/>
              <a:chOff x="5037840" y="3002040"/>
              <a:chExt cx="137880" cy="161280"/>
            </a:xfrm>
          </p:grpSpPr>
          <p:sp>
            <p:nvSpPr>
              <p:cNvPr id="320" name=""/>
              <p:cNvSpPr/>
              <p:nvPr/>
            </p:nvSpPr>
            <p:spPr>
              <a:xfrm>
                <a:off x="5037840" y="3002040"/>
                <a:ext cx="34920" cy="194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1080" y="3005640"/>
                <a:ext cx="30600" cy="169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40800" y="3143520"/>
                <a:ext cx="34920" cy="190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44040" y="3146400"/>
                <a:ext cx="30600" cy="169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420440" y="3184920"/>
              <a:ext cx="664920" cy="158400"/>
              <a:chOff x="4420440" y="3184920"/>
              <a:chExt cx="664920" cy="158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420440" y="3185640"/>
                <a:ext cx="625680" cy="157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25960" y="3184920"/>
                <a:ext cx="59400" cy="15840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5107680" y="3178440"/>
              <a:ext cx="93600" cy="1792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66200" y="303048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449600" y="3207240"/>
              <a:ext cx="605880" cy="115920"/>
              <a:chOff x="4449600" y="3207240"/>
              <a:chExt cx="605880" cy="11592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4988160" y="3207240"/>
                <a:ext cx="67320" cy="21960"/>
                <a:chOff x="4988160" y="3207240"/>
                <a:chExt cx="67320" cy="2196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4988160" y="3207240"/>
                  <a:ext cx="20160" cy="21960"/>
                  <a:chOff x="4988160" y="3207240"/>
                  <a:chExt cx="20160" cy="21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4995000" y="3210840"/>
                    <a:ext cx="1332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988160" y="3207240"/>
                    <a:ext cx="11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988160" y="3214800"/>
                    <a:ext cx="115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4988160" y="3222000"/>
                    <a:ext cx="13680" cy="43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997160" y="3218400"/>
                    <a:ext cx="111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996800" y="3225600"/>
                    <a:ext cx="115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5011560" y="3209760"/>
                  <a:ext cx="43920" cy="17280"/>
                  <a:chOff x="5011560" y="3209760"/>
                  <a:chExt cx="43920" cy="172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5011560" y="3209760"/>
                    <a:ext cx="43920" cy="68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5011560" y="3220200"/>
                    <a:ext cx="43920" cy="68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1" name=""/>
              <p:cNvGrpSpPr/>
              <p:nvPr/>
            </p:nvGrpSpPr>
            <p:grpSpPr>
              <a:xfrm>
                <a:off x="5019840" y="3311640"/>
                <a:ext cx="34200" cy="11520"/>
                <a:chOff x="5019840" y="3311640"/>
                <a:chExt cx="34200" cy="115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019840" y="3311640"/>
                  <a:ext cx="34200" cy="5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022000" y="3317760"/>
                  <a:ext cx="32040" cy="5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4955400" y="3223080"/>
                <a:ext cx="25920" cy="35280"/>
                <a:chOff x="4955400" y="3223080"/>
                <a:chExt cx="25920" cy="352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955400" y="3228480"/>
                  <a:ext cx="25920" cy="2988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960080" y="3223080"/>
                  <a:ext cx="17640" cy="1188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62600" y="3224520"/>
                  <a:ext cx="12600" cy="936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4960080" y="3265200"/>
                <a:ext cx="7920" cy="86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70520" y="3265200"/>
                <a:ext cx="7920" cy="86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60080" y="3277800"/>
                <a:ext cx="7920" cy="97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970520" y="3277800"/>
                <a:ext cx="7920" cy="97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960080" y="3291120"/>
                <a:ext cx="7920" cy="90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70520" y="3291120"/>
                <a:ext cx="7920" cy="90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960080" y="3304440"/>
                <a:ext cx="7920" cy="97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70520" y="3304440"/>
                <a:ext cx="7920" cy="97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84200" y="3294000"/>
                <a:ext cx="25560" cy="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631760" y="3223080"/>
                <a:ext cx="124200" cy="3168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77480" y="3216240"/>
                <a:ext cx="37080" cy="1296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82520" y="3218400"/>
                <a:ext cx="25920" cy="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4671000" y="3231360"/>
                <a:ext cx="48240" cy="20880"/>
                <a:chOff x="4671000" y="3231360"/>
                <a:chExt cx="48240" cy="208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671000" y="3231360"/>
                  <a:ext cx="48240" cy="5400"/>
                </a:xfrm>
                <a:prstGeom prst="rect">
                  <a:avLst/>
                </a:prstGeom>
                <a:solidFill>
                  <a:srgbClr val="f5eb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673160" y="3238560"/>
                  <a:ext cx="43920" cy="5400"/>
                </a:xfrm>
                <a:prstGeom prst="rect">
                  <a:avLst/>
                </a:prstGeom>
                <a:solidFill>
                  <a:srgbClr val="f5eb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677480" y="3246480"/>
                  <a:ext cx="35640" cy="5760"/>
                </a:xfrm>
                <a:prstGeom prst="rect">
                  <a:avLst/>
                </a:prstGeom>
                <a:solidFill>
                  <a:srgbClr val="f5eb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4629960" y="3260520"/>
                <a:ext cx="63000" cy="49680"/>
                <a:chOff x="4629960" y="3260520"/>
                <a:chExt cx="63000" cy="4968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4629960" y="3260520"/>
                  <a:ext cx="63000" cy="9000"/>
                  <a:chOff x="4629960" y="3260520"/>
                  <a:chExt cx="63000" cy="900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4629960" y="326052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640760" y="326052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651920" y="326052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4663080" y="3260520"/>
                    <a:ext cx="756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4673880" y="326052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4685040" y="326052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4629960" y="3273480"/>
                  <a:ext cx="63000" cy="9720"/>
                  <a:chOff x="4629960" y="3273480"/>
                  <a:chExt cx="63000" cy="972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4629960" y="3273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4640760" y="3273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651920" y="3273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663080" y="3273480"/>
                    <a:ext cx="756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673880" y="3273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685040" y="3273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4629960" y="3287160"/>
                  <a:ext cx="63000" cy="9000"/>
                  <a:chOff x="4629960" y="3287160"/>
                  <a:chExt cx="63000" cy="900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4629960" y="328716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4640760" y="328716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4651920" y="328716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4663080" y="3287160"/>
                    <a:ext cx="756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673880" y="328716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685040" y="328716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4629960" y="3300480"/>
                  <a:ext cx="63000" cy="9720"/>
                  <a:chOff x="4629960" y="3300480"/>
                  <a:chExt cx="63000" cy="972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4629960" y="3300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640760" y="3300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651920" y="3300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4663080" y="3300480"/>
                    <a:ext cx="756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673880" y="3300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685040" y="3300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3" name=""/>
              <p:cNvGrpSpPr/>
              <p:nvPr/>
            </p:nvGrpSpPr>
            <p:grpSpPr>
              <a:xfrm>
                <a:off x="4697280" y="3260520"/>
                <a:ext cx="63000" cy="49680"/>
                <a:chOff x="4697280" y="3260520"/>
                <a:chExt cx="63000" cy="4968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4697280" y="3260520"/>
                  <a:ext cx="63000" cy="9000"/>
                  <a:chOff x="4697280" y="3260520"/>
                  <a:chExt cx="63000" cy="90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4697280" y="3260520"/>
                    <a:ext cx="756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708080" y="326052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719240" y="326052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730040" y="326052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741200" y="326052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752720" y="3260520"/>
                    <a:ext cx="756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4697280" y="3273480"/>
                  <a:ext cx="63000" cy="9720"/>
                  <a:chOff x="4697280" y="3273480"/>
                  <a:chExt cx="63000" cy="972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4697280" y="3273480"/>
                    <a:ext cx="756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708080" y="3273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719240" y="3273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730040" y="3273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741200" y="3273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752720" y="3273480"/>
                    <a:ext cx="756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4697280" y="3287160"/>
                  <a:ext cx="63000" cy="9000"/>
                  <a:chOff x="4697280" y="3287160"/>
                  <a:chExt cx="63000" cy="9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4697280" y="3287160"/>
                    <a:ext cx="756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708080" y="328716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719240" y="328716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730040" y="328716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741200" y="3287160"/>
                    <a:ext cx="792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752720" y="3287160"/>
                    <a:ext cx="7560" cy="90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4697280" y="3300480"/>
                  <a:ext cx="63000" cy="9720"/>
                  <a:chOff x="4697280" y="3300480"/>
                  <a:chExt cx="63000" cy="97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697280" y="3300480"/>
                    <a:ext cx="756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08080" y="3300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9240" y="3300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730040" y="3300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741200" y="3300480"/>
                    <a:ext cx="792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752720" y="3300480"/>
                    <a:ext cx="7560" cy="97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4449600" y="3277440"/>
                <a:ext cx="164520" cy="43560"/>
                <a:chOff x="4449600" y="3277440"/>
                <a:chExt cx="164520" cy="4356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4449600" y="3277440"/>
                  <a:ext cx="20520" cy="43560"/>
                  <a:chOff x="4449600" y="3277440"/>
                  <a:chExt cx="20520" cy="43560"/>
                </a:xfrm>
              </p:grpSpPr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4449600" y="3277440"/>
                    <a:ext cx="20520" cy="43560"/>
                    <a:chOff x="4449600" y="3277440"/>
                    <a:chExt cx="20520" cy="4356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4449600" y="3285720"/>
                      <a:ext cx="19800" cy="33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4449600" y="3287520"/>
                      <a:ext cx="25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4451760" y="3294000"/>
                      <a:ext cx="18360" cy="262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4449600" y="3287520"/>
                      <a:ext cx="20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450680" y="32774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465800" y="32774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1" name=""/>
                  <p:cNvSpPr/>
                  <p:nvPr/>
                </p:nvSpPr>
                <p:spPr>
                  <a:xfrm>
                    <a:off x="4456080" y="3301200"/>
                    <a:ext cx="11520" cy="1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4478040" y="3277440"/>
                  <a:ext cx="20520" cy="43560"/>
                  <a:chOff x="4478040" y="3277440"/>
                  <a:chExt cx="20520" cy="43560"/>
                </a:xfrm>
              </p:grpSpPr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4478040" y="3277440"/>
                    <a:ext cx="20520" cy="43560"/>
                    <a:chOff x="4478040" y="3277440"/>
                    <a:chExt cx="20520" cy="435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4478040" y="3285720"/>
                      <a:ext cx="19800" cy="33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4478040" y="3287520"/>
                      <a:ext cx="25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4480200" y="3294000"/>
                      <a:ext cx="18360" cy="262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4478040" y="3287520"/>
                      <a:ext cx="20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4479120" y="32774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4494240" y="32774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0" name=""/>
                  <p:cNvSpPr/>
                  <p:nvPr/>
                </p:nvSpPr>
                <p:spPr>
                  <a:xfrm>
                    <a:off x="4484520" y="3301200"/>
                    <a:ext cx="11520" cy="1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4506840" y="3277440"/>
                  <a:ext cx="20520" cy="43560"/>
                  <a:chOff x="4506840" y="3277440"/>
                  <a:chExt cx="20520" cy="43560"/>
                </a:xfrm>
              </p:grpSpPr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4506840" y="3277440"/>
                    <a:ext cx="20520" cy="43560"/>
                    <a:chOff x="4506840" y="3277440"/>
                    <a:chExt cx="20520" cy="435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4506840" y="3285720"/>
                      <a:ext cx="19800" cy="33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4506840" y="3287520"/>
                      <a:ext cx="25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4509000" y="3294000"/>
                      <a:ext cx="18360" cy="262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4506840" y="3287520"/>
                      <a:ext cx="20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4507920" y="32774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4523040" y="32774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9" name=""/>
                  <p:cNvSpPr/>
                  <p:nvPr/>
                </p:nvSpPr>
                <p:spPr>
                  <a:xfrm>
                    <a:off x="4513320" y="3301200"/>
                    <a:ext cx="11520" cy="1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4536000" y="3277440"/>
                  <a:ext cx="20520" cy="43560"/>
                  <a:chOff x="4536000" y="3277440"/>
                  <a:chExt cx="20520" cy="4356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536000" y="3277440"/>
                    <a:ext cx="20520" cy="43560"/>
                    <a:chOff x="4536000" y="3277440"/>
                    <a:chExt cx="20520" cy="4356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4536000" y="3285720"/>
                      <a:ext cx="19800" cy="33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4536000" y="3287520"/>
                      <a:ext cx="25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4538160" y="3294000"/>
                      <a:ext cx="18360" cy="262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4536000" y="3287520"/>
                      <a:ext cx="20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4537080" y="32774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4552200" y="32774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8" name=""/>
                  <p:cNvSpPr/>
                  <p:nvPr/>
                </p:nvSpPr>
                <p:spPr>
                  <a:xfrm>
                    <a:off x="4542480" y="3301200"/>
                    <a:ext cx="11520" cy="1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4564800" y="3277440"/>
                  <a:ext cx="20520" cy="43560"/>
                  <a:chOff x="4564800" y="3277440"/>
                  <a:chExt cx="20520" cy="43560"/>
                </a:xfrm>
              </p:grpSpPr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4564800" y="3277440"/>
                    <a:ext cx="20520" cy="43560"/>
                    <a:chOff x="4564800" y="3277440"/>
                    <a:chExt cx="20520" cy="4356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4564800" y="3285720"/>
                      <a:ext cx="19800" cy="33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4564800" y="3287520"/>
                      <a:ext cx="25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4566960" y="3294000"/>
                      <a:ext cx="18360" cy="262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4564800" y="3287520"/>
                      <a:ext cx="20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4565880" y="32774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4581000" y="32774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7" name=""/>
                  <p:cNvSpPr/>
                  <p:nvPr/>
                </p:nvSpPr>
                <p:spPr>
                  <a:xfrm>
                    <a:off x="4571280" y="3301200"/>
                    <a:ext cx="11520" cy="1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4593600" y="3277440"/>
                  <a:ext cx="20520" cy="43560"/>
                  <a:chOff x="4593600" y="3277440"/>
                  <a:chExt cx="20520" cy="43560"/>
                </a:xfrm>
              </p:grpSpPr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4593600" y="3277440"/>
                    <a:ext cx="20520" cy="43560"/>
                    <a:chOff x="4593600" y="3277440"/>
                    <a:chExt cx="20520" cy="4356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4593600" y="3285720"/>
                      <a:ext cx="19800" cy="33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4593600" y="3287520"/>
                      <a:ext cx="25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595760" y="3294000"/>
                      <a:ext cx="18360" cy="262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593600" y="3287520"/>
                      <a:ext cx="20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4594680" y="32774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4609800" y="32774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6" name=""/>
                  <p:cNvSpPr/>
                  <p:nvPr/>
                </p:nvSpPr>
                <p:spPr>
                  <a:xfrm>
                    <a:off x="4600080" y="3301200"/>
                    <a:ext cx="11520" cy="1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7" name=""/>
              <p:cNvGrpSpPr/>
              <p:nvPr/>
            </p:nvGrpSpPr>
            <p:grpSpPr>
              <a:xfrm>
                <a:off x="4784760" y="3272040"/>
                <a:ext cx="164520" cy="43560"/>
                <a:chOff x="4784760" y="3272040"/>
                <a:chExt cx="164520" cy="4356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4784760" y="3272040"/>
                  <a:ext cx="20520" cy="43560"/>
                  <a:chOff x="4784760" y="3272040"/>
                  <a:chExt cx="20520" cy="43560"/>
                </a:xfrm>
              </p:grpSpPr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4784760" y="3272040"/>
                    <a:ext cx="20520" cy="43560"/>
                    <a:chOff x="4784760" y="3272040"/>
                    <a:chExt cx="20520" cy="4356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4784760" y="3280320"/>
                      <a:ext cx="19800" cy="33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4784760" y="3282120"/>
                      <a:ext cx="25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4786920" y="3288600"/>
                      <a:ext cx="18360" cy="262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4784760" y="3282120"/>
                      <a:ext cx="20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4785840" y="32720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4800960" y="32720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6" name=""/>
                  <p:cNvSpPr/>
                  <p:nvPr/>
                </p:nvSpPr>
                <p:spPr>
                  <a:xfrm>
                    <a:off x="4791240" y="3295800"/>
                    <a:ext cx="11520" cy="1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4813200" y="3272040"/>
                  <a:ext cx="20520" cy="43560"/>
                  <a:chOff x="4813200" y="3272040"/>
                  <a:chExt cx="20520" cy="43560"/>
                </a:xfrm>
              </p:grpSpPr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4813200" y="3272040"/>
                    <a:ext cx="20520" cy="43560"/>
                    <a:chOff x="4813200" y="3272040"/>
                    <a:chExt cx="20520" cy="4356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4813200" y="3280320"/>
                      <a:ext cx="19800" cy="33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4813200" y="3282120"/>
                      <a:ext cx="25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4815360" y="3288600"/>
                      <a:ext cx="18360" cy="262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4813200" y="3282120"/>
                      <a:ext cx="20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4814280" y="32720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4829400" y="32720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4819680" y="3295800"/>
                    <a:ext cx="11520" cy="1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4842000" y="3272040"/>
                  <a:ext cx="20520" cy="43560"/>
                  <a:chOff x="4842000" y="3272040"/>
                  <a:chExt cx="20520" cy="43560"/>
                </a:xfrm>
              </p:grpSpPr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4842000" y="3272040"/>
                    <a:ext cx="20520" cy="43560"/>
                    <a:chOff x="4842000" y="3272040"/>
                    <a:chExt cx="20520" cy="4356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4842000" y="3280320"/>
                      <a:ext cx="19800" cy="33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4842000" y="3282120"/>
                      <a:ext cx="25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4844160" y="3288600"/>
                      <a:ext cx="18360" cy="262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4842000" y="3282120"/>
                      <a:ext cx="20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4843080" y="32720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4858200" y="32720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4" name=""/>
                  <p:cNvSpPr/>
                  <p:nvPr/>
                </p:nvSpPr>
                <p:spPr>
                  <a:xfrm>
                    <a:off x="4848480" y="3295800"/>
                    <a:ext cx="11520" cy="1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4871160" y="3272040"/>
                  <a:ext cx="20520" cy="43560"/>
                  <a:chOff x="4871160" y="3272040"/>
                  <a:chExt cx="20520" cy="4356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4871160" y="3272040"/>
                    <a:ext cx="20520" cy="43560"/>
                    <a:chOff x="4871160" y="3272040"/>
                    <a:chExt cx="20520" cy="4356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4871160" y="3280320"/>
                      <a:ext cx="19800" cy="33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4871160" y="3282120"/>
                      <a:ext cx="25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4873320" y="3288600"/>
                      <a:ext cx="18360" cy="262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4871160" y="3282120"/>
                      <a:ext cx="20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4872240" y="32720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4887360" y="32720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3" name=""/>
                  <p:cNvSpPr/>
                  <p:nvPr/>
                </p:nvSpPr>
                <p:spPr>
                  <a:xfrm>
                    <a:off x="4877640" y="3295800"/>
                    <a:ext cx="11520" cy="1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99960" y="3272040"/>
                  <a:ext cx="20520" cy="43560"/>
                  <a:chOff x="4899960" y="3272040"/>
                  <a:chExt cx="20520" cy="4356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4899960" y="3272040"/>
                    <a:ext cx="20520" cy="43560"/>
                    <a:chOff x="4899960" y="3272040"/>
                    <a:chExt cx="20520" cy="4356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4899960" y="3280320"/>
                      <a:ext cx="19800" cy="33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4899960" y="3282120"/>
                      <a:ext cx="25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4902120" y="3288600"/>
                      <a:ext cx="18360" cy="262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4899960" y="3282120"/>
                      <a:ext cx="20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4901040" y="32720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4916160" y="32720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2" name=""/>
                  <p:cNvSpPr/>
                  <p:nvPr/>
                </p:nvSpPr>
                <p:spPr>
                  <a:xfrm>
                    <a:off x="4906440" y="3295800"/>
                    <a:ext cx="11520" cy="1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4928760" y="3272040"/>
                  <a:ext cx="20520" cy="43560"/>
                  <a:chOff x="4928760" y="3272040"/>
                  <a:chExt cx="20520" cy="43560"/>
                </a:xfrm>
              </p:grpSpPr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4928760" y="3272040"/>
                    <a:ext cx="20520" cy="43560"/>
                    <a:chOff x="4928760" y="3272040"/>
                    <a:chExt cx="20520" cy="4356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4928760" y="3280320"/>
                      <a:ext cx="19800" cy="33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4928760" y="3282120"/>
                      <a:ext cx="25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4930920" y="3288600"/>
                      <a:ext cx="18360" cy="262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4928760" y="3282120"/>
                      <a:ext cx="20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4929840" y="3272040"/>
                      <a:ext cx="252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4944960" y="3272040"/>
                      <a:ext cx="2160" cy="36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4935240" y="3295800"/>
                    <a:ext cx="11520" cy="14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32" name=""/>
          <p:cNvSpPr/>
          <p:nvPr/>
        </p:nvSpPr>
        <p:spPr>
          <a:xfrm flipV="1">
            <a:off x="3924360" y="3212640"/>
            <a:ext cx="360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4836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1636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50920" y="5805360"/>
            <a:ext cx="432720" cy="286920"/>
            <a:chOff x="250920" y="5805360"/>
            <a:chExt cx="432720" cy="286920"/>
          </a:xfrm>
        </p:grpSpPr>
        <p:grpSp>
          <p:nvGrpSpPr>
            <p:cNvPr id="536" name=""/>
            <p:cNvGrpSpPr/>
            <p:nvPr/>
          </p:nvGrpSpPr>
          <p:grpSpPr>
            <a:xfrm>
              <a:off x="250920" y="5805360"/>
              <a:ext cx="432720" cy="286920"/>
              <a:chOff x="250920" y="5805360"/>
              <a:chExt cx="432720" cy="286920"/>
            </a:xfrm>
          </p:grpSpPr>
          <p:sp>
            <p:nvSpPr>
              <p:cNvPr id="537" name=""/>
              <p:cNvSpPr/>
              <p:nvPr/>
            </p:nvSpPr>
            <p:spPr>
              <a:xfrm>
                <a:off x="267120" y="5808600"/>
                <a:ext cx="236160" cy="19800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96280" y="5933520"/>
                <a:ext cx="208800" cy="11772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250920" y="5937120"/>
                <a:ext cx="246960" cy="154800"/>
                <a:chOff x="250920" y="5937120"/>
                <a:chExt cx="246960" cy="15480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279720" y="5967360"/>
                  <a:ext cx="210600" cy="9540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76120" y="5979600"/>
                  <a:ext cx="194400" cy="10188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50920" y="5937120"/>
                  <a:ext cx="43200" cy="6948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56480" y="6023520"/>
                  <a:ext cx="41400" cy="6840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>
                <a:off x="470880" y="5871960"/>
                <a:ext cx="212760" cy="22032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05280" y="5813640"/>
                <a:ext cx="358560" cy="1998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81680" y="5868360"/>
                <a:ext cx="201960" cy="16236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8280" y="5805360"/>
                <a:ext cx="225000" cy="1382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301320" y="5974920"/>
              <a:ext cx="152280" cy="70200"/>
              <a:chOff x="301320" y="5974920"/>
              <a:chExt cx="152280" cy="7020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301320" y="5974920"/>
                <a:ext cx="4680" cy="6120"/>
                <a:chOff x="301320" y="5974920"/>
                <a:chExt cx="4680" cy="61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01320" y="5977800"/>
                  <a:ext cx="4680" cy="32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01320" y="5974920"/>
                  <a:ext cx="4680" cy="46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339120" y="5988240"/>
                <a:ext cx="114480" cy="56880"/>
                <a:chOff x="339120" y="5988240"/>
                <a:chExt cx="114480" cy="5688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339120" y="5992920"/>
                  <a:ext cx="114480" cy="52200"/>
                  <a:chOff x="339120" y="5992920"/>
                  <a:chExt cx="114480" cy="5220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432000" y="6031800"/>
                    <a:ext cx="360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56760" y="6001200"/>
                    <a:ext cx="684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394200" y="6016680"/>
                    <a:ext cx="504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12200" y="6024960"/>
                    <a:ext cx="5400" cy="68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374760" y="6008040"/>
                    <a:ext cx="504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339120" y="5992920"/>
                    <a:ext cx="5040" cy="68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46400" y="6040440"/>
                    <a:ext cx="720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339120" y="5988240"/>
                  <a:ext cx="114120" cy="55080"/>
                  <a:chOff x="339120" y="5988240"/>
                  <a:chExt cx="114120" cy="55080"/>
                </a:xfrm>
              </p:grpSpPr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356760" y="5996520"/>
                    <a:ext cx="96480" cy="46800"/>
                    <a:chOff x="356760" y="5996520"/>
                    <a:chExt cx="96480" cy="4680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448200" y="6036840"/>
                      <a:ext cx="5040" cy="64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374400" y="6003360"/>
                      <a:ext cx="684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411840" y="6020280"/>
                      <a:ext cx="5400" cy="64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429840" y="6028560"/>
                      <a:ext cx="5400" cy="64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392400" y="6011640"/>
                      <a:ext cx="6840" cy="64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356760" y="5996520"/>
                      <a:ext cx="6840" cy="68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400" bIns="-41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9" name=""/>
                  <p:cNvSpPr/>
                  <p:nvPr/>
                </p:nvSpPr>
                <p:spPr>
                  <a:xfrm>
                    <a:off x="339120" y="5988240"/>
                    <a:ext cx="5040" cy="6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70" name=""/>
          <p:cNvGrpSpPr/>
          <p:nvPr/>
        </p:nvGrpSpPr>
        <p:grpSpPr>
          <a:xfrm>
            <a:off x="1187280" y="5300640"/>
            <a:ext cx="360000" cy="359640"/>
            <a:chOff x="1187280" y="5300640"/>
            <a:chExt cx="360000" cy="359640"/>
          </a:xfrm>
        </p:grpSpPr>
        <p:grpSp>
          <p:nvGrpSpPr>
            <p:cNvPr id="571" name=""/>
            <p:cNvGrpSpPr/>
            <p:nvPr/>
          </p:nvGrpSpPr>
          <p:grpSpPr>
            <a:xfrm>
              <a:off x="1187280" y="5300640"/>
              <a:ext cx="360000" cy="359640"/>
              <a:chOff x="1187280" y="5300640"/>
              <a:chExt cx="360000" cy="359640"/>
            </a:xfrm>
          </p:grpSpPr>
          <p:sp>
            <p:nvSpPr>
              <p:cNvPr id="572" name=""/>
              <p:cNvSpPr/>
              <p:nvPr/>
            </p:nvSpPr>
            <p:spPr>
              <a:xfrm>
                <a:off x="1200600" y="5304960"/>
                <a:ext cx="196560" cy="2480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24720" y="5461200"/>
                <a:ext cx="173880" cy="1476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1187280" y="5465520"/>
                <a:ext cx="205200" cy="194040"/>
                <a:chOff x="1187280" y="5465520"/>
                <a:chExt cx="205200" cy="1940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1211400" y="5503680"/>
                  <a:ext cx="175320" cy="1195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208160" y="5518800"/>
                  <a:ext cx="161640" cy="12780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187280" y="5465520"/>
                  <a:ext cx="36000" cy="871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357920" y="5573880"/>
                  <a:ext cx="34560" cy="8568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370160" y="5384160"/>
                <a:ext cx="177120" cy="27612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232280" y="5311080"/>
                <a:ext cx="298440" cy="25056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9520" y="5379480"/>
                <a:ext cx="167760" cy="20340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209960" y="5300640"/>
                <a:ext cx="187200" cy="1731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1229400" y="5513040"/>
              <a:ext cx="126720" cy="88560"/>
              <a:chOff x="1229400" y="5513040"/>
              <a:chExt cx="126720" cy="8856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1229400" y="5513040"/>
                <a:ext cx="4320" cy="7560"/>
                <a:chOff x="1229400" y="5513040"/>
                <a:chExt cx="4320" cy="75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1229400" y="5516640"/>
                  <a:ext cx="4320" cy="396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229400" y="5513040"/>
                  <a:ext cx="4320" cy="576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1260720" y="5529960"/>
                <a:ext cx="95400" cy="71640"/>
                <a:chOff x="1260720" y="5529960"/>
                <a:chExt cx="95400" cy="71640"/>
              </a:xfrm>
            </p:grpSpPr>
            <p:grpSp>
              <p:nvGrpSpPr>
                <p:cNvPr id="588" name=""/>
                <p:cNvGrpSpPr/>
                <p:nvPr/>
              </p:nvGrpSpPr>
              <p:grpSpPr>
                <a:xfrm>
                  <a:off x="1260720" y="5536080"/>
                  <a:ext cx="95400" cy="65520"/>
                  <a:chOff x="1260720" y="5536080"/>
                  <a:chExt cx="95400" cy="6552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1338480" y="5585040"/>
                    <a:ext cx="288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1275480" y="5546520"/>
                    <a:ext cx="576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1306800" y="5565600"/>
                    <a:ext cx="432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321560" y="5576400"/>
                    <a:ext cx="468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290600" y="5555160"/>
                    <a:ext cx="432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1260720" y="5536080"/>
                    <a:ext cx="432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1350360" y="5595480"/>
                    <a:ext cx="576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1260720" y="5529960"/>
                  <a:ext cx="95040" cy="68760"/>
                  <a:chOff x="1260720" y="5529960"/>
                  <a:chExt cx="95040" cy="68760"/>
                </a:xfrm>
              </p:grpSpPr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1275480" y="5540400"/>
                    <a:ext cx="80280" cy="58320"/>
                    <a:chOff x="1275480" y="5540400"/>
                    <a:chExt cx="80280" cy="5832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1351440" y="5590800"/>
                      <a:ext cx="432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1290240" y="5548680"/>
                      <a:ext cx="5760" cy="10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1321560" y="5569920"/>
                      <a:ext cx="468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1336320" y="5580360"/>
                      <a:ext cx="468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1305000" y="5559120"/>
                      <a:ext cx="576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1275480" y="5540400"/>
                      <a:ext cx="576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4" name=""/>
                  <p:cNvSpPr/>
                  <p:nvPr/>
                </p:nvSpPr>
                <p:spPr>
                  <a:xfrm>
                    <a:off x="1260720" y="5529960"/>
                    <a:ext cx="4320" cy="8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05" name=""/>
          <p:cNvSpPr/>
          <p:nvPr/>
        </p:nvSpPr>
        <p:spPr>
          <a:xfrm>
            <a:off x="370836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932360" y="3357720"/>
            <a:ext cx="7192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5636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276720" y="5535720"/>
            <a:ext cx="1191240" cy="1324080"/>
            <a:chOff x="3276720" y="5535720"/>
            <a:chExt cx="1191240" cy="1324080"/>
          </a:xfrm>
        </p:grpSpPr>
        <p:graphicFrame>
          <p:nvGraphicFramePr>
            <p:cNvPr id="609" name=""/>
            <p:cNvGraphicFramePr/>
            <p:nvPr/>
          </p:nvGraphicFramePr>
          <p:xfrm>
            <a:off x="3355200" y="6185160"/>
            <a:ext cx="498240" cy="393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355200" y="6185160"/>
                      <a:ext cx="4982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3828960" y="6185160"/>
            <a:ext cx="49824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28960" y="6185160"/>
                      <a:ext cx="4982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3" name=""/>
            <p:cNvSpPr/>
            <p:nvPr/>
          </p:nvSpPr>
          <p:spPr>
            <a:xfrm>
              <a:off x="3276720" y="6174000"/>
              <a:ext cx="102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4" name=""/>
            <p:cNvGraphicFramePr/>
            <p:nvPr/>
          </p:nvGraphicFramePr>
          <p:xfrm>
            <a:off x="3672000" y="5535720"/>
            <a:ext cx="327240" cy="5223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1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672000" y="5535720"/>
                      <a:ext cx="32724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6" name=""/>
            <p:cNvSpPr/>
            <p:nvPr/>
          </p:nvSpPr>
          <p:spPr>
            <a:xfrm>
              <a:off x="3907080" y="5774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436920" y="6400800"/>
              <a:ext cx="103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D 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28960" y="60404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 flipV="1">
            <a:off x="3924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708360" y="5229360"/>
            <a:ext cx="286920" cy="215640"/>
            <a:chOff x="3708360" y="5229360"/>
            <a:chExt cx="286920" cy="215640"/>
          </a:xfrm>
        </p:grpSpPr>
        <p:grpSp>
          <p:nvGrpSpPr>
            <p:cNvPr id="621" name=""/>
            <p:cNvGrpSpPr/>
            <p:nvPr/>
          </p:nvGrpSpPr>
          <p:grpSpPr>
            <a:xfrm>
              <a:off x="3708360" y="5229360"/>
              <a:ext cx="286920" cy="215640"/>
              <a:chOff x="3708360" y="5229360"/>
              <a:chExt cx="286920" cy="215640"/>
            </a:xfrm>
          </p:grpSpPr>
          <p:sp>
            <p:nvSpPr>
              <p:cNvPr id="622" name=""/>
              <p:cNvSpPr/>
              <p:nvPr/>
            </p:nvSpPr>
            <p:spPr>
              <a:xfrm>
                <a:off x="3719160" y="5231880"/>
                <a:ext cx="156600" cy="1486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738240" y="5325480"/>
                <a:ext cx="138600" cy="88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4" name=""/>
              <p:cNvGrpSpPr/>
              <p:nvPr/>
            </p:nvGrpSpPr>
            <p:grpSpPr>
              <a:xfrm>
                <a:off x="3708360" y="5328000"/>
                <a:ext cx="163800" cy="116640"/>
                <a:chOff x="3708360" y="5328000"/>
                <a:chExt cx="163800" cy="11664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3727440" y="5350680"/>
                  <a:ext cx="140040" cy="7164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724920" y="5359680"/>
                  <a:ext cx="128880" cy="7668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708360" y="5328000"/>
                  <a:ext cx="28440" cy="5220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844800" y="5393160"/>
                  <a:ext cx="27360" cy="5148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" name=""/>
              <p:cNvSpPr/>
              <p:nvPr/>
            </p:nvSpPr>
            <p:spPr>
              <a:xfrm>
                <a:off x="3854160" y="5279400"/>
                <a:ext cx="141120" cy="16560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744360" y="5235480"/>
                <a:ext cx="237960" cy="15012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861360" y="5276520"/>
                <a:ext cx="133920" cy="12168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726360" y="5229360"/>
                <a:ext cx="149400" cy="10368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3741840" y="5356440"/>
              <a:ext cx="100800" cy="52560"/>
              <a:chOff x="3741840" y="5356440"/>
              <a:chExt cx="100800" cy="52560"/>
            </a:xfrm>
          </p:grpSpPr>
          <p:grpSp>
            <p:nvGrpSpPr>
              <p:cNvPr id="634" name=""/>
              <p:cNvGrpSpPr/>
              <p:nvPr/>
            </p:nvGrpSpPr>
            <p:grpSpPr>
              <a:xfrm>
                <a:off x="3741840" y="5356440"/>
                <a:ext cx="3240" cy="4680"/>
                <a:chOff x="3741840" y="5356440"/>
                <a:chExt cx="3240" cy="468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741840" y="5358600"/>
                  <a:ext cx="3240" cy="25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741840" y="5356440"/>
                  <a:ext cx="3240" cy="36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766680" y="5366520"/>
                <a:ext cx="75960" cy="42480"/>
                <a:chOff x="3766680" y="5366520"/>
                <a:chExt cx="75960" cy="42480"/>
              </a:xfrm>
            </p:grpSpPr>
            <p:grpSp>
              <p:nvGrpSpPr>
                <p:cNvPr id="638" name=""/>
                <p:cNvGrpSpPr/>
                <p:nvPr/>
              </p:nvGrpSpPr>
              <p:grpSpPr>
                <a:xfrm>
                  <a:off x="3766680" y="5370120"/>
                  <a:ext cx="75960" cy="38880"/>
                  <a:chOff x="3766680" y="5370120"/>
                  <a:chExt cx="75960" cy="3888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3828600" y="5399280"/>
                    <a:ext cx="216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778560" y="5376240"/>
                    <a:ext cx="4320" cy="36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3803400" y="5387760"/>
                    <a:ext cx="324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815280" y="5393880"/>
                    <a:ext cx="3600" cy="50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790440" y="5381280"/>
                    <a:ext cx="324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766680" y="5370120"/>
                    <a:ext cx="3240" cy="50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837960" y="5405400"/>
                    <a:ext cx="4680" cy="36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3766680" y="5366520"/>
                  <a:ext cx="75960" cy="41040"/>
                  <a:chOff x="3766680" y="5366520"/>
                  <a:chExt cx="75960" cy="41040"/>
                </a:xfrm>
              </p:grpSpPr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3778560" y="5372640"/>
                    <a:ext cx="64080" cy="34920"/>
                    <a:chOff x="3778560" y="5372640"/>
                    <a:chExt cx="64080" cy="3492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3839400" y="5402880"/>
                      <a:ext cx="3240" cy="4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3790440" y="5377680"/>
                      <a:ext cx="432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3815280" y="5390280"/>
                      <a:ext cx="3600" cy="4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3827160" y="5396760"/>
                      <a:ext cx="3600" cy="4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3802320" y="5383800"/>
                      <a:ext cx="4320" cy="4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3778560" y="5372640"/>
                      <a:ext cx="432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4" name=""/>
                  <p:cNvSpPr/>
                  <p:nvPr/>
                </p:nvSpPr>
                <p:spPr>
                  <a:xfrm>
                    <a:off x="3766680" y="5366520"/>
                    <a:ext cx="3240" cy="5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55" name=""/>
          <p:cNvGrpSpPr/>
          <p:nvPr/>
        </p:nvGrpSpPr>
        <p:grpSpPr>
          <a:xfrm>
            <a:off x="5003640" y="5535720"/>
            <a:ext cx="1191600" cy="1324080"/>
            <a:chOff x="5003640" y="5535720"/>
            <a:chExt cx="1191600" cy="1324080"/>
          </a:xfrm>
        </p:grpSpPr>
        <p:graphicFrame>
          <p:nvGraphicFramePr>
            <p:cNvPr id="656" name=""/>
            <p:cNvGraphicFramePr/>
            <p:nvPr/>
          </p:nvGraphicFramePr>
          <p:xfrm>
            <a:off x="5082120" y="6185160"/>
            <a:ext cx="498240" cy="3934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5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082120" y="6185160"/>
                      <a:ext cx="4982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8" name=""/>
            <p:cNvGraphicFramePr/>
            <p:nvPr/>
          </p:nvGraphicFramePr>
          <p:xfrm>
            <a:off x="5555880" y="6185160"/>
            <a:ext cx="498240" cy="393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5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555880" y="6185160"/>
                      <a:ext cx="4982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0" name=""/>
            <p:cNvSpPr/>
            <p:nvPr/>
          </p:nvSpPr>
          <p:spPr>
            <a:xfrm>
              <a:off x="5003640" y="6174000"/>
              <a:ext cx="102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1" name=""/>
            <p:cNvGraphicFramePr/>
            <p:nvPr/>
          </p:nvGraphicFramePr>
          <p:xfrm>
            <a:off x="5399280" y="5535720"/>
            <a:ext cx="327600" cy="5223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399280" y="5535720"/>
                      <a:ext cx="32760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3" name=""/>
            <p:cNvSpPr/>
            <p:nvPr/>
          </p:nvSpPr>
          <p:spPr>
            <a:xfrm>
              <a:off x="5634360" y="57740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64200" y="6400800"/>
              <a:ext cx="103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D 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55880" y="60404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 flipV="1">
            <a:off x="5580000" y="4941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435640" y="5157720"/>
            <a:ext cx="286920" cy="215640"/>
            <a:chOff x="5435640" y="5157720"/>
            <a:chExt cx="286920" cy="215640"/>
          </a:xfrm>
        </p:grpSpPr>
        <p:grpSp>
          <p:nvGrpSpPr>
            <p:cNvPr id="668" name=""/>
            <p:cNvGrpSpPr/>
            <p:nvPr/>
          </p:nvGrpSpPr>
          <p:grpSpPr>
            <a:xfrm>
              <a:off x="5435640" y="5157720"/>
              <a:ext cx="286920" cy="215640"/>
              <a:chOff x="5435640" y="5157720"/>
              <a:chExt cx="286920" cy="215640"/>
            </a:xfrm>
          </p:grpSpPr>
          <p:sp>
            <p:nvSpPr>
              <p:cNvPr id="669" name=""/>
              <p:cNvSpPr/>
              <p:nvPr/>
            </p:nvSpPr>
            <p:spPr>
              <a:xfrm>
                <a:off x="5446440" y="5160240"/>
                <a:ext cx="156600" cy="1486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465520" y="5254200"/>
                <a:ext cx="138600" cy="8856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1" name=""/>
              <p:cNvGrpSpPr/>
              <p:nvPr/>
            </p:nvGrpSpPr>
            <p:grpSpPr>
              <a:xfrm>
                <a:off x="5435640" y="5256720"/>
                <a:ext cx="163800" cy="116640"/>
                <a:chOff x="5435640" y="5256720"/>
                <a:chExt cx="163800" cy="11664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454720" y="5279400"/>
                  <a:ext cx="140040" cy="7164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452200" y="5288400"/>
                  <a:ext cx="128880" cy="7668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435640" y="5256720"/>
                  <a:ext cx="28440" cy="5220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572080" y="5321880"/>
                  <a:ext cx="27360" cy="5148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5581440" y="5207760"/>
                <a:ext cx="141120" cy="16560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471640" y="5163840"/>
                <a:ext cx="237960" cy="15012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88640" y="5205240"/>
                <a:ext cx="133920" cy="12204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53640" y="5157720"/>
                <a:ext cx="149400" cy="1040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5469120" y="5284800"/>
              <a:ext cx="100800" cy="52560"/>
              <a:chOff x="5469120" y="5284800"/>
              <a:chExt cx="100800" cy="5256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5469120" y="5284800"/>
                <a:ext cx="3240" cy="4680"/>
                <a:chOff x="5469120" y="5284800"/>
                <a:chExt cx="3240" cy="468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5469120" y="5286960"/>
                  <a:ext cx="3240" cy="25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469120" y="5284800"/>
                  <a:ext cx="3240" cy="36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5493960" y="5294880"/>
                <a:ext cx="75960" cy="42480"/>
                <a:chOff x="5493960" y="5294880"/>
                <a:chExt cx="75960" cy="42480"/>
              </a:xfrm>
            </p:grpSpPr>
            <p:grpSp>
              <p:nvGrpSpPr>
                <p:cNvPr id="685" name=""/>
                <p:cNvGrpSpPr/>
                <p:nvPr/>
              </p:nvGrpSpPr>
              <p:grpSpPr>
                <a:xfrm>
                  <a:off x="5493960" y="5298480"/>
                  <a:ext cx="75960" cy="38880"/>
                  <a:chOff x="5493960" y="5298480"/>
                  <a:chExt cx="75960" cy="3888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5555880" y="5327640"/>
                    <a:ext cx="216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5505840" y="5304600"/>
                    <a:ext cx="4320" cy="36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5530680" y="5316120"/>
                    <a:ext cx="324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542560" y="5322240"/>
                    <a:ext cx="3600" cy="50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5517720" y="5309640"/>
                    <a:ext cx="324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5493960" y="5298480"/>
                    <a:ext cx="3240" cy="50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5565240" y="5333760"/>
                    <a:ext cx="4680" cy="36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5493960" y="5294880"/>
                  <a:ext cx="75960" cy="41040"/>
                  <a:chOff x="5493960" y="5294880"/>
                  <a:chExt cx="75960" cy="41040"/>
                </a:xfrm>
              </p:grpSpPr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5505840" y="5301000"/>
                    <a:ext cx="64080" cy="34920"/>
                    <a:chOff x="5505840" y="5301000"/>
                    <a:chExt cx="64080" cy="349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5566680" y="5331240"/>
                      <a:ext cx="3240" cy="4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5517720" y="5306040"/>
                      <a:ext cx="432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5542560" y="5318640"/>
                      <a:ext cx="3600" cy="4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5554440" y="5325120"/>
                      <a:ext cx="3600" cy="4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5529600" y="5312160"/>
                      <a:ext cx="4320" cy="4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5505840" y="5301000"/>
                      <a:ext cx="432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1" name=""/>
                  <p:cNvSpPr/>
                  <p:nvPr/>
                </p:nvSpPr>
                <p:spPr>
                  <a:xfrm>
                    <a:off x="5493960" y="5294880"/>
                    <a:ext cx="3240" cy="5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702" name="" descr=""/>
          <p:cNvPicPr/>
          <p:nvPr/>
        </p:nvPicPr>
        <p:blipFill>
          <a:blip r:embed="rId29"/>
          <a:stretch/>
        </p:blipFill>
        <p:spPr>
          <a:xfrm>
            <a:off x="3348000" y="3068640"/>
            <a:ext cx="576360" cy="4064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0"/>
          <a:stretch/>
        </p:blipFill>
        <p:spPr>
          <a:xfrm>
            <a:off x="5651640" y="2997360"/>
            <a:ext cx="576000" cy="406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1"/>
          <a:stretch/>
        </p:blipFill>
        <p:spPr>
          <a:xfrm>
            <a:off x="4284720" y="2249640"/>
            <a:ext cx="7189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139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QUEMA DE UN CORE CONVERGEN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3348000" y="2924280"/>
            <a:ext cx="3527280" cy="2017080"/>
            <a:chOff x="3348000" y="2924280"/>
            <a:chExt cx="3527280" cy="2017080"/>
          </a:xfrm>
        </p:grpSpPr>
        <p:sp>
          <p:nvSpPr>
            <p:cNvPr id="707" name=""/>
            <p:cNvSpPr/>
            <p:nvPr/>
          </p:nvSpPr>
          <p:spPr>
            <a:xfrm>
              <a:off x="3348000" y="2924280"/>
              <a:ext cx="3527280" cy="201708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ff0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43960" y="3517560"/>
              <a:ext cx="182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RE IP/MP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468360" y="1627200"/>
            <a:ext cx="2231640" cy="1829880"/>
            <a:chOff x="468360" y="1627200"/>
            <a:chExt cx="2231640" cy="1829880"/>
          </a:xfrm>
        </p:grpSpPr>
        <p:sp>
          <p:nvSpPr>
            <p:cNvPr id="710" name=""/>
            <p:cNvSpPr/>
            <p:nvPr/>
          </p:nvSpPr>
          <p:spPr>
            <a:xfrm>
              <a:off x="468360" y="1627200"/>
              <a:ext cx="2231640" cy="182988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73440" y="2462400"/>
              <a:ext cx="11498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12" name=""/>
          <p:cNvGraphicFramePr/>
          <p:nvPr/>
        </p:nvGraphicFramePr>
        <p:xfrm>
          <a:off x="973080" y="1844640"/>
          <a:ext cx="4460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1844640"/>
                    <a:ext cx="4460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1908000" y="1844640"/>
          <a:ext cx="44640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1844640"/>
                    <a:ext cx="446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1476360" y="2852640"/>
          <a:ext cx="4460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2852640"/>
                    <a:ext cx="4460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"/>
          <p:cNvSpPr/>
          <p:nvPr/>
        </p:nvSpPr>
        <p:spPr>
          <a:xfrm flipH="1" flipV="1">
            <a:off x="1115640" y="2418840"/>
            <a:ext cx="360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1908000" y="2491920"/>
            <a:ext cx="289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05080" y="213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468360" y="1195560"/>
          <a:ext cx="3603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1195560"/>
                    <a:ext cx="360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757080" y="1555920"/>
            <a:ext cx="287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116000" y="1123920"/>
          <a:ext cx="36036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1123920"/>
                    <a:ext cx="360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"/>
          <p:cNvSpPr/>
          <p:nvPr/>
        </p:nvSpPr>
        <p:spPr>
          <a:xfrm flipH="1">
            <a:off x="1189080" y="148428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757080" y="3643200"/>
          <a:ext cx="36036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7080" y="3643200"/>
                    <a:ext cx="360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V="1">
            <a:off x="1044720" y="350028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629080" y="3355920"/>
            <a:ext cx="477360" cy="728640"/>
            <a:chOff x="2629080" y="3355920"/>
            <a:chExt cx="477360" cy="728640"/>
          </a:xfrm>
        </p:grpSpPr>
        <p:sp>
          <p:nvSpPr>
            <p:cNvPr id="731" name=""/>
            <p:cNvSpPr/>
            <p:nvPr/>
          </p:nvSpPr>
          <p:spPr>
            <a:xfrm>
              <a:off x="3047400" y="3355920"/>
              <a:ext cx="59040" cy="728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29080" y="3424680"/>
              <a:ext cx="419760" cy="657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65440" y="3459960"/>
              <a:ext cx="346680" cy="3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59680" y="390888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84960" y="3908880"/>
              <a:ext cx="1076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908440" y="390888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7552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0612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3708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6948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80008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3104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6200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9296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2392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5632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98728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02160" y="3961080"/>
              <a:ext cx="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29960" y="39610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39400" y="39610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30520" y="3364200"/>
              <a:ext cx="467280" cy="547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6256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9352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2448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75688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8784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1880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4976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8036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91132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4372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7432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3060720" y="386064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08000" y="3500280"/>
            <a:ext cx="721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86160" y="40766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557440" y="5156280"/>
            <a:ext cx="477360" cy="728640"/>
            <a:chOff x="2557440" y="5156280"/>
            <a:chExt cx="477360" cy="728640"/>
          </a:xfrm>
        </p:grpSpPr>
        <p:sp>
          <p:nvSpPr>
            <p:cNvPr id="767" name=""/>
            <p:cNvSpPr/>
            <p:nvPr/>
          </p:nvSpPr>
          <p:spPr>
            <a:xfrm>
              <a:off x="2975760" y="5156280"/>
              <a:ext cx="59040" cy="728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57440" y="5225040"/>
              <a:ext cx="419760" cy="657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93800" y="5260320"/>
              <a:ext cx="346680" cy="3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88040" y="570924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13320" y="5709240"/>
              <a:ext cx="1076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36800" y="570924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0388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3448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6544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69784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844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5940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9036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2132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5228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8468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1564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630520" y="5761440"/>
              <a:ext cx="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58320" y="57614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67760" y="57614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58880" y="5164560"/>
              <a:ext cx="467280" cy="547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59092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2188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5284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8524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1620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4716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7812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0872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3968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208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0268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 flipV="1">
            <a:off x="2989440" y="4653000"/>
            <a:ext cx="5745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13080" y="5877000"/>
            <a:ext cx="6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1549440" y="5011560"/>
          <a:ext cx="360360" cy="38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49440" y="5011560"/>
                    <a:ext cx="360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"/>
          <p:cNvSpPr/>
          <p:nvPr/>
        </p:nvSpPr>
        <p:spPr>
          <a:xfrm>
            <a:off x="1836720" y="522756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1549440" y="6019920"/>
          <a:ext cx="36036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49440" y="6019920"/>
                    <a:ext cx="360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 flipV="1">
            <a:off x="1765440" y="558756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645080" y="5227560"/>
            <a:ext cx="477360" cy="728640"/>
            <a:chOff x="4645080" y="5227560"/>
            <a:chExt cx="477360" cy="728640"/>
          </a:xfrm>
        </p:grpSpPr>
        <p:sp>
          <p:nvSpPr>
            <p:cNvPr id="808" name=""/>
            <p:cNvSpPr/>
            <p:nvPr/>
          </p:nvSpPr>
          <p:spPr>
            <a:xfrm>
              <a:off x="5063400" y="5227560"/>
              <a:ext cx="59040" cy="728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45080" y="5296320"/>
              <a:ext cx="419760" cy="657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681440" y="5331600"/>
              <a:ext cx="346680" cy="3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675680" y="578052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00960" y="5780520"/>
              <a:ext cx="1076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24440" y="578052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9152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2212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5308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8548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1608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4704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7800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0896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3992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7232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00328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718160" y="5832720"/>
              <a:ext cx="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45960" y="58327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55400" y="58327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46520" y="5235840"/>
              <a:ext cx="467280" cy="547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67856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70952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4048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7288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80384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3480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6576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9636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2732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5972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9032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4859280" y="4869000"/>
            <a:ext cx="18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78240" y="6019920"/>
            <a:ext cx="15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7272360" y="3213000"/>
            <a:ext cx="1366920" cy="863640"/>
            <a:chOff x="7272360" y="3213000"/>
            <a:chExt cx="1366920" cy="863640"/>
          </a:xfrm>
        </p:grpSpPr>
        <p:sp>
          <p:nvSpPr>
            <p:cNvPr id="843" name=""/>
            <p:cNvSpPr/>
            <p:nvPr/>
          </p:nvSpPr>
          <p:spPr>
            <a:xfrm>
              <a:off x="7272360" y="3213000"/>
              <a:ext cx="1366920" cy="8636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631280" y="3530520"/>
              <a:ext cx="936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D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343640" y="4221000"/>
            <a:ext cx="1366920" cy="863640"/>
            <a:chOff x="7343640" y="4221000"/>
            <a:chExt cx="1366920" cy="863640"/>
          </a:xfrm>
        </p:grpSpPr>
        <p:sp>
          <p:nvSpPr>
            <p:cNvPr id="846" name=""/>
            <p:cNvSpPr/>
            <p:nvPr/>
          </p:nvSpPr>
          <p:spPr>
            <a:xfrm>
              <a:off x="7343640" y="4221000"/>
              <a:ext cx="1366920" cy="8636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02560" y="4538520"/>
              <a:ext cx="936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H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3924360" y="549360"/>
            <a:ext cx="3313080" cy="158256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17800" y="1125360"/>
            <a:ext cx="1919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6804000" y="429264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6803640" y="3716280"/>
            <a:ext cx="360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209080" y="5013360"/>
            <a:ext cx="142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8352000" y="2708280"/>
            <a:ext cx="252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92360" y="836640"/>
            <a:ext cx="6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763640" y="3645000"/>
            <a:ext cx="6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796000" y="5373720"/>
            <a:ext cx="1007640" cy="431640"/>
            <a:chOff x="5796000" y="5373720"/>
            <a:chExt cx="1007640" cy="431640"/>
          </a:xfrm>
        </p:grpSpPr>
        <p:pic>
          <p:nvPicPr>
            <p:cNvPr id="857" name="" descr=""/>
            <p:cNvPicPr/>
            <p:nvPr/>
          </p:nvPicPr>
          <p:blipFill>
            <a:blip r:embed="rId20"/>
            <a:stretch/>
          </p:blipFill>
          <p:spPr>
            <a:xfrm>
              <a:off x="5796000" y="5373720"/>
              <a:ext cx="306720" cy="3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" descr=""/>
            <p:cNvPicPr/>
            <p:nvPr/>
          </p:nvPicPr>
          <p:blipFill>
            <a:blip r:embed="rId21"/>
            <a:stretch/>
          </p:blipFill>
          <p:spPr>
            <a:xfrm>
              <a:off x="6146280" y="5373720"/>
              <a:ext cx="306720" cy="3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" descr=""/>
            <p:cNvPicPr/>
            <p:nvPr/>
          </p:nvPicPr>
          <p:blipFill>
            <a:blip r:embed="rId22"/>
            <a:stretch/>
          </p:blipFill>
          <p:spPr>
            <a:xfrm>
              <a:off x="6497280" y="5373720"/>
              <a:ext cx="306360" cy="32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"/>
            <p:cNvSpPr/>
            <p:nvPr/>
          </p:nvSpPr>
          <p:spPr>
            <a:xfrm>
              <a:off x="5839560" y="5805360"/>
              <a:ext cx="96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927400" y="569736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78040" y="569736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628680" y="569736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 flipH="1" flipV="1">
            <a:off x="7164360" y="2997000"/>
            <a:ext cx="28728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6012000" y="5084640"/>
            <a:ext cx="360000" cy="236160"/>
            <a:chOff x="6012000" y="5084640"/>
            <a:chExt cx="360000" cy="236160"/>
          </a:xfrm>
        </p:grpSpPr>
        <p:grpSp>
          <p:nvGrpSpPr>
            <p:cNvPr id="866" name=""/>
            <p:cNvGrpSpPr/>
            <p:nvPr/>
          </p:nvGrpSpPr>
          <p:grpSpPr>
            <a:xfrm>
              <a:off x="6012000" y="5084640"/>
              <a:ext cx="360000" cy="236160"/>
              <a:chOff x="6012000" y="5084640"/>
              <a:chExt cx="360000" cy="236160"/>
            </a:xfrm>
          </p:grpSpPr>
          <p:sp>
            <p:nvSpPr>
              <p:cNvPr id="867" name=""/>
              <p:cNvSpPr/>
              <p:nvPr/>
            </p:nvSpPr>
            <p:spPr>
              <a:xfrm>
                <a:off x="6025320" y="5087160"/>
                <a:ext cx="196560" cy="163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49440" y="5190120"/>
                <a:ext cx="173880" cy="9684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6012000" y="5193000"/>
                <a:ext cx="205200" cy="127440"/>
                <a:chOff x="6012000" y="5193000"/>
                <a:chExt cx="205200" cy="12744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6036120" y="5217840"/>
                  <a:ext cx="175320" cy="7848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032880" y="5227920"/>
                  <a:ext cx="161640" cy="8388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012000" y="5193000"/>
                  <a:ext cx="36000" cy="5724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182640" y="5264280"/>
                  <a:ext cx="34560" cy="561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4" name=""/>
              <p:cNvSpPr/>
              <p:nvPr/>
            </p:nvSpPr>
            <p:spPr>
              <a:xfrm>
                <a:off x="6194880" y="5139360"/>
                <a:ext cx="177120" cy="1814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057000" y="5091480"/>
                <a:ext cx="298440" cy="16452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204240" y="5136480"/>
                <a:ext cx="167760" cy="13356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034680" y="5084640"/>
                <a:ext cx="187200" cy="1137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6054120" y="5223960"/>
              <a:ext cx="126720" cy="58320"/>
              <a:chOff x="6054120" y="5223960"/>
              <a:chExt cx="126720" cy="58320"/>
            </a:xfrm>
          </p:grpSpPr>
          <p:grpSp>
            <p:nvGrpSpPr>
              <p:cNvPr id="879" name=""/>
              <p:cNvGrpSpPr/>
              <p:nvPr/>
            </p:nvGrpSpPr>
            <p:grpSpPr>
              <a:xfrm>
                <a:off x="6054120" y="5223960"/>
                <a:ext cx="4320" cy="5400"/>
                <a:chOff x="6054120" y="5223960"/>
                <a:chExt cx="4320" cy="54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6054120" y="5226480"/>
                  <a:ext cx="4320" cy="28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054120" y="5223960"/>
                  <a:ext cx="4320" cy="396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6085440" y="5235120"/>
                <a:ext cx="95400" cy="47160"/>
                <a:chOff x="6085440" y="5235120"/>
                <a:chExt cx="95400" cy="47160"/>
              </a:xfrm>
            </p:grpSpPr>
            <p:grpSp>
              <p:nvGrpSpPr>
                <p:cNvPr id="883" name=""/>
                <p:cNvGrpSpPr/>
                <p:nvPr/>
              </p:nvGrpSpPr>
              <p:grpSpPr>
                <a:xfrm>
                  <a:off x="6085440" y="5239080"/>
                  <a:ext cx="95400" cy="43200"/>
                  <a:chOff x="6085440" y="5239080"/>
                  <a:chExt cx="95400" cy="4320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6163200" y="5271480"/>
                    <a:ext cx="288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6100200" y="5245920"/>
                    <a:ext cx="5760" cy="3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6131520" y="5258520"/>
                    <a:ext cx="432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6146280" y="5265720"/>
                    <a:ext cx="468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6115320" y="5251680"/>
                    <a:ext cx="432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6085440" y="5239080"/>
                    <a:ext cx="432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6175080" y="5278320"/>
                    <a:ext cx="5760" cy="3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1" name=""/>
                <p:cNvGrpSpPr/>
                <p:nvPr/>
              </p:nvGrpSpPr>
              <p:grpSpPr>
                <a:xfrm>
                  <a:off x="6085440" y="5235120"/>
                  <a:ext cx="95040" cy="45360"/>
                  <a:chOff x="6085440" y="5235120"/>
                  <a:chExt cx="95040" cy="45360"/>
                </a:xfrm>
              </p:grpSpPr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6100200" y="5241960"/>
                    <a:ext cx="80280" cy="38520"/>
                    <a:chOff x="6100200" y="5241960"/>
                    <a:chExt cx="80280" cy="3852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6176160" y="5275440"/>
                      <a:ext cx="432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6114960" y="5247360"/>
                      <a:ext cx="5760" cy="68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400" bIns="-41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6146280" y="5261400"/>
                      <a:ext cx="468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6161040" y="5268240"/>
                      <a:ext cx="468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6129720" y="5254560"/>
                      <a:ext cx="576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6100200" y="5241960"/>
                      <a:ext cx="5760" cy="5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9" name=""/>
                  <p:cNvSpPr/>
                  <p:nvPr/>
                </p:nvSpPr>
                <p:spPr>
                  <a:xfrm>
                    <a:off x="6085440" y="5235120"/>
                    <a:ext cx="4320" cy="5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00" name=""/>
          <p:cNvSpPr/>
          <p:nvPr/>
        </p:nvSpPr>
        <p:spPr>
          <a:xfrm>
            <a:off x="5796000" y="479736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227640" y="530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877080" y="2421000"/>
            <a:ext cx="1007640" cy="431640"/>
            <a:chOff x="6877080" y="2421000"/>
            <a:chExt cx="1007640" cy="431640"/>
          </a:xfrm>
        </p:grpSpPr>
        <p:pic>
          <p:nvPicPr>
            <p:cNvPr id="903" name="" descr=""/>
            <p:cNvPicPr/>
            <p:nvPr/>
          </p:nvPicPr>
          <p:blipFill>
            <a:blip r:embed="rId23"/>
            <a:stretch/>
          </p:blipFill>
          <p:spPr>
            <a:xfrm>
              <a:off x="6877080" y="2421000"/>
              <a:ext cx="306720" cy="3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24"/>
            <a:stretch/>
          </p:blipFill>
          <p:spPr>
            <a:xfrm>
              <a:off x="7227360" y="2421000"/>
              <a:ext cx="306720" cy="3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25"/>
            <a:stretch/>
          </p:blipFill>
          <p:spPr>
            <a:xfrm>
              <a:off x="7578360" y="2421000"/>
              <a:ext cx="306360" cy="32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6920640" y="2852640"/>
              <a:ext cx="96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08480" y="274464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359120" y="274464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709760" y="274464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6948360" y="2924280"/>
            <a:ext cx="360000" cy="236160"/>
            <a:chOff x="6948360" y="2924280"/>
            <a:chExt cx="360000" cy="236160"/>
          </a:xfrm>
        </p:grpSpPr>
        <p:grpSp>
          <p:nvGrpSpPr>
            <p:cNvPr id="911" name=""/>
            <p:cNvGrpSpPr/>
            <p:nvPr/>
          </p:nvGrpSpPr>
          <p:grpSpPr>
            <a:xfrm>
              <a:off x="6948360" y="2924280"/>
              <a:ext cx="360000" cy="236160"/>
              <a:chOff x="6948360" y="2924280"/>
              <a:chExt cx="360000" cy="236160"/>
            </a:xfrm>
          </p:grpSpPr>
          <p:sp>
            <p:nvSpPr>
              <p:cNvPr id="912" name=""/>
              <p:cNvSpPr/>
              <p:nvPr/>
            </p:nvSpPr>
            <p:spPr>
              <a:xfrm>
                <a:off x="6961680" y="2926800"/>
                <a:ext cx="196560" cy="163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985800" y="3029760"/>
                <a:ext cx="173880" cy="9684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4" name=""/>
              <p:cNvGrpSpPr/>
              <p:nvPr/>
            </p:nvGrpSpPr>
            <p:grpSpPr>
              <a:xfrm>
                <a:off x="6948360" y="3032640"/>
                <a:ext cx="205200" cy="127440"/>
                <a:chOff x="6948360" y="3032640"/>
                <a:chExt cx="205200" cy="12744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6972480" y="3057480"/>
                  <a:ext cx="175320" cy="7848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69240" y="3067560"/>
                  <a:ext cx="161640" cy="8388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948360" y="3032640"/>
                  <a:ext cx="36000" cy="5724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119000" y="3103920"/>
                  <a:ext cx="34560" cy="561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9" name=""/>
              <p:cNvSpPr/>
              <p:nvPr/>
            </p:nvSpPr>
            <p:spPr>
              <a:xfrm>
                <a:off x="7131240" y="2979000"/>
                <a:ext cx="177120" cy="1814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993360" y="2931120"/>
                <a:ext cx="298440" cy="16452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140600" y="2976120"/>
                <a:ext cx="167760" cy="13356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971040" y="2924280"/>
                <a:ext cx="187200" cy="1137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6990480" y="3063600"/>
              <a:ext cx="126720" cy="58320"/>
              <a:chOff x="6990480" y="3063600"/>
              <a:chExt cx="126720" cy="5832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6990480" y="3063600"/>
                <a:ext cx="4320" cy="5400"/>
                <a:chOff x="6990480" y="3063600"/>
                <a:chExt cx="4320" cy="54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990480" y="3066120"/>
                  <a:ext cx="4320" cy="28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990480" y="3063600"/>
                  <a:ext cx="4320" cy="396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7021800" y="3074760"/>
                <a:ext cx="95400" cy="47160"/>
                <a:chOff x="7021800" y="3074760"/>
                <a:chExt cx="95400" cy="47160"/>
              </a:xfrm>
            </p:grpSpPr>
            <p:grpSp>
              <p:nvGrpSpPr>
                <p:cNvPr id="928" name=""/>
                <p:cNvGrpSpPr/>
                <p:nvPr/>
              </p:nvGrpSpPr>
              <p:grpSpPr>
                <a:xfrm>
                  <a:off x="7021800" y="3078720"/>
                  <a:ext cx="95400" cy="43200"/>
                  <a:chOff x="7021800" y="3078720"/>
                  <a:chExt cx="95400" cy="4320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7099560" y="3111120"/>
                    <a:ext cx="288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7036560" y="3085560"/>
                    <a:ext cx="5760" cy="3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067880" y="3098160"/>
                    <a:ext cx="432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7082640" y="3105360"/>
                    <a:ext cx="468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51680" y="3091320"/>
                    <a:ext cx="432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7021800" y="3078720"/>
                    <a:ext cx="432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7111440" y="3117960"/>
                    <a:ext cx="5760" cy="3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7021800" y="3074760"/>
                  <a:ext cx="95040" cy="45360"/>
                  <a:chOff x="7021800" y="3074760"/>
                  <a:chExt cx="95040" cy="45360"/>
                </a:xfrm>
              </p:grpSpPr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7036560" y="3081600"/>
                    <a:ext cx="80280" cy="38520"/>
                    <a:chOff x="7036560" y="3081600"/>
                    <a:chExt cx="80280" cy="3852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7112520" y="3115080"/>
                      <a:ext cx="432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7051320" y="3087000"/>
                      <a:ext cx="5760" cy="68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400" bIns="-41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7082640" y="3101040"/>
                      <a:ext cx="468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7097400" y="3107880"/>
                      <a:ext cx="468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7066080" y="3094200"/>
                      <a:ext cx="576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7036560" y="3081600"/>
                      <a:ext cx="5760" cy="5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44" name=""/>
                  <p:cNvSpPr/>
                  <p:nvPr/>
                </p:nvSpPr>
                <p:spPr>
                  <a:xfrm>
                    <a:off x="7021800" y="3074760"/>
                    <a:ext cx="4320" cy="5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45" name=""/>
          <p:cNvSpPr/>
          <p:nvPr/>
        </p:nvSpPr>
        <p:spPr>
          <a:xfrm>
            <a:off x="6012000" y="206064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229800" y="3860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3635280" y="2997360"/>
            <a:ext cx="360000" cy="236160"/>
            <a:chOff x="3635280" y="2997360"/>
            <a:chExt cx="360000" cy="236160"/>
          </a:xfrm>
        </p:grpSpPr>
        <p:grpSp>
          <p:nvGrpSpPr>
            <p:cNvPr id="948" name=""/>
            <p:cNvGrpSpPr/>
            <p:nvPr/>
          </p:nvGrpSpPr>
          <p:grpSpPr>
            <a:xfrm>
              <a:off x="3635280" y="2997360"/>
              <a:ext cx="360000" cy="236160"/>
              <a:chOff x="3635280" y="2997360"/>
              <a:chExt cx="360000" cy="236160"/>
            </a:xfrm>
          </p:grpSpPr>
          <p:sp>
            <p:nvSpPr>
              <p:cNvPr id="949" name=""/>
              <p:cNvSpPr/>
              <p:nvPr/>
            </p:nvSpPr>
            <p:spPr>
              <a:xfrm>
                <a:off x="3648600" y="2999880"/>
                <a:ext cx="196560" cy="163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72720" y="3102840"/>
                <a:ext cx="173880" cy="9684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3635280" y="3105720"/>
                <a:ext cx="205200" cy="127440"/>
                <a:chOff x="3635280" y="3105720"/>
                <a:chExt cx="205200" cy="12744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659400" y="3130560"/>
                  <a:ext cx="175320" cy="7848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656160" y="3140640"/>
                  <a:ext cx="161640" cy="8388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635280" y="3105720"/>
                  <a:ext cx="36000" cy="5724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805920" y="3177000"/>
                  <a:ext cx="34560" cy="561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6" name=""/>
              <p:cNvSpPr/>
              <p:nvPr/>
            </p:nvSpPr>
            <p:spPr>
              <a:xfrm>
                <a:off x="3818160" y="3052080"/>
                <a:ext cx="177120" cy="1814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680280" y="3004200"/>
                <a:ext cx="298440" cy="16452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827520" y="3049200"/>
                <a:ext cx="167760" cy="13356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657960" y="2997360"/>
                <a:ext cx="187200" cy="1137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3677400" y="3136680"/>
              <a:ext cx="126720" cy="58320"/>
              <a:chOff x="3677400" y="3136680"/>
              <a:chExt cx="126720" cy="58320"/>
            </a:xfrm>
          </p:grpSpPr>
          <p:grpSp>
            <p:nvGrpSpPr>
              <p:cNvPr id="961" name=""/>
              <p:cNvGrpSpPr/>
              <p:nvPr/>
            </p:nvGrpSpPr>
            <p:grpSpPr>
              <a:xfrm>
                <a:off x="3677400" y="3136680"/>
                <a:ext cx="4320" cy="5400"/>
                <a:chOff x="3677400" y="3136680"/>
                <a:chExt cx="4320" cy="540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3677400" y="3139200"/>
                  <a:ext cx="4320" cy="288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3677400" y="3136680"/>
                  <a:ext cx="4320" cy="396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3708720" y="3147840"/>
                <a:ext cx="95400" cy="47160"/>
                <a:chOff x="3708720" y="3147840"/>
                <a:chExt cx="95400" cy="471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3708720" y="3151800"/>
                  <a:ext cx="95400" cy="43200"/>
                  <a:chOff x="3708720" y="3151800"/>
                  <a:chExt cx="95400" cy="4320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3786480" y="3184200"/>
                    <a:ext cx="288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3723480" y="3158640"/>
                    <a:ext cx="5760" cy="3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754800" y="3171240"/>
                    <a:ext cx="432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3769560" y="3178440"/>
                    <a:ext cx="468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3738600" y="3164400"/>
                    <a:ext cx="432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3708720" y="3151800"/>
                    <a:ext cx="4320" cy="5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3798360" y="3191040"/>
                    <a:ext cx="5760" cy="3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3708720" y="3147840"/>
                  <a:ext cx="95040" cy="45360"/>
                  <a:chOff x="3708720" y="3147840"/>
                  <a:chExt cx="95040" cy="45360"/>
                </a:xfrm>
              </p:grpSpPr>
              <p:grpSp>
                <p:nvGrpSpPr>
                  <p:cNvPr id="974" name=""/>
                  <p:cNvGrpSpPr/>
                  <p:nvPr/>
                </p:nvGrpSpPr>
                <p:grpSpPr>
                  <a:xfrm>
                    <a:off x="3723480" y="3154680"/>
                    <a:ext cx="80280" cy="38520"/>
                    <a:chOff x="3723480" y="3154680"/>
                    <a:chExt cx="80280" cy="38520"/>
                  </a:xfrm>
                </p:grpSpPr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3799440" y="3188160"/>
                      <a:ext cx="432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3738240" y="3160080"/>
                      <a:ext cx="5760" cy="68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400" bIns="-41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3769560" y="3174120"/>
                      <a:ext cx="468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3784320" y="3180960"/>
                      <a:ext cx="468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3753000" y="3167280"/>
                      <a:ext cx="5760" cy="5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3723480" y="3154680"/>
                      <a:ext cx="5760" cy="5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1" name=""/>
                  <p:cNvSpPr/>
                  <p:nvPr/>
                </p:nvSpPr>
                <p:spPr>
                  <a:xfrm>
                    <a:off x="3708720" y="3147840"/>
                    <a:ext cx="4320" cy="5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82" name=""/>
          <p:cNvGrpSpPr/>
          <p:nvPr/>
        </p:nvGrpSpPr>
        <p:grpSpPr>
          <a:xfrm>
            <a:off x="3132000" y="2492280"/>
            <a:ext cx="1008360" cy="432000"/>
            <a:chOff x="3132000" y="2492280"/>
            <a:chExt cx="1008360" cy="432000"/>
          </a:xfrm>
        </p:grpSpPr>
        <p:pic>
          <p:nvPicPr>
            <p:cNvPr id="983" name="" descr=""/>
            <p:cNvPicPr/>
            <p:nvPr/>
          </p:nvPicPr>
          <p:blipFill>
            <a:blip r:embed="rId26"/>
            <a:stretch/>
          </p:blipFill>
          <p:spPr>
            <a:xfrm>
              <a:off x="3132000" y="2492280"/>
              <a:ext cx="306720" cy="3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" descr=""/>
            <p:cNvPicPr/>
            <p:nvPr/>
          </p:nvPicPr>
          <p:blipFill>
            <a:blip r:embed="rId27"/>
            <a:stretch/>
          </p:blipFill>
          <p:spPr>
            <a:xfrm>
              <a:off x="3482640" y="2492280"/>
              <a:ext cx="306720" cy="32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" descr=""/>
            <p:cNvPicPr/>
            <p:nvPr/>
          </p:nvPicPr>
          <p:blipFill>
            <a:blip r:embed="rId28"/>
            <a:stretch/>
          </p:blipFill>
          <p:spPr>
            <a:xfrm>
              <a:off x="3833640" y="2492280"/>
              <a:ext cx="306720" cy="32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3175920" y="2924280"/>
              <a:ext cx="96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263400" y="28162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14040" y="28162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965040" y="28162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3564000" y="2924280"/>
            <a:ext cx="503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388360" y="2852640"/>
            <a:ext cx="216000" cy="14472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172360" y="5157720"/>
            <a:ext cx="216000" cy="14292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7914960" y="1844640"/>
            <a:ext cx="1230840" cy="880560"/>
            <a:chOff x="7914960" y="1844640"/>
            <a:chExt cx="1230840" cy="880560"/>
          </a:xfrm>
        </p:grpSpPr>
        <p:graphicFrame>
          <p:nvGraphicFramePr>
            <p:cNvPr id="994" name=""/>
            <p:cNvGraphicFramePr/>
            <p:nvPr/>
          </p:nvGraphicFramePr>
          <p:xfrm>
            <a:off x="8323200" y="2230200"/>
            <a:ext cx="576360" cy="4950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995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323200" y="2230200"/>
                      <a:ext cx="576360" cy="49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6" name=""/>
            <p:cNvSpPr/>
            <p:nvPr/>
          </p:nvSpPr>
          <p:spPr>
            <a:xfrm>
              <a:off x="7914960" y="1844640"/>
              <a:ext cx="123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ftph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7" name="" descr=""/>
            <p:cNvPicPr/>
            <p:nvPr/>
          </p:nvPicPr>
          <p:blipFill>
            <a:blip r:embed="rId31"/>
            <a:stretch/>
          </p:blipFill>
          <p:spPr>
            <a:xfrm>
              <a:off x="8109000" y="2376360"/>
              <a:ext cx="199800" cy="29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8" name=""/>
          <p:cNvGrpSpPr/>
          <p:nvPr/>
        </p:nvGrpSpPr>
        <p:grpSpPr>
          <a:xfrm>
            <a:off x="7594560" y="5300640"/>
            <a:ext cx="1230840" cy="880560"/>
            <a:chOff x="7594560" y="5300640"/>
            <a:chExt cx="1230840" cy="880560"/>
          </a:xfrm>
        </p:grpSpPr>
        <p:graphicFrame>
          <p:nvGraphicFramePr>
            <p:cNvPr id="999" name=""/>
            <p:cNvGraphicFramePr/>
            <p:nvPr/>
          </p:nvGraphicFramePr>
          <p:xfrm>
            <a:off x="8002440" y="5686200"/>
            <a:ext cx="576000" cy="49500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1000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002440" y="5686200"/>
                      <a:ext cx="576000" cy="49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1" name=""/>
            <p:cNvSpPr/>
            <p:nvPr/>
          </p:nvSpPr>
          <p:spPr>
            <a:xfrm>
              <a:off x="7594560" y="5300640"/>
              <a:ext cx="123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ftph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34"/>
            <a:stretch/>
          </p:blipFill>
          <p:spPr>
            <a:xfrm>
              <a:off x="7788240" y="5832360"/>
              <a:ext cx="199440" cy="29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3" name=""/>
          <p:cNvGraphicFramePr/>
          <p:nvPr/>
        </p:nvGraphicFramePr>
        <p:xfrm>
          <a:off x="6781680" y="4495680"/>
          <a:ext cx="4572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4495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"/>
          <p:cNvGraphicFramePr/>
          <p:nvPr/>
        </p:nvGraphicFramePr>
        <p:xfrm>
          <a:off x="1600200" y="4572000"/>
          <a:ext cx="4572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572000"/>
                    <a:ext cx="457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"/>
          <p:cNvSpPr/>
          <p:nvPr/>
        </p:nvSpPr>
        <p:spPr>
          <a:xfrm flipV="1">
            <a:off x="2286000" y="4723920"/>
            <a:ext cx="9144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685800" y="5484960"/>
          <a:ext cx="380880" cy="38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484960"/>
                    <a:ext cx="38088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685800" y="4538520"/>
          <a:ext cx="380880" cy="38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4538520"/>
                    <a:ext cx="38088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685800" y="4038480"/>
          <a:ext cx="380880" cy="38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4038480"/>
                    <a:ext cx="380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4" name=""/>
          <p:cNvSpPr/>
          <p:nvPr/>
        </p:nvSpPr>
        <p:spPr>
          <a:xfrm>
            <a:off x="839880" y="5205240"/>
            <a:ext cx="41040" cy="46080"/>
          </a:xfrm>
          <a:prstGeom prst="ellipse">
            <a:avLst/>
          </a:prstGeom>
          <a:solidFill>
            <a:srgbClr val="f5eb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39880" y="5038560"/>
            <a:ext cx="41040" cy="46080"/>
          </a:xfrm>
          <a:prstGeom prst="ellipse">
            <a:avLst/>
          </a:prstGeom>
          <a:solidFill>
            <a:srgbClr val="f5eb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39880" y="5372280"/>
            <a:ext cx="41040" cy="45720"/>
          </a:xfrm>
          <a:prstGeom prst="ellipse">
            <a:avLst/>
          </a:prstGeom>
          <a:solidFill>
            <a:srgbClr val="f5eb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073160" y="4425840"/>
            <a:ext cx="44460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971640" y="4797360"/>
            <a:ext cx="62208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914400" y="5257800"/>
            <a:ext cx="762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7923240" y="3886200"/>
            <a:ext cx="382680" cy="1904760"/>
            <a:chOff x="7923240" y="3886200"/>
            <a:chExt cx="382680" cy="1904760"/>
          </a:xfrm>
        </p:grpSpPr>
        <p:graphicFrame>
          <p:nvGraphicFramePr>
            <p:cNvPr id="1021" name=""/>
            <p:cNvGraphicFramePr/>
            <p:nvPr/>
          </p:nvGraphicFramePr>
          <p:xfrm>
            <a:off x="7923240" y="5391720"/>
            <a:ext cx="382680" cy="399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2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3240" y="5391720"/>
                      <a:ext cx="382680" cy="39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3" name=""/>
            <p:cNvGraphicFramePr/>
            <p:nvPr/>
          </p:nvGraphicFramePr>
          <p:xfrm>
            <a:off x="7923240" y="4407120"/>
            <a:ext cx="382680" cy="399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2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923240" y="4407120"/>
                      <a:ext cx="382680" cy="39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5" name=""/>
            <p:cNvGraphicFramePr/>
            <p:nvPr/>
          </p:nvGraphicFramePr>
          <p:xfrm>
            <a:off x="7923240" y="3886200"/>
            <a:ext cx="382680" cy="399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2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23240" y="3886200"/>
                      <a:ext cx="382680" cy="39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7" name=""/>
            <p:cNvSpPr/>
            <p:nvPr/>
          </p:nvSpPr>
          <p:spPr>
            <a:xfrm>
              <a:off x="8077680" y="5101200"/>
              <a:ext cx="41400" cy="47880"/>
            </a:xfrm>
            <a:prstGeom prst="ellipse">
              <a:avLst/>
            </a:prstGeom>
            <a:solidFill>
              <a:srgbClr val="f5eb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077680" y="4927320"/>
              <a:ext cx="41400" cy="47880"/>
            </a:xfrm>
            <a:prstGeom prst="ellipse">
              <a:avLst/>
            </a:prstGeom>
            <a:solidFill>
              <a:srgbClr val="f5eb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077680" y="5275080"/>
              <a:ext cx="41400" cy="47880"/>
            </a:xfrm>
            <a:prstGeom prst="ellipse">
              <a:avLst/>
            </a:prstGeom>
            <a:solidFill>
              <a:srgbClr val="f5eb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6858000" y="403848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7238880" y="4184640"/>
            <a:ext cx="71928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4800600"/>
            <a:ext cx="676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162920" y="5105520"/>
            <a:ext cx="793800" cy="55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447920" y="411480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3124080" y="990720"/>
            <a:ext cx="2513880" cy="1294560"/>
            <a:chOff x="3124080" y="990720"/>
            <a:chExt cx="2513880" cy="1294560"/>
          </a:xfrm>
        </p:grpSpPr>
        <p:sp>
          <p:nvSpPr>
            <p:cNvPr id="1036" name=""/>
            <p:cNvSpPr/>
            <p:nvPr/>
          </p:nvSpPr>
          <p:spPr>
            <a:xfrm>
              <a:off x="3124080" y="990720"/>
              <a:ext cx="2513880" cy="129456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595680" y="1262880"/>
              <a:ext cx="17460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WAN DA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685800" y="189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SQUEMA 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06000" y="3505320"/>
            <a:ext cx="142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en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414560" y="3352680"/>
            <a:ext cx="142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en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200400" y="3886200"/>
            <a:ext cx="2742480" cy="1370880"/>
            <a:chOff x="3200400" y="3886200"/>
            <a:chExt cx="2742480" cy="1370880"/>
          </a:xfrm>
        </p:grpSpPr>
        <p:sp>
          <p:nvSpPr>
            <p:cNvPr id="1042" name=""/>
            <p:cNvSpPr/>
            <p:nvPr/>
          </p:nvSpPr>
          <p:spPr>
            <a:xfrm>
              <a:off x="3200400" y="3886200"/>
              <a:ext cx="2742480" cy="137088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715200" y="4174560"/>
              <a:ext cx="2000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RED TELEFON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U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 flipV="1">
            <a:off x="2209680" y="4572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43600" y="4572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43600" y="46483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514600" y="1676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7150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28800" y="205740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5880" y="190512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167652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010280" y="1600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600200" y="914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391520" y="914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7"/>
          <a:stretch/>
        </p:blipFill>
        <p:spPr>
          <a:xfrm>
            <a:off x="990720" y="914400"/>
            <a:ext cx="344520" cy="45720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18"/>
          <a:stretch/>
        </p:blipFill>
        <p:spPr>
          <a:xfrm>
            <a:off x="990720" y="1523880"/>
            <a:ext cx="344520" cy="45720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19"/>
          <a:stretch/>
        </p:blipFill>
        <p:spPr>
          <a:xfrm>
            <a:off x="990720" y="2133720"/>
            <a:ext cx="344520" cy="457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20"/>
          <a:stretch/>
        </p:blipFill>
        <p:spPr>
          <a:xfrm>
            <a:off x="7620120" y="762120"/>
            <a:ext cx="344520" cy="45720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21"/>
          <a:stretch/>
        </p:blipFill>
        <p:spPr>
          <a:xfrm>
            <a:off x="7620120" y="1371600"/>
            <a:ext cx="344520" cy="45720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22"/>
          <a:stretch/>
        </p:blipFill>
        <p:spPr>
          <a:xfrm>
            <a:off x="7696080" y="2057400"/>
            <a:ext cx="344520" cy="45720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137160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29528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2952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39152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39152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3915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23"/>
          <a:stretch/>
        </p:blipFill>
        <p:spPr>
          <a:xfrm>
            <a:off x="7524720" y="6100920"/>
            <a:ext cx="1619280" cy="75708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24"/>
          <a:stretch/>
        </p:blipFill>
        <p:spPr>
          <a:xfrm>
            <a:off x="1979640" y="1413000"/>
            <a:ext cx="739800" cy="52056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25"/>
          <a:stretch/>
        </p:blipFill>
        <p:spPr>
          <a:xfrm>
            <a:off x="6300720" y="1341360"/>
            <a:ext cx="739800" cy="52092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 flipH="1" flipV="1">
            <a:off x="2916000" y="4941360"/>
            <a:ext cx="1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535120" y="57531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n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4140360" y="4941360"/>
            <a:ext cx="2087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FOQUE DE LA COMPUTACION- 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35120" cy="106668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765360" y="2743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3429000" y="1600200"/>
            <a:ext cx="3277800" cy="2361600"/>
            <a:chOff x="3429000" y="1600200"/>
            <a:chExt cx="3277800" cy="2361600"/>
          </a:xfrm>
        </p:grpSpPr>
        <p:sp>
          <p:nvSpPr>
            <p:cNvPr id="1077" name=""/>
            <p:cNvSpPr/>
            <p:nvPr/>
          </p:nvSpPr>
          <p:spPr>
            <a:xfrm>
              <a:off x="3429000" y="1600200"/>
              <a:ext cx="3277800" cy="236160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169880" y="2678400"/>
              <a:ext cx="16588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IP/FR/A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1684440" y="2514600"/>
            <a:ext cx="1396800" cy="45972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1600200" y="2971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018200" y="2362320"/>
            <a:ext cx="1396800" cy="459720"/>
          </a:xfrm>
          <a:prstGeom prst="rect">
            <a:avLst/>
          </a:pr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5438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481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057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685800" y="1523880"/>
            <a:ext cx="2742840" cy="609840"/>
            <a:chOff x="685800" y="1523880"/>
            <a:chExt cx="2742840" cy="609840"/>
          </a:xfrm>
        </p:grpSpPr>
        <p:pic>
          <p:nvPicPr>
            <p:cNvPr id="1086" name="" descr=""/>
            <p:cNvPicPr/>
            <p:nvPr/>
          </p:nvPicPr>
          <p:blipFill>
            <a:blip r:embed="rId2"/>
            <a:stretch/>
          </p:blipFill>
          <p:spPr>
            <a:xfrm>
              <a:off x="68580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"/>
            <p:cNvSpPr/>
            <p:nvPr/>
          </p:nvSpPr>
          <p:spPr>
            <a:xfrm>
              <a:off x="891360" y="213372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8" name="" descr=""/>
            <p:cNvPicPr/>
            <p:nvPr/>
          </p:nvPicPr>
          <p:blipFill>
            <a:blip r:embed="rId3"/>
            <a:stretch/>
          </p:blipFill>
          <p:spPr>
            <a:xfrm>
              <a:off x="157716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4"/>
            <a:stretch/>
          </p:blipFill>
          <p:spPr>
            <a:xfrm>
              <a:off x="253728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0" name=""/>
          <p:cNvSpPr/>
          <p:nvPr/>
        </p:nvSpPr>
        <p:spPr>
          <a:xfrm>
            <a:off x="22096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6400800" y="1371600"/>
            <a:ext cx="2742840" cy="609480"/>
            <a:chOff x="6400800" y="1371600"/>
            <a:chExt cx="2742840" cy="609480"/>
          </a:xfrm>
        </p:grpSpPr>
        <p:pic>
          <p:nvPicPr>
            <p:cNvPr id="1092" name="" descr=""/>
            <p:cNvPicPr/>
            <p:nvPr/>
          </p:nvPicPr>
          <p:blipFill>
            <a:blip r:embed="rId5"/>
            <a:stretch/>
          </p:blipFill>
          <p:spPr>
            <a:xfrm>
              <a:off x="640080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"/>
            <p:cNvSpPr/>
            <p:nvPr/>
          </p:nvSpPr>
          <p:spPr>
            <a:xfrm>
              <a:off x="6606360" y="198108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4" name="" descr=""/>
            <p:cNvPicPr/>
            <p:nvPr/>
          </p:nvPicPr>
          <p:blipFill>
            <a:blip r:embed="rId6"/>
            <a:stretch/>
          </p:blipFill>
          <p:spPr>
            <a:xfrm>
              <a:off x="729216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" descr=""/>
            <p:cNvPicPr/>
            <p:nvPr/>
          </p:nvPicPr>
          <p:blipFill>
            <a:blip r:embed="rId7"/>
            <a:stretch/>
          </p:blipFill>
          <p:spPr>
            <a:xfrm>
              <a:off x="825228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6" name=""/>
          <p:cNvSpPr/>
          <p:nvPr/>
        </p:nvSpPr>
        <p:spPr>
          <a:xfrm>
            <a:off x="76960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2339640" y="306864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021760" y="4797360"/>
            <a:ext cx="71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FACES TELEFONICAS: FXS, FXO, G.703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143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295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47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2" name=""/>
          <p:cNvGraphicFramePr/>
          <p:nvPr/>
        </p:nvGraphicFramePr>
        <p:xfrm>
          <a:off x="7315200" y="3124080"/>
          <a:ext cx="457200" cy="3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15200" y="31240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4" name=""/>
          <p:cNvGraphicFramePr/>
          <p:nvPr/>
        </p:nvGraphicFramePr>
        <p:xfrm>
          <a:off x="7924680" y="3124080"/>
          <a:ext cx="457200" cy="38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1240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6" name=""/>
          <p:cNvGraphicFramePr/>
          <p:nvPr/>
        </p:nvGraphicFramePr>
        <p:xfrm>
          <a:off x="228600" y="3276720"/>
          <a:ext cx="457200" cy="380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32767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8" name=""/>
          <p:cNvGraphicFramePr/>
          <p:nvPr/>
        </p:nvGraphicFramePr>
        <p:xfrm>
          <a:off x="228600" y="3809880"/>
          <a:ext cx="457200" cy="381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38098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0" name=""/>
          <p:cNvGraphicFramePr/>
          <p:nvPr/>
        </p:nvGraphicFramePr>
        <p:xfrm>
          <a:off x="228600" y="4343400"/>
          <a:ext cx="457200" cy="380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1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8600" y="43434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2" name=""/>
          <p:cNvSpPr/>
          <p:nvPr/>
        </p:nvSpPr>
        <p:spPr>
          <a:xfrm>
            <a:off x="609480" y="3581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609480" y="39621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60948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0773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39120" y="6035760"/>
            <a:ext cx="43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quipo de datos puede tambi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 un Frad o un Multiplex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619280" y="2997360"/>
            <a:ext cx="6490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979640" y="2924280"/>
            <a:ext cx="36036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380360" y="2708280"/>
            <a:ext cx="36036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85080" y="2708280"/>
            <a:ext cx="36036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629080" y="2997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453520" y="2349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18"/>
          <a:stretch/>
        </p:blipFill>
        <p:spPr>
          <a:xfrm>
            <a:off x="250920" y="5805360"/>
            <a:ext cx="1619280" cy="75744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 flipV="1">
            <a:off x="5940360" y="2997000"/>
            <a:ext cx="136836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FOQUE DE LA COMPUTACION-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2362320" y="2082960"/>
            <a:ext cx="577800" cy="83808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2213280" y="15494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3048120" y="4292640"/>
            <a:ext cx="2666520" cy="1752120"/>
            <a:chOff x="3048120" y="4292640"/>
            <a:chExt cx="2666520" cy="1752120"/>
          </a:xfrm>
        </p:grpSpPr>
        <p:sp>
          <p:nvSpPr>
            <p:cNvPr id="1129" name=""/>
            <p:cNvSpPr/>
            <p:nvPr/>
          </p:nvSpPr>
          <p:spPr>
            <a:xfrm>
              <a:off x="3048120" y="4292640"/>
              <a:ext cx="2666520" cy="175212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650400" y="5092560"/>
              <a:ext cx="118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2286000" y="52070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715000" y="5207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0" y="3530520"/>
            <a:ext cx="3048120" cy="914400"/>
            <a:chOff x="0" y="3530520"/>
            <a:chExt cx="3048120" cy="914400"/>
          </a:xfrm>
        </p:grpSpPr>
        <p:pic>
          <p:nvPicPr>
            <p:cNvPr id="1134" name="" descr=""/>
            <p:cNvPicPr/>
            <p:nvPr/>
          </p:nvPicPr>
          <p:blipFill>
            <a:blip r:embed="rId2"/>
            <a:stretch/>
          </p:blipFill>
          <p:spPr>
            <a:xfrm>
              <a:off x="0" y="353052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5" name=""/>
            <p:cNvSpPr/>
            <p:nvPr/>
          </p:nvSpPr>
          <p:spPr>
            <a:xfrm>
              <a:off x="228600" y="44449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6" name="" descr=""/>
            <p:cNvPicPr/>
            <p:nvPr/>
          </p:nvPicPr>
          <p:blipFill>
            <a:blip r:embed="rId3"/>
            <a:stretch/>
          </p:blipFill>
          <p:spPr>
            <a:xfrm>
              <a:off x="990720" y="353052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" descr=""/>
            <p:cNvPicPr/>
            <p:nvPr/>
          </p:nvPicPr>
          <p:blipFill>
            <a:blip r:embed="rId4"/>
            <a:stretch/>
          </p:blipFill>
          <p:spPr>
            <a:xfrm>
              <a:off x="2057400" y="3530520"/>
              <a:ext cx="91440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8" name=""/>
          <p:cNvSpPr/>
          <p:nvPr/>
        </p:nvSpPr>
        <p:spPr>
          <a:xfrm>
            <a:off x="1835280" y="4508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095880" y="43689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5"/>
          <a:stretch/>
        </p:blipFill>
        <p:spPr>
          <a:xfrm>
            <a:off x="6858000" y="3454560"/>
            <a:ext cx="914400" cy="78552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/>
          <p:cNvPicPr/>
          <p:nvPr/>
        </p:nvPicPr>
        <p:blipFill>
          <a:blip r:embed="rId6"/>
          <a:stretch/>
        </p:blipFill>
        <p:spPr>
          <a:xfrm>
            <a:off x="7924680" y="3454560"/>
            <a:ext cx="914400" cy="78552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6931080" y="4390920"/>
            <a:ext cx="324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7"/>
          <a:stretch/>
        </p:blipFill>
        <p:spPr>
          <a:xfrm>
            <a:off x="6248520" y="3301920"/>
            <a:ext cx="522000" cy="91440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 flipV="1">
            <a:off x="2514600" y="29210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438280" y="29210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8"/>
          <a:stretch/>
        </p:blipFill>
        <p:spPr>
          <a:xfrm>
            <a:off x="6172200" y="2006640"/>
            <a:ext cx="630360" cy="838080"/>
          </a:xfrm>
          <a:prstGeom prst="rect">
            <a:avLst/>
          </a:prstGeom>
          <a:ln w="0">
            <a:noFill/>
          </a:ln>
        </p:spPr>
      </p:pic>
      <p:grpSp>
        <p:nvGrpSpPr>
          <p:cNvPr id="1147" name=""/>
          <p:cNvGrpSpPr/>
          <p:nvPr/>
        </p:nvGrpSpPr>
        <p:grpSpPr>
          <a:xfrm>
            <a:off x="3276720" y="1701720"/>
            <a:ext cx="2515680" cy="1523880"/>
            <a:chOff x="3276720" y="1701720"/>
            <a:chExt cx="2515680" cy="1523880"/>
          </a:xfrm>
        </p:grpSpPr>
        <p:sp>
          <p:nvSpPr>
            <p:cNvPr id="1148" name=""/>
            <p:cNvSpPr/>
            <p:nvPr/>
          </p:nvSpPr>
          <p:spPr>
            <a:xfrm>
              <a:off x="3276720" y="1701720"/>
              <a:ext cx="2515680" cy="152388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45880" y="2397240"/>
              <a:ext cx="1591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TELEFON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477120" y="2768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553080" y="2768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791320" y="2311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791320" y="2387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971800" y="2463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971800" y="2540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6" name=""/>
          <p:cNvGraphicFramePr/>
          <p:nvPr/>
        </p:nvGraphicFramePr>
        <p:xfrm>
          <a:off x="1676520" y="1854360"/>
          <a:ext cx="380880" cy="38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1854360"/>
                    <a:ext cx="38088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8" name=""/>
          <p:cNvGraphicFramePr/>
          <p:nvPr/>
        </p:nvGraphicFramePr>
        <p:xfrm>
          <a:off x="1676520" y="2311560"/>
          <a:ext cx="380880" cy="382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2311560"/>
                    <a:ext cx="38088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0" name=""/>
          <p:cNvSpPr/>
          <p:nvPr/>
        </p:nvSpPr>
        <p:spPr>
          <a:xfrm>
            <a:off x="1981080" y="208296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981080" y="25401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7315200" y="2158920"/>
          <a:ext cx="380880" cy="382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15200" y="2158920"/>
                    <a:ext cx="380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 flipV="1">
            <a:off x="6705720" y="254016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7238880" y="863640"/>
          <a:ext cx="38124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8880" y="863640"/>
                    <a:ext cx="381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7" name=""/>
          <p:cNvGraphicFramePr/>
          <p:nvPr/>
        </p:nvGraphicFramePr>
        <p:xfrm>
          <a:off x="7238880" y="1320840"/>
          <a:ext cx="381240" cy="382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8880" y="1320840"/>
                    <a:ext cx="381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9" name=""/>
          <p:cNvSpPr/>
          <p:nvPr/>
        </p:nvSpPr>
        <p:spPr>
          <a:xfrm flipV="1">
            <a:off x="6781680" y="109224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6781680" y="154908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9480" y="15494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19"/>
          <a:stretch/>
        </p:blipFill>
        <p:spPr>
          <a:xfrm>
            <a:off x="7524720" y="6100920"/>
            <a:ext cx="1619280" cy="75708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>
            <a:off x="4696560" y="3309840"/>
            <a:ext cx="1503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ación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dor 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ertos y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 vo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427800" y="4175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0"/>
          <a:stretch/>
        </p:blipFill>
        <p:spPr>
          <a:xfrm>
            <a:off x="6300720" y="4941720"/>
            <a:ext cx="720720" cy="51120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21"/>
          <a:stretch/>
        </p:blipFill>
        <p:spPr>
          <a:xfrm>
            <a:off x="1476360" y="5013360"/>
            <a:ext cx="7207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21:52:23Z</dcterms:created>
  <dc:creator>Juan Carlos Restrepo</dc:creator>
  <dc:description/>
  <dc:language>en-US</dc:language>
  <cp:lastModifiedBy>juanrest</cp:lastModifiedBy>
  <dcterms:modified xsi:type="dcterms:W3CDTF">2006-08-16T00:51:12Z</dcterms:modified>
  <cp:revision>583</cp:revision>
  <dc:subject/>
  <dc:title>Presentación de PowerPoint</dc:title>
</cp:coreProperties>
</file>