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11.png" ContentType="image/png"/>
  <Override PartName="/ppt/media/image6.wmf" ContentType="image/x-wmf"/>
  <Override PartName="/ppt/media/image30.png" ContentType="image/png"/>
  <Override PartName="/ppt/media/image28.png" ContentType="image/png"/>
  <Override PartName="/ppt/media/image36.png" ContentType="image/png"/>
  <Override PartName="/ppt/media/image37.png" ContentType="image/png"/>
  <Override PartName="/ppt/media/image7.wmf" ContentType="image/x-wmf"/>
  <Override PartName="/ppt/media/image12.png" ContentType="image/png"/>
  <Override PartName="/ppt/media/image5.png" ContentType="image/png"/>
  <Override PartName="/ppt/media/image35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AEFC-2973-4196-9F15-30D5E35089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88620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body"/>
          </p:nvPr>
        </p:nvSpPr>
        <p:spPr>
          <a:xfrm>
            <a:off x="990720" y="4254120"/>
            <a:ext cx="50292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ldImg"/>
          </p:nvPr>
        </p:nvSpPr>
        <p:spPr>
          <a:xfrm>
            <a:off x="820800" y="244440"/>
            <a:ext cx="5321160" cy="3990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specifically, the LSR does not have to wait for the remote binding before creating its local b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body"/>
          </p:nvPr>
        </p:nvSpPr>
        <p:spPr>
          <a:xfrm>
            <a:off x="990720" y="4254120"/>
            <a:ext cx="50292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ldImg"/>
          </p:nvPr>
        </p:nvSpPr>
        <p:spPr>
          <a:xfrm>
            <a:off x="820800" y="244440"/>
            <a:ext cx="5321160" cy="3990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88620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body"/>
          </p:nvPr>
        </p:nvSpPr>
        <p:spPr>
          <a:xfrm>
            <a:off x="990720" y="4254120"/>
            <a:ext cx="50292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ldImg"/>
          </p:nvPr>
        </p:nvSpPr>
        <p:spPr>
          <a:xfrm>
            <a:off x="820800" y="244440"/>
            <a:ext cx="5321160" cy="3990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88620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body"/>
          </p:nvPr>
        </p:nvSpPr>
        <p:spPr>
          <a:xfrm>
            <a:off x="990720" y="4254120"/>
            <a:ext cx="50292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ldImg"/>
          </p:nvPr>
        </p:nvSpPr>
        <p:spPr>
          <a:xfrm>
            <a:off x="820800" y="244440"/>
            <a:ext cx="5321160" cy="3990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88620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8658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0" y="-1440"/>
            <a:ext cx="297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body"/>
          </p:nvPr>
        </p:nvSpPr>
        <p:spPr>
          <a:xfrm>
            <a:off x="990720" y="4254120"/>
            <a:ext cx="50292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ldImg"/>
          </p:nvPr>
        </p:nvSpPr>
        <p:spPr>
          <a:xfrm>
            <a:off x="820800" y="244440"/>
            <a:ext cx="5321160" cy="399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59C-67EA-4BFB-8406-8391FA36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655-21E1-4017-B269-4A03123B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B02-40B3-4933-9763-8E9D1D06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2CC-404F-4749-8DE2-4A9011A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BAFB-5BC8-4C5A-A542-CA1B6B6C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5559-FF01-4EBC-B0C1-0007A7C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7E7-2987-49F4-98F2-127608D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3A7F-583B-4F23-B99F-274B3FF1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F091-7745-4655-9AE2-FC8DF8B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079-964F-403B-91EC-8BBD53AF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AF43-A216-443C-A09C-689671B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7BE-F807-415B-AD2E-D4D4BC94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A55A-4CD5-4256-9035-5A14DA17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95B4-9C4E-47AE-8A30-7CD5BC9B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6FFA-3FC3-4FF7-9F50-AA58148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7E8A-89A6-4770-B143-76D73575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6AE6-1AB3-47BF-A75A-BF794245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34A-A650-4686-AD54-468A1EBD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EF9-AD4C-484F-80ED-264947E9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33B-3B72-417F-A9AD-0E37487D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93B-7DFC-4574-8F32-93EC64A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0B7-4CFC-404D-A40A-1F8FE702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C6C-692B-4E64-85D4-9B690BB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98C-E413-4623-B7A3-39674C57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1294-D6DB-4240-A4D9-51F3636E474A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62F-7E3D-4E43-A651-536934B91623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10.wm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sourceforge.net/projects/mpls-linux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cs.virginia.edu/~mngroup/projects/mpls/documents/thesis/node28.html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cisco.com/warp/public/105/mplsospf.html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navtelcom.com/products/mpls_emulation/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Arial Narrow"/>
              </a:rPr>
              <a:t>MPLS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SPECTO TECNI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RSION: 1.7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ltima revisión: Diciembre - 200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2000" y="5394240"/>
            <a:ext cx="3132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H="1">
            <a:off x="3733560" y="4495680"/>
            <a:ext cx="685800" cy="11430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4343400"/>
            <a:ext cx="2622600" cy="111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962840" y="5486400"/>
            <a:ext cx="1181160" cy="712800"/>
            <a:chOff x="7962840" y="5486400"/>
            <a:chExt cx="1181160" cy="71280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7962840" y="54864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150040" y="56754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324480" y="3289320"/>
            <a:ext cx="2667240" cy="596880"/>
          </a:xfrm>
          <a:custGeom>
            <a:avLst/>
            <a:gdLst/>
            <a:ahLst/>
            <a:rect l="l" t="t" r="r" b="b"/>
            <a:pathLst>
              <a:path w="1680" h="376">
                <a:moveTo>
                  <a:pt x="520" y="280"/>
                </a:moveTo>
                <a:lnTo>
                  <a:pt x="1680" y="0"/>
                </a:lnTo>
                <a:lnTo>
                  <a:pt x="0" y="0"/>
                </a:lnTo>
                <a:lnTo>
                  <a:pt x="312" y="280"/>
                </a:lnTo>
                <a:lnTo>
                  <a:pt x="496" y="3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3314880"/>
            <a:ext cx="2666880" cy="761760"/>
          </a:xfrm>
          <a:custGeom>
            <a:avLst/>
            <a:gdLst/>
            <a:ahLst/>
            <a:rect l="l" t="t" r="r" b="b"/>
            <a:pathLst>
              <a:path w="1680" h="480">
                <a:moveTo>
                  <a:pt x="744" y="480"/>
                </a:moveTo>
                <a:lnTo>
                  <a:pt x="1680" y="0"/>
                </a:lnTo>
                <a:lnTo>
                  <a:pt x="0" y="0"/>
                </a:lnTo>
                <a:lnTo>
                  <a:pt x="640" y="456"/>
                </a:lnTo>
                <a:lnTo>
                  <a:pt x="824" y="45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3314880"/>
            <a:ext cx="2667240" cy="975960"/>
          </a:xfrm>
          <a:custGeom>
            <a:avLst/>
            <a:gdLst/>
            <a:ahLst/>
            <a:rect l="l" t="t" r="r" b="b"/>
            <a:pathLst>
              <a:path w="1680" h="615">
                <a:moveTo>
                  <a:pt x="912" y="600"/>
                </a:moveTo>
                <a:lnTo>
                  <a:pt x="0" y="0"/>
                </a:lnTo>
                <a:lnTo>
                  <a:pt x="1680" y="0"/>
                </a:lnTo>
                <a:lnTo>
                  <a:pt x="1080" y="600"/>
                </a:lnTo>
                <a:lnTo>
                  <a:pt x="1061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2832120"/>
            <a:ext cx="64800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2362320"/>
            <a:ext cx="64800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924200"/>
            <a:ext cx="648000" cy="438120"/>
          </a:xfrm>
          <a:prstGeom prst="rect">
            <a:avLst/>
          </a:prstGeom>
          <a:gradFill rotWithShape="0">
            <a:gsLst>
              <a:gs pos="0">
                <a:srgbClr val="5f0615"/>
              </a:gs>
              <a:gs pos="50000">
                <a:srgbClr val="d00e2e"/>
              </a:gs>
              <a:gs pos="100000">
                <a:srgbClr val="5f061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447920"/>
            <a:ext cx="64800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In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1880" y="2832120"/>
            <a:ext cx="6476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71880" y="2362320"/>
            <a:ext cx="647640" cy="469800"/>
          </a:xfrm>
          <a:prstGeom prst="rect">
            <a:avLst/>
          </a:prstGeom>
          <a:solidFill>
            <a:srgbClr val="e9c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71880" y="1924200"/>
            <a:ext cx="647640" cy="438120"/>
          </a:xfrm>
          <a:prstGeom prst="rect">
            <a:avLst/>
          </a:prstGeom>
          <a:solidFill>
            <a:srgbClr val="d05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71880" y="1447920"/>
            <a:ext cx="6476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Ou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362320"/>
            <a:ext cx="49536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" y="2362320"/>
            <a:ext cx="8762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71.6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2832120"/>
            <a:ext cx="49536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280" y="2832120"/>
            <a:ext cx="8762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1924200"/>
            <a:ext cx="495360" cy="4381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0280" y="1924200"/>
            <a:ext cx="876240" cy="438120"/>
          </a:xfrm>
          <a:prstGeom prst="rect">
            <a:avLst/>
          </a:prstGeom>
          <a:gradFill rotWithShape="0">
            <a:gsLst>
              <a:gs pos="0">
                <a:srgbClr val="5f0615"/>
              </a:gs>
              <a:gs pos="50000">
                <a:srgbClr val="d00e2e"/>
              </a:gs>
              <a:gs pos="100000">
                <a:srgbClr val="5f061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28.8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1447920"/>
            <a:ext cx="49536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Ou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I/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0280" y="1447920"/>
            <a:ext cx="8762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Address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Pref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447920"/>
            <a:ext cx="0" cy="185400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1447920"/>
            <a:ext cx="0" cy="185400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3301920"/>
            <a:ext cx="2667240" cy="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1924200"/>
            <a:ext cx="266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2362320"/>
            <a:ext cx="266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447920"/>
            <a:ext cx="2667240" cy="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2832120"/>
            <a:ext cx="266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7188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028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33520" y="4343040"/>
            <a:ext cx="990360" cy="228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56440" y="3930480"/>
            <a:ext cx="12762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Cell Based MPL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PMingLiU"/>
              </a:rPr>
              <a:t>Assigning Labe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4529160" y="4692600"/>
            <a:ext cx="2328840" cy="11746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267080" y="3962160"/>
            <a:ext cx="2552760" cy="4237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1640" y="4724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560" y="392436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0528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47480" y="40384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962840" y="3581280"/>
            <a:ext cx="1181160" cy="712800"/>
            <a:chOff x="7962840" y="3581280"/>
            <a:chExt cx="1181160" cy="7128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796284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004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324120" y="365760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4480" y="2832120"/>
            <a:ext cx="64800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2362320"/>
            <a:ext cx="648000" cy="4698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1924200"/>
            <a:ext cx="648000" cy="438120"/>
          </a:xfrm>
          <a:prstGeom prst="rect">
            <a:avLst/>
          </a:prstGeom>
          <a:solidFill>
            <a:srgbClr val="d05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1447920"/>
            <a:ext cx="64800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In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44080" y="2832120"/>
            <a:ext cx="6476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44080" y="2362320"/>
            <a:ext cx="6476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44080" y="1924200"/>
            <a:ext cx="647640" cy="4381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44080" y="1447920"/>
            <a:ext cx="6476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Ou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2362320"/>
            <a:ext cx="49536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72480" y="2362320"/>
            <a:ext cx="8762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28.8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48720" y="2832120"/>
            <a:ext cx="49536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72480" y="2832120"/>
            <a:ext cx="8762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48720" y="1924200"/>
            <a:ext cx="495360" cy="4381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72480" y="1924200"/>
            <a:ext cx="876240" cy="438120"/>
          </a:xfrm>
          <a:prstGeom prst="rect">
            <a:avLst/>
          </a:prstGeom>
          <a:gradFill rotWithShape="0">
            <a:gsLst>
              <a:gs pos="0">
                <a:srgbClr val="5f0615"/>
              </a:gs>
              <a:gs pos="50000">
                <a:srgbClr val="d00e2e"/>
              </a:gs>
              <a:gs pos="100000">
                <a:srgbClr val="5f061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28.8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48720" y="1447920"/>
            <a:ext cx="49536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Ou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I/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72480" y="1447920"/>
            <a:ext cx="8762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Address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Pref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24480" y="1447920"/>
            <a:ext cx="0" cy="185400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991720" y="1447920"/>
            <a:ext cx="0" cy="185400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24480" y="3301920"/>
            <a:ext cx="2667240" cy="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1924200"/>
            <a:ext cx="266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2362320"/>
            <a:ext cx="266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1447920"/>
            <a:ext cx="2667240" cy="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2832120"/>
            <a:ext cx="2667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4408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7248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133720" y="5410080"/>
            <a:ext cx="457200" cy="3384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5867280"/>
            <a:ext cx="6858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2880" y="5624640"/>
            <a:ext cx="2294280" cy="91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abel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4114800" y="3733920"/>
            <a:ext cx="722160" cy="1041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>
            <a:off x="6629400" y="36576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6"/>
          <a:stretch/>
        </p:blipFill>
        <p:spPr>
          <a:xfrm>
            <a:off x="6629400" y="563868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7"/>
          <a:stretch/>
        </p:blipFill>
        <p:spPr>
          <a:xfrm>
            <a:off x="3352680" y="5410080"/>
            <a:ext cx="838440" cy="47628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990720" y="4648320"/>
            <a:ext cx="2438280" cy="697320"/>
            <a:chOff x="990720" y="4648320"/>
            <a:chExt cx="2438280" cy="697320"/>
          </a:xfrm>
        </p:grpSpPr>
        <p:sp>
          <p:nvSpPr>
            <p:cNvPr id="391" name=""/>
            <p:cNvSpPr/>
            <p:nvPr/>
          </p:nvSpPr>
          <p:spPr>
            <a:xfrm>
              <a:off x="990720" y="4678560"/>
              <a:ext cx="2438280" cy="274680"/>
            </a:xfrm>
            <a:prstGeom prst="wedgeRoundRectCallout">
              <a:avLst>
                <a:gd name="adj1" fmla="val 9763"/>
                <a:gd name="adj2" fmla="val -99712"/>
                <a:gd name="adj3" fmla="val 16667"/>
              </a:avLst>
            </a:prstGeom>
            <a:solidFill>
              <a:srgbClr val="d056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17360" y="4648320"/>
              <a:ext cx="2399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eed a Label for 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90720" y="5059440"/>
              <a:ext cx="2438280" cy="274680"/>
            </a:xfrm>
            <a:prstGeom prst="wedgeRoundRectCallout">
              <a:avLst>
                <a:gd name="adj1" fmla="val 10416"/>
                <a:gd name="adj2" fmla="val -99712"/>
                <a:gd name="adj3" fmla="val 16667"/>
              </a:avLst>
            </a:prstGeom>
            <a:solidFill>
              <a:srgbClr val="b2b2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17360" y="5029200"/>
              <a:ext cx="2399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eed a Label for 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234040" y="6354720"/>
            <a:ext cx="2438280" cy="274680"/>
          </a:xfrm>
          <a:prstGeom prst="wedgeRoundRectCallout">
            <a:avLst>
              <a:gd name="adj1" fmla="val -24546"/>
              <a:gd name="adj2" fmla="val -303180"/>
              <a:gd name="adj3" fmla="val 16667"/>
            </a:avLst>
          </a:prstGeom>
          <a:solidFill>
            <a:srgbClr val="b2b2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60680" y="6324480"/>
            <a:ext cx="2399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Need a Label for 171.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4495680"/>
            <a:ext cx="157644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5181480"/>
            <a:ext cx="1371600" cy="68580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973840"/>
            <a:ext cx="2438280" cy="274680"/>
          </a:xfrm>
          <a:prstGeom prst="wedgeRoundRectCallout">
            <a:avLst>
              <a:gd name="adj1" fmla="val 2995"/>
              <a:gd name="adj2" fmla="val -304912"/>
              <a:gd name="adj3" fmla="val 16667"/>
            </a:avLst>
          </a:prstGeom>
          <a:solidFill>
            <a:srgbClr val="00cc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6520" y="5943600"/>
            <a:ext cx="2399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Need a Label for 128.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114800" y="4876920"/>
            <a:ext cx="228600" cy="457200"/>
          </a:xfrm>
          <a:prstGeom prst="line">
            <a:avLst/>
          </a:prstGeom>
          <a:ln w="507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629400" y="4419720"/>
            <a:ext cx="2438280" cy="316440"/>
            <a:chOff x="6629400" y="4419720"/>
            <a:chExt cx="2438280" cy="316440"/>
          </a:xfrm>
        </p:grpSpPr>
        <p:sp>
          <p:nvSpPr>
            <p:cNvPr id="403" name=""/>
            <p:cNvSpPr/>
            <p:nvPr/>
          </p:nvSpPr>
          <p:spPr>
            <a:xfrm>
              <a:off x="6629400" y="4419720"/>
              <a:ext cx="2438280" cy="274680"/>
            </a:xfrm>
            <a:prstGeom prst="wedgeRoundRectCallout">
              <a:avLst>
                <a:gd name="adj1" fmla="val -57944"/>
                <a:gd name="adj2" fmla="val -139597"/>
                <a:gd name="adj3" fmla="val 16667"/>
              </a:avLst>
            </a:prstGeom>
            <a:solidFill>
              <a:srgbClr val="d056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31920" y="4419720"/>
              <a:ext cx="2399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eed a Label for 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705720" y="4800600"/>
            <a:ext cx="2438280" cy="274680"/>
          </a:xfrm>
          <a:prstGeom prst="wedgeRoundRectCallout">
            <a:avLst>
              <a:gd name="adj1" fmla="val -43518"/>
              <a:gd name="adj2" fmla="val -102601"/>
              <a:gd name="adj3" fmla="val 16667"/>
            </a:avLst>
          </a:prstGeom>
          <a:solidFill>
            <a:srgbClr val="00cc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41720" y="4800600"/>
            <a:ext cx="2399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Need a Label for 128.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952880" y="4114440"/>
            <a:ext cx="1600200" cy="22860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2832120"/>
            <a:ext cx="647640" cy="469800"/>
          </a:xfrm>
          <a:prstGeom prst="rect">
            <a:avLst/>
          </a:prstGeom>
          <a:solidFill>
            <a:srgbClr val="e9c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2362320"/>
            <a:ext cx="647640" cy="4698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1924200"/>
            <a:ext cx="647640" cy="438120"/>
          </a:xfrm>
          <a:prstGeom prst="rect">
            <a:avLst/>
          </a:prstGeom>
          <a:solidFill>
            <a:srgbClr val="d05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1447920"/>
            <a:ext cx="6476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In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95960" y="2832120"/>
            <a:ext cx="647640" cy="469800"/>
          </a:xfrm>
          <a:prstGeom prst="rect">
            <a:avLst/>
          </a:prstGeom>
          <a:solidFill>
            <a:srgbClr val="e9c7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5960" y="2362320"/>
            <a:ext cx="647640" cy="4698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95960" y="1447920"/>
            <a:ext cx="6476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Ou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600" y="2362320"/>
            <a:ext cx="49536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24360" y="2362320"/>
            <a:ext cx="8762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28.8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2832120"/>
            <a:ext cx="49536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2832120"/>
            <a:ext cx="876240" cy="469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71.6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1924200"/>
            <a:ext cx="495360" cy="4381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1924200"/>
            <a:ext cx="876240" cy="438120"/>
          </a:xfrm>
          <a:prstGeom prst="rect">
            <a:avLst/>
          </a:prstGeom>
          <a:gradFill rotWithShape="0">
            <a:gsLst>
              <a:gs pos="0">
                <a:srgbClr val="5f0615"/>
              </a:gs>
              <a:gs pos="50000">
                <a:srgbClr val="d00e2e"/>
              </a:gs>
              <a:gs pos="100000">
                <a:srgbClr val="5f061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128.8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0600" y="1447920"/>
            <a:ext cx="49536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Out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I/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1447920"/>
            <a:ext cx="876240" cy="47628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Address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Pref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1447920"/>
            <a:ext cx="0" cy="185400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1447920"/>
            <a:ext cx="0" cy="185400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301920"/>
            <a:ext cx="2666880" cy="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192420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5960" y="1924200"/>
            <a:ext cx="647640" cy="438120"/>
          </a:xfrm>
          <a:prstGeom prst="rect">
            <a:avLst/>
          </a:prstGeom>
          <a:solidFill>
            <a:srgbClr val="d05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2362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1447920"/>
            <a:ext cx="2666880" cy="0"/>
          </a:xfrm>
          <a:prstGeom prst="line">
            <a:avLst/>
          </a:prstGeom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28321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9596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1447920"/>
            <a:ext cx="0" cy="18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3657600"/>
            <a:ext cx="1219320" cy="304920"/>
          </a:xfrm>
          <a:prstGeom prst="rect">
            <a:avLst/>
          </a:prstGeom>
          <a:solidFill>
            <a:srgbClr val="d05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Use Lab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109120" y="4006080"/>
            <a:ext cx="678240" cy="79200"/>
          </a:xfrm>
          <a:prstGeom prst="line">
            <a:avLst/>
          </a:prstGeom>
          <a:ln w="50760">
            <a:solidFill>
              <a:srgbClr val="d05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3733920"/>
            <a:ext cx="1219320" cy="304560"/>
          </a:xfrm>
          <a:prstGeom prst="rect">
            <a:avLst/>
          </a:prstGeom>
          <a:solidFill>
            <a:srgbClr val="d05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Use Label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437920" y="4191120"/>
            <a:ext cx="1576440" cy="1440"/>
          </a:xfrm>
          <a:prstGeom prst="line">
            <a:avLst/>
          </a:prstGeom>
          <a:ln w="50760">
            <a:solidFill>
              <a:srgbClr val="d05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4005360"/>
            <a:ext cx="1181160" cy="712800"/>
            <a:chOff x="0" y="4005360"/>
            <a:chExt cx="1181160" cy="712800"/>
          </a:xfrm>
        </p:grpSpPr>
        <p:pic>
          <p:nvPicPr>
            <p:cNvPr id="439" name="" descr=""/>
            <p:cNvPicPr/>
            <p:nvPr/>
          </p:nvPicPr>
          <p:blipFill>
            <a:blip r:embed="rId8"/>
            <a:stretch/>
          </p:blipFill>
          <p:spPr>
            <a:xfrm>
              <a:off x="0" y="400536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187200" y="419436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553080" y="3962520"/>
            <a:ext cx="22543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3886200"/>
            <a:ext cx="22543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962520"/>
            <a:ext cx="225396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743200"/>
            <a:ext cx="2828880" cy="668160"/>
          </a:xfrm>
          <a:custGeom>
            <a:avLst/>
            <a:gdLst/>
            <a:ahLst/>
            <a:rect l="l" t="t" r="r" b="b"/>
            <a:pathLst>
              <a:path w="1782" h="421">
                <a:moveTo>
                  <a:pt x="919" y="330"/>
                </a:moveTo>
                <a:lnTo>
                  <a:pt x="1782" y="0"/>
                </a:lnTo>
                <a:lnTo>
                  <a:pt x="0" y="0"/>
                </a:lnTo>
                <a:lnTo>
                  <a:pt x="564" y="324"/>
                </a:lnTo>
                <a:lnTo>
                  <a:pt x="957" y="42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659640" y="3697200"/>
            <a:ext cx="731880" cy="47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600200" y="3621240"/>
            <a:ext cx="779400" cy="512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842920" y="3141720"/>
            <a:ext cx="69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PMingLiU"/>
              </a:rPr>
              <a:t>Cel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80600" y="3460680"/>
            <a:ext cx="29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32840" y="1628640"/>
            <a:ext cx="34171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marL="128520" indent="-1285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El label actua como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dentificador del circ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en redes ATM (VPI/VC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98920" y="2738520"/>
            <a:ext cx="272880" cy="59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72360" y="2533680"/>
            <a:ext cx="2520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marL="128520" indent="-1285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l label cambia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uiche y el sigu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21080" y="3460680"/>
            <a:ext cx="53820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MPLS CON AT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3262320" y="1600200"/>
            <a:ext cx="2840040" cy="1143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90800" y="4352760"/>
            <a:ext cx="6010200" cy="981360"/>
          </a:xfrm>
          <a:custGeom>
            <a:avLst/>
            <a:gdLst/>
            <a:ahLst/>
            <a:rect l="l" t="t" r="r" b="b"/>
            <a:pathLst>
              <a:path w="3786" h="618">
                <a:moveTo>
                  <a:pt x="2038" y="6"/>
                </a:moveTo>
                <a:lnTo>
                  <a:pt x="3786" y="612"/>
                </a:lnTo>
                <a:lnTo>
                  <a:pt x="0" y="618"/>
                </a:lnTo>
                <a:lnTo>
                  <a:pt x="1884" y="0"/>
                </a:lnTo>
                <a:lnTo>
                  <a:pt x="2040" y="0"/>
                </a:lnTo>
              </a:path>
            </a:pathLst>
          </a:custGeom>
          <a:gradFill rotWithShape="0">
            <a:gsLst>
              <a:gs pos="0">
                <a:srgbClr val="f5ebc1"/>
              </a:gs>
              <a:gs pos="100000">
                <a:srgbClr val="b2b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3240" y="1600200"/>
            <a:ext cx="42552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65600" y="2108160"/>
            <a:ext cx="42552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2120" y="236232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91120" y="1600200"/>
            <a:ext cx="9507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Add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Pre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2108160"/>
            <a:ext cx="95076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28.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57640" y="2362320"/>
            <a:ext cx="95076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35400" y="1600200"/>
            <a:ext cx="50184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35400" y="2108160"/>
            <a:ext cx="50184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35400" y="2448000"/>
            <a:ext cx="50184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02280" y="2362320"/>
            <a:ext cx="50148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61000" y="1600200"/>
            <a:ext cx="42552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61000" y="2108160"/>
            <a:ext cx="42552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27520" y="236232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76760" y="1600200"/>
            <a:ext cx="42552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4920" y="2108160"/>
            <a:ext cx="42552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4920" y="244800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41800" y="2362320"/>
            <a:ext cx="42516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4145040" y="3260880"/>
            <a:ext cx="676080" cy="966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700440" y="16002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2079720"/>
            <a:ext cx="282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74920" y="2432160"/>
            <a:ext cx="282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17120" y="4114800"/>
            <a:ext cx="617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PMingLiU"/>
              </a:rPr>
              <a:t>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03560" y="4191120"/>
            <a:ext cx="617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PMingLiU"/>
              </a:rPr>
              <a:t>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5334120"/>
            <a:ext cx="6098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38680" y="5334120"/>
            <a:ext cx="23623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5334120"/>
            <a:ext cx="6098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5334120"/>
            <a:ext cx="6094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5334120"/>
            <a:ext cx="6094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5334120"/>
            <a:ext cx="60948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590920" y="5791320"/>
            <a:ext cx="1294920" cy="609480"/>
            <a:chOff x="2590920" y="5791320"/>
            <a:chExt cx="1294920" cy="609480"/>
          </a:xfrm>
        </p:grpSpPr>
        <p:sp>
          <p:nvSpPr>
            <p:cNvPr id="486" name=""/>
            <p:cNvSpPr/>
            <p:nvPr/>
          </p:nvSpPr>
          <p:spPr>
            <a:xfrm>
              <a:off x="2590920" y="5791320"/>
              <a:ext cx="1294920" cy="609480"/>
            </a:xfrm>
            <a:prstGeom prst="upArrowCallout">
              <a:avLst>
                <a:gd name="adj1" fmla="val 53121"/>
                <a:gd name="adj2" fmla="val 53116"/>
                <a:gd name="adj3" fmla="val 16667"/>
                <a:gd name="adj4" fmla="val 66660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90920" y="6019920"/>
              <a:ext cx="1294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952520" y="4038480"/>
            <a:ext cx="297720" cy="335880"/>
            <a:chOff x="4952520" y="4038480"/>
            <a:chExt cx="297720" cy="335880"/>
          </a:xfrm>
        </p:grpSpPr>
        <p:sp>
          <p:nvSpPr>
            <p:cNvPr id="489" name=""/>
            <p:cNvSpPr/>
            <p:nvPr/>
          </p:nvSpPr>
          <p:spPr>
            <a:xfrm>
              <a:off x="4962600" y="4046400"/>
              <a:ext cx="27468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52520" y="403848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333760" y="4038480"/>
            <a:ext cx="297720" cy="335880"/>
            <a:chOff x="5333760" y="4038480"/>
            <a:chExt cx="297720" cy="335880"/>
          </a:xfrm>
        </p:grpSpPr>
        <p:sp>
          <p:nvSpPr>
            <p:cNvPr id="492" name=""/>
            <p:cNvSpPr/>
            <p:nvPr/>
          </p:nvSpPr>
          <p:spPr>
            <a:xfrm>
              <a:off x="5343480" y="4046400"/>
              <a:ext cx="27432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33760" y="403848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714640" y="4038480"/>
            <a:ext cx="297720" cy="335880"/>
            <a:chOff x="5714640" y="4038480"/>
            <a:chExt cx="297720" cy="335880"/>
          </a:xfrm>
        </p:grpSpPr>
        <p:sp>
          <p:nvSpPr>
            <p:cNvPr id="495" name=""/>
            <p:cNvSpPr/>
            <p:nvPr/>
          </p:nvSpPr>
          <p:spPr>
            <a:xfrm>
              <a:off x="5724720" y="4046400"/>
              <a:ext cx="27468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14640" y="403848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095520" y="4038480"/>
            <a:ext cx="297720" cy="335880"/>
            <a:chOff x="6095520" y="4038480"/>
            <a:chExt cx="297720" cy="335880"/>
          </a:xfrm>
        </p:grpSpPr>
        <p:sp>
          <p:nvSpPr>
            <p:cNvPr id="498" name=""/>
            <p:cNvSpPr/>
            <p:nvPr/>
          </p:nvSpPr>
          <p:spPr>
            <a:xfrm>
              <a:off x="6105600" y="4046400"/>
              <a:ext cx="27468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5520" y="403848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514240" y="3505320"/>
            <a:ext cx="297720" cy="335880"/>
            <a:chOff x="2514240" y="3505320"/>
            <a:chExt cx="297720" cy="335880"/>
          </a:xfrm>
        </p:grpSpPr>
        <p:sp>
          <p:nvSpPr>
            <p:cNvPr id="501" name=""/>
            <p:cNvSpPr/>
            <p:nvPr/>
          </p:nvSpPr>
          <p:spPr>
            <a:xfrm>
              <a:off x="2524320" y="3513240"/>
              <a:ext cx="27468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240" y="350532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95120" y="3505320"/>
            <a:ext cx="297720" cy="335880"/>
            <a:chOff x="2895120" y="3505320"/>
            <a:chExt cx="297720" cy="335880"/>
          </a:xfrm>
        </p:grpSpPr>
        <p:sp>
          <p:nvSpPr>
            <p:cNvPr id="504" name=""/>
            <p:cNvSpPr/>
            <p:nvPr/>
          </p:nvSpPr>
          <p:spPr>
            <a:xfrm>
              <a:off x="2905200" y="3513240"/>
              <a:ext cx="27468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95120" y="350532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276360" y="3505320"/>
            <a:ext cx="297720" cy="335880"/>
            <a:chOff x="3276360" y="3505320"/>
            <a:chExt cx="297720" cy="335880"/>
          </a:xfrm>
        </p:grpSpPr>
        <p:sp>
          <p:nvSpPr>
            <p:cNvPr id="507" name=""/>
            <p:cNvSpPr/>
            <p:nvPr/>
          </p:nvSpPr>
          <p:spPr>
            <a:xfrm>
              <a:off x="3286080" y="3513240"/>
              <a:ext cx="27432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76360" y="350532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57240" y="3505320"/>
            <a:ext cx="297720" cy="335880"/>
            <a:chOff x="3657240" y="3505320"/>
            <a:chExt cx="297720" cy="335880"/>
          </a:xfrm>
        </p:grpSpPr>
        <p:sp>
          <p:nvSpPr>
            <p:cNvPr id="510" name=""/>
            <p:cNvSpPr/>
            <p:nvPr/>
          </p:nvSpPr>
          <p:spPr>
            <a:xfrm>
              <a:off x="3667320" y="3513240"/>
              <a:ext cx="274680" cy="311040"/>
            </a:xfrm>
            <a:prstGeom prst="rect">
              <a:avLst/>
            </a:prstGeom>
            <a:gradFill rotWithShape="0">
              <a:gsLst>
                <a:gs pos="0">
                  <a:srgbClr val="003b53"/>
                </a:gs>
                <a:gs pos="50000">
                  <a:srgbClr val="0082b6"/>
                </a:gs>
                <a:gs pos="100000">
                  <a:srgbClr val="003b53"/>
                </a:gs>
              </a:gsLst>
              <a:lin ang="13500000"/>
            </a:gradFill>
            <a:ln w="9360">
              <a:solidFill>
                <a:srgbClr val="00b5fe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57240" y="3505320"/>
              <a:ext cx="29772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233960" y="16002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72040" y="16002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05560" y="16002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3733920"/>
            <a:ext cx="922320" cy="36648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880" y="3733920"/>
            <a:ext cx="91944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772400" y="3581280"/>
            <a:ext cx="1181160" cy="712800"/>
            <a:chOff x="7772400" y="3581280"/>
            <a:chExt cx="1181160" cy="7128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777240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95960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87656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33560" y="396252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0920" y="5334120"/>
            <a:ext cx="60948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553080" y="3809880"/>
            <a:ext cx="22543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772400" y="3429000"/>
            <a:ext cx="1181160" cy="712800"/>
            <a:chOff x="7772400" y="3429000"/>
            <a:chExt cx="1181160" cy="71280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7772400" y="34290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959600" y="36180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905520" y="3002040"/>
            <a:ext cx="820800" cy="503280"/>
          </a:xfrm>
          <a:custGeom>
            <a:avLst/>
            <a:gdLst>
              <a:gd name="textAreaLeft" fmla="*/ 30240 w 820800"/>
              <a:gd name="textAreaRight" fmla="*/ 790560 w 820800"/>
              <a:gd name="textAreaTop" fmla="*/ 18360 h 503280"/>
              <a:gd name="textAreaBottom" fmla="*/ 402120 h 503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MPLS CON AT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5760" y="4767120"/>
            <a:ext cx="8224560" cy="17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Labels diferentes para t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PMingLiU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fico que va para el mismo destino, permite que los paquetes sean reensamblados de forma correc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"/>
          <p:cNvSpPr/>
          <p:nvPr/>
        </p:nvSpPr>
        <p:spPr>
          <a:xfrm>
            <a:off x="3295800" y="1447920"/>
            <a:ext cx="2840040" cy="1495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95800" y="2957400"/>
            <a:ext cx="2854080" cy="509760"/>
          </a:xfrm>
          <a:custGeom>
            <a:avLst/>
            <a:gdLst/>
            <a:ahLst/>
            <a:rect l="l" t="t" r="r" b="b"/>
            <a:pathLst>
              <a:path w="1825" h="289">
                <a:moveTo>
                  <a:pt x="815" y="288"/>
                </a:moveTo>
                <a:lnTo>
                  <a:pt x="1824" y="0"/>
                </a:lnTo>
                <a:lnTo>
                  <a:pt x="0" y="0"/>
                </a:lnTo>
                <a:lnTo>
                  <a:pt x="672" y="288"/>
                </a:lnTo>
                <a:lnTo>
                  <a:pt x="815" y="2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98720" y="1447920"/>
            <a:ext cx="425520" cy="47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98720" y="1955880"/>
            <a:ext cx="42552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98720" y="229536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98720" y="263376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24240" y="1447920"/>
            <a:ext cx="951120" cy="47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Add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Pre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24240" y="1955880"/>
            <a:ext cx="95112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28.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24240" y="2295360"/>
            <a:ext cx="9511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28.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24240" y="2633760"/>
            <a:ext cx="9511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68880" y="1447920"/>
            <a:ext cx="501840" cy="47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68880" y="1955880"/>
            <a:ext cx="50184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68880" y="2295360"/>
            <a:ext cx="50184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68880" y="2633760"/>
            <a:ext cx="50184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94480" y="1447920"/>
            <a:ext cx="425160" cy="47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4480" y="1955880"/>
            <a:ext cx="42516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94480" y="2295360"/>
            <a:ext cx="42516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94480" y="2633760"/>
            <a:ext cx="42516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08400" y="1447920"/>
            <a:ext cx="425520" cy="47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08400" y="1955880"/>
            <a:ext cx="425520" cy="31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08400" y="229536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308400" y="2633760"/>
            <a:ext cx="425520" cy="3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1160" y="39718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6520" y="3825720"/>
            <a:ext cx="21351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19360" y="3381480"/>
            <a:ext cx="2439720" cy="38088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19360" y="3909960"/>
            <a:ext cx="2439720" cy="23328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4720" y="4010040"/>
            <a:ext cx="276120" cy="30960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35520" y="4016520"/>
            <a:ext cx="26208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75000" y="4000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19320" y="4000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25520" y="4290840"/>
            <a:ext cx="26352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320" y="427824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19400" y="2844720"/>
            <a:ext cx="276120" cy="31140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09320" y="283680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33760" y="3014640"/>
            <a:ext cx="274680" cy="31104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23680" y="300672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6320" y="3141720"/>
            <a:ext cx="274680" cy="31104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36600" y="312120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59240" y="3289320"/>
            <a:ext cx="274680" cy="31104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49160" y="328140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6960" y="3014640"/>
            <a:ext cx="922320" cy="36684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2520" y="4049640"/>
            <a:ext cx="896760" cy="352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76600" y="4206960"/>
            <a:ext cx="26172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60400" y="419400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08240" y="4100400"/>
            <a:ext cx="26208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92040" y="408780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59320" y="3995640"/>
            <a:ext cx="261720" cy="2952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43120" y="3973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16600" y="4010040"/>
            <a:ext cx="276120" cy="30960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67400" y="4016520"/>
            <a:ext cx="26208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08320" y="4000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51200" y="4000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48480" y="4010040"/>
            <a:ext cx="276120" cy="309600"/>
          </a:xfrm>
          <a:prstGeom prst="rect">
            <a:avLst/>
          </a:prstGeom>
          <a:gradFill rotWithShape="0">
            <a:gsLst>
              <a:gs pos="0">
                <a:srgbClr val="003b53"/>
              </a:gs>
              <a:gs pos="50000">
                <a:srgbClr val="0082b6"/>
              </a:gs>
              <a:gs pos="100000">
                <a:srgbClr val="003b53"/>
              </a:gs>
            </a:gsLst>
            <a:lin ang="13500000"/>
          </a:gradFill>
          <a:ln w="9360">
            <a:solidFill>
              <a:srgbClr val="00b5fe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99280" y="4016520"/>
            <a:ext cx="26172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9360">
            <a:solidFill>
              <a:srgbClr val="f23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40200" y="4000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283080" y="4000680"/>
            <a:ext cx="297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PMingLiU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6472080" y="3562200"/>
            <a:ext cx="676440" cy="4003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4145040" y="3260880"/>
            <a:ext cx="676080" cy="9666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1441440" y="3911760"/>
            <a:ext cx="676440" cy="4014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5"/>
          <a:stretch/>
        </p:blipFill>
        <p:spPr>
          <a:xfrm>
            <a:off x="1441440" y="3149640"/>
            <a:ext cx="695160" cy="4017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27680" y="3014640"/>
            <a:ext cx="91944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2360" y="4044960"/>
            <a:ext cx="91944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78040" y="255888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1160" y="32958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82600" y="34639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1447920"/>
            <a:ext cx="0" cy="15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75000" y="1447920"/>
            <a:ext cx="0" cy="15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51600" y="1447920"/>
            <a:ext cx="0" cy="15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46600" y="1447920"/>
            <a:ext cx="0" cy="15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08400" y="1927080"/>
            <a:ext cx="282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08400" y="2279520"/>
            <a:ext cx="282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08400" y="2641680"/>
            <a:ext cx="282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06240" y="3009960"/>
            <a:ext cx="8359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Coo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RACTERISTICAS DE MP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620280"/>
            <a:ext cx="8534160" cy="600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No está ligado a un nivel 2 o 3 específico: opera con celdas o tramas como transporte (PPP, Ethernet, ATM, etc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Inicialmente orientada a IPv4, pero con previsiones para IPv6, IPX, AppleTalk, CLNP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uede operar directamente con el suicheo de Frame Relay o ATM, facilitando la creación dinámica de los circuitos virtuales (asignación del DLCI o el VPI/VPI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No reemplaza los protocolos de enrutamiento tradicionales como OSPF o IS-I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envío es realizado a partir de los labe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camino que siguen los paquetes es elegido a partir de protocolos de enrutamiento convencional o de forma manu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COMPONENT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80520" y="907920"/>
            <a:ext cx="8534520" cy="541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SR: Label Switch Router.  También se conoce como Provider Core Router o router 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ER: Label Edge Router.  También se conoce como Provider Edge Router,  router PE  o  ELSR (Edge LSR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E: Customer Edge Rout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PMingLiU"/>
              </a:rPr>
              <a:t>COMPONENTES MPL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"/>
          <p:cNvSpPr/>
          <p:nvPr/>
        </p:nvSpPr>
        <p:spPr>
          <a:xfrm>
            <a:off x="3894120" y="2897280"/>
            <a:ext cx="406440" cy="428400"/>
          </a:xfrm>
          <a:prstGeom prst="rect">
            <a:avLst/>
          </a:prstGeom>
          <a:solidFill>
            <a:srgbClr val="009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95560" y="2898720"/>
            <a:ext cx="403560" cy="425520"/>
          </a:xfrm>
          <a:prstGeom prst="rect">
            <a:avLst/>
          </a:prstGeom>
          <a:solidFill>
            <a:srgbClr val="0096d5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00560" y="2844720"/>
            <a:ext cx="52200" cy="474840"/>
          </a:xfrm>
          <a:custGeom>
            <a:avLst/>
            <a:gdLst/>
            <a:ahLst/>
            <a:rect l="l" t="t" r="r" b="b"/>
            <a:pathLst>
              <a:path w="33" h="299">
                <a:moveTo>
                  <a:pt x="0" y="33"/>
                </a:moveTo>
                <a:lnTo>
                  <a:pt x="33" y="0"/>
                </a:lnTo>
                <a:lnTo>
                  <a:pt x="33" y="269"/>
                </a:lnTo>
                <a:lnTo>
                  <a:pt x="0" y="299"/>
                </a:lnTo>
                <a:lnTo>
                  <a:pt x="0" y="33"/>
                </a:lnTo>
                <a:close/>
              </a:path>
            </a:pathLst>
          </a:custGeom>
          <a:solidFill>
            <a:srgbClr val="005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00560" y="2844720"/>
            <a:ext cx="52200" cy="474840"/>
          </a:xfrm>
          <a:custGeom>
            <a:avLst/>
            <a:gdLst/>
            <a:ahLst/>
            <a:rect l="l" t="t" r="r" b="b"/>
            <a:pathLst>
              <a:path w="33" h="299">
                <a:moveTo>
                  <a:pt x="0" y="33"/>
                </a:moveTo>
                <a:lnTo>
                  <a:pt x="33" y="0"/>
                </a:lnTo>
                <a:lnTo>
                  <a:pt x="33" y="269"/>
                </a:lnTo>
                <a:lnTo>
                  <a:pt x="0" y="299"/>
                </a:lnTo>
                <a:lnTo>
                  <a:pt x="0" y="33"/>
                </a:lnTo>
                <a:close/>
              </a:path>
            </a:pathLst>
          </a:custGeom>
          <a:solidFill>
            <a:srgbClr val="005a80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22560" y="2925720"/>
            <a:ext cx="357480" cy="368280"/>
          </a:xfrm>
          <a:custGeom>
            <a:avLst/>
            <a:gdLst/>
            <a:ahLst/>
            <a:rect l="l" t="t" r="r" b="b"/>
            <a:pathLst>
              <a:path w="225" h="232">
                <a:moveTo>
                  <a:pt x="32" y="0"/>
                </a:moveTo>
                <a:lnTo>
                  <a:pt x="32" y="28"/>
                </a:lnTo>
                <a:lnTo>
                  <a:pt x="84" y="28"/>
                </a:lnTo>
                <a:lnTo>
                  <a:pt x="110" y="93"/>
                </a:lnTo>
                <a:lnTo>
                  <a:pt x="139" y="28"/>
                </a:lnTo>
                <a:lnTo>
                  <a:pt x="190" y="28"/>
                </a:lnTo>
                <a:lnTo>
                  <a:pt x="190" y="0"/>
                </a:lnTo>
                <a:lnTo>
                  <a:pt x="225" y="36"/>
                </a:lnTo>
                <a:lnTo>
                  <a:pt x="190" y="72"/>
                </a:lnTo>
                <a:lnTo>
                  <a:pt x="190" y="48"/>
                </a:lnTo>
                <a:lnTo>
                  <a:pt x="156" y="48"/>
                </a:lnTo>
                <a:lnTo>
                  <a:pt x="122" y="117"/>
                </a:lnTo>
                <a:lnTo>
                  <a:pt x="156" y="188"/>
                </a:lnTo>
                <a:lnTo>
                  <a:pt x="190" y="188"/>
                </a:lnTo>
                <a:lnTo>
                  <a:pt x="190" y="159"/>
                </a:lnTo>
                <a:lnTo>
                  <a:pt x="225" y="198"/>
                </a:lnTo>
                <a:lnTo>
                  <a:pt x="190" y="232"/>
                </a:lnTo>
                <a:lnTo>
                  <a:pt x="190" y="206"/>
                </a:lnTo>
                <a:lnTo>
                  <a:pt x="139" y="206"/>
                </a:lnTo>
                <a:lnTo>
                  <a:pt x="110" y="143"/>
                </a:lnTo>
                <a:lnTo>
                  <a:pt x="84" y="206"/>
                </a:lnTo>
                <a:lnTo>
                  <a:pt x="32" y="206"/>
                </a:lnTo>
                <a:lnTo>
                  <a:pt x="32" y="232"/>
                </a:lnTo>
                <a:lnTo>
                  <a:pt x="0" y="194"/>
                </a:lnTo>
                <a:lnTo>
                  <a:pt x="32" y="159"/>
                </a:lnTo>
                <a:lnTo>
                  <a:pt x="32" y="188"/>
                </a:lnTo>
                <a:lnTo>
                  <a:pt x="66" y="188"/>
                </a:lnTo>
                <a:lnTo>
                  <a:pt x="99" y="117"/>
                </a:lnTo>
                <a:lnTo>
                  <a:pt x="68" y="48"/>
                </a:lnTo>
                <a:lnTo>
                  <a:pt x="32" y="48"/>
                </a:lnTo>
                <a:lnTo>
                  <a:pt x="32" y="70"/>
                </a:lnTo>
                <a:lnTo>
                  <a:pt x="0" y="36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22560" y="2925720"/>
            <a:ext cx="357480" cy="368280"/>
          </a:xfrm>
          <a:custGeom>
            <a:avLst/>
            <a:gdLst/>
            <a:ahLst/>
            <a:rect l="l" t="t" r="r" b="b"/>
            <a:pathLst>
              <a:path w="225" h="232">
                <a:moveTo>
                  <a:pt x="32" y="0"/>
                </a:moveTo>
                <a:lnTo>
                  <a:pt x="32" y="28"/>
                </a:lnTo>
                <a:lnTo>
                  <a:pt x="84" y="28"/>
                </a:lnTo>
                <a:lnTo>
                  <a:pt x="110" y="93"/>
                </a:lnTo>
                <a:lnTo>
                  <a:pt x="139" y="28"/>
                </a:lnTo>
                <a:lnTo>
                  <a:pt x="190" y="28"/>
                </a:lnTo>
                <a:lnTo>
                  <a:pt x="190" y="0"/>
                </a:lnTo>
                <a:lnTo>
                  <a:pt x="225" y="36"/>
                </a:lnTo>
                <a:lnTo>
                  <a:pt x="190" y="72"/>
                </a:lnTo>
                <a:lnTo>
                  <a:pt x="190" y="48"/>
                </a:lnTo>
                <a:lnTo>
                  <a:pt x="156" y="48"/>
                </a:lnTo>
                <a:lnTo>
                  <a:pt x="122" y="117"/>
                </a:lnTo>
                <a:lnTo>
                  <a:pt x="156" y="188"/>
                </a:lnTo>
                <a:lnTo>
                  <a:pt x="190" y="188"/>
                </a:lnTo>
                <a:lnTo>
                  <a:pt x="190" y="159"/>
                </a:lnTo>
                <a:lnTo>
                  <a:pt x="225" y="198"/>
                </a:lnTo>
                <a:lnTo>
                  <a:pt x="190" y="232"/>
                </a:lnTo>
                <a:lnTo>
                  <a:pt x="190" y="206"/>
                </a:lnTo>
                <a:lnTo>
                  <a:pt x="139" y="206"/>
                </a:lnTo>
                <a:lnTo>
                  <a:pt x="110" y="143"/>
                </a:lnTo>
                <a:lnTo>
                  <a:pt x="84" y="206"/>
                </a:lnTo>
                <a:lnTo>
                  <a:pt x="32" y="206"/>
                </a:lnTo>
                <a:lnTo>
                  <a:pt x="32" y="232"/>
                </a:lnTo>
                <a:lnTo>
                  <a:pt x="0" y="194"/>
                </a:lnTo>
                <a:lnTo>
                  <a:pt x="32" y="159"/>
                </a:lnTo>
                <a:lnTo>
                  <a:pt x="32" y="188"/>
                </a:lnTo>
                <a:lnTo>
                  <a:pt x="66" y="188"/>
                </a:lnTo>
                <a:lnTo>
                  <a:pt x="99" y="117"/>
                </a:lnTo>
                <a:lnTo>
                  <a:pt x="68" y="48"/>
                </a:lnTo>
                <a:lnTo>
                  <a:pt x="32" y="48"/>
                </a:lnTo>
                <a:lnTo>
                  <a:pt x="32" y="70"/>
                </a:lnTo>
                <a:lnTo>
                  <a:pt x="0" y="36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24360" y="2932200"/>
            <a:ext cx="361800" cy="365040"/>
          </a:xfrm>
          <a:custGeom>
            <a:avLst/>
            <a:gdLst/>
            <a:ahLst/>
            <a:rect l="l" t="t" r="r" b="b"/>
            <a:pathLst>
              <a:path w="228" h="230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3" y="91"/>
                </a:lnTo>
                <a:lnTo>
                  <a:pt x="140" y="28"/>
                </a:lnTo>
                <a:lnTo>
                  <a:pt x="191" y="28"/>
                </a:lnTo>
                <a:lnTo>
                  <a:pt x="191" y="0"/>
                </a:lnTo>
                <a:lnTo>
                  <a:pt x="228" y="34"/>
                </a:lnTo>
                <a:lnTo>
                  <a:pt x="191" y="70"/>
                </a:lnTo>
                <a:lnTo>
                  <a:pt x="191" y="46"/>
                </a:lnTo>
                <a:lnTo>
                  <a:pt x="157" y="46"/>
                </a:lnTo>
                <a:lnTo>
                  <a:pt x="123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59"/>
                </a:lnTo>
                <a:lnTo>
                  <a:pt x="228" y="196"/>
                </a:lnTo>
                <a:lnTo>
                  <a:pt x="191" y="230"/>
                </a:lnTo>
                <a:lnTo>
                  <a:pt x="191" y="204"/>
                </a:lnTo>
                <a:lnTo>
                  <a:pt x="140" y="204"/>
                </a:lnTo>
                <a:lnTo>
                  <a:pt x="113" y="141"/>
                </a:lnTo>
                <a:lnTo>
                  <a:pt x="84" y="204"/>
                </a:lnTo>
                <a:lnTo>
                  <a:pt x="33" y="204"/>
                </a:lnTo>
                <a:lnTo>
                  <a:pt x="33" y="230"/>
                </a:lnTo>
                <a:lnTo>
                  <a:pt x="0" y="194"/>
                </a:lnTo>
                <a:lnTo>
                  <a:pt x="33" y="159"/>
                </a:lnTo>
                <a:lnTo>
                  <a:pt x="33" y="186"/>
                </a:lnTo>
                <a:lnTo>
                  <a:pt x="67" y="186"/>
                </a:lnTo>
                <a:lnTo>
                  <a:pt x="100" y="117"/>
                </a:lnTo>
                <a:lnTo>
                  <a:pt x="71" y="46"/>
                </a:lnTo>
                <a:lnTo>
                  <a:pt x="33" y="46"/>
                </a:lnTo>
                <a:lnTo>
                  <a:pt x="33" y="68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24360" y="2932200"/>
            <a:ext cx="361800" cy="365040"/>
          </a:xfrm>
          <a:custGeom>
            <a:avLst/>
            <a:gdLst/>
            <a:ahLst/>
            <a:rect l="l" t="t" r="r" b="b"/>
            <a:pathLst>
              <a:path w="228" h="230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3" y="91"/>
                </a:lnTo>
                <a:lnTo>
                  <a:pt x="140" y="28"/>
                </a:lnTo>
                <a:lnTo>
                  <a:pt x="191" y="28"/>
                </a:lnTo>
                <a:lnTo>
                  <a:pt x="191" y="0"/>
                </a:lnTo>
                <a:lnTo>
                  <a:pt x="228" y="34"/>
                </a:lnTo>
                <a:lnTo>
                  <a:pt x="191" y="70"/>
                </a:lnTo>
                <a:lnTo>
                  <a:pt x="191" y="46"/>
                </a:lnTo>
                <a:lnTo>
                  <a:pt x="157" y="46"/>
                </a:lnTo>
                <a:lnTo>
                  <a:pt x="123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59"/>
                </a:lnTo>
                <a:lnTo>
                  <a:pt x="228" y="196"/>
                </a:lnTo>
                <a:lnTo>
                  <a:pt x="191" y="230"/>
                </a:lnTo>
                <a:lnTo>
                  <a:pt x="191" y="204"/>
                </a:lnTo>
                <a:lnTo>
                  <a:pt x="140" y="204"/>
                </a:lnTo>
                <a:lnTo>
                  <a:pt x="113" y="141"/>
                </a:lnTo>
                <a:lnTo>
                  <a:pt x="84" y="204"/>
                </a:lnTo>
                <a:lnTo>
                  <a:pt x="33" y="204"/>
                </a:lnTo>
                <a:lnTo>
                  <a:pt x="33" y="230"/>
                </a:lnTo>
                <a:lnTo>
                  <a:pt x="0" y="194"/>
                </a:lnTo>
                <a:lnTo>
                  <a:pt x="33" y="159"/>
                </a:lnTo>
                <a:lnTo>
                  <a:pt x="33" y="186"/>
                </a:lnTo>
                <a:lnTo>
                  <a:pt x="67" y="186"/>
                </a:lnTo>
                <a:lnTo>
                  <a:pt x="100" y="117"/>
                </a:lnTo>
                <a:lnTo>
                  <a:pt x="71" y="46"/>
                </a:lnTo>
                <a:lnTo>
                  <a:pt x="33" y="46"/>
                </a:lnTo>
                <a:lnTo>
                  <a:pt x="33" y="68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4120" y="2844720"/>
            <a:ext cx="458640" cy="52560"/>
          </a:xfrm>
          <a:custGeom>
            <a:avLst/>
            <a:gdLst/>
            <a:ahLst/>
            <a:rect l="l" t="t" r="r" b="b"/>
            <a:pathLst>
              <a:path w="289" h="33">
                <a:moveTo>
                  <a:pt x="0" y="33"/>
                </a:moveTo>
                <a:lnTo>
                  <a:pt x="33" y="0"/>
                </a:lnTo>
                <a:lnTo>
                  <a:pt x="289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94120" y="2844720"/>
            <a:ext cx="458640" cy="52560"/>
          </a:xfrm>
          <a:custGeom>
            <a:avLst/>
            <a:gdLst/>
            <a:ahLst/>
            <a:rect l="l" t="t" r="r" b="b"/>
            <a:pathLst>
              <a:path w="289" h="33">
                <a:moveTo>
                  <a:pt x="0" y="33"/>
                </a:moveTo>
                <a:lnTo>
                  <a:pt x="33" y="0"/>
                </a:lnTo>
                <a:lnTo>
                  <a:pt x="289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b4ff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4120" y="2662200"/>
            <a:ext cx="406440" cy="2350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95560" y="2664000"/>
            <a:ext cx="403560" cy="231480"/>
          </a:xfrm>
          <a:prstGeom prst="rect">
            <a:avLst/>
          </a:prstGeom>
          <a:solidFill>
            <a:srgbClr val="cf0e30"/>
          </a:solidFill>
          <a:ln w="3240">
            <a:solidFill>
              <a:srgbClr val="fda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94120" y="2611440"/>
            <a:ext cx="458640" cy="50760"/>
          </a:xfrm>
          <a:custGeom>
            <a:avLst/>
            <a:gdLst/>
            <a:ahLst/>
            <a:rect l="l" t="t" r="r" b="b"/>
            <a:pathLst>
              <a:path w="289" h="32">
                <a:moveTo>
                  <a:pt x="0" y="32"/>
                </a:moveTo>
                <a:lnTo>
                  <a:pt x="33" y="0"/>
                </a:lnTo>
                <a:lnTo>
                  <a:pt x="289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e54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94120" y="2611440"/>
            <a:ext cx="458640" cy="50760"/>
          </a:xfrm>
          <a:custGeom>
            <a:avLst/>
            <a:gdLst/>
            <a:ahLst/>
            <a:rect l="l" t="t" r="r" b="b"/>
            <a:pathLst>
              <a:path w="289" h="32">
                <a:moveTo>
                  <a:pt x="0" y="32"/>
                </a:moveTo>
                <a:lnTo>
                  <a:pt x="33" y="0"/>
                </a:lnTo>
                <a:lnTo>
                  <a:pt x="289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e5405c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00560" y="2611440"/>
            <a:ext cx="52200" cy="285840"/>
          </a:xfrm>
          <a:custGeom>
            <a:avLst/>
            <a:gdLst/>
            <a:ahLst/>
            <a:rect l="l" t="t" r="r" b="b"/>
            <a:pathLst>
              <a:path w="33" h="180">
                <a:moveTo>
                  <a:pt x="0" y="32"/>
                </a:moveTo>
                <a:lnTo>
                  <a:pt x="33" y="0"/>
                </a:lnTo>
                <a:lnTo>
                  <a:pt x="33" y="147"/>
                </a:lnTo>
                <a:lnTo>
                  <a:pt x="0" y="180"/>
                </a:lnTo>
                <a:lnTo>
                  <a:pt x="0" y="32"/>
                </a:lnTo>
                <a:close/>
              </a:path>
            </a:pathLst>
          </a:cu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00560" y="2611440"/>
            <a:ext cx="52200" cy="285840"/>
          </a:xfrm>
          <a:custGeom>
            <a:avLst/>
            <a:gdLst/>
            <a:ahLst/>
            <a:rect l="l" t="t" r="r" b="b"/>
            <a:pathLst>
              <a:path w="33" h="180">
                <a:moveTo>
                  <a:pt x="0" y="32"/>
                </a:moveTo>
                <a:lnTo>
                  <a:pt x="33" y="0"/>
                </a:lnTo>
                <a:lnTo>
                  <a:pt x="33" y="147"/>
                </a:lnTo>
                <a:lnTo>
                  <a:pt x="0" y="180"/>
                </a:lnTo>
                <a:lnTo>
                  <a:pt x="0" y="32"/>
                </a:lnTo>
                <a:close/>
              </a:path>
            </a:pathLst>
          </a:custGeom>
          <a:solidFill>
            <a:srgbClr val="790015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00680" y="2732040"/>
            <a:ext cx="1886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46680" y="2712960"/>
            <a:ext cx="293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46680" y="2832120"/>
            <a:ext cx="293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24360" y="2692440"/>
            <a:ext cx="87120" cy="493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75280" y="2692440"/>
            <a:ext cx="83880" cy="493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24360" y="2811600"/>
            <a:ext cx="87120" cy="47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75280" y="2811600"/>
            <a:ext cx="83880" cy="47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997440" y="2733840"/>
            <a:ext cx="1857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006800" y="2736720"/>
            <a:ext cx="18432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0" y="2716200"/>
            <a:ext cx="29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0" y="2835360"/>
            <a:ext cx="29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25800" y="2695680"/>
            <a:ext cx="92160" cy="48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8160" y="2695680"/>
            <a:ext cx="84240" cy="48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5800" y="2814480"/>
            <a:ext cx="921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78160" y="2814480"/>
            <a:ext cx="8424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000320" y="2736720"/>
            <a:ext cx="185400" cy="8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03840" y="2897280"/>
            <a:ext cx="406440" cy="428400"/>
          </a:xfrm>
          <a:prstGeom prst="rect">
            <a:avLst/>
          </a:prstGeom>
          <a:solidFill>
            <a:srgbClr val="009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05280" y="2898720"/>
            <a:ext cx="403200" cy="425520"/>
          </a:xfrm>
          <a:prstGeom prst="rect">
            <a:avLst/>
          </a:prstGeom>
          <a:solidFill>
            <a:srgbClr val="0096d5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10280" y="2844720"/>
            <a:ext cx="50760" cy="474840"/>
          </a:xfrm>
          <a:custGeom>
            <a:avLst/>
            <a:gdLst/>
            <a:ahLst/>
            <a:rect l="l" t="t" r="r" b="b"/>
            <a:pathLst>
              <a:path w="32" h="299">
                <a:moveTo>
                  <a:pt x="0" y="33"/>
                </a:moveTo>
                <a:lnTo>
                  <a:pt x="32" y="0"/>
                </a:lnTo>
                <a:lnTo>
                  <a:pt x="32" y="269"/>
                </a:lnTo>
                <a:lnTo>
                  <a:pt x="0" y="299"/>
                </a:lnTo>
                <a:lnTo>
                  <a:pt x="0" y="33"/>
                </a:lnTo>
                <a:close/>
              </a:path>
            </a:pathLst>
          </a:custGeom>
          <a:solidFill>
            <a:srgbClr val="005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10280" y="2844720"/>
            <a:ext cx="50760" cy="474840"/>
          </a:xfrm>
          <a:custGeom>
            <a:avLst/>
            <a:gdLst/>
            <a:ahLst/>
            <a:rect l="l" t="t" r="r" b="b"/>
            <a:pathLst>
              <a:path w="32" h="299">
                <a:moveTo>
                  <a:pt x="0" y="33"/>
                </a:moveTo>
                <a:lnTo>
                  <a:pt x="32" y="0"/>
                </a:lnTo>
                <a:lnTo>
                  <a:pt x="32" y="269"/>
                </a:lnTo>
                <a:lnTo>
                  <a:pt x="0" y="299"/>
                </a:lnTo>
                <a:lnTo>
                  <a:pt x="0" y="33"/>
                </a:lnTo>
                <a:close/>
              </a:path>
            </a:pathLst>
          </a:custGeom>
          <a:solidFill>
            <a:srgbClr val="005a80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30840" y="2925720"/>
            <a:ext cx="357120" cy="368280"/>
          </a:xfrm>
          <a:custGeom>
            <a:avLst/>
            <a:gdLst/>
            <a:ahLst/>
            <a:rect l="l" t="t" r="r" b="b"/>
            <a:pathLst>
              <a:path w="225" h="232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1" y="93"/>
                </a:lnTo>
                <a:lnTo>
                  <a:pt x="140" y="28"/>
                </a:lnTo>
                <a:lnTo>
                  <a:pt x="191" y="28"/>
                </a:lnTo>
                <a:lnTo>
                  <a:pt x="191" y="0"/>
                </a:lnTo>
                <a:lnTo>
                  <a:pt x="225" y="36"/>
                </a:lnTo>
                <a:lnTo>
                  <a:pt x="191" y="72"/>
                </a:lnTo>
                <a:lnTo>
                  <a:pt x="191" y="48"/>
                </a:lnTo>
                <a:lnTo>
                  <a:pt x="157" y="48"/>
                </a:lnTo>
                <a:lnTo>
                  <a:pt x="122" y="117"/>
                </a:lnTo>
                <a:lnTo>
                  <a:pt x="157" y="188"/>
                </a:lnTo>
                <a:lnTo>
                  <a:pt x="191" y="188"/>
                </a:lnTo>
                <a:lnTo>
                  <a:pt x="191" y="159"/>
                </a:lnTo>
                <a:lnTo>
                  <a:pt x="225" y="198"/>
                </a:lnTo>
                <a:lnTo>
                  <a:pt x="191" y="232"/>
                </a:lnTo>
                <a:lnTo>
                  <a:pt x="191" y="206"/>
                </a:lnTo>
                <a:lnTo>
                  <a:pt x="140" y="206"/>
                </a:lnTo>
                <a:lnTo>
                  <a:pt x="111" y="143"/>
                </a:lnTo>
                <a:lnTo>
                  <a:pt x="84" y="206"/>
                </a:lnTo>
                <a:lnTo>
                  <a:pt x="33" y="206"/>
                </a:lnTo>
                <a:lnTo>
                  <a:pt x="33" y="232"/>
                </a:lnTo>
                <a:lnTo>
                  <a:pt x="0" y="194"/>
                </a:lnTo>
                <a:lnTo>
                  <a:pt x="33" y="159"/>
                </a:lnTo>
                <a:lnTo>
                  <a:pt x="33" y="188"/>
                </a:lnTo>
                <a:lnTo>
                  <a:pt x="67" y="188"/>
                </a:lnTo>
                <a:lnTo>
                  <a:pt x="99" y="117"/>
                </a:lnTo>
                <a:lnTo>
                  <a:pt x="69" y="48"/>
                </a:lnTo>
                <a:lnTo>
                  <a:pt x="33" y="48"/>
                </a:lnTo>
                <a:lnTo>
                  <a:pt x="33" y="70"/>
                </a:lnTo>
                <a:lnTo>
                  <a:pt x="0" y="36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0840" y="2925720"/>
            <a:ext cx="357120" cy="368280"/>
          </a:xfrm>
          <a:custGeom>
            <a:avLst/>
            <a:gdLst/>
            <a:ahLst/>
            <a:rect l="l" t="t" r="r" b="b"/>
            <a:pathLst>
              <a:path w="225" h="232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1" y="93"/>
                </a:lnTo>
                <a:lnTo>
                  <a:pt x="140" y="28"/>
                </a:lnTo>
                <a:lnTo>
                  <a:pt x="191" y="28"/>
                </a:lnTo>
                <a:lnTo>
                  <a:pt x="191" y="0"/>
                </a:lnTo>
                <a:lnTo>
                  <a:pt x="225" y="36"/>
                </a:lnTo>
                <a:lnTo>
                  <a:pt x="191" y="72"/>
                </a:lnTo>
                <a:lnTo>
                  <a:pt x="191" y="48"/>
                </a:lnTo>
                <a:lnTo>
                  <a:pt x="157" y="48"/>
                </a:lnTo>
                <a:lnTo>
                  <a:pt x="122" y="117"/>
                </a:lnTo>
                <a:lnTo>
                  <a:pt x="157" y="188"/>
                </a:lnTo>
                <a:lnTo>
                  <a:pt x="191" y="188"/>
                </a:lnTo>
                <a:lnTo>
                  <a:pt x="191" y="159"/>
                </a:lnTo>
                <a:lnTo>
                  <a:pt x="225" y="198"/>
                </a:lnTo>
                <a:lnTo>
                  <a:pt x="191" y="232"/>
                </a:lnTo>
                <a:lnTo>
                  <a:pt x="191" y="206"/>
                </a:lnTo>
                <a:lnTo>
                  <a:pt x="140" y="206"/>
                </a:lnTo>
                <a:lnTo>
                  <a:pt x="111" y="143"/>
                </a:lnTo>
                <a:lnTo>
                  <a:pt x="84" y="206"/>
                </a:lnTo>
                <a:lnTo>
                  <a:pt x="33" y="206"/>
                </a:lnTo>
                <a:lnTo>
                  <a:pt x="33" y="232"/>
                </a:lnTo>
                <a:lnTo>
                  <a:pt x="0" y="194"/>
                </a:lnTo>
                <a:lnTo>
                  <a:pt x="33" y="159"/>
                </a:lnTo>
                <a:lnTo>
                  <a:pt x="33" y="188"/>
                </a:lnTo>
                <a:lnTo>
                  <a:pt x="67" y="188"/>
                </a:lnTo>
                <a:lnTo>
                  <a:pt x="99" y="117"/>
                </a:lnTo>
                <a:lnTo>
                  <a:pt x="69" y="48"/>
                </a:lnTo>
                <a:lnTo>
                  <a:pt x="33" y="48"/>
                </a:lnTo>
                <a:lnTo>
                  <a:pt x="33" y="70"/>
                </a:lnTo>
                <a:lnTo>
                  <a:pt x="0" y="36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34080" y="2932200"/>
            <a:ext cx="360360" cy="365040"/>
          </a:xfrm>
          <a:custGeom>
            <a:avLst/>
            <a:gdLst/>
            <a:ahLst/>
            <a:rect l="l" t="t" r="r" b="b"/>
            <a:pathLst>
              <a:path w="227" h="230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3" y="91"/>
                </a:lnTo>
                <a:lnTo>
                  <a:pt x="139" y="28"/>
                </a:lnTo>
                <a:lnTo>
                  <a:pt x="191" y="28"/>
                </a:lnTo>
                <a:lnTo>
                  <a:pt x="191" y="0"/>
                </a:lnTo>
                <a:lnTo>
                  <a:pt x="227" y="34"/>
                </a:lnTo>
                <a:lnTo>
                  <a:pt x="191" y="70"/>
                </a:lnTo>
                <a:lnTo>
                  <a:pt x="191" y="46"/>
                </a:lnTo>
                <a:lnTo>
                  <a:pt x="157" y="46"/>
                </a:lnTo>
                <a:lnTo>
                  <a:pt x="122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59"/>
                </a:lnTo>
                <a:lnTo>
                  <a:pt x="227" y="196"/>
                </a:lnTo>
                <a:lnTo>
                  <a:pt x="191" y="230"/>
                </a:lnTo>
                <a:lnTo>
                  <a:pt x="191" y="204"/>
                </a:lnTo>
                <a:lnTo>
                  <a:pt x="139" y="204"/>
                </a:lnTo>
                <a:lnTo>
                  <a:pt x="113" y="141"/>
                </a:lnTo>
                <a:lnTo>
                  <a:pt x="84" y="204"/>
                </a:lnTo>
                <a:lnTo>
                  <a:pt x="33" y="204"/>
                </a:lnTo>
                <a:lnTo>
                  <a:pt x="33" y="230"/>
                </a:lnTo>
                <a:lnTo>
                  <a:pt x="0" y="194"/>
                </a:lnTo>
                <a:lnTo>
                  <a:pt x="33" y="159"/>
                </a:lnTo>
                <a:lnTo>
                  <a:pt x="33" y="186"/>
                </a:lnTo>
                <a:lnTo>
                  <a:pt x="67" y="186"/>
                </a:lnTo>
                <a:lnTo>
                  <a:pt x="99" y="117"/>
                </a:lnTo>
                <a:lnTo>
                  <a:pt x="71" y="46"/>
                </a:lnTo>
                <a:lnTo>
                  <a:pt x="33" y="46"/>
                </a:lnTo>
                <a:lnTo>
                  <a:pt x="33" y="68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34080" y="2932200"/>
            <a:ext cx="360360" cy="365040"/>
          </a:xfrm>
          <a:custGeom>
            <a:avLst/>
            <a:gdLst/>
            <a:ahLst/>
            <a:rect l="l" t="t" r="r" b="b"/>
            <a:pathLst>
              <a:path w="227" h="230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3" y="91"/>
                </a:lnTo>
                <a:lnTo>
                  <a:pt x="139" y="28"/>
                </a:lnTo>
                <a:lnTo>
                  <a:pt x="191" y="28"/>
                </a:lnTo>
                <a:lnTo>
                  <a:pt x="191" y="0"/>
                </a:lnTo>
                <a:lnTo>
                  <a:pt x="227" y="34"/>
                </a:lnTo>
                <a:lnTo>
                  <a:pt x="191" y="70"/>
                </a:lnTo>
                <a:lnTo>
                  <a:pt x="191" y="46"/>
                </a:lnTo>
                <a:lnTo>
                  <a:pt x="157" y="46"/>
                </a:lnTo>
                <a:lnTo>
                  <a:pt x="122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59"/>
                </a:lnTo>
                <a:lnTo>
                  <a:pt x="227" y="196"/>
                </a:lnTo>
                <a:lnTo>
                  <a:pt x="191" y="230"/>
                </a:lnTo>
                <a:lnTo>
                  <a:pt x="191" y="204"/>
                </a:lnTo>
                <a:lnTo>
                  <a:pt x="139" y="204"/>
                </a:lnTo>
                <a:lnTo>
                  <a:pt x="113" y="141"/>
                </a:lnTo>
                <a:lnTo>
                  <a:pt x="84" y="204"/>
                </a:lnTo>
                <a:lnTo>
                  <a:pt x="33" y="204"/>
                </a:lnTo>
                <a:lnTo>
                  <a:pt x="33" y="230"/>
                </a:lnTo>
                <a:lnTo>
                  <a:pt x="0" y="194"/>
                </a:lnTo>
                <a:lnTo>
                  <a:pt x="33" y="159"/>
                </a:lnTo>
                <a:lnTo>
                  <a:pt x="33" y="186"/>
                </a:lnTo>
                <a:lnTo>
                  <a:pt x="67" y="186"/>
                </a:lnTo>
                <a:lnTo>
                  <a:pt x="99" y="117"/>
                </a:lnTo>
                <a:lnTo>
                  <a:pt x="71" y="46"/>
                </a:lnTo>
                <a:lnTo>
                  <a:pt x="33" y="46"/>
                </a:lnTo>
                <a:lnTo>
                  <a:pt x="33" y="68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3840" y="2844720"/>
            <a:ext cx="457200" cy="52560"/>
          </a:xfrm>
          <a:custGeom>
            <a:avLst/>
            <a:gdLst/>
            <a:ahLst/>
            <a:rect l="l" t="t" r="r" b="b"/>
            <a:pathLst>
              <a:path w="288" h="33">
                <a:moveTo>
                  <a:pt x="0" y="33"/>
                </a:moveTo>
                <a:lnTo>
                  <a:pt x="32" y="0"/>
                </a:lnTo>
                <a:lnTo>
                  <a:pt x="288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03840" y="2844720"/>
            <a:ext cx="457200" cy="52560"/>
          </a:xfrm>
          <a:custGeom>
            <a:avLst/>
            <a:gdLst/>
            <a:ahLst/>
            <a:rect l="l" t="t" r="r" b="b"/>
            <a:pathLst>
              <a:path w="288" h="33">
                <a:moveTo>
                  <a:pt x="0" y="33"/>
                </a:moveTo>
                <a:lnTo>
                  <a:pt x="32" y="0"/>
                </a:lnTo>
                <a:lnTo>
                  <a:pt x="288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b4ff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03840" y="2662200"/>
            <a:ext cx="406440" cy="2350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05280" y="2664000"/>
            <a:ext cx="403200" cy="231480"/>
          </a:xfrm>
          <a:prstGeom prst="rect">
            <a:avLst/>
          </a:prstGeom>
          <a:solidFill>
            <a:srgbClr val="cf0e30"/>
          </a:solidFill>
          <a:ln w="3240">
            <a:solidFill>
              <a:srgbClr val="fda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03840" y="2611440"/>
            <a:ext cx="457200" cy="50760"/>
          </a:xfrm>
          <a:custGeom>
            <a:avLst/>
            <a:gdLst/>
            <a:ahLst/>
            <a:rect l="l" t="t" r="r" b="b"/>
            <a:pathLst>
              <a:path w="288" h="32">
                <a:moveTo>
                  <a:pt x="0" y="32"/>
                </a:moveTo>
                <a:lnTo>
                  <a:pt x="32" y="0"/>
                </a:lnTo>
                <a:lnTo>
                  <a:pt x="288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e54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3840" y="2611440"/>
            <a:ext cx="457200" cy="50760"/>
          </a:xfrm>
          <a:custGeom>
            <a:avLst/>
            <a:gdLst/>
            <a:ahLst/>
            <a:rect l="l" t="t" r="r" b="b"/>
            <a:pathLst>
              <a:path w="288" h="32">
                <a:moveTo>
                  <a:pt x="0" y="32"/>
                </a:moveTo>
                <a:lnTo>
                  <a:pt x="32" y="0"/>
                </a:lnTo>
                <a:lnTo>
                  <a:pt x="288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e5405c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0280" y="2611440"/>
            <a:ext cx="50760" cy="285840"/>
          </a:xfrm>
          <a:custGeom>
            <a:avLst/>
            <a:gdLst/>
            <a:ahLst/>
            <a:rect l="l" t="t" r="r" b="b"/>
            <a:pathLst>
              <a:path w="32" h="180">
                <a:moveTo>
                  <a:pt x="0" y="32"/>
                </a:moveTo>
                <a:lnTo>
                  <a:pt x="32" y="0"/>
                </a:lnTo>
                <a:lnTo>
                  <a:pt x="32" y="147"/>
                </a:lnTo>
                <a:lnTo>
                  <a:pt x="0" y="180"/>
                </a:lnTo>
                <a:lnTo>
                  <a:pt x="0" y="32"/>
                </a:lnTo>
                <a:close/>
              </a:path>
            </a:pathLst>
          </a:cu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10280" y="2611440"/>
            <a:ext cx="50760" cy="285840"/>
          </a:xfrm>
          <a:custGeom>
            <a:avLst/>
            <a:gdLst/>
            <a:ahLst/>
            <a:rect l="l" t="t" r="r" b="b"/>
            <a:pathLst>
              <a:path w="32" h="180">
                <a:moveTo>
                  <a:pt x="0" y="32"/>
                </a:moveTo>
                <a:lnTo>
                  <a:pt x="32" y="0"/>
                </a:lnTo>
                <a:lnTo>
                  <a:pt x="32" y="147"/>
                </a:lnTo>
                <a:lnTo>
                  <a:pt x="0" y="180"/>
                </a:lnTo>
                <a:lnTo>
                  <a:pt x="0" y="32"/>
                </a:lnTo>
                <a:close/>
              </a:path>
            </a:pathLst>
          </a:custGeom>
          <a:solidFill>
            <a:srgbClr val="790015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10040" y="2732040"/>
            <a:ext cx="1875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54600" y="2712960"/>
            <a:ext cx="29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54600" y="2832120"/>
            <a:ext cx="29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32280" y="2692440"/>
            <a:ext cx="87480" cy="493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84640" y="2692440"/>
            <a:ext cx="84240" cy="493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32280" y="2811600"/>
            <a:ext cx="87480" cy="47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84640" y="2811600"/>
            <a:ext cx="84240" cy="47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906800" y="2733840"/>
            <a:ext cx="18432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16520" y="2736720"/>
            <a:ext cx="1839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61080" y="2716200"/>
            <a:ext cx="291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61080" y="2835360"/>
            <a:ext cx="291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35520" y="2695680"/>
            <a:ext cx="90360" cy="48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87880" y="2695680"/>
            <a:ext cx="84240" cy="48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35520" y="2814480"/>
            <a:ext cx="903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87880" y="2814480"/>
            <a:ext cx="8424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910040" y="2736720"/>
            <a:ext cx="18432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03840" y="4098960"/>
            <a:ext cx="406440" cy="430200"/>
          </a:xfrm>
          <a:prstGeom prst="rect">
            <a:avLst/>
          </a:prstGeom>
          <a:solidFill>
            <a:srgbClr val="009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05280" y="4100400"/>
            <a:ext cx="403200" cy="427320"/>
          </a:xfrm>
          <a:prstGeom prst="rect">
            <a:avLst/>
          </a:prstGeom>
          <a:solidFill>
            <a:srgbClr val="0096d5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10280" y="4048200"/>
            <a:ext cx="50760" cy="474480"/>
          </a:xfrm>
          <a:custGeom>
            <a:avLst/>
            <a:gdLst/>
            <a:ahLst/>
            <a:rect l="l" t="t" r="r" b="b"/>
            <a:pathLst>
              <a:path w="32" h="299">
                <a:moveTo>
                  <a:pt x="0" y="32"/>
                </a:moveTo>
                <a:lnTo>
                  <a:pt x="32" y="0"/>
                </a:lnTo>
                <a:lnTo>
                  <a:pt x="32" y="268"/>
                </a:lnTo>
                <a:lnTo>
                  <a:pt x="0" y="299"/>
                </a:lnTo>
                <a:lnTo>
                  <a:pt x="0" y="32"/>
                </a:lnTo>
                <a:close/>
              </a:path>
            </a:pathLst>
          </a:custGeom>
          <a:solidFill>
            <a:srgbClr val="005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10280" y="4048200"/>
            <a:ext cx="50760" cy="474480"/>
          </a:xfrm>
          <a:custGeom>
            <a:avLst/>
            <a:gdLst/>
            <a:ahLst/>
            <a:rect l="l" t="t" r="r" b="b"/>
            <a:pathLst>
              <a:path w="32" h="299">
                <a:moveTo>
                  <a:pt x="0" y="32"/>
                </a:moveTo>
                <a:lnTo>
                  <a:pt x="32" y="0"/>
                </a:lnTo>
                <a:lnTo>
                  <a:pt x="32" y="268"/>
                </a:lnTo>
                <a:lnTo>
                  <a:pt x="0" y="299"/>
                </a:lnTo>
                <a:lnTo>
                  <a:pt x="0" y="32"/>
                </a:lnTo>
                <a:close/>
              </a:path>
            </a:pathLst>
          </a:custGeom>
          <a:solidFill>
            <a:srgbClr val="005a80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30840" y="4127400"/>
            <a:ext cx="357120" cy="370080"/>
          </a:xfrm>
          <a:custGeom>
            <a:avLst/>
            <a:gdLst/>
            <a:ahLst/>
            <a:rect l="l" t="t" r="r" b="b"/>
            <a:pathLst>
              <a:path w="225" h="233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1" y="93"/>
                </a:lnTo>
                <a:lnTo>
                  <a:pt x="140" y="28"/>
                </a:lnTo>
                <a:lnTo>
                  <a:pt x="191" y="28"/>
                </a:lnTo>
                <a:lnTo>
                  <a:pt x="191" y="0"/>
                </a:lnTo>
                <a:lnTo>
                  <a:pt x="225" y="37"/>
                </a:lnTo>
                <a:lnTo>
                  <a:pt x="191" y="73"/>
                </a:lnTo>
                <a:lnTo>
                  <a:pt x="191" y="49"/>
                </a:lnTo>
                <a:lnTo>
                  <a:pt x="157" y="49"/>
                </a:lnTo>
                <a:lnTo>
                  <a:pt x="122" y="117"/>
                </a:lnTo>
                <a:lnTo>
                  <a:pt x="157" y="188"/>
                </a:lnTo>
                <a:lnTo>
                  <a:pt x="191" y="188"/>
                </a:lnTo>
                <a:lnTo>
                  <a:pt x="191" y="160"/>
                </a:lnTo>
                <a:lnTo>
                  <a:pt x="225" y="198"/>
                </a:lnTo>
                <a:lnTo>
                  <a:pt x="191" y="233"/>
                </a:lnTo>
                <a:lnTo>
                  <a:pt x="191" y="206"/>
                </a:lnTo>
                <a:lnTo>
                  <a:pt x="140" y="206"/>
                </a:lnTo>
                <a:lnTo>
                  <a:pt x="111" y="144"/>
                </a:lnTo>
                <a:lnTo>
                  <a:pt x="84" y="206"/>
                </a:lnTo>
                <a:lnTo>
                  <a:pt x="33" y="206"/>
                </a:lnTo>
                <a:lnTo>
                  <a:pt x="33" y="233"/>
                </a:lnTo>
                <a:lnTo>
                  <a:pt x="0" y="194"/>
                </a:lnTo>
                <a:lnTo>
                  <a:pt x="33" y="160"/>
                </a:lnTo>
                <a:lnTo>
                  <a:pt x="33" y="188"/>
                </a:lnTo>
                <a:lnTo>
                  <a:pt x="67" y="188"/>
                </a:lnTo>
                <a:lnTo>
                  <a:pt x="99" y="117"/>
                </a:lnTo>
                <a:lnTo>
                  <a:pt x="69" y="49"/>
                </a:lnTo>
                <a:lnTo>
                  <a:pt x="33" y="49"/>
                </a:lnTo>
                <a:lnTo>
                  <a:pt x="33" y="71"/>
                </a:lnTo>
                <a:lnTo>
                  <a:pt x="0" y="37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30840" y="4127400"/>
            <a:ext cx="357120" cy="370080"/>
          </a:xfrm>
          <a:custGeom>
            <a:avLst/>
            <a:gdLst/>
            <a:ahLst/>
            <a:rect l="l" t="t" r="r" b="b"/>
            <a:pathLst>
              <a:path w="225" h="233">
                <a:moveTo>
                  <a:pt x="33" y="0"/>
                </a:moveTo>
                <a:lnTo>
                  <a:pt x="33" y="28"/>
                </a:lnTo>
                <a:lnTo>
                  <a:pt x="84" y="28"/>
                </a:lnTo>
                <a:lnTo>
                  <a:pt x="111" y="93"/>
                </a:lnTo>
                <a:lnTo>
                  <a:pt x="140" y="28"/>
                </a:lnTo>
                <a:lnTo>
                  <a:pt x="191" y="28"/>
                </a:lnTo>
                <a:lnTo>
                  <a:pt x="191" y="0"/>
                </a:lnTo>
                <a:lnTo>
                  <a:pt x="225" y="37"/>
                </a:lnTo>
                <a:lnTo>
                  <a:pt x="191" y="73"/>
                </a:lnTo>
                <a:lnTo>
                  <a:pt x="191" y="49"/>
                </a:lnTo>
                <a:lnTo>
                  <a:pt x="157" y="49"/>
                </a:lnTo>
                <a:lnTo>
                  <a:pt x="122" y="117"/>
                </a:lnTo>
                <a:lnTo>
                  <a:pt x="157" y="188"/>
                </a:lnTo>
                <a:lnTo>
                  <a:pt x="191" y="188"/>
                </a:lnTo>
                <a:lnTo>
                  <a:pt x="191" y="160"/>
                </a:lnTo>
                <a:lnTo>
                  <a:pt x="225" y="198"/>
                </a:lnTo>
                <a:lnTo>
                  <a:pt x="191" y="233"/>
                </a:lnTo>
                <a:lnTo>
                  <a:pt x="191" y="206"/>
                </a:lnTo>
                <a:lnTo>
                  <a:pt x="140" y="206"/>
                </a:lnTo>
                <a:lnTo>
                  <a:pt x="111" y="144"/>
                </a:lnTo>
                <a:lnTo>
                  <a:pt x="84" y="206"/>
                </a:lnTo>
                <a:lnTo>
                  <a:pt x="33" y="206"/>
                </a:lnTo>
                <a:lnTo>
                  <a:pt x="33" y="233"/>
                </a:lnTo>
                <a:lnTo>
                  <a:pt x="0" y="194"/>
                </a:lnTo>
                <a:lnTo>
                  <a:pt x="33" y="160"/>
                </a:lnTo>
                <a:lnTo>
                  <a:pt x="33" y="188"/>
                </a:lnTo>
                <a:lnTo>
                  <a:pt x="67" y="188"/>
                </a:lnTo>
                <a:lnTo>
                  <a:pt x="99" y="117"/>
                </a:lnTo>
                <a:lnTo>
                  <a:pt x="69" y="49"/>
                </a:lnTo>
                <a:lnTo>
                  <a:pt x="33" y="49"/>
                </a:lnTo>
                <a:lnTo>
                  <a:pt x="33" y="71"/>
                </a:lnTo>
                <a:lnTo>
                  <a:pt x="0" y="37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34080" y="4133880"/>
            <a:ext cx="360360" cy="366840"/>
          </a:xfrm>
          <a:custGeom>
            <a:avLst/>
            <a:gdLst/>
            <a:ahLst/>
            <a:rect l="l" t="t" r="r" b="b"/>
            <a:pathLst>
              <a:path w="227" h="231">
                <a:moveTo>
                  <a:pt x="33" y="0"/>
                </a:moveTo>
                <a:lnTo>
                  <a:pt x="33" y="29"/>
                </a:lnTo>
                <a:lnTo>
                  <a:pt x="84" y="29"/>
                </a:lnTo>
                <a:lnTo>
                  <a:pt x="113" y="91"/>
                </a:lnTo>
                <a:lnTo>
                  <a:pt x="139" y="29"/>
                </a:lnTo>
                <a:lnTo>
                  <a:pt x="191" y="29"/>
                </a:lnTo>
                <a:lnTo>
                  <a:pt x="191" y="0"/>
                </a:lnTo>
                <a:lnTo>
                  <a:pt x="227" y="35"/>
                </a:lnTo>
                <a:lnTo>
                  <a:pt x="191" y="71"/>
                </a:lnTo>
                <a:lnTo>
                  <a:pt x="191" y="47"/>
                </a:lnTo>
                <a:lnTo>
                  <a:pt x="157" y="47"/>
                </a:lnTo>
                <a:lnTo>
                  <a:pt x="122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60"/>
                </a:lnTo>
                <a:lnTo>
                  <a:pt x="227" y="196"/>
                </a:lnTo>
                <a:lnTo>
                  <a:pt x="191" y="231"/>
                </a:lnTo>
                <a:lnTo>
                  <a:pt x="191" y="204"/>
                </a:lnTo>
                <a:lnTo>
                  <a:pt x="139" y="204"/>
                </a:lnTo>
                <a:lnTo>
                  <a:pt x="113" y="142"/>
                </a:lnTo>
                <a:lnTo>
                  <a:pt x="84" y="204"/>
                </a:lnTo>
                <a:lnTo>
                  <a:pt x="33" y="204"/>
                </a:lnTo>
                <a:lnTo>
                  <a:pt x="33" y="231"/>
                </a:lnTo>
                <a:lnTo>
                  <a:pt x="0" y="194"/>
                </a:lnTo>
                <a:lnTo>
                  <a:pt x="33" y="160"/>
                </a:lnTo>
                <a:lnTo>
                  <a:pt x="33" y="186"/>
                </a:lnTo>
                <a:lnTo>
                  <a:pt x="67" y="186"/>
                </a:lnTo>
                <a:lnTo>
                  <a:pt x="99" y="117"/>
                </a:lnTo>
                <a:lnTo>
                  <a:pt x="71" y="47"/>
                </a:lnTo>
                <a:lnTo>
                  <a:pt x="33" y="47"/>
                </a:lnTo>
                <a:lnTo>
                  <a:pt x="33" y="69"/>
                </a:lnTo>
                <a:lnTo>
                  <a:pt x="0" y="35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34080" y="4133880"/>
            <a:ext cx="360360" cy="366840"/>
          </a:xfrm>
          <a:custGeom>
            <a:avLst/>
            <a:gdLst/>
            <a:ahLst/>
            <a:rect l="l" t="t" r="r" b="b"/>
            <a:pathLst>
              <a:path w="227" h="231">
                <a:moveTo>
                  <a:pt x="33" y="0"/>
                </a:moveTo>
                <a:lnTo>
                  <a:pt x="33" y="29"/>
                </a:lnTo>
                <a:lnTo>
                  <a:pt x="84" y="29"/>
                </a:lnTo>
                <a:lnTo>
                  <a:pt x="113" y="91"/>
                </a:lnTo>
                <a:lnTo>
                  <a:pt x="139" y="29"/>
                </a:lnTo>
                <a:lnTo>
                  <a:pt x="191" y="29"/>
                </a:lnTo>
                <a:lnTo>
                  <a:pt x="191" y="0"/>
                </a:lnTo>
                <a:lnTo>
                  <a:pt x="227" y="35"/>
                </a:lnTo>
                <a:lnTo>
                  <a:pt x="191" y="71"/>
                </a:lnTo>
                <a:lnTo>
                  <a:pt x="191" y="47"/>
                </a:lnTo>
                <a:lnTo>
                  <a:pt x="157" y="47"/>
                </a:lnTo>
                <a:lnTo>
                  <a:pt x="122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60"/>
                </a:lnTo>
                <a:lnTo>
                  <a:pt x="227" y="196"/>
                </a:lnTo>
                <a:lnTo>
                  <a:pt x="191" y="231"/>
                </a:lnTo>
                <a:lnTo>
                  <a:pt x="191" y="204"/>
                </a:lnTo>
                <a:lnTo>
                  <a:pt x="139" y="204"/>
                </a:lnTo>
                <a:lnTo>
                  <a:pt x="113" y="142"/>
                </a:lnTo>
                <a:lnTo>
                  <a:pt x="84" y="204"/>
                </a:lnTo>
                <a:lnTo>
                  <a:pt x="33" y="204"/>
                </a:lnTo>
                <a:lnTo>
                  <a:pt x="33" y="231"/>
                </a:lnTo>
                <a:lnTo>
                  <a:pt x="0" y="194"/>
                </a:lnTo>
                <a:lnTo>
                  <a:pt x="33" y="160"/>
                </a:lnTo>
                <a:lnTo>
                  <a:pt x="33" y="186"/>
                </a:lnTo>
                <a:lnTo>
                  <a:pt x="67" y="186"/>
                </a:lnTo>
                <a:lnTo>
                  <a:pt x="99" y="117"/>
                </a:lnTo>
                <a:lnTo>
                  <a:pt x="71" y="47"/>
                </a:lnTo>
                <a:lnTo>
                  <a:pt x="33" y="47"/>
                </a:lnTo>
                <a:lnTo>
                  <a:pt x="33" y="69"/>
                </a:lnTo>
                <a:lnTo>
                  <a:pt x="0" y="35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03840" y="4048200"/>
            <a:ext cx="457200" cy="50760"/>
          </a:xfrm>
          <a:custGeom>
            <a:avLst/>
            <a:gdLst/>
            <a:ahLst/>
            <a:rect l="l" t="t" r="r" b="b"/>
            <a:pathLst>
              <a:path w="288" h="32">
                <a:moveTo>
                  <a:pt x="0" y="32"/>
                </a:moveTo>
                <a:lnTo>
                  <a:pt x="32" y="0"/>
                </a:lnTo>
                <a:lnTo>
                  <a:pt x="288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03840" y="4048200"/>
            <a:ext cx="457200" cy="50760"/>
          </a:xfrm>
          <a:custGeom>
            <a:avLst/>
            <a:gdLst/>
            <a:ahLst/>
            <a:rect l="l" t="t" r="r" b="b"/>
            <a:pathLst>
              <a:path w="288" h="32">
                <a:moveTo>
                  <a:pt x="0" y="32"/>
                </a:moveTo>
                <a:lnTo>
                  <a:pt x="32" y="0"/>
                </a:lnTo>
                <a:lnTo>
                  <a:pt x="288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b4ff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03840" y="3865680"/>
            <a:ext cx="406440" cy="2332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5280" y="3867120"/>
            <a:ext cx="403200" cy="230040"/>
          </a:xfrm>
          <a:prstGeom prst="rect">
            <a:avLst/>
          </a:prstGeom>
          <a:solidFill>
            <a:srgbClr val="cf0e30"/>
          </a:solidFill>
          <a:ln w="3240">
            <a:solidFill>
              <a:srgbClr val="fda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03840" y="3813120"/>
            <a:ext cx="457200" cy="52560"/>
          </a:xfrm>
          <a:custGeom>
            <a:avLst/>
            <a:gdLst/>
            <a:ahLst/>
            <a:rect l="l" t="t" r="r" b="b"/>
            <a:pathLst>
              <a:path w="288" h="33">
                <a:moveTo>
                  <a:pt x="0" y="33"/>
                </a:moveTo>
                <a:lnTo>
                  <a:pt x="32" y="0"/>
                </a:lnTo>
                <a:lnTo>
                  <a:pt x="288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e54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3840" y="3813120"/>
            <a:ext cx="457200" cy="52560"/>
          </a:xfrm>
          <a:custGeom>
            <a:avLst/>
            <a:gdLst/>
            <a:ahLst/>
            <a:rect l="l" t="t" r="r" b="b"/>
            <a:pathLst>
              <a:path w="288" h="33">
                <a:moveTo>
                  <a:pt x="0" y="33"/>
                </a:moveTo>
                <a:lnTo>
                  <a:pt x="32" y="0"/>
                </a:lnTo>
                <a:lnTo>
                  <a:pt x="288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e5405c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10280" y="3813120"/>
            <a:ext cx="50760" cy="285840"/>
          </a:xfrm>
          <a:custGeom>
            <a:avLst/>
            <a:gdLst/>
            <a:ahLst/>
            <a:rect l="l" t="t" r="r" b="b"/>
            <a:pathLst>
              <a:path w="32" h="180">
                <a:moveTo>
                  <a:pt x="0" y="33"/>
                </a:moveTo>
                <a:lnTo>
                  <a:pt x="32" y="0"/>
                </a:lnTo>
                <a:lnTo>
                  <a:pt x="32" y="148"/>
                </a:lnTo>
                <a:lnTo>
                  <a:pt x="0" y="180"/>
                </a:lnTo>
                <a:lnTo>
                  <a:pt x="0" y="33"/>
                </a:lnTo>
                <a:close/>
              </a:path>
            </a:pathLst>
          </a:cu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10280" y="3813120"/>
            <a:ext cx="50760" cy="285840"/>
          </a:xfrm>
          <a:custGeom>
            <a:avLst/>
            <a:gdLst/>
            <a:ahLst/>
            <a:rect l="l" t="t" r="r" b="b"/>
            <a:pathLst>
              <a:path w="32" h="180">
                <a:moveTo>
                  <a:pt x="0" y="33"/>
                </a:moveTo>
                <a:lnTo>
                  <a:pt x="32" y="0"/>
                </a:lnTo>
                <a:lnTo>
                  <a:pt x="32" y="148"/>
                </a:lnTo>
                <a:lnTo>
                  <a:pt x="0" y="180"/>
                </a:lnTo>
                <a:lnTo>
                  <a:pt x="0" y="33"/>
                </a:lnTo>
                <a:close/>
              </a:path>
            </a:pathLst>
          </a:custGeom>
          <a:solidFill>
            <a:srgbClr val="790015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10040" y="3935520"/>
            <a:ext cx="1875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54600" y="3916440"/>
            <a:ext cx="29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54600" y="4035600"/>
            <a:ext cx="29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32280" y="3895560"/>
            <a:ext cx="87480" cy="47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84640" y="3895560"/>
            <a:ext cx="84240" cy="47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32280" y="4013280"/>
            <a:ext cx="87480" cy="489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84640" y="4013280"/>
            <a:ext cx="84240" cy="489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06800" y="3936960"/>
            <a:ext cx="1843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16520" y="3940200"/>
            <a:ext cx="1839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1080" y="3919680"/>
            <a:ext cx="291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61080" y="4038480"/>
            <a:ext cx="291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35520" y="3898800"/>
            <a:ext cx="903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87880" y="3898800"/>
            <a:ext cx="8424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5520" y="4017960"/>
            <a:ext cx="90360" cy="475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87880" y="4017960"/>
            <a:ext cx="84240" cy="475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909680" y="3938760"/>
            <a:ext cx="187560" cy="8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94120" y="4098960"/>
            <a:ext cx="406440" cy="430200"/>
          </a:xfrm>
          <a:prstGeom prst="rect">
            <a:avLst/>
          </a:prstGeom>
          <a:solidFill>
            <a:srgbClr val="009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95560" y="4100400"/>
            <a:ext cx="403560" cy="427320"/>
          </a:xfrm>
          <a:prstGeom prst="rect">
            <a:avLst/>
          </a:prstGeom>
          <a:solidFill>
            <a:srgbClr val="0096d5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300560" y="4048200"/>
            <a:ext cx="52200" cy="474480"/>
          </a:xfrm>
          <a:custGeom>
            <a:avLst/>
            <a:gdLst/>
            <a:ahLst/>
            <a:rect l="l" t="t" r="r" b="b"/>
            <a:pathLst>
              <a:path w="33" h="299">
                <a:moveTo>
                  <a:pt x="0" y="32"/>
                </a:moveTo>
                <a:lnTo>
                  <a:pt x="33" y="0"/>
                </a:lnTo>
                <a:lnTo>
                  <a:pt x="33" y="268"/>
                </a:lnTo>
                <a:lnTo>
                  <a:pt x="0" y="299"/>
                </a:lnTo>
                <a:lnTo>
                  <a:pt x="0" y="32"/>
                </a:lnTo>
                <a:close/>
              </a:path>
            </a:pathLst>
          </a:custGeom>
          <a:solidFill>
            <a:srgbClr val="005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00560" y="4048200"/>
            <a:ext cx="52200" cy="474480"/>
          </a:xfrm>
          <a:custGeom>
            <a:avLst/>
            <a:gdLst/>
            <a:ahLst/>
            <a:rect l="l" t="t" r="r" b="b"/>
            <a:pathLst>
              <a:path w="33" h="299">
                <a:moveTo>
                  <a:pt x="0" y="32"/>
                </a:moveTo>
                <a:lnTo>
                  <a:pt x="33" y="0"/>
                </a:lnTo>
                <a:lnTo>
                  <a:pt x="33" y="268"/>
                </a:lnTo>
                <a:lnTo>
                  <a:pt x="0" y="299"/>
                </a:lnTo>
                <a:lnTo>
                  <a:pt x="0" y="32"/>
                </a:lnTo>
                <a:close/>
              </a:path>
            </a:pathLst>
          </a:custGeom>
          <a:solidFill>
            <a:srgbClr val="005a80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22560" y="4127400"/>
            <a:ext cx="357480" cy="370080"/>
          </a:xfrm>
          <a:custGeom>
            <a:avLst/>
            <a:gdLst/>
            <a:ahLst/>
            <a:rect l="l" t="t" r="r" b="b"/>
            <a:pathLst>
              <a:path w="225" h="233">
                <a:moveTo>
                  <a:pt x="32" y="0"/>
                </a:moveTo>
                <a:lnTo>
                  <a:pt x="32" y="28"/>
                </a:lnTo>
                <a:lnTo>
                  <a:pt x="84" y="28"/>
                </a:lnTo>
                <a:lnTo>
                  <a:pt x="110" y="93"/>
                </a:lnTo>
                <a:lnTo>
                  <a:pt x="139" y="28"/>
                </a:lnTo>
                <a:lnTo>
                  <a:pt x="190" y="28"/>
                </a:lnTo>
                <a:lnTo>
                  <a:pt x="190" y="0"/>
                </a:lnTo>
                <a:lnTo>
                  <a:pt x="225" y="37"/>
                </a:lnTo>
                <a:lnTo>
                  <a:pt x="190" y="73"/>
                </a:lnTo>
                <a:lnTo>
                  <a:pt x="190" y="49"/>
                </a:lnTo>
                <a:lnTo>
                  <a:pt x="156" y="49"/>
                </a:lnTo>
                <a:lnTo>
                  <a:pt x="122" y="117"/>
                </a:lnTo>
                <a:lnTo>
                  <a:pt x="156" y="188"/>
                </a:lnTo>
                <a:lnTo>
                  <a:pt x="190" y="188"/>
                </a:lnTo>
                <a:lnTo>
                  <a:pt x="190" y="160"/>
                </a:lnTo>
                <a:lnTo>
                  <a:pt x="225" y="198"/>
                </a:lnTo>
                <a:lnTo>
                  <a:pt x="190" y="233"/>
                </a:lnTo>
                <a:lnTo>
                  <a:pt x="190" y="206"/>
                </a:lnTo>
                <a:lnTo>
                  <a:pt x="139" y="206"/>
                </a:lnTo>
                <a:lnTo>
                  <a:pt x="110" y="144"/>
                </a:lnTo>
                <a:lnTo>
                  <a:pt x="84" y="206"/>
                </a:lnTo>
                <a:lnTo>
                  <a:pt x="32" y="206"/>
                </a:lnTo>
                <a:lnTo>
                  <a:pt x="32" y="233"/>
                </a:lnTo>
                <a:lnTo>
                  <a:pt x="0" y="194"/>
                </a:lnTo>
                <a:lnTo>
                  <a:pt x="32" y="160"/>
                </a:lnTo>
                <a:lnTo>
                  <a:pt x="32" y="188"/>
                </a:lnTo>
                <a:lnTo>
                  <a:pt x="66" y="188"/>
                </a:lnTo>
                <a:lnTo>
                  <a:pt x="99" y="117"/>
                </a:lnTo>
                <a:lnTo>
                  <a:pt x="68" y="49"/>
                </a:lnTo>
                <a:lnTo>
                  <a:pt x="32" y="49"/>
                </a:lnTo>
                <a:lnTo>
                  <a:pt x="32" y="71"/>
                </a:lnTo>
                <a:lnTo>
                  <a:pt x="0" y="37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22560" y="4127400"/>
            <a:ext cx="357480" cy="370080"/>
          </a:xfrm>
          <a:custGeom>
            <a:avLst/>
            <a:gdLst/>
            <a:ahLst/>
            <a:rect l="l" t="t" r="r" b="b"/>
            <a:pathLst>
              <a:path w="225" h="233">
                <a:moveTo>
                  <a:pt x="32" y="0"/>
                </a:moveTo>
                <a:lnTo>
                  <a:pt x="32" y="28"/>
                </a:lnTo>
                <a:lnTo>
                  <a:pt x="84" y="28"/>
                </a:lnTo>
                <a:lnTo>
                  <a:pt x="110" y="93"/>
                </a:lnTo>
                <a:lnTo>
                  <a:pt x="139" y="28"/>
                </a:lnTo>
                <a:lnTo>
                  <a:pt x="190" y="28"/>
                </a:lnTo>
                <a:lnTo>
                  <a:pt x="190" y="0"/>
                </a:lnTo>
                <a:lnTo>
                  <a:pt x="225" y="37"/>
                </a:lnTo>
                <a:lnTo>
                  <a:pt x="190" y="73"/>
                </a:lnTo>
                <a:lnTo>
                  <a:pt x="190" y="49"/>
                </a:lnTo>
                <a:lnTo>
                  <a:pt x="156" y="49"/>
                </a:lnTo>
                <a:lnTo>
                  <a:pt x="122" y="117"/>
                </a:lnTo>
                <a:lnTo>
                  <a:pt x="156" y="188"/>
                </a:lnTo>
                <a:lnTo>
                  <a:pt x="190" y="188"/>
                </a:lnTo>
                <a:lnTo>
                  <a:pt x="190" y="160"/>
                </a:lnTo>
                <a:lnTo>
                  <a:pt x="225" y="198"/>
                </a:lnTo>
                <a:lnTo>
                  <a:pt x="190" y="233"/>
                </a:lnTo>
                <a:lnTo>
                  <a:pt x="190" y="206"/>
                </a:lnTo>
                <a:lnTo>
                  <a:pt x="139" y="206"/>
                </a:lnTo>
                <a:lnTo>
                  <a:pt x="110" y="144"/>
                </a:lnTo>
                <a:lnTo>
                  <a:pt x="84" y="206"/>
                </a:lnTo>
                <a:lnTo>
                  <a:pt x="32" y="206"/>
                </a:lnTo>
                <a:lnTo>
                  <a:pt x="32" y="233"/>
                </a:lnTo>
                <a:lnTo>
                  <a:pt x="0" y="194"/>
                </a:lnTo>
                <a:lnTo>
                  <a:pt x="32" y="160"/>
                </a:lnTo>
                <a:lnTo>
                  <a:pt x="32" y="188"/>
                </a:lnTo>
                <a:lnTo>
                  <a:pt x="66" y="188"/>
                </a:lnTo>
                <a:lnTo>
                  <a:pt x="99" y="117"/>
                </a:lnTo>
                <a:lnTo>
                  <a:pt x="68" y="49"/>
                </a:lnTo>
                <a:lnTo>
                  <a:pt x="32" y="49"/>
                </a:lnTo>
                <a:lnTo>
                  <a:pt x="32" y="71"/>
                </a:lnTo>
                <a:lnTo>
                  <a:pt x="0" y="37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24360" y="4133880"/>
            <a:ext cx="361800" cy="366840"/>
          </a:xfrm>
          <a:custGeom>
            <a:avLst/>
            <a:gdLst/>
            <a:ahLst/>
            <a:rect l="l" t="t" r="r" b="b"/>
            <a:pathLst>
              <a:path w="228" h="231">
                <a:moveTo>
                  <a:pt x="33" y="0"/>
                </a:moveTo>
                <a:lnTo>
                  <a:pt x="33" y="29"/>
                </a:lnTo>
                <a:lnTo>
                  <a:pt x="84" y="29"/>
                </a:lnTo>
                <a:lnTo>
                  <a:pt x="113" y="91"/>
                </a:lnTo>
                <a:lnTo>
                  <a:pt x="140" y="29"/>
                </a:lnTo>
                <a:lnTo>
                  <a:pt x="191" y="29"/>
                </a:lnTo>
                <a:lnTo>
                  <a:pt x="191" y="0"/>
                </a:lnTo>
                <a:lnTo>
                  <a:pt x="228" y="35"/>
                </a:lnTo>
                <a:lnTo>
                  <a:pt x="191" y="71"/>
                </a:lnTo>
                <a:lnTo>
                  <a:pt x="191" y="47"/>
                </a:lnTo>
                <a:lnTo>
                  <a:pt x="157" y="47"/>
                </a:lnTo>
                <a:lnTo>
                  <a:pt x="123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60"/>
                </a:lnTo>
                <a:lnTo>
                  <a:pt x="228" y="196"/>
                </a:lnTo>
                <a:lnTo>
                  <a:pt x="191" y="231"/>
                </a:lnTo>
                <a:lnTo>
                  <a:pt x="191" y="204"/>
                </a:lnTo>
                <a:lnTo>
                  <a:pt x="140" y="204"/>
                </a:lnTo>
                <a:lnTo>
                  <a:pt x="113" y="142"/>
                </a:lnTo>
                <a:lnTo>
                  <a:pt x="84" y="204"/>
                </a:lnTo>
                <a:lnTo>
                  <a:pt x="33" y="204"/>
                </a:lnTo>
                <a:lnTo>
                  <a:pt x="33" y="231"/>
                </a:lnTo>
                <a:lnTo>
                  <a:pt x="0" y="194"/>
                </a:lnTo>
                <a:lnTo>
                  <a:pt x="33" y="160"/>
                </a:lnTo>
                <a:lnTo>
                  <a:pt x="33" y="186"/>
                </a:lnTo>
                <a:lnTo>
                  <a:pt x="67" y="186"/>
                </a:lnTo>
                <a:lnTo>
                  <a:pt x="100" y="117"/>
                </a:lnTo>
                <a:lnTo>
                  <a:pt x="71" y="47"/>
                </a:lnTo>
                <a:lnTo>
                  <a:pt x="33" y="47"/>
                </a:lnTo>
                <a:lnTo>
                  <a:pt x="33" y="69"/>
                </a:lnTo>
                <a:lnTo>
                  <a:pt x="0" y="35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24360" y="4133880"/>
            <a:ext cx="361800" cy="366840"/>
          </a:xfrm>
          <a:custGeom>
            <a:avLst/>
            <a:gdLst/>
            <a:ahLst/>
            <a:rect l="l" t="t" r="r" b="b"/>
            <a:pathLst>
              <a:path w="228" h="231">
                <a:moveTo>
                  <a:pt x="33" y="0"/>
                </a:moveTo>
                <a:lnTo>
                  <a:pt x="33" y="29"/>
                </a:lnTo>
                <a:lnTo>
                  <a:pt x="84" y="29"/>
                </a:lnTo>
                <a:lnTo>
                  <a:pt x="113" y="91"/>
                </a:lnTo>
                <a:lnTo>
                  <a:pt x="140" y="29"/>
                </a:lnTo>
                <a:lnTo>
                  <a:pt x="191" y="29"/>
                </a:lnTo>
                <a:lnTo>
                  <a:pt x="191" y="0"/>
                </a:lnTo>
                <a:lnTo>
                  <a:pt x="228" y="35"/>
                </a:lnTo>
                <a:lnTo>
                  <a:pt x="191" y="71"/>
                </a:lnTo>
                <a:lnTo>
                  <a:pt x="191" y="47"/>
                </a:lnTo>
                <a:lnTo>
                  <a:pt x="157" y="47"/>
                </a:lnTo>
                <a:lnTo>
                  <a:pt x="123" y="117"/>
                </a:lnTo>
                <a:lnTo>
                  <a:pt x="157" y="186"/>
                </a:lnTo>
                <a:lnTo>
                  <a:pt x="191" y="186"/>
                </a:lnTo>
                <a:lnTo>
                  <a:pt x="191" y="160"/>
                </a:lnTo>
                <a:lnTo>
                  <a:pt x="228" y="196"/>
                </a:lnTo>
                <a:lnTo>
                  <a:pt x="191" y="231"/>
                </a:lnTo>
                <a:lnTo>
                  <a:pt x="191" y="204"/>
                </a:lnTo>
                <a:lnTo>
                  <a:pt x="140" y="204"/>
                </a:lnTo>
                <a:lnTo>
                  <a:pt x="113" y="142"/>
                </a:lnTo>
                <a:lnTo>
                  <a:pt x="84" y="204"/>
                </a:lnTo>
                <a:lnTo>
                  <a:pt x="33" y="204"/>
                </a:lnTo>
                <a:lnTo>
                  <a:pt x="33" y="231"/>
                </a:lnTo>
                <a:lnTo>
                  <a:pt x="0" y="194"/>
                </a:lnTo>
                <a:lnTo>
                  <a:pt x="33" y="160"/>
                </a:lnTo>
                <a:lnTo>
                  <a:pt x="33" y="186"/>
                </a:lnTo>
                <a:lnTo>
                  <a:pt x="67" y="186"/>
                </a:lnTo>
                <a:lnTo>
                  <a:pt x="100" y="117"/>
                </a:lnTo>
                <a:lnTo>
                  <a:pt x="71" y="47"/>
                </a:lnTo>
                <a:lnTo>
                  <a:pt x="33" y="47"/>
                </a:lnTo>
                <a:lnTo>
                  <a:pt x="33" y="69"/>
                </a:lnTo>
                <a:lnTo>
                  <a:pt x="0" y="35"/>
                </a:lnTo>
                <a:lnTo>
                  <a:pt x="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94120" y="4048200"/>
            <a:ext cx="458640" cy="50760"/>
          </a:xfrm>
          <a:custGeom>
            <a:avLst/>
            <a:gdLst/>
            <a:ahLst/>
            <a:rect l="l" t="t" r="r" b="b"/>
            <a:pathLst>
              <a:path w="289" h="32">
                <a:moveTo>
                  <a:pt x="0" y="32"/>
                </a:moveTo>
                <a:lnTo>
                  <a:pt x="33" y="0"/>
                </a:lnTo>
                <a:lnTo>
                  <a:pt x="289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94120" y="4048200"/>
            <a:ext cx="458640" cy="50760"/>
          </a:xfrm>
          <a:custGeom>
            <a:avLst/>
            <a:gdLst/>
            <a:ahLst/>
            <a:rect l="l" t="t" r="r" b="b"/>
            <a:pathLst>
              <a:path w="289" h="32">
                <a:moveTo>
                  <a:pt x="0" y="32"/>
                </a:moveTo>
                <a:lnTo>
                  <a:pt x="33" y="0"/>
                </a:lnTo>
                <a:lnTo>
                  <a:pt x="289" y="0"/>
                </a:lnTo>
                <a:lnTo>
                  <a:pt x="256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b4ff"/>
          </a:solidFill>
          <a:ln w="3240">
            <a:solidFill>
              <a:srgbClr val="aa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94120" y="3865680"/>
            <a:ext cx="406440" cy="2332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95560" y="3867120"/>
            <a:ext cx="403560" cy="230040"/>
          </a:xfrm>
          <a:prstGeom prst="rect">
            <a:avLst/>
          </a:prstGeom>
          <a:solidFill>
            <a:srgbClr val="cf0e30"/>
          </a:solidFill>
          <a:ln w="3240">
            <a:solidFill>
              <a:srgbClr val="fda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94120" y="3813120"/>
            <a:ext cx="458640" cy="52560"/>
          </a:xfrm>
          <a:custGeom>
            <a:avLst/>
            <a:gdLst/>
            <a:ahLst/>
            <a:rect l="l" t="t" r="r" b="b"/>
            <a:pathLst>
              <a:path w="289" h="33">
                <a:moveTo>
                  <a:pt x="0" y="33"/>
                </a:moveTo>
                <a:lnTo>
                  <a:pt x="33" y="0"/>
                </a:lnTo>
                <a:lnTo>
                  <a:pt x="289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e54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94120" y="3813120"/>
            <a:ext cx="458640" cy="52560"/>
          </a:xfrm>
          <a:custGeom>
            <a:avLst/>
            <a:gdLst/>
            <a:ahLst/>
            <a:rect l="l" t="t" r="r" b="b"/>
            <a:pathLst>
              <a:path w="289" h="33">
                <a:moveTo>
                  <a:pt x="0" y="33"/>
                </a:moveTo>
                <a:lnTo>
                  <a:pt x="33" y="0"/>
                </a:lnTo>
                <a:lnTo>
                  <a:pt x="289" y="0"/>
                </a:lnTo>
                <a:lnTo>
                  <a:pt x="256" y="33"/>
                </a:lnTo>
                <a:lnTo>
                  <a:pt x="0" y="33"/>
                </a:lnTo>
                <a:close/>
              </a:path>
            </a:pathLst>
          </a:custGeom>
          <a:solidFill>
            <a:srgbClr val="e5405c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00560" y="3813120"/>
            <a:ext cx="52200" cy="285840"/>
          </a:xfrm>
          <a:custGeom>
            <a:avLst/>
            <a:gdLst/>
            <a:ahLst/>
            <a:rect l="l" t="t" r="r" b="b"/>
            <a:pathLst>
              <a:path w="33" h="180">
                <a:moveTo>
                  <a:pt x="0" y="33"/>
                </a:moveTo>
                <a:lnTo>
                  <a:pt x="33" y="0"/>
                </a:lnTo>
                <a:lnTo>
                  <a:pt x="33" y="148"/>
                </a:lnTo>
                <a:lnTo>
                  <a:pt x="0" y="180"/>
                </a:lnTo>
                <a:lnTo>
                  <a:pt x="0" y="33"/>
                </a:lnTo>
                <a:close/>
              </a:path>
            </a:pathLst>
          </a:cu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00560" y="3813120"/>
            <a:ext cx="52200" cy="285840"/>
          </a:xfrm>
          <a:custGeom>
            <a:avLst/>
            <a:gdLst/>
            <a:ahLst/>
            <a:rect l="l" t="t" r="r" b="b"/>
            <a:pathLst>
              <a:path w="33" h="180">
                <a:moveTo>
                  <a:pt x="0" y="33"/>
                </a:moveTo>
                <a:lnTo>
                  <a:pt x="33" y="0"/>
                </a:lnTo>
                <a:lnTo>
                  <a:pt x="33" y="148"/>
                </a:lnTo>
                <a:lnTo>
                  <a:pt x="0" y="180"/>
                </a:lnTo>
                <a:lnTo>
                  <a:pt x="0" y="33"/>
                </a:lnTo>
                <a:close/>
              </a:path>
            </a:pathLst>
          </a:custGeom>
          <a:solidFill>
            <a:srgbClr val="790015"/>
          </a:solidFill>
          <a:ln w="324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00680" y="3935520"/>
            <a:ext cx="1886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46680" y="3916440"/>
            <a:ext cx="293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6680" y="4035600"/>
            <a:ext cx="293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24360" y="3895560"/>
            <a:ext cx="87120" cy="47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75280" y="3895560"/>
            <a:ext cx="83880" cy="47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24360" y="4013280"/>
            <a:ext cx="87120" cy="489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75280" y="4013280"/>
            <a:ext cx="83880" cy="489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997440" y="3935520"/>
            <a:ext cx="1857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06800" y="3940200"/>
            <a:ext cx="18432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52800" y="3919680"/>
            <a:ext cx="29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52800" y="4038480"/>
            <a:ext cx="290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25800" y="3898800"/>
            <a:ext cx="921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78160" y="3898800"/>
            <a:ext cx="8424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25800" y="4017960"/>
            <a:ext cx="92160" cy="475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78160" y="4017960"/>
            <a:ext cx="84240" cy="475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000320" y="3938760"/>
            <a:ext cx="185400" cy="8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35520" y="2319480"/>
            <a:ext cx="43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44880" y="2319480"/>
            <a:ext cx="43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35520" y="4560840"/>
            <a:ext cx="43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44880" y="4560840"/>
            <a:ext cx="43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05160" y="2933640"/>
            <a:ext cx="590400" cy="21132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03360" y="2890800"/>
            <a:ext cx="592200" cy="14940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03360" y="2890800"/>
            <a:ext cx="592200" cy="14940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05160" y="2782800"/>
            <a:ext cx="590400" cy="21132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06840" y="280980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4"/>
                </a:moveTo>
                <a:lnTo>
                  <a:pt x="27" y="42"/>
                </a:lnTo>
                <a:lnTo>
                  <a:pt x="94" y="16"/>
                </a:lnTo>
                <a:lnTo>
                  <a:pt x="122" y="24"/>
                </a:lnTo>
                <a:lnTo>
                  <a:pt x="107" y="0"/>
                </a:lnTo>
                <a:lnTo>
                  <a:pt x="29" y="0"/>
                </a:lnTo>
                <a:lnTo>
                  <a:pt x="61" y="8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06840" y="280980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4"/>
                </a:moveTo>
                <a:lnTo>
                  <a:pt x="27" y="42"/>
                </a:lnTo>
                <a:lnTo>
                  <a:pt x="94" y="16"/>
                </a:lnTo>
                <a:lnTo>
                  <a:pt x="122" y="24"/>
                </a:lnTo>
                <a:lnTo>
                  <a:pt x="107" y="0"/>
                </a:lnTo>
                <a:lnTo>
                  <a:pt x="29" y="0"/>
                </a:lnTo>
                <a:lnTo>
                  <a:pt x="61" y="8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95520" y="289080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95520" y="289080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280656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4" y="26"/>
                </a:lnTo>
                <a:lnTo>
                  <a:pt x="122" y="20"/>
                </a:lnTo>
                <a:lnTo>
                  <a:pt x="107" y="42"/>
                </a:lnTo>
                <a:lnTo>
                  <a:pt x="31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03440" y="280656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4" y="26"/>
                </a:lnTo>
                <a:lnTo>
                  <a:pt x="122" y="20"/>
                </a:lnTo>
                <a:lnTo>
                  <a:pt x="107" y="42"/>
                </a:lnTo>
                <a:lnTo>
                  <a:pt x="31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97120" y="2897280"/>
            <a:ext cx="195480" cy="69840"/>
          </a:xfrm>
          <a:custGeom>
            <a:avLst/>
            <a:gdLst/>
            <a:ahLst/>
            <a:rect l="l" t="t" r="r" b="b"/>
            <a:pathLst>
              <a:path w="123" h="44">
                <a:moveTo>
                  <a:pt x="123" y="34"/>
                </a:moveTo>
                <a:lnTo>
                  <a:pt x="96" y="44"/>
                </a:lnTo>
                <a:lnTo>
                  <a:pt x="33" y="16"/>
                </a:lnTo>
                <a:lnTo>
                  <a:pt x="0" y="24"/>
                </a:lnTo>
                <a:lnTo>
                  <a:pt x="18" y="0"/>
                </a:lnTo>
                <a:lnTo>
                  <a:pt x="96" y="0"/>
                </a:lnTo>
                <a:lnTo>
                  <a:pt x="62" y="8"/>
                </a:lnTo>
                <a:lnTo>
                  <a:pt x="12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97120" y="2897280"/>
            <a:ext cx="195480" cy="69840"/>
          </a:xfrm>
          <a:custGeom>
            <a:avLst/>
            <a:gdLst/>
            <a:ahLst/>
            <a:rect l="l" t="t" r="r" b="b"/>
            <a:pathLst>
              <a:path w="123" h="44">
                <a:moveTo>
                  <a:pt x="123" y="34"/>
                </a:moveTo>
                <a:lnTo>
                  <a:pt x="96" y="44"/>
                </a:lnTo>
                <a:lnTo>
                  <a:pt x="33" y="16"/>
                </a:lnTo>
                <a:lnTo>
                  <a:pt x="0" y="24"/>
                </a:lnTo>
                <a:lnTo>
                  <a:pt x="18" y="0"/>
                </a:lnTo>
                <a:lnTo>
                  <a:pt x="96" y="0"/>
                </a:lnTo>
                <a:lnTo>
                  <a:pt x="62" y="8"/>
                </a:lnTo>
                <a:lnTo>
                  <a:pt x="12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09720" y="281628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2"/>
                </a:moveTo>
                <a:lnTo>
                  <a:pt x="27" y="42"/>
                </a:lnTo>
                <a:lnTo>
                  <a:pt x="94" y="14"/>
                </a:lnTo>
                <a:lnTo>
                  <a:pt x="122" y="22"/>
                </a:lnTo>
                <a:lnTo>
                  <a:pt x="107" y="0"/>
                </a:lnTo>
                <a:lnTo>
                  <a:pt x="29" y="0"/>
                </a:lnTo>
                <a:lnTo>
                  <a:pt x="61" y="6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09720" y="281628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2"/>
                </a:moveTo>
                <a:lnTo>
                  <a:pt x="27" y="42"/>
                </a:lnTo>
                <a:lnTo>
                  <a:pt x="94" y="14"/>
                </a:lnTo>
                <a:lnTo>
                  <a:pt x="122" y="22"/>
                </a:lnTo>
                <a:lnTo>
                  <a:pt x="107" y="0"/>
                </a:lnTo>
                <a:lnTo>
                  <a:pt x="29" y="0"/>
                </a:lnTo>
                <a:lnTo>
                  <a:pt x="61" y="6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98760" y="2894040"/>
            <a:ext cx="193680" cy="73080"/>
          </a:xfrm>
          <a:custGeom>
            <a:avLst/>
            <a:gdLst/>
            <a:ahLst/>
            <a:rect l="l" t="t" r="r" b="b"/>
            <a:pathLst>
              <a:path w="122" h="46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6"/>
                </a:lnTo>
                <a:lnTo>
                  <a:pt x="95" y="46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98760" y="2894040"/>
            <a:ext cx="193680" cy="73080"/>
          </a:xfrm>
          <a:custGeom>
            <a:avLst/>
            <a:gdLst/>
            <a:ahLst/>
            <a:rect l="l" t="t" r="r" b="b"/>
            <a:pathLst>
              <a:path w="122" h="46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6"/>
                </a:lnTo>
                <a:lnTo>
                  <a:pt x="95" y="46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09920" y="280980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2" y="26"/>
                </a:lnTo>
                <a:lnTo>
                  <a:pt x="122" y="20"/>
                </a:lnTo>
                <a:lnTo>
                  <a:pt x="105" y="42"/>
                </a:lnTo>
                <a:lnTo>
                  <a:pt x="29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09920" y="280980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2" y="26"/>
                </a:lnTo>
                <a:lnTo>
                  <a:pt x="122" y="20"/>
                </a:lnTo>
                <a:lnTo>
                  <a:pt x="105" y="42"/>
                </a:lnTo>
                <a:lnTo>
                  <a:pt x="29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03600" y="290340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122" y="32"/>
                </a:moveTo>
                <a:lnTo>
                  <a:pt x="96" y="42"/>
                </a:lnTo>
                <a:lnTo>
                  <a:pt x="31" y="14"/>
                </a:lnTo>
                <a:lnTo>
                  <a:pt x="0" y="22"/>
                </a:lnTo>
                <a:lnTo>
                  <a:pt x="16" y="0"/>
                </a:lnTo>
                <a:lnTo>
                  <a:pt x="96" y="0"/>
                </a:lnTo>
                <a:lnTo>
                  <a:pt x="61" y="6"/>
                </a:lnTo>
                <a:lnTo>
                  <a:pt x="1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90340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122" y="32"/>
                </a:moveTo>
                <a:lnTo>
                  <a:pt x="96" y="42"/>
                </a:lnTo>
                <a:lnTo>
                  <a:pt x="31" y="14"/>
                </a:lnTo>
                <a:lnTo>
                  <a:pt x="0" y="22"/>
                </a:lnTo>
                <a:lnTo>
                  <a:pt x="16" y="0"/>
                </a:lnTo>
                <a:lnTo>
                  <a:pt x="96" y="0"/>
                </a:lnTo>
                <a:lnTo>
                  <a:pt x="61" y="6"/>
                </a:lnTo>
                <a:lnTo>
                  <a:pt x="1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03360" y="2886120"/>
            <a:ext cx="1800" cy="1508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995560" y="2886120"/>
            <a:ext cx="1800" cy="1508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46280" y="3002040"/>
            <a:ext cx="293760" cy="119160"/>
          </a:xfrm>
          <a:custGeom>
            <a:avLst/>
            <a:gdLst/>
            <a:ahLst/>
            <a:rect l="l" t="t" r="r" b="b"/>
            <a:pathLst>
              <a:path w="185" h="75">
                <a:moveTo>
                  <a:pt x="29" y="10"/>
                </a:moveTo>
                <a:lnTo>
                  <a:pt x="69" y="10"/>
                </a:lnTo>
                <a:lnTo>
                  <a:pt x="94" y="33"/>
                </a:lnTo>
                <a:lnTo>
                  <a:pt x="118" y="10"/>
                </a:lnTo>
                <a:lnTo>
                  <a:pt x="157" y="10"/>
                </a:lnTo>
                <a:lnTo>
                  <a:pt x="157" y="0"/>
                </a:lnTo>
                <a:lnTo>
                  <a:pt x="185" y="14"/>
                </a:lnTo>
                <a:lnTo>
                  <a:pt x="157" y="31"/>
                </a:lnTo>
                <a:lnTo>
                  <a:pt x="157" y="20"/>
                </a:lnTo>
                <a:lnTo>
                  <a:pt x="124" y="20"/>
                </a:lnTo>
                <a:lnTo>
                  <a:pt x="101" y="37"/>
                </a:lnTo>
                <a:lnTo>
                  <a:pt x="124" y="55"/>
                </a:lnTo>
                <a:lnTo>
                  <a:pt x="157" y="55"/>
                </a:lnTo>
                <a:lnTo>
                  <a:pt x="157" y="45"/>
                </a:lnTo>
                <a:lnTo>
                  <a:pt x="185" y="61"/>
                </a:lnTo>
                <a:lnTo>
                  <a:pt x="157" y="75"/>
                </a:lnTo>
                <a:lnTo>
                  <a:pt x="157" y="65"/>
                </a:lnTo>
                <a:lnTo>
                  <a:pt x="118" y="65"/>
                </a:lnTo>
                <a:lnTo>
                  <a:pt x="94" y="45"/>
                </a:lnTo>
                <a:lnTo>
                  <a:pt x="69" y="65"/>
                </a:lnTo>
                <a:lnTo>
                  <a:pt x="29" y="65"/>
                </a:lnTo>
                <a:lnTo>
                  <a:pt x="29" y="75"/>
                </a:lnTo>
                <a:lnTo>
                  <a:pt x="0" y="61"/>
                </a:lnTo>
                <a:lnTo>
                  <a:pt x="29" y="45"/>
                </a:lnTo>
                <a:lnTo>
                  <a:pt x="29" y="55"/>
                </a:lnTo>
                <a:lnTo>
                  <a:pt x="65" y="55"/>
                </a:lnTo>
                <a:lnTo>
                  <a:pt x="88" y="39"/>
                </a:lnTo>
                <a:lnTo>
                  <a:pt x="65" y="20"/>
                </a:lnTo>
                <a:lnTo>
                  <a:pt x="29" y="20"/>
                </a:lnTo>
                <a:lnTo>
                  <a:pt x="29" y="31"/>
                </a:lnTo>
                <a:lnTo>
                  <a:pt x="0" y="14"/>
                </a:lnTo>
                <a:lnTo>
                  <a:pt x="29" y="0"/>
                </a:lnTo>
                <a:lnTo>
                  <a:pt x="2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46280" y="3002040"/>
            <a:ext cx="293760" cy="119160"/>
          </a:xfrm>
          <a:custGeom>
            <a:avLst/>
            <a:gdLst/>
            <a:ahLst/>
            <a:rect l="l" t="t" r="r" b="b"/>
            <a:pathLst>
              <a:path w="185" h="75">
                <a:moveTo>
                  <a:pt x="29" y="10"/>
                </a:moveTo>
                <a:lnTo>
                  <a:pt x="69" y="10"/>
                </a:lnTo>
                <a:lnTo>
                  <a:pt x="94" y="33"/>
                </a:lnTo>
                <a:lnTo>
                  <a:pt x="118" y="10"/>
                </a:lnTo>
                <a:lnTo>
                  <a:pt x="157" y="10"/>
                </a:lnTo>
                <a:lnTo>
                  <a:pt x="157" y="0"/>
                </a:lnTo>
                <a:lnTo>
                  <a:pt x="185" y="14"/>
                </a:lnTo>
                <a:lnTo>
                  <a:pt x="157" y="31"/>
                </a:lnTo>
                <a:lnTo>
                  <a:pt x="157" y="20"/>
                </a:lnTo>
                <a:lnTo>
                  <a:pt x="124" y="20"/>
                </a:lnTo>
                <a:lnTo>
                  <a:pt x="101" y="37"/>
                </a:lnTo>
                <a:lnTo>
                  <a:pt x="124" y="55"/>
                </a:lnTo>
                <a:lnTo>
                  <a:pt x="157" y="55"/>
                </a:lnTo>
                <a:lnTo>
                  <a:pt x="157" y="45"/>
                </a:lnTo>
                <a:lnTo>
                  <a:pt x="185" y="61"/>
                </a:lnTo>
                <a:lnTo>
                  <a:pt x="157" y="75"/>
                </a:lnTo>
                <a:lnTo>
                  <a:pt x="157" y="65"/>
                </a:lnTo>
                <a:lnTo>
                  <a:pt x="118" y="65"/>
                </a:lnTo>
                <a:lnTo>
                  <a:pt x="94" y="45"/>
                </a:lnTo>
                <a:lnTo>
                  <a:pt x="69" y="65"/>
                </a:lnTo>
                <a:lnTo>
                  <a:pt x="29" y="65"/>
                </a:lnTo>
                <a:lnTo>
                  <a:pt x="29" y="75"/>
                </a:lnTo>
                <a:lnTo>
                  <a:pt x="0" y="61"/>
                </a:lnTo>
                <a:lnTo>
                  <a:pt x="29" y="45"/>
                </a:lnTo>
                <a:lnTo>
                  <a:pt x="29" y="55"/>
                </a:lnTo>
                <a:lnTo>
                  <a:pt x="65" y="55"/>
                </a:lnTo>
                <a:lnTo>
                  <a:pt x="88" y="39"/>
                </a:lnTo>
                <a:lnTo>
                  <a:pt x="65" y="20"/>
                </a:lnTo>
                <a:lnTo>
                  <a:pt x="29" y="20"/>
                </a:lnTo>
                <a:lnTo>
                  <a:pt x="29" y="31"/>
                </a:lnTo>
                <a:lnTo>
                  <a:pt x="0" y="14"/>
                </a:lnTo>
                <a:lnTo>
                  <a:pt x="29" y="0"/>
                </a:lnTo>
                <a:lnTo>
                  <a:pt x="2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52760" y="3005280"/>
            <a:ext cx="290520" cy="118800"/>
          </a:xfrm>
          <a:custGeom>
            <a:avLst/>
            <a:gdLst/>
            <a:ahLst/>
            <a:rect l="l" t="t" r="r" b="b"/>
            <a:pathLst>
              <a:path w="183" h="75">
                <a:moveTo>
                  <a:pt x="27" y="10"/>
                </a:moveTo>
                <a:lnTo>
                  <a:pt x="67" y="10"/>
                </a:lnTo>
                <a:lnTo>
                  <a:pt x="91" y="33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3" y="16"/>
                </a:lnTo>
                <a:lnTo>
                  <a:pt x="156" y="31"/>
                </a:lnTo>
                <a:lnTo>
                  <a:pt x="156" y="20"/>
                </a:lnTo>
                <a:lnTo>
                  <a:pt x="122" y="20"/>
                </a:lnTo>
                <a:lnTo>
                  <a:pt x="99" y="37"/>
                </a:lnTo>
                <a:lnTo>
                  <a:pt x="122" y="55"/>
                </a:lnTo>
                <a:lnTo>
                  <a:pt x="156" y="55"/>
                </a:lnTo>
                <a:lnTo>
                  <a:pt x="156" y="45"/>
                </a:lnTo>
                <a:lnTo>
                  <a:pt x="183" y="61"/>
                </a:lnTo>
                <a:lnTo>
                  <a:pt x="156" y="75"/>
                </a:lnTo>
                <a:lnTo>
                  <a:pt x="156" y="65"/>
                </a:lnTo>
                <a:lnTo>
                  <a:pt x="118" y="65"/>
                </a:lnTo>
                <a:lnTo>
                  <a:pt x="91" y="45"/>
                </a:lnTo>
                <a:lnTo>
                  <a:pt x="67" y="65"/>
                </a:lnTo>
                <a:lnTo>
                  <a:pt x="27" y="65"/>
                </a:lnTo>
                <a:lnTo>
                  <a:pt x="27" y="75"/>
                </a:lnTo>
                <a:lnTo>
                  <a:pt x="0" y="61"/>
                </a:lnTo>
                <a:lnTo>
                  <a:pt x="27" y="45"/>
                </a:lnTo>
                <a:lnTo>
                  <a:pt x="27" y="55"/>
                </a:lnTo>
                <a:lnTo>
                  <a:pt x="63" y="55"/>
                </a:lnTo>
                <a:lnTo>
                  <a:pt x="86" y="39"/>
                </a:lnTo>
                <a:lnTo>
                  <a:pt x="63" y="20"/>
                </a:lnTo>
                <a:lnTo>
                  <a:pt x="27" y="20"/>
                </a:lnTo>
                <a:lnTo>
                  <a:pt x="27" y="31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52760" y="3005280"/>
            <a:ext cx="290520" cy="118800"/>
          </a:xfrm>
          <a:custGeom>
            <a:avLst/>
            <a:gdLst/>
            <a:ahLst/>
            <a:rect l="l" t="t" r="r" b="b"/>
            <a:pathLst>
              <a:path w="183" h="75">
                <a:moveTo>
                  <a:pt x="27" y="10"/>
                </a:moveTo>
                <a:lnTo>
                  <a:pt x="67" y="10"/>
                </a:lnTo>
                <a:lnTo>
                  <a:pt x="91" y="33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3" y="16"/>
                </a:lnTo>
                <a:lnTo>
                  <a:pt x="156" y="31"/>
                </a:lnTo>
                <a:lnTo>
                  <a:pt x="156" y="20"/>
                </a:lnTo>
                <a:lnTo>
                  <a:pt x="122" y="20"/>
                </a:lnTo>
                <a:lnTo>
                  <a:pt x="99" y="37"/>
                </a:lnTo>
                <a:lnTo>
                  <a:pt x="122" y="55"/>
                </a:lnTo>
                <a:lnTo>
                  <a:pt x="156" y="55"/>
                </a:lnTo>
                <a:lnTo>
                  <a:pt x="156" y="45"/>
                </a:lnTo>
                <a:lnTo>
                  <a:pt x="183" y="61"/>
                </a:lnTo>
                <a:lnTo>
                  <a:pt x="156" y="75"/>
                </a:lnTo>
                <a:lnTo>
                  <a:pt x="156" y="65"/>
                </a:lnTo>
                <a:lnTo>
                  <a:pt x="118" y="65"/>
                </a:lnTo>
                <a:lnTo>
                  <a:pt x="91" y="45"/>
                </a:lnTo>
                <a:lnTo>
                  <a:pt x="67" y="65"/>
                </a:lnTo>
                <a:lnTo>
                  <a:pt x="27" y="65"/>
                </a:lnTo>
                <a:lnTo>
                  <a:pt x="27" y="75"/>
                </a:lnTo>
                <a:lnTo>
                  <a:pt x="0" y="61"/>
                </a:lnTo>
                <a:lnTo>
                  <a:pt x="27" y="45"/>
                </a:lnTo>
                <a:lnTo>
                  <a:pt x="27" y="55"/>
                </a:lnTo>
                <a:lnTo>
                  <a:pt x="63" y="55"/>
                </a:lnTo>
                <a:lnTo>
                  <a:pt x="86" y="39"/>
                </a:lnTo>
                <a:lnTo>
                  <a:pt x="63" y="20"/>
                </a:lnTo>
                <a:lnTo>
                  <a:pt x="27" y="20"/>
                </a:lnTo>
                <a:lnTo>
                  <a:pt x="27" y="31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05160" y="4141800"/>
            <a:ext cx="590400" cy="2127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403360" y="4098960"/>
            <a:ext cx="592200" cy="1508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3360" y="4098960"/>
            <a:ext cx="592200" cy="1508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05160" y="3990960"/>
            <a:ext cx="590400" cy="21276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06840" y="401940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4"/>
                </a:moveTo>
                <a:lnTo>
                  <a:pt x="27" y="42"/>
                </a:lnTo>
                <a:lnTo>
                  <a:pt x="94" y="16"/>
                </a:lnTo>
                <a:lnTo>
                  <a:pt x="122" y="24"/>
                </a:lnTo>
                <a:lnTo>
                  <a:pt x="107" y="0"/>
                </a:lnTo>
                <a:lnTo>
                  <a:pt x="29" y="0"/>
                </a:lnTo>
                <a:lnTo>
                  <a:pt x="61" y="8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06840" y="401940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4"/>
                </a:moveTo>
                <a:lnTo>
                  <a:pt x="27" y="42"/>
                </a:lnTo>
                <a:lnTo>
                  <a:pt x="94" y="16"/>
                </a:lnTo>
                <a:lnTo>
                  <a:pt x="122" y="24"/>
                </a:lnTo>
                <a:lnTo>
                  <a:pt x="107" y="0"/>
                </a:lnTo>
                <a:lnTo>
                  <a:pt x="29" y="0"/>
                </a:lnTo>
                <a:lnTo>
                  <a:pt x="61" y="8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95520" y="409896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95520" y="409896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03440" y="401652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4" y="26"/>
                </a:lnTo>
                <a:lnTo>
                  <a:pt x="122" y="20"/>
                </a:lnTo>
                <a:lnTo>
                  <a:pt x="107" y="42"/>
                </a:lnTo>
                <a:lnTo>
                  <a:pt x="31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03440" y="401652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4" y="26"/>
                </a:lnTo>
                <a:lnTo>
                  <a:pt x="122" y="20"/>
                </a:lnTo>
                <a:lnTo>
                  <a:pt x="107" y="42"/>
                </a:lnTo>
                <a:lnTo>
                  <a:pt x="31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97120" y="4105440"/>
            <a:ext cx="195480" cy="71280"/>
          </a:xfrm>
          <a:custGeom>
            <a:avLst/>
            <a:gdLst/>
            <a:ahLst/>
            <a:rect l="l" t="t" r="r" b="b"/>
            <a:pathLst>
              <a:path w="123" h="45">
                <a:moveTo>
                  <a:pt x="123" y="34"/>
                </a:moveTo>
                <a:lnTo>
                  <a:pt x="96" y="45"/>
                </a:lnTo>
                <a:lnTo>
                  <a:pt x="33" y="16"/>
                </a:lnTo>
                <a:lnTo>
                  <a:pt x="0" y="24"/>
                </a:lnTo>
                <a:lnTo>
                  <a:pt x="18" y="0"/>
                </a:lnTo>
                <a:lnTo>
                  <a:pt x="96" y="0"/>
                </a:lnTo>
                <a:lnTo>
                  <a:pt x="62" y="8"/>
                </a:lnTo>
                <a:lnTo>
                  <a:pt x="12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97120" y="4105440"/>
            <a:ext cx="195480" cy="71280"/>
          </a:xfrm>
          <a:custGeom>
            <a:avLst/>
            <a:gdLst/>
            <a:ahLst/>
            <a:rect l="l" t="t" r="r" b="b"/>
            <a:pathLst>
              <a:path w="123" h="45">
                <a:moveTo>
                  <a:pt x="123" y="34"/>
                </a:moveTo>
                <a:lnTo>
                  <a:pt x="96" y="45"/>
                </a:lnTo>
                <a:lnTo>
                  <a:pt x="33" y="16"/>
                </a:lnTo>
                <a:lnTo>
                  <a:pt x="0" y="24"/>
                </a:lnTo>
                <a:lnTo>
                  <a:pt x="18" y="0"/>
                </a:lnTo>
                <a:lnTo>
                  <a:pt x="96" y="0"/>
                </a:lnTo>
                <a:lnTo>
                  <a:pt x="62" y="8"/>
                </a:lnTo>
                <a:lnTo>
                  <a:pt x="123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09720" y="402588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2"/>
                </a:moveTo>
                <a:lnTo>
                  <a:pt x="27" y="42"/>
                </a:lnTo>
                <a:lnTo>
                  <a:pt x="94" y="14"/>
                </a:lnTo>
                <a:lnTo>
                  <a:pt x="122" y="22"/>
                </a:lnTo>
                <a:lnTo>
                  <a:pt x="107" y="0"/>
                </a:lnTo>
                <a:lnTo>
                  <a:pt x="29" y="0"/>
                </a:lnTo>
                <a:lnTo>
                  <a:pt x="61" y="6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709720" y="402588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32"/>
                </a:moveTo>
                <a:lnTo>
                  <a:pt x="27" y="42"/>
                </a:lnTo>
                <a:lnTo>
                  <a:pt x="94" y="14"/>
                </a:lnTo>
                <a:lnTo>
                  <a:pt x="122" y="22"/>
                </a:lnTo>
                <a:lnTo>
                  <a:pt x="107" y="0"/>
                </a:lnTo>
                <a:lnTo>
                  <a:pt x="29" y="0"/>
                </a:lnTo>
                <a:lnTo>
                  <a:pt x="61" y="6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98760" y="4102200"/>
            <a:ext cx="193680" cy="74520"/>
          </a:xfrm>
          <a:custGeom>
            <a:avLst/>
            <a:gdLst/>
            <a:ahLst/>
            <a:rect l="l" t="t" r="r" b="b"/>
            <a:pathLst>
              <a:path w="122" h="47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7"/>
                </a:lnTo>
                <a:lnTo>
                  <a:pt x="95" y="47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498760" y="4102200"/>
            <a:ext cx="193680" cy="74520"/>
          </a:xfrm>
          <a:custGeom>
            <a:avLst/>
            <a:gdLst/>
            <a:ahLst/>
            <a:rect l="l" t="t" r="r" b="b"/>
            <a:pathLst>
              <a:path w="122" h="47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7"/>
                </a:lnTo>
                <a:lnTo>
                  <a:pt x="95" y="47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09920" y="401940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2" y="26"/>
                </a:lnTo>
                <a:lnTo>
                  <a:pt x="122" y="20"/>
                </a:lnTo>
                <a:lnTo>
                  <a:pt x="105" y="42"/>
                </a:lnTo>
                <a:lnTo>
                  <a:pt x="29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09920" y="4019400"/>
            <a:ext cx="193680" cy="66960"/>
          </a:xfrm>
          <a:custGeom>
            <a:avLst/>
            <a:gdLst/>
            <a:ahLst/>
            <a:rect l="l" t="t" r="r" b="b"/>
            <a:pathLst>
              <a:path w="122" h="42">
                <a:moveTo>
                  <a:pt x="0" y="10"/>
                </a:moveTo>
                <a:lnTo>
                  <a:pt x="27" y="0"/>
                </a:lnTo>
                <a:lnTo>
                  <a:pt x="92" y="26"/>
                </a:lnTo>
                <a:lnTo>
                  <a:pt x="122" y="20"/>
                </a:lnTo>
                <a:lnTo>
                  <a:pt x="105" y="42"/>
                </a:lnTo>
                <a:lnTo>
                  <a:pt x="29" y="42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03600" y="4111560"/>
            <a:ext cx="193680" cy="68400"/>
          </a:xfrm>
          <a:custGeom>
            <a:avLst/>
            <a:gdLst/>
            <a:ahLst/>
            <a:rect l="l" t="t" r="r" b="b"/>
            <a:pathLst>
              <a:path w="122" h="43">
                <a:moveTo>
                  <a:pt x="122" y="32"/>
                </a:moveTo>
                <a:lnTo>
                  <a:pt x="96" y="43"/>
                </a:lnTo>
                <a:lnTo>
                  <a:pt x="31" y="14"/>
                </a:lnTo>
                <a:lnTo>
                  <a:pt x="0" y="22"/>
                </a:lnTo>
                <a:lnTo>
                  <a:pt x="16" y="0"/>
                </a:lnTo>
                <a:lnTo>
                  <a:pt x="96" y="0"/>
                </a:lnTo>
                <a:lnTo>
                  <a:pt x="61" y="6"/>
                </a:lnTo>
                <a:lnTo>
                  <a:pt x="1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03600" y="4111560"/>
            <a:ext cx="193680" cy="68400"/>
          </a:xfrm>
          <a:custGeom>
            <a:avLst/>
            <a:gdLst/>
            <a:ahLst/>
            <a:rect l="l" t="t" r="r" b="b"/>
            <a:pathLst>
              <a:path w="122" h="43">
                <a:moveTo>
                  <a:pt x="122" y="32"/>
                </a:moveTo>
                <a:lnTo>
                  <a:pt x="96" y="43"/>
                </a:lnTo>
                <a:lnTo>
                  <a:pt x="31" y="14"/>
                </a:lnTo>
                <a:lnTo>
                  <a:pt x="0" y="22"/>
                </a:lnTo>
                <a:lnTo>
                  <a:pt x="16" y="0"/>
                </a:lnTo>
                <a:lnTo>
                  <a:pt x="96" y="0"/>
                </a:lnTo>
                <a:lnTo>
                  <a:pt x="61" y="6"/>
                </a:lnTo>
                <a:lnTo>
                  <a:pt x="1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03360" y="4095720"/>
            <a:ext cx="1800" cy="1508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95560" y="4095720"/>
            <a:ext cx="1800" cy="1508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46280" y="4211640"/>
            <a:ext cx="293760" cy="117360"/>
          </a:xfrm>
          <a:custGeom>
            <a:avLst/>
            <a:gdLst/>
            <a:ahLst/>
            <a:rect l="l" t="t" r="r" b="b"/>
            <a:pathLst>
              <a:path w="185" h="74">
                <a:moveTo>
                  <a:pt x="29" y="10"/>
                </a:moveTo>
                <a:lnTo>
                  <a:pt x="69" y="10"/>
                </a:lnTo>
                <a:lnTo>
                  <a:pt x="94" y="32"/>
                </a:lnTo>
                <a:lnTo>
                  <a:pt x="118" y="10"/>
                </a:lnTo>
                <a:lnTo>
                  <a:pt x="157" y="10"/>
                </a:lnTo>
                <a:lnTo>
                  <a:pt x="157" y="0"/>
                </a:lnTo>
                <a:lnTo>
                  <a:pt x="185" y="14"/>
                </a:lnTo>
                <a:lnTo>
                  <a:pt x="157" y="30"/>
                </a:lnTo>
                <a:lnTo>
                  <a:pt x="157" y="20"/>
                </a:lnTo>
                <a:lnTo>
                  <a:pt x="124" y="20"/>
                </a:lnTo>
                <a:lnTo>
                  <a:pt x="101" y="36"/>
                </a:lnTo>
                <a:lnTo>
                  <a:pt x="124" y="54"/>
                </a:lnTo>
                <a:lnTo>
                  <a:pt x="157" y="54"/>
                </a:lnTo>
                <a:lnTo>
                  <a:pt x="157" y="44"/>
                </a:lnTo>
                <a:lnTo>
                  <a:pt x="185" y="60"/>
                </a:lnTo>
                <a:lnTo>
                  <a:pt x="157" y="74"/>
                </a:lnTo>
                <a:lnTo>
                  <a:pt x="157" y="64"/>
                </a:lnTo>
                <a:lnTo>
                  <a:pt x="118" y="64"/>
                </a:lnTo>
                <a:lnTo>
                  <a:pt x="94" y="44"/>
                </a:lnTo>
                <a:lnTo>
                  <a:pt x="69" y="64"/>
                </a:lnTo>
                <a:lnTo>
                  <a:pt x="29" y="64"/>
                </a:lnTo>
                <a:lnTo>
                  <a:pt x="29" y="74"/>
                </a:lnTo>
                <a:lnTo>
                  <a:pt x="0" y="60"/>
                </a:lnTo>
                <a:lnTo>
                  <a:pt x="29" y="44"/>
                </a:lnTo>
                <a:lnTo>
                  <a:pt x="29" y="54"/>
                </a:lnTo>
                <a:lnTo>
                  <a:pt x="65" y="54"/>
                </a:lnTo>
                <a:lnTo>
                  <a:pt x="88" y="38"/>
                </a:lnTo>
                <a:lnTo>
                  <a:pt x="65" y="20"/>
                </a:lnTo>
                <a:lnTo>
                  <a:pt x="29" y="20"/>
                </a:lnTo>
                <a:lnTo>
                  <a:pt x="29" y="30"/>
                </a:lnTo>
                <a:lnTo>
                  <a:pt x="0" y="14"/>
                </a:lnTo>
                <a:lnTo>
                  <a:pt x="29" y="0"/>
                </a:lnTo>
                <a:lnTo>
                  <a:pt x="2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46280" y="4211640"/>
            <a:ext cx="293760" cy="117360"/>
          </a:xfrm>
          <a:custGeom>
            <a:avLst/>
            <a:gdLst/>
            <a:ahLst/>
            <a:rect l="l" t="t" r="r" b="b"/>
            <a:pathLst>
              <a:path w="185" h="74">
                <a:moveTo>
                  <a:pt x="29" y="10"/>
                </a:moveTo>
                <a:lnTo>
                  <a:pt x="69" y="10"/>
                </a:lnTo>
                <a:lnTo>
                  <a:pt x="94" y="32"/>
                </a:lnTo>
                <a:lnTo>
                  <a:pt x="118" y="10"/>
                </a:lnTo>
                <a:lnTo>
                  <a:pt x="157" y="10"/>
                </a:lnTo>
                <a:lnTo>
                  <a:pt x="157" y="0"/>
                </a:lnTo>
                <a:lnTo>
                  <a:pt x="185" y="14"/>
                </a:lnTo>
                <a:lnTo>
                  <a:pt x="157" y="30"/>
                </a:lnTo>
                <a:lnTo>
                  <a:pt x="157" y="20"/>
                </a:lnTo>
                <a:lnTo>
                  <a:pt x="124" y="20"/>
                </a:lnTo>
                <a:lnTo>
                  <a:pt x="101" y="36"/>
                </a:lnTo>
                <a:lnTo>
                  <a:pt x="124" y="54"/>
                </a:lnTo>
                <a:lnTo>
                  <a:pt x="157" y="54"/>
                </a:lnTo>
                <a:lnTo>
                  <a:pt x="157" y="44"/>
                </a:lnTo>
                <a:lnTo>
                  <a:pt x="185" y="60"/>
                </a:lnTo>
                <a:lnTo>
                  <a:pt x="157" y="74"/>
                </a:lnTo>
                <a:lnTo>
                  <a:pt x="157" y="64"/>
                </a:lnTo>
                <a:lnTo>
                  <a:pt x="118" y="64"/>
                </a:lnTo>
                <a:lnTo>
                  <a:pt x="94" y="44"/>
                </a:lnTo>
                <a:lnTo>
                  <a:pt x="69" y="64"/>
                </a:lnTo>
                <a:lnTo>
                  <a:pt x="29" y="64"/>
                </a:lnTo>
                <a:lnTo>
                  <a:pt x="29" y="74"/>
                </a:lnTo>
                <a:lnTo>
                  <a:pt x="0" y="60"/>
                </a:lnTo>
                <a:lnTo>
                  <a:pt x="29" y="44"/>
                </a:lnTo>
                <a:lnTo>
                  <a:pt x="29" y="54"/>
                </a:lnTo>
                <a:lnTo>
                  <a:pt x="65" y="54"/>
                </a:lnTo>
                <a:lnTo>
                  <a:pt x="88" y="38"/>
                </a:lnTo>
                <a:lnTo>
                  <a:pt x="65" y="20"/>
                </a:lnTo>
                <a:lnTo>
                  <a:pt x="29" y="20"/>
                </a:lnTo>
                <a:lnTo>
                  <a:pt x="29" y="30"/>
                </a:lnTo>
                <a:lnTo>
                  <a:pt x="0" y="14"/>
                </a:lnTo>
                <a:lnTo>
                  <a:pt x="29" y="0"/>
                </a:lnTo>
                <a:lnTo>
                  <a:pt x="2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52760" y="4214880"/>
            <a:ext cx="290520" cy="117360"/>
          </a:xfrm>
          <a:custGeom>
            <a:avLst/>
            <a:gdLst/>
            <a:ahLst/>
            <a:rect l="l" t="t" r="r" b="b"/>
            <a:pathLst>
              <a:path w="183" h="74">
                <a:moveTo>
                  <a:pt x="27" y="10"/>
                </a:moveTo>
                <a:lnTo>
                  <a:pt x="67" y="10"/>
                </a:lnTo>
                <a:lnTo>
                  <a:pt x="91" y="32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3" y="16"/>
                </a:lnTo>
                <a:lnTo>
                  <a:pt x="156" y="30"/>
                </a:lnTo>
                <a:lnTo>
                  <a:pt x="156" y="20"/>
                </a:lnTo>
                <a:lnTo>
                  <a:pt x="122" y="20"/>
                </a:lnTo>
                <a:lnTo>
                  <a:pt x="99" y="36"/>
                </a:lnTo>
                <a:lnTo>
                  <a:pt x="122" y="54"/>
                </a:lnTo>
                <a:lnTo>
                  <a:pt x="156" y="54"/>
                </a:lnTo>
                <a:lnTo>
                  <a:pt x="156" y="44"/>
                </a:lnTo>
                <a:lnTo>
                  <a:pt x="183" y="60"/>
                </a:lnTo>
                <a:lnTo>
                  <a:pt x="156" y="74"/>
                </a:lnTo>
                <a:lnTo>
                  <a:pt x="156" y="64"/>
                </a:lnTo>
                <a:lnTo>
                  <a:pt x="118" y="64"/>
                </a:lnTo>
                <a:lnTo>
                  <a:pt x="91" y="44"/>
                </a:lnTo>
                <a:lnTo>
                  <a:pt x="67" y="64"/>
                </a:lnTo>
                <a:lnTo>
                  <a:pt x="27" y="64"/>
                </a:lnTo>
                <a:lnTo>
                  <a:pt x="27" y="74"/>
                </a:lnTo>
                <a:lnTo>
                  <a:pt x="0" y="60"/>
                </a:lnTo>
                <a:lnTo>
                  <a:pt x="27" y="44"/>
                </a:lnTo>
                <a:lnTo>
                  <a:pt x="27" y="54"/>
                </a:lnTo>
                <a:lnTo>
                  <a:pt x="63" y="54"/>
                </a:lnTo>
                <a:lnTo>
                  <a:pt x="86" y="38"/>
                </a:lnTo>
                <a:lnTo>
                  <a:pt x="63" y="20"/>
                </a:lnTo>
                <a:lnTo>
                  <a:pt x="27" y="20"/>
                </a:lnTo>
                <a:lnTo>
                  <a:pt x="27" y="30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52760" y="4214880"/>
            <a:ext cx="290520" cy="117360"/>
          </a:xfrm>
          <a:custGeom>
            <a:avLst/>
            <a:gdLst/>
            <a:ahLst/>
            <a:rect l="l" t="t" r="r" b="b"/>
            <a:pathLst>
              <a:path w="183" h="74">
                <a:moveTo>
                  <a:pt x="27" y="10"/>
                </a:moveTo>
                <a:lnTo>
                  <a:pt x="67" y="10"/>
                </a:lnTo>
                <a:lnTo>
                  <a:pt x="91" y="32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3" y="16"/>
                </a:lnTo>
                <a:lnTo>
                  <a:pt x="156" y="30"/>
                </a:lnTo>
                <a:lnTo>
                  <a:pt x="156" y="20"/>
                </a:lnTo>
                <a:lnTo>
                  <a:pt x="122" y="20"/>
                </a:lnTo>
                <a:lnTo>
                  <a:pt x="99" y="36"/>
                </a:lnTo>
                <a:lnTo>
                  <a:pt x="122" y="54"/>
                </a:lnTo>
                <a:lnTo>
                  <a:pt x="156" y="54"/>
                </a:lnTo>
                <a:lnTo>
                  <a:pt x="156" y="44"/>
                </a:lnTo>
                <a:lnTo>
                  <a:pt x="183" y="60"/>
                </a:lnTo>
                <a:lnTo>
                  <a:pt x="156" y="74"/>
                </a:lnTo>
                <a:lnTo>
                  <a:pt x="156" y="64"/>
                </a:lnTo>
                <a:lnTo>
                  <a:pt x="118" y="64"/>
                </a:lnTo>
                <a:lnTo>
                  <a:pt x="91" y="44"/>
                </a:lnTo>
                <a:lnTo>
                  <a:pt x="67" y="64"/>
                </a:lnTo>
                <a:lnTo>
                  <a:pt x="27" y="64"/>
                </a:lnTo>
                <a:lnTo>
                  <a:pt x="27" y="74"/>
                </a:lnTo>
                <a:lnTo>
                  <a:pt x="0" y="60"/>
                </a:lnTo>
                <a:lnTo>
                  <a:pt x="27" y="44"/>
                </a:lnTo>
                <a:lnTo>
                  <a:pt x="27" y="54"/>
                </a:lnTo>
                <a:lnTo>
                  <a:pt x="63" y="54"/>
                </a:lnTo>
                <a:lnTo>
                  <a:pt x="86" y="38"/>
                </a:lnTo>
                <a:lnTo>
                  <a:pt x="63" y="20"/>
                </a:lnTo>
                <a:lnTo>
                  <a:pt x="27" y="20"/>
                </a:lnTo>
                <a:lnTo>
                  <a:pt x="27" y="30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17400" y="247968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E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417400" y="368316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E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52760" y="2193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52760" y="24447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452760" y="2693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52760" y="2944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52760" y="3193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452760" y="3444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52760" y="3695760"/>
            <a:ext cx="1800" cy="1522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52760" y="3944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52760" y="4195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52760" y="4444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452760" y="4695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52760" y="49449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52760" y="5195880"/>
            <a:ext cx="1800" cy="115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24360" y="2193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24360" y="24447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24360" y="2693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24360" y="2944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24360" y="3193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24360" y="3444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24360" y="3695760"/>
            <a:ext cx="1800" cy="1522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24360" y="3944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724360" y="4195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24360" y="4444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24360" y="4695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24360" y="49449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24360" y="5195880"/>
            <a:ext cx="1800" cy="115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24000" y="5445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632400" y="5734080"/>
            <a:ext cx="260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RE 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(Provider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088040" y="2193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8040" y="24447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88040" y="2693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88040" y="2944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88040" y="3193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88040" y="3444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088040" y="3695760"/>
            <a:ext cx="1800" cy="1522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88040" y="3944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088040" y="4195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088040" y="4444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88040" y="4695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88040" y="49449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088040" y="5195880"/>
            <a:ext cx="1800" cy="115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89080" y="2193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89080" y="24447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89080" y="2693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089080" y="2944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89080" y="3193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89080" y="3444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89080" y="3695760"/>
            <a:ext cx="1800" cy="1522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89080" y="394488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89080" y="419580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89080" y="444492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89080" y="469584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89080" y="4944960"/>
            <a:ext cx="1800" cy="15408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89080" y="5195880"/>
            <a:ext cx="1800" cy="115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06960" y="1901880"/>
            <a:ext cx="800280" cy="144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70120" y="159228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97360" y="2963880"/>
            <a:ext cx="895320" cy="1440"/>
          </a:xfrm>
          <a:custGeom>
            <a:avLst/>
            <a:gdLst/>
            <a:ahLst/>
            <a:rect l="l" t="t" r="r" b="b"/>
            <a:pathLst>
              <a:path w="564" h="0">
                <a:moveTo>
                  <a:pt x="0" y="0"/>
                </a:moveTo>
                <a:lnTo>
                  <a:pt x="216" y="0"/>
                </a:lnTo>
                <a:lnTo>
                  <a:pt x="564" y="0"/>
                </a:lnTo>
              </a:path>
            </a:pathLst>
          </a:custGeom>
          <a:noFill/>
          <a:ln w="176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70400" y="2982960"/>
            <a:ext cx="909720" cy="144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997360" y="4168800"/>
            <a:ext cx="895320" cy="144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270400" y="4168800"/>
            <a:ext cx="909720" cy="144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61040" y="2967120"/>
            <a:ext cx="439560" cy="120168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4360680" y="2967120"/>
            <a:ext cx="439560" cy="120168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361040" y="2967120"/>
            <a:ext cx="439560" cy="14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61040" y="4168800"/>
            <a:ext cx="439560" cy="14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33880" y="3328920"/>
            <a:ext cx="1440" cy="48096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986360" y="3328920"/>
            <a:ext cx="1440" cy="48096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068480" y="196056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68480" y="22096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68480" y="246060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68480" y="270972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68480" y="296064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68480" y="3211560"/>
            <a:ext cx="1440" cy="152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68480" y="34606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68480" y="371160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68480" y="396072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068480" y="421164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8480" y="446076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68480" y="47116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68480" y="496080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68480" y="5211720"/>
            <a:ext cx="1440" cy="115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16000" y="1916280"/>
            <a:ext cx="934920" cy="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05440" y="159228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236000" y="1916280"/>
            <a:ext cx="946080" cy="144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87280" y="165276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70240" y="1889280"/>
            <a:ext cx="799920" cy="144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633040" y="159876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167680" y="196056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167680" y="22096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167680" y="246060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167680" y="270972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167680" y="296064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167680" y="3211560"/>
            <a:ext cx="1440" cy="152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167680" y="34606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167680" y="371160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167680" y="396072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167680" y="421164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167680" y="446076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167680" y="47116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167680" y="496080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167680" y="5211720"/>
            <a:ext cx="1440" cy="115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3216240"/>
            <a:ext cx="339840" cy="1173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2360" y="3191040"/>
            <a:ext cx="339480" cy="838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2360" y="3191040"/>
            <a:ext cx="339480" cy="838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129120"/>
            <a:ext cx="339840" cy="1188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15160" y="314316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0"/>
                </a:moveTo>
                <a:lnTo>
                  <a:pt x="17" y="24"/>
                </a:lnTo>
                <a:lnTo>
                  <a:pt x="56" y="8"/>
                </a:lnTo>
                <a:lnTo>
                  <a:pt x="73" y="14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15160" y="314316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0"/>
                </a:moveTo>
                <a:lnTo>
                  <a:pt x="17" y="24"/>
                </a:lnTo>
                <a:lnTo>
                  <a:pt x="56" y="8"/>
                </a:lnTo>
                <a:lnTo>
                  <a:pt x="73" y="14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94560" y="319104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4"/>
                </a:moveTo>
                <a:lnTo>
                  <a:pt x="55" y="0"/>
                </a:lnTo>
                <a:lnTo>
                  <a:pt x="19" y="15"/>
                </a:lnTo>
                <a:lnTo>
                  <a:pt x="0" y="10"/>
                </a:lnTo>
                <a:lnTo>
                  <a:pt x="9" y="25"/>
                </a:lnTo>
                <a:lnTo>
                  <a:pt x="55" y="25"/>
                </a:lnTo>
                <a:lnTo>
                  <a:pt x="36" y="19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94560" y="319104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4"/>
                </a:moveTo>
                <a:lnTo>
                  <a:pt x="55" y="0"/>
                </a:lnTo>
                <a:lnTo>
                  <a:pt x="19" y="15"/>
                </a:lnTo>
                <a:lnTo>
                  <a:pt x="0" y="10"/>
                </a:lnTo>
                <a:lnTo>
                  <a:pt x="9" y="25"/>
                </a:lnTo>
                <a:lnTo>
                  <a:pt x="55" y="25"/>
                </a:lnTo>
                <a:lnTo>
                  <a:pt x="36" y="19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01040" y="314316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601040" y="314316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11920" y="3193920"/>
            <a:ext cx="113040" cy="3996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19"/>
                </a:moveTo>
                <a:lnTo>
                  <a:pt x="56" y="25"/>
                </a:lnTo>
                <a:lnTo>
                  <a:pt x="19" y="8"/>
                </a:lnTo>
                <a:lnTo>
                  <a:pt x="0" y="13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711920" y="3193920"/>
            <a:ext cx="113040" cy="3996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19"/>
                </a:moveTo>
                <a:lnTo>
                  <a:pt x="56" y="25"/>
                </a:lnTo>
                <a:lnTo>
                  <a:pt x="19" y="8"/>
                </a:lnTo>
                <a:lnTo>
                  <a:pt x="0" y="13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718400" y="31464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18"/>
                </a:moveTo>
                <a:lnTo>
                  <a:pt x="15" y="24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718400" y="31464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18"/>
                </a:moveTo>
                <a:lnTo>
                  <a:pt x="15" y="24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97800" y="3191040"/>
            <a:ext cx="111240" cy="42840"/>
          </a:xfrm>
          <a:custGeom>
            <a:avLst/>
            <a:gdLst/>
            <a:ahLst/>
            <a:rect l="l" t="t" r="r" b="b"/>
            <a:pathLst>
              <a:path w="70" h="27">
                <a:moveTo>
                  <a:pt x="70" y="6"/>
                </a:moveTo>
                <a:lnTo>
                  <a:pt x="55" y="0"/>
                </a:lnTo>
                <a:lnTo>
                  <a:pt x="17" y="17"/>
                </a:lnTo>
                <a:lnTo>
                  <a:pt x="0" y="13"/>
                </a:lnTo>
                <a:lnTo>
                  <a:pt x="9" y="27"/>
                </a:lnTo>
                <a:lnTo>
                  <a:pt x="55" y="27"/>
                </a:lnTo>
                <a:lnTo>
                  <a:pt x="34" y="21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97800" y="3191040"/>
            <a:ext cx="111240" cy="42840"/>
          </a:xfrm>
          <a:custGeom>
            <a:avLst/>
            <a:gdLst/>
            <a:ahLst/>
            <a:rect l="l" t="t" r="r" b="b"/>
            <a:pathLst>
              <a:path w="70" h="27">
                <a:moveTo>
                  <a:pt x="70" y="6"/>
                </a:moveTo>
                <a:lnTo>
                  <a:pt x="55" y="0"/>
                </a:lnTo>
                <a:lnTo>
                  <a:pt x="17" y="17"/>
                </a:lnTo>
                <a:lnTo>
                  <a:pt x="0" y="13"/>
                </a:lnTo>
                <a:lnTo>
                  <a:pt x="9" y="27"/>
                </a:lnTo>
                <a:lnTo>
                  <a:pt x="55" y="27"/>
                </a:lnTo>
                <a:lnTo>
                  <a:pt x="34" y="21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04280" y="314316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70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604280" y="314316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70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15160" y="3193920"/>
            <a:ext cx="112680" cy="3996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21"/>
                </a:moveTo>
                <a:lnTo>
                  <a:pt x="56" y="25"/>
                </a:lnTo>
                <a:lnTo>
                  <a:pt x="17" y="11"/>
                </a:lnTo>
                <a:lnTo>
                  <a:pt x="0" y="15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15160" y="3193920"/>
            <a:ext cx="112680" cy="3996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21"/>
                </a:moveTo>
                <a:lnTo>
                  <a:pt x="56" y="25"/>
                </a:lnTo>
                <a:lnTo>
                  <a:pt x="17" y="11"/>
                </a:lnTo>
                <a:lnTo>
                  <a:pt x="0" y="15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42360" y="3187800"/>
            <a:ext cx="1440" cy="838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881840" y="3187800"/>
            <a:ext cx="1800" cy="83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691320" y="2712960"/>
            <a:ext cx="882720" cy="270000"/>
          </a:xfrm>
          <a:custGeom>
            <a:avLst/>
            <a:gdLst/>
            <a:ahLst/>
            <a:rect l="l" t="t" r="r" b="b"/>
            <a:pathLst>
              <a:path w="556" h="170">
                <a:moveTo>
                  <a:pt x="556" y="0"/>
                </a:moveTo>
                <a:lnTo>
                  <a:pt x="0" y="170"/>
                </a:lnTo>
                <a:lnTo>
                  <a:pt x="556" y="170"/>
                </a:lnTo>
              </a:path>
            </a:pathLst>
          </a:custGeom>
          <a:noFill/>
          <a:ln w="176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6691320" y="2982960"/>
            <a:ext cx="851040" cy="24120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43800" y="2679840"/>
            <a:ext cx="339840" cy="1220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42360" y="2655720"/>
            <a:ext cx="339480" cy="874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542360" y="2655720"/>
            <a:ext cx="339480" cy="874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543800" y="2593800"/>
            <a:ext cx="339840" cy="120960"/>
          </a:xfrm>
          <a:prstGeom prst="ellipse">
            <a:avLst/>
          </a:prstGeom>
          <a:solidFill>
            <a:srgbClr val="00b4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15160" y="2608200"/>
            <a:ext cx="115920" cy="41400"/>
          </a:xfrm>
          <a:custGeom>
            <a:avLst/>
            <a:gdLst/>
            <a:ahLst/>
            <a:rect l="l" t="t" r="r" b="b"/>
            <a:pathLst>
              <a:path w="73" h="26">
                <a:moveTo>
                  <a:pt x="0" y="20"/>
                </a:moveTo>
                <a:lnTo>
                  <a:pt x="17" y="26"/>
                </a:lnTo>
                <a:lnTo>
                  <a:pt x="56" y="10"/>
                </a:lnTo>
                <a:lnTo>
                  <a:pt x="73" y="14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15160" y="2608200"/>
            <a:ext cx="115920" cy="41400"/>
          </a:xfrm>
          <a:custGeom>
            <a:avLst/>
            <a:gdLst/>
            <a:ahLst/>
            <a:rect l="l" t="t" r="r" b="b"/>
            <a:pathLst>
              <a:path w="73" h="26">
                <a:moveTo>
                  <a:pt x="0" y="20"/>
                </a:moveTo>
                <a:lnTo>
                  <a:pt x="17" y="26"/>
                </a:lnTo>
                <a:lnTo>
                  <a:pt x="56" y="10"/>
                </a:lnTo>
                <a:lnTo>
                  <a:pt x="73" y="14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94560" y="265572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5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5" y="26"/>
                </a:lnTo>
                <a:lnTo>
                  <a:pt x="36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94560" y="265572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5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5" y="26"/>
                </a:lnTo>
                <a:lnTo>
                  <a:pt x="36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01040" y="260820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01040" y="260820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11920" y="2658960"/>
            <a:ext cx="11304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11920" y="2658960"/>
            <a:ext cx="11304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18400" y="261144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20"/>
                </a:moveTo>
                <a:lnTo>
                  <a:pt x="15" y="24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718400" y="261144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20"/>
                </a:moveTo>
                <a:lnTo>
                  <a:pt x="15" y="24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97800" y="265572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8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2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97800" y="265572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8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2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604280" y="2608200"/>
            <a:ext cx="11088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70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04280" y="2608200"/>
            <a:ext cx="11088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70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15160" y="266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7" y="8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15160" y="266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7" y="8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542360" y="2652840"/>
            <a:ext cx="1440" cy="871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881840" y="26528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2952720"/>
            <a:ext cx="339840" cy="1191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542360" y="2928960"/>
            <a:ext cx="339480" cy="824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542360" y="2928960"/>
            <a:ext cx="339480" cy="824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43800" y="2865600"/>
            <a:ext cx="339840" cy="1188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15160" y="287964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0" y="21"/>
                </a:moveTo>
                <a:lnTo>
                  <a:pt x="17" y="25"/>
                </a:lnTo>
                <a:lnTo>
                  <a:pt x="56" y="9"/>
                </a:lnTo>
                <a:lnTo>
                  <a:pt x="73" y="15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715160" y="287964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0" y="21"/>
                </a:moveTo>
                <a:lnTo>
                  <a:pt x="17" y="25"/>
                </a:lnTo>
                <a:lnTo>
                  <a:pt x="56" y="9"/>
                </a:lnTo>
                <a:lnTo>
                  <a:pt x="73" y="15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594560" y="29289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4"/>
                </a:moveTo>
                <a:lnTo>
                  <a:pt x="55" y="0"/>
                </a:lnTo>
                <a:lnTo>
                  <a:pt x="19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6" y="18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594560" y="29289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4"/>
                </a:moveTo>
                <a:lnTo>
                  <a:pt x="55" y="0"/>
                </a:lnTo>
                <a:lnTo>
                  <a:pt x="19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6" y="18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01040" y="287964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4"/>
                </a:moveTo>
                <a:lnTo>
                  <a:pt x="15" y="0"/>
                </a:lnTo>
                <a:lnTo>
                  <a:pt x="53" y="15"/>
                </a:lnTo>
                <a:lnTo>
                  <a:pt x="70" y="11"/>
                </a:lnTo>
                <a:lnTo>
                  <a:pt x="61" y="25"/>
                </a:lnTo>
                <a:lnTo>
                  <a:pt x="17" y="25"/>
                </a:lnTo>
                <a:lnTo>
                  <a:pt x="36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01040" y="287964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4"/>
                </a:moveTo>
                <a:lnTo>
                  <a:pt x="15" y="0"/>
                </a:lnTo>
                <a:lnTo>
                  <a:pt x="53" y="15"/>
                </a:lnTo>
                <a:lnTo>
                  <a:pt x="70" y="11"/>
                </a:lnTo>
                <a:lnTo>
                  <a:pt x="61" y="25"/>
                </a:lnTo>
                <a:lnTo>
                  <a:pt x="17" y="25"/>
                </a:lnTo>
                <a:lnTo>
                  <a:pt x="36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11920" y="2932200"/>
            <a:ext cx="11304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9" y="8"/>
                </a:lnTo>
                <a:lnTo>
                  <a:pt x="0" y="12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711920" y="2932200"/>
            <a:ext cx="11304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9" y="8"/>
                </a:lnTo>
                <a:lnTo>
                  <a:pt x="0" y="12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718400" y="288288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19"/>
                </a:moveTo>
                <a:lnTo>
                  <a:pt x="15" y="25"/>
                </a:lnTo>
                <a:lnTo>
                  <a:pt x="54" y="9"/>
                </a:lnTo>
                <a:lnTo>
                  <a:pt x="71" y="15"/>
                </a:lnTo>
                <a:lnTo>
                  <a:pt x="61" y="0"/>
                </a:lnTo>
                <a:lnTo>
                  <a:pt x="17" y="0"/>
                </a:lnTo>
                <a:lnTo>
                  <a:pt x="36" y="5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18400" y="288288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19"/>
                </a:moveTo>
                <a:lnTo>
                  <a:pt x="15" y="25"/>
                </a:lnTo>
                <a:lnTo>
                  <a:pt x="54" y="9"/>
                </a:lnTo>
                <a:lnTo>
                  <a:pt x="71" y="15"/>
                </a:lnTo>
                <a:lnTo>
                  <a:pt x="61" y="0"/>
                </a:lnTo>
                <a:lnTo>
                  <a:pt x="17" y="0"/>
                </a:lnTo>
                <a:lnTo>
                  <a:pt x="36" y="5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597800" y="292896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6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0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597800" y="292896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6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0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04280" y="287964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7"/>
                </a:moveTo>
                <a:lnTo>
                  <a:pt x="15" y="0"/>
                </a:lnTo>
                <a:lnTo>
                  <a:pt x="53" y="17"/>
                </a:lnTo>
                <a:lnTo>
                  <a:pt x="70" y="13"/>
                </a:lnTo>
                <a:lnTo>
                  <a:pt x="61" y="25"/>
                </a:lnTo>
                <a:lnTo>
                  <a:pt x="17" y="25"/>
                </a:lnTo>
                <a:lnTo>
                  <a:pt x="34" y="21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04280" y="287964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7"/>
                </a:moveTo>
                <a:lnTo>
                  <a:pt x="15" y="0"/>
                </a:lnTo>
                <a:lnTo>
                  <a:pt x="53" y="17"/>
                </a:lnTo>
                <a:lnTo>
                  <a:pt x="70" y="13"/>
                </a:lnTo>
                <a:lnTo>
                  <a:pt x="61" y="25"/>
                </a:lnTo>
                <a:lnTo>
                  <a:pt x="17" y="25"/>
                </a:lnTo>
                <a:lnTo>
                  <a:pt x="34" y="21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15160" y="293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7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715160" y="293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7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42360" y="2925720"/>
            <a:ext cx="1440" cy="824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81840" y="2925720"/>
            <a:ext cx="1800" cy="8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85080" y="2681280"/>
            <a:ext cx="5666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85080" y="2922480"/>
            <a:ext cx="9097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85080" y="3224160"/>
            <a:ext cx="5666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451720" y="2081160"/>
            <a:ext cx="1800" cy="6937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51720" y="220032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451720" y="243828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51720" y="267480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597880" y="2139840"/>
            <a:ext cx="12060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97880" y="2630520"/>
            <a:ext cx="12060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597880" y="2386080"/>
            <a:ext cx="120600" cy="9360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794800" y="2562120"/>
            <a:ext cx="1440" cy="6937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794800" y="268128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794800" y="291924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794800" y="315612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939160" y="2620800"/>
            <a:ext cx="12240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939160" y="3111480"/>
            <a:ext cx="12240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939160" y="2867040"/>
            <a:ext cx="122400" cy="9360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529400" y="4386240"/>
            <a:ext cx="339840" cy="12240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527960" y="4362480"/>
            <a:ext cx="339840" cy="856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527960" y="4362480"/>
            <a:ext cx="339840" cy="856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529400" y="4299120"/>
            <a:ext cx="339840" cy="1220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701120" y="4313160"/>
            <a:ext cx="114120" cy="42840"/>
          </a:xfrm>
          <a:custGeom>
            <a:avLst/>
            <a:gdLst/>
            <a:ahLst/>
            <a:rect l="l" t="t" r="r" b="b"/>
            <a:pathLst>
              <a:path w="72" h="27">
                <a:moveTo>
                  <a:pt x="0" y="21"/>
                </a:moveTo>
                <a:lnTo>
                  <a:pt x="17" y="27"/>
                </a:lnTo>
                <a:lnTo>
                  <a:pt x="55" y="10"/>
                </a:lnTo>
                <a:lnTo>
                  <a:pt x="72" y="15"/>
                </a:lnTo>
                <a:lnTo>
                  <a:pt x="63" y="0"/>
                </a:lnTo>
                <a:lnTo>
                  <a:pt x="17" y="0"/>
                </a:lnTo>
                <a:lnTo>
                  <a:pt x="36" y="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701120" y="4313160"/>
            <a:ext cx="114120" cy="42840"/>
          </a:xfrm>
          <a:custGeom>
            <a:avLst/>
            <a:gdLst/>
            <a:ahLst/>
            <a:rect l="l" t="t" r="r" b="b"/>
            <a:pathLst>
              <a:path w="72" h="27">
                <a:moveTo>
                  <a:pt x="0" y="21"/>
                </a:moveTo>
                <a:lnTo>
                  <a:pt x="17" y="27"/>
                </a:lnTo>
                <a:lnTo>
                  <a:pt x="55" y="10"/>
                </a:lnTo>
                <a:lnTo>
                  <a:pt x="72" y="15"/>
                </a:lnTo>
                <a:lnTo>
                  <a:pt x="63" y="0"/>
                </a:lnTo>
                <a:lnTo>
                  <a:pt x="17" y="0"/>
                </a:lnTo>
                <a:lnTo>
                  <a:pt x="36" y="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78720" y="436248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6" y="0"/>
                </a:lnTo>
                <a:lnTo>
                  <a:pt x="19" y="16"/>
                </a:lnTo>
                <a:lnTo>
                  <a:pt x="0" y="10"/>
                </a:lnTo>
                <a:lnTo>
                  <a:pt x="10" y="26"/>
                </a:lnTo>
                <a:lnTo>
                  <a:pt x="56" y="26"/>
                </a:lnTo>
                <a:lnTo>
                  <a:pt x="37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578720" y="436248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6" y="0"/>
                </a:lnTo>
                <a:lnTo>
                  <a:pt x="19" y="16"/>
                </a:lnTo>
                <a:lnTo>
                  <a:pt x="0" y="10"/>
                </a:lnTo>
                <a:lnTo>
                  <a:pt x="10" y="26"/>
                </a:lnTo>
                <a:lnTo>
                  <a:pt x="56" y="26"/>
                </a:lnTo>
                <a:lnTo>
                  <a:pt x="37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585200" y="431316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4"/>
                </a:moveTo>
                <a:lnTo>
                  <a:pt x="15" y="0"/>
                </a:lnTo>
                <a:lnTo>
                  <a:pt x="54" y="15"/>
                </a:lnTo>
                <a:lnTo>
                  <a:pt x="71" y="10"/>
                </a:lnTo>
                <a:lnTo>
                  <a:pt x="61" y="25"/>
                </a:lnTo>
                <a:lnTo>
                  <a:pt x="17" y="25"/>
                </a:lnTo>
                <a:lnTo>
                  <a:pt x="36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85200" y="431316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4"/>
                </a:moveTo>
                <a:lnTo>
                  <a:pt x="15" y="0"/>
                </a:lnTo>
                <a:lnTo>
                  <a:pt x="54" y="15"/>
                </a:lnTo>
                <a:lnTo>
                  <a:pt x="71" y="10"/>
                </a:lnTo>
                <a:lnTo>
                  <a:pt x="61" y="25"/>
                </a:lnTo>
                <a:lnTo>
                  <a:pt x="17" y="25"/>
                </a:lnTo>
                <a:lnTo>
                  <a:pt x="36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97880" y="436572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20"/>
                </a:moveTo>
                <a:lnTo>
                  <a:pt x="55" y="24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97880" y="436572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20"/>
                </a:moveTo>
                <a:lnTo>
                  <a:pt x="55" y="24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04000" y="4316400"/>
            <a:ext cx="11124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21"/>
                </a:moveTo>
                <a:lnTo>
                  <a:pt x="15" y="25"/>
                </a:lnTo>
                <a:lnTo>
                  <a:pt x="53" y="8"/>
                </a:lnTo>
                <a:lnTo>
                  <a:pt x="70" y="15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704000" y="4316400"/>
            <a:ext cx="11124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21"/>
                </a:moveTo>
                <a:lnTo>
                  <a:pt x="15" y="25"/>
                </a:lnTo>
                <a:lnTo>
                  <a:pt x="53" y="8"/>
                </a:lnTo>
                <a:lnTo>
                  <a:pt x="70" y="15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581960" y="436248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6"/>
                </a:moveTo>
                <a:lnTo>
                  <a:pt x="56" y="0"/>
                </a:lnTo>
                <a:lnTo>
                  <a:pt x="17" y="18"/>
                </a:lnTo>
                <a:lnTo>
                  <a:pt x="0" y="12"/>
                </a:lnTo>
                <a:lnTo>
                  <a:pt x="10" y="26"/>
                </a:lnTo>
                <a:lnTo>
                  <a:pt x="56" y="26"/>
                </a:lnTo>
                <a:lnTo>
                  <a:pt x="35" y="22"/>
                </a:lnTo>
                <a:lnTo>
                  <a:pt x="71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581960" y="436248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6"/>
                </a:moveTo>
                <a:lnTo>
                  <a:pt x="56" y="0"/>
                </a:lnTo>
                <a:lnTo>
                  <a:pt x="17" y="18"/>
                </a:lnTo>
                <a:lnTo>
                  <a:pt x="0" y="12"/>
                </a:lnTo>
                <a:lnTo>
                  <a:pt x="10" y="26"/>
                </a:lnTo>
                <a:lnTo>
                  <a:pt x="56" y="26"/>
                </a:lnTo>
                <a:lnTo>
                  <a:pt x="35" y="22"/>
                </a:lnTo>
                <a:lnTo>
                  <a:pt x="71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588080" y="4313160"/>
            <a:ext cx="11304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0" y="6"/>
                </a:moveTo>
                <a:lnTo>
                  <a:pt x="15" y="0"/>
                </a:lnTo>
                <a:lnTo>
                  <a:pt x="54" y="17"/>
                </a:lnTo>
                <a:lnTo>
                  <a:pt x="71" y="12"/>
                </a:lnTo>
                <a:lnTo>
                  <a:pt x="61" y="27"/>
                </a:lnTo>
                <a:lnTo>
                  <a:pt x="17" y="27"/>
                </a:lnTo>
                <a:lnTo>
                  <a:pt x="34" y="23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588080" y="4313160"/>
            <a:ext cx="11304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0" y="6"/>
                </a:moveTo>
                <a:lnTo>
                  <a:pt x="15" y="0"/>
                </a:lnTo>
                <a:lnTo>
                  <a:pt x="54" y="17"/>
                </a:lnTo>
                <a:lnTo>
                  <a:pt x="71" y="12"/>
                </a:lnTo>
                <a:lnTo>
                  <a:pt x="61" y="27"/>
                </a:lnTo>
                <a:lnTo>
                  <a:pt x="17" y="27"/>
                </a:lnTo>
                <a:lnTo>
                  <a:pt x="34" y="23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701120" y="4368960"/>
            <a:ext cx="110880" cy="3780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18"/>
                </a:moveTo>
                <a:lnTo>
                  <a:pt x="55" y="24"/>
                </a:lnTo>
                <a:lnTo>
                  <a:pt x="17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4" y="4"/>
                </a:lnTo>
                <a:lnTo>
                  <a:pt x="7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01120" y="4368960"/>
            <a:ext cx="110880" cy="3780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18"/>
                </a:moveTo>
                <a:lnTo>
                  <a:pt x="55" y="24"/>
                </a:lnTo>
                <a:lnTo>
                  <a:pt x="17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4" y="4"/>
                </a:lnTo>
                <a:lnTo>
                  <a:pt x="7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27960" y="4359240"/>
            <a:ext cx="1440" cy="856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867800" y="4359240"/>
            <a:ext cx="14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76920" y="3884760"/>
            <a:ext cx="881280" cy="271440"/>
          </a:xfrm>
          <a:custGeom>
            <a:avLst/>
            <a:gdLst/>
            <a:ahLst/>
            <a:rect l="l" t="t" r="r" b="b"/>
            <a:pathLst>
              <a:path w="555" h="171">
                <a:moveTo>
                  <a:pt x="555" y="0"/>
                </a:moveTo>
                <a:lnTo>
                  <a:pt x="0" y="171"/>
                </a:lnTo>
                <a:lnTo>
                  <a:pt x="555" y="171"/>
                </a:lnTo>
              </a:path>
            </a:pathLst>
          </a:custGeom>
          <a:noFill/>
          <a:ln w="176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6676920" y="4156200"/>
            <a:ext cx="851040" cy="24120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29400" y="3852720"/>
            <a:ext cx="339840" cy="1191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27960" y="3828960"/>
            <a:ext cx="339840" cy="842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27960" y="3828960"/>
            <a:ext cx="339840" cy="842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29400" y="3767040"/>
            <a:ext cx="339840" cy="11916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1120" y="3781440"/>
            <a:ext cx="114120" cy="38160"/>
          </a:xfrm>
          <a:custGeom>
            <a:avLst/>
            <a:gdLst/>
            <a:ahLst/>
            <a:rect l="l" t="t" r="r" b="b"/>
            <a:pathLst>
              <a:path w="72" h="24">
                <a:moveTo>
                  <a:pt x="0" y="20"/>
                </a:moveTo>
                <a:lnTo>
                  <a:pt x="17" y="24"/>
                </a:lnTo>
                <a:lnTo>
                  <a:pt x="55" y="8"/>
                </a:lnTo>
                <a:lnTo>
                  <a:pt x="72" y="14"/>
                </a:lnTo>
                <a:lnTo>
                  <a:pt x="63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701120" y="3781440"/>
            <a:ext cx="114120" cy="38160"/>
          </a:xfrm>
          <a:custGeom>
            <a:avLst/>
            <a:gdLst/>
            <a:ahLst/>
            <a:rect l="l" t="t" r="r" b="b"/>
            <a:pathLst>
              <a:path w="72" h="24">
                <a:moveTo>
                  <a:pt x="0" y="20"/>
                </a:moveTo>
                <a:lnTo>
                  <a:pt x="17" y="24"/>
                </a:lnTo>
                <a:lnTo>
                  <a:pt x="55" y="8"/>
                </a:lnTo>
                <a:lnTo>
                  <a:pt x="72" y="14"/>
                </a:lnTo>
                <a:lnTo>
                  <a:pt x="63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578720" y="382896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4"/>
                </a:moveTo>
                <a:lnTo>
                  <a:pt x="56" y="0"/>
                </a:lnTo>
                <a:lnTo>
                  <a:pt x="19" y="14"/>
                </a:lnTo>
                <a:lnTo>
                  <a:pt x="0" y="10"/>
                </a:lnTo>
                <a:lnTo>
                  <a:pt x="10" y="25"/>
                </a:lnTo>
                <a:lnTo>
                  <a:pt x="56" y="25"/>
                </a:lnTo>
                <a:lnTo>
                  <a:pt x="37" y="19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78720" y="382896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4"/>
                </a:moveTo>
                <a:lnTo>
                  <a:pt x="56" y="0"/>
                </a:lnTo>
                <a:lnTo>
                  <a:pt x="19" y="14"/>
                </a:lnTo>
                <a:lnTo>
                  <a:pt x="0" y="10"/>
                </a:lnTo>
                <a:lnTo>
                  <a:pt x="10" y="25"/>
                </a:lnTo>
                <a:lnTo>
                  <a:pt x="56" y="25"/>
                </a:lnTo>
                <a:lnTo>
                  <a:pt x="37" y="19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85200" y="378144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4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85200" y="378144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4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97880" y="383220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19"/>
                </a:moveTo>
                <a:lnTo>
                  <a:pt x="55" y="25"/>
                </a:lnTo>
                <a:lnTo>
                  <a:pt x="19" y="8"/>
                </a:lnTo>
                <a:lnTo>
                  <a:pt x="0" y="12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97880" y="383220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19"/>
                </a:moveTo>
                <a:lnTo>
                  <a:pt x="55" y="25"/>
                </a:lnTo>
                <a:lnTo>
                  <a:pt x="19" y="8"/>
                </a:lnTo>
                <a:lnTo>
                  <a:pt x="0" y="12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704000" y="378468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18"/>
                </a:moveTo>
                <a:lnTo>
                  <a:pt x="15" y="24"/>
                </a:lnTo>
                <a:lnTo>
                  <a:pt x="53" y="8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704000" y="378468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18"/>
                </a:moveTo>
                <a:lnTo>
                  <a:pt x="15" y="24"/>
                </a:lnTo>
                <a:lnTo>
                  <a:pt x="53" y="8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81960" y="382896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71" y="6"/>
                </a:moveTo>
                <a:lnTo>
                  <a:pt x="56" y="0"/>
                </a:lnTo>
                <a:lnTo>
                  <a:pt x="17" y="17"/>
                </a:lnTo>
                <a:lnTo>
                  <a:pt x="0" y="12"/>
                </a:lnTo>
                <a:lnTo>
                  <a:pt x="10" y="27"/>
                </a:lnTo>
                <a:lnTo>
                  <a:pt x="56" y="27"/>
                </a:lnTo>
                <a:lnTo>
                  <a:pt x="35" y="21"/>
                </a:lnTo>
                <a:lnTo>
                  <a:pt x="71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81960" y="382896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71" y="6"/>
                </a:moveTo>
                <a:lnTo>
                  <a:pt x="56" y="0"/>
                </a:lnTo>
                <a:lnTo>
                  <a:pt x="17" y="17"/>
                </a:lnTo>
                <a:lnTo>
                  <a:pt x="0" y="12"/>
                </a:lnTo>
                <a:lnTo>
                  <a:pt x="10" y="27"/>
                </a:lnTo>
                <a:lnTo>
                  <a:pt x="56" y="27"/>
                </a:lnTo>
                <a:lnTo>
                  <a:pt x="35" y="21"/>
                </a:lnTo>
                <a:lnTo>
                  <a:pt x="71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88080" y="3781440"/>
            <a:ext cx="11304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6"/>
                </a:moveTo>
                <a:lnTo>
                  <a:pt x="15" y="0"/>
                </a:lnTo>
                <a:lnTo>
                  <a:pt x="54" y="16"/>
                </a:lnTo>
                <a:lnTo>
                  <a:pt x="71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88080" y="3781440"/>
            <a:ext cx="11304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6"/>
                </a:moveTo>
                <a:lnTo>
                  <a:pt x="15" y="0"/>
                </a:lnTo>
                <a:lnTo>
                  <a:pt x="54" y="16"/>
                </a:lnTo>
                <a:lnTo>
                  <a:pt x="71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701120" y="383220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21"/>
                </a:moveTo>
                <a:lnTo>
                  <a:pt x="55" y="25"/>
                </a:lnTo>
                <a:lnTo>
                  <a:pt x="17" y="10"/>
                </a:lnTo>
                <a:lnTo>
                  <a:pt x="0" y="15"/>
                </a:lnTo>
                <a:lnTo>
                  <a:pt x="9" y="0"/>
                </a:lnTo>
                <a:lnTo>
                  <a:pt x="55" y="0"/>
                </a:lnTo>
                <a:lnTo>
                  <a:pt x="34" y="4"/>
                </a:lnTo>
                <a:lnTo>
                  <a:pt x="70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701120" y="383220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21"/>
                </a:moveTo>
                <a:lnTo>
                  <a:pt x="55" y="25"/>
                </a:lnTo>
                <a:lnTo>
                  <a:pt x="17" y="10"/>
                </a:lnTo>
                <a:lnTo>
                  <a:pt x="0" y="15"/>
                </a:lnTo>
                <a:lnTo>
                  <a:pt x="9" y="0"/>
                </a:lnTo>
                <a:lnTo>
                  <a:pt x="55" y="0"/>
                </a:lnTo>
                <a:lnTo>
                  <a:pt x="34" y="4"/>
                </a:lnTo>
                <a:lnTo>
                  <a:pt x="70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27960" y="3825720"/>
            <a:ext cx="1440" cy="842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867800" y="3825720"/>
            <a:ext cx="1440" cy="84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9400" y="4122720"/>
            <a:ext cx="339840" cy="12240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27960" y="4098960"/>
            <a:ext cx="33984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27960" y="4098960"/>
            <a:ext cx="33984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29400" y="4037040"/>
            <a:ext cx="339840" cy="1206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701120" y="4051440"/>
            <a:ext cx="114120" cy="41040"/>
          </a:xfrm>
          <a:custGeom>
            <a:avLst/>
            <a:gdLst/>
            <a:ahLst/>
            <a:rect l="l" t="t" r="r" b="b"/>
            <a:pathLst>
              <a:path w="72" h="26">
                <a:moveTo>
                  <a:pt x="0" y="20"/>
                </a:moveTo>
                <a:lnTo>
                  <a:pt x="17" y="26"/>
                </a:lnTo>
                <a:lnTo>
                  <a:pt x="55" y="10"/>
                </a:lnTo>
                <a:lnTo>
                  <a:pt x="72" y="14"/>
                </a:lnTo>
                <a:lnTo>
                  <a:pt x="63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701120" y="4051440"/>
            <a:ext cx="114120" cy="41040"/>
          </a:xfrm>
          <a:custGeom>
            <a:avLst/>
            <a:gdLst/>
            <a:ahLst/>
            <a:rect l="l" t="t" r="r" b="b"/>
            <a:pathLst>
              <a:path w="72" h="26">
                <a:moveTo>
                  <a:pt x="0" y="20"/>
                </a:moveTo>
                <a:lnTo>
                  <a:pt x="17" y="26"/>
                </a:lnTo>
                <a:lnTo>
                  <a:pt x="55" y="10"/>
                </a:lnTo>
                <a:lnTo>
                  <a:pt x="72" y="14"/>
                </a:lnTo>
                <a:lnTo>
                  <a:pt x="63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78720" y="409896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6" y="0"/>
                </a:lnTo>
                <a:lnTo>
                  <a:pt x="19" y="16"/>
                </a:lnTo>
                <a:lnTo>
                  <a:pt x="0" y="10"/>
                </a:lnTo>
                <a:lnTo>
                  <a:pt x="10" y="26"/>
                </a:lnTo>
                <a:lnTo>
                  <a:pt x="56" y="26"/>
                </a:lnTo>
                <a:lnTo>
                  <a:pt x="37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78720" y="409896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6" y="0"/>
                </a:lnTo>
                <a:lnTo>
                  <a:pt x="19" y="16"/>
                </a:lnTo>
                <a:lnTo>
                  <a:pt x="0" y="10"/>
                </a:lnTo>
                <a:lnTo>
                  <a:pt x="10" y="26"/>
                </a:lnTo>
                <a:lnTo>
                  <a:pt x="56" y="26"/>
                </a:lnTo>
                <a:lnTo>
                  <a:pt x="37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85200" y="4051440"/>
            <a:ext cx="112680" cy="3780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4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85200" y="4051440"/>
            <a:ext cx="112680" cy="3780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4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97880" y="410220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20"/>
                </a:moveTo>
                <a:lnTo>
                  <a:pt x="55" y="24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97880" y="410220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20"/>
                </a:moveTo>
                <a:lnTo>
                  <a:pt x="55" y="24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704000" y="405432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20"/>
                </a:moveTo>
                <a:lnTo>
                  <a:pt x="15" y="24"/>
                </a:lnTo>
                <a:lnTo>
                  <a:pt x="53" y="8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704000" y="405432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20"/>
                </a:moveTo>
                <a:lnTo>
                  <a:pt x="15" y="24"/>
                </a:lnTo>
                <a:lnTo>
                  <a:pt x="53" y="8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81960" y="409896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6"/>
                </a:moveTo>
                <a:lnTo>
                  <a:pt x="56" y="0"/>
                </a:lnTo>
                <a:lnTo>
                  <a:pt x="17" y="18"/>
                </a:lnTo>
                <a:lnTo>
                  <a:pt x="0" y="12"/>
                </a:lnTo>
                <a:lnTo>
                  <a:pt x="10" y="26"/>
                </a:lnTo>
                <a:lnTo>
                  <a:pt x="56" y="26"/>
                </a:lnTo>
                <a:lnTo>
                  <a:pt x="35" y="22"/>
                </a:lnTo>
                <a:lnTo>
                  <a:pt x="71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581960" y="409896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6"/>
                </a:moveTo>
                <a:lnTo>
                  <a:pt x="56" y="0"/>
                </a:lnTo>
                <a:lnTo>
                  <a:pt x="17" y="18"/>
                </a:lnTo>
                <a:lnTo>
                  <a:pt x="0" y="12"/>
                </a:lnTo>
                <a:lnTo>
                  <a:pt x="10" y="26"/>
                </a:lnTo>
                <a:lnTo>
                  <a:pt x="56" y="26"/>
                </a:lnTo>
                <a:lnTo>
                  <a:pt x="35" y="22"/>
                </a:lnTo>
                <a:lnTo>
                  <a:pt x="71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588080" y="4051440"/>
            <a:ext cx="11304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0" y="6"/>
                </a:moveTo>
                <a:lnTo>
                  <a:pt x="15" y="0"/>
                </a:lnTo>
                <a:lnTo>
                  <a:pt x="54" y="16"/>
                </a:lnTo>
                <a:lnTo>
                  <a:pt x="71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588080" y="4051440"/>
            <a:ext cx="11304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0" y="6"/>
                </a:moveTo>
                <a:lnTo>
                  <a:pt x="15" y="0"/>
                </a:lnTo>
                <a:lnTo>
                  <a:pt x="54" y="16"/>
                </a:lnTo>
                <a:lnTo>
                  <a:pt x="71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701120" y="4105440"/>
            <a:ext cx="110880" cy="3780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18"/>
                </a:moveTo>
                <a:lnTo>
                  <a:pt x="55" y="24"/>
                </a:lnTo>
                <a:lnTo>
                  <a:pt x="17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4" y="4"/>
                </a:lnTo>
                <a:lnTo>
                  <a:pt x="7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701120" y="4105440"/>
            <a:ext cx="110880" cy="3780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18"/>
                </a:moveTo>
                <a:lnTo>
                  <a:pt x="55" y="24"/>
                </a:lnTo>
                <a:lnTo>
                  <a:pt x="17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4" y="4"/>
                </a:lnTo>
                <a:lnTo>
                  <a:pt x="7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527960" y="4095720"/>
            <a:ext cx="1440" cy="87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67800" y="4095720"/>
            <a:ext cx="1440" cy="87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70680" y="3855960"/>
            <a:ext cx="567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870680" y="4095720"/>
            <a:ext cx="9082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870680" y="4397400"/>
            <a:ext cx="567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778960" y="3736800"/>
            <a:ext cx="1440" cy="689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778960" y="385596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778960" y="409248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778960" y="432900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924760" y="3790800"/>
            <a:ext cx="120960" cy="939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924760" y="4284720"/>
            <a:ext cx="120960" cy="90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24760" y="4041720"/>
            <a:ext cx="12096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437680" y="4156200"/>
            <a:ext cx="1440" cy="690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437680" y="4275000"/>
            <a:ext cx="171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437680" y="4513320"/>
            <a:ext cx="171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437680" y="4749840"/>
            <a:ext cx="171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582040" y="4214880"/>
            <a:ext cx="12384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582040" y="4705200"/>
            <a:ext cx="12384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582040" y="4460760"/>
            <a:ext cx="123840" cy="9360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111720" y="4116240"/>
            <a:ext cx="590760" cy="21132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110280" y="4073400"/>
            <a:ext cx="590400" cy="1508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110280" y="4073400"/>
            <a:ext cx="590400" cy="1508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11720" y="3965400"/>
            <a:ext cx="590760" cy="21276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413400" y="3992400"/>
            <a:ext cx="193680" cy="68400"/>
          </a:xfrm>
          <a:custGeom>
            <a:avLst/>
            <a:gdLst/>
            <a:ahLst/>
            <a:rect l="l" t="t" r="r" b="b"/>
            <a:pathLst>
              <a:path w="122" h="43">
                <a:moveTo>
                  <a:pt x="0" y="35"/>
                </a:moveTo>
                <a:lnTo>
                  <a:pt x="26" y="43"/>
                </a:lnTo>
                <a:lnTo>
                  <a:pt x="93" y="17"/>
                </a:lnTo>
                <a:lnTo>
                  <a:pt x="122" y="25"/>
                </a:lnTo>
                <a:lnTo>
                  <a:pt x="106" y="0"/>
                </a:lnTo>
                <a:lnTo>
                  <a:pt x="28" y="0"/>
                </a:lnTo>
                <a:lnTo>
                  <a:pt x="61" y="8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13400" y="3992400"/>
            <a:ext cx="193680" cy="68400"/>
          </a:xfrm>
          <a:custGeom>
            <a:avLst/>
            <a:gdLst/>
            <a:ahLst/>
            <a:rect l="l" t="t" r="r" b="b"/>
            <a:pathLst>
              <a:path w="122" h="43">
                <a:moveTo>
                  <a:pt x="0" y="35"/>
                </a:moveTo>
                <a:lnTo>
                  <a:pt x="26" y="43"/>
                </a:lnTo>
                <a:lnTo>
                  <a:pt x="93" y="17"/>
                </a:lnTo>
                <a:lnTo>
                  <a:pt x="122" y="25"/>
                </a:lnTo>
                <a:lnTo>
                  <a:pt x="106" y="0"/>
                </a:lnTo>
                <a:lnTo>
                  <a:pt x="28" y="0"/>
                </a:lnTo>
                <a:lnTo>
                  <a:pt x="61" y="8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200640" y="407340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200640" y="407340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210360" y="3989520"/>
            <a:ext cx="193680" cy="68040"/>
          </a:xfrm>
          <a:custGeom>
            <a:avLst/>
            <a:gdLst/>
            <a:ahLst/>
            <a:rect l="l" t="t" r="r" b="b"/>
            <a:pathLst>
              <a:path w="122" h="43">
                <a:moveTo>
                  <a:pt x="0" y="10"/>
                </a:moveTo>
                <a:lnTo>
                  <a:pt x="26" y="0"/>
                </a:lnTo>
                <a:lnTo>
                  <a:pt x="93" y="27"/>
                </a:lnTo>
                <a:lnTo>
                  <a:pt x="122" y="21"/>
                </a:lnTo>
                <a:lnTo>
                  <a:pt x="107" y="43"/>
                </a:lnTo>
                <a:lnTo>
                  <a:pt x="30" y="43"/>
                </a:lnTo>
                <a:lnTo>
                  <a:pt x="61" y="37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210360" y="3989520"/>
            <a:ext cx="193680" cy="68040"/>
          </a:xfrm>
          <a:custGeom>
            <a:avLst/>
            <a:gdLst/>
            <a:ahLst/>
            <a:rect l="l" t="t" r="r" b="b"/>
            <a:pathLst>
              <a:path w="122" h="43">
                <a:moveTo>
                  <a:pt x="0" y="10"/>
                </a:moveTo>
                <a:lnTo>
                  <a:pt x="26" y="0"/>
                </a:lnTo>
                <a:lnTo>
                  <a:pt x="93" y="27"/>
                </a:lnTo>
                <a:lnTo>
                  <a:pt x="122" y="21"/>
                </a:lnTo>
                <a:lnTo>
                  <a:pt x="107" y="43"/>
                </a:lnTo>
                <a:lnTo>
                  <a:pt x="30" y="43"/>
                </a:lnTo>
                <a:lnTo>
                  <a:pt x="61" y="37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04040" y="407988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34"/>
                </a:moveTo>
                <a:lnTo>
                  <a:pt x="95" y="44"/>
                </a:lnTo>
                <a:lnTo>
                  <a:pt x="32" y="16"/>
                </a:lnTo>
                <a:lnTo>
                  <a:pt x="0" y="24"/>
                </a:lnTo>
                <a:lnTo>
                  <a:pt x="17" y="0"/>
                </a:lnTo>
                <a:lnTo>
                  <a:pt x="95" y="0"/>
                </a:lnTo>
                <a:lnTo>
                  <a:pt x="61" y="8"/>
                </a:lnTo>
                <a:lnTo>
                  <a:pt x="12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404040" y="407988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34"/>
                </a:moveTo>
                <a:lnTo>
                  <a:pt x="95" y="44"/>
                </a:lnTo>
                <a:lnTo>
                  <a:pt x="32" y="16"/>
                </a:lnTo>
                <a:lnTo>
                  <a:pt x="0" y="24"/>
                </a:lnTo>
                <a:lnTo>
                  <a:pt x="17" y="0"/>
                </a:lnTo>
                <a:lnTo>
                  <a:pt x="95" y="0"/>
                </a:lnTo>
                <a:lnTo>
                  <a:pt x="61" y="8"/>
                </a:lnTo>
                <a:lnTo>
                  <a:pt x="12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15200" y="3998880"/>
            <a:ext cx="195120" cy="68400"/>
          </a:xfrm>
          <a:custGeom>
            <a:avLst/>
            <a:gdLst/>
            <a:ahLst/>
            <a:rect l="l" t="t" r="r" b="b"/>
            <a:pathLst>
              <a:path w="123" h="43">
                <a:moveTo>
                  <a:pt x="0" y="33"/>
                </a:moveTo>
                <a:lnTo>
                  <a:pt x="27" y="43"/>
                </a:lnTo>
                <a:lnTo>
                  <a:pt x="94" y="15"/>
                </a:lnTo>
                <a:lnTo>
                  <a:pt x="123" y="23"/>
                </a:lnTo>
                <a:lnTo>
                  <a:pt x="107" y="0"/>
                </a:lnTo>
                <a:lnTo>
                  <a:pt x="29" y="0"/>
                </a:lnTo>
                <a:lnTo>
                  <a:pt x="62" y="6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415200" y="3998880"/>
            <a:ext cx="195120" cy="68400"/>
          </a:xfrm>
          <a:custGeom>
            <a:avLst/>
            <a:gdLst/>
            <a:ahLst/>
            <a:rect l="l" t="t" r="r" b="b"/>
            <a:pathLst>
              <a:path w="123" h="43">
                <a:moveTo>
                  <a:pt x="0" y="33"/>
                </a:moveTo>
                <a:lnTo>
                  <a:pt x="27" y="43"/>
                </a:lnTo>
                <a:lnTo>
                  <a:pt x="94" y="15"/>
                </a:lnTo>
                <a:lnTo>
                  <a:pt x="123" y="23"/>
                </a:lnTo>
                <a:lnTo>
                  <a:pt x="107" y="0"/>
                </a:lnTo>
                <a:lnTo>
                  <a:pt x="29" y="0"/>
                </a:lnTo>
                <a:lnTo>
                  <a:pt x="62" y="6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03880" y="4076640"/>
            <a:ext cx="193680" cy="73080"/>
          </a:xfrm>
          <a:custGeom>
            <a:avLst/>
            <a:gdLst/>
            <a:ahLst/>
            <a:rect l="l" t="t" r="r" b="b"/>
            <a:pathLst>
              <a:path w="122" h="46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6"/>
                </a:lnTo>
                <a:lnTo>
                  <a:pt x="95" y="46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03880" y="4076640"/>
            <a:ext cx="193680" cy="73080"/>
          </a:xfrm>
          <a:custGeom>
            <a:avLst/>
            <a:gdLst/>
            <a:ahLst/>
            <a:rect l="l" t="t" r="r" b="b"/>
            <a:pathLst>
              <a:path w="122" h="46">
                <a:moveTo>
                  <a:pt x="122" y="10"/>
                </a:moveTo>
                <a:lnTo>
                  <a:pt x="95" y="0"/>
                </a:lnTo>
                <a:lnTo>
                  <a:pt x="30" y="28"/>
                </a:lnTo>
                <a:lnTo>
                  <a:pt x="0" y="20"/>
                </a:lnTo>
                <a:lnTo>
                  <a:pt x="15" y="46"/>
                </a:lnTo>
                <a:lnTo>
                  <a:pt x="95" y="46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15040" y="3992400"/>
            <a:ext cx="195120" cy="68400"/>
          </a:xfrm>
          <a:custGeom>
            <a:avLst/>
            <a:gdLst/>
            <a:ahLst/>
            <a:rect l="l" t="t" r="r" b="b"/>
            <a:pathLst>
              <a:path w="123" h="43">
                <a:moveTo>
                  <a:pt x="0" y="10"/>
                </a:moveTo>
                <a:lnTo>
                  <a:pt x="27" y="0"/>
                </a:lnTo>
                <a:lnTo>
                  <a:pt x="92" y="27"/>
                </a:lnTo>
                <a:lnTo>
                  <a:pt x="123" y="21"/>
                </a:lnTo>
                <a:lnTo>
                  <a:pt x="105" y="43"/>
                </a:lnTo>
                <a:lnTo>
                  <a:pt x="29" y="43"/>
                </a:lnTo>
                <a:lnTo>
                  <a:pt x="62" y="37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215040" y="3992400"/>
            <a:ext cx="195120" cy="68400"/>
          </a:xfrm>
          <a:custGeom>
            <a:avLst/>
            <a:gdLst/>
            <a:ahLst/>
            <a:rect l="l" t="t" r="r" b="b"/>
            <a:pathLst>
              <a:path w="123" h="43">
                <a:moveTo>
                  <a:pt x="0" y="10"/>
                </a:moveTo>
                <a:lnTo>
                  <a:pt x="27" y="0"/>
                </a:lnTo>
                <a:lnTo>
                  <a:pt x="92" y="27"/>
                </a:lnTo>
                <a:lnTo>
                  <a:pt x="123" y="21"/>
                </a:lnTo>
                <a:lnTo>
                  <a:pt x="105" y="43"/>
                </a:lnTo>
                <a:lnTo>
                  <a:pt x="29" y="43"/>
                </a:lnTo>
                <a:lnTo>
                  <a:pt x="62" y="37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10160" y="408636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122" y="32"/>
                </a:moveTo>
                <a:lnTo>
                  <a:pt x="95" y="42"/>
                </a:lnTo>
                <a:lnTo>
                  <a:pt x="30" y="14"/>
                </a:lnTo>
                <a:lnTo>
                  <a:pt x="0" y="22"/>
                </a:lnTo>
                <a:lnTo>
                  <a:pt x="15" y="0"/>
                </a:lnTo>
                <a:lnTo>
                  <a:pt x="95" y="0"/>
                </a:lnTo>
                <a:lnTo>
                  <a:pt x="61" y="6"/>
                </a:lnTo>
                <a:lnTo>
                  <a:pt x="1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410160" y="4086360"/>
            <a:ext cx="193680" cy="66600"/>
          </a:xfrm>
          <a:custGeom>
            <a:avLst/>
            <a:gdLst/>
            <a:ahLst/>
            <a:rect l="l" t="t" r="r" b="b"/>
            <a:pathLst>
              <a:path w="122" h="42">
                <a:moveTo>
                  <a:pt x="122" y="32"/>
                </a:moveTo>
                <a:lnTo>
                  <a:pt x="95" y="42"/>
                </a:lnTo>
                <a:lnTo>
                  <a:pt x="30" y="14"/>
                </a:lnTo>
                <a:lnTo>
                  <a:pt x="0" y="22"/>
                </a:lnTo>
                <a:lnTo>
                  <a:pt x="15" y="0"/>
                </a:lnTo>
                <a:lnTo>
                  <a:pt x="95" y="0"/>
                </a:lnTo>
                <a:lnTo>
                  <a:pt x="61" y="6"/>
                </a:lnTo>
                <a:lnTo>
                  <a:pt x="1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10280" y="4070520"/>
            <a:ext cx="1440" cy="150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700680" y="4070520"/>
            <a:ext cx="1800" cy="150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51400" y="4186080"/>
            <a:ext cx="293760" cy="117720"/>
          </a:xfrm>
          <a:custGeom>
            <a:avLst/>
            <a:gdLst/>
            <a:ahLst/>
            <a:rect l="l" t="t" r="r" b="b"/>
            <a:pathLst>
              <a:path w="185" h="74">
                <a:moveTo>
                  <a:pt x="29" y="10"/>
                </a:moveTo>
                <a:lnTo>
                  <a:pt x="69" y="10"/>
                </a:lnTo>
                <a:lnTo>
                  <a:pt x="94" y="32"/>
                </a:lnTo>
                <a:lnTo>
                  <a:pt x="119" y="10"/>
                </a:lnTo>
                <a:lnTo>
                  <a:pt x="157" y="10"/>
                </a:lnTo>
                <a:lnTo>
                  <a:pt x="157" y="0"/>
                </a:lnTo>
                <a:lnTo>
                  <a:pt x="185" y="14"/>
                </a:lnTo>
                <a:lnTo>
                  <a:pt x="157" y="30"/>
                </a:lnTo>
                <a:lnTo>
                  <a:pt x="157" y="20"/>
                </a:lnTo>
                <a:lnTo>
                  <a:pt x="124" y="20"/>
                </a:lnTo>
                <a:lnTo>
                  <a:pt x="102" y="36"/>
                </a:lnTo>
                <a:lnTo>
                  <a:pt x="124" y="54"/>
                </a:lnTo>
                <a:lnTo>
                  <a:pt x="157" y="54"/>
                </a:lnTo>
                <a:lnTo>
                  <a:pt x="157" y="44"/>
                </a:lnTo>
                <a:lnTo>
                  <a:pt x="185" y="60"/>
                </a:lnTo>
                <a:lnTo>
                  <a:pt x="157" y="74"/>
                </a:lnTo>
                <a:lnTo>
                  <a:pt x="157" y="64"/>
                </a:lnTo>
                <a:lnTo>
                  <a:pt x="119" y="64"/>
                </a:lnTo>
                <a:lnTo>
                  <a:pt x="94" y="44"/>
                </a:lnTo>
                <a:lnTo>
                  <a:pt x="69" y="64"/>
                </a:lnTo>
                <a:lnTo>
                  <a:pt x="29" y="64"/>
                </a:lnTo>
                <a:lnTo>
                  <a:pt x="29" y="74"/>
                </a:lnTo>
                <a:lnTo>
                  <a:pt x="0" y="60"/>
                </a:lnTo>
                <a:lnTo>
                  <a:pt x="29" y="44"/>
                </a:lnTo>
                <a:lnTo>
                  <a:pt x="29" y="54"/>
                </a:lnTo>
                <a:lnTo>
                  <a:pt x="65" y="54"/>
                </a:lnTo>
                <a:lnTo>
                  <a:pt x="88" y="38"/>
                </a:lnTo>
                <a:lnTo>
                  <a:pt x="65" y="20"/>
                </a:lnTo>
                <a:lnTo>
                  <a:pt x="29" y="20"/>
                </a:lnTo>
                <a:lnTo>
                  <a:pt x="29" y="30"/>
                </a:lnTo>
                <a:lnTo>
                  <a:pt x="0" y="14"/>
                </a:lnTo>
                <a:lnTo>
                  <a:pt x="29" y="0"/>
                </a:lnTo>
                <a:lnTo>
                  <a:pt x="2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251400" y="4186080"/>
            <a:ext cx="293760" cy="117720"/>
          </a:xfrm>
          <a:custGeom>
            <a:avLst/>
            <a:gdLst/>
            <a:ahLst/>
            <a:rect l="l" t="t" r="r" b="b"/>
            <a:pathLst>
              <a:path w="185" h="74">
                <a:moveTo>
                  <a:pt x="29" y="10"/>
                </a:moveTo>
                <a:lnTo>
                  <a:pt x="69" y="10"/>
                </a:lnTo>
                <a:lnTo>
                  <a:pt x="94" y="32"/>
                </a:lnTo>
                <a:lnTo>
                  <a:pt x="119" y="10"/>
                </a:lnTo>
                <a:lnTo>
                  <a:pt x="157" y="10"/>
                </a:lnTo>
                <a:lnTo>
                  <a:pt x="157" y="0"/>
                </a:lnTo>
                <a:lnTo>
                  <a:pt x="185" y="14"/>
                </a:lnTo>
                <a:lnTo>
                  <a:pt x="157" y="30"/>
                </a:lnTo>
                <a:lnTo>
                  <a:pt x="157" y="20"/>
                </a:lnTo>
                <a:lnTo>
                  <a:pt x="124" y="20"/>
                </a:lnTo>
                <a:lnTo>
                  <a:pt x="102" y="36"/>
                </a:lnTo>
                <a:lnTo>
                  <a:pt x="124" y="54"/>
                </a:lnTo>
                <a:lnTo>
                  <a:pt x="157" y="54"/>
                </a:lnTo>
                <a:lnTo>
                  <a:pt x="157" y="44"/>
                </a:lnTo>
                <a:lnTo>
                  <a:pt x="185" y="60"/>
                </a:lnTo>
                <a:lnTo>
                  <a:pt x="157" y="74"/>
                </a:lnTo>
                <a:lnTo>
                  <a:pt x="157" y="64"/>
                </a:lnTo>
                <a:lnTo>
                  <a:pt x="119" y="64"/>
                </a:lnTo>
                <a:lnTo>
                  <a:pt x="94" y="44"/>
                </a:lnTo>
                <a:lnTo>
                  <a:pt x="69" y="64"/>
                </a:lnTo>
                <a:lnTo>
                  <a:pt x="29" y="64"/>
                </a:lnTo>
                <a:lnTo>
                  <a:pt x="29" y="74"/>
                </a:lnTo>
                <a:lnTo>
                  <a:pt x="0" y="60"/>
                </a:lnTo>
                <a:lnTo>
                  <a:pt x="29" y="44"/>
                </a:lnTo>
                <a:lnTo>
                  <a:pt x="29" y="54"/>
                </a:lnTo>
                <a:lnTo>
                  <a:pt x="65" y="54"/>
                </a:lnTo>
                <a:lnTo>
                  <a:pt x="88" y="38"/>
                </a:lnTo>
                <a:lnTo>
                  <a:pt x="65" y="20"/>
                </a:lnTo>
                <a:lnTo>
                  <a:pt x="29" y="20"/>
                </a:lnTo>
                <a:lnTo>
                  <a:pt x="29" y="30"/>
                </a:lnTo>
                <a:lnTo>
                  <a:pt x="0" y="14"/>
                </a:lnTo>
                <a:lnTo>
                  <a:pt x="29" y="0"/>
                </a:lnTo>
                <a:lnTo>
                  <a:pt x="2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257880" y="4189320"/>
            <a:ext cx="290520" cy="117720"/>
          </a:xfrm>
          <a:custGeom>
            <a:avLst/>
            <a:gdLst/>
            <a:ahLst/>
            <a:rect l="l" t="t" r="r" b="b"/>
            <a:pathLst>
              <a:path w="183" h="74">
                <a:moveTo>
                  <a:pt x="27" y="10"/>
                </a:moveTo>
                <a:lnTo>
                  <a:pt x="67" y="10"/>
                </a:lnTo>
                <a:lnTo>
                  <a:pt x="92" y="32"/>
                </a:lnTo>
                <a:lnTo>
                  <a:pt x="119" y="10"/>
                </a:lnTo>
                <a:lnTo>
                  <a:pt x="157" y="10"/>
                </a:lnTo>
                <a:lnTo>
                  <a:pt x="157" y="0"/>
                </a:lnTo>
                <a:lnTo>
                  <a:pt x="183" y="16"/>
                </a:lnTo>
                <a:lnTo>
                  <a:pt x="157" y="30"/>
                </a:lnTo>
                <a:lnTo>
                  <a:pt x="157" y="20"/>
                </a:lnTo>
                <a:lnTo>
                  <a:pt x="122" y="20"/>
                </a:lnTo>
                <a:lnTo>
                  <a:pt x="99" y="36"/>
                </a:lnTo>
                <a:lnTo>
                  <a:pt x="122" y="54"/>
                </a:lnTo>
                <a:lnTo>
                  <a:pt x="157" y="54"/>
                </a:lnTo>
                <a:lnTo>
                  <a:pt x="157" y="44"/>
                </a:lnTo>
                <a:lnTo>
                  <a:pt x="183" y="60"/>
                </a:lnTo>
                <a:lnTo>
                  <a:pt x="157" y="74"/>
                </a:lnTo>
                <a:lnTo>
                  <a:pt x="157" y="64"/>
                </a:lnTo>
                <a:lnTo>
                  <a:pt x="119" y="64"/>
                </a:lnTo>
                <a:lnTo>
                  <a:pt x="92" y="44"/>
                </a:lnTo>
                <a:lnTo>
                  <a:pt x="67" y="64"/>
                </a:lnTo>
                <a:lnTo>
                  <a:pt x="27" y="64"/>
                </a:lnTo>
                <a:lnTo>
                  <a:pt x="27" y="74"/>
                </a:lnTo>
                <a:lnTo>
                  <a:pt x="0" y="60"/>
                </a:lnTo>
                <a:lnTo>
                  <a:pt x="27" y="44"/>
                </a:lnTo>
                <a:lnTo>
                  <a:pt x="27" y="54"/>
                </a:lnTo>
                <a:lnTo>
                  <a:pt x="63" y="54"/>
                </a:lnTo>
                <a:lnTo>
                  <a:pt x="86" y="38"/>
                </a:lnTo>
                <a:lnTo>
                  <a:pt x="63" y="20"/>
                </a:lnTo>
                <a:lnTo>
                  <a:pt x="27" y="20"/>
                </a:lnTo>
                <a:lnTo>
                  <a:pt x="27" y="30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57880" y="4189320"/>
            <a:ext cx="290520" cy="117720"/>
          </a:xfrm>
          <a:custGeom>
            <a:avLst/>
            <a:gdLst/>
            <a:ahLst/>
            <a:rect l="l" t="t" r="r" b="b"/>
            <a:pathLst>
              <a:path w="183" h="74">
                <a:moveTo>
                  <a:pt x="27" y="10"/>
                </a:moveTo>
                <a:lnTo>
                  <a:pt x="67" y="10"/>
                </a:lnTo>
                <a:lnTo>
                  <a:pt x="92" y="32"/>
                </a:lnTo>
                <a:lnTo>
                  <a:pt x="119" y="10"/>
                </a:lnTo>
                <a:lnTo>
                  <a:pt x="157" y="10"/>
                </a:lnTo>
                <a:lnTo>
                  <a:pt x="157" y="0"/>
                </a:lnTo>
                <a:lnTo>
                  <a:pt x="183" y="16"/>
                </a:lnTo>
                <a:lnTo>
                  <a:pt x="157" y="30"/>
                </a:lnTo>
                <a:lnTo>
                  <a:pt x="157" y="20"/>
                </a:lnTo>
                <a:lnTo>
                  <a:pt x="122" y="20"/>
                </a:lnTo>
                <a:lnTo>
                  <a:pt x="99" y="36"/>
                </a:lnTo>
                <a:lnTo>
                  <a:pt x="122" y="54"/>
                </a:lnTo>
                <a:lnTo>
                  <a:pt x="157" y="54"/>
                </a:lnTo>
                <a:lnTo>
                  <a:pt x="157" y="44"/>
                </a:lnTo>
                <a:lnTo>
                  <a:pt x="183" y="60"/>
                </a:lnTo>
                <a:lnTo>
                  <a:pt x="157" y="74"/>
                </a:lnTo>
                <a:lnTo>
                  <a:pt x="157" y="64"/>
                </a:lnTo>
                <a:lnTo>
                  <a:pt x="119" y="64"/>
                </a:lnTo>
                <a:lnTo>
                  <a:pt x="92" y="44"/>
                </a:lnTo>
                <a:lnTo>
                  <a:pt x="67" y="64"/>
                </a:lnTo>
                <a:lnTo>
                  <a:pt x="27" y="64"/>
                </a:lnTo>
                <a:lnTo>
                  <a:pt x="27" y="74"/>
                </a:lnTo>
                <a:lnTo>
                  <a:pt x="0" y="60"/>
                </a:lnTo>
                <a:lnTo>
                  <a:pt x="27" y="44"/>
                </a:lnTo>
                <a:lnTo>
                  <a:pt x="27" y="54"/>
                </a:lnTo>
                <a:lnTo>
                  <a:pt x="63" y="54"/>
                </a:lnTo>
                <a:lnTo>
                  <a:pt x="86" y="38"/>
                </a:lnTo>
                <a:lnTo>
                  <a:pt x="63" y="20"/>
                </a:lnTo>
                <a:lnTo>
                  <a:pt x="27" y="20"/>
                </a:lnTo>
                <a:lnTo>
                  <a:pt x="27" y="30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168960" y="367992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E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68960" y="249552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EL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22880" y="2949480"/>
            <a:ext cx="594000" cy="21132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21440" y="2906640"/>
            <a:ext cx="593640" cy="1508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121440" y="2906640"/>
            <a:ext cx="593640" cy="1508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22880" y="2798640"/>
            <a:ext cx="594000" cy="21132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24560" y="2825640"/>
            <a:ext cx="196920" cy="68400"/>
          </a:xfrm>
          <a:custGeom>
            <a:avLst/>
            <a:gdLst/>
            <a:ahLst/>
            <a:rect l="l" t="t" r="r" b="b"/>
            <a:pathLst>
              <a:path w="124" h="43">
                <a:moveTo>
                  <a:pt x="0" y="34"/>
                </a:moveTo>
                <a:lnTo>
                  <a:pt x="29" y="43"/>
                </a:lnTo>
                <a:lnTo>
                  <a:pt x="94" y="16"/>
                </a:lnTo>
                <a:lnTo>
                  <a:pt x="124" y="24"/>
                </a:lnTo>
                <a:lnTo>
                  <a:pt x="109" y="0"/>
                </a:lnTo>
                <a:lnTo>
                  <a:pt x="31" y="0"/>
                </a:lnTo>
                <a:lnTo>
                  <a:pt x="61" y="8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424560" y="2825640"/>
            <a:ext cx="196920" cy="68400"/>
          </a:xfrm>
          <a:custGeom>
            <a:avLst/>
            <a:gdLst/>
            <a:ahLst/>
            <a:rect l="l" t="t" r="r" b="b"/>
            <a:pathLst>
              <a:path w="124" h="43">
                <a:moveTo>
                  <a:pt x="0" y="34"/>
                </a:moveTo>
                <a:lnTo>
                  <a:pt x="29" y="43"/>
                </a:lnTo>
                <a:lnTo>
                  <a:pt x="94" y="16"/>
                </a:lnTo>
                <a:lnTo>
                  <a:pt x="124" y="24"/>
                </a:lnTo>
                <a:lnTo>
                  <a:pt x="109" y="0"/>
                </a:lnTo>
                <a:lnTo>
                  <a:pt x="31" y="0"/>
                </a:lnTo>
                <a:lnTo>
                  <a:pt x="61" y="8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213600" y="290664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2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213600" y="2906640"/>
            <a:ext cx="19368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10"/>
                </a:moveTo>
                <a:lnTo>
                  <a:pt x="95" y="0"/>
                </a:lnTo>
                <a:lnTo>
                  <a:pt x="32" y="28"/>
                </a:lnTo>
                <a:lnTo>
                  <a:pt x="0" y="20"/>
                </a:lnTo>
                <a:lnTo>
                  <a:pt x="15" y="44"/>
                </a:lnTo>
                <a:lnTo>
                  <a:pt x="95" y="44"/>
                </a:lnTo>
                <a:lnTo>
                  <a:pt x="61" y="36"/>
                </a:lnTo>
                <a:lnTo>
                  <a:pt x="12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221520" y="2822400"/>
            <a:ext cx="196920" cy="68400"/>
          </a:xfrm>
          <a:custGeom>
            <a:avLst/>
            <a:gdLst/>
            <a:ahLst/>
            <a:rect l="l" t="t" r="r" b="b"/>
            <a:pathLst>
              <a:path w="124" h="43">
                <a:moveTo>
                  <a:pt x="0" y="10"/>
                </a:moveTo>
                <a:lnTo>
                  <a:pt x="29" y="0"/>
                </a:lnTo>
                <a:lnTo>
                  <a:pt x="94" y="26"/>
                </a:lnTo>
                <a:lnTo>
                  <a:pt x="124" y="20"/>
                </a:lnTo>
                <a:lnTo>
                  <a:pt x="109" y="43"/>
                </a:lnTo>
                <a:lnTo>
                  <a:pt x="31" y="43"/>
                </a:lnTo>
                <a:lnTo>
                  <a:pt x="63" y="3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221520" y="2822400"/>
            <a:ext cx="196920" cy="68400"/>
          </a:xfrm>
          <a:custGeom>
            <a:avLst/>
            <a:gdLst/>
            <a:ahLst/>
            <a:rect l="l" t="t" r="r" b="b"/>
            <a:pathLst>
              <a:path w="124" h="43">
                <a:moveTo>
                  <a:pt x="0" y="10"/>
                </a:moveTo>
                <a:lnTo>
                  <a:pt x="29" y="0"/>
                </a:lnTo>
                <a:lnTo>
                  <a:pt x="94" y="26"/>
                </a:lnTo>
                <a:lnTo>
                  <a:pt x="124" y="20"/>
                </a:lnTo>
                <a:lnTo>
                  <a:pt x="109" y="43"/>
                </a:lnTo>
                <a:lnTo>
                  <a:pt x="31" y="43"/>
                </a:lnTo>
                <a:lnTo>
                  <a:pt x="63" y="3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18440" y="2913120"/>
            <a:ext cx="19332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34"/>
                </a:moveTo>
                <a:lnTo>
                  <a:pt x="96" y="44"/>
                </a:lnTo>
                <a:lnTo>
                  <a:pt x="33" y="16"/>
                </a:lnTo>
                <a:lnTo>
                  <a:pt x="0" y="24"/>
                </a:lnTo>
                <a:lnTo>
                  <a:pt x="16" y="0"/>
                </a:lnTo>
                <a:lnTo>
                  <a:pt x="96" y="0"/>
                </a:lnTo>
                <a:lnTo>
                  <a:pt x="61" y="8"/>
                </a:lnTo>
                <a:lnTo>
                  <a:pt x="12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418440" y="2913120"/>
            <a:ext cx="193320" cy="69840"/>
          </a:xfrm>
          <a:custGeom>
            <a:avLst/>
            <a:gdLst/>
            <a:ahLst/>
            <a:rect l="l" t="t" r="r" b="b"/>
            <a:pathLst>
              <a:path w="122" h="44">
                <a:moveTo>
                  <a:pt x="122" y="34"/>
                </a:moveTo>
                <a:lnTo>
                  <a:pt x="96" y="44"/>
                </a:lnTo>
                <a:lnTo>
                  <a:pt x="33" y="16"/>
                </a:lnTo>
                <a:lnTo>
                  <a:pt x="0" y="24"/>
                </a:lnTo>
                <a:lnTo>
                  <a:pt x="16" y="0"/>
                </a:lnTo>
                <a:lnTo>
                  <a:pt x="96" y="0"/>
                </a:lnTo>
                <a:lnTo>
                  <a:pt x="61" y="8"/>
                </a:lnTo>
                <a:lnTo>
                  <a:pt x="12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27800" y="2832120"/>
            <a:ext cx="196920" cy="68400"/>
          </a:xfrm>
          <a:custGeom>
            <a:avLst/>
            <a:gdLst/>
            <a:ahLst/>
            <a:rect l="l" t="t" r="r" b="b"/>
            <a:pathLst>
              <a:path w="124" h="43">
                <a:moveTo>
                  <a:pt x="0" y="32"/>
                </a:moveTo>
                <a:lnTo>
                  <a:pt x="29" y="43"/>
                </a:lnTo>
                <a:lnTo>
                  <a:pt x="94" y="14"/>
                </a:lnTo>
                <a:lnTo>
                  <a:pt x="124" y="22"/>
                </a:lnTo>
                <a:lnTo>
                  <a:pt x="109" y="0"/>
                </a:lnTo>
                <a:lnTo>
                  <a:pt x="31" y="0"/>
                </a:lnTo>
                <a:lnTo>
                  <a:pt x="63" y="6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427800" y="2832120"/>
            <a:ext cx="196920" cy="68400"/>
          </a:xfrm>
          <a:custGeom>
            <a:avLst/>
            <a:gdLst/>
            <a:ahLst/>
            <a:rect l="l" t="t" r="r" b="b"/>
            <a:pathLst>
              <a:path w="124" h="43">
                <a:moveTo>
                  <a:pt x="0" y="32"/>
                </a:moveTo>
                <a:lnTo>
                  <a:pt x="29" y="43"/>
                </a:lnTo>
                <a:lnTo>
                  <a:pt x="94" y="14"/>
                </a:lnTo>
                <a:lnTo>
                  <a:pt x="124" y="22"/>
                </a:lnTo>
                <a:lnTo>
                  <a:pt x="109" y="0"/>
                </a:lnTo>
                <a:lnTo>
                  <a:pt x="31" y="0"/>
                </a:lnTo>
                <a:lnTo>
                  <a:pt x="63" y="6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5040" y="2909880"/>
            <a:ext cx="198360" cy="73080"/>
          </a:xfrm>
          <a:custGeom>
            <a:avLst/>
            <a:gdLst/>
            <a:ahLst/>
            <a:rect l="l" t="t" r="r" b="b"/>
            <a:pathLst>
              <a:path w="125" h="46">
                <a:moveTo>
                  <a:pt x="125" y="10"/>
                </a:moveTo>
                <a:lnTo>
                  <a:pt x="96" y="0"/>
                </a:lnTo>
                <a:lnTo>
                  <a:pt x="33" y="28"/>
                </a:lnTo>
                <a:lnTo>
                  <a:pt x="0" y="20"/>
                </a:lnTo>
                <a:lnTo>
                  <a:pt x="16" y="46"/>
                </a:lnTo>
                <a:lnTo>
                  <a:pt x="96" y="46"/>
                </a:lnTo>
                <a:lnTo>
                  <a:pt x="62" y="36"/>
                </a:lnTo>
                <a:lnTo>
                  <a:pt x="125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215040" y="2909880"/>
            <a:ext cx="198360" cy="73080"/>
          </a:xfrm>
          <a:custGeom>
            <a:avLst/>
            <a:gdLst/>
            <a:ahLst/>
            <a:rect l="l" t="t" r="r" b="b"/>
            <a:pathLst>
              <a:path w="125" h="46">
                <a:moveTo>
                  <a:pt x="125" y="10"/>
                </a:moveTo>
                <a:lnTo>
                  <a:pt x="96" y="0"/>
                </a:lnTo>
                <a:lnTo>
                  <a:pt x="33" y="28"/>
                </a:lnTo>
                <a:lnTo>
                  <a:pt x="0" y="20"/>
                </a:lnTo>
                <a:lnTo>
                  <a:pt x="16" y="46"/>
                </a:lnTo>
                <a:lnTo>
                  <a:pt x="96" y="46"/>
                </a:lnTo>
                <a:lnTo>
                  <a:pt x="62" y="36"/>
                </a:lnTo>
                <a:lnTo>
                  <a:pt x="125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227640" y="2825640"/>
            <a:ext cx="193680" cy="68400"/>
          </a:xfrm>
          <a:custGeom>
            <a:avLst/>
            <a:gdLst/>
            <a:ahLst/>
            <a:rect l="l" t="t" r="r" b="b"/>
            <a:pathLst>
              <a:path w="122" h="43">
                <a:moveTo>
                  <a:pt x="0" y="10"/>
                </a:moveTo>
                <a:lnTo>
                  <a:pt x="27" y="0"/>
                </a:lnTo>
                <a:lnTo>
                  <a:pt x="94" y="26"/>
                </a:lnTo>
                <a:lnTo>
                  <a:pt x="122" y="20"/>
                </a:lnTo>
                <a:lnTo>
                  <a:pt x="107" y="43"/>
                </a:lnTo>
                <a:lnTo>
                  <a:pt x="29" y="43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227640" y="2825640"/>
            <a:ext cx="193680" cy="68400"/>
          </a:xfrm>
          <a:custGeom>
            <a:avLst/>
            <a:gdLst/>
            <a:ahLst/>
            <a:rect l="l" t="t" r="r" b="b"/>
            <a:pathLst>
              <a:path w="122" h="43">
                <a:moveTo>
                  <a:pt x="0" y="10"/>
                </a:moveTo>
                <a:lnTo>
                  <a:pt x="27" y="0"/>
                </a:lnTo>
                <a:lnTo>
                  <a:pt x="94" y="26"/>
                </a:lnTo>
                <a:lnTo>
                  <a:pt x="122" y="20"/>
                </a:lnTo>
                <a:lnTo>
                  <a:pt x="107" y="43"/>
                </a:lnTo>
                <a:lnTo>
                  <a:pt x="29" y="43"/>
                </a:lnTo>
                <a:lnTo>
                  <a:pt x="61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21320" y="2919240"/>
            <a:ext cx="196920" cy="66960"/>
          </a:xfrm>
          <a:custGeom>
            <a:avLst/>
            <a:gdLst/>
            <a:ahLst/>
            <a:rect l="l" t="t" r="r" b="b"/>
            <a:pathLst>
              <a:path w="124" h="42">
                <a:moveTo>
                  <a:pt x="124" y="32"/>
                </a:moveTo>
                <a:lnTo>
                  <a:pt x="96" y="42"/>
                </a:lnTo>
                <a:lnTo>
                  <a:pt x="33" y="14"/>
                </a:lnTo>
                <a:lnTo>
                  <a:pt x="0" y="22"/>
                </a:lnTo>
                <a:lnTo>
                  <a:pt x="16" y="0"/>
                </a:lnTo>
                <a:lnTo>
                  <a:pt x="96" y="0"/>
                </a:lnTo>
                <a:lnTo>
                  <a:pt x="61" y="6"/>
                </a:lnTo>
                <a:lnTo>
                  <a:pt x="124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421320" y="2919240"/>
            <a:ext cx="196920" cy="66960"/>
          </a:xfrm>
          <a:custGeom>
            <a:avLst/>
            <a:gdLst/>
            <a:ahLst/>
            <a:rect l="l" t="t" r="r" b="b"/>
            <a:pathLst>
              <a:path w="124" h="42">
                <a:moveTo>
                  <a:pt x="124" y="32"/>
                </a:moveTo>
                <a:lnTo>
                  <a:pt x="96" y="42"/>
                </a:lnTo>
                <a:lnTo>
                  <a:pt x="33" y="14"/>
                </a:lnTo>
                <a:lnTo>
                  <a:pt x="0" y="22"/>
                </a:lnTo>
                <a:lnTo>
                  <a:pt x="16" y="0"/>
                </a:lnTo>
                <a:lnTo>
                  <a:pt x="96" y="0"/>
                </a:lnTo>
                <a:lnTo>
                  <a:pt x="61" y="6"/>
                </a:lnTo>
                <a:lnTo>
                  <a:pt x="124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21440" y="2903400"/>
            <a:ext cx="1440" cy="1508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15080" y="2903400"/>
            <a:ext cx="1800" cy="1508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267600" y="3017880"/>
            <a:ext cx="290520" cy="119160"/>
          </a:xfrm>
          <a:custGeom>
            <a:avLst/>
            <a:gdLst/>
            <a:ahLst/>
            <a:rect l="l" t="t" r="r" b="b"/>
            <a:pathLst>
              <a:path w="183" h="75">
                <a:moveTo>
                  <a:pt x="27" y="10"/>
                </a:moveTo>
                <a:lnTo>
                  <a:pt x="69" y="10"/>
                </a:lnTo>
                <a:lnTo>
                  <a:pt x="93" y="33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3" y="14"/>
                </a:lnTo>
                <a:lnTo>
                  <a:pt x="156" y="31"/>
                </a:lnTo>
                <a:lnTo>
                  <a:pt x="156" y="21"/>
                </a:lnTo>
                <a:lnTo>
                  <a:pt x="122" y="21"/>
                </a:lnTo>
                <a:lnTo>
                  <a:pt x="99" y="37"/>
                </a:lnTo>
                <a:lnTo>
                  <a:pt x="122" y="55"/>
                </a:lnTo>
                <a:lnTo>
                  <a:pt x="156" y="55"/>
                </a:lnTo>
                <a:lnTo>
                  <a:pt x="156" y="45"/>
                </a:lnTo>
                <a:lnTo>
                  <a:pt x="183" y="61"/>
                </a:lnTo>
                <a:lnTo>
                  <a:pt x="156" y="75"/>
                </a:lnTo>
                <a:lnTo>
                  <a:pt x="156" y="65"/>
                </a:lnTo>
                <a:lnTo>
                  <a:pt x="118" y="65"/>
                </a:lnTo>
                <a:lnTo>
                  <a:pt x="93" y="45"/>
                </a:lnTo>
                <a:lnTo>
                  <a:pt x="69" y="65"/>
                </a:lnTo>
                <a:lnTo>
                  <a:pt x="27" y="65"/>
                </a:lnTo>
                <a:lnTo>
                  <a:pt x="27" y="75"/>
                </a:lnTo>
                <a:lnTo>
                  <a:pt x="0" y="61"/>
                </a:lnTo>
                <a:lnTo>
                  <a:pt x="27" y="45"/>
                </a:lnTo>
                <a:lnTo>
                  <a:pt x="27" y="55"/>
                </a:lnTo>
                <a:lnTo>
                  <a:pt x="63" y="55"/>
                </a:lnTo>
                <a:lnTo>
                  <a:pt x="86" y="39"/>
                </a:lnTo>
                <a:lnTo>
                  <a:pt x="63" y="21"/>
                </a:lnTo>
                <a:lnTo>
                  <a:pt x="27" y="21"/>
                </a:lnTo>
                <a:lnTo>
                  <a:pt x="27" y="31"/>
                </a:lnTo>
                <a:lnTo>
                  <a:pt x="0" y="14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267600" y="3017880"/>
            <a:ext cx="290520" cy="119160"/>
          </a:xfrm>
          <a:custGeom>
            <a:avLst/>
            <a:gdLst/>
            <a:ahLst/>
            <a:rect l="l" t="t" r="r" b="b"/>
            <a:pathLst>
              <a:path w="183" h="75">
                <a:moveTo>
                  <a:pt x="27" y="10"/>
                </a:moveTo>
                <a:lnTo>
                  <a:pt x="69" y="10"/>
                </a:lnTo>
                <a:lnTo>
                  <a:pt x="93" y="33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3" y="14"/>
                </a:lnTo>
                <a:lnTo>
                  <a:pt x="156" y="31"/>
                </a:lnTo>
                <a:lnTo>
                  <a:pt x="156" y="21"/>
                </a:lnTo>
                <a:lnTo>
                  <a:pt x="122" y="21"/>
                </a:lnTo>
                <a:lnTo>
                  <a:pt x="99" y="37"/>
                </a:lnTo>
                <a:lnTo>
                  <a:pt x="122" y="55"/>
                </a:lnTo>
                <a:lnTo>
                  <a:pt x="156" y="55"/>
                </a:lnTo>
                <a:lnTo>
                  <a:pt x="156" y="45"/>
                </a:lnTo>
                <a:lnTo>
                  <a:pt x="183" y="61"/>
                </a:lnTo>
                <a:lnTo>
                  <a:pt x="156" y="75"/>
                </a:lnTo>
                <a:lnTo>
                  <a:pt x="156" y="65"/>
                </a:lnTo>
                <a:lnTo>
                  <a:pt x="118" y="65"/>
                </a:lnTo>
                <a:lnTo>
                  <a:pt x="93" y="45"/>
                </a:lnTo>
                <a:lnTo>
                  <a:pt x="69" y="65"/>
                </a:lnTo>
                <a:lnTo>
                  <a:pt x="27" y="65"/>
                </a:lnTo>
                <a:lnTo>
                  <a:pt x="27" y="75"/>
                </a:lnTo>
                <a:lnTo>
                  <a:pt x="0" y="61"/>
                </a:lnTo>
                <a:lnTo>
                  <a:pt x="27" y="45"/>
                </a:lnTo>
                <a:lnTo>
                  <a:pt x="27" y="55"/>
                </a:lnTo>
                <a:lnTo>
                  <a:pt x="63" y="55"/>
                </a:lnTo>
                <a:lnTo>
                  <a:pt x="86" y="39"/>
                </a:lnTo>
                <a:lnTo>
                  <a:pt x="63" y="21"/>
                </a:lnTo>
                <a:lnTo>
                  <a:pt x="27" y="21"/>
                </a:lnTo>
                <a:lnTo>
                  <a:pt x="27" y="31"/>
                </a:lnTo>
                <a:lnTo>
                  <a:pt x="0" y="14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70480" y="3021120"/>
            <a:ext cx="293760" cy="118800"/>
          </a:xfrm>
          <a:custGeom>
            <a:avLst/>
            <a:gdLst/>
            <a:ahLst/>
            <a:rect l="l" t="t" r="r" b="b"/>
            <a:pathLst>
              <a:path w="185" h="75">
                <a:moveTo>
                  <a:pt x="27" y="10"/>
                </a:moveTo>
                <a:lnTo>
                  <a:pt x="69" y="10"/>
                </a:lnTo>
                <a:lnTo>
                  <a:pt x="93" y="33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5" y="16"/>
                </a:lnTo>
                <a:lnTo>
                  <a:pt x="156" y="31"/>
                </a:lnTo>
                <a:lnTo>
                  <a:pt x="156" y="21"/>
                </a:lnTo>
                <a:lnTo>
                  <a:pt x="122" y="21"/>
                </a:lnTo>
                <a:lnTo>
                  <a:pt x="99" y="37"/>
                </a:lnTo>
                <a:lnTo>
                  <a:pt x="122" y="55"/>
                </a:lnTo>
                <a:lnTo>
                  <a:pt x="156" y="55"/>
                </a:lnTo>
                <a:lnTo>
                  <a:pt x="156" y="45"/>
                </a:lnTo>
                <a:lnTo>
                  <a:pt x="185" y="61"/>
                </a:lnTo>
                <a:lnTo>
                  <a:pt x="156" y="75"/>
                </a:lnTo>
                <a:lnTo>
                  <a:pt x="156" y="65"/>
                </a:lnTo>
                <a:lnTo>
                  <a:pt x="118" y="65"/>
                </a:lnTo>
                <a:lnTo>
                  <a:pt x="93" y="45"/>
                </a:lnTo>
                <a:lnTo>
                  <a:pt x="69" y="65"/>
                </a:lnTo>
                <a:lnTo>
                  <a:pt x="27" y="65"/>
                </a:lnTo>
                <a:lnTo>
                  <a:pt x="27" y="75"/>
                </a:lnTo>
                <a:lnTo>
                  <a:pt x="0" y="61"/>
                </a:lnTo>
                <a:lnTo>
                  <a:pt x="27" y="45"/>
                </a:lnTo>
                <a:lnTo>
                  <a:pt x="27" y="55"/>
                </a:lnTo>
                <a:lnTo>
                  <a:pt x="63" y="55"/>
                </a:lnTo>
                <a:lnTo>
                  <a:pt x="86" y="39"/>
                </a:lnTo>
                <a:lnTo>
                  <a:pt x="63" y="21"/>
                </a:lnTo>
                <a:lnTo>
                  <a:pt x="27" y="21"/>
                </a:lnTo>
                <a:lnTo>
                  <a:pt x="27" y="31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270480" y="3021120"/>
            <a:ext cx="293760" cy="118800"/>
          </a:xfrm>
          <a:custGeom>
            <a:avLst/>
            <a:gdLst/>
            <a:ahLst/>
            <a:rect l="l" t="t" r="r" b="b"/>
            <a:pathLst>
              <a:path w="185" h="75">
                <a:moveTo>
                  <a:pt x="27" y="10"/>
                </a:moveTo>
                <a:lnTo>
                  <a:pt x="69" y="10"/>
                </a:lnTo>
                <a:lnTo>
                  <a:pt x="93" y="33"/>
                </a:lnTo>
                <a:lnTo>
                  <a:pt x="118" y="10"/>
                </a:lnTo>
                <a:lnTo>
                  <a:pt x="156" y="10"/>
                </a:lnTo>
                <a:lnTo>
                  <a:pt x="156" y="0"/>
                </a:lnTo>
                <a:lnTo>
                  <a:pt x="185" y="16"/>
                </a:lnTo>
                <a:lnTo>
                  <a:pt x="156" y="31"/>
                </a:lnTo>
                <a:lnTo>
                  <a:pt x="156" y="21"/>
                </a:lnTo>
                <a:lnTo>
                  <a:pt x="122" y="21"/>
                </a:lnTo>
                <a:lnTo>
                  <a:pt x="99" y="37"/>
                </a:lnTo>
                <a:lnTo>
                  <a:pt x="122" y="55"/>
                </a:lnTo>
                <a:lnTo>
                  <a:pt x="156" y="55"/>
                </a:lnTo>
                <a:lnTo>
                  <a:pt x="156" y="45"/>
                </a:lnTo>
                <a:lnTo>
                  <a:pt x="185" y="61"/>
                </a:lnTo>
                <a:lnTo>
                  <a:pt x="156" y="75"/>
                </a:lnTo>
                <a:lnTo>
                  <a:pt x="156" y="65"/>
                </a:lnTo>
                <a:lnTo>
                  <a:pt x="118" y="65"/>
                </a:lnTo>
                <a:lnTo>
                  <a:pt x="93" y="45"/>
                </a:lnTo>
                <a:lnTo>
                  <a:pt x="69" y="65"/>
                </a:lnTo>
                <a:lnTo>
                  <a:pt x="27" y="65"/>
                </a:lnTo>
                <a:lnTo>
                  <a:pt x="27" y="75"/>
                </a:lnTo>
                <a:lnTo>
                  <a:pt x="0" y="61"/>
                </a:lnTo>
                <a:lnTo>
                  <a:pt x="27" y="45"/>
                </a:lnTo>
                <a:lnTo>
                  <a:pt x="27" y="55"/>
                </a:lnTo>
                <a:lnTo>
                  <a:pt x="63" y="55"/>
                </a:lnTo>
                <a:lnTo>
                  <a:pt x="86" y="39"/>
                </a:lnTo>
                <a:lnTo>
                  <a:pt x="63" y="21"/>
                </a:lnTo>
                <a:lnTo>
                  <a:pt x="27" y="21"/>
                </a:lnTo>
                <a:lnTo>
                  <a:pt x="27" y="31"/>
                </a:lnTo>
                <a:lnTo>
                  <a:pt x="0" y="16"/>
                </a:lnTo>
                <a:lnTo>
                  <a:pt x="27" y="0"/>
                </a:ln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451720" y="3193920"/>
            <a:ext cx="1800" cy="6908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451720" y="331308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451720" y="355140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451720" y="378792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597880" y="3252960"/>
            <a:ext cx="120600" cy="885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597880" y="3743280"/>
            <a:ext cx="12060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597880" y="3498840"/>
            <a:ext cx="120600" cy="9360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725400" y="2098440"/>
            <a:ext cx="1800" cy="688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55480" y="266868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555480" y="243216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55480" y="219384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8640" y="2639880"/>
            <a:ext cx="120960" cy="907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640" y="2149560"/>
            <a:ext cx="12096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8640" y="2392200"/>
            <a:ext cx="120960" cy="907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725400" y="3193560"/>
            <a:ext cx="1800" cy="6908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55480" y="376560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555480" y="352728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555480" y="329076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8640" y="3736800"/>
            <a:ext cx="120960" cy="921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58640" y="3246480"/>
            <a:ext cx="12096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8640" y="3489480"/>
            <a:ext cx="120960" cy="90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355680" y="2579760"/>
            <a:ext cx="1440" cy="689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85760" y="314964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85760" y="291312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85760" y="267480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8920" y="3121200"/>
            <a:ext cx="120600" cy="90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8920" y="2630520"/>
            <a:ext cx="12060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8920" y="2873520"/>
            <a:ext cx="120600" cy="90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725400" y="4156200"/>
            <a:ext cx="1800" cy="690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555480" y="472752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555480" y="448956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55480" y="425304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58640" y="4699080"/>
            <a:ext cx="120960" cy="921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58640" y="4208400"/>
            <a:ext cx="120960" cy="889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8640" y="4451400"/>
            <a:ext cx="120960" cy="90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355680" y="3720600"/>
            <a:ext cx="1440" cy="6922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185760" y="429084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185760" y="4054320"/>
            <a:ext cx="169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185760" y="3816360"/>
            <a:ext cx="169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8920" y="4262400"/>
            <a:ext cx="120600" cy="9360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8920" y="3772080"/>
            <a:ext cx="120600" cy="90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8920" y="4014720"/>
            <a:ext cx="120600" cy="907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5400" y="2681280"/>
            <a:ext cx="623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5680" y="2922480"/>
            <a:ext cx="93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5400" y="3284640"/>
            <a:ext cx="623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5400" y="3825720"/>
            <a:ext cx="681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55680" y="4124160"/>
            <a:ext cx="993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5400" y="4425840"/>
            <a:ext cx="623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06440" y="2682720"/>
            <a:ext cx="338040" cy="1191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305000" y="2658960"/>
            <a:ext cx="338040" cy="842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305000" y="2658960"/>
            <a:ext cx="338040" cy="842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306440" y="2597040"/>
            <a:ext cx="338040" cy="11772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76360" y="261144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0"/>
                </a:moveTo>
                <a:lnTo>
                  <a:pt x="17" y="24"/>
                </a:lnTo>
                <a:lnTo>
                  <a:pt x="56" y="8"/>
                </a:lnTo>
                <a:lnTo>
                  <a:pt x="73" y="14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476360" y="2611440"/>
            <a:ext cx="115920" cy="38160"/>
          </a:xfrm>
          <a:custGeom>
            <a:avLst/>
            <a:gdLst/>
            <a:ahLst/>
            <a:rect l="l" t="t" r="r" b="b"/>
            <a:pathLst>
              <a:path w="73" h="24">
                <a:moveTo>
                  <a:pt x="0" y="20"/>
                </a:moveTo>
                <a:lnTo>
                  <a:pt x="17" y="24"/>
                </a:lnTo>
                <a:lnTo>
                  <a:pt x="56" y="8"/>
                </a:lnTo>
                <a:lnTo>
                  <a:pt x="73" y="14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355760" y="26589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4"/>
                </a:moveTo>
                <a:lnTo>
                  <a:pt x="55" y="0"/>
                </a:lnTo>
                <a:lnTo>
                  <a:pt x="19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6" y="18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355760" y="26589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4"/>
                </a:moveTo>
                <a:lnTo>
                  <a:pt x="55" y="0"/>
                </a:lnTo>
                <a:lnTo>
                  <a:pt x="19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6" y="18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362240" y="261144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362240" y="261144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6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73120" y="266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9" y="8"/>
                </a:lnTo>
                <a:lnTo>
                  <a:pt x="0" y="12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73120" y="266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9" y="8"/>
                </a:lnTo>
                <a:lnTo>
                  <a:pt x="0" y="12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479600" y="261468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18"/>
                </a:moveTo>
                <a:lnTo>
                  <a:pt x="15" y="24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79600" y="261468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18"/>
                </a:moveTo>
                <a:lnTo>
                  <a:pt x="15" y="24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6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59000" y="2658960"/>
            <a:ext cx="11088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6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0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59000" y="2658960"/>
            <a:ext cx="11088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6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0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365120" y="261144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70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65120" y="261144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70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476360" y="266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7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476360" y="266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7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305000" y="2655720"/>
            <a:ext cx="1440" cy="84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43040" y="2655720"/>
            <a:ext cx="1440" cy="842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97080" y="3216240"/>
            <a:ext cx="336600" cy="1173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295280" y="3191040"/>
            <a:ext cx="336600" cy="838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5280" y="3191040"/>
            <a:ext cx="336600" cy="838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97080" y="3129120"/>
            <a:ext cx="336600" cy="1188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468440" y="314316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20"/>
                </a:moveTo>
                <a:lnTo>
                  <a:pt x="15" y="24"/>
                </a:lnTo>
                <a:lnTo>
                  <a:pt x="53" y="8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4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68440" y="314316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20"/>
                </a:moveTo>
                <a:lnTo>
                  <a:pt x="15" y="24"/>
                </a:lnTo>
                <a:lnTo>
                  <a:pt x="53" y="8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4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346040" y="3191040"/>
            <a:ext cx="11304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4"/>
                </a:moveTo>
                <a:lnTo>
                  <a:pt x="56" y="0"/>
                </a:lnTo>
                <a:lnTo>
                  <a:pt x="17" y="15"/>
                </a:lnTo>
                <a:lnTo>
                  <a:pt x="0" y="10"/>
                </a:lnTo>
                <a:lnTo>
                  <a:pt x="10" y="25"/>
                </a:lnTo>
                <a:lnTo>
                  <a:pt x="56" y="25"/>
                </a:lnTo>
                <a:lnTo>
                  <a:pt x="35" y="19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346040" y="3191040"/>
            <a:ext cx="11304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4"/>
                </a:moveTo>
                <a:lnTo>
                  <a:pt x="56" y="0"/>
                </a:lnTo>
                <a:lnTo>
                  <a:pt x="17" y="15"/>
                </a:lnTo>
                <a:lnTo>
                  <a:pt x="0" y="10"/>
                </a:lnTo>
                <a:lnTo>
                  <a:pt x="10" y="25"/>
                </a:lnTo>
                <a:lnTo>
                  <a:pt x="56" y="25"/>
                </a:lnTo>
                <a:lnTo>
                  <a:pt x="35" y="19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352520" y="31431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352520" y="31431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65200" y="3193920"/>
            <a:ext cx="108000" cy="39960"/>
          </a:xfrm>
          <a:custGeom>
            <a:avLst/>
            <a:gdLst/>
            <a:ahLst/>
            <a:rect l="l" t="t" r="r" b="b"/>
            <a:pathLst>
              <a:path w="68" h="25">
                <a:moveTo>
                  <a:pt x="68" y="19"/>
                </a:moveTo>
                <a:lnTo>
                  <a:pt x="53" y="25"/>
                </a:lnTo>
                <a:lnTo>
                  <a:pt x="17" y="8"/>
                </a:lnTo>
                <a:lnTo>
                  <a:pt x="0" y="13"/>
                </a:lnTo>
                <a:lnTo>
                  <a:pt x="7" y="0"/>
                </a:lnTo>
                <a:lnTo>
                  <a:pt x="53" y="0"/>
                </a:lnTo>
                <a:lnTo>
                  <a:pt x="34" y="4"/>
                </a:lnTo>
                <a:lnTo>
                  <a:pt x="68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465200" y="3193920"/>
            <a:ext cx="108000" cy="39960"/>
          </a:xfrm>
          <a:custGeom>
            <a:avLst/>
            <a:gdLst/>
            <a:ahLst/>
            <a:rect l="l" t="t" r="r" b="b"/>
            <a:pathLst>
              <a:path w="68" h="25">
                <a:moveTo>
                  <a:pt x="68" y="19"/>
                </a:moveTo>
                <a:lnTo>
                  <a:pt x="53" y="25"/>
                </a:lnTo>
                <a:lnTo>
                  <a:pt x="17" y="8"/>
                </a:lnTo>
                <a:lnTo>
                  <a:pt x="0" y="13"/>
                </a:lnTo>
                <a:lnTo>
                  <a:pt x="7" y="0"/>
                </a:lnTo>
                <a:lnTo>
                  <a:pt x="53" y="0"/>
                </a:lnTo>
                <a:lnTo>
                  <a:pt x="34" y="4"/>
                </a:lnTo>
                <a:lnTo>
                  <a:pt x="68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469880" y="3146400"/>
            <a:ext cx="10980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18"/>
                </a:moveTo>
                <a:lnTo>
                  <a:pt x="16" y="24"/>
                </a:lnTo>
                <a:lnTo>
                  <a:pt x="54" y="8"/>
                </a:lnTo>
                <a:lnTo>
                  <a:pt x="69" y="14"/>
                </a:lnTo>
                <a:lnTo>
                  <a:pt x="62" y="0"/>
                </a:lnTo>
                <a:lnTo>
                  <a:pt x="16" y="0"/>
                </a:lnTo>
                <a:lnTo>
                  <a:pt x="35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69880" y="3146400"/>
            <a:ext cx="10980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18"/>
                </a:moveTo>
                <a:lnTo>
                  <a:pt x="16" y="24"/>
                </a:lnTo>
                <a:lnTo>
                  <a:pt x="54" y="8"/>
                </a:lnTo>
                <a:lnTo>
                  <a:pt x="69" y="14"/>
                </a:lnTo>
                <a:lnTo>
                  <a:pt x="62" y="0"/>
                </a:lnTo>
                <a:lnTo>
                  <a:pt x="16" y="0"/>
                </a:lnTo>
                <a:lnTo>
                  <a:pt x="35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349280" y="3191040"/>
            <a:ext cx="109800" cy="42840"/>
          </a:xfrm>
          <a:custGeom>
            <a:avLst/>
            <a:gdLst/>
            <a:ahLst/>
            <a:rect l="l" t="t" r="r" b="b"/>
            <a:pathLst>
              <a:path w="69" h="27">
                <a:moveTo>
                  <a:pt x="69" y="6"/>
                </a:moveTo>
                <a:lnTo>
                  <a:pt x="54" y="0"/>
                </a:lnTo>
                <a:lnTo>
                  <a:pt x="17" y="17"/>
                </a:lnTo>
                <a:lnTo>
                  <a:pt x="0" y="13"/>
                </a:lnTo>
                <a:lnTo>
                  <a:pt x="8" y="27"/>
                </a:lnTo>
                <a:lnTo>
                  <a:pt x="54" y="27"/>
                </a:lnTo>
                <a:lnTo>
                  <a:pt x="34" y="21"/>
                </a:lnTo>
                <a:lnTo>
                  <a:pt x="6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349280" y="3191040"/>
            <a:ext cx="109800" cy="42840"/>
          </a:xfrm>
          <a:custGeom>
            <a:avLst/>
            <a:gdLst/>
            <a:ahLst/>
            <a:rect l="l" t="t" r="r" b="b"/>
            <a:pathLst>
              <a:path w="69" h="27">
                <a:moveTo>
                  <a:pt x="69" y="6"/>
                </a:moveTo>
                <a:lnTo>
                  <a:pt x="54" y="0"/>
                </a:lnTo>
                <a:lnTo>
                  <a:pt x="17" y="17"/>
                </a:lnTo>
                <a:lnTo>
                  <a:pt x="0" y="13"/>
                </a:lnTo>
                <a:lnTo>
                  <a:pt x="8" y="27"/>
                </a:lnTo>
                <a:lnTo>
                  <a:pt x="54" y="27"/>
                </a:lnTo>
                <a:lnTo>
                  <a:pt x="34" y="21"/>
                </a:lnTo>
                <a:lnTo>
                  <a:pt x="6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355760" y="314316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9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355760" y="314316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9" y="12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65200" y="3193920"/>
            <a:ext cx="11124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21"/>
                </a:moveTo>
                <a:lnTo>
                  <a:pt x="55" y="25"/>
                </a:lnTo>
                <a:lnTo>
                  <a:pt x="19" y="11"/>
                </a:lnTo>
                <a:lnTo>
                  <a:pt x="0" y="15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465200" y="3193920"/>
            <a:ext cx="11124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70" y="21"/>
                </a:moveTo>
                <a:lnTo>
                  <a:pt x="55" y="25"/>
                </a:lnTo>
                <a:lnTo>
                  <a:pt x="19" y="11"/>
                </a:lnTo>
                <a:lnTo>
                  <a:pt x="0" y="15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58920" y="3213000"/>
            <a:ext cx="38160" cy="58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631880" y="3187800"/>
            <a:ext cx="1800" cy="838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306440" y="2952720"/>
            <a:ext cx="338040" cy="1191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305000" y="2928960"/>
            <a:ext cx="338040" cy="824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05000" y="2928960"/>
            <a:ext cx="338040" cy="8244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306440" y="2865600"/>
            <a:ext cx="338040" cy="1188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476360" y="287964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0" y="21"/>
                </a:moveTo>
                <a:lnTo>
                  <a:pt x="17" y="25"/>
                </a:lnTo>
                <a:lnTo>
                  <a:pt x="56" y="9"/>
                </a:lnTo>
                <a:lnTo>
                  <a:pt x="73" y="15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476360" y="287964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0" y="21"/>
                </a:moveTo>
                <a:lnTo>
                  <a:pt x="17" y="25"/>
                </a:lnTo>
                <a:lnTo>
                  <a:pt x="56" y="9"/>
                </a:lnTo>
                <a:lnTo>
                  <a:pt x="73" y="15"/>
                </a:lnTo>
                <a:lnTo>
                  <a:pt x="63" y="0"/>
                </a:lnTo>
                <a:lnTo>
                  <a:pt x="17" y="0"/>
                </a:lnTo>
                <a:lnTo>
                  <a:pt x="37" y="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355760" y="29289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4"/>
                </a:moveTo>
                <a:lnTo>
                  <a:pt x="55" y="0"/>
                </a:lnTo>
                <a:lnTo>
                  <a:pt x="19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6" y="18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355760" y="29289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4"/>
                </a:moveTo>
                <a:lnTo>
                  <a:pt x="55" y="0"/>
                </a:lnTo>
                <a:lnTo>
                  <a:pt x="19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6" y="18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362240" y="287964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4"/>
                </a:moveTo>
                <a:lnTo>
                  <a:pt x="15" y="0"/>
                </a:lnTo>
                <a:lnTo>
                  <a:pt x="53" y="15"/>
                </a:lnTo>
                <a:lnTo>
                  <a:pt x="70" y="11"/>
                </a:lnTo>
                <a:lnTo>
                  <a:pt x="61" y="25"/>
                </a:lnTo>
                <a:lnTo>
                  <a:pt x="17" y="25"/>
                </a:lnTo>
                <a:lnTo>
                  <a:pt x="36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362240" y="2879640"/>
            <a:ext cx="11088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4"/>
                </a:moveTo>
                <a:lnTo>
                  <a:pt x="15" y="0"/>
                </a:lnTo>
                <a:lnTo>
                  <a:pt x="53" y="15"/>
                </a:lnTo>
                <a:lnTo>
                  <a:pt x="70" y="11"/>
                </a:lnTo>
                <a:lnTo>
                  <a:pt x="61" y="25"/>
                </a:lnTo>
                <a:lnTo>
                  <a:pt x="17" y="25"/>
                </a:lnTo>
                <a:lnTo>
                  <a:pt x="36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473120" y="293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9" y="8"/>
                </a:lnTo>
                <a:lnTo>
                  <a:pt x="0" y="12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73120" y="293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18"/>
                </a:moveTo>
                <a:lnTo>
                  <a:pt x="56" y="24"/>
                </a:lnTo>
                <a:lnTo>
                  <a:pt x="19" y="8"/>
                </a:lnTo>
                <a:lnTo>
                  <a:pt x="0" y="12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288288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19"/>
                </a:moveTo>
                <a:lnTo>
                  <a:pt x="15" y="25"/>
                </a:lnTo>
                <a:lnTo>
                  <a:pt x="54" y="9"/>
                </a:lnTo>
                <a:lnTo>
                  <a:pt x="71" y="15"/>
                </a:lnTo>
                <a:lnTo>
                  <a:pt x="61" y="0"/>
                </a:lnTo>
                <a:lnTo>
                  <a:pt x="17" y="0"/>
                </a:lnTo>
                <a:lnTo>
                  <a:pt x="36" y="5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79600" y="288288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19"/>
                </a:moveTo>
                <a:lnTo>
                  <a:pt x="15" y="25"/>
                </a:lnTo>
                <a:lnTo>
                  <a:pt x="54" y="9"/>
                </a:lnTo>
                <a:lnTo>
                  <a:pt x="71" y="15"/>
                </a:lnTo>
                <a:lnTo>
                  <a:pt x="61" y="0"/>
                </a:lnTo>
                <a:lnTo>
                  <a:pt x="17" y="0"/>
                </a:lnTo>
                <a:lnTo>
                  <a:pt x="36" y="5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359000" y="2928960"/>
            <a:ext cx="11088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6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0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359000" y="2928960"/>
            <a:ext cx="11088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70" y="6"/>
                </a:moveTo>
                <a:lnTo>
                  <a:pt x="55" y="0"/>
                </a:lnTo>
                <a:lnTo>
                  <a:pt x="17" y="16"/>
                </a:lnTo>
                <a:lnTo>
                  <a:pt x="0" y="12"/>
                </a:lnTo>
                <a:lnTo>
                  <a:pt x="9" y="26"/>
                </a:lnTo>
                <a:lnTo>
                  <a:pt x="55" y="26"/>
                </a:lnTo>
                <a:lnTo>
                  <a:pt x="34" y="20"/>
                </a:lnTo>
                <a:lnTo>
                  <a:pt x="7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365120" y="2879640"/>
            <a:ext cx="11124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7"/>
                </a:moveTo>
                <a:lnTo>
                  <a:pt x="15" y="0"/>
                </a:lnTo>
                <a:lnTo>
                  <a:pt x="53" y="17"/>
                </a:lnTo>
                <a:lnTo>
                  <a:pt x="70" y="13"/>
                </a:lnTo>
                <a:lnTo>
                  <a:pt x="61" y="25"/>
                </a:lnTo>
                <a:lnTo>
                  <a:pt x="17" y="25"/>
                </a:lnTo>
                <a:lnTo>
                  <a:pt x="34" y="21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365120" y="2879640"/>
            <a:ext cx="11124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7"/>
                </a:moveTo>
                <a:lnTo>
                  <a:pt x="15" y="0"/>
                </a:lnTo>
                <a:lnTo>
                  <a:pt x="53" y="17"/>
                </a:lnTo>
                <a:lnTo>
                  <a:pt x="70" y="13"/>
                </a:lnTo>
                <a:lnTo>
                  <a:pt x="61" y="25"/>
                </a:lnTo>
                <a:lnTo>
                  <a:pt x="17" y="25"/>
                </a:lnTo>
                <a:lnTo>
                  <a:pt x="34" y="21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76360" y="293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7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76360" y="29322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7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5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305000" y="2925720"/>
            <a:ext cx="1440" cy="8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643040" y="2925720"/>
            <a:ext cx="1440" cy="824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646280" y="2697120"/>
            <a:ext cx="757080" cy="26676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635120" y="2963520"/>
            <a:ext cx="768240" cy="26028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46280" y="2970360"/>
            <a:ext cx="785880" cy="144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308240" y="3892680"/>
            <a:ext cx="336240" cy="11736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306440" y="3868560"/>
            <a:ext cx="336600" cy="8280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306440" y="3868560"/>
            <a:ext cx="336600" cy="8280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08240" y="3805200"/>
            <a:ext cx="336240" cy="11916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479600" y="381960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20"/>
                </a:moveTo>
                <a:lnTo>
                  <a:pt x="15" y="25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5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479600" y="3819600"/>
            <a:ext cx="112680" cy="3960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20"/>
                </a:moveTo>
                <a:lnTo>
                  <a:pt x="15" y="25"/>
                </a:lnTo>
                <a:lnTo>
                  <a:pt x="54" y="8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5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59000" y="386856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4"/>
                </a:moveTo>
                <a:lnTo>
                  <a:pt x="55" y="0"/>
                </a:lnTo>
                <a:lnTo>
                  <a:pt x="17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4" y="18"/>
                </a:lnTo>
                <a:lnTo>
                  <a:pt x="7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359000" y="3868560"/>
            <a:ext cx="11088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4"/>
                </a:moveTo>
                <a:lnTo>
                  <a:pt x="55" y="0"/>
                </a:lnTo>
                <a:lnTo>
                  <a:pt x="17" y="14"/>
                </a:lnTo>
                <a:lnTo>
                  <a:pt x="0" y="10"/>
                </a:lnTo>
                <a:lnTo>
                  <a:pt x="9" y="24"/>
                </a:lnTo>
                <a:lnTo>
                  <a:pt x="55" y="24"/>
                </a:lnTo>
                <a:lnTo>
                  <a:pt x="34" y="18"/>
                </a:lnTo>
                <a:lnTo>
                  <a:pt x="7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65120" y="3819600"/>
            <a:ext cx="11124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5"/>
                </a:lnTo>
                <a:lnTo>
                  <a:pt x="17" y="25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365120" y="3819600"/>
            <a:ext cx="111240" cy="39600"/>
          </a:xfrm>
          <a:custGeom>
            <a:avLst/>
            <a:gdLst/>
            <a:ahLst/>
            <a:rect l="l" t="t" r="r" b="b"/>
            <a:pathLst>
              <a:path w="70" h="25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5"/>
                </a:lnTo>
                <a:lnTo>
                  <a:pt x="17" y="25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76360" y="387180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69" y="18"/>
                </a:moveTo>
                <a:lnTo>
                  <a:pt x="54" y="24"/>
                </a:lnTo>
                <a:lnTo>
                  <a:pt x="17" y="8"/>
                </a:lnTo>
                <a:lnTo>
                  <a:pt x="0" y="12"/>
                </a:lnTo>
                <a:lnTo>
                  <a:pt x="8" y="0"/>
                </a:lnTo>
                <a:lnTo>
                  <a:pt x="54" y="0"/>
                </a:lnTo>
                <a:lnTo>
                  <a:pt x="35" y="4"/>
                </a:lnTo>
                <a:lnTo>
                  <a:pt x="69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76360" y="387180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69" y="18"/>
                </a:moveTo>
                <a:lnTo>
                  <a:pt x="54" y="24"/>
                </a:lnTo>
                <a:lnTo>
                  <a:pt x="17" y="8"/>
                </a:lnTo>
                <a:lnTo>
                  <a:pt x="0" y="12"/>
                </a:lnTo>
                <a:lnTo>
                  <a:pt x="8" y="0"/>
                </a:lnTo>
                <a:lnTo>
                  <a:pt x="54" y="0"/>
                </a:lnTo>
                <a:lnTo>
                  <a:pt x="35" y="4"/>
                </a:lnTo>
                <a:lnTo>
                  <a:pt x="69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82840" y="3822840"/>
            <a:ext cx="10944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0" y="18"/>
                </a:moveTo>
                <a:lnTo>
                  <a:pt x="15" y="25"/>
                </a:lnTo>
                <a:lnTo>
                  <a:pt x="54" y="8"/>
                </a:lnTo>
                <a:lnTo>
                  <a:pt x="69" y="14"/>
                </a:lnTo>
                <a:lnTo>
                  <a:pt x="61" y="0"/>
                </a:lnTo>
                <a:lnTo>
                  <a:pt x="15" y="0"/>
                </a:lnTo>
                <a:lnTo>
                  <a:pt x="34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82840" y="3822840"/>
            <a:ext cx="10944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0" y="18"/>
                </a:moveTo>
                <a:lnTo>
                  <a:pt x="15" y="25"/>
                </a:lnTo>
                <a:lnTo>
                  <a:pt x="54" y="8"/>
                </a:lnTo>
                <a:lnTo>
                  <a:pt x="69" y="14"/>
                </a:lnTo>
                <a:lnTo>
                  <a:pt x="61" y="0"/>
                </a:lnTo>
                <a:lnTo>
                  <a:pt x="15" y="0"/>
                </a:lnTo>
                <a:lnTo>
                  <a:pt x="34" y="4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62240" y="3868560"/>
            <a:ext cx="107640" cy="41400"/>
          </a:xfrm>
          <a:custGeom>
            <a:avLst/>
            <a:gdLst/>
            <a:ahLst/>
            <a:rect l="l" t="t" r="r" b="b"/>
            <a:pathLst>
              <a:path w="68" h="26">
                <a:moveTo>
                  <a:pt x="68" y="6"/>
                </a:moveTo>
                <a:lnTo>
                  <a:pt x="53" y="0"/>
                </a:lnTo>
                <a:lnTo>
                  <a:pt x="17" y="16"/>
                </a:lnTo>
                <a:lnTo>
                  <a:pt x="0" y="12"/>
                </a:lnTo>
                <a:lnTo>
                  <a:pt x="7" y="26"/>
                </a:lnTo>
                <a:lnTo>
                  <a:pt x="53" y="26"/>
                </a:lnTo>
                <a:lnTo>
                  <a:pt x="34" y="20"/>
                </a:ln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362240" y="3868560"/>
            <a:ext cx="107640" cy="41400"/>
          </a:xfrm>
          <a:custGeom>
            <a:avLst/>
            <a:gdLst/>
            <a:ahLst/>
            <a:rect l="l" t="t" r="r" b="b"/>
            <a:pathLst>
              <a:path w="68" h="26">
                <a:moveTo>
                  <a:pt x="68" y="6"/>
                </a:moveTo>
                <a:lnTo>
                  <a:pt x="53" y="0"/>
                </a:lnTo>
                <a:lnTo>
                  <a:pt x="17" y="16"/>
                </a:lnTo>
                <a:lnTo>
                  <a:pt x="0" y="12"/>
                </a:lnTo>
                <a:lnTo>
                  <a:pt x="7" y="26"/>
                </a:lnTo>
                <a:lnTo>
                  <a:pt x="53" y="26"/>
                </a:lnTo>
                <a:lnTo>
                  <a:pt x="34" y="20"/>
                </a:ln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368360" y="3819600"/>
            <a:ext cx="108000" cy="39600"/>
          </a:xfrm>
          <a:custGeom>
            <a:avLst/>
            <a:gdLst/>
            <a:ahLst/>
            <a:rect l="l" t="t" r="r" b="b"/>
            <a:pathLst>
              <a:path w="68" h="25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8" y="12"/>
                </a:lnTo>
                <a:lnTo>
                  <a:pt x="61" y="25"/>
                </a:lnTo>
                <a:lnTo>
                  <a:pt x="17" y="25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368360" y="3819600"/>
            <a:ext cx="108000" cy="39600"/>
          </a:xfrm>
          <a:custGeom>
            <a:avLst/>
            <a:gdLst/>
            <a:ahLst/>
            <a:rect l="l" t="t" r="r" b="b"/>
            <a:pathLst>
              <a:path w="68" h="25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8" y="12"/>
                </a:lnTo>
                <a:lnTo>
                  <a:pt x="61" y="25"/>
                </a:lnTo>
                <a:lnTo>
                  <a:pt x="17" y="25"/>
                </a:lnTo>
                <a:lnTo>
                  <a:pt x="34" y="2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476360" y="38718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9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76360" y="387180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71" y="20"/>
                </a:moveTo>
                <a:lnTo>
                  <a:pt x="56" y="24"/>
                </a:lnTo>
                <a:lnTo>
                  <a:pt x="19" y="10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306440" y="3865680"/>
            <a:ext cx="1800" cy="8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43040" y="3865680"/>
            <a:ext cx="1440" cy="8244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97080" y="4424400"/>
            <a:ext cx="336600" cy="1220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4400640"/>
            <a:ext cx="336600" cy="856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295280" y="4400640"/>
            <a:ext cx="336600" cy="856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297080" y="4338720"/>
            <a:ext cx="336600" cy="1206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468440" y="435276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0" y="20"/>
                </a:moveTo>
                <a:lnTo>
                  <a:pt x="15" y="26"/>
                </a:lnTo>
                <a:lnTo>
                  <a:pt x="53" y="10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4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468440" y="435276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0" y="20"/>
                </a:moveTo>
                <a:lnTo>
                  <a:pt x="15" y="26"/>
                </a:lnTo>
                <a:lnTo>
                  <a:pt x="53" y="10"/>
                </a:lnTo>
                <a:lnTo>
                  <a:pt x="70" y="14"/>
                </a:lnTo>
                <a:lnTo>
                  <a:pt x="61" y="0"/>
                </a:lnTo>
                <a:lnTo>
                  <a:pt x="17" y="0"/>
                </a:lnTo>
                <a:lnTo>
                  <a:pt x="34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346040" y="4400640"/>
            <a:ext cx="11304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6" y="0"/>
                </a:lnTo>
                <a:lnTo>
                  <a:pt x="17" y="16"/>
                </a:lnTo>
                <a:lnTo>
                  <a:pt x="0" y="10"/>
                </a:lnTo>
                <a:lnTo>
                  <a:pt x="10" y="26"/>
                </a:lnTo>
                <a:lnTo>
                  <a:pt x="56" y="26"/>
                </a:lnTo>
                <a:lnTo>
                  <a:pt x="35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346040" y="4400640"/>
            <a:ext cx="113040" cy="41040"/>
          </a:xfrm>
          <a:custGeom>
            <a:avLst/>
            <a:gdLst/>
            <a:ahLst/>
            <a:rect l="l" t="t" r="r" b="b"/>
            <a:pathLst>
              <a:path w="71" h="26">
                <a:moveTo>
                  <a:pt x="71" y="4"/>
                </a:moveTo>
                <a:lnTo>
                  <a:pt x="56" y="0"/>
                </a:lnTo>
                <a:lnTo>
                  <a:pt x="17" y="16"/>
                </a:lnTo>
                <a:lnTo>
                  <a:pt x="0" y="10"/>
                </a:lnTo>
                <a:lnTo>
                  <a:pt x="10" y="26"/>
                </a:lnTo>
                <a:lnTo>
                  <a:pt x="56" y="26"/>
                </a:lnTo>
                <a:lnTo>
                  <a:pt x="35" y="20"/>
                </a:lnTo>
                <a:lnTo>
                  <a:pt x="71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52520" y="43527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352520" y="4352760"/>
            <a:ext cx="112680" cy="38160"/>
          </a:xfrm>
          <a:custGeom>
            <a:avLst/>
            <a:gdLst/>
            <a:ahLst/>
            <a:rect l="l" t="t" r="r" b="b"/>
            <a:pathLst>
              <a:path w="71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1" y="10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465200" y="4403880"/>
            <a:ext cx="108000" cy="37800"/>
          </a:xfrm>
          <a:custGeom>
            <a:avLst/>
            <a:gdLst/>
            <a:ahLst/>
            <a:rect l="l" t="t" r="r" b="b"/>
            <a:pathLst>
              <a:path w="68" h="24">
                <a:moveTo>
                  <a:pt x="68" y="20"/>
                </a:moveTo>
                <a:lnTo>
                  <a:pt x="53" y="24"/>
                </a:lnTo>
                <a:lnTo>
                  <a:pt x="17" y="8"/>
                </a:lnTo>
                <a:lnTo>
                  <a:pt x="0" y="14"/>
                </a:lnTo>
                <a:lnTo>
                  <a:pt x="7" y="0"/>
                </a:lnTo>
                <a:lnTo>
                  <a:pt x="53" y="0"/>
                </a:lnTo>
                <a:lnTo>
                  <a:pt x="34" y="4"/>
                </a:lnTo>
                <a:lnTo>
                  <a:pt x="68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65200" y="4403880"/>
            <a:ext cx="108000" cy="37800"/>
          </a:xfrm>
          <a:custGeom>
            <a:avLst/>
            <a:gdLst/>
            <a:ahLst/>
            <a:rect l="l" t="t" r="r" b="b"/>
            <a:pathLst>
              <a:path w="68" h="24">
                <a:moveTo>
                  <a:pt x="68" y="20"/>
                </a:moveTo>
                <a:lnTo>
                  <a:pt x="53" y="24"/>
                </a:lnTo>
                <a:lnTo>
                  <a:pt x="17" y="8"/>
                </a:lnTo>
                <a:lnTo>
                  <a:pt x="0" y="14"/>
                </a:lnTo>
                <a:lnTo>
                  <a:pt x="7" y="0"/>
                </a:lnTo>
                <a:lnTo>
                  <a:pt x="53" y="0"/>
                </a:lnTo>
                <a:lnTo>
                  <a:pt x="34" y="4"/>
                </a:lnTo>
                <a:lnTo>
                  <a:pt x="68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469880" y="4356000"/>
            <a:ext cx="10980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20"/>
                </a:moveTo>
                <a:lnTo>
                  <a:pt x="16" y="24"/>
                </a:lnTo>
                <a:lnTo>
                  <a:pt x="54" y="8"/>
                </a:lnTo>
                <a:lnTo>
                  <a:pt x="69" y="14"/>
                </a:lnTo>
                <a:lnTo>
                  <a:pt x="62" y="0"/>
                </a:lnTo>
                <a:lnTo>
                  <a:pt x="16" y="0"/>
                </a:lnTo>
                <a:lnTo>
                  <a:pt x="35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469880" y="4356000"/>
            <a:ext cx="10980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20"/>
                </a:moveTo>
                <a:lnTo>
                  <a:pt x="16" y="24"/>
                </a:lnTo>
                <a:lnTo>
                  <a:pt x="54" y="8"/>
                </a:lnTo>
                <a:lnTo>
                  <a:pt x="69" y="14"/>
                </a:lnTo>
                <a:lnTo>
                  <a:pt x="62" y="0"/>
                </a:lnTo>
                <a:lnTo>
                  <a:pt x="16" y="0"/>
                </a:lnTo>
                <a:lnTo>
                  <a:pt x="35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349280" y="4400640"/>
            <a:ext cx="109800" cy="41040"/>
          </a:xfrm>
          <a:custGeom>
            <a:avLst/>
            <a:gdLst/>
            <a:ahLst/>
            <a:rect l="l" t="t" r="r" b="b"/>
            <a:pathLst>
              <a:path w="69" h="26">
                <a:moveTo>
                  <a:pt x="69" y="6"/>
                </a:moveTo>
                <a:lnTo>
                  <a:pt x="54" y="0"/>
                </a:lnTo>
                <a:lnTo>
                  <a:pt x="17" y="18"/>
                </a:lnTo>
                <a:lnTo>
                  <a:pt x="0" y="12"/>
                </a:lnTo>
                <a:lnTo>
                  <a:pt x="8" y="26"/>
                </a:lnTo>
                <a:lnTo>
                  <a:pt x="54" y="26"/>
                </a:lnTo>
                <a:lnTo>
                  <a:pt x="34" y="22"/>
                </a:lnTo>
                <a:lnTo>
                  <a:pt x="6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49280" y="4400640"/>
            <a:ext cx="109800" cy="41040"/>
          </a:xfrm>
          <a:custGeom>
            <a:avLst/>
            <a:gdLst/>
            <a:ahLst/>
            <a:rect l="l" t="t" r="r" b="b"/>
            <a:pathLst>
              <a:path w="69" h="26">
                <a:moveTo>
                  <a:pt x="69" y="6"/>
                </a:moveTo>
                <a:lnTo>
                  <a:pt x="54" y="0"/>
                </a:lnTo>
                <a:lnTo>
                  <a:pt x="17" y="18"/>
                </a:lnTo>
                <a:lnTo>
                  <a:pt x="0" y="12"/>
                </a:lnTo>
                <a:lnTo>
                  <a:pt x="8" y="26"/>
                </a:lnTo>
                <a:lnTo>
                  <a:pt x="54" y="26"/>
                </a:lnTo>
                <a:lnTo>
                  <a:pt x="34" y="22"/>
                </a:lnTo>
                <a:lnTo>
                  <a:pt x="6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355760" y="4352760"/>
            <a:ext cx="109440" cy="41400"/>
          </a:xfrm>
          <a:custGeom>
            <a:avLst/>
            <a:gdLst/>
            <a:ahLst/>
            <a:rect l="l" t="t" r="r" b="b"/>
            <a:pathLst>
              <a:path w="69" h="26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9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55760" y="4352760"/>
            <a:ext cx="109440" cy="41400"/>
          </a:xfrm>
          <a:custGeom>
            <a:avLst/>
            <a:gdLst/>
            <a:ahLst/>
            <a:rect l="l" t="t" r="r" b="b"/>
            <a:pathLst>
              <a:path w="69" h="26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9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65200" y="440676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18"/>
                </a:moveTo>
                <a:lnTo>
                  <a:pt x="55" y="24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65200" y="440676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70" y="18"/>
                </a:moveTo>
                <a:lnTo>
                  <a:pt x="55" y="24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5" y="0"/>
                </a:lnTo>
                <a:lnTo>
                  <a:pt x="36" y="4"/>
                </a:lnTo>
                <a:lnTo>
                  <a:pt x="7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95280" y="4397400"/>
            <a:ext cx="180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631880" y="4397400"/>
            <a:ext cx="1800" cy="856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08240" y="4160880"/>
            <a:ext cx="336240" cy="1220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306440" y="4137120"/>
            <a:ext cx="33660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306440" y="4137120"/>
            <a:ext cx="33660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08240" y="4075200"/>
            <a:ext cx="336240" cy="1220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479600" y="40892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0" y="20"/>
                </a:moveTo>
                <a:lnTo>
                  <a:pt x="15" y="26"/>
                </a:lnTo>
                <a:lnTo>
                  <a:pt x="54" y="10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5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79600" y="4089240"/>
            <a:ext cx="112680" cy="41400"/>
          </a:xfrm>
          <a:custGeom>
            <a:avLst/>
            <a:gdLst/>
            <a:ahLst/>
            <a:rect l="l" t="t" r="r" b="b"/>
            <a:pathLst>
              <a:path w="71" h="26">
                <a:moveTo>
                  <a:pt x="0" y="20"/>
                </a:moveTo>
                <a:lnTo>
                  <a:pt x="15" y="26"/>
                </a:lnTo>
                <a:lnTo>
                  <a:pt x="54" y="10"/>
                </a:lnTo>
                <a:lnTo>
                  <a:pt x="71" y="14"/>
                </a:lnTo>
                <a:lnTo>
                  <a:pt x="61" y="0"/>
                </a:lnTo>
                <a:lnTo>
                  <a:pt x="17" y="0"/>
                </a:lnTo>
                <a:lnTo>
                  <a:pt x="35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359000" y="4137120"/>
            <a:ext cx="110880" cy="42840"/>
          </a:xfrm>
          <a:custGeom>
            <a:avLst/>
            <a:gdLst/>
            <a:ahLst/>
            <a:rect l="l" t="t" r="r" b="b"/>
            <a:pathLst>
              <a:path w="70" h="27">
                <a:moveTo>
                  <a:pt x="70" y="4"/>
                </a:moveTo>
                <a:lnTo>
                  <a:pt x="55" y="0"/>
                </a:lnTo>
                <a:lnTo>
                  <a:pt x="17" y="16"/>
                </a:lnTo>
                <a:lnTo>
                  <a:pt x="0" y="10"/>
                </a:lnTo>
                <a:lnTo>
                  <a:pt x="9" y="27"/>
                </a:lnTo>
                <a:lnTo>
                  <a:pt x="55" y="27"/>
                </a:lnTo>
                <a:lnTo>
                  <a:pt x="34" y="20"/>
                </a:lnTo>
                <a:lnTo>
                  <a:pt x="7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359000" y="4137120"/>
            <a:ext cx="110880" cy="42840"/>
          </a:xfrm>
          <a:custGeom>
            <a:avLst/>
            <a:gdLst/>
            <a:ahLst/>
            <a:rect l="l" t="t" r="r" b="b"/>
            <a:pathLst>
              <a:path w="70" h="27">
                <a:moveTo>
                  <a:pt x="70" y="4"/>
                </a:moveTo>
                <a:lnTo>
                  <a:pt x="55" y="0"/>
                </a:lnTo>
                <a:lnTo>
                  <a:pt x="17" y="16"/>
                </a:lnTo>
                <a:lnTo>
                  <a:pt x="0" y="10"/>
                </a:lnTo>
                <a:lnTo>
                  <a:pt x="9" y="27"/>
                </a:lnTo>
                <a:lnTo>
                  <a:pt x="55" y="27"/>
                </a:lnTo>
                <a:lnTo>
                  <a:pt x="34" y="20"/>
                </a:lnTo>
                <a:lnTo>
                  <a:pt x="7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365120" y="408924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365120" y="4089240"/>
            <a:ext cx="111240" cy="3816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4"/>
                </a:moveTo>
                <a:lnTo>
                  <a:pt x="15" y="0"/>
                </a:lnTo>
                <a:lnTo>
                  <a:pt x="53" y="14"/>
                </a:lnTo>
                <a:lnTo>
                  <a:pt x="70" y="10"/>
                </a:lnTo>
                <a:lnTo>
                  <a:pt x="61" y="24"/>
                </a:lnTo>
                <a:lnTo>
                  <a:pt x="17" y="24"/>
                </a:lnTo>
                <a:lnTo>
                  <a:pt x="34" y="2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76360" y="4140360"/>
            <a:ext cx="10944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9" y="20"/>
                </a:moveTo>
                <a:lnTo>
                  <a:pt x="54" y="25"/>
                </a:lnTo>
                <a:lnTo>
                  <a:pt x="17" y="8"/>
                </a:lnTo>
                <a:lnTo>
                  <a:pt x="0" y="14"/>
                </a:lnTo>
                <a:lnTo>
                  <a:pt x="8" y="0"/>
                </a:lnTo>
                <a:lnTo>
                  <a:pt x="54" y="0"/>
                </a:lnTo>
                <a:lnTo>
                  <a:pt x="35" y="4"/>
                </a:lnTo>
                <a:lnTo>
                  <a:pt x="69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76360" y="4140360"/>
            <a:ext cx="10944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9" y="20"/>
                </a:moveTo>
                <a:lnTo>
                  <a:pt x="54" y="25"/>
                </a:lnTo>
                <a:lnTo>
                  <a:pt x="17" y="8"/>
                </a:lnTo>
                <a:lnTo>
                  <a:pt x="0" y="14"/>
                </a:lnTo>
                <a:lnTo>
                  <a:pt x="8" y="0"/>
                </a:lnTo>
                <a:lnTo>
                  <a:pt x="54" y="0"/>
                </a:lnTo>
                <a:lnTo>
                  <a:pt x="35" y="4"/>
                </a:lnTo>
                <a:lnTo>
                  <a:pt x="69" y="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82840" y="409248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20"/>
                </a:moveTo>
                <a:lnTo>
                  <a:pt x="15" y="24"/>
                </a:lnTo>
                <a:lnTo>
                  <a:pt x="54" y="8"/>
                </a:lnTo>
                <a:lnTo>
                  <a:pt x="69" y="14"/>
                </a:lnTo>
                <a:lnTo>
                  <a:pt x="61" y="0"/>
                </a:lnTo>
                <a:lnTo>
                  <a:pt x="15" y="0"/>
                </a:lnTo>
                <a:lnTo>
                  <a:pt x="34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82840" y="4092480"/>
            <a:ext cx="109440" cy="38160"/>
          </a:xfrm>
          <a:custGeom>
            <a:avLst/>
            <a:gdLst/>
            <a:ahLst/>
            <a:rect l="l" t="t" r="r" b="b"/>
            <a:pathLst>
              <a:path w="69" h="24">
                <a:moveTo>
                  <a:pt x="0" y="20"/>
                </a:moveTo>
                <a:lnTo>
                  <a:pt x="15" y="24"/>
                </a:lnTo>
                <a:lnTo>
                  <a:pt x="54" y="8"/>
                </a:lnTo>
                <a:lnTo>
                  <a:pt x="69" y="14"/>
                </a:lnTo>
                <a:lnTo>
                  <a:pt x="61" y="0"/>
                </a:lnTo>
                <a:lnTo>
                  <a:pt x="15" y="0"/>
                </a:lnTo>
                <a:lnTo>
                  <a:pt x="34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362240" y="4137120"/>
            <a:ext cx="107640" cy="42840"/>
          </a:xfrm>
          <a:custGeom>
            <a:avLst/>
            <a:gdLst/>
            <a:ahLst/>
            <a:rect l="l" t="t" r="r" b="b"/>
            <a:pathLst>
              <a:path w="68" h="27">
                <a:moveTo>
                  <a:pt x="68" y="6"/>
                </a:moveTo>
                <a:lnTo>
                  <a:pt x="53" y="0"/>
                </a:lnTo>
                <a:lnTo>
                  <a:pt x="17" y="18"/>
                </a:lnTo>
                <a:lnTo>
                  <a:pt x="0" y="12"/>
                </a:lnTo>
                <a:lnTo>
                  <a:pt x="7" y="27"/>
                </a:lnTo>
                <a:lnTo>
                  <a:pt x="53" y="27"/>
                </a:lnTo>
                <a:lnTo>
                  <a:pt x="34" y="22"/>
                </a:ln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362240" y="4137120"/>
            <a:ext cx="107640" cy="42840"/>
          </a:xfrm>
          <a:custGeom>
            <a:avLst/>
            <a:gdLst/>
            <a:ahLst/>
            <a:rect l="l" t="t" r="r" b="b"/>
            <a:pathLst>
              <a:path w="68" h="27">
                <a:moveTo>
                  <a:pt x="68" y="6"/>
                </a:moveTo>
                <a:lnTo>
                  <a:pt x="53" y="0"/>
                </a:lnTo>
                <a:lnTo>
                  <a:pt x="17" y="18"/>
                </a:lnTo>
                <a:lnTo>
                  <a:pt x="0" y="12"/>
                </a:lnTo>
                <a:lnTo>
                  <a:pt x="7" y="27"/>
                </a:lnTo>
                <a:lnTo>
                  <a:pt x="53" y="27"/>
                </a:lnTo>
                <a:lnTo>
                  <a:pt x="34" y="22"/>
                </a:ln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368360" y="4089240"/>
            <a:ext cx="108000" cy="41400"/>
          </a:xfrm>
          <a:custGeom>
            <a:avLst/>
            <a:gdLst/>
            <a:ahLst/>
            <a:rect l="l" t="t" r="r" b="b"/>
            <a:pathLst>
              <a:path w="68" h="26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8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368360" y="4089240"/>
            <a:ext cx="108000" cy="41400"/>
          </a:xfrm>
          <a:custGeom>
            <a:avLst/>
            <a:gdLst/>
            <a:ahLst/>
            <a:rect l="l" t="t" r="r" b="b"/>
            <a:pathLst>
              <a:path w="68" h="26">
                <a:moveTo>
                  <a:pt x="0" y="6"/>
                </a:moveTo>
                <a:lnTo>
                  <a:pt x="15" y="0"/>
                </a:lnTo>
                <a:lnTo>
                  <a:pt x="53" y="16"/>
                </a:lnTo>
                <a:lnTo>
                  <a:pt x="68" y="12"/>
                </a:lnTo>
                <a:lnTo>
                  <a:pt x="61" y="26"/>
                </a:lnTo>
                <a:lnTo>
                  <a:pt x="17" y="26"/>
                </a:lnTo>
                <a:lnTo>
                  <a:pt x="34" y="22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76360" y="4143240"/>
            <a:ext cx="112680" cy="3996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18"/>
                </a:moveTo>
                <a:lnTo>
                  <a:pt x="56" y="25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76360" y="4143240"/>
            <a:ext cx="112680" cy="39960"/>
          </a:xfrm>
          <a:custGeom>
            <a:avLst/>
            <a:gdLst/>
            <a:ahLst/>
            <a:rect l="l" t="t" r="r" b="b"/>
            <a:pathLst>
              <a:path w="71" h="25">
                <a:moveTo>
                  <a:pt x="71" y="18"/>
                </a:moveTo>
                <a:lnTo>
                  <a:pt x="56" y="25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6" y="0"/>
                </a:lnTo>
                <a:lnTo>
                  <a:pt x="37" y="4"/>
                </a:lnTo>
                <a:lnTo>
                  <a:pt x="71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306440" y="41338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43040" y="4133880"/>
            <a:ext cx="1440" cy="871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646280" y="3909960"/>
            <a:ext cx="757080" cy="26676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1635120" y="4176360"/>
            <a:ext cx="768240" cy="25884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646280" y="4179960"/>
            <a:ext cx="785880" cy="1440"/>
          </a:xfrm>
          <a:prstGeom prst="line">
            <a:avLst/>
          </a:prstGeom>
          <a:ln w="176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82680" y="5444640"/>
            <a:ext cx="1668240" cy="324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6360" y="5456160"/>
            <a:ext cx="107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C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1800" y="5711760"/>
            <a:ext cx="198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(Customer Contro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093080" y="5445000"/>
            <a:ext cx="1598400" cy="504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583040" y="5456160"/>
            <a:ext cx="107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C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188840" y="5711760"/>
            <a:ext cx="198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(Customer Contro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348000" y="1915920"/>
            <a:ext cx="2376360" cy="12600"/>
          </a:xfrm>
          <a:prstGeom prst="line">
            <a:avLst/>
          </a:prstGeom>
          <a:ln w="176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49320" y="15922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MPONENTES - LS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150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bel Switch Rout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ambién conocido como nodo P (Provider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odo o router con capacidades de MP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ntiende los protocolos de control MPLS como LDP y protocolos de enrutamiento convencional como OSPF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 capaz de conmutar (forwarding) un paquete basado en el Label, pasándolo al siguiente LSR o L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puede ver como un Suiche + Router que habla protocolos para la distribucion de etiquetas y protocolos de enrutamient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MPONENTES - LS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150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tán ubicados en el core de la nube MP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Generalmente realiza operaciones de Swaping del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pcionalmente puede enrutar paquetes IP convencionales (sin label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pueden clasificar en dos tipos asi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rame-based LSR: hacen forwarding de tramas completas entre sus interfaces.  Ejemplo: Ethernet, PP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TM-LSR: tiene interfaces ATM y conmuta celdas entre ell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pueden tener nodos MPLS con los dos tipos de interfac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MPONENTES – ATM-LS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8816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 un suiche ATM con capacidades de MPL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esde el punto de vista del plano de control se comporta como un router, hablando protocolos de enrutamiento como OSPF, IS-IS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ambién habla protocolos de distribución de labels como LD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esde el punto de vista del plano de datos conmutan las celdas (que llevan los paquetes) con base en el VPI/VCI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n el plano de datos solo entienden celdas AT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Debe manejar VPI/VCI para el intercambio de información de control (OSPF, LDP, etc), con nodos vecinos, utilizando VPI/VCI que no esten dentro de los rangos utilizados por MPLS (non MPLS connections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MPONENTES – ATM-LS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8816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El VPI/VCI por defecto para el intercambio de información de control (LDP)  es VPI 0, VCI 32. Otros valores se pueden configurar siempre y cuando ambas partes se pongan de acuerdo. NO SE ENVIAN CONTENIDOS CON ETIQUETAS y se debe utilizar encapsulación LLC/SNA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os VPI/VCI donde VCI este entre 0-32 no se deben usar como labe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QUE ES MPLS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690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cnología desarrollada por la IETF, para la implementación de un core basado en enrutamiento y suiche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PLS se superpone sobre la red IP, permitiendo reserva de recursos y el establecimiento de rutas predeterminada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JO: No reemplaza a IP, lo complement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JO: Se siguen requiriendo protocolos de enrutamiento IP convencional como OSPF, IS-IS, etc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676520" y="1355760"/>
            <a:ext cx="5105160" cy="4648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PMingLiU"/>
              </a:rPr>
              <a:t>ESTRUCTURA INTERNA DE UN NODO MP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2" name=""/>
          <p:cNvSpPr/>
          <p:nvPr/>
        </p:nvSpPr>
        <p:spPr>
          <a:xfrm>
            <a:off x="2133720" y="1812960"/>
            <a:ext cx="4343400" cy="19051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76520" y="1432080"/>
            <a:ext cx="190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PMingLiU"/>
              </a:rPr>
              <a:t>Contro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438280" y="1965240"/>
            <a:ext cx="2210040" cy="381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routing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438280" y="2651040"/>
            <a:ext cx="2286000" cy="38124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routing table (RI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648320" y="2117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010280" y="1812960"/>
            <a:ext cx="21337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Routing updates from other ro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057400" y="4175280"/>
            <a:ext cx="4419720" cy="1600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62320" y="4403880"/>
            <a:ext cx="26668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forwarding table (FI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676520" y="3794040"/>
            <a:ext cx="16761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  <a:ea typeface="PMingLiU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5165640"/>
            <a:ext cx="32004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abel forwarding table (LFI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00400" y="3184560"/>
            <a:ext cx="3124080" cy="457200"/>
          </a:xfrm>
          <a:prstGeom prst="rect">
            <a:avLst/>
          </a:prstGeom>
          <a:solidFill>
            <a:srgbClr val="b12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abel Information Base (LI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324480" y="3336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10280" y="2955960"/>
            <a:ext cx="2133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Label bindings learned via LDP from other ro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1200240" y="5470560"/>
            <a:ext cx="14666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43600" y="5470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5084640"/>
            <a:ext cx="1981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ncoming MPL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010280" y="5013360"/>
            <a:ext cx="1905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Outgoing MPL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1055520" y="4632120"/>
            <a:ext cx="13068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4292640"/>
            <a:ext cx="1981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ncoming IP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666880" y="5943600"/>
            <a:ext cx="2667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ontrol and data plane of 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029200" y="4632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29400" y="463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29400" y="531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6200" y="3641760"/>
            <a:ext cx="152280" cy="838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410080" y="3641760"/>
            <a:ext cx="228600" cy="1523880"/>
          </a:xfrm>
          <a:prstGeom prst="downArrow">
            <a:avLst>
              <a:gd name="adj1" fmla="val 50000"/>
              <a:gd name="adj2" fmla="val 166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895480" y="303228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6720" y="486108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895480" y="234648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COMPONENTES - LER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53416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bel Edge Router o ELSR (Edge LSR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 un LSR que está a la entrada (Ingress) o la salida (Egress) de la nube MPLS (en el borde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ecibe o Entrega los paquetes IP convencionales del clien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onen (PUSH) o quitan (POP) el label a los paquetes que entran o salen de la nube MP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etermina a donde y como viajan los paquet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asa el paquete con el label al siguiente LSR/L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2514600" y="1523880"/>
            <a:ext cx="3962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555640" y="260280"/>
            <a:ext cx="4855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SQUEMA GEN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COMPONENTES - LSR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4920" y="549000"/>
            <a:ext cx="853416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an Ru y Rd dos router en el camino de un FEC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l Ru es el upstream router y el Rd es el downstream rout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pstream es la fuente, downstream es hacia el destin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l siguiente brinco (Next-hop) en la tabla de enrutamiento es el downstream neighbor de un LSR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5"/>
          <a:stretch/>
        </p:blipFill>
        <p:spPr>
          <a:xfrm>
            <a:off x="755640" y="4292640"/>
            <a:ext cx="755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OTROS COMPONENTES Y CONCEPTO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80520" y="112536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FEC: Forwarding Equivalence Clas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bel: identificador que asocia un paquete a un FEC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SP: Label Switch Path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DP: Label Distribution Protocol (IETF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DP: Tag Distribution Protocol (Cisco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FIB: Forwarding Information Bas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FIB: Label Forwarding Information Bas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HP: Penultimate Hub Popping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996000" y="0"/>
            <a:ext cx="1194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24000" y="620640"/>
            <a:ext cx="8605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orwarding Equivalenc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Grupo de paquetes que van por el mismo camino (LSP) con igual tratamiento: Q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njunto de paquetes que se pueden mapear con el mismo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 su ingreso a la red MPLS los paquetes se asocian a un FEC, mediante el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n el core MPLS no se hacen nuevas clasificaciones FEC, solo suicheo puro basado en el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ara asociar un paquete IP a un FEC se puede usar la dirección IP destino y el prefijo de la tabla de enrutamiento u otro mecan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3996000" y="0"/>
            <a:ext cx="1194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4000" y="620640"/>
            <a:ext cx="8605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En la actual especificación de LDP se soportan los siguientes tipos de FE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IP address prefix (source and/or destination prefix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Router I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Flow (port, destination-address, source-address, etc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4284720" y="0"/>
            <a:ext cx="1069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0880" y="692280"/>
            <a:ext cx="85345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bel Switched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amino que siguen los paquetes asociados a un FE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cuencia de LSR que siguen los paquetes desde el Ingress LSR hasta el Egress LS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puede derivar de un protocolo de enrutamiento IGP como OSPF, IS-IS o mediante otros mecanismos como procedimientos man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on unidireccionales.  Los paquetes en sentido contrario pueden seguir otro L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ELECCIÓN DE LAS RUTAS LS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3416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os filosofí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Hop-by-hop routing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tiliza un protocolo de enrutamiento convencional: OSPF, IS-IS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imitado por las métricas básicas de los protocolos convencionales y sus limitaciones para Ingeniería de tráfico y  políticas de enrutamiento para calidad de servici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nrutamiento explícito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n un LSR, típicamente el de Ingreso o de Egreso, se definen algunos o todos los nodos en el camin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ermite hacer ingeniería de tráfico, calidad de servicio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3564360" y="0"/>
            <a:ext cx="254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FEC Y L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324000" y="3284640"/>
            <a:ext cx="8206920" cy="3573360"/>
            <a:chOff x="324000" y="3284640"/>
            <a:chExt cx="8206920" cy="3573360"/>
          </a:xfrm>
        </p:grpSpPr>
        <p:pic>
          <p:nvPicPr>
            <p:cNvPr id="1370" name="" descr=""/>
            <p:cNvPicPr/>
            <p:nvPr/>
          </p:nvPicPr>
          <p:blipFill>
            <a:blip r:embed="rId1"/>
            <a:stretch/>
          </p:blipFill>
          <p:spPr>
            <a:xfrm>
              <a:off x="324000" y="3284640"/>
              <a:ext cx="820692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"/>
            <p:cNvSpPr/>
            <p:nvPr/>
          </p:nvSpPr>
          <p:spPr>
            <a:xfrm>
              <a:off x="1055160" y="3687840"/>
              <a:ext cx="69069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2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91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QUE ES MPLS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636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Ya el paquete no es enrutado con base en el encabezado IP, sino conmutado mediante un nuevo paradigma: EL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rea un esquema orientado a conexión sobre I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JO: MPLS no resuelve los problemas de ATM (Segmentación/Reensamble, tamaño limitado de la celda, Overhead, más procesamiento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MPLS T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La ingeniería de tráfico permite elegir rutas diferentes a las elegidas por el IG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5" name=""/>
          <p:cNvSpPr/>
          <p:nvPr/>
        </p:nvSpPr>
        <p:spPr>
          <a:xfrm>
            <a:off x="530640" y="5029200"/>
            <a:ext cx="3300840" cy="6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P elegido por el protoc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enrutamiento (I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717440" y="5029200"/>
            <a:ext cx="4350960" cy="6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P seleccionado mediante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2"/>
          <a:stretch/>
        </p:blipFill>
        <p:spPr>
          <a:xfrm>
            <a:off x="676440" y="2957400"/>
            <a:ext cx="2884320" cy="199404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3216240" y="4157640"/>
            <a:ext cx="762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582480" y="3449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1920960" y="3534840"/>
            <a:ext cx="666720" cy="68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1832040" y="3561840"/>
            <a:ext cx="668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1181160" y="3506760"/>
            <a:ext cx="6397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1890720" y="36608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541600" y="3462120"/>
            <a:ext cx="6480" cy="75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2558880" y="3573000"/>
            <a:ext cx="646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1247760" y="4169880"/>
            <a:ext cx="5842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2543040" y="4156200"/>
            <a:ext cx="574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1879560" y="4161960"/>
            <a:ext cx="65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832040" y="3570120"/>
            <a:ext cx="649080" cy="60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3"/>
          <a:stretch/>
        </p:blipFill>
        <p:spPr>
          <a:xfrm>
            <a:off x="2411280" y="3284640"/>
            <a:ext cx="284400" cy="46044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4"/>
          <a:stretch/>
        </p:blipFill>
        <p:spPr>
          <a:xfrm>
            <a:off x="1049400" y="4008600"/>
            <a:ext cx="326880" cy="32544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/>
          <p:cNvPicPr/>
          <p:nvPr/>
        </p:nvPicPr>
        <p:blipFill>
          <a:blip r:embed="rId5"/>
          <a:stretch/>
        </p:blipFill>
        <p:spPr>
          <a:xfrm>
            <a:off x="977760" y="33354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6"/>
          <a:stretch/>
        </p:blipFill>
        <p:spPr>
          <a:xfrm>
            <a:off x="3129120" y="3389400"/>
            <a:ext cx="328320" cy="32544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7"/>
          <a:stretch/>
        </p:blipFill>
        <p:spPr>
          <a:xfrm>
            <a:off x="3065400" y="4000680"/>
            <a:ext cx="327240" cy="32508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8"/>
          <a:stretch/>
        </p:blipFill>
        <p:spPr>
          <a:xfrm>
            <a:off x="1751040" y="3952800"/>
            <a:ext cx="284040" cy="4590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9"/>
          <a:stretch/>
        </p:blipFill>
        <p:spPr>
          <a:xfrm>
            <a:off x="1749600" y="3295800"/>
            <a:ext cx="285480" cy="45864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/>
          <p:cNvPicPr/>
          <p:nvPr/>
        </p:nvPicPr>
        <p:blipFill>
          <a:blip r:embed="rId10"/>
          <a:stretch/>
        </p:blipFill>
        <p:spPr>
          <a:xfrm>
            <a:off x="2411280" y="3952800"/>
            <a:ext cx="284400" cy="459000"/>
          </a:xfrm>
          <a:prstGeom prst="rect">
            <a:avLst/>
          </a:prstGeom>
          <a:ln w="0">
            <a:noFill/>
          </a:ln>
        </p:spPr>
      </p:pic>
      <p:pic>
        <p:nvPicPr>
          <p:cNvPr id="1398" name="" descr=""/>
          <p:cNvPicPr/>
          <p:nvPr/>
        </p:nvPicPr>
        <p:blipFill>
          <a:blip r:embed="rId11"/>
          <a:stretch/>
        </p:blipFill>
        <p:spPr>
          <a:xfrm>
            <a:off x="3821040" y="4002120"/>
            <a:ext cx="327240" cy="32364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1737000" y="4370400"/>
            <a:ext cx="1638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GP domain with a label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stribution 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2"/>
          <a:stretch/>
        </p:blipFill>
        <p:spPr>
          <a:xfrm>
            <a:off x="312840" y="333360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1106640" y="3424320"/>
            <a:ext cx="846000" cy="0"/>
          </a:xfrm>
          <a:prstGeom prst="line">
            <a:avLst/>
          </a:prstGeom>
          <a:ln w="76320">
            <a:solidFill>
              <a:srgbClr val="61d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93960" y="3427560"/>
            <a:ext cx="712800" cy="785520"/>
          </a:xfrm>
          <a:prstGeom prst="line">
            <a:avLst/>
          </a:prstGeom>
          <a:ln w="76320">
            <a:solidFill>
              <a:srgbClr val="61d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08200" y="4211640"/>
            <a:ext cx="658800" cy="0"/>
          </a:xfrm>
          <a:prstGeom prst="line">
            <a:avLst/>
          </a:prstGeom>
          <a:ln w="76320">
            <a:solidFill>
              <a:srgbClr val="61d7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3"/>
          <a:stretch/>
        </p:blipFill>
        <p:spPr>
          <a:xfrm>
            <a:off x="4808520" y="2957400"/>
            <a:ext cx="2882880" cy="199404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7346880" y="4157640"/>
            <a:ext cx="762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714560" y="3449520"/>
            <a:ext cx="43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051600" y="3534840"/>
            <a:ext cx="666720" cy="68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5962680" y="3561840"/>
            <a:ext cx="668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5311800" y="3506760"/>
            <a:ext cx="6411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6021360" y="36608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6672240" y="3468600"/>
            <a:ext cx="0" cy="7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689880" y="3573000"/>
            <a:ext cx="6458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5380200" y="4169880"/>
            <a:ext cx="5824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675480" y="4156200"/>
            <a:ext cx="5731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010200" y="4161960"/>
            <a:ext cx="65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62680" y="3570120"/>
            <a:ext cx="649080" cy="60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4"/>
          <a:stretch/>
        </p:blipFill>
        <p:spPr>
          <a:xfrm>
            <a:off x="6543720" y="3284640"/>
            <a:ext cx="284040" cy="460440"/>
          </a:xfrm>
          <a:prstGeom prst="rect">
            <a:avLst/>
          </a:prstGeom>
          <a:ln w="0">
            <a:noFill/>
          </a:ln>
        </p:spPr>
      </p:pic>
      <p:pic>
        <p:nvPicPr>
          <p:cNvPr id="1418" name="" descr=""/>
          <p:cNvPicPr/>
          <p:nvPr/>
        </p:nvPicPr>
        <p:blipFill>
          <a:blip r:embed="rId15"/>
          <a:stretch/>
        </p:blipFill>
        <p:spPr>
          <a:xfrm>
            <a:off x="5180040" y="4008600"/>
            <a:ext cx="326880" cy="32544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16"/>
          <a:stretch/>
        </p:blipFill>
        <p:spPr>
          <a:xfrm>
            <a:off x="5108400" y="33354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17"/>
          <a:stretch/>
        </p:blipFill>
        <p:spPr>
          <a:xfrm>
            <a:off x="7259760" y="3389400"/>
            <a:ext cx="328320" cy="32544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18"/>
          <a:stretch/>
        </p:blipFill>
        <p:spPr>
          <a:xfrm>
            <a:off x="7196040" y="4000680"/>
            <a:ext cx="327240" cy="32508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19"/>
          <a:stretch/>
        </p:blipFill>
        <p:spPr>
          <a:xfrm>
            <a:off x="5881680" y="3952800"/>
            <a:ext cx="284040" cy="4590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0"/>
          <a:stretch/>
        </p:blipFill>
        <p:spPr>
          <a:xfrm>
            <a:off x="5880240" y="3295800"/>
            <a:ext cx="285480" cy="45864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1"/>
          <a:stretch/>
        </p:blipFill>
        <p:spPr>
          <a:xfrm>
            <a:off x="6543720" y="3952800"/>
            <a:ext cx="284040" cy="45900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22"/>
          <a:stretch/>
        </p:blipFill>
        <p:spPr>
          <a:xfrm>
            <a:off x="7953480" y="4002120"/>
            <a:ext cx="325440" cy="323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5867640" y="4370400"/>
            <a:ext cx="1638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GP domain with a label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stribution 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23"/>
          <a:stretch/>
        </p:blipFill>
        <p:spPr>
          <a:xfrm>
            <a:off x="4443480" y="3333600"/>
            <a:ext cx="326880" cy="32544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5237280" y="3424320"/>
            <a:ext cx="847440" cy="0"/>
          </a:xfrm>
          <a:prstGeom prst="line">
            <a:avLst/>
          </a:prstGeom>
          <a:ln w="76320">
            <a:solidFill>
              <a:srgbClr val="61d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6075000" y="3424320"/>
            <a:ext cx="3240" cy="852480"/>
          </a:xfrm>
          <a:prstGeom prst="line">
            <a:avLst/>
          </a:prstGeom>
          <a:ln w="76320">
            <a:solidFill>
              <a:srgbClr val="61d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064200" y="4276800"/>
            <a:ext cx="1252440" cy="0"/>
          </a:xfrm>
          <a:prstGeom prst="line">
            <a:avLst/>
          </a:prstGeom>
          <a:ln w="76320">
            <a:solidFill>
              <a:srgbClr val="61d7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85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orción de bits continuos utilizado para identificar un FEC en particula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l label puede hacer parte del encabezado de nivel 2 o 3 como en el caso de Frame Relay (DLCI) o ATM (VPI/VCI), si ya existe un campo con propósito similar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ambién puede  adicionarse como otro header (shim), lo que sucede en Ethernet o PPP.  En este caso se habla de Frame Based LS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JO: Opcionalmente en el aso de ATM y Frame Relay los label también se pueden manejar como nuevos encabezados, al igual que en Etherne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85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uando el label se maneja como un nuevo encabezado, este es de 32 bits y es ubicado entre el encabezado de la trama y el del paque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asigna al ingresar el paquete a la red MPLS y se elimina a su salida.  Solo se hace una vez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u significado es local a la conexión entre dos dispositivos MPLS (LSR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Labeled Packet: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paquete al que se le puso un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Unlabeled Packet: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paquete que no tiene aún un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85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asociación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bel – FEC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se denomina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BEL BINDING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l label binding generalmente lo hace el downstream router y este se lo comunica al Upstream router mediante el Label Distribution Protoco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l label sumariza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El destin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La precedencia.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La pertenencia a una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Virtual Private Network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La información de QoS (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Quality of Service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).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La ruta del paquete elegida mediante ingeniería de tráfico (TE: T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raffic 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gineering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La conmutación del paquete siempre se hace con base en el último label del stack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FORMATO D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0" y="35686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534160" cy="33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Narrow"/>
              </a:rPr>
              <a:t>Label (20 bits)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Contiene el valor del label.  A partir del label se hace la conmutación del paquet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Narrow"/>
              </a:rPr>
              <a:t>Class of Service (CoS) o EXP (Experimental) (3 bits)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Aun es experimental.  Afecta el procesamiento del paquete al interior del nodo LSR: Qo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Narrow"/>
              </a:rPr>
              <a:t>S (1 bit)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Bottom of the Stack. Está en 1 para el último label en la pil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Arial Narrow"/>
              </a:rPr>
              <a:t>Time to Live (TTL) (8 bits)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imilar a TTL de IP. Se decrementa en cada nod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FORMATO DEL LABEL - TT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e resta 1 en cada LSR  y si TTL=0 se descarta el paquet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e puede configurar para que en el Ingres se copie el TTL del paquete en el TTL de MPLS y en el egress se copie el TTL de MPLS en el TTL del paquet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n ATM o Frame Relay el TTL puede no estar, por tanto se usa LDP para hallar la cantidad de brincos en la nube MPLS y así modificar el TTL del paquet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0" y="3429000"/>
            <a:ext cx="9144000" cy="3429000"/>
            <a:chOff x="0" y="3429000"/>
            <a:chExt cx="9144000" cy="3429000"/>
          </a:xfrm>
        </p:grpSpPr>
        <p:pic>
          <p:nvPicPr>
            <p:cNvPr id="1443" name="" descr=""/>
            <p:cNvPicPr/>
            <p:nvPr/>
          </p:nvPicPr>
          <p:blipFill>
            <a:blip r:embed="rId4"/>
            <a:stretch/>
          </p:blipFill>
          <p:spPr>
            <a:xfrm>
              <a:off x="0" y="3529080"/>
              <a:ext cx="9144000" cy="33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"/>
            <p:cNvSpPr/>
            <p:nvPr/>
          </p:nvSpPr>
          <p:spPr>
            <a:xfrm>
              <a:off x="250920" y="3429000"/>
              <a:ext cx="72072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667640" y="3492000"/>
              <a:ext cx="97164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2438280" y="152388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438280" y="198108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438280" y="246528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038480" y="1523880"/>
            <a:ext cx="91440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52880" y="152388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38480" y="1981080"/>
            <a:ext cx="91440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38480" y="2465280"/>
            <a:ext cx="91440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952880" y="198108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952880" y="246528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53080" y="2465280"/>
            <a:ext cx="14479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438280" y="304812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TM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038480" y="3048120"/>
            <a:ext cx="91440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638680" y="4952880"/>
            <a:ext cx="12956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553080" y="3048120"/>
            <a:ext cx="14479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438280" y="342900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TM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52280" y="1600200"/>
            <a:ext cx="2286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Packet over SONET/S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280" y="2057400"/>
            <a:ext cx="2286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52280" y="2610000"/>
            <a:ext cx="2286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Frame Relay P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2280" y="3200400"/>
            <a:ext cx="2286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TM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PVC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2280" y="3581280"/>
            <a:ext cx="2286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Subsequent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553080" y="1981080"/>
            <a:ext cx="14479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553080" y="1523880"/>
            <a:ext cx="14479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38480" y="3429000"/>
            <a:ext cx="14479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981080" y="4952880"/>
            <a:ext cx="6098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934320" y="4952880"/>
            <a:ext cx="10666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200400" y="4952880"/>
            <a:ext cx="60948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9880" y="4952880"/>
            <a:ext cx="6098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4952880"/>
            <a:ext cx="6094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029200" y="4952880"/>
            <a:ext cx="6094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952880" y="3048120"/>
            <a:ext cx="160020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81080" y="5334120"/>
            <a:ext cx="6098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G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638680" y="5334120"/>
            <a:ext cx="236232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09880" y="5334120"/>
            <a:ext cx="60984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419720" y="5334120"/>
            <a:ext cx="6094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29200" y="5334120"/>
            <a:ext cx="609480" cy="3474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2514600" y="5791320"/>
            <a:ext cx="1371600" cy="609480"/>
            <a:chOff x="2514600" y="5791320"/>
            <a:chExt cx="1371600" cy="609480"/>
          </a:xfrm>
        </p:grpSpPr>
        <p:sp>
          <p:nvSpPr>
            <p:cNvPr id="1482" name=""/>
            <p:cNvSpPr/>
            <p:nvPr/>
          </p:nvSpPr>
          <p:spPr>
            <a:xfrm>
              <a:off x="2514600" y="5791320"/>
              <a:ext cx="1371600" cy="609480"/>
            </a:xfrm>
            <a:prstGeom prst="upArrowCallout">
              <a:avLst>
                <a:gd name="adj1" fmla="val 56266"/>
                <a:gd name="adj2" fmla="val 56261"/>
                <a:gd name="adj3" fmla="val 16667"/>
                <a:gd name="adj4" fmla="val 66660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743200" y="6019920"/>
              <a:ext cx="914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2438280" y="4191120"/>
            <a:ext cx="1447920" cy="685800"/>
            <a:chOff x="2438280" y="4191120"/>
            <a:chExt cx="1447920" cy="685800"/>
          </a:xfrm>
        </p:grpSpPr>
        <p:sp>
          <p:nvSpPr>
            <p:cNvPr id="1485" name=""/>
            <p:cNvSpPr/>
            <p:nvPr/>
          </p:nvSpPr>
          <p:spPr>
            <a:xfrm>
              <a:off x="2514600" y="4191120"/>
              <a:ext cx="1295280" cy="685800"/>
            </a:xfrm>
            <a:prstGeom prst="downArrowCallout">
              <a:avLst>
                <a:gd name="adj1" fmla="val 47222"/>
                <a:gd name="adj2" fmla="val 4721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6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438280" y="4224600"/>
              <a:ext cx="1447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152280" y="5410080"/>
            <a:ext cx="18288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Subsequent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0" y="5029200"/>
            <a:ext cx="19810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TM label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28600" y="403848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8381880" y="1752480"/>
            <a:ext cx="3049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81880" y="4572000"/>
            <a:ext cx="304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66800" y="404640"/>
            <a:ext cx="762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LABEL ENCAPS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90920" y="4952880"/>
            <a:ext cx="60948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00400" y="5361120"/>
            <a:ext cx="60948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590920" y="5361120"/>
            <a:ext cx="609480" cy="3474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99cc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468360" y="0"/>
            <a:ext cx="828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LABEL ENCAPSULATION EN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/>
          <p:nvPr/>
        </p:nvSpPr>
        <p:spPr>
          <a:xfrm>
            <a:off x="0" y="549360"/>
            <a:ext cx="8839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res op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PI=Un label, VCI= otro la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PI/VCI= la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P=tunel, VCI=la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l esquema utilizado es negociado a través de LD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n caso de label stack, este es copiado en el payload de la primer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ara el manejo de label stack se tienen 2 op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cordar no utilizar label stack es decir la etiqueta es VPI/VCI sol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Colocar un shim header nulo cuando se tiene una etiqueta o varios si se tienen varias etiqu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468360" y="0"/>
            <a:ext cx="828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LABEL MERGE EN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4920" y="765000"/>
            <a:ext cx="8534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Hacer merging puede generar problemas en el downstream al ensamblar de nuevo los paquetes originales porque se pueden entremezaclar cel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olu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PCION 1: ATM-LSR solicita un label por FEC y por interface de ent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PCION 2: El upstream entrega las celdas organizadas primero las de un paquete y luego las del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/>
          <p:nvPr/>
        </p:nvSpPr>
        <p:spPr>
          <a:xfrm>
            <a:off x="468360" y="0"/>
            <a:ext cx="82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LABEL MERGE EN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37320" y="404640"/>
            <a:ext cx="8375040" cy="3040920"/>
            <a:chOff x="337320" y="404640"/>
            <a:chExt cx="8375040" cy="3040920"/>
          </a:xfrm>
        </p:grpSpPr>
        <p:sp>
          <p:nvSpPr>
            <p:cNvPr id="1503" name=""/>
            <p:cNvSpPr/>
            <p:nvPr/>
          </p:nvSpPr>
          <p:spPr>
            <a:xfrm>
              <a:off x="2681640" y="1570680"/>
              <a:ext cx="2079360" cy="430560"/>
            </a:xfrm>
            <a:custGeom>
              <a:avLst/>
              <a:gdLst/>
              <a:ahLst/>
              <a:rect l="l" t="t" r="r" b="b"/>
              <a:pathLst>
                <a:path w="1597" h="343">
                  <a:moveTo>
                    <a:pt x="1007" y="342"/>
                  </a:moveTo>
                  <a:lnTo>
                    <a:pt x="1596" y="0"/>
                  </a:lnTo>
                  <a:lnTo>
                    <a:pt x="0" y="0"/>
                  </a:lnTo>
                  <a:lnTo>
                    <a:pt x="798" y="342"/>
                  </a:lnTo>
                  <a:lnTo>
                    <a:pt x="1007" y="342"/>
                  </a:lnTo>
                </a:path>
              </a:pathLst>
            </a:custGeom>
            <a:gradFill rotWithShape="0">
              <a:gsLst>
                <a:gs pos="0">
                  <a:srgbClr val="79745f"/>
                </a:gs>
                <a:gs pos="100000">
                  <a:srgbClr val="f5ebc1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2640240" y="404640"/>
              <a:ext cx="2134800" cy="1164600"/>
              <a:chOff x="2640240" y="404640"/>
              <a:chExt cx="2134800" cy="1164600"/>
            </a:xfrm>
          </p:grpSpPr>
          <p:sp>
            <p:nvSpPr>
              <p:cNvPr id="1505" name=""/>
              <p:cNvSpPr/>
              <p:nvPr/>
            </p:nvSpPr>
            <p:spPr>
              <a:xfrm>
                <a:off x="2665440" y="416520"/>
                <a:ext cx="2095200" cy="1152720"/>
              </a:xfrm>
              <a:prstGeom prst="rect">
                <a:avLst/>
              </a:prstGeom>
              <a:gradFill rotWithShape="0">
                <a:gsLst>
                  <a:gs pos="0">
                    <a:srgbClr val="aaa386"/>
                  </a:gs>
                  <a:gs pos="50000">
                    <a:srgbClr val="f5ebc1"/>
                  </a:gs>
                  <a:gs pos="100000">
                    <a:srgbClr val="aaa386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978640" y="404640"/>
                <a:ext cx="329400" cy="3744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41040" bIns="-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78640" y="789840"/>
                <a:ext cx="32940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78640" y="1048680"/>
                <a:ext cx="329400" cy="2466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8840" bIns="-168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978640" y="1305720"/>
                <a:ext cx="32940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18840" y="404640"/>
                <a:ext cx="722160" cy="3744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41040" bIns="-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Addres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Pref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318840" y="789840"/>
                <a:ext cx="72216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171.6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318840" y="1048680"/>
                <a:ext cx="722160" cy="2466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8840" bIns="-168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171.6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318840" y="1305720"/>
                <a:ext cx="72216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52160" y="404640"/>
                <a:ext cx="385560" cy="3744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41040" bIns="-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2160" y="789840"/>
                <a:ext cx="38556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2160" y="1048680"/>
                <a:ext cx="385560" cy="2466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8840" bIns="-168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2160" y="1305720"/>
                <a:ext cx="38556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448880" y="404640"/>
                <a:ext cx="326160" cy="3744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41040" bIns="-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Ou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48880" y="789840"/>
                <a:ext cx="32616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448880" y="1048680"/>
                <a:ext cx="326160" cy="2466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8840" bIns="-168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448880" y="1305720"/>
                <a:ext cx="32616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40240" y="404640"/>
                <a:ext cx="327240" cy="3744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41040" bIns="-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40240" y="789840"/>
                <a:ext cx="32724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640240" y="1048680"/>
                <a:ext cx="327240" cy="24660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8840" bIns="-168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640240" y="1305720"/>
                <a:ext cx="327240" cy="24768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67760" bIns="-167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4043520" y="2419200"/>
              <a:ext cx="3237120" cy="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74840" y="1922760"/>
              <a:ext cx="2633760" cy="5230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1408320" y="2470680"/>
              <a:ext cx="2593800" cy="38412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832880" y="2233440"/>
              <a:ext cx="879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1.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0" name="" descr=""/>
            <p:cNvPicPr/>
            <p:nvPr/>
          </p:nvPicPr>
          <p:blipFill>
            <a:blip r:embed="rId1"/>
            <a:stretch/>
          </p:blipFill>
          <p:spPr>
            <a:xfrm>
              <a:off x="3573720" y="1984680"/>
              <a:ext cx="581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"/>
            <p:cNvSpPr/>
            <p:nvPr/>
          </p:nvSpPr>
          <p:spPr>
            <a:xfrm>
              <a:off x="337320" y="2622600"/>
              <a:ext cx="674640" cy="42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7320" y="1733400"/>
              <a:ext cx="674640" cy="42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3" name="" descr=""/>
            <p:cNvPicPr/>
            <p:nvPr/>
          </p:nvPicPr>
          <p:blipFill>
            <a:blip r:embed="rId2"/>
            <a:stretch/>
          </p:blipFill>
          <p:spPr>
            <a:xfrm>
              <a:off x="7250400" y="2233440"/>
              <a:ext cx="528480" cy="3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3"/>
            <a:stretch/>
          </p:blipFill>
          <p:spPr>
            <a:xfrm>
              <a:off x="1140120" y="2721600"/>
              <a:ext cx="52848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4"/>
            <a:stretch/>
          </p:blipFill>
          <p:spPr>
            <a:xfrm>
              <a:off x="1122480" y="1804320"/>
              <a:ext cx="528840" cy="3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6" name=""/>
            <p:cNvGrpSpPr/>
            <p:nvPr/>
          </p:nvGrpSpPr>
          <p:grpSpPr>
            <a:xfrm>
              <a:off x="2373480" y="1765440"/>
              <a:ext cx="493920" cy="689400"/>
              <a:chOff x="2373480" y="1765440"/>
              <a:chExt cx="493920" cy="689400"/>
            </a:xfrm>
          </p:grpSpPr>
          <p:sp>
            <p:nvSpPr>
              <p:cNvPr id="1537" name=""/>
              <p:cNvSpPr/>
              <p:nvPr/>
            </p:nvSpPr>
            <p:spPr>
              <a:xfrm>
                <a:off x="2379240" y="1950480"/>
                <a:ext cx="48312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373480" y="1765440"/>
                <a:ext cx="49392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2972160" y="2587320"/>
              <a:ext cx="493560" cy="689400"/>
              <a:chOff x="2972160" y="2587320"/>
              <a:chExt cx="493560" cy="689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977920" y="277236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72160" y="25873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2349720" y="2655000"/>
              <a:ext cx="493560" cy="690480"/>
              <a:chOff x="2349720" y="2655000"/>
              <a:chExt cx="493560" cy="690480"/>
            </a:xfrm>
          </p:grpSpPr>
          <p:sp>
            <p:nvSpPr>
              <p:cNvPr id="1543" name=""/>
              <p:cNvSpPr/>
              <p:nvPr/>
            </p:nvSpPr>
            <p:spPr>
              <a:xfrm>
                <a:off x="2355480" y="284112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349720" y="265500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1752840" y="2756520"/>
              <a:ext cx="493560" cy="689040"/>
              <a:chOff x="1752840" y="2756520"/>
              <a:chExt cx="493560" cy="689040"/>
            </a:xfrm>
          </p:grpSpPr>
          <p:sp>
            <p:nvSpPr>
              <p:cNvPr id="1546" name=""/>
              <p:cNvSpPr/>
              <p:nvPr/>
            </p:nvSpPr>
            <p:spPr>
              <a:xfrm>
                <a:off x="1758600" y="29412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752840" y="27565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1705320" y="1518120"/>
              <a:ext cx="493560" cy="689040"/>
              <a:chOff x="1705320" y="1518120"/>
              <a:chExt cx="493560" cy="689040"/>
            </a:xfrm>
          </p:grpSpPr>
          <p:sp>
            <p:nvSpPr>
              <p:cNvPr id="1549" name=""/>
              <p:cNvSpPr/>
              <p:nvPr/>
            </p:nvSpPr>
            <p:spPr>
              <a:xfrm>
                <a:off x="1711080" y="17028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705320" y="15181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096240" y="2362320"/>
              <a:ext cx="493560" cy="689040"/>
              <a:chOff x="6096240" y="2362320"/>
              <a:chExt cx="493560" cy="689040"/>
            </a:xfrm>
          </p:grpSpPr>
          <p:sp>
            <p:nvSpPr>
              <p:cNvPr id="1552" name=""/>
              <p:cNvSpPr/>
              <p:nvPr/>
            </p:nvSpPr>
            <p:spPr>
              <a:xfrm>
                <a:off x="6102000" y="25470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096240" y="23623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5480280" y="2362320"/>
              <a:ext cx="493560" cy="689040"/>
              <a:chOff x="5480280" y="2362320"/>
              <a:chExt cx="493560" cy="689040"/>
            </a:xfrm>
          </p:grpSpPr>
          <p:sp>
            <p:nvSpPr>
              <p:cNvPr id="1555" name=""/>
              <p:cNvSpPr/>
              <p:nvPr/>
            </p:nvSpPr>
            <p:spPr>
              <a:xfrm>
                <a:off x="5486040" y="25470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480280" y="23623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6710400" y="2362320"/>
              <a:ext cx="493920" cy="689040"/>
              <a:chOff x="6710400" y="2362320"/>
              <a:chExt cx="493920" cy="689040"/>
            </a:xfrm>
          </p:grpSpPr>
          <p:sp>
            <p:nvSpPr>
              <p:cNvPr id="1558" name=""/>
              <p:cNvSpPr/>
              <p:nvPr/>
            </p:nvSpPr>
            <p:spPr>
              <a:xfrm>
                <a:off x="6716160" y="2547000"/>
                <a:ext cx="48312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710400" y="2362320"/>
                <a:ext cx="49392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4249800" y="2362320"/>
              <a:ext cx="493920" cy="689040"/>
              <a:chOff x="4249800" y="2362320"/>
              <a:chExt cx="493920" cy="689040"/>
            </a:xfrm>
          </p:grpSpPr>
          <p:sp>
            <p:nvSpPr>
              <p:cNvPr id="1561" name=""/>
              <p:cNvSpPr/>
              <p:nvPr/>
            </p:nvSpPr>
            <p:spPr>
              <a:xfrm>
                <a:off x="4255560" y="2547000"/>
                <a:ext cx="48312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249800" y="2362320"/>
                <a:ext cx="49392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4864320" y="2362320"/>
              <a:ext cx="493560" cy="689040"/>
              <a:chOff x="4864320" y="2362320"/>
              <a:chExt cx="493560" cy="689040"/>
            </a:xfrm>
          </p:grpSpPr>
          <p:sp>
            <p:nvSpPr>
              <p:cNvPr id="1564" name=""/>
              <p:cNvSpPr/>
              <p:nvPr/>
            </p:nvSpPr>
            <p:spPr>
              <a:xfrm>
                <a:off x="4870080" y="25470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864320" y="23623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6" name=""/>
            <p:cNvSpPr/>
            <p:nvPr/>
          </p:nvSpPr>
          <p:spPr>
            <a:xfrm flipH="1">
              <a:off x="5879880" y="1324800"/>
              <a:ext cx="51588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6396120" y="1245960"/>
              <a:ext cx="222480" cy="108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347440" y="597960"/>
              <a:ext cx="3327840" cy="86004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ownstream LSR do not know how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o reassemble correctly cells into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ackets. VPI/VCI values are identic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 all ce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481680" y="3898800"/>
            <a:ext cx="8375040" cy="2945880"/>
            <a:chOff x="481680" y="3898800"/>
            <a:chExt cx="8375040" cy="2945880"/>
          </a:xfrm>
        </p:grpSpPr>
        <p:sp>
          <p:nvSpPr>
            <p:cNvPr id="1570" name=""/>
            <p:cNvSpPr/>
            <p:nvPr/>
          </p:nvSpPr>
          <p:spPr>
            <a:xfrm>
              <a:off x="2826000" y="5024880"/>
              <a:ext cx="2079360" cy="415800"/>
            </a:xfrm>
            <a:custGeom>
              <a:avLst/>
              <a:gdLst/>
              <a:ahLst/>
              <a:rect l="l" t="t" r="r" b="b"/>
              <a:pathLst>
                <a:path w="1597" h="343">
                  <a:moveTo>
                    <a:pt x="1007" y="342"/>
                  </a:moveTo>
                  <a:lnTo>
                    <a:pt x="1596" y="0"/>
                  </a:lnTo>
                  <a:lnTo>
                    <a:pt x="0" y="0"/>
                  </a:lnTo>
                  <a:lnTo>
                    <a:pt x="798" y="342"/>
                  </a:lnTo>
                  <a:lnTo>
                    <a:pt x="1007" y="342"/>
                  </a:lnTo>
                </a:path>
              </a:pathLst>
            </a:custGeom>
            <a:gradFill rotWithShape="0">
              <a:gsLst>
                <a:gs pos="0">
                  <a:srgbClr val="79745f"/>
                </a:gs>
                <a:gs pos="100000">
                  <a:srgbClr val="f5ebc1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1" name=""/>
            <p:cNvGrpSpPr/>
            <p:nvPr/>
          </p:nvGrpSpPr>
          <p:grpSpPr>
            <a:xfrm>
              <a:off x="2784600" y="3898800"/>
              <a:ext cx="2134800" cy="1124280"/>
              <a:chOff x="2784600" y="3898800"/>
              <a:chExt cx="2134800" cy="1124280"/>
            </a:xfrm>
          </p:grpSpPr>
          <p:sp>
            <p:nvSpPr>
              <p:cNvPr id="1572" name=""/>
              <p:cNvSpPr/>
              <p:nvPr/>
            </p:nvSpPr>
            <p:spPr>
              <a:xfrm>
                <a:off x="2809800" y="3910320"/>
                <a:ext cx="2095200" cy="1112760"/>
              </a:xfrm>
              <a:prstGeom prst="rect">
                <a:avLst/>
              </a:prstGeom>
              <a:gradFill rotWithShape="0">
                <a:gsLst>
                  <a:gs pos="0">
                    <a:srgbClr val="aaa386"/>
                  </a:gs>
                  <a:gs pos="50000">
                    <a:srgbClr val="f5ebc1"/>
                  </a:gs>
                  <a:gs pos="100000">
                    <a:srgbClr val="aaa386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23000" y="3898800"/>
                <a:ext cx="329400" cy="3614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4000" bIns="-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123000" y="4270680"/>
                <a:ext cx="32940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123000" y="4520520"/>
                <a:ext cx="329400" cy="237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7480" bIns="-177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123000" y="4768920"/>
                <a:ext cx="32940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463200" y="3898800"/>
                <a:ext cx="722160" cy="3614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4000" bIns="-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Addres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Pref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463200" y="4270680"/>
                <a:ext cx="72216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171.6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463200" y="4520520"/>
                <a:ext cx="722160" cy="237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7480" bIns="-177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171.6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463200" y="4768920"/>
                <a:ext cx="72216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196520" y="3898800"/>
                <a:ext cx="385560" cy="3614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4000" bIns="-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196520" y="4270680"/>
                <a:ext cx="38556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196520" y="4520520"/>
                <a:ext cx="385560" cy="237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7480" bIns="-177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196520" y="4768920"/>
                <a:ext cx="38556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593240" y="3898800"/>
                <a:ext cx="326160" cy="3614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4000" bIns="-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Ou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593240" y="4270680"/>
                <a:ext cx="32616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593240" y="4520520"/>
                <a:ext cx="326160" cy="237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7480" bIns="-177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593240" y="4768920"/>
                <a:ext cx="32616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784600" y="3898800"/>
                <a:ext cx="327240" cy="3614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4000" bIns="-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784600" y="4270680"/>
                <a:ext cx="32724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784600" y="4520520"/>
                <a:ext cx="327240" cy="237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7480" bIns="-177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784600" y="4768920"/>
                <a:ext cx="327240" cy="23904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6400" bIns="-176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200" spc="-1" strike="noStrike">
                    <a:solidFill>
                      <a:srgbClr val="d4876c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4187880" y="5844240"/>
              <a:ext cx="3237120" cy="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519200" y="5364720"/>
              <a:ext cx="2633760" cy="5050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1552680" y="5894280"/>
              <a:ext cx="2593800" cy="37044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977240" y="5664960"/>
              <a:ext cx="879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1.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7" name="" descr=""/>
            <p:cNvPicPr/>
            <p:nvPr/>
          </p:nvPicPr>
          <p:blipFill>
            <a:blip r:embed="rId5"/>
            <a:stretch/>
          </p:blipFill>
          <p:spPr>
            <a:xfrm>
              <a:off x="3718080" y="5424480"/>
              <a:ext cx="581040" cy="7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8" name=""/>
            <p:cNvSpPr/>
            <p:nvPr/>
          </p:nvSpPr>
          <p:spPr>
            <a:xfrm>
              <a:off x="481680" y="6033960"/>
              <a:ext cx="674640" cy="42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81680" y="5175000"/>
              <a:ext cx="674640" cy="42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0" name="" descr=""/>
            <p:cNvPicPr/>
            <p:nvPr/>
          </p:nvPicPr>
          <p:blipFill>
            <a:blip r:embed="rId6"/>
            <a:stretch/>
          </p:blipFill>
          <p:spPr>
            <a:xfrm>
              <a:off x="7394760" y="5664960"/>
              <a:ext cx="52848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" descr=""/>
            <p:cNvPicPr/>
            <p:nvPr/>
          </p:nvPicPr>
          <p:blipFill>
            <a:blip r:embed="rId7"/>
            <a:stretch/>
          </p:blipFill>
          <p:spPr>
            <a:xfrm>
              <a:off x="1284480" y="6136560"/>
              <a:ext cx="52848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2" name="" descr=""/>
            <p:cNvPicPr/>
            <p:nvPr/>
          </p:nvPicPr>
          <p:blipFill>
            <a:blip r:embed="rId8"/>
            <a:stretch/>
          </p:blipFill>
          <p:spPr>
            <a:xfrm>
              <a:off x="1266840" y="5250240"/>
              <a:ext cx="528840" cy="3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3" name=""/>
            <p:cNvGrpSpPr/>
            <p:nvPr/>
          </p:nvGrpSpPr>
          <p:grpSpPr>
            <a:xfrm>
              <a:off x="2517840" y="5208120"/>
              <a:ext cx="493920" cy="680400"/>
              <a:chOff x="2517840" y="5208120"/>
              <a:chExt cx="493920" cy="680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2523600" y="5384160"/>
                <a:ext cx="48312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517840" y="5208120"/>
                <a:ext cx="49392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3116520" y="6001560"/>
              <a:ext cx="493560" cy="680040"/>
              <a:chOff x="3116520" y="6001560"/>
              <a:chExt cx="493560" cy="680040"/>
            </a:xfrm>
          </p:grpSpPr>
          <p:sp>
            <p:nvSpPr>
              <p:cNvPr id="1607" name=""/>
              <p:cNvSpPr/>
              <p:nvPr/>
            </p:nvSpPr>
            <p:spPr>
              <a:xfrm>
                <a:off x="3122280" y="617724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16520" y="600156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2494080" y="6067080"/>
              <a:ext cx="493560" cy="680040"/>
              <a:chOff x="2494080" y="6067080"/>
              <a:chExt cx="493560" cy="680040"/>
            </a:xfrm>
          </p:grpSpPr>
          <p:sp>
            <p:nvSpPr>
              <p:cNvPr id="1610" name=""/>
              <p:cNvSpPr/>
              <p:nvPr/>
            </p:nvSpPr>
            <p:spPr>
              <a:xfrm>
                <a:off x="2499840" y="624276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494080" y="606708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1897200" y="6164640"/>
              <a:ext cx="493560" cy="680040"/>
              <a:chOff x="1897200" y="6164640"/>
              <a:chExt cx="493560" cy="680040"/>
            </a:xfrm>
          </p:grpSpPr>
          <p:sp>
            <p:nvSpPr>
              <p:cNvPr id="1613" name=""/>
              <p:cNvSpPr/>
              <p:nvPr/>
            </p:nvSpPr>
            <p:spPr>
              <a:xfrm>
                <a:off x="1902960" y="634032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897200" y="616464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1849680" y="4968720"/>
              <a:ext cx="493560" cy="680040"/>
              <a:chOff x="1849680" y="4968720"/>
              <a:chExt cx="493560" cy="680040"/>
            </a:xfrm>
          </p:grpSpPr>
          <p:sp>
            <p:nvSpPr>
              <p:cNvPr id="1616" name=""/>
              <p:cNvSpPr/>
              <p:nvPr/>
            </p:nvSpPr>
            <p:spPr>
              <a:xfrm>
                <a:off x="1855440" y="51444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849680" y="49687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240600" y="5784120"/>
              <a:ext cx="493560" cy="680040"/>
              <a:chOff x="6240600" y="5784120"/>
              <a:chExt cx="493560" cy="680040"/>
            </a:xfrm>
          </p:grpSpPr>
          <p:sp>
            <p:nvSpPr>
              <p:cNvPr id="1619" name=""/>
              <p:cNvSpPr/>
              <p:nvPr/>
            </p:nvSpPr>
            <p:spPr>
              <a:xfrm>
                <a:off x="6246360" y="59598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240600" y="57841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624640" y="5784120"/>
              <a:ext cx="493560" cy="680040"/>
              <a:chOff x="5624640" y="5784120"/>
              <a:chExt cx="493560" cy="680040"/>
            </a:xfrm>
          </p:grpSpPr>
          <p:sp>
            <p:nvSpPr>
              <p:cNvPr id="1622" name=""/>
              <p:cNvSpPr/>
              <p:nvPr/>
            </p:nvSpPr>
            <p:spPr>
              <a:xfrm>
                <a:off x="5630400" y="59598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624640" y="57841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6854760" y="5784120"/>
              <a:ext cx="493920" cy="680040"/>
              <a:chOff x="6854760" y="5784120"/>
              <a:chExt cx="493920" cy="680040"/>
            </a:xfrm>
          </p:grpSpPr>
          <p:sp>
            <p:nvSpPr>
              <p:cNvPr id="1625" name=""/>
              <p:cNvSpPr/>
              <p:nvPr/>
            </p:nvSpPr>
            <p:spPr>
              <a:xfrm>
                <a:off x="6860520" y="5959800"/>
                <a:ext cx="48312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854760" y="5784120"/>
                <a:ext cx="49392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394160" y="5784120"/>
              <a:ext cx="493920" cy="680040"/>
              <a:chOff x="4394160" y="5784120"/>
              <a:chExt cx="493920" cy="680040"/>
            </a:xfrm>
          </p:grpSpPr>
          <p:sp>
            <p:nvSpPr>
              <p:cNvPr id="1628" name=""/>
              <p:cNvSpPr/>
              <p:nvPr/>
            </p:nvSpPr>
            <p:spPr>
              <a:xfrm>
                <a:off x="4399920" y="5959800"/>
                <a:ext cx="48312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394160" y="5784120"/>
                <a:ext cx="49392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cc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5008680" y="5784120"/>
              <a:ext cx="493560" cy="680040"/>
              <a:chOff x="5008680" y="5784120"/>
              <a:chExt cx="493560" cy="680040"/>
            </a:xfrm>
          </p:grpSpPr>
          <p:sp>
            <p:nvSpPr>
              <p:cNvPr id="1631" name=""/>
              <p:cNvSpPr/>
              <p:nvPr/>
            </p:nvSpPr>
            <p:spPr>
              <a:xfrm>
                <a:off x="5014440" y="5959800"/>
                <a:ext cx="482760" cy="50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buClr>
                    <a:srgbClr val="ff555d"/>
                  </a:buClr>
                  <a:buFont typeface="Arial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08680" y="5784120"/>
                <a:ext cx="493560" cy="258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5eb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5ebc1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 flipH="1">
              <a:off x="6024240" y="4787280"/>
              <a:ext cx="515880" cy="95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540480" y="4711320"/>
              <a:ext cx="222480" cy="104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4934160" y="4656600"/>
              <a:ext cx="66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446080" y="4136760"/>
              <a:ext cx="3312720" cy="86004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TM-LSR requested additional labe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 same FEC in order to distinguish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etween incoming interfaces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(Downstream on Deman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FC’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Algunos son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RFC 3031 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MPLS Arquitecture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RFC 3032 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MPLS Label Stack Encoding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RFC 3035 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MPLS using LDP and ATM VC 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Switching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RFC 3036 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LDP Specific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L LABEL EN ETHERNET Y PP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588160" cy="58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n tramas Ethernet II se usan los tipos (Ethertypes)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8847:   MPLS Unicas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8848: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MPLS Multicas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n tramas Ethernet 802.3 se usa SNAP así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 AA-AA-03 / 000000-8847 (MPLS unicast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 AA-AA-03 / 000000-8848 (MPLS multicast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n tramas PP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PP protocol:0x281, 0x28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También se puede tener PPP sobre SONET/SDH (RFC 2615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L LABEL EN ETHER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LABEL STAC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534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junto de labels ordenados uno tras otr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eldas ATM el stack es copiado en el payload de la primera celda asociada al paquet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mutación siempre se hace con el label en el top (label más externo) del stack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LABEL STAC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1332000" y="1341360"/>
            <a:ext cx="5876640" cy="1439280"/>
            <a:chOff x="1332000" y="1341360"/>
            <a:chExt cx="5876640" cy="1439280"/>
          </a:xfrm>
        </p:grpSpPr>
        <p:sp>
          <p:nvSpPr>
            <p:cNvPr id="1645" name=""/>
            <p:cNvSpPr/>
            <p:nvPr/>
          </p:nvSpPr>
          <p:spPr>
            <a:xfrm>
              <a:off x="1332000" y="1341360"/>
              <a:ext cx="5876640" cy="592560"/>
            </a:xfrm>
            <a:prstGeom prst="rect">
              <a:avLst/>
            </a:prstGeom>
            <a:solidFill>
              <a:srgbClr val="f5ebc1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51080" y="1341360"/>
              <a:ext cx="827280" cy="592560"/>
            </a:xfrm>
            <a:prstGeom prst="rect">
              <a:avLst/>
            </a:prstGeom>
            <a:solidFill>
              <a:srgbClr val="d4876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251080" y="1341360"/>
              <a:ext cx="827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9400"/>
                  <a:tab algn="l" pos="2098800"/>
                  <a:tab algn="l" pos="3147840"/>
                  <a:tab algn="l" pos="4197240"/>
                  <a:tab algn="l" pos="5246640"/>
                  <a:tab algn="l" pos="6296040"/>
                  <a:tab algn="l" pos="7345440"/>
                  <a:tab algn="l" pos="8394840"/>
                  <a:tab algn="l" pos="9443880"/>
                  <a:tab algn="l" pos="104932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bel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23440" y="1341360"/>
              <a:ext cx="6436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9400"/>
                  <a:tab algn="l" pos="2098800"/>
                  <a:tab algn="l" pos="3147840"/>
                  <a:tab algn="l" pos="4197240"/>
                  <a:tab algn="l" pos="5246640"/>
                  <a:tab algn="l" pos="6296040"/>
                  <a:tab algn="l" pos="7345440"/>
                  <a:tab algn="l" pos="8394840"/>
                  <a:tab algn="l" pos="9443880"/>
                  <a:tab algn="l" pos="104932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57880" y="1341360"/>
              <a:ext cx="217404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9400"/>
                  <a:tab algn="l" pos="2098800"/>
                  <a:tab algn="l" pos="3147840"/>
                  <a:tab algn="l" pos="4197240"/>
                  <a:tab algn="l" pos="5246640"/>
                  <a:tab algn="l" pos="6296040"/>
                  <a:tab algn="l" pos="7345440"/>
                  <a:tab algn="l" pos="8394840"/>
                  <a:tab algn="l" pos="9443880"/>
                  <a:tab algn="l" pos="104932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ye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78360" y="1341360"/>
              <a:ext cx="827280" cy="592560"/>
            </a:xfrm>
            <a:prstGeom prst="rect">
              <a:avLst/>
            </a:prstGeom>
            <a:solidFill>
              <a:srgbClr val="d4876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78360" y="1341360"/>
              <a:ext cx="827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9400"/>
                  <a:tab algn="l" pos="2098800"/>
                  <a:tab algn="l" pos="3147840"/>
                  <a:tab algn="l" pos="4197240"/>
                  <a:tab algn="l" pos="5246640"/>
                  <a:tab algn="l" pos="6296040"/>
                  <a:tab algn="l" pos="7345440"/>
                  <a:tab algn="l" pos="8394840"/>
                  <a:tab algn="l" pos="9443880"/>
                  <a:tab algn="l" pos="104932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be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51080" y="2165400"/>
              <a:ext cx="0" cy="549720"/>
            </a:xfrm>
            <a:prstGeom prst="line">
              <a:avLst/>
            </a:prstGeom>
            <a:ln w="9360">
              <a:solidFill>
                <a:srgbClr val="d4876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33640" y="2165400"/>
              <a:ext cx="0" cy="549720"/>
            </a:xfrm>
            <a:prstGeom prst="line">
              <a:avLst/>
            </a:prstGeom>
            <a:ln w="9360">
              <a:solidFill>
                <a:srgbClr val="d4876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435040" y="2440080"/>
              <a:ext cx="2114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4876c"/>
                  </a:solidFill>
                  <a:latin typeface="Arial"/>
                  <a:ea typeface="PMingLiU"/>
                </a:rPr>
                <a:t>Label 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06000" y="1341360"/>
              <a:ext cx="827280" cy="592560"/>
            </a:xfrm>
            <a:prstGeom prst="rect">
              <a:avLst/>
            </a:prstGeom>
            <a:solidFill>
              <a:srgbClr val="d4876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906000" y="1341360"/>
              <a:ext cx="827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9400"/>
                  <a:tab algn="l" pos="2098800"/>
                  <a:tab algn="l" pos="3147840"/>
                  <a:tab algn="l" pos="4197240"/>
                  <a:tab algn="l" pos="5246640"/>
                  <a:tab algn="l" pos="6296040"/>
                  <a:tab algn="l" pos="7345440"/>
                  <a:tab algn="l" pos="8394840"/>
                  <a:tab algn="l" pos="9443880"/>
                  <a:tab algn="l" pos="104932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be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366080" y="2715480"/>
              <a:ext cx="367200" cy="0"/>
            </a:xfrm>
            <a:prstGeom prst="line">
              <a:avLst/>
            </a:prstGeom>
            <a:ln w="936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51080" y="2715480"/>
              <a:ext cx="367920" cy="0"/>
            </a:xfrm>
            <a:prstGeom prst="line">
              <a:avLst/>
            </a:prstGeom>
            <a:ln w="936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0" y="3092400"/>
            <a:ext cx="9144000" cy="37656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quema del label stack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LABEL SPA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85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e puede tener un espacio de direcciones por nodo (platform-wide) o espacios asociados a cada interfac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l mismo label se puede asociar a diferentes FEC solamente si el nodo LSR es capaz de distinguir la interface por donde entró el labeled packe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n un esquema de label space por interface un nodo solo recibirá labeled packets de vecinos upstream, si el label fue anunciado previamente a ese vecin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Generalmente los nodos ATM utilizan un label space por interfac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65280" y="549000"/>
            <a:ext cx="7624800" cy="5936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 Narrow"/>
              </a:rPr>
              <a:t>LABEL SPAC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4" name=""/>
          <p:cNvSpPr/>
          <p:nvPr/>
        </p:nvSpPr>
        <p:spPr>
          <a:xfrm>
            <a:off x="7452000" y="3857760"/>
            <a:ext cx="151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1.68.10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998880" y="3624120"/>
            <a:ext cx="42912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57120" y="3611520"/>
            <a:ext cx="344988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471840" y="3827520"/>
            <a:ext cx="75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r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2817720" y="1836720"/>
            <a:ext cx="2476080" cy="990360"/>
            <a:chOff x="2817720" y="1836720"/>
            <a:chExt cx="2476080" cy="990360"/>
          </a:xfrm>
        </p:grpSpPr>
        <p:sp>
          <p:nvSpPr>
            <p:cNvPr id="1669" name=""/>
            <p:cNvSpPr/>
            <p:nvPr/>
          </p:nvSpPr>
          <p:spPr>
            <a:xfrm>
              <a:off x="3712320" y="2432520"/>
              <a:ext cx="1132920" cy="39456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xt-H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46880" y="1849320"/>
              <a:ext cx="2422800" cy="962640"/>
            </a:xfrm>
            <a:prstGeom prst="rect">
              <a:avLst/>
            </a:prstGeom>
            <a:gradFill rotWithShape="0">
              <a:gsLst>
                <a:gs pos="0">
                  <a:srgbClr val="aaa386"/>
                </a:gs>
                <a:gs pos="50000">
                  <a:srgbClr val="f5ebc1"/>
                </a:gs>
                <a:gs pos="100000">
                  <a:srgbClr val="aaa386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07600" y="1836720"/>
              <a:ext cx="381240" cy="39456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07600" y="2242440"/>
              <a:ext cx="38124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216240" y="2526840"/>
              <a:ext cx="38124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01440" y="1836720"/>
              <a:ext cx="835920" cy="39456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dr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01440" y="2242440"/>
              <a:ext cx="83592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1.68.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10440" y="2526840"/>
              <a:ext cx="83448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1.68.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448880" y="1836720"/>
              <a:ext cx="446040" cy="39456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448880" y="2242440"/>
              <a:ext cx="44604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57880" y="2526840"/>
              <a:ext cx="44604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07880" y="1836720"/>
              <a:ext cx="378360" cy="39456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907880" y="2242440"/>
              <a:ext cx="37836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916880" y="2526840"/>
              <a:ext cx="37692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817720" y="1836720"/>
              <a:ext cx="378360" cy="39456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817720" y="2242440"/>
              <a:ext cx="37836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824920" y="2526840"/>
              <a:ext cx="378360" cy="26100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54440" bIns="-15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 flipV="1">
            <a:off x="1743120" y="3753000"/>
            <a:ext cx="75096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476360" y="4078800"/>
            <a:ext cx="1168560" cy="586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555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P packe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=171.68.10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494000" y="3809520"/>
            <a:ext cx="1172880" cy="258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be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6240600" y="3719520"/>
            <a:ext cx="75060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940360" y="4047840"/>
            <a:ext cx="1275120" cy="422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555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P packe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=171.68.10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991120" y="3776040"/>
            <a:ext cx="1173240" cy="258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bel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23640" y="5013360"/>
            <a:ext cx="8173800" cy="13780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4920" bIns="34920" anchor="t">
            <a:normAutofit/>
          </a:bodyPr>
          <a:p>
            <a:pPr marL="254160" indent="-254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dos vecinos diferentes se les puede anunciar el mismo label para el mismo FE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jemplo: El mismo label para el  FEC 171.68.10 es anunciado a vecinos upstream diferent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3" name=""/>
          <p:cNvSpPr/>
          <p:nvPr/>
        </p:nvSpPr>
        <p:spPr>
          <a:xfrm>
            <a:off x="2855880" y="2800440"/>
            <a:ext cx="2419560" cy="669960"/>
          </a:xfrm>
          <a:custGeom>
            <a:avLst/>
            <a:gdLst/>
            <a:ahLst/>
            <a:rect l="l" t="t" r="r" b="b"/>
            <a:pathLst>
              <a:path w="1599" h="285">
                <a:moveTo>
                  <a:pt x="714" y="284"/>
                </a:moveTo>
                <a:lnTo>
                  <a:pt x="1598" y="0"/>
                </a:lnTo>
                <a:lnTo>
                  <a:pt x="0" y="0"/>
                </a:lnTo>
                <a:lnTo>
                  <a:pt x="588" y="284"/>
                </a:lnTo>
                <a:lnTo>
                  <a:pt x="714" y="284"/>
                </a:lnTo>
              </a:path>
            </a:pathLst>
          </a:custGeom>
          <a:gradFill rotWithShape="0">
            <a:gsLst>
              <a:gs pos="0">
                <a:srgbClr val="aaa386"/>
              </a:gs>
              <a:gs pos="100000">
                <a:srgbClr val="f5ebc1"/>
              </a:gs>
            </a:gsLst>
            <a:lin ang="54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95280" y="1844640"/>
            <a:ext cx="3460680" cy="17953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879280" y="3186000"/>
            <a:ext cx="30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266640" y="3570120"/>
            <a:ext cx="30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87160" y="3332160"/>
            <a:ext cx="30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62160" y="2406600"/>
            <a:ext cx="752400" cy="39996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69840" y="1846080"/>
            <a:ext cx="1275120" cy="422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555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P packe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=171.68.1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971640" y="1558440"/>
            <a:ext cx="1208160" cy="258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be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4586040" y="3785760"/>
            <a:ext cx="1275120" cy="684360"/>
            <a:chOff x="4586040" y="3785760"/>
            <a:chExt cx="1275120" cy="684360"/>
          </a:xfrm>
        </p:grpSpPr>
        <p:sp>
          <p:nvSpPr>
            <p:cNvPr id="1702" name=""/>
            <p:cNvSpPr/>
            <p:nvPr/>
          </p:nvSpPr>
          <p:spPr>
            <a:xfrm>
              <a:off x="4586040" y="404784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37520" y="3785760"/>
              <a:ext cx="117180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4" name=""/>
          <p:cNvSpPr/>
          <p:nvPr/>
        </p:nvSpPr>
        <p:spPr>
          <a:xfrm flipV="1">
            <a:off x="4830840" y="3715920"/>
            <a:ext cx="954000" cy="180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3"/>
          <a:stretch/>
        </p:blipFill>
        <p:spPr>
          <a:xfrm>
            <a:off x="264960" y="1712880"/>
            <a:ext cx="530280" cy="37296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4"/>
          <a:stretch/>
        </p:blipFill>
        <p:spPr>
          <a:xfrm>
            <a:off x="8059680" y="3430440"/>
            <a:ext cx="528840" cy="37332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5"/>
          <a:stretch/>
        </p:blipFill>
        <p:spPr>
          <a:xfrm>
            <a:off x="228600" y="3446640"/>
            <a:ext cx="528480" cy="372960"/>
          </a:xfrm>
          <a:prstGeom prst="rect">
            <a:avLst/>
          </a:prstGeom>
          <a:ln w="0">
            <a:noFill/>
          </a:ln>
        </p:spPr>
      </p:pic>
      <p:pic>
        <p:nvPicPr>
          <p:cNvPr id="1708" name="" descr=""/>
          <p:cNvPicPr/>
          <p:nvPr/>
        </p:nvPicPr>
        <p:blipFill>
          <a:blip r:embed="rId6"/>
          <a:stretch/>
        </p:blipFill>
        <p:spPr>
          <a:xfrm>
            <a:off x="3632040" y="3451320"/>
            <a:ext cx="528840" cy="37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65280" y="475920"/>
            <a:ext cx="7624800" cy="360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 Narrow"/>
              </a:rPr>
              <a:t>LABEL SPAC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0" name=""/>
          <p:cNvSpPr/>
          <p:nvPr/>
        </p:nvSpPr>
        <p:spPr>
          <a:xfrm>
            <a:off x="7952400" y="3427560"/>
            <a:ext cx="1078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.68.10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657680" y="2892600"/>
            <a:ext cx="3622680" cy="79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015920" y="2879640"/>
            <a:ext cx="345132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2103480" y="2792520"/>
            <a:ext cx="75096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1817640" y="2945880"/>
            <a:ext cx="1275120" cy="697320"/>
            <a:chOff x="1817640" y="2945880"/>
            <a:chExt cx="1275120" cy="697320"/>
          </a:xfrm>
        </p:grpSpPr>
        <p:sp>
          <p:nvSpPr>
            <p:cNvPr id="1715" name=""/>
            <p:cNvSpPr/>
            <p:nvPr/>
          </p:nvSpPr>
          <p:spPr>
            <a:xfrm>
              <a:off x="1817640" y="322092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869120" y="2945880"/>
              <a:ext cx="117216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 flipV="1">
            <a:off x="6885000" y="2792520"/>
            <a:ext cx="750960" cy="14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657840" y="2955240"/>
            <a:ext cx="1175040" cy="771480"/>
            <a:chOff x="6657840" y="2955240"/>
            <a:chExt cx="1175040" cy="771480"/>
          </a:xfrm>
        </p:grpSpPr>
        <p:sp>
          <p:nvSpPr>
            <p:cNvPr id="1719" name=""/>
            <p:cNvSpPr/>
            <p:nvPr/>
          </p:nvSpPr>
          <p:spPr>
            <a:xfrm>
              <a:off x="6657840" y="3140280"/>
              <a:ext cx="1175040" cy="586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657840" y="2955240"/>
              <a:ext cx="117504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3635280" y="2222640"/>
            <a:ext cx="2232000" cy="482400"/>
          </a:xfrm>
          <a:custGeom>
            <a:avLst/>
            <a:gdLst/>
            <a:ahLst/>
            <a:rect l="l" t="t" r="r" b="b"/>
            <a:pathLst>
              <a:path w="1599" h="285">
                <a:moveTo>
                  <a:pt x="714" y="284"/>
                </a:moveTo>
                <a:lnTo>
                  <a:pt x="1598" y="0"/>
                </a:lnTo>
                <a:lnTo>
                  <a:pt x="0" y="0"/>
                </a:lnTo>
                <a:lnTo>
                  <a:pt x="588" y="284"/>
                </a:lnTo>
                <a:lnTo>
                  <a:pt x="714" y="284"/>
                </a:lnTo>
              </a:path>
            </a:pathLst>
          </a:custGeom>
          <a:gradFill rotWithShape="0">
            <a:gsLst>
              <a:gs pos="0">
                <a:srgbClr val="aaa386"/>
              </a:gs>
              <a:gs pos="100000">
                <a:srgbClr val="f5ebc1"/>
              </a:gs>
            </a:gsLst>
            <a:lin ang="54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160640" y="1655640"/>
            <a:ext cx="3385800" cy="11448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867120" y="2371680"/>
            <a:ext cx="26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994200" y="2662200"/>
            <a:ext cx="244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830840" y="2665440"/>
            <a:ext cx="26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462040" y="1992240"/>
            <a:ext cx="766800" cy="31932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1898640" y="1256760"/>
            <a:ext cx="1275120" cy="684360"/>
            <a:chOff x="1898640" y="1256760"/>
            <a:chExt cx="1275120" cy="684360"/>
          </a:xfrm>
        </p:grpSpPr>
        <p:sp>
          <p:nvSpPr>
            <p:cNvPr id="1728" name=""/>
            <p:cNvSpPr/>
            <p:nvPr/>
          </p:nvSpPr>
          <p:spPr>
            <a:xfrm>
              <a:off x="1898640" y="151884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949760" y="1256760"/>
              <a:ext cx="117216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5236920" y="2964960"/>
            <a:ext cx="1275120" cy="684360"/>
            <a:chOff x="5236920" y="2964960"/>
            <a:chExt cx="1275120" cy="684360"/>
          </a:xfrm>
        </p:grpSpPr>
        <p:sp>
          <p:nvSpPr>
            <p:cNvPr id="1731" name=""/>
            <p:cNvSpPr/>
            <p:nvPr/>
          </p:nvSpPr>
          <p:spPr>
            <a:xfrm>
              <a:off x="5236920" y="322704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285520" y="2964960"/>
              <a:ext cx="117468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3" name=""/>
          <p:cNvSpPr/>
          <p:nvPr/>
        </p:nvSpPr>
        <p:spPr>
          <a:xfrm flipV="1">
            <a:off x="5429160" y="2781360"/>
            <a:ext cx="954000" cy="144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1"/>
          <a:stretch/>
        </p:blipFill>
        <p:spPr>
          <a:xfrm>
            <a:off x="879480" y="1519200"/>
            <a:ext cx="528480" cy="37296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2"/>
          <a:stretch/>
        </p:blipFill>
        <p:spPr>
          <a:xfrm>
            <a:off x="8042400" y="2714760"/>
            <a:ext cx="528480" cy="37296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3"/>
          <a:stretch/>
        </p:blipFill>
        <p:spPr>
          <a:xfrm>
            <a:off x="887400" y="2714760"/>
            <a:ext cx="530280" cy="372960"/>
          </a:xfrm>
          <a:prstGeom prst="rect">
            <a:avLst/>
          </a:prstGeom>
          <a:ln w="0">
            <a:noFill/>
          </a:ln>
        </p:spPr>
      </p:pic>
      <p:grpSp>
        <p:nvGrpSpPr>
          <p:cNvPr id="1737" name=""/>
          <p:cNvGrpSpPr/>
          <p:nvPr/>
        </p:nvGrpSpPr>
        <p:grpSpPr>
          <a:xfrm>
            <a:off x="3573360" y="1209600"/>
            <a:ext cx="2329920" cy="995400"/>
            <a:chOff x="3573360" y="1209600"/>
            <a:chExt cx="2329920" cy="995400"/>
          </a:xfrm>
        </p:grpSpPr>
        <p:sp>
          <p:nvSpPr>
            <p:cNvPr id="1738" name=""/>
            <p:cNvSpPr/>
            <p:nvPr/>
          </p:nvSpPr>
          <p:spPr>
            <a:xfrm>
              <a:off x="4414680" y="1671480"/>
              <a:ext cx="106488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xt-H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600720" y="1219320"/>
              <a:ext cx="2276640" cy="985680"/>
            </a:xfrm>
            <a:prstGeom prst="rect">
              <a:avLst/>
            </a:prstGeom>
            <a:gradFill rotWithShape="0">
              <a:gsLst>
                <a:gs pos="0">
                  <a:srgbClr val="aaa386"/>
                </a:gs>
                <a:gs pos="50000">
                  <a:srgbClr val="f5ebc1"/>
                </a:gs>
                <a:gs pos="100000">
                  <a:srgbClr val="aaa386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939480" y="1209600"/>
              <a:ext cx="35784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09920" y="1209600"/>
              <a:ext cx="78624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06240" y="1209600"/>
              <a:ext cx="42012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537520" y="1209600"/>
              <a:ext cx="35640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573360" y="1209600"/>
              <a:ext cx="35532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5" name=""/>
            <p:cNvGrpSpPr/>
            <p:nvPr/>
          </p:nvGrpSpPr>
          <p:grpSpPr>
            <a:xfrm>
              <a:off x="3573360" y="1524960"/>
              <a:ext cx="2320560" cy="201960"/>
              <a:chOff x="3573360" y="1524960"/>
              <a:chExt cx="2320560" cy="201960"/>
            </a:xfrm>
          </p:grpSpPr>
          <p:sp>
            <p:nvSpPr>
              <p:cNvPr id="1746" name=""/>
              <p:cNvSpPr/>
              <p:nvPr/>
            </p:nvSpPr>
            <p:spPr>
              <a:xfrm>
                <a:off x="3939480" y="1524960"/>
                <a:ext cx="35784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09920" y="1524960"/>
                <a:ext cx="78624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.68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106240" y="1524960"/>
                <a:ext cx="42012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537520" y="1524960"/>
                <a:ext cx="3564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573360" y="1524960"/>
                <a:ext cx="35532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580200" y="1745280"/>
              <a:ext cx="2320920" cy="201960"/>
              <a:chOff x="3580200" y="1745280"/>
              <a:chExt cx="2320920" cy="201960"/>
            </a:xfrm>
          </p:grpSpPr>
          <p:sp>
            <p:nvSpPr>
              <p:cNvPr id="1752" name=""/>
              <p:cNvSpPr/>
              <p:nvPr/>
            </p:nvSpPr>
            <p:spPr>
              <a:xfrm>
                <a:off x="3947760" y="1745280"/>
                <a:ext cx="3582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318560" y="1745280"/>
                <a:ext cx="7848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.68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114520" y="1745280"/>
                <a:ext cx="42012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47240" y="1745280"/>
                <a:ext cx="35388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80200" y="1745280"/>
                <a:ext cx="3564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3582720" y="1978200"/>
              <a:ext cx="2320560" cy="201960"/>
              <a:chOff x="3582720" y="1978200"/>
              <a:chExt cx="2320560" cy="201960"/>
            </a:xfrm>
          </p:grpSpPr>
          <p:sp>
            <p:nvSpPr>
              <p:cNvPr id="1758" name=""/>
              <p:cNvSpPr/>
              <p:nvPr/>
            </p:nvSpPr>
            <p:spPr>
              <a:xfrm>
                <a:off x="3948840" y="1978200"/>
                <a:ext cx="35784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319280" y="1978200"/>
                <a:ext cx="78624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.68.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115600" y="1978200"/>
                <a:ext cx="42012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46880" y="1978200"/>
                <a:ext cx="3564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582720" y="1978200"/>
                <a:ext cx="35532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3" name=""/>
          <p:cNvSpPr/>
          <p:nvPr/>
        </p:nvSpPr>
        <p:spPr>
          <a:xfrm flipH="1" flipV="1">
            <a:off x="4560480" y="2862000"/>
            <a:ext cx="833400" cy="18795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4"/>
          <a:stretch/>
        </p:blipFill>
        <p:spPr>
          <a:xfrm>
            <a:off x="5345280" y="4557600"/>
            <a:ext cx="529920" cy="373320"/>
          </a:xfrm>
          <a:prstGeom prst="rect">
            <a:avLst/>
          </a:prstGeom>
          <a:ln w="0">
            <a:noFill/>
          </a:ln>
        </p:spPr>
      </p:pic>
      <p:sp>
        <p:nvSpPr>
          <p:cNvPr id="1765" name=""/>
          <p:cNvSpPr/>
          <p:nvPr/>
        </p:nvSpPr>
        <p:spPr>
          <a:xfrm>
            <a:off x="5855040" y="4630680"/>
            <a:ext cx="1078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.68.40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664160" y="3062160"/>
            <a:ext cx="26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954000" y="2868480"/>
            <a:ext cx="3592440" cy="20275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1805040" y="3795840"/>
            <a:ext cx="901800" cy="480960"/>
          </a:xfrm>
          <a:prstGeom prst="line">
            <a:avLst/>
          </a:prstGeom>
          <a:ln w="25560">
            <a:solidFill>
              <a:srgbClr val="906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5"/>
          <a:stretch/>
        </p:blipFill>
        <p:spPr>
          <a:xfrm>
            <a:off x="766800" y="4626000"/>
            <a:ext cx="528480" cy="372960"/>
          </a:xfrm>
          <a:prstGeom prst="rect">
            <a:avLst/>
          </a:prstGeom>
          <a:ln w="0">
            <a:noFill/>
          </a:ln>
        </p:spPr>
      </p:pic>
      <p:grpSp>
        <p:nvGrpSpPr>
          <p:cNvPr id="1770" name=""/>
          <p:cNvGrpSpPr/>
          <p:nvPr/>
        </p:nvGrpSpPr>
        <p:grpSpPr>
          <a:xfrm>
            <a:off x="4019400" y="3869640"/>
            <a:ext cx="1275120" cy="697320"/>
            <a:chOff x="4019400" y="3869640"/>
            <a:chExt cx="1275120" cy="697320"/>
          </a:xfrm>
        </p:grpSpPr>
        <p:sp>
          <p:nvSpPr>
            <p:cNvPr id="1771" name=""/>
            <p:cNvSpPr/>
            <p:nvPr/>
          </p:nvSpPr>
          <p:spPr>
            <a:xfrm>
              <a:off x="4019400" y="414468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40.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068000" y="3869640"/>
              <a:ext cx="117504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3" name="" descr=""/>
          <p:cNvPicPr/>
          <p:nvPr/>
        </p:nvPicPr>
        <p:blipFill>
          <a:blip r:embed="rId6"/>
          <a:stretch/>
        </p:blipFill>
        <p:spPr>
          <a:xfrm>
            <a:off x="4290840" y="2719440"/>
            <a:ext cx="528840" cy="372960"/>
          </a:xfrm>
          <a:prstGeom prst="rect">
            <a:avLst/>
          </a:prstGeom>
          <a:ln w="0">
            <a:noFill/>
          </a:ln>
        </p:spPr>
      </p:pic>
      <p:sp>
        <p:nvSpPr>
          <p:cNvPr id="1774" name=""/>
          <p:cNvSpPr/>
          <p:nvPr/>
        </p:nvSpPr>
        <p:spPr>
          <a:xfrm>
            <a:off x="4100400" y="3067200"/>
            <a:ext cx="244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2098440" y="4082400"/>
            <a:ext cx="1275120" cy="697320"/>
            <a:chOff x="2098440" y="4082400"/>
            <a:chExt cx="1275120" cy="697320"/>
          </a:xfrm>
        </p:grpSpPr>
        <p:sp>
          <p:nvSpPr>
            <p:cNvPr id="1776" name=""/>
            <p:cNvSpPr/>
            <p:nvPr/>
          </p:nvSpPr>
          <p:spPr>
            <a:xfrm>
              <a:off x="2098440" y="435744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40.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47040" y="4082400"/>
              <a:ext cx="117504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4648320" y="3268800"/>
            <a:ext cx="239760" cy="560160"/>
          </a:xfrm>
          <a:prstGeom prst="line">
            <a:avLst/>
          </a:prstGeom>
          <a:ln w="25560">
            <a:solidFill>
              <a:srgbClr val="906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749160" y="5317920"/>
            <a:ext cx="8174160" cy="1204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4920" bIns="3492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l mismo label se puede utilizar para FEC diferentes si el LSR es capaz de distinguir el vecino upstream que envió el paquete (interface de entrada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65280" y="404280"/>
            <a:ext cx="7624800" cy="73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 Narrow"/>
              </a:rPr>
              <a:t>LABEL SPAC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"/>
          <p:cNvSpPr/>
          <p:nvPr/>
        </p:nvSpPr>
        <p:spPr>
          <a:xfrm>
            <a:off x="7809120" y="3603600"/>
            <a:ext cx="1078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.68.10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614840" y="3398760"/>
            <a:ext cx="3622680" cy="792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971640" y="3386160"/>
            <a:ext cx="345096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2058840" y="3298320"/>
            <a:ext cx="750960" cy="180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1774800" y="3452400"/>
            <a:ext cx="1275120" cy="697320"/>
            <a:chOff x="1774800" y="3452400"/>
            <a:chExt cx="1275120" cy="697320"/>
          </a:xfrm>
        </p:grpSpPr>
        <p:sp>
          <p:nvSpPr>
            <p:cNvPr id="1786" name=""/>
            <p:cNvSpPr/>
            <p:nvPr/>
          </p:nvSpPr>
          <p:spPr>
            <a:xfrm>
              <a:off x="1774800" y="372744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823040" y="3452400"/>
              <a:ext cx="117540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3591000" y="2728800"/>
            <a:ext cx="2232000" cy="482760"/>
          </a:xfrm>
          <a:custGeom>
            <a:avLst/>
            <a:gdLst/>
            <a:ahLst/>
            <a:rect l="l" t="t" r="r" b="b"/>
            <a:pathLst>
              <a:path w="1599" h="285">
                <a:moveTo>
                  <a:pt x="714" y="284"/>
                </a:moveTo>
                <a:lnTo>
                  <a:pt x="1598" y="0"/>
                </a:lnTo>
                <a:lnTo>
                  <a:pt x="0" y="0"/>
                </a:lnTo>
                <a:lnTo>
                  <a:pt x="588" y="284"/>
                </a:lnTo>
                <a:lnTo>
                  <a:pt x="714" y="284"/>
                </a:lnTo>
              </a:path>
            </a:pathLst>
          </a:custGeom>
          <a:gradFill rotWithShape="0">
            <a:gsLst>
              <a:gs pos="0">
                <a:srgbClr val="aaa386"/>
              </a:gs>
              <a:gs pos="100000">
                <a:srgbClr val="f5ebc1"/>
              </a:gs>
            </a:gsLst>
            <a:lin ang="54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116000" y="2162160"/>
            <a:ext cx="3387600" cy="114444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822840" y="2878200"/>
            <a:ext cx="26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51360" y="3168720"/>
            <a:ext cx="244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788000" y="3171960"/>
            <a:ext cx="26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417760" y="2498760"/>
            <a:ext cx="766800" cy="31896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854000" y="1763280"/>
            <a:ext cx="1275120" cy="684360"/>
            <a:chOff x="1854000" y="1763280"/>
            <a:chExt cx="1275120" cy="684360"/>
          </a:xfrm>
        </p:grpSpPr>
        <p:sp>
          <p:nvSpPr>
            <p:cNvPr id="1795" name=""/>
            <p:cNvSpPr/>
            <p:nvPr/>
          </p:nvSpPr>
          <p:spPr>
            <a:xfrm>
              <a:off x="1854000" y="202536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05480" y="1763280"/>
              <a:ext cx="117180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92640" y="3471480"/>
            <a:ext cx="1275120" cy="684360"/>
            <a:chOff x="5192640" y="3471480"/>
            <a:chExt cx="1275120" cy="684360"/>
          </a:xfrm>
        </p:grpSpPr>
        <p:sp>
          <p:nvSpPr>
            <p:cNvPr id="1798" name=""/>
            <p:cNvSpPr/>
            <p:nvPr/>
          </p:nvSpPr>
          <p:spPr>
            <a:xfrm>
              <a:off x="5192640" y="3733560"/>
              <a:ext cx="1275120" cy="422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555d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P packe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71.68.1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44120" y="3471480"/>
              <a:ext cx="1171800" cy="258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abel =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 flipV="1">
            <a:off x="5384880" y="3287880"/>
            <a:ext cx="954000" cy="1440"/>
          </a:xfrm>
          <a:prstGeom prst="line">
            <a:avLst/>
          </a:prstGeom>
          <a:ln w="255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1"/>
          <a:stretch/>
        </p:blipFill>
        <p:spPr>
          <a:xfrm>
            <a:off x="835200" y="2025720"/>
            <a:ext cx="528480" cy="372960"/>
          </a:xfrm>
          <a:prstGeom prst="rect">
            <a:avLst/>
          </a:prstGeom>
          <a:ln w="0">
            <a:noFill/>
          </a:ln>
        </p:spPr>
      </p:pic>
      <p:pic>
        <p:nvPicPr>
          <p:cNvPr id="1802" name="" descr=""/>
          <p:cNvPicPr/>
          <p:nvPr/>
        </p:nvPicPr>
        <p:blipFill>
          <a:blip r:embed="rId2"/>
          <a:stretch/>
        </p:blipFill>
        <p:spPr>
          <a:xfrm>
            <a:off x="7997760" y="3220920"/>
            <a:ext cx="528840" cy="373320"/>
          </a:xfrm>
          <a:prstGeom prst="rect">
            <a:avLst/>
          </a:prstGeom>
          <a:ln w="0">
            <a:noFill/>
          </a:ln>
        </p:spPr>
      </p:pic>
      <p:pic>
        <p:nvPicPr>
          <p:cNvPr id="1803" name="" descr=""/>
          <p:cNvPicPr/>
          <p:nvPr/>
        </p:nvPicPr>
        <p:blipFill>
          <a:blip r:embed="rId3"/>
          <a:stretch/>
        </p:blipFill>
        <p:spPr>
          <a:xfrm>
            <a:off x="844560" y="3220920"/>
            <a:ext cx="528480" cy="373320"/>
          </a:xfrm>
          <a:prstGeom prst="rect">
            <a:avLst/>
          </a:prstGeom>
          <a:ln w="0">
            <a:noFill/>
          </a:ln>
        </p:spPr>
      </p:pic>
      <p:grpSp>
        <p:nvGrpSpPr>
          <p:cNvPr id="1804" name=""/>
          <p:cNvGrpSpPr/>
          <p:nvPr/>
        </p:nvGrpSpPr>
        <p:grpSpPr>
          <a:xfrm>
            <a:off x="3530520" y="1716120"/>
            <a:ext cx="2328120" cy="995400"/>
            <a:chOff x="3530520" y="1716120"/>
            <a:chExt cx="2328120" cy="995400"/>
          </a:xfrm>
        </p:grpSpPr>
        <p:sp>
          <p:nvSpPr>
            <p:cNvPr id="1805" name=""/>
            <p:cNvSpPr/>
            <p:nvPr/>
          </p:nvSpPr>
          <p:spPr>
            <a:xfrm>
              <a:off x="4371120" y="2178000"/>
              <a:ext cx="106380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xt-H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57880" y="1725840"/>
              <a:ext cx="2274840" cy="985680"/>
            </a:xfrm>
            <a:prstGeom prst="rect">
              <a:avLst/>
            </a:prstGeom>
            <a:gradFill rotWithShape="0">
              <a:gsLst>
                <a:gs pos="0">
                  <a:srgbClr val="aaa386"/>
                </a:gs>
                <a:gs pos="50000">
                  <a:srgbClr val="f5ebc1"/>
                </a:gs>
                <a:gs pos="100000">
                  <a:srgbClr val="aaa386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96640" y="1716120"/>
              <a:ext cx="35748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66720" y="1716120"/>
              <a:ext cx="78588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62320" y="1716120"/>
              <a:ext cx="41976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93240" y="1716120"/>
              <a:ext cx="35640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530520" y="1716120"/>
              <a:ext cx="354960" cy="306720"/>
            </a:xfrm>
            <a:prstGeom prst="rect">
              <a:avLst/>
            </a:prstGeom>
            <a:noFill/>
            <a:ln w="12600">
              <a:solidFill>
                <a:srgbClr val="d487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7800" rIns="847800" tIns="-108720" bIns="-10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89120"/>
                  <a:tab algn="l" pos="1577880"/>
                  <a:tab algn="l" pos="2367000"/>
                  <a:tab algn="l" pos="3156120"/>
                  <a:tab algn="l" pos="3944880"/>
                  <a:tab algn="l" pos="4734000"/>
                  <a:tab algn="l" pos="5522760"/>
                  <a:tab algn="l" pos="6311880"/>
                  <a:tab algn="l" pos="7101000"/>
                  <a:tab algn="l" pos="7889760"/>
                  <a:tab algn="l" pos="8678880"/>
                  <a:tab algn="l" pos="9468000"/>
                  <a:tab algn="l" pos="102567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2" name=""/>
            <p:cNvGrpSpPr/>
            <p:nvPr/>
          </p:nvGrpSpPr>
          <p:grpSpPr>
            <a:xfrm>
              <a:off x="3530520" y="2031480"/>
              <a:ext cx="2318760" cy="201960"/>
              <a:chOff x="3530520" y="2031480"/>
              <a:chExt cx="2318760" cy="201960"/>
            </a:xfrm>
          </p:grpSpPr>
          <p:sp>
            <p:nvSpPr>
              <p:cNvPr id="1813" name=""/>
              <p:cNvSpPr/>
              <p:nvPr/>
            </p:nvSpPr>
            <p:spPr>
              <a:xfrm>
                <a:off x="3896640" y="2031480"/>
                <a:ext cx="35748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266720" y="2031480"/>
                <a:ext cx="78588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.68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062320" y="2031480"/>
                <a:ext cx="41976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492880" y="2031480"/>
                <a:ext cx="3564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530520" y="2031480"/>
                <a:ext cx="35496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3537360" y="2251800"/>
              <a:ext cx="2318760" cy="201960"/>
              <a:chOff x="3537360" y="2251800"/>
              <a:chExt cx="2318760" cy="201960"/>
            </a:xfrm>
          </p:grpSpPr>
          <p:sp>
            <p:nvSpPr>
              <p:cNvPr id="1819" name=""/>
              <p:cNvSpPr/>
              <p:nvPr/>
            </p:nvSpPr>
            <p:spPr>
              <a:xfrm>
                <a:off x="3904560" y="2251800"/>
                <a:ext cx="35784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275000" y="2251800"/>
                <a:ext cx="78408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.68.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70240" y="2251800"/>
                <a:ext cx="41976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502600" y="2251800"/>
                <a:ext cx="35352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537360" y="2251800"/>
                <a:ext cx="3564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3539880" y="2484720"/>
              <a:ext cx="2318760" cy="201960"/>
              <a:chOff x="3539880" y="2484720"/>
              <a:chExt cx="2318760" cy="201960"/>
            </a:xfrm>
          </p:grpSpPr>
          <p:sp>
            <p:nvSpPr>
              <p:cNvPr id="1825" name=""/>
              <p:cNvSpPr/>
              <p:nvPr/>
            </p:nvSpPr>
            <p:spPr>
              <a:xfrm>
                <a:off x="3906000" y="2484720"/>
                <a:ext cx="35748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276080" y="2484720"/>
                <a:ext cx="78588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071680" y="2484720"/>
                <a:ext cx="41976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502240" y="2484720"/>
                <a:ext cx="35640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539880" y="2484720"/>
                <a:ext cx="354960" cy="201960"/>
              </a:xfrm>
              <a:prstGeom prst="rect">
                <a:avLst/>
              </a:prstGeom>
              <a:noFill/>
              <a:ln w="12600">
                <a:solidFill>
                  <a:srgbClr val="d487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13480" bIns="-21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30" name="" descr=""/>
          <p:cNvPicPr/>
          <p:nvPr/>
        </p:nvPicPr>
        <p:blipFill>
          <a:blip r:embed="rId4"/>
          <a:stretch/>
        </p:blipFill>
        <p:spPr>
          <a:xfrm>
            <a:off x="4246560" y="3225960"/>
            <a:ext cx="528480" cy="37296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485640" y="5160960"/>
            <a:ext cx="2718000" cy="716040"/>
          </a:xfrm>
          <a:prstGeom prst="wedgeRectCallout">
            <a:avLst>
              <a:gd name="adj1" fmla="val 5199"/>
              <a:gd name="adj2" fmla="val -256652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cket is using a label NOT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viously advertised by th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ownstream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967280" y="4935600"/>
            <a:ext cx="2700360" cy="654120"/>
          </a:xfrm>
          <a:prstGeom prst="wedgeRectCallout">
            <a:avLst>
              <a:gd name="adj1" fmla="val -68458"/>
              <a:gd name="adj2" fmla="val -256069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bel not being previousl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vertised to that neighbour.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packet is dro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OPERACIONES SOBRE 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3416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Operaciones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USH: Poner un labe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P: Quitar un lab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WAP: Quitar el label de entrada y poner el nuevo de salid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l penúltimo nodo puede quitar el último label en el stack, por solicitud del último nodo (LER), inclusive sumarizando varias redes: Penultimate Hop Popping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solicitud la pasa el LER anunciando como label: implicit-nul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bel merging: reemplazar varios label entrantes asociados al mismo FEC por el mismo label de salid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5" name=""/>
          <p:cNvSpPr/>
          <p:nvPr/>
        </p:nvSpPr>
        <p:spPr>
          <a:xfrm>
            <a:off x="-79200" y="1355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-79200" y="4905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OPERACIONES SOBRE 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549000"/>
            <a:ext cx="85341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l Penúltimo nodo elimina el label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9" name=""/>
          <p:cNvSpPr/>
          <p:nvPr/>
        </p:nvSpPr>
        <p:spPr>
          <a:xfrm>
            <a:off x="-79200" y="1355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-79200" y="4905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250920" y="5229360"/>
            <a:ext cx="853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Qué sucede si en el ELSR hay varias redes 171.58.44/2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R/ Tener un segundo label para distinguir una de otra: 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MODO DE OPERACIÓN GENERAL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l ingresar un paquete a la red MPLS, se evalúa el encabezado del paquete y opcionalmente otros aspectos (pto de entrada, etc) y con base en esto se le asigna un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na vez se tenga el paquete marcado con el label, ya no es necesario revisar el encabezado de nivel 3 para su envío al destino.  Toda la conmutación se hace con base en el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s consideraciones que se utilizan para asignar un paquete a un FEC pueden ser tan complejas como se quiera, sin que esto afecte a los nodos MPLS intermedi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SQUEMAS DE ASIGNACION D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9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solicited Downstream (UD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 partir del Egress LSR, se empieza a notificar hacia los upstream la asociación Label – FE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"/>
          <p:cNvSpPr/>
          <p:nvPr/>
        </p:nvSpPr>
        <p:spPr>
          <a:xfrm>
            <a:off x="-79200" y="1355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-79200" y="4905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914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SQUEMAS DE ASIGNACION D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534160" cy="564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ownstream on demand (DoD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Generalmente utilizado con ATM-LSR y en ingeniería de tráfico con RSV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"/>
          <p:cNvSpPr/>
          <p:nvPr/>
        </p:nvSpPr>
        <p:spPr>
          <a:xfrm>
            <a:off x="-79200" y="1355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-79200" y="4905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2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TOCOLOS PARA DISTRIBUCION DE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5881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ermiten distribuir la asociación entre el FEC y  labe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consideran protocolos de señalización entre los nodos MP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o necesariamente todos los LSR deben estar corriendo el mismo protocolo de distribución de labe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PMingLiU"/>
              </a:rPr>
              <a:t>Label Distribution Protocol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PMingLiU"/>
              </a:rPr>
              <a:t>Local Bi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85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PMingLiU"/>
              </a:rPr>
              <a:t>Los LSR’s crean un label para cada prefijo que está disponible en la tabla de enrutamiento (FIB-CEF).  Este label se llama el local label.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marL="289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marL="289080" indent="-289080">
              <a:lnSpc>
                <a:spcPct val="85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PMingLiU"/>
              </a:rPr>
              <a:t>El prefijo y su respectivo label (binding) se almacenan en la Label Information Base (LIB).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609480" y="4572000"/>
            <a:ext cx="5257800" cy="1371600"/>
            <a:chOff x="609480" y="4572000"/>
            <a:chExt cx="5257800" cy="1371600"/>
          </a:xfrm>
        </p:grpSpPr>
        <p:sp>
          <p:nvSpPr>
            <p:cNvPr id="1858" name=""/>
            <p:cNvSpPr/>
            <p:nvPr/>
          </p:nvSpPr>
          <p:spPr>
            <a:xfrm>
              <a:off x="609480" y="4572000"/>
              <a:ext cx="5257800" cy="137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5440" y="4636800"/>
              <a:ext cx="5105520" cy="1004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1#sh mpls ldp bindings 10.13.2.8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LIB entry: 10.13.2.8/30, rev 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local binding:  tag : 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0" name=""/>
          <p:cNvSpPr/>
          <p:nvPr/>
        </p:nvSpPr>
        <p:spPr>
          <a:xfrm>
            <a:off x="900000" y="6165720"/>
            <a:ext cx="716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ctual output of the above command may be bit different from the this out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3"/>
          <a:stretch/>
        </p:blipFill>
        <p:spPr>
          <a:xfrm>
            <a:off x="6477120" y="4800600"/>
            <a:ext cx="512640" cy="314280"/>
          </a:xfrm>
          <a:prstGeom prst="rect">
            <a:avLst/>
          </a:prstGeom>
          <a:ln w="0">
            <a:noFill/>
          </a:ln>
        </p:spPr>
      </p:pic>
      <p:pic>
        <p:nvPicPr>
          <p:cNvPr id="1862" name="" descr=""/>
          <p:cNvPicPr/>
          <p:nvPr/>
        </p:nvPicPr>
        <p:blipFill>
          <a:blip r:embed="rId4"/>
          <a:stretch/>
        </p:blipFill>
        <p:spPr>
          <a:xfrm>
            <a:off x="7696080" y="4800600"/>
            <a:ext cx="513000" cy="314280"/>
          </a:xfrm>
          <a:prstGeom prst="rect">
            <a:avLst/>
          </a:prstGeom>
          <a:ln w="0">
            <a:noFill/>
          </a:ln>
        </p:spPr>
      </p:pic>
      <p:sp>
        <p:nvSpPr>
          <p:cNvPr id="1863" name=""/>
          <p:cNvSpPr/>
          <p:nvPr/>
        </p:nvSpPr>
        <p:spPr>
          <a:xfrm>
            <a:off x="6934320" y="495288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400800" y="4572000"/>
            <a:ext cx="533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772400" y="4572000"/>
            <a:ext cx="533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077320" y="4952880"/>
            <a:ext cx="2286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181480"/>
            <a:ext cx="1219320" cy="28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10.13.2.8/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948360" y="49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64000" y="3357720"/>
            <a:ext cx="299088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R1 asocia el prefijo: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10.13.2.8/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l label local 4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PMingLiU"/>
              </a:rPr>
              <a:t>Label Distribution Protoco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PMingLiU"/>
              </a:rPr>
              <a:t>Remote Bi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24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R2 tamb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PMingLiU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n hace la asociac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PMingLiU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n Prefjo/label y le cuenta al router R1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9080" indent="-2890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Cuando R1 recibe el binding (asociac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PMingLiU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n), lo marca como un  “remote binding” ya que viene de un nodo remoto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9080" indent="-2890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PMingLiU"/>
              </a:rPr>
              <a:t>R1 almacena el remote binding en la misma LIB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50920" y="3645000"/>
            <a:ext cx="5257800" cy="1828800"/>
            <a:chOff x="250920" y="3645000"/>
            <a:chExt cx="5257800" cy="1828800"/>
          </a:xfrm>
        </p:grpSpPr>
        <p:sp>
          <p:nvSpPr>
            <p:cNvPr id="1873" name=""/>
            <p:cNvSpPr/>
            <p:nvPr/>
          </p:nvSpPr>
          <p:spPr>
            <a:xfrm>
              <a:off x="250920" y="3645000"/>
              <a:ext cx="5257800" cy="1828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50920" y="3721320"/>
              <a:ext cx="5105520" cy="1696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1#sh mpls ldp bindings 10.13.2.8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LIB entry: 10.13.2.8/30, rev 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local binding:  label : 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emote binding: LSR: 10.13.1.68:0, tag: 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5" name="" descr=""/>
          <p:cNvPicPr/>
          <p:nvPr/>
        </p:nvPicPr>
        <p:blipFill>
          <a:blip r:embed="rId4"/>
          <a:stretch/>
        </p:blipFill>
        <p:spPr>
          <a:xfrm>
            <a:off x="6041880" y="4102200"/>
            <a:ext cx="513000" cy="314280"/>
          </a:xfrm>
          <a:prstGeom prst="rect">
            <a:avLst/>
          </a:prstGeom>
          <a:ln w="0">
            <a:noFill/>
          </a:ln>
        </p:spPr>
      </p:pic>
      <p:pic>
        <p:nvPicPr>
          <p:cNvPr id="1876" name="" descr=""/>
          <p:cNvPicPr/>
          <p:nvPr/>
        </p:nvPicPr>
        <p:blipFill>
          <a:blip r:embed="rId5"/>
          <a:stretch/>
        </p:blipFill>
        <p:spPr>
          <a:xfrm>
            <a:off x="7337520" y="4102200"/>
            <a:ext cx="512640" cy="314280"/>
          </a:xfrm>
          <a:prstGeom prst="rect">
            <a:avLst/>
          </a:prstGeom>
          <a:ln w="0">
            <a:noFill/>
          </a:ln>
        </p:spPr>
      </p:pic>
      <p:sp>
        <p:nvSpPr>
          <p:cNvPr id="1877" name=""/>
          <p:cNvSpPr/>
          <p:nvPr/>
        </p:nvSpPr>
        <p:spPr>
          <a:xfrm>
            <a:off x="7261200" y="3797280"/>
            <a:ext cx="533520" cy="2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041880" y="3797280"/>
            <a:ext cx="533520" cy="2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499080" y="4254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153120" y="5734080"/>
            <a:ext cx="299088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R2 asocia el prefijo: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10.13.2.8/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l label 29 y le cuenta a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948360" y="3284640"/>
            <a:ext cx="1905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R2 egress de 10.13.1.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298680" y="509256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flipH="1">
            <a:off x="3298320" y="5702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H="1" flipV="1">
            <a:off x="7592760" y="4462560"/>
            <a:ext cx="324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TOCOLOS PARA DISTRIBUCION DE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5881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presentan varias alternativ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xtender protocolos existent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xtender BGP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xtender RSVP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rear protocolos nuevos com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LDP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R-LD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DP está orientado a la asociación de labels a direcciones (Prefijos) unicas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SVP y CR-LDP están orientados a Ingeniería de tráfico y reserva de recursos (calidad de servicio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-BGP: utilizado para la implementación de VP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ODOS DE DISTRIBUCION D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tablecen cuales LSR hacen una asociación Prefijo-Label y cuando la distribuyen. Dos esquem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rdered LSP contr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1520" indent="-282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SR asocia un label y lo anuncia para un FEC solo si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2580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l es el LSR de salida (Egress) de ese FE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2580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Recibió una asociación (Prefijo-Label) del nodo siguiente (next hop), en la ruta para ese Prefij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21520" indent="-282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asociación de labels fluye de Egress hacia Ingres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dependent LSP contro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1520" indent="-282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ada LSR toma decisiones independientes de cuando asociar un label a un FEC y notificarlo a los upstream peer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1520" indent="-282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creación de label es más rápid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ODOS DE RETENCION DEL LAB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5881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eterminan que hacer con un binding que se recibe de un vecino vía el protocolo de distribución de labels.  Dos esqu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iberal retention mode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l LSR retiene los labels bindings de todos los nodos vecino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Requiere más memoria y label spac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l tiempo de convergencia es más rápid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nservative retention mod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l LSR retiene los label bindings solo de los vecinos que son el next-hop asociado al FE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Requiere menos memori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Generalmente se encuentra los siguientes esqu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Unsolicited Downstream, Liberal ya sea Independent u Orde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-2854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DoD, Conservative, Ordered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bel Distribution Protoco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RFC 3036, RFC 3037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DP permite la distribución de forma estándar de los label asociados a rutas aprendidas mediante un IGP (Interior Gateway Protocol) como OSPF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DP provee los mecanismos para que los LSR soliciten, distribuyan y liberen asociaciones (binds) entre nodos vecin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DP permite descubrir los posible peers LSR y establecer sesiones para el intercambio de información de label binding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órica y funcionalmente es un superconjunto del protocolo de Cisco: Tag Distribution Protocol (TDP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puerto TCP/UDP 646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conectividad IP entre los LS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UDP y multicast 224.0.0.2 para hallar los vecinos mediante mensajes HELL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mente establece conexiones TCP con los vecinos para el intercambio de asociaciones a etiquet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ye mapeos entre labels y FE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EC se presenta com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jo IP con máscara de 0 a 32 bi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ción IP con mascara de 32 bi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360360" cy="28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24720" y="3716280"/>
            <a:ext cx="36036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ensajes LDP se identifica con la dirección IP (4 bytes) y el Label Space (2 bytes):  Ejemplo:   10.1.0.1:1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pueden tener vecinos no conectados directamente.  Para esto se requiere configuració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DP es muy utilizado cuando en el diseño se busca principalmente simplicida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Cuatro tipos de mensaje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Discovery Messages para descubrir LSR vecin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ession Messages establecen y mantienen sesion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Advertisement Messages crean, cambian y borran asociaciones FEC-Labe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Notification Messages llevan información de estado y error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Estructura de LDP Header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Versión (2B): Actualmente versión 1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Longitud (2B):  Sin incluir Versión y Longitu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LSR ID (4B): Identifica el LSR que envía el mensaj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Label Space (2B):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pacio de direcciones utilizado.  En label space por plataforma o nodo es 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DATA (Variable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ntenido variable en formato TLV (Type Length Value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tructura de payload LDP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09088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/>
          <p:nvPr/>
        </p:nvSpPr>
        <p:spPr>
          <a:xfrm>
            <a:off x="250920" y="3357720"/>
            <a:ext cx="8534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U (1b) (Unknown Messages) Determina si se notifica (bit en 1) o no al que envía si el mensaje no es reconoc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ssage Type: Identifica el tipo de mensaje: Hello, Initialization, Keep alive, address message, label mapping, label request, label release, not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ssage Lenth: longitud total del mensaje en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ssage ID: Identificador del mensaje para distinguir unos d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andatory y Optional parameteres son llamados TLV (Type Length Valu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Message Name Space (Message Type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001: Notificatio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100: Hell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200: Initializatio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201: Keep aliv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400: Label Mapping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401: Label reques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402: Label Withdraw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0x0403: Label Releas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53416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tructura del TLV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: Unknown TLV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: Descartar el mensaje y notificar al originado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: Ignorar TLV desconocido y procesar el rest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: Forward Unknown TLF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: TLV desconocido no es forwarded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: TLV desconocido es forward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ype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R-LPT-TLV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100: FEC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800:Explicite Rou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101: Address List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810: Traffic Parameter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103: Hop count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104: Generic Labe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x0300: Statu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ros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ngth: Longitu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alor: string de bytes con la información que se interpreta de acuerdo al Typ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R-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traint-based Routing over Label Distribution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aint-based routing: permite que los LSP’s sean creados por información diferente a la del IGP: rutas explícitas, QoS,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DP modificado para permitir la creación de LSP o rutas Constraint-bas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porta LSP creados con rutas explícitas, requerimientos de calidad de servicio y otras restriccion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implementación de Traffic Engineering y Calidad de servici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ngress LSR solicita la creación de la ru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o de sus principales precursores ha sido Nortel Network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R-LD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18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CR-LDP adiciona campos a LDP como: peak, committed yexcess-data rates – similares a los utilizados en redes ATM, permitiendo solicitar etiquetas para LSP’s con caracteristicas de ancho de banda, etc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4103640" cy="3884760"/>
          </a:xfrm>
          <a:prstGeom prst="rect">
            <a:avLst/>
          </a:prstGeom>
          <a:ln w="0">
            <a:noFill/>
          </a:ln>
        </p:spPr>
      </p:pic>
      <p:pic>
        <p:nvPicPr>
          <p:cNvPr id="1917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6432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RSVP-T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source Reservation Protocol – Traffic Engineering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SVP (Resource Reservation Protocol) es un protocolo de señalización para el manejo de calidad de servicio en redes I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tiliza mensajes especiales (RSVP-TE-PATH, RSVP-TE-RESV), que pasan por cada uno de los nodos entre la fuente y el destino, para reservar los recursos necesari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SVP-TE extiende la funcionalidad de RSVP, para notificar la asociación de labels a FE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e utiliza principalmente cuando en el diseño se busca ingeniería de tráfico y failover (enlaces de contingencia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5880" y="5672160"/>
            <a:ext cx="1295640" cy="6523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289320"/>
            <a:ext cx="2667240" cy="596880"/>
          </a:xfrm>
          <a:custGeom>
            <a:avLst/>
            <a:gdLst/>
            <a:ahLst/>
            <a:rect l="l" t="t" r="r" b="b"/>
            <a:pathLst>
              <a:path w="1680" h="376">
                <a:moveTo>
                  <a:pt x="520" y="280"/>
                </a:moveTo>
                <a:lnTo>
                  <a:pt x="1680" y="0"/>
                </a:lnTo>
                <a:lnTo>
                  <a:pt x="0" y="0"/>
                </a:lnTo>
                <a:lnTo>
                  <a:pt x="312" y="280"/>
                </a:lnTo>
                <a:lnTo>
                  <a:pt x="496" y="3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314880"/>
            <a:ext cx="2666880" cy="761760"/>
          </a:xfrm>
          <a:custGeom>
            <a:avLst/>
            <a:gdLst/>
            <a:ahLst/>
            <a:rect l="l" t="t" r="r" b="b"/>
            <a:pathLst>
              <a:path w="1680" h="480">
                <a:moveTo>
                  <a:pt x="744" y="480"/>
                </a:moveTo>
                <a:lnTo>
                  <a:pt x="1680" y="0"/>
                </a:lnTo>
                <a:lnTo>
                  <a:pt x="0" y="0"/>
                </a:lnTo>
                <a:lnTo>
                  <a:pt x="640" y="456"/>
                </a:lnTo>
                <a:lnTo>
                  <a:pt x="824" y="45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3314880"/>
            <a:ext cx="2667240" cy="975960"/>
          </a:xfrm>
          <a:custGeom>
            <a:avLst/>
            <a:gdLst/>
            <a:ahLst/>
            <a:rect l="l" t="t" r="r" b="b"/>
            <a:pathLst>
              <a:path w="1680" h="615">
                <a:moveTo>
                  <a:pt x="912" y="600"/>
                </a:moveTo>
                <a:lnTo>
                  <a:pt x="0" y="0"/>
                </a:lnTo>
                <a:lnTo>
                  <a:pt x="1680" y="0"/>
                </a:lnTo>
                <a:lnTo>
                  <a:pt x="1080" y="600"/>
                </a:lnTo>
                <a:lnTo>
                  <a:pt x="1061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280" y="1447920"/>
          <a:ext cx="2667240" cy="1854000"/>
        </p:xfrm>
        <a:graphic>
          <a:graphicData uri="http://schemas.openxmlformats.org/drawingml/2006/table">
            <a:tbl>
              <a:tblPr/>
              <a:tblGrid>
                <a:gridCol w="64800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 flipV="1">
            <a:off x="533520" y="4343040"/>
            <a:ext cx="990360" cy="228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56440" y="3930480"/>
            <a:ext cx="12762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PMingLiU"/>
              </a:rPr>
              <a:t>MPLS Forwarding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4529160" y="4692600"/>
            <a:ext cx="1652400" cy="11858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379760" y="3930480"/>
            <a:ext cx="2552760" cy="424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7240" y="4354560"/>
            <a:ext cx="2476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86040" y="489744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560" y="392436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0528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47480" y="40384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962840" y="3581280"/>
            <a:ext cx="1181160" cy="712800"/>
            <a:chOff x="7962840" y="3581280"/>
            <a:chExt cx="1181160" cy="712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796284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5004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324120" y="365760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76720" y="1447920"/>
          <a:ext cx="2666880" cy="1854000"/>
        </p:xfrm>
        <a:graphic>
          <a:graphicData uri="http://schemas.openxmlformats.org/drawingml/2006/table">
            <a:tbl>
              <a:tblPr/>
              <a:tblGrid>
                <a:gridCol w="64764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867280" y="5373720"/>
            <a:ext cx="838440" cy="66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7467480" y="5714640"/>
            <a:ext cx="762120" cy="609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772400" y="5257800"/>
            <a:ext cx="1181160" cy="712800"/>
            <a:chOff x="7772400" y="5257800"/>
            <a:chExt cx="1181160" cy="71280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7772400" y="52578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59600" y="54468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010280" y="6095880"/>
            <a:ext cx="83844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6324480" y="1447920"/>
          <a:ext cx="2667240" cy="1854000"/>
        </p:xfrm>
        <a:graphic>
          <a:graphicData uri="http://schemas.openxmlformats.org/drawingml/2006/table">
            <a:tbl>
              <a:tblPr/>
              <a:tblGrid>
                <a:gridCol w="64800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3995640" y="4076640"/>
            <a:ext cx="838440" cy="6652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4221000"/>
            <a:ext cx="1181160" cy="712800"/>
            <a:chOff x="0" y="4221000"/>
            <a:chExt cx="1181160" cy="712800"/>
          </a:xfrm>
        </p:grpSpPr>
        <p:pic>
          <p:nvPicPr>
            <p:cNvPr id="169" name="" descr=""/>
            <p:cNvPicPr/>
            <p:nvPr/>
          </p:nvPicPr>
          <p:blipFill>
            <a:blip r:embed="rId8"/>
            <a:stretch/>
          </p:blipFill>
          <p:spPr>
            <a:xfrm>
              <a:off x="0" y="42210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87200" y="441000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SERVICIOS SOBRE MP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53416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PN (Virtual Private Network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alidad de servici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geniería de tráfi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oz sobre I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MPLS VS IP PUR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53416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NTAJ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acilita traffic engineering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acilita la implementación de VP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acilita la creación de rutas explícitas y el traffic shaping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ermite el envío de paquetes a alta velocidad al integrar el suicheo con el rute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ESVENTAJ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ntroduce una nueva complejida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xisten muchas opciones para la implementació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 una tecnología aún muy nuev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n VPN no encripta la información como si lo hace IPSe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i se tiene ancho de banda suficiente y económico (Ej: 10Gbps, WDM/DWDM, etc) la complejidad que introduce MPLS no es necesari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1048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FABRICANTES Y CARRIER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rincipales fabricantes que soportan MP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isc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Juniper Network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rte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xtreme Network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ucen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lgunos Carriers que lo utilizan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T&amp;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ica de Españ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BellSou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C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ables and Wireles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61048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FIGURACION DE EJEMPL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27" name="" descr=""/>
          <p:cNvPicPr/>
          <p:nvPr/>
        </p:nvPicPr>
        <p:blipFill>
          <a:blip r:embed="rId1"/>
          <a:stretch/>
        </p:blipFill>
        <p:spPr>
          <a:xfrm>
            <a:off x="395280" y="1057320"/>
            <a:ext cx="82090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341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ostname pomero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p ce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label protocol ld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Loopback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0.10.3 255.255.255.255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Serial 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.1.6  255.255.255.25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Serial 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.1.9 255.255.255.25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Serial 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.1.21 255.255.255.25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uter os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work 10.1.1.0 0.0.0.255 area 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work 10.10.10.0 0.0.0.0.255 area 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341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ostname Pauilla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p ce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label protocol ld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Loopback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0.10.1 255.255.255.255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Serial 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.1.5  255.255.255.25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Serial 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.1.1 255.255.255.25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face Serial 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address 10.1.1.13 255.255.255.25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pls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uter os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work 10.1.1.0 0.0.0.255 area 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work 10.10.10.0 0.0.0.0.255 area 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MAND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4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Algunos comandos Cisco para monitorear mp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how mpls ldp neighb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how mpls ldp bind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how mpls forwarding-ta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how mpls ldp ent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how mpls ldp pe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how mpls ldp rout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how mpls inter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how mpls ldp discove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how mpls ip bindings ?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53416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ientras que se siga teniendo ATM en el core continuarán las ineficiencia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PLS “bien” implementado es una alternativa interesante a una red IP pur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Bien implementado significa con tecnologías de nivel 2 amigables con IP. Ejemplo: Ethernet, PPP/SDH, etc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O se debe perder de vista que Internet, la red más grande del mundo es IP Pur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ITIOS DE INTE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4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//www.cisco.com/go/mp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//mpls-linux.sourceforge.net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d4876c"/>
                </a:solidFill>
                <a:uFillTx/>
                <a:latin typeface="Arial"/>
                <a:hlinkClick r:id="rId4"/>
              </a:rPr>
              <a:t>http://sourceforge.net/projects/mpls-linux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d4876c"/>
                </a:solidFill>
                <a:uFillTx/>
                <a:latin typeface="Arial"/>
                <a:hlinkClick r:id="rId6"/>
              </a:rPr>
              <a:t>http://www.cs.virginia.edu/~mngroup/projects/mpls/documents/thesis/node28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d4876c"/>
                </a:solidFill>
                <a:uFillTx/>
                <a:latin typeface="Arial"/>
                <a:hlinkClick r:id="rId8"/>
              </a:rPr>
              <a:t>http://www.cisco.com/warp/public/105/mplsospf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d4876c"/>
                </a:solidFill>
                <a:uFillTx/>
                <a:latin typeface="Arial"/>
                <a:hlinkClick r:id="rId10"/>
              </a:rPr>
              <a:t>http://www.navtelcom.com/products/mpls_emulation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//www.cisco.com/warp/public/759/ipj_4-3/ipj_4-3_mpls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//www.ee.iitb.ac.in/uma/~mpls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//flower.ce.cnu.ac.kr/~fog1/mns/  (Simulador MPL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//www.ripe.net/ripe/meetings/archive/ripe-39/presentations/mpls-vpn/sld001.html (MPLS VPN’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http://www.networksorcery.com/enp/protocol/LabelDistributionProtocol.htm  (Estructura de LDP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http://www.zvon.org/tmRFC/RFC3035/Output/chapter1.ht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NOTICIAS DE INTE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4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http://www.nwfusion.com/edge/news/2002/1028tmx.html (anuncio de Lucent de no continuar suiche MPLS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http://www.nwfusion.com/columnists/2002/0812edit.htm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http://www.nwfusion.com/news/2003/0915att.htm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http://www.nwfusion.com/news/2003/0721sprint.htm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http://www.nwfusion.com/news/2001/0806mpls.html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detractores de MPLS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5880" y="5672160"/>
            <a:ext cx="1295640" cy="6523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67480" y="5714640"/>
            <a:ext cx="762120" cy="609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772400" y="5257800"/>
            <a:ext cx="1181160" cy="712800"/>
            <a:chOff x="7772400" y="5257800"/>
            <a:chExt cx="1181160" cy="7128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772400" y="52578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59600" y="54468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324480" y="3289320"/>
            <a:ext cx="2667240" cy="596880"/>
          </a:xfrm>
          <a:custGeom>
            <a:avLst/>
            <a:gdLst/>
            <a:ahLst/>
            <a:rect l="l" t="t" r="r" b="b"/>
            <a:pathLst>
              <a:path w="1680" h="376">
                <a:moveTo>
                  <a:pt x="520" y="280"/>
                </a:moveTo>
                <a:lnTo>
                  <a:pt x="1680" y="0"/>
                </a:lnTo>
                <a:lnTo>
                  <a:pt x="0" y="0"/>
                </a:lnTo>
                <a:lnTo>
                  <a:pt x="312" y="280"/>
                </a:lnTo>
                <a:lnTo>
                  <a:pt x="496" y="3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3314880"/>
            <a:ext cx="2666880" cy="761760"/>
          </a:xfrm>
          <a:custGeom>
            <a:avLst/>
            <a:gdLst/>
            <a:ahLst/>
            <a:rect l="l" t="t" r="r" b="b"/>
            <a:pathLst>
              <a:path w="1680" h="480">
                <a:moveTo>
                  <a:pt x="744" y="480"/>
                </a:moveTo>
                <a:lnTo>
                  <a:pt x="1680" y="0"/>
                </a:lnTo>
                <a:lnTo>
                  <a:pt x="0" y="0"/>
                </a:lnTo>
                <a:lnTo>
                  <a:pt x="640" y="456"/>
                </a:lnTo>
                <a:lnTo>
                  <a:pt x="824" y="45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314880"/>
            <a:ext cx="2667240" cy="975960"/>
          </a:xfrm>
          <a:custGeom>
            <a:avLst/>
            <a:gdLst/>
            <a:ahLst/>
            <a:rect l="l" t="t" r="r" b="b"/>
            <a:pathLst>
              <a:path w="1680" h="615">
                <a:moveTo>
                  <a:pt x="912" y="600"/>
                </a:moveTo>
                <a:lnTo>
                  <a:pt x="0" y="0"/>
                </a:lnTo>
                <a:lnTo>
                  <a:pt x="1680" y="0"/>
                </a:lnTo>
                <a:lnTo>
                  <a:pt x="1080" y="600"/>
                </a:lnTo>
                <a:lnTo>
                  <a:pt x="1061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447920"/>
          <a:ext cx="2667240" cy="1847880"/>
        </p:xfrm>
        <a:graphic>
          <a:graphicData uri="http://schemas.openxmlformats.org/drawingml/2006/table">
            <a:tbl>
              <a:tblPr/>
              <a:tblGrid>
                <a:gridCol w="648000"/>
                <a:gridCol w="876240"/>
                <a:gridCol w="495360"/>
                <a:gridCol w="647640"/>
              </a:tblGrid>
              <a:tr h="4698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7016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 flipV="1">
            <a:off x="533520" y="4343040"/>
            <a:ext cx="990360" cy="228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56440" y="3930480"/>
            <a:ext cx="12762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Frame Based MPL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PMingLiU"/>
              </a:rPr>
              <a:t>Assigning Labe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4529160" y="4692600"/>
            <a:ext cx="1652400" cy="11858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379760" y="3930480"/>
            <a:ext cx="2552760" cy="424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7240" y="4354560"/>
            <a:ext cx="2476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86040" y="489744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560" y="392436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0528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46160" y="6308640"/>
            <a:ext cx="3097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You Can Reach 171.69 thru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7480" y="40384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62840" y="3581280"/>
            <a:ext cx="1181160" cy="712800"/>
            <a:chOff x="7962840" y="3581280"/>
            <a:chExt cx="1181160" cy="7128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96284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15004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324120" y="365760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276720" y="1447920"/>
          <a:ext cx="2666880" cy="1854000"/>
        </p:xfrm>
        <a:graphic>
          <a:graphicData uri="http://schemas.openxmlformats.org/drawingml/2006/table">
            <a:tbl>
              <a:tblPr/>
              <a:tblGrid>
                <a:gridCol w="64764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867280" y="5562720"/>
            <a:ext cx="838440" cy="476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4952880" y="4191120"/>
            <a:ext cx="1333800" cy="233280"/>
          </a:xfrm>
          <a:prstGeom prst="line">
            <a:avLst/>
          </a:prstGeom>
          <a:ln w="507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4800600"/>
            <a:ext cx="827280" cy="592200"/>
          </a:xfrm>
          <a:prstGeom prst="line">
            <a:avLst/>
          </a:prstGeom>
          <a:ln w="507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4495680"/>
            <a:ext cx="1576440" cy="0"/>
          </a:xfrm>
          <a:prstGeom prst="line">
            <a:avLst/>
          </a:prstGeom>
          <a:ln w="507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5410080"/>
            <a:ext cx="457200" cy="3384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5867280"/>
            <a:ext cx="6858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363920"/>
            <a:ext cx="2438640" cy="457200"/>
          </a:xfrm>
          <a:prstGeom prst="wedgeRoundRectCallout">
            <a:avLst>
              <a:gd name="adj1" fmla="val -38995"/>
              <a:gd name="adj2" fmla="val -86805"/>
              <a:gd name="adj3" fmla="val 16667"/>
            </a:avLst>
          </a:prstGeom>
          <a:solidFill>
            <a:srgbClr val="00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52840" y="4343400"/>
            <a:ext cx="22788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Pop Label for 128.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Label of 3 = Imp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5715000"/>
            <a:ext cx="2514600" cy="457200"/>
          </a:xfrm>
          <a:prstGeom prst="wedgeRoundRectCallout">
            <a:avLst>
              <a:gd name="adj1" fmla="val 51703"/>
              <a:gd name="adj2" fmla="val -99652"/>
              <a:gd name="adj3" fmla="val 16667"/>
            </a:avLst>
          </a:prstGeom>
          <a:solidFill>
            <a:srgbClr val="00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94920" y="5775480"/>
            <a:ext cx="23886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Use Label 22 for 171.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830840"/>
            <a:ext cx="2743200" cy="484200"/>
          </a:xfrm>
          <a:prstGeom prst="wedgeRoundRectCallout">
            <a:avLst>
              <a:gd name="adj1" fmla="val 44791"/>
              <a:gd name="adj2" fmla="val -102787"/>
              <a:gd name="adj3" fmla="val 16667"/>
            </a:avLst>
          </a:prstGeom>
          <a:solidFill>
            <a:srgbClr val="00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8520" y="4800600"/>
            <a:ext cx="2388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Use Label 27 for 128.89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Use Label 29 for 171.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624640"/>
            <a:ext cx="2294280" cy="91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Unsolicited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Label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010280" y="6095880"/>
            <a:ext cx="83844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6324480" y="1447920"/>
          <a:ext cx="2667240" cy="1854000"/>
        </p:xfrm>
        <a:graphic>
          <a:graphicData uri="http://schemas.openxmlformats.org/drawingml/2006/table">
            <a:tbl>
              <a:tblPr/>
              <a:tblGrid>
                <a:gridCol w="64800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0" y="4221000"/>
            <a:ext cx="1181160" cy="712800"/>
            <a:chOff x="0" y="4221000"/>
            <a:chExt cx="1181160" cy="712800"/>
          </a:xfrm>
        </p:grpSpPr>
        <p:pic>
          <p:nvPicPr>
            <p:cNvPr id="214" name="" descr=""/>
            <p:cNvPicPr/>
            <p:nvPr/>
          </p:nvPicPr>
          <p:blipFill>
            <a:blip r:embed="rId7"/>
            <a:stretch/>
          </p:blipFill>
          <p:spPr>
            <a:xfrm>
              <a:off x="0" y="42210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87200" y="441000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3995640" y="4076640"/>
            <a:ext cx="8384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77120" y="6172200"/>
            <a:ext cx="914400" cy="1522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6324480"/>
            <a:ext cx="533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962840" y="5867280"/>
            <a:ext cx="1181160" cy="712800"/>
            <a:chOff x="7962840" y="5867280"/>
            <a:chExt cx="1181160" cy="7128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7962840" y="5867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150040" y="6056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324480" y="3289320"/>
            <a:ext cx="2667240" cy="596880"/>
          </a:xfrm>
          <a:custGeom>
            <a:avLst/>
            <a:gdLst/>
            <a:ahLst/>
            <a:rect l="l" t="t" r="r" b="b"/>
            <a:pathLst>
              <a:path w="1680" h="376">
                <a:moveTo>
                  <a:pt x="520" y="280"/>
                </a:moveTo>
                <a:lnTo>
                  <a:pt x="1680" y="0"/>
                </a:lnTo>
                <a:lnTo>
                  <a:pt x="0" y="0"/>
                </a:lnTo>
                <a:lnTo>
                  <a:pt x="312" y="280"/>
                </a:lnTo>
                <a:lnTo>
                  <a:pt x="496" y="37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3314880"/>
            <a:ext cx="2666880" cy="761760"/>
          </a:xfrm>
          <a:custGeom>
            <a:avLst/>
            <a:gdLst/>
            <a:ahLst/>
            <a:rect l="l" t="t" r="r" b="b"/>
            <a:pathLst>
              <a:path w="1680" h="480">
                <a:moveTo>
                  <a:pt x="744" y="480"/>
                </a:moveTo>
                <a:lnTo>
                  <a:pt x="1680" y="0"/>
                </a:lnTo>
                <a:lnTo>
                  <a:pt x="0" y="0"/>
                </a:lnTo>
                <a:lnTo>
                  <a:pt x="640" y="456"/>
                </a:lnTo>
                <a:lnTo>
                  <a:pt x="824" y="45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3314880"/>
            <a:ext cx="2667240" cy="975960"/>
          </a:xfrm>
          <a:custGeom>
            <a:avLst/>
            <a:gdLst/>
            <a:ahLst/>
            <a:rect l="l" t="t" r="r" b="b"/>
            <a:pathLst>
              <a:path w="1680" h="615">
                <a:moveTo>
                  <a:pt x="912" y="600"/>
                </a:moveTo>
                <a:lnTo>
                  <a:pt x="0" y="0"/>
                </a:lnTo>
                <a:lnTo>
                  <a:pt x="1680" y="0"/>
                </a:lnTo>
                <a:lnTo>
                  <a:pt x="1080" y="600"/>
                </a:lnTo>
                <a:lnTo>
                  <a:pt x="1061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1447920"/>
          <a:ext cx="2667240" cy="1847880"/>
        </p:xfrm>
        <a:graphic>
          <a:graphicData uri="http://schemas.openxmlformats.org/drawingml/2006/table">
            <a:tbl>
              <a:tblPr/>
              <a:tblGrid>
                <a:gridCol w="648000"/>
                <a:gridCol w="876240"/>
                <a:gridCol w="495360"/>
                <a:gridCol w="647640"/>
              </a:tblGrid>
              <a:tr h="4698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7016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V="1">
            <a:off x="533520" y="4343040"/>
            <a:ext cx="990360" cy="228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6440" y="3930480"/>
            <a:ext cx="12762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Frame Based MPL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PMingLiU"/>
              </a:rPr>
              <a:t>Packet Forward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529160" y="4692600"/>
            <a:ext cx="1652400" cy="11858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79760" y="3930480"/>
            <a:ext cx="2552760" cy="424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27240" y="4354560"/>
            <a:ext cx="2476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6040" y="489744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560" y="392436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0528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47480" y="40384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962840" y="3581280"/>
            <a:ext cx="1181160" cy="712800"/>
            <a:chOff x="7962840" y="3581280"/>
            <a:chExt cx="1181160" cy="712800"/>
          </a:xfrm>
        </p:grpSpPr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96284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815004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24120" y="365760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76720" y="1447920"/>
          <a:ext cx="2666880" cy="1854000"/>
        </p:xfrm>
        <a:graphic>
          <a:graphicData uri="http://schemas.openxmlformats.org/drawingml/2006/table">
            <a:tbl>
              <a:tblPr/>
              <a:tblGrid>
                <a:gridCol w="64764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791320" y="5791320"/>
            <a:ext cx="838080" cy="476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7010280" y="6095880"/>
            <a:ext cx="838440" cy="476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590920" y="4495680"/>
            <a:ext cx="7506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05520" y="4343400"/>
            <a:ext cx="1675800" cy="317520"/>
            <a:chOff x="5105520" y="4343400"/>
            <a:chExt cx="1675800" cy="317520"/>
          </a:xfrm>
        </p:grpSpPr>
        <p:grpSp>
          <p:nvGrpSpPr>
            <p:cNvPr id="247" name=""/>
            <p:cNvGrpSpPr/>
            <p:nvPr/>
          </p:nvGrpSpPr>
          <p:grpSpPr>
            <a:xfrm>
              <a:off x="5105520" y="4343400"/>
              <a:ext cx="1176120" cy="317520"/>
              <a:chOff x="5105520" y="4343400"/>
              <a:chExt cx="1176120" cy="317520"/>
            </a:xfrm>
          </p:grpSpPr>
          <p:sp>
            <p:nvSpPr>
              <p:cNvPr id="248" name=""/>
              <p:cNvSpPr/>
              <p:nvPr/>
            </p:nvSpPr>
            <p:spPr>
              <a:xfrm>
                <a:off x="5105520" y="4343400"/>
                <a:ext cx="1125000" cy="317520"/>
              </a:xfrm>
              <a:prstGeom prst="rect">
                <a:avLst/>
              </a:prstGeom>
              <a:gradFill rotWithShape="0">
                <a:gsLst>
                  <a:gs pos="0">
                    <a:srgbClr val="613e31"/>
                  </a:gs>
                  <a:gs pos="50000">
                    <a:srgbClr val="d4876c"/>
                  </a:gs>
                  <a:gs pos="100000">
                    <a:srgbClr val="613e31"/>
                  </a:gs>
                </a:gsLst>
                <a:lin ang="13500000"/>
              </a:gradFill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05520" y="4343400"/>
                <a:ext cx="117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28.89.25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29080" y="4343400"/>
              <a:ext cx="552240" cy="317520"/>
              <a:chOff x="6229080" y="4343400"/>
              <a:chExt cx="552240" cy="317520"/>
            </a:xfrm>
          </p:grpSpPr>
          <p:sp>
            <p:nvSpPr>
              <p:cNvPr id="251" name=""/>
              <p:cNvSpPr/>
              <p:nvPr/>
            </p:nvSpPr>
            <p:spPr>
              <a:xfrm>
                <a:off x="6229080" y="4343400"/>
                <a:ext cx="55224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9080" y="4343400"/>
                <a:ext cx="49968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7450200" y="4343400"/>
            <a:ext cx="1693440" cy="461880"/>
            <a:chOff x="7450200" y="4343400"/>
            <a:chExt cx="1693440" cy="461880"/>
          </a:xfrm>
        </p:grpSpPr>
        <p:sp>
          <p:nvSpPr>
            <p:cNvPr id="254" name=""/>
            <p:cNvSpPr/>
            <p:nvPr/>
          </p:nvSpPr>
          <p:spPr>
            <a:xfrm>
              <a:off x="7467480" y="4486320"/>
              <a:ext cx="1125000" cy="317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07040" y="4343400"/>
              <a:ext cx="7506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91400" y="4486320"/>
              <a:ext cx="552240" cy="317520"/>
            </a:xfrm>
            <a:prstGeom prst="rect">
              <a:avLst/>
            </a:prstGeom>
            <a:noFill/>
            <a:ln w="255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0200" y="4495680"/>
              <a:ext cx="117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cc00"/>
                  </a:solidFill>
                  <a:latin typeface="Arial"/>
                  <a:ea typeface="PMingLiU"/>
                </a:rPr>
                <a:t>128.89.2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92840" y="4495680"/>
              <a:ext cx="499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905120" y="5105520"/>
            <a:ext cx="1999800" cy="317520"/>
            <a:chOff x="1905120" y="5105520"/>
            <a:chExt cx="1999800" cy="317520"/>
          </a:xfrm>
        </p:grpSpPr>
        <p:grpSp>
          <p:nvGrpSpPr>
            <p:cNvPr id="260" name=""/>
            <p:cNvGrpSpPr/>
            <p:nvPr/>
          </p:nvGrpSpPr>
          <p:grpSpPr>
            <a:xfrm>
              <a:off x="3352680" y="5105520"/>
              <a:ext cx="552240" cy="317520"/>
              <a:chOff x="3352680" y="5105520"/>
              <a:chExt cx="552240" cy="31752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2680" y="5105520"/>
                <a:ext cx="55224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4120" y="5114880"/>
                <a:ext cx="5000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209680" y="5105520"/>
              <a:ext cx="1176480" cy="317520"/>
              <a:chOff x="2209680" y="5105520"/>
              <a:chExt cx="1176480" cy="317520"/>
            </a:xfrm>
          </p:grpSpPr>
          <p:sp>
            <p:nvSpPr>
              <p:cNvPr id="264" name=""/>
              <p:cNvSpPr/>
              <p:nvPr/>
            </p:nvSpPr>
            <p:spPr>
              <a:xfrm>
                <a:off x="2209680" y="5105520"/>
                <a:ext cx="117648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71.69.21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0560" y="5105520"/>
                <a:ext cx="112536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905120" y="5105520"/>
              <a:ext cx="299880" cy="317520"/>
              <a:chOff x="1905120" y="5105520"/>
              <a:chExt cx="299880" cy="317520"/>
            </a:xfrm>
          </p:grpSpPr>
          <p:sp>
            <p:nvSpPr>
              <p:cNvPr id="267" name=""/>
              <p:cNvSpPr/>
              <p:nvPr/>
            </p:nvSpPr>
            <p:spPr>
              <a:xfrm>
                <a:off x="1905120" y="5105520"/>
                <a:ext cx="299880" cy="317520"/>
              </a:xfrm>
              <a:prstGeom prst="rect">
                <a:avLst/>
              </a:prstGeom>
              <a:gradFill rotWithShape="0">
                <a:gsLst>
                  <a:gs pos="0">
                    <a:srgbClr val="00493f"/>
                  </a:gs>
                  <a:gs pos="50000">
                    <a:srgbClr val="00a089"/>
                  </a:gs>
                  <a:gs pos="100000">
                    <a:srgbClr val="00493f"/>
                  </a:gs>
                </a:gsLst>
                <a:lin ang="13500000"/>
              </a:gradFill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44720" y="5114880"/>
                <a:ext cx="228600" cy="273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715000" y="4191120"/>
            <a:ext cx="750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5181480"/>
            <a:ext cx="685800" cy="53352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4816440"/>
            <a:ext cx="28954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Penultimate 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Remove Label one hop early to save work in 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486400" y="4648320"/>
            <a:ext cx="533520" cy="30456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905120" y="4724280"/>
            <a:ext cx="1999800" cy="317520"/>
            <a:chOff x="1905120" y="4724280"/>
            <a:chExt cx="1999800" cy="317520"/>
          </a:xfrm>
        </p:grpSpPr>
        <p:grpSp>
          <p:nvGrpSpPr>
            <p:cNvPr id="274" name=""/>
            <p:cNvGrpSpPr/>
            <p:nvPr/>
          </p:nvGrpSpPr>
          <p:grpSpPr>
            <a:xfrm>
              <a:off x="3352680" y="4724280"/>
              <a:ext cx="552240" cy="317520"/>
              <a:chOff x="3352680" y="4724280"/>
              <a:chExt cx="552240" cy="317520"/>
            </a:xfrm>
          </p:grpSpPr>
          <p:sp>
            <p:nvSpPr>
              <p:cNvPr id="275" name=""/>
              <p:cNvSpPr/>
              <p:nvPr/>
            </p:nvSpPr>
            <p:spPr>
              <a:xfrm>
                <a:off x="3352680" y="4724280"/>
                <a:ext cx="55224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54120" y="4733640"/>
                <a:ext cx="5000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209680" y="4724280"/>
              <a:ext cx="1176480" cy="317520"/>
              <a:chOff x="2209680" y="4724280"/>
              <a:chExt cx="1176480" cy="317520"/>
            </a:xfrm>
          </p:grpSpPr>
          <p:sp>
            <p:nvSpPr>
              <p:cNvPr id="278" name=""/>
              <p:cNvSpPr/>
              <p:nvPr/>
            </p:nvSpPr>
            <p:spPr>
              <a:xfrm>
                <a:off x="2209680" y="4724280"/>
                <a:ext cx="117648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28.89.25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30560" y="4724280"/>
                <a:ext cx="112536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905120" y="4724280"/>
              <a:ext cx="299880" cy="317520"/>
              <a:chOff x="1905120" y="4724280"/>
              <a:chExt cx="299880" cy="317520"/>
            </a:xfrm>
          </p:grpSpPr>
          <p:sp>
            <p:nvSpPr>
              <p:cNvPr id="281" name=""/>
              <p:cNvSpPr/>
              <p:nvPr/>
            </p:nvSpPr>
            <p:spPr>
              <a:xfrm>
                <a:off x="1905120" y="4724280"/>
                <a:ext cx="299880" cy="317520"/>
              </a:xfrm>
              <a:prstGeom prst="rect">
                <a:avLst/>
              </a:prstGeom>
              <a:gradFill rotWithShape="0">
                <a:gsLst>
                  <a:gs pos="0">
                    <a:srgbClr val="00493f"/>
                  </a:gs>
                  <a:gs pos="50000">
                    <a:srgbClr val="00a089"/>
                  </a:gs>
                  <a:gs pos="100000">
                    <a:srgbClr val="00493f"/>
                  </a:gs>
                </a:gsLst>
                <a:lin ang="13500000"/>
              </a:gradFill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44720" y="4733640"/>
                <a:ext cx="228600" cy="273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533520" y="5181480"/>
            <a:ext cx="7506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9880" y="5715000"/>
            <a:ext cx="1980720" cy="317520"/>
            <a:chOff x="3809880" y="5715000"/>
            <a:chExt cx="1980720" cy="317520"/>
          </a:xfrm>
        </p:grpSpPr>
        <p:grpSp>
          <p:nvGrpSpPr>
            <p:cNvPr id="285" name=""/>
            <p:cNvGrpSpPr/>
            <p:nvPr/>
          </p:nvGrpSpPr>
          <p:grpSpPr>
            <a:xfrm>
              <a:off x="5238360" y="5715000"/>
              <a:ext cx="552240" cy="317520"/>
              <a:chOff x="5238360" y="5715000"/>
              <a:chExt cx="552240" cy="317520"/>
            </a:xfrm>
          </p:grpSpPr>
          <p:sp>
            <p:nvSpPr>
              <p:cNvPr id="286" name=""/>
              <p:cNvSpPr/>
              <p:nvPr/>
            </p:nvSpPr>
            <p:spPr>
              <a:xfrm>
                <a:off x="5238360" y="5715000"/>
                <a:ext cx="55224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39800" y="5724360"/>
                <a:ext cx="5000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081320" y="5715000"/>
              <a:ext cx="1176120" cy="317520"/>
              <a:chOff x="4081320" y="5715000"/>
              <a:chExt cx="1176120" cy="317520"/>
            </a:xfrm>
          </p:grpSpPr>
          <p:sp>
            <p:nvSpPr>
              <p:cNvPr id="289" name=""/>
              <p:cNvSpPr/>
              <p:nvPr/>
            </p:nvSpPr>
            <p:spPr>
              <a:xfrm>
                <a:off x="4081320" y="5715000"/>
                <a:ext cx="117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71.69.21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01840" y="5715000"/>
                <a:ext cx="1125000" cy="317520"/>
              </a:xfrm>
              <a:prstGeom prst="rect">
                <a:avLst/>
              </a:prstGeom>
              <a:noFill/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809880" y="5715000"/>
              <a:ext cx="299880" cy="317520"/>
              <a:chOff x="3809880" y="5715000"/>
              <a:chExt cx="299880" cy="317520"/>
            </a:xfrm>
          </p:grpSpPr>
          <p:sp>
            <p:nvSpPr>
              <p:cNvPr id="292" name=""/>
              <p:cNvSpPr/>
              <p:nvPr/>
            </p:nvSpPr>
            <p:spPr>
              <a:xfrm>
                <a:off x="3809880" y="5715000"/>
                <a:ext cx="299880" cy="317520"/>
              </a:xfrm>
              <a:prstGeom prst="rect">
                <a:avLst/>
              </a:prstGeom>
              <a:gradFill rotWithShape="0">
                <a:gsLst>
                  <a:gs pos="0">
                    <a:srgbClr val="00493f"/>
                  </a:gs>
                  <a:gs pos="50000">
                    <a:srgbClr val="00a089"/>
                  </a:gs>
                  <a:gs pos="100000">
                    <a:srgbClr val="00493f"/>
                  </a:gs>
                </a:gsLst>
                <a:lin ang="13500000"/>
              </a:gradFill>
              <a:ln w="25560">
                <a:solidFill>
                  <a:srgbClr val="00a0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9480" y="5724360"/>
                <a:ext cx="228600" cy="273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324480" y="1447920"/>
          <a:ext cx="2667240" cy="1854000"/>
        </p:xfrm>
        <a:graphic>
          <a:graphicData uri="http://schemas.openxmlformats.org/drawingml/2006/table">
            <a:tbl>
              <a:tblPr/>
              <a:tblGrid>
                <a:gridCol w="648000"/>
                <a:gridCol w="876240"/>
                <a:gridCol w="495360"/>
                <a:gridCol w="64764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0615"/>
                        </a:gs>
                        <a:gs pos="50000">
                          <a:srgbClr val="d00e2e"/>
                        </a:gs>
                        <a:gs pos="100000">
                          <a:srgbClr val="5f061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0" y="5410080"/>
            <a:ext cx="1600200" cy="339840"/>
            <a:chOff x="0" y="5410080"/>
            <a:chExt cx="1600200" cy="339840"/>
          </a:xfrm>
        </p:grpSpPr>
        <p:sp>
          <p:nvSpPr>
            <p:cNvPr id="296" name=""/>
            <p:cNvSpPr/>
            <p:nvPr/>
          </p:nvSpPr>
          <p:spPr>
            <a:xfrm>
              <a:off x="6480" y="5410080"/>
              <a:ext cx="1008000" cy="33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5410080"/>
              <a:ext cx="987480" cy="30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128.89.2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23840" y="5410080"/>
              <a:ext cx="576360" cy="33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0" y="5832360"/>
            <a:ext cx="1600200" cy="339840"/>
            <a:chOff x="0" y="5832360"/>
            <a:chExt cx="1600200" cy="339840"/>
          </a:xfrm>
        </p:grpSpPr>
        <p:sp>
          <p:nvSpPr>
            <p:cNvPr id="300" name=""/>
            <p:cNvSpPr/>
            <p:nvPr/>
          </p:nvSpPr>
          <p:spPr>
            <a:xfrm>
              <a:off x="6480" y="5832360"/>
              <a:ext cx="1008000" cy="33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5832360"/>
              <a:ext cx="987480" cy="30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171.69.21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832360"/>
              <a:ext cx="576360" cy="33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315200" y="4724280"/>
            <a:ext cx="26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4221000"/>
            <a:ext cx="1181160" cy="712800"/>
            <a:chOff x="0" y="4221000"/>
            <a:chExt cx="1181160" cy="712800"/>
          </a:xfrm>
        </p:grpSpPr>
        <p:pic>
          <p:nvPicPr>
            <p:cNvPr id="305" name="" descr=""/>
            <p:cNvPicPr/>
            <p:nvPr/>
          </p:nvPicPr>
          <p:blipFill>
            <a:blip r:embed="rId7"/>
            <a:stretch/>
          </p:blipFill>
          <p:spPr>
            <a:xfrm>
              <a:off x="0" y="42210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87200" y="441000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3995640" y="4076640"/>
            <a:ext cx="8384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21:52:23Z</dcterms:created>
  <dc:creator>Juan Carlos Restrepo</dc:creator>
  <dc:description/>
  <dc:language>en-US</dc:language>
  <cp:lastModifiedBy>juanrest</cp:lastModifiedBy>
  <dcterms:modified xsi:type="dcterms:W3CDTF">2006-06-07T22:39:53Z</dcterms:modified>
  <cp:revision>747</cp:revision>
  <dc:subject/>
  <dc:title>Presentación de PowerPoint</dc:title>
</cp:coreProperties>
</file>