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1BB-D296-4E9B-B99B-222BDB28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399-BF26-4584-9998-C4499283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A961-582A-4062-B54C-0867E4B8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F4B-4880-4F41-AFFE-1D5D588C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9B17-C781-4A9E-A31F-43FBBE7E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D88-4A43-4FE7-B585-E4469566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2A2A-DFE1-44E3-A615-2B9F4584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F76-5D11-48EA-90C5-3DF97542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94AB-3F16-4F50-BDB6-09EAB631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421-9E32-44E3-9088-46DAE2B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08B-D53D-4478-AA0F-7A113DFA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252-A40C-4493-BE20-764913B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F2C5-7C6A-4221-9B35-E411F29696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PX/SPX DE NOV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-mail: juanrest@diginet.com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.: 51405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SION: 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5486400"/>
            <a:ext cx="24382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282840" y="1563840"/>
            <a:ext cx="2489400" cy="384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4680" y="1878120"/>
            <a:ext cx="30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51360" y="1860480"/>
            <a:ext cx="24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05320" y="3886200"/>
            <a:ext cx="52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32004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3759120"/>
            <a:ext cx="25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4308480"/>
            <a:ext cx="25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3359160"/>
            <a:ext cx="5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19400" y="944640"/>
            <a:ext cx="113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7280" y="304920"/>
            <a:ext cx="569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ELO SIMPLIFICADO DE IPX/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09920" y="4624560"/>
            <a:ext cx="171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herne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ken R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91120" y="3886200"/>
            <a:ext cx="52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6920" y="3886200"/>
            <a:ext cx="761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L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tack de protocolos desarrollados por Novell para la comunicación entre las estaciones y servidores con Netwa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basa en protocolos XNS de XER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nivel Físico y de Enlace utiliza tecnologías como Ethernet, Token Ring, FDDI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s principales protocolos son: IPX, SPX, NCP, SAP, RIP y NLS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92280" y="1563840"/>
            <a:ext cx="2489040" cy="384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1067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6575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4280" y="2259000"/>
            <a:ext cx="1376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66920" y="1708200"/>
            <a:ext cx="1452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PLIC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4880" y="2808360"/>
            <a:ext cx="986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84440" y="3909960"/>
            <a:ext cx="83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31800" y="5010120"/>
            <a:ext cx="105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31800" y="4460760"/>
            <a:ext cx="83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32083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759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43084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3359160"/>
            <a:ext cx="137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48592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82840" y="1563840"/>
            <a:ext cx="2489400" cy="384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4680" y="1878120"/>
            <a:ext cx="30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51360" y="1860480"/>
            <a:ext cx="24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5320" y="3886200"/>
            <a:ext cx="52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32004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76720" y="3759120"/>
            <a:ext cx="25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4308480"/>
            <a:ext cx="25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3359160"/>
            <a:ext cx="5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73760" y="1563840"/>
            <a:ext cx="2489040" cy="384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03920" y="1649520"/>
            <a:ext cx="306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3040" y="1631880"/>
            <a:ext cx="306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8280" y="1665360"/>
            <a:ext cx="3002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256440" y="3909960"/>
            <a:ext cx="37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32083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3759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4308480"/>
            <a:ext cx="250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3359160"/>
            <a:ext cx="137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CP               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33760" y="944640"/>
            <a:ext cx="59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90240" y="944640"/>
            <a:ext cx="94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19400" y="944640"/>
            <a:ext cx="1134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85160" y="1725480"/>
            <a:ext cx="306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360" y="1649520"/>
            <a:ext cx="306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3240" y="1649520"/>
            <a:ext cx="306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73392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CMP  IG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4038480"/>
            <a:ext cx="52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48720" y="403848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A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926320" y="4471920"/>
            <a:ext cx="215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monta sob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LIP, PPP, Etherne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ken R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5320" y="304920"/>
            <a:ext cx="493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ELO OSI VS. IPX VS. 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9920" y="4624560"/>
            <a:ext cx="171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therne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ken Ring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38880" y="40384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3886200"/>
            <a:ext cx="525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76920" y="3886200"/>
            <a:ext cx="761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L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-61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5212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685800"/>
            <a:ext cx="8245440" cy="55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ma Ethernet I desarrollada por DIX (Digital, Intel y Xerox) hacia  1.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años después se presenta Ethernet II que es la trama utilizada por TCP/IP. Tambien conocida como AR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steriormente la IEEE empezó a desarrollar la norma 802.3 pero Novell no esperó y presentó la trama 802.3. (En Cisco se llama Novell-Et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uego la IEEE finalizó el desarrollo de la trama 802.3 incluyendo el encabezado 802.2 (LLC: Logical Link Contro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ualmente las tarjetas de red soportan todos estos tipos de trama, pero se requiere que cada conjunto de estaciones con el mismo protocolo tengan la misma t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2120" y="90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RA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3495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4343400" y="2362320"/>
            <a:ext cx="2743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38862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82160" y="414972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EEE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00600" y="3809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eader 802.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44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01840" y="1981080"/>
            <a:ext cx="1646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herne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59480" y="5105520"/>
            <a:ext cx="67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ma 802.3 utilizada por defecto hasta Netware 3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ma 802.2 utilizada a partir de Netware 3.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RFACE AL NIVEL DEL EN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5360" y="684360"/>
            <a:ext cx="63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MA SNAP (Sub Network Access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so particular de trama 802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SAP=SSAP=170 Indican presencia de SN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herType igual que en trama Ethernet 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3581280" cy="1009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8381880" cy="18226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H="1">
            <a:off x="4647960" y="3276720"/>
            <a:ext cx="2361960" cy="1447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238880" y="3276720"/>
            <a:ext cx="76212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RFACE AL NIVEL DEL EN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24150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239240" cy="39859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09480" y="990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definir en los diferentes componentes: servidores, routers, etc. el mismo tipo de t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PX (Internetwork Packet Exchang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o de nivel de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orientado a conexión y basado en data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Intranetwork addressing (red,nodo) para identificar los nodos de la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intranode addressing (socket) para identificar el aplicativo dentro del n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socket reservad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51h NC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8060h Impres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52h 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53h RIP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55h NetBI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56h Diagnós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PX (Internetwork Packet Exchang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ructura del paque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cksum(2), Packet Length(2), Transport Control(1), Packet Type(1), Destination Network(4), Destination Node(6), Destination Socket(2), Source Network(4), Source Node(6), Source Socket(2),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cabezado de paquete mínimo 30Bytes vs 20 de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nsport Control: similar a TTL, pero incrementa en vez de decremen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cket type: Identifica el protocolo de nivel sup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0x00 NLSP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0x01 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0x05 SPX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0x11 NCP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x04 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PX (Internetwork Packet Exchang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s1347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116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5029200" y="2286000"/>
            <a:ext cx="3805200" cy="3276720"/>
            <a:chOff x="5029200" y="2286000"/>
            <a:chExt cx="3805200" cy="3276720"/>
          </a:xfrm>
        </p:grpSpPr>
        <p:sp>
          <p:nvSpPr>
            <p:cNvPr id="464" name=""/>
            <p:cNvSpPr/>
            <p:nvPr/>
          </p:nvSpPr>
          <p:spPr>
            <a:xfrm>
              <a:off x="5029200" y="2286000"/>
              <a:ext cx="3805200" cy="327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5029200" y="2286000"/>
              <a:ext cx="3804840" cy="3276360"/>
              <a:chOff x="5029200" y="2286000"/>
              <a:chExt cx="3804840" cy="3276360"/>
            </a:xfrm>
          </p:grpSpPr>
          <p:sp>
            <p:nvSpPr>
              <p:cNvPr id="466" name=""/>
              <p:cNvSpPr/>
              <p:nvPr/>
            </p:nvSpPr>
            <p:spPr>
              <a:xfrm>
                <a:off x="5029200" y="2286000"/>
                <a:ext cx="83628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451H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65480" y="2286000"/>
                <a:ext cx="296856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C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29200" y="2701080"/>
                <a:ext cx="83628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452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65480" y="2701080"/>
                <a:ext cx="296856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29200" y="3116520"/>
                <a:ext cx="836280" cy="41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453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5480" y="3116520"/>
                <a:ext cx="2968560" cy="41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I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29200" y="3532320"/>
                <a:ext cx="83628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455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65480" y="3532320"/>
                <a:ext cx="296856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BI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29200" y="3947400"/>
                <a:ext cx="83628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456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65480" y="3947400"/>
                <a:ext cx="296856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agnost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29200" y="4362840"/>
                <a:ext cx="83628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x4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5480" y="4362840"/>
                <a:ext cx="2968560" cy="41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ialization packet (SER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29200" y="4778280"/>
                <a:ext cx="836280" cy="78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00-6000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65480" y="4778280"/>
                <a:ext cx="2968560" cy="78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phemeral sockets, used for file server and network commun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0" name=""/>
          <p:cNvSpPr/>
          <p:nvPr/>
        </p:nvSpPr>
        <p:spPr>
          <a:xfrm>
            <a:off x="4939920" y="16416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U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RESEÑA HISTO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ia principios de los 80, se empiezan a popularizar los PC, que resolvían las necesidades de computación personal pero que al no estar en red, creaban islas de in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resolver este problema Novell crea un sistema de red denominado Netware, orientado inicialmente a compartir archivos e impres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PX/SP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s un conjunto de protocolos desarrollado por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vel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acia comienzos de los 80’s, para la comunicación entre las estaciones y el servidor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ar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a vez se utiliza menos por la tendencia a usar TCP/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PX (Internetwork Packet Exchang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con_005a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0100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PX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recciones de 80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2 bits identifican la red. (Dirección asignada por el administrador a cada segmento de r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icamente se configura en el Servidor y en Ro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8 bits identifican el nodo dentro de la red. (Generalmente es la dirección 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xpresan en formato hexadec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ts_ipx14" descr=""/>
          <p:cNvPicPr/>
          <p:nvPr/>
        </p:nvPicPr>
        <p:blipFill>
          <a:blip r:embed="rId1"/>
          <a:stretch/>
        </p:blipFill>
        <p:spPr>
          <a:xfrm>
            <a:off x="990720" y="4572000"/>
            <a:ext cx="761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PX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diferencia de TCP/IP no hay que configurar estas direcciones en las est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irección de red se configura generalmente en el servidor y en los enru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PX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ts_ipx16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NRUTAMIENTO EN IP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X/SPX al igual que TCP/IP es enrutable, por tanto requiere de la creación de una tabla de enrut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tocolos de enrutamiento tipicamente utilizados son: RIP, NLSP e EIGR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 de tabla de enrutamiento IP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      24682 (NOVELL-ETHER),  Et0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      99901 (FRAME-RELAY),   Se0/0.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      99905 (FRAME-RELAY),   Se0/0.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      99906 (PPP),           Se1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      99907 (FRAME-RELAY),   Se0/0.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      99908 (PPP),           Se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         12 [1787392/0] via    99901.0000.0c3d.ebc6, age 12:25:24, 1u, Se0/0.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         40 [1787392/0] via    99907.0000.0c3d.f725, age 12:25:24, 1u, Se0/0.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         70 [1787392/0] via    99905.0000.0c3d.f763, age 12:25:24, 8u, Se0/0.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        121 [269824000/2] via    99901.0000.0c3d.ebc6, age 12:25:24, 24632u, Se0/0.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        140 [2681856/0] via    99905.0000.0c3d.f763, age 12:25:24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IP (Routing Information Protoco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el intercambio de información de enrutamiento, para que las estaciones, enrutadores, servidores, etc. encuentren las rutas más cortas, cambios en la topología de la red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Vector Distance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za como métrica primero ticks (1/18 seg para medir delay) y hops (brincos). Si ambas dan lo mismo, se hace balanceo de car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ás de 15 brincos es inalcanz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uncios cada 60 segun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IP (Routing Information Protoco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mantiene una tabla de enrutamiento por cada protocolo IPX/SP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lementa split horinzon y temporizadores para que las entradas en la tabla de enrutamiento caduqu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ructura del paqu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tion(2), Network Number(1), Number of Hops(2), Number of Ticks(2),…,Network Number n(4), Number of Hops n(2), Number of Ticks n (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NLSP (Netware Link Services Protoc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o de enrutamiento de tecnología  Link State desarrollado por Nov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sado en el protocolo de enrutamiento de OSI IS-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do a reemplazar a RIP y a S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anuncios se hacen cuando hay cambios y no cada 60 segun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número de brincos máximo se puede configurar entre 8 y 12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IGR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hanced Interior Gateway Routing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o propietario de CISCO que aparte de enrutar IP tambien permite enrutar IP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PX (Sequenced Packet Exchang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o de Transporte orientado a conexión, similar en funcionalidad y características a TCP (detecta errores y los corrige, control de flujo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icialmente era Stop-and-Wait luego paso a ser de ventanas desliz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 sobre IP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tilizado por servicios como el manejo de archivos Btrieve y RCONS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QUEMA CLIENTE-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12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343400" y="3352680"/>
          <a:ext cx="16002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352680"/>
                    <a:ext cx="16002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1674720" cy="213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24480" y="3413160"/>
            <a:ext cx="1752840" cy="1108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20040" y="1905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480" y="27432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360" y="27432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52578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9400" y="350532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590920"/>
            <a:ext cx="2133720" cy="2705040"/>
          </a:xfrm>
          <a:custGeom>
            <a:avLst/>
            <a:gdLst/>
            <a:ahLst/>
            <a:rect l="l" t="t" r="r" b="b"/>
            <a:pathLst>
              <a:path w="1432" h="1704">
                <a:moveTo>
                  <a:pt x="88" y="0"/>
                </a:moveTo>
                <a:cubicBezTo>
                  <a:pt x="44" y="568"/>
                  <a:pt x="0" y="1136"/>
                  <a:pt x="184" y="1392"/>
                </a:cubicBezTo>
                <a:cubicBezTo>
                  <a:pt x="368" y="1648"/>
                  <a:pt x="984" y="1704"/>
                  <a:pt x="1192" y="1536"/>
                </a:cubicBezTo>
                <a:cubicBezTo>
                  <a:pt x="1400" y="1368"/>
                  <a:pt x="1392" y="576"/>
                  <a:pt x="1432" y="38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6520" y="5715000"/>
            <a:ext cx="724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lmente se instala un cliente especial en la es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Netware 6.0 ya no es neces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PX (Sequenced Packet Exch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fig3-2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4496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AP (Service Advertising Protoc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tocolo para reportar (anunciar) los servicios y sus direcciones (red, nodo, puerto) para que puedan ser accesados por los cli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basa en la facilidad de broadc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orte cada 60 segun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tabla SAP es mantenida por los Servidores y los router con soporte de IPX/SP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outer no pasan los anuncios SAP sino la tabla ya construida, reduciendo el tráfico sobre los enlaces W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ando Netware opera sobre TCP/IP la localización de servicios se hace a traves de SLP (Service Location Protocol. Puerto 427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P (Service Advertising Protoco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ructura del mensa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eration (2), Service Type 1(2), Server Name 1(48), Network Address 1(4), Node Address 1(6), Socket Address 1(2), Hops to Server 1 (2),…, Service Type n(2), Server Name n(48), Network Address n(4), Node Address n(6), Socket Address n(2), Hops to Server n(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2120" y="-61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5212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62120" y="1981080"/>
          <a:ext cx="16002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6002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1674720" cy="2133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2438280" y="1828800"/>
            <a:ext cx="2210040" cy="139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533520" y="40384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82400" y="762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2480" y="1371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00760" y="1295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3276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760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43434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1629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720" y="4343400"/>
            <a:ext cx="44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t Nearest Server (GNS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876920" y="54100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510552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t Nearest Server (GNS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7672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NUNCIOS SAP SIN SERVID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356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39640" y="1341360"/>
            <a:ext cx="19447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92360" y="2852640"/>
            <a:ext cx="1727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CP (Netware Core Protoco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o de nivel aplicativ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nque inicialmente corria solo sobre IPX/SPX, actualmente opera sobre TCP/I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el núcleo de los servicios de archivos, impresión, directorio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ndo corre sobre TCP/IP algunos llamados se hacer sobre UDP y otros sobre T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uerto: 52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VOLUCION DE SERVICIOS DE DIREC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actuales servicios de directorio son la evolución de servicios a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28600" y="2362320"/>
          <a:ext cx="8381880" cy="4295520"/>
        </p:xfrm>
        <a:graphic>
          <a:graphicData uri="http://schemas.openxmlformats.org/drawingml/2006/table">
            <a:tbl>
              <a:tblPr/>
              <a:tblGrid>
                <a:gridCol w="2362320"/>
                <a:gridCol w="1828800"/>
                <a:gridCol w="2095560"/>
                <a:gridCol w="2095200"/>
              </a:tblGrid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w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/Linu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ERI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in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d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asta NW 3.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2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NW 4.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 LD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MPLO CONFIGURACION CIS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px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erface Ethernet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p address 10.1.0.254 255.255.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px network 246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erface Serial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cription ARM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p address 192.168.253.9 255.255.255.2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px network 99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px router eigrp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network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61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QUEMA CLIENTE-SERVIDOR NW 6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nnfa_a" descr="Novell Native File Access Protocols"/>
          <p:cNvPicPr/>
          <p:nvPr/>
        </p:nvPicPr>
        <p:blipFill>
          <a:blip r:embed="rId1"/>
          <a:stretch/>
        </p:blipFill>
        <p:spPr>
          <a:xfrm>
            <a:off x="990720" y="380880"/>
            <a:ext cx="6781680" cy="4829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9160" y="533412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TWARE 6.0 HABLA NATIVAMENTE CIFS(WINDOWS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FP (MACINTOSH) Y NFS (UNIX), POR TANTO YA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QUIERE EL CLIENTE DE NOVELL EN LA EST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Netware  de Nov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stema operativo de red, desarrollado por Novell, hacia principios de los 80, para integrar los PC mediante un servidor de archivos e i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pera en modo dedicado (no se puede utilizar como estación de trabaj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icialmente servidor de archivos e i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mente, servidor de aplicaciones a través de máquina virtual de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bién usado como servidor de Bases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 principal importancia radica en los servicios de Directorio NDS (Netware Directory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e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uy estable y mad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 no ser muy popular tiene mejor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 directorio muy mad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venta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muy cono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 un servidor de aplicaciones propiamente di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Netware de Nov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sta la versión 5.0 se utilizó como protocolo predeterminado entre las estaciones y el servidor, IPX/SP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tualmente se utiliza TCP/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as caracteristicas nuevas en NW6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requiere cliente en la es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s orientados a WEB como: iFolder, iPrint, iManage, entre o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61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QUEMA CLIENTE-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12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9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76720" y="685800"/>
            <a:ext cx="3407400" cy="1599480"/>
            <a:chOff x="3276720" y="685800"/>
            <a:chExt cx="3407400" cy="1599480"/>
          </a:xfrm>
        </p:grpSpPr>
        <p:sp>
          <p:nvSpPr>
            <p:cNvPr id="75" name=""/>
            <p:cNvSpPr/>
            <p:nvPr/>
          </p:nvSpPr>
          <p:spPr>
            <a:xfrm>
              <a:off x="3276720" y="693000"/>
              <a:ext cx="3403800" cy="777600"/>
            </a:xfrm>
            <a:custGeom>
              <a:avLst/>
              <a:gdLst/>
              <a:ahLst/>
              <a:rect l="l" t="t" r="r" b="b"/>
              <a:pathLst>
                <a:path w="4860" h="679">
                  <a:moveTo>
                    <a:pt x="4860" y="679"/>
                  </a:moveTo>
                  <a:lnTo>
                    <a:pt x="669" y="679"/>
                  </a:lnTo>
                  <a:lnTo>
                    <a:pt x="0" y="0"/>
                  </a:lnTo>
                  <a:lnTo>
                    <a:pt x="4189" y="2"/>
                  </a:lnTo>
                  <a:lnTo>
                    <a:pt x="4860" y="679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46880" y="1452960"/>
              <a:ext cx="2935080" cy="8290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76720" y="685800"/>
              <a:ext cx="479880" cy="1599480"/>
            </a:xfrm>
            <a:custGeom>
              <a:avLst/>
              <a:gdLst/>
              <a:ahLst/>
              <a:rect l="l" t="t" r="r" b="b"/>
              <a:pathLst>
                <a:path w="686" h="1396">
                  <a:moveTo>
                    <a:pt x="681" y="674"/>
                  </a:moveTo>
                  <a:lnTo>
                    <a:pt x="686" y="1396"/>
                  </a:lnTo>
                  <a:lnTo>
                    <a:pt x="0" y="716"/>
                  </a:lnTo>
                  <a:lnTo>
                    <a:pt x="1" y="0"/>
                  </a:lnTo>
                  <a:lnTo>
                    <a:pt x="681" y="674"/>
                  </a:lnTo>
                  <a:close/>
                </a:path>
              </a:pathLst>
            </a:cu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81800" y="1500120"/>
              <a:ext cx="2457720" cy="7354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750840" y="1668600"/>
              <a:ext cx="86760" cy="167760"/>
              <a:chOff x="3750840" y="1668600"/>
              <a:chExt cx="86760" cy="167760"/>
            </a:xfrm>
          </p:grpSpPr>
          <p:sp>
            <p:nvSpPr>
              <p:cNvPr id="80" name=""/>
              <p:cNvSpPr/>
              <p:nvPr/>
            </p:nvSpPr>
            <p:spPr>
              <a:xfrm>
                <a:off x="3750840" y="1668600"/>
                <a:ext cx="86760" cy="25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50840" y="1690920"/>
                <a:ext cx="86760" cy="25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750840" y="1740960"/>
                <a:ext cx="86760" cy="252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750840" y="1761480"/>
                <a:ext cx="86760" cy="25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50840" y="1813680"/>
                <a:ext cx="86760" cy="1800"/>
              </a:xfrm>
              <a:prstGeom prst="line">
                <a:avLst/>
              </a:prstGeom>
              <a:ln w="6480">
                <a:solidFill>
                  <a:srgbClr val="8d85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50840" y="1833840"/>
                <a:ext cx="86760" cy="2520"/>
              </a:xfrm>
              <a:prstGeom prst="line">
                <a:avLst/>
              </a:prstGeom>
              <a:ln w="6480">
                <a:solidFill>
                  <a:srgbClr val="e1df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6243120" y="1428480"/>
              <a:ext cx="437400" cy="53640"/>
            </a:xfrm>
            <a:custGeom>
              <a:avLst/>
              <a:gdLst/>
              <a:ahLst/>
              <a:rect l="l" t="t" r="r" b="b"/>
              <a:pathLst>
                <a:path w="624" h="49">
                  <a:moveTo>
                    <a:pt x="0" y="27"/>
                  </a:moveTo>
                  <a:lnTo>
                    <a:pt x="104" y="40"/>
                  </a:lnTo>
                  <a:lnTo>
                    <a:pt x="208" y="45"/>
                  </a:lnTo>
                  <a:lnTo>
                    <a:pt x="310" y="49"/>
                  </a:lnTo>
                  <a:lnTo>
                    <a:pt x="418" y="45"/>
                  </a:lnTo>
                  <a:lnTo>
                    <a:pt x="520" y="38"/>
                  </a:lnTo>
                  <a:lnTo>
                    <a:pt x="624" y="27"/>
                  </a:lnTo>
                  <a:lnTo>
                    <a:pt x="559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346200" y="954000"/>
              <a:ext cx="129240" cy="745200"/>
              <a:chOff x="3346200" y="954000"/>
              <a:chExt cx="129240" cy="74520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346200" y="954000"/>
                <a:ext cx="129240" cy="236880"/>
                <a:chOff x="3346200" y="954000"/>
                <a:chExt cx="129240" cy="236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346200" y="955800"/>
                  <a:ext cx="123840" cy="235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350160" y="954000"/>
                  <a:ext cx="125280" cy="235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346200" y="1038600"/>
                <a:ext cx="129240" cy="237600"/>
                <a:chOff x="3346200" y="1038600"/>
                <a:chExt cx="129240" cy="2376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46200" y="1040400"/>
                  <a:ext cx="123840" cy="23580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50160" y="1038600"/>
                  <a:ext cx="125280" cy="2354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346200" y="1123200"/>
                <a:ext cx="129240" cy="237960"/>
                <a:chOff x="3346200" y="1123200"/>
                <a:chExt cx="129240" cy="2379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346200" y="1125720"/>
                  <a:ext cx="123840" cy="2354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350160" y="1123200"/>
                  <a:ext cx="125280" cy="23544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346200" y="1207800"/>
                <a:ext cx="129240" cy="237960"/>
                <a:chOff x="3346200" y="1207800"/>
                <a:chExt cx="129240" cy="2379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346200" y="1210320"/>
                  <a:ext cx="123840" cy="23544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350160" y="1207800"/>
                  <a:ext cx="125280" cy="23580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346200" y="1293120"/>
                <a:ext cx="129240" cy="236880"/>
                <a:chOff x="3346200" y="1293120"/>
                <a:chExt cx="129240" cy="236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346200" y="1294920"/>
                  <a:ext cx="123840" cy="235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350160" y="1293120"/>
                  <a:ext cx="125280" cy="235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346200" y="1377720"/>
                <a:ext cx="129240" cy="236880"/>
                <a:chOff x="3346200" y="1377720"/>
                <a:chExt cx="129240" cy="236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346200" y="1379520"/>
                  <a:ext cx="123840" cy="235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350160" y="1377720"/>
                  <a:ext cx="125280" cy="235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346200" y="1462320"/>
                <a:ext cx="129240" cy="236880"/>
                <a:chOff x="3346200" y="1462320"/>
                <a:chExt cx="129240" cy="236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346200" y="1464120"/>
                  <a:ext cx="123840" cy="235080"/>
                </a:xfrm>
                <a:custGeom>
                  <a:avLst/>
                  <a:gdLst/>
                  <a:ahLst/>
                  <a:rect l="l" t="t" r="r" b="b"/>
                  <a:pathLst>
                    <a:path w="177" h="205">
                      <a:moveTo>
                        <a:pt x="175" y="173"/>
                      </a:moveTo>
                      <a:lnTo>
                        <a:pt x="177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50160" y="1462320"/>
                  <a:ext cx="125280" cy="235080"/>
                </a:xfrm>
                <a:custGeom>
                  <a:avLst/>
                  <a:gdLst/>
                  <a:ahLst/>
                  <a:rect l="l" t="t" r="r" b="b"/>
                  <a:pathLst>
                    <a:path w="176" h="205">
                      <a:moveTo>
                        <a:pt x="174" y="173"/>
                      </a:moveTo>
                      <a:lnTo>
                        <a:pt x="176" y="205"/>
                      </a:lnTo>
                      <a:lnTo>
                        <a:pt x="1" y="30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3543840" y="1274040"/>
              <a:ext cx="125280" cy="745200"/>
              <a:chOff x="3543840" y="1274040"/>
              <a:chExt cx="125280" cy="7452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3543840" y="1274040"/>
                <a:ext cx="125280" cy="235800"/>
                <a:chOff x="3543840" y="1274040"/>
                <a:chExt cx="125280" cy="235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43840" y="1276560"/>
                  <a:ext cx="121320" cy="233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547800" y="127404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543840" y="1358640"/>
                <a:ext cx="125280" cy="236160"/>
                <a:chOff x="3543840" y="1358640"/>
                <a:chExt cx="125280" cy="236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543840" y="136116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547800" y="135864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543840" y="1443960"/>
                <a:ext cx="125280" cy="235440"/>
                <a:chOff x="3543840" y="1443960"/>
                <a:chExt cx="125280" cy="2354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543840" y="144576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547800" y="1443960"/>
                  <a:ext cx="121320" cy="23328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543840" y="1528920"/>
                <a:ext cx="125280" cy="235440"/>
                <a:chOff x="3543840" y="1528920"/>
                <a:chExt cx="125280" cy="2354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543840" y="153072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547800" y="152892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543840" y="1613520"/>
                <a:ext cx="125280" cy="235440"/>
                <a:chOff x="3543840" y="1613520"/>
                <a:chExt cx="125280" cy="235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543840" y="161532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547800" y="161352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543840" y="1698480"/>
                <a:ext cx="125280" cy="235440"/>
                <a:chOff x="3543840" y="1698480"/>
                <a:chExt cx="125280" cy="23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543840" y="170028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547800" y="169848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3543840" y="1783440"/>
                <a:ext cx="125280" cy="235800"/>
                <a:chOff x="3543840" y="1783440"/>
                <a:chExt cx="125280" cy="235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543840" y="1785960"/>
                  <a:ext cx="121320" cy="233280"/>
                </a:xfrm>
                <a:custGeom>
                  <a:avLst/>
                  <a:gdLst/>
                  <a:ahLst/>
                  <a:rect l="l" t="t" r="r" b="b"/>
                  <a:pathLst>
                    <a:path w="176" h="206">
                      <a:moveTo>
                        <a:pt x="174" y="173"/>
                      </a:moveTo>
                      <a:lnTo>
                        <a:pt x="176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4" y="173"/>
                      </a:lnTo>
                      <a:close/>
                    </a:path>
                  </a:pathLst>
                </a:custGeom>
                <a:solidFill>
                  <a:srgbClr val="21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547800" y="1783440"/>
                  <a:ext cx="121320" cy="233640"/>
                </a:xfrm>
                <a:custGeom>
                  <a:avLst/>
                  <a:gdLst/>
                  <a:ahLst/>
                  <a:rect l="l" t="t" r="r" b="b"/>
                  <a:pathLst>
                    <a:path w="177" h="206">
                      <a:moveTo>
                        <a:pt x="175" y="173"/>
                      </a:moveTo>
                      <a:lnTo>
                        <a:pt x="177" y="206"/>
                      </a:lnTo>
                      <a:lnTo>
                        <a:pt x="1" y="31"/>
                      </a:lnTo>
                      <a:lnTo>
                        <a:pt x="0" y="0"/>
                      </a:lnTo>
                      <a:lnTo>
                        <a:pt x="175" y="173"/>
                      </a:lnTo>
                      <a:close/>
                    </a:path>
                  </a:pathLst>
                </a:cu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3375360" y="706680"/>
              <a:ext cx="510120" cy="717120"/>
              <a:chOff x="3375360" y="706680"/>
              <a:chExt cx="510120" cy="717120"/>
            </a:xfrm>
          </p:grpSpPr>
          <p:sp>
            <p:nvSpPr>
              <p:cNvPr id="132" name=""/>
              <p:cNvSpPr/>
              <p:nvPr/>
            </p:nvSpPr>
            <p:spPr>
              <a:xfrm>
                <a:off x="3375360" y="706680"/>
                <a:ext cx="129960" cy="874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89040" y="722520"/>
                <a:ext cx="111960" cy="7524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55520" y="1334160"/>
                <a:ext cx="129960" cy="849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69560" y="1347840"/>
                <a:ext cx="111960" cy="759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076800" y="706680"/>
              <a:ext cx="512640" cy="717120"/>
              <a:chOff x="6076800" y="706680"/>
              <a:chExt cx="512640" cy="717120"/>
            </a:xfrm>
          </p:grpSpPr>
          <p:sp>
            <p:nvSpPr>
              <p:cNvPr id="137" name=""/>
              <p:cNvSpPr/>
              <p:nvPr/>
            </p:nvSpPr>
            <p:spPr>
              <a:xfrm>
                <a:off x="6076800" y="706680"/>
                <a:ext cx="130680" cy="8748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89400" y="722520"/>
                <a:ext cx="113760" cy="7524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59120" y="1334160"/>
                <a:ext cx="130320" cy="84960"/>
              </a:xfrm>
              <a:prstGeom prst="ellipse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471720" y="1347840"/>
                <a:ext cx="113760" cy="75960"/>
              </a:xfrm>
              <a:prstGeom prst="ellipse">
                <a:avLst/>
              </a:prstGeom>
              <a:solidFill>
                <a:srgbClr val="e1d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81800" y="1518120"/>
              <a:ext cx="2472840" cy="702000"/>
              <a:chOff x="3781800" y="1518120"/>
              <a:chExt cx="2472840" cy="702000"/>
            </a:xfrm>
          </p:grpSpPr>
          <p:sp>
            <p:nvSpPr>
              <p:cNvPr id="142" name=""/>
              <p:cNvSpPr/>
              <p:nvPr/>
            </p:nvSpPr>
            <p:spPr>
              <a:xfrm>
                <a:off x="3781800" y="1521360"/>
                <a:ext cx="2327040" cy="698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33600" y="1518120"/>
                <a:ext cx="221040" cy="702000"/>
              </a:xfrm>
              <a:prstGeom prst="flowChartDelay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36000" y="1489680"/>
              <a:ext cx="348120" cy="795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749bc2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01440" y="1496160"/>
              <a:ext cx="3650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890160" y="1618200"/>
              <a:ext cx="2253600" cy="515880"/>
              <a:chOff x="3890160" y="1618200"/>
              <a:chExt cx="2253600" cy="5158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5892840" y="1618200"/>
                <a:ext cx="250920" cy="99000"/>
                <a:chOff x="5892840" y="1618200"/>
                <a:chExt cx="250920" cy="99000"/>
              </a:xfrm>
            </p:grpSpPr>
            <p:grpSp>
              <p:nvGrpSpPr>
                <p:cNvPr id="148" name=""/>
                <p:cNvGrpSpPr/>
                <p:nvPr/>
              </p:nvGrpSpPr>
              <p:grpSpPr>
                <a:xfrm>
                  <a:off x="5892840" y="1618200"/>
                  <a:ext cx="75240" cy="99000"/>
                  <a:chOff x="5892840" y="1618200"/>
                  <a:chExt cx="75240" cy="990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5918040" y="1634760"/>
                    <a:ext cx="50040" cy="1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892840" y="1618200"/>
                    <a:ext cx="432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1">
                        <a:moveTo>
                          <a:pt x="0" y="0"/>
                        </a:move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892840" y="1652400"/>
                    <a:ext cx="43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0">
                        <a:moveTo>
                          <a:pt x="0" y="20"/>
                        </a:moveTo>
                        <a:lnTo>
                          <a:pt x="60" y="20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5892840" y="1683000"/>
                    <a:ext cx="51840" cy="1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926320" y="1667520"/>
                    <a:ext cx="417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9">
                        <a:moveTo>
                          <a:pt x="60" y="0"/>
                        </a:moveTo>
                        <a:lnTo>
                          <a:pt x="0" y="0"/>
                        </a:lnTo>
                        <a:lnTo>
                          <a:pt x="17" y="19"/>
                        </a:lnTo>
                        <a:lnTo>
                          <a:pt x="60" y="19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924880" y="1699920"/>
                    <a:ext cx="43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8">
                        <a:moveTo>
                          <a:pt x="61" y="18"/>
                        </a:moveTo>
                        <a:lnTo>
                          <a:pt x="0" y="18"/>
                        </a:lnTo>
                        <a:lnTo>
                          <a:pt x="17" y="0"/>
                        </a:lnTo>
                        <a:lnTo>
                          <a:pt x="61" y="0"/>
                        </a:lnTo>
                        <a:lnTo>
                          <a:pt x="61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5980680" y="1629360"/>
                  <a:ext cx="163080" cy="75960"/>
                  <a:chOff x="5980680" y="1629360"/>
                  <a:chExt cx="163080" cy="7596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5980680" y="1629360"/>
                    <a:ext cx="163080" cy="30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5980680" y="1675080"/>
                    <a:ext cx="163080" cy="30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8" name=""/>
              <p:cNvGrpSpPr/>
              <p:nvPr/>
            </p:nvGrpSpPr>
            <p:grpSpPr>
              <a:xfrm>
                <a:off x="6010920" y="2081880"/>
                <a:ext cx="127440" cy="52200"/>
                <a:chOff x="6010920" y="2081880"/>
                <a:chExt cx="127440" cy="52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010920" y="2081880"/>
                  <a:ext cx="127440" cy="24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019200" y="2109960"/>
                  <a:ext cx="118800" cy="24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770800" y="1688400"/>
                <a:ext cx="97200" cy="157680"/>
                <a:chOff x="5770800" y="1688400"/>
                <a:chExt cx="97200" cy="157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770800" y="1713240"/>
                  <a:ext cx="97200" cy="132840"/>
                </a:xfrm>
                <a:custGeom>
                  <a:avLst/>
                  <a:gdLst/>
                  <a:ahLst/>
                  <a:rect l="l" t="t" r="r" b="b"/>
                  <a:pathLst>
                    <a:path w="138" h="141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138"/>
                      </a:lnTo>
                    </a:path>
                  </a:pathLst>
                </a:custGeom>
                <a:noFill/>
                <a:ln w="6480">
                  <a:solidFill>
                    <a:srgbClr val="8d85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788800" y="1688400"/>
                  <a:ext cx="65880" cy="53280"/>
                </a:xfrm>
                <a:prstGeom prst="rect">
                  <a:avLst/>
                </a:prstGeom>
                <a:solidFill>
                  <a:srgbClr val="a6a2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97440" y="1695960"/>
                  <a:ext cx="47880" cy="41760"/>
                </a:xfrm>
                <a:prstGeom prst="rect">
                  <a:avLst/>
                </a:pr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5787720" y="1876320"/>
                <a:ext cx="29520" cy="385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26960" y="1876320"/>
                <a:ext cx="29880" cy="3852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87720" y="1932120"/>
                <a:ext cx="29520" cy="43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26960" y="1932120"/>
                <a:ext cx="29880" cy="4356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87720" y="1990440"/>
                <a:ext cx="29520" cy="41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26960" y="1990440"/>
                <a:ext cx="29880" cy="4104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87720" y="2049120"/>
                <a:ext cx="29520" cy="44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26960" y="2049120"/>
                <a:ext cx="29880" cy="4428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77720" y="2002680"/>
                <a:ext cx="95760" cy="3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67320" y="1688400"/>
                <a:ext cx="461880" cy="140760"/>
              </a:xfrm>
              <a:custGeom>
                <a:avLst/>
                <a:gdLst/>
                <a:ahLst/>
                <a:rect l="l" t="t" r="r" b="b"/>
                <a:pathLst>
                  <a:path w="667" h="146">
                    <a:moveTo>
                      <a:pt x="0" y="146"/>
                    </a:moveTo>
                    <a:lnTo>
                      <a:pt x="0" y="0"/>
                    </a:lnTo>
                    <a:lnTo>
                      <a:pt x="667" y="0"/>
                    </a:lnTo>
                    <a:lnTo>
                      <a:pt x="667" y="144"/>
                    </a:lnTo>
                  </a:path>
                </a:pathLst>
              </a:custGeom>
              <a:noFill/>
              <a:ln w="6480">
                <a:solidFill>
                  <a:srgbClr val="8d85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38320" y="1659240"/>
                <a:ext cx="138600" cy="58320"/>
              </a:xfrm>
              <a:prstGeom prst="rect">
                <a:avLst/>
              </a:prstGeom>
              <a:solidFill>
                <a:srgbClr val="a6a2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57040" y="1667880"/>
                <a:ext cx="97200" cy="4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4713840" y="1726560"/>
                <a:ext cx="180360" cy="93240"/>
                <a:chOff x="4713840" y="1726560"/>
                <a:chExt cx="180360" cy="932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713840" y="1726560"/>
                  <a:ext cx="180360" cy="2484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22120" y="1759320"/>
                  <a:ext cx="163080" cy="2484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738680" y="1794240"/>
                  <a:ext cx="132840" cy="255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561920" y="1855440"/>
                <a:ext cx="236160" cy="218880"/>
                <a:chOff x="4561920" y="1855440"/>
                <a:chExt cx="236160" cy="218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4561920" y="1855440"/>
                  <a:ext cx="236160" cy="39960"/>
                  <a:chOff x="4561920" y="1855440"/>
                  <a:chExt cx="236160" cy="399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4561920" y="185544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602240" y="185544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4643640" y="185544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685760" y="1855440"/>
                    <a:ext cx="2880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726080" y="185544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767840" y="185544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4561920" y="1913400"/>
                  <a:ext cx="236160" cy="42120"/>
                  <a:chOff x="4561920" y="1913400"/>
                  <a:chExt cx="236160" cy="42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4561920" y="19134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602240" y="19134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643640" y="19134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685760" y="1913400"/>
                    <a:ext cx="2880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726080" y="19134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4767840" y="19134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4561920" y="1973880"/>
                  <a:ext cx="236160" cy="39960"/>
                  <a:chOff x="4561920" y="1973880"/>
                  <a:chExt cx="236160" cy="3996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561920" y="197388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602240" y="197388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643640" y="197388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685760" y="1973880"/>
                    <a:ext cx="2880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4726080" y="197388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767840" y="197388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4561920" y="2032200"/>
                  <a:ext cx="236160" cy="42120"/>
                  <a:chOff x="4561920" y="2032200"/>
                  <a:chExt cx="236160" cy="421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4561920" y="20322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602240" y="20322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4643640" y="20322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685760" y="2032200"/>
                    <a:ext cx="2880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726080" y="20322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767840" y="20322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4811760" y="1855440"/>
                <a:ext cx="234000" cy="218880"/>
                <a:chOff x="4811760" y="1855440"/>
                <a:chExt cx="234000" cy="218880"/>
              </a:xfrm>
            </p:grpSpPr>
            <p:grpSp>
              <p:nvGrpSpPr>
                <p:cNvPr id="211" name=""/>
                <p:cNvGrpSpPr/>
                <p:nvPr/>
              </p:nvGrpSpPr>
              <p:grpSpPr>
                <a:xfrm>
                  <a:off x="4811760" y="1855440"/>
                  <a:ext cx="234000" cy="39960"/>
                  <a:chOff x="4811760" y="1855440"/>
                  <a:chExt cx="234000" cy="3996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4811760" y="1855440"/>
                    <a:ext cx="2916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4851720" y="185544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893480" y="185544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933800" y="185544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975200" y="185544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016960" y="1855440"/>
                    <a:ext cx="2880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4811760" y="1913400"/>
                  <a:ext cx="234000" cy="42120"/>
                  <a:chOff x="4811760" y="1913400"/>
                  <a:chExt cx="234000" cy="421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4811760" y="1913400"/>
                    <a:ext cx="2916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851720" y="19134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4893480" y="19134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933800" y="19134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975200" y="19134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5016960" y="1913400"/>
                    <a:ext cx="2880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4811760" y="1973880"/>
                  <a:ext cx="234000" cy="39960"/>
                  <a:chOff x="4811760" y="1973880"/>
                  <a:chExt cx="234000" cy="399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4811760" y="1973880"/>
                    <a:ext cx="2916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4851720" y="197388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893480" y="197388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933800" y="197388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975200" y="1973880"/>
                    <a:ext cx="3024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016960" y="1973880"/>
                    <a:ext cx="28800" cy="399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4811760" y="2032200"/>
                  <a:ext cx="234000" cy="42120"/>
                  <a:chOff x="4811760" y="2032200"/>
                  <a:chExt cx="234000" cy="421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4811760" y="2032200"/>
                    <a:ext cx="2916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851720" y="20322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893480" y="20322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933800" y="20322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975200" y="2032200"/>
                    <a:ext cx="3024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016960" y="2032200"/>
                    <a:ext cx="28800" cy="4212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9" name=""/>
              <p:cNvGrpSpPr/>
              <p:nvPr/>
            </p:nvGrpSpPr>
            <p:grpSpPr>
              <a:xfrm>
                <a:off x="3890160" y="1929240"/>
                <a:ext cx="611640" cy="192960"/>
                <a:chOff x="3890160" y="1929240"/>
                <a:chExt cx="611640" cy="19296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3890160" y="1929240"/>
                  <a:ext cx="76320" cy="192960"/>
                  <a:chOff x="3890160" y="1929240"/>
                  <a:chExt cx="76320" cy="19296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3890160" y="1929240"/>
                    <a:ext cx="76320" cy="192960"/>
                    <a:chOff x="3890160" y="1929240"/>
                    <a:chExt cx="76320" cy="1929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3890160" y="196560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3890520" y="197424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3898080" y="200232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3890520" y="197424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3894840" y="192924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3949920" y="192924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8" name=""/>
                  <p:cNvSpPr/>
                  <p:nvPr/>
                </p:nvSpPr>
                <p:spPr>
                  <a:xfrm>
                    <a:off x="3913920" y="203508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3996720" y="1929240"/>
                  <a:ext cx="76320" cy="192960"/>
                  <a:chOff x="3996720" y="1929240"/>
                  <a:chExt cx="76320" cy="192960"/>
                </a:xfrm>
              </p:grpSpPr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3996720" y="1929240"/>
                    <a:ext cx="76320" cy="192960"/>
                    <a:chOff x="3996720" y="1929240"/>
                    <a:chExt cx="76320" cy="1929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996720" y="196560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3997080" y="197424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004640" y="200232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3997080" y="197424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4001400" y="192924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4056480" y="192924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>
                    <a:off x="4020480" y="203508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4103280" y="1929240"/>
                  <a:ext cx="77040" cy="192960"/>
                  <a:chOff x="4103280" y="1929240"/>
                  <a:chExt cx="77040" cy="192960"/>
                </a:xfrm>
              </p:grpSpPr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4103280" y="1929240"/>
                    <a:ext cx="77040" cy="192960"/>
                    <a:chOff x="4103280" y="1929240"/>
                    <a:chExt cx="77040" cy="19296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103280" y="1965600"/>
                      <a:ext cx="7416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103640" y="197424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111200" y="2002320"/>
                      <a:ext cx="6912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103640" y="1974240"/>
                      <a:ext cx="766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107960" y="192924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4163760" y="192924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6" name=""/>
                  <p:cNvSpPr/>
                  <p:nvPr/>
                </p:nvSpPr>
                <p:spPr>
                  <a:xfrm>
                    <a:off x="4127040" y="2035080"/>
                    <a:ext cx="4248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4210920" y="1929240"/>
                  <a:ext cx="76320" cy="192960"/>
                  <a:chOff x="4210920" y="1929240"/>
                  <a:chExt cx="76320" cy="192960"/>
                </a:xfrm>
              </p:grpSpPr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4210920" y="1929240"/>
                    <a:ext cx="76320" cy="192960"/>
                    <a:chOff x="4210920" y="1929240"/>
                    <a:chExt cx="76320" cy="19296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210920" y="196560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211280" y="197424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218840" y="200232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211280" y="197424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215600" y="192924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270680" y="192924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5" name=""/>
                  <p:cNvSpPr/>
                  <p:nvPr/>
                </p:nvSpPr>
                <p:spPr>
                  <a:xfrm>
                    <a:off x="4234680" y="203508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4317840" y="1929240"/>
                  <a:ext cx="76320" cy="192960"/>
                  <a:chOff x="4317840" y="1929240"/>
                  <a:chExt cx="76320" cy="192960"/>
                </a:xfrm>
              </p:grpSpPr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4317840" y="1929240"/>
                    <a:ext cx="76320" cy="192960"/>
                    <a:chOff x="4317840" y="1929240"/>
                    <a:chExt cx="76320" cy="19296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4317840" y="196560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4318200" y="197424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4325760" y="200232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4318200" y="197424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4322520" y="192924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4377600" y="192924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4" name=""/>
                  <p:cNvSpPr/>
                  <p:nvPr/>
                </p:nvSpPr>
                <p:spPr>
                  <a:xfrm>
                    <a:off x="4341600" y="203508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4425480" y="1929240"/>
                  <a:ext cx="76320" cy="192960"/>
                  <a:chOff x="4425480" y="1929240"/>
                  <a:chExt cx="76320" cy="192960"/>
                </a:xfrm>
              </p:grpSpPr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4425480" y="1929240"/>
                    <a:ext cx="76320" cy="192960"/>
                    <a:chOff x="4425480" y="1929240"/>
                    <a:chExt cx="76320" cy="1929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4425480" y="196560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4425840" y="197424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4433400" y="200232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4425840" y="197424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4430160" y="192924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4485240" y="192924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3" name=""/>
                  <p:cNvSpPr/>
                  <p:nvPr/>
                </p:nvSpPr>
                <p:spPr>
                  <a:xfrm>
                    <a:off x="4449240" y="203508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5136480" y="1905480"/>
                <a:ext cx="611640" cy="192960"/>
                <a:chOff x="5136480" y="1905480"/>
                <a:chExt cx="611640" cy="1929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5136480" y="1905480"/>
                  <a:ext cx="76320" cy="192960"/>
                  <a:chOff x="5136480" y="1905480"/>
                  <a:chExt cx="76320" cy="19296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136480" y="1905480"/>
                    <a:ext cx="76320" cy="192960"/>
                    <a:chOff x="5136480" y="1905480"/>
                    <a:chExt cx="76320" cy="19296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136480" y="194184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136840" y="195048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5144400" y="197856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5136840" y="195048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5141160" y="190548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5196240" y="190548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03" name=""/>
                  <p:cNvSpPr/>
                  <p:nvPr/>
                </p:nvSpPr>
                <p:spPr>
                  <a:xfrm>
                    <a:off x="5160240" y="201132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5243040" y="1905480"/>
                  <a:ext cx="76320" cy="192960"/>
                  <a:chOff x="5243040" y="1905480"/>
                  <a:chExt cx="76320" cy="192960"/>
                </a:xfrm>
              </p:grpSpPr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5243040" y="1905480"/>
                    <a:ext cx="76320" cy="192960"/>
                    <a:chOff x="5243040" y="1905480"/>
                    <a:chExt cx="76320" cy="19296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5243040" y="194184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5243400" y="195048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5250960" y="197856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5243400" y="195048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5247720" y="190548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5302800" y="190548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2" name=""/>
                  <p:cNvSpPr/>
                  <p:nvPr/>
                </p:nvSpPr>
                <p:spPr>
                  <a:xfrm>
                    <a:off x="5266800" y="201132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5349600" y="1905480"/>
                  <a:ext cx="77040" cy="192960"/>
                  <a:chOff x="5349600" y="1905480"/>
                  <a:chExt cx="77040" cy="192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349600" y="1905480"/>
                    <a:ext cx="77040" cy="192960"/>
                    <a:chOff x="5349600" y="1905480"/>
                    <a:chExt cx="77040" cy="192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5349600" y="1941840"/>
                      <a:ext cx="7416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5349960" y="195048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5357520" y="1978560"/>
                      <a:ext cx="6912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5349960" y="1950480"/>
                      <a:ext cx="766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5354280" y="190548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5410080" y="190548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1" name=""/>
                  <p:cNvSpPr/>
                  <p:nvPr/>
                </p:nvSpPr>
                <p:spPr>
                  <a:xfrm>
                    <a:off x="5373360" y="2011320"/>
                    <a:ext cx="4248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5457240" y="1905480"/>
                  <a:ext cx="76320" cy="192960"/>
                  <a:chOff x="5457240" y="1905480"/>
                  <a:chExt cx="76320" cy="192960"/>
                </a:xfrm>
              </p:grpSpPr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457240" y="1905480"/>
                    <a:ext cx="76320" cy="192960"/>
                    <a:chOff x="5457240" y="1905480"/>
                    <a:chExt cx="76320" cy="19296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5457240" y="194184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5457600" y="195048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5465160" y="197856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5457600" y="195048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5461920" y="190548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5517000" y="190548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0" name=""/>
                  <p:cNvSpPr/>
                  <p:nvPr/>
                </p:nvSpPr>
                <p:spPr>
                  <a:xfrm>
                    <a:off x="5481000" y="201132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5564160" y="1905480"/>
                  <a:ext cx="76320" cy="192960"/>
                  <a:chOff x="5564160" y="1905480"/>
                  <a:chExt cx="76320" cy="192960"/>
                </a:xfrm>
              </p:grpSpPr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5564160" y="1905480"/>
                    <a:ext cx="76320" cy="192960"/>
                    <a:chOff x="5564160" y="1905480"/>
                    <a:chExt cx="76320" cy="19296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5564160" y="194184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5564520" y="195048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5572080" y="197856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5564520" y="195048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5568840" y="190548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5623920" y="190548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9" name=""/>
                  <p:cNvSpPr/>
                  <p:nvPr/>
                </p:nvSpPr>
                <p:spPr>
                  <a:xfrm>
                    <a:off x="5587920" y="201132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5671800" y="1905480"/>
                  <a:ext cx="76320" cy="192960"/>
                  <a:chOff x="5671800" y="1905480"/>
                  <a:chExt cx="76320" cy="19296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671800" y="1905480"/>
                    <a:ext cx="76320" cy="192960"/>
                    <a:chOff x="5671800" y="1905480"/>
                    <a:chExt cx="76320" cy="1929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5671800" y="1941840"/>
                      <a:ext cx="73440" cy="147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672160" y="1950480"/>
                      <a:ext cx="972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138">
                          <a:moveTo>
                            <a:pt x="38" y="29"/>
                          </a:moveTo>
                          <a:lnTo>
                            <a:pt x="38" y="138"/>
                          </a:lnTo>
                          <a:lnTo>
                            <a:pt x="0" y="109"/>
                          </a:lnTo>
                          <a:lnTo>
                            <a:pt x="0" y="0"/>
                          </a:lnTo>
                          <a:lnTo>
                            <a:pt x="38" y="29"/>
                          </a:lnTo>
                          <a:close/>
                        </a:path>
                      </a:pathLst>
                    </a:custGeom>
                    <a:solidFill>
                      <a:srgbClr val="322d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5679720" y="1978560"/>
                      <a:ext cx="68400" cy="116640"/>
                    </a:xfrm>
                    <a:prstGeom prst="rect">
                      <a:avLst/>
                    </a:prstGeom>
                    <a:solidFill>
                      <a:srgbClr val="47474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5672160" y="1950480"/>
                      <a:ext cx="759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3">
                          <a:moveTo>
                            <a:pt x="26" y="33"/>
                          </a:moveTo>
                          <a:lnTo>
                            <a:pt x="0" y="0"/>
                          </a:lnTo>
                          <a:lnTo>
                            <a:pt x="262" y="0"/>
                          </a:lnTo>
                          <a:lnTo>
                            <a:pt x="288" y="33"/>
                          </a:lnTo>
                          <a:lnTo>
                            <a:pt x="26" y="33"/>
                          </a:lnTo>
                          <a:close/>
                        </a:path>
                      </a:pathLst>
                    </a:custGeom>
                    <a:solidFill>
                      <a:srgbClr val="6767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5676480" y="1905480"/>
                      <a:ext cx="936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5731560" y="1905480"/>
                      <a:ext cx="7920" cy="2520"/>
                    </a:xfrm>
                    <a:prstGeom prst="line">
                      <a:avLst/>
                    </a:prstGeom>
                    <a:ln w="14400">
                      <a:solidFill>
                        <a:srgbClr val="71675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8" name=""/>
                  <p:cNvSpPr/>
                  <p:nvPr/>
                </p:nvSpPr>
                <p:spPr>
                  <a:xfrm>
                    <a:off x="5695560" y="2011320"/>
                    <a:ext cx="42120" cy="6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aphicFrame>
        <p:nvGraphicFramePr>
          <p:cNvPr id="349" name=""/>
          <p:cNvGraphicFramePr/>
          <p:nvPr/>
        </p:nvGraphicFramePr>
        <p:xfrm>
          <a:off x="838080" y="3886200"/>
          <a:ext cx="16002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86200"/>
                    <a:ext cx="16002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 flipV="1">
            <a:off x="1828800" y="2133360"/>
            <a:ext cx="20574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657600" y="4038480"/>
            <a:ext cx="1674720" cy="21337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6172200" y="4495680"/>
            <a:ext cx="2209680" cy="1397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267080" y="2133720"/>
            <a:ext cx="763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2057400"/>
            <a:ext cx="129528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71080" y="62136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440" y="5334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06080" y="60199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09680" y="2819520"/>
            <a:ext cx="1447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593800" y="3657600"/>
            <a:ext cx="13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051000" y="228600"/>
            <a:ext cx="335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DELO  IPX/SP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125360" y="1577880"/>
            <a:ext cx="6892920" cy="3703680"/>
            <a:chOff x="1125360" y="1577880"/>
            <a:chExt cx="6892920" cy="3703680"/>
          </a:xfrm>
        </p:grpSpPr>
        <p:sp>
          <p:nvSpPr>
            <p:cNvPr id="364" name=""/>
            <p:cNvSpPr/>
            <p:nvPr/>
          </p:nvSpPr>
          <p:spPr>
            <a:xfrm>
              <a:off x="1125360" y="1577880"/>
              <a:ext cx="6892920" cy="370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5360" y="1577880"/>
              <a:ext cx="6892920" cy="370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image5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43800" cy="558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AN CARLOS RESTREPO</cp:lastModifiedBy>
  <dcterms:modified xsi:type="dcterms:W3CDTF">2002-12-08T20:38:48Z</dcterms:modified>
  <cp:revision>151</cp:revision>
  <dc:subject/>
  <dc:title>PowerPoint Presentation</dc:title>
</cp:coreProperties>
</file>