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6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5.wmf" ContentType="image/x-wmf"/>
  <Override PartName="/ppt/media/image33.jpeg" ContentType="image/jpeg"/>
  <Override PartName="/ppt/media/image11.png" ContentType="image/png"/>
  <Override PartName="/ppt/media/image6.wmf" ContentType="image/x-wmf"/>
  <Override PartName="/ppt/media/image15.png" ContentType="image/png"/>
  <Override PartName="/ppt/media/image30.jpeg" ContentType="image/jpeg"/>
  <Override PartName="/ppt/media/image7.wmf" ContentType="image/x-wmf"/>
  <Override PartName="/ppt/media/image12.png" ContentType="image/png"/>
  <Override PartName="/ppt/media/image13.png" ContentType="image/png"/>
  <Override PartName="/ppt/media/image28.png" ContentType="image/png"/>
  <Override PartName="/ppt/media/image8.jpeg" ContentType="image/jpeg"/>
  <Override PartName="/ppt/media/image10.png" ContentType="image/png"/>
  <Override PartName="/ppt/media/image35.jpeg" ContentType="image/jpeg"/>
  <Override PartName="/ppt/media/image31.jpeg" ContentType="image/jpeg"/>
  <Override PartName="/ppt/media/image2.png" ContentType="image/png"/>
  <Override PartName="/ppt/media/image25.png" ContentType="image/png"/>
  <Override PartName="/ppt/media/image9.png" ContentType="image/png"/>
  <Override PartName="/ppt/media/image34.jpeg" ContentType="image/jpeg"/>
  <Override PartName="/ppt/media/image18.png" ContentType="image/png"/>
  <Override PartName="/ppt/media/image20.png" ContentType="image/png"/>
  <Override PartName="/ppt/media/image4.wmf" ContentType="image/x-wmf"/>
  <Override PartName="/ppt/media/image27.wmf" ContentType="image/x-wmf"/>
  <Override PartName="/ppt/media/image3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B02F-6C12-4B37-8205-618F0898B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2F99-DB8F-4FB2-9318-DFC3E10B8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4EEB-D1BF-42AE-A6BE-6F2453A8D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D2C6-FFAE-4845-AE9C-5861F900F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D460C-4FE2-4D13-9A87-C5767489C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E1EB6-54EB-464C-B208-17A01940A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6558A-3BED-4527-B82B-D691E5531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51356-D5D5-497E-B4D8-08D1F37DD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496B5-7FA6-48FD-ACC0-4BD6E86A5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689C9-B9DE-4C0D-A757-8627F4A3E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FC78D-0076-4A4F-B98F-4643E1BC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ACD3-13B9-4201-96AC-372FB4762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C18EB-A569-4789-B161-8C2318CA4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6FC83-4747-4DEB-9053-728CCDCB9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071B1-CE6C-4F42-B837-A97D8F427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0794A-22A0-4C82-A313-E34A56EC6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F4042-321E-4A52-8CC8-CD9212F24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31AD-8C38-4781-A08E-9FC401E3E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AF37-EC5F-48E9-BF85-BFC283EB3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D4D4-EE6E-48ED-BEA1-18ED38842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712B-BCCE-4161-9E34-AF5433652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0CF9-76E4-4F72-8026-7D5BB2DF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A1A9-7F1A-499B-90C0-1435E806E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F5F0-A5F4-4AE0-96A6-08BC27D4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AE0E8-FE09-44CD-BCE4-24ED7FFEC610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6739A-1067-4786-B91D-0858EE2D1303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uanrest@diginet.com.co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7.wmf"/><Relationship Id="rId15" Type="http://schemas.openxmlformats.org/officeDocument/2006/relationships/image" Target="../media/image8.jpeg"/><Relationship Id="rId16" Type="http://schemas.openxmlformats.org/officeDocument/2006/relationships/image" Target="../media/image8.jpeg"/><Relationship Id="rId17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5.wmf"/><Relationship Id="rId12" Type="http://schemas.openxmlformats.org/officeDocument/2006/relationships/image" Target="../media/image6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8.jpeg"/><Relationship Id="rId19" Type="http://schemas.openxmlformats.org/officeDocument/2006/relationships/image" Target="../media/image8.jpeg"/><Relationship Id="rId20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http://www.cisco.com/en/US/products/hw/routers/ps133/products_tech_note09186a0080174a34.shtml" TargetMode="External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NTERFACES Y BUS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394920" y="2636640"/>
            <a:ext cx="8077320" cy="30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OR: JUAN CARLOS RESTREP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-mail: </a:t>
            </a: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1"/>
              </a:rPr>
              <a:t>juanrest@diginet.com.c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eléfono: 5140532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ersión: 2.6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ltima actualización: Junio - 2005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edellín-Colombi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5724360" y="5259240"/>
            <a:ext cx="3419640" cy="15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CABLE DE CONSOLA DE ROUTER CISCO RS-232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9" name=""/>
          <p:cNvSpPr/>
          <p:nvPr/>
        </p:nvSpPr>
        <p:spPr>
          <a:xfrm>
            <a:off x="755640" y="1773360"/>
            <a:ext cx="7495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RJ-45                   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DB9 Femal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RTS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1        -------------  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8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CT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DTR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2        -------------  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6    DS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TXD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3        -------------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2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RX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GND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4        -------------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5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GN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GND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5        -------------  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5    GN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RXD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6        -------------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3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TX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DSR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7        -------------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4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DT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CTS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8        -------------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7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RT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CONVERSOR RS-232 DE DB-9 A DB-25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71" name=""/>
          <p:cNvSpPr/>
          <p:nvPr/>
        </p:nvSpPr>
        <p:spPr>
          <a:xfrm>
            <a:off x="1676160" y="1752480"/>
            <a:ext cx="5484240" cy="35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DB9 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Male DB25 Mal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TxD 3 ------------- 2 TxD </a:t>
            </a:r>
            <a:br>
              <a:rPr sz="2400"/>
            </a:b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RxD 2 ------------- 3 RxD </a:t>
            </a:r>
            <a:br>
              <a:rPr sz="2400"/>
            </a:b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GND 5 ------------- 7 GND</a:t>
            </a:r>
            <a:br>
              <a:rPr sz="2400"/>
            </a:b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DCD 1 ------------- 8 DCD</a:t>
            </a:r>
            <a:br>
              <a:rPr sz="2400"/>
            </a:b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RTS 7 ------------- 4 RTS </a:t>
            </a:r>
            <a:br>
              <a:rPr sz="2400"/>
            </a:b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CTS 8 ------------- 5 CTS</a:t>
            </a:r>
            <a:br>
              <a:rPr sz="2400"/>
            </a:b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DTR 4 ------------- 20 DTR</a:t>
            </a:r>
            <a:br>
              <a:rPr sz="2400"/>
            </a:b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DSR 6 -------------  6 DS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NULL MODEM ASINCRÓNICO RS-232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73" name=""/>
          <p:cNvSpPr/>
          <p:nvPr/>
        </p:nvSpPr>
        <p:spPr>
          <a:xfrm>
            <a:off x="1367640" y="838080"/>
            <a:ext cx="67644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DB25 Male                DB25 Femal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TxD      2  -------------  3     Rx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RxD      3  -------------  2     Tx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GND      7  -------------  7     GN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RTS      4  ---+     +---  4     RT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CTS      5  ---+     +---  5     CT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DTR     20  ---+     +---  6     DS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DSR      6  ---+     +---  8     DC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DCD      8  ---+     +----  20   DT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NULL MODEM SINCRÓNICO RS-232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75" name=""/>
          <p:cNvSpPr/>
          <p:nvPr/>
        </p:nvSpPr>
        <p:spPr>
          <a:xfrm>
            <a:off x="1367640" y="685800"/>
            <a:ext cx="67644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DB25 Male                DB25 Femal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TxD      2  -------------  3     Rx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RxD      3  -------------  2     Tx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GND      7  -------------  7     GN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RTS      4  ---+     +---  4     RT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CTS      5  ---+     +---  5     CT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DTR     20  ---+     +---  6     DS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DSR      6  ---+     +---  8     DC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DCD      8  ---+     +----  20   DT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TxC     15  ---+--------  17     RxC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BxC     24  ---+          24     BxC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RxC     17  ---+--------  15     TxC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LOOPBACK RS-232 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62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Tahoma"/>
              </a:rPr>
              <a:t>CONECTOR DB-25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TD </a:t>
            </a: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2</a:t>
            </a: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RD </a:t>
            </a: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3</a:t>
            </a: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RTS 4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CTS 5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DSR 6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DCD 8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DTR 20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8" name=""/>
          <p:cNvSpPr/>
          <p:nvPr/>
        </p:nvSpPr>
        <p:spPr>
          <a:xfrm>
            <a:off x="685800" y="2438280"/>
            <a:ext cx="0" cy="53352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609480" y="3886200"/>
            <a:ext cx="0" cy="53352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533520" y="5334120"/>
            <a:ext cx="0" cy="99036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4800600" y="1371600"/>
            <a:ext cx="396252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Tahoma"/>
              </a:rPr>
              <a:t>CONECTOR DB-9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Times New Roman"/>
              </a:rPr>
              <a:t>TD </a:t>
            </a:r>
            <a:r>
              <a:rPr b="1" lang="en-US" sz="26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40458c"/>
                </a:solidFill>
                <a:latin typeface="Times New Roman"/>
              </a:rPr>
              <a:t>3</a:t>
            </a:r>
            <a:r>
              <a:rPr b="1" lang="en-US" sz="26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40458c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Times New Roman"/>
              </a:rPr>
              <a:t>RD </a:t>
            </a:r>
            <a:r>
              <a:rPr b="1" lang="en-US" sz="26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40458c"/>
                </a:solidFill>
                <a:latin typeface="Times New Roman"/>
              </a:rPr>
              <a:t>2</a:t>
            </a:r>
            <a:r>
              <a:rPr b="1" lang="en-US" sz="26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40458c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Times New Roman"/>
              </a:rPr>
              <a:t>RTS 7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Times New Roman"/>
              </a:rPr>
              <a:t>CTS 8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Times New Roman"/>
              </a:rPr>
              <a:t>DSR 6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Times New Roman"/>
              </a:rPr>
              <a:t>DCD 1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Times New Roman"/>
              </a:rPr>
              <a:t>DTR 4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4724280" y="2362320"/>
            <a:ext cx="0" cy="53316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4724280" y="3505320"/>
            <a:ext cx="0" cy="4572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4724280" y="4724280"/>
            <a:ext cx="0" cy="99072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52760" y="762120"/>
            <a:ext cx="65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Utilizados para diagnosticar los puertos o interface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RS-232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Tahoma"/>
              </a:rPr>
              <a:t>DESVENTAJAS: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Usa una tierra común entre el DTE y DCE lo que puede ser correcto en cortas distancias pero difícil cuando están alejado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SzPct val="1392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Cortas distancia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SzPct val="13927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Bajas velocidade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Tahoma"/>
              </a:rPr>
              <a:t>VENTAJAS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SzPct val="13927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Bajo costo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SzPct val="13927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Fácil implementación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SzPct val="13927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Muy popular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TIPOS DE INTERFACE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85440" y="838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 pueden clasificar en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ARALELAS Y SERIAL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NCRÓNICAS Y ASINCRÓNIC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ALANCEADAS Y DESBALANCEAD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ATOS Y VOZ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TIPOS DE INTERFACE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SERIA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os bits fluyen uno tras otr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ás lentas pero requieren menos hil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Usadas generalmente en distancias larg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jemplo: RS-232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PARALEL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os bits fluyen simultáneamente a través de varios hil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ás rápidas pero requieren más hil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Usadas generalmente en distancias cort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jemplo: interface Centronics paralel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CLASIFICACIN DE LAS INTERFACES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93" name=""/>
          <p:cNvSpPr/>
          <p:nvPr/>
        </p:nvSpPr>
        <p:spPr>
          <a:xfrm>
            <a:off x="68580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SINCRONICA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Utilizan señales especiales de temporización o mecanismos de codificación que llevan el reloj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Los bytes no van enmarcados por bits de comienzo o fin (stop bit y start bit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Los datos se envían en bloques llamados frames o tramas como en HDLC e Ethernet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Es más eficiente que la serial asincrónica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Ejemplo: En RS-232 los pines 15, 17 y 24.  Reloj embebido en la codificación manchester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INTERFACE SINCRONICA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995" name="" descr=""/>
          <p:cNvPicPr/>
          <p:nvPr/>
        </p:nvPicPr>
        <p:blipFill>
          <a:blip r:embed="rId1"/>
          <a:stretch/>
        </p:blipFill>
        <p:spPr>
          <a:xfrm>
            <a:off x="228600" y="5715000"/>
            <a:ext cx="8686800" cy="608040"/>
          </a:xfrm>
          <a:prstGeom prst="rect">
            <a:avLst/>
          </a:prstGeom>
          <a:ln w="0">
            <a:noFill/>
          </a:ln>
        </p:spPr>
      </p:pic>
      <p:pic>
        <p:nvPicPr>
          <p:cNvPr id="996" name="" descr=""/>
          <p:cNvPicPr/>
          <p:nvPr/>
        </p:nvPicPr>
        <p:blipFill>
          <a:blip r:embed="rId2"/>
          <a:stretch/>
        </p:blipFill>
        <p:spPr>
          <a:xfrm>
            <a:off x="762120" y="762120"/>
            <a:ext cx="4038480" cy="3360600"/>
          </a:xfrm>
          <a:prstGeom prst="rect">
            <a:avLst/>
          </a:prstGeom>
          <a:ln w="0">
            <a:noFill/>
          </a:ln>
        </p:spPr>
      </p:pic>
      <p:sp>
        <p:nvSpPr>
          <p:cNvPr id="997" name=""/>
          <p:cNvSpPr/>
          <p:nvPr/>
        </p:nvSpPr>
        <p:spPr>
          <a:xfrm>
            <a:off x="384120" y="4952880"/>
            <a:ext cx="12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imes New Roman"/>
              </a:rPr>
              <a:t>TRAM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H="1">
            <a:off x="3733920" y="3200400"/>
            <a:ext cx="137160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 flipH="1">
            <a:off x="3733920" y="2971800"/>
            <a:ext cx="137160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809880" y="3581280"/>
            <a:ext cx="129564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5262120" y="3048120"/>
            <a:ext cx="29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imes New Roman"/>
              </a:rPr>
              <a:t>SEÑALES DE RELOJ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INTERFACES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ecanismo de conexión o acople entre diversos componentes (hardware y/o software)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 debe definir cuidadosamente en cada punto de conexión entre los dispositivos: routers, suiches, concentradores, banda bases, radios, etc. El tipo de interface de acuerdo a especificaciones de velocidad, distancia, etc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TIPOS  DE INTERFACE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ASINCRONICA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 utilizan señales o líneas especiales para la temporización (reloj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iene un overhead de 20%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004" name="" descr=""/>
          <p:cNvPicPr/>
          <p:nvPr/>
        </p:nvPicPr>
        <p:blipFill>
          <a:blip r:embed="rId1"/>
          <a:stretch/>
        </p:blipFill>
        <p:spPr>
          <a:xfrm>
            <a:off x="1447920" y="3429000"/>
            <a:ext cx="5943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TIPOS  DE INTERFACE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685440" y="685800"/>
            <a:ext cx="84582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BALANCEAD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ada circuito tiene dos hil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oportan mejor el ruido porque afecta “por igual” las dos líne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007" name="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5257800" cy="1657440"/>
          </a:xfrm>
          <a:prstGeom prst="rect">
            <a:avLst/>
          </a:prstGeom>
          <a:ln w="0">
            <a:noFill/>
          </a:ln>
        </p:spPr>
      </p:pic>
      <p:sp>
        <p:nvSpPr>
          <p:cNvPr id="1008" name=""/>
          <p:cNvSpPr/>
          <p:nvPr/>
        </p:nvSpPr>
        <p:spPr>
          <a:xfrm>
            <a:off x="304920" y="4419720"/>
            <a:ext cx="88390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324000" y="3919680"/>
            <a:ext cx="8496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jemplo de definición de unos y ceros con interface balacead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VA-VB &lt; -0.2v =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VA-VB &gt; +0.2v=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jemplo de interfaces balanceadas: 10BASE-T, 100BASE-T amba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Utilizadas en Ethernet, RS-449, X.21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TIPOS  DE INTERFACE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1" name=""/>
          <p:cNvSpPr/>
          <p:nvPr/>
        </p:nvSpPr>
        <p:spPr>
          <a:xfrm>
            <a:off x="304920" y="836640"/>
            <a:ext cx="8370720" cy="57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DESBALANCEAD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Un solo hilo para cada señal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Los circuitos utilizan una tierra común. Ejemplo: RS-232 señal 7 (GND) en conector DB-25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OJO: Es fundamental tener una buena tierra eléctrica para los equipos de comunicacione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SEMIBALANCEADA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Tienen algunas señales balanceadas y otras desbalanceadas. Ej: V.35 (Datos y relojes balanceadas – Control desbalanceadas)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OTRAS INTERFACES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1142640" y="1676520"/>
            <a:ext cx="6629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Son comunes otras interfaces como: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SzPct val="1392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V.35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SzPct val="13927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X.21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SzPct val="13927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USB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SzPct val="13927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AUI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SzPct val="13927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PARALELA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SzPct val="13927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G.703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SzPct val="13927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RS-449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V.35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362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Interface serial sincrónica, desarrollada por la CCITT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Velocidad original: 48Kbps, aunque puede operar entre 64 Kbps y 2 Mbp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Distancia máxima: 300 mts. 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Mezcla señales balanceadas (TD, RD, Clock) y desbalanceadas (DSR, DTR, RTS, CTS y DCD)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Típicamente utiliza conector M34 o Winchester mucho más costoso y grande que el DB-25 de RS-232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También se implementa con conectores DB-25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Muy utilizada en el acople de routers con Radios, Banda Bases (DSU/CSU)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609480" y="260280"/>
            <a:ext cx="777240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V.35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686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Conectores típicamente usados: M-34 (Winchester)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018" name="" descr=""/>
          <p:cNvPicPr/>
          <p:nvPr/>
        </p:nvPicPr>
        <p:blipFill>
          <a:blip r:embed="rId2"/>
          <a:stretch/>
        </p:blipFill>
        <p:spPr>
          <a:xfrm>
            <a:off x="533520" y="1905120"/>
            <a:ext cx="777240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INTERFACE V.35 EN CONECTOR M34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686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1" name=""/>
          <p:cNvSpPr/>
          <p:nvPr/>
        </p:nvSpPr>
        <p:spPr>
          <a:xfrm>
            <a:off x="4051080" y="692280"/>
            <a:ext cx="50911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imes New Roman"/>
              </a:rPr>
              <a:t>CONECTOR WINCHESTER M34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Times New Roman"/>
              </a:rPr>
              <a:t>CHASIS GROUND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Times New Roman"/>
              </a:rPr>
              <a:t>SIGNAL GROUND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Times New Roman"/>
              </a:rPr>
              <a:t>REQUEST TO SEND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imes New Roman"/>
              </a:rPr>
              <a:t>D</a:t>
            </a:r>
            <a:r>
              <a:rPr b="1" lang="en-US" sz="20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Times New Roman"/>
              </a:rPr>
              <a:t>CLEAR TO SEND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imes New Roman"/>
              </a:rPr>
              <a:t>E</a:t>
            </a:r>
            <a:r>
              <a:rPr b="1" lang="en-US" sz="20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Times New Roman"/>
              </a:rPr>
              <a:t>DATA SET READY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Times New Roman"/>
              </a:rPr>
              <a:t>RECEIVE LINE SIGNAL DETEC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imes New Roman"/>
              </a:rPr>
              <a:t>R</a:t>
            </a:r>
            <a:r>
              <a:rPr b="1" lang="en-US" sz="20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Times New Roman"/>
              </a:rPr>
              <a:t>RECEIVE DATA  (A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Times New Roman"/>
              </a:rPr>
              <a:t>RECEIVE DATA (B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imes New Roman"/>
              </a:rPr>
              <a:t>P</a:t>
            </a:r>
            <a:r>
              <a:rPr b="1" lang="en-US" sz="20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Times New Roman"/>
              </a:rPr>
              <a:t>TRANSMIT DATA (A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Times New Roman"/>
              </a:rPr>
              <a:t>TRANSMIT DATA (B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Times New Roman"/>
              </a:rPr>
              <a:t>RECEIVE TIMING (A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Times New Roman"/>
              </a:rPr>
              <a:t>RECEIVE TIMING (B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imes New Roman"/>
              </a:rPr>
              <a:t>U</a:t>
            </a:r>
            <a:r>
              <a:rPr b="1" lang="en-US" sz="20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Times New Roman"/>
              </a:rPr>
              <a:t>TERMINAL TIMING  (A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Times New Roman"/>
              </a:rPr>
              <a:t>TERMINAL TIMING  (B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imes New Roman"/>
              </a:rPr>
              <a:t>Y</a:t>
            </a:r>
            <a:r>
              <a:rPr b="1" lang="en-US" sz="20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Times New Roman"/>
              </a:rPr>
              <a:t>TRANSMIT TIMING</a:t>
            </a:r>
            <a:r>
              <a:rPr b="1" lang="en-US" sz="20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Times New Roman"/>
              </a:rPr>
              <a:t>(A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imes New Roman"/>
              </a:rPr>
              <a:t>AA</a:t>
            </a:r>
            <a:r>
              <a:rPr b="1" lang="en-US" sz="20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Times New Roman"/>
              </a:rPr>
              <a:t>TRANSMIT TIMING     (B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022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3673440" cy="22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CABLE V.35 DE CONECTOR DB-25 A M34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686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5" name=""/>
          <p:cNvSpPr/>
          <p:nvPr/>
        </p:nvSpPr>
        <p:spPr>
          <a:xfrm>
            <a:off x="1405080" y="558720"/>
            <a:ext cx="65815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DB25 (M)   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M34 (Winchester)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4  RTS         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5  CTS           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6  DSR           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7  GND           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8  DCD           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F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9  TxB           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10 TxA           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11 RxB           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12 RxA           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19 Tx Clock A    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20 DTR           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H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21 Tx Clock B   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A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22 RI            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J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23 Rx Clock A    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V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25 Rx Clock B    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X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82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NULL MODEM  V.35 DE CONECTOR M34 A M34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686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8" name=""/>
          <p:cNvSpPr/>
          <p:nvPr/>
        </p:nvSpPr>
        <p:spPr>
          <a:xfrm>
            <a:off x="1908000" y="1052640"/>
            <a:ext cx="5256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P------------------------- R</a:t>
            </a:r>
            <a:br>
              <a:rPr sz="2400"/>
            </a:b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S------------------------- T</a:t>
            </a:r>
            <a:br>
              <a:rPr sz="2400"/>
            </a:b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R------------------------- P</a:t>
            </a:r>
            <a:br>
              <a:rPr sz="2400"/>
            </a:b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T------------------------- S</a:t>
            </a:r>
            <a:br>
              <a:rPr sz="2400"/>
            </a:b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C------------------------- D</a:t>
            </a:r>
            <a:br>
              <a:rPr sz="2400"/>
            </a:b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D------------------------- C</a:t>
            </a:r>
            <a:br>
              <a:rPr sz="2400"/>
            </a:b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E------------------------- H</a:t>
            </a:r>
            <a:br>
              <a:rPr sz="2400"/>
            </a:b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H------------------------- E</a:t>
            </a:r>
            <a:br>
              <a:rPr sz="2400"/>
            </a:b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Y &amp; U ------------------- V </a:t>
            </a:r>
            <a:br>
              <a:rPr sz="2400"/>
            </a:b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W &amp; AA ----------------- X</a:t>
            </a:r>
            <a:br>
              <a:rPr sz="2400"/>
            </a:b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X------------------------- W &amp; AA</a:t>
            </a:r>
            <a:br>
              <a:rPr sz="2400"/>
            </a:b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V------------------------- Y &amp; U</a:t>
            </a:r>
            <a:br>
              <a:rPr sz="2400"/>
            </a:b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NOTA: Los A con los A y los B con los B en las señales balanceada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755640" y="16344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CABLE DE CONSOLA DE CISCO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686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031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8281800" cy="50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EJEMPLOS DE INTERFACES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39640" y="5229360"/>
            <a:ext cx="693720" cy="100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5" name=""/>
          <p:cNvGraphicFramePr/>
          <p:nvPr/>
        </p:nvGraphicFramePr>
        <p:xfrm>
          <a:off x="7835760" y="4940280"/>
          <a:ext cx="457200" cy="380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35760" y="4940280"/>
                    <a:ext cx="4572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471240" y="616572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BX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2916360" y="2565360"/>
            <a:ext cx="2518920" cy="2361600"/>
            <a:chOff x="2916360" y="2565360"/>
            <a:chExt cx="2518920" cy="2361600"/>
          </a:xfrm>
        </p:grpSpPr>
        <p:sp>
          <p:nvSpPr>
            <p:cNvPr id="219" name=""/>
            <p:cNvSpPr/>
            <p:nvPr/>
          </p:nvSpPr>
          <p:spPr>
            <a:xfrm>
              <a:off x="2916360" y="2565360"/>
              <a:ext cx="2518920" cy="2361600"/>
            </a:xfrm>
            <a:custGeom>
              <a:avLst/>
              <a:gdLst/>
              <a:ahLst/>
              <a:rect l="l" t="t" r="r" b="b"/>
              <a:pathLst>
                <a:path w="856" h="448">
                  <a:moveTo>
                    <a:pt x="395" y="59"/>
                  </a:moveTo>
                  <a:lnTo>
                    <a:pt x="375" y="55"/>
                  </a:lnTo>
                  <a:lnTo>
                    <a:pt x="348" y="50"/>
                  </a:lnTo>
                  <a:lnTo>
                    <a:pt x="325" y="49"/>
                  </a:lnTo>
                  <a:lnTo>
                    <a:pt x="301" y="51"/>
                  </a:lnTo>
                  <a:lnTo>
                    <a:pt x="283" y="53"/>
                  </a:lnTo>
                  <a:lnTo>
                    <a:pt x="266" y="57"/>
                  </a:lnTo>
                  <a:lnTo>
                    <a:pt x="247" y="63"/>
                  </a:lnTo>
                  <a:lnTo>
                    <a:pt x="229" y="71"/>
                  </a:lnTo>
                  <a:lnTo>
                    <a:pt x="211" y="82"/>
                  </a:lnTo>
                  <a:lnTo>
                    <a:pt x="193" y="96"/>
                  </a:lnTo>
                  <a:lnTo>
                    <a:pt x="181" y="109"/>
                  </a:lnTo>
                  <a:lnTo>
                    <a:pt x="173" y="121"/>
                  </a:lnTo>
                  <a:lnTo>
                    <a:pt x="165" y="134"/>
                  </a:lnTo>
                  <a:lnTo>
                    <a:pt x="160" y="151"/>
                  </a:lnTo>
                  <a:lnTo>
                    <a:pt x="145" y="147"/>
                  </a:lnTo>
                  <a:lnTo>
                    <a:pt x="127" y="145"/>
                  </a:lnTo>
                  <a:lnTo>
                    <a:pt x="111" y="145"/>
                  </a:lnTo>
                  <a:lnTo>
                    <a:pt x="94" y="148"/>
                  </a:lnTo>
                  <a:lnTo>
                    <a:pt x="79" y="153"/>
                  </a:lnTo>
                  <a:lnTo>
                    <a:pt x="64" y="159"/>
                  </a:lnTo>
                  <a:lnTo>
                    <a:pt x="48" y="170"/>
                  </a:lnTo>
                  <a:lnTo>
                    <a:pt x="39" y="179"/>
                  </a:lnTo>
                  <a:lnTo>
                    <a:pt x="28" y="189"/>
                  </a:lnTo>
                  <a:lnTo>
                    <a:pt x="19" y="201"/>
                  </a:lnTo>
                  <a:lnTo>
                    <a:pt x="11" y="217"/>
                  </a:lnTo>
                  <a:lnTo>
                    <a:pt x="6" y="232"/>
                  </a:lnTo>
                  <a:lnTo>
                    <a:pt x="2" y="247"/>
                  </a:lnTo>
                  <a:lnTo>
                    <a:pt x="1" y="259"/>
                  </a:lnTo>
                  <a:lnTo>
                    <a:pt x="0" y="271"/>
                  </a:lnTo>
                  <a:lnTo>
                    <a:pt x="1" y="286"/>
                  </a:lnTo>
                  <a:lnTo>
                    <a:pt x="3" y="299"/>
                  </a:lnTo>
                  <a:lnTo>
                    <a:pt x="7" y="312"/>
                  </a:lnTo>
                  <a:lnTo>
                    <a:pt x="12" y="325"/>
                  </a:lnTo>
                  <a:lnTo>
                    <a:pt x="19" y="339"/>
                  </a:lnTo>
                  <a:lnTo>
                    <a:pt x="29" y="353"/>
                  </a:lnTo>
                  <a:lnTo>
                    <a:pt x="40" y="364"/>
                  </a:lnTo>
                  <a:lnTo>
                    <a:pt x="53" y="375"/>
                  </a:lnTo>
                  <a:lnTo>
                    <a:pt x="68" y="383"/>
                  </a:lnTo>
                  <a:lnTo>
                    <a:pt x="80" y="389"/>
                  </a:lnTo>
                  <a:lnTo>
                    <a:pt x="92" y="392"/>
                  </a:lnTo>
                  <a:lnTo>
                    <a:pt x="106" y="396"/>
                  </a:lnTo>
                  <a:lnTo>
                    <a:pt x="121" y="396"/>
                  </a:lnTo>
                  <a:lnTo>
                    <a:pt x="136" y="396"/>
                  </a:lnTo>
                  <a:lnTo>
                    <a:pt x="151" y="393"/>
                  </a:lnTo>
                  <a:lnTo>
                    <a:pt x="163" y="390"/>
                  </a:lnTo>
                  <a:lnTo>
                    <a:pt x="171" y="387"/>
                  </a:lnTo>
                  <a:lnTo>
                    <a:pt x="179" y="397"/>
                  </a:lnTo>
                  <a:lnTo>
                    <a:pt x="191" y="406"/>
                  </a:lnTo>
                  <a:lnTo>
                    <a:pt x="204" y="414"/>
                  </a:lnTo>
                  <a:lnTo>
                    <a:pt x="218" y="422"/>
                  </a:lnTo>
                  <a:lnTo>
                    <a:pt x="236" y="429"/>
                  </a:lnTo>
                  <a:lnTo>
                    <a:pt x="254" y="436"/>
                  </a:lnTo>
                  <a:lnTo>
                    <a:pt x="276" y="441"/>
                  </a:lnTo>
                  <a:lnTo>
                    <a:pt x="296" y="445"/>
                  </a:lnTo>
                  <a:lnTo>
                    <a:pt x="318" y="447"/>
                  </a:lnTo>
                  <a:lnTo>
                    <a:pt x="335" y="447"/>
                  </a:lnTo>
                  <a:lnTo>
                    <a:pt x="353" y="447"/>
                  </a:lnTo>
                  <a:lnTo>
                    <a:pt x="377" y="444"/>
                  </a:lnTo>
                  <a:lnTo>
                    <a:pt x="406" y="434"/>
                  </a:lnTo>
                  <a:lnTo>
                    <a:pt x="416" y="437"/>
                  </a:lnTo>
                  <a:lnTo>
                    <a:pt x="436" y="430"/>
                  </a:lnTo>
                  <a:lnTo>
                    <a:pt x="456" y="422"/>
                  </a:lnTo>
                  <a:lnTo>
                    <a:pt x="468" y="416"/>
                  </a:lnTo>
                  <a:lnTo>
                    <a:pt x="478" y="408"/>
                  </a:lnTo>
                  <a:lnTo>
                    <a:pt x="489" y="413"/>
                  </a:lnTo>
                  <a:lnTo>
                    <a:pt x="504" y="419"/>
                  </a:lnTo>
                  <a:lnTo>
                    <a:pt x="518" y="423"/>
                  </a:lnTo>
                  <a:lnTo>
                    <a:pt x="531" y="426"/>
                  </a:lnTo>
                  <a:lnTo>
                    <a:pt x="546" y="427"/>
                  </a:lnTo>
                  <a:lnTo>
                    <a:pt x="560" y="427"/>
                  </a:lnTo>
                  <a:lnTo>
                    <a:pt x="577" y="425"/>
                  </a:lnTo>
                  <a:lnTo>
                    <a:pt x="594" y="421"/>
                  </a:lnTo>
                  <a:lnTo>
                    <a:pt x="609" y="416"/>
                  </a:lnTo>
                  <a:lnTo>
                    <a:pt x="624" y="407"/>
                  </a:lnTo>
                  <a:lnTo>
                    <a:pt x="638" y="398"/>
                  </a:lnTo>
                  <a:lnTo>
                    <a:pt x="657" y="406"/>
                  </a:lnTo>
                  <a:lnTo>
                    <a:pt x="675" y="410"/>
                  </a:lnTo>
                  <a:lnTo>
                    <a:pt x="690" y="412"/>
                  </a:lnTo>
                  <a:lnTo>
                    <a:pt x="712" y="412"/>
                  </a:lnTo>
                  <a:lnTo>
                    <a:pt x="735" y="409"/>
                  </a:lnTo>
                  <a:lnTo>
                    <a:pt x="762" y="401"/>
                  </a:lnTo>
                  <a:lnTo>
                    <a:pt x="785" y="389"/>
                  </a:lnTo>
                  <a:lnTo>
                    <a:pt x="804" y="374"/>
                  </a:lnTo>
                  <a:lnTo>
                    <a:pt x="823" y="356"/>
                  </a:lnTo>
                  <a:lnTo>
                    <a:pt x="833" y="341"/>
                  </a:lnTo>
                  <a:lnTo>
                    <a:pt x="841" y="326"/>
                  </a:lnTo>
                  <a:lnTo>
                    <a:pt x="849" y="306"/>
                  </a:lnTo>
                  <a:lnTo>
                    <a:pt x="853" y="288"/>
                  </a:lnTo>
                  <a:lnTo>
                    <a:pt x="855" y="267"/>
                  </a:lnTo>
                  <a:lnTo>
                    <a:pt x="853" y="251"/>
                  </a:lnTo>
                  <a:lnTo>
                    <a:pt x="849" y="232"/>
                  </a:lnTo>
                  <a:lnTo>
                    <a:pt x="843" y="213"/>
                  </a:lnTo>
                  <a:lnTo>
                    <a:pt x="833" y="196"/>
                  </a:lnTo>
                  <a:lnTo>
                    <a:pt x="822" y="179"/>
                  </a:lnTo>
                  <a:lnTo>
                    <a:pt x="808" y="165"/>
                  </a:lnTo>
                  <a:lnTo>
                    <a:pt x="795" y="154"/>
                  </a:lnTo>
                  <a:lnTo>
                    <a:pt x="782" y="146"/>
                  </a:lnTo>
                  <a:lnTo>
                    <a:pt x="764" y="135"/>
                  </a:lnTo>
                  <a:lnTo>
                    <a:pt x="747" y="129"/>
                  </a:lnTo>
                  <a:lnTo>
                    <a:pt x="732" y="126"/>
                  </a:lnTo>
                  <a:lnTo>
                    <a:pt x="715" y="124"/>
                  </a:lnTo>
                  <a:lnTo>
                    <a:pt x="712" y="111"/>
                  </a:lnTo>
                  <a:lnTo>
                    <a:pt x="707" y="98"/>
                  </a:lnTo>
                  <a:lnTo>
                    <a:pt x="700" y="86"/>
                  </a:lnTo>
                  <a:lnTo>
                    <a:pt x="692" y="73"/>
                  </a:lnTo>
                  <a:lnTo>
                    <a:pt x="681" y="60"/>
                  </a:lnTo>
                  <a:lnTo>
                    <a:pt x="667" y="46"/>
                  </a:lnTo>
                  <a:lnTo>
                    <a:pt x="654" y="35"/>
                  </a:lnTo>
                  <a:lnTo>
                    <a:pt x="638" y="26"/>
                  </a:lnTo>
                  <a:lnTo>
                    <a:pt x="619" y="16"/>
                  </a:lnTo>
                  <a:lnTo>
                    <a:pt x="600" y="9"/>
                  </a:lnTo>
                  <a:lnTo>
                    <a:pt x="582" y="4"/>
                  </a:lnTo>
                  <a:lnTo>
                    <a:pt x="561" y="1"/>
                  </a:lnTo>
                  <a:lnTo>
                    <a:pt x="541" y="0"/>
                  </a:lnTo>
                  <a:lnTo>
                    <a:pt x="519" y="0"/>
                  </a:lnTo>
                  <a:lnTo>
                    <a:pt x="500" y="3"/>
                  </a:lnTo>
                  <a:lnTo>
                    <a:pt x="477" y="9"/>
                  </a:lnTo>
                  <a:lnTo>
                    <a:pt x="453" y="18"/>
                  </a:lnTo>
                  <a:lnTo>
                    <a:pt x="437" y="26"/>
                  </a:lnTo>
                  <a:lnTo>
                    <a:pt x="421" y="36"/>
                  </a:lnTo>
                  <a:lnTo>
                    <a:pt x="407" y="48"/>
                  </a:lnTo>
                  <a:lnTo>
                    <a:pt x="395" y="59"/>
                  </a:lnTo>
                </a:path>
              </a:pathLst>
            </a:custGeom>
            <a:solidFill>
              <a:srgbClr val="4080ff"/>
            </a:solidFill>
            <a:ln cap="rnd" w="50760">
              <a:solidFill>
                <a:srgbClr val="c0e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484800" y="3643560"/>
              <a:ext cx="1186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3480" rIns="33480" tIns="15840" bIns="15840" anchor="t">
              <a:spAutoFit/>
            </a:bodyPr>
            <a:p>
              <a:pPr>
                <a:tabLst>
                  <a:tab algn="l" pos="0"/>
                  <a:tab algn="l" pos="274680"/>
                  <a:tab algn="l" pos="549360"/>
                  <a:tab algn="l" pos="824040"/>
                  <a:tab algn="l" pos="1098720"/>
                  <a:tab algn="l" pos="1373040"/>
                  <a:tab algn="l" pos="1647720"/>
                  <a:tab algn="l" pos="1922400"/>
                  <a:tab algn="l" pos="2197080"/>
                  <a:tab algn="l" pos="2471760"/>
                  <a:tab algn="l" pos="2746440"/>
                  <a:tab algn="l" pos="3021120"/>
                  <a:tab algn="l" pos="3295800"/>
                  <a:tab algn="l" pos="3570120"/>
                  <a:tab algn="l" pos="3844800"/>
                  <a:tab algn="l" pos="4119480"/>
                  <a:tab algn="l" pos="4394160"/>
                  <a:tab algn="l" pos="4668840"/>
                  <a:tab algn="l" pos="4943520"/>
                  <a:tab algn="l" pos="5218200"/>
                  <a:tab algn="l" pos="5492880"/>
                </a:tabLst>
              </a:pPr>
              <a:r>
                <a:rPr b="1" lang="en-US" sz="3600" spc="-1" strike="noStrike">
                  <a:solidFill>
                    <a:srgbClr val="40458c"/>
                  </a:solidFill>
                  <a:latin typeface="Times New Roman"/>
                </a:rPr>
                <a:t>WAN</a:t>
              </a:r>
              <a:endParaRPr b="0" lang="en-US" sz="3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aphicFrame>
        <p:nvGraphicFramePr>
          <p:cNvPr id="221" name=""/>
          <p:cNvGraphicFramePr/>
          <p:nvPr/>
        </p:nvGraphicFramePr>
        <p:xfrm>
          <a:off x="7259760" y="4940280"/>
          <a:ext cx="457200" cy="380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259760" y="4940280"/>
                    <a:ext cx="4572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 flipH="1">
            <a:off x="7475400" y="4221000"/>
            <a:ext cx="120960" cy="6462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7137360" y="765000"/>
          <a:ext cx="777960" cy="721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137360" y="765000"/>
                    <a:ext cx="777960" cy="7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6" name="" descr=""/>
          <p:cNvPicPr/>
          <p:nvPr/>
        </p:nvPicPr>
        <p:blipFill>
          <a:blip r:embed="rId8"/>
          <a:stretch/>
        </p:blipFill>
        <p:spPr>
          <a:xfrm>
            <a:off x="8217000" y="692280"/>
            <a:ext cx="776160" cy="720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942320" y="4286160"/>
            <a:ext cx="109440" cy="65412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797080" y="530064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0458c"/>
                </a:solidFill>
                <a:latin typeface="Times New Roman"/>
              </a:rPr>
              <a:t>FX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95280" y="2637000"/>
            <a:ext cx="1324440" cy="547560"/>
            <a:chOff x="395280" y="2637000"/>
            <a:chExt cx="1324440" cy="547560"/>
          </a:xfrm>
        </p:grpSpPr>
        <p:sp>
          <p:nvSpPr>
            <p:cNvPr id="230" name=""/>
            <p:cNvSpPr/>
            <p:nvPr/>
          </p:nvSpPr>
          <p:spPr>
            <a:xfrm>
              <a:off x="395280" y="2639160"/>
              <a:ext cx="1211400" cy="266040"/>
            </a:xfrm>
            <a:custGeom>
              <a:avLst/>
              <a:gdLst/>
              <a:ahLst/>
              <a:rect l="l" t="t" r="r" b="b"/>
              <a:pathLst>
                <a:path w="4860" h="679">
                  <a:moveTo>
                    <a:pt x="4860" y="679"/>
                  </a:moveTo>
                  <a:lnTo>
                    <a:pt x="669" y="679"/>
                  </a:lnTo>
                  <a:lnTo>
                    <a:pt x="0" y="0"/>
                  </a:lnTo>
                  <a:lnTo>
                    <a:pt x="4189" y="2"/>
                  </a:lnTo>
                  <a:lnTo>
                    <a:pt x="4860" y="679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62680" y="2899440"/>
              <a:ext cx="1044360" cy="28368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95280" y="2637000"/>
              <a:ext cx="170640" cy="547560"/>
            </a:xfrm>
            <a:custGeom>
              <a:avLst/>
              <a:gdLst/>
              <a:ahLst/>
              <a:rect l="l" t="t" r="r" b="b"/>
              <a:pathLst>
                <a:path w="686" h="1396">
                  <a:moveTo>
                    <a:pt x="681" y="674"/>
                  </a:moveTo>
                  <a:lnTo>
                    <a:pt x="686" y="1396"/>
                  </a:lnTo>
                  <a:lnTo>
                    <a:pt x="0" y="716"/>
                  </a:lnTo>
                  <a:lnTo>
                    <a:pt x="1" y="0"/>
                  </a:lnTo>
                  <a:lnTo>
                    <a:pt x="681" y="674"/>
                  </a:lnTo>
                  <a:close/>
                </a:path>
              </a:pathLst>
            </a:cu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74920" y="2915640"/>
              <a:ext cx="874440" cy="25164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234" name=""/>
            <p:cNvGrpSpPr/>
            <p:nvPr/>
          </p:nvGrpSpPr>
          <p:grpSpPr>
            <a:xfrm>
              <a:off x="563760" y="2973240"/>
              <a:ext cx="30600" cy="57600"/>
              <a:chOff x="563760" y="2973240"/>
              <a:chExt cx="30600" cy="57600"/>
            </a:xfrm>
          </p:grpSpPr>
          <p:sp>
            <p:nvSpPr>
              <p:cNvPr id="235" name=""/>
              <p:cNvSpPr/>
              <p:nvPr/>
            </p:nvSpPr>
            <p:spPr>
              <a:xfrm>
                <a:off x="563760" y="2973240"/>
                <a:ext cx="30600" cy="720"/>
              </a:xfrm>
              <a:prstGeom prst="line">
                <a:avLst/>
              </a:prstGeom>
              <a:ln w="6480">
                <a:solidFill>
                  <a:srgbClr val="8d8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63760" y="2980800"/>
                <a:ext cx="30600" cy="720"/>
              </a:xfrm>
              <a:prstGeom prst="line">
                <a:avLst/>
              </a:prstGeom>
              <a:ln w="6480">
                <a:solidFill>
                  <a:srgbClr val="e1df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63760" y="2998080"/>
                <a:ext cx="30600" cy="720"/>
              </a:xfrm>
              <a:prstGeom prst="line">
                <a:avLst/>
              </a:prstGeom>
              <a:ln w="6480">
                <a:solidFill>
                  <a:srgbClr val="8d8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63760" y="3004920"/>
                <a:ext cx="30600" cy="720"/>
              </a:xfrm>
              <a:prstGeom prst="line">
                <a:avLst/>
              </a:prstGeom>
              <a:ln w="6480">
                <a:solidFill>
                  <a:srgbClr val="e1df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63760" y="3022920"/>
                <a:ext cx="30600" cy="360"/>
              </a:xfrm>
              <a:prstGeom prst="line">
                <a:avLst/>
              </a:prstGeom>
              <a:ln w="6480">
                <a:solidFill>
                  <a:srgbClr val="8d8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63760" y="3030120"/>
                <a:ext cx="30600" cy="720"/>
              </a:xfrm>
              <a:prstGeom prst="line">
                <a:avLst/>
              </a:prstGeom>
              <a:ln w="6480">
                <a:solidFill>
                  <a:srgbClr val="e1df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241" name=""/>
            <p:cNvSpPr/>
            <p:nvPr/>
          </p:nvSpPr>
          <p:spPr>
            <a:xfrm>
              <a:off x="1450800" y="2891160"/>
              <a:ext cx="155520" cy="18360"/>
            </a:xfrm>
            <a:custGeom>
              <a:avLst/>
              <a:gdLst/>
              <a:ahLst/>
              <a:rect l="l" t="t" r="r" b="b"/>
              <a:pathLst>
                <a:path w="624" h="49">
                  <a:moveTo>
                    <a:pt x="0" y="27"/>
                  </a:moveTo>
                  <a:lnTo>
                    <a:pt x="104" y="40"/>
                  </a:lnTo>
                  <a:lnTo>
                    <a:pt x="208" y="45"/>
                  </a:lnTo>
                  <a:lnTo>
                    <a:pt x="310" y="49"/>
                  </a:lnTo>
                  <a:lnTo>
                    <a:pt x="418" y="45"/>
                  </a:lnTo>
                  <a:lnTo>
                    <a:pt x="520" y="38"/>
                  </a:lnTo>
                  <a:lnTo>
                    <a:pt x="624" y="27"/>
                  </a:lnTo>
                  <a:lnTo>
                    <a:pt x="559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419760" y="2728800"/>
              <a:ext cx="46080" cy="255240"/>
              <a:chOff x="419760" y="2728800"/>
              <a:chExt cx="46080" cy="2552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419760" y="2728800"/>
                <a:ext cx="46080" cy="81000"/>
                <a:chOff x="419760" y="2728800"/>
                <a:chExt cx="46080" cy="8100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419760" y="2729160"/>
                  <a:ext cx="44280" cy="8064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421200" y="2728800"/>
                  <a:ext cx="44640" cy="8064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419760" y="2757600"/>
                <a:ext cx="46080" cy="81000"/>
                <a:chOff x="419760" y="2757600"/>
                <a:chExt cx="46080" cy="8100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419760" y="2757960"/>
                  <a:ext cx="44280" cy="8064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21200" y="2757600"/>
                  <a:ext cx="44640" cy="8064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419760" y="2786760"/>
                <a:ext cx="46080" cy="81360"/>
                <a:chOff x="419760" y="2786760"/>
                <a:chExt cx="46080" cy="8136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419760" y="2787480"/>
                  <a:ext cx="44280" cy="8064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421200" y="2786760"/>
                  <a:ext cx="44640" cy="8064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419760" y="2815560"/>
                <a:ext cx="46080" cy="81360"/>
                <a:chOff x="419760" y="2815560"/>
                <a:chExt cx="46080" cy="8136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19760" y="2816280"/>
                  <a:ext cx="44280" cy="8064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21200" y="2815560"/>
                  <a:ext cx="44640" cy="8064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419760" y="2844720"/>
                <a:ext cx="46080" cy="81000"/>
                <a:chOff x="419760" y="2844720"/>
                <a:chExt cx="46080" cy="810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419760" y="2845080"/>
                  <a:ext cx="44280" cy="8064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421200" y="2844720"/>
                  <a:ext cx="44640" cy="8064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419760" y="2873880"/>
                <a:ext cx="46080" cy="81000"/>
                <a:chOff x="419760" y="2873880"/>
                <a:chExt cx="46080" cy="8100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419760" y="2874240"/>
                  <a:ext cx="44280" cy="8064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421200" y="2873880"/>
                  <a:ext cx="44640" cy="8064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419760" y="2903040"/>
                <a:ext cx="46080" cy="81000"/>
                <a:chOff x="419760" y="2903040"/>
                <a:chExt cx="46080" cy="8100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419760" y="2903400"/>
                  <a:ext cx="44280" cy="8064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421200" y="2903040"/>
                  <a:ext cx="44640" cy="8064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490320" y="2838240"/>
              <a:ext cx="44640" cy="254880"/>
              <a:chOff x="490320" y="2838240"/>
              <a:chExt cx="44640" cy="254880"/>
            </a:xfrm>
          </p:grpSpPr>
          <p:grpSp>
            <p:nvGrpSpPr>
              <p:cNvPr id="265" name=""/>
              <p:cNvGrpSpPr/>
              <p:nvPr/>
            </p:nvGrpSpPr>
            <p:grpSpPr>
              <a:xfrm>
                <a:off x="490320" y="2838240"/>
                <a:ext cx="44640" cy="80640"/>
                <a:chOff x="490320" y="2838240"/>
                <a:chExt cx="44640" cy="8064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490320" y="2838960"/>
                  <a:ext cx="43200" cy="7992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491760" y="2838240"/>
                  <a:ext cx="43200" cy="7992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" name=""/>
              <p:cNvGrpSpPr/>
              <p:nvPr/>
            </p:nvGrpSpPr>
            <p:grpSpPr>
              <a:xfrm>
                <a:off x="490320" y="2867040"/>
                <a:ext cx="44640" cy="81000"/>
                <a:chOff x="490320" y="2867040"/>
                <a:chExt cx="44640" cy="8100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490320" y="2867760"/>
                  <a:ext cx="43200" cy="8028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491760" y="2867040"/>
                  <a:ext cx="43200" cy="8028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" name=""/>
              <p:cNvGrpSpPr/>
              <p:nvPr/>
            </p:nvGrpSpPr>
            <p:grpSpPr>
              <a:xfrm>
                <a:off x="490320" y="2896200"/>
                <a:ext cx="44640" cy="80280"/>
                <a:chOff x="490320" y="2896200"/>
                <a:chExt cx="44640" cy="8028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490320" y="2896560"/>
                  <a:ext cx="43200" cy="7992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491760" y="2896200"/>
                  <a:ext cx="43200" cy="7992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" name=""/>
              <p:cNvGrpSpPr/>
              <p:nvPr/>
            </p:nvGrpSpPr>
            <p:grpSpPr>
              <a:xfrm>
                <a:off x="490320" y="2925360"/>
                <a:ext cx="44640" cy="80280"/>
                <a:chOff x="490320" y="2925360"/>
                <a:chExt cx="44640" cy="8028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490320" y="2925720"/>
                  <a:ext cx="43200" cy="7992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491760" y="2925360"/>
                  <a:ext cx="43200" cy="7992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7" name=""/>
              <p:cNvGrpSpPr/>
              <p:nvPr/>
            </p:nvGrpSpPr>
            <p:grpSpPr>
              <a:xfrm>
                <a:off x="490320" y="2954520"/>
                <a:ext cx="44640" cy="80280"/>
                <a:chOff x="490320" y="2954520"/>
                <a:chExt cx="44640" cy="8028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490320" y="2954880"/>
                  <a:ext cx="43200" cy="7992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491760" y="2954520"/>
                  <a:ext cx="43200" cy="7992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490320" y="2983680"/>
                <a:ext cx="44640" cy="80280"/>
                <a:chOff x="490320" y="2983680"/>
                <a:chExt cx="44640" cy="8028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490320" y="2984040"/>
                  <a:ext cx="43200" cy="7992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491760" y="2983680"/>
                  <a:ext cx="43200" cy="7992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3" name=""/>
              <p:cNvGrpSpPr/>
              <p:nvPr/>
            </p:nvGrpSpPr>
            <p:grpSpPr>
              <a:xfrm>
                <a:off x="490320" y="3012480"/>
                <a:ext cx="44640" cy="80640"/>
                <a:chOff x="490320" y="3012480"/>
                <a:chExt cx="44640" cy="8064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490320" y="3013200"/>
                  <a:ext cx="43200" cy="7992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91760" y="3012480"/>
                  <a:ext cx="43200" cy="7992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6" name=""/>
            <p:cNvGrpSpPr/>
            <p:nvPr/>
          </p:nvGrpSpPr>
          <p:grpSpPr>
            <a:xfrm>
              <a:off x="430200" y="2644200"/>
              <a:ext cx="181440" cy="245520"/>
              <a:chOff x="430200" y="2644200"/>
              <a:chExt cx="181440" cy="245520"/>
            </a:xfrm>
          </p:grpSpPr>
          <p:sp>
            <p:nvSpPr>
              <p:cNvPr id="287" name=""/>
              <p:cNvSpPr/>
              <p:nvPr/>
            </p:nvSpPr>
            <p:spPr>
              <a:xfrm>
                <a:off x="430200" y="2644200"/>
                <a:ext cx="46080" cy="29880"/>
              </a:xfrm>
              <a:prstGeom prst="ellipse">
                <a:avLst/>
              </a:prstGeom>
              <a:solidFill>
                <a:srgbClr val="bcb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34880" y="2649600"/>
                <a:ext cx="39600" cy="25560"/>
              </a:xfrm>
              <a:prstGeom prst="ellipse">
                <a:avLst/>
              </a:prstGeom>
              <a:solidFill>
                <a:srgbClr val="e1d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65560" y="2859120"/>
                <a:ext cx="46080" cy="28800"/>
              </a:xfrm>
              <a:prstGeom prst="ellipse">
                <a:avLst/>
              </a:prstGeom>
              <a:solidFill>
                <a:srgbClr val="bcb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70240" y="2863800"/>
                <a:ext cx="39600" cy="25920"/>
              </a:xfrm>
              <a:prstGeom prst="ellipse">
                <a:avLst/>
              </a:prstGeom>
              <a:solidFill>
                <a:srgbClr val="e1d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1391760" y="2644200"/>
              <a:ext cx="182520" cy="245520"/>
              <a:chOff x="1391760" y="2644200"/>
              <a:chExt cx="182520" cy="245520"/>
            </a:xfrm>
          </p:grpSpPr>
          <p:sp>
            <p:nvSpPr>
              <p:cNvPr id="292" name=""/>
              <p:cNvSpPr/>
              <p:nvPr/>
            </p:nvSpPr>
            <p:spPr>
              <a:xfrm>
                <a:off x="1391760" y="2644200"/>
                <a:ext cx="46440" cy="29880"/>
              </a:xfrm>
              <a:prstGeom prst="ellipse">
                <a:avLst/>
              </a:prstGeom>
              <a:solidFill>
                <a:srgbClr val="bcb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96080" y="2649600"/>
                <a:ext cx="40320" cy="25560"/>
              </a:xfrm>
              <a:prstGeom prst="ellipse">
                <a:avLst/>
              </a:prstGeom>
              <a:solidFill>
                <a:srgbClr val="e1d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527840" y="2859120"/>
                <a:ext cx="46440" cy="28800"/>
              </a:xfrm>
              <a:prstGeom prst="ellipse">
                <a:avLst/>
              </a:prstGeom>
              <a:solidFill>
                <a:srgbClr val="bcb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532520" y="2863800"/>
                <a:ext cx="40320" cy="25920"/>
              </a:xfrm>
              <a:prstGeom prst="ellipse">
                <a:avLst/>
              </a:prstGeom>
              <a:solidFill>
                <a:srgbClr val="e1d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574920" y="2921760"/>
              <a:ext cx="879840" cy="240480"/>
              <a:chOff x="574920" y="2921760"/>
              <a:chExt cx="879840" cy="240480"/>
            </a:xfrm>
          </p:grpSpPr>
          <p:sp>
            <p:nvSpPr>
              <p:cNvPr id="297" name=""/>
              <p:cNvSpPr/>
              <p:nvPr/>
            </p:nvSpPr>
            <p:spPr>
              <a:xfrm>
                <a:off x="574920" y="2922840"/>
                <a:ext cx="828000" cy="239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376280" y="2921760"/>
                <a:ext cx="78480" cy="240480"/>
              </a:xfrm>
              <a:prstGeom prst="flowChartDelay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299" name=""/>
            <p:cNvSpPr/>
            <p:nvPr/>
          </p:nvSpPr>
          <p:spPr>
            <a:xfrm>
              <a:off x="1483920" y="2912040"/>
              <a:ext cx="123840" cy="27216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50000">
                  <a:srgbClr val="749bc2"/>
                </a:gs>
                <a:gs pos="100000">
                  <a:srgbClr val="99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354680" y="2835720"/>
              <a:ext cx="3650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40458c"/>
                  </a:solidFill>
                  <a:latin typeface="Arial"/>
                </a:rPr>
                <a:t>3COM</a:t>
              </a:r>
              <a:endParaRPr b="0" lang="en-US" sz="5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301" name=""/>
            <p:cNvGrpSpPr/>
            <p:nvPr/>
          </p:nvGrpSpPr>
          <p:grpSpPr>
            <a:xfrm>
              <a:off x="613440" y="2955960"/>
              <a:ext cx="801720" cy="176760"/>
              <a:chOff x="613440" y="2955960"/>
              <a:chExt cx="801720" cy="176760"/>
            </a:xfrm>
          </p:grpSpPr>
          <p:grpSp>
            <p:nvGrpSpPr>
              <p:cNvPr id="302" name=""/>
              <p:cNvGrpSpPr/>
              <p:nvPr/>
            </p:nvGrpSpPr>
            <p:grpSpPr>
              <a:xfrm>
                <a:off x="1325880" y="2955960"/>
                <a:ext cx="89280" cy="33840"/>
                <a:chOff x="1325880" y="2955960"/>
                <a:chExt cx="89280" cy="33840"/>
              </a:xfrm>
            </p:grpSpPr>
            <p:grpSp>
              <p:nvGrpSpPr>
                <p:cNvPr id="303" name=""/>
                <p:cNvGrpSpPr/>
                <p:nvPr/>
              </p:nvGrpSpPr>
              <p:grpSpPr>
                <a:xfrm>
                  <a:off x="1325880" y="2955960"/>
                  <a:ext cx="26640" cy="33840"/>
                  <a:chOff x="1325880" y="2955960"/>
                  <a:chExt cx="26640" cy="33840"/>
                </a:xfrm>
              </p:grpSpPr>
              <p:sp>
                <p:nvSpPr>
                  <p:cNvPr id="304" name=""/>
                  <p:cNvSpPr/>
                  <p:nvPr/>
                </p:nvSpPr>
                <p:spPr>
                  <a:xfrm>
                    <a:off x="1334880" y="2961720"/>
                    <a:ext cx="17640" cy="64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1325880" y="2955960"/>
                    <a:ext cx="1512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1">
                        <a:moveTo>
                          <a:pt x="0" y="0"/>
                        </a:moveTo>
                        <a:lnTo>
                          <a:pt x="60" y="0"/>
                        </a:lnTo>
                        <a:lnTo>
                          <a:pt x="41" y="21"/>
                        </a:lnTo>
                        <a:lnTo>
                          <a:pt x="0" y="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1325880" y="2967480"/>
                    <a:ext cx="1512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0">
                        <a:moveTo>
                          <a:pt x="0" y="20"/>
                        </a:moveTo>
                        <a:lnTo>
                          <a:pt x="60" y="20"/>
                        </a:lnTo>
                        <a:lnTo>
                          <a:pt x="41" y="0"/>
                        </a:lnTo>
                        <a:lnTo>
                          <a:pt x="0" y="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1325880" y="2977920"/>
                    <a:ext cx="18360" cy="64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1337760" y="2972880"/>
                    <a:ext cx="147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19">
                        <a:moveTo>
                          <a:pt x="60" y="0"/>
                        </a:moveTo>
                        <a:lnTo>
                          <a:pt x="0" y="0"/>
                        </a:lnTo>
                        <a:lnTo>
                          <a:pt x="17" y="19"/>
                        </a:lnTo>
                        <a:lnTo>
                          <a:pt x="60" y="19"/>
                        </a:lnTo>
                        <a:lnTo>
                          <a:pt x="6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1337040" y="2984040"/>
                    <a:ext cx="1512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18">
                        <a:moveTo>
                          <a:pt x="61" y="18"/>
                        </a:moveTo>
                        <a:lnTo>
                          <a:pt x="0" y="18"/>
                        </a:lnTo>
                        <a:lnTo>
                          <a:pt x="17" y="0"/>
                        </a:lnTo>
                        <a:lnTo>
                          <a:pt x="61" y="0"/>
                        </a:lnTo>
                        <a:lnTo>
                          <a:pt x="61" y="18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0" name=""/>
                <p:cNvGrpSpPr/>
                <p:nvPr/>
              </p:nvGrpSpPr>
              <p:grpSpPr>
                <a:xfrm>
                  <a:off x="1357200" y="2959560"/>
                  <a:ext cx="57960" cy="25560"/>
                  <a:chOff x="1357200" y="2959560"/>
                  <a:chExt cx="57960" cy="25560"/>
                </a:xfrm>
              </p:grpSpPr>
              <p:sp>
                <p:nvSpPr>
                  <p:cNvPr id="311" name=""/>
                  <p:cNvSpPr/>
                  <p:nvPr/>
                </p:nvSpPr>
                <p:spPr>
                  <a:xfrm>
                    <a:off x="1357200" y="2959560"/>
                    <a:ext cx="57960" cy="1044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1357200" y="2975040"/>
                    <a:ext cx="57960" cy="100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3" name=""/>
              <p:cNvGrpSpPr/>
              <p:nvPr/>
            </p:nvGrpSpPr>
            <p:grpSpPr>
              <a:xfrm>
                <a:off x="1368000" y="3114720"/>
                <a:ext cx="45360" cy="18000"/>
                <a:chOff x="1368000" y="3114720"/>
                <a:chExt cx="45360" cy="1800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1368000" y="3114720"/>
                  <a:ext cx="45360" cy="82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1370880" y="3124440"/>
                  <a:ext cx="42480" cy="82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1282680" y="2980080"/>
                <a:ext cx="34560" cy="53640"/>
                <a:chOff x="1282680" y="2980080"/>
                <a:chExt cx="34560" cy="5364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1282680" y="2988360"/>
                  <a:ext cx="34560" cy="45360"/>
                </a:xfrm>
                <a:custGeom>
                  <a:avLst/>
                  <a:gdLst/>
                  <a:ahLst/>
                  <a:rect l="l" t="t" r="r" b="b"/>
                  <a:pathLst>
                    <a:path w="138" h="141">
                      <a:moveTo>
                        <a:pt x="0" y="141"/>
                      </a:moveTo>
                      <a:lnTo>
                        <a:pt x="0" y="0"/>
                      </a:lnTo>
                      <a:lnTo>
                        <a:pt x="138" y="0"/>
                      </a:lnTo>
                      <a:lnTo>
                        <a:pt x="138" y="138"/>
                      </a:lnTo>
                    </a:path>
                  </a:pathLst>
                </a:custGeom>
                <a:noFill/>
                <a:ln w="6480">
                  <a:solidFill>
                    <a:srgbClr val="8d856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289160" y="2980080"/>
                  <a:ext cx="23400" cy="18360"/>
                </a:xfrm>
                <a:prstGeom prst="rect">
                  <a:avLst/>
                </a:pr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1292040" y="2982600"/>
                  <a:ext cx="16920" cy="14040"/>
                </a:xfrm>
                <a:prstGeom prst="rect">
                  <a:avLst/>
                </a:prstGeom>
                <a:solidFill>
                  <a:srgbClr val="5249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1288440" y="3044160"/>
                <a:ext cx="10440" cy="1296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1302480" y="3044160"/>
                <a:ext cx="10440" cy="1296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1288440" y="3063240"/>
                <a:ext cx="10440" cy="1476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302480" y="3063240"/>
                <a:ext cx="10440" cy="1476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288440" y="3083400"/>
                <a:ext cx="10440" cy="1404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302480" y="3083400"/>
                <a:ext cx="10440" cy="1404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288440" y="3103560"/>
                <a:ext cx="10440" cy="1512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302480" y="3103560"/>
                <a:ext cx="10440" cy="1512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20480" y="3087360"/>
                <a:ext cx="3384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854280" y="2980080"/>
                <a:ext cx="164160" cy="48240"/>
              </a:xfrm>
              <a:custGeom>
                <a:avLst/>
                <a:gdLst/>
                <a:ahLst/>
                <a:rect l="l" t="t" r="r" b="b"/>
                <a:pathLst>
                  <a:path w="667" h="146">
                    <a:moveTo>
                      <a:pt x="0" y="146"/>
                    </a:moveTo>
                    <a:lnTo>
                      <a:pt x="0" y="0"/>
                    </a:lnTo>
                    <a:lnTo>
                      <a:pt x="667" y="0"/>
                    </a:lnTo>
                    <a:lnTo>
                      <a:pt x="667" y="144"/>
                    </a:lnTo>
                  </a:path>
                </a:pathLst>
              </a:custGeom>
              <a:noFill/>
              <a:ln w="6480">
                <a:solidFill>
                  <a:srgbClr val="8d856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915120" y="2970000"/>
                <a:ext cx="49320" cy="19800"/>
              </a:xfrm>
              <a:prstGeom prst="rect">
                <a:avLst/>
              </a:prstGeom>
              <a:solidFill>
                <a:srgbClr val="a6a2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921960" y="2972880"/>
                <a:ext cx="34560" cy="147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332" name=""/>
              <p:cNvGrpSpPr/>
              <p:nvPr/>
            </p:nvGrpSpPr>
            <p:grpSpPr>
              <a:xfrm>
                <a:off x="906480" y="2993040"/>
                <a:ext cx="64080" cy="32040"/>
                <a:chOff x="906480" y="2993040"/>
                <a:chExt cx="64080" cy="3204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906480" y="2993040"/>
                  <a:ext cx="64080" cy="8640"/>
                </a:xfrm>
                <a:prstGeom prst="rect">
                  <a:avLst/>
                </a:prstGeom>
                <a:solidFill>
                  <a:srgbClr val="ecd8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909360" y="3004200"/>
                  <a:ext cx="57960" cy="8640"/>
                </a:xfrm>
                <a:prstGeom prst="rect">
                  <a:avLst/>
                </a:prstGeom>
                <a:solidFill>
                  <a:srgbClr val="ecd8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915120" y="3016440"/>
                  <a:ext cx="47160" cy="8640"/>
                </a:xfrm>
                <a:prstGeom prst="rect">
                  <a:avLst/>
                </a:prstGeom>
                <a:solidFill>
                  <a:srgbClr val="ecd8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852480" y="3037320"/>
                <a:ext cx="83880" cy="74880"/>
                <a:chOff x="852480" y="3037320"/>
                <a:chExt cx="83880" cy="74880"/>
              </a:xfrm>
            </p:grpSpPr>
            <p:grpSp>
              <p:nvGrpSpPr>
                <p:cNvPr id="337" name=""/>
                <p:cNvGrpSpPr/>
                <p:nvPr/>
              </p:nvGrpSpPr>
              <p:grpSpPr>
                <a:xfrm>
                  <a:off x="852480" y="3037320"/>
                  <a:ext cx="83880" cy="13680"/>
                  <a:chOff x="852480" y="3037320"/>
                  <a:chExt cx="83880" cy="13680"/>
                </a:xfrm>
              </p:grpSpPr>
              <p:sp>
                <p:nvSpPr>
                  <p:cNvPr id="338" name=""/>
                  <p:cNvSpPr/>
                  <p:nvPr/>
                </p:nvSpPr>
                <p:spPr>
                  <a:xfrm>
                    <a:off x="852480" y="3037320"/>
                    <a:ext cx="10800" cy="1368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866520" y="3037320"/>
                    <a:ext cx="10800" cy="1368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881640" y="3037320"/>
                    <a:ext cx="10800" cy="1368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896400" y="3037320"/>
                    <a:ext cx="10080" cy="1368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910800" y="3037320"/>
                    <a:ext cx="10800" cy="1368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925560" y="3037320"/>
                    <a:ext cx="10800" cy="1368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852480" y="3057120"/>
                  <a:ext cx="83880" cy="14400"/>
                  <a:chOff x="852480" y="3057120"/>
                  <a:chExt cx="83880" cy="1440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852480" y="3057120"/>
                    <a:ext cx="10800" cy="144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866520" y="3057120"/>
                    <a:ext cx="10800" cy="144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881640" y="3057120"/>
                    <a:ext cx="10800" cy="144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896400" y="3057120"/>
                    <a:ext cx="10080" cy="144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910800" y="3057120"/>
                    <a:ext cx="10800" cy="144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>
                    <a:off x="925560" y="3057120"/>
                    <a:ext cx="10800" cy="144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1" name=""/>
                <p:cNvGrpSpPr/>
                <p:nvPr/>
              </p:nvGrpSpPr>
              <p:grpSpPr>
                <a:xfrm>
                  <a:off x="852480" y="3078000"/>
                  <a:ext cx="83880" cy="13680"/>
                  <a:chOff x="852480" y="3078000"/>
                  <a:chExt cx="83880" cy="13680"/>
                </a:xfrm>
              </p:grpSpPr>
              <p:sp>
                <p:nvSpPr>
                  <p:cNvPr id="352" name=""/>
                  <p:cNvSpPr/>
                  <p:nvPr/>
                </p:nvSpPr>
                <p:spPr>
                  <a:xfrm>
                    <a:off x="852480" y="3078000"/>
                    <a:ext cx="10800" cy="1368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>
                    <a:off x="866520" y="3078000"/>
                    <a:ext cx="10800" cy="1368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>
                    <a:off x="881640" y="3078000"/>
                    <a:ext cx="10800" cy="1368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96400" y="3078000"/>
                    <a:ext cx="10080" cy="1368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910800" y="3078000"/>
                    <a:ext cx="10800" cy="1368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>
                    <a:off x="925560" y="3078000"/>
                    <a:ext cx="10800" cy="1368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8" name=""/>
                <p:cNvGrpSpPr/>
                <p:nvPr/>
              </p:nvGrpSpPr>
              <p:grpSpPr>
                <a:xfrm>
                  <a:off x="852480" y="3097800"/>
                  <a:ext cx="83880" cy="14400"/>
                  <a:chOff x="852480" y="3097800"/>
                  <a:chExt cx="83880" cy="14400"/>
                </a:xfrm>
              </p:grpSpPr>
              <p:sp>
                <p:nvSpPr>
                  <p:cNvPr id="359" name=""/>
                  <p:cNvSpPr/>
                  <p:nvPr/>
                </p:nvSpPr>
                <p:spPr>
                  <a:xfrm>
                    <a:off x="852480" y="3097800"/>
                    <a:ext cx="10800" cy="144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>
                    <a:off x="866520" y="3097800"/>
                    <a:ext cx="10800" cy="144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881640" y="3097800"/>
                    <a:ext cx="10800" cy="144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896400" y="3097800"/>
                    <a:ext cx="10080" cy="144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910800" y="3097800"/>
                    <a:ext cx="10800" cy="144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925560" y="3097800"/>
                    <a:ext cx="10800" cy="144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65" name=""/>
              <p:cNvGrpSpPr/>
              <p:nvPr/>
            </p:nvGrpSpPr>
            <p:grpSpPr>
              <a:xfrm>
                <a:off x="941400" y="3037320"/>
                <a:ext cx="83160" cy="74880"/>
                <a:chOff x="941400" y="3037320"/>
                <a:chExt cx="83160" cy="74880"/>
              </a:xfrm>
            </p:grpSpPr>
            <p:grpSp>
              <p:nvGrpSpPr>
                <p:cNvPr id="366" name=""/>
                <p:cNvGrpSpPr/>
                <p:nvPr/>
              </p:nvGrpSpPr>
              <p:grpSpPr>
                <a:xfrm>
                  <a:off x="941400" y="3037320"/>
                  <a:ext cx="83160" cy="13680"/>
                  <a:chOff x="941400" y="3037320"/>
                  <a:chExt cx="83160" cy="13680"/>
                </a:xfrm>
              </p:grpSpPr>
              <p:sp>
                <p:nvSpPr>
                  <p:cNvPr id="367" name=""/>
                  <p:cNvSpPr/>
                  <p:nvPr/>
                </p:nvSpPr>
                <p:spPr>
                  <a:xfrm>
                    <a:off x="941400" y="3037320"/>
                    <a:ext cx="10080" cy="1368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>
                    <a:off x="955440" y="3037320"/>
                    <a:ext cx="10800" cy="1368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970200" y="3037320"/>
                    <a:ext cx="10800" cy="1368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984600" y="3037320"/>
                    <a:ext cx="10800" cy="1368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999360" y="3037320"/>
                    <a:ext cx="10800" cy="1368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1014480" y="3037320"/>
                    <a:ext cx="10080" cy="1368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3" name=""/>
                <p:cNvGrpSpPr/>
                <p:nvPr/>
              </p:nvGrpSpPr>
              <p:grpSpPr>
                <a:xfrm>
                  <a:off x="941400" y="3057120"/>
                  <a:ext cx="83160" cy="14400"/>
                  <a:chOff x="941400" y="3057120"/>
                  <a:chExt cx="83160" cy="14400"/>
                </a:xfrm>
              </p:grpSpPr>
              <p:sp>
                <p:nvSpPr>
                  <p:cNvPr id="374" name=""/>
                  <p:cNvSpPr/>
                  <p:nvPr/>
                </p:nvSpPr>
                <p:spPr>
                  <a:xfrm>
                    <a:off x="941400" y="3057120"/>
                    <a:ext cx="10080" cy="144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955440" y="3057120"/>
                    <a:ext cx="10800" cy="144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970200" y="3057120"/>
                    <a:ext cx="10800" cy="144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984600" y="3057120"/>
                    <a:ext cx="10800" cy="144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999360" y="3057120"/>
                    <a:ext cx="10800" cy="144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1014480" y="3057120"/>
                    <a:ext cx="10080" cy="144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0" name=""/>
                <p:cNvGrpSpPr/>
                <p:nvPr/>
              </p:nvGrpSpPr>
              <p:grpSpPr>
                <a:xfrm>
                  <a:off x="941400" y="3078000"/>
                  <a:ext cx="83160" cy="13680"/>
                  <a:chOff x="941400" y="3078000"/>
                  <a:chExt cx="83160" cy="13680"/>
                </a:xfrm>
              </p:grpSpPr>
              <p:sp>
                <p:nvSpPr>
                  <p:cNvPr id="381" name=""/>
                  <p:cNvSpPr/>
                  <p:nvPr/>
                </p:nvSpPr>
                <p:spPr>
                  <a:xfrm>
                    <a:off x="941400" y="3078000"/>
                    <a:ext cx="10080" cy="1368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955440" y="3078000"/>
                    <a:ext cx="10800" cy="1368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970200" y="3078000"/>
                    <a:ext cx="10800" cy="1368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984600" y="3078000"/>
                    <a:ext cx="10800" cy="1368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999360" y="3078000"/>
                    <a:ext cx="10800" cy="1368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1014480" y="3078000"/>
                    <a:ext cx="10080" cy="1368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7" name=""/>
                <p:cNvGrpSpPr/>
                <p:nvPr/>
              </p:nvGrpSpPr>
              <p:grpSpPr>
                <a:xfrm>
                  <a:off x="941400" y="3097800"/>
                  <a:ext cx="83160" cy="14400"/>
                  <a:chOff x="941400" y="3097800"/>
                  <a:chExt cx="83160" cy="14400"/>
                </a:xfrm>
              </p:grpSpPr>
              <p:sp>
                <p:nvSpPr>
                  <p:cNvPr id="388" name=""/>
                  <p:cNvSpPr/>
                  <p:nvPr/>
                </p:nvSpPr>
                <p:spPr>
                  <a:xfrm>
                    <a:off x="941400" y="3097800"/>
                    <a:ext cx="10080" cy="144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955440" y="3097800"/>
                    <a:ext cx="10800" cy="144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970200" y="3097800"/>
                    <a:ext cx="10800" cy="144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984600" y="3097800"/>
                    <a:ext cx="10800" cy="144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999360" y="3097800"/>
                    <a:ext cx="10800" cy="144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1014480" y="3097800"/>
                    <a:ext cx="10080" cy="144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94" name=""/>
              <p:cNvGrpSpPr/>
              <p:nvPr/>
            </p:nvGrpSpPr>
            <p:grpSpPr>
              <a:xfrm>
                <a:off x="613440" y="3062520"/>
                <a:ext cx="217440" cy="66240"/>
                <a:chOff x="613440" y="3062520"/>
                <a:chExt cx="217440" cy="66240"/>
              </a:xfrm>
            </p:grpSpPr>
            <p:grpSp>
              <p:nvGrpSpPr>
                <p:cNvPr id="395" name=""/>
                <p:cNvGrpSpPr/>
                <p:nvPr/>
              </p:nvGrpSpPr>
              <p:grpSpPr>
                <a:xfrm>
                  <a:off x="613440" y="3062520"/>
                  <a:ext cx="27000" cy="66240"/>
                  <a:chOff x="613440" y="3062520"/>
                  <a:chExt cx="27000" cy="66240"/>
                </a:xfrm>
              </p:grpSpPr>
              <p:grpSp>
                <p:nvGrpSpPr>
                  <p:cNvPr id="396" name=""/>
                  <p:cNvGrpSpPr/>
                  <p:nvPr/>
                </p:nvGrpSpPr>
                <p:grpSpPr>
                  <a:xfrm>
                    <a:off x="613440" y="3062520"/>
                    <a:ext cx="27000" cy="66240"/>
                    <a:chOff x="613440" y="3062520"/>
                    <a:chExt cx="27000" cy="66240"/>
                  </a:xfrm>
                </p:grpSpPr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13440" y="3075120"/>
                      <a:ext cx="25920" cy="507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8" name=""/>
                    <p:cNvSpPr/>
                    <p:nvPr/>
                  </p:nvSpPr>
                  <p:spPr>
                    <a:xfrm>
                      <a:off x="613440" y="3078000"/>
                      <a:ext cx="324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615960" y="3087720"/>
                      <a:ext cx="24480" cy="3996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613440" y="3078000"/>
                      <a:ext cx="27000" cy="11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1" name=""/>
                    <p:cNvSpPr/>
                    <p:nvPr/>
                  </p:nvSpPr>
                  <p:spPr>
                    <a:xfrm>
                      <a:off x="614880" y="3062520"/>
                      <a:ext cx="324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634680" y="3062520"/>
                      <a:ext cx="252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03" name=""/>
                  <p:cNvSpPr/>
                  <p:nvPr/>
                </p:nvSpPr>
                <p:spPr>
                  <a:xfrm>
                    <a:off x="621720" y="3098880"/>
                    <a:ext cx="14760" cy="223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4" name=""/>
                <p:cNvGrpSpPr/>
                <p:nvPr/>
              </p:nvGrpSpPr>
              <p:grpSpPr>
                <a:xfrm>
                  <a:off x="651240" y="3062520"/>
                  <a:ext cx="27000" cy="66240"/>
                  <a:chOff x="651240" y="3062520"/>
                  <a:chExt cx="27000" cy="66240"/>
                </a:xfrm>
              </p:grpSpPr>
              <p:grpSp>
                <p:nvGrpSpPr>
                  <p:cNvPr id="405" name=""/>
                  <p:cNvGrpSpPr/>
                  <p:nvPr/>
                </p:nvGrpSpPr>
                <p:grpSpPr>
                  <a:xfrm>
                    <a:off x="651240" y="3062520"/>
                    <a:ext cx="27000" cy="66240"/>
                    <a:chOff x="651240" y="3062520"/>
                    <a:chExt cx="27000" cy="66240"/>
                  </a:xfrm>
                </p:grpSpPr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651240" y="3075120"/>
                      <a:ext cx="25920" cy="507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7" name=""/>
                    <p:cNvSpPr/>
                    <p:nvPr/>
                  </p:nvSpPr>
                  <p:spPr>
                    <a:xfrm>
                      <a:off x="651240" y="3078000"/>
                      <a:ext cx="324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53760" y="3087720"/>
                      <a:ext cx="24480" cy="3996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51240" y="3078000"/>
                      <a:ext cx="27000" cy="11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0" name=""/>
                    <p:cNvSpPr/>
                    <p:nvPr/>
                  </p:nvSpPr>
                  <p:spPr>
                    <a:xfrm>
                      <a:off x="652680" y="3062520"/>
                      <a:ext cx="324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672480" y="3062520"/>
                      <a:ext cx="252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12" name=""/>
                  <p:cNvSpPr/>
                  <p:nvPr/>
                </p:nvSpPr>
                <p:spPr>
                  <a:xfrm>
                    <a:off x="659520" y="3098880"/>
                    <a:ext cx="14760" cy="223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3" name=""/>
                <p:cNvGrpSpPr/>
                <p:nvPr/>
              </p:nvGrpSpPr>
              <p:grpSpPr>
                <a:xfrm>
                  <a:off x="689040" y="3062520"/>
                  <a:ext cx="27360" cy="66240"/>
                  <a:chOff x="689040" y="3062520"/>
                  <a:chExt cx="27360" cy="66240"/>
                </a:xfrm>
              </p:grpSpPr>
              <p:grpSp>
                <p:nvGrpSpPr>
                  <p:cNvPr id="414" name=""/>
                  <p:cNvGrpSpPr/>
                  <p:nvPr/>
                </p:nvGrpSpPr>
                <p:grpSpPr>
                  <a:xfrm>
                    <a:off x="689040" y="3062520"/>
                    <a:ext cx="27360" cy="66240"/>
                    <a:chOff x="689040" y="3062520"/>
                    <a:chExt cx="27360" cy="66240"/>
                  </a:xfrm>
                </p:grpSpPr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689040" y="3075120"/>
                      <a:ext cx="26280" cy="507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6" name=""/>
                    <p:cNvSpPr/>
                    <p:nvPr/>
                  </p:nvSpPr>
                  <p:spPr>
                    <a:xfrm>
                      <a:off x="689040" y="3078000"/>
                      <a:ext cx="324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691560" y="3087720"/>
                      <a:ext cx="24480" cy="3996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689040" y="3078000"/>
                      <a:ext cx="27360" cy="11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9" name=""/>
                    <p:cNvSpPr/>
                    <p:nvPr/>
                  </p:nvSpPr>
                  <p:spPr>
                    <a:xfrm>
                      <a:off x="690480" y="3062520"/>
                      <a:ext cx="324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710640" y="3062520"/>
                      <a:ext cx="288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21" name=""/>
                  <p:cNvSpPr/>
                  <p:nvPr/>
                </p:nvSpPr>
                <p:spPr>
                  <a:xfrm>
                    <a:off x="697320" y="3098880"/>
                    <a:ext cx="15120" cy="223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2" name=""/>
                <p:cNvGrpSpPr/>
                <p:nvPr/>
              </p:nvGrpSpPr>
              <p:grpSpPr>
                <a:xfrm>
                  <a:off x="727560" y="3062520"/>
                  <a:ext cx="27000" cy="66240"/>
                  <a:chOff x="727560" y="3062520"/>
                  <a:chExt cx="27000" cy="66240"/>
                </a:xfrm>
              </p:grpSpPr>
              <p:grpSp>
                <p:nvGrpSpPr>
                  <p:cNvPr id="423" name=""/>
                  <p:cNvGrpSpPr/>
                  <p:nvPr/>
                </p:nvGrpSpPr>
                <p:grpSpPr>
                  <a:xfrm>
                    <a:off x="727560" y="3062520"/>
                    <a:ext cx="27000" cy="66240"/>
                    <a:chOff x="727560" y="3062520"/>
                    <a:chExt cx="27000" cy="66240"/>
                  </a:xfrm>
                </p:grpSpPr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727560" y="3075120"/>
                      <a:ext cx="25920" cy="507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5" name=""/>
                    <p:cNvSpPr/>
                    <p:nvPr/>
                  </p:nvSpPr>
                  <p:spPr>
                    <a:xfrm>
                      <a:off x="727560" y="3078000"/>
                      <a:ext cx="324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730080" y="3087720"/>
                      <a:ext cx="24480" cy="3996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727560" y="3078000"/>
                      <a:ext cx="27000" cy="11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8" name=""/>
                    <p:cNvSpPr/>
                    <p:nvPr/>
                  </p:nvSpPr>
                  <p:spPr>
                    <a:xfrm>
                      <a:off x="729000" y="3062520"/>
                      <a:ext cx="324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748800" y="3062520"/>
                      <a:ext cx="252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30" name=""/>
                  <p:cNvSpPr/>
                  <p:nvPr/>
                </p:nvSpPr>
                <p:spPr>
                  <a:xfrm>
                    <a:off x="735840" y="3098880"/>
                    <a:ext cx="14760" cy="223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1" name=""/>
                <p:cNvGrpSpPr/>
                <p:nvPr/>
              </p:nvGrpSpPr>
              <p:grpSpPr>
                <a:xfrm>
                  <a:off x="765360" y="3062520"/>
                  <a:ext cx="27000" cy="66240"/>
                  <a:chOff x="765360" y="3062520"/>
                  <a:chExt cx="27000" cy="66240"/>
                </a:xfrm>
              </p:grpSpPr>
              <p:grpSp>
                <p:nvGrpSpPr>
                  <p:cNvPr id="432" name=""/>
                  <p:cNvGrpSpPr/>
                  <p:nvPr/>
                </p:nvGrpSpPr>
                <p:grpSpPr>
                  <a:xfrm>
                    <a:off x="765360" y="3062520"/>
                    <a:ext cx="27000" cy="66240"/>
                    <a:chOff x="765360" y="3062520"/>
                    <a:chExt cx="27000" cy="66240"/>
                  </a:xfrm>
                </p:grpSpPr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765360" y="3075120"/>
                      <a:ext cx="25920" cy="507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4" name=""/>
                    <p:cNvSpPr/>
                    <p:nvPr/>
                  </p:nvSpPr>
                  <p:spPr>
                    <a:xfrm>
                      <a:off x="765360" y="3078000"/>
                      <a:ext cx="324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5" name=""/>
                    <p:cNvSpPr/>
                    <p:nvPr/>
                  </p:nvSpPr>
                  <p:spPr>
                    <a:xfrm>
                      <a:off x="767880" y="3087720"/>
                      <a:ext cx="24480" cy="3996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6" name=""/>
                    <p:cNvSpPr/>
                    <p:nvPr/>
                  </p:nvSpPr>
                  <p:spPr>
                    <a:xfrm>
                      <a:off x="765360" y="3078000"/>
                      <a:ext cx="27000" cy="11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7" name=""/>
                    <p:cNvSpPr/>
                    <p:nvPr/>
                  </p:nvSpPr>
                  <p:spPr>
                    <a:xfrm>
                      <a:off x="766800" y="3062520"/>
                      <a:ext cx="324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8" name=""/>
                    <p:cNvSpPr/>
                    <p:nvPr/>
                  </p:nvSpPr>
                  <p:spPr>
                    <a:xfrm>
                      <a:off x="786600" y="3062520"/>
                      <a:ext cx="252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39" name=""/>
                  <p:cNvSpPr/>
                  <p:nvPr/>
                </p:nvSpPr>
                <p:spPr>
                  <a:xfrm>
                    <a:off x="773640" y="3098880"/>
                    <a:ext cx="14760" cy="223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0" name=""/>
                <p:cNvGrpSpPr/>
                <p:nvPr/>
              </p:nvGrpSpPr>
              <p:grpSpPr>
                <a:xfrm>
                  <a:off x="803880" y="3062520"/>
                  <a:ext cx="27000" cy="66240"/>
                  <a:chOff x="803880" y="3062520"/>
                  <a:chExt cx="27000" cy="66240"/>
                </a:xfrm>
              </p:grpSpPr>
              <p:grpSp>
                <p:nvGrpSpPr>
                  <p:cNvPr id="441" name=""/>
                  <p:cNvGrpSpPr/>
                  <p:nvPr/>
                </p:nvGrpSpPr>
                <p:grpSpPr>
                  <a:xfrm>
                    <a:off x="803880" y="3062520"/>
                    <a:ext cx="27000" cy="66240"/>
                    <a:chOff x="803880" y="3062520"/>
                    <a:chExt cx="27000" cy="66240"/>
                  </a:xfrm>
                </p:grpSpPr>
                <p:sp>
                  <p:nvSpPr>
                    <p:cNvPr id="442" name=""/>
                    <p:cNvSpPr/>
                    <p:nvPr/>
                  </p:nvSpPr>
                  <p:spPr>
                    <a:xfrm>
                      <a:off x="803880" y="3075120"/>
                      <a:ext cx="25920" cy="507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3" name=""/>
                    <p:cNvSpPr/>
                    <p:nvPr/>
                  </p:nvSpPr>
                  <p:spPr>
                    <a:xfrm>
                      <a:off x="803880" y="3078000"/>
                      <a:ext cx="324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4" name=""/>
                    <p:cNvSpPr/>
                    <p:nvPr/>
                  </p:nvSpPr>
                  <p:spPr>
                    <a:xfrm>
                      <a:off x="806400" y="3087720"/>
                      <a:ext cx="24480" cy="3996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5" name=""/>
                    <p:cNvSpPr/>
                    <p:nvPr/>
                  </p:nvSpPr>
                  <p:spPr>
                    <a:xfrm>
                      <a:off x="803880" y="3078000"/>
                      <a:ext cx="27000" cy="11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6" name=""/>
                    <p:cNvSpPr/>
                    <p:nvPr/>
                  </p:nvSpPr>
                  <p:spPr>
                    <a:xfrm>
                      <a:off x="805320" y="3062520"/>
                      <a:ext cx="324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7" name=""/>
                    <p:cNvSpPr/>
                    <p:nvPr/>
                  </p:nvSpPr>
                  <p:spPr>
                    <a:xfrm>
                      <a:off x="825120" y="3062520"/>
                      <a:ext cx="252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48" name=""/>
                  <p:cNvSpPr/>
                  <p:nvPr/>
                </p:nvSpPr>
                <p:spPr>
                  <a:xfrm>
                    <a:off x="812160" y="3098880"/>
                    <a:ext cx="14760" cy="223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9" name=""/>
              <p:cNvGrpSpPr/>
              <p:nvPr/>
            </p:nvGrpSpPr>
            <p:grpSpPr>
              <a:xfrm>
                <a:off x="1056960" y="3054240"/>
                <a:ext cx="217440" cy="66240"/>
                <a:chOff x="1056960" y="3054240"/>
                <a:chExt cx="217440" cy="66240"/>
              </a:xfrm>
            </p:grpSpPr>
            <p:grpSp>
              <p:nvGrpSpPr>
                <p:cNvPr id="450" name=""/>
                <p:cNvGrpSpPr/>
                <p:nvPr/>
              </p:nvGrpSpPr>
              <p:grpSpPr>
                <a:xfrm>
                  <a:off x="1056960" y="3054240"/>
                  <a:ext cx="27000" cy="66240"/>
                  <a:chOff x="1056960" y="3054240"/>
                  <a:chExt cx="27000" cy="66240"/>
                </a:xfrm>
              </p:grpSpPr>
              <p:grpSp>
                <p:nvGrpSpPr>
                  <p:cNvPr id="451" name=""/>
                  <p:cNvGrpSpPr/>
                  <p:nvPr/>
                </p:nvGrpSpPr>
                <p:grpSpPr>
                  <a:xfrm>
                    <a:off x="1056960" y="3054240"/>
                    <a:ext cx="27000" cy="66240"/>
                    <a:chOff x="1056960" y="3054240"/>
                    <a:chExt cx="27000" cy="66240"/>
                  </a:xfrm>
                </p:grpSpPr>
                <p:sp>
                  <p:nvSpPr>
                    <p:cNvPr id="452" name=""/>
                    <p:cNvSpPr/>
                    <p:nvPr/>
                  </p:nvSpPr>
                  <p:spPr>
                    <a:xfrm>
                      <a:off x="1056960" y="3066840"/>
                      <a:ext cx="25920" cy="507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3" name=""/>
                    <p:cNvSpPr/>
                    <p:nvPr/>
                  </p:nvSpPr>
                  <p:spPr>
                    <a:xfrm>
                      <a:off x="1056960" y="3069720"/>
                      <a:ext cx="324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4" name=""/>
                    <p:cNvSpPr/>
                    <p:nvPr/>
                  </p:nvSpPr>
                  <p:spPr>
                    <a:xfrm>
                      <a:off x="1059480" y="3079440"/>
                      <a:ext cx="24480" cy="3996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5" name=""/>
                    <p:cNvSpPr/>
                    <p:nvPr/>
                  </p:nvSpPr>
                  <p:spPr>
                    <a:xfrm>
                      <a:off x="1056960" y="3069720"/>
                      <a:ext cx="27000" cy="11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6" name=""/>
                    <p:cNvSpPr/>
                    <p:nvPr/>
                  </p:nvSpPr>
                  <p:spPr>
                    <a:xfrm>
                      <a:off x="1058400" y="3054240"/>
                      <a:ext cx="324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7" name=""/>
                    <p:cNvSpPr/>
                    <p:nvPr/>
                  </p:nvSpPr>
                  <p:spPr>
                    <a:xfrm>
                      <a:off x="1078200" y="3054240"/>
                      <a:ext cx="252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58" name=""/>
                  <p:cNvSpPr/>
                  <p:nvPr/>
                </p:nvSpPr>
                <p:spPr>
                  <a:xfrm>
                    <a:off x="1065240" y="3090600"/>
                    <a:ext cx="14760" cy="223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9" name=""/>
                <p:cNvGrpSpPr/>
                <p:nvPr/>
              </p:nvGrpSpPr>
              <p:grpSpPr>
                <a:xfrm>
                  <a:off x="1094760" y="3054240"/>
                  <a:ext cx="27000" cy="66240"/>
                  <a:chOff x="1094760" y="3054240"/>
                  <a:chExt cx="27000" cy="66240"/>
                </a:xfrm>
              </p:grpSpPr>
              <p:grpSp>
                <p:nvGrpSpPr>
                  <p:cNvPr id="460" name=""/>
                  <p:cNvGrpSpPr/>
                  <p:nvPr/>
                </p:nvGrpSpPr>
                <p:grpSpPr>
                  <a:xfrm>
                    <a:off x="1094760" y="3054240"/>
                    <a:ext cx="27000" cy="66240"/>
                    <a:chOff x="1094760" y="3054240"/>
                    <a:chExt cx="27000" cy="66240"/>
                  </a:xfrm>
                </p:grpSpPr>
                <p:sp>
                  <p:nvSpPr>
                    <p:cNvPr id="461" name=""/>
                    <p:cNvSpPr/>
                    <p:nvPr/>
                  </p:nvSpPr>
                  <p:spPr>
                    <a:xfrm>
                      <a:off x="1094760" y="3066840"/>
                      <a:ext cx="25920" cy="507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2" name=""/>
                    <p:cNvSpPr/>
                    <p:nvPr/>
                  </p:nvSpPr>
                  <p:spPr>
                    <a:xfrm>
                      <a:off x="1094760" y="3069720"/>
                      <a:ext cx="324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3" name=""/>
                    <p:cNvSpPr/>
                    <p:nvPr/>
                  </p:nvSpPr>
                  <p:spPr>
                    <a:xfrm>
                      <a:off x="1097280" y="3079440"/>
                      <a:ext cx="24480" cy="3996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4" name=""/>
                    <p:cNvSpPr/>
                    <p:nvPr/>
                  </p:nvSpPr>
                  <p:spPr>
                    <a:xfrm>
                      <a:off x="1094760" y="3069720"/>
                      <a:ext cx="27000" cy="11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5" name=""/>
                    <p:cNvSpPr/>
                    <p:nvPr/>
                  </p:nvSpPr>
                  <p:spPr>
                    <a:xfrm>
                      <a:off x="1096200" y="3054240"/>
                      <a:ext cx="324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6" name=""/>
                    <p:cNvSpPr/>
                    <p:nvPr/>
                  </p:nvSpPr>
                  <p:spPr>
                    <a:xfrm>
                      <a:off x="1116000" y="3054240"/>
                      <a:ext cx="252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67" name=""/>
                  <p:cNvSpPr/>
                  <p:nvPr/>
                </p:nvSpPr>
                <p:spPr>
                  <a:xfrm>
                    <a:off x="1103040" y="3090600"/>
                    <a:ext cx="14760" cy="223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8" name=""/>
                <p:cNvGrpSpPr/>
                <p:nvPr/>
              </p:nvGrpSpPr>
              <p:grpSpPr>
                <a:xfrm>
                  <a:off x="1132560" y="3054240"/>
                  <a:ext cx="27360" cy="66240"/>
                  <a:chOff x="1132560" y="3054240"/>
                  <a:chExt cx="27360" cy="66240"/>
                </a:xfrm>
              </p:grpSpPr>
              <p:grpSp>
                <p:nvGrpSpPr>
                  <p:cNvPr id="469" name=""/>
                  <p:cNvGrpSpPr/>
                  <p:nvPr/>
                </p:nvGrpSpPr>
                <p:grpSpPr>
                  <a:xfrm>
                    <a:off x="1132560" y="3054240"/>
                    <a:ext cx="27360" cy="66240"/>
                    <a:chOff x="1132560" y="3054240"/>
                    <a:chExt cx="27360" cy="66240"/>
                  </a:xfrm>
                </p:grpSpPr>
                <p:sp>
                  <p:nvSpPr>
                    <p:cNvPr id="470" name=""/>
                    <p:cNvSpPr/>
                    <p:nvPr/>
                  </p:nvSpPr>
                  <p:spPr>
                    <a:xfrm>
                      <a:off x="1132560" y="3066840"/>
                      <a:ext cx="26280" cy="507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1" name=""/>
                    <p:cNvSpPr/>
                    <p:nvPr/>
                  </p:nvSpPr>
                  <p:spPr>
                    <a:xfrm>
                      <a:off x="1132560" y="3069720"/>
                      <a:ext cx="324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2" name=""/>
                    <p:cNvSpPr/>
                    <p:nvPr/>
                  </p:nvSpPr>
                  <p:spPr>
                    <a:xfrm>
                      <a:off x="1135080" y="3079440"/>
                      <a:ext cx="24480" cy="3996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3" name=""/>
                    <p:cNvSpPr/>
                    <p:nvPr/>
                  </p:nvSpPr>
                  <p:spPr>
                    <a:xfrm>
                      <a:off x="1132560" y="3069720"/>
                      <a:ext cx="27360" cy="11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4" name=""/>
                    <p:cNvSpPr/>
                    <p:nvPr/>
                  </p:nvSpPr>
                  <p:spPr>
                    <a:xfrm>
                      <a:off x="1134000" y="3054240"/>
                      <a:ext cx="324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5" name=""/>
                    <p:cNvSpPr/>
                    <p:nvPr/>
                  </p:nvSpPr>
                  <p:spPr>
                    <a:xfrm>
                      <a:off x="1154160" y="3054240"/>
                      <a:ext cx="288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76" name=""/>
                  <p:cNvSpPr/>
                  <p:nvPr/>
                </p:nvSpPr>
                <p:spPr>
                  <a:xfrm>
                    <a:off x="1140840" y="3090600"/>
                    <a:ext cx="15120" cy="223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7" name=""/>
                <p:cNvGrpSpPr/>
                <p:nvPr/>
              </p:nvGrpSpPr>
              <p:grpSpPr>
                <a:xfrm>
                  <a:off x="1171080" y="3054240"/>
                  <a:ext cx="27000" cy="66240"/>
                  <a:chOff x="1171080" y="3054240"/>
                  <a:chExt cx="27000" cy="66240"/>
                </a:xfrm>
              </p:grpSpPr>
              <p:grpSp>
                <p:nvGrpSpPr>
                  <p:cNvPr id="478" name=""/>
                  <p:cNvGrpSpPr/>
                  <p:nvPr/>
                </p:nvGrpSpPr>
                <p:grpSpPr>
                  <a:xfrm>
                    <a:off x="1171080" y="3054240"/>
                    <a:ext cx="27000" cy="66240"/>
                    <a:chOff x="1171080" y="3054240"/>
                    <a:chExt cx="27000" cy="66240"/>
                  </a:xfrm>
                </p:grpSpPr>
                <p:sp>
                  <p:nvSpPr>
                    <p:cNvPr id="479" name=""/>
                    <p:cNvSpPr/>
                    <p:nvPr/>
                  </p:nvSpPr>
                  <p:spPr>
                    <a:xfrm>
                      <a:off x="1171080" y="3066840"/>
                      <a:ext cx="25920" cy="507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0" name=""/>
                    <p:cNvSpPr/>
                    <p:nvPr/>
                  </p:nvSpPr>
                  <p:spPr>
                    <a:xfrm>
                      <a:off x="1171080" y="3069720"/>
                      <a:ext cx="324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1" name=""/>
                    <p:cNvSpPr/>
                    <p:nvPr/>
                  </p:nvSpPr>
                  <p:spPr>
                    <a:xfrm>
                      <a:off x="1173600" y="3079440"/>
                      <a:ext cx="24480" cy="3996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2" name=""/>
                    <p:cNvSpPr/>
                    <p:nvPr/>
                  </p:nvSpPr>
                  <p:spPr>
                    <a:xfrm>
                      <a:off x="1171080" y="3069720"/>
                      <a:ext cx="27000" cy="11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3" name=""/>
                    <p:cNvSpPr/>
                    <p:nvPr/>
                  </p:nvSpPr>
                  <p:spPr>
                    <a:xfrm>
                      <a:off x="1172520" y="3054240"/>
                      <a:ext cx="324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4" name=""/>
                    <p:cNvSpPr/>
                    <p:nvPr/>
                  </p:nvSpPr>
                  <p:spPr>
                    <a:xfrm>
                      <a:off x="1192320" y="3054240"/>
                      <a:ext cx="252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85" name=""/>
                  <p:cNvSpPr/>
                  <p:nvPr/>
                </p:nvSpPr>
                <p:spPr>
                  <a:xfrm>
                    <a:off x="1179360" y="3090600"/>
                    <a:ext cx="14760" cy="223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6" name=""/>
                <p:cNvGrpSpPr/>
                <p:nvPr/>
              </p:nvGrpSpPr>
              <p:grpSpPr>
                <a:xfrm>
                  <a:off x="1208880" y="3054240"/>
                  <a:ext cx="27000" cy="66240"/>
                  <a:chOff x="1208880" y="3054240"/>
                  <a:chExt cx="27000" cy="66240"/>
                </a:xfrm>
              </p:grpSpPr>
              <p:grpSp>
                <p:nvGrpSpPr>
                  <p:cNvPr id="487" name=""/>
                  <p:cNvGrpSpPr/>
                  <p:nvPr/>
                </p:nvGrpSpPr>
                <p:grpSpPr>
                  <a:xfrm>
                    <a:off x="1208880" y="3054240"/>
                    <a:ext cx="27000" cy="66240"/>
                    <a:chOff x="1208880" y="3054240"/>
                    <a:chExt cx="27000" cy="66240"/>
                  </a:xfrm>
                </p:grpSpPr>
                <p:sp>
                  <p:nvSpPr>
                    <p:cNvPr id="488" name=""/>
                    <p:cNvSpPr/>
                    <p:nvPr/>
                  </p:nvSpPr>
                  <p:spPr>
                    <a:xfrm>
                      <a:off x="1208880" y="3066840"/>
                      <a:ext cx="25920" cy="507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9" name=""/>
                    <p:cNvSpPr/>
                    <p:nvPr/>
                  </p:nvSpPr>
                  <p:spPr>
                    <a:xfrm>
                      <a:off x="1208880" y="3069720"/>
                      <a:ext cx="324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0" name=""/>
                    <p:cNvSpPr/>
                    <p:nvPr/>
                  </p:nvSpPr>
                  <p:spPr>
                    <a:xfrm>
                      <a:off x="1211400" y="3079440"/>
                      <a:ext cx="24480" cy="3996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1" name=""/>
                    <p:cNvSpPr/>
                    <p:nvPr/>
                  </p:nvSpPr>
                  <p:spPr>
                    <a:xfrm>
                      <a:off x="1208880" y="3069720"/>
                      <a:ext cx="27000" cy="11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2" name=""/>
                    <p:cNvSpPr/>
                    <p:nvPr/>
                  </p:nvSpPr>
                  <p:spPr>
                    <a:xfrm>
                      <a:off x="1210320" y="3054240"/>
                      <a:ext cx="324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3" name=""/>
                    <p:cNvSpPr/>
                    <p:nvPr/>
                  </p:nvSpPr>
                  <p:spPr>
                    <a:xfrm>
                      <a:off x="1230120" y="3054240"/>
                      <a:ext cx="252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94" name=""/>
                  <p:cNvSpPr/>
                  <p:nvPr/>
                </p:nvSpPr>
                <p:spPr>
                  <a:xfrm>
                    <a:off x="1217160" y="3090600"/>
                    <a:ext cx="14760" cy="223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5" name=""/>
                <p:cNvGrpSpPr/>
                <p:nvPr/>
              </p:nvGrpSpPr>
              <p:grpSpPr>
                <a:xfrm>
                  <a:off x="1247400" y="3054240"/>
                  <a:ext cx="27000" cy="66240"/>
                  <a:chOff x="1247400" y="3054240"/>
                  <a:chExt cx="27000" cy="66240"/>
                </a:xfrm>
              </p:grpSpPr>
              <p:grpSp>
                <p:nvGrpSpPr>
                  <p:cNvPr id="496" name=""/>
                  <p:cNvGrpSpPr/>
                  <p:nvPr/>
                </p:nvGrpSpPr>
                <p:grpSpPr>
                  <a:xfrm>
                    <a:off x="1247400" y="3054240"/>
                    <a:ext cx="27000" cy="66240"/>
                    <a:chOff x="1247400" y="3054240"/>
                    <a:chExt cx="27000" cy="66240"/>
                  </a:xfrm>
                </p:grpSpPr>
                <p:sp>
                  <p:nvSpPr>
                    <p:cNvPr id="497" name=""/>
                    <p:cNvSpPr/>
                    <p:nvPr/>
                  </p:nvSpPr>
                  <p:spPr>
                    <a:xfrm>
                      <a:off x="1247400" y="3066840"/>
                      <a:ext cx="25920" cy="507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8" name=""/>
                    <p:cNvSpPr/>
                    <p:nvPr/>
                  </p:nvSpPr>
                  <p:spPr>
                    <a:xfrm>
                      <a:off x="1247400" y="3069720"/>
                      <a:ext cx="324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9" name=""/>
                    <p:cNvSpPr/>
                    <p:nvPr/>
                  </p:nvSpPr>
                  <p:spPr>
                    <a:xfrm>
                      <a:off x="1249920" y="3079440"/>
                      <a:ext cx="24480" cy="3996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0" name=""/>
                    <p:cNvSpPr/>
                    <p:nvPr/>
                  </p:nvSpPr>
                  <p:spPr>
                    <a:xfrm>
                      <a:off x="1247400" y="3069720"/>
                      <a:ext cx="27000" cy="11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1" name=""/>
                    <p:cNvSpPr/>
                    <p:nvPr/>
                  </p:nvSpPr>
                  <p:spPr>
                    <a:xfrm>
                      <a:off x="1248840" y="3054240"/>
                      <a:ext cx="324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2" name=""/>
                    <p:cNvSpPr/>
                    <p:nvPr/>
                  </p:nvSpPr>
                  <p:spPr>
                    <a:xfrm>
                      <a:off x="1268640" y="3054240"/>
                      <a:ext cx="252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03" name=""/>
                  <p:cNvSpPr/>
                  <p:nvPr/>
                </p:nvSpPr>
                <p:spPr>
                  <a:xfrm>
                    <a:off x="1255680" y="3090600"/>
                    <a:ext cx="14760" cy="223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504" name=""/>
          <p:cNvGrpSpPr/>
          <p:nvPr/>
        </p:nvGrpSpPr>
        <p:grpSpPr>
          <a:xfrm>
            <a:off x="1692360" y="3716280"/>
            <a:ext cx="608760" cy="456120"/>
            <a:chOff x="1692360" y="3716280"/>
            <a:chExt cx="608760" cy="456120"/>
          </a:xfrm>
        </p:grpSpPr>
        <p:grpSp>
          <p:nvGrpSpPr>
            <p:cNvPr id="505" name=""/>
            <p:cNvGrpSpPr/>
            <p:nvPr/>
          </p:nvGrpSpPr>
          <p:grpSpPr>
            <a:xfrm>
              <a:off x="1692360" y="3716280"/>
              <a:ext cx="608760" cy="456120"/>
              <a:chOff x="1692360" y="3716280"/>
              <a:chExt cx="608760" cy="456120"/>
            </a:xfrm>
          </p:grpSpPr>
          <p:sp>
            <p:nvSpPr>
              <p:cNvPr id="506" name=""/>
              <p:cNvSpPr/>
              <p:nvPr/>
            </p:nvSpPr>
            <p:spPr>
              <a:xfrm>
                <a:off x="1715040" y="3721680"/>
                <a:ext cx="332280" cy="314640"/>
              </a:xfrm>
              <a:custGeom>
                <a:avLst/>
                <a:gdLst/>
                <a:ahLst/>
                <a:rect l="l" t="t" r="r" b="b"/>
                <a:pathLst>
                  <a:path w="131" h="116">
                    <a:moveTo>
                      <a:pt x="130" y="0"/>
                    </a:moveTo>
                    <a:lnTo>
                      <a:pt x="130" y="27"/>
                    </a:lnTo>
                    <a:lnTo>
                      <a:pt x="0" y="115"/>
                    </a:lnTo>
                    <a:lnTo>
                      <a:pt x="13" y="79"/>
                    </a:lnTo>
                    <a:lnTo>
                      <a:pt x="130" y="0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756080" y="3920040"/>
                <a:ext cx="293760" cy="187200"/>
              </a:xfrm>
              <a:custGeom>
                <a:avLst/>
                <a:gdLst/>
                <a:ahLst/>
                <a:rect l="l" t="t" r="r" b="b"/>
                <a:pathLst>
                  <a:path w="116" h="69">
                    <a:moveTo>
                      <a:pt x="5" y="0"/>
                    </a:moveTo>
                    <a:lnTo>
                      <a:pt x="0" y="22"/>
                    </a:lnTo>
                    <a:lnTo>
                      <a:pt x="108" y="68"/>
                    </a:lnTo>
                    <a:lnTo>
                      <a:pt x="115" y="46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508" name=""/>
              <p:cNvGrpSpPr/>
              <p:nvPr/>
            </p:nvGrpSpPr>
            <p:grpSpPr>
              <a:xfrm>
                <a:off x="1692360" y="3925440"/>
                <a:ext cx="347040" cy="246240"/>
                <a:chOff x="1692360" y="3925440"/>
                <a:chExt cx="347040" cy="246240"/>
              </a:xfrm>
            </p:grpSpPr>
            <p:sp>
              <p:nvSpPr>
                <p:cNvPr id="509" name=""/>
                <p:cNvSpPr/>
                <p:nvPr/>
              </p:nvSpPr>
              <p:spPr>
                <a:xfrm>
                  <a:off x="1733040" y="3974040"/>
                  <a:ext cx="296280" cy="151920"/>
                </a:xfrm>
                <a:custGeom>
                  <a:avLst/>
                  <a:gdLst/>
                  <a:ahLst/>
                  <a:rect l="l" t="t" r="r" b="b"/>
                  <a:pathLst>
                    <a:path w="117" h="56">
                      <a:moveTo>
                        <a:pt x="13" y="0"/>
                      </a:moveTo>
                      <a:lnTo>
                        <a:pt x="0" y="8"/>
                      </a:lnTo>
                      <a:lnTo>
                        <a:pt x="105" y="55"/>
                      </a:lnTo>
                      <a:lnTo>
                        <a:pt x="116" y="46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a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1727640" y="3992760"/>
                  <a:ext cx="273240" cy="162360"/>
                </a:xfrm>
                <a:custGeom>
                  <a:avLst/>
                  <a:gdLst/>
                  <a:ahLst/>
                  <a:rect l="l" t="t" r="r" b="b"/>
                  <a:pathLst>
                    <a:path w="108" h="60">
                      <a:moveTo>
                        <a:pt x="1" y="0"/>
                      </a:moveTo>
                      <a:lnTo>
                        <a:pt x="0" y="10"/>
                      </a:lnTo>
                      <a:lnTo>
                        <a:pt x="104" y="59"/>
                      </a:lnTo>
                      <a:lnTo>
                        <a:pt x="107" y="48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1692360" y="3925440"/>
                  <a:ext cx="60840" cy="110520"/>
                </a:xfrm>
                <a:custGeom>
                  <a:avLst/>
                  <a:gdLst/>
                  <a:ahLst/>
                  <a:rect l="l" t="t" r="r" b="b"/>
                  <a:pathLst>
                    <a:path w="24" h="41">
                      <a:moveTo>
                        <a:pt x="23" y="3"/>
                      </a:moveTo>
                      <a:lnTo>
                        <a:pt x="9" y="40"/>
                      </a:lnTo>
                      <a:lnTo>
                        <a:pt x="0" y="36"/>
                      </a:lnTo>
                      <a:lnTo>
                        <a:pt x="16" y="0"/>
                      </a:lnTo>
                      <a:lnTo>
                        <a:pt x="23" y="3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1981080" y="4062960"/>
                  <a:ext cx="58320" cy="108720"/>
                </a:xfrm>
                <a:custGeom>
                  <a:avLst/>
                  <a:gdLst/>
                  <a:ahLst/>
                  <a:rect l="l" t="t" r="r" b="b"/>
                  <a:pathLst>
                    <a:path w="23" h="40">
                      <a:moveTo>
                        <a:pt x="14" y="0"/>
                      </a:moveTo>
                      <a:lnTo>
                        <a:pt x="0" y="35"/>
                      </a:lnTo>
                      <a:lnTo>
                        <a:pt x="8" y="39"/>
                      </a:lnTo>
                      <a:lnTo>
                        <a:pt x="22" y="3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3" name=""/>
              <p:cNvSpPr/>
              <p:nvPr/>
            </p:nvSpPr>
            <p:spPr>
              <a:xfrm>
                <a:off x="2001600" y="3822120"/>
                <a:ext cx="299520" cy="350280"/>
              </a:xfrm>
              <a:custGeom>
                <a:avLst/>
                <a:gdLst/>
                <a:ahLst/>
                <a:rect l="l" t="t" r="r" b="b"/>
                <a:pathLst>
                  <a:path w="118" h="129">
                    <a:moveTo>
                      <a:pt x="117" y="0"/>
                    </a:moveTo>
                    <a:lnTo>
                      <a:pt x="14" y="90"/>
                    </a:lnTo>
                    <a:lnTo>
                      <a:pt x="0" y="128"/>
                    </a:lnTo>
                    <a:lnTo>
                      <a:pt x="117" y="23"/>
                    </a:lnTo>
                    <a:lnTo>
                      <a:pt x="117" y="0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768680" y="3729600"/>
                <a:ext cx="504000" cy="317880"/>
              </a:xfrm>
              <a:custGeom>
                <a:avLst/>
                <a:gdLst/>
                <a:ahLst/>
                <a:rect l="l" t="t" r="r" b="b"/>
                <a:pathLst>
                  <a:path w="199" h="117">
                    <a:moveTo>
                      <a:pt x="104" y="0"/>
                    </a:moveTo>
                    <a:lnTo>
                      <a:pt x="0" y="71"/>
                    </a:lnTo>
                    <a:lnTo>
                      <a:pt x="107" y="116"/>
                    </a:lnTo>
                    <a:lnTo>
                      <a:pt x="198" y="37"/>
                    </a:lnTo>
                    <a:lnTo>
                      <a:pt x="104" y="0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2017080" y="3816360"/>
                <a:ext cx="284040" cy="258120"/>
              </a:xfrm>
              <a:custGeom>
                <a:avLst/>
                <a:gdLst/>
                <a:ahLst/>
                <a:rect l="l" t="t" r="r" b="b"/>
                <a:pathLst>
                  <a:path w="112" h="95">
                    <a:moveTo>
                      <a:pt x="105" y="0"/>
                    </a:moveTo>
                    <a:lnTo>
                      <a:pt x="111" y="3"/>
                    </a:lnTo>
                    <a:lnTo>
                      <a:pt x="7" y="94"/>
                    </a:lnTo>
                    <a:lnTo>
                      <a:pt x="0" y="91"/>
                    </a:lnTo>
                    <a:lnTo>
                      <a:pt x="105" y="0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1730880" y="3716280"/>
                <a:ext cx="316800" cy="219960"/>
              </a:xfrm>
              <a:custGeom>
                <a:avLst/>
                <a:gdLst/>
                <a:ahLst/>
                <a:rect l="l" t="t" r="r" b="b"/>
                <a:pathLst>
                  <a:path w="125" h="81">
                    <a:moveTo>
                      <a:pt x="0" y="76"/>
                    </a:moveTo>
                    <a:lnTo>
                      <a:pt x="119" y="0"/>
                    </a:lnTo>
                    <a:lnTo>
                      <a:pt x="124" y="2"/>
                    </a:lnTo>
                    <a:lnTo>
                      <a:pt x="7" y="80"/>
                    </a:lnTo>
                    <a:lnTo>
                      <a:pt x="0" y="76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1763640" y="3985560"/>
              <a:ext cx="214200" cy="111960"/>
              <a:chOff x="1763640" y="3985560"/>
              <a:chExt cx="214200" cy="111960"/>
            </a:xfrm>
          </p:grpSpPr>
          <p:grpSp>
            <p:nvGrpSpPr>
              <p:cNvPr id="518" name=""/>
              <p:cNvGrpSpPr/>
              <p:nvPr/>
            </p:nvGrpSpPr>
            <p:grpSpPr>
              <a:xfrm>
                <a:off x="1763640" y="3985560"/>
                <a:ext cx="6840" cy="9360"/>
                <a:chOff x="1763640" y="3985560"/>
                <a:chExt cx="6840" cy="936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1763640" y="3989880"/>
                  <a:ext cx="6840" cy="5040"/>
                </a:xfrm>
                <a:prstGeom prst="ellipse">
                  <a:avLst/>
                </a:prstGeom>
                <a:solidFill>
                  <a:srgbClr val="20202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0" bIns="-432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1763640" y="3985560"/>
                  <a:ext cx="6840" cy="7200"/>
                </a:xfrm>
                <a:prstGeom prst="ellipse">
                  <a:avLst/>
                </a:prstGeom>
                <a:solidFill>
                  <a:srgbClr val="40404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1" name=""/>
              <p:cNvGrpSpPr/>
              <p:nvPr/>
            </p:nvGrpSpPr>
            <p:grpSpPr>
              <a:xfrm>
                <a:off x="1816920" y="4006800"/>
                <a:ext cx="160920" cy="90720"/>
                <a:chOff x="1816920" y="4006800"/>
                <a:chExt cx="160920" cy="90720"/>
              </a:xfrm>
            </p:grpSpPr>
            <p:grpSp>
              <p:nvGrpSpPr>
                <p:cNvPr id="522" name=""/>
                <p:cNvGrpSpPr/>
                <p:nvPr/>
              </p:nvGrpSpPr>
              <p:grpSpPr>
                <a:xfrm>
                  <a:off x="1816920" y="4014720"/>
                  <a:ext cx="160920" cy="82800"/>
                  <a:chOff x="1816920" y="4014720"/>
                  <a:chExt cx="160920" cy="82800"/>
                </a:xfrm>
              </p:grpSpPr>
              <p:sp>
                <p:nvSpPr>
                  <p:cNvPr id="523" name=""/>
                  <p:cNvSpPr/>
                  <p:nvPr/>
                </p:nvSpPr>
                <p:spPr>
                  <a:xfrm>
                    <a:off x="1947960" y="4076640"/>
                    <a:ext cx="5040" cy="100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>
                    <a:off x="1841760" y="4028040"/>
                    <a:ext cx="9720" cy="756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400" bIns="-41400" anchor="ctr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>
                    <a:off x="1894680" y="4052160"/>
                    <a:ext cx="7200" cy="100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6" name=""/>
                  <p:cNvSpPr/>
                  <p:nvPr/>
                </p:nvSpPr>
                <p:spPr>
                  <a:xfrm>
                    <a:off x="1919880" y="4065480"/>
                    <a:ext cx="7920" cy="10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7" name=""/>
                  <p:cNvSpPr/>
                  <p:nvPr/>
                </p:nvSpPr>
                <p:spPr>
                  <a:xfrm>
                    <a:off x="1866960" y="4038840"/>
                    <a:ext cx="7200" cy="100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8" name=""/>
                  <p:cNvSpPr/>
                  <p:nvPr/>
                </p:nvSpPr>
                <p:spPr>
                  <a:xfrm>
                    <a:off x="1816920" y="4014720"/>
                    <a:ext cx="7200" cy="10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>
                    <a:off x="1967760" y="4089960"/>
                    <a:ext cx="10080" cy="756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400" bIns="-41400" anchor="ctr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0" name=""/>
                <p:cNvGrpSpPr/>
                <p:nvPr/>
              </p:nvGrpSpPr>
              <p:grpSpPr>
                <a:xfrm>
                  <a:off x="1816920" y="4006800"/>
                  <a:ext cx="160200" cy="87120"/>
                  <a:chOff x="1816920" y="4006800"/>
                  <a:chExt cx="160200" cy="87120"/>
                </a:xfrm>
              </p:grpSpPr>
              <p:grpSp>
                <p:nvGrpSpPr>
                  <p:cNvPr id="531" name=""/>
                  <p:cNvGrpSpPr/>
                  <p:nvPr/>
                </p:nvGrpSpPr>
                <p:grpSpPr>
                  <a:xfrm>
                    <a:off x="1841760" y="4020120"/>
                    <a:ext cx="135360" cy="73800"/>
                    <a:chOff x="1841760" y="4020120"/>
                    <a:chExt cx="135360" cy="73800"/>
                  </a:xfrm>
                </p:grpSpPr>
                <p:sp>
                  <p:nvSpPr>
                    <p:cNvPr id="532" name=""/>
                    <p:cNvSpPr/>
                    <p:nvPr/>
                  </p:nvSpPr>
                  <p:spPr>
                    <a:xfrm>
                      <a:off x="1969920" y="4083840"/>
                      <a:ext cx="7200" cy="100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600" bIns="-396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3" name=""/>
                    <p:cNvSpPr/>
                    <p:nvPr/>
                  </p:nvSpPr>
                  <p:spPr>
                    <a:xfrm>
                      <a:off x="1866600" y="4030920"/>
                      <a:ext cx="9360" cy="1296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440" bIns="-37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4" name=""/>
                    <p:cNvSpPr/>
                    <p:nvPr/>
                  </p:nvSpPr>
                  <p:spPr>
                    <a:xfrm>
                      <a:off x="1919160" y="4057560"/>
                      <a:ext cx="7920" cy="100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600" bIns="-396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5" name=""/>
                    <p:cNvSpPr/>
                    <p:nvPr/>
                  </p:nvSpPr>
                  <p:spPr>
                    <a:xfrm>
                      <a:off x="1944360" y="4070520"/>
                      <a:ext cx="7920" cy="100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600" bIns="-396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6" name=""/>
                    <p:cNvSpPr/>
                    <p:nvPr/>
                  </p:nvSpPr>
                  <p:spPr>
                    <a:xfrm>
                      <a:off x="1891800" y="4044240"/>
                      <a:ext cx="9360" cy="100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600" bIns="-396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7" name=""/>
                    <p:cNvSpPr/>
                    <p:nvPr/>
                  </p:nvSpPr>
                  <p:spPr>
                    <a:xfrm>
                      <a:off x="1841760" y="4020120"/>
                      <a:ext cx="9360" cy="1080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38" name=""/>
                  <p:cNvSpPr/>
                  <p:nvPr/>
                </p:nvSpPr>
                <p:spPr>
                  <a:xfrm>
                    <a:off x="1816920" y="4006800"/>
                    <a:ext cx="7200" cy="108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aphicFrame>
        <p:nvGraphicFramePr>
          <p:cNvPr id="539" name=""/>
          <p:cNvGraphicFramePr/>
          <p:nvPr/>
        </p:nvGraphicFramePr>
        <p:xfrm>
          <a:off x="250920" y="981000"/>
          <a:ext cx="777960" cy="720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4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0920" y="981000"/>
                    <a:ext cx="77796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1" name=""/>
          <p:cNvGraphicFramePr/>
          <p:nvPr/>
        </p:nvGraphicFramePr>
        <p:xfrm>
          <a:off x="1187280" y="981000"/>
          <a:ext cx="777960" cy="720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4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187280" y="981000"/>
                    <a:ext cx="77796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3" name=""/>
          <p:cNvGraphicFramePr/>
          <p:nvPr/>
        </p:nvGraphicFramePr>
        <p:xfrm>
          <a:off x="2195640" y="836640"/>
          <a:ext cx="615960" cy="1079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4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195640" y="836640"/>
                    <a:ext cx="61596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5" name=""/>
          <p:cNvSpPr/>
          <p:nvPr/>
        </p:nvSpPr>
        <p:spPr>
          <a:xfrm>
            <a:off x="468360" y="1700280"/>
            <a:ext cx="358560" cy="93672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1116000" y="1700280"/>
            <a:ext cx="287280" cy="93672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1476360" y="1844640"/>
            <a:ext cx="792000" cy="79236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900000" y="3213000"/>
            <a:ext cx="0" cy="287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332000" y="3933720"/>
            <a:ext cx="43164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268360" y="3933720"/>
            <a:ext cx="64800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755640" y="4149360"/>
            <a:ext cx="0" cy="1079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7404120" y="2635200"/>
            <a:ext cx="1324440" cy="547560"/>
            <a:chOff x="7404120" y="2635200"/>
            <a:chExt cx="1324440" cy="547560"/>
          </a:xfrm>
        </p:grpSpPr>
        <p:sp>
          <p:nvSpPr>
            <p:cNvPr id="553" name=""/>
            <p:cNvSpPr/>
            <p:nvPr/>
          </p:nvSpPr>
          <p:spPr>
            <a:xfrm>
              <a:off x="7404120" y="2637360"/>
              <a:ext cx="1211400" cy="266040"/>
            </a:xfrm>
            <a:custGeom>
              <a:avLst/>
              <a:gdLst/>
              <a:ahLst/>
              <a:rect l="l" t="t" r="r" b="b"/>
              <a:pathLst>
                <a:path w="4860" h="679">
                  <a:moveTo>
                    <a:pt x="4860" y="679"/>
                  </a:moveTo>
                  <a:lnTo>
                    <a:pt x="669" y="679"/>
                  </a:lnTo>
                  <a:lnTo>
                    <a:pt x="0" y="0"/>
                  </a:lnTo>
                  <a:lnTo>
                    <a:pt x="4189" y="2"/>
                  </a:lnTo>
                  <a:lnTo>
                    <a:pt x="4860" y="679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571520" y="2897640"/>
              <a:ext cx="1044360" cy="28368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404120" y="2635200"/>
              <a:ext cx="170640" cy="547560"/>
            </a:xfrm>
            <a:custGeom>
              <a:avLst/>
              <a:gdLst/>
              <a:ahLst/>
              <a:rect l="l" t="t" r="r" b="b"/>
              <a:pathLst>
                <a:path w="686" h="1396">
                  <a:moveTo>
                    <a:pt x="681" y="674"/>
                  </a:moveTo>
                  <a:lnTo>
                    <a:pt x="686" y="1396"/>
                  </a:lnTo>
                  <a:lnTo>
                    <a:pt x="0" y="716"/>
                  </a:lnTo>
                  <a:lnTo>
                    <a:pt x="1" y="0"/>
                  </a:lnTo>
                  <a:lnTo>
                    <a:pt x="681" y="674"/>
                  </a:lnTo>
                  <a:close/>
                </a:path>
              </a:pathLst>
            </a:cu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583760" y="2913840"/>
              <a:ext cx="874440" cy="25164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57" name=""/>
            <p:cNvGrpSpPr/>
            <p:nvPr/>
          </p:nvGrpSpPr>
          <p:grpSpPr>
            <a:xfrm>
              <a:off x="7572600" y="2971440"/>
              <a:ext cx="30600" cy="57600"/>
              <a:chOff x="7572600" y="2971440"/>
              <a:chExt cx="30600" cy="57600"/>
            </a:xfrm>
          </p:grpSpPr>
          <p:sp>
            <p:nvSpPr>
              <p:cNvPr id="558" name=""/>
              <p:cNvSpPr/>
              <p:nvPr/>
            </p:nvSpPr>
            <p:spPr>
              <a:xfrm>
                <a:off x="7572600" y="2971440"/>
                <a:ext cx="30600" cy="720"/>
              </a:xfrm>
              <a:prstGeom prst="line">
                <a:avLst/>
              </a:prstGeom>
              <a:ln w="6480">
                <a:solidFill>
                  <a:srgbClr val="8d8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7572600" y="2979000"/>
                <a:ext cx="30600" cy="720"/>
              </a:xfrm>
              <a:prstGeom prst="line">
                <a:avLst/>
              </a:prstGeom>
              <a:ln w="6480">
                <a:solidFill>
                  <a:srgbClr val="e1df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7572600" y="2996280"/>
                <a:ext cx="30600" cy="720"/>
              </a:xfrm>
              <a:prstGeom prst="line">
                <a:avLst/>
              </a:prstGeom>
              <a:ln w="6480">
                <a:solidFill>
                  <a:srgbClr val="8d8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7572600" y="3003120"/>
                <a:ext cx="30600" cy="720"/>
              </a:xfrm>
              <a:prstGeom prst="line">
                <a:avLst/>
              </a:prstGeom>
              <a:ln w="6480">
                <a:solidFill>
                  <a:srgbClr val="e1df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572600" y="3021120"/>
                <a:ext cx="30600" cy="360"/>
              </a:xfrm>
              <a:prstGeom prst="line">
                <a:avLst/>
              </a:prstGeom>
              <a:ln w="6480">
                <a:solidFill>
                  <a:srgbClr val="8d8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572600" y="3028320"/>
                <a:ext cx="30600" cy="720"/>
              </a:xfrm>
              <a:prstGeom prst="line">
                <a:avLst/>
              </a:prstGeom>
              <a:ln w="6480">
                <a:solidFill>
                  <a:srgbClr val="e1df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564" name=""/>
            <p:cNvSpPr/>
            <p:nvPr/>
          </p:nvSpPr>
          <p:spPr>
            <a:xfrm>
              <a:off x="8459640" y="2889360"/>
              <a:ext cx="155520" cy="18360"/>
            </a:xfrm>
            <a:custGeom>
              <a:avLst/>
              <a:gdLst/>
              <a:ahLst/>
              <a:rect l="l" t="t" r="r" b="b"/>
              <a:pathLst>
                <a:path w="624" h="49">
                  <a:moveTo>
                    <a:pt x="0" y="27"/>
                  </a:moveTo>
                  <a:lnTo>
                    <a:pt x="104" y="40"/>
                  </a:lnTo>
                  <a:lnTo>
                    <a:pt x="208" y="45"/>
                  </a:lnTo>
                  <a:lnTo>
                    <a:pt x="310" y="49"/>
                  </a:lnTo>
                  <a:lnTo>
                    <a:pt x="418" y="45"/>
                  </a:lnTo>
                  <a:lnTo>
                    <a:pt x="520" y="38"/>
                  </a:lnTo>
                  <a:lnTo>
                    <a:pt x="624" y="27"/>
                  </a:lnTo>
                  <a:lnTo>
                    <a:pt x="559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65" name=""/>
            <p:cNvGrpSpPr/>
            <p:nvPr/>
          </p:nvGrpSpPr>
          <p:grpSpPr>
            <a:xfrm>
              <a:off x="7428600" y="2727000"/>
              <a:ext cx="46080" cy="255240"/>
              <a:chOff x="7428600" y="2727000"/>
              <a:chExt cx="46080" cy="255240"/>
            </a:xfrm>
          </p:grpSpPr>
          <p:grpSp>
            <p:nvGrpSpPr>
              <p:cNvPr id="566" name=""/>
              <p:cNvGrpSpPr/>
              <p:nvPr/>
            </p:nvGrpSpPr>
            <p:grpSpPr>
              <a:xfrm>
                <a:off x="7428600" y="2727000"/>
                <a:ext cx="46080" cy="81000"/>
                <a:chOff x="7428600" y="2727000"/>
                <a:chExt cx="46080" cy="81000"/>
              </a:xfrm>
            </p:grpSpPr>
            <p:sp>
              <p:nvSpPr>
                <p:cNvPr id="567" name=""/>
                <p:cNvSpPr/>
                <p:nvPr/>
              </p:nvSpPr>
              <p:spPr>
                <a:xfrm>
                  <a:off x="7428600" y="2727360"/>
                  <a:ext cx="44280" cy="8064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7430040" y="2727000"/>
                  <a:ext cx="44640" cy="8064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9" name=""/>
              <p:cNvGrpSpPr/>
              <p:nvPr/>
            </p:nvGrpSpPr>
            <p:grpSpPr>
              <a:xfrm>
                <a:off x="7428600" y="2755800"/>
                <a:ext cx="46080" cy="81000"/>
                <a:chOff x="7428600" y="2755800"/>
                <a:chExt cx="46080" cy="8100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7428600" y="2756160"/>
                  <a:ext cx="44280" cy="8064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7430040" y="2755800"/>
                  <a:ext cx="44640" cy="8064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2" name=""/>
              <p:cNvGrpSpPr/>
              <p:nvPr/>
            </p:nvGrpSpPr>
            <p:grpSpPr>
              <a:xfrm>
                <a:off x="7428600" y="2784960"/>
                <a:ext cx="46080" cy="81360"/>
                <a:chOff x="7428600" y="2784960"/>
                <a:chExt cx="46080" cy="81360"/>
              </a:xfrm>
            </p:grpSpPr>
            <p:sp>
              <p:nvSpPr>
                <p:cNvPr id="573" name=""/>
                <p:cNvSpPr/>
                <p:nvPr/>
              </p:nvSpPr>
              <p:spPr>
                <a:xfrm>
                  <a:off x="7428600" y="2785680"/>
                  <a:ext cx="44280" cy="8064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7430040" y="2784960"/>
                  <a:ext cx="44640" cy="8064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5" name=""/>
              <p:cNvGrpSpPr/>
              <p:nvPr/>
            </p:nvGrpSpPr>
            <p:grpSpPr>
              <a:xfrm>
                <a:off x="7428600" y="2813760"/>
                <a:ext cx="46080" cy="81360"/>
                <a:chOff x="7428600" y="2813760"/>
                <a:chExt cx="46080" cy="81360"/>
              </a:xfrm>
            </p:grpSpPr>
            <p:sp>
              <p:nvSpPr>
                <p:cNvPr id="576" name=""/>
                <p:cNvSpPr/>
                <p:nvPr/>
              </p:nvSpPr>
              <p:spPr>
                <a:xfrm>
                  <a:off x="7428600" y="2814480"/>
                  <a:ext cx="44280" cy="8064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7430040" y="2813760"/>
                  <a:ext cx="44640" cy="8064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8" name=""/>
              <p:cNvGrpSpPr/>
              <p:nvPr/>
            </p:nvGrpSpPr>
            <p:grpSpPr>
              <a:xfrm>
                <a:off x="7428600" y="2842920"/>
                <a:ext cx="46080" cy="81000"/>
                <a:chOff x="7428600" y="2842920"/>
                <a:chExt cx="46080" cy="81000"/>
              </a:xfrm>
            </p:grpSpPr>
            <p:sp>
              <p:nvSpPr>
                <p:cNvPr id="579" name=""/>
                <p:cNvSpPr/>
                <p:nvPr/>
              </p:nvSpPr>
              <p:spPr>
                <a:xfrm>
                  <a:off x="7428600" y="2843280"/>
                  <a:ext cx="44280" cy="8064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7430040" y="2842920"/>
                  <a:ext cx="44640" cy="8064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1" name=""/>
              <p:cNvGrpSpPr/>
              <p:nvPr/>
            </p:nvGrpSpPr>
            <p:grpSpPr>
              <a:xfrm>
                <a:off x="7428600" y="2872080"/>
                <a:ext cx="46080" cy="81000"/>
                <a:chOff x="7428600" y="2872080"/>
                <a:chExt cx="46080" cy="81000"/>
              </a:xfrm>
            </p:grpSpPr>
            <p:sp>
              <p:nvSpPr>
                <p:cNvPr id="582" name=""/>
                <p:cNvSpPr/>
                <p:nvPr/>
              </p:nvSpPr>
              <p:spPr>
                <a:xfrm>
                  <a:off x="7428600" y="2872440"/>
                  <a:ext cx="44280" cy="8064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7430040" y="2872080"/>
                  <a:ext cx="44640" cy="8064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4" name=""/>
              <p:cNvGrpSpPr/>
              <p:nvPr/>
            </p:nvGrpSpPr>
            <p:grpSpPr>
              <a:xfrm>
                <a:off x="7428600" y="2901240"/>
                <a:ext cx="46080" cy="81000"/>
                <a:chOff x="7428600" y="2901240"/>
                <a:chExt cx="46080" cy="81000"/>
              </a:xfrm>
            </p:grpSpPr>
            <p:sp>
              <p:nvSpPr>
                <p:cNvPr id="585" name=""/>
                <p:cNvSpPr/>
                <p:nvPr/>
              </p:nvSpPr>
              <p:spPr>
                <a:xfrm>
                  <a:off x="7428600" y="2901600"/>
                  <a:ext cx="44280" cy="8064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7430040" y="2901240"/>
                  <a:ext cx="44640" cy="8064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87" name=""/>
            <p:cNvGrpSpPr/>
            <p:nvPr/>
          </p:nvGrpSpPr>
          <p:grpSpPr>
            <a:xfrm>
              <a:off x="7499160" y="2836440"/>
              <a:ext cx="44640" cy="254880"/>
              <a:chOff x="7499160" y="2836440"/>
              <a:chExt cx="44640" cy="254880"/>
            </a:xfrm>
          </p:grpSpPr>
          <p:grpSp>
            <p:nvGrpSpPr>
              <p:cNvPr id="588" name=""/>
              <p:cNvGrpSpPr/>
              <p:nvPr/>
            </p:nvGrpSpPr>
            <p:grpSpPr>
              <a:xfrm>
                <a:off x="7499160" y="2836440"/>
                <a:ext cx="44640" cy="80640"/>
                <a:chOff x="7499160" y="2836440"/>
                <a:chExt cx="44640" cy="80640"/>
              </a:xfrm>
            </p:grpSpPr>
            <p:sp>
              <p:nvSpPr>
                <p:cNvPr id="589" name=""/>
                <p:cNvSpPr/>
                <p:nvPr/>
              </p:nvSpPr>
              <p:spPr>
                <a:xfrm>
                  <a:off x="7499160" y="2837160"/>
                  <a:ext cx="43200" cy="7992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7500600" y="2836440"/>
                  <a:ext cx="43200" cy="7992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1" name=""/>
              <p:cNvGrpSpPr/>
              <p:nvPr/>
            </p:nvGrpSpPr>
            <p:grpSpPr>
              <a:xfrm>
                <a:off x="7499160" y="2865240"/>
                <a:ext cx="44640" cy="81000"/>
                <a:chOff x="7499160" y="2865240"/>
                <a:chExt cx="44640" cy="81000"/>
              </a:xfrm>
            </p:grpSpPr>
            <p:sp>
              <p:nvSpPr>
                <p:cNvPr id="592" name=""/>
                <p:cNvSpPr/>
                <p:nvPr/>
              </p:nvSpPr>
              <p:spPr>
                <a:xfrm>
                  <a:off x="7499160" y="2865960"/>
                  <a:ext cx="43200" cy="8028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7500600" y="2865240"/>
                  <a:ext cx="43200" cy="8028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4" name=""/>
              <p:cNvGrpSpPr/>
              <p:nvPr/>
            </p:nvGrpSpPr>
            <p:grpSpPr>
              <a:xfrm>
                <a:off x="7499160" y="2894400"/>
                <a:ext cx="44640" cy="80280"/>
                <a:chOff x="7499160" y="2894400"/>
                <a:chExt cx="44640" cy="80280"/>
              </a:xfrm>
            </p:grpSpPr>
            <p:sp>
              <p:nvSpPr>
                <p:cNvPr id="595" name=""/>
                <p:cNvSpPr/>
                <p:nvPr/>
              </p:nvSpPr>
              <p:spPr>
                <a:xfrm>
                  <a:off x="7499160" y="2894760"/>
                  <a:ext cx="43200" cy="7992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7500600" y="2894400"/>
                  <a:ext cx="43200" cy="7992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7" name=""/>
              <p:cNvGrpSpPr/>
              <p:nvPr/>
            </p:nvGrpSpPr>
            <p:grpSpPr>
              <a:xfrm>
                <a:off x="7499160" y="2923560"/>
                <a:ext cx="44640" cy="80280"/>
                <a:chOff x="7499160" y="2923560"/>
                <a:chExt cx="44640" cy="80280"/>
              </a:xfrm>
            </p:grpSpPr>
            <p:sp>
              <p:nvSpPr>
                <p:cNvPr id="598" name=""/>
                <p:cNvSpPr/>
                <p:nvPr/>
              </p:nvSpPr>
              <p:spPr>
                <a:xfrm>
                  <a:off x="7499160" y="2923920"/>
                  <a:ext cx="43200" cy="7992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7500600" y="2923560"/>
                  <a:ext cx="43200" cy="7992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0" name=""/>
              <p:cNvGrpSpPr/>
              <p:nvPr/>
            </p:nvGrpSpPr>
            <p:grpSpPr>
              <a:xfrm>
                <a:off x="7499160" y="2952720"/>
                <a:ext cx="44640" cy="80280"/>
                <a:chOff x="7499160" y="2952720"/>
                <a:chExt cx="44640" cy="80280"/>
              </a:xfrm>
            </p:grpSpPr>
            <p:sp>
              <p:nvSpPr>
                <p:cNvPr id="601" name=""/>
                <p:cNvSpPr/>
                <p:nvPr/>
              </p:nvSpPr>
              <p:spPr>
                <a:xfrm>
                  <a:off x="7499160" y="2953080"/>
                  <a:ext cx="43200" cy="7992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7500600" y="2952720"/>
                  <a:ext cx="43200" cy="7992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3" name=""/>
              <p:cNvGrpSpPr/>
              <p:nvPr/>
            </p:nvGrpSpPr>
            <p:grpSpPr>
              <a:xfrm>
                <a:off x="7499160" y="2981880"/>
                <a:ext cx="44640" cy="80280"/>
                <a:chOff x="7499160" y="2981880"/>
                <a:chExt cx="44640" cy="80280"/>
              </a:xfrm>
            </p:grpSpPr>
            <p:sp>
              <p:nvSpPr>
                <p:cNvPr id="604" name=""/>
                <p:cNvSpPr/>
                <p:nvPr/>
              </p:nvSpPr>
              <p:spPr>
                <a:xfrm>
                  <a:off x="7499160" y="2982240"/>
                  <a:ext cx="43200" cy="7992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7500600" y="2981880"/>
                  <a:ext cx="43200" cy="7992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6" name=""/>
              <p:cNvGrpSpPr/>
              <p:nvPr/>
            </p:nvGrpSpPr>
            <p:grpSpPr>
              <a:xfrm>
                <a:off x="7499160" y="3010680"/>
                <a:ext cx="44640" cy="80640"/>
                <a:chOff x="7499160" y="3010680"/>
                <a:chExt cx="44640" cy="80640"/>
              </a:xfrm>
            </p:grpSpPr>
            <p:sp>
              <p:nvSpPr>
                <p:cNvPr id="607" name=""/>
                <p:cNvSpPr/>
                <p:nvPr/>
              </p:nvSpPr>
              <p:spPr>
                <a:xfrm>
                  <a:off x="7499160" y="3011400"/>
                  <a:ext cx="43200" cy="7992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7500600" y="3010680"/>
                  <a:ext cx="43200" cy="7992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09" name=""/>
            <p:cNvGrpSpPr/>
            <p:nvPr/>
          </p:nvGrpSpPr>
          <p:grpSpPr>
            <a:xfrm>
              <a:off x="7439040" y="2642400"/>
              <a:ext cx="181440" cy="245520"/>
              <a:chOff x="7439040" y="2642400"/>
              <a:chExt cx="181440" cy="245520"/>
            </a:xfrm>
          </p:grpSpPr>
          <p:sp>
            <p:nvSpPr>
              <p:cNvPr id="610" name=""/>
              <p:cNvSpPr/>
              <p:nvPr/>
            </p:nvSpPr>
            <p:spPr>
              <a:xfrm>
                <a:off x="7439040" y="2642400"/>
                <a:ext cx="46080" cy="29880"/>
              </a:xfrm>
              <a:prstGeom prst="ellipse">
                <a:avLst/>
              </a:prstGeom>
              <a:solidFill>
                <a:srgbClr val="bcb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443720" y="2647800"/>
                <a:ext cx="39600" cy="25560"/>
              </a:xfrm>
              <a:prstGeom prst="ellipse">
                <a:avLst/>
              </a:prstGeom>
              <a:solidFill>
                <a:srgbClr val="e1d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7574400" y="2857320"/>
                <a:ext cx="46080" cy="28800"/>
              </a:xfrm>
              <a:prstGeom prst="ellipse">
                <a:avLst/>
              </a:prstGeom>
              <a:solidFill>
                <a:srgbClr val="bcb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7579080" y="2862000"/>
                <a:ext cx="39600" cy="25920"/>
              </a:xfrm>
              <a:prstGeom prst="ellipse">
                <a:avLst/>
              </a:prstGeom>
              <a:solidFill>
                <a:srgbClr val="e1d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614" name=""/>
            <p:cNvGrpSpPr/>
            <p:nvPr/>
          </p:nvGrpSpPr>
          <p:grpSpPr>
            <a:xfrm>
              <a:off x="8400600" y="2642400"/>
              <a:ext cx="182520" cy="245520"/>
              <a:chOff x="8400600" y="2642400"/>
              <a:chExt cx="182520" cy="245520"/>
            </a:xfrm>
          </p:grpSpPr>
          <p:sp>
            <p:nvSpPr>
              <p:cNvPr id="615" name=""/>
              <p:cNvSpPr/>
              <p:nvPr/>
            </p:nvSpPr>
            <p:spPr>
              <a:xfrm>
                <a:off x="8400600" y="2642400"/>
                <a:ext cx="46440" cy="29880"/>
              </a:xfrm>
              <a:prstGeom prst="ellipse">
                <a:avLst/>
              </a:prstGeom>
              <a:solidFill>
                <a:srgbClr val="bcb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404920" y="2647800"/>
                <a:ext cx="40320" cy="25560"/>
              </a:xfrm>
              <a:prstGeom prst="ellipse">
                <a:avLst/>
              </a:prstGeom>
              <a:solidFill>
                <a:srgbClr val="e1d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536680" y="2857320"/>
                <a:ext cx="46440" cy="28800"/>
              </a:xfrm>
              <a:prstGeom prst="ellipse">
                <a:avLst/>
              </a:prstGeom>
              <a:solidFill>
                <a:srgbClr val="bcb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541360" y="2862000"/>
                <a:ext cx="40320" cy="25920"/>
              </a:xfrm>
              <a:prstGeom prst="ellipse">
                <a:avLst/>
              </a:prstGeom>
              <a:solidFill>
                <a:srgbClr val="e1d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619" name=""/>
            <p:cNvGrpSpPr/>
            <p:nvPr/>
          </p:nvGrpSpPr>
          <p:grpSpPr>
            <a:xfrm>
              <a:off x="7583760" y="2919960"/>
              <a:ext cx="879840" cy="240480"/>
              <a:chOff x="7583760" y="2919960"/>
              <a:chExt cx="879840" cy="240480"/>
            </a:xfrm>
          </p:grpSpPr>
          <p:sp>
            <p:nvSpPr>
              <p:cNvPr id="620" name=""/>
              <p:cNvSpPr/>
              <p:nvPr/>
            </p:nvSpPr>
            <p:spPr>
              <a:xfrm>
                <a:off x="7583760" y="2921040"/>
                <a:ext cx="828000" cy="239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385120" y="2919960"/>
                <a:ext cx="78480" cy="240480"/>
              </a:xfrm>
              <a:prstGeom prst="flowChartDelay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622" name=""/>
            <p:cNvSpPr/>
            <p:nvPr/>
          </p:nvSpPr>
          <p:spPr>
            <a:xfrm>
              <a:off x="8492760" y="2910240"/>
              <a:ext cx="123840" cy="27216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50000">
                  <a:srgbClr val="749bc2"/>
                </a:gs>
                <a:gs pos="100000">
                  <a:srgbClr val="99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363520" y="2833920"/>
              <a:ext cx="3650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40458c"/>
                  </a:solidFill>
                  <a:latin typeface="Arial"/>
                </a:rPr>
                <a:t>3COM</a:t>
              </a:r>
              <a:endParaRPr b="0" lang="en-US" sz="5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624" name=""/>
            <p:cNvGrpSpPr/>
            <p:nvPr/>
          </p:nvGrpSpPr>
          <p:grpSpPr>
            <a:xfrm>
              <a:off x="7622280" y="2954160"/>
              <a:ext cx="801720" cy="176760"/>
              <a:chOff x="7622280" y="2954160"/>
              <a:chExt cx="801720" cy="176760"/>
            </a:xfrm>
          </p:grpSpPr>
          <p:grpSp>
            <p:nvGrpSpPr>
              <p:cNvPr id="625" name=""/>
              <p:cNvGrpSpPr/>
              <p:nvPr/>
            </p:nvGrpSpPr>
            <p:grpSpPr>
              <a:xfrm>
                <a:off x="8334720" y="2954160"/>
                <a:ext cx="89280" cy="33840"/>
                <a:chOff x="8334720" y="2954160"/>
                <a:chExt cx="89280" cy="33840"/>
              </a:xfrm>
            </p:grpSpPr>
            <p:grpSp>
              <p:nvGrpSpPr>
                <p:cNvPr id="626" name=""/>
                <p:cNvGrpSpPr/>
                <p:nvPr/>
              </p:nvGrpSpPr>
              <p:grpSpPr>
                <a:xfrm>
                  <a:off x="8334720" y="2954160"/>
                  <a:ext cx="26640" cy="33840"/>
                  <a:chOff x="8334720" y="2954160"/>
                  <a:chExt cx="26640" cy="33840"/>
                </a:xfrm>
              </p:grpSpPr>
              <p:sp>
                <p:nvSpPr>
                  <p:cNvPr id="627" name=""/>
                  <p:cNvSpPr/>
                  <p:nvPr/>
                </p:nvSpPr>
                <p:spPr>
                  <a:xfrm>
                    <a:off x="8343720" y="2959920"/>
                    <a:ext cx="17640" cy="64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>
                    <a:off x="8334720" y="2954160"/>
                    <a:ext cx="1512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1">
                        <a:moveTo>
                          <a:pt x="0" y="0"/>
                        </a:moveTo>
                        <a:lnTo>
                          <a:pt x="60" y="0"/>
                        </a:lnTo>
                        <a:lnTo>
                          <a:pt x="41" y="21"/>
                        </a:lnTo>
                        <a:lnTo>
                          <a:pt x="0" y="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>
                    <a:off x="8334720" y="2965680"/>
                    <a:ext cx="1512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0">
                        <a:moveTo>
                          <a:pt x="0" y="20"/>
                        </a:moveTo>
                        <a:lnTo>
                          <a:pt x="60" y="20"/>
                        </a:lnTo>
                        <a:lnTo>
                          <a:pt x="41" y="0"/>
                        </a:lnTo>
                        <a:lnTo>
                          <a:pt x="0" y="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0" name=""/>
                  <p:cNvSpPr/>
                  <p:nvPr/>
                </p:nvSpPr>
                <p:spPr>
                  <a:xfrm>
                    <a:off x="8334720" y="2976120"/>
                    <a:ext cx="18360" cy="64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1" name=""/>
                  <p:cNvSpPr/>
                  <p:nvPr/>
                </p:nvSpPr>
                <p:spPr>
                  <a:xfrm>
                    <a:off x="8346600" y="2971080"/>
                    <a:ext cx="147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19">
                        <a:moveTo>
                          <a:pt x="60" y="0"/>
                        </a:moveTo>
                        <a:lnTo>
                          <a:pt x="0" y="0"/>
                        </a:lnTo>
                        <a:lnTo>
                          <a:pt x="17" y="19"/>
                        </a:lnTo>
                        <a:lnTo>
                          <a:pt x="60" y="19"/>
                        </a:lnTo>
                        <a:lnTo>
                          <a:pt x="6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2" name=""/>
                  <p:cNvSpPr/>
                  <p:nvPr/>
                </p:nvSpPr>
                <p:spPr>
                  <a:xfrm>
                    <a:off x="8345880" y="2982240"/>
                    <a:ext cx="1512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18">
                        <a:moveTo>
                          <a:pt x="61" y="18"/>
                        </a:moveTo>
                        <a:lnTo>
                          <a:pt x="0" y="18"/>
                        </a:lnTo>
                        <a:lnTo>
                          <a:pt x="17" y="0"/>
                        </a:lnTo>
                        <a:lnTo>
                          <a:pt x="61" y="0"/>
                        </a:lnTo>
                        <a:lnTo>
                          <a:pt x="61" y="18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33" name=""/>
                <p:cNvGrpSpPr/>
                <p:nvPr/>
              </p:nvGrpSpPr>
              <p:grpSpPr>
                <a:xfrm>
                  <a:off x="8366040" y="2957760"/>
                  <a:ext cx="57960" cy="25560"/>
                  <a:chOff x="8366040" y="2957760"/>
                  <a:chExt cx="57960" cy="25560"/>
                </a:xfrm>
              </p:grpSpPr>
              <p:sp>
                <p:nvSpPr>
                  <p:cNvPr id="634" name=""/>
                  <p:cNvSpPr/>
                  <p:nvPr/>
                </p:nvSpPr>
                <p:spPr>
                  <a:xfrm>
                    <a:off x="8366040" y="2957760"/>
                    <a:ext cx="57960" cy="1044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5" name=""/>
                  <p:cNvSpPr/>
                  <p:nvPr/>
                </p:nvSpPr>
                <p:spPr>
                  <a:xfrm>
                    <a:off x="8366040" y="2973240"/>
                    <a:ext cx="57960" cy="100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36" name=""/>
              <p:cNvGrpSpPr/>
              <p:nvPr/>
            </p:nvGrpSpPr>
            <p:grpSpPr>
              <a:xfrm>
                <a:off x="8376840" y="3112920"/>
                <a:ext cx="45360" cy="18000"/>
                <a:chOff x="8376840" y="3112920"/>
                <a:chExt cx="45360" cy="18000"/>
              </a:xfrm>
            </p:grpSpPr>
            <p:sp>
              <p:nvSpPr>
                <p:cNvPr id="637" name=""/>
                <p:cNvSpPr/>
                <p:nvPr/>
              </p:nvSpPr>
              <p:spPr>
                <a:xfrm>
                  <a:off x="8376840" y="3112920"/>
                  <a:ext cx="45360" cy="82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8379720" y="3122640"/>
                  <a:ext cx="42480" cy="82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9" name=""/>
              <p:cNvGrpSpPr/>
              <p:nvPr/>
            </p:nvGrpSpPr>
            <p:grpSpPr>
              <a:xfrm>
                <a:off x="8291520" y="2978280"/>
                <a:ext cx="34560" cy="53640"/>
                <a:chOff x="8291520" y="2978280"/>
                <a:chExt cx="34560" cy="53640"/>
              </a:xfrm>
            </p:grpSpPr>
            <p:sp>
              <p:nvSpPr>
                <p:cNvPr id="640" name=""/>
                <p:cNvSpPr/>
                <p:nvPr/>
              </p:nvSpPr>
              <p:spPr>
                <a:xfrm>
                  <a:off x="8291520" y="2986560"/>
                  <a:ext cx="34560" cy="45360"/>
                </a:xfrm>
                <a:custGeom>
                  <a:avLst/>
                  <a:gdLst/>
                  <a:ahLst/>
                  <a:rect l="l" t="t" r="r" b="b"/>
                  <a:pathLst>
                    <a:path w="138" h="141">
                      <a:moveTo>
                        <a:pt x="0" y="141"/>
                      </a:moveTo>
                      <a:lnTo>
                        <a:pt x="0" y="0"/>
                      </a:lnTo>
                      <a:lnTo>
                        <a:pt x="138" y="0"/>
                      </a:lnTo>
                      <a:lnTo>
                        <a:pt x="138" y="138"/>
                      </a:lnTo>
                    </a:path>
                  </a:pathLst>
                </a:custGeom>
                <a:noFill/>
                <a:ln w="6480">
                  <a:solidFill>
                    <a:srgbClr val="8d856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8298000" y="2978280"/>
                  <a:ext cx="23400" cy="18360"/>
                </a:xfrm>
                <a:prstGeom prst="rect">
                  <a:avLst/>
                </a:pr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8300880" y="2980800"/>
                  <a:ext cx="16920" cy="14040"/>
                </a:xfrm>
                <a:prstGeom prst="rect">
                  <a:avLst/>
                </a:prstGeom>
                <a:solidFill>
                  <a:srgbClr val="5249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3" name=""/>
              <p:cNvSpPr/>
              <p:nvPr/>
            </p:nvSpPr>
            <p:spPr>
              <a:xfrm>
                <a:off x="8297280" y="3042360"/>
                <a:ext cx="10440" cy="1296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311320" y="3042360"/>
                <a:ext cx="10440" cy="1296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8297280" y="3061440"/>
                <a:ext cx="10440" cy="1476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311320" y="3061440"/>
                <a:ext cx="10440" cy="1476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297280" y="3081600"/>
                <a:ext cx="10440" cy="1404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311320" y="3081600"/>
                <a:ext cx="10440" cy="1404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297280" y="3101760"/>
                <a:ext cx="10440" cy="1512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8311320" y="3101760"/>
                <a:ext cx="10440" cy="1512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329320" y="3085560"/>
                <a:ext cx="3384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863120" y="2978280"/>
                <a:ext cx="164160" cy="48240"/>
              </a:xfrm>
              <a:custGeom>
                <a:avLst/>
                <a:gdLst/>
                <a:ahLst/>
                <a:rect l="l" t="t" r="r" b="b"/>
                <a:pathLst>
                  <a:path w="667" h="146">
                    <a:moveTo>
                      <a:pt x="0" y="146"/>
                    </a:moveTo>
                    <a:lnTo>
                      <a:pt x="0" y="0"/>
                    </a:lnTo>
                    <a:lnTo>
                      <a:pt x="667" y="0"/>
                    </a:lnTo>
                    <a:lnTo>
                      <a:pt x="667" y="144"/>
                    </a:lnTo>
                  </a:path>
                </a:pathLst>
              </a:custGeom>
              <a:noFill/>
              <a:ln w="6480">
                <a:solidFill>
                  <a:srgbClr val="8d856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7923960" y="2968200"/>
                <a:ext cx="49320" cy="19800"/>
              </a:xfrm>
              <a:prstGeom prst="rect">
                <a:avLst/>
              </a:prstGeom>
              <a:solidFill>
                <a:srgbClr val="a6a2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7930800" y="2971080"/>
                <a:ext cx="34560" cy="147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655" name=""/>
              <p:cNvGrpSpPr/>
              <p:nvPr/>
            </p:nvGrpSpPr>
            <p:grpSpPr>
              <a:xfrm>
                <a:off x="7915320" y="2991240"/>
                <a:ext cx="64080" cy="32040"/>
                <a:chOff x="7915320" y="2991240"/>
                <a:chExt cx="64080" cy="32040"/>
              </a:xfrm>
            </p:grpSpPr>
            <p:sp>
              <p:nvSpPr>
                <p:cNvPr id="656" name=""/>
                <p:cNvSpPr/>
                <p:nvPr/>
              </p:nvSpPr>
              <p:spPr>
                <a:xfrm>
                  <a:off x="7915320" y="2991240"/>
                  <a:ext cx="64080" cy="8640"/>
                </a:xfrm>
                <a:prstGeom prst="rect">
                  <a:avLst/>
                </a:prstGeom>
                <a:solidFill>
                  <a:srgbClr val="ecd8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7918200" y="3002400"/>
                  <a:ext cx="57960" cy="8640"/>
                </a:xfrm>
                <a:prstGeom prst="rect">
                  <a:avLst/>
                </a:prstGeom>
                <a:solidFill>
                  <a:srgbClr val="ecd8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7923960" y="3014640"/>
                  <a:ext cx="47160" cy="8640"/>
                </a:xfrm>
                <a:prstGeom prst="rect">
                  <a:avLst/>
                </a:prstGeom>
                <a:solidFill>
                  <a:srgbClr val="ecd8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9" name=""/>
              <p:cNvGrpSpPr/>
              <p:nvPr/>
            </p:nvGrpSpPr>
            <p:grpSpPr>
              <a:xfrm>
                <a:off x="7861320" y="3035520"/>
                <a:ext cx="83880" cy="74880"/>
                <a:chOff x="7861320" y="3035520"/>
                <a:chExt cx="83880" cy="74880"/>
              </a:xfrm>
            </p:grpSpPr>
            <p:grpSp>
              <p:nvGrpSpPr>
                <p:cNvPr id="660" name=""/>
                <p:cNvGrpSpPr/>
                <p:nvPr/>
              </p:nvGrpSpPr>
              <p:grpSpPr>
                <a:xfrm>
                  <a:off x="7861320" y="3035520"/>
                  <a:ext cx="83880" cy="13680"/>
                  <a:chOff x="7861320" y="3035520"/>
                  <a:chExt cx="83880" cy="13680"/>
                </a:xfrm>
              </p:grpSpPr>
              <p:sp>
                <p:nvSpPr>
                  <p:cNvPr id="661" name=""/>
                  <p:cNvSpPr/>
                  <p:nvPr/>
                </p:nvSpPr>
                <p:spPr>
                  <a:xfrm>
                    <a:off x="7861320" y="3035520"/>
                    <a:ext cx="10800" cy="1368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2" name=""/>
                  <p:cNvSpPr/>
                  <p:nvPr/>
                </p:nvSpPr>
                <p:spPr>
                  <a:xfrm>
                    <a:off x="7875360" y="3035520"/>
                    <a:ext cx="10800" cy="1368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3" name=""/>
                  <p:cNvSpPr/>
                  <p:nvPr/>
                </p:nvSpPr>
                <p:spPr>
                  <a:xfrm>
                    <a:off x="7890480" y="3035520"/>
                    <a:ext cx="10800" cy="1368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4" name=""/>
                  <p:cNvSpPr/>
                  <p:nvPr/>
                </p:nvSpPr>
                <p:spPr>
                  <a:xfrm>
                    <a:off x="7905240" y="3035520"/>
                    <a:ext cx="10080" cy="1368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5" name=""/>
                  <p:cNvSpPr/>
                  <p:nvPr/>
                </p:nvSpPr>
                <p:spPr>
                  <a:xfrm>
                    <a:off x="7919640" y="3035520"/>
                    <a:ext cx="10800" cy="1368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6" name=""/>
                  <p:cNvSpPr/>
                  <p:nvPr/>
                </p:nvSpPr>
                <p:spPr>
                  <a:xfrm>
                    <a:off x="7934400" y="3035520"/>
                    <a:ext cx="10800" cy="1368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7" name=""/>
                <p:cNvGrpSpPr/>
                <p:nvPr/>
              </p:nvGrpSpPr>
              <p:grpSpPr>
                <a:xfrm>
                  <a:off x="7861320" y="3055320"/>
                  <a:ext cx="83880" cy="14400"/>
                  <a:chOff x="7861320" y="3055320"/>
                  <a:chExt cx="83880" cy="14400"/>
                </a:xfrm>
              </p:grpSpPr>
              <p:sp>
                <p:nvSpPr>
                  <p:cNvPr id="668" name=""/>
                  <p:cNvSpPr/>
                  <p:nvPr/>
                </p:nvSpPr>
                <p:spPr>
                  <a:xfrm>
                    <a:off x="7861320" y="3055320"/>
                    <a:ext cx="10800" cy="144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9" name=""/>
                  <p:cNvSpPr/>
                  <p:nvPr/>
                </p:nvSpPr>
                <p:spPr>
                  <a:xfrm>
                    <a:off x="7875360" y="3055320"/>
                    <a:ext cx="10800" cy="144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0" name=""/>
                  <p:cNvSpPr/>
                  <p:nvPr/>
                </p:nvSpPr>
                <p:spPr>
                  <a:xfrm>
                    <a:off x="7890480" y="3055320"/>
                    <a:ext cx="10800" cy="144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1" name=""/>
                  <p:cNvSpPr/>
                  <p:nvPr/>
                </p:nvSpPr>
                <p:spPr>
                  <a:xfrm>
                    <a:off x="7905240" y="3055320"/>
                    <a:ext cx="10080" cy="144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2" name=""/>
                  <p:cNvSpPr/>
                  <p:nvPr/>
                </p:nvSpPr>
                <p:spPr>
                  <a:xfrm>
                    <a:off x="7919640" y="3055320"/>
                    <a:ext cx="10800" cy="144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3" name=""/>
                  <p:cNvSpPr/>
                  <p:nvPr/>
                </p:nvSpPr>
                <p:spPr>
                  <a:xfrm>
                    <a:off x="7934400" y="3055320"/>
                    <a:ext cx="10800" cy="144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74" name=""/>
                <p:cNvGrpSpPr/>
                <p:nvPr/>
              </p:nvGrpSpPr>
              <p:grpSpPr>
                <a:xfrm>
                  <a:off x="7861320" y="3076200"/>
                  <a:ext cx="83880" cy="13680"/>
                  <a:chOff x="7861320" y="3076200"/>
                  <a:chExt cx="83880" cy="13680"/>
                </a:xfrm>
              </p:grpSpPr>
              <p:sp>
                <p:nvSpPr>
                  <p:cNvPr id="675" name=""/>
                  <p:cNvSpPr/>
                  <p:nvPr/>
                </p:nvSpPr>
                <p:spPr>
                  <a:xfrm>
                    <a:off x="7861320" y="3076200"/>
                    <a:ext cx="10800" cy="1368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6" name=""/>
                  <p:cNvSpPr/>
                  <p:nvPr/>
                </p:nvSpPr>
                <p:spPr>
                  <a:xfrm>
                    <a:off x="7875360" y="3076200"/>
                    <a:ext cx="10800" cy="1368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7" name=""/>
                  <p:cNvSpPr/>
                  <p:nvPr/>
                </p:nvSpPr>
                <p:spPr>
                  <a:xfrm>
                    <a:off x="7890480" y="3076200"/>
                    <a:ext cx="10800" cy="1368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8" name=""/>
                  <p:cNvSpPr/>
                  <p:nvPr/>
                </p:nvSpPr>
                <p:spPr>
                  <a:xfrm>
                    <a:off x="7905240" y="3076200"/>
                    <a:ext cx="10080" cy="1368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9" name=""/>
                  <p:cNvSpPr/>
                  <p:nvPr/>
                </p:nvSpPr>
                <p:spPr>
                  <a:xfrm>
                    <a:off x="7919640" y="3076200"/>
                    <a:ext cx="10800" cy="1368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0" name=""/>
                  <p:cNvSpPr/>
                  <p:nvPr/>
                </p:nvSpPr>
                <p:spPr>
                  <a:xfrm>
                    <a:off x="7934400" y="3076200"/>
                    <a:ext cx="10800" cy="1368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81" name=""/>
                <p:cNvGrpSpPr/>
                <p:nvPr/>
              </p:nvGrpSpPr>
              <p:grpSpPr>
                <a:xfrm>
                  <a:off x="7861320" y="3096000"/>
                  <a:ext cx="83880" cy="14400"/>
                  <a:chOff x="7861320" y="3096000"/>
                  <a:chExt cx="83880" cy="14400"/>
                </a:xfrm>
              </p:grpSpPr>
              <p:sp>
                <p:nvSpPr>
                  <p:cNvPr id="682" name=""/>
                  <p:cNvSpPr/>
                  <p:nvPr/>
                </p:nvSpPr>
                <p:spPr>
                  <a:xfrm>
                    <a:off x="7861320" y="3096000"/>
                    <a:ext cx="10800" cy="144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3" name=""/>
                  <p:cNvSpPr/>
                  <p:nvPr/>
                </p:nvSpPr>
                <p:spPr>
                  <a:xfrm>
                    <a:off x="7875360" y="3096000"/>
                    <a:ext cx="10800" cy="144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4" name=""/>
                  <p:cNvSpPr/>
                  <p:nvPr/>
                </p:nvSpPr>
                <p:spPr>
                  <a:xfrm>
                    <a:off x="7890480" y="3096000"/>
                    <a:ext cx="10800" cy="144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5" name=""/>
                  <p:cNvSpPr/>
                  <p:nvPr/>
                </p:nvSpPr>
                <p:spPr>
                  <a:xfrm>
                    <a:off x="7905240" y="3096000"/>
                    <a:ext cx="10080" cy="144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6" name=""/>
                  <p:cNvSpPr/>
                  <p:nvPr/>
                </p:nvSpPr>
                <p:spPr>
                  <a:xfrm>
                    <a:off x="7919640" y="3096000"/>
                    <a:ext cx="10800" cy="144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7" name=""/>
                  <p:cNvSpPr/>
                  <p:nvPr/>
                </p:nvSpPr>
                <p:spPr>
                  <a:xfrm>
                    <a:off x="7934400" y="3096000"/>
                    <a:ext cx="10800" cy="144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88" name=""/>
              <p:cNvGrpSpPr/>
              <p:nvPr/>
            </p:nvGrpSpPr>
            <p:grpSpPr>
              <a:xfrm>
                <a:off x="7950240" y="3035520"/>
                <a:ext cx="83160" cy="74880"/>
                <a:chOff x="7950240" y="3035520"/>
                <a:chExt cx="83160" cy="74880"/>
              </a:xfrm>
            </p:grpSpPr>
            <p:grpSp>
              <p:nvGrpSpPr>
                <p:cNvPr id="689" name=""/>
                <p:cNvGrpSpPr/>
                <p:nvPr/>
              </p:nvGrpSpPr>
              <p:grpSpPr>
                <a:xfrm>
                  <a:off x="7950240" y="3035520"/>
                  <a:ext cx="83160" cy="13680"/>
                  <a:chOff x="7950240" y="3035520"/>
                  <a:chExt cx="83160" cy="13680"/>
                </a:xfrm>
              </p:grpSpPr>
              <p:sp>
                <p:nvSpPr>
                  <p:cNvPr id="690" name=""/>
                  <p:cNvSpPr/>
                  <p:nvPr/>
                </p:nvSpPr>
                <p:spPr>
                  <a:xfrm>
                    <a:off x="7950240" y="3035520"/>
                    <a:ext cx="10080" cy="1368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1" name=""/>
                  <p:cNvSpPr/>
                  <p:nvPr/>
                </p:nvSpPr>
                <p:spPr>
                  <a:xfrm>
                    <a:off x="7964280" y="3035520"/>
                    <a:ext cx="10800" cy="1368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2" name=""/>
                  <p:cNvSpPr/>
                  <p:nvPr/>
                </p:nvSpPr>
                <p:spPr>
                  <a:xfrm>
                    <a:off x="7979040" y="3035520"/>
                    <a:ext cx="10800" cy="1368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3" name=""/>
                  <p:cNvSpPr/>
                  <p:nvPr/>
                </p:nvSpPr>
                <p:spPr>
                  <a:xfrm>
                    <a:off x="7993440" y="3035520"/>
                    <a:ext cx="10800" cy="1368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4" name=""/>
                  <p:cNvSpPr/>
                  <p:nvPr/>
                </p:nvSpPr>
                <p:spPr>
                  <a:xfrm>
                    <a:off x="8008200" y="3035520"/>
                    <a:ext cx="10800" cy="1368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5" name=""/>
                  <p:cNvSpPr/>
                  <p:nvPr/>
                </p:nvSpPr>
                <p:spPr>
                  <a:xfrm>
                    <a:off x="8023320" y="3035520"/>
                    <a:ext cx="10080" cy="1368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6" name=""/>
                <p:cNvGrpSpPr/>
                <p:nvPr/>
              </p:nvGrpSpPr>
              <p:grpSpPr>
                <a:xfrm>
                  <a:off x="7950240" y="3055320"/>
                  <a:ext cx="83160" cy="14400"/>
                  <a:chOff x="7950240" y="3055320"/>
                  <a:chExt cx="83160" cy="14400"/>
                </a:xfrm>
              </p:grpSpPr>
              <p:sp>
                <p:nvSpPr>
                  <p:cNvPr id="697" name=""/>
                  <p:cNvSpPr/>
                  <p:nvPr/>
                </p:nvSpPr>
                <p:spPr>
                  <a:xfrm>
                    <a:off x="7950240" y="3055320"/>
                    <a:ext cx="10080" cy="144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8" name=""/>
                  <p:cNvSpPr/>
                  <p:nvPr/>
                </p:nvSpPr>
                <p:spPr>
                  <a:xfrm>
                    <a:off x="7964280" y="3055320"/>
                    <a:ext cx="10800" cy="144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9" name=""/>
                  <p:cNvSpPr/>
                  <p:nvPr/>
                </p:nvSpPr>
                <p:spPr>
                  <a:xfrm>
                    <a:off x="7979040" y="3055320"/>
                    <a:ext cx="10800" cy="144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0" name=""/>
                  <p:cNvSpPr/>
                  <p:nvPr/>
                </p:nvSpPr>
                <p:spPr>
                  <a:xfrm>
                    <a:off x="7993440" y="3055320"/>
                    <a:ext cx="10800" cy="144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1" name=""/>
                  <p:cNvSpPr/>
                  <p:nvPr/>
                </p:nvSpPr>
                <p:spPr>
                  <a:xfrm>
                    <a:off x="8008200" y="3055320"/>
                    <a:ext cx="10800" cy="144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2" name=""/>
                  <p:cNvSpPr/>
                  <p:nvPr/>
                </p:nvSpPr>
                <p:spPr>
                  <a:xfrm>
                    <a:off x="8023320" y="3055320"/>
                    <a:ext cx="10080" cy="144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03" name=""/>
                <p:cNvGrpSpPr/>
                <p:nvPr/>
              </p:nvGrpSpPr>
              <p:grpSpPr>
                <a:xfrm>
                  <a:off x="7950240" y="3076200"/>
                  <a:ext cx="83160" cy="13680"/>
                  <a:chOff x="7950240" y="3076200"/>
                  <a:chExt cx="83160" cy="13680"/>
                </a:xfrm>
              </p:grpSpPr>
              <p:sp>
                <p:nvSpPr>
                  <p:cNvPr id="704" name=""/>
                  <p:cNvSpPr/>
                  <p:nvPr/>
                </p:nvSpPr>
                <p:spPr>
                  <a:xfrm>
                    <a:off x="7950240" y="3076200"/>
                    <a:ext cx="10080" cy="1368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5" name=""/>
                  <p:cNvSpPr/>
                  <p:nvPr/>
                </p:nvSpPr>
                <p:spPr>
                  <a:xfrm>
                    <a:off x="7964280" y="3076200"/>
                    <a:ext cx="10800" cy="1368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6" name=""/>
                  <p:cNvSpPr/>
                  <p:nvPr/>
                </p:nvSpPr>
                <p:spPr>
                  <a:xfrm>
                    <a:off x="7979040" y="3076200"/>
                    <a:ext cx="10800" cy="1368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7" name=""/>
                  <p:cNvSpPr/>
                  <p:nvPr/>
                </p:nvSpPr>
                <p:spPr>
                  <a:xfrm>
                    <a:off x="7993440" y="3076200"/>
                    <a:ext cx="10800" cy="1368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8" name=""/>
                  <p:cNvSpPr/>
                  <p:nvPr/>
                </p:nvSpPr>
                <p:spPr>
                  <a:xfrm>
                    <a:off x="8008200" y="3076200"/>
                    <a:ext cx="10800" cy="1368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9" name=""/>
                  <p:cNvSpPr/>
                  <p:nvPr/>
                </p:nvSpPr>
                <p:spPr>
                  <a:xfrm>
                    <a:off x="8023320" y="3076200"/>
                    <a:ext cx="10080" cy="1368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10" name=""/>
                <p:cNvGrpSpPr/>
                <p:nvPr/>
              </p:nvGrpSpPr>
              <p:grpSpPr>
                <a:xfrm>
                  <a:off x="7950240" y="3096000"/>
                  <a:ext cx="83160" cy="14400"/>
                  <a:chOff x="7950240" y="3096000"/>
                  <a:chExt cx="83160" cy="14400"/>
                </a:xfrm>
              </p:grpSpPr>
              <p:sp>
                <p:nvSpPr>
                  <p:cNvPr id="711" name=""/>
                  <p:cNvSpPr/>
                  <p:nvPr/>
                </p:nvSpPr>
                <p:spPr>
                  <a:xfrm>
                    <a:off x="7950240" y="3096000"/>
                    <a:ext cx="10080" cy="144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2" name=""/>
                  <p:cNvSpPr/>
                  <p:nvPr/>
                </p:nvSpPr>
                <p:spPr>
                  <a:xfrm>
                    <a:off x="7964280" y="3096000"/>
                    <a:ext cx="10800" cy="144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3" name=""/>
                  <p:cNvSpPr/>
                  <p:nvPr/>
                </p:nvSpPr>
                <p:spPr>
                  <a:xfrm>
                    <a:off x="7979040" y="3096000"/>
                    <a:ext cx="10800" cy="144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4" name=""/>
                  <p:cNvSpPr/>
                  <p:nvPr/>
                </p:nvSpPr>
                <p:spPr>
                  <a:xfrm>
                    <a:off x="7993440" y="3096000"/>
                    <a:ext cx="10800" cy="144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5" name=""/>
                  <p:cNvSpPr/>
                  <p:nvPr/>
                </p:nvSpPr>
                <p:spPr>
                  <a:xfrm>
                    <a:off x="8008200" y="3096000"/>
                    <a:ext cx="10800" cy="144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6" name=""/>
                  <p:cNvSpPr/>
                  <p:nvPr/>
                </p:nvSpPr>
                <p:spPr>
                  <a:xfrm>
                    <a:off x="8023320" y="3096000"/>
                    <a:ext cx="10080" cy="144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17" name=""/>
              <p:cNvGrpSpPr/>
              <p:nvPr/>
            </p:nvGrpSpPr>
            <p:grpSpPr>
              <a:xfrm>
                <a:off x="7622280" y="3060720"/>
                <a:ext cx="217440" cy="66240"/>
                <a:chOff x="7622280" y="3060720"/>
                <a:chExt cx="217440" cy="66240"/>
              </a:xfrm>
            </p:grpSpPr>
            <p:grpSp>
              <p:nvGrpSpPr>
                <p:cNvPr id="718" name=""/>
                <p:cNvGrpSpPr/>
                <p:nvPr/>
              </p:nvGrpSpPr>
              <p:grpSpPr>
                <a:xfrm>
                  <a:off x="7622280" y="3060720"/>
                  <a:ext cx="27000" cy="66240"/>
                  <a:chOff x="7622280" y="3060720"/>
                  <a:chExt cx="27000" cy="66240"/>
                </a:xfrm>
              </p:grpSpPr>
              <p:grpSp>
                <p:nvGrpSpPr>
                  <p:cNvPr id="719" name=""/>
                  <p:cNvGrpSpPr/>
                  <p:nvPr/>
                </p:nvGrpSpPr>
                <p:grpSpPr>
                  <a:xfrm>
                    <a:off x="7622280" y="3060720"/>
                    <a:ext cx="27000" cy="66240"/>
                    <a:chOff x="7622280" y="3060720"/>
                    <a:chExt cx="27000" cy="66240"/>
                  </a:xfrm>
                </p:grpSpPr>
                <p:sp>
                  <p:nvSpPr>
                    <p:cNvPr id="720" name=""/>
                    <p:cNvSpPr/>
                    <p:nvPr/>
                  </p:nvSpPr>
                  <p:spPr>
                    <a:xfrm>
                      <a:off x="7622280" y="3073320"/>
                      <a:ext cx="25920" cy="507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1" name=""/>
                    <p:cNvSpPr/>
                    <p:nvPr/>
                  </p:nvSpPr>
                  <p:spPr>
                    <a:xfrm>
                      <a:off x="7622280" y="3076200"/>
                      <a:ext cx="324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2" name=""/>
                    <p:cNvSpPr/>
                    <p:nvPr/>
                  </p:nvSpPr>
                  <p:spPr>
                    <a:xfrm>
                      <a:off x="7624800" y="3085920"/>
                      <a:ext cx="24480" cy="3996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3" name=""/>
                    <p:cNvSpPr/>
                    <p:nvPr/>
                  </p:nvSpPr>
                  <p:spPr>
                    <a:xfrm>
                      <a:off x="7622280" y="3076200"/>
                      <a:ext cx="27000" cy="11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4" name=""/>
                    <p:cNvSpPr/>
                    <p:nvPr/>
                  </p:nvSpPr>
                  <p:spPr>
                    <a:xfrm>
                      <a:off x="7623720" y="3060720"/>
                      <a:ext cx="324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5" name=""/>
                    <p:cNvSpPr/>
                    <p:nvPr/>
                  </p:nvSpPr>
                  <p:spPr>
                    <a:xfrm>
                      <a:off x="7643520" y="3060720"/>
                      <a:ext cx="252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26" name=""/>
                  <p:cNvSpPr/>
                  <p:nvPr/>
                </p:nvSpPr>
                <p:spPr>
                  <a:xfrm>
                    <a:off x="7630560" y="3097080"/>
                    <a:ext cx="14760" cy="223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27" name=""/>
                <p:cNvGrpSpPr/>
                <p:nvPr/>
              </p:nvGrpSpPr>
              <p:grpSpPr>
                <a:xfrm>
                  <a:off x="7660080" y="3060720"/>
                  <a:ext cx="27000" cy="66240"/>
                  <a:chOff x="7660080" y="3060720"/>
                  <a:chExt cx="27000" cy="66240"/>
                </a:xfrm>
              </p:grpSpPr>
              <p:grpSp>
                <p:nvGrpSpPr>
                  <p:cNvPr id="728" name=""/>
                  <p:cNvGrpSpPr/>
                  <p:nvPr/>
                </p:nvGrpSpPr>
                <p:grpSpPr>
                  <a:xfrm>
                    <a:off x="7660080" y="3060720"/>
                    <a:ext cx="27000" cy="66240"/>
                    <a:chOff x="7660080" y="3060720"/>
                    <a:chExt cx="27000" cy="66240"/>
                  </a:xfrm>
                </p:grpSpPr>
                <p:sp>
                  <p:nvSpPr>
                    <p:cNvPr id="729" name=""/>
                    <p:cNvSpPr/>
                    <p:nvPr/>
                  </p:nvSpPr>
                  <p:spPr>
                    <a:xfrm>
                      <a:off x="7660080" y="3073320"/>
                      <a:ext cx="25920" cy="507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0" name=""/>
                    <p:cNvSpPr/>
                    <p:nvPr/>
                  </p:nvSpPr>
                  <p:spPr>
                    <a:xfrm>
                      <a:off x="7660080" y="3076200"/>
                      <a:ext cx="324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1" name=""/>
                    <p:cNvSpPr/>
                    <p:nvPr/>
                  </p:nvSpPr>
                  <p:spPr>
                    <a:xfrm>
                      <a:off x="7662600" y="3085920"/>
                      <a:ext cx="24480" cy="3996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2" name=""/>
                    <p:cNvSpPr/>
                    <p:nvPr/>
                  </p:nvSpPr>
                  <p:spPr>
                    <a:xfrm>
                      <a:off x="7660080" y="3076200"/>
                      <a:ext cx="27000" cy="11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3" name=""/>
                    <p:cNvSpPr/>
                    <p:nvPr/>
                  </p:nvSpPr>
                  <p:spPr>
                    <a:xfrm>
                      <a:off x="7661520" y="3060720"/>
                      <a:ext cx="324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4" name=""/>
                    <p:cNvSpPr/>
                    <p:nvPr/>
                  </p:nvSpPr>
                  <p:spPr>
                    <a:xfrm>
                      <a:off x="7681320" y="3060720"/>
                      <a:ext cx="252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35" name=""/>
                  <p:cNvSpPr/>
                  <p:nvPr/>
                </p:nvSpPr>
                <p:spPr>
                  <a:xfrm>
                    <a:off x="7668360" y="3097080"/>
                    <a:ext cx="14760" cy="223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36" name=""/>
                <p:cNvGrpSpPr/>
                <p:nvPr/>
              </p:nvGrpSpPr>
              <p:grpSpPr>
                <a:xfrm>
                  <a:off x="7697880" y="3060720"/>
                  <a:ext cx="27360" cy="66240"/>
                  <a:chOff x="7697880" y="3060720"/>
                  <a:chExt cx="27360" cy="66240"/>
                </a:xfrm>
              </p:grpSpPr>
              <p:grpSp>
                <p:nvGrpSpPr>
                  <p:cNvPr id="737" name=""/>
                  <p:cNvGrpSpPr/>
                  <p:nvPr/>
                </p:nvGrpSpPr>
                <p:grpSpPr>
                  <a:xfrm>
                    <a:off x="7697880" y="3060720"/>
                    <a:ext cx="27360" cy="66240"/>
                    <a:chOff x="7697880" y="3060720"/>
                    <a:chExt cx="27360" cy="66240"/>
                  </a:xfrm>
                </p:grpSpPr>
                <p:sp>
                  <p:nvSpPr>
                    <p:cNvPr id="738" name=""/>
                    <p:cNvSpPr/>
                    <p:nvPr/>
                  </p:nvSpPr>
                  <p:spPr>
                    <a:xfrm>
                      <a:off x="7697880" y="3073320"/>
                      <a:ext cx="26280" cy="507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9" name=""/>
                    <p:cNvSpPr/>
                    <p:nvPr/>
                  </p:nvSpPr>
                  <p:spPr>
                    <a:xfrm>
                      <a:off x="7697880" y="3076200"/>
                      <a:ext cx="324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0" name=""/>
                    <p:cNvSpPr/>
                    <p:nvPr/>
                  </p:nvSpPr>
                  <p:spPr>
                    <a:xfrm>
                      <a:off x="7700400" y="3085920"/>
                      <a:ext cx="24480" cy="3996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1" name=""/>
                    <p:cNvSpPr/>
                    <p:nvPr/>
                  </p:nvSpPr>
                  <p:spPr>
                    <a:xfrm>
                      <a:off x="7697880" y="3076200"/>
                      <a:ext cx="27360" cy="11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2" name=""/>
                    <p:cNvSpPr/>
                    <p:nvPr/>
                  </p:nvSpPr>
                  <p:spPr>
                    <a:xfrm>
                      <a:off x="7699320" y="3060720"/>
                      <a:ext cx="324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3" name=""/>
                    <p:cNvSpPr/>
                    <p:nvPr/>
                  </p:nvSpPr>
                  <p:spPr>
                    <a:xfrm>
                      <a:off x="7719480" y="3060720"/>
                      <a:ext cx="288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44" name=""/>
                  <p:cNvSpPr/>
                  <p:nvPr/>
                </p:nvSpPr>
                <p:spPr>
                  <a:xfrm>
                    <a:off x="7706160" y="3097080"/>
                    <a:ext cx="15120" cy="223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45" name=""/>
                <p:cNvGrpSpPr/>
                <p:nvPr/>
              </p:nvGrpSpPr>
              <p:grpSpPr>
                <a:xfrm>
                  <a:off x="7736400" y="3060720"/>
                  <a:ext cx="27000" cy="66240"/>
                  <a:chOff x="7736400" y="3060720"/>
                  <a:chExt cx="27000" cy="66240"/>
                </a:xfrm>
              </p:grpSpPr>
              <p:grpSp>
                <p:nvGrpSpPr>
                  <p:cNvPr id="746" name=""/>
                  <p:cNvGrpSpPr/>
                  <p:nvPr/>
                </p:nvGrpSpPr>
                <p:grpSpPr>
                  <a:xfrm>
                    <a:off x="7736400" y="3060720"/>
                    <a:ext cx="27000" cy="66240"/>
                    <a:chOff x="7736400" y="3060720"/>
                    <a:chExt cx="27000" cy="66240"/>
                  </a:xfrm>
                </p:grpSpPr>
                <p:sp>
                  <p:nvSpPr>
                    <p:cNvPr id="747" name=""/>
                    <p:cNvSpPr/>
                    <p:nvPr/>
                  </p:nvSpPr>
                  <p:spPr>
                    <a:xfrm>
                      <a:off x="7736400" y="3073320"/>
                      <a:ext cx="25920" cy="507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8" name=""/>
                    <p:cNvSpPr/>
                    <p:nvPr/>
                  </p:nvSpPr>
                  <p:spPr>
                    <a:xfrm>
                      <a:off x="7736400" y="3076200"/>
                      <a:ext cx="324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9" name=""/>
                    <p:cNvSpPr/>
                    <p:nvPr/>
                  </p:nvSpPr>
                  <p:spPr>
                    <a:xfrm>
                      <a:off x="7738920" y="3085920"/>
                      <a:ext cx="24480" cy="3996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0" name=""/>
                    <p:cNvSpPr/>
                    <p:nvPr/>
                  </p:nvSpPr>
                  <p:spPr>
                    <a:xfrm>
                      <a:off x="7736400" y="3076200"/>
                      <a:ext cx="27000" cy="11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1" name=""/>
                    <p:cNvSpPr/>
                    <p:nvPr/>
                  </p:nvSpPr>
                  <p:spPr>
                    <a:xfrm>
                      <a:off x="7737840" y="3060720"/>
                      <a:ext cx="324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2" name=""/>
                    <p:cNvSpPr/>
                    <p:nvPr/>
                  </p:nvSpPr>
                  <p:spPr>
                    <a:xfrm>
                      <a:off x="7757640" y="3060720"/>
                      <a:ext cx="252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53" name=""/>
                  <p:cNvSpPr/>
                  <p:nvPr/>
                </p:nvSpPr>
                <p:spPr>
                  <a:xfrm>
                    <a:off x="7744680" y="3097080"/>
                    <a:ext cx="14760" cy="223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54" name=""/>
                <p:cNvGrpSpPr/>
                <p:nvPr/>
              </p:nvGrpSpPr>
              <p:grpSpPr>
                <a:xfrm>
                  <a:off x="7774200" y="3060720"/>
                  <a:ext cx="27000" cy="66240"/>
                  <a:chOff x="7774200" y="3060720"/>
                  <a:chExt cx="27000" cy="66240"/>
                </a:xfrm>
              </p:grpSpPr>
              <p:grpSp>
                <p:nvGrpSpPr>
                  <p:cNvPr id="755" name=""/>
                  <p:cNvGrpSpPr/>
                  <p:nvPr/>
                </p:nvGrpSpPr>
                <p:grpSpPr>
                  <a:xfrm>
                    <a:off x="7774200" y="3060720"/>
                    <a:ext cx="27000" cy="66240"/>
                    <a:chOff x="7774200" y="3060720"/>
                    <a:chExt cx="27000" cy="66240"/>
                  </a:xfrm>
                </p:grpSpPr>
                <p:sp>
                  <p:nvSpPr>
                    <p:cNvPr id="756" name=""/>
                    <p:cNvSpPr/>
                    <p:nvPr/>
                  </p:nvSpPr>
                  <p:spPr>
                    <a:xfrm>
                      <a:off x="7774200" y="3073320"/>
                      <a:ext cx="25920" cy="507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7" name=""/>
                    <p:cNvSpPr/>
                    <p:nvPr/>
                  </p:nvSpPr>
                  <p:spPr>
                    <a:xfrm>
                      <a:off x="7774200" y="3076200"/>
                      <a:ext cx="324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8" name=""/>
                    <p:cNvSpPr/>
                    <p:nvPr/>
                  </p:nvSpPr>
                  <p:spPr>
                    <a:xfrm>
                      <a:off x="7776720" y="3085920"/>
                      <a:ext cx="24480" cy="3996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9" name=""/>
                    <p:cNvSpPr/>
                    <p:nvPr/>
                  </p:nvSpPr>
                  <p:spPr>
                    <a:xfrm>
                      <a:off x="7774200" y="3076200"/>
                      <a:ext cx="27000" cy="11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0" name=""/>
                    <p:cNvSpPr/>
                    <p:nvPr/>
                  </p:nvSpPr>
                  <p:spPr>
                    <a:xfrm>
                      <a:off x="7775640" y="3060720"/>
                      <a:ext cx="324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1" name=""/>
                    <p:cNvSpPr/>
                    <p:nvPr/>
                  </p:nvSpPr>
                  <p:spPr>
                    <a:xfrm>
                      <a:off x="7795440" y="3060720"/>
                      <a:ext cx="252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62" name=""/>
                  <p:cNvSpPr/>
                  <p:nvPr/>
                </p:nvSpPr>
                <p:spPr>
                  <a:xfrm>
                    <a:off x="7782480" y="3097080"/>
                    <a:ext cx="14760" cy="223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63" name=""/>
                <p:cNvGrpSpPr/>
                <p:nvPr/>
              </p:nvGrpSpPr>
              <p:grpSpPr>
                <a:xfrm>
                  <a:off x="7812720" y="3060720"/>
                  <a:ext cx="27000" cy="66240"/>
                  <a:chOff x="7812720" y="3060720"/>
                  <a:chExt cx="27000" cy="66240"/>
                </a:xfrm>
              </p:grpSpPr>
              <p:grpSp>
                <p:nvGrpSpPr>
                  <p:cNvPr id="764" name=""/>
                  <p:cNvGrpSpPr/>
                  <p:nvPr/>
                </p:nvGrpSpPr>
                <p:grpSpPr>
                  <a:xfrm>
                    <a:off x="7812720" y="3060720"/>
                    <a:ext cx="27000" cy="66240"/>
                    <a:chOff x="7812720" y="3060720"/>
                    <a:chExt cx="27000" cy="66240"/>
                  </a:xfrm>
                </p:grpSpPr>
                <p:sp>
                  <p:nvSpPr>
                    <p:cNvPr id="765" name=""/>
                    <p:cNvSpPr/>
                    <p:nvPr/>
                  </p:nvSpPr>
                  <p:spPr>
                    <a:xfrm>
                      <a:off x="7812720" y="3073320"/>
                      <a:ext cx="25920" cy="507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6" name=""/>
                    <p:cNvSpPr/>
                    <p:nvPr/>
                  </p:nvSpPr>
                  <p:spPr>
                    <a:xfrm>
                      <a:off x="7812720" y="3076200"/>
                      <a:ext cx="324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7" name=""/>
                    <p:cNvSpPr/>
                    <p:nvPr/>
                  </p:nvSpPr>
                  <p:spPr>
                    <a:xfrm>
                      <a:off x="7815240" y="3085920"/>
                      <a:ext cx="24480" cy="3996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8" name=""/>
                    <p:cNvSpPr/>
                    <p:nvPr/>
                  </p:nvSpPr>
                  <p:spPr>
                    <a:xfrm>
                      <a:off x="7812720" y="3076200"/>
                      <a:ext cx="27000" cy="11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9" name=""/>
                    <p:cNvSpPr/>
                    <p:nvPr/>
                  </p:nvSpPr>
                  <p:spPr>
                    <a:xfrm>
                      <a:off x="7814160" y="3060720"/>
                      <a:ext cx="324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0" name=""/>
                    <p:cNvSpPr/>
                    <p:nvPr/>
                  </p:nvSpPr>
                  <p:spPr>
                    <a:xfrm>
                      <a:off x="7833960" y="3060720"/>
                      <a:ext cx="252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71" name=""/>
                  <p:cNvSpPr/>
                  <p:nvPr/>
                </p:nvSpPr>
                <p:spPr>
                  <a:xfrm>
                    <a:off x="7821000" y="3097080"/>
                    <a:ext cx="14760" cy="223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72" name=""/>
              <p:cNvGrpSpPr/>
              <p:nvPr/>
            </p:nvGrpSpPr>
            <p:grpSpPr>
              <a:xfrm>
                <a:off x="8065800" y="3052440"/>
                <a:ext cx="217440" cy="66240"/>
                <a:chOff x="8065800" y="3052440"/>
                <a:chExt cx="217440" cy="66240"/>
              </a:xfrm>
            </p:grpSpPr>
            <p:grpSp>
              <p:nvGrpSpPr>
                <p:cNvPr id="773" name=""/>
                <p:cNvGrpSpPr/>
                <p:nvPr/>
              </p:nvGrpSpPr>
              <p:grpSpPr>
                <a:xfrm>
                  <a:off x="8065800" y="3052440"/>
                  <a:ext cx="27000" cy="66240"/>
                  <a:chOff x="8065800" y="3052440"/>
                  <a:chExt cx="27000" cy="66240"/>
                </a:xfrm>
              </p:grpSpPr>
              <p:grpSp>
                <p:nvGrpSpPr>
                  <p:cNvPr id="774" name=""/>
                  <p:cNvGrpSpPr/>
                  <p:nvPr/>
                </p:nvGrpSpPr>
                <p:grpSpPr>
                  <a:xfrm>
                    <a:off x="8065800" y="3052440"/>
                    <a:ext cx="27000" cy="66240"/>
                    <a:chOff x="8065800" y="3052440"/>
                    <a:chExt cx="27000" cy="66240"/>
                  </a:xfrm>
                </p:grpSpPr>
                <p:sp>
                  <p:nvSpPr>
                    <p:cNvPr id="775" name=""/>
                    <p:cNvSpPr/>
                    <p:nvPr/>
                  </p:nvSpPr>
                  <p:spPr>
                    <a:xfrm>
                      <a:off x="8065800" y="3065040"/>
                      <a:ext cx="25920" cy="507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6" name=""/>
                    <p:cNvSpPr/>
                    <p:nvPr/>
                  </p:nvSpPr>
                  <p:spPr>
                    <a:xfrm>
                      <a:off x="8065800" y="3067920"/>
                      <a:ext cx="324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7" name=""/>
                    <p:cNvSpPr/>
                    <p:nvPr/>
                  </p:nvSpPr>
                  <p:spPr>
                    <a:xfrm>
                      <a:off x="8068320" y="3077640"/>
                      <a:ext cx="24480" cy="3996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8" name=""/>
                    <p:cNvSpPr/>
                    <p:nvPr/>
                  </p:nvSpPr>
                  <p:spPr>
                    <a:xfrm>
                      <a:off x="8065800" y="3067920"/>
                      <a:ext cx="27000" cy="11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9" name=""/>
                    <p:cNvSpPr/>
                    <p:nvPr/>
                  </p:nvSpPr>
                  <p:spPr>
                    <a:xfrm>
                      <a:off x="8067240" y="3052440"/>
                      <a:ext cx="324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0" name=""/>
                    <p:cNvSpPr/>
                    <p:nvPr/>
                  </p:nvSpPr>
                  <p:spPr>
                    <a:xfrm>
                      <a:off x="8087040" y="3052440"/>
                      <a:ext cx="252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81" name=""/>
                  <p:cNvSpPr/>
                  <p:nvPr/>
                </p:nvSpPr>
                <p:spPr>
                  <a:xfrm>
                    <a:off x="8074080" y="3088800"/>
                    <a:ext cx="14760" cy="223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82" name=""/>
                <p:cNvGrpSpPr/>
                <p:nvPr/>
              </p:nvGrpSpPr>
              <p:grpSpPr>
                <a:xfrm>
                  <a:off x="8103600" y="3052440"/>
                  <a:ext cx="27000" cy="66240"/>
                  <a:chOff x="8103600" y="3052440"/>
                  <a:chExt cx="27000" cy="66240"/>
                </a:xfrm>
              </p:grpSpPr>
              <p:grpSp>
                <p:nvGrpSpPr>
                  <p:cNvPr id="783" name=""/>
                  <p:cNvGrpSpPr/>
                  <p:nvPr/>
                </p:nvGrpSpPr>
                <p:grpSpPr>
                  <a:xfrm>
                    <a:off x="8103600" y="3052440"/>
                    <a:ext cx="27000" cy="66240"/>
                    <a:chOff x="8103600" y="3052440"/>
                    <a:chExt cx="27000" cy="66240"/>
                  </a:xfrm>
                </p:grpSpPr>
                <p:sp>
                  <p:nvSpPr>
                    <p:cNvPr id="784" name=""/>
                    <p:cNvSpPr/>
                    <p:nvPr/>
                  </p:nvSpPr>
                  <p:spPr>
                    <a:xfrm>
                      <a:off x="8103600" y="3065040"/>
                      <a:ext cx="25920" cy="507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5" name=""/>
                    <p:cNvSpPr/>
                    <p:nvPr/>
                  </p:nvSpPr>
                  <p:spPr>
                    <a:xfrm>
                      <a:off x="8103600" y="3067920"/>
                      <a:ext cx="324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6" name=""/>
                    <p:cNvSpPr/>
                    <p:nvPr/>
                  </p:nvSpPr>
                  <p:spPr>
                    <a:xfrm>
                      <a:off x="8106120" y="3077640"/>
                      <a:ext cx="24480" cy="3996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7" name=""/>
                    <p:cNvSpPr/>
                    <p:nvPr/>
                  </p:nvSpPr>
                  <p:spPr>
                    <a:xfrm>
                      <a:off x="8103600" y="3067920"/>
                      <a:ext cx="27000" cy="11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8" name=""/>
                    <p:cNvSpPr/>
                    <p:nvPr/>
                  </p:nvSpPr>
                  <p:spPr>
                    <a:xfrm>
                      <a:off x="8105040" y="3052440"/>
                      <a:ext cx="324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9" name=""/>
                    <p:cNvSpPr/>
                    <p:nvPr/>
                  </p:nvSpPr>
                  <p:spPr>
                    <a:xfrm>
                      <a:off x="8124840" y="3052440"/>
                      <a:ext cx="252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90" name=""/>
                  <p:cNvSpPr/>
                  <p:nvPr/>
                </p:nvSpPr>
                <p:spPr>
                  <a:xfrm>
                    <a:off x="8111880" y="3088800"/>
                    <a:ext cx="14760" cy="223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91" name=""/>
                <p:cNvGrpSpPr/>
                <p:nvPr/>
              </p:nvGrpSpPr>
              <p:grpSpPr>
                <a:xfrm>
                  <a:off x="8141400" y="3052440"/>
                  <a:ext cx="27360" cy="66240"/>
                  <a:chOff x="8141400" y="3052440"/>
                  <a:chExt cx="27360" cy="66240"/>
                </a:xfrm>
              </p:grpSpPr>
              <p:grpSp>
                <p:nvGrpSpPr>
                  <p:cNvPr id="792" name=""/>
                  <p:cNvGrpSpPr/>
                  <p:nvPr/>
                </p:nvGrpSpPr>
                <p:grpSpPr>
                  <a:xfrm>
                    <a:off x="8141400" y="3052440"/>
                    <a:ext cx="27360" cy="66240"/>
                    <a:chOff x="8141400" y="3052440"/>
                    <a:chExt cx="27360" cy="66240"/>
                  </a:xfrm>
                </p:grpSpPr>
                <p:sp>
                  <p:nvSpPr>
                    <p:cNvPr id="793" name=""/>
                    <p:cNvSpPr/>
                    <p:nvPr/>
                  </p:nvSpPr>
                  <p:spPr>
                    <a:xfrm>
                      <a:off x="8141400" y="3065040"/>
                      <a:ext cx="26280" cy="507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4" name=""/>
                    <p:cNvSpPr/>
                    <p:nvPr/>
                  </p:nvSpPr>
                  <p:spPr>
                    <a:xfrm>
                      <a:off x="8141400" y="3067920"/>
                      <a:ext cx="324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5" name=""/>
                    <p:cNvSpPr/>
                    <p:nvPr/>
                  </p:nvSpPr>
                  <p:spPr>
                    <a:xfrm>
                      <a:off x="8143920" y="3077640"/>
                      <a:ext cx="24480" cy="3996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6" name=""/>
                    <p:cNvSpPr/>
                    <p:nvPr/>
                  </p:nvSpPr>
                  <p:spPr>
                    <a:xfrm>
                      <a:off x="8141400" y="3067920"/>
                      <a:ext cx="27360" cy="11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7" name=""/>
                    <p:cNvSpPr/>
                    <p:nvPr/>
                  </p:nvSpPr>
                  <p:spPr>
                    <a:xfrm>
                      <a:off x="8142840" y="3052440"/>
                      <a:ext cx="324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8" name=""/>
                    <p:cNvSpPr/>
                    <p:nvPr/>
                  </p:nvSpPr>
                  <p:spPr>
                    <a:xfrm>
                      <a:off x="8163000" y="3052440"/>
                      <a:ext cx="288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99" name=""/>
                  <p:cNvSpPr/>
                  <p:nvPr/>
                </p:nvSpPr>
                <p:spPr>
                  <a:xfrm>
                    <a:off x="8149680" y="3088800"/>
                    <a:ext cx="15120" cy="223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00" name=""/>
                <p:cNvGrpSpPr/>
                <p:nvPr/>
              </p:nvGrpSpPr>
              <p:grpSpPr>
                <a:xfrm>
                  <a:off x="8179920" y="3052440"/>
                  <a:ext cx="27000" cy="66240"/>
                  <a:chOff x="8179920" y="3052440"/>
                  <a:chExt cx="27000" cy="66240"/>
                </a:xfrm>
              </p:grpSpPr>
              <p:grpSp>
                <p:nvGrpSpPr>
                  <p:cNvPr id="801" name=""/>
                  <p:cNvGrpSpPr/>
                  <p:nvPr/>
                </p:nvGrpSpPr>
                <p:grpSpPr>
                  <a:xfrm>
                    <a:off x="8179920" y="3052440"/>
                    <a:ext cx="27000" cy="66240"/>
                    <a:chOff x="8179920" y="3052440"/>
                    <a:chExt cx="27000" cy="66240"/>
                  </a:xfrm>
                </p:grpSpPr>
                <p:sp>
                  <p:nvSpPr>
                    <p:cNvPr id="802" name=""/>
                    <p:cNvSpPr/>
                    <p:nvPr/>
                  </p:nvSpPr>
                  <p:spPr>
                    <a:xfrm>
                      <a:off x="8179920" y="3065040"/>
                      <a:ext cx="25920" cy="507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3" name=""/>
                    <p:cNvSpPr/>
                    <p:nvPr/>
                  </p:nvSpPr>
                  <p:spPr>
                    <a:xfrm>
                      <a:off x="8179920" y="3067920"/>
                      <a:ext cx="324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4" name=""/>
                    <p:cNvSpPr/>
                    <p:nvPr/>
                  </p:nvSpPr>
                  <p:spPr>
                    <a:xfrm>
                      <a:off x="8182440" y="3077640"/>
                      <a:ext cx="24480" cy="3996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5" name=""/>
                    <p:cNvSpPr/>
                    <p:nvPr/>
                  </p:nvSpPr>
                  <p:spPr>
                    <a:xfrm>
                      <a:off x="8179920" y="3067920"/>
                      <a:ext cx="27000" cy="11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6" name=""/>
                    <p:cNvSpPr/>
                    <p:nvPr/>
                  </p:nvSpPr>
                  <p:spPr>
                    <a:xfrm>
                      <a:off x="8181360" y="3052440"/>
                      <a:ext cx="324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7" name=""/>
                    <p:cNvSpPr/>
                    <p:nvPr/>
                  </p:nvSpPr>
                  <p:spPr>
                    <a:xfrm>
                      <a:off x="8201160" y="3052440"/>
                      <a:ext cx="252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08" name=""/>
                  <p:cNvSpPr/>
                  <p:nvPr/>
                </p:nvSpPr>
                <p:spPr>
                  <a:xfrm>
                    <a:off x="8188200" y="3088800"/>
                    <a:ext cx="14760" cy="223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09" name=""/>
                <p:cNvGrpSpPr/>
                <p:nvPr/>
              </p:nvGrpSpPr>
              <p:grpSpPr>
                <a:xfrm>
                  <a:off x="8217720" y="3052440"/>
                  <a:ext cx="27000" cy="66240"/>
                  <a:chOff x="8217720" y="3052440"/>
                  <a:chExt cx="27000" cy="66240"/>
                </a:xfrm>
              </p:grpSpPr>
              <p:grpSp>
                <p:nvGrpSpPr>
                  <p:cNvPr id="810" name=""/>
                  <p:cNvGrpSpPr/>
                  <p:nvPr/>
                </p:nvGrpSpPr>
                <p:grpSpPr>
                  <a:xfrm>
                    <a:off x="8217720" y="3052440"/>
                    <a:ext cx="27000" cy="66240"/>
                    <a:chOff x="8217720" y="3052440"/>
                    <a:chExt cx="27000" cy="66240"/>
                  </a:xfrm>
                </p:grpSpPr>
                <p:sp>
                  <p:nvSpPr>
                    <p:cNvPr id="811" name=""/>
                    <p:cNvSpPr/>
                    <p:nvPr/>
                  </p:nvSpPr>
                  <p:spPr>
                    <a:xfrm>
                      <a:off x="8217720" y="3065040"/>
                      <a:ext cx="25920" cy="507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2" name=""/>
                    <p:cNvSpPr/>
                    <p:nvPr/>
                  </p:nvSpPr>
                  <p:spPr>
                    <a:xfrm>
                      <a:off x="8217720" y="3067920"/>
                      <a:ext cx="324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3" name=""/>
                    <p:cNvSpPr/>
                    <p:nvPr/>
                  </p:nvSpPr>
                  <p:spPr>
                    <a:xfrm>
                      <a:off x="8220240" y="3077640"/>
                      <a:ext cx="24480" cy="3996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4" name=""/>
                    <p:cNvSpPr/>
                    <p:nvPr/>
                  </p:nvSpPr>
                  <p:spPr>
                    <a:xfrm>
                      <a:off x="8217720" y="3067920"/>
                      <a:ext cx="27000" cy="11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5" name=""/>
                    <p:cNvSpPr/>
                    <p:nvPr/>
                  </p:nvSpPr>
                  <p:spPr>
                    <a:xfrm>
                      <a:off x="8219160" y="3052440"/>
                      <a:ext cx="324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6" name=""/>
                    <p:cNvSpPr/>
                    <p:nvPr/>
                  </p:nvSpPr>
                  <p:spPr>
                    <a:xfrm>
                      <a:off x="8238960" y="3052440"/>
                      <a:ext cx="252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17" name=""/>
                  <p:cNvSpPr/>
                  <p:nvPr/>
                </p:nvSpPr>
                <p:spPr>
                  <a:xfrm>
                    <a:off x="8226000" y="3088800"/>
                    <a:ext cx="14760" cy="223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18" name=""/>
                <p:cNvGrpSpPr/>
                <p:nvPr/>
              </p:nvGrpSpPr>
              <p:grpSpPr>
                <a:xfrm>
                  <a:off x="8256240" y="3052440"/>
                  <a:ext cx="27000" cy="66240"/>
                  <a:chOff x="8256240" y="3052440"/>
                  <a:chExt cx="27000" cy="66240"/>
                </a:xfrm>
              </p:grpSpPr>
              <p:grpSp>
                <p:nvGrpSpPr>
                  <p:cNvPr id="819" name=""/>
                  <p:cNvGrpSpPr/>
                  <p:nvPr/>
                </p:nvGrpSpPr>
                <p:grpSpPr>
                  <a:xfrm>
                    <a:off x="8256240" y="3052440"/>
                    <a:ext cx="27000" cy="66240"/>
                    <a:chOff x="8256240" y="3052440"/>
                    <a:chExt cx="27000" cy="66240"/>
                  </a:xfrm>
                </p:grpSpPr>
                <p:sp>
                  <p:nvSpPr>
                    <p:cNvPr id="820" name=""/>
                    <p:cNvSpPr/>
                    <p:nvPr/>
                  </p:nvSpPr>
                  <p:spPr>
                    <a:xfrm>
                      <a:off x="8256240" y="3065040"/>
                      <a:ext cx="25920" cy="507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1" name=""/>
                    <p:cNvSpPr/>
                    <p:nvPr/>
                  </p:nvSpPr>
                  <p:spPr>
                    <a:xfrm>
                      <a:off x="8256240" y="3067920"/>
                      <a:ext cx="324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2" name=""/>
                    <p:cNvSpPr/>
                    <p:nvPr/>
                  </p:nvSpPr>
                  <p:spPr>
                    <a:xfrm>
                      <a:off x="8258760" y="3077640"/>
                      <a:ext cx="24480" cy="3996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3" name=""/>
                    <p:cNvSpPr/>
                    <p:nvPr/>
                  </p:nvSpPr>
                  <p:spPr>
                    <a:xfrm>
                      <a:off x="8256240" y="3067920"/>
                      <a:ext cx="27000" cy="11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4" name=""/>
                    <p:cNvSpPr/>
                    <p:nvPr/>
                  </p:nvSpPr>
                  <p:spPr>
                    <a:xfrm>
                      <a:off x="8257680" y="3052440"/>
                      <a:ext cx="324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5" name=""/>
                    <p:cNvSpPr/>
                    <p:nvPr/>
                  </p:nvSpPr>
                  <p:spPr>
                    <a:xfrm>
                      <a:off x="8277480" y="3052440"/>
                      <a:ext cx="252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26" name=""/>
                  <p:cNvSpPr/>
                  <p:nvPr/>
                </p:nvSpPr>
                <p:spPr>
                  <a:xfrm>
                    <a:off x="8264520" y="3088800"/>
                    <a:ext cx="14760" cy="223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827" name=""/>
          <p:cNvSpPr/>
          <p:nvPr/>
        </p:nvSpPr>
        <p:spPr>
          <a:xfrm>
            <a:off x="7496280" y="1413000"/>
            <a:ext cx="360360" cy="1295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H="1">
            <a:off x="8216640" y="1413000"/>
            <a:ext cx="360360" cy="12240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7711920" y="3141720"/>
            <a:ext cx="0" cy="35856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372360" y="3645000"/>
            <a:ext cx="608760" cy="456120"/>
            <a:chOff x="6372360" y="3645000"/>
            <a:chExt cx="608760" cy="456120"/>
          </a:xfrm>
        </p:grpSpPr>
        <p:grpSp>
          <p:nvGrpSpPr>
            <p:cNvPr id="831" name=""/>
            <p:cNvGrpSpPr/>
            <p:nvPr/>
          </p:nvGrpSpPr>
          <p:grpSpPr>
            <a:xfrm>
              <a:off x="6372360" y="3645000"/>
              <a:ext cx="608760" cy="456120"/>
              <a:chOff x="6372360" y="3645000"/>
              <a:chExt cx="608760" cy="456120"/>
            </a:xfrm>
          </p:grpSpPr>
          <p:sp>
            <p:nvSpPr>
              <p:cNvPr id="832" name=""/>
              <p:cNvSpPr/>
              <p:nvPr/>
            </p:nvSpPr>
            <p:spPr>
              <a:xfrm>
                <a:off x="6395040" y="3650400"/>
                <a:ext cx="332280" cy="314640"/>
              </a:xfrm>
              <a:custGeom>
                <a:avLst/>
                <a:gdLst/>
                <a:ahLst/>
                <a:rect l="l" t="t" r="r" b="b"/>
                <a:pathLst>
                  <a:path w="131" h="116">
                    <a:moveTo>
                      <a:pt x="130" y="0"/>
                    </a:moveTo>
                    <a:lnTo>
                      <a:pt x="130" y="27"/>
                    </a:lnTo>
                    <a:lnTo>
                      <a:pt x="0" y="115"/>
                    </a:lnTo>
                    <a:lnTo>
                      <a:pt x="13" y="79"/>
                    </a:lnTo>
                    <a:lnTo>
                      <a:pt x="130" y="0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436080" y="3848760"/>
                <a:ext cx="293760" cy="187200"/>
              </a:xfrm>
              <a:custGeom>
                <a:avLst/>
                <a:gdLst/>
                <a:ahLst/>
                <a:rect l="l" t="t" r="r" b="b"/>
                <a:pathLst>
                  <a:path w="116" h="69">
                    <a:moveTo>
                      <a:pt x="5" y="0"/>
                    </a:moveTo>
                    <a:lnTo>
                      <a:pt x="0" y="22"/>
                    </a:lnTo>
                    <a:lnTo>
                      <a:pt x="108" y="68"/>
                    </a:lnTo>
                    <a:lnTo>
                      <a:pt x="115" y="46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834" name=""/>
              <p:cNvGrpSpPr/>
              <p:nvPr/>
            </p:nvGrpSpPr>
            <p:grpSpPr>
              <a:xfrm>
                <a:off x="6372360" y="3854160"/>
                <a:ext cx="347040" cy="246240"/>
                <a:chOff x="6372360" y="3854160"/>
                <a:chExt cx="347040" cy="246240"/>
              </a:xfrm>
            </p:grpSpPr>
            <p:sp>
              <p:nvSpPr>
                <p:cNvPr id="835" name=""/>
                <p:cNvSpPr/>
                <p:nvPr/>
              </p:nvSpPr>
              <p:spPr>
                <a:xfrm>
                  <a:off x="6413040" y="3902760"/>
                  <a:ext cx="296280" cy="151920"/>
                </a:xfrm>
                <a:custGeom>
                  <a:avLst/>
                  <a:gdLst/>
                  <a:ahLst/>
                  <a:rect l="l" t="t" r="r" b="b"/>
                  <a:pathLst>
                    <a:path w="117" h="56">
                      <a:moveTo>
                        <a:pt x="13" y="0"/>
                      </a:moveTo>
                      <a:lnTo>
                        <a:pt x="0" y="8"/>
                      </a:lnTo>
                      <a:lnTo>
                        <a:pt x="105" y="55"/>
                      </a:lnTo>
                      <a:lnTo>
                        <a:pt x="116" y="46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a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6407640" y="3921480"/>
                  <a:ext cx="273240" cy="162360"/>
                </a:xfrm>
                <a:custGeom>
                  <a:avLst/>
                  <a:gdLst/>
                  <a:ahLst/>
                  <a:rect l="l" t="t" r="r" b="b"/>
                  <a:pathLst>
                    <a:path w="108" h="60">
                      <a:moveTo>
                        <a:pt x="1" y="0"/>
                      </a:moveTo>
                      <a:lnTo>
                        <a:pt x="0" y="10"/>
                      </a:lnTo>
                      <a:lnTo>
                        <a:pt x="104" y="59"/>
                      </a:lnTo>
                      <a:lnTo>
                        <a:pt x="107" y="48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6372360" y="3854160"/>
                  <a:ext cx="60840" cy="110520"/>
                </a:xfrm>
                <a:custGeom>
                  <a:avLst/>
                  <a:gdLst/>
                  <a:ahLst/>
                  <a:rect l="l" t="t" r="r" b="b"/>
                  <a:pathLst>
                    <a:path w="24" h="41">
                      <a:moveTo>
                        <a:pt x="23" y="3"/>
                      </a:moveTo>
                      <a:lnTo>
                        <a:pt x="9" y="40"/>
                      </a:lnTo>
                      <a:lnTo>
                        <a:pt x="0" y="36"/>
                      </a:lnTo>
                      <a:lnTo>
                        <a:pt x="16" y="0"/>
                      </a:lnTo>
                      <a:lnTo>
                        <a:pt x="23" y="3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6661080" y="3991680"/>
                  <a:ext cx="58320" cy="108720"/>
                </a:xfrm>
                <a:custGeom>
                  <a:avLst/>
                  <a:gdLst/>
                  <a:ahLst/>
                  <a:rect l="l" t="t" r="r" b="b"/>
                  <a:pathLst>
                    <a:path w="23" h="40">
                      <a:moveTo>
                        <a:pt x="14" y="0"/>
                      </a:moveTo>
                      <a:lnTo>
                        <a:pt x="0" y="35"/>
                      </a:lnTo>
                      <a:lnTo>
                        <a:pt x="8" y="39"/>
                      </a:lnTo>
                      <a:lnTo>
                        <a:pt x="22" y="3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9" name=""/>
              <p:cNvSpPr/>
              <p:nvPr/>
            </p:nvSpPr>
            <p:spPr>
              <a:xfrm>
                <a:off x="6681600" y="3750840"/>
                <a:ext cx="299520" cy="350280"/>
              </a:xfrm>
              <a:custGeom>
                <a:avLst/>
                <a:gdLst/>
                <a:ahLst/>
                <a:rect l="l" t="t" r="r" b="b"/>
                <a:pathLst>
                  <a:path w="118" h="129">
                    <a:moveTo>
                      <a:pt x="117" y="0"/>
                    </a:moveTo>
                    <a:lnTo>
                      <a:pt x="14" y="90"/>
                    </a:lnTo>
                    <a:lnTo>
                      <a:pt x="0" y="128"/>
                    </a:lnTo>
                    <a:lnTo>
                      <a:pt x="117" y="23"/>
                    </a:lnTo>
                    <a:lnTo>
                      <a:pt x="117" y="0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6448680" y="3658320"/>
                <a:ext cx="504000" cy="317880"/>
              </a:xfrm>
              <a:custGeom>
                <a:avLst/>
                <a:gdLst/>
                <a:ahLst/>
                <a:rect l="l" t="t" r="r" b="b"/>
                <a:pathLst>
                  <a:path w="199" h="117">
                    <a:moveTo>
                      <a:pt x="104" y="0"/>
                    </a:moveTo>
                    <a:lnTo>
                      <a:pt x="0" y="71"/>
                    </a:lnTo>
                    <a:lnTo>
                      <a:pt x="107" y="116"/>
                    </a:lnTo>
                    <a:lnTo>
                      <a:pt x="198" y="37"/>
                    </a:lnTo>
                    <a:lnTo>
                      <a:pt x="104" y="0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6697080" y="3745080"/>
                <a:ext cx="284040" cy="258120"/>
              </a:xfrm>
              <a:custGeom>
                <a:avLst/>
                <a:gdLst/>
                <a:ahLst/>
                <a:rect l="l" t="t" r="r" b="b"/>
                <a:pathLst>
                  <a:path w="112" h="95">
                    <a:moveTo>
                      <a:pt x="105" y="0"/>
                    </a:moveTo>
                    <a:lnTo>
                      <a:pt x="111" y="3"/>
                    </a:lnTo>
                    <a:lnTo>
                      <a:pt x="7" y="94"/>
                    </a:lnTo>
                    <a:lnTo>
                      <a:pt x="0" y="91"/>
                    </a:lnTo>
                    <a:lnTo>
                      <a:pt x="105" y="0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410880" y="3645000"/>
                <a:ext cx="316800" cy="219960"/>
              </a:xfrm>
              <a:custGeom>
                <a:avLst/>
                <a:gdLst/>
                <a:ahLst/>
                <a:rect l="l" t="t" r="r" b="b"/>
                <a:pathLst>
                  <a:path w="125" h="81">
                    <a:moveTo>
                      <a:pt x="0" y="76"/>
                    </a:moveTo>
                    <a:lnTo>
                      <a:pt x="119" y="0"/>
                    </a:lnTo>
                    <a:lnTo>
                      <a:pt x="124" y="2"/>
                    </a:lnTo>
                    <a:lnTo>
                      <a:pt x="7" y="80"/>
                    </a:lnTo>
                    <a:lnTo>
                      <a:pt x="0" y="76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843" name=""/>
            <p:cNvGrpSpPr/>
            <p:nvPr/>
          </p:nvGrpSpPr>
          <p:grpSpPr>
            <a:xfrm>
              <a:off x="6443640" y="3914280"/>
              <a:ext cx="214200" cy="111960"/>
              <a:chOff x="6443640" y="3914280"/>
              <a:chExt cx="214200" cy="111960"/>
            </a:xfrm>
          </p:grpSpPr>
          <p:grpSp>
            <p:nvGrpSpPr>
              <p:cNvPr id="844" name=""/>
              <p:cNvGrpSpPr/>
              <p:nvPr/>
            </p:nvGrpSpPr>
            <p:grpSpPr>
              <a:xfrm>
                <a:off x="6443640" y="3914280"/>
                <a:ext cx="6840" cy="9360"/>
                <a:chOff x="6443640" y="3914280"/>
                <a:chExt cx="6840" cy="9360"/>
              </a:xfrm>
            </p:grpSpPr>
            <p:sp>
              <p:nvSpPr>
                <p:cNvPr id="845" name=""/>
                <p:cNvSpPr/>
                <p:nvPr/>
              </p:nvSpPr>
              <p:spPr>
                <a:xfrm>
                  <a:off x="6443640" y="3918600"/>
                  <a:ext cx="6840" cy="5040"/>
                </a:xfrm>
                <a:prstGeom prst="ellipse">
                  <a:avLst/>
                </a:prstGeom>
                <a:solidFill>
                  <a:srgbClr val="20202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0" bIns="-432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6443640" y="3914280"/>
                  <a:ext cx="6840" cy="7200"/>
                </a:xfrm>
                <a:prstGeom prst="ellipse">
                  <a:avLst/>
                </a:prstGeom>
                <a:solidFill>
                  <a:srgbClr val="40404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7" name=""/>
              <p:cNvGrpSpPr/>
              <p:nvPr/>
            </p:nvGrpSpPr>
            <p:grpSpPr>
              <a:xfrm>
                <a:off x="6496920" y="3935520"/>
                <a:ext cx="160920" cy="90720"/>
                <a:chOff x="6496920" y="3935520"/>
                <a:chExt cx="160920" cy="90720"/>
              </a:xfrm>
            </p:grpSpPr>
            <p:grpSp>
              <p:nvGrpSpPr>
                <p:cNvPr id="848" name=""/>
                <p:cNvGrpSpPr/>
                <p:nvPr/>
              </p:nvGrpSpPr>
              <p:grpSpPr>
                <a:xfrm>
                  <a:off x="6496920" y="3943440"/>
                  <a:ext cx="160920" cy="82800"/>
                  <a:chOff x="6496920" y="3943440"/>
                  <a:chExt cx="160920" cy="82800"/>
                </a:xfrm>
              </p:grpSpPr>
              <p:sp>
                <p:nvSpPr>
                  <p:cNvPr id="849" name=""/>
                  <p:cNvSpPr/>
                  <p:nvPr/>
                </p:nvSpPr>
                <p:spPr>
                  <a:xfrm>
                    <a:off x="6627960" y="4005360"/>
                    <a:ext cx="5040" cy="100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0" name=""/>
                  <p:cNvSpPr/>
                  <p:nvPr/>
                </p:nvSpPr>
                <p:spPr>
                  <a:xfrm>
                    <a:off x="6521760" y="3956760"/>
                    <a:ext cx="9720" cy="756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400" bIns="-41400" anchor="ctr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1" name=""/>
                  <p:cNvSpPr/>
                  <p:nvPr/>
                </p:nvSpPr>
                <p:spPr>
                  <a:xfrm>
                    <a:off x="6574680" y="3980880"/>
                    <a:ext cx="7200" cy="100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2" name=""/>
                  <p:cNvSpPr/>
                  <p:nvPr/>
                </p:nvSpPr>
                <p:spPr>
                  <a:xfrm>
                    <a:off x="6599880" y="3994200"/>
                    <a:ext cx="7920" cy="10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3" name=""/>
                  <p:cNvSpPr/>
                  <p:nvPr/>
                </p:nvSpPr>
                <p:spPr>
                  <a:xfrm>
                    <a:off x="6546960" y="3967560"/>
                    <a:ext cx="7200" cy="100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4" name=""/>
                  <p:cNvSpPr/>
                  <p:nvPr/>
                </p:nvSpPr>
                <p:spPr>
                  <a:xfrm>
                    <a:off x="6496920" y="3943440"/>
                    <a:ext cx="7200" cy="10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5" name=""/>
                  <p:cNvSpPr/>
                  <p:nvPr/>
                </p:nvSpPr>
                <p:spPr>
                  <a:xfrm>
                    <a:off x="6647760" y="4018680"/>
                    <a:ext cx="10080" cy="756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400" bIns="-41400" anchor="ctr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56" name=""/>
                <p:cNvGrpSpPr/>
                <p:nvPr/>
              </p:nvGrpSpPr>
              <p:grpSpPr>
                <a:xfrm>
                  <a:off x="6496920" y="3935520"/>
                  <a:ext cx="160200" cy="87120"/>
                  <a:chOff x="6496920" y="3935520"/>
                  <a:chExt cx="160200" cy="87120"/>
                </a:xfrm>
              </p:grpSpPr>
              <p:grpSp>
                <p:nvGrpSpPr>
                  <p:cNvPr id="857" name=""/>
                  <p:cNvGrpSpPr/>
                  <p:nvPr/>
                </p:nvGrpSpPr>
                <p:grpSpPr>
                  <a:xfrm>
                    <a:off x="6521760" y="3948840"/>
                    <a:ext cx="135360" cy="73800"/>
                    <a:chOff x="6521760" y="3948840"/>
                    <a:chExt cx="135360" cy="73800"/>
                  </a:xfrm>
                </p:grpSpPr>
                <p:sp>
                  <p:nvSpPr>
                    <p:cNvPr id="858" name=""/>
                    <p:cNvSpPr/>
                    <p:nvPr/>
                  </p:nvSpPr>
                  <p:spPr>
                    <a:xfrm>
                      <a:off x="6649920" y="4012560"/>
                      <a:ext cx="7200" cy="100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600" bIns="-396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9" name=""/>
                    <p:cNvSpPr/>
                    <p:nvPr/>
                  </p:nvSpPr>
                  <p:spPr>
                    <a:xfrm>
                      <a:off x="6546600" y="3959640"/>
                      <a:ext cx="9360" cy="1296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440" bIns="-37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0" name=""/>
                    <p:cNvSpPr/>
                    <p:nvPr/>
                  </p:nvSpPr>
                  <p:spPr>
                    <a:xfrm>
                      <a:off x="6599160" y="3986280"/>
                      <a:ext cx="7920" cy="100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600" bIns="-396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1" name=""/>
                    <p:cNvSpPr/>
                    <p:nvPr/>
                  </p:nvSpPr>
                  <p:spPr>
                    <a:xfrm>
                      <a:off x="6624360" y="3999240"/>
                      <a:ext cx="7920" cy="100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600" bIns="-396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2" name=""/>
                    <p:cNvSpPr/>
                    <p:nvPr/>
                  </p:nvSpPr>
                  <p:spPr>
                    <a:xfrm>
                      <a:off x="6571800" y="3972960"/>
                      <a:ext cx="9360" cy="100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600" bIns="-396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3" name=""/>
                    <p:cNvSpPr/>
                    <p:nvPr/>
                  </p:nvSpPr>
                  <p:spPr>
                    <a:xfrm>
                      <a:off x="6521760" y="3948840"/>
                      <a:ext cx="9360" cy="1080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64" name=""/>
                  <p:cNvSpPr/>
                  <p:nvPr/>
                </p:nvSpPr>
                <p:spPr>
                  <a:xfrm>
                    <a:off x="6496920" y="3935520"/>
                    <a:ext cx="7200" cy="108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865" name=""/>
          <p:cNvSpPr/>
          <p:nvPr/>
        </p:nvSpPr>
        <p:spPr>
          <a:xfrm>
            <a:off x="5435640" y="3933720"/>
            <a:ext cx="122400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6877080" y="3933720"/>
            <a:ext cx="50328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H="1">
            <a:off x="1618920" y="3141720"/>
            <a:ext cx="576360" cy="64764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2268360" y="2781360"/>
            <a:ext cx="58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0458c"/>
                </a:solidFill>
                <a:latin typeface="Tahoma"/>
              </a:rPr>
              <a:t>V.35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6155640" y="2708280"/>
            <a:ext cx="83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0458c"/>
                </a:solidFill>
                <a:latin typeface="Tahoma"/>
              </a:rPr>
              <a:t>RS-232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877080" y="2997360"/>
            <a:ext cx="358920" cy="79200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V="1">
            <a:off x="6300720" y="4365360"/>
            <a:ext cx="1152720" cy="86364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1974240" y="479736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0458c"/>
                </a:solidFill>
                <a:latin typeface="Tahoma"/>
              </a:rPr>
              <a:t>FX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flipH="1" flipV="1">
            <a:off x="899640" y="4365720"/>
            <a:ext cx="863640" cy="50328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874" name="" descr=""/>
          <p:cNvPicPr/>
          <p:nvPr/>
        </p:nvPicPr>
        <p:blipFill>
          <a:blip r:embed="rId15"/>
          <a:stretch/>
        </p:blipFill>
        <p:spPr>
          <a:xfrm>
            <a:off x="539640" y="3614760"/>
            <a:ext cx="719280" cy="509400"/>
          </a:xfrm>
          <a:prstGeom prst="rect">
            <a:avLst/>
          </a:prstGeom>
          <a:ln w="0">
            <a:noFill/>
          </a:ln>
        </p:spPr>
      </p:pic>
      <p:pic>
        <p:nvPicPr>
          <p:cNvPr id="875" name="" descr=""/>
          <p:cNvPicPr/>
          <p:nvPr/>
        </p:nvPicPr>
        <p:blipFill>
          <a:blip r:embed="rId16"/>
          <a:stretch/>
        </p:blipFill>
        <p:spPr>
          <a:xfrm>
            <a:off x="7380360" y="3645000"/>
            <a:ext cx="718920" cy="50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3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X.21/X.21BIS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38224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X.21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terface serial sincrónica full duplex balancead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ara conectar un DTE a una Red Pública de Datos (X.25), mediante un sistema digit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Velocidades entre: 600bps y 64Kbps. También n x 64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Usada en acceso a través de redes digital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Utiliza conector DB-15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uy utilizada en Europa y Japón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X.21BIS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erivado de RS-232D/V.24 y 449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lternativa para la conexión usando medios análog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61048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X.21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ector típicamente usado: DB-15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036" name="" descr=""/>
          <p:cNvPicPr/>
          <p:nvPr/>
        </p:nvPicPr>
        <p:blipFill>
          <a:blip r:embed="rId2"/>
          <a:stretch/>
        </p:blipFill>
        <p:spPr>
          <a:xfrm>
            <a:off x="838080" y="2438280"/>
            <a:ext cx="7315200" cy="31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610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X.21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380880" y="533160"/>
            <a:ext cx="838224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DTE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D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1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Protective Ground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------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Transmit A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-----&gt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3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Control A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-----&gt;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Al hacer y recibir la llamada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4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Recieve A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&lt;-----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5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Indicate A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&lt;----- (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milar a DCD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6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Timing A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&lt;----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7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8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Signal Groun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9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Transmit B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-----&gt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10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Control B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-----&gt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11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Receive B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 &lt;-----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12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Indicate B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 &lt;-----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13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Timing B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&lt;-----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3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AUI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38224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erface de red local típica en router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ector: DB-15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istancia máxima: 50 mt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41" name=""/>
          <p:cNvSpPr/>
          <p:nvPr/>
        </p:nvSpPr>
        <p:spPr>
          <a:xfrm>
            <a:off x="0" y="254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042" name="" descr=""/>
          <p:cNvPicPr/>
          <p:nvPr/>
        </p:nvPicPr>
        <p:blipFill>
          <a:blip r:embed="rId4"/>
          <a:stretch/>
        </p:blipFill>
        <p:spPr>
          <a:xfrm>
            <a:off x="6095880" y="1295280"/>
            <a:ext cx="2789280" cy="1725840"/>
          </a:xfrm>
          <a:prstGeom prst="rect">
            <a:avLst/>
          </a:prstGeom>
          <a:ln w="0">
            <a:noFill/>
          </a:ln>
        </p:spPr>
      </p:pic>
      <p:sp>
        <p:nvSpPr>
          <p:cNvPr id="1043" name=""/>
          <p:cNvSpPr/>
          <p:nvPr/>
        </p:nvSpPr>
        <p:spPr>
          <a:xfrm>
            <a:off x="380880" y="2971800"/>
            <a:ext cx="8382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imes New Roman"/>
              </a:rPr>
              <a:t>Pin</a:t>
            </a:r>
            <a:r>
              <a:rPr b="1" lang="es-MX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40458c"/>
                </a:solidFill>
                <a:latin typeface="Times New Roman"/>
              </a:rPr>
              <a:t>Signal</a:t>
            </a:r>
            <a:r>
              <a:rPr b="1" lang="es-MX" sz="2400" spc="-1" strike="noStrike">
                <a:solidFill>
                  <a:srgbClr val="40458c"/>
                </a:solidFill>
                <a:latin typeface="Times New Roman"/>
              </a:rPr>
              <a:t>                      </a:t>
            </a:r>
            <a:r>
              <a:rPr b="1" lang="es-MX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40458c"/>
                </a:solidFill>
                <a:latin typeface="Times New Roman"/>
              </a:rPr>
              <a:t>Pin</a:t>
            </a:r>
            <a:r>
              <a:rPr b="1" lang="es-MX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40458c"/>
                </a:solidFill>
                <a:latin typeface="Times New Roman"/>
              </a:rPr>
              <a:t>Signa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imes New Roman"/>
              </a:rPr>
              <a:t>1</a:t>
            </a:r>
            <a:r>
              <a:rPr b="0" lang="es-MX" sz="24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0" lang="es-ES" sz="2400" spc="-1" strike="noStrike">
                <a:solidFill>
                  <a:srgbClr val="40458c"/>
                </a:solidFill>
                <a:latin typeface="Times New Roman"/>
              </a:rPr>
              <a:t>Control In (Shield)</a:t>
            </a:r>
            <a:r>
              <a:rPr b="0" lang="es-MX" sz="2400" spc="-1" strike="noStrike">
                <a:solidFill>
                  <a:srgbClr val="40458c"/>
                </a:solidFill>
                <a:latin typeface="Times New Roman"/>
              </a:rPr>
              <a:t>   </a:t>
            </a:r>
            <a:r>
              <a:rPr b="0" lang="es-MX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0458c"/>
                </a:solidFill>
                <a:latin typeface="Times New Roman"/>
              </a:rPr>
              <a:t>9</a:t>
            </a:r>
            <a:r>
              <a:rPr b="0" lang="es-MX" sz="24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0" lang="es-ES" sz="2400" spc="-1" strike="noStrike">
                <a:solidFill>
                  <a:srgbClr val="40458c"/>
                </a:solidFill>
                <a:latin typeface="Times New Roman"/>
              </a:rPr>
              <a:t>Control In (Return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imes New Roman"/>
              </a:rPr>
              <a:t>2</a:t>
            </a:r>
            <a:r>
              <a:rPr b="0" lang="es-MX" sz="24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0" lang="es-ES" sz="2400" spc="-1" strike="noStrike">
                <a:solidFill>
                  <a:srgbClr val="40458c"/>
                </a:solidFill>
                <a:latin typeface="Times New Roman"/>
              </a:rPr>
              <a:t>Control In</a:t>
            </a:r>
            <a:r>
              <a:rPr b="0" lang="es-MX" sz="2400" spc="-1" strike="noStrike">
                <a:solidFill>
                  <a:srgbClr val="40458c"/>
                </a:solidFill>
                <a:latin typeface="Times New Roman"/>
              </a:rPr>
              <a:t>                 </a:t>
            </a:r>
            <a:r>
              <a:rPr b="0" lang="es-MX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0458c"/>
                </a:solidFill>
                <a:latin typeface="Times New Roman"/>
              </a:rPr>
              <a:t>10</a:t>
            </a:r>
            <a:r>
              <a:rPr b="0" lang="es-MX" sz="24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0" lang="es-ES" sz="2400" spc="-1" strike="noStrike">
                <a:solidFill>
                  <a:srgbClr val="40458c"/>
                </a:solidFill>
                <a:latin typeface="Times New Roman"/>
              </a:rPr>
              <a:t>Transmit Data (Return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imes New Roman"/>
              </a:rPr>
              <a:t>3</a:t>
            </a:r>
            <a:r>
              <a:rPr b="0" lang="es-MX" sz="24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0" lang="es-ES" sz="2400" spc="-1" strike="noStrike">
                <a:solidFill>
                  <a:srgbClr val="40458c"/>
                </a:solidFill>
                <a:latin typeface="Times New Roman"/>
              </a:rPr>
              <a:t>Transmit Data</a:t>
            </a:r>
            <a:r>
              <a:rPr b="0" lang="es-MX" sz="2400" spc="-1" strike="noStrike">
                <a:solidFill>
                  <a:srgbClr val="40458c"/>
                </a:solidFill>
                <a:latin typeface="Times New Roman"/>
              </a:rPr>
              <a:t>           </a:t>
            </a:r>
            <a:r>
              <a:rPr b="0" lang="es-MX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0458c"/>
                </a:solidFill>
                <a:latin typeface="Times New Roman"/>
              </a:rPr>
              <a:t>11</a:t>
            </a:r>
            <a:r>
              <a:rPr b="0" lang="es-MX" sz="24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0" lang="es-ES" sz="2400" spc="-1" strike="noStrike">
                <a:solidFill>
                  <a:srgbClr val="40458c"/>
                </a:solidFill>
                <a:latin typeface="Times New Roman"/>
              </a:rPr>
              <a:t>Transmit Data (Shield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imes New Roman"/>
              </a:rPr>
              <a:t>4</a:t>
            </a:r>
            <a:r>
              <a:rPr b="0" lang="es-MX" sz="24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0" lang="es-ES" sz="2400" spc="-1" strike="noStrike">
                <a:solidFill>
                  <a:srgbClr val="40458c"/>
                </a:solidFill>
                <a:latin typeface="Times New Roman"/>
              </a:rPr>
              <a:t>Recieve Data (Shield)</a:t>
            </a:r>
            <a:r>
              <a:rPr b="0" lang="es-MX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0458c"/>
                </a:solidFill>
                <a:latin typeface="Times New Roman"/>
              </a:rPr>
              <a:t>12</a:t>
            </a:r>
            <a:r>
              <a:rPr b="0" lang="es-MX" sz="24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0" lang="es-ES" sz="2400" spc="-1" strike="noStrike">
                <a:solidFill>
                  <a:srgbClr val="40458c"/>
                </a:solidFill>
                <a:latin typeface="Times New Roman"/>
              </a:rPr>
              <a:t>Recieve Data (Return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imes New Roman"/>
              </a:rPr>
              <a:t>5</a:t>
            </a:r>
            <a:r>
              <a:rPr b="0" lang="es-MX" sz="24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0" lang="es-ES" sz="2400" spc="-1" strike="noStrike">
                <a:solidFill>
                  <a:srgbClr val="40458c"/>
                </a:solidFill>
                <a:latin typeface="Times New Roman"/>
              </a:rPr>
              <a:t>Recieve Data</a:t>
            </a:r>
            <a:r>
              <a:rPr b="0" lang="es-MX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0458c"/>
                </a:solidFill>
                <a:latin typeface="Times New Roman"/>
              </a:rPr>
              <a:t>13</a:t>
            </a:r>
            <a:r>
              <a:rPr b="0" lang="es-MX" sz="24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0" lang="es-ES" sz="2400" spc="-1" strike="noStrike">
                <a:solidFill>
                  <a:srgbClr val="40458c"/>
                </a:solidFill>
                <a:latin typeface="Times New Roman"/>
              </a:rPr>
              <a:t>Voltage Plu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imes New Roman"/>
              </a:rPr>
              <a:t>6</a:t>
            </a:r>
            <a:r>
              <a:rPr b="0" lang="es-MX" sz="24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0" lang="es-ES" sz="2400" spc="-1" strike="noStrike">
                <a:solidFill>
                  <a:srgbClr val="40458c"/>
                </a:solidFill>
                <a:latin typeface="Times New Roman"/>
              </a:rPr>
              <a:t>Voltage</a:t>
            </a:r>
            <a:r>
              <a:rPr b="0" lang="es-MX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0458c"/>
                </a:solidFill>
                <a:latin typeface="Times New Roman"/>
              </a:rPr>
              <a:t>14</a:t>
            </a:r>
            <a:r>
              <a:rPr b="0" lang="es-MX" sz="24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0" lang="es-ES" sz="2400" spc="-1" strike="noStrike">
                <a:solidFill>
                  <a:srgbClr val="40458c"/>
                </a:solidFill>
                <a:latin typeface="Times New Roman"/>
              </a:rPr>
              <a:t>Voltage (Shield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imes New Roman"/>
              </a:rPr>
              <a:t>7</a:t>
            </a:r>
            <a:r>
              <a:rPr b="0" lang="es-MX" sz="24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0" lang="es-ES" sz="2400" spc="-1" strike="noStrike">
                <a:solidFill>
                  <a:srgbClr val="40458c"/>
                </a:solidFill>
                <a:latin typeface="Times New Roman"/>
              </a:rPr>
              <a:t>Control Out</a:t>
            </a:r>
            <a:r>
              <a:rPr b="0" lang="es-MX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0458c"/>
                </a:solidFill>
                <a:latin typeface="Times New Roman"/>
              </a:rPr>
              <a:t>15</a:t>
            </a:r>
            <a:r>
              <a:rPr b="0" lang="es-MX" sz="24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0" lang="es-ES" sz="2400" spc="-1" strike="noStrike">
                <a:solidFill>
                  <a:srgbClr val="40458c"/>
                </a:solidFill>
                <a:latin typeface="Times New Roman"/>
              </a:rPr>
              <a:t>Control Ou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imes New Roman"/>
              </a:rPr>
              <a:t>8</a:t>
            </a:r>
            <a:r>
              <a:rPr b="0" lang="es-MX" sz="24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0" lang="es-ES" sz="2400" spc="-1" strike="noStrike">
                <a:solidFill>
                  <a:srgbClr val="40458c"/>
                </a:solidFill>
                <a:latin typeface="Times New Roman"/>
              </a:rPr>
              <a:t>Control Out (Shield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762120" y="954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PARALELA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228600" y="457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nuevo estándar se conoce como IEEE 1284 el cual soporta el esquema original (SPP: Standard Parallel Port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PP/ECP (Enhanced Parallel Port/Enhanced Capability Port son parte de IEEE 1284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Opera en 5 modos: 3 compatibles con SPP (monodireccional)  y los modos 4 (EPP) y 5 (ECP) bidireccionales half-duplex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Velocidad: modos 1,2 y 3:  50 a 100 KBps. Modos 4 y 5: 1 MBp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Actualmente muy usado para conectar scanners, quemadores de CD, Unidades Zip Drive, et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n las impresoras se implementa con un conector CENTRONIC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046" name="" descr=""/>
          <p:cNvPicPr/>
          <p:nvPr/>
        </p:nvPicPr>
        <p:blipFill>
          <a:blip r:embed="rId7"/>
          <a:stretch/>
        </p:blipFill>
        <p:spPr>
          <a:xfrm>
            <a:off x="2895480" y="5486400"/>
            <a:ext cx="342900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/>
          </p:nvPr>
        </p:nvSpPr>
        <p:spPr>
          <a:xfrm>
            <a:off x="1042920" y="259920"/>
            <a:ext cx="753264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INTERFACE PARALELA EN CONECTOR CENTRONIC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SEÑAL</a:t>
            </a: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RETORNO</a:t>
            </a: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DIRECCION</a:t>
            </a: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NOMBR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20112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19          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N   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TROB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20112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20         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N    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ATA 1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20112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3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21         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N    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ATA 2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20112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4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22         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N    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ATA 3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20112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5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23         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N    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ATA 4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20112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6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24        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N    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ATA 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20112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7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25         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N    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ATA 6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20112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8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26         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N    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ATA 7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20112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9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27         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N    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ATA 8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20112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10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28         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OUT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AKCNLG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201125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11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29         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OUT 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BUSY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201125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12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30         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OUT 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PE (PAPER END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201125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13                  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OUT 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LCT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201125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14                   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N     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AUTO FEE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201125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16                            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GN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201125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17                             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HASIS GN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201125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31    16                     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GN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201125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32                  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OUT  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RROR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201125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33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      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GN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CABLE PARALELO CRUZADO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49" name=""/>
          <p:cNvSpPr/>
          <p:nvPr/>
        </p:nvSpPr>
        <p:spPr>
          <a:xfrm>
            <a:off x="1679400" y="685800"/>
            <a:ext cx="56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DB25A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DB25B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2 ----------------------------------------------- 15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3 ----------------------------------------------- 13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4 ----------------------------------------------- 1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5 ----------------------------------------------- 1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6 ----------------------------------------------- 1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15 --------------------------------------------- 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13 --------------------------------------------- 3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12 --------------------------------------------- 4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10 --------------------------------------------- 5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11 --------------------------------------------- 6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25 --------------------------------------------- 25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16 --------------------------------------------- 16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17 --------------------------------------------- 17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G.703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6868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Creada por la CCITT para voz sobre redes digitale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649"/>
              </a:spcBef>
              <a:buSzPct val="1392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Define el aspecto eléctrico y funcional de la interface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649"/>
              </a:spcBef>
              <a:buSzPct val="13927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Opera a 64 Kbps, 1.544 y 2 Mbps. 4 hilo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649"/>
              </a:spcBef>
              <a:buSzPct val="13927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G.704 Define el framing, en canales de 64 Kbps, permitiendo usar una fracción del E1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649"/>
              </a:spcBef>
              <a:buSzPct val="13927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Se puede implementar sobre par trenzado de 120 ohmios de forma balanceada con conector DB-15 o RJ-45 y/o de forma desbalanceada con dos cables coaxiales de 75 ohmios conector BNC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649"/>
              </a:spcBef>
              <a:buSzPct val="13927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T1: (1544 Kbps), AMI o B8ZS. 1 par para transmisión y otro para recepción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649"/>
              </a:spcBef>
              <a:buSzPct val="13927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E1: (2048 Kbps), AMI o HDB3. Coaxial o 4 hilos simétricos por cada dirección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G.703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50920" y="762120"/>
            <a:ext cx="86644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Pinning Specifications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Signal</a:t>
            </a: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RJ45 </a:t>
            </a: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Description</a:t>
            </a: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DTE </a:t>
            </a: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BNC </a:t>
            </a: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   DTE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RJ45</a:t>
            </a: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Description</a:t>
            </a: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   BNC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RxA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Receive Input Negative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   1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Receive Input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   Tip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RxB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Receive Input Positive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   2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Receive Ground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   Ring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TxA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Transmit Output Negative 4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Transmit Output   Tip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TxB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Transmit Output Positive   5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Transmit Ground   Ring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S1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Transmit Ground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   3  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S2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Receive Ground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   6  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RS-449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Inicialmente nuevo sustituto de RS-232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SzPct val="1392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Interface balanceada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SzPct val="13927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Típicamente usa conector DB-37. 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SzPct val="13927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RS-449: Mecánico, funcional y procedimental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SzPct val="13927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RS-423-A: Eléctrica desbalanceada. 2Mbps y 60 mt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SzPct val="13927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RS-422-A: Eléctrica balanceada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"/>
          <p:cNvSpPr/>
          <p:nvPr/>
        </p:nvSpPr>
        <p:spPr>
          <a:xfrm>
            <a:off x="1611000" y="0"/>
            <a:ext cx="618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BACKBONE DE CARRIER TRADICIONA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 rot="90600">
            <a:off x="4266720" y="4190760"/>
            <a:ext cx="685800" cy="838080"/>
          </a:xfrm>
          <a:prstGeom prst="triangle">
            <a:avLst>
              <a:gd name="adj" fmla="val 50000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rot="5577000">
            <a:off x="2438280" y="2819160"/>
            <a:ext cx="685800" cy="838080"/>
          </a:xfrm>
          <a:prstGeom prst="triangle">
            <a:avLst>
              <a:gd name="adj" fmla="val 50000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 rot="15408000">
            <a:off x="5714640" y="2590200"/>
            <a:ext cx="685800" cy="838440"/>
          </a:xfrm>
          <a:prstGeom prst="triangle">
            <a:avLst>
              <a:gd name="adj" fmla="val 50000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 flipV="1">
            <a:off x="3200400" y="3124080"/>
            <a:ext cx="243828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200400" y="3276720"/>
            <a:ext cx="1447920" cy="9144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 flipV="1">
            <a:off x="4648320" y="3124080"/>
            <a:ext cx="990360" cy="10670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3661560" y="2590920"/>
            <a:ext cx="185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imes New Roman"/>
              </a:rPr>
              <a:t>SONET/SDH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2133720" y="1371600"/>
            <a:ext cx="4647960" cy="3962520"/>
          </a:xfrm>
          <a:custGeom>
            <a:avLst/>
            <a:gdLst/>
            <a:ahLst/>
            <a:rect l="l" t="t" r="r" b="b"/>
            <a:pathLst>
              <a:path w="856" h="448">
                <a:moveTo>
                  <a:pt x="395" y="59"/>
                </a:moveTo>
                <a:lnTo>
                  <a:pt x="375" y="55"/>
                </a:lnTo>
                <a:lnTo>
                  <a:pt x="348" y="50"/>
                </a:lnTo>
                <a:lnTo>
                  <a:pt x="325" y="49"/>
                </a:lnTo>
                <a:lnTo>
                  <a:pt x="301" y="51"/>
                </a:lnTo>
                <a:lnTo>
                  <a:pt x="283" y="53"/>
                </a:lnTo>
                <a:lnTo>
                  <a:pt x="266" y="57"/>
                </a:lnTo>
                <a:lnTo>
                  <a:pt x="247" y="63"/>
                </a:lnTo>
                <a:lnTo>
                  <a:pt x="229" y="71"/>
                </a:lnTo>
                <a:lnTo>
                  <a:pt x="211" y="82"/>
                </a:lnTo>
                <a:lnTo>
                  <a:pt x="193" y="96"/>
                </a:lnTo>
                <a:lnTo>
                  <a:pt x="181" y="109"/>
                </a:lnTo>
                <a:lnTo>
                  <a:pt x="173" y="121"/>
                </a:lnTo>
                <a:lnTo>
                  <a:pt x="165" y="134"/>
                </a:lnTo>
                <a:lnTo>
                  <a:pt x="160" y="151"/>
                </a:lnTo>
                <a:lnTo>
                  <a:pt x="145" y="147"/>
                </a:lnTo>
                <a:lnTo>
                  <a:pt x="127" y="145"/>
                </a:lnTo>
                <a:lnTo>
                  <a:pt x="111" y="145"/>
                </a:lnTo>
                <a:lnTo>
                  <a:pt x="94" y="148"/>
                </a:lnTo>
                <a:lnTo>
                  <a:pt x="79" y="153"/>
                </a:lnTo>
                <a:lnTo>
                  <a:pt x="64" y="159"/>
                </a:lnTo>
                <a:lnTo>
                  <a:pt x="48" y="170"/>
                </a:lnTo>
                <a:lnTo>
                  <a:pt x="39" y="179"/>
                </a:lnTo>
                <a:lnTo>
                  <a:pt x="28" y="189"/>
                </a:lnTo>
                <a:lnTo>
                  <a:pt x="19" y="201"/>
                </a:lnTo>
                <a:lnTo>
                  <a:pt x="11" y="217"/>
                </a:lnTo>
                <a:lnTo>
                  <a:pt x="6" y="232"/>
                </a:lnTo>
                <a:lnTo>
                  <a:pt x="2" y="247"/>
                </a:lnTo>
                <a:lnTo>
                  <a:pt x="1" y="259"/>
                </a:lnTo>
                <a:lnTo>
                  <a:pt x="0" y="271"/>
                </a:lnTo>
                <a:lnTo>
                  <a:pt x="1" y="286"/>
                </a:lnTo>
                <a:lnTo>
                  <a:pt x="3" y="299"/>
                </a:lnTo>
                <a:lnTo>
                  <a:pt x="7" y="312"/>
                </a:lnTo>
                <a:lnTo>
                  <a:pt x="12" y="325"/>
                </a:lnTo>
                <a:lnTo>
                  <a:pt x="19" y="339"/>
                </a:lnTo>
                <a:lnTo>
                  <a:pt x="29" y="353"/>
                </a:lnTo>
                <a:lnTo>
                  <a:pt x="40" y="364"/>
                </a:lnTo>
                <a:lnTo>
                  <a:pt x="53" y="375"/>
                </a:lnTo>
                <a:lnTo>
                  <a:pt x="68" y="383"/>
                </a:lnTo>
                <a:lnTo>
                  <a:pt x="80" y="389"/>
                </a:lnTo>
                <a:lnTo>
                  <a:pt x="92" y="392"/>
                </a:lnTo>
                <a:lnTo>
                  <a:pt x="106" y="396"/>
                </a:lnTo>
                <a:lnTo>
                  <a:pt x="121" y="396"/>
                </a:lnTo>
                <a:lnTo>
                  <a:pt x="136" y="396"/>
                </a:lnTo>
                <a:lnTo>
                  <a:pt x="151" y="393"/>
                </a:lnTo>
                <a:lnTo>
                  <a:pt x="163" y="390"/>
                </a:lnTo>
                <a:lnTo>
                  <a:pt x="171" y="387"/>
                </a:lnTo>
                <a:lnTo>
                  <a:pt x="179" y="397"/>
                </a:lnTo>
                <a:lnTo>
                  <a:pt x="191" y="406"/>
                </a:lnTo>
                <a:lnTo>
                  <a:pt x="204" y="414"/>
                </a:lnTo>
                <a:lnTo>
                  <a:pt x="218" y="422"/>
                </a:lnTo>
                <a:lnTo>
                  <a:pt x="236" y="429"/>
                </a:lnTo>
                <a:lnTo>
                  <a:pt x="254" y="436"/>
                </a:lnTo>
                <a:lnTo>
                  <a:pt x="276" y="441"/>
                </a:lnTo>
                <a:lnTo>
                  <a:pt x="296" y="445"/>
                </a:lnTo>
                <a:lnTo>
                  <a:pt x="318" y="447"/>
                </a:lnTo>
                <a:lnTo>
                  <a:pt x="335" y="447"/>
                </a:lnTo>
                <a:lnTo>
                  <a:pt x="353" y="447"/>
                </a:lnTo>
                <a:lnTo>
                  <a:pt x="377" y="444"/>
                </a:lnTo>
                <a:lnTo>
                  <a:pt x="406" y="434"/>
                </a:lnTo>
                <a:lnTo>
                  <a:pt x="416" y="437"/>
                </a:lnTo>
                <a:lnTo>
                  <a:pt x="436" y="430"/>
                </a:lnTo>
                <a:lnTo>
                  <a:pt x="456" y="422"/>
                </a:lnTo>
                <a:lnTo>
                  <a:pt x="468" y="416"/>
                </a:lnTo>
                <a:lnTo>
                  <a:pt x="478" y="408"/>
                </a:lnTo>
                <a:lnTo>
                  <a:pt x="489" y="413"/>
                </a:lnTo>
                <a:lnTo>
                  <a:pt x="504" y="419"/>
                </a:lnTo>
                <a:lnTo>
                  <a:pt x="518" y="423"/>
                </a:lnTo>
                <a:lnTo>
                  <a:pt x="531" y="426"/>
                </a:lnTo>
                <a:lnTo>
                  <a:pt x="546" y="427"/>
                </a:lnTo>
                <a:lnTo>
                  <a:pt x="560" y="427"/>
                </a:lnTo>
                <a:lnTo>
                  <a:pt x="577" y="425"/>
                </a:lnTo>
                <a:lnTo>
                  <a:pt x="594" y="421"/>
                </a:lnTo>
                <a:lnTo>
                  <a:pt x="609" y="416"/>
                </a:lnTo>
                <a:lnTo>
                  <a:pt x="624" y="407"/>
                </a:lnTo>
                <a:lnTo>
                  <a:pt x="638" y="398"/>
                </a:lnTo>
                <a:lnTo>
                  <a:pt x="657" y="406"/>
                </a:lnTo>
                <a:lnTo>
                  <a:pt x="675" y="410"/>
                </a:lnTo>
                <a:lnTo>
                  <a:pt x="690" y="412"/>
                </a:lnTo>
                <a:lnTo>
                  <a:pt x="712" y="412"/>
                </a:lnTo>
                <a:lnTo>
                  <a:pt x="735" y="409"/>
                </a:lnTo>
                <a:lnTo>
                  <a:pt x="762" y="401"/>
                </a:lnTo>
                <a:lnTo>
                  <a:pt x="785" y="389"/>
                </a:lnTo>
                <a:lnTo>
                  <a:pt x="804" y="374"/>
                </a:lnTo>
                <a:lnTo>
                  <a:pt x="823" y="356"/>
                </a:lnTo>
                <a:lnTo>
                  <a:pt x="833" y="341"/>
                </a:lnTo>
                <a:lnTo>
                  <a:pt x="841" y="326"/>
                </a:lnTo>
                <a:lnTo>
                  <a:pt x="849" y="306"/>
                </a:lnTo>
                <a:lnTo>
                  <a:pt x="853" y="288"/>
                </a:lnTo>
                <a:lnTo>
                  <a:pt x="855" y="267"/>
                </a:lnTo>
                <a:lnTo>
                  <a:pt x="853" y="251"/>
                </a:lnTo>
                <a:lnTo>
                  <a:pt x="849" y="232"/>
                </a:lnTo>
                <a:lnTo>
                  <a:pt x="843" y="213"/>
                </a:lnTo>
                <a:lnTo>
                  <a:pt x="833" y="196"/>
                </a:lnTo>
                <a:lnTo>
                  <a:pt x="822" y="179"/>
                </a:lnTo>
                <a:lnTo>
                  <a:pt x="808" y="165"/>
                </a:lnTo>
                <a:lnTo>
                  <a:pt x="795" y="154"/>
                </a:lnTo>
                <a:lnTo>
                  <a:pt x="782" y="146"/>
                </a:lnTo>
                <a:lnTo>
                  <a:pt x="764" y="135"/>
                </a:lnTo>
                <a:lnTo>
                  <a:pt x="747" y="129"/>
                </a:lnTo>
                <a:lnTo>
                  <a:pt x="732" y="126"/>
                </a:lnTo>
                <a:lnTo>
                  <a:pt x="715" y="124"/>
                </a:lnTo>
                <a:lnTo>
                  <a:pt x="712" y="111"/>
                </a:lnTo>
                <a:lnTo>
                  <a:pt x="707" y="98"/>
                </a:lnTo>
                <a:lnTo>
                  <a:pt x="700" y="86"/>
                </a:lnTo>
                <a:lnTo>
                  <a:pt x="692" y="73"/>
                </a:lnTo>
                <a:lnTo>
                  <a:pt x="681" y="60"/>
                </a:lnTo>
                <a:lnTo>
                  <a:pt x="667" y="46"/>
                </a:lnTo>
                <a:lnTo>
                  <a:pt x="654" y="35"/>
                </a:lnTo>
                <a:lnTo>
                  <a:pt x="638" y="26"/>
                </a:lnTo>
                <a:lnTo>
                  <a:pt x="619" y="16"/>
                </a:lnTo>
                <a:lnTo>
                  <a:pt x="600" y="9"/>
                </a:lnTo>
                <a:lnTo>
                  <a:pt x="582" y="4"/>
                </a:lnTo>
                <a:lnTo>
                  <a:pt x="561" y="1"/>
                </a:lnTo>
                <a:lnTo>
                  <a:pt x="541" y="0"/>
                </a:lnTo>
                <a:lnTo>
                  <a:pt x="519" y="0"/>
                </a:lnTo>
                <a:lnTo>
                  <a:pt x="500" y="3"/>
                </a:lnTo>
                <a:lnTo>
                  <a:pt x="477" y="9"/>
                </a:lnTo>
                <a:lnTo>
                  <a:pt x="453" y="18"/>
                </a:lnTo>
                <a:lnTo>
                  <a:pt x="437" y="26"/>
                </a:lnTo>
                <a:lnTo>
                  <a:pt x="421" y="36"/>
                </a:lnTo>
                <a:lnTo>
                  <a:pt x="407" y="48"/>
                </a:lnTo>
                <a:lnTo>
                  <a:pt x="395" y="59"/>
                </a:lnTo>
              </a:path>
            </a:pathLst>
          </a:custGeom>
          <a:noFill/>
          <a:ln cap="rnd" w="50760">
            <a:solidFill>
              <a:srgbClr val="c0e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885" name="" descr=""/>
          <p:cNvPicPr/>
          <p:nvPr/>
        </p:nvPicPr>
        <p:blipFill>
          <a:blip r:embed="rId1"/>
          <a:stretch/>
        </p:blipFill>
        <p:spPr>
          <a:xfrm>
            <a:off x="4952880" y="5105520"/>
            <a:ext cx="97488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86" name=""/>
          <p:cNvGraphicFramePr/>
          <p:nvPr/>
        </p:nvGraphicFramePr>
        <p:xfrm>
          <a:off x="1371600" y="3657600"/>
          <a:ext cx="533520" cy="914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3657600"/>
                    <a:ext cx="5335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8" name=""/>
          <p:cNvSpPr/>
          <p:nvPr/>
        </p:nvSpPr>
        <p:spPr>
          <a:xfrm flipV="1">
            <a:off x="1905120" y="3352320"/>
            <a:ext cx="457200" cy="3812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889" name=""/>
          <p:cNvGraphicFramePr/>
          <p:nvPr/>
        </p:nvGraphicFramePr>
        <p:xfrm>
          <a:off x="3886200" y="5410080"/>
          <a:ext cx="533520" cy="914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9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86200" y="5410080"/>
                    <a:ext cx="5335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1" name=""/>
          <p:cNvGraphicFramePr/>
          <p:nvPr/>
        </p:nvGraphicFramePr>
        <p:xfrm>
          <a:off x="6248520" y="1600200"/>
          <a:ext cx="533160" cy="914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9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248520" y="1600200"/>
                    <a:ext cx="5331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3" name=""/>
          <p:cNvSpPr/>
          <p:nvPr/>
        </p:nvSpPr>
        <p:spPr>
          <a:xfrm flipV="1">
            <a:off x="6400800" y="2437920"/>
            <a:ext cx="152280" cy="30492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 flipH="1">
            <a:off x="4191120" y="5029200"/>
            <a:ext cx="380880" cy="53352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1067760" y="4495680"/>
            <a:ext cx="128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0458c"/>
                </a:solidFill>
                <a:latin typeface="Times New Roman"/>
              </a:rPr>
              <a:t>Centrales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0458c"/>
                </a:solidFill>
                <a:latin typeface="Times New Roman"/>
              </a:rPr>
              <a:t>Telefonica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1066680" y="380880"/>
            <a:ext cx="7010640" cy="6172200"/>
          </a:xfrm>
          <a:custGeom>
            <a:avLst/>
            <a:gdLst/>
            <a:ahLst/>
            <a:rect l="l" t="t" r="r" b="b"/>
            <a:pathLst>
              <a:path w="856" h="448">
                <a:moveTo>
                  <a:pt x="395" y="59"/>
                </a:moveTo>
                <a:lnTo>
                  <a:pt x="375" y="55"/>
                </a:lnTo>
                <a:lnTo>
                  <a:pt x="348" y="50"/>
                </a:lnTo>
                <a:lnTo>
                  <a:pt x="325" y="49"/>
                </a:lnTo>
                <a:lnTo>
                  <a:pt x="301" y="51"/>
                </a:lnTo>
                <a:lnTo>
                  <a:pt x="283" y="53"/>
                </a:lnTo>
                <a:lnTo>
                  <a:pt x="266" y="57"/>
                </a:lnTo>
                <a:lnTo>
                  <a:pt x="247" y="63"/>
                </a:lnTo>
                <a:lnTo>
                  <a:pt x="229" y="71"/>
                </a:lnTo>
                <a:lnTo>
                  <a:pt x="211" y="82"/>
                </a:lnTo>
                <a:lnTo>
                  <a:pt x="193" y="96"/>
                </a:lnTo>
                <a:lnTo>
                  <a:pt x="181" y="109"/>
                </a:lnTo>
                <a:lnTo>
                  <a:pt x="173" y="121"/>
                </a:lnTo>
                <a:lnTo>
                  <a:pt x="165" y="134"/>
                </a:lnTo>
                <a:lnTo>
                  <a:pt x="160" y="151"/>
                </a:lnTo>
                <a:lnTo>
                  <a:pt x="145" y="147"/>
                </a:lnTo>
                <a:lnTo>
                  <a:pt x="127" y="145"/>
                </a:lnTo>
                <a:lnTo>
                  <a:pt x="111" y="145"/>
                </a:lnTo>
                <a:lnTo>
                  <a:pt x="94" y="148"/>
                </a:lnTo>
                <a:lnTo>
                  <a:pt x="79" y="153"/>
                </a:lnTo>
                <a:lnTo>
                  <a:pt x="64" y="159"/>
                </a:lnTo>
                <a:lnTo>
                  <a:pt x="48" y="170"/>
                </a:lnTo>
                <a:lnTo>
                  <a:pt x="39" y="179"/>
                </a:lnTo>
                <a:lnTo>
                  <a:pt x="28" y="189"/>
                </a:lnTo>
                <a:lnTo>
                  <a:pt x="19" y="201"/>
                </a:lnTo>
                <a:lnTo>
                  <a:pt x="11" y="217"/>
                </a:lnTo>
                <a:lnTo>
                  <a:pt x="6" y="232"/>
                </a:lnTo>
                <a:lnTo>
                  <a:pt x="2" y="247"/>
                </a:lnTo>
                <a:lnTo>
                  <a:pt x="1" y="259"/>
                </a:lnTo>
                <a:lnTo>
                  <a:pt x="0" y="271"/>
                </a:lnTo>
                <a:lnTo>
                  <a:pt x="1" y="286"/>
                </a:lnTo>
                <a:lnTo>
                  <a:pt x="3" y="299"/>
                </a:lnTo>
                <a:lnTo>
                  <a:pt x="7" y="312"/>
                </a:lnTo>
                <a:lnTo>
                  <a:pt x="12" y="325"/>
                </a:lnTo>
                <a:lnTo>
                  <a:pt x="19" y="339"/>
                </a:lnTo>
                <a:lnTo>
                  <a:pt x="29" y="353"/>
                </a:lnTo>
                <a:lnTo>
                  <a:pt x="40" y="364"/>
                </a:lnTo>
                <a:lnTo>
                  <a:pt x="53" y="375"/>
                </a:lnTo>
                <a:lnTo>
                  <a:pt x="68" y="383"/>
                </a:lnTo>
                <a:lnTo>
                  <a:pt x="80" y="389"/>
                </a:lnTo>
                <a:lnTo>
                  <a:pt x="92" y="392"/>
                </a:lnTo>
                <a:lnTo>
                  <a:pt x="106" y="396"/>
                </a:lnTo>
                <a:lnTo>
                  <a:pt x="121" y="396"/>
                </a:lnTo>
                <a:lnTo>
                  <a:pt x="136" y="396"/>
                </a:lnTo>
                <a:lnTo>
                  <a:pt x="151" y="393"/>
                </a:lnTo>
                <a:lnTo>
                  <a:pt x="163" y="390"/>
                </a:lnTo>
                <a:lnTo>
                  <a:pt x="171" y="387"/>
                </a:lnTo>
                <a:lnTo>
                  <a:pt x="179" y="397"/>
                </a:lnTo>
                <a:lnTo>
                  <a:pt x="191" y="406"/>
                </a:lnTo>
                <a:lnTo>
                  <a:pt x="204" y="414"/>
                </a:lnTo>
                <a:lnTo>
                  <a:pt x="218" y="422"/>
                </a:lnTo>
                <a:lnTo>
                  <a:pt x="236" y="429"/>
                </a:lnTo>
                <a:lnTo>
                  <a:pt x="254" y="436"/>
                </a:lnTo>
                <a:lnTo>
                  <a:pt x="276" y="441"/>
                </a:lnTo>
                <a:lnTo>
                  <a:pt x="296" y="445"/>
                </a:lnTo>
                <a:lnTo>
                  <a:pt x="318" y="447"/>
                </a:lnTo>
                <a:lnTo>
                  <a:pt x="335" y="447"/>
                </a:lnTo>
                <a:lnTo>
                  <a:pt x="353" y="447"/>
                </a:lnTo>
                <a:lnTo>
                  <a:pt x="377" y="444"/>
                </a:lnTo>
                <a:lnTo>
                  <a:pt x="406" y="434"/>
                </a:lnTo>
                <a:lnTo>
                  <a:pt x="416" y="437"/>
                </a:lnTo>
                <a:lnTo>
                  <a:pt x="436" y="430"/>
                </a:lnTo>
                <a:lnTo>
                  <a:pt x="456" y="422"/>
                </a:lnTo>
                <a:lnTo>
                  <a:pt x="468" y="416"/>
                </a:lnTo>
                <a:lnTo>
                  <a:pt x="478" y="408"/>
                </a:lnTo>
                <a:lnTo>
                  <a:pt x="489" y="413"/>
                </a:lnTo>
                <a:lnTo>
                  <a:pt x="504" y="419"/>
                </a:lnTo>
                <a:lnTo>
                  <a:pt x="518" y="423"/>
                </a:lnTo>
                <a:lnTo>
                  <a:pt x="531" y="426"/>
                </a:lnTo>
                <a:lnTo>
                  <a:pt x="546" y="427"/>
                </a:lnTo>
                <a:lnTo>
                  <a:pt x="560" y="427"/>
                </a:lnTo>
                <a:lnTo>
                  <a:pt x="577" y="425"/>
                </a:lnTo>
                <a:lnTo>
                  <a:pt x="594" y="421"/>
                </a:lnTo>
                <a:lnTo>
                  <a:pt x="609" y="416"/>
                </a:lnTo>
                <a:lnTo>
                  <a:pt x="624" y="407"/>
                </a:lnTo>
                <a:lnTo>
                  <a:pt x="638" y="398"/>
                </a:lnTo>
                <a:lnTo>
                  <a:pt x="657" y="406"/>
                </a:lnTo>
                <a:lnTo>
                  <a:pt x="675" y="410"/>
                </a:lnTo>
                <a:lnTo>
                  <a:pt x="690" y="412"/>
                </a:lnTo>
                <a:lnTo>
                  <a:pt x="712" y="412"/>
                </a:lnTo>
                <a:lnTo>
                  <a:pt x="735" y="409"/>
                </a:lnTo>
                <a:lnTo>
                  <a:pt x="762" y="401"/>
                </a:lnTo>
                <a:lnTo>
                  <a:pt x="785" y="389"/>
                </a:lnTo>
                <a:lnTo>
                  <a:pt x="804" y="374"/>
                </a:lnTo>
                <a:lnTo>
                  <a:pt x="823" y="356"/>
                </a:lnTo>
                <a:lnTo>
                  <a:pt x="833" y="341"/>
                </a:lnTo>
                <a:lnTo>
                  <a:pt x="841" y="326"/>
                </a:lnTo>
                <a:lnTo>
                  <a:pt x="849" y="306"/>
                </a:lnTo>
                <a:lnTo>
                  <a:pt x="853" y="288"/>
                </a:lnTo>
                <a:lnTo>
                  <a:pt x="855" y="267"/>
                </a:lnTo>
                <a:lnTo>
                  <a:pt x="853" y="251"/>
                </a:lnTo>
                <a:lnTo>
                  <a:pt x="849" y="232"/>
                </a:lnTo>
                <a:lnTo>
                  <a:pt x="843" y="213"/>
                </a:lnTo>
                <a:lnTo>
                  <a:pt x="833" y="196"/>
                </a:lnTo>
                <a:lnTo>
                  <a:pt x="822" y="179"/>
                </a:lnTo>
                <a:lnTo>
                  <a:pt x="808" y="165"/>
                </a:lnTo>
                <a:lnTo>
                  <a:pt x="795" y="154"/>
                </a:lnTo>
                <a:lnTo>
                  <a:pt x="782" y="146"/>
                </a:lnTo>
                <a:lnTo>
                  <a:pt x="764" y="135"/>
                </a:lnTo>
                <a:lnTo>
                  <a:pt x="747" y="129"/>
                </a:lnTo>
                <a:lnTo>
                  <a:pt x="732" y="126"/>
                </a:lnTo>
                <a:lnTo>
                  <a:pt x="715" y="124"/>
                </a:lnTo>
                <a:lnTo>
                  <a:pt x="712" y="111"/>
                </a:lnTo>
                <a:lnTo>
                  <a:pt x="707" y="98"/>
                </a:lnTo>
                <a:lnTo>
                  <a:pt x="700" y="86"/>
                </a:lnTo>
                <a:lnTo>
                  <a:pt x="692" y="73"/>
                </a:lnTo>
                <a:lnTo>
                  <a:pt x="681" y="60"/>
                </a:lnTo>
                <a:lnTo>
                  <a:pt x="667" y="46"/>
                </a:lnTo>
                <a:lnTo>
                  <a:pt x="654" y="35"/>
                </a:lnTo>
                <a:lnTo>
                  <a:pt x="638" y="26"/>
                </a:lnTo>
                <a:lnTo>
                  <a:pt x="619" y="16"/>
                </a:lnTo>
                <a:lnTo>
                  <a:pt x="600" y="9"/>
                </a:lnTo>
                <a:lnTo>
                  <a:pt x="582" y="4"/>
                </a:lnTo>
                <a:lnTo>
                  <a:pt x="561" y="1"/>
                </a:lnTo>
                <a:lnTo>
                  <a:pt x="541" y="0"/>
                </a:lnTo>
                <a:lnTo>
                  <a:pt x="519" y="0"/>
                </a:lnTo>
                <a:lnTo>
                  <a:pt x="500" y="3"/>
                </a:lnTo>
                <a:lnTo>
                  <a:pt x="477" y="9"/>
                </a:lnTo>
                <a:lnTo>
                  <a:pt x="453" y="18"/>
                </a:lnTo>
                <a:lnTo>
                  <a:pt x="437" y="26"/>
                </a:lnTo>
                <a:lnTo>
                  <a:pt x="421" y="36"/>
                </a:lnTo>
                <a:lnTo>
                  <a:pt x="407" y="48"/>
                </a:lnTo>
                <a:lnTo>
                  <a:pt x="395" y="59"/>
                </a:lnTo>
              </a:path>
            </a:pathLst>
          </a:custGeom>
          <a:noFill/>
          <a:ln cap="rnd" w="50760">
            <a:solidFill>
              <a:srgbClr val="c0e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591640" y="5586480"/>
            <a:ext cx="128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0458c"/>
                </a:solidFill>
                <a:latin typeface="Times New Roman"/>
              </a:rPr>
              <a:t>Centrales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0458c"/>
                </a:solidFill>
                <a:latin typeface="Times New Roman"/>
              </a:rPr>
              <a:t>Telefónica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5716080" y="990720"/>
            <a:ext cx="128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0458c"/>
                </a:solidFill>
                <a:latin typeface="Times New Roman"/>
              </a:rPr>
              <a:t>Centrales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0458c"/>
                </a:solidFill>
                <a:latin typeface="Times New Roman"/>
              </a:rPr>
              <a:t>Telefónica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899" name="" descr=""/>
          <p:cNvPicPr/>
          <p:nvPr/>
        </p:nvPicPr>
        <p:blipFill>
          <a:blip r:embed="rId8"/>
          <a:stretch/>
        </p:blipFill>
        <p:spPr>
          <a:xfrm>
            <a:off x="6858000" y="2666880"/>
            <a:ext cx="914400" cy="1143000"/>
          </a:xfrm>
          <a:prstGeom prst="rect">
            <a:avLst/>
          </a:prstGeom>
          <a:ln w="0">
            <a:noFill/>
          </a:ln>
        </p:spPr>
      </p:pic>
      <p:pic>
        <p:nvPicPr>
          <p:cNvPr id="900" name="" descr=""/>
          <p:cNvPicPr/>
          <p:nvPr/>
        </p:nvPicPr>
        <p:blipFill>
          <a:blip r:embed="rId9"/>
          <a:stretch/>
        </p:blipFill>
        <p:spPr>
          <a:xfrm>
            <a:off x="1371600" y="243828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901" name=""/>
          <p:cNvSpPr/>
          <p:nvPr/>
        </p:nvSpPr>
        <p:spPr>
          <a:xfrm>
            <a:off x="2133720" y="3048120"/>
            <a:ext cx="228600" cy="7596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6553080" y="3048120"/>
            <a:ext cx="381240" cy="7596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4724280" y="5029200"/>
            <a:ext cx="381240" cy="53352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782040" y="3733920"/>
            <a:ext cx="144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0458c"/>
                </a:solidFill>
                <a:latin typeface="Times New Roman"/>
              </a:rPr>
              <a:t>Datos: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0458c"/>
                </a:solidFill>
                <a:latin typeface="Times New Roman"/>
              </a:rPr>
              <a:t>Frame Relay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0458c"/>
                </a:solidFill>
                <a:latin typeface="Times New Roman"/>
              </a:rPr>
              <a:t>ATM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5867640" y="4952880"/>
            <a:ext cx="144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0458c"/>
                </a:solidFill>
                <a:latin typeface="Times New Roman"/>
              </a:rPr>
              <a:t>Datos: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0458c"/>
                </a:solidFill>
                <a:latin typeface="Times New Roman"/>
              </a:rPr>
              <a:t>Frame Relay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0458c"/>
                </a:solidFill>
                <a:latin typeface="Times New Roman"/>
              </a:rPr>
              <a:t>ATM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906" name=""/>
          <p:cNvGraphicFramePr/>
          <p:nvPr/>
        </p:nvGraphicFramePr>
        <p:xfrm>
          <a:off x="228600" y="4572000"/>
          <a:ext cx="585720" cy="458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90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28600" y="4572000"/>
                    <a:ext cx="58572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8" name=""/>
          <p:cNvSpPr/>
          <p:nvPr/>
        </p:nvSpPr>
        <p:spPr>
          <a:xfrm flipV="1">
            <a:off x="533520" y="4266720"/>
            <a:ext cx="838080" cy="3812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762120" y="2590920"/>
            <a:ext cx="68580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 flipV="1">
            <a:off x="7543800" y="2361960"/>
            <a:ext cx="762120" cy="53316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911" name=""/>
          <p:cNvGrpSpPr/>
          <p:nvPr/>
        </p:nvGrpSpPr>
        <p:grpSpPr>
          <a:xfrm>
            <a:off x="0" y="1447920"/>
            <a:ext cx="1752120" cy="609480"/>
            <a:chOff x="0" y="1447920"/>
            <a:chExt cx="1752120" cy="609480"/>
          </a:xfrm>
        </p:grpSpPr>
        <p:pic>
          <p:nvPicPr>
            <p:cNvPr id="912" name="" descr=""/>
            <p:cNvPicPr/>
            <p:nvPr/>
          </p:nvPicPr>
          <p:blipFill>
            <a:blip r:embed="rId12"/>
            <a:stretch/>
          </p:blipFill>
          <p:spPr>
            <a:xfrm>
              <a:off x="0" y="1447920"/>
              <a:ext cx="533160" cy="46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3" name="" descr=""/>
            <p:cNvPicPr/>
            <p:nvPr/>
          </p:nvPicPr>
          <p:blipFill>
            <a:blip r:embed="rId13"/>
            <a:stretch/>
          </p:blipFill>
          <p:spPr>
            <a:xfrm>
              <a:off x="609480" y="1447920"/>
              <a:ext cx="532800" cy="46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4" name="" descr=""/>
            <p:cNvPicPr/>
            <p:nvPr/>
          </p:nvPicPr>
          <p:blipFill>
            <a:blip r:embed="rId14"/>
            <a:stretch/>
          </p:blipFill>
          <p:spPr>
            <a:xfrm>
              <a:off x="1218960" y="1447920"/>
              <a:ext cx="533160" cy="46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5" name=""/>
            <p:cNvSpPr/>
            <p:nvPr/>
          </p:nvSpPr>
          <p:spPr>
            <a:xfrm>
              <a:off x="75960" y="2057400"/>
              <a:ext cx="167616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28240" y="1905120"/>
              <a:ext cx="0" cy="1522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838080" y="1905120"/>
              <a:ext cx="0" cy="1522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447560" y="1905120"/>
              <a:ext cx="0" cy="1522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919" name=""/>
          <p:cNvSpPr/>
          <p:nvPr/>
        </p:nvSpPr>
        <p:spPr>
          <a:xfrm flipV="1">
            <a:off x="533520" y="2057040"/>
            <a:ext cx="0" cy="30492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920" name=""/>
          <p:cNvGrpSpPr/>
          <p:nvPr/>
        </p:nvGrpSpPr>
        <p:grpSpPr>
          <a:xfrm>
            <a:off x="7391520" y="1295280"/>
            <a:ext cx="1752120" cy="609480"/>
            <a:chOff x="7391520" y="1295280"/>
            <a:chExt cx="1752120" cy="609480"/>
          </a:xfrm>
        </p:grpSpPr>
        <p:pic>
          <p:nvPicPr>
            <p:cNvPr id="921" name="" descr=""/>
            <p:cNvPicPr/>
            <p:nvPr/>
          </p:nvPicPr>
          <p:blipFill>
            <a:blip r:embed="rId15"/>
            <a:stretch/>
          </p:blipFill>
          <p:spPr>
            <a:xfrm>
              <a:off x="7391520" y="1295280"/>
              <a:ext cx="533160" cy="46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2" name="" descr=""/>
            <p:cNvPicPr/>
            <p:nvPr/>
          </p:nvPicPr>
          <p:blipFill>
            <a:blip r:embed="rId16"/>
            <a:stretch/>
          </p:blipFill>
          <p:spPr>
            <a:xfrm>
              <a:off x="8001000" y="1295280"/>
              <a:ext cx="532800" cy="46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3" name="" descr=""/>
            <p:cNvPicPr/>
            <p:nvPr/>
          </p:nvPicPr>
          <p:blipFill>
            <a:blip r:embed="rId17"/>
            <a:stretch/>
          </p:blipFill>
          <p:spPr>
            <a:xfrm>
              <a:off x="8610480" y="1295280"/>
              <a:ext cx="533160" cy="46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4" name=""/>
            <p:cNvSpPr/>
            <p:nvPr/>
          </p:nvSpPr>
          <p:spPr>
            <a:xfrm>
              <a:off x="7467480" y="1904760"/>
              <a:ext cx="167616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619760" y="1752480"/>
              <a:ext cx="0" cy="1522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8229600" y="1752480"/>
              <a:ext cx="0" cy="1522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8839080" y="1752480"/>
              <a:ext cx="0" cy="1522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928" name=""/>
          <p:cNvSpPr/>
          <p:nvPr/>
        </p:nvSpPr>
        <p:spPr>
          <a:xfrm>
            <a:off x="8458200" y="1905120"/>
            <a:ext cx="0" cy="2286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36440" y="97632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58c"/>
                </a:solidFill>
                <a:latin typeface="Times New Roman"/>
              </a:rPr>
              <a:t>LAN CLIENT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7391520" y="91440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58c"/>
                </a:solidFill>
                <a:latin typeface="Times New Roman"/>
              </a:rPr>
              <a:t>LAN CLIENT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1800" y="28195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0458c"/>
                </a:solidFill>
                <a:latin typeface="Times New Roman"/>
              </a:rPr>
              <a:t>Router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8155080" y="25146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0458c"/>
                </a:solidFill>
                <a:latin typeface="Times New Roman"/>
              </a:rPr>
              <a:t>Router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933" name="" descr=""/>
          <p:cNvPicPr/>
          <p:nvPr/>
        </p:nvPicPr>
        <p:blipFill>
          <a:blip r:embed="rId18"/>
          <a:stretch/>
        </p:blipFill>
        <p:spPr>
          <a:xfrm>
            <a:off x="324000" y="2276640"/>
            <a:ext cx="576000" cy="407880"/>
          </a:xfrm>
          <a:prstGeom prst="rect">
            <a:avLst/>
          </a:prstGeom>
          <a:ln w="0">
            <a:noFill/>
          </a:ln>
        </p:spPr>
      </p:pic>
      <p:pic>
        <p:nvPicPr>
          <p:cNvPr id="934" name="" descr=""/>
          <p:cNvPicPr/>
          <p:nvPr/>
        </p:nvPicPr>
        <p:blipFill>
          <a:blip r:embed="rId19"/>
          <a:stretch/>
        </p:blipFill>
        <p:spPr>
          <a:xfrm>
            <a:off x="8172360" y="2060640"/>
            <a:ext cx="576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USB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6868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Universal Serial Bu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SzPct val="1392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12 Mbps. Dispositivos como teclados y mouse 1.5 Mbp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SzPct val="13927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127 Dispositivos usando Hub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SzPct val="13927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Plug and Play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SzPct val="13927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Alimentación eléctrica para el dispositivo a través de la interface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SzPct val="13927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Hot pluggable: conexión y desconexión en caliente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SzPct val="13927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La nueva especificación 2.0 opera a 480 Mbp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SzPct val="13927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Distancia: 5 mts. Se puede ampliar con configuraciones como USB—Ethernet----Ethernet---USB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CONECTOR PUERTO USB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29152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Dos hilos para dato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Dos hilos para suministrar energía (500mA) con 5V.  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Transmisión de datos utilizando codificación NRZI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060" name="" descr="[image: ../art/dsl02.gif]"/>
          <p:cNvPicPr/>
          <p:nvPr/>
        </p:nvPicPr>
        <p:blipFill>
          <a:blip r:embed="rId4"/>
          <a:stretch/>
        </p:blipFill>
        <p:spPr>
          <a:xfrm>
            <a:off x="304920" y="3276720"/>
            <a:ext cx="2209680" cy="1660320"/>
          </a:xfrm>
          <a:prstGeom prst="rect">
            <a:avLst/>
          </a:prstGeom>
          <a:ln w="0">
            <a:noFill/>
          </a:ln>
        </p:spPr>
      </p:pic>
      <p:sp>
        <p:nvSpPr>
          <p:cNvPr id="1061" name=""/>
          <p:cNvSpPr/>
          <p:nvPr/>
        </p:nvSpPr>
        <p:spPr>
          <a:xfrm>
            <a:off x="3352680" y="3124080"/>
            <a:ext cx="5273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  <a:ea typeface="Arial"/>
              </a:rPr>
              <a:t>Pin</a:t>
            </a:r>
            <a:r>
              <a:rPr b="1" lang="es-ES" sz="2400" spc="-1" strike="noStrike">
                <a:solidFill>
                  <a:srgbClr val="40458c"/>
                </a:solidFill>
                <a:latin typeface="Arial"/>
                <a:ea typeface="Arial"/>
              </a:rPr>
              <a:t>	</a:t>
            </a:r>
            <a:r>
              <a:rPr b="1" lang="es-ES" sz="2400" spc="-1" strike="noStrike">
                <a:solidFill>
                  <a:srgbClr val="40458c"/>
                </a:solidFill>
                <a:latin typeface="Arial"/>
                <a:ea typeface="Arial"/>
              </a:rPr>
              <a:t>	</a:t>
            </a:r>
            <a:r>
              <a:rPr b="1" lang="es-ES" sz="2400" spc="-1" strike="noStrike">
                <a:solidFill>
                  <a:srgbClr val="40458c"/>
                </a:solidFill>
                <a:latin typeface="Arial"/>
                <a:ea typeface="Arial"/>
              </a:rPr>
              <a:t>Signal nam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  <a:ea typeface="Arial"/>
              </a:rPr>
              <a:t>	</a:t>
            </a:r>
            <a:r>
              <a:rPr b="1" lang="es-ES" sz="2400" spc="-1" strike="noStrike">
                <a:solidFill>
                  <a:srgbClr val="40458c"/>
                </a:solidFill>
                <a:latin typeface="Arial"/>
                <a:ea typeface="Arial"/>
              </a:rPr>
              <a:t>	</a:t>
            </a:r>
            <a:r>
              <a:rPr b="1" lang="es-ES" sz="2400" spc="-1" strike="noStrike">
                <a:solidFill>
                  <a:srgbClr val="40458c"/>
                </a:solidFill>
                <a:latin typeface="Arial"/>
                <a:ea typeface="Arial"/>
              </a:rPr>
              <a:t>Descripti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1 VCC </a:t>
            </a: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+5 VDC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2 D–</a:t>
            </a: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Data –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3 D+</a:t>
            </a: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Data +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4 GND </a:t>
            </a: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Groun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IEEE 1394 (FIREWIRE)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6868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2071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58c"/>
                </a:solidFill>
                <a:latin typeface="Tahoma"/>
              </a:rPr>
              <a:t>Opera a 400 Mbps.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SzPct val="12071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58c"/>
                </a:solidFill>
                <a:latin typeface="Tahoma"/>
              </a:rPr>
              <a:t>Utilizada para conectar cámaras, DVD, y en general dispositivos de alta velocidad.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56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PUERTOS UNIVERSALES – CABLES DE TRANSICION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250920" y="692280"/>
            <a:ext cx="864216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Algunos fabricantes usan en el chasis del  equipo un puerto universal entregando la interface mediante un cable de conversión o transición como lo llama Cisco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Recientemente Cisco para reducir el tamaño del conector introduco el Smart Serial Cable que utiliza un conector de 26 pines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066" name="" descr=""/>
          <p:cNvPicPr/>
          <p:nvPr/>
        </p:nvPicPr>
        <p:blipFill>
          <a:blip r:embed="rId1"/>
          <a:stretch/>
        </p:blipFill>
        <p:spPr>
          <a:xfrm>
            <a:off x="1295280" y="2446200"/>
            <a:ext cx="6096240" cy="43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INTERFACES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68" name=""/>
          <p:cNvSpPr/>
          <p:nvPr/>
        </p:nvSpPr>
        <p:spPr>
          <a:xfrm>
            <a:off x="1371600" y="1523880"/>
            <a:ext cx="1523880" cy="6858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imes New Roman"/>
              </a:rPr>
              <a:t>CIRCUIT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imes New Roman"/>
              </a:rPr>
              <a:t>RS-23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3505320" y="1523880"/>
            <a:ext cx="1523880" cy="6858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imes New Roman"/>
              </a:rPr>
              <a:t>CIRCUIT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imes New Roman"/>
              </a:rPr>
              <a:t>V.35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5715000" y="1523880"/>
            <a:ext cx="1523880" cy="6858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imes New Roman"/>
              </a:rPr>
              <a:t>CIRCUIT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imes New Roman"/>
              </a:rPr>
              <a:t>X.2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3429000" y="3124080"/>
            <a:ext cx="1600200" cy="6098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2590920" y="2209680"/>
            <a:ext cx="1066680" cy="9144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2819520" y="2209680"/>
            <a:ext cx="990360" cy="9144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2362320" y="2209680"/>
            <a:ext cx="1066680" cy="9144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4114800" y="2209680"/>
            <a:ext cx="0" cy="13716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4267080" y="2209680"/>
            <a:ext cx="0" cy="13716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4419720" y="2209680"/>
            <a:ext cx="0" cy="13716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 flipV="1">
            <a:off x="4876920" y="2209680"/>
            <a:ext cx="990360" cy="9144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 flipV="1">
            <a:off x="5029200" y="2209680"/>
            <a:ext cx="990720" cy="9144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 flipV="1">
            <a:off x="5029200" y="2209680"/>
            <a:ext cx="1143000" cy="10670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533520" y="990720"/>
            <a:ext cx="8001000" cy="2438280"/>
          </a:xfrm>
          <a:prstGeom prst="rect">
            <a:avLst/>
          </a:prstGeom>
          <a:noFill/>
          <a:ln w="572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605160" y="4419720"/>
            <a:ext cx="2367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imes New Roman"/>
              </a:rPr>
              <a:t>CONECTOR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imes New Roman"/>
              </a:rPr>
              <a:t>DB-60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imes New Roman"/>
              </a:rPr>
              <a:t>Varias interface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imes New Roman"/>
              </a:rPr>
              <a:t>en el mismo conector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 flipV="1">
            <a:off x="1981080" y="3733560"/>
            <a:ext cx="1295640" cy="685800"/>
          </a:xfrm>
          <a:prstGeom prst="line">
            <a:avLst/>
          </a:prstGeom>
          <a:ln w="9360">
            <a:solidFill>
              <a:srgbClr val="40458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5394960" y="399960"/>
            <a:ext cx="180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imes New Roman"/>
              </a:rPr>
              <a:t>ROUTER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3429000" y="3962520"/>
            <a:ext cx="1676520" cy="45720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038480" y="4419720"/>
            <a:ext cx="2819520" cy="1523880"/>
          </a:xfrm>
          <a:custGeom>
            <a:avLst/>
            <a:gdLst/>
            <a:ahLst/>
            <a:rect l="l" t="t" r="r" b="b"/>
            <a:pathLst>
              <a:path w="1776" h="960">
                <a:moveTo>
                  <a:pt x="144" y="0"/>
                </a:moveTo>
                <a:cubicBezTo>
                  <a:pt x="72" y="384"/>
                  <a:pt x="0" y="768"/>
                  <a:pt x="144" y="864"/>
                </a:cubicBezTo>
                <a:cubicBezTo>
                  <a:pt x="288" y="960"/>
                  <a:pt x="736" y="560"/>
                  <a:pt x="1008" y="576"/>
                </a:cubicBezTo>
                <a:cubicBezTo>
                  <a:pt x="1280" y="592"/>
                  <a:pt x="1648" y="904"/>
                  <a:pt x="1776" y="960"/>
                </a:cubicBezTo>
              </a:path>
            </a:pathLst>
          </a:custGeom>
          <a:noFill/>
          <a:ln w="117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6858000" y="5562720"/>
            <a:ext cx="304920" cy="76176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 flipV="1">
            <a:off x="3657600" y="3124080"/>
            <a:ext cx="0" cy="4572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 flipV="1">
            <a:off x="3809880" y="3124080"/>
            <a:ext cx="0" cy="4572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876920" y="3124080"/>
            <a:ext cx="0" cy="3812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6859080" y="4267080"/>
            <a:ext cx="148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imes New Roman"/>
              </a:rPr>
              <a:t>Extrem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imes New Roman"/>
              </a:rPr>
              <a:t>Con conector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imes New Roman"/>
              </a:rPr>
              <a:t>DB-25, M-34,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imes New Roman"/>
              </a:rPr>
              <a:t>ETC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3718800" y="5886360"/>
            <a:ext cx="113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imes New Roman"/>
              </a:rPr>
              <a:t>Cable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7164360" y="5661000"/>
            <a:ext cx="14436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7164360" y="5805360"/>
            <a:ext cx="14436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7164360" y="5950080"/>
            <a:ext cx="14436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7164360" y="6093000"/>
            <a:ext cx="14436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7164360" y="6237360"/>
            <a:ext cx="14436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762120" y="155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INTERFACES DE VOZ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SzPct val="12071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0458c"/>
                </a:solidFill>
                <a:latin typeface="Tahoma"/>
              </a:rPr>
              <a:t>Ver presentación: “Telefonia sobre redes de datos”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OTRAS INTERFACES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228600" y="765000"/>
            <a:ext cx="8686800" cy="586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RDSI (ISDN)   Esquema del bus S/T en conectores RJ-45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RJ-45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TE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NT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POLARIT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3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TRAN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REC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4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REC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TR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5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REC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TR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-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6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TRAN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REC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-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7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48VDC PW2-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Para alimentar dispositivos en bus - Opciona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8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48VDC PW2+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Para alimentar dispositivos en bus - Opciona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OJO: 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7 y 8 solo para dispositivos que lo requieran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Máximo 40V y hasta 4.5mW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Los 2 hilos que llegan de la central a la Interface U del NT se alambran en RJ45 en 4 y 5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OTRAS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228600" y="765000"/>
            <a:ext cx="8686800" cy="586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10BASE-T y 100BASE 10 en conector RJ-45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190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J-45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T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190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XD+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190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XD-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190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3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C+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190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C-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190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"/>
          <p:cNvSpPr/>
          <p:nvPr/>
        </p:nvSpPr>
        <p:spPr>
          <a:xfrm>
            <a:off x="1074960" y="304920"/>
            <a:ext cx="652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COMUNICACIÓN AL INTERIOR DEL NO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228600" y="914400"/>
            <a:ext cx="84582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La comunicación no nace y termina en la interface externa del nodo, se extiende al interior del nodo: procesador,discos, memoria, interfaces de entrada y salida, etc se comunican entre sí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e debe prestar especial atención en el diseño de la  plataforma  a la comunicación interna en los equipos de la red: servidores, PC’s, enrutadores, suiches, etc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A las actuales tasas de velocidad los cuellos de botella se presentan en los buses internos de los equipo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Otro factor importante a tener en cuenta es la capacidad y optimización del sistema operativo para operar con enlaces de altas velocidade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1074960" y="304920"/>
            <a:ext cx="652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COMUNICACIÓN AL INTERIOR DEL NO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107" name="" descr="3Com® Firewall Desktop PCI Card with 10/100 LAN"/>
          <p:cNvPicPr/>
          <p:nvPr/>
        </p:nvPicPr>
        <p:blipFill>
          <a:blip r:embed="rId1"/>
          <a:stretch/>
        </p:blipFill>
        <p:spPr>
          <a:xfrm>
            <a:off x="2843280" y="2276640"/>
            <a:ext cx="2781360" cy="3311280"/>
          </a:xfrm>
          <a:prstGeom prst="rect">
            <a:avLst/>
          </a:prstGeom>
          <a:ln w="0">
            <a:noFill/>
          </a:ln>
        </p:spPr>
      </p:pic>
      <p:sp>
        <p:nvSpPr>
          <p:cNvPr id="1108" name=""/>
          <p:cNvSpPr/>
          <p:nvPr/>
        </p:nvSpPr>
        <p:spPr>
          <a:xfrm>
            <a:off x="1403280" y="2349360"/>
            <a:ext cx="1800360" cy="1511280"/>
          </a:xfrm>
          <a:custGeom>
            <a:avLst/>
            <a:gdLst/>
            <a:ahLst/>
            <a:rect l="l" t="t" r="r" b="b"/>
            <a:pathLst>
              <a:path w="1724" h="952">
                <a:moveTo>
                  <a:pt x="0" y="158"/>
                </a:moveTo>
                <a:cubicBezTo>
                  <a:pt x="393" y="79"/>
                  <a:pt x="787" y="0"/>
                  <a:pt x="862" y="113"/>
                </a:cubicBezTo>
                <a:cubicBezTo>
                  <a:pt x="937" y="226"/>
                  <a:pt x="309" y="726"/>
                  <a:pt x="453" y="839"/>
                </a:cubicBezTo>
                <a:cubicBezTo>
                  <a:pt x="597" y="952"/>
                  <a:pt x="1512" y="801"/>
                  <a:pt x="1724" y="793"/>
                </a:cubicBezTo>
              </a:path>
            </a:pathLst>
          </a:custGeom>
          <a:noFill/>
          <a:ln w="381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109" name=""/>
          <p:cNvGrpSpPr/>
          <p:nvPr/>
        </p:nvGrpSpPr>
        <p:grpSpPr>
          <a:xfrm>
            <a:off x="4572000" y="4724280"/>
            <a:ext cx="3024000" cy="649080"/>
            <a:chOff x="4572000" y="4724280"/>
            <a:chExt cx="3024000" cy="649080"/>
          </a:xfrm>
        </p:grpSpPr>
        <p:sp>
          <p:nvSpPr>
            <p:cNvPr id="1110" name=""/>
            <p:cNvSpPr/>
            <p:nvPr/>
          </p:nvSpPr>
          <p:spPr>
            <a:xfrm>
              <a:off x="4572000" y="4724280"/>
              <a:ext cx="0" cy="6490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4572000" y="5373360"/>
              <a:ext cx="302400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112" name=""/>
          <p:cNvGrpSpPr/>
          <p:nvPr/>
        </p:nvGrpSpPr>
        <p:grpSpPr>
          <a:xfrm>
            <a:off x="4643280" y="4653000"/>
            <a:ext cx="2881080" cy="647280"/>
            <a:chOff x="4643280" y="4653000"/>
            <a:chExt cx="2881080" cy="647280"/>
          </a:xfrm>
        </p:grpSpPr>
        <p:sp>
          <p:nvSpPr>
            <p:cNvPr id="1113" name=""/>
            <p:cNvSpPr/>
            <p:nvPr/>
          </p:nvSpPr>
          <p:spPr>
            <a:xfrm>
              <a:off x="4643280" y="4653000"/>
              <a:ext cx="0" cy="6472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643280" y="5300280"/>
              <a:ext cx="288108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115" name=""/>
          <p:cNvSpPr/>
          <p:nvPr/>
        </p:nvSpPr>
        <p:spPr>
          <a:xfrm>
            <a:off x="7596360" y="4941720"/>
            <a:ext cx="865080" cy="10083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PIC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7596360" y="3286080"/>
            <a:ext cx="1223640" cy="9367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CPU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8101080" y="4222800"/>
            <a:ext cx="0" cy="71892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4859280" y="4797360"/>
            <a:ext cx="0" cy="2160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4859280" y="5013360"/>
            <a:ext cx="151308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5003640" y="4653000"/>
            <a:ext cx="0" cy="28872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5003640" y="4941720"/>
            <a:ext cx="136872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5148360" y="4724280"/>
            <a:ext cx="0" cy="730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5148360" y="4869000"/>
            <a:ext cx="122400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012000" y="4005360"/>
            <a:ext cx="1368360" cy="11523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MEMORI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 flipV="1">
            <a:off x="6804000" y="3715920"/>
            <a:ext cx="0" cy="2890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6804000" y="3716280"/>
            <a:ext cx="79236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 flipV="1">
            <a:off x="6732720" y="3573360"/>
            <a:ext cx="0" cy="4320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6732720" y="3573360"/>
            <a:ext cx="86364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flipH="1">
            <a:off x="4642920" y="1197000"/>
            <a:ext cx="1297080" cy="1655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5952960" y="92088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Buff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359640" y="2205000"/>
            <a:ext cx="1162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Medio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UT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F.O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Etc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INTERFACES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6840" y="609480"/>
            <a:ext cx="8458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Aspectos que define una interface: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49"/>
              </a:spcBef>
              <a:buSzPct val="1131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Tahoma"/>
              </a:rPr>
              <a:t>MECÁNICOS</a:t>
            </a: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: Tipo de conector, dimensiones, nro. de pines, forma, etc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49"/>
              </a:spcBef>
              <a:buSzPct val="1131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Tahoma"/>
              </a:rPr>
              <a:t>ELECTRICOS U OPTICOS:</a:t>
            </a: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 Voltajes, tipo de fuente luminosa, duración de la señal, etc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49"/>
              </a:spcBef>
              <a:buSzPct val="1131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Tahoma"/>
              </a:rPr>
              <a:t>FUNCIONALES:</a:t>
            </a: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 Para que sirve cada PIN. Eje: TD(envío de datos), RD (recepción de datos), DCD, RTS, etc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49"/>
              </a:spcBef>
              <a:buSzPct val="1131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Tahoma"/>
              </a:rPr>
              <a:t>PROCEDIMENTALES:</a:t>
            </a: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 Orden o secuencia de pasos en la comunicación.  Ej: Cuando el PC se activa levanta DTR y el modem levanta DSR. Al establecer comunicación se activa DCD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2" name="" descr=""/>
          <p:cNvPicPr/>
          <p:nvPr/>
        </p:nvPicPr>
        <p:blipFill>
          <a:blip r:embed="rId1"/>
          <a:stretch/>
        </p:blipFill>
        <p:spPr>
          <a:xfrm>
            <a:off x="1447920" y="947880"/>
            <a:ext cx="6172200" cy="5910120"/>
          </a:xfrm>
          <a:prstGeom prst="rect">
            <a:avLst/>
          </a:prstGeom>
          <a:ln w="0">
            <a:noFill/>
          </a:ln>
        </p:spPr>
      </p:pic>
      <p:sp>
        <p:nvSpPr>
          <p:cNvPr id="1133" name=""/>
          <p:cNvSpPr/>
          <p:nvPr/>
        </p:nvSpPr>
        <p:spPr>
          <a:xfrm>
            <a:off x="1079640" y="304920"/>
            <a:ext cx="74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ARQUITECTURA INTERNA DE UN COMPUTADO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"/>
          <p:cNvSpPr/>
          <p:nvPr/>
        </p:nvSpPr>
        <p:spPr>
          <a:xfrm>
            <a:off x="1055880" y="0"/>
            <a:ext cx="74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ARQUITECTURA INTERNA DE UN COMPUTADO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135" name="" descr=""/>
          <p:cNvPicPr/>
          <p:nvPr/>
        </p:nvPicPr>
        <p:blipFill>
          <a:blip r:embed="rId1"/>
          <a:stretch/>
        </p:blipFill>
        <p:spPr>
          <a:xfrm>
            <a:off x="1908000" y="549360"/>
            <a:ext cx="511020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6" name=""/>
          <p:cNvGraphicFramePr/>
          <p:nvPr/>
        </p:nvGraphicFramePr>
        <p:xfrm>
          <a:off x="690480" y="762120"/>
          <a:ext cx="8008920" cy="6019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7" name="" descr="Rectangle: Click to edit Master text styles&#13;&#10;Second level&#13;&#10;Third level&#13;&#10;Fourth level&#13;&#10;Fifth leve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0480" y="762120"/>
                    <a:ext cx="8008920" cy="60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ahoma"/>
              </a:rPr>
              <a:t>ALGUNOS BUSES/INTERFACES/PUERTOS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762120" y="260280"/>
            <a:ext cx="777240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INTERFACE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1140" name=""/>
          <p:cNvGraphicFramePr/>
          <p:nvPr/>
        </p:nvGraphicFramePr>
        <p:xfrm>
          <a:off x="533520" y="952560"/>
          <a:ext cx="8248680" cy="563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41" name="" descr="Rectangle: Click to edit Master text styles&#13;&#10;Second level&#13;&#10;Third level&#13;&#10;Fourth level&#13;&#10;Fifth leve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952560"/>
                    <a:ext cx="824868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660066"/>
                </a:solidFill>
                <a:latin typeface="Tahoma"/>
              </a:rPr>
              <a:t>INTERFACES – PCI EXPRESS - PCI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3" name=""/>
          <p:cNvSpPr/>
          <p:nvPr/>
        </p:nvSpPr>
        <p:spPr>
          <a:xfrm>
            <a:off x="250920" y="907920"/>
            <a:ext cx="8458200" cy="540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Estandar finalizado en 2002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Capacidad: </a:t>
            </a: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1X=0.5GB     </a:t>
            </a: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0.25 EN CADA SENTIDO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2X=1GB</a:t>
            </a: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0.5 GB EN CADA SENTIDO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16X=8GB,  </a:t>
            </a: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4GB EN CADA SENTIDO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Permite calidad de servicio: Qo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144" name="" descr=""/>
          <p:cNvPicPr/>
          <p:nvPr/>
        </p:nvPicPr>
        <p:blipFill>
          <a:blip r:embed="rId1"/>
          <a:stretch/>
        </p:blipFill>
        <p:spPr>
          <a:xfrm>
            <a:off x="2484360" y="3213000"/>
            <a:ext cx="4032360" cy="32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660066"/>
                </a:solidFill>
                <a:latin typeface="Tahoma"/>
              </a:rPr>
              <a:t>INTERFACES – PCI EXPRESS - PCI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6" name=""/>
          <p:cNvSpPr/>
          <p:nvPr/>
        </p:nvSpPr>
        <p:spPr>
          <a:xfrm>
            <a:off x="250920" y="1052640"/>
            <a:ext cx="84582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Chipsets de Intel para PCI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147" name="" descr=""/>
          <p:cNvPicPr/>
          <p:nvPr/>
        </p:nvPicPr>
        <p:blipFill>
          <a:blip r:embed="rId1"/>
          <a:stretch/>
        </p:blipFill>
        <p:spPr>
          <a:xfrm>
            <a:off x="2133720" y="1519200"/>
            <a:ext cx="6759360" cy="529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296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TECNOLOGIA DE DISCOS ID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CONFIGURACION DE DISCOS IDE: Evolucio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ATA- ATA2 - ATA3- ULTRADM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Programmed I/O poco utilizado por lento al usar CPU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PIO Mode 0: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 The fastest data transfer rate reaches 3.3Mbyte/sec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PIO Mode 1: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 The fastest data transfer rate reaches 5.2Mbyte/sec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PIO Mode 2: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 The fastest data transfer rate reaches 8.3Mbyte/sec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SzPct val="1131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PIO Mode 3: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 The fastest data transfer rate reaches 11.1Mbyte/sec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SzPct val="1131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PIO Mode 4: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 The fastest data transfer rate reaches 16.6Mbyte/s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No Requiere la intervención de la CPU. Transferencia directa DISCO-Mem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131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0458c"/>
                </a:solidFill>
                <a:latin typeface="Tahoma"/>
              </a:rPr>
              <a:t>DMA Mode 0: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 The fastest data transfer rate reaches 4.16Mbyte/sec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131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0458c"/>
                </a:solidFill>
                <a:latin typeface="Tahoma"/>
              </a:rPr>
              <a:t>DMA Mode 1: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 The fastest data transfer rate reaches 13.3Mbyte/sec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SzPct val="1131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0458c"/>
                </a:solidFill>
                <a:latin typeface="Tahoma"/>
              </a:rPr>
              <a:t>DMA Mode 2: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 The fastest data transfer rate reaches 16.6Mbyte/sec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394920" y="228600"/>
            <a:ext cx="849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TECNOLOGIA DE DISCOS IDE/SCSI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0458c"/>
                </a:solidFill>
                <a:latin typeface="Tahoma"/>
              </a:rPr>
              <a:t>Ultra DMA</a:t>
            </a:r>
            <a:r>
              <a:rPr b="1" lang="es-E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40458c"/>
                </a:solidFill>
                <a:latin typeface="Tahoma"/>
              </a:rPr>
              <a:t>Cycle Time    Max.Transfer Rate(MB/s) Defining Standar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0458c"/>
                </a:solidFill>
                <a:latin typeface="Tahoma"/>
              </a:rPr>
              <a:t>Mode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0458c"/>
                </a:solidFill>
                <a:latin typeface="Tahoma"/>
              </a:rPr>
              <a:t>Mode 0</a:t>
            </a:r>
            <a:r>
              <a:rPr b="1" lang="es-E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40458c"/>
                </a:solidFill>
                <a:latin typeface="Tahoma"/>
              </a:rPr>
              <a:t>240</a:t>
            </a:r>
            <a:r>
              <a:rPr b="1" lang="es-E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40458c"/>
                </a:solidFill>
                <a:latin typeface="Tahoma"/>
              </a:rPr>
              <a:t>16.7</a:t>
            </a:r>
            <a:r>
              <a:rPr b="1" lang="es-E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40458c"/>
                </a:solidFill>
                <a:latin typeface="Tahoma"/>
              </a:rPr>
              <a:t>ATA/ATAPI-4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0458c"/>
                </a:solidFill>
                <a:latin typeface="Tahoma"/>
              </a:rPr>
              <a:t>Mode 1</a:t>
            </a:r>
            <a:r>
              <a:rPr b="1" lang="es-E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40458c"/>
                </a:solidFill>
                <a:latin typeface="Tahoma"/>
              </a:rPr>
              <a:t>160</a:t>
            </a:r>
            <a:r>
              <a:rPr b="1" lang="es-E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40458c"/>
                </a:solidFill>
                <a:latin typeface="Tahoma"/>
              </a:rPr>
              <a:t>25.0</a:t>
            </a:r>
            <a:r>
              <a:rPr b="1" lang="es-E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40458c"/>
                </a:solidFill>
                <a:latin typeface="Tahoma"/>
              </a:rPr>
              <a:t>ATA/ATAPI-4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0458c"/>
                </a:solidFill>
                <a:latin typeface="Tahoma"/>
              </a:rPr>
              <a:t>Mode 2</a:t>
            </a:r>
            <a:r>
              <a:rPr b="1" lang="es-E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40458c"/>
                </a:solidFill>
                <a:latin typeface="Tahoma"/>
              </a:rPr>
              <a:t>120</a:t>
            </a:r>
            <a:r>
              <a:rPr b="1" lang="es-E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40458c"/>
                </a:solidFill>
                <a:latin typeface="Tahoma"/>
              </a:rPr>
              <a:t>33.3</a:t>
            </a:r>
            <a:r>
              <a:rPr b="1" lang="es-E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40458c"/>
                </a:solidFill>
                <a:latin typeface="Tahoma"/>
              </a:rPr>
              <a:t>ATA/ATAPI-4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0458c"/>
                </a:solidFill>
                <a:latin typeface="Tahoma"/>
              </a:rPr>
              <a:t>Mode 3</a:t>
            </a:r>
            <a:r>
              <a:rPr b="1" lang="es-E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40458c"/>
                </a:solidFill>
                <a:latin typeface="Tahoma"/>
              </a:rPr>
              <a:t>90</a:t>
            </a:r>
            <a:r>
              <a:rPr b="1" lang="es-E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40458c"/>
                </a:solidFill>
                <a:latin typeface="Tahoma"/>
              </a:rPr>
              <a:t>44.4</a:t>
            </a:r>
            <a:r>
              <a:rPr b="1" lang="es-E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40458c"/>
                </a:solidFill>
                <a:latin typeface="Tahoma"/>
              </a:rPr>
              <a:t>ATA/ATAPI-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0458c"/>
                </a:solidFill>
                <a:latin typeface="Tahoma"/>
              </a:rPr>
              <a:t>Mode 4</a:t>
            </a:r>
            <a:r>
              <a:rPr b="1" lang="es-E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40458c"/>
                </a:solidFill>
                <a:latin typeface="Tahoma"/>
              </a:rPr>
              <a:t>60</a:t>
            </a:r>
            <a:r>
              <a:rPr b="1" lang="es-E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40458c"/>
                </a:solidFill>
                <a:latin typeface="Tahoma"/>
              </a:rPr>
              <a:t>66.7</a:t>
            </a:r>
            <a:r>
              <a:rPr b="1" lang="es-E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40458c"/>
                </a:solidFill>
                <a:latin typeface="Tahoma"/>
              </a:rPr>
              <a:t>ATA/ATAPI-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0458c"/>
                </a:solidFill>
                <a:latin typeface="Tahoma"/>
              </a:rPr>
              <a:t>Mode 5</a:t>
            </a:r>
            <a:r>
              <a:rPr b="1" lang="es-E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40458c"/>
                </a:solidFill>
                <a:latin typeface="Tahoma"/>
              </a:rPr>
              <a:t>40</a:t>
            </a:r>
            <a:r>
              <a:rPr b="1" lang="es-E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40458c"/>
                </a:solidFill>
                <a:latin typeface="Tahoma"/>
              </a:rPr>
              <a:t>100.0</a:t>
            </a:r>
            <a:r>
              <a:rPr b="1" lang="es-E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40458c"/>
                </a:solidFill>
                <a:latin typeface="Tahoma"/>
              </a:rPr>
              <a:t>ATA/ATAPI-6?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0458c"/>
                </a:solidFill>
                <a:latin typeface="Tahoma"/>
              </a:rPr>
              <a:t>Para mode 4 y 5 se requiere el cable de 80 hilos (el viejo de 40 tiene problemas).  Longitud máxima recomendada 18 pulgadas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0458c"/>
                </a:solidFill>
                <a:latin typeface="Tahoma"/>
              </a:rPr>
              <a:t>El dispositivo maestro debe quedar al final del cable y el esclavo en el medio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0458c"/>
                </a:solidFill>
                <a:latin typeface="Tahoma"/>
              </a:rPr>
              <a:t>Maxima Velocidad actual SCSI: 320MB/seg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394920" y="228600"/>
            <a:ext cx="849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TECNOLOGIA DE DISCOS S-ATA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323640" y="838080"/>
            <a:ext cx="8515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Serial ATA= 150MBps. Las nuevas versiones (generaciones) soportarán 300MBps y 600MBp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l cable utiliza 7 hilos que pueden extenderse hasta 1 mt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squema punto a punto que no requiere jumpers para Maestro/Esclav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1 Controlador por dispositivo (disco), mejorando el rendimien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Mejor disipación de calor al usar correa angosta y mayor unmunidad al ruido al usar menores voltaj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394920" y="228600"/>
            <a:ext cx="849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TECNOLOGIA DE DISCOS S-ATA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323640" y="838080"/>
            <a:ext cx="8515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Interface SATA                vs   S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156" name="" descr=""/>
          <p:cNvPicPr/>
          <p:nvPr/>
        </p:nvPicPr>
        <p:blipFill>
          <a:blip r:embed="rId1"/>
          <a:stretch/>
        </p:blipFill>
        <p:spPr>
          <a:xfrm>
            <a:off x="755640" y="3213000"/>
            <a:ext cx="3143160" cy="1685880"/>
          </a:xfrm>
          <a:prstGeom prst="rect">
            <a:avLst/>
          </a:prstGeom>
          <a:ln w="0">
            <a:noFill/>
          </a:ln>
        </p:spPr>
      </p:pic>
      <p:pic>
        <p:nvPicPr>
          <p:cNvPr id="1157" name="" descr=""/>
          <p:cNvPicPr/>
          <p:nvPr/>
        </p:nvPicPr>
        <p:blipFill>
          <a:blip r:embed="rId2"/>
          <a:stretch/>
        </p:blipFill>
        <p:spPr>
          <a:xfrm>
            <a:off x="5292720" y="3500280"/>
            <a:ext cx="3124080" cy="11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RS-232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Creada por EIA en 1969.  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Actual RS-232-E.  Anteriores: RS-232, RS-232C y RS-232D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Ante la CCITT (ITU-T) se conoce como V.24 y V.28 (voltajes). 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Define DTE (Data Terminal Equipment) y DCE (Data Communication Equipment)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Distancia máxima 15 mts, aunque 30m y 100m son posibles.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Velocidad máxima: 20 Kbps aunque opera a 200 Kbp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Interface desbalanceada: Una tierra común para todas las señale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Voltajes: Entre+3V y +25V=0  y entre -3V y -25V =1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Opera de forma sincrónica y asincrónica. 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Sincrónicamente es común con: PPP, SDLC, HDLC, Frame Relay. 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394920" y="228600"/>
            <a:ext cx="849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CONECTORES SCSI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323640" y="838080"/>
            <a:ext cx="8515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Conector de 50 y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68 pin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SCA, SCA2.  80 contacto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160" name="" descr=""/>
          <p:cNvPicPr/>
          <p:nvPr/>
        </p:nvPicPr>
        <p:blipFill>
          <a:blip r:embed="rId1"/>
          <a:stretch/>
        </p:blipFill>
        <p:spPr>
          <a:xfrm>
            <a:off x="395280" y="5084640"/>
            <a:ext cx="8317080" cy="1382760"/>
          </a:xfrm>
          <a:prstGeom prst="rect">
            <a:avLst/>
          </a:prstGeom>
          <a:ln w="0">
            <a:noFill/>
          </a:ln>
        </p:spPr>
      </p:pic>
      <p:pic>
        <p:nvPicPr>
          <p:cNvPr id="1161" name="" descr=""/>
          <p:cNvPicPr/>
          <p:nvPr/>
        </p:nvPicPr>
        <p:blipFill>
          <a:blip r:embed="rId2"/>
          <a:stretch/>
        </p:blipFill>
        <p:spPr>
          <a:xfrm>
            <a:off x="611280" y="2273400"/>
            <a:ext cx="3529080" cy="1044360"/>
          </a:xfrm>
          <a:prstGeom prst="rect">
            <a:avLst/>
          </a:prstGeom>
          <a:ln w="0">
            <a:noFill/>
          </a:ln>
        </p:spPr>
      </p:pic>
      <p:pic>
        <p:nvPicPr>
          <p:cNvPr id="1162" name="" descr=""/>
          <p:cNvPicPr/>
          <p:nvPr/>
        </p:nvPicPr>
        <p:blipFill>
          <a:blip r:embed="rId3"/>
          <a:stretch/>
        </p:blipFill>
        <p:spPr>
          <a:xfrm>
            <a:off x="4859280" y="2276640"/>
            <a:ext cx="3708360" cy="11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94920" y="228600"/>
            <a:ext cx="849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CONECTORES SCSI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323640" y="838080"/>
            <a:ext cx="8515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40458c"/>
                </a:solidFill>
                <a:latin typeface="Tahoma"/>
              </a:rPr>
              <a:t>Very High Density Cable Interconnect (VHDCI).  68 contact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165" name="" descr=""/>
          <p:cNvPicPr/>
          <p:nvPr/>
        </p:nvPicPr>
        <p:blipFill>
          <a:blip r:embed="rId1"/>
          <a:stretch/>
        </p:blipFill>
        <p:spPr>
          <a:xfrm>
            <a:off x="2556000" y="2205000"/>
            <a:ext cx="4680000" cy="14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394920" y="228600"/>
            <a:ext cx="849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TECNOLOGIA DE DISCOS SA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323640" y="838080"/>
            <a:ext cx="8515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Serial Attached SCSI (SAS)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40458c"/>
                </a:solidFill>
                <a:latin typeface="Tahoma"/>
              </a:rPr>
              <a:t>Usa los mismos comandos SCSI pero sobre una interface serial y no paralela.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40458c"/>
                </a:solidFill>
                <a:latin typeface="Tahoma"/>
              </a:rPr>
              <a:t>Los discos operan a 10K o 15K RPM y tamaños de 3.5” y 2.5”.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40458c"/>
                </a:solidFill>
                <a:latin typeface="Tahoma"/>
              </a:rPr>
              <a:t>La velocidad de la interface es de interface 3Gbps. dual ports en modo full duplex.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296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SITIOS DE INTERE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f89f7"/>
                </a:solidFill>
                <a:uFillTx/>
                <a:latin typeface="Tahoma"/>
                <a:hlinkClick r:id="rId1"/>
              </a:rPr>
              <a:t>http://www.cisco.com/en/US/products/hw/routers/ps133/products_tech_note09186a0080174a34.shtm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xplica bien la señal BREAK utilizada para iniciar un router cisco en modo ROM Monitor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296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LECTURAS RECOMENDADA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Arial"/>
              </a:rPr>
              <a:t>Computer Networks. Andrew S. Tanenbaum. Tercera Edic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Arial"/>
              </a:rPr>
              <a:t>Capitulo 2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Arial"/>
              </a:rPr>
              <a:t>Data Networks. Concepts, Theory, and Practice. Uyless Black. Prentice-Hall International, Inc. Capitulo 9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Arial"/>
              </a:rPr>
              <a:t>Comuniciones y redes de Computadores. William Stalings. Quinta Edicion. Capitulo 5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Arial"/>
              </a:rPr>
              <a:t>Sitios en Internet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http://www.sangoma.com/signal.ht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RS-232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228600" y="6094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Definición de las señales en conector DB-25 (Data Bus)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941" name="" descr=""/>
          <p:cNvPicPr/>
          <p:nvPr/>
        </p:nvPicPr>
        <p:blipFill>
          <a:blip r:embed="rId2"/>
          <a:stretch/>
        </p:blipFill>
        <p:spPr>
          <a:xfrm>
            <a:off x="71280" y="1989000"/>
            <a:ext cx="5077080" cy="4224600"/>
          </a:xfrm>
          <a:prstGeom prst="rect">
            <a:avLst/>
          </a:prstGeom>
          <a:ln w="0">
            <a:noFill/>
          </a:ln>
        </p:spPr>
      </p:pic>
      <p:pic>
        <p:nvPicPr>
          <p:cNvPr id="942" name="" descr=""/>
          <p:cNvPicPr/>
          <p:nvPr/>
        </p:nvPicPr>
        <p:blipFill>
          <a:blip r:embed="rId3"/>
          <a:stretch/>
        </p:blipFill>
        <p:spPr>
          <a:xfrm>
            <a:off x="5651640" y="3068640"/>
            <a:ext cx="3492360" cy="3456000"/>
          </a:xfrm>
          <a:prstGeom prst="rect">
            <a:avLst/>
          </a:prstGeom>
          <a:ln w="0">
            <a:noFill/>
          </a:ln>
        </p:spPr>
      </p:pic>
      <p:sp>
        <p:nvSpPr>
          <p:cNvPr id="943" name=""/>
          <p:cNvSpPr/>
          <p:nvPr/>
        </p:nvSpPr>
        <p:spPr>
          <a:xfrm>
            <a:off x="6006600" y="1949400"/>
            <a:ext cx="282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b41c18"/>
                </a:solidFill>
                <a:latin typeface="Tahoma"/>
              </a:rPr>
              <a:t>RS-232 EN DB-9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RS-232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228600" y="5331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Definición de algunas señales en conector DB-9 y DB-25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6" name=""/>
          <p:cNvSpPr/>
          <p:nvPr/>
        </p:nvSpPr>
        <p:spPr>
          <a:xfrm>
            <a:off x="1066680" y="1066680"/>
            <a:ext cx="7010640" cy="55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458c"/>
                </a:solidFill>
                <a:latin typeface="Times New Roman"/>
              </a:rPr>
              <a:t>Function </a:t>
            </a:r>
            <a:r>
              <a:rPr b="1" lang="es-ES_tradnl" sz="20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40458c"/>
                </a:solidFill>
                <a:latin typeface="Times New Roman"/>
              </a:rPr>
              <a:t>Signal </a:t>
            </a:r>
            <a:r>
              <a:rPr b="1" lang="es-ES_tradnl" sz="20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40458c"/>
                </a:solidFill>
                <a:latin typeface="Times New Roman"/>
              </a:rPr>
              <a:t>DB-9 </a:t>
            </a:r>
            <a:r>
              <a:rPr b="1" lang="es-ES_tradnl" sz="20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40458c"/>
                </a:solidFill>
                <a:latin typeface="Times New Roman"/>
              </a:rPr>
              <a:t>DB-25 </a:t>
            </a:r>
            <a:r>
              <a:rPr b="1" lang="es-ES_tradnl" sz="2000" spc="-1" strike="noStrike">
                <a:solidFill>
                  <a:srgbClr val="40458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imes New Roman"/>
              </a:rPr>
              <a:t>Datos </a:t>
            </a:r>
            <a:r>
              <a:rPr b="0" lang="es-ES_tradnl" sz="20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imes New Roman"/>
              </a:rPr>
              <a:t>TxD </a:t>
            </a:r>
            <a:r>
              <a:rPr b="0" lang="es-ES_tradnl" sz="20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imes New Roman"/>
              </a:rPr>
              <a:t>3 </a:t>
            </a:r>
            <a:r>
              <a:rPr b="0" lang="es-ES_tradnl" sz="20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imes New Roman"/>
              </a:rPr>
              <a:t>2 </a:t>
            </a:r>
            <a:r>
              <a:rPr b="0" lang="es-ES_tradnl" sz="2000" spc="-1" strike="noStrike">
                <a:solidFill>
                  <a:srgbClr val="40458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imes New Roman"/>
              </a:rPr>
              <a:t>RxD </a:t>
            </a:r>
            <a:r>
              <a:rPr b="0" lang="es-ES_tradnl" sz="20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imes New Roman"/>
              </a:rPr>
              <a:t>2 </a:t>
            </a:r>
            <a:r>
              <a:rPr b="0" lang="es-ES_tradnl" sz="20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imes New Roman"/>
              </a:rPr>
              <a:t>3 </a:t>
            </a:r>
            <a:r>
              <a:rPr b="0" lang="es-ES_tradnl" sz="2000" spc="-1" strike="noStrike">
                <a:solidFill>
                  <a:srgbClr val="40458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imes New Roman"/>
              </a:rPr>
              <a:t>Control </a:t>
            </a:r>
            <a:r>
              <a:rPr b="0" lang="es-ES_tradnl" sz="20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imes New Roman"/>
              </a:rPr>
              <a:t>DTR </a:t>
            </a:r>
            <a:r>
              <a:rPr b="0" lang="es-ES_tradnl" sz="20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imes New Roman"/>
              </a:rPr>
              <a:t>20 </a:t>
            </a:r>
            <a:r>
              <a:rPr b="0" lang="es-ES_tradnl" sz="2000" spc="-1" strike="noStrike">
                <a:solidFill>
                  <a:srgbClr val="40458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imes New Roman"/>
              </a:rPr>
              <a:t>(Handshake)</a:t>
            </a:r>
            <a:r>
              <a:rPr b="0" lang="es-ES_tradnl" sz="20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imes New Roman"/>
              </a:rPr>
              <a:t>DSR </a:t>
            </a:r>
            <a:r>
              <a:rPr b="0" lang="es-ES_tradnl" sz="20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imes New Roman"/>
              </a:rPr>
              <a:t>6 </a:t>
            </a:r>
            <a:r>
              <a:rPr b="0" lang="es-ES_tradnl" sz="20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imes New Roman"/>
              </a:rPr>
              <a:t>6 </a:t>
            </a:r>
            <a:r>
              <a:rPr b="0" lang="es-ES_tradnl" sz="2000" spc="-1" strike="noStrike">
                <a:solidFill>
                  <a:srgbClr val="40458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imes New Roman"/>
              </a:rPr>
              <a:t>RTS </a:t>
            </a:r>
            <a:r>
              <a:rPr b="0" lang="es-ES_tradnl" sz="20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imes New Roman"/>
              </a:rPr>
              <a:t>7 </a:t>
            </a:r>
            <a:r>
              <a:rPr b="0" lang="es-ES_tradnl" sz="20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imes New Roman"/>
              </a:rPr>
              <a:t>4 </a:t>
            </a:r>
            <a:r>
              <a:rPr b="0" lang="es-ES_tradnl" sz="2000" spc="-1" strike="noStrike">
                <a:solidFill>
                  <a:srgbClr val="40458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imes New Roman"/>
              </a:rPr>
              <a:t>CTS </a:t>
            </a:r>
            <a:r>
              <a:rPr b="0" lang="es-ES_tradnl" sz="20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imes New Roman"/>
              </a:rPr>
              <a:t>8 </a:t>
            </a:r>
            <a:r>
              <a:rPr b="0" lang="es-ES_tradnl" sz="20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imes New Roman"/>
              </a:rPr>
              <a:t>5 </a:t>
            </a:r>
            <a:r>
              <a:rPr b="0" lang="es-ES_tradnl" sz="2000" spc="-1" strike="noStrike">
                <a:solidFill>
                  <a:srgbClr val="40458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imes New Roman"/>
              </a:rPr>
              <a:t>DCD </a:t>
            </a:r>
            <a:r>
              <a:rPr b="0" lang="es-ES_tradnl" sz="20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imes New Roman"/>
              </a:rPr>
              <a:t>1 </a:t>
            </a:r>
            <a:r>
              <a:rPr b="0" lang="es-ES_tradnl" sz="20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imes New Roman"/>
              </a:rPr>
              <a:t>8 </a:t>
            </a:r>
            <a:r>
              <a:rPr b="0" lang="es-ES_tradnl" sz="2000" spc="-1" strike="noStrike">
                <a:solidFill>
                  <a:srgbClr val="40458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imes New Roman"/>
              </a:rPr>
              <a:t>Common </a:t>
            </a:r>
            <a:r>
              <a:rPr b="0" lang="es-ES_tradnl" sz="20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imes New Roman"/>
              </a:rPr>
              <a:t>Com </a:t>
            </a:r>
            <a:r>
              <a:rPr b="0" lang="es-ES_tradnl" sz="20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imes New Roman"/>
              </a:rPr>
              <a:t>5 </a:t>
            </a:r>
            <a:r>
              <a:rPr b="0" lang="es-ES_tradnl" sz="20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imes New Roman"/>
              </a:rPr>
              <a:t>7 </a:t>
            </a:r>
            <a:r>
              <a:rPr b="0" lang="es-ES_tradnl" sz="2000" spc="-1" strike="noStrike">
                <a:solidFill>
                  <a:srgbClr val="40458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imes New Roman"/>
              </a:rPr>
              <a:t>Other </a:t>
            </a:r>
            <a:r>
              <a:rPr b="0" lang="es-ES_tradnl" sz="20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imes New Roman"/>
              </a:rPr>
              <a:t>RI </a:t>
            </a:r>
            <a:r>
              <a:rPr b="0" lang="es-ES_tradnl" sz="20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imes New Roman"/>
              </a:rPr>
              <a:t>9 </a:t>
            </a:r>
            <a:r>
              <a:rPr b="0" lang="es-ES_tradnl" sz="20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imes New Roman"/>
              </a:rPr>
              <a:t>22 </a:t>
            </a:r>
            <a:r>
              <a:rPr b="0" lang="es-ES_tradnl" sz="2000" spc="-1" strike="noStrike">
                <a:solidFill>
                  <a:srgbClr val="40458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RS-232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28600" y="609120"/>
            <a:ext cx="86868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PROCEDIMENTA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DTE ----  D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TR ---&gt;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SR &lt;---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TS---&gt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TS&lt;---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CD&lt;---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JO: Normalmente si no hay DTR no contesta automáticament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9" name=""/>
          <p:cNvSpPr/>
          <p:nvPr/>
        </p:nvSpPr>
        <p:spPr>
          <a:xfrm>
            <a:off x="2133720" y="5334120"/>
            <a:ext cx="596880" cy="574560"/>
          </a:xfrm>
          <a:prstGeom prst="rect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172200" y="5407200"/>
            <a:ext cx="596880" cy="574560"/>
          </a:xfrm>
          <a:prstGeom prst="rect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951" name=""/>
          <p:cNvGrpSpPr/>
          <p:nvPr/>
        </p:nvGrpSpPr>
        <p:grpSpPr>
          <a:xfrm>
            <a:off x="7086600" y="5105520"/>
            <a:ext cx="1206360" cy="720720"/>
            <a:chOff x="7086600" y="5105520"/>
            <a:chExt cx="1206360" cy="720720"/>
          </a:xfrm>
        </p:grpSpPr>
        <p:sp>
          <p:nvSpPr>
            <p:cNvPr id="952" name=""/>
            <p:cNvSpPr/>
            <p:nvPr/>
          </p:nvSpPr>
          <p:spPr>
            <a:xfrm>
              <a:off x="7315200" y="5105520"/>
              <a:ext cx="825480" cy="501480"/>
            </a:xfrm>
            <a:prstGeom prst="rect">
              <a:avLst/>
            </a:prstGeom>
            <a:noFill/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7086600" y="5619960"/>
              <a:ext cx="1206360" cy="206280"/>
            </a:xfrm>
            <a:prstGeom prst="rect">
              <a:avLst/>
            </a:prstGeom>
            <a:noFill/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954" name=""/>
          <p:cNvSpPr/>
          <p:nvPr/>
        </p:nvSpPr>
        <p:spPr>
          <a:xfrm>
            <a:off x="1371600" y="5638680"/>
            <a:ext cx="76212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955" name=""/>
          <p:cNvGrpSpPr/>
          <p:nvPr/>
        </p:nvGrpSpPr>
        <p:grpSpPr>
          <a:xfrm>
            <a:off x="228600" y="5105520"/>
            <a:ext cx="1206360" cy="720720"/>
            <a:chOff x="228600" y="5105520"/>
            <a:chExt cx="1206360" cy="720720"/>
          </a:xfrm>
        </p:grpSpPr>
        <p:sp>
          <p:nvSpPr>
            <p:cNvPr id="956" name=""/>
            <p:cNvSpPr/>
            <p:nvPr/>
          </p:nvSpPr>
          <p:spPr>
            <a:xfrm>
              <a:off x="457200" y="5105520"/>
              <a:ext cx="825480" cy="500040"/>
            </a:xfrm>
            <a:prstGeom prst="rect">
              <a:avLst/>
            </a:prstGeom>
            <a:noFill/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28600" y="5618160"/>
              <a:ext cx="1206360" cy="208080"/>
            </a:xfrm>
            <a:prstGeom prst="rect">
              <a:avLst/>
            </a:prstGeom>
            <a:noFill/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958" name=""/>
          <p:cNvSpPr/>
          <p:nvPr/>
        </p:nvSpPr>
        <p:spPr>
          <a:xfrm>
            <a:off x="6775560" y="5694480"/>
            <a:ext cx="22860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035080" y="4818240"/>
            <a:ext cx="722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imes New Roman"/>
              </a:rPr>
              <a:t>DC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073560" y="4818240"/>
            <a:ext cx="722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imes New Roman"/>
              </a:rPr>
              <a:t>DC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09480" y="4495680"/>
            <a:ext cx="654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imes New Roman"/>
              </a:rPr>
              <a:t>DT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7369200" y="4513320"/>
            <a:ext cx="654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imes New Roman"/>
              </a:rPr>
              <a:t>DT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963" name=""/>
          <p:cNvGrpSpPr/>
          <p:nvPr/>
        </p:nvGrpSpPr>
        <p:grpSpPr>
          <a:xfrm>
            <a:off x="3200400" y="4876920"/>
            <a:ext cx="2361600" cy="1522800"/>
            <a:chOff x="3200400" y="4876920"/>
            <a:chExt cx="2361600" cy="1522800"/>
          </a:xfrm>
        </p:grpSpPr>
        <p:sp>
          <p:nvSpPr>
            <p:cNvPr id="964" name=""/>
            <p:cNvSpPr/>
            <p:nvPr/>
          </p:nvSpPr>
          <p:spPr>
            <a:xfrm>
              <a:off x="3200400" y="4876920"/>
              <a:ext cx="2361600" cy="1522800"/>
            </a:xfrm>
            <a:custGeom>
              <a:avLst/>
              <a:gdLst/>
              <a:ahLst/>
              <a:rect l="l" t="t" r="r" b="b"/>
              <a:pathLst>
                <a:path w="656" h="318">
                  <a:moveTo>
                    <a:pt x="302" y="42"/>
                  </a:moveTo>
                  <a:lnTo>
                    <a:pt x="287" y="39"/>
                  </a:lnTo>
                  <a:lnTo>
                    <a:pt x="266" y="35"/>
                  </a:lnTo>
                  <a:lnTo>
                    <a:pt x="249" y="34"/>
                  </a:lnTo>
                  <a:lnTo>
                    <a:pt x="230" y="36"/>
                  </a:lnTo>
                  <a:lnTo>
                    <a:pt x="217" y="37"/>
                  </a:lnTo>
                  <a:lnTo>
                    <a:pt x="204" y="40"/>
                  </a:lnTo>
                  <a:lnTo>
                    <a:pt x="189" y="45"/>
                  </a:lnTo>
                  <a:lnTo>
                    <a:pt x="176" y="50"/>
                  </a:lnTo>
                  <a:lnTo>
                    <a:pt x="162" y="58"/>
                  </a:lnTo>
                  <a:lnTo>
                    <a:pt x="148" y="68"/>
                  </a:lnTo>
                  <a:lnTo>
                    <a:pt x="138" y="77"/>
                  </a:lnTo>
                  <a:lnTo>
                    <a:pt x="132" y="86"/>
                  </a:lnTo>
                  <a:lnTo>
                    <a:pt x="127" y="95"/>
                  </a:lnTo>
                  <a:lnTo>
                    <a:pt x="123" y="107"/>
                  </a:lnTo>
                  <a:lnTo>
                    <a:pt x="111" y="104"/>
                  </a:lnTo>
                  <a:lnTo>
                    <a:pt x="97" y="103"/>
                  </a:lnTo>
                  <a:lnTo>
                    <a:pt x="85" y="103"/>
                  </a:lnTo>
                  <a:lnTo>
                    <a:pt x="72" y="105"/>
                  </a:lnTo>
                  <a:lnTo>
                    <a:pt x="60" y="109"/>
                  </a:lnTo>
                  <a:lnTo>
                    <a:pt x="49" y="113"/>
                  </a:lnTo>
                  <a:lnTo>
                    <a:pt x="37" y="120"/>
                  </a:lnTo>
                  <a:lnTo>
                    <a:pt x="30" y="127"/>
                  </a:lnTo>
                  <a:lnTo>
                    <a:pt x="22" y="134"/>
                  </a:lnTo>
                  <a:lnTo>
                    <a:pt x="15" y="142"/>
                  </a:lnTo>
                  <a:lnTo>
                    <a:pt x="9" y="154"/>
                  </a:lnTo>
                  <a:lnTo>
                    <a:pt x="4" y="164"/>
                  </a:lnTo>
                  <a:lnTo>
                    <a:pt x="2" y="175"/>
                  </a:lnTo>
                  <a:lnTo>
                    <a:pt x="1" y="184"/>
                  </a:lnTo>
                  <a:lnTo>
                    <a:pt x="0" y="192"/>
                  </a:lnTo>
                  <a:lnTo>
                    <a:pt x="1" y="203"/>
                  </a:lnTo>
                  <a:lnTo>
                    <a:pt x="2" y="212"/>
                  </a:lnTo>
                  <a:lnTo>
                    <a:pt x="5" y="221"/>
                  </a:lnTo>
                  <a:lnTo>
                    <a:pt x="9" y="230"/>
                  </a:lnTo>
                  <a:lnTo>
                    <a:pt x="15" y="241"/>
                  </a:lnTo>
                  <a:lnTo>
                    <a:pt x="22" y="250"/>
                  </a:lnTo>
                  <a:lnTo>
                    <a:pt x="30" y="258"/>
                  </a:lnTo>
                  <a:lnTo>
                    <a:pt x="41" y="266"/>
                  </a:lnTo>
                  <a:lnTo>
                    <a:pt x="52" y="272"/>
                  </a:lnTo>
                  <a:lnTo>
                    <a:pt x="61" y="276"/>
                  </a:lnTo>
                  <a:lnTo>
                    <a:pt x="70" y="278"/>
                  </a:lnTo>
                  <a:lnTo>
                    <a:pt x="81" y="281"/>
                  </a:lnTo>
                  <a:lnTo>
                    <a:pt x="93" y="281"/>
                  </a:lnTo>
                  <a:lnTo>
                    <a:pt x="104" y="281"/>
                  </a:lnTo>
                  <a:lnTo>
                    <a:pt x="116" y="279"/>
                  </a:lnTo>
                  <a:lnTo>
                    <a:pt x="125" y="277"/>
                  </a:lnTo>
                  <a:lnTo>
                    <a:pt x="131" y="275"/>
                  </a:lnTo>
                  <a:lnTo>
                    <a:pt x="137" y="282"/>
                  </a:lnTo>
                  <a:lnTo>
                    <a:pt x="146" y="288"/>
                  </a:lnTo>
                  <a:lnTo>
                    <a:pt x="156" y="293"/>
                  </a:lnTo>
                  <a:lnTo>
                    <a:pt x="167" y="299"/>
                  </a:lnTo>
                  <a:lnTo>
                    <a:pt x="180" y="305"/>
                  </a:lnTo>
                  <a:lnTo>
                    <a:pt x="195" y="309"/>
                  </a:lnTo>
                  <a:lnTo>
                    <a:pt x="212" y="313"/>
                  </a:lnTo>
                  <a:lnTo>
                    <a:pt x="227" y="315"/>
                  </a:lnTo>
                  <a:lnTo>
                    <a:pt x="244" y="317"/>
                  </a:lnTo>
                  <a:lnTo>
                    <a:pt x="257" y="317"/>
                  </a:lnTo>
                  <a:lnTo>
                    <a:pt x="270" y="317"/>
                  </a:lnTo>
                  <a:lnTo>
                    <a:pt x="289" y="315"/>
                  </a:lnTo>
                  <a:lnTo>
                    <a:pt x="306" y="312"/>
                  </a:lnTo>
                  <a:lnTo>
                    <a:pt x="319" y="310"/>
                  </a:lnTo>
                  <a:lnTo>
                    <a:pt x="334" y="305"/>
                  </a:lnTo>
                  <a:lnTo>
                    <a:pt x="350" y="299"/>
                  </a:lnTo>
                  <a:lnTo>
                    <a:pt x="359" y="295"/>
                  </a:lnTo>
                  <a:lnTo>
                    <a:pt x="366" y="289"/>
                  </a:lnTo>
                  <a:lnTo>
                    <a:pt x="375" y="293"/>
                  </a:lnTo>
                  <a:lnTo>
                    <a:pt x="386" y="297"/>
                  </a:lnTo>
                  <a:lnTo>
                    <a:pt x="397" y="300"/>
                  </a:lnTo>
                  <a:lnTo>
                    <a:pt x="407" y="302"/>
                  </a:lnTo>
                  <a:lnTo>
                    <a:pt x="418" y="303"/>
                  </a:lnTo>
                  <a:lnTo>
                    <a:pt x="429" y="303"/>
                  </a:lnTo>
                  <a:lnTo>
                    <a:pt x="442" y="302"/>
                  </a:lnTo>
                  <a:lnTo>
                    <a:pt x="455" y="298"/>
                  </a:lnTo>
                  <a:lnTo>
                    <a:pt x="467" y="295"/>
                  </a:lnTo>
                  <a:lnTo>
                    <a:pt x="478" y="289"/>
                  </a:lnTo>
                  <a:lnTo>
                    <a:pt x="489" y="283"/>
                  </a:lnTo>
                  <a:lnTo>
                    <a:pt x="504" y="288"/>
                  </a:lnTo>
                  <a:lnTo>
                    <a:pt x="517" y="290"/>
                  </a:lnTo>
                  <a:lnTo>
                    <a:pt x="529" y="292"/>
                  </a:lnTo>
                  <a:lnTo>
                    <a:pt x="546" y="292"/>
                  </a:lnTo>
                  <a:lnTo>
                    <a:pt x="563" y="290"/>
                  </a:lnTo>
                  <a:lnTo>
                    <a:pt x="584" y="284"/>
                  </a:lnTo>
                  <a:lnTo>
                    <a:pt x="601" y="276"/>
                  </a:lnTo>
                  <a:lnTo>
                    <a:pt x="616" y="265"/>
                  </a:lnTo>
                  <a:lnTo>
                    <a:pt x="630" y="252"/>
                  </a:lnTo>
                  <a:lnTo>
                    <a:pt x="638" y="242"/>
                  </a:lnTo>
                  <a:lnTo>
                    <a:pt x="644" y="231"/>
                  </a:lnTo>
                  <a:lnTo>
                    <a:pt x="650" y="217"/>
                  </a:lnTo>
                  <a:lnTo>
                    <a:pt x="653" y="204"/>
                  </a:lnTo>
                  <a:lnTo>
                    <a:pt x="655" y="189"/>
                  </a:lnTo>
                  <a:lnTo>
                    <a:pt x="654" y="178"/>
                  </a:lnTo>
                  <a:lnTo>
                    <a:pt x="651" y="164"/>
                  </a:lnTo>
                  <a:lnTo>
                    <a:pt x="646" y="151"/>
                  </a:lnTo>
                  <a:lnTo>
                    <a:pt x="638" y="139"/>
                  </a:lnTo>
                  <a:lnTo>
                    <a:pt x="630" y="127"/>
                  </a:lnTo>
                  <a:lnTo>
                    <a:pt x="619" y="117"/>
                  </a:lnTo>
                  <a:lnTo>
                    <a:pt x="609" y="109"/>
                  </a:lnTo>
                  <a:lnTo>
                    <a:pt x="599" y="103"/>
                  </a:lnTo>
                  <a:lnTo>
                    <a:pt x="585" y="96"/>
                  </a:lnTo>
                  <a:lnTo>
                    <a:pt x="572" y="91"/>
                  </a:lnTo>
                  <a:lnTo>
                    <a:pt x="560" y="89"/>
                  </a:lnTo>
                  <a:lnTo>
                    <a:pt x="548" y="88"/>
                  </a:lnTo>
                  <a:lnTo>
                    <a:pt x="546" y="79"/>
                  </a:lnTo>
                  <a:lnTo>
                    <a:pt x="541" y="69"/>
                  </a:lnTo>
                  <a:lnTo>
                    <a:pt x="536" y="61"/>
                  </a:lnTo>
                  <a:lnTo>
                    <a:pt x="530" y="51"/>
                  </a:lnTo>
                  <a:lnTo>
                    <a:pt x="522" y="42"/>
                  </a:lnTo>
                  <a:lnTo>
                    <a:pt x="511" y="33"/>
                  </a:lnTo>
                  <a:lnTo>
                    <a:pt x="501" y="25"/>
                  </a:lnTo>
                  <a:lnTo>
                    <a:pt x="489" y="19"/>
                  </a:lnTo>
                  <a:lnTo>
                    <a:pt x="474" y="11"/>
                  </a:lnTo>
                  <a:lnTo>
                    <a:pt x="460" y="7"/>
                  </a:lnTo>
                  <a:lnTo>
                    <a:pt x="445" y="3"/>
                  </a:lnTo>
                  <a:lnTo>
                    <a:pt x="430" y="1"/>
                  </a:lnTo>
                  <a:lnTo>
                    <a:pt x="415" y="0"/>
                  </a:lnTo>
                  <a:lnTo>
                    <a:pt x="398" y="0"/>
                  </a:lnTo>
                  <a:lnTo>
                    <a:pt x="383" y="2"/>
                  </a:lnTo>
                  <a:lnTo>
                    <a:pt x="365" y="6"/>
                  </a:lnTo>
                  <a:lnTo>
                    <a:pt x="347" y="13"/>
                  </a:lnTo>
                  <a:lnTo>
                    <a:pt x="334" y="19"/>
                  </a:lnTo>
                  <a:lnTo>
                    <a:pt x="322" y="26"/>
                  </a:lnTo>
                  <a:lnTo>
                    <a:pt x="312" y="34"/>
                  </a:lnTo>
                  <a:lnTo>
                    <a:pt x="302" y="42"/>
                  </a:lnTo>
                </a:path>
              </a:pathLst>
            </a:custGeom>
            <a:solidFill>
              <a:srgbClr val="4080ff"/>
            </a:solidFill>
            <a:ln cap="rnd" w="50760">
              <a:solidFill>
                <a:srgbClr val="c0e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643560" y="4953960"/>
              <a:ext cx="1463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40458c"/>
                  </a:solidFill>
                  <a:latin typeface="Times New Roman"/>
                </a:rPr>
                <a:t>PSTN </a:t>
              </a:r>
              <a:endParaRPr b="0" lang="en-US" sz="3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966" name=""/>
          <p:cNvSpPr/>
          <p:nvPr/>
        </p:nvSpPr>
        <p:spPr>
          <a:xfrm>
            <a:off x="2743200" y="5715000"/>
            <a:ext cx="45720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5562720" y="5715000"/>
            <a:ext cx="60948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8T17:13:31Z</dcterms:created>
  <dc:creator>JUAN CARLOS RESTREPO</dc:creator>
  <dc:description/>
  <dc:language>en-US</dc:language>
  <cp:lastModifiedBy>juanrest</cp:lastModifiedBy>
  <dcterms:modified xsi:type="dcterms:W3CDTF">2007-06-04T22:15:21Z</dcterms:modified>
  <cp:revision>449</cp:revision>
  <dc:subject/>
  <dc:title>INTERFACES</dc:title>
</cp:coreProperties>
</file>