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FF2-3602-45EA-BAF3-B35E7788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A02-F26F-45A1-9A1D-FD86137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B1B-9D93-4899-854A-4ECF00DB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913-3D3B-4926-BBED-A94EB420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7C4-676B-4B97-BAF8-814DC41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D9E-44F4-4674-8432-51D6701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2FC-BF07-41A0-89B9-2DEEDAA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3B1-0A3B-4F38-8C53-DF5831D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A55-EEE7-483E-93C2-16F308B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659-F687-47B8-A764-89D9E81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D47-BA4B-44E7-8B5A-6F3DBD8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662-4466-44D8-93B1-5D36479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DF69-8485-4913-8035-C2ACC72AD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ww.rhyshaden.com/frame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: Noviembre -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: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ellín - 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5410080"/>
            <a:ext cx="24382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NEXION AL PUERTO ADEMAS DE SU INTERFACE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POR SU CAPACIDAD / VELO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VELOCIDAD FISICA DEL PUERTO DETERMINA A QUE TASA MÁXIMO PUEDO INYECTAR TRAFICO  A LA NUBE (RED) FRAME RE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PORTA VELOCIDADES ENTR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KBPS Y 50MB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STATISTICAL MULTIPLEXING (STD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UEDE UTILIZAR CUALQUIER NIVEL FISICO QUE SIRVA PARA LLEVAR LAS TRAMAS FRAME RE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TRO DE LAS INTERFACES MAS UTILIZADAS ESTAN RS-232, V.35 Y X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LEGAR AL PUERTO FRAME RELAY DEL PROVEEDOR SE PUEDEN UTILIZAR BANDA BASES (CSU/DSU), RADIOS, RDSI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IVEL FI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609200" y="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QUEMAS DE ACCESO A LA N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71640" y="1371600"/>
            <a:ext cx="4010040" cy="32814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11280" y="2349360"/>
            <a:ext cx="431280" cy="358200"/>
            <a:chOff x="1511280" y="2349360"/>
            <a:chExt cx="431280" cy="358200"/>
          </a:xfrm>
        </p:grpSpPr>
        <p:grpSp>
          <p:nvGrpSpPr>
            <p:cNvPr id="413" name=""/>
            <p:cNvGrpSpPr/>
            <p:nvPr/>
          </p:nvGrpSpPr>
          <p:grpSpPr>
            <a:xfrm>
              <a:off x="1511280" y="2349360"/>
              <a:ext cx="431280" cy="358200"/>
              <a:chOff x="1511280" y="2349360"/>
              <a:chExt cx="431280" cy="358200"/>
            </a:xfrm>
          </p:grpSpPr>
          <p:sp>
            <p:nvSpPr>
              <p:cNvPr id="414" name=""/>
              <p:cNvSpPr/>
              <p:nvPr/>
            </p:nvSpPr>
            <p:spPr>
              <a:xfrm>
                <a:off x="1527480" y="2353680"/>
                <a:ext cx="235440" cy="246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56280" y="2509200"/>
                <a:ext cx="20808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1511280" y="2513520"/>
                <a:ext cx="245880" cy="193320"/>
                <a:chOff x="1511280" y="2513520"/>
                <a:chExt cx="245880" cy="1933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40080" y="2551320"/>
                  <a:ext cx="20988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536480" y="2566440"/>
                  <a:ext cx="19368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11280" y="2513520"/>
                  <a:ext cx="428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15760" y="2621520"/>
                  <a:ext cx="4140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730520" y="2432520"/>
                <a:ext cx="212040" cy="2750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65280" y="2359800"/>
                <a:ext cx="357120" cy="2494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741320" y="2428200"/>
                <a:ext cx="20124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38280" y="2349360"/>
                <a:ext cx="22428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561680" y="2560680"/>
              <a:ext cx="151560" cy="87840"/>
              <a:chOff x="1561680" y="2560680"/>
              <a:chExt cx="151560" cy="878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561680" y="2560680"/>
                <a:ext cx="4680" cy="7560"/>
                <a:chOff x="1561680" y="2560680"/>
                <a:chExt cx="4680" cy="75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561680" y="2564280"/>
                  <a:ext cx="468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561680" y="2560680"/>
                  <a:ext cx="468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599480" y="2577240"/>
                <a:ext cx="113760" cy="71280"/>
                <a:chOff x="1599480" y="2577240"/>
                <a:chExt cx="113760" cy="71280"/>
              </a:xfrm>
            </p:grpSpPr>
            <p:grpSp>
              <p:nvGrpSpPr>
                <p:cNvPr id="430" name=""/>
                <p:cNvGrpSpPr/>
                <p:nvPr/>
              </p:nvGrpSpPr>
              <p:grpSpPr>
                <a:xfrm>
                  <a:off x="1599480" y="2583360"/>
                  <a:ext cx="113760" cy="65160"/>
                  <a:chOff x="1599480" y="2583360"/>
                  <a:chExt cx="113760" cy="6516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1692000" y="2631960"/>
                    <a:ext cx="360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617120" y="2593800"/>
                    <a:ext cx="68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1654200" y="261288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672200" y="2623320"/>
                    <a:ext cx="540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634760" y="260244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599480" y="2583360"/>
                    <a:ext cx="50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706040" y="2642400"/>
                    <a:ext cx="72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1599480" y="2577240"/>
                  <a:ext cx="113400" cy="68760"/>
                  <a:chOff x="1599480" y="2577240"/>
                  <a:chExt cx="113400" cy="68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617120" y="2587680"/>
                    <a:ext cx="95760" cy="58320"/>
                    <a:chOff x="1617120" y="2587680"/>
                    <a:chExt cx="95760" cy="58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1707840" y="2638080"/>
                      <a:ext cx="50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1634760" y="2595960"/>
                      <a:ext cx="684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1671840" y="261720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1689480" y="262764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1652400" y="260640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1617120" y="258768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1599480" y="2577240"/>
                    <a:ext cx="504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47" name=""/>
          <p:cNvSpPr/>
          <p:nvPr/>
        </p:nvSpPr>
        <p:spPr>
          <a:xfrm>
            <a:off x="1116000" y="2492280"/>
            <a:ext cx="5698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4000" y="1413000"/>
            <a:ext cx="1752120" cy="609480"/>
            <a:chOff x="324000" y="1413000"/>
            <a:chExt cx="1752120" cy="60948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933480" y="141300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3"/>
            <a:stretch/>
          </p:blipFill>
          <p:spPr>
            <a:xfrm>
              <a:off x="1542960" y="14130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99960" y="2022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2240" y="187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2080" y="187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1560" y="187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857160" y="202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7164360" y="1268280"/>
            <a:ext cx="1752120" cy="609480"/>
            <a:chOff x="7164360" y="1268280"/>
            <a:chExt cx="1752120" cy="609480"/>
          </a:xfrm>
        </p:grpSpPr>
        <p:pic>
          <p:nvPicPr>
            <p:cNvPr id="458" name="" descr=""/>
            <p:cNvPicPr/>
            <p:nvPr/>
          </p:nvPicPr>
          <p:blipFill>
            <a:blip r:embed="rId4"/>
            <a:stretch/>
          </p:blipFill>
          <p:spPr>
            <a:xfrm>
              <a:off x="7164360" y="1268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5"/>
            <a:stretch/>
          </p:blipFill>
          <p:spPr>
            <a:xfrm>
              <a:off x="7773840" y="1268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6"/>
            <a:stretch/>
          </p:blipFill>
          <p:spPr>
            <a:xfrm>
              <a:off x="8383320" y="1268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240320" y="1877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2600" y="1725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02440" y="1725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11920" y="1725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8231040" y="187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0440" y="941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4360" y="887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6160" y="198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08360" y="1844640"/>
            <a:ext cx="431640" cy="792360"/>
            <a:chOff x="3708360" y="1844640"/>
            <a:chExt cx="431640" cy="792360"/>
          </a:xfrm>
        </p:grpSpPr>
        <p:sp>
          <p:nvSpPr>
            <p:cNvPr id="471" name=""/>
            <p:cNvSpPr/>
            <p:nvPr/>
          </p:nvSpPr>
          <p:spPr>
            <a:xfrm>
              <a:off x="4086720" y="1844640"/>
              <a:ext cx="53280" cy="79236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08360" y="1919160"/>
              <a:ext cx="379800" cy="7142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41480" y="1957680"/>
              <a:ext cx="3135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6080" y="2446200"/>
              <a:ext cx="9900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49480" y="2446200"/>
              <a:ext cx="9756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61080" y="2446200"/>
              <a:ext cx="9900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5012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820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628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3508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6316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9124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896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4704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476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0428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2360" y="207180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74600" y="2502360"/>
              <a:ext cx="3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89800" y="25023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89160" y="25023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09800" y="1853640"/>
              <a:ext cx="422640" cy="594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3860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6668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9476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2392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5200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7972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0780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3588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6360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9276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0840" y="207180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724360" y="2205000"/>
            <a:ext cx="502920" cy="863280"/>
            <a:chOff x="5724360" y="2205000"/>
            <a:chExt cx="502920" cy="863280"/>
          </a:xfrm>
        </p:grpSpPr>
        <p:sp>
          <p:nvSpPr>
            <p:cNvPr id="504" name=""/>
            <p:cNvSpPr/>
            <p:nvPr/>
          </p:nvSpPr>
          <p:spPr>
            <a:xfrm>
              <a:off x="6165000" y="2205000"/>
              <a:ext cx="62280" cy="863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2286360"/>
              <a:ext cx="442440" cy="778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62880" y="2328120"/>
              <a:ext cx="365040" cy="39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56760" y="2860560"/>
              <a:ext cx="11520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88520" y="2860560"/>
              <a:ext cx="11340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18840" y="2860560"/>
              <a:ext cx="11520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733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057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381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23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047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712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6988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228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3504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6924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01640" y="245268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01400" y="2922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36040" y="292212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1240" y="292212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25800" y="2215080"/>
              <a:ext cx="492480" cy="648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5964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9240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480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5900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9176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2416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5656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8932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2172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5556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88320" y="245268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780000" y="3716280"/>
            <a:ext cx="502560" cy="792360"/>
            <a:chOff x="3780000" y="3716280"/>
            <a:chExt cx="502560" cy="792360"/>
          </a:xfrm>
        </p:grpSpPr>
        <p:sp>
          <p:nvSpPr>
            <p:cNvPr id="537" name=""/>
            <p:cNvSpPr/>
            <p:nvPr/>
          </p:nvSpPr>
          <p:spPr>
            <a:xfrm>
              <a:off x="4220280" y="3716280"/>
              <a:ext cx="62280" cy="79236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0000" y="3790800"/>
              <a:ext cx="442080" cy="7142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18520" y="3829320"/>
              <a:ext cx="36504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12400" y="4317840"/>
              <a:ext cx="11520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44160" y="4317840"/>
              <a:ext cx="11340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74120" y="4317840"/>
              <a:ext cx="115200" cy="171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2860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6136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376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2760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6036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9276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2516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5792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9032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452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56920" y="3943440"/>
              <a:ext cx="0" cy="306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7040" y="4374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91320" y="437400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06880" y="4374000"/>
              <a:ext cx="3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81440" y="3725280"/>
              <a:ext cx="492120" cy="594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528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4804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044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1464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4704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7980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1220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4460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7736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1120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43600" y="3943440"/>
              <a:ext cx="0" cy="30672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203640" y="1989000"/>
            <a:ext cx="392760" cy="431280"/>
            <a:chOff x="3203640" y="1989000"/>
            <a:chExt cx="392760" cy="431280"/>
          </a:xfrm>
        </p:grpSpPr>
        <p:grpSp>
          <p:nvGrpSpPr>
            <p:cNvPr id="570" name=""/>
            <p:cNvGrpSpPr/>
            <p:nvPr/>
          </p:nvGrpSpPr>
          <p:grpSpPr>
            <a:xfrm>
              <a:off x="3203640" y="1989000"/>
              <a:ext cx="392760" cy="431280"/>
              <a:chOff x="3203640" y="1989000"/>
              <a:chExt cx="392760" cy="4312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18400" y="1994040"/>
                <a:ext cx="214200" cy="2973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44680" y="2181600"/>
                <a:ext cx="189360" cy="17676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3203640" y="2186640"/>
                <a:ext cx="223920" cy="232560"/>
                <a:chOff x="3203640" y="2186640"/>
                <a:chExt cx="223920" cy="232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3229920" y="2232360"/>
                  <a:ext cx="191160" cy="14328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26320" y="2250360"/>
                  <a:ext cx="176400" cy="153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03640" y="2186640"/>
                  <a:ext cx="39240" cy="1044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89760" y="2316600"/>
                  <a:ext cx="37800" cy="10260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403080" y="2089080"/>
                <a:ext cx="193320" cy="33120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52960" y="2001600"/>
                <a:ext cx="325440" cy="30024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13160" y="2083680"/>
                <a:ext cx="183240" cy="2437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28480" y="1989000"/>
                <a:ext cx="204480" cy="2077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3249360" y="2243520"/>
              <a:ext cx="138240" cy="105480"/>
              <a:chOff x="3249360" y="2243520"/>
              <a:chExt cx="138240" cy="10548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3249360" y="2243520"/>
                <a:ext cx="4680" cy="9360"/>
                <a:chOff x="3249360" y="2243520"/>
                <a:chExt cx="4680" cy="93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249360" y="2247840"/>
                  <a:ext cx="468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49360" y="2243520"/>
                  <a:ext cx="468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283560" y="2263680"/>
                <a:ext cx="104040" cy="85320"/>
                <a:chOff x="3283560" y="2263680"/>
                <a:chExt cx="104040" cy="8532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3283560" y="2270880"/>
                  <a:ext cx="104040" cy="78120"/>
                  <a:chOff x="3283560" y="2270880"/>
                  <a:chExt cx="104040" cy="781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3368160" y="2329200"/>
                    <a:ext cx="3240" cy="9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3299760" y="2283480"/>
                    <a:ext cx="6120" cy="7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33600" y="2306160"/>
                    <a:ext cx="4680" cy="9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3350160" y="23187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315960" y="2293560"/>
                    <a:ext cx="4680" cy="9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283560" y="2270880"/>
                    <a:ext cx="468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381120" y="2341800"/>
                    <a:ext cx="6480" cy="7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3283560" y="2263680"/>
                  <a:ext cx="103680" cy="82800"/>
                  <a:chOff x="3283560" y="2263680"/>
                  <a:chExt cx="103680" cy="82800"/>
                </a:xfrm>
              </p:grpSpPr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3299760" y="2276280"/>
                    <a:ext cx="87480" cy="70200"/>
                    <a:chOff x="3299760" y="2276280"/>
                    <a:chExt cx="87480" cy="7020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382560" y="2336760"/>
                      <a:ext cx="4680" cy="9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3315960" y="2286360"/>
                      <a:ext cx="6120" cy="122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3349800" y="2311560"/>
                      <a:ext cx="5040" cy="9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3366000" y="2324160"/>
                      <a:ext cx="5040" cy="9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332160" y="2298960"/>
                      <a:ext cx="6120" cy="9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3299760" y="2276280"/>
                      <a:ext cx="61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3" name=""/>
                  <p:cNvSpPr/>
                  <p:nvPr/>
                </p:nvSpPr>
                <p:spPr>
                  <a:xfrm>
                    <a:off x="3283560" y="2263680"/>
                    <a:ext cx="4680" cy="10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04" name=""/>
          <p:cNvSpPr/>
          <p:nvPr/>
        </p:nvSpPr>
        <p:spPr>
          <a:xfrm flipV="1">
            <a:off x="1908000" y="2205000"/>
            <a:ext cx="115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11280" y="2781360"/>
            <a:ext cx="104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B Y P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SU/D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40720" y="2924280"/>
            <a:ext cx="358200" cy="358560"/>
            <a:chOff x="7740720" y="2924280"/>
            <a:chExt cx="358200" cy="358560"/>
          </a:xfrm>
        </p:grpSpPr>
        <p:sp>
          <p:nvSpPr>
            <p:cNvPr id="607" name=""/>
            <p:cNvSpPr/>
            <p:nvPr/>
          </p:nvSpPr>
          <p:spPr>
            <a:xfrm flipH="1">
              <a:off x="7891200" y="2984040"/>
              <a:ext cx="12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962120" y="2986920"/>
              <a:ext cx="19440" cy="83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86440" y="2924280"/>
              <a:ext cx="129240" cy="117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89680" y="2924280"/>
              <a:ext cx="93600" cy="118800"/>
            </a:xfrm>
            <a:prstGeom prst="ellipse">
              <a:avLst/>
            </a:prstGeom>
            <a:gradFill rotWithShape="0">
              <a:gsLst>
                <a:gs pos="0">
                  <a:srgbClr val="00004b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740720" y="298404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861320" y="3074400"/>
              <a:ext cx="109800" cy="20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86960" y="3095640"/>
              <a:ext cx="7632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925040" y="31752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877880" y="3175200"/>
              <a:ext cx="137160" cy="10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 flipV="1">
              <a:off x="7909560" y="3173760"/>
              <a:ext cx="15984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918200" y="3117240"/>
              <a:ext cx="7092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7938000" y="3119760"/>
              <a:ext cx="8280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43400" y="3121560"/>
              <a:ext cx="3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40080" y="3280320"/>
              <a:ext cx="1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80560" y="3282840"/>
              <a:ext cx="1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8172360" y="2924280"/>
            <a:ext cx="431280" cy="357480"/>
            <a:chOff x="8172360" y="2924280"/>
            <a:chExt cx="431280" cy="357480"/>
          </a:xfrm>
        </p:grpSpPr>
        <p:grpSp>
          <p:nvGrpSpPr>
            <p:cNvPr id="623" name=""/>
            <p:cNvGrpSpPr/>
            <p:nvPr/>
          </p:nvGrpSpPr>
          <p:grpSpPr>
            <a:xfrm>
              <a:off x="8172360" y="2924280"/>
              <a:ext cx="431280" cy="357480"/>
              <a:chOff x="8172360" y="2924280"/>
              <a:chExt cx="431280" cy="357480"/>
            </a:xfrm>
          </p:grpSpPr>
          <p:sp>
            <p:nvSpPr>
              <p:cNvPr id="624" name=""/>
              <p:cNvSpPr/>
              <p:nvPr/>
            </p:nvSpPr>
            <p:spPr>
              <a:xfrm>
                <a:off x="8188560" y="29286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217360" y="3084120"/>
                <a:ext cx="20808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8172360" y="3088440"/>
                <a:ext cx="245880" cy="193320"/>
                <a:chOff x="8172360" y="3088440"/>
                <a:chExt cx="245880" cy="1933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201160" y="3126240"/>
                  <a:ext cx="20988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197560" y="3141360"/>
                  <a:ext cx="19368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72360" y="3088440"/>
                  <a:ext cx="428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376840" y="3196440"/>
                  <a:ext cx="4140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8391600" y="3007080"/>
                <a:ext cx="212040" cy="2746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26360" y="2934720"/>
                <a:ext cx="357120" cy="2491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02400" y="3002760"/>
                <a:ext cx="20124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199360" y="2924280"/>
                <a:ext cx="22428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8222760" y="3135600"/>
              <a:ext cx="151560" cy="87840"/>
              <a:chOff x="8222760" y="3135600"/>
              <a:chExt cx="151560" cy="878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8222760" y="3135600"/>
                <a:ext cx="4680" cy="7560"/>
                <a:chOff x="8222760" y="3135600"/>
                <a:chExt cx="4680" cy="75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8222760" y="3139200"/>
                  <a:ext cx="468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222760" y="3135600"/>
                  <a:ext cx="468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8260560" y="3152160"/>
                <a:ext cx="113760" cy="71280"/>
                <a:chOff x="8260560" y="3152160"/>
                <a:chExt cx="113760" cy="712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8260560" y="3158280"/>
                  <a:ext cx="113760" cy="65160"/>
                  <a:chOff x="8260560" y="3158280"/>
                  <a:chExt cx="113760" cy="651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8353080" y="3206880"/>
                    <a:ext cx="360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8278200" y="3168720"/>
                    <a:ext cx="68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8315280" y="318780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8333280" y="3198240"/>
                    <a:ext cx="540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295840" y="317736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8260560" y="3158280"/>
                    <a:ext cx="50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367120" y="3217320"/>
                    <a:ext cx="72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8260560" y="3152160"/>
                  <a:ext cx="113400" cy="68760"/>
                  <a:chOff x="8260560" y="3152160"/>
                  <a:chExt cx="113400" cy="68760"/>
                </a:xfrm>
              </p:grpSpPr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8278200" y="3162600"/>
                    <a:ext cx="95760" cy="58320"/>
                    <a:chOff x="8278200" y="3162600"/>
                    <a:chExt cx="95760" cy="583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8368920" y="3213000"/>
                      <a:ext cx="50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8295840" y="3170880"/>
                      <a:ext cx="684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8332920" y="319212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8350560" y="320256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8313480" y="318132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8278200" y="316260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>
                    <a:off x="8260560" y="3152160"/>
                    <a:ext cx="504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657" name=""/>
          <p:cNvSpPr/>
          <p:nvPr/>
        </p:nvSpPr>
        <p:spPr>
          <a:xfrm>
            <a:off x="8028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83883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299280" y="2708280"/>
            <a:ext cx="429840" cy="431640"/>
            <a:chOff x="6299280" y="2708280"/>
            <a:chExt cx="429840" cy="431640"/>
          </a:xfrm>
        </p:grpSpPr>
        <p:sp>
          <p:nvSpPr>
            <p:cNvPr id="660" name=""/>
            <p:cNvSpPr/>
            <p:nvPr/>
          </p:nvSpPr>
          <p:spPr>
            <a:xfrm>
              <a:off x="6397920" y="2780280"/>
              <a:ext cx="151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440400" y="2783160"/>
              <a:ext cx="23040" cy="101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517800" y="2708280"/>
              <a:ext cx="155160" cy="141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558480" y="2708280"/>
              <a:ext cx="111600" cy="142560"/>
            </a:xfrm>
            <a:prstGeom prst="ellipse">
              <a:avLst/>
            </a:prstGeom>
            <a:gradFill rotWithShape="0">
              <a:gsLst>
                <a:gs pos="0">
                  <a:srgbClr val="00004b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79000" y="2780280"/>
              <a:ext cx="15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51920" y="2889000"/>
              <a:ext cx="132120" cy="24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342480" y="2914560"/>
              <a:ext cx="9108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400440" y="301032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6400800" y="3010320"/>
              <a:ext cx="1641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335280" y="3008520"/>
              <a:ext cx="19116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431040" y="2941200"/>
              <a:ext cx="84600" cy="7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394320" y="2943720"/>
              <a:ext cx="9864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442560" y="294588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588000" y="3137040"/>
              <a:ext cx="2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299280" y="3139920"/>
              <a:ext cx="2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156360" y="3213000"/>
            <a:ext cx="430920" cy="358200"/>
            <a:chOff x="6156360" y="3213000"/>
            <a:chExt cx="430920" cy="358200"/>
          </a:xfrm>
        </p:grpSpPr>
        <p:grpSp>
          <p:nvGrpSpPr>
            <p:cNvPr id="676" name=""/>
            <p:cNvGrpSpPr/>
            <p:nvPr/>
          </p:nvGrpSpPr>
          <p:grpSpPr>
            <a:xfrm>
              <a:off x="6156360" y="3213000"/>
              <a:ext cx="430920" cy="358200"/>
              <a:chOff x="6156360" y="3213000"/>
              <a:chExt cx="430920" cy="358200"/>
            </a:xfrm>
          </p:grpSpPr>
          <p:sp>
            <p:nvSpPr>
              <p:cNvPr id="677" name=""/>
              <p:cNvSpPr/>
              <p:nvPr/>
            </p:nvSpPr>
            <p:spPr>
              <a:xfrm>
                <a:off x="6172560" y="3217320"/>
                <a:ext cx="235080" cy="246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01360" y="3372840"/>
                <a:ext cx="20808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6156360" y="3377160"/>
                <a:ext cx="245880" cy="193320"/>
                <a:chOff x="6156360" y="3377160"/>
                <a:chExt cx="245880" cy="1933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6185160" y="3414960"/>
                  <a:ext cx="20988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181560" y="3430080"/>
                  <a:ext cx="19368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156360" y="3377160"/>
                  <a:ext cx="428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360840" y="3485160"/>
                  <a:ext cx="4140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>
                <a:off x="6375240" y="3296160"/>
                <a:ext cx="212040" cy="2750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10360" y="3223440"/>
                <a:ext cx="357120" cy="2494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386400" y="3291840"/>
                <a:ext cx="20088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183360" y="3213000"/>
                <a:ext cx="22428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206760" y="3424320"/>
              <a:ext cx="151560" cy="87840"/>
              <a:chOff x="6206760" y="3424320"/>
              <a:chExt cx="151560" cy="8784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6206760" y="3424320"/>
                <a:ext cx="4680" cy="7560"/>
                <a:chOff x="6206760" y="3424320"/>
                <a:chExt cx="4680" cy="75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206760" y="3427920"/>
                  <a:ext cx="468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206760" y="3424320"/>
                  <a:ext cx="468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244560" y="3440880"/>
                <a:ext cx="113760" cy="71280"/>
                <a:chOff x="6244560" y="3440880"/>
                <a:chExt cx="113760" cy="7128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6244560" y="3447000"/>
                  <a:ext cx="113760" cy="65160"/>
                  <a:chOff x="6244560" y="3447000"/>
                  <a:chExt cx="113760" cy="651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6337080" y="3495600"/>
                    <a:ext cx="360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262200" y="3457440"/>
                    <a:ext cx="68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99280" y="347652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7280" y="3486960"/>
                    <a:ext cx="540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279840" y="346608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44560" y="3447000"/>
                    <a:ext cx="50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351120" y="3506040"/>
                    <a:ext cx="72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6244560" y="3440880"/>
                  <a:ext cx="113400" cy="68760"/>
                  <a:chOff x="6244560" y="3440880"/>
                  <a:chExt cx="113400" cy="68760"/>
                </a:xfrm>
              </p:grpSpPr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6262200" y="3451320"/>
                    <a:ext cx="95760" cy="58320"/>
                    <a:chOff x="6262200" y="3451320"/>
                    <a:chExt cx="95760" cy="58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6352920" y="3501720"/>
                      <a:ext cx="50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6279840" y="3459600"/>
                      <a:ext cx="684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6316920" y="348084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6334560" y="349128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6297480" y="347004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6262200" y="345132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9" name=""/>
                  <p:cNvSpPr/>
                  <p:nvPr/>
                </p:nvSpPr>
                <p:spPr>
                  <a:xfrm>
                    <a:off x="6244560" y="3440880"/>
                    <a:ext cx="504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10" name=""/>
          <p:cNvSpPr/>
          <p:nvPr/>
        </p:nvSpPr>
        <p:spPr>
          <a:xfrm flipV="1">
            <a:off x="6372360" y="2997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12000" y="3068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40360" y="2276640"/>
            <a:ext cx="165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995640" y="2852280"/>
            <a:ext cx="17287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80000" y="2637000"/>
            <a:ext cx="7128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6160" y="2565360"/>
            <a:ext cx="160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UI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3600" y="321300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492360" y="5950080"/>
            <a:ext cx="431280" cy="357480"/>
            <a:chOff x="3492360" y="5950080"/>
            <a:chExt cx="431280" cy="357480"/>
          </a:xfrm>
        </p:grpSpPr>
        <p:grpSp>
          <p:nvGrpSpPr>
            <p:cNvPr id="718" name=""/>
            <p:cNvGrpSpPr/>
            <p:nvPr/>
          </p:nvGrpSpPr>
          <p:grpSpPr>
            <a:xfrm>
              <a:off x="3492360" y="5950080"/>
              <a:ext cx="431280" cy="357480"/>
              <a:chOff x="3492360" y="5950080"/>
              <a:chExt cx="431280" cy="357480"/>
            </a:xfrm>
          </p:grpSpPr>
          <p:sp>
            <p:nvSpPr>
              <p:cNvPr id="719" name=""/>
              <p:cNvSpPr/>
              <p:nvPr/>
            </p:nvSpPr>
            <p:spPr>
              <a:xfrm>
                <a:off x="3508560" y="59544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537360" y="6109920"/>
                <a:ext cx="20808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3492360" y="6114240"/>
                <a:ext cx="245880" cy="193320"/>
                <a:chOff x="3492360" y="6114240"/>
                <a:chExt cx="245880" cy="193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521160" y="6152040"/>
                  <a:ext cx="20988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517560" y="6167160"/>
                  <a:ext cx="19368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492360" y="6114240"/>
                  <a:ext cx="428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96840" y="6222240"/>
                  <a:ext cx="4140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3711600" y="6032880"/>
                <a:ext cx="212040" cy="2746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546360" y="5960520"/>
                <a:ext cx="357120" cy="24912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722400" y="6028560"/>
                <a:ext cx="20124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19360" y="5950080"/>
                <a:ext cx="22428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3542760" y="6161400"/>
              <a:ext cx="151560" cy="87840"/>
              <a:chOff x="3542760" y="6161400"/>
              <a:chExt cx="151560" cy="878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3542760" y="6161400"/>
                <a:ext cx="4680" cy="7560"/>
                <a:chOff x="3542760" y="6161400"/>
                <a:chExt cx="4680" cy="75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542760" y="6165000"/>
                  <a:ext cx="468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42760" y="6161400"/>
                  <a:ext cx="468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3580560" y="6177960"/>
                <a:ext cx="113760" cy="71280"/>
                <a:chOff x="3580560" y="6177960"/>
                <a:chExt cx="113760" cy="7128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3580560" y="6184080"/>
                  <a:ext cx="113760" cy="65160"/>
                  <a:chOff x="3580560" y="6184080"/>
                  <a:chExt cx="113760" cy="651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3673080" y="6232680"/>
                    <a:ext cx="360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598200" y="6194520"/>
                    <a:ext cx="68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635280" y="621360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653280" y="6224040"/>
                    <a:ext cx="540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615840" y="620316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580560" y="6184080"/>
                    <a:ext cx="50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687120" y="6243120"/>
                    <a:ext cx="72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3580560" y="6177960"/>
                  <a:ext cx="113400" cy="68760"/>
                  <a:chOff x="3580560" y="6177960"/>
                  <a:chExt cx="113400" cy="68760"/>
                </a:xfrm>
              </p:grpSpPr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3598200" y="6188400"/>
                    <a:ext cx="95760" cy="58320"/>
                    <a:chOff x="3598200" y="6188400"/>
                    <a:chExt cx="95760" cy="5832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3688920" y="6238800"/>
                      <a:ext cx="50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3615840" y="6196680"/>
                      <a:ext cx="684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3652920" y="621792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3670560" y="622836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3633480" y="620712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3598200" y="618840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1" name=""/>
                  <p:cNvSpPr/>
                  <p:nvPr/>
                </p:nvSpPr>
                <p:spPr>
                  <a:xfrm>
                    <a:off x="3580560" y="6177960"/>
                    <a:ext cx="504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52" name=""/>
          <p:cNvGrpSpPr/>
          <p:nvPr/>
        </p:nvGrpSpPr>
        <p:grpSpPr>
          <a:xfrm>
            <a:off x="4788000" y="5445000"/>
            <a:ext cx="1752120" cy="609480"/>
            <a:chOff x="4788000" y="5445000"/>
            <a:chExt cx="1752120" cy="609480"/>
          </a:xfrm>
        </p:grpSpPr>
        <p:pic>
          <p:nvPicPr>
            <p:cNvPr id="753" name="" descr=""/>
            <p:cNvPicPr/>
            <p:nvPr/>
          </p:nvPicPr>
          <p:blipFill>
            <a:blip r:embed="rId10"/>
            <a:stretch/>
          </p:blipFill>
          <p:spPr>
            <a:xfrm>
              <a:off x="4788000" y="54450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11"/>
            <a:stretch/>
          </p:blipFill>
          <p:spPr>
            <a:xfrm>
              <a:off x="5397480" y="544500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12"/>
            <a:stretch/>
          </p:blipFill>
          <p:spPr>
            <a:xfrm>
              <a:off x="6006960" y="54450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4863960" y="60544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16240" y="590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26080" y="590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35560" y="590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 flipV="1">
            <a:off x="4788000" y="6092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3850920" y="6165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3708360" y="4724280"/>
            <a:ext cx="431280" cy="358200"/>
            <a:chOff x="3708360" y="4724280"/>
            <a:chExt cx="431280" cy="358200"/>
          </a:xfrm>
        </p:grpSpPr>
        <p:grpSp>
          <p:nvGrpSpPr>
            <p:cNvPr id="763" name=""/>
            <p:cNvGrpSpPr/>
            <p:nvPr/>
          </p:nvGrpSpPr>
          <p:grpSpPr>
            <a:xfrm>
              <a:off x="3708360" y="4724280"/>
              <a:ext cx="431280" cy="358200"/>
              <a:chOff x="3708360" y="4724280"/>
              <a:chExt cx="431280" cy="358200"/>
            </a:xfrm>
          </p:grpSpPr>
          <p:sp>
            <p:nvSpPr>
              <p:cNvPr id="764" name=""/>
              <p:cNvSpPr/>
              <p:nvPr/>
            </p:nvSpPr>
            <p:spPr>
              <a:xfrm>
                <a:off x="3724560" y="4728600"/>
                <a:ext cx="235440" cy="246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753360" y="4884120"/>
                <a:ext cx="208080" cy="146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3708360" y="4888440"/>
                <a:ext cx="245880" cy="193320"/>
                <a:chOff x="3708360" y="4888440"/>
                <a:chExt cx="245880" cy="1933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3737160" y="4926240"/>
                  <a:ext cx="209880" cy="1191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33560" y="4941360"/>
                  <a:ext cx="193680" cy="12708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708360" y="4888440"/>
                  <a:ext cx="42840" cy="867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912840" y="4996440"/>
                  <a:ext cx="41400" cy="853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3927600" y="4807440"/>
                <a:ext cx="212040" cy="2750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762360" y="4734720"/>
                <a:ext cx="357120" cy="2494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38400" y="4803120"/>
                <a:ext cx="201240" cy="202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35360" y="4724280"/>
                <a:ext cx="224280" cy="1724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758760" y="4935600"/>
              <a:ext cx="151560" cy="87840"/>
              <a:chOff x="3758760" y="4935600"/>
              <a:chExt cx="151560" cy="8784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3758760" y="4935600"/>
                <a:ext cx="4680" cy="7560"/>
                <a:chOff x="3758760" y="4935600"/>
                <a:chExt cx="4680" cy="756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3758760" y="4939200"/>
                  <a:ext cx="4680" cy="396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758760" y="4935600"/>
                  <a:ext cx="4680" cy="57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3796560" y="4952160"/>
                <a:ext cx="113760" cy="71280"/>
                <a:chOff x="3796560" y="4952160"/>
                <a:chExt cx="113760" cy="7128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3796560" y="4958280"/>
                  <a:ext cx="113760" cy="65160"/>
                  <a:chOff x="3796560" y="4958280"/>
                  <a:chExt cx="113760" cy="651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3889080" y="5006880"/>
                    <a:ext cx="360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814200" y="4968720"/>
                    <a:ext cx="68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851280" y="498780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869280" y="4998240"/>
                    <a:ext cx="540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831840" y="4977360"/>
                    <a:ext cx="5040" cy="79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796560" y="4958280"/>
                    <a:ext cx="5040" cy="8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903120" y="5017320"/>
                    <a:ext cx="720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3796560" y="4952160"/>
                  <a:ext cx="113400" cy="68760"/>
                  <a:chOff x="3796560" y="4952160"/>
                  <a:chExt cx="113400" cy="68760"/>
                </a:xfrm>
              </p:grpSpPr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3814200" y="4962600"/>
                    <a:ext cx="95760" cy="58320"/>
                    <a:chOff x="3814200" y="4962600"/>
                    <a:chExt cx="95760" cy="5832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904920" y="5013000"/>
                      <a:ext cx="50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3831840" y="4970880"/>
                      <a:ext cx="6840" cy="10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240" bIns="-39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3868920" y="499212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3886560" y="5002560"/>
                      <a:ext cx="540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3849480" y="4981320"/>
                      <a:ext cx="684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3814200" y="4962600"/>
                      <a:ext cx="684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6" name=""/>
                  <p:cNvSpPr/>
                  <p:nvPr/>
                </p:nvSpPr>
                <p:spPr>
                  <a:xfrm>
                    <a:off x="3796560" y="4952160"/>
                    <a:ext cx="5040" cy="8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97" name=""/>
          <p:cNvGrpSpPr/>
          <p:nvPr/>
        </p:nvGrpSpPr>
        <p:grpSpPr>
          <a:xfrm>
            <a:off x="1763640" y="4653000"/>
            <a:ext cx="1728360" cy="1368000"/>
            <a:chOff x="1763640" y="4653000"/>
            <a:chExt cx="1728360" cy="1368000"/>
          </a:xfrm>
        </p:grpSpPr>
        <p:sp>
          <p:nvSpPr>
            <p:cNvPr id="798" name=""/>
            <p:cNvSpPr/>
            <p:nvPr/>
          </p:nvSpPr>
          <p:spPr>
            <a:xfrm>
              <a:off x="1763640" y="4653000"/>
              <a:ext cx="1683000" cy="12970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9888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RD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3276360" y="587664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 flipV="1">
            <a:off x="3276720" y="501300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68720" y="472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989080" y="6237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92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3"/>
          <a:stretch/>
        </p:blipFill>
        <p:spPr>
          <a:xfrm>
            <a:off x="539640" y="2205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4"/>
          <a:stretch/>
        </p:blipFill>
        <p:spPr>
          <a:xfrm>
            <a:off x="8101080" y="206064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15"/>
          <a:stretch/>
        </p:blipFill>
        <p:spPr>
          <a:xfrm>
            <a:off x="4211640" y="623736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 flipH="1">
            <a:off x="3995640" y="4941720"/>
            <a:ext cx="295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68240" y="4651200"/>
            <a:ext cx="1883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muy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bre RDS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,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bre todo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"/>
          <p:cNvGrpSpPr/>
          <p:nvPr/>
        </p:nvGrpSpPr>
        <p:grpSpPr>
          <a:xfrm>
            <a:off x="533520" y="1752480"/>
            <a:ext cx="914400" cy="1067040"/>
            <a:chOff x="533520" y="1752480"/>
            <a:chExt cx="914400" cy="1067040"/>
          </a:xfrm>
        </p:grpSpPr>
        <p:sp>
          <p:nvSpPr>
            <p:cNvPr id="811" name=""/>
            <p:cNvSpPr/>
            <p:nvPr/>
          </p:nvSpPr>
          <p:spPr>
            <a:xfrm>
              <a:off x="533520" y="1752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6880" y="21337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9907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90720" y="3962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38280" y="1447920"/>
            <a:ext cx="1143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7320" y="838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" y="879480"/>
            <a:ext cx="1066680" cy="23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9480" y="9558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514600" y="1752480"/>
            <a:ext cx="914400" cy="1067040"/>
            <a:chOff x="2514600" y="1752480"/>
            <a:chExt cx="914400" cy="1067040"/>
          </a:xfrm>
        </p:grpSpPr>
        <p:sp>
          <p:nvSpPr>
            <p:cNvPr id="820" name=""/>
            <p:cNvSpPr/>
            <p:nvPr/>
          </p:nvSpPr>
          <p:spPr>
            <a:xfrm>
              <a:off x="2514600" y="1752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67960" y="21337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297180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248520" y="4038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6080" y="879480"/>
            <a:ext cx="1143000" cy="26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11000" y="10317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5715000" y="1676520"/>
            <a:ext cx="1142640" cy="990360"/>
            <a:chOff x="5715000" y="1676520"/>
            <a:chExt cx="1142640" cy="990360"/>
          </a:xfrm>
        </p:grpSpPr>
        <p:sp>
          <p:nvSpPr>
            <p:cNvPr id="828" name=""/>
            <p:cNvSpPr/>
            <p:nvPr/>
          </p:nvSpPr>
          <p:spPr>
            <a:xfrm>
              <a:off x="5715000" y="1676520"/>
              <a:ext cx="11426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06160" y="2030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5638680" y="1371600"/>
            <a:ext cx="12956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6320" y="838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7848720" y="1905120"/>
            <a:ext cx="914400" cy="1066680"/>
            <a:chOff x="7848720" y="1905120"/>
            <a:chExt cx="914400" cy="1066680"/>
          </a:xfrm>
        </p:grpSpPr>
        <p:sp>
          <p:nvSpPr>
            <p:cNvPr id="833" name=""/>
            <p:cNvSpPr/>
            <p:nvPr/>
          </p:nvSpPr>
          <p:spPr>
            <a:xfrm>
              <a:off x="7848720" y="1905120"/>
              <a:ext cx="91440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002440" y="22860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B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822960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81280" y="3200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975280" y="419112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EXIÓN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BLE ENT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Y EL 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2120" y="3733920"/>
            <a:ext cx="685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66880" y="3733920"/>
            <a:ext cx="685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6640" y="4191120"/>
            <a:ext cx="495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EXIÓN MEDIANTE UL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ILO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NDA BASES Y 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 CON RD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QUEMA DE CONEXIÓN AL SUICHE 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NIVEL DOS ES COMUNMENTE IMPLEMENTADO POR PROTOCOLOS SINCRONICOS ORIENTADOS AL BIT, COMO EL HDLC Y EL SD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TRAMA FRAME RELAY SE DERIBA DE LA TRAMA HDLC, POR TANTO ALGUNOS CAMPOS SON SIMI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RELAY EMPLEA UNA ADAPTACION DE LAP-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INK ACCESS PROCEDURE - D), LLAMADA LAP-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P-F ES UN SUBCONJUNTO DE LAS DEFINICIONES Q.921 DESARROLLADAS PARA LOS SISTEMAS DE SUBSCRIPCION DIGITAL LAP-D EN RD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IVEL DE ENLACE FRAME R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IONES DE NIVEL 2 DE FRAME REL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CION DE UNA 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QUEO DE TRAMAS PARA VALIDACION DE TAMAÑO E INTEG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CION Y USO DE UN CRC PARA LA DETECCION DE ERRORES EN LA TRANSMISION PERO NO INCLUYE PROCESOS CORRE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ARTAR TRAMAS DAÑADAS O NO PRECISAS O INVALIDAS PERO SIN LA OPCION DE RECUPERACION DE LAS MIS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IVEL DE ENLACE FRAME R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410480" y="260280"/>
            <a:ext cx="632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RELAY – NIVEL DE EN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457200" y="4038480"/>
            <a:ext cx="914400" cy="1067040"/>
            <a:chOff x="457200" y="4038480"/>
            <a:chExt cx="914400" cy="1067040"/>
          </a:xfrm>
        </p:grpSpPr>
        <p:sp>
          <p:nvSpPr>
            <p:cNvPr id="848" name=""/>
            <p:cNvSpPr/>
            <p:nvPr/>
          </p:nvSpPr>
          <p:spPr>
            <a:xfrm>
              <a:off x="457200" y="4038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0560" y="44197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914400" y="5562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6248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62320" y="3733920"/>
            <a:ext cx="1143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61000" y="3124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880" y="2286000"/>
            <a:ext cx="106704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35320" y="17524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438280" y="4038480"/>
            <a:ext cx="914400" cy="1067040"/>
            <a:chOff x="2438280" y="4038480"/>
            <a:chExt cx="914400" cy="1067040"/>
          </a:xfrm>
        </p:grpSpPr>
        <p:sp>
          <p:nvSpPr>
            <p:cNvPr id="857" name=""/>
            <p:cNvSpPr/>
            <p:nvPr/>
          </p:nvSpPr>
          <p:spPr>
            <a:xfrm>
              <a:off x="2438280" y="4038480"/>
              <a:ext cx="914400" cy="10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91640" y="441972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289548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72200" y="5638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17220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20120" y="2362320"/>
            <a:ext cx="1143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774200" y="17524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638680" y="3962520"/>
            <a:ext cx="1142640" cy="990360"/>
            <a:chOff x="5638680" y="3962520"/>
            <a:chExt cx="1142640" cy="990360"/>
          </a:xfrm>
        </p:grpSpPr>
        <p:sp>
          <p:nvSpPr>
            <p:cNvPr id="865" name=""/>
            <p:cNvSpPr/>
            <p:nvPr/>
          </p:nvSpPr>
          <p:spPr>
            <a:xfrm>
              <a:off x="5638680" y="3962520"/>
              <a:ext cx="114264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29840" y="4316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P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5562720" y="3657600"/>
            <a:ext cx="129528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90000" y="3124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ICHE 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772400" y="4191120"/>
            <a:ext cx="914400" cy="1066680"/>
            <a:chOff x="7772400" y="4191120"/>
            <a:chExt cx="914400" cy="1066680"/>
          </a:xfrm>
        </p:grpSpPr>
        <p:sp>
          <p:nvSpPr>
            <p:cNvPr id="870" name=""/>
            <p:cNvSpPr/>
            <p:nvPr/>
          </p:nvSpPr>
          <p:spPr>
            <a:xfrm>
              <a:off x="7772400" y="4191120"/>
              <a:ext cx="91440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26120" y="45720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LAB-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815328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5320" y="54864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45520" y="64008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-232, V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8400" y="64008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S-232, V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48120" y="385128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M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6019920"/>
            <a:ext cx="685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90920" y="6019920"/>
            <a:ext cx="685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3160" y="2247840"/>
            <a:ext cx="3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9880" y="2286000"/>
            <a:ext cx="3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97880" y="2362320"/>
            <a:ext cx="3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307720" y="2362320"/>
            <a:ext cx="3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316720" cy="32526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09520" y="1587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52280" y="4724280"/>
            <a:ext cx="396252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2280" y="1905120"/>
            <a:ext cx="396252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5848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26720" y="2844720"/>
            <a:ext cx="4192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LOS DOS CAMPOS DE 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IDENTIFICAN EL PRINCIPIO Y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FINAL DE CADA T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FLAG=011111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152280" y="2666880"/>
            <a:ext cx="160020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2286000"/>
            <a:ext cx="281952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95848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481640" y="1419120"/>
            <a:ext cx="458748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0 BITS CONFORMAN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MECANISMO DE DIREC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E CIRCUITOS VIRTU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LCI ( DATA LINK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DENTIFI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REPARTIDOS EN DOS OCT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FER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L DLCI SERA LEIDO POR LA RE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N EL NODO DE ACCESO SE CRUZ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N LA TABLA DE REFER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NRUTAMIENTO CON LA CONEX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GICA CORRESPO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LGUNOS DLCI SON RE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ARA USO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LCI: DATA LINK CONNECTION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DLCI  IDENTIFICA LAS TRAMAS QUE PERTENECEN A UN CURCUITO VIRT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UN PUERTO FISICO  PUEDEN TENERSE MULTIPLES CIRCUITOS VIRTUALES CADA UNO CON SU DL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NUMERO DE CADA DLCI SOLO TIENE SIGNIFICADO LOCAL, NO GLOBAL,  RAZON POR LA CUAL PUEDE USARSE REPETIDAS VECES EN LA MISM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ADMINISTRADORES DE RED USAN UN PLAN DE NUMERACION DE DLCIs POR LOCALIZACION O POR CENTRO DE COS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TODOS LOS 1024 DLCI PUEDEN USARSE, EXISTEN ALGUNOS RESERVADOS PARA LA ADMINISTRACION (LM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RED PUEDE ENRUTAR LAS TRAMAS ESCOGIENDO EL METODO QUE EL PROVEEDOR O EL DISEÑADOR TENGA DISPON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L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496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 DE ACCESO A UNA RED DE CONMUTACION DE TRAMAS, BAJO EL ESQUEMA DE CIRCUITOS VIRTUALES, YA SEA PVC O S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UME LA BUENA CALIDAD DE LOS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ARANTIZA ENTREGA PERO SI EL 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 TRAMAS DE LONGITUD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A PERO NO CORRIGE ERRORES.  LAS TRAMAS CON ERRORES SE DESCAR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BRE UN PUERTO FISICO SE PUEDEN TENER VARIOS CIRCUITOS VIRTUALES- (SIMPLIFICA EL CPE, GENERALMENTE UN ROU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CI  0 (cero) y 1023 son reservados para L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CI 1019 a 1022 son reservados para Multi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CI 1 a 15 y 1008 a 1018 son reservados para usos futu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CI 992 a 1007 son reservados para el manejo de la capa 2 del proveedor del servi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CI entre  16 y  991 son generalmente utilizados para los datos de usu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L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477120" y="2133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05120" y="1905120"/>
            <a:ext cx="1676160" cy="68580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19520" y="1676520"/>
            <a:ext cx="4266360" cy="3047040"/>
            <a:chOff x="2819520" y="1676520"/>
            <a:chExt cx="4266360" cy="3047040"/>
          </a:xfrm>
        </p:grpSpPr>
        <p:sp>
          <p:nvSpPr>
            <p:cNvPr id="961" name=""/>
            <p:cNvSpPr/>
            <p:nvPr/>
          </p:nvSpPr>
          <p:spPr>
            <a:xfrm>
              <a:off x="2819520" y="167652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89720" y="306756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.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495680" y="3962520"/>
            <a:ext cx="766440" cy="611280"/>
            <a:chOff x="4495680" y="3962520"/>
            <a:chExt cx="766440" cy="611280"/>
          </a:xfrm>
        </p:grpSpPr>
        <p:sp>
          <p:nvSpPr>
            <p:cNvPr id="966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96040" y="41148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429000" y="2590920"/>
            <a:ext cx="766440" cy="611280"/>
            <a:chOff x="3429000" y="2590920"/>
            <a:chExt cx="766440" cy="611280"/>
          </a:xfrm>
        </p:grpSpPr>
        <p:sp>
          <p:nvSpPr>
            <p:cNvPr id="969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29360" y="27432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715000" y="2362320"/>
            <a:ext cx="766440" cy="611280"/>
            <a:chOff x="5715000" y="2362320"/>
            <a:chExt cx="766440" cy="611280"/>
          </a:xfrm>
        </p:grpSpPr>
        <p:sp>
          <p:nvSpPr>
            <p:cNvPr id="972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15360" y="2514600"/>
              <a:ext cx="76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980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981080" y="2133720"/>
            <a:ext cx="608760" cy="380160"/>
            <a:chOff x="1981080" y="2133720"/>
            <a:chExt cx="608760" cy="380160"/>
          </a:xfrm>
        </p:grpSpPr>
        <p:grpSp>
          <p:nvGrpSpPr>
            <p:cNvPr id="988" name=""/>
            <p:cNvGrpSpPr/>
            <p:nvPr/>
          </p:nvGrpSpPr>
          <p:grpSpPr>
            <a:xfrm>
              <a:off x="1981080" y="2133720"/>
              <a:ext cx="608760" cy="380160"/>
              <a:chOff x="1981080" y="2133720"/>
              <a:chExt cx="608760" cy="380160"/>
            </a:xfrm>
          </p:grpSpPr>
          <p:sp>
            <p:nvSpPr>
              <p:cNvPr id="989" name=""/>
              <p:cNvSpPr/>
              <p:nvPr/>
            </p:nvSpPr>
            <p:spPr>
              <a:xfrm>
                <a:off x="2003760" y="213804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044800" y="230328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1981080" y="2307960"/>
                <a:ext cx="347040" cy="204840"/>
                <a:chOff x="1981080" y="2307960"/>
                <a:chExt cx="347040" cy="2048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2021760" y="234828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2016360" y="236412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981080" y="230796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269800" y="24224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"/>
              <p:cNvSpPr/>
              <p:nvPr/>
            </p:nvSpPr>
            <p:spPr>
              <a:xfrm>
                <a:off x="2290320" y="222192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057400" y="2144880"/>
                <a:ext cx="50436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05800" y="221724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19600" y="213372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052360" y="2358000"/>
              <a:ext cx="214200" cy="93600"/>
              <a:chOff x="2052360" y="2358000"/>
              <a:chExt cx="214200" cy="9360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2052360" y="2358000"/>
                <a:ext cx="6840" cy="8280"/>
                <a:chOff x="2052360" y="2358000"/>
                <a:chExt cx="6840" cy="82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2052360" y="236196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052360" y="235800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2105640" y="2375640"/>
                <a:ext cx="160920" cy="75960"/>
                <a:chOff x="2105640" y="2375640"/>
                <a:chExt cx="160920" cy="7596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2105640" y="2382120"/>
                  <a:ext cx="160920" cy="69480"/>
                  <a:chOff x="2105640" y="2382120"/>
                  <a:chExt cx="160920" cy="6948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>
                    <a:off x="2236680" y="243396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130480" y="239328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183400" y="241344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208600" y="242460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155680" y="240228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105640" y="238212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256480" y="244512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2105640" y="2375640"/>
                  <a:ext cx="160200" cy="72720"/>
                  <a:chOff x="2105640" y="2375640"/>
                  <a:chExt cx="160200" cy="72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2130480" y="2386800"/>
                    <a:ext cx="135360" cy="61560"/>
                    <a:chOff x="2130480" y="2386800"/>
                    <a:chExt cx="135360" cy="615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2258640" y="244008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2155320" y="239580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2207880" y="24181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2233080" y="24289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2180520" y="240696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2130480" y="238680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1" name=""/>
                  <p:cNvSpPr/>
                  <p:nvPr/>
                </p:nvSpPr>
                <p:spPr>
                  <a:xfrm>
                    <a:off x="2105640" y="237564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22" name=""/>
          <p:cNvSpPr/>
          <p:nvPr/>
        </p:nvSpPr>
        <p:spPr>
          <a:xfrm>
            <a:off x="1752480" y="1981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086600" y="1828800"/>
            <a:ext cx="608760" cy="380160"/>
            <a:chOff x="7086600" y="1828800"/>
            <a:chExt cx="608760" cy="380160"/>
          </a:xfrm>
        </p:grpSpPr>
        <p:grpSp>
          <p:nvGrpSpPr>
            <p:cNvPr id="1024" name=""/>
            <p:cNvGrpSpPr/>
            <p:nvPr/>
          </p:nvGrpSpPr>
          <p:grpSpPr>
            <a:xfrm>
              <a:off x="7086600" y="1828800"/>
              <a:ext cx="608760" cy="380160"/>
              <a:chOff x="7086600" y="1828800"/>
              <a:chExt cx="608760" cy="380160"/>
            </a:xfrm>
          </p:grpSpPr>
          <p:sp>
            <p:nvSpPr>
              <p:cNvPr id="1025" name=""/>
              <p:cNvSpPr/>
              <p:nvPr/>
            </p:nvSpPr>
            <p:spPr>
              <a:xfrm>
                <a:off x="7109280" y="18331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50320" y="19983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7086600" y="2003040"/>
                <a:ext cx="347040" cy="204840"/>
                <a:chOff x="7086600" y="2003040"/>
                <a:chExt cx="347040" cy="2048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7127280" y="20433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121880" y="20592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086600" y="20030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75320" y="21175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7395840" y="19170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2920" y="18399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11320" y="19123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25120" y="18288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7157880" y="2053080"/>
              <a:ext cx="214200" cy="93600"/>
              <a:chOff x="7157880" y="2053080"/>
              <a:chExt cx="214200" cy="9360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7157880" y="2053080"/>
                <a:ext cx="6840" cy="8280"/>
                <a:chOff x="7157880" y="2053080"/>
                <a:chExt cx="6840" cy="828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7157880" y="20570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157880" y="20530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7211160" y="2070720"/>
                <a:ext cx="160920" cy="75960"/>
                <a:chOff x="7211160" y="2070720"/>
                <a:chExt cx="160920" cy="75960"/>
              </a:xfrm>
            </p:grpSpPr>
            <p:grpSp>
              <p:nvGrpSpPr>
                <p:cNvPr id="1041" name=""/>
                <p:cNvGrpSpPr/>
                <p:nvPr/>
              </p:nvGrpSpPr>
              <p:grpSpPr>
                <a:xfrm>
                  <a:off x="7211160" y="2077200"/>
                  <a:ext cx="160920" cy="69480"/>
                  <a:chOff x="7211160" y="2077200"/>
                  <a:chExt cx="160920" cy="6948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7342200" y="21290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236000" y="20883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288920" y="21085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314120" y="21196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261200" y="20973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211160" y="20772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7362000" y="21402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7211160" y="2070720"/>
                  <a:ext cx="160200" cy="72720"/>
                  <a:chOff x="7211160" y="2070720"/>
                  <a:chExt cx="160200" cy="72720"/>
                </a:xfrm>
              </p:grpSpPr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7236000" y="2081880"/>
                    <a:ext cx="135360" cy="61560"/>
                    <a:chOff x="7236000" y="2081880"/>
                    <a:chExt cx="135360" cy="615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364160" y="21351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260840" y="20908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7313400" y="21132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7338600" y="21240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7286040" y="21020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7236000" y="20818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7" name=""/>
                  <p:cNvSpPr/>
                  <p:nvPr/>
                </p:nvSpPr>
                <p:spPr>
                  <a:xfrm>
                    <a:off x="7211160" y="20707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58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059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143000" y="5867280"/>
            <a:ext cx="1752120" cy="609480"/>
            <a:chOff x="1143000" y="5867280"/>
            <a:chExt cx="1752120" cy="609480"/>
          </a:xfrm>
        </p:grpSpPr>
        <p:pic>
          <p:nvPicPr>
            <p:cNvPr id="1067" name="" descr=""/>
            <p:cNvPicPr/>
            <p:nvPr/>
          </p:nvPicPr>
          <p:blipFill>
            <a:blip r:embed="rId7"/>
            <a:stretch/>
          </p:blipFill>
          <p:spPr>
            <a:xfrm>
              <a:off x="114300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8"/>
            <a:stretch/>
          </p:blipFill>
          <p:spPr>
            <a:xfrm>
              <a:off x="1752480" y="5867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9"/>
            <a:stretch/>
          </p:blipFill>
          <p:spPr>
            <a:xfrm>
              <a:off x="236196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1218960" y="6476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124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9056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87960" y="2057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76201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971800" y="5029200"/>
            <a:ext cx="608760" cy="380160"/>
            <a:chOff x="2971800" y="5029200"/>
            <a:chExt cx="608760" cy="380160"/>
          </a:xfrm>
        </p:grpSpPr>
        <p:grpSp>
          <p:nvGrpSpPr>
            <p:cNvPr id="1077" name=""/>
            <p:cNvGrpSpPr/>
            <p:nvPr/>
          </p:nvGrpSpPr>
          <p:grpSpPr>
            <a:xfrm>
              <a:off x="2971800" y="5029200"/>
              <a:ext cx="608760" cy="380160"/>
              <a:chOff x="2971800" y="5029200"/>
              <a:chExt cx="608760" cy="380160"/>
            </a:xfrm>
          </p:grpSpPr>
          <p:sp>
            <p:nvSpPr>
              <p:cNvPr id="1078" name=""/>
              <p:cNvSpPr/>
              <p:nvPr/>
            </p:nvSpPr>
            <p:spPr>
              <a:xfrm>
                <a:off x="2994480" y="50335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035520" y="51987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2971800" y="5203440"/>
                <a:ext cx="347040" cy="204840"/>
                <a:chOff x="2971800" y="5203440"/>
                <a:chExt cx="347040" cy="2048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3012480" y="52437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007080" y="52596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2971800" y="52034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60520" y="53179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"/>
              <p:cNvSpPr/>
              <p:nvPr/>
            </p:nvSpPr>
            <p:spPr>
              <a:xfrm>
                <a:off x="3281040" y="51174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048120" y="50403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96520" y="51127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010320" y="50292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043080" y="5253480"/>
              <a:ext cx="214200" cy="93600"/>
              <a:chOff x="3043080" y="5253480"/>
              <a:chExt cx="214200" cy="9360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3043080" y="5253480"/>
                <a:ext cx="6840" cy="8280"/>
                <a:chOff x="3043080" y="5253480"/>
                <a:chExt cx="6840" cy="82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3043080" y="52574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043080" y="52534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3096360" y="5271120"/>
                <a:ext cx="160920" cy="75960"/>
                <a:chOff x="3096360" y="5271120"/>
                <a:chExt cx="160920" cy="75960"/>
              </a:xfrm>
            </p:grpSpPr>
            <p:grpSp>
              <p:nvGrpSpPr>
                <p:cNvPr id="1094" name=""/>
                <p:cNvGrpSpPr/>
                <p:nvPr/>
              </p:nvGrpSpPr>
              <p:grpSpPr>
                <a:xfrm>
                  <a:off x="3096360" y="5277600"/>
                  <a:ext cx="160920" cy="69480"/>
                  <a:chOff x="3096360" y="5277600"/>
                  <a:chExt cx="160920" cy="6948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3227400" y="53294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121200" y="52887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174120" y="53089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199320" y="53200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146400" y="52977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96360" y="52776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247200" y="53406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3096360" y="5271120"/>
                  <a:ext cx="160200" cy="72720"/>
                  <a:chOff x="3096360" y="5271120"/>
                  <a:chExt cx="160200" cy="7272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3121200" y="5282280"/>
                    <a:ext cx="135360" cy="61560"/>
                    <a:chOff x="3121200" y="5282280"/>
                    <a:chExt cx="135360" cy="6156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249360" y="53355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146040" y="52912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3198600" y="53136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3223800" y="53244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3171240" y="53024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3121200" y="52822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0" name=""/>
                  <p:cNvSpPr/>
                  <p:nvPr/>
                </p:nvSpPr>
                <p:spPr>
                  <a:xfrm>
                    <a:off x="3096360" y="52711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11" name=""/>
          <p:cNvSpPr/>
          <p:nvPr/>
        </p:nvSpPr>
        <p:spPr>
          <a:xfrm flipV="1">
            <a:off x="350532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819520" y="4419720"/>
            <a:ext cx="1752480" cy="99036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739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643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3608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3400" y="2286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DE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54840" y="5943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269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4215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82160" y="251460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3560" y="33526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4280" y="44956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44280" y="19810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22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7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934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96960" y="198108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166880" y="22860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OG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25996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UJO DL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" descr=""/>
          <p:cNvPicPr/>
          <p:nvPr/>
        </p:nvPicPr>
        <p:blipFill>
          <a:blip r:embed="rId10"/>
          <a:stretch/>
        </p:blipFill>
        <p:spPr>
          <a:xfrm>
            <a:off x="7524720" y="134136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11"/>
          <a:stretch/>
        </p:blipFill>
        <p:spPr>
          <a:xfrm>
            <a:off x="1332000" y="162864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12"/>
          <a:stretch/>
        </p:blipFill>
        <p:spPr>
          <a:xfrm>
            <a:off x="2268360" y="5300640"/>
            <a:ext cx="57636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A DE SUICHEO DE LA T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066680" y="1219320"/>
            <a:ext cx="7010280" cy="1904760"/>
            <a:chOff x="1066680" y="1219320"/>
            <a:chExt cx="7010280" cy="1904760"/>
          </a:xfrm>
        </p:grpSpPr>
        <p:sp>
          <p:nvSpPr>
            <p:cNvPr id="1136" name=""/>
            <p:cNvSpPr/>
            <p:nvPr/>
          </p:nvSpPr>
          <p:spPr>
            <a:xfrm>
              <a:off x="1066680" y="1219320"/>
              <a:ext cx="7010280" cy="19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66680" y="18288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7960" y="12193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98160" y="121932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1219320"/>
              <a:ext cx="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360" y="121932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LC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03480" y="121932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632280" y="121932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L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172200" y="12193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66680" y="2438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66680" y="31240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85800" y="186984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525680" y="251460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83808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a del suiche 1 circuito Medellín-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295280" y="4495680"/>
            <a:ext cx="7010280" cy="1905120"/>
            <a:chOff x="1295280" y="4495680"/>
            <a:chExt cx="7010280" cy="1905120"/>
          </a:xfrm>
        </p:grpSpPr>
        <p:sp>
          <p:nvSpPr>
            <p:cNvPr id="1151" name=""/>
            <p:cNvSpPr/>
            <p:nvPr/>
          </p:nvSpPr>
          <p:spPr>
            <a:xfrm>
              <a:off x="1295280" y="4495680"/>
              <a:ext cx="70102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295280" y="510552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76560" y="44956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26760" y="449568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95480" y="44956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126960" y="449568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LC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TR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032080" y="449568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TO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60880" y="4495680"/>
              <a:ext cx="104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L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00800" y="4495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95280" y="57150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95280" y="64008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14400" y="514656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54280" y="5791320"/>
              <a:ext cx="589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066680" y="3886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a del suiche 3 circuito Medellín-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3505320" y="2666880"/>
            <a:ext cx="533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05320" y="2286000"/>
            <a:ext cx="53316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8760" y="43513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8760" y="23065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03480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284720" y="620640"/>
            <a:ext cx="453708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A: EXTEND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DICADORES DE DIR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XTENDIDA - 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ERMITE QUE EL MECANISM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RECCIONAMIENTO DE DLC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MPLEE MAYOR NUMERO DE BITS, GENERALMENTE H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3 O 4 BYTES EN TO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L PRIMER EA=0 Y EL SEGU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A=1 ES LA CONFIGUR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NORMAL EN EL MANEJO DE DL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 10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OCTETOS ADICIONALES PU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ER MANEJADOS EN EL CAMPO DL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HASTA ENCONTRAR ¨1¨EN EL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A. GENERALMENTE 1 O 2 OCT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NO ES MUY UTILI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2971800" y="2286000"/>
            <a:ext cx="53352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8760" y="43513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8760" y="23065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95848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31760" y="2844720"/>
            <a:ext cx="4282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COMMAND /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ES UN BIT NO USADO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FRAME RELAY. SE RESER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PARA OTROS PROTOC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POR LO GENERAL PO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PARA IDENTIFICAR SOLICITID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 RESPU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2362320" y="2666880"/>
            <a:ext cx="53316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2666880"/>
            <a:ext cx="53352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58760" y="43513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58760" y="23065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3480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75520" y="1571760"/>
            <a:ext cx="4523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ECN: FOREWARD 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GESTION NOT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BECN: BACKWARD EXPLIC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GESTION NOT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DICADORES DE 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DICAN CONGESTION CUANDO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NCUENTRAN EN ¨1¨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UNO CORRESPONDE AL MENSAJ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GESTION EN DIRECCI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 LA TRAMA Y OTRO EN DIR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VER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DE CONG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CN: FOREWARD EXPLICIT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N: BACKWARD EXPLICIT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FECN Y BECN PERMITEN QUE LA RED INFORME AL EQUIPO D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LA EXISTENCIA Y DIRECCION DE LA CONGES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EL EQUIPO DTE PUEDE ENTONCES AVISAR Y NOTIFICAR A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APLICACION FUENTE O DESTINO DEL TRAFICO SOBR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CONGESTION, PARA ASI EFECTUAR LA CONTENCION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INFORMAC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LA PRINCIPAL DIFICULTAD LUEGO DE INFORMAR AL DTE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QUE SE INFORME A LA FUENTE DEL TRA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ESTION EN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" descr="Backward explicit and forward explicit congestion notification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5640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ESTION EN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2971800" y="2666880"/>
            <a:ext cx="53352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8760" y="43513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8760" y="23065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3480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46560" y="765000"/>
            <a:ext cx="4646520" cy="58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: DISCARD ELIG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DICADOR DE DESC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DICA LA POSIBILIDAD DE ELEGI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TRAMA PARA SER DESCARTADA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ASO DE SER NECESARIO 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G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E=1 TRAMA CANDIDATA A SER DESCAR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RAME RELAY NO SE PREOCUP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RECUPERACION DE LAS T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ESCARTADAS, DEJA ESTA LABO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S PROTOCOLOS DE NIVEL SUP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OJO: EL TRAFICO EN EXCESO ES MARCADO POR LA RED CON 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152280" y="3124080"/>
            <a:ext cx="3962520" cy="838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58760" y="19112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8760" y="43513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58760" y="2306520"/>
            <a:ext cx="39495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58760" y="27036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58760" y="4748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527280" y="27036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938320" y="2703600"/>
            <a:ext cx="5763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47920" y="27036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55720" y="2703600"/>
            <a:ext cx="5796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527280" y="2306520"/>
            <a:ext cx="58104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38320" y="2306520"/>
            <a:ext cx="576360" cy="384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58760" y="395604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58760" y="191124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473840" y="19987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473840" y="490212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6280" y="2394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6280" y="27925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34800" y="23842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668040" y="2394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76960" y="28144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9520" y="28144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1716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68040" y="27925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530000" y="411012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530000" y="4440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302840" y="35179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46200" y="1495440"/>
            <a:ext cx="48297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AYLOAD O EL CONTEN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OSEE LONGITUD VARIAB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U VALOR MAXIMO DEPENDE DE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Y DE LOS EQUIPOS EMPLEADOS, 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CONFIGURACION DE ES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UELE VARIAR DESDE POCOS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HASTA CERCA DE 8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E RECOMIENDA NO MAS DE 1600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LONGITUD DEPENDER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MEZCLA DE TRAFICO QUE SE DE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STABLECER EN LA RED Y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GARANTIA DE CALIDAD DE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QUE SE DESEE OFRE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300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907920"/>
            <a:ext cx="8001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MENTE CREADO PARA ISDN (RDS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PRIMERAS PROPUESTAS DE STANDARIZACION LAS HIZO LA CCITT HACIA 198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ALTA DE INTEROPERABILIDAD EVITO LA EXPANSION DE SU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 MAYOR DESARROLLO FUE EN 1990 CUANDO CISCO SYSTEMS, DIGITAL EQUIPMENT, NORTHERN TELECOM Y STRATACOM FORMARON EL FRAME RELAY CONSOR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MENTE FRAME RELAY ES UN STANDARD RECONOCIDO POR LA ANSI (U.S)  Y LA ITU-T (ON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4246560" y="1495440"/>
            <a:ext cx="47916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CS: FRAME CHECK SEQU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E COMPONE DE DOS OCTET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S QUE SE INCLUYE UN CO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E REDUDNDANCIA CICLIC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MPARA A LOS DOS EXTRE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MPRENDE TODA LA TRAMA EX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S FL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SI EL CODIGO NO COINCIDE LA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ES DESCARTADA, NO SE MANE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NINGUN ESQUEMA DE RECUPER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RECUPERACION DE TR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ESCARTADAS SE DEJA A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TOCOLOS DE NIVEL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371600"/>
            <a:ext cx="3962520" cy="3801960"/>
            <a:chOff x="152280" y="1371600"/>
            <a:chExt cx="3962520" cy="3801960"/>
          </a:xfrm>
        </p:grpSpPr>
        <p:sp>
          <p:nvSpPr>
            <p:cNvPr id="1323" name=""/>
            <p:cNvSpPr/>
            <p:nvPr/>
          </p:nvSpPr>
          <p:spPr>
            <a:xfrm>
              <a:off x="152280" y="3962520"/>
              <a:ext cx="3962520" cy="761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58760" y="1911240"/>
              <a:ext cx="394956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58760" y="4351320"/>
              <a:ext cx="394956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58760" y="2306520"/>
              <a:ext cx="394956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58760" y="2703600"/>
              <a:ext cx="394956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58760" y="4748040"/>
              <a:ext cx="394956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527280" y="2703600"/>
              <a:ext cx="58104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938320" y="2703600"/>
              <a:ext cx="57636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347920" y="2703600"/>
              <a:ext cx="57780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55720" y="2703600"/>
              <a:ext cx="57960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527280" y="2306520"/>
              <a:ext cx="58104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38320" y="2306520"/>
              <a:ext cx="57636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760" y="3956040"/>
              <a:ext cx="3949560" cy="3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8760" y="1911240"/>
              <a:ext cx="3949560" cy="321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473840" y="199872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73840" y="490212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76280" y="2394000"/>
              <a:ext cx="536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L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76280" y="2792520"/>
              <a:ext cx="536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L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34800" y="2384280"/>
              <a:ext cx="401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68040" y="2394000"/>
              <a:ext cx="39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76960" y="2814480"/>
              <a:ext cx="52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C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69520" y="2814480"/>
              <a:ext cx="539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C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17160" y="2792520"/>
              <a:ext cx="39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668040" y="2792520"/>
              <a:ext cx="393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0000" y="411012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0000" y="444024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302840" y="3517920"/>
              <a:ext cx="92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0040" y="1371600"/>
              <a:ext cx="37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  1   2   3     4     5     6     7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MA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SUICHE VALIDA LA INTEGRIDAD DE LA T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CALCULA EN CADA SUICHE SI EL  DLCI CAM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RED SE CHEQUEA LA VALIDEZ DE LA LONGITUD DE LA TRAMA Y DE LA DIRECCION. SI HAY ERRORES SE DES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RELAY NO ES BUENO EN REDES CON ALTA TASA D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324000" y="620640"/>
            <a:ext cx="8496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 SOPORTA PROTOCOLOS DE NIVEL SUPERIOR (IP, IPX, ETC.) Y BRID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L </a:t>
            </a:r>
            <a:r>
              <a:rPr b="1" lang="en-US" sz="2400" spc="-1" strike="noStrike" u="sng">
                <a:solidFill>
                  <a:srgbClr val="081d58"/>
                </a:solidFill>
                <a:uFillTx/>
                <a:latin typeface="Arial"/>
              </a:rPr>
              <a:t>RFC 1490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DEFINE DOS MANERAS DE ENCAPSULAR EN TRAMAS FRAME REL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I EL PROTOCOLO TIENE ASIGNADO UN NLPID (NETWORK LAYER PROTOCOL ID) SE UTILI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E LO CONTRARIO CON NLPID=0x80 SE INDICA QUE VIENE ENCAPSULACION SN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PARA OPERAR CON ESTE ESQUEMA EN CISCO SE DEBE DEFINIR ASI LA ENCAPSULACION.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Interface serial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ncapsulation frame-relay i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51160" y="0"/>
            <a:ext cx="813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CION EN TRAMAS FRAME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324000" y="620640"/>
            <a:ext cx="8496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I NO SE ESPECIFICA IETF EN LA CONFIGURACION EN CISCO SE  UTILIZA UNA ENCAPSULACION PROPIETARIA NO COMPATIBLE CON OTROS ROUTER, DONDE CON 2 BYTES SE IDENTIFICA EL DLCI Y CON 2 BYTES SE IDENTIFICA EL PROTOCOLO DE NIVEL SUP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51160" y="0"/>
            <a:ext cx="813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CION EN TRAMAS FRAME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697320" y="76320"/>
            <a:ext cx="8139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APSULACION EN TRAMAS FRAME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9640" y="620640"/>
            <a:ext cx="83520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PROTOCOLO CON NLPID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PROTOCOLO SIN NLP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SNAP=0x80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IP con SNAP: 0x00 0x00 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IPv4=0xCC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0x08 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PPP=0x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81d58"/>
                </a:solidFill>
                <a:latin typeface="Arial"/>
              </a:rPr>
              <a:t>IPv6=0x8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7200" y="3992400"/>
            <a:ext cx="394956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25720" y="3992400"/>
            <a:ext cx="58104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646360" y="399240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" y="3200400"/>
            <a:ext cx="3949560" cy="321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65800" y="328788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765800" y="619128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8240" y="368316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8240" y="40813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27120" y="367344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0360" y="368316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068920" y="410364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661480" y="410364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309480" y="40813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960360" y="40813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822320" y="55562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22320" y="586116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746000" y="517536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28480" y="266076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27040" y="4718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96120" y="44132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821600" y="4794120"/>
            <a:ext cx="179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xCC (Codigo para 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0720" y="6165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50720" y="58611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7040" y="5556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52880" y="1981080"/>
            <a:ext cx="3949920" cy="30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59360" y="1978200"/>
            <a:ext cx="3949560" cy="44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24840" y="205740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01160" y="6205680"/>
            <a:ext cx="59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57800" y="228600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257800" y="259092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L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848360" y="22860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8457840" y="228600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553440" y="2666880"/>
            <a:ext cx="52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163640" y="2666880"/>
            <a:ext cx="5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48360" y="25909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457840" y="2590920"/>
            <a:ext cx="39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476760" y="563868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476760" y="594360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324120" y="533412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30640" y="13716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 1   2   3     4     5     6     7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952880" y="3581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779160" y="289548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627240" y="3124080"/>
            <a:ext cx="1684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0 (PAD Opc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952880" y="6248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952880" y="59436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5288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952880" y="3809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701760" y="3352680"/>
            <a:ext cx="2101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x80 (Indica encap. SN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475320" y="358128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0 (O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952880" y="4572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952880" y="4876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323760" y="4267080"/>
            <a:ext cx="109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50720" y="5022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952880" y="2590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5530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77240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952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952880" y="2895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952880" y="3124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952880" y="3352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475320" y="380988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0 (O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2880" y="4038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475320" y="403848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x00 (O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952880" y="4267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323760" y="4572000"/>
            <a:ext cx="109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3581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1629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3059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51280" y="357336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276720" y="3573360"/>
            <a:ext cx="577800" cy="3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539640" y="620640"/>
            <a:ext cx="8001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S DE PODER TRANSMITIR LAS TRAMAS CON INFORMACIÓN DEL USUARIO DEBE EXISTIR EL CIRCUITO VIR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 OP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MENTE LOS PROVEEDORES SOLO IMPLEMENTAN P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CUITOS VIR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539640" y="907920"/>
            <a:ext cx="832644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ANENT VIRTUAL CIRCUITS: PV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 CAMINOS LÓGICOS QUE SEGUIRAN LAS TRAMAS ENTRE LA FUENTE Y EL DESTINO (PUERTOS FISICOS DE LOS SUICH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DOS POR EL PROVEEDOR (CARRI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COMPORTAN COMO UNA LINEA DEDIC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VCs SON PERMANENTES, UNA VEZ ESTABLECIDOS ESTAN ALLI TODO EL TIEMPO ENTRE LAS CONEXIONES DE LOS DOS P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OMPORTAMIENTO DE LOS PVCs PUEDE SER PREDECIBLE. LOS PVCs SON VIRTUALES, ES DECIR QUE NO CONSUMEN RECURSOS A MENOS QUE EFECTIVAMENTE ESTEN TRANSPORTANDO INFORMAC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C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586800" y="1503360"/>
            <a:ext cx="828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ENRUTAMIENTO DE PVCs POR FALLAS EN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2781360" y="2292480"/>
            <a:ext cx="3155760" cy="2044440"/>
            <a:chOff x="2781360" y="2292480"/>
            <a:chExt cx="3155760" cy="2044440"/>
          </a:xfrm>
        </p:grpSpPr>
        <p:sp>
          <p:nvSpPr>
            <p:cNvPr id="1437" name=""/>
            <p:cNvSpPr/>
            <p:nvPr/>
          </p:nvSpPr>
          <p:spPr>
            <a:xfrm>
              <a:off x="2781360" y="2822400"/>
              <a:ext cx="1544400" cy="749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51000" y="2470320"/>
              <a:ext cx="1544760" cy="7491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95760" y="2292480"/>
              <a:ext cx="1544400" cy="752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24160" y="2529000"/>
              <a:ext cx="1544760" cy="811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070520" y="3232080"/>
              <a:ext cx="1544400" cy="811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95560" y="3116160"/>
              <a:ext cx="1546200" cy="809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92720" y="2881440"/>
              <a:ext cx="1544400" cy="809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9760" y="3525840"/>
              <a:ext cx="1544760" cy="811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35440" y="2522520"/>
              <a:ext cx="2846160" cy="140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2673360" y="2978280"/>
            <a:ext cx="596880" cy="67284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73360" y="3206880"/>
            <a:ext cx="139680" cy="2156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5416560" y="2978280"/>
            <a:ext cx="596880" cy="672840"/>
            <a:chOff x="5416560" y="2978280"/>
            <a:chExt cx="596880" cy="672840"/>
          </a:xfrm>
        </p:grpSpPr>
        <p:sp>
          <p:nvSpPr>
            <p:cNvPr id="1449" name=""/>
            <p:cNvSpPr/>
            <p:nvPr/>
          </p:nvSpPr>
          <p:spPr>
            <a:xfrm>
              <a:off x="5416560" y="2978280"/>
              <a:ext cx="596880" cy="672840"/>
            </a:xfrm>
            <a:prstGeom prst="octagon">
              <a:avLst>
                <a:gd name="adj" fmla="val 2927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3760" y="3206880"/>
              <a:ext cx="139680" cy="215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2819520" y="2971800"/>
            <a:ext cx="3049560" cy="306360"/>
          </a:xfrm>
          <a:custGeom>
            <a:avLst/>
            <a:gdLst/>
            <a:ahLst/>
            <a:rect l="l" t="t" r="r" b="b"/>
            <a:pathLst>
              <a:path w="1921" h="193">
                <a:moveTo>
                  <a:pt x="0" y="154"/>
                </a:moveTo>
                <a:lnTo>
                  <a:pt x="336" y="0"/>
                </a:lnTo>
                <a:lnTo>
                  <a:pt x="1536" y="0"/>
                </a:lnTo>
                <a:lnTo>
                  <a:pt x="1920" y="192"/>
                </a:lnTo>
              </a:path>
            </a:pathLst>
          </a:custGeom>
          <a:noFill/>
          <a:ln cap="rnd" w="25560">
            <a:solidFill>
              <a:srgbClr val="ad6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3352680"/>
            <a:ext cx="3049560" cy="306360"/>
          </a:xfrm>
          <a:custGeom>
            <a:avLst/>
            <a:gdLst/>
            <a:ahLst/>
            <a:rect l="l" t="t" r="r" b="b"/>
            <a:pathLst>
              <a:path w="1921" h="193">
                <a:moveTo>
                  <a:pt x="0" y="38"/>
                </a:moveTo>
                <a:lnTo>
                  <a:pt x="336" y="192"/>
                </a:lnTo>
                <a:lnTo>
                  <a:pt x="1536" y="192"/>
                </a:lnTo>
                <a:lnTo>
                  <a:pt x="1920" y="0"/>
                </a:lnTo>
              </a:path>
            </a:pathLst>
          </a:custGeom>
          <a:noFill/>
          <a:ln cap="rnd" w="25560">
            <a:solidFill>
              <a:srgbClr val="ad6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038480" y="266688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144" y="144"/>
                </a:moveTo>
                <a:lnTo>
                  <a:pt x="144" y="0"/>
                </a:lnTo>
                <a:lnTo>
                  <a:pt x="192" y="144"/>
                </a:lnTo>
                <a:lnTo>
                  <a:pt x="336" y="96"/>
                </a:lnTo>
                <a:lnTo>
                  <a:pt x="288" y="192"/>
                </a:lnTo>
                <a:lnTo>
                  <a:pt x="336" y="288"/>
                </a:lnTo>
                <a:lnTo>
                  <a:pt x="192" y="240"/>
                </a:lnTo>
                <a:lnTo>
                  <a:pt x="144" y="336"/>
                </a:lnTo>
                <a:lnTo>
                  <a:pt x="144" y="240"/>
                </a:lnTo>
                <a:lnTo>
                  <a:pt x="0" y="144"/>
                </a:lnTo>
                <a:lnTo>
                  <a:pt x="144" y="144"/>
                </a:lnTo>
              </a:path>
            </a:pathLst>
          </a:custGeom>
          <a:solidFill>
            <a:srgbClr val="cc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261240" y="2660760"/>
            <a:ext cx="5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37200" y="3346560"/>
            <a:ext cx="5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3880" y="4467240"/>
            <a:ext cx="80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 MAYORIA DE LOS SERVICIOS FRAME RELAY POSEEN CAM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FISICOS ALTERN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S PVCs PUEDEN PROGRAMARSE CON RUTAS ALTERNAS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IOR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AS TRAMAS PERDIDAS NO SON  RECUPERADAS POR 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RELAY- PV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380880" y="1371600"/>
            <a:ext cx="80218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Cs: SWITCHED VIRTUAL CIRC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 CIRCUITOS VIRTUALES NEGOCIADOS Y ESTABLECIDOS POR LOS EQUIPOS DE ACCESO (GENERAMENTE ROUTERS) Y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N DISPONIBLES DESDE EL FINAL DE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O IMPLEMENTADOS POR LOS CARR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RELAY - SV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53964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S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OCIDAD DE ACCESO FIS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: COMMITED INFORMA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FICO EN EXCESO (BU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LOCIDADES EN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765000"/>
            <a:ext cx="83516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 BAJO COSTO, AUNQUE MAYOR COSTO QUE VPN SOBR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NE UN ALTO DESEMPEÑO POR SU SIMP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EJO  DE CONGESTION BASICO:(FECN, BECN, 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CONSIDERA UNA VERSIÓN MAS SIMPLIFICADA Y EFICIENTE DE X.25 Y RDSI BANDA ANGO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USUARIO PERCIBE UNA NUBE  A LA QUE LE INYETA TRAMAS. POR DENTRO LA NUBE PUEDE SER FRAME RELAY PURA O BASADA EN TECNOLOGIAS COMO ATM O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324000" y="692280"/>
            <a:ext cx="8496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DAD DE ACCESO A LA N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DADA EN CADA SITIO POR EL DISPOSITIVO DE ULTIMO KILOMETRO UTILIZADO: RADIO, BANDA B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CADA SITIO PUEDE SER DIF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ETERMINA A PARTIR DE LAS CAPACIDADES CONTRATADAS EN CADA CIRCUITO (CIR Y TRAFICO EN EXCES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TIPICAS VELOCIDADES DE ACCESO: 64Kpbs, 128Kbps, 256Kbps, 512Kbps, 1024Kbps, 2048Kbps (1 E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LOCIDAD FISICA O DE PU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250920" y="692280"/>
            <a:ext cx="856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: COMMITTED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IR ESTABLECE QUE SI EN UN TIEMPO Tc EL CLIENTE INYECTA A LA NUBE UNA CANTIDAD DE TRAFICO Bc, EL PROVEEDOR LO LLEVARÁ HASTA EL OTRO EXTRE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FINE COMO CIR=Bc / 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JO: OJO: OJO: EL CIR SE DEFINE POR CIRCUITO.  NO POR SI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 CIRCUITO DEBE TENER SU CIR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IR CORRESPONDE AL THROUGHPUT GARANTIZADO PARA CADA PV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215640" y="1371600"/>
            <a:ext cx="8636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NDO EL 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= Commited Burst Size.    Tc=Commited Rate Measuremte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600200" y="2224080"/>
            <a:ext cx="0" cy="27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14600" y="4952880"/>
            <a:ext cx="54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752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05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57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209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623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5146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8195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9718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1240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767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4290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5812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7339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8862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038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91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95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6483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8006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9528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1055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578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100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5627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7150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8672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0199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722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324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477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81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98756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44476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05424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51144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27356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848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8304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690560" y="281952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67560" y="263844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738080" y="3498840"/>
            <a:ext cx="67680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261960" y="5175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090760" y="51753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387040" y="3048120"/>
            <a:ext cx="3758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IR=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COMMITTED BURST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IR = 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447920" y="5562720"/>
            <a:ext cx="48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IR =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7 x 15 Kb 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=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52,5 Kbps ....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6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594000" y="1397160"/>
            <a:ext cx="261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NDO EL C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600200" y="2224080"/>
            <a:ext cx="0" cy="27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614600" y="4952880"/>
            <a:ext cx="54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752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905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057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209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3623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5146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6668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8195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9718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1240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2767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4290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812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339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8862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8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343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495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483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8006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055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2578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100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5627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7150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8672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0199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722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3244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47712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62940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781680" y="496728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87560" y="2825640"/>
            <a:ext cx="189216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883040" y="2825640"/>
            <a:ext cx="139680" cy="21211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690560" y="2819520"/>
            <a:ext cx="4164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67560" y="263844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260880" y="5180040"/>
            <a:ext cx="296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089680" y="5180040"/>
            <a:ext cx="296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99320" y="1876320"/>
            <a:ext cx="3758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IR=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COMMITTED BURST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427400" y="5762520"/>
            <a:ext cx="500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IR =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1024k + 128k 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15,2Kbps ....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2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0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119680" y="3552840"/>
            <a:ext cx="166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.024.00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633920" y="355284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28 K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091480" y="5153040"/>
            <a:ext cx="96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10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43640" y="2127240"/>
            <a:ext cx="1488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9280" y="692280"/>
            <a:ext cx="8748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CIR DE CADA PVC NO PUEDE EXCEDER LA VELOCIDAD DEL PUERTO AL QUE SE ENCUENTRA CON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N CASO DE TENER UN PVC CONECTANDO DOS PUERTOS DE DIFERENTE VELOCIDAD, LIMITARA LA MAS BAJA DE LOS DOS PU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S POSIBLE QUE UN PVC TRANSMITA INFORMACION A UNA VELOCIDAD SUPERIOR A SU CIR, PERO ESTAS TRAMAS QUE SOBREPASEN EL CIR SERAN MARCADAS COMO DESCARTABLES (TRAFICO EN EXCES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S IMPORTANTE PROGRAMAR EL CIR CONOCIENDO LAS NECESIDADES Y ESPECTATIVAS DE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L CIR PUEDE VARIAR EN PRINCIPIO ENTRE 0Kbps Y VARIOS Mbps (típicamente máximo 45Mbps), DEPENDIENDO DEL PROVE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ON COMUNES CIR MULTIPLOS DE 64Kbps COMO 64Kbps, 128Kbps, 256Kbps, 512K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LGUNOS CARRIER OFRECEN CIR MULTIPLOS DE 9.6 o 19,2 KBPS EN ACCESOS DE BAJA VELO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N CASO DE DESEAR MODIFICAR UN CIR CONTRATADO ESTE ES FACIL DE REPROGRAMAR PUES ES UNA CARACTERISTICA DE LOS PVC EN EL PUERTO DE AC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468360" y="1341360"/>
            <a:ext cx="8224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ALGUNAS REDES DE SERVICIO FRAME RELAY PROV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CIR SIMPLEX (EN UN SOLO SENTIDO) O TAMBIEN ASIMÉT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49680" y="3968640"/>
            <a:ext cx="977760" cy="36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743920" y="398772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760920" y="4114800"/>
            <a:ext cx="20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946680" y="4556160"/>
            <a:ext cx="1384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4807080" y="3511440"/>
            <a:ext cx="1663560" cy="1206720"/>
            <a:chOff x="4807080" y="3511440"/>
            <a:chExt cx="1663560" cy="1206720"/>
          </a:xfrm>
        </p:grpSpPr>
        <p:sp>
          <p:nvSpPr>
            <p:cNvPr id="1578" name=""/>
            <p:cNvSpPr/>
            <p:nvPr/>
          </p:nvSpPr>
          <p:spPr>
            <a:xfrm>
              <a:off x="4807080" y="3825720"/>
              <a:ext cx="811080" cy="438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50000" y="3616200"/>
              <a:ext cx="811080" cy="4399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91280" y="3511440"/>
              <a:ext cx="811080" cy="4413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18080" y="3651120"/>
              <a:ext cx="811440" cy="476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89640" y="4068720"/>
              <a:ext cx="811080" cy="474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19760" y="4000680"/>
              <a:ext cx="812880" cy="474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659560" y="3860640"/>
              <a:ext cx="811080" cy="474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176800" y="4241880"/>
              <a:ext cx="811080" cy="476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884840" y="3645000"/>
              <a:ext cx="1506600" cy="836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1386000" y="3892680"/>
            <a:ext cx="1344600" cy="604800"/>
            <a:chOff x="1386000" y="3892680"/>
            <a:chExt cx="1344600" cy="604800"/>
          </a:xfrm>
        </p:grpSpPr>
        <p:grpSp>
          <p:nvGrpSpPr>
            <p:cNvPr id="1588" name=""/>
            <p:cNvGrpSpPr/>
            <p:nvPr/>
          </p:nvGrpSpPr>
          <p:grpSpPr>
            <a:xfrm>
              <a:off x="1465200" y="3892680"/>
              <a:ext cx="239760" cy="182520"/>
              <a:chOff x="1465200" y="3892680"/>
              <a:chExt cx="239760" cy="182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1515960" y="3892680"/>
                <a:ext cx="136800" cy="128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65200" y="4027320"/>
                <a:ext cx="239760" cy="47880"/>
              </a:xfrm>
              <a:custGeom>
                <a:avLst/>
                <a:gdLst/>
                <a:ahLst/>
                <a:rect l="l" t="t" r="r" b="b"/>
                <a:pathLst>
                  <a:path w="151" h="30">
                    <a:moveTo>
                      <a:pt x="28" y="0"/>
                    </a:moveTo>
                    <a:lnTo>
                      <a:pt x="0" y="29"/>
                    </a:lnTo>
                    <a:lnTo>
                      <a:pt x="150" y="29"/>
                    </a:lnTo>
                    <a:lnTo>
                      <a:pt x="122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1386000" y="421488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08120" y="408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92160" y="4229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033640" y="408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1892160" y="3892680"/>
              <a:ext cx="238320" cy="182520"/>
              <a:chOff x="1892160" y="3892680"/>
              <a:chExt cx="238320" cy="182520"/>
            </a:xfrm>
          </p:grpSpPr>
          <p:sp>
            <p:nvSpPr>
              <p:cNvPr id="1596" name=""/>
              <p:cNvSpPr/>
              <p:nvPr/>
            </p:nvSpPr>
            <p:spPr>
              <a:xfrm>
                <a:off x="1943280" y="3892680"/>
                <a:ext cx="134640" cy="128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892160" y="4027320"/>
                <a:ext cx="238320" cy="4788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28" y="0"/>
                    </a:moveTo>
                    <a:lnTo>
                      <a:pt x="0" y="29"/>
                    </a:lnTo>
                    <a:lnTo>
                      <a:pt x="149" y="29"/>
                    </a:lnTo>
                    <a:lnTo>
                      <a:pt x="121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2317680" y="3892680"/>
              <a:ext cx="238320" cy="182520"/>
              <a:chOff x="2317680" y="3892680"/>
              <a:chExt cx="238320" cy="182520"/>
            </a:xfrm>
          </p:grpSpPr>
          <p:sp>
            <p:nvSpPr>
              <p:cNvPr id="1599" name=""/>
              <p:cNvSpPr/>
              <p:nvPr/>
            </p:nvSpPr>
            <p:spPr>
              <a:xfrm>
                <a:off x="2368440" y="3892680"/>
                <a:ext cx="135000" cy="1285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317680" y="4027320"/>
                <a:ext cx="238320" cy="47880"/>
              </a:xfrm>
              <a:custGeom>
                <a:avLst/>
                <a:gdLst/>
                <a:ahLst/>
                <a:rect l="l" t="t" r="r" b="b"/>
                <a:pathLst>
                  <a:path w="150" h="30">
                    <a:moveTo>
                      <a:pt x="28" y="0"/>
                    </a:moveTo>
                    <a:lnTo>
                      <a:pt x="0" y="29"/>
                    </a:lnTo>
                    <a:lnTo>
                      <a:pt x="149" y="29"/>
                    </a:lnTo>
                    <a:lnTo>
                      <a:pt x="121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>
              <a:off x="2411280" y="408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1751040" y="4314960"/>
              <a:ext cx="236520" cy="182520"/>
              <a:chOff x="1751040" y="4314960"/>
              <a:chExt cx="236520" cy="182520"/>
            </a:xfrm>
          </p:grpSpPr>
          <p:sp>
            <p:nvSpPr>
              <p:cNvPr id="1603" name=""/>
              <p:cNvSpPr/>
              <p:nvPr/>
            </p:nvSpPr>
            <p:spPr>
              <a:xfrm>
                <a:off x="1800360" y="4314960"/>
                <a:ext cx="134640" cy="126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751040" y="4448160"/>
                <a:ext cx="236520" cy="49320"/>
              </a:xfrm>
              <a:custGeom>
                <a:avLst/>
                <a:gdLst/>
                <a:ahLst/>
                <a:rect l="l" t="t" r="r" b="b"/>
                <a:pathLst>
                  <a:path w="149" h="31">
                    <a:moveTo>
                      <a:pt x="28" y="0"/>
                    </a:moveTo>
                    <a:lnTo>
                      <a:pt x="0" y="30"/>
                    </a:lnTo>
                    <a:lnTo>
                      <a:pt x="148" y="30"/>
                    </a:lnTo>
                    <a:lnTo>
                      <a:pt x="120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5" name=""/>
          <p:cNvSpPr/>
          <p:nvPr/>
        </p:nvSpPr>
        <p:spPr>
          <a:xfrm>
            <a:off x="5167080" y="3803760"/>
            <a:ext cx="902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60920" y="3581280"/>
            <a:ext cx="861840" cy="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13200" y="4495680"/>
            <a:ext cx="861840" cy="0"/>
          </a:xfrm>
          <a:prstGeom prst="line">
            <a:avLst/>
          </a:prstGeom>
          <a:ln w="2556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016880" y="4611600"/>
            <a:ext cx="108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16880" y="3651120"/>
            <a:ext cx="97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IR = Excess Information Rat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FICO INYECTADO POR EL CLIENTE,  POR ENCIMA DEL CIR Y QUE EL PROVEEDOR LLEVARA EN CASO DE QUE LA RED NO ESTE CONGESTION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FINE COMO UN TRAFICO Be, EN UN TIEMPO 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FICO EN EXCESO = Be / 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TRAFICO EN EXCESO ES MARCADO CON EL BIT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 1 Y EN CASO DE CONGESTION ES DESCAR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LIMITACION MAXIMA SERA DADA POR LA ACTIVIDAD EN OTROS PVC DEL MISMO PUERTO Y POR LA VELOCIDAD MAXIMA DEL PU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GUNOS PROVEEDORES CONFIGURAN TRAFICO EN EXCESO 0Kbps.  OTROS OFRECEN EL 50% DEL CIR. ALGUNOS LO COBRAN, OTROS NO.  TODO DEPENDE DE LA NEGOCIAC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ICO EN EXCESO – CIR BUR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592200" y="1397160"/>
            <a:ext cx="2261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 - BURS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95280" y="2604960"/>
            <a:ext cx="0" cy="32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309680" y="5867280"/>
            <a:ext cx="65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24040" y="208296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986240" y="5740560"/>
            <a:ext cx="788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12760" y="2965320"/>
            <a:ext cx="870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Arial"/>
              </a:rPr>
              <a:t>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57400" y="3200400"/>
            <a:ext cx="65260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8080" y="471816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82640" y="5416560"/>
            <a:ext cx="444600" cy="44460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139840" y="4959360"/>
            <a:ext cx="596880" cy="90180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749680" y="4425840"/>
            <a:ext cx="596880" cy="143532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92680" y="4044960"/>
            <a:ext cx="596880" cy="181620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730760" y="3206880"/>
            <a:ext cx="596880" cy="265428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547960" y="3835440"/>
            <a:ext cx="105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486400" y="32148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572000" y="40528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81280" y="443376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9680" y="4425840"/>
            <a:ext cx="596880" cy="520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92680" y="4044960"/>
            <a:ext cx="59688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730760" y="3206880"/>
            <a:ext cx="59688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081080" y="4952880"/>
            <a:ext cx="66024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805120" y="452124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71800" y="439884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786200" y="37591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FICO EN EXCESO – CIR BUR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MANAGEMENT INTERFACE : L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UN MECANISMO DE COMUNICACIÓN (SEÑALIZACION) ENTRE EL DTE (GENERALMENTE UN ROUTER) Y SU RESPECTIVO SUICHE FRAME R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LMI CREADO POR EL FRAME RELAY FORUM FUE MODIFICADO POR LA ANSI Y LA CCITT CREANDO SUS PROPIAS 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EN VARIAS VERSIONES: LMI, ANSI (ANNEX D) Y ANNEX A (Q.93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765000"/>
            <a:ext cx="83516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EJA ANCHO DE BANDA DINAMICO MEDIANTE LA CONFIGURACIÓN DE PARAMETROS (CIR, TRAFICO EN EXCE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E ENCAPSULAR MULTIPLES PROTOCOLOS COMO: SNA, IP, IPX Y X.25 ENTRE OTROS, DE ACUERDO  AL RFC 14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JO: LA ENCAPSULACION POR DEFECTO EN CISCO ES PROPIETARIA. PARA INTEROPERAR CON OTROS PROVEEDORES REQUIERE COM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psulation frame-relay iet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PORTA UNICASTING Y MULTI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UNOS ESTANDARES ITU-T Y  ANSI RELACIONADOS: I.233, Q.922A, Q.933A, I.370,Q.920, Q. 9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RELAY FORUM IMPLEMENTATION AGREEMENTS: FRF1-10 (AS TO SEPT. 199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 OTRAS COSAS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OCER EL ESTATUS DE LA CONEXION DE ULTIMO KILOMETRO ENTRE DTE Y LA RED. (KEEPS-ALIVES CADA 10 se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ESTADO DE LOS PVC: ACTIVOS, BORRADOS, INACTIVOS, etc. (FRAMES DE ESTADO CADA MINU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ESCARGA DE NUEVAS DIRECCIONES PARA SIMPLIFICAR EL PROCESO DE CONFIGURACION, AL CONECTAR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ISPOSITIVOS ESTOS INFORMAN DE SU PRES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NOTIFICAR  LA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395280" y="69228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DEPENDIENDO DEL TIPO, UTILIZA LOS DLCIs 0 y 10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NTRE OTROS UTILIZA MENSAJ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TATUS QUERY: DTE--&gt;DCE ENTRE 5 Y 30 SEG. DEFAULT 10 SEG. SINO EL DCE GENERA ALARMA EN LOS 15 SEG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ULL STATUS QUERY: DEVUELVE MAS INFORMACION SOBRE EL ESTADO DE LOS PV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395280" y="692280"/>
            <a:ext cx="845820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e el primer LMI creado (Frame Relay Foru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el DLCI 1023.  No es muy utilizado ac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ja los DLCI de 16-1007 para dat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cisco: frame-relay lmi-type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EX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el estándar de la ANSI T1.61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ocido también como LMI an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el más utilizado en nuestro medio (Colombia) y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 el  DLCI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ja los DLCI de 16-992 para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Cisco:  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L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32400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EX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ocido también como Q.933, es similar a Annex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y utilizado en Europ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 DLCI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crear SVC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Cisco:  frame-relay lmi-type q93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L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539640" y="765000"/>
            <a:ext cx="8001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 SOPORTA MULTICAST COMO UNA OPCION DE LMI UTILIZANDO LOS SIGUIENTES DLCI: 1019-10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EL SUICHE QUE RECIBE LA TRAMA DEL ROUTER REPLICA ESTA A LOS PVC REGISTRADOS COMO PARTE DEL GRUPO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CAST EN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1768320" y="260280"/>
            <a:ext cx="4794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RELAY – UNI Y 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04920" y="1295280"/>
            <a:ext cx="8458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UNI (User Network Interface): Interface hacia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NNI (Network to Network Interface): Interface para conectar redes Frame Relay entre 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" descr="Structure of a frame-relay network - Example"/>
          <p:cNvPicPr/>
          <p:nvPr/>
        </p:nvPicPr>
        <p:blipFill>
          <a:blip r:embed="rId1"/>
          <a:stretch/>
        </p:blipFill>
        <p:spPr>
          <a:xfrm>
            <a:off x="304920" y="4038480"/>
            <a:ext cx="88390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666000" y="1174680"/>
            <a:ext cx="84308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UNOS CARRIERS ESTAN ADICIONANDO ELEMENTOS M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VOS Y A LA VEZ CONFU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EJEMPLO, ALGUNOS CARRIERS PERMITEN ASIGNAR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 SOBRE UN PV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O ES COMO COMPR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TIQU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AVION SIN GARA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E EL AVION SALD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NQUE ES UNA SOLUCION NO RECOMENDADA PARA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UMENES DE TRAFICO O APLICACIONES CRITICAS ES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CION MUY ECONO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" descr=""/>
          <p:cNvPicPr/>
          <p:nvPr/>
        </p:nvPicPr>
        <p:blipFill>
          <a:blip r:embed="rId1"/>
          <a:stretch/>
        </p:blipFill>
        <p:spPr>
          <a:xfrm>
            <a:off x="5765760" y="3352680"/>
            <a:ext cx="2603520" cy="1479600"/>
          </a:xfrm>
          <a:prstGeom prst="rect">
            <a:avLst/>
          </a:prstGeom>
          <a:ln w="0">
            <a:noFill/>
          </a:ln>
        </p:spPr>
      </p:pic>
      <p:sp>
        <p:nvSpPr>
          <p:cNvPr id="165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IF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91320" y="692280"/>
            <a:ext cx="87616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CARRIERS ESTAN EMPLEANDO TARIFAS POR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O HABILITA LA POSIBILIDAD DE PAGAR SOLO POR EL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SE HACE DE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O TRAE BENEFICIOS  CLA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AYORIA DE LOS SITIOS HOY DIA USAN MENOS TRAFICO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QUE LOS ADMINISTRADORES DE RED 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PELIGROS CLA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RESUPUESTO DE GASTOS NO ES PREDEC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RIA TERMINAR PAGANDO MAS DE LO PROGRAM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 ALGUNOS CARRIERS SE PAGA POR EL NUMERO DE PVC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ENTRAS QUE EN OTROS NO SE HACE RECARGO POR EL NU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PVCs SINO SOBRE EL CIR ASIG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O CAUSA LA DIFERENCIA ENTRE TENER TRES PVCs A 64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UNO SOLO A 192K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IF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395280" y="673200"/>
            <a:ext cx="849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IMPACTO DE LA FORMA DE TARIFACION INFLUIRA EN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CION COSTO / BENEFICIO DE TENER MUCHAS O PO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ONES DIRECTAS CON SITIOS REMO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OSTO PROMEDIO POR CIR DECRECE AL AUMENTAR EL 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 DE LOS FACTORES MAS SENSIBLES EN EL COSTO ES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OCIADO A CADA PUE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ASOCIAR MAYOR NUMERO DE CONEXIONES SOBRE EL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ERTO SE AMORTIZA EL COSTO DEL PUERTO SOBRE UN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 DE CONEX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UNOS CARRIERS PERMITEN SOBRESUSCRIBIR LAS CONEX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LOS PUERTOS ARRIBA DEL 100% (OVERSUSCRIP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O REALZA EL VALOR DE LA OPORTUNIDAD DE CONEX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IF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605160" y="260280"/>
            <a:ext cx="797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RELAY - VOZ SOBRE FR (VoF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5280" y="981000"/>
            <a:ext cx="83329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OS COMIENZOS DE LA TELEFONIA SOBRE REDES DE DATOS FRAME RELAY FUE MUY UTILIZADO COMO TRANSPORTE DE LA 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NE MENOS OVERHEAD QUE LA VOZ SOBRE 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 ACTUALMENTE SE OPTO POR LA ULTIMA ALTERNATIVA: VOZ SOBRE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TILIZAN FRAMES PEQUEÑOS PARA REDUCIR LOS RETAR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 MUY MADURA Y MUY DOCUMENTADA EN ESTAND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OBTIENEN GRANDES REDUCCIONES DE COSTO: 40% Y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477120" y="2133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1905120"/>
            <a:ext cx="1676160" cy="68580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19520" y="1676520"/>
            <a:ext cx="4266360" cy="3047040"/>
            <a:chOff x="2819520" y="1676520"/>
            <a:chExt cx="4266360" cy="3047040"/>
          </a:xfrm>
        </p:grpSpPr>
        <p:sp>
          <p:nvSpPr>
            <p:cNvPr id="66" name=""/>
            <p:cNvSpPr/>
            <p:nvPr/>
          </p:nvSpPr>
          <p:spPr>
            <a:xfrm>
              <a:off x="2819520" y="167652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9720" y="306756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.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495680" y="3962520"/>
            <a:ext cx="766440" cy="609480"/>
            <a:chOff x="4495680" y="3962520"/>
            <a:chExt cx="766440" cy="609480"/>
          </a:xfrm>
        </p:grpSpPr>
        <p:sp>
          <p:nvSpPr>
            <p:cNvPr id="71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6040" y="41148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29000" y="2590920"/>
            <a:ext cx="766440" cy="609480"/>
            <a:chOff x="3429000" y="2590920"/>
            <a:chExt cx="766440" cy="609480"/>
          </a:xfrm>
        </p:grpSpPr>
        <p:sp>
          <p:nvSpPr>
            <p:cNvPr id="74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360" y="27432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715000" y="2362320"/>
            <a:ext cx="766440" cy="609480"/>
            <a:chOff x="5715000" y="2362320"/>
            <a:chExt cx="766440" cy="609480"/>
          </a:xfrm>
        </p:grpSpPr>
        <p:sp>
          <p:nvSpPr>
            <p:cNvPr id="77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25146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981080" y="2133720"/>
            <a:ext cx="608760" cy="380160"/>
            <a:chOff x="1981080" y="2133720"/>
            <a:chExt cx="608760" cy="380160"/>
          </a:xfrm>
        </p:grpSpPr>
        <p:grpSp>
          <p:nvGrpSpPr>
            <p:cNvPr id="93" name=""/>
            <p:cNvGrpSpPr/>
            <p:nvPr/>
          </p:nvGrpSpPr>
          <p:grpSpPr>
            <a:xfrm>
              <a:off x="1981080" y="2133720"/>
              <a:ext cx="608760" cy="380160"/>
              <a:chOff x="1981080" y="2133720"/>
              <a:chExt cx="608760" cy="380160"/>
            </a:xfrm>
          </p:grpSpPr>
          <p:sp>
            <p:nvSpPr>
              <p:cNvPr id="94" name=""/>
              <p:cNvSpPr/>
              <p:nvPr/>
            </p:nvSpPr>
            <p:spPr>
              <a:xfrm>
                <a:off x="2003760" y="213804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44800" y="230328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1981080" y="2307960"/>
                <a:ext cx="347040" cy="204840"/>
                <a:chOff x="1981080" y="2307960"/>
                <a:chExt cx="347040" cy="204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21760" y="234828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16360" y="236412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81080" y="230796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69800" y="24224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2290320" y="222192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57400" y="2144880"/>
                <a:ext cx="50436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05800" y="221724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19600" y="213372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052360" y="2358000"/>
              <a:ext cx="214200" cy="93600"/>
              <a:chOff x="2052360" y="2358000"/>
              <a:chExt cx="214200" cy="936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052360" y="2358000"/>
                <a:ext cx="6840" cy="8280"/>
                <a:chOff x="2052360" y="2358000"/>
                <a:chExt cx="6840" cy="8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52360" y="236196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52360" y="235800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105640" y="2375640"/>
                <a:ext cx="160920" cy="75960"/>
                <a:chOff x="2105640" y="2375640"/>
                <a:chExt cx="160920" cy="7596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2105640" y="2382120"/>
                  <a:ext cx="160920" cy="69480"/>
                  <a:chOff x="2105640" y="2382120"/>
                  <a:chExt cx="160920" cy="69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236680" y="243396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130480" y="239328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83400" y="241344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208600" y="242460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55680" y="240228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05640" y="238212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256480" y="244512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2105640" y="2375640"/>
                  <a:ext cx="160200" cy="72720"/>
                  <a:chOff x="2105640" y="2375640"/>
                  <a:chExt cx="160200" cy="7272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130480" y="2386800"/>
                    <a:ext cx="135360" cy="61560"/>
                    <a:chOff x="2130480" y="2386800"/>
                    <a:chExt cx="135360" cy="615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258640" y="244008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155320" y="239580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207880" y="24181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233080" y="24289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180520" y="240696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2130480" y="238680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" name=""/>
                  <p:cNvSpPr/>
                  <p:nvPr/>
                </p:nvSpPr>
                <p:spPr>
                  <a:xfrm>
                    <a:off x="2105640" y="237564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" name=""/>
          <p:cNvSpPr/>
          <p:nvPr/>
        </p:nvSpPr>
        <p:spPr>
          <a:xfrm>
            <a:off x="1829520" y="251460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981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086600" y="1828800"/>
            <a:ext cx="608760" cy="380160"/>
            <a:chOff x="7086600" y="1828800"/>
            <a:chExt cx="608760" cy="380160"/>
          </a:xfrm>
        </p:grpSpPr>
        <p:grpSp>
          <p:nvGrpSpPr>
            <p:cNvPr id="130" name=""/>
            <p:cNvGrpSpPr/>
            <p:nvPr/>
          </p:nvGrpSpPr>
          <p:grpSpPr>
            <a:xfrm>
              <a:off x="7086600" y="1828800"/>
              <a:ext cx="608760" cy="380160"/>
              <a:chOff x="7086600" y="1828800"/>
              <a:chExt cx="608760" cy="380160"/>
            </a:xfrm>
          </p:grpSpPr>
          <p:sp>
            <p:nvSpPr>
              <p:cNvPr id="131" name=""/>
              <p:cNvSpPr/>
              <p:nvPr/>
            </p:nvSpPr>
            <p:spPr>
              <a:xfrm>
                <a:off x="7109280" y="18331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150320" y="19983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7086600" y="2003040"/>
                <a:ext cx="347040" cy="204840"/>
                <a:chOff x="7086600" y="2003040"/>
                <a:chExt cx="347040" cy="204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127280" y="20433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121880" y="20592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086600" y="20030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75320" y="21175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7395840" y="19170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18399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11320" y="19123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25120" y="18288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157880" y="2053080"/>
              <a:ext cx="214200" cy="93600"/>
              <a:chOff x="7157880" y="2053080"/>
              <a:chExt cx="214200" cy="93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7157880" y="2053080"/>
                <a:ext cx="6840" cy="8280"/>
                <a:chOff x="7157880" y="2053080"/>
                <a:chExt cx="6840" cy="8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157880" y="20570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57880" y="20530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7211160" y="2070720"/>
                <a:ext cx="160920" cy="75960"/>
                <a:chOff x="7211160" y="2070720"/>
                <a:chExt cx="160920" cy="759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7211160" y="2077200"/>
                  <a:ext cx="160920" cy="69480"/>
                  <a:chOff x="7211160" y="2077200"/>
                  <a:chExt cx="160920" cy="694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7342200" y="21290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236000" y="20883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288920" y="21085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314120" y="21196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261200" y="20973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211160" y="20772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362000" y="21402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211160" y="2070720"/>
                  <a:ext cx="160200" cy="72720"/>
                  <a:chOff x="7211160" y="2070720"/>
                  <a:chExt cx="160200" cy="7272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236000" y="2081880"/>
                    <a:ext cx="135360" cy="61560"/>
                    <a:chOff x="7236000" y="2081880"/>
                    <a:chExt cx="135360" cy="615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364160" y="21351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260840" y="20908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313400" y="21132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338600" y="21240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286040" y="21020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236000" y="20818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7211160" y="20707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64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43000" y="5867280"/>
            <a:ext cx="1752120" cy="609480"/>
            <a:chOff x="1143000" y="5867280"/>
            <a:chExt cx="1752120" cy="609480"/>
          </a:xfrm>
        </p:grpSpPr>
        <p:pic>
          <p:nvPicPr>
            <p:cNvPr id="173" name="" descr=""/>
            <p:cNvPicPr/>
            <p:nvPr/>
          </p:nvPicPr>
          <p:blipFill>
            <a:blip r:embed="rId7"/>
            <a:stretch/>
          </p:blipFill>
          <p:spPr>
            <a:xfrm>
              <a:off x="114300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8"/>
            <a:stretch/>
          </p:blipFill>
          <p:spPr>
            <a:xfrm>
              <a:off x="1752480" y="5867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9"/>
            <a:stretch/>
          </p:blipFill>
          <p:spPr>
            <a:xfrm>
              <a:off x="2361960" y="5867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218960" y="6476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24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08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560" y="6324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87960" y="2057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6201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71800" y="5029200"/>
            <a:ext cx="608760" cy="380160"/>
            <a:chOff x="2971800" y="5029200"/>
            <a:chExt cx="608760" cy="380160"/>
          </a:xfrm>
        </p:grpSpPr>
        <p:grpSp>
          <p:nvGrpSpPr>
            <p:cNvPr id="183" name=""/>
            <p:cNvGrpSpPr/>
            <p:nvPr/>
          </p:nvGrpSpPr>
          <p:grpSpPr>
            <a:xfrm>
              <a:off x="2971800" y="5029200"/>
              <a:ext cx="608760" cy="380160"/>
              <a:chOff x="2971800" y="5029200"/>
              <a:chExt cx="608760" cy="380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994480" y="50335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35520" y="51987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971800" y="5203440"/>
                <a:ext cx="347040" cy="204840"/>
                <a:chOff x="2971800" y="5203440"/>
                <a:chExt cx="347040" cy="2048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12480" y="52437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07080" y="52596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971800" y="52034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60520" y="53179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3281040" y="51174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48120" y="50403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96520" y="51127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10320" y="50292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043080" y="5253480"/>
              <a:ext cx="214200" cy="93600"/>
              <a:chOff x="3043080" y="5253480"/>
              <a:chExt cx="214200" cy="936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043080" y="5253480"/>
                <a:ext cx="6840" cy="8280"/>
                <a:chOff x="3043080" y="5253480"/>
                <a:chExt cx="6840" cy="8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43080" y="52574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43080" y="52534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096360" y="5271120"/>
                <a:ext cx="160920" cy="75960"/>
                <a:chOff x="3096360" y="5271120"/>
                <a:chExt cx="160920" cy="75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3096360" y="5277600"/>
                  <a:ext cx="160920" cy="69480"/>
                  <a:chOff x="3096360" y="5277600"/>
                  <a:chExt cx="160920" cy="6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227400" y="53294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121200" y="52887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174120" y="53089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199320" y="53200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46400" y="52977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096360" y="52776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247200" y="53406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096360" y="5271120"/>
                  <a:ext cx="160200" cy="72720"/>
                  <a:chOff x="3096360" y="5271120"/>
                  <a:chExt cx="160200" cy="72720"/>
                </a:xfrm>
              </p:grpSpPr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3121200" y="5282280"/>
                    <a:ext cx="135360" cy="61560"/>
                    <a:chOff x="3121200" y="5282280"/>
                    <a:chExt cx="135360" cy="615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3249360" y="53355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3146040" y="52912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3198600" y="53136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223800" y="53244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171240" y="53024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121200" y="52822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6" name=""/>
                  <p:cNvSpPr/>
                  <p:nvPr/>
                </p:nvSpPr>
                <p:spPr>
                  <a:xfrm>
                    <a:off x="3096360" y="52711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" name=""/>
          <p:cNvSpPr/>
          <p:nvPr/>
        </p:nvSpPr>
        <p:spPr>
          <a:xfrm flipV="1">
            <a:off x="350532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819520" y="4419720"/>
            <a:ext cx="1752480" cy="99036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715000" y="4800600"/>
            <a:ext cx="2329920" cy="1676160"/>
            <a:chOff x="5715000" y="4800600"/>
            <a:chExt cx="2329920" cy="1676160"/>
          </a:xfrm>
        </p:grpSpPr>
        <p:sp>
          <p:nvSpPr>
            <p:cNvPr id="220" name=""/>
            <p:cNvSpPr/>
            <p:nvPr/>
          </p:nvSpPr>
          <p:spPr>
            <a:xfrm>
              <a:off x="5715000" y="4800600"/>
              <a:ext cx="2329920" cy="16761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12920" y="553356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05520" y="457200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476360" y="162864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7667640" y="134136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2340000" y="5373720"/>
            <a:ext cx="57636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557208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624960" y="177840"/>
            <a:ext cx="78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CION DE VOZ, FAX DATOS CON 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463680" y="387360"/>
            <a:ext cx="7232400" cy="67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4080" y="384120"/>
            <a:ext cx="55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RELAY - FABRIC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11280" y="1197000"/>
            <a:ext cx="8001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O A FRAME REL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3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3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231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E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30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POS DTE (FR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39528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Relay e IP son una buena pare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mecanismos de resolución inversa de direcciones (Inverse ARP) para encontrar que IP hay al otro lado de un PVC. No todos los DTE lo sopor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subinterfaces se presenta el problema de Split Horizontal que evita conectividad entre todos en un esquema de maya no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RELAY Y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309600" y="228600"/>
            <a:ext cx="850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USANDO CISCO SIN SUB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2819520" y="2057400"/>
            <a:ext cx="4483080" cy="2654280"/>
            <a:chOff x="2819520" y="2057400"/>
            <a:chExt cx="4483080" cy="2654280"/>
          </a:xfrm>
        </p:grpSpPr>
        <p:sp>
          <p:nvSpPr>
            <p:cNvPr id="1671" name=""/>
            <p:cNvSpPr/>
            <p:nvPr/>
          </p:nvSpPr>
          <p:spPr>
            <a:xfrm>
              <a:off x="2819520" y="27432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00760" y="22860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5160" y="20574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724640" y="23619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648320" y="32763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124440" y="312408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105520" y="28191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810240" y="365760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42000" y="2355840"/>
              <a:ext cx="4038480" cy="1828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557360" y="2027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19280" y="59878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67640" y="13413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596600" y="685800"/>
            <a:ext cx="197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1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 10.1.0.2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P 10.1.0.3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9528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6477120" y="17521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90920" y="2209680"/>
            <a:ext cx="990360" cy="381240"/>
          </a:xfrm>
          <a:prstGeom prst="line">
            <a:avLst/>
          </a:prstGeom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6400800" y="160020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362320" y="2286000"/>
            <a:ext cx="1066680" cy="4572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876920" y="457200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636880" y="129528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1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426840" y="525780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1.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269600" y="2895480"/>
            <a:ext cx="12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819520" y="19051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524240" y="25909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705" name="" descr=""/>
          <p:cNvPicPr/>
          <p:nvPr/>
        </p:nvPicPr>
        <p:blipFill>
          <a:blip r:embed="rId2"/>
          <a:stretch/>
        </p:blipFill>
        <p:spPr>
          <a:xfrm>
            <a:off x="7020000" y="134136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3"/>
          <a:stretch/>
        </p:blipFill>
        <p:spPr>
          <a:xfrm>
            <a:off x="4572000" y="595008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5865840" y="48690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a nube se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solo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474120" y="0"/>
            <a:ext cx="824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FRAME RELAY SUB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3964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outer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p address 10.1.0.1 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ndwith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map ip 10.1.0.2 20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map ip 10.1.0.3 21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dwith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s dado en miles de bits por segundo.  Es informativo para protocolos de enrutamiento que utilizan este componente en la 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adca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s opcional. Es utilizado para indicar que sobre el pvc se soporta trafico broad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0" name=""/>
          <p:cNvGrpSpPr/>
          <p:nvPr/>
        </p:nvGrpSpPr>
        <p:grpSpPr>
          <a:xfrm>
            <a:off x="2819520" y="2057400"/>
            <a:ext cx="4483080" cy="2654280"/>
            <a:chOff x="2819520" y="2057400"/>
            <a:chExt cx="4483080" cy="2654280"/>
          </a:xfrm>
        </p:grpSpPr>
        <p:sp>
          <p:nvSpPr>
            <p:cNvPr id="1711" name=""/>
            <p:cNvSpPr/>
            <p:nvPr/>
          </p:nvSpPr>
          <p:spPr>
            <a:xfrm>
              <a:off x="2819520" y="27432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200760" y="22860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115160" y="2057400"/>
              <a:ext cx="2197080" cy="977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24640" y="23619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648320" y="32763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124440" y="312408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05520" y="281916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10240" y="3657600"/>
              <a:ext cx="2197080" cy="10540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042000" y="2355840"/>
              <a:ext cx="4038480" cy="1828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979640" y="14842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782960" y="63817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236000" y="9079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969640" y="137160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S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1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9528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477120" y="17521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0920" y="2209680"/>
            <a:ext cx="990360" cy="381240"/>
          </a:xfrm>
          <a:prstGeom prst="line">
            <a:avLst/>
          </a:prstGeom>
          <a:ln w="3816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6400800" y="160020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362320" y="2286000"/>
            <a:ext cx="1066680" cy="4572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876920" y="457200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445760" y="2563920"/>
            <a:ext cx="14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S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2.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6880" y="129528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1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6840" y="5257800"/>
            <a:ext cx="14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=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=10.2.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269600" y="2895480"/>
            <a:ext cx="12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09960" y="228600"/>
            <a:ext cx="867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USANDO CISCO CON SUB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1"/>
          <a:stretch/>
        </p:blipFill>
        <p:spPr>
          <a:xfrm>
            <a:off x="7020000" y="1413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745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746" name="" descr=""/>
          <p:cNvPicPr/>
          <p:nvPr/>
        </p:nvPicPr>
        <p:blipFill>
          <a:blip r:embed="rId3"/>
          <a:stretch/>
        </p:blipFill>
        <p:spPr>
          <a:xfrm>
            <a:off x="4716360" y="595008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1747" name=""/>
          <p:cNvSpPr/>
          <p:nvPr/>
        </p:nvSpPr>
        <p:spPr>
          <a:xfrm>
            <a:off x="5832000" y="4911840"/>
            <a:ext cx="32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ada PVC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 propio segmento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474120" y="0"/>
            <a:ext cx="824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FRAME RELAY SUB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3964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outer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.1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p address 10.1.0.1 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interface-dlci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.2 point-to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p address 10.2.0.1 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interface-dlci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1687680" y="115920"/>
            <a:ext cx="637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RELAY BACK T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3964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OUTER A (D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p address 10.1.0.1 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interface-dlci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lockrate 6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OUTER B (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ce seri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p address 10.1.0.2 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-relay interface-dlci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7594560" y="1413000"/>
            <a:ext cx="792360" cy="560160"/>
          </a:xfrm>
          <a:prstGeom prst="rect">
            <a:avLst/>
          </a:prstGeom>
          <a:ln w="0">
            <a:noFill/>
          </a:ln>
        </p:spPr>
      </p:pic>
      <p:pic>
        <p:nvPicPr>
          <p:cNvPr id="1753" name="" descr=""/>
          <p:cNvPicPr/>
          <p:nvPr/>
        </p:nvPicPr>
        <p:blipFill>
          <a:blip r:embed="rId2"/>
          <a:stretch/>
        </p:blipFill>
        <p:spPr>
          <a:xfrm>
            <a:off x="7667640" y="4813200"/>
            <a:ext cx="792000" cy="560520"/>
          </a:xfrm>
          <a:prstGeom prst="rect">
            <a:avLst/>
          </a:prstGeom>
          <a:ln w="0">
            <a:noFill/>
          </a:ln>
        </p:spPr>
      </p:pic>
      <p:sp>
        <p:nvSpPr>
          <p:cNvPr id="1754" name=""/>
          <p:cNvSpPr/>
          <p:nvPr/>
        </p:nvSpPr>
        <p:spPr>
          <a:xfrm>
            <a:off x="802656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59960" y="1844640"/>
            <a:ext cx="161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U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0 (D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.1.0.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231240" y="3716280"/>
            <a:ext cx="15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OUT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0 (D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.1.0.2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/>
          <p:nvPr/>
        </p:nvSpPr>
        <p:spPr>
          <a:xfrm>
            <a:off x="1069560" y="304920"/>
            <a:ext cx="71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FRAME RELAY SUI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1069560" y="0"/>
            <a:ext cx="71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FRAME RELAY SUI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80880" y="457200"/>
            <a:ext cx="8332920" cy="62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frame-relay switch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nterface ethernet 0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p address 131.108.123.231 255.255.255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nterface ethernet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p address 131.108.5.231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nterface serial 0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no ip address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nterface seria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no ip address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encapsulation frame-r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frame-relay intf-type d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frame-relay route 102 interface serial 2 2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frame-relay route 103  interface serial 3 301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1000" y="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V="1">
            <a:off x="1905120" y="3352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80880"/>
            <a:ext cx="7010640" cy="61722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80600" y="3733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447920"/>
            <a:ext cx="1752120" cy="609480"/>
            <a:chOff x="0" y="1447920"/>
            <a:chExt cx="1752120" cy="609480"/>
          </a:xfrm>
        </p:grpSpPr>
        <p:pic>
          <p:nvPicPr>
            <p:cNvPr id="260" name="" descr=""/>
            <p:cNvPicPr/>
            <p:nvPr/>
          </p:nvPicPr>
          <p:blipFill>
            <a:blip r:embed="rId9"/>
            <a:stretch/>
          </p:blipFill>
          <p:spPr>
            <a:xfrm>
              <a:off x="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0"/>
            <a:stretch/>
          </p:blipFill>
          <p:spPr>
            <a:xfrm>
              <a:off x="609480" y="144792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1"/>
            <a:stretch/>
          </p:blipFill>
          <p:spPr>
            <a:xfrm>
              <a:off x="121896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5960" y="2057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24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08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756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269" name="" descr=""/>
            <p:cNvPicPr/>
            <p:nvPr/>
          </p:nvPicPr>
          <p:blipFill>
            <a:blip r:embed="rId12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3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14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76360" y="2349360"/>
            <a:ext cx="647280" cy="1008000"/>
            <a:chOff x="1476360" y="2349360"/>
            <a:chExt cx="647280" cy="1008000"/>
          </a:xfrm>
        </p:grpSpPr>
        <p:sp>
          <p:nvSpPr>
            <p:cNvPr id="283" name=""/>
            <p:cNvSpPr/>
            <p:nvPr/>
          </p:nvSpPr>
          <p:spPr>
            <a:xfrm>
              <a:off x="2043360" y="2349360"/>
              <a:ext cx="80280" cy="100800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76360" y="2444400"/>
              <a:ext cx="569160" cy="909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5680" y="249336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1812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7680" y="311472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5508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393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811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2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6644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85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503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20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342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759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19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620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75360" y="31867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852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9720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78160" y="236124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220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638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5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498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916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34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55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172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590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2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447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316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350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 flipV="1">
            <a:off x="1332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9840" y="2637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73800" y="220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8"/>
          <a:stretch/>
        </p:blipFill>
        <p:spPr>
          <a:xfrm>
            <a:off x="250920" y="234936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9"/>
          <a:stretch/>
        </p:blipFill>
        <p:spPr>
          <a:xfrm>
            <a:off x="8101080" y="2133720"/>
            <a:ext cx="576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"/>
          <p:cNvSpPr/>
          <p:nvPr/>
        </p:nvSpPr>
        <p:spPr>
          <a:xfrm>
            <a:off x="1069560" y="0"/>
            <a:ext cx="71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FRAME RELAY SUI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80880" y="609480"/>
            <a:ext cx="833292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terface serial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capsulation frame-r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intf-type d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route 201 interface serial 1 1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route 203 interface serial 3 3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terface serial 3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p address 131.108.111.231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capsulation frame-relay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lmi-type ansi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route 301 interface serial 1 1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route 302 interface serial 1 2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rame-relay map ip 131.108.111.4 400 broadc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1077120" y="0"/>
            <a:ext cx="713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 CONMUTANDO FRAME RE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435480" y="2597040"/>
            <a:ext cx="596880" cy="52092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54440" y="404496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50080" y="2521080"/>
            <a:ext cx="596880" cy="520560"/>
          </a:xfrm>
          <a:prstGeom prst="octagon">
            <a:avLst>
              <a:gd name="adj" fmla="val 2927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5105520" y="297144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038480" y="2819160"/>
            <a:ext cx="1905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86200" y="31240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590920" y="22860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6477120" y="21337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05120" y="1905120"/>
            <a:ext cx="1676160" cy="68580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4038480" y="2666880"/>
            <a:ext cx="1905120" cy="76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6400800" y="1676520"/>
            <a:ext cx="1371600" cy="83808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828800" y="1981080"/>
            <a:ext cx="1600200" cy="76212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733920" y="3124080"/>
            <a:ext cx="990360" cy="1067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2819520" y="1676520"/>
            <a:ext cx="4266360" cy="3047040"/>
            <a:chOff x="2819520" y="1676520"/>
            <a:chExt cx="4266360" cy="3047040"/>
          </a:xfrm>
        </p:grpSpPr>
        <p:sp>
          <p:nvSpPr>
            <p:cNvPr id="1778" name=""/>
            <p:cNvSpPr/>
            <p:nvPr/>
          </p:nvSpPr>
          <p:spPr>
            <a:xfrm>
              <a:off x="2819520" y="1676520"/>
              <a:ext cx="4266360" cy="304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789720" y="306756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.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 flipV="1">
            <a:off x="3581280" y="2514600"/>
            <a:ext cx="2819520" cy="76320"/>
          </a:xfrm>
          <a:prstGeom prst="line">
            <a:avLst/>
          </a:prstGeom>
          <a:ln w="3816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29000" y="2743200"/>
            <a:ext cx="1371600" cy="17524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4495680" y="3962520"/>
            <a:ext cx="766440" cy="609480"/>
            <a:chOff x="4495680" y="3962520"/>
            <a:chExt cx="766440" cy="609480"/>
          </a:xfrm>
        </p:grpSpPr>
        <p:sp>
          <p:nvSpPr>
            <p:cNvPr id="1783" name=""/>
            <p:cNvSpPr/>
            <p:nvPr/>
          </p:nvSpPr>
          <p:spPr>
            <a:xfrm>
              <a:off x="4495680" y="39625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96040" y="41148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3429000" y="2590920"/>
            <a:ext cx="766440" cy="609480"/>
            <a:chOff x="3429000" y="2590920"/>
            <a:chExt cx="766440" cy="609480"/>
          </a:xfrm>
        </p:grpSpPr>
        <p:sp>
          <p:nvSpPr>
            <p:cNvPr id="1786" name=""/>
            <p:cNvSpPr/>
            <p:nvPr/>
          </p:nvSpPr>
          <p:spPr>
            <a:xfrm>
              <a:off x="3429000" y="25909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9360" y="27432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5715000" y="2362320"/>
            <a:ext cx="766440" cy="609480"/>
            <a:chOff x="5715000" y="2362320"/>
            <a:chExt cx="766440" cy="609480"/>
          </a:xfrm>
        </p:grpSpPr>
        <p:sp>
          <p:nvSpPr>
            <p:cNvPr id="1789" name=""/>
            <p:cNvSpPr/>
            <p:nvPr/>
          </p:nvSpPr>
          <p:spPr>
            <a:xfrm>
              <a:off x="5715000" y="2362320"/>
              <a:ext cx="762120" cy="609480"/>
            </a:xfrm>
            <a:prstGeom prst="hexagon">
              <a:avLst>
                <a:gd name="adj" fmla="val 312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715360" y="251460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U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114800" y="2743200"/>
            <a:ext cx="16765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5029200" y="2895480"/>
            <a:ext cx="914400" cy="10670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038480" y="3200400"/>
            <a:ext cx="609840" cy="762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429000" y="14479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800800" y="10317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o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4920" y="838080"/>
            <a:ext cx="1752120" cy="609480"/>
            <a:chOff x="304920" y="838080"/>
            <a:chExt cx="1752120" cy="609480"/>
          </a:xfrm>
        </p:grpSpPr>
        <p:pic>
          <p:nvPicPr>
            <p:cNvPr id="1797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" descr=""/>
            <p:cNvPicPr/>
            <p:nvPr/>
          </p:nvPicPr>
          <p:blipFill>
            <a:blip r:embed="rId2"/>
            <a:stretch/>
          </p:blipFill>
          <p:spPr>
            <a:xfrm>
              <a:off x="914400" y="8380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9" name="" descr=""/>
            <p:cNvPicPr/>
            <p:nvPr/>
          </p:nvPicPr>
          <p:blipFill>
            <a:blip r:embed="rId3"/>
            <a:stretch/>
          </p:blipFill>
          <p:spPr>
            <a:xfrm>
              <a:off x="1523880" y="8380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380880" y="14475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3316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4300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752480" y="12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1981080" y="2133720"/>
            <a:ext cx="608760" cy="380160"/>
            <a:chOff x="1981080" y="2133720"/>
            <a:chExt cx="608760" cy="380160"/>
          </a:xfrm>
        </p:grpSpPr>
        <p:grpSp>
          <p:nvGrpSpPr>
            <p:cNvPr id="1805" name=""/>
            <p:cNvGrpSpPr/>
            <p:nvPr/>
          </p:nvGrpSpPr>
          <p:grpSpPr>
            <a:xfrm>
              <a:off x="1981080" y="2133720"/>
              <a:ext cx="608760" cy="380160"/>
              <a:chOff x="1981080" y="2133720"/>
              <a:chExt cx="608760" cy="380160"/>
            </a:xfrm>
          </p:grpSpPr>
          <p:sp>
            <p:nvSpPr>
              <p:cNvPr id="1806" name=""/>
              <p:cNvSpPr/>
              <p:nvPr/>
            </p:nvSpPr>
            <p:spPr>
              <a:xfrm>
                <a:off x="2003760" y="213804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044800" y="230328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1981080" y="2307960"/>
                <a:ext cx="347040" cy="204840"/>
                <a:chOff x="1981080" y="2307960"/>
                <a:chExt cx="347040" cy="20484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2021760" y="234828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2016360" y="236412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1981080" y="230796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2269800" y="242244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"/>
              <p:cNvSpPr/>
              <p:nvPr/>
            </p:nvSpPr>
            <p:spPr>
              <a:xfrm>
                <a:off x="2290320" y="222192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057400" y="2144880"/>
                <a:ext cx="50436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305800" y="221724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019600" y="213372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2052360" y="2358000"/>
              <a:ext cx="214200" cy="93600"/>
              <a:chOff x="2052360" y="2358000"/>
              <a:chExt cx="214200" cy="93600"/>
            </a:xfrm>
          </p:grpSpPr>
          <p:grpSp>
            <p:nvGrpSpPr>
              <p:cNvPr id="1818" name=""/>
              <p:cNvGrpSpPr/>
              <p:nvPr/>
            </p:nvGrpSpPr>
            <p:grpSpPr>
              <a:xfrm>
                <a:off x="2052360" y="2358000"/>
                <a:ext cx="6840" cy="8280"/>
                <a:chOff x="2052360" y="2358000"/>
                <a:chExt cx="6840" cy="828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2052360" y="236196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2052360" y="235800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2105640" y="2375640"/>
                <a:ext cx="160920" cy="75960"/>
                <a:chOff x="2105640" y="2375640"/>
                <a:chExt cx="160920" cy="75960"/>
              </a:xfrm>
            </p:grpSpPr>
            <p:grpSp>
              <p:nvGrpSpPr>
                <p:cNvPr id="1822" name=""/>
                <p:cNvGrpSpPr/>
                <p:nvPr/>
              </p:nvGrpSpPr>
              <p:grpSpPr>
                <a:xfrm>
                  <a:off x="2105640" y="2382120"/>
                  <a:ext cx="160920" cy="69480"/>
                  <a:chOff x="2105640" y="2382120"/>
                  <a:chExt cx="160920" cy="6948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>
                    <a:off x="2236680" y="243396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2130480" y="239328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183400" y="241344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2208600" y="242460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2155680" y="240228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2105640" y="238212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256480" y="244512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0" name=""/>
                <p:cNvGrpSpPr/>
                <p:nvPr/>
              </p:nvGrpSpPr>
              <p:grpSpPr>
                <a:xfrm>
                  <a:off x="2105640" y="2375640"/>
                  <a:ext cx="160200" cy="72720"/>
                  <a:chOff x="2105640" y="2375640"/>
                  <a:chExt cx="160200" cy="72720"/>
                </a:xfrm>
              </p:grpSpPr>
              <p:grpSp>
                <p:nvGrpSpPr>
                  <p:cNvPr id="1831" name=""/>
                  <p:cNvGrpSpPr/>
                  <p:nvPr/>
                </p:nvGrpSpPr>
                <p:grpSpPr>
                  <a:xfrm>
                    <a:off x="2130480" y="2386800"/>
                    <a:ext cx="135360" cy="61560"/>
                    <a:chOff x="2130480" y="2386800"/>
                    <a:chExt cx="135360" cy="61560"/>
                  </a:xfrm>
                </p:grpSpPr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2258640" y="244008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2155320" y="239580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2207880" y="24181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2233080" y="242892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2180520" y="240696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2130480" y="238680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8" name=""/>
                  <p:cNvSpPr/>
                  <p:nvPr/>
                </p:nvSpPr>
                <p:spPr>
                  <a:xfrm>
                    <a:off x="2105640" y="237564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39" name=""/>
          <p:cNvSpPr/>
          <p:nvPr/>
        </p:nvSpPr>
        <p:spPr>
          <a:xfrm>
            <a:off x="1829520" y="251460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752480" y="1981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7086600" y="1828800"/>
            <a:ext cx="608760" cy="380160"/>
            <a:chOff x="7086600" y="1828800"/>
            <a:chExt cx="608760" cy="380160"/>
          </a:xfrm>
        </p:grpSpPr>
        <p:grpSp>
          <p:nvGrpSpPr>
            <p:cNvPr id="1842" name=""/>
            <p:cNvGrpSpPr/>
            <p:nvPr/>
          </p:nvGrpSpPr>
          <p:grpSpPr>
            <a:xfrm>
              <a:off x="7086600" y="1828800"/>
              <a:ext cx="608760" cy="380160"/>
              <a:chOff x="7086600" y="1828800"/>
              <a:chExt cx="608760" cy="380160"/>
            </a:xfrm>
          </p:grpSpPr>
          <p:sp>
            <p:nvSpPr>
              <p:cNvPr id="1843" name=""/>
              <p:cNvSpPr/>
              <p:nvPr/>
            </p:nvSpPr>
            <p:spPr>
              <a:xfrm>
                <a:off x="7109280" y="1833120"/>
                <a:ext cx="332280" cy="26208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150320" y="1998360"/>
                <a:ext cx="293760" cy="1558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5" name=""/>
              <p:cNvGrpSpPr/>
              <p:nvPr/>
            </p:nvGrpSpPr>
            <p:grpSpPr>
              <a:xfrm>
                <a:off x="7086600" y="2003040"/>
                <a:ext cx="347040" cy="204840"/>
                <a:chOff x="7086600" y="2003040"/>
                <a:chExt cx="347040" cy="20484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7127280" y="2043360"/>
                  <a:ext cx="296280" cy="12636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121880" y="2059200"/>
                  <a:ext cx="273240" cy="13500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086600" y="2003040"/>
                  <a:ext cx="60840" cy="9216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375320" y="2117520"/>
                  <a:ext cx="58320" cy="9036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0" name=""/>
              <p:cNvSpPr/>
              <p:nvPr/>
            </p:nvSpPr>
            <p:spPr>
              <a:xfrm>
                <a:off x="7395840" y="1917000"/>
                <a:ext cx="299520" cy="2919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162920" y="1839960"/>
                <a:ext cx="504000" cy="26460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11320" y="1912320"/>
                <a:ext cx="284040" cy="2149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25120" y="1828800"/>
                <a:ext cx="316800" cy="18324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7157880" y="2053080"/>
              <a:ext cx="214200" cy="93600"/>
              <a:chOff x="7157880" y="2053080"/>
              <a:chExt cx="214200" cy="93600"/>
            </a:xfrm>
          </p:grpSpPr>
          <p:grpSp>
            <p:nvGrpSpPr>
              <p:cNvPr id="1855" name=""/>
              <p:cNvGrpSpPr/>
              <p:nvPr/>
            </p:nvGrpSpPr>
            <p:grpSpPr>
              <a:xfrm>
                <a:off x="7157880" y="2053080"/>
                <a:ext cx="6840" cy="8280"/>
                <a:chOff x="7157880" y="2053080"/>
                <a:chExt cx="6840" cy="828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7157880" y="2057040"/>
                  <a:ext cx="6840" cy="432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157880" y="2053080"/>
                  <a:ext cx="6840" cy="64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7211160" y="2070720"/>
                <a:ext cx="160920" cy="75960"/>
                <a:chOff x="7211160" y="2070720"/>
                <a:chExt cx="160920" cy="75960"/>
              </a:xfrm>
            </p:grpSpPr>
            <p:grpSp>
              <p:nvGrpSpPr>
                <p:cNvPr id="1859" name=""/>
                <p:cNvGrpSpPr/>
                <p:nvPr/>
              </p:nvGrpSpPr>
              <p:grpSpPr>
                <a:xfrm>
                  <a:off x="7211160" y="2077200"/>
                  <a:ext cx="160920" cy="69480"/>
                  <a:chOff x="7211160" y="2077200"/>
                  <a:chExt cx="160920" cy="6948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7342200" y="2129040"/>
                    <a:ext cx="504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7236000" y="2088360"/>
                    <a:ext cx="97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7288920" y="210852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7314120" y="2119680"/>
                    <a:ext cx="792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7261200" y="2097360"/>
                    <a:ext cx="7200" cy="8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7211160" y="2077200"/>
                    <a:ext cx="7200" cy="9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7362000" y="2140200"/>
                    <a:ext cx="100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7" name=""/>
                <p:cNvGrpSpPr/>
                <p:nvPr/>
              </p:nvGrpSpPr>
              <p:grpSpPr>
                <a:xfrm>
                  <a:off x="7211160" y="2070720"/>
                  <a:ext cx="160200" cy="72720"/>
                  <a:chOff x="7211160" y="2070720"/>
                  <a:chExt cx="160200" cy="72720"/>
                </a:xfrm>
              </p:grpSpPr>
              <p:grpSp>
                <p:nvGrpSpPr>
                  <p:cNvPr id="1868" name=""/>
                  <p:cNvGrpSpPr/>
                  <p:nvPr/>
                </p:nvGrpSpPr>
                <p:grpSpPr>
                  <a:xfrm>
                    <a:off x="7236000" y="2081880"/>
                    <a:ext cx="135360" cy="61560"/>
                    <a:chOff x="7236000" y="2081880"/>
                    <a:chExt cx="135360" cy="61560"/>
                  </a:xfrm>
                </p:grpSpPr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7364160" y="2135160"/>
                      <a:ext cx="720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7260840" y="209088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7313400" y="21132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7338600" y="2124000"/>
                      <a:ext cx="792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7286040" y="2102040"/>
                      <a:ext cx="9360" cy="82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7236000" y="2081880"/>
                      <a:ext cx="9360" cy="90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5" name=""/>
                  <p:cNvSpPr/>
                  <p:nvPr/>
                </p:nvSpPr>
                <p:spPr>
                  <a:xfrm>
                    <a:off x="7211160" y="2070720"/>
                    <a:ext cx="72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76" name=""/>
          <p:cNvGrpSpPr/>
          <p:nvPr/>
        </p:nvGrpSpPr>
        <p:grpSpPr>
          <a:xfrm>
            <a:off x="7162920" y="609480"/>
            <a:ext cx="1752120" cy="609480"/>
            <a:chOff x="7162920" y="609480"/>
            <a:chExt cx="1752120" cy="609480"/>
          </a:xfrm>
        </p:grpSpPr>
        <p:pic>
          <p:nvPicPr>
            <p:cNvPr id="1877" name="" descr=""/>
            <p:cNvPicPr/>
            <p:nvPr/>
          </p:nvPicPr>
          <p:blipFill>
            <a:blip r:embed="rId4"/>
            <a:stretch/>
          </p:blipFill>
          <p:spPr>
            <a:xfrm>
              <a:off x="716292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8" name="" descr=""/>
            <p:cNvPicPr/>
            <p:nvPr/>
          </p:nvPicPr>
          <p:blipFill>
            <a:blip r:embed="rId5"/>
            <a:stretch/>
          </p:blipFill>
          <p:spPr>
            <a:xfrm>
              <a:off x="7772400" y="6094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" descr=""/>
            <p:cNvPicPr/>
            <p:nvPr/>
          </p:nvPicPr>
          <p:blipFill>
            <a:blip r:embed="rId6"/>
            <a:stretch/>
          </p:blipFill>
          <p:spPr>
            <a:xfrm>
              <a:off x="8381880" y="6094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0" name=""/>
            <p:cNvSpPr/>
            <p:nvPr/>
          </p:nvSpPr>
          <p:spPr>
            <a:xfrm>
              <a:off x="7238880" y="12189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9116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00100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610480" y="106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60" y="1981080"/>
            <a:ext cx="126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RP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620120" y="1752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48769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724280" y="4572000"/>
            <a:ext cx="76320" cy="83808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657600" y="5334120"/>
            <a:ext cx="2057040" cy="1294920"/>
            <a:chOff x="3657600" y="5334120"/>
            <a:chExt cx="2057040" cy="1294920"/>
          </a:xfrm>
        </p:grpSpPr>
        <p:sp>
          <p:nvSpPr>
            <p:cNvPr id="1889" name=""/>
            <p:cNvSpPr/>
            <p:nvPr/>
          </p:nvSpPr>
          <p:spPr>
            <a:xfrm>
              <a:off x="3657600" y="5334120"/>
              <a:ext cx="2057040" cy="12949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744000" y="5900400"/>
              <a:ext cx="17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1371600" y="1905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447920" y="2057400"/>
            <a:ext cx="0" cy="1371600"/>
          </a:xfrm>
          <a:prstGeom prst="line">
            <a:avLst/>
          </a:prstGeom>
          <a:ln w="3816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880" y="29718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4" name="" descr=""/>
          <p:cNvPicPr/>
          <p:nvPr/>
        </p:nvPicPr>
        <p:blipFill>
          <a:blip r:embed="rId7"/>
          <a:stretch/>
        </p:blipFill>
        <p:spPr>
          <a:xfrm>
            <a:off x="1258920" y="162864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895" name="" descr=""/>
          <p:cNvPicPr/>
          <p:nvPr/>
        </p:nvPicPr>
        <p:blipFill>
          <a:blip r:embed="rId8"/>
          <a:stretch/>
        </p:blipFill>
        <p:spPr>
          <a:xfrm>
            <a:off x="1116000" y="3429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896" name="" descr=""/>
          <p:cNvPicPr/>
          <p:nvPr/>
        </p:nvPicPr>
        <p:blipFill>
          <a:blip r:embed="rId9"/>
          <a:stretch/>
        </p:blipFill>
        <p:spPr>
          <a:xfrm>
            <a:off x="7667640" y="1413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897" name="" descr=""/>
          <p:cNvPicPr/>
          <p:nvPr/>
        </p:nvPicPr>
        <p:blipFill>
          <a:blip r:embed="rId10"/>
          <a:stretch/>
        </p:blipFill>
        <p:spPr>
          <a:xfrm>
            <a:off x="4500720" y="5300640"/>
            <a:ext cx="57600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072080" y="0"/>
            <a:ext cx="769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CION DE CARACTERISTICAS DEL P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0880" y="723960"/>
            <a:ext cx="833292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Int s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ncapsulation frame-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traffic sha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interface-dlci 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class 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map-class frame-relay c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cir in 128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mincir in 128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cir out 128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mincir out 128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bc in 128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bc out 128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be in 64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frame-relay be out 640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/>
          <p:nvPr/>
        </p:nvSpPr>
        <p:spPr>
          <a:xfrm>
            <a:off x="545040" y="0"/>
            <a:ext cx="825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CION DE TRAFICO DESCA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0880" y="914400"/>
            <a:ext cx="833292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EN ESTA CONFIGURACION EL TRAFICO HTTP Y SMTP SE MARCA COMO DESCARTABLE PARA EL PVC CON DLC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de-list 1 protocol ip tcp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de-list 1 protocol ip tcp 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int 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int s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interface-dlci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de-group 1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/>
          <p:nvPr/>
        </p:nvSpPr>
        <p:spPr>
          <a:xfrm>
            <a:off x="1913040" y="0"/>
            <a:ext cx="595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CION DE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80880" y="914400"/>
            <a:ext cx="83329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int 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encapsulation frame-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frame-relay lmi-type an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 Unicode MS"/>
              </a:rPr>
              <a:t>frame-relay multicast-dlci 10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627200" y="260280"/>
            <a:ext cx="6132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CION PARA REDUC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FICO ANTE CON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24000" y="1989000"/>
            <a:ext cx="833256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int 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interface-dlci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ffic-shape adaptiv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64000   (CIR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849600" y="0"/>
            <a:ext cx="7906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ACION EN FRAME RELAY-FRF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57200" y="9907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 manejar la fragmentación en el nivel 2 en vez del nivel 3 (Este último implica mucho overhead), principalmente para aplicaciones mixtas (datos y multimed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/>
          <p:nvPr/>
        </p:nvSpPr>
        <p:spPr>
          <a:xfrm>
            <a:off x="847440" y="0"/>
            <a:ext cx="6583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ACION EN FRAME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29084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/>
          <p:nvPr/>
        </p:nvSpPr>
        <p:spPr>
          <a:xfrm>
            <a:off x="431640" y="4994280"/>
            <a:ext cx="70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(Beginning) 1 En primer fragmento y 0 para 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=(Ending) 1 para el ultimo fragmento y 0 para 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Control. Uso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1228680" y="0"/>
            <a:ext cx="7018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CION DE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" y="533520"/>
            <a:ext cx="833292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int 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encapsulation frame-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lmi-type 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traffic shap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interface-dlci 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lass t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map-class frame-relay t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voice-bandwidth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min-cir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cir 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bc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rame-relay fragment 60  (En bytes. Por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defecto. 5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9528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how interface serial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how frame-relay pv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how frame-relay l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how frame-relay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ug frame-relay l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ROS COMANDOS U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15960" y="5721480"/>
            <a:ext cx="2806560" cy="672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5960" y="5013360"/>
            <a:ext cx="2806560" cy="771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4365720"/>
            <a:ext cx="2806560" cy="672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280" y="3755880"/>
            <a:ext cx="2806560" cy="67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146400"/>
            <a:ext cx="2806560" cy="67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536920"/>
            <a:ext cx="2806560" cy="672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1927080"/>
            <a:ext cx="2806560" cy="67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1280" y="2098800"/>
            <a:ext cx="190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27000" y="2708280"/>
            <a:ext cx="21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59000" y="3317760"/>
            <a:ext cx="131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31480" y="3927600"/>
            <a:ext cx="176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65400" y="4613400"/>
            <a:ext cx="149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32000" y="5157720"/>
            <a:ext cx="141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86280" y="5892840"/>
            <a:ext cx="146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5084640"/>
            <a:ext cx="2738520" cy="627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92720" y="5156280"/>
            <a:ext cx="201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1600200"/>
            <a:ext cx="40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RELAY CORRESPOND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395280" y="692280"/>
            <a:ext cx="8001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rhyshaden.com/fram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TIOS DE INT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0920" y="692280"/>
            <a:ext cx="85690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TRAMAS SE INYECTAN A LA NUBE A TRAVÉS DE UN PUERTO FISICO TIPICAMENTE SERIAL SINCRONICO, UBICADO EN CADA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NEXION A UN PUERTO DEL SUICHE ES LA PUERTA DE ENTRADA A LA RED FRAME R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RELAY NO DEFINE NUEVOS NIVELES FISICOS SINO QUE SE APOYA EN EXISTENTES QUE PUEDAN LLEVAR TRA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SOLA CONEXION FISICA SOPORTA MULTIPLES CONEXIONES LOGICAS (PVCs)  A DIFERENTES LOCALIDADES REM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9520" y="158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IVEL FI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03:15:01Z</dcterms:created>
  <dc:creator>JUAN CARLOS RESTREPO</dc:creator>
  <dc:description/>
  <dc:language>en-US</dc:language>
  <cp:lastModifiedBy>juanrest</cp:lastModifiedBy>
  <dcterms:modified xsi:type="dcterms:W3CDTF">2006-07-19T01:58:46Z</dcterms:modified>
  <cp:revision>592</cp:revision>
  <dc:subject/>
  <dc:title>FRAME RELAY</dc:title>
</cp:coreProperties>
</file>