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C93-90E7-4353-B92D-2E4A1CF8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D87-BEAC-4416-A4F4-F70804C6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702-9088-40CA-910D-35FFD6E3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B17-5665-4B4D-A4F8-78E64771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CC1-A7CC-4C57-BD2C-486C6F33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DEA-450B-4503-BA84-FC4CB060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B70-0CEB-4F59-B0AE-E0836251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9E4-361D-40C2-985A-52B84BDF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770-A601-4893-B090-AB828D55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3B0-6A3C-4C4E-9E0F-1602A002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B37-BA39-419E-BA2F-402ECBA5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5AC-1633-4D0C-8E7E-5442244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9676-9422-46BC-88AD-59A0454757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IVEL DE ENLACE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: 51405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rsión: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5362560"/>
            <a:ext cx="32004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MA HD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8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soporta múltiples protocolos. Cisco tiene una variación propietaria para soportar multiples protocolos de nivel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ante el campo control se identifica el tipo de trama 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-Frames (Information Frames): Datos de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-Frames (Supervisory Frames): Proveen request/response cuando no se utiliza piggybac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-Frames (Unnumbered Frames): proveen funciones adicionales como establecimiento de se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46480" y="5734080"/>
            <a:ext cx="7817400" cy="882000"/>
            <a:chOff x="546480" y="5734080"/>
            <a:chExt cx="7817400" cy="882000"/>
          </a:xfrm>
        </p:grpSpPr>
        <p:sp>
          <p:nvSpPr>
            <p:cNvPr id="82" name=""/>
            <p:cNvSpPr/>
            <p:nvPr/>
          </p:nvSpPr>
          <p:spPr>
            <a:xfrm>
              <a:off x="546480" y="6156360"/>
              <a:ext cx="7817400" cy="4597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01111110  </a:t>
              </a: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XXXXXXXX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YYYYYYYY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   Variable   2/4B  01111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9000" y="5734080"/>
              <a:ext cx="722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FLAG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ADDRESS  CONTROL        DATOS      FCS    FL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9160" y="304920"/>
            <a:ext cx="833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MPLEMENTACIONES DE NIVELES 2 SIBR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6680" y="3054240"/>
            <a:ext cx="1663560" cy="16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7040" y="5111640"/>
            <a:ext cx="3721320" cy="749520"/>
          </a:xfrm>
          <a:prstGeom prst="rect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19280" y="5241960"/>
            <a:ext cx="2300400" cy="458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I / NDIS / 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64080" y="2978280"/>
            <a:ext cx="1663560" cy="166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2960" y="3641760"/>
            <a:ext cx="131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7440" y="2978280"/>
            <a:ext cx="1663920" cy="166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28120" y="3641760"/>
            <a:ext cx="148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TBE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641760"/>
            <a:ext cx="153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TCP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40040" y="2292480"/>
            <a:ext cx="15112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18440" y="2270160"/>
            <a:ext cx="160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S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606680" y="1073160"/>
            <a:ext cx="1663560" cy="749160"/>
            <a:chOff x="1606680" y="1073160"/>
            <a:chExt cx="1663560" cy="749160"/>
          </a:xfrm>
        </p:grpSpPr>
        <p:sp>
          <p:nvSpPr>
            <p:cNvPr id="96" name=""/>
            <p:cNvSpPr/>
            <p:nvPr/>
          </p:nvSpPr>
          <p:spPr>
            <a:xfrm>
              <a:off x="1606680" y="1073160"/>
              <a:ext cx="1663560" cy="74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60680" y="1203480"/>
              <a:ext cx="143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LIC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816360" y="996840"/>
            <a:ext cx="1663560" cy="749520"/>
            <a:chOff x="3816360" y="996840"/>
            <a:chExt cx="1663560" cy="749520"/>
          </a:xfrm>
        </p:grpSpPr>
        <p:sp>
          <p:nvSpPr>
            <p:cNvPr id="99" name=""/>
            <p:cNvSpPr/>
            <p:nvPr/>
          </p:nvSpPr>
          <p:spPr>
            <a:xfrm>
              <a:off x="3816360" y="996840"/>
              <a:ext cx="1663560" cy="74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70360" y="1127160"/>
              <a:ext cx="143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LIC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026040" y="996840"/>
            <a:ext cx="1663920" cy="749520"/>
            <a:chOff x="6026040" y="996840"/>
            <a:chExt cx="1663920" cy="749520"/>
          </a:xfrm>
        </p:grpSpPr>
        <p:sp>
          <p:nvSpPr>
            <p:cNvPr id="102" name=""/>
            <p:cNvSpPr/>
            <p:nvPr/>
          </p:nvSpPr>
          <p:spPr>
            <a:xfrm>
              <a:off x="6026040" y="996840"/>
              <a:ext cx="1663920" cy="74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80040" y="1127160"/>
              <a:ext cx="143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LICA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740040" y="6102360"/>
            <a:ext cx="13590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1640" y="6254640"/>
            <a:ext cx="637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42480" y="6156360"/>
            <a:ext cx="150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J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17120" y="228600"/>
            <a:ext cx="379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IGABIT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17120" y="228600"/>
            <a:ext cx="379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IGABIT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00980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 Gigabit interface converter (GBIC) allows network managers to configure each gigabit port on a port-by-port basis for short-wave (SX), long-wave (LX), long-haul (LH), and copper physical interfaces (CX). LH GBICs extended the single-mode fiber distance from the standard 5 km to 10 km. Cisco views LH as a value add, although it's not part of the 802.3z standard, allowing switch vendors to build a single physical switch or switch module that the customer can configure for the required laser/fiber topology. As stated earlier, Gigabit Ethernet initially supports three key media: short-wave laser, long-wave laser, and short copper. In addition, fiber- optic cable comes in three types: multimode (62.5 um), multimode (50 um), and single mode. A diagram for the GBIC is shown in Figure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5800" y="944640"/>
            <a:ext cx="2502000" cy="4767840"/>
            <a:chOff x="685800" y="944640"/>
            <a:chExt cx="2502000" cy="4767840"/>
          </a:xfrm>
        </p:grpSpPr>
        <p:sp>
          <p:nvSpPr>
            <p:cNvPr id="45" name=""/>
            <p:cNvSpPr/>
            <p:nvPr/>
          </p:nvSpPr>
          <p:spPr>
            <a:xfrm>
              <a:off x="685800" y="1523880"/>
              <a:ext cx="2489040" cy="384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" y="21067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26575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8080" y="2259000"/>
              <a:ext cx="2210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ESENT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170820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PLIC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19320" y="280836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E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0200" y="3886200"/>
              <a:ext cx="83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31800" y="5010120"/>
              <a:ext cx="1059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I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4419720"/>
              <a:ext cx="166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32083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5800" y="37591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43084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14400" y="335916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48592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34480" y="944640"/>
              <a:ext cx="711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O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532880" y="304920"/>
            <a:ext cx="6617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BICACIÓN DE PPP RESPECTO A 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97400" y="4334040"/>
            <a:ext cx="50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P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HDLC, SDLC, FRAME-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UNCIONES BA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mado o fra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de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cción y eventual corrección de err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medios compartidos estable el mecanismo de ac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orientado a cone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orientado a conexión con confirmación (stop and wa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do a conexión (generalmente con esquema de ventanas desliza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RAMADO O FR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ine un PDU denominado trama, frame o marc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delimitación de la trama se puede hacer de varias for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ante un flag o secuencia especial al principio y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ante un campo de longit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ante la definición de un PDU de longitud f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ndo se usa secuencia delimitadora se debe tener un mecanismo para evitar que se presente en los datos: h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ácter Stuffing (Relleno de carác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t stuffing (Relleno de bit): Ejemplo: Si la secuencia delimitadora es 01111110 y esta sucede al interior no se manda 01111110 sino 01111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MA P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ag: Indica el inicio y fin de t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dress: valor constante en 1111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: valor constante en 00000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tocol: indica el protocolo de nivel superior o tipo de contenido llevado por la t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atos: contenido llevado por la t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CS: secuencia para detectar err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46760" y="5105520"/>
            <a:ext cx="8514000" cy="882000"/>
            <a:chOff x="446760" y="5105520"/>
            <a:chExt cx="8514000" cy="882000"/>
          </a:xfrm>
        </p:grpSpPr>
        <p:sp>
          <p:nvSpPr>
            <p:cNvPr id="71" name=""/>
            <p:cNvSpPr/>
            <p:nvPr/>
          </p:nvSpPr>
          <p:spPr>
            <a:xfrm>
              <a:off x="446760" y="5527800"/>
              <a:ext cx="8514000" cy="4597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01111110  11111111  00000011  1/2 B    Variable   2/4B  01111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1440" y="5105520"/>
              <a:ext cx="79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FLAG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ADDRESS  CONTROL PROTO.    DATOS      FCS    FL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ROL DE FLU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top and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pues de mandada una trama se espera su confirmación antes de enviar la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tanas desliz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nvian varias tramas antes de esperar su confirumación (el tamaño de la ventana determina cuant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zado por LAP-B (Enlace), TCP (Transpor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TECCIÓN DE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s estrategi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viar se envia la suficiente información para que en caso de error el destino pueda corregir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D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8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igh Data Link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tocolo de nivel 2 derivado de SDL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partir de HDLC, la ITU-T ha generado varios derivado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P-B: Link Access Procedure, Balanced.(Para X.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P-M: Link Access Procedure for Mod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P-D: Link Access Procedure on channel D, para RD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P-F: Link Access Procudure for Frame R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juanrest</cp:lastModifiedBy>
  <dcterms:modified xsi:type="dcterms:W3CDTF">2005-07-08T16:40:15Z</dcterms:modified>
  <cp:revision>44</cp:revision>
  <dc:subject> </dc:subject>
  <dc:title>Diapositiva sin título</dc:title>
</cp:coreProperties>
</file>