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25D-7F24-4579-B89F-F15F3F0B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77E-E482-4304-B675-FB6F7F41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52E-8914-415C-AB52-5CFE2A1D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4FA-C7BD-48CD-B06F-B18A1AF4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6CF-B63D-4B05-BFCF-32CB0BE6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A1D-88A0-4171-88E2-BCBB421F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86F-08D5-454D-9A33-2F33F3E9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5EF-C1C6-4FEB-926B-21D63C9E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0AE-3651-4320-B649-539D6C72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3CA-4303-454C-B2C8-CDC6AD68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0AA-C9CB-4FD8-9438-ED2BBB61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051-DC97-429E-9843-4FFEAB2F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149F-E2E5-46B6-9A6C-977C1FE44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4.wmf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6.wmf"/><Relationship Id="rId23" Type="http://schemas.openxmlformats.org/officeDocument/2006/relationships/image" Target="../media/image7.wmf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ASO DE ESTUDIO GLOBAL DE COMUN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6400800" cy="34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l: 51405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rsión: 2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brero -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2000" y="5229360"/>
            <a:ext cx="3055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IO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Windows XP/V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IP: Direcciones, Mascara, Enrutador por defecto y D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Correo, navegación vía proxy y arch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enticación contra servidor Linux (Samb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s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IREWALL/NAT/PRO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finición de políticas de segur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iltros entre las diferentes z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porte de NAT y Proxy controlado para las diferentes z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ublicación (redireccionamiento) de puertos hacia servicios de zona DM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sonas: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RVIDOR DE ZONA DM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rvici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ibe correo desde Internet y hace gateway  hacia servidor de correo Int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ntivir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ntisp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r conten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r DNSB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RT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rsonas: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PN LAN TO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PN Gateways y estación de LAN por VP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cnología a utilizar para el túnel IPS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tenticación del túnel con criptografía asimét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estación de la LAN VPN con Windows XP/Vista debe poder ingresar a los servicios de la red privada cent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ersonas: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REG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o general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ología global de la red con detalle de componentes: routers, estaciones, hub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quema de direccionamiento 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quema de enru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de numeración de telefonía 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quema de resolución de nombres D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quema de servicios de correo y naveg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vos de configuración para todos los servicios y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o específico por equi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 ESTIMADO: 2 se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ARIOS  Y RECURSO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siones de lunes a viernes  5 – 9 p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rsos de laborato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: 18-4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recciones públ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mento IP reservado: 200.12.177.64/2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rutador por defecto: 200.12.177.65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er1.labtel.eafit.edu.co: 200.12.177.66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recciones libres adicionales: 200.12.177.67 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 200.12.177.68 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NS Eafit: 200.12.180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enrutadores (3 con soporte de voz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cione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ui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o a Internet con direccione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io: labtel.eafit.edu.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ODOLOGIA 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496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to que el trabajo se debe sustentar al finalizar el curso se recomien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iones 1,2 y 3: Definiciones globales y consecución de recur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cion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ema de enrut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ema de resolución de no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jos de correo y D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de numeración telefó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s de segu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iones 4 y 5: Imple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AS ADICIO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50560" y="1031760"/>
            <a:ext cx="849780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alida a Internet se hará a través de un suiche nivel 3 a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jeta interna:  200.12.177.65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jeta hacia el PIX de EAFIT: 200.12.177.254/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l patch panel de datos B, puerto P1 esta la conexión contra el P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l patch panel A las extensiones telefónicas están a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: Ext 200  y   P3: Ext 4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patch panel B, puerto P1, está la IP externa del firewall 200.12.177.253/30.  El PIX es 200.12.177.254/3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00000" y="4437000"/>
          <a:ext cx="47628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437000"/>
                    <a:ext cx="47628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740960" y="0"/>
            <a:ext cx="59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Unicode MS"/>
              </a:rPr>
              <a:t>ESQUEMA GENERAL CASO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371600" y="3889080"/>
            <a:ext cx="175248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43000" y="858960"/>
            <a:ext cx="685800" cy="633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4040" y="609480"/>
            <a:ext cx="156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ndows XP/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e cor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705720" y="1984320"/>
            <a:ext cx="2437920" cy="1218960"/>
            <a:chOff x="6705720" y="1984320"/>
            <a:chExt cx="2437920" cy="1218960"/>
          </a:xfrm>
        </p:grpSpPr>
        <p:sp>
          <p:nvSpPr>
            <p:cNvPr id="51" name=""/>
            <p:cNvSpPr/>
            <p:nvPr/>
          </p:nvSpPr>
          <p:spPr>
            <a:xfrm>
              <a:off x="6705720" y="1984320"/>
              <a:ext cx="2437920" cy="121896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60480" y="2540880"/>
              <a:ext cx="12592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209680" y="2136600"/>
            <a:ext cx="1295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876920" y="917640"/>
            <a:ext cx="609480" cy="5634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3048120" y="3584520"/>
            <a:ext cx="1437120" cy="304920"/>
            <a:chOff x="3048120" y="3584520"/>
            <a:chExt cx="1437120" cy="304920"/>
          </a:xfrm>
        </p:grpSpPr>
        <p:sp>
          <p:nvSpPr>
            <p:cNvPr id="56" name=""/>
            <p:cNvSpPr/>
            <p:nvPr/>
          </p:nvSpPr>
          <p:spPr>
            <a:xfrm>
              <a:off x="3048120" y="3585600"/>
              <a:ext cx="1331280" cy="14832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32080" y="3730680"/>
              <a:ext cx="1148040" cy="158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8120" y="3584520"/>
              <a:ext cx="187560" cy="30492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45400" y="3739680"/>
              <a:ext cx="961200" cy="140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233520" y="3771720"/>
              <a:ext cx="33840" cy="32040"/>
              <a:chOff x="3233520" y="3771720"/>
              <a:chExt cx="33840" cy="32040"/>
            </a:xfrm>
          </p:grpSpPr>
          <p:sp>
            <p:nvSpPr>
              <p:cNvPr id="61" name=""/>
              <p:cNvSpPr/>
              <p:nvPr/>
            </p:nvSpPr>
            <p:spPr>
              <a:xfrm>
                <a:off x="3233520" y="3771720"/>
                <a:ext cx="3384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233520" y="3776040"/>
                <a:ext cx="3384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33520" y="3785400"/>
                <a:ext cx="3384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33520" y="3789360"/>
                <a:ext cx="3384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233520" y="3799440"/>
                <a:ext cx="3384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233520" y="3803400"/>
                <a:ext cx="3384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4208400" y="3726000"/>
              <a:ext cx="171000" cy="1008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075120" y="3635640"/>
              <a:ext cx="50760" cy="142200"/>
              <a:chOff x="3075120" y="3635640"/>
              <a:chExt cx="50760" cy="142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3075120" y="3635640"/>
                <a:ext cx="50760" cy="45360"/>
                <a:chOff x="3075120" y="3635640"/>
                <a:chExt cx="50760" cy="453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075120" y="363600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076560" y="363564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3075120" y="3651480"/>
                <a:ext cx="50760" cy="45360"/>
                <a:chOff x="3075120" y="3651480"/>
                <a:chExt cx="50760" cy="453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075120" y="365184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76560" y="365148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075120" y="3667680"/>
                <a:ext cx="50760" cy="45360"/>
                <a:chOff x="3075120" y="3667680"/>
                <a:chExt cx="50760" cy="453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075120" y="366804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76560" y="366768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075120" y="3683880"/>
                <a:ext cx="50760" cy="45360"/>
                <a:chOff x="3075120" y="3683880"/>
                <a:chExt cx="50760" cy="453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075120" y="368424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076560" y="368388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3075120" y="3700080"/>
                <a:ext cx="50760" cy="45360"/>
                <a:chOff x="3075120" y="3700080"/>
                <a:chExt cx="50760" cy="45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075120" y="370044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76560" y="370008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075120" y="3716280"/>
                <a:ext cx="50760" cy="45360"/>
                <a:chOff x="3075120" y="3716280"/>
                <a:chExt cx="50760" cy="453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075120" y="371664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076560" y="371628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075120" y="3732480"/>
                <a:ext cx="50760" cy="45360"/>
                <a:chOff x="3075120" y="3732480"/>
                <a:chExt cx="50760" cy="453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075120" y="373284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076560" y="373248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" name=""/>
            <p:cNvGrpSpPr/>
            <p:nvPr/>
          </p:nvGrpSpPr>
          <p:grpSpPr>
            <a:xfrm>
              <a:off x="3152520" y="3696480"/>
              <a:ext cx="48960" cy="142200"/>
              <a:chOff x="3152520" y="3696480"/>
              <a:chExt cx="48960" cy="14220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3152520" y="3696480"/>
                <a:ext cx="48960" cy="45000"/>
                <a:chOff x="3152520" y="3696480"/>
                <a:chExt cx="48960" cy="450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152520" y="36968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153960" y="36964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152520" y="3712680"/>
                <a:ext cx="48960" cy="45000"/>
                <a:chOff x="3152520" y="3712680"/>
                <a:chExt cx="48960" cy="45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152520" y="37130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153960" y="37126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152520" y="3728880"/>
                <a:ext cx="48960" cy="45000"/>
                <a:chOff x="3152520" y="3728880"/>
                <a:chExt cx="48960" cy="450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152520" y="37292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153960" y="37288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152520" y="3745080"/>
                <a:ext cx="48960" cy="45000"/>
                <a:chOff x="3152520" y="3745080"/>
                <a:chExt cx="48960" cy="45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152520" y="37454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153960" y="37450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152520" y="3761280"/>
                <a:ext cx="48960" cy="45000"/>
                <a:chOff x="3152520" y="3761280"/>
                <a:chExt cx="48960" cy="45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152520" y="37616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153960" y="37612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152520" y="3777480"/>
                <a:ext cx="48960" cy="45000"/>
                <a:chOff x="3152520" y="3777480"/>
                <a:chExt cx="48960" cy="45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152520" y="37778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153960" y="37774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152520" y="3793680"/>
                <a:ext cx="48960" cy="45000"/>
                <a:chOff x="3152520" y="3793680"/>
                <a:chExt cx="48960" cy="45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152520" y="37940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153960" y="37936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3086640" y="3588480"/>
              <a:ext cx="199800" cy="136800"/>
              <a:chOff x="3086640" y="3588480"/>
              <a:chExt cx="199800" cy="136800"/>
            </a:xfrm>
          </p:grpSpPr>
          <p:sp>
            <p:nvSpPr>
              <p:cNvPr id="113" name=""/>
              <p:cNvSpPr/>
              <p:nvPr/>
            </p:nvSpPr>
            <p:spPr>
              <a:xfrm>
                <a:off x="3086640" y="3588480"/>
                <a:ext cx="50760" cy="165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92040" y="3591360"/>
                <a:ext cx="4356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35680" y="3708360"/>
                <a:ext cx="50760" cy="162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1080" y="3710880"/>
                <a:ext cx="4356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143240" y="3588480"/>
              <a:ext cx="200520" cy="136800"/>
              <a:chOff x="4143240" y="3588480"/>
              <a:chExt cx="200520" cy="136800"/>
            </a:xfrm>
          </p:grpSpPr>
          <p:sp>
            <p:nvSpPr>
              <p:cNvPr id="118" name=""/>
              <p:cNvSpPr/>
              <p:nvPr/>
            </p:nvSpPr>
            <p:spPr>
              <a:xfrm>
                <a:off x="4143240" y="3588480"/>
                <a:ext cx="51120" cy="165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47920" y="3591360"/>
                <a:ext cx="4428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92640" y="3708360"/>
                <a:ext cx="51120" cy="162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297680" y="3710880"/>
                <a:ext cx="4428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245400" y="3743280"/>
              <a:ext cx="967320" cy="133920"/>
              <a:chOff x="3245400" y="3743280"/>
              <a:chExt cx="967320" cy="133920"/>
            </a:xfrm>
          </p:grpSpPr>
          <p:sp>
            <p:nvSpPr>
              <p:cNvPr id="123" name=""/>
              <p:cNvSpPr/>
              <p:nvPr/>
            </p:nvSpPr>
            <p:spPr>
              <a:xfrm>
                <a:off x="3245400" y="3743640"/>
                <a:ext cx="910440" cy="1332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26320" y="3743280"/>
                <a:ext cx="86400" cy="13392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244760" y="3737520"/>
              <a:ext cx="136080" cy="1515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20200" y="370044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287880" y="3762360"/>
              <a:ext cx="881640" cy="97560"/>
              <a:chOff x="3287880" y="3762360"/>
              <a:chExt cx="881640" cy="9756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4071600" y="3762360"/>
                <a:ext cx="97920" cy="18720"/>
                <a:chOff x="4071600" y="3762360"/>
                <a:chExt cx="97920" cy="1872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4071600" y="3762360"/>
                  <a:ext cx="29520" cy="18720"/>
                  <a:chOff x="4071600" y="3762360"/>
                  <a:chExt cx="29520" cy="187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4081320" y="3765240"/>
                    <a:ext cx="1944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071600" y="3762360"/>
                    <a:ext cx="16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071600" y="3768840"/>
                    <a:ext cx="169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071600" y="3774600"/>
                    <a:ext cx="2016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084560" y="3771720"/>
                    <a:ext cx="162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084200" y="3777840"/>
                    <a:ext cx="169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4105800" y="3764160"/>
                  <a:ext cx="63720" cy="14400"/>
                  <a:chOff x="4105800" y="3764160"/>
                  <a:chExt cx="63720" cy="144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4105800" y="3764160"/>
                    <a:ext cx="6372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105800" y="3772800"/>
                    <a:ext cx="6372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4117680" y="3850560"/>
                <a:ext cx="49680" cy="9360"/>
                <a:chOff x="4117680" y="3850560"/>
                <a:chExt cx="49680" cy="9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117680" y="3850560"/>
                  <a:ext cx="4968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20920" y="3855600"/>
                  <a:ext cx="4644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023720" y="3775680"/>
                <a:ext cx="37800" cy="29880"/>
                <a:chOff x="4023720" y="3775680"/>
                <a:chExt cx="37800" cy="29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023720" y="3780360"/>
                  <a:ext cx="37800" cy="2520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030560" y="3775680"/>
                  <a:ext cx="25560" cy="1008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034160" y="3777120"/>
                  <a:ext cx="18720" cy="792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4030200" y="3811320"/>
                <a:ext cx="11520" cy="72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45680" y="3811320"/>
                <a:ext cx="11520" cy="72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30200" y="3822120"/>
                <a:ext cx="1152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45680" y="3822120"/>
                <a:ext cx="1152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30200" y="3833280"/>
                <a:ext cx="11520" cy="7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45680" y="3833280"/>
                <a:ext cx="11520" cy="7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30200" y="3844440"/>
                <a:ext cx="1152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45680" y="3844440"/>
                <a:ext cx="1152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65480" y="3835440"/>
                <a:ext cx="37440" cy="5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552840" y="3775680"/>
                <a:ext cx="180720" cy="2664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19800" y="3769920"/>
                <a:ext cx="54000" cy="1116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27000" y="3771720"/>
                <a:ext cx="37800" cy="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3610080" y="3782880"/>
                <a:ext cx="70560" cy="17640"/>
                <a:chOff x="3610080" y="3782880"/>
                <a:chExt cx="70560" cy="176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610080" y="3782880"/>
                  <a:ext cx="7056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613320" y="3789000"/>
                  <a:ext cx="6408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19800" y="3795840"/>
                  <a:ext cx="5184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550680" y="3807360"/>
                <a:ext cx="92520" cy="41760"/>
                <a:chOff x="3550680" y="3807360"/>
                <a:chExt cx="92520" cy="4176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3550680" y="3807360"/>
                  <a:ext cx="92520" cy="7560"/>
                  <a:chOff x="3550680" y="3807360"/>
                  <a:chExt cx="92520" cy="75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55068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56616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58272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3599280" y="380736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61476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63132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3550680" y="3818160"/>
                  <a:ext cx="92520" cy="7920"/>
                  <a:chOff x="3550680" y="3818160"/>
                  <a:chExt cx="92520" cy="792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355068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56616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58272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599280" y="381816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361476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363132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3550680" y="3830040"/>
                  <a:ext cx="92520" cy="7560"/>
                  <a:chOff x="3550680" y="3830040"/>
                  <a:chExt cx="92520" cy="75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355068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56616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358272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3599280" y="383004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61476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63132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3550680" y="3841200"/>
                  <a:ext cx="92520" cy="7920"/>
                  <a:chOff x="3550680" y="3841200"/>
                  <a:chExt cx="92520" cy="792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55068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56616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58272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599280" y="384120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61476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63132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3648240" y="3807360"/>
                <a:ext cx="91440" cy="41760"/>
                <a:chOff x="3648240" y="3807360"/>
                <a:chExt cx="91440" cy="417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3648240" y="3807360"/>
                  <a:ext cx="91440" cy="7560"/>
                  <a:chOff x="3648240" y="3807360"/>
                  <a:chExt cx="91440" cy="75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3648240" y="380736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66372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67992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69576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71196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728520" y="380736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3648240" y="3818160"/>
                  <a:ext cx="91440" cy="7920"/>
                  <a:chOff x="3648240" y="3818160"/>
                  <a:chExt cx="91440" cy="792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648240" y="381816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66372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67992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69576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71196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728520" y="381816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3648240" y="3830040"/>
                  <a:ext cx="91440" cy="7560"/>
                  <a:chOff x="3648240" y="3830040"/>
                  <a:chExt cx="91440" cy="75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3648240" y="383004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66372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67992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69576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71196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728520" y="383004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3648240" y="3841200"/>
                  <a:ext cx="91440" cy="7920"/>
                  <a:chOff x="3648240" y="3841200"/>
                  <a:chExt cx="91440" cy="79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48240" y="384120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6372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67992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69576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71196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728520" y="384120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3287880" y="3821760"/>
                <a:ext cx="238680" cy="36360"/>
                <a:chOff x="3287880" y="3821760"/>
                <a:chExt cx="238680" cy="3636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3287880" y="3821760"/>
                  <a:ext cx="29520" cy="36360"/>
                  <a:chOff x="3287880" y="3821760"/>
                  <a:chExt cx="29520" cy="36360"/>
                </a:xfrm>
              </p:grpSpPr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3287880" y="3821760"/>
                    <a:ext cx="29520" cy="36360"/>
                    <a:chOff x="3287880" y="3821760"/>
                    <a:chExt cx="29520" cy="3636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328788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3287880" y="383004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329076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3287880" y="383004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328968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331128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9" name=""/>
                  <p:cNvSpPr/>
                  <p:nvPr/>
                </p:nvSpPr>
                <p:spPr>
                  <a:xfrm>
                    <a:off x="329688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3329280" y="3821760"/>
                  <a:ext cx="29520" cy="36360"/>
                  <a:chOff x="3329280" y="3821760"/>
                  <a:chExt cx="29520" cy="36360"/>
                </a:xfrm>
              </p:grpSpPr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329280" y="3821760"/>
                    <a:ext cx="29520" cy="36360"/>
                    <a:chOff x="3329280" y="3821760"/>
                    <a:chExt cx="29520" cy="3636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332928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3329280" y="383004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333216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3329280" y="383004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333108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335268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8" name=""/>
                  <p:cNvSpPr/>
                  <p:nvPr/>
                </p:nvSpPr>
                <p:spPr>
                  <a:xfrm>
                    <a:off x="333828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3371040" y="3821760"/>
                  <a:ext cx="29880" cy="36360"/>
                  <a:chOff x="3371040" y="3821760"/>
                  <a:chExt cx="29880" cy="3636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3371040" y="3821760"/>
                    <a:ext cx="29880" cy="36360"/>
                    <a:chOff x="3371040" y="3821760"/>
                    <a:chExt cx="29880" cy="3636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3371040" y="3828600"/>
                      <a:ext cx="288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3371040" y="383004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3373920" y="3835800"/>
                      <a:ext cx="2700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3371040" y="3830040"/>
                      <a:ext cx="2988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337284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339444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7" name=""/>
                  <p:cNvSpPr/>
                  <p:nvPr/>
                </p:nvSpPr>
                <p:spPr>
                  <a:xfrm>
                    <a:off x="3380400" y="3841920"/>
                    <a:ext cx="1656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413160" y="3821760"/>
                  <a:ext cx="29520" cy="36360"/>
                  <a:chOff x="3413160" y="3821760"/>
                  <a:chExt cx="29520" cy="36360"/>
                </a:xfrm>
              </p:grpSpPr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3413160" y="3821760"/>
                    <a:ext cx="29520" cy="36360"/>
                    <a:chOff x="3413160" y="3821760"/>
                    <a:chExt cx="29520" cy="3636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341316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3413160" y="383004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341604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3413160" y="383004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341496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343656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6" name=""/>
                  <p:cNvSpPr/>
                  <p:nvPr/>
                </p:nvSpPr>
                <p:spPr>
                  <a:xfrm>
                    <a:off x="342216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454920" y="3821760"/>
                  <a:ext cx="29520" cy="36360"/>
                  <a:chOff x="3454920" y="3821760"/>
                  <a:chExt cx="29520" cy="3636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3454920" y="3821760"/>
                    <a:ext cx="29520" cy="36360"/>
                    <a:chOff x="3454920" y="3821760"/>
                    <a:chExt cx="29520" cy="36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45492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454920" y="383004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345780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3454920" y="383004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345672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347832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5" name=""/>
                  <p:cNvSpPr/>
                  <p:nvPr/>
                </p:nvSpPr>
                <p:spPr>
                  <a:xfrm>
                    <a:off x="346392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3497040" y="3821760"/>
                  <a:ext cx="29520" cy="36360"/>
                  <a:chOff x="3497040" y="3821760"/>
                  <a:chExt cx="29520" cy="3636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3497040" y="3821760"/>
                    <a:ext cx="29520" cy="36360"/>
                    <a:chOff x="3497040" y="3821760"/>
                    <a:chExt cx="29520" cy="36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349704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3497040" y="383004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349992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3497040" y="383004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349884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352044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4" name=""/>
                  <p:cNvSpPr/>
                  <p:nvPr/>
                </p:nvSpPr>
                <p:spPr>
                  <a:xfrm>
                    <a:off x="350604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" name=""/>
              <p:cNvGrpSpPr/>
              <p:nvPr/>
            </p:nvGrpSpPr>
            <p:grpSpPr>
              <a:xfrm>
                <a:off x="3775320" y="3817080"/>
                <a:ext cx="238680" cy="36360"/>
                <a:chOff x="3775320" y="3817080"/>
                <a:chExt cx="238680" cy="3636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3775320" y="3817080"/>
                  <a:ext cx="29520" cy="36360"/>
                  <a:chOff x="3775320" y="3817080"/>
                  <a:chExt cx="29520" cy="3636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3775320" y="3817080"/>
                    <a:ext cx="29520" cy="36360"/>
                    <a:chOff x="3775320" y="3817080"/>
                    <a:chExt cx="29520" cy="3636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377532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3775320" y="382536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377820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3775320" y="382536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377712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379872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4" name=""/>
                  <p:cNvSpPr/>
                  <p:nvPr/>
                </p:nvSpPr>
                <p:spPr>
                  <a:xfrm>
                    <a:off x="378432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3816720" y="3817080"/>
                  <a:ext cx="29520" cy="36360"/>
                  <a:chOff x="3816720" y="3817080"/>
                  <a:chExt cx="29520" cy="36360"/>
                </a:xfrm>
              </p:grpSpPr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3816720" y="3817080"/>
                    <a:ext cx="29520" cy="36360"/>
                    <a:chOff x="3816720" y="3817080"/>
                    <a:chExt cx="29520" cy="363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381672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816720" y="382536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381960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816720" y="382536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81852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384012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3" name=""/>
                  <p:cNvSpPr/>
                  <p:nvPr/>
                </p:nvSpPr>
                <p:spPr>
                  <a:xfrm>
                    <a:off x="382572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3858480" y="3817080"/>
                  <a:ext cx="29880" cy="36360"/>
                  <a:chOff x="3858480" y="3817080"/>
                  <a:chExt cx="29880" cy="36360"/>
                </a:xfrm>
              </p:grpSpPr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3858480" y="3817080"/>
                    <a:ext cx="29880" cy="36360"/>
                    <a:chOff x="3858480" y="3817080"/>
                    <a:chExt cx="29880" cy="363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3858480" y="3823920"/>
                      <a:ext cx="288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858480" y="382536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3861360" y="3831120"/>
                      <a:ext cx="2700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3858480" y="3825360"/>
                      <a:ext cx="2988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386028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388188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2" name=""/>
                  <p:cNvSpPr/>
                  <p:nvPr/>
                </p:nvSpPr>
                <p:spPr>
                  <a:xfrm>
                    <a:off x="3867840" y="3837240"/>
                    <a:ext cx="1656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3900600" y="3817080"/>
                  <a:ext cx="29520" cy="36360"/>
                  <a:chOff x="3900600" y="3817080"/>
                  <a:chExt cx="29520" cy="36360"/>
                </a:xfrm>
              </p:grpSpPr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900600" y="3817080"/>
                    <a:ext cx="29520" cy="36360"/>
                    <a:chOff x="3900600" y="3817080"/>
                    <a:chExt cx="29520" cy="3636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390060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3900600" y="382536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90348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3900600" y="382536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390240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392400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1" name=""/>
                  <p:cNvSpPr/>
                  <p:nvPr/>
                </p:nvSpPr>
                <p:spPr>
                  <a:xfrm>
                    <a:off x="390960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3942360" y="3817080"/>
                  <a:ext cx="29520" cy="36360"/>
                  <a:chOff x="3942360" y="3817080"/>
                  <a:chExt cx="29520" cy="3636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942360" y="3817080"/>
                    <a:ext cx="29520" cy="36360"/>
                    <a:chOff x="3942360" y="3817080"/>
                    <a:chExt cx="29520" cy="363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394236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942360" y="382536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94524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3942360" y="382536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394416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96576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0" name=""/>
                  <p:cNvSpPr/>
                  <p:nvPr/>
                </p:nvSpPr>
                <p:spPr>
                  <a:xfrm>
                    <a:off x="395136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3984480" y="3817080"/>
                  <a:ext cx="29520" cy="36360"/>
                  <a:chOff x="3984480" y="3817080"/>
                  <a:chExt cx="29520" cy="36360"/>
                </a:xfrm>
              </p:grpSpPr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3984480" y="3817080"/>
                    <a:ext cx="29520" cy="36360"/>
                    <a:chOff x="3984480" y="3817080"/>
                    <a:chExt cx="29520" cy="3636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98448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3984480" y="382536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398736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3984480" y="382536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398628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400788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9" name=""/>
                  <p:cNvSpPr/>
                  <p:nvPr/>
                </p:nvSpPr>
                <p:spPr>
                  <a:xfrm>
                    <a:off x="399348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30" name=""/>
          <p:cNvSpPr/>
          <p:nvPr/>
        </p:nvSpPr>
        <p:spPr>
          <a:xfrm>
            <a:off x="1905120" y="2057400"/>
            <a:ext cx="160020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733920" y="2209680"/>
            <a:ext cx="1295280" cy="6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3203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2627280" y="4437000"/>
            <a:ext cx="685800" cy="633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 flipV="1">
            <a:off x="2843280" y="386028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3813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80000" y="3789360"/>
            <a:ext cx="1152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19640" y="5877000"/>
          <a:ext cx="476280" cy="83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19640" y="5877000"/>
                    <a:ext cx="47628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5334120" y="4270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156360" y="3141720"/>
            <a:ext cx="165564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81480" y="1450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14508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16720" y="465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33800" y="3141720"/>
            <a:ext cx="97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PN G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42440" y="4952880"/>
            <a:ext cx="85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49480" y="5661000"/>
            <a:ext cx="128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, 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reo Ex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0320" y="5124600"/>
            <a:ext cx="231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ux In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o In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NS (Inter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(Intran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io de archivos S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2160" y="5013360"/>
            <a:ext cx="175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 XP/V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e 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1280" y="838080"/>
            <a:ext cx="120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e cor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11840" y="182880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3440" y="177336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53440" y="289548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8101080" y="5229360"/>
            <a:ext cx="465120" cy="430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331080" y="35002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435640" y="4879440"/>
            <a:ext cx="230040" cy="3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435640" y="4495680"/>
            <a:ext cx="1008000" cy="304920"/>
            <a:chOff x="5435640" y="4495680"/>
            <a:chExt cx="1008000" cy="304920"/>
          </a:xfrm>
        </p:grpSpPr>
        <p:sp>
          <p:nvSpPr>
            <p:cNvPr id="357" name=""/>
            <p:cNvSpPr/>
            <p:nvPr/>
          </p:nvSpPr>
          <p:spPr>
            <a:xfrm>
              <a:off x="5435640" y="4497480"/>
              <a:ext cx="1006560" cy="14760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75320" y="4641840"/>
              <a:ext cx="866880" cy="1587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35640" y="4495680"/>
              <a:ext cx="141120" cy="30492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84680" y="4651200"/>
              <a:ext cx="727200" cy="140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575320" y="4683240"/>
              <a:ext cx="25560" cy="31680"/>
              <a:chOff x="5575320" y="4683240"/>
              <a:chExt cx="25560" cy="31680"/>
            </a:xfrm>
          </p:grpSpPr>
          <p:sp>
            <p:nvSpPr>
              <p:cNvPr id="362" name=""/>
              <p:cNvSpPr/>
              <p:nvPr/>
            </p:nvSpPr>
            <p:spPr>
              <a:xfrm>
                <a:off x="5575320" y="4683240"/>
                <a:ext cx="2556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575320" y="4687200"/>
                <a:ext cx="2556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75320" y="4696920"/>
                <a:ext cx="2556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575320" y="4700880"/>
                <a:ext cx="2556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575320" y="4710600"/>
                <a:ext cx="2556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575320" y="4714560"/>
                <a:ext cx="2556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6313320" y="4637160"/>
              <a:ext cx="128880" cy="1116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456160" y="4546440"/>
              <a:ext cx="38160" cy="142560"/>
              <a:chOff x="5456160" y="4546440"/>
              <a:chExt cx="38160" cy="1425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5456160" y="4546440"/>
                <a:ext cx="38160" cy="45360"/>
                <a:chOff x="5456160" y="4546440"/>
                <a:chExt cx="38160" cy="453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456160" y="4546800"/>
                  <a:ext cx="3672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457240" y="4546440"/>
                  <a:ext cx="3708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456160" y="4562640"/>
                <a:ext cx="38160" cy="45720"/>
                <a:chOff x="5456160" y="4562640"/>
                <a:chExt cx="38160" cy="457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456160" y="4563000"/>
                  <a:ext cx="36720" cy="453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457240" y="4562640"/>
                  <a:ext cx="37080" cy="453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456160" y="4578840"/>
                <a:ext cx="38160" cy="45720"/>
                <a:chOff x="5456160" y="4578840"/>
                <a:chExt cx="38160" cy="45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456160" y="4579200"/>
                  <a:ext cx="36720" cy="453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457240" y="4578840"/>
                  <a:ext cx="37080" cy="453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456160" y="4595040"/>
                <a:ext cx="38160" cy="45720"/>
                <a:chOff x="5456160" y="4595040"/>
                <a:chExt cx="38160" cy="45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456160" y="4595400"/>
                  <a:ext cx="36720" cy="453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457240" y="4595040"/>
                  <a:ext cx="37080" cy="453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456160" y="4611240"/>
                <a:ext cx="38160" cy="45360"/>
                <a:chOff x="5456160" y="4611240"/>
                <a:chExt cx="38160" cy="453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456160" y="4611600"/>
                  <a:ext cx="3672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57240" y="4611240"/>
                  <a:ext cx="3708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456160" y="4627440"/>
                <a:ext cx="38160" cy="45360"/>
                <a:chOff x="5456160" y="4627440"/>
                <a:chExt cx="38160" cy="453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56160" y="4627800"/>
                  <a:ext cx="3672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57240" y="4627440"/>
                  <a:ext cx="3708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456160" y="4643640"/>
                <a:ext cx="38160" cy="45360"/>
                <a:chOff x="5456160" y="4643640"/>
                <a:chExt cx="38160" cy="453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456160" y="4644000"/>
                  <a:ext cx="3672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457240" y="4643640"/>
                  <a:ext cx="3708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1" name=""/>
            <p:cNvGrpSpPr/>
            <p:nvPr/>
          </p:nvGrpSpPr>
          <p:grpSpPr>
            <a:xfrm>
              <a:off x="5514840" y="4608360"/>
              <a:ext cx="36720" cy="141120"/>
              <a:chOff x="5514840" y="4608360"/>
              <a:chExt cx="36720" cy="14112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5514840" y="4608360"/>
                <a:ext cx="36720" cy="44640"/>
                <a:chOff x="5514840" y="4608360"/>
                <a:chExt cx="36720" cy="446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514840" y="460872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515920" y="460836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5514840" y="4624200"/>
                <a:ext cx="36720" cy="45000"/>
                <a:chOff x="5514840" y="4624200"/>
                <a:chExt cx="36720" cy="450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5514840" y="462456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515920" y="462420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5514840" y="4640400"/>
                <a:ext cx="36720" cy="44640"/>
                <a:chOff x="5514840" y="4640400"/>
                <a:chExt cx="36720" cy="446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5514840" y="464076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515920" y="464040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5514840" y="4656600"/>
                <a:ext cx="36720" cy="44640"/>
                <a:chOff x="5514840" y="4656600"/>
                <a:chExt cx="36720" cy="446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5514840" y="465696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515920" y="465660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514840" y="4672800"/>
                <a:ext cx="36720" cy="44640"/>
                <a:chOff x="5514840" y="4672800"/>
                <a:chExt cx="36720" cy="446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5514840" y="467316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515920" y="467280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514840" y="4689000"/>
                <a:ext cx="36720" cy="44640"/>
                <a:chOff x="5514840" y="4689000"/>
                <a:chExt cx="36720" cy="446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514840" y="468936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515920" y="468900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5514840" y="4704840"/>
                <a:ext cx="36720" cy="44640"/>
                <a:chOff x="5514840" y="4704840"/>
                <a:chExt cx="36720" cy="446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5514840" y="470520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515920" y="470484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5464080" y="4500720"/>
              <a:ext cx="150480" cy="136440"/>
              <a:chOff x="5464080" y="4500720"/>
              <a:chExt cx="150480" cy="136440"/>
            </a:xfrm>
          </p:grpSpPr>
          <p:sp>
            <p:nvSpPr>
              <p:cNvPr id="414" name=""/>
              <p:cNvSpPr/>
              <p:nvPr/>
            </p:nvSpPr>
            <p:spPr>
              <a:xfrm>
                <a:off x="5464080" y="4500720"/>
                <a:ext cx="38160" cy="165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68040" y="4503600"/>
                <a:ext cx="3312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576400" y="4620240"/>
                <a:ext cx="38160" cy="158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580720" y="4622760"/>
                <a:ext cx="3312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264360" y="4500720"/>
              <a:ext cx="150480" cy="136440"/>
              <a:chOff x="6264360" y="4500720"/>
              <a:chExt cx="150480" cy="136440"/>
            </a:xfrm>
          </p:grpSpPr>
          <p:sp>
            <p:nvSpPr>
              <p:cNvPr id="419" name=""/>
              <p:cNvSpPr/>
              <p:nvPr/>
            </p:nvSpPr>
            <p:spPr>
              <a:xfrm>
                <a:off x="6264360" y="4500720"/>
                <a:ext cx="38520" cy="165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7960" y="4503600"/>
                <a:ext cx="3348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76680" y="4620240"/>
                <a:ext cx="38160" cy="158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380640" y="4622760"/>
                <a:ext cx="3348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584680" y="4654440"/>
              <a:ext cx="731520" cy="133560"/>
              <a:chOff x="5584680" y="4654440"/>
              <a:chExt cx="731520" cy="133560"/>
            </a:xfrm>
          </p:grpSpPr>
          <p:sp>
            <p:nvSpPr>
              <p:cNvPr id="424" name=""/>
              <p:cNvSpPr/>
              <p:nvPr/>
            </p:nvSpPr>
            <p:spPr>
              <a:xfrm>
                <a:off x="5584680" y="4654800"/>
                <a:ext cx="688680" cy="1328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1040" y="4654440"/>
                <a:ext cx="65160" cy="13356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340320" y="4648320"/>
              <a:ext cx="103320" cy="1522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5616720" y="4673520"/>
              <a:ext cx="666360" cy="97920"/>
              <a:chOff x="5616720" y="4673520"/>
              <a:chExt cx="666360" cy="9792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6208920" y="4673520"/>
                <a:ext cx="74160" cy="19080"/>
                <a:chOff x="6208920" y="4673520"/>
                <a:chExt cx="74160" cy="190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6208920" y="4673520"/>
                  <a:ext cx="22320" cy="19080"/>
                  <a:chOff x="6208920" y="4673520"/>
                  <a:chExt cx="22320" cy="190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6216480" y="4676760"/>
                    <a:ext cx="1476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6208920" y="4673520"/>
                    <a:ext cx="1260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208920" y="468000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208920" y="4686120"/>
                    <a:ext cx="1548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218640" y="468288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218280" y="468936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6234840" y="4675680"/>
                  <a:ext cx="48240" cy="14760"/>
                  <a:chOff x="6234840" y="4675680"/>
                  <a:chExt cx="48240" cy="147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6234840" y="4675680"/>
                    <a:ext cx="4824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234840" y="4684680"/>
                    <a:ext cx="4824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6243840" y="4762080"/>
                <a:ext cx="37440" cy="9360"/>
                <a:chOff x="6243840" y="4762080"/>
                <a:chExt cx="37440" cy="93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243840" y="4762080"/>
                  <a:ext cx="3744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246000" y="4767120"/>
                  <a:ext cx="3492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6172920" y="4686840"/>
                <a:ext cx="28800" cy="30240"/>
                <a:chOff x="6172920" y="4686840"/>
                <a:chExt cx="28800" cy="302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6172920" y="4691520"/>
                  <a:ext cx="28800" cy="2556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178320" y="4686840"/>
                  <a:ext cx="19440" cy="1008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180840" y="4688280"/>
                  <a:ext cx="14040" cy="792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6177960" y="4722840"/>
                <a:ext cx="8640" cy="72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89480" y="4722840"/>
                <a:ext cx="8640" cy="72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77960" y="4733640"/>
                <a:ext cx="864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89480" y="4733640"/>
                <a:ext cx="864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77960" y="4744800"/>
                <a:ext cx="8640" cy="7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189480" y="4744800"/>
                <a:ext cx="8640" cy="7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177960" y="4755960"/>
                <a:ext cx="864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89480" y="4755960"/>
                <a:ext cx="864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04600" y="4746960"/>
                <a:ext cx="28080" cy="5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16880" y="4686840"/>
                <a:ext cx="136440" cy="2700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867640" y="4681080"/>
                <a:ext cx="41040" cy="1116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73040" y="4682880"/>
                <a:ext cx="28800" cy="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5860080" y="4694040"/>
                <a:ext cx="53280" cy="17640"/>
                <a:chOff x="5860080" y="4694040"/>
                <a:chExt cx="53280" cy="1764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860080" y="4694040"/>
                  <a:ext cx="5328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862240" y="4700160"/>
                  <a:ext cx="4824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867280" y="4707000"/>
                  <a:ext cx="3924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5815440" y="4718880"/>
                <a:ext cx="69840" cy="41760"/>
                <a:chOff x="5815440" y="4718880"/>
                <a:chExt cx="69840" cy="4176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5815440" y="4718880"/>
                  <a:ext cx="69840" cy="7560"/>
                  <a:chOff x="5815440" y="4718880"/>
                  <a:chExt cx="69840" cy="756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581544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82732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83956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852160" y="4718880"/>
                    <a:ext cx="82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86404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587628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815440" y="4730040"/>
                  <a:ext cx="69840" cy="7920"/>
                  <a:chOff x="5815440" y="4730040"/>
                  <a:chExt cx="69840" cy="79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581544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82732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83956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5852160" y="4730040"/>
                    <a:ext cx="82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86404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87628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5815440" y="4741560"/>
                  <a:ext cx="69840" cy="7560"/>
                  <a:chOff x="5815440" y="4741560"/>
                  <a:chExt cx="69840" cy="756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581544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82732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83956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5852160" y="4741560"/>
                    <a:ext cx="82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86404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87628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5815440" y="4752720"/>
                  <a:ext cx="69840" cy="7920"/>
                  <a:chOff x="5815440" y="4752720"/>
                  <a:chExt cx="69840" cy="792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581544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82732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83956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852160" y="4752720"/>
                    <a:ext cx="82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86404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87628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5889240" y="4718880"/>
                <a:ext cx="68760" cy="41760"/>
                <a:chOff x="5889240" y="4718880"/>
                <a:chExt cx="68760" cy="4176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5889240" y="4718880"/>
                  <a:ext cx="68760" cy="7560"/>
                  <a:chOff x="5889240" y="4718880"/>
                  <a:chExt cx="68760" cy="756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5889240" y="4718880"/>
                    <a:ext cx="864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90112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91336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92524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593748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5949720" y="4718880"/>
                    <a:ext cx="82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889240" y="4730040"/>
                  <a:ext cx="68760" cy="7920"/>
                  <a:chOff x="5889240" y="4730040"/>
                  <a:chExt cx="68760" cy="79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5889240" y="4730040"/>
                    <a:ext cx="864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590112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91336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592524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593748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949720" y="4730040"/>
                    <a:ext cx="82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5889240" y="4741560"/>
                  <a:ext cx="68760" cy="7560"/>
                  <a:chOff x="5889240" y="4741560"/>
                  <a:chExt cx="68760" cy="75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5889240" y="4741560"/>
                    <a:ext cx="864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90112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591336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592524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593748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5949720" y="4741560"/>
                    <a:ext cx="82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889240" y="4752720"/>
                  <a:ext cx="68760" cy="7920"/>
                  <a:chOff x="5889240" y="4752720"/>
                  <a:chExt cx="68760" cy="7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5889240" y="4752720"/>
                    <a:ext cx="864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590112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591336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592524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593748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5949720" y="4752720"/>
                    <a:ext cx="82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5616720" y="4732920"/>
                <a:ext cx="180720" cy="36360"/>
                <a:chOff x="5616720" y="4732920"/>
                <a:chExt cx="180720" cy="36360"/>
              </a:xfrm>
            </p:grpSpPr>
            <p:grpSp>
              <p:nvGrpSpPr>
                <p:cNvPr id="521" name=""/>
                <p:cNvGrpSpPr/>
                <p:nvPr/>
              </p:nvGrpSpPr>
              <p:grpSpPr>
                <a:xfrm>
                  <a:off x="5616720" y="4732920"/>
                  <a:ext cx="22320" cy="36360"/>
                  <a:chOff x="5616720" y="4732920"/>
                  <a:chExt cx="22320" cy="363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616720" y="4732920"/>
                    <a:ext cx="22320" cy="36360"/>
                    <a:chOff x="5616720" y="4732920"/>
                    <a:chExt cx="22320" cy="3636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61672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616720" y="474120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61888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616720" y="474120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61780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3436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9" name=""/>
                  <p:cNvSpPr/>
                  <p:nvPr/>
                </p:nvSpPr>
                <p:spPr>
                  <a:xfrm>
                    <a:off x="562356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5648040" y="4732920"/>
                  <a:ext cx="22320" cy="36360"/>
                  <a:chOff x="5648040" y="4732920"/>
                  <a:chExt cx="22320" cy="36360"/>
                </a:xfrm>
              </p:grpSpPr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5648040" y="4732920"/>
                    <a:ext cx="22320" cy="36360"/>
                    <a:chOff x="5648040" y="4732920"/>
                    <a:chExt cx="22320" cy="3636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64804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648040" y="474120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65020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648040" y="474120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64912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66568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8" name=""/>
                  <p:cNvSpPr/>
                  <p:nvPr/>
                </p:nvSpPr>
                <p:spPr>
                  <a:xfrm>
                    <a:off x="565488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5679720" y="4732920"/>
                  <a:ext cx="22680" cy="36360"/>
                  <a:chOff x="5679720" y="4732920"/>
                  <a:chExt cx="22680" cy="36360"/>
                </a:xfrm>
              </p:grpSpPr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5679720" y="4732920"/>
                    <a:ext cx="22680" cy="36360"/>
                    <a:chOff x="5679720" y="4732920"/>
                    <a:chExt cx="22680" cy="3636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79720" y="4739760"/>
                      <a:ext cx="2196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79720" y="474120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681880" y="4746960"/>
                      <a:ext cx="2052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5679720" y="4741200"/>
                      <a:ext cx="2268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568116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569772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47" name=""/>
                  <p:cNvSpPr/>
                  <p:nvPr/>
                </p:nvSpPr>
                <p:spPr>
                  <a:xfrm>
                    <a:off x="5686560" y="4753080"/>
                    <a:ext cx="126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5711400" y="4732920"/>
                  <a:ext cx="22320" cy="36360"/>
                  <a:chOff x="5711400" y="4732920"/>
                  <a:chExt cx="22320" cy="36360"/>
                </a:xfrm>
              </p:grpSpPr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5711400" y="4732920"/>
                    <a:ext cx="22320" cy="36360"/>
                    <a:chOff x="5711400" y="4732920"/>
                    <a:chExt cx="22320" cy="3636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571140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5711400" y="474120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571356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5711400" y="474120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571248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572904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6" name=""/>
                  <p:cNvSpPr/>
                  <p:nvPr/>
                </p:nvSpPr>
                <p:spPr>
                  <a:xfrm>
                    <a:off x="571824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5743080" y="4732920"/>
                  <a:ext cx="22320" cy="36360"/>
                  <a:chOff x="5743080" y="4732920"/>
                  <a:chExt cx="22320" cy="36360"/>
                </a:xfrm>
              </p:grpSpPr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743080" y="4732920"/>
                    <a:ext cx="22320" cy="36360"/>
                    <a:chOff x="5743080" y="4732920"/>
                    <a:chExt cx="22320" cy="3636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574308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5743080" y="474120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574524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5743080" y="474120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574416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576072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5" name=""/>
                  <p:cNvSpPr/>
                  <p:nvPr/>
                </p:nvSpPr>
                <p:spPr>
                  <a:xfrm>
                    <a:off x="574992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5775120" y="4732920"/>
                  <a:ext cx="22320" cy="36360"/>
                  <a:chOff x="5775120" y="4732920"/>
                  <a:chExt cx="22320" cy="36360"/>
                </a:xfrm>
              </p:grpSpPr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775120" y="4732920"/>
                    <a:ext cx="22320" cy="36360"/>
                    <a:chOff x="5775120" y="4732920"/>
                    <a:chExt cx="22320" cy="3636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577512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5775120" y="474120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577728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5775120" y="474120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577620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579276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4" name=""/>
                  <p:cNvSpPr/>
                  <p:nvPr/>
                </p:nvSpPr>
                <p:spPr>
                  <a:xfrm>
                    <a:off x="578196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5" name=""/>
              <p:cNvGrpSpPr/>
              <p:nvPr/>
            </p:nvGrpSpPr>
            <p:grpSpPr>
              <a:xfrm>
                <a:off x="5985360" y="4728240"/>
                <a:ext cx="180720" cy="36360"/>
                <a:chOff x="5985360" y="4728240"/>
                <a:chExt cx="180720" cy="3636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5985360" y="4728240"/>
                  <a:ext cx="22320" cy="36360"/>
                  <a:chOff x="5985360" y="4728240"/>
                  <a:chExt cx="22320" cy="36360"/>
                </a:xfrm>
              </p:grpSpPr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985360" y="4728240"/>
                    <a:ext cx="22320" cy="36360"/>
                    <a:chOff x="5985360" y="4728240"/>
                    <a:chExt cx="22320" cy="3636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598536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5985360" y="473652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598752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5985360" y="473652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598644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600300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4" name=""/>
                  <p:cNvSpPr/>
                  <p:nvPr/>
                </p:nvSpPr>
                <p:spPr>
                  <a:xfrm>
                    <a:off x="599220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6016680" y="4728240"/>
                  <a:ext cx="22320" cy="36360"/>
                  <a:chOff x="6016680" y="4728240"/>
                  <a:chExt cx="22320" cy="36360"/>
                </a:xfrm>
              </p:grpSpPr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6016680" y="4728240"/>
                    <a:ext cx="22320" cy="36360"/>
                    <a:chOff x="6016680" y="4728240"/>
                    <a:chExt cx="22320" cy="3636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601668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6016680" y="473652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601884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6016680" y="473652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601776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603432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3" name=""/>
                  <p:cNvSpPr/>
                  <p:nvPr/>
                </p:nvSpPr>
                <p:spPr>
                  <a:xfrm>
                    <a:off x="602352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6048360" y="4728240"/>
                  <a:ext cx="22680" cy="36360"/>
                  <a:chOff x="6048360" y="4728240"/>
                  <a:chExt cx="22680" cy="36360"/>
                </a:xfrm>
              </p:grpSpPr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6048360" y="4728240"/>
                    <a:ext cx="22680" cy="36360"/>
                    <a:chOff x="6048360" y="4728240"/>
                    <a:chExt cx="22680" cy="3636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6048360" y="4735080"/>
                      <a:ext cx="2196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6048360" y="473652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6050520" y="4742280"/>
                      <a:ext cx="2052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6048360" y="4736520"/>
                      <a:ext cx="2268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604980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606636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2" name=""/>
                  <p:cNvSpPr/>
                  <p:nvPr/>
                </p:nvSpPr>
                <p:spPr>
                  <a:xfrm>
                    <a:off x="6055200" y="4748400"/>
                    <a:ext cx="126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6080040" y="4728240"/>
                  <a:ext cx="22320" cy="36360"/>
                  <a:chOff x="6080040" y="4728240"/>
                  <a:chExt cx="22320" cy="36360"/>
                </a:xfrm>
              </p:grpSpPr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6080040" y="4728240"/>
                    <a:ext cx="22320" cy="36360"/>
                    <a:chOff x="6080040" y="4728240"/>
                    <a:chExt cx="22320" cy="3636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608004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6080040" y="473652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608220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6080040" y="473652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608112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609768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1" name=""/>
                  <p:cNvSpPr/>
                  <p:nvPr/>
                </p:nvSpPr>
                <p:spPr>
                  <a:xfrm>
                    <a:off x="608688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6111720" y="4728240"/>
                  <a:ext cx="22320" cy="36360"/>
                  <a:chOff x="6111720" y="4728240"/>
                  <a:chExt cx="22320" cy="36360"/>
                </a:xfrm>
              </p:grpSpPr>
              <p:grpSp>
                <p:nvGrpSpPr>
                  <p:cNvPr id="613" name=""/>
                  <p:cNvGrpSpPr/>
                  <p:nvPr/>
                </p:nvGrpSpPr>
                <p:grpSpPr>
                  <a:xfrm>
                    <a:off x="6111720" y="4728240"/>
                    <a:ext cx="22320" cy="36360"/>
                    <a:chOff x="6111720" y="4728240"/>
                    <a:chExt cx="22320" cy="36360"/>
                  </a:xfrm>
                </p:grpSpPr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611172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6111720" y="473652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611388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6111720" y="473652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611280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612936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611856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6143760" y="4728240"/>
                  <a:ext cx="22320" cy="36360"/>
                  <a:chOff x="6143760" y="4728240"/>
                  <a:chExt cx="22320" cy="36360"/>
                </a:xfrm>
              </p:grpSpPr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6143760" y="4728240"/>
                    <a:ext cx="22320" cy="36360"/>
                    <a:chOff x="6143760" y="4728240"/>
                    <a:chExt cx="22320" cy="3636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614376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6143760" y="473652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614592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6143760" y="473652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614484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616140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9" name=""/>
                  <p:cNvSpPr/>
                  <p:nvPr/>
                </p:nvSpPr>
                <p:spPr>
                  <a:xfrm>
                    <a:off x="615060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30" name=""/>
          <p:cNvSpPr/>
          <p:nvPr/>
        </p:nvSpPr>
        <p:spPr>
          <a:xfrm>
            <a:off x="5294160" y="436572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iche o h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455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243828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1600" y="53352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CURS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05880" y="53352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CURS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395280" y="1916280"/>
          <a:ext cx="45720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191628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"/>
          <p:cNvSpPr/>
          <p:nvPr/>
        </p:nvSpPr>
        <p:spPr>
          <a:xfrm flipV="1">
            <a:off x="755640" y="206028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5651640" y="2421000"/>
          <a:ext cx="45720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51640" y="24210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5508720" y="2133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8560" y="22986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52360" y="27813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886520" y="3716280"/>
            <a:ext cx="97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PN G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885080" y="5084640"/>
            <a:ext cx="766800" cy="195480"/>
            <a:chOff x="7885080" y="5084640"/>
            <a:chExt cx="766800" cy="195480"/>
          </a:xfrm>
        </p:grpSpPr>
        <p:sp>
          <p:nvSpPr>
            <p:cNvPr id="645" name=""/>
            <p:cNvSpPr/>
            <p:nvPr/>
          </p:nvSpPr>
          <p:spPr>
            <a:xfrm>
              <a:off x="7885080" y="5086440"/>
              <a:ext cx="765360" cy="9360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91640" y="5178240"/>
              <a:ext cx="660240" cy="101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85080" y="5084640"/>
              <a:ext cx="108000" cy="19548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99560" y="5184720"/>
              <a:ext cx="552240" cy="889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7991640" y="5205240"/>
              <a:ext cx="20520" cy="20520"/>
              <a:chOff x="7991640" y="5205240"/>
              <a:chExt cx="20520" cy="20520"/>
            </a:xfrm>
          </p:grpSpPr>
          <p:sp>
            <p:nvSpPr>
              <p:cNvPr id="650" name=""/>
              <p:cNvSpPr/>
              <p:nvPr/>
            </p:nvSpPr>
            <p:spPr>
              <a:xfrm>
                <a:off x="7991640" y="5205240"/>
                <a:ext cx="20520" cy="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991640" y="5207760"/>
                <a:ext cx="20520" cy="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991640" y="5214240"/>
                <a:ext cx="20520" cy="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991640" y="5216760"/>
                <a:ext cx="20520" cy="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991640" y="5223240"/>
                <a:ext cx="20520" cy="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991640" y="5225760"/>
                <a:ext cx="20520" cy="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8551800" y="5175360"/>
              <a:ext cx="98640" cy="612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7900920" y="5118120"/>
              <a:ext cx="28800" cy="90360"/>
              <a:chOff x="7900920" y="5118120"/>
              <a:chExt cx="28800" cy="90360"/>
            </a:xfrm>
          </p:grpSpPr>
          <p:grpSp>
            <p:nvGrpSpPr>
              <p:cNvPr id="658" name=""/>
              <p:cNvGrpSpPr/>
              <p:nvPr/>
            </p:nvGrpSpPr>
            <p:grpSpPr>
              <a:xfrm>
                <a:off x="7900920" y="5118120"/>
                <a:ext cx="28800" cy="28800"/>
                <a:chOff x="7900920" y="5118120"/>
                <a:chExt cx="28800" cy="2880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7900920" y="511812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901640" y="5118120"/>
                  <a:ext cx="2808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7900920" y="5128200"/>
                <a:ext cx="28800" cy="28800"/>
                <a:chOff x="7900920" y="5128200"/>
                <a:chExt cx="28800" cy="2880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7900920" y="512820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901640" y="5128200"/>
                  <a:ext cx="28080" cy="284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7900920" y="5138640"/>
                <a:ext cx="28800" cy="28440"/>
                <a:chOff x="7900920" y="5138640"/>
                <a:chExt cx="28800" cy="284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7900920" y="5138640"/>
                  <a:ext cx="27720" cy="284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901640" y="5138640"/>
                  <a:ext cx="28080" cy="284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00920" y="5148720"/>
                <a:ext cx="28800" cy="28800"/>
                <a:chOff x="7900920" y="5148720"/>
                <a:chExt cx="28800" cy="2880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7900920" y="5148720"/>
                  <a:ext cx="27720" cy="284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01640" y="5148720"/>
                  <a:ext cx="2808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7900920" y="5159160"/>
                <a:ext cx="28800" cy="28800"/>
                <a:chOff x="7900920" y="5159160"/>
                <a:chExt cx="28800" cy="2880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7900920" y="515916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7901640" y="5159160"/>
                  <a:ext cx="2808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900920" y="5169240"/>
                <a:ext cx="28800" cy="28800"/>
                <a:chOff x="7900920" y="5169240"/>
                <a:chExt cx="28800" cy="2880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900920" y="516924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901640" y="5169240"/>
                  <a:ext cx="2808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7900920" y="5179680"/>
                <a:ext cx="28800" cy="28800"/>
                <a:chOff x="7900920" y="5179680"/>
                <a:chExt cx="28800" cy="2880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7900920" y="517968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7901640" y="5179680"/>
                  <a:ext cx="2808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9" name=""/>
            <p:cNvGrpSpPr/>
            <p:nvPr/>
          </p:nvGrpSpPr>
          <p:grpSpPr>
            <a:xfrm>
              <a:off x="7945560" y="5156280"/>
              <a:ext cx="28440" cy="91800"/>
              <a:chOff x="7945560" y="5156280"/>
              <a:chExt cx="28440" cy="918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7945560" y="5156280"/>
                <a:ext cx="28440" cy="29160"/>
                <a:chOff x="7945560" y="5156280"/>
                <a:chExt cx="28440" cy="291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7945560" y="515628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7946280" y="515628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7945560" y="5166720"/>
                <a:ext cx="28440" cy="28800"/>
                <a:chOff x="7945560" y="5166720"/>
                <a:chExt cx="28440" cy="2880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7945560" y="516672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946280" y="516672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7945560" y="5177160"/>
                <a:ext cx="28440" cy="29160"/>
                <a:chOff x="7945560" y="5177160"/>
                <a:chExt cx="28440" cy="2916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7945560" y="517716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946280" y="517716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7945560" y="5187600"/>
                <a:ext cx="28440" cy="29160"/>
                <a:chOff x="7945560" y="5187600"/>
                <a:chExt cx="28440" cy="291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7945560" y="518760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946280" y="518760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7945560" y="5198040"/>
                <a:ext cx="28440" cy="29160"/>
                <a:chOff x="7945560" y="5198040"/>
                <a:chExt cx="28440" cy="291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7945560" y="519804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7946280" y="519804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7945560" y="5208480"/>
                <a:ext cx="28440" cy="29160"/>
                <a:chOff x="7945560" y="5208480"/>
                <a:chExt cx="28440" cy="2916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7945560" y="520848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7946280" y="520848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7945560" y="5218920"/>
                <a:ext cx="28440" cy="29160"/>
                <a:chOff x="7945560" y="5218920"/>
                <a:chExt cx="28440" cy="291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7945560" y="521892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946280" y="521892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1" name=""/>
            <p:cNvGrpSpPr/>
            <p:nvPr/>
          </p:nvGrpSpPr>
          <p:grpSpPr>
            <a:xfrm>
              <a:off x="7907400" y="5087880"/>
              <a:ext cx="113760" cy="87120"/>
              <a:chOff x="7907400" y="5087880"/>
              <a:chExt cx="113760" cy="87120"/>
            </a:xfrm>
          </p:grpSpPr>
          <p:sp>
            <p:nvSpPr>
              <p:cNvPr id="702" name=""/>
              <p:cNvSpPr/>
              <p:nvPr/>
            </p:nvSpPr>
            <p:spPr>
              <a:xfrm>
                <a:off x="7907400" y="5087880"/>
                <a:ext cx="28800" cy="104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910280" y="5089680"/>
                <a:ext cx="24840" cy="90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992360" y="5164560"/>
                <a:ext cx="28800" cy="100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995600" y="5166000"/>
                <a:ext cx="24840" cy="90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8515440" y="5087880"/>
              <a:ext cx="113760" cy="87120"/>
              <a:chOff x="8515440" y="5087880"/>
              <a:chExt cx="113760" cy="87120"/>
            </a:xfrm>
          </p:grpSpPr>
          <p:sp>
            <p:nvSpPr>
              <p:cNvPr id="707" name=""/>
              <p:cNvSpPr/>
              <p:nvPr/>
            </p:nvSpPr>
            <p:spPr>
              <a:xfrm>
                <a:off x="8515440" y="5087880"/>
                <a:ext cx="29160" cy="104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517960" y="5089680"/>
                <a:ext cx="25200" cy="90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600400" y="5164560"/>
                <a:ext cx="28800" cy="100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603280" y="5166000"/>
                <a:ext cx="25200" cy="90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7999560" y="5186160"/>
              <a:ext cx="555120" cy="86040"/>
              <a:chOff x="7999560" y="5186160"/>
              <a:chExt cx="555120" cy="86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999560" y="5186520"/>
                <a:ext cx="522720" cy="85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505360" y="5186160"/>
                <a:ext cx="49320" cy="8604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8572680" y="5183280"/>
              <a:ext cx="79200" cy="968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8023320" y="5199120"/>
              <a:ext cx="505440" cy="63000"/>
              <a:chOff x="8023320" y="5199120"/>
              <a:chExt cx="505440" cy="6300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8472960" y="5199120"/>
                <a:ext cx="55800" cy="12240"/>
                <a:chOff x="8472960" y="5199120"/>
                <a:chExt cx="55800" cy="12240"/>
              </a:xfrm>
            </p:grpSpPr>
            <p:grpSp>
              <p:nvGrpSpPr>
                <p:cNvPr id="717" name=""/>
                <p:cNvGrpSpPr/>
                <p:nvPr/>
              </p:nvGrpSpPr>
              <p:grpSpPr>
                <a:xfrm>
                  <a:off x="8472960" y="5199120"/>
                  <a:ext cx="16920" cy="12240"/>
                  <a:chOff x="8472960" y="5199120"/>
                  <a:chExt cx="16920" cy="1224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8478720" y="5200920"/>
                    <a:ext cx="11160" cy="2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8472960" y="5199120"/>
                    <a:ext cx="972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8472960" y="5203440"/>
                    <a:ext cx="97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8472960" y="5207040"/>
                    <a:ext cx="11520" cy="2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8480520" y="5205240"/>
                    <a:ext cx="9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8480160" y="5209200"/>
                    <a:ext cx="97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8492400" y="5200200"/>
                  <a:ext cx="36360" cy="9360"/>
                  <a:chOff x="8492400" y="5200200"/>
                  <a:chExt cx="36360" cy="936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8492400" y="5200200"/>
                    <a:ext cx="3636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8492400" y="5205960"/>
                    <a:ext cx="3636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7" name=""/>
              <p:cNvGrpSpPr/>
              <p:nvPr/>
            </p:nvGrpSpPr>
            <p:grpSpPr>
              <a:xfrm>
                <a:off x="8499600" y="5256000"/>
                <a:ext cx="28440" cy="6120"/>
                <a:chOff x="8499600" y="5256000"/>
                <a:chExt cx="28440" cy="6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8499600" y="5256000"/>
                  <a:ext cx="28440" cy="2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8501400" y="5259240"/>
                  <a:ext cx="26640" cy="2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8445600" y="5207760"/>
                <a:ext cx="21600" cy="19440"/>
                <a:chOff x="8445600" y="5207760"/>
                <a:chExt cx="21600" cy="194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8445600" y="5210640"/>
                  <a:ext cx="21600" cy="1656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8449560" y="5207760"/>
                  <a:ext cx="14760" cy="648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8451360" y="5208480"/>
                  <a:ext cx="10800" cy="504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" name=""/>
              <p:cNvSpPr/>
              <p:nvPr/>
            </p:nvSpPr>
            <p:spPr>
              <a:xfrm>
                <a:off x="8449560" y="5230800"/>
                <a:ext cx="6480" cy="46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458200" y="5230800"/>
                <a:ext cx="6480" cy="46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449560" y="5237640"/>
                <a:ext cx="6480" cy="54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458200" y="5237640"/>
                <a:ext cx="6480" cy="54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449560" y="5244840"/>
                <a:ext cx="6480" cy="5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458200" y="5244840"/>
                <a:ext cx="6480" cy="5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449560" y="5252040"/>
                <a:ext cx="6480" cy="54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458200" y="5252040"/>
                <a:ext cx="6480" cy="54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469720" y="5246280"/>
                <a:ext cx="212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175240" y="5207760"/>
                <a:ext cx="103680" cy="1728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213760" y="5204160"/>
                <a:ext cx="30960" cy="720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218080" y="5205240"/>
                <a:ext cx="216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8208000" y="5212440"/>
                <a:ext cx="40320" cy="11160"/>
                <a:chOff x="8208000" y="5212440"/>
                <a:chExt cx="40320" cy="1116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8208000" y="5212440"/>
                  <a:ext cx="40320" cy="28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209800" y="5216400"/>
                  <a:ext cx="36720" cy="28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213400" y="5220720"/>
                  <a:ext cx="29880" cy="28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8174160" y="5228280"/>
                <a:ext cx="52920" cy="27000"/>
                <a:chOff x="8174160" y="5228280"/>
                <a:chExt cx="52920" cy="27000"/>
              </a:xfrm>
            </p:grpSpPr>
            <p:grpSp>
              <p:nvGrpSpPr>
                <p:cNvPr id="751" name=""/>
                <p:cNvGrpSpPr/>
                <p:nvPr/>
              </p:nvGrpSpPr>
              <p:grpSpPr>
                <a:xfrm>
                  <a:off x="8174160" y="5228280"/>
                  <a:ext cx="52920" cy="5040"/>
                  <a:chOff x="8174160" y="5228280"/>
                  <a:chExt cx="52920" cy="504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817416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818316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819252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8201880" y="52282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821088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822024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8174160" y="5235480"/>
                  <a:ext cx="52920" cy="5040"/>
                  <a:chOff x="8174160" y="5235480"/>
                  <a:chExt cx="52920" cy="504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817416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818316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819252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8201880" y="52354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821088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822024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5" name=""/>
                <p:cNvGrpSpPr/>
                <p:nvPr/>
              </p:nvGrpSpPr>
              <p:grpSpPr>
                <a:xfrm>
                  <a:off x="8174160" y="5242680"/>
                  <a:ext cx="52920" cy="5040"/>
                  <a:chOff x="8174160" y="5242680"/>
                  <a:chExt cx="52920" cy="504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>
                    <a:off x="817416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818316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819252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8201880" y="52426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821088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822024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8174160" y="5250240"/>
                  <a:ext cx="52920" cy="5040"/>
                  <a:chOff x="8174160" y="5250240"/>
                  <a:chExt cx="52920" cy="504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817416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818316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819252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8201880" y="525024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821088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822024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8230320" y="5228280"/>
                <a:ext cx="52560" cy="27000"/>
                <a:chOff x="8230320" y="5228280"/>
                <a:chExt cx="52560" cy="27000"/>
              </a:xfrm>
            </p:grpSpPr>
            <p:grpSp>
              <p:nvGrpSpPr>
                <p:cNvPr id="780" name=""/>
                <p:cNvGrpSpPr/>
                <p:nvPr/>
              </p:nvGrpSpPr>
              <p:grpSpPr>
                <a:xfrm>
                  <a:off x="8230320" y="5228280"/>
                  <a:ext cx="52560" cy="5040"/>
                  <a:chOff x="8230320" y="5228280"/>
                  <a:chExt cx="52560" cy="504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>
                    <a:off x="8230320" y="52282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823932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824868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825768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826704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8276400" y="52282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8230320" y="5235480"/>
                  <a:ext cx="52560" cy="5040"/>
                  <a:chOff x="8230320" y="5235480"/>
                  <a:chExt cx="52560" cy="504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8230320" y="52354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823932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824868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825768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826704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8276400" y="52354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8230320" y="5242680"/>
                  <a:ext cx="52560" cy="5040"/>
                  <a:chOff x="8230320" y="5242680"/>
                  <a:chExt cx="52560" cy="504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>
                    <a:off x="8230320" y="52426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823932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824868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825768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826704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8276400" y="52426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8230320" y="5250240"/>
                  <a:ext cx="52560" cy="5040"/>
                  <a:chOff x="8230320" y="5250240"/>
                  <a:chExt cx="52560" cy="504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>
                    <a:off x="8230320" y="525024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823932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824868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825768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826704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8276400" y="525024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8" name=""/>
              <p:cNvGrpSpPr/>
              <p:nvPr/>
            </p:nvGrpSpPr>
            <p:grpSpPr>
              <a:xfrm>
                <a:off x="8023320" y="5237280"/>
                <a:ext cx="137160" cy="23760"/>
                <a:chOff x="8023320" y="5237280"/>
                <a:chExt cx="137160" cy="23760"/>
              </a:xfrm>
            </p:grpSpPr>
            <p:grpSp>
              <p:nvGrpSpPr>
                <p:cNvPr id="809" name=""/>
                <p:cNvGrpSpPr/>
                <p:nvPr/>
              </p:nvGrpSpPr>
              <p:grpSpPr>
                <a:xfrm>
                  <a:off x="8023320" y="5237280"/>
                  <a:ext cx="16920" cy="23760"/>
                  <a:chOff x="8023320" y="5237280"/>
                  <a:chExt cx="16920" cy="23760"/>
                </a:xfrm>
              </p:grpSpPr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8023320" y="5237280"/>
                    <a:ext cx="16920" cy="23760"/>
                    <a:chOff x="8023320" y="5237280"/>
                    <a:chExt cx="16920" cy="2376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8023320" y="524160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8023320" y="524268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8024760" y="524628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8023320" y="524268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802440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803664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7" name=""/>
                  <p:cNvSpPr/>
                  <p:nvPr/>
                </p:nvSpPr>
                <p:spPr>
                  <a:xfrm>
                    <a:off x="8028360" y="525024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8" name=""/>
                <p:cNvGrpSpPr/>
                <p:nvPr/>
              </p:nvGrpSpPr>
              <p:grpSpPr>
                <a:xfrm>
                  <a:off x="8047080" y="5237280"/>
                  <a:ext cx="16920" cy="23760"/>
                  <a:chOff x="8047080" y="5237280"/>
                  <a:chExt cx="16920" cy="23760"/>
                </a:xfrm>
              </p:grpSpPr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8047080" y="5237280"/>
                    <a:ext cx="16920" cy="23760"/>
                    <a:chOff x="8047080" y="5237280"/>
                    <a:chExt cx="16920" cy="2376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8047080" y="524160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8047080" y="524268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8048520" y="524628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8047080" y="524268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804816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806040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6" name=""/>
                  <p:cNvSpPr/>
                  <p:nvPr/>
                </p:nvSpPr>
                <p:spPr>
                  <a:xfrm>
                    <a:off x="8052120" y="525024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7" name=""/>
                <p:cNvGrpSpPr/>
                <p:nvPr/>
              </p:nvGrpSpPr>
              <p:grpSpPr>
                <a:xfrm>
                  <a:off x="8071200" y="5237280"/>
                  <a:ext cx="17280" cy="23760"/>
                  <a:chOff x="8071200" y="5237280"/>
                  <a:chExt cx="17280" cy="23760"/>
                </a:xfrm>
              </p:grpSpPr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8071200" y="5237280"/>
                    <a:ext cx="17280" cy="23760"/>
                    <a:chOff x="8071200" y="5237280"/>
                    <a:chExt cx="17280" cy="2376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8071200" y="524160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8071200" y="524268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8073000" y="5246280"/>
                      <a:ext cx="1548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8071200" y="5242680"/>
                      <a:ext cx="17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807228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808488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5" name=""/>
                  <p:cNvSpPr/>
                  <p:nvPr/>
                </p:nvSpPr>
                <p:spPr>
                  <a:xfrm>
                    <a:off x="8076600" y="5250240"/>
                    <a:ext cx="972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8095320" y="5237280"/>
                  <a:ext cx="16920" cy="23760"/>
                  <a:chOff x="8095320" y="5237280"/>
                  <a:chExt cx="16920" cy="23760"/>
                </a:xfrm>
              </p:grpSpPr>
              <p:grpSp>
                <p:nvGrpSpPr>
                  <p:cNvPr id="837" name=""/>
                  <p:cNvGrpSpPr/>
                  <p:nvPr/>
                </p:nvGrpSpPr>
                <p:grpSpPr>
                  <a:xfrm>
                    <a:off x="8095320" y="5237280"/>
                    <a:ext cx="16920" cy="23760"/>
                    <a:chOff x="8095320" y="5237280"/>
                    <a:chExt cx="16920" cy="23760"/>
                  </a:xfrm>
                </p:grpSpPr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8095320" y="524160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8095320" y="524268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8096760" y="524628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8095320" y="524268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809640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810864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4" name=""/>
                  <p:cNvSpPr/>
                  <p:nvPr/>
                </p:nvSpPr>
                <p:spPr>
                  <a:xfrm>
                    <a:off x="8100360" y="525024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8119440" y="5237280"/>
                  <a:ext cx="16920" cy="23760"/>
                  <a:chOff x="8119440" y="5237280"/>
                  <a:chExt cx="16920" cy="23760"/>
                </a:xfrm>
              </p:grpSpPr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8119440" y="5237280"/>
                    <a:ext cx="16920" cy="23760"/>
                    <a:chOff x="8119440" y="5237280"/>
                    <a:chExt cx="16920" cy="23760"/>
                  </a:xfrm>
                </p:grpSpPr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8119440" y="524160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8119440" y="524268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8120880" y="524628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8119440" y="524268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812052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813276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3" name=""/>
                  <p:cNvSpPr/>
                  <p:nvPr/>
                </p:nvSpPr>
                <p:spPr>
                  <a:xfrm>
                    <a:off x="8124480" y="525024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8143560" y="5237280"/>
                  <a:ext cx="16920" cy="23760"/>
                  <a:chOff x="8143560" y="5237280"/>
                  <a:chExt cx="16920" cy="23760"/>
                </a:xfrm>
              </p:grpSpPr>
              <p:grpSp>
                <p:nvGrpSpPr>
                  <p:cNvPr id="855" name=""/>
                  <p:cNvGrpSpPr/>
                  <p:nvPr/>
                </p:nvGrpSpPr>
                <p:grpSpPr>
                  <a:xfrm>
                    <a:off x="8143560" y="5237280"/>
                    <a:ext cx="16920" cy="23760"/>
                    <a:chOff x="8143560" y="5237280"/>
                    <a:chExt cx="16920" cy="23760"/>
                  </a:xfrm>
                </p:grpSpPr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8143560" y="524160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8143560" y="524268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8145000" y="524628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8143560" y="524268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814464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815688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2" name=""/>
                  <p:cNvSpPr/>
                  <p:nvPr/>
                </p:nvSpPr>
                <p:spPr>
                  <a:xfrm>
                    <a:off x="8148600" y="525024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3" name=""/>
              <p:cNvGrpSpPr/>
              <p:nvPr/>
            </p:nvGrpSpPr>
            <p:grpSpPr>
              <a:xfrm>
                <a:off x="8303040" y="5234400"/>
                <a:ext cx="137160" cy="23760"/>
                <a:chOff x="8303040" y="5234400"/>
                <a:chExt cx="137160" cy="23760"/>
              </a:xfrm>
            </p:grpSpPr>
            <p:grpSp>
              <p:nvGrpSpPr>
                <p:cNvPr id="864" name=""/>
                <p:cNvGrpSpPr/>
                <p:nvPr/>
              </p:nvGrpSpPr>
              <p:grpSpPr>
                <a:xfrm>
                  <a:off x="8303040" y="5234400"/>
                  <a:ext cx="16920" cy="23760"/>
                  <a:chOff x="8303040" y="5234400"/>
                  <a:chExt cx="16920" cy="23760"/>
                </a:xfrm>
              </p:grpSpPr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8303040" y="5234400"/>
                    <a:ext cx="16920" cy="23760"/>
                    <a:chOff x="8303040" y="5234400"/>
                    <a:chExt cx="16920" cy="2376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8303040" y="523872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8303040" y="523980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8304480" y="524340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8303040" y="523980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830412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831636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2" name=""/>
                  <p:cNvSpPr/>
                  <p:nvPr/>
                </p:nvSpPr>
                <p:spPr>
                  <a:xfrm>
                    <a:off x="8308080" y="524736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8326800" y="5234400"/>
                  <a:ext cx="16920" cy="23760"/>
                  <a:chOff x="8326800" y="5234400"/>
                  <a:chExt cx="16920" cy="23760"/>
                </a:xfrm>
              </p:grpSpPr>
              <p:grpSp>
                <p:nvGrpSpPr>
                  <p:cNvPr id="874" name=""/>
                  <p:cNvGrpSpPr/>
                  <p:nvPr/>
                </p:nvGrpSpPr>
                <p:grpSpPr>
                  <a:xfrm>
                    <a:off x="8326800" y="5234400"/>
                    <a:ext cx="16920" cy="23760"/>
                    <a:chOff x="8326800" y="5234400"/>
                    <a:chExt cx="16920" cy="23760"/>
                  </a:xfrm>
                </p:grpSpPr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8326800" y="523872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8326800" y="523980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8328240" y="524340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8326800" y="523980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832788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834012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1" name=""/>
                  <p:cNvSpPr/>
                  <p:nvPr/>
                </p:nvSpPr>
                <p:spPr>
                  <a:xfrm>
                    <a:off x="8331840" y="524736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8350920" y="5234400"/>
                  <a:ext cx="17280" cy="23760"/>
                  <a:chOff x="8350920" y="5234400"/>
                  <a:chExt cx="17280" cy="23760"/>
                </a:xfrm>
              </p:grpSpPr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8350920" y="5234400"/>
                    <a:ext cx="17280" cy="23760"/>
                    <a:chOff x="8350920" y="5234400"/>
                    <a:chExt cx="17280" cy="2376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8350920" y="523872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8350920" y="523980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8352720" y="5243400"/>
                      <a:ext cx="1548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8350920" y="5239800"/>
                      <a:ext cx="17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835200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836460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0" name=""/>
                  <p:cNvSpPr/>
                  <p:nvPr/>
                </p:nvSpPr>
                <p:spPr>
                  <a:xfrm>
                    <a:off x="8356320" y="5247360"/>
                    <a:ext cx="972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1" name=""/>
                <p:cNvGrpSpPr/>
                <p:nvPr/>
              </p:nvGrpSpPr>
              <p:grpSpPr>
                <a:xfrm>
                  <a:off x="8375040" y="5234400"/>
                  <a:ext cx="16920" cy="23760"/>
                  <a:chOff x="8375040" y="5234400"/>
                  <a:chExt cx="16920" cy="23760"/>
                </a:xfrm>
              </p:grpSpPr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8375040" y="5234400"/>
                    <a:ext cx="16920" cy="23760"/>
                    <a:chOff x="8375040" y="5234400"/>
                    <a:chExt cx="16920" cy="2376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8375040" y="523872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8375040" y="523980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8376480" y="524340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8375040" y="523980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837612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838836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9" name=""/>
                  <p:cNvSpPr/>
                  <p:nvPr/>
                </p:nvSpPr>
                <p:spPr>
                  <a:xfrm>
                    <a:off x="8380080" y="524736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8399160" y="5234400"/>
                  <a:ext cx="16920" cy="23760"/>
                  <a:chOff x="8399160" y="5234400"/>
                  <a:chExt cx="16920" cy="23760"/>
                </a:xfrm>
              </p:grpSpPr>
              <p:grpSp>
                <p:nvGrpSpPr>
                  <p:cNvPr id="901" name=""/>
                  <p:cNvGrpSpPr/>
                  <p:nvPr/>
                </p:nvGrpSpPr>
                <p:grpSpPr>
                  <a:xfrm>
                    <a:off x="8399160" y="5234400"/>
                    <a:ext cx="16920" cy="23760"/>
                    <a:chOff x="8399160" y="5234400"/>
                    <a:chExt cx="16920" cy="23760"/>
                  </a:xfrm>
                </p:grpSpPr>
                <p:sp>
                  <p:nvSpPr>
                    <p:cNvPr id="902" name=""/>
                    <p:cNvSpPr/>
                    <p:nvPr/>
                  </p:nvSpPr>
                  <p:spPr>
                    <a:xfrm>
                      <a:off x="8399160" y="523872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8399160" y="523980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8400600" y="524340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8399160" y="523980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840024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841248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8" name=""/>
                  <p:cNvSpPr/>
                  <p:nvPr/>
                </p:nvSpPr>
                <p:spPr>
                  <a:xfrm>
                    <a:off x="8404200" y="524736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8423280" y="5234400"/>
                  <a:ext cx="16920" cy="23760"/>
                  <a:chOff x="8423280" y="5234400"/>
                  <a:chExt cx="16920" cy="23760"/>
                </a:xfrm>
              </p:grpSpPr>
              <p:grpSp>
                <p:nvGrpSpPr>
                  <p:cNvPr id="910" name=""/>
                  <p:cNvGrpSpPr/>
                  <p:nvPr/>
                </p:nvGrpSpPr>
                <p:grpSpPr>
                  <a:xfrm>
                    <a:off x="8423280" y="5234400"/>
                    <a:ext cx="16920" cy="23760"/>
                    <a:chOff x="8423280" y="5234400"/>
                    <a:chExt cx="16920" cy="23760"/>
                  </a:xfrm>
                </p:grpSpPr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8423280" y="523872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8423280" y="523980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8424720" y="524340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8423280" y="523980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842436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843660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7" name=""/>
                  <p:cNvSpPr/>
                  <p:nvPr/>
                </p:nvSpPr>
                <p:spPr>
                  <a:xfrm>
                    <a:off x="8428320" y="524736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18" name=""/>
          <p:cNvSpPr/>
          <p:nvPr/>
        </p:nvSpPr>
        <p:spPr>
          <a:xfrm>
            <a:off x="8244000" y="49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1187280" y="2708280"/>
            <a:ext cx="1224000" cy="709560"/>
            <a:chOff x="1187280" y="2708280"/>
            <a:chExt cx="1224000" cy="709560"/>
          </a:xfrm>
        </p:grpSpPr>
        <p:sp>
          <p:nvSpPr>
            <p:cNvPr id="920" name=""/>
            <p:cNvSpPr/>
            <p:nvPr/>
          </p:nvSpPr>
          <p:spPr>
            <a:xfrm>
              <a:off x="1187280" y="2708280"/>
              <a:ext cx="1224000" cy="70956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03000" y="2954520"/>
              <a:ext cx="6210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2340000" y="313992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669080" y="5661000"/>
            <a:ext cx="136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XP/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e cor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076720" y="5516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076720" y="623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2195640" y="3429000"/>
          <a:ext cx="45720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95640" y="34290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 flipV="1">
            <a:off x="2556000" y="3213000"/>
            <a:ext cx="863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93080" y="3500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340720" y="2708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5"/>
          <a:stretch/>
        </p:blipFill>
        <p:spPr>
          <a:xfrm>
            <a:off x="1332000" y="1773360"/>
            <a:ext cx="576000" cy="40788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16"/>
          <a:stretch/>
        </p:blipFill>
        <p:spPr>
          <a:xfrm>
            <a:off x="3276720" y="2852640"/>
            <a:ext cx="576000" cy="40824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17"/>
          <a:stretch/>
        </p:blipFill>
        <p:spPr>
          <a:xfrm>
            <a:off x="4859280" y="1844640"/>
            <a:ext cx="576360" cy="40788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18"/>
          <a:stretch/>
        </p:blipFill>
        <p:spPr>
          <a:xfrm>
            <a:off x="7020000" y="3357720"/>
            <a:ext cx="576360" cy="40788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6518520" y="371628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.12.177.65/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4932360" y="3645000"/>
          <a:ext cx="504720" cy="647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32360" y="3645000"/>
                    <a:ext cx="504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"/>
          <p:cNvGraphicFramePr/>
          <p:nvPr/>
        </p:nvGraphicFramePr>
        <p:xfrm>
          <a:off x="4932360" y="5013360"/>
          <a:ext cx="504720" cy="647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32360" y="5013360"/>
                    <a:ext cx="504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"/>
          <p:cNvSpPr/>
          <p:nvPr/>
        </p:nvSpPr>
        <p:spPr>
          <a:xfrm>
            <a:off x="5510520" y="508464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.12.177.66/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294520" y="393372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.12.177.67/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454880" y="63817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CURSAL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23"/>
          <a:stretch/>
        </p:blipFill>
        <p:spPr>
          <a:xfrm>
            <a:off x="7956720" y="4221000"/>
            <a:ext cx="5108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ERIMIEN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r esquema de direccionamiento, enrutamiento y resolución de nomb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de numeración de telefonía IP. Protocolo de señalización justificando su elección. Se debe poder hacer llamadas entre las sucursal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s los nodos deben tener los siguientes servicios hacia Internet: correo, navegación vía proxy y acceso a otros servicios vía N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ERIMIEN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ervicios de correo, WEB, DNS deben integrarse de forma que no se tenga redundancia en los clientes.  Ejemplo: los clientes solo tendrán definido un servidor de correo, a pesar de que se tiene uno hacia Internet y otro inte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debe habilitar en los router por lo menos 2 mecanismos para optimizar el tráfico de voz. Eje: compre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de encabezados  RTP, manejo de colas LLQ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tilizar para verificar las diferentes funcionalidades herramientas como ping, trace, nmap, sniffers, nslookup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ERIMIEN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monitorear el consumo de los canales WAN de los router implementar MRTG en el servidor DMZ. En la página Web debe haber un link para cada ca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enlace WAN con la sucursal 1 será configurado a 512Kbps con encapsulación PPP y autenticación 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enlace WAN con la sucursal 2 será configurado con Frame Relay a 512Kbps y DLCI 1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CURSAL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Windows XP/V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IP: Direcciones, Máscara, Enrutador por defecto y D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Correo, navegación vía proxy y archivos con protocolo SM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enticación Windows en Servidor Linu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de enrutado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de voz 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CURSAL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Linu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IP: Direcciones, Máscara, Enrutador por defecto y D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Correo, navegación vía proxy y arch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de enrutador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de Voz 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IO CENT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figuración de enrutador princip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de voz 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s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IO CENT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dor Linux inte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IP: Direcciones, Máscara, Enrutador por defecto y D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 interno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o con buz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anet (Páginas Web Intern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enticación Windows (Dominio) y compartición de archivos con SM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6:03:44Z</dcterms:created>
  <dc:creator>Juan Carlos Restrepo</dc:creator>
  <dc:description/>
  <dc:language>en-US</dc:language>
  <cp:lastModifiedBy>usuario</cp:lastModifiedBy>
  <dcterms:modified xsi:type="dcterms:W3CDTF">2009-02-02T20:44:12Z</dcterms:modified>
  <cp:revision>305</cp:revision>
  <dc:subject/>
  <dc:title>Presentación de PowerPoint</dc:title>
</cp:coreProperties>
</file>