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FCE-98E5-4FB2-A0D7-B56AB424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B29-A48E-403E-BCA4-C4C5DEC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45E-1F71-45FE-AD65-23C17DF1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324-04D3-42A0-A4C5-01A31F6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6BA-D190-489B-B86A-9B31BBCA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E5C-40B7-4298-8B7D-29ED433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AF0-B8B7-41B3-AD5E-D66DA4B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290-9410-4D7A-AE76-5111AEF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845-455D-4751-9D6E-E11C11A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613-B590-4BFD-A8D2-173FCB2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08F-31C5-4841-A01F-E67BF7D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EF2-0073-4F5B-8FDA-BB73B51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4C4-2B85-4BCA-AC31-E517DF21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.wmf"/><Relationship Id="rId16" Type="http://schemas.openxmlformats.org/officeDocument/2006/relationships/image" Target="../media/image4.jpe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SO DE ESTUDIO GLOBAL DE 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0080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ril -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2000" y="5229360"/>
            <a:ext cx="3055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REWALL/NAT/PRO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finición de políticas de segu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iltros entre las diferentes z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porte de NAT y Proxy controlado para las diferentes z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ublicación (redireccionamiento) de puertos hacia servicios de zona DM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sonas: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DOR DE ZONA DM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o entrante para hacer relay hacia servidor de corre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vi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p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LAN TO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Gateways y estación de LAN por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nología a utilizar para el túnel IP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ación de la LAN VPN, debe poder ingresar a los servicios de la red privada cent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REG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o general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ía global de la red con detalle de componentes: routers, estaciones, hub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direccionamiento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resolución de nombres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servicios de correo y nav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os de configuración para todos los servicios y compo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o específico por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STIMADO: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ARIOS  Y RECURS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harla y seguimiento: Martes - Jueves 6 - 9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en laboratorio: Miercoles 6-10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ciones públ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mento IP Publico: 200.12.177.0/2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rutador por defecto: 200.12.177.1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irewall.usb.edu.co: 200.12.177.2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pngw1.usb.edu.co: 200.12.177.3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pngw2.usb.edu.co: 200.12.177.4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enrutadores (3 con soporte de vo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cione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ui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a Internet con direccione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LOGIA 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to que el trabajo se debe sustentar al finalizar el curso se recomien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1 y 2: Definiciones globales y consecución de re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enru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resolución de n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s de correo y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s de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3-6: Trabajo individual con reuniones globales cuando lo requier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as 7-8: Integración y soci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O DE EVALUA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endrán dos notas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 para el trabajo glo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nota final de cada persona se tomará promediando la nota global con la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evaluación global se verificará la funcionalidad general de los diferentes servicios: correo, dns, web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evaluación individual se preguntarán aspectos generales de toda la imple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valuación se hará un solo día con todas las personas en el sitio del montaje estable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00000" y="4437000"/>
          <a:ext cx="47628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437000"/>
                    <a:ext cx="4762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40960" y="0"/>
            <a:ext cx="59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Unicode MS"/>
              </a:rPr>
              <a:t>ESQUEMA GENERAL CASO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71600" y="3889080"/>
            <a:ext cx="175248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858960"/>
            <a:ext cx="685800" cy="63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2960" y="609480"/>
            <a:ext cx="154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dows 2000/X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05720" y="1984320"/>
            <a:ext cx="2437920" cy="1218960"/>
            <a:chOff x="6705720" y="1984320"/>
            <a:chExt cx="2437920" cy="1218960"/>
          </a:xfrm>
        </p:grpSpPr>
        <p:sp>
          <p:nvSpPr>
            <p:cNvPr id="51" name=""/>
            <p:cNvSpPr/>
            <p:nvPr/>
          </p:nvSpPr>
          <p:spPr>
            <a:xfrm>
              <a:off x="6705720" y="1984320"/>
              <a:ext cx="2437920" cy="12189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60480" y="2540880"/>
              <a:ext cx="1259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2136600"/>
            <a:ext cx="1295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876920" y="917640"/>
            <a:ext cx="609480" cy="563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048120" y="3584520"/>
            <a:ext cx="1437120" cy="304920"/>
            <a:chOff x="3048120" y="3584520"/>
            <a:chExt cx="1437120" cy="304920"/>
          </a:xfrm>
        </p:grpSpPr>
        <p:sp>
          <p:nvSpPr>
            <p:cNvPr id="56" name=""/>
            <p:cNvSpPr/>
            <p:nvPr/>
          </p:nvSpPr>
          <p:spPr>
            <a:xfrm>
              <a:off x="3048120" y="3585600"/>
              <a:ext cx="1331280" cy="14832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32080" y="3730680"/>
              <a:ext cx="1148040" cy="158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8120" y="3584520"/>
              <a:ext cx="187560" cy="3049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5400" y="3739680"/>
              <a:ext cx="961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233520" y="3771720"/>
              <a:ext cx="33840" cy="32040"/>
              <a:chOff x="3233520" y="3771720"/>
              <a:chExt cx="33840" cy="32040"/>
            </a:xfrm>
          </p:grpSpPr>
          <p:sp>
            <p:nvSpPr>
              <p:cNvPr id="61" name=""/>
              <p:cNvSpPr/>
              <p:nvPr/>
            </p:nvSpPr>
            <p:spPr>
              <a:xfrm>
                <a:off x="3233520" y="377172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33520" y="377604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33520" y="378540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33520" y="378936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33520" y="3799440"/>
                <a:ext cx="338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33520" y="3803400"/>
                <a:ext cx="338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208400" y="3726000"/>
              <a:ext cx="171000" cy="1008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75120" y="3635640"/>
              <a:ext cx="50760" cy="142200"/>
              <a:chOff x="3075120" y="3635640"/>
              <a:chExt cx="50760" cy="142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075120" y="3635640"/>
                <a:ext cx="50760" cy="45360"/>
                <a:chOff x="3075120" y="3635640"/>
                <a:chExt cx="50760" cy="45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075120" y="363600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076560" y="363564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075120" y="3651480"/>
                <a:ext cx="50760" cy="45360"/>
                <a:chOff x="3075120" y="3651480"/>
                <a:chExt cx="50760" cy="453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75120" y="36518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76560" y="36514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075120" y="3667680"/>
                <a:ext cx="50760" cy="45360"/>
                <a:chOff x="3075120" y="3667680"/>
                <a:chExt cx="50760" cy="453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075120" y="36680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76560" y="36676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075120" y="3683880"/>
                <a:ext cx="50760" cy="45360"/>
                <a:chOff x="3075120" y="3683880"/>
                <a:chExt cx="50760" cy="45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075120" y="36842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76560" y="36838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075120" y="3700080"/>
                <a:ext cx="50760" cy="45360"/>
                <a:chOff x="3075120" y="3700080"/>
                <a:chExt cx="50760" cy="45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075120" y="37004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76560" y="37000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075120" y="3716280"/>
                <a:ext cx="50760" cy="45360"/>
                <a:chOff x="3075120" y="3716280"/>
                <a:chExt cx="50760" cy="45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75120" y="37166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76560" y="37162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075120" y="3732480"/>
                <a:ext cx="50760" cy="45360"/>
                <a:chOff x="3075120" y="3732480"/>
                <a:chExt cx="50760" cy="45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075120" y="3732840"/>
                  <a:ext cx="4860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076560" y="373248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3152520" y="3696480"/>
              <a:ext cx="48960" cy="142200"/>
              <a:chOff x="3152520" y="3696480"/>
              <a:chExt cx="48960" cy="142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152520" y="3696480"/>
                <a:ext cx="48960" cy="45000"/>
                <a:chOff x="3152520" y="3696480"/>
                <a:chExt cx="48960" cy="45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152520" y="3696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3960" y="36964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152520" y="3712680"/>
                <a:ext cx="48960" cy="45000"/>
                <a:chOff x="3152520" y="3712680"/>
                <a:chExt cx="48960" cy="45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152520" y="37130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53960" y="37126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152520" y="3728880"/>
                <a:ext cx="48960" cy="45000"/>
                <a:chOff x="3152520" y="3728880"/>
                <a:chExt cx="48960" cy="45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152520" y="37292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53960" y="37288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2520" y="3745080"/>
                <a:ext cx="48960" cy="45000"/>
                <a:chOff x="3152520" y="3745080"/>
                <a:chExt cx="48960" cy="45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152520" y="37454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3960" y="37450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152520" y="3761280"/>
                <a:ext cx="48960" cy="45000"/>
                <a:chOff x="3152520" y="3761280"/>
                <a:chExt cx="48960" cy="45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152520" y="37616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53960" y="37612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152520" y="3777480"/>
                <a:ext cx="48960" cy="45000"/>
                <a:chOff x="3152520" y="3777480"/>
                <a:chExt cx="48960" cy="45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152520" y="3777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53960" y="37774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2520" y="3793680"/>
                <a:ext cx="48960" cy="45000"/>
                <a:chOff x="3152520" y="3793680"/>
                <a:chExt cx="48960" cy="45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152520" y="37940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3960" y="379368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3086640" y="3588480"/>
              <a:ext cx="199800" cy="136800"/>
              <a:chOff x="3086640" y="3588480"/>
              <a:chExt cx="199800" cy="136800"/>
            </a:xfrm>
          </p:grpSpPr>
          <p:sp>
            <p:nvSpPr>
              <p:cNvPr id="113" name=""/>
              <p:cNvSpPr/>
              <p:nvPr/>
            </p:nvSpPr>
            <p:spPr>
              <a:xfrm>
                <a:off x="3086640" y="3588480"/>
                <a:ext cx="507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92040" y="359136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35680" y="3708360"/>
                <a:ext cx="5076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1080" y="3710880"/>
                <a:ext cx="4356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143240" y="3588480"/>
              <a:ext cx="200520" cy="136800"/>
              <a:chOff x="4143240" y="3588480"/>
              <a:chExt cx="200520" cy="13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143240" y="3588480"/>
                <a:ext cx="511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7920" y="359136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92640" y="3708360"/>
                <a:ext cx="51120" cy="16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97680" y="3710880"/>
                <a:ext cx="442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45400" y="3743280"/>
              <a:ext cx="967320" cy="133920"/>
              <a:chOff x="3245400" y="3743280"/>
              <a:chExt cx="967320" cy="133920"/>
            </a:xfrm>
          </p:grpSpPr>
          <p:sp>
            <p:nvSpPr>
              <p:cNvPr id="123" name=""/>
              <p:cNvSpPr/>
              <p:nvPr/>
            </p:nvSpPr>
            <p:spPr>
              <a:xfrm>
                <a:off x="3245400" y="3743640"/>
                <a:ext cx="910440" cy="133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26320" y="3743280"/>
                <a:ext cx="86400" cy="13392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244760" y="3737520"/>
              <a:ext cx="136080" cy="151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0200" y="370044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87880" y="3762360"/>
              <a:ext cx="881640" cy="97560"/>
              <a:chOff x="3287880" y="3762360"/>
              <a:chExt cx="881640" cy="97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4071600" y="3762360"/>
                <a:ext cx="97920" cy="18720"/>
                <a:chOff x="4071600" y="3762360"/>
                <a:chExt cx="97920" cy="1872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4071600" y="3762360"/>
                  <a:ext cx="29520" cy="18720"/>
                  <a:chOff x="4071600" y="3762360"/>
                  <a:chExt cx="29520" cy="1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4081320" y="3765240"/>
                    <a:ext cx="1944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071600" y="3762360"/>
                    <a:ext cx="16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071600" y="3768840"/>
                    <a:ext cx="16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71600" y="3774600"/>
                    <a:ext cx="201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084560" y="3771720"/>
                    <a:ext cx="162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084200" y="3777840"/>
                    <a:ext cx="16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4105800" y="3764160"/>
                  <a:ext cx="63720" cy="14400"/>
                  <a:chOff x="4105800" y="3764160"/>
                  <a:chExt cx="63720" cy="144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4105800" y="376416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105800" y="3772800"/>
                    <a:ext cx="637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4117680" y="3850560"/>
                <a:ext cx="49680" cy="9360"/>
                <a:chOff x="4117680" y="3850560"/>
                <a:chExt cx="49680" cy="9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7680" y="3850560"/>
                  <a:ext cx="4968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20920" y="3855600"/>
                  <a:ext cx="46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023720" y="3775680"/>
                <a:ext cx="37800" cy="29880"/>
                <a:chOff x="4023720" y="3775680"/>
                <a:chExt cx="37800" cy="29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023720" y="3780360"/>
                  <a:ext cx="37800" cy="252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030560" y="3775680"/>
                  <a:ext cx="2556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034160" y="3777120"/>
                  <a:ext cx="1872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403020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45680" y="3811320"/>
                <a:ext cx="1152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020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45680" y="382212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020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45680" y="3833280"/>
                <a:ext cx="1152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3020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45680" y="3844440"/>
                <a:ext cx="1152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5480" y="3835440"/>
                <a:ext cx="3744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52840" y="3775680"/>
                <a:ext cx="180720" cy="2664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19800" y="3769920"/>
                <a:ext cx="5400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27000" y="3771720"/>
                <a:ext cx="37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3610080" y="3782880"/>
                <a:ext cx="70560" cy="17640"/>
                <a:chOff x="3610080" y="3782880"/>
                <a:chExt cx="70560" cy="17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610080" y="3782880"/>
                  <a:ext cx="7056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613320" y="3789000"/>
                  <a:ext cx="640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19800" y="3795840"/>
                  <a:ext cx="518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550680" y="3807360"/>
                <a:ext cx="92520" cy="41760"/>
                <a:chOff x="3550680" y="3807360"/>
                <a:chExt cx="92520" cy="417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550680" y="3807360"/>
                  <a:ext cx="92520" cy="7560"/>
                  <a:chOff x="3550680" y="3807360"/>
                  <a:chExt cx="92520" cy="75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55068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5661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82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59928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614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6313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3550680" y="3818160"/>
                  <a:ext cx="92520" cy="7920"/>
                  <a:chOff x="3550680" y="3818160"/>
                  <a:chExt cx="92520" cy="79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355068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5661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582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59928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614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6313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3550680" y="3830040"/>
                  <a:ext cx="92520" cy="7560"/>
                  <a:chOff x="3550680" y="3830040"/>
                  <a:chExt cx="92520" cy="75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355068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5661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582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59928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614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6313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550680" y="3841200"/>
                  <a:ext cx="92520" cy="7920"/>
                  <a:chOff x="3550680" y="3841200"/>
                  <a:chExt cx="92520" cy="79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5068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661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82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59928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614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6313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3648240" y="3807360"/>
                <a:ext cx="91440" cy="41760"/>
                <a:chOff x="3648240" y="3807360"/>
                <a:chExt cx="91440" cy="417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648240" y="3807360"/>
                  <a:ext cx="91440" cy="7560"/>
                  <a:chOff x="3648240" y="3807360"/>
                  <a:chExt cx="91440" cy="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64824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6637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67992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6957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711960" y="380736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728520" y="380736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3648240" y="3818160"/>
                  <a:ext cx="91440" cy="7920"/>
                  <a:chOff x="3648240" y="3818160"/>
                  <a:chExt cx="91440" cy="79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64824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6637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67992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6957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711960" y="381816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728520" y="381816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648240" y="3830040"/>
                  <a:ext cx="91440" cy="7560"/>
                  <a:chOff x="3648240" y="3830040"/>
                  <a:chExt cx="91440" cy="75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364824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6637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67992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6957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711960" y="3830040"/>
                    <a:ext cx="118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728520" y="3830040"/>
                    <a:ext cx="1116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3648240" y="3841200"/>
                  <a:ext cx="91440" cy="7920"/>
                  <a:chOff x="3648240" y="3841200"/>
                  <a:chExt cx="91440" cy="79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4824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637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67992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6957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11960" y="3841200"/>
                    <a:ext cx="118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28520" y="3841200"/>
                    <a:ext cx="1116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3287880" y="3821760"/>
                <a:ext cx="238680" cy="36360"/>
                <a:chOff x="3287880" y="3821760"/>
                <a:chExt cx="238680" cy="363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3287880" y="3821760"/>
                  <a:ext cx="29520" cy="36360"/>
                  <a:chOff x="3287880" y="3821760"/>
                  <a:chExt cx="29520" cy="3636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3287880" y="3821760"/>
                    <a:ext cx="29520" cy="36360"/>
                    <a:chOff x="3287880" y="3821760"/>
                    <a:chExt cx="29520" cy="36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32878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28788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32907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28788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32896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33112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"/>
                  <p:cNvSpPr/>
                  <p:nvPr/>
                </p:nvSpPr>
                <p:spPr>
                  <a:xfrm>
                    <a:off x="32968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329280" y="3821760"/>
                  <a:ext cx="29520" cy="36360"/>
                  <a:chOff x="3329280" y="3821760"/>
                  <a:chExt cx="29520" cy="3636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329280" y="3821760"/>
                    <a:ext cx="29520" cy="36360"/>
                    <a:chOff x="3329280" y="3821760"/>
                    <a:chExt cx="29520" cy="363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32928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332928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333216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32928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333108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35268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>
                    <a:off x="333828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371040" y="3821760"/>
                  <a:ext cx="29880" cy="36360"/>
                  <a:chOff x="3371040" y="3821760"/>
                  <a:chExt cx="29880" cy="36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371040" y="3821760"/>
                    <a:ext cx="29880" cy="36360"/>
                    <a:chOff x="3371040" y="3821760"/>
                    <a:chExt cx="29880" cy="3636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3371040" y="382860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37104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373920" y="383580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371040" y="3830040"/>
                      <a:ext cx="298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372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394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7" name=""/>
                  <p:cNvSpPr/>
                  <p:nvPr/>
                </p:nvSpPr>
                <p:spPr>
                  <a:xfrm>
                    <a:off x="3380400" y="384192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413160" y="3821760"/>
                  <a:ext cx="29520" cy="36360"/>
                  <a:chOff x="3413160" y="3821760"/>
                  <a:chExt cx="29520" cy="3636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413160" y="3821760"/>
                    <a:ext cx="29520" cy="36360"/>
                    <a:chOff x="3413160" y="3821760"/>
                    <a:chExt cx="29520" cy="363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41316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41316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41604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41316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41496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43656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342216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454920" y="3821760"/>
                  <a:ext cx="29520" cy="36360"/>
                  <a:chOff x="3454920" y="3821760"/>
                  <a:chExt cx="29520" cy="3636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54920" y="3821760"/>
                    <a:ext cx="29520" cy="36360"/>
                    <a:chOff x="3454920" y="3821760"/>
                    <a:chExt cx="29520" cy="36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5492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45492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45780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45492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345672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347832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346392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497040" y="3821760"/>
                  <a:ext cx="29520" cy="36360"/>
                  <a:chOff x="3497040" y="3821760"/>
                  <a:chExt cx="29520" cy="363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497040" y="3821760"/>
                    <a:ext cx="29520" cy="36360"/>
                    <a:chOff x="3497040" y="3821760"/>
                    <a:chExt cx="29520" cy="36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497040" y="382860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497040" y="383004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499920" y="383580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497040" y="383004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3498840" y="382176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3520440" y="382176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4" name=""/>
                  <p:cNvSpPr/>
                  <p:nvPr/>
                </p:nvSpPr>
                <p:spPr>
                  <a:xfrm>
                    <a:off x="3506040" y="384192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3775320" y="3817080"/>
                <a:ext cx="238680" cy="36360"/>
                <a:chOff x="3775320" y="3817080"/>
                <a:chExt cx="238680" cy="3636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775320" y="3817080"/>
                  <a:ext cx="29520" cy="36360"/>
                  <a:chOff x="3775320" y="3817080"/>
                  <a:chExt cx="29520" cy="3636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775320" y="3817080"/>
                    <a:ext cx="29520" cy="36360"/>
                    <a:chOff x="3775320" y="3817080"/>
                    <a:chExt cx="29520" cy="363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7753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77532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7782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77532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37771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37987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" name=""/>
                  <p:cNvSpPr/>
                  <p:nvPr/>
                </p:nvSpPr>
                <p:spPr>
                  <a:xfrm>
                    <a:off x="37843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816720" y="3817080"/>
                  <a:ext cx="29520" cy="36360"/>
                  <a:chOff x="3816720" y="3817080"/>
                  <a:chExt cx="29520" cy="3636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816720" y="3817080"/>
                    <a:ext cx="29520" cy="36360"/>
                    <a:chOff x="3816720" y="3817080"/>
                    <a:chExt cx="29520" cy="36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381672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1672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381960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81672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81852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84012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382572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3858480" y="3817080"/>
                  <a:ext cx="29880" cy="36360"/>
                  <a:chOff x="3858480" y="3817080"/>
                  <a:chExt cx="29880" cy="3636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3858480" y="3817080"/>
                    <a:ext cx="29880" cy="36360"/>
                    <a:chOff x="3858480" y="3817080"/>
                    <a:chExt cx="29880" cy="363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858480" y="3823920"/>
                      <a:ext cx="288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848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61360" y="3831120"/>
                      <a:ext cx="2700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858480" y="3825360"/>
                      <a:ext cx="298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3860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3881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2" name=""/>
                  <p:cNvSpPr/>
                  <p:nvPr/>
                </p:nvSpPr>
                <p:spPr>
                  <a:xfrm>
                    <a:off x="3867840" y="3837240"/>
                    <a:ext cx="1656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3900600" y="3817080"/>
                  <a:ext cx="29520" cy="36360"/>
                  <a:chOff x="3900600" y="3817080"/>
                  <a:chExt cx="29520" cy="36360"/>
                </a:xfrm>
              </p:grpSpPr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900600" y="3817080"/>
                    <a:ext cx="29520" cy="36360"/>
                    <a:chOff x="3900600" y="3817080"/>
                    <a:chExt cx="29520" cy="3636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90060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390060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90348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390060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390240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392400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390960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942360" y="3817080"/>
                  <a:ext cx="29520" cy="36360"/>
                  <a:chOff x="3942360" y="3817080"/>
                  <a:chExt cx="29520" cy="3636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942360" y="3817080"/>
                    <a:ext cx="29520" cy="36360"/>
                    <a:chOff x="3942360" y="3817080"/>
                    <a:chExt cx="29520" cy="36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94236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94236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94524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94236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94416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96576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>
                    <a:off x="395136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3984480" y="3817080"/>
                  <a:ext cx="29520" cy="36360"/>
                  <a:chOff x="3984480" y="3817080"/>
                  <a:chExt cx="29520" cy="363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3984480" y="3817080"/>
                    <a:ext cx="29520" cy="36360"/>
                    <a:chOff x="3984480" y="3817080"/>
                    <a:chExt cx="29520" cy="36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984480" y="3823920"/>
                      <a:ext cx="2844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984480" y="3825360"/>
                      <a:ext cx="360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987360" y="3831120"/>
                      <a:ext cx="2664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3984480" y="3825360"/>
                      <a:ext cx="295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3986280" y="3817080"/>
                      <a:ext cx="360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007880" y="3817080"/>
                      <a:ext cx="288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9" name=""/>
                  <p:cNvSpPr/>
                  <p:nvPr/>
                </p:nvSpPr>
                <p:spPr>
                  <a:xfrm>
                    <a:off x="3993480" y="3837240"/>
                    <a:ext cx="162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0" name=""/>
          <p:cNvSpPr/>
          <p:nvPr/>
        </p:nvSpPr>
        <p:spPr>
          <a:xfrm>
            <a:off x="1905120" y="2057400"/>
            <a:ext cx="160020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733920" y="2209680"/>
            <a:ext cx="129528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203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2627280" y="4437000"/>
            <a:ext cx="685800" cy="633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V="1">
            <a:off x="2843280" y="3860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3813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0" y="3789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19640" y="5877000"/>
          <a:ext cx="476280" cy="83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5877000"/>
                    <a:ext cx="4762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334120" y="4270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156360" y="3141720"/>
            <a:ext cx="165564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145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14508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16720" y="465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33800" y="3284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42440" y="4952880"/>
            <a:ext cx="85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9480" y="5661000"/>
            <a:ext cx="128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, 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o Ex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8520" y="5124600"/>
            <a:ext cx="249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inux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rreo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NS (Inter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EB (Intran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de arch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tenticación Windows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ominio Sa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0360" y="5013360"/>
            <a:ext cx="173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XP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1280" y="838080"/>
            <a:ext cx="120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1840" y="182880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7160" y="19051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6960" y="289548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8101080" y="5229360"/>
            <a:ext cx="465120" cy="430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331080" y="3500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435640" y="4879440"/>
            <a:ext cx="23004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435640" y="4495680"/>
            <a:ext cx="1008000" cy="304920"/>
            <a:chOff x="5435640" y="4495680"/>
            <a:chExt cx="1008000" cy="304920"/>
          </a:xfrm>
        </p:grpSpPr>
        <p:sp>
          <p:nvSpPr>
            <p:cNvPr id="357" name=""/>
            <p:cNvSpPr/>
            <p:nvPr/>
          </p:nvSpPr>
          <p:spPr>
            <a:xfrm>
              <a:off x="5435640" y="4497480"/>
              <a:ext cx="1006560" cy="147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5320" y="4641840"/>
              <a:ext cx="866880" cy="1587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35640" y="4495680"/>
              <a:ext cx="141120" cy="3049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84680" y="4651200"/>
              <a:ext cx="727200" cy="140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575320" y="4683240"/>
              <a:ext cx="25560" cy="31680"/>
              <a:chOff x="5575320" y="4683240"/>
              <a:chExt cx="25560" cy="31680"/>
            </a:xfrm>
          </p:grpSpPr>
          <p:sp>
            <p:nvSpPr>
              <p:cNvPr id="362" name=""/>
              <p:cNvSpPr/>
              <p:nvPr/>
            </p:nvSpPr>
            <p:spPr>
              <a:xfrm>
                <a:off x="5575320" y="468324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75320" y="468720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75320" y="469692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75320" y="470088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75320" y="4710600"/>
                <a:ext cx="2556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75320" y="4714560"/>
                <a:ext cx="2556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313320" y="4637160"/>
              <a:ext cx="128880" cy="1116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456160" y="4546440"/>
              <a:ext cx="38160" cy="142560"/>
              <a:chOff x="5456160" y="4546440"/>
              <a:chExt cx="38160" cy="1425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456160" y="4546440"/>
                <a:ext cx="38160" cy="45360"/>
                <a:chOff x="5456160" y="4546440"/>
                <a:chExt cx="38160" cy="45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456160" y="45468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457240" y="45464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456160" y="4562640"/>
                <a:ext cx="38160" cy="45720"/>
                <a:chOff x="5456160" y="4562640"/>
                <a:chExt cx="38160" cy="45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456160" y="45630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457240" y="45626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456160" y="4578840"/>
                <a:ext cx="38160" cy="45720"/>
                <a:chOff x="5456160" y="4578840"/>
                <a:chExt cx="38160" cy="45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456160" y="45792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57240" y="45788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456160" y="4595040"/>
                <a:ext cx="38160" cy="45720"/>
                <a:chOff x="5456160" y="4595040"/>
                <a:chExt cx="38160" cy="45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456160" y="4595400"/>
                  <a:ext cx="36720" cy="453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457240" y="4595040"/>
                  <a:ext cx="37080" cy="453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56160" y="4611240"/>
                <a:ext cx="38160" cy="45360"/>
                <a:chOff x="5456160" y="4611240"/>
                <a:chExt cx="38160" cy="45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56160" y="46116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57240" y="46112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56160" y="4627440"/>
                <a:ext cx="38160" cy="45360"/>
                <a:chOff x="5456160" y="4627440"/>
                <a:chExt cx="38160" cy="45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56160" y="46278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57240" y="46274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456160" y="4643640"/>
                <a:ext cx="38160" cy="45360"/>
                <a:chOff x="5456160" y="4643640"/>
                <a:chExt cx="38160" cy="453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456160" y="4644000"/>
                  <a:ext cx="36720" cy="450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457240" y="4643640"/>
                  <a:ext cx="37080" cy="450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5514840" y="4608360"/>
              <a:ext cx="36720" cy="141120"/>
              <a:chOff x="5514840" y="4608360"/>
              <a:chExt cx="36720" cy="1411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514840" y="4608360"/>
                <a:ext cx="36720" cy="44640"/>
                <a:chOff x="5514840" y="4608360"/>
                <a:chExt cx="36720" cy="44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514840" y="460872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15920" y="46083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514840" y="4624200"/>
                <a:ext cx="36720" cy="45000"/>
                <a:chOff x="5514840" y="4624200"/>
                <a:chExt cx="36720" cy="45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5514840" y="462456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515920" y="462420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514840" y="4640400"/>
                <a:ext cx="36720" cy="44640"/>
                <a:chOff x="5514840" y="4640400"/>
                <a:chExt cx="36720" cy="446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514840" y="46407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515920" y="46404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5514840" y="4656600"/>
                <a:ext cx="36720" cy="44640"/>
                <a:chOff x="5514840" y="4656600"/>
                <a:chExt cx="36720" cy="44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514840" y="46569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515920" y="46566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514840" y="4672800"/>
                <a:ext cx="36720" cy="44640"/>
                <a:chOff x="5514840" y="4672800"/>
                <a:chExt cx="36720" cy="446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514840" y="46731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515920" y="46728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14840" y="4689000"/>
                <a:ext cx="36720" cy="44640"/>
                <a:chOff x="5514840" y="4689000"/>
                <a:chExt cx="36720" cy="446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14840" y="468936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15920" y="46890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514840" y="4704840"/>
                <a:ext cx="36720" cy="44640"/>
                <a:chOff x="5514840" y="4704840"/>
                <a:chExt cx="36720" cy="446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514840" y="470520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515920" y="4704840"/>
                  <a:ext cx="356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5464080" y="4500720"/>
              <a:ext cx="150480" cy="136440"/>
              <a:chOff x="5464080" y="4500720"/>
              <a:chExt cx="150480" cy="136440"/>
            </a:xfrm>
          </p:grpSpPr>
          <p:sp>
            <p:nvSpPr>
              <p:cNvPr id="414" name=""/>
              <p:cNvSpPr/>
              <p:nvPr/>
            </p:nvSpPr>
            <p:spPr>
              <a:xfrm>
                <a:off x="5464080" y="4500720"/>
                <a:ext cx="3816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68040" y="450360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57640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80720" y="4622760"/>
                <a:ext cx="3312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264360" y="4500720"/>
              <a:ext cx="150480" cy="136440"/>
              <a:chOff x="6264360" y="4500720"/>
              <a:chExt cx="150480" cy="136440"/>
            </a:xfrm>
          </p:grpSpPr>
          <p:sp>
            <p:nvSpPr>
              <p:cNvPr id="419" name=""/>
              <p:cNvSpPr/>
              <p:nvPr/>
            </p:nvSpPr>
            <p:spPr>
              <a:xfrm>
                <a:off x="6264360" y="4500720"/>
                <a:ext cx="38520" cy="165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7960" y="450360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76680" y="4620240"/>
                <a:ext cx="38160" cy="15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80640" y="4622760"/>
                <a:ext cx="33480" cy="144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584680" y="4654440"/>
              <a:ext cx="731520" cy="133560"/>
              <a:chOff x="5584680" y="4654440"/>
              <a:chExt cx="731520" cy="133560"/>
            </a:xfrm>
          </p:grpSpPr>
          <p:sp>
            <p:nvSpPr>
              <p:cNvPr id="424" name=""/>
              <p:cNvSpPr/>
              <p:nvPr/>
            </p:nvSpPr>
            <p:spPr>
              <a:xfrm>
                <a:off x="5584680" y="4654800"/>
                <a:ext cx="688680" cy="132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1040" y="4654440"/>
                <a:ext cx="65160" cy="13356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340320" y="4648320"/>
              <a:ext cx="103320" cy="15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616720" y="4673520"/>
              <a:ext cx="666360" cy="97920"/>
              <a:chOff x="5616720" y="4673520"/>
              <a:chExt cx="666360" cy="97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6208920" y="4673520"/>
                <a:ext cx="74160" cy="19080"/>
                <a:chOff x="6208920" y="4673520"/>
                <a:chExt cx="74160" cy="190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6208920" y="4673520"/>
                  <a:ext cx="22320" cy="19080"/>
                  <a:chOff x="6208920" y="4673520"/>
                  <a:chExt cx="22320" cy="190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6216480" y="4676760"/>
                    <a:ext cx="147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208920" y="467352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208920" y="468000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208920" y="4686120"/>
                    <a:ext cx="1548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218640" y="468288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218280" y="468936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6234840" y="4675680"/>
                  <a:ext cx="48240" cy="14760"/>
                  <a:chOff x="6234840" y="4675680"/>
                  <a:chExt cx="48240" cy="147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6234840" y="4675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234840" y="4684680"/>
                    <a:ext cx="4824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6243840" y="4762080"/>
                <a:ext cx="37440" cy="9360"/>
                <a:chOff x="6243840" y="4762080"/>
                <a:chExt cx="37440" cy="93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243840" y="4762080"/>
                  <a:ext cx="3744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246000" y="4767120"/>
                  <a:ext cx="34920" cy="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172920" y="4686840"/>
                <a:ext cx="28800" cy="30240"/>
                <a:chOff x="6172920" y="4686840"/>
                <a:chExt cx="28800" cy="302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172920" y="4691520"/>
                  <a:ext cx="28800" cy="255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178320" y="4686840"/>
                  <a:ext cx="19440" cy="100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180840" y="4688280"/>
                  <a:ext cx="14040" cy="7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17796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89480" y="4722840"/>
                <a:ext cx="8640" cy="72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796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89480" y="473364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7796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89480" y="4744800"/>
                <a:ext cx="8640" cy="7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7796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89480" y="4755960"/>
                <a:ext cx="8640" cy="8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04600" y="4746960"/>
                <a:ext cx="28080" cy="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16880" y="4686840"/>
                <a:ext cx="136440" cy="2700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7640" y="4681080"/>
                <a:ext cx="41040" cy="111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73040" y="4682880"/>
                <a:ext cx="28800" cy="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5860080" y="4694040"/>
                <a:ext cx="53280" cy="17640"/>
                <a:chOff x="5860080" y="4694040"/>
                <a:chExt cx="53280" cy="176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860080" y="4694040"/>
                  <a:ext cx="5328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862240" y="4700160"/>
                  <a:ext cx="48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867280" y="4707000"/>
                  <a:ext cx="39240" cy="46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815440" y="4718880"/>
                <a:ext cx="69840" cy="41760"/>
                <a:chOff x="5815440" y="4718880"/>
                <a:chExt cx="69840" cy="417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5815440" y="4718880"/>
                  <a:ext cx="69840" cy="7560"/>
                  <a:chOff x="5815440" y="4718880"/>
                  <a:chExt cx="69840" cy="7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58154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273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8395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85216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8640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8762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815440" y="4730040"/>
                  <a:ext cx="69840" cy="7920"/>
                  <a:chOff x="5815440" y="4730040"/>
                  <a:chExt cx="69840" cy="7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58154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8273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8395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85216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8640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8762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5815440" y="4741560"/>
                  <a:ext cx="69840" cy="7560"/>
                  <a:chOff x="5815440" y="4741560"/>
                  <a:chExt cx="69840" cy="75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58154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8273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8395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85216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8640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8762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5815440" y="4752720"/>
                  <a:ext cx="69840" cy="7920"/>
                  <a:chOff x="5815440" y="4752720"/>
                  <a:chExt cx="69840" cy="79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8154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273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8395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85216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8640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8762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5889240" y="4718880"/>
                <a:ext cx="68760" cy="41760"/>
                <a:chOff x="5889240" y="4718880"/>
                <a:chExt cx="68760" cy="4176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889240" y="4718880"/>
                  <a:ext cx="68760" cy="7560"/>
                  <a:chOff x="5889240" y="4718880"/>
                  <a:chExt cx="68760" cy="756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5889240" y="471888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90112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91336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92524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937480" y="471888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949720" y="471888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889240" y="4730040"/>
                  <a:ext cx="68760" cy="7920"/>
                  <a:chOff x="5889240" y="4730040"/>
                  <a:chExt cx="68760" cy="79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240" y="473004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590112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91336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92524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937480" y="473004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949720" y="473004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5889240" y="4741560"/>
                  <a:ext cx="68760" cy="7560"/>
                  <a:chOff x="5889240" y="4741560"/>
                  <a:chExt cx="68760" cy="75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5889240" y="4741560"/>
                    <a:ext cx="864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90112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91336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92524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937480" y="4741560"/>
                    <a:ext cx="900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949720" y="4741560"/>
                    <a:ext cx="8280" cy="7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889240" y="4752720"/>
                  <a:ext cx="68760" cy="7920"/>
                  <a:chOff x="5889240" y="4752720"/>
                  <a:chExt cx="68760" cy="7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5889240" y="4752720"/>
                    <a:ext cx="864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90112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91336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592524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7480" y="4752720"/>
                    <a:ext cx="900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49720" y="4752720"/>
                    <a:ext cx="8280" cy="79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616720" y="4732920"/>
                <a:ext cx="180720" cy="36360"/>
                <a:chOff x="5616720" y="4732920"/>
                <a:chExt cx="180720" cy="363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5616720" y="4732920"/>
                  <a:ext cx="22320" cy="36360"/>
                  <a:chOff x="5616720" y="4732920"/>
                  <a:chExt cx="22320" cy="363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616720" y="4732920"/>
                    <a:ext cx="22320" cy="36360"/>
                    <a:chOff x="5616720" y="4732920"/>
                    <a:chExt cx="22320" cy="363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6167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67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188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61672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6178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343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9" name=""/>
                  <p:cNvSpPr/>
                  <p:nvPr/>
                </p:nvSpPr>
                <p:spPr>
                  <a:xfrm>
                    <a:off x="56235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5648040" y="4732920"/>
                  <a:ext cx="22320" cy="36360"/>
                  <a:chOff x="5648040" y="4732920"/>
                  <a:chExt cx="22320" cy="3636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48040" y="4732920"/>
                    <a:ext cx="22320" cy="36360"/>
                    <a:chOff x="5648040" y="4732920"/>
                    <a:chExt cx="22320" cy="363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64804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64804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65020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64804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64912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66568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565488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5679720" y="4732920"/>
                  <a:ext cx="22680" cy="36360"/>
                  <a:chOff x="5679720" y="4732920"/>
                  <a:chExt cx="22680" cy="3636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679720" y="4732920"/>
                    <a:ext cx="22680" cy="36360"/>
                    <a:chOff x="5679720" y="4732920"/>
                    <a:chExt cx="22680" cy="363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79720" y="473976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797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681880" y="474696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5679720" y="4741200"/>
                      <a:ext cx="226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5681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697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7" name=""/>
                  <p:cNvSpPr/>
                  <p:nvPr/>
                </p:nvSpPr>
                <p:spPr>
                  <a:xfrm>
                    <a:off x="5686560" y="475308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5711400" y="4732920"/>
                  <a:ext cx="22320" cy="36360"/>
                  <a:chOff x="5711400" y="4732920"/>
                  <a:chExt cx="22320" cy="36360"/>
                </a:xfrm>
              </p:grpSpPr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711400" y="4732920"/>
                    <a:ext cx="22320" cy="36360"/>
                    <a:chOff x="5711400" y="4732920"/>
                    <a:chExt cx="22320" cy="3636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571140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571140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571356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1140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571248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572904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571824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5743080" y="4732920"/>
                  <a:ext cx="22320" cy="36360"/>
                  <a:chOff x="5743080" y="4732920"/>
                  <a:chExt cx="22320" cy="3636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43080" y="4732920"/>
                    <a:ext cx="22320" cy="36360"/>
                    <a:chOff x="5743080" y="4732920"/>
                    <a:chExt cx="22320" cy="363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74308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74308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574524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574308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74416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76072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>
                    <a:off x="574992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5775120" y="4732920"/>
                  <a:ext cx="22320" cy="36360"/>
                  <a:chOff x="5775120" y="4732920"/>
                  <a:chExt cx="22320" cy="3636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775120" y="4732920"/>
                    <a:ext cx="22320" cy="36360"/>
                    <a:chOff x="5775120" y="4732920"/>
                    <a:chExt cx="22320" cy="3636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5775120" y="473976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775120" y="474120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777280" y="474696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5775120" y="474120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776200" y="473292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5792760" y="473292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4" name=""/>
                  <p:cNvSpPr/>
                  <p:nvPr/>
                </p:nvSpPr>
                <p:spPr>
                  <a:xfrm>
                    <a:off x="5781960" y="475308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5985360" y="4728240"/>
                <a:ext cx="180720" cy="36360"/>
                <a:chOff x="5985360" y="4728240"/>
                <a:chExt cx="180720" cy="363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5985360" y="4728240"/>
                  <a:ext cx="22320" cy="36360"/>
                  <a:chOff x="5985360" y="4728240"/>
                  <a:chExt cx="22320" cy="3636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985360" y="4728240"/>
                    <a:ext cx="22320" cy="36360"/>
                    <a:chOff x="5985360" y="4728240"/>
                    <a:chExt cx="22320" cy="363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9853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9853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9875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98536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9864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0030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>
                    <a:off x="59922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6016680" y="4728240"/>
                  <a:ext cx="22320" cy="36360"/>
                  <a:chOff x="6016680" y="4728240"/>
                  <a:chExt cx="22320" cy="36360"/>
                </a:xfrm>
              </p:grpSpPr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6016680" y="4728240"/>
                    <a:ext cx="22320" cy="36360"/>
                    <a:chOff x="6016680" y="4728240"/>
                    <a:chExt cx="22320" cy="363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601668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601668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601884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601668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01776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03432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"/>
                  <p:cNvSpPr/>
                  <p:nvPr/>
                </p:nvSpPr>
                <p:spPr>
                  <a:xfrm>
                    <a:off x="602352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6048360" y="4728240"/>
                  <a:ext cx="22680" cy="36360"/>
                  <a:chOff x="6048360" y="4728240"/>
                  <a:chExt cx="22680" cy="363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6048360" y="4728240"/>
                    <a:ext cx="22680" cy="36360"/>
                    <a:chOff x="6048360" y="4728240"/>
                    <a:chExt cx="22680" cy="3636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6048360" y="4735080"/>
                      <a:ext cx="2196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60483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6050520" y="4742280"/>
                      <a:ext cx="2052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6048360" y="4736520"/>
                      <a:ext cx="226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049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6066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>
                    <a:off x="6055200" y="4748400"/>
                    <a:ext cx="1260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6080040" y="4728240"/>
                  <a:ext cx="22320" cy="36360"/>
                  <a:chOff x="6080040" y="4728240"/>
                  <a:chExt cx="22320" cy="3636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6080040" y="4728240"/>
                    <a:ext cx="22320" cy="36360"/>
                    <a:chOff x="6080040" y="4728240"/>
                    <a:chExt cx="22320" cy="3636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608004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608004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608220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608004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608112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609768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1" name=""/>
                  <p:cNvSpPr/>
                  <p:nvPr/>
                </p:nvSpPr>
                <p:spPr>
                  <a:xfrm>
                    <a:off x="608688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111720" y="4728240"/>
                  <a:ext cx="22320" cy="36360"/>
                  <a:chOff x="6111720" y="4728240"/>
                  <a:chExt cx="22320" cy="36360"/>
                </a:xfrm>
              </p:grpSpPr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6111720" y="4728240"/>
                    <a:ext cx="22320" cy="36360"/>
                    <a:chOff x="6111720" y="4728240"/>
                    <a:chExt cx="22320" cy="3636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611172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611172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611388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611172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611280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612936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611856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143760" y="4728240"/>
                  <a:ext cx="22320" cy="36360"/>
                  <a:chOff x="6143760" y="4728240"/>
                  <a:chExt cx="22320" cy="3636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6143760" y="4728240"/>
                    <a:ext cx="22320" cy="36360"/>
                    <a:chOff x="6143760" y="4728240"/>
                    <a:chExt cx="22320" cy="3636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6143760" y="4735080"/>
                      <a:ext cx="21600" cy="28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6143760" y="4736520"/>
                      <a:ext cx="2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6145920" y="4742280"/>
                      <a:ext cx="20160" cy="223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6143760" y="4736520"/>
                      <a:ext cx="223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6144840" y="47282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6161400" y="47282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9" name=""/>
                  <p:cNvSpPr/>
                  <p:nvPr/>
                </p:nvSpPr>
                <p:spPr>
                  <a:xfrm>
                    <a:off x="6150600" y="4748400"/>
                    <a:ext cx="1224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30" name=""/>
          <p:cNvSpPr/>
          <p:nvPr/>
        </p:nvSpPr>
        <p:spPr>
          <a:xfrm>
            <a:off x="5294160" y="43657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 o 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5560" y="6400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800" y="30211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160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05880" y="53352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86520" y="3716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 GW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885080" y="5084640"/>
            <a:ext cx="766800" cy="195480"/>
            <a:chOff x="7885080" y="5084640"/>
            <a:chExt cx="766800" cy="195480"/>
          </a:xfrm>
        </p:grpSpPr>
        <p:sp>
          <p:nvSpPr>
            <p:cNvPr id="637" name=""/>
            <p:cNvSpPr/>
            <p:nvPr/>
          </p:nvSpPr>
          <p:spPr>
            <a:xfrm>
              <a:off x="7885080" y="5086440"/>
              <a:ext cx="765360" cy="93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91640" y="5178240"/>
              <a:ext cx="660240" cy="10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85080" y="5084640"/>
              <a:ext cx="108000" cy="19548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99560" y="5184720"/>
              <a:ext cx="552240" cy="88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7991640" y="5205240"/>
              <a:ext cx="20520" cy="20520"/>
              <a:chOff x="7991640" y="5205240"/>
              <a:chExt cx="20520" cy="2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7991640" y="5205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991640" y="5207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91640" y="5214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991640" y="5216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991640" y="5223240"/>
                <a:ext cx="20520" cy="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991640" y="5225760"/>
                <a:ext cx="20520" cy="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8551800" y="5175360"/>
              <a:ext cx="98640" cy="61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7900920" y="5118120"/>
              <a:ext cx="28800" cy="90360"/>
              <a:chOff x="7900920" y="5118120"/>
              <a:chExt cx="28800" cy="9036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7900920" y="5118120"/>
                <a:ext cx="28800" cy="28800"/>
                <a:chOff x="7900920" y="5118120"/>
                <a:chExt cx="28800" cy="288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900920" y="51181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901640" y="511812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900920" y="5128200"/>
                <a:ext cx="28800" cy="28800"/>
                <a:chOff x="7900920" y="5128200"/>
                <a:chExt cx="28800" cy="288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900920" y="512820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901640" y="512820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7900920" y="5138640"/>
                <a:ext cx="28800" cy="28440"/>
                <a:chOff x="7900920" y="5138640"/>
                <a:chExt cx="28800" cy="284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7900920" y="513864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901640" y="513864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7900920" y="5148720"/>
                <a:ext cx="28800" cy="28800"/>
                <a:chOff x="7900920" y="5148720"/>
                <a:chExt cx="28800" cy="2880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7900920" y="5148720"/>
                  <a:ext cx="27720" cy="28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901640" y="514872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7900920" y="5159160"/>
                <a:ext cx="28800" cy="28800"/>
                <a:chOff x="7900920" y="5159160"/>
                <a:chExt cx="28800" cy="288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900920" y="515916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901640" y="515916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7900920" y="5169240"/>
                <a:ext cx="28800" cy="28800"/>
                <a:chOff x="7900920" y="5169240"/>
                <a:chExt cx="28800" cy="288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7900920" y="516924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901640" y="516924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7900920" y="5179680"/>
                <a:ext cx="28800" cy="28800"/>
                <a:chOff x="7900920" y="5179680"/>
                <a:chExt cx="28800" cy="2880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7900920" y="517968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901640" y="5179680"/>
                  <a:ext cx="2808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7945560" y="5156280"/>
              <a:ext cx="28440" cy="91800"/>
              <a:chOff x="7945560" y="5156280"/>
              <a:chExt cx="28440" cy="918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945560" y="5156280"/>
                <a:ext cx="28440" cy="29160"/>
                <a:chOff x="7945560" y="5156280"/>
                <a:chExt cx="28440" cy="291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7945560" y="515628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46280" y="51562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7945560" y="5166720"/>
                <a:ext cx="28440" cy="28800"/>
                <a:chOff x="7945560" y="5166720"/>
                <a:chExt cx="28440" cy="288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945560" y="51667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946280" y="51667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7945560" y="5177160"/>
                <a:ext cx="28440" cy="29160"/>
                <a:chOff x="7945560" y="5177160"/>
                <a:chExt cx="28440" cy="291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945560" y="517716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946280" y="517716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7945560" y="5187600"/>
                <a:ext cx="28440" cy="29160"/>
                <a:chOff x="7945560" y="5187600"/>
                <a:chExt cx="28440" cy="291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7945560" y="51876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946280" y="51876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7945560" y="5198040"/>
                <a:ext cx="28440" cy="29160"/>
                <a:chOff x="7945560" y="5198040"/>
                <a:chExt cx="28440" cy="291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945560" y="519804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946280" y="519804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945560" y="5208480"/>
                <a:ext cx="28440" cy="29160"/>
                <a:chOff x="7945560" y="5208480"/>
                <a:chExt cx="28440" cy="291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945560" y="52084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946280" y="520848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945560" y="5218920"/>
                <a:ext cx="28440" cy="29160"/>
                <a:chOff x="7945560" y="5218920"/>
                <a:chExt cx="28440" cy="291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945560" y="5218920"/>
                  <a:ext cx="27720" cy="28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946280" y="521892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"/>
            <p:cNvGrpSpPr/>
            <p:nvPr/>
          </p:nvGrpSpPr>
          <p:grpSpPr>
            <a:xfrm>
              <a:off x="7907400" y="5087880"/>
              <a:ext cx="113760" cy="87120"/>
              <a:chOff x="7907400" y="5087880"/>
              <a:chExt cx="113760" cy="87120"/>
            </a:xfrm>
          </p:grpSpPr>
          <p:sp>
            <p:nvSpPr>
              <p:cNvPr id="694" name=""/>
              <p:cNvSpPr/>
              <p:nvPr/>
            </p:nvSpPr>
            <p:spPr>
              <a:xfrm>
                <a:off x="7907400" y="5087880"/>
                <a:ext cx="28800" cy="10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910280" y="5089680"/>
                <a:ext cx="2484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992360" y="5164560"/>
                <a:ext cx="28800" cy="10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995600" y="5166000"/>
                <a:ext cx="2484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8515440" y="5087880"/>
              <a:ext cx="113760" cy="87120"/>
              <a:chOff x="8515440" y="5087880"/>
              <a:chExt cx="113760" cy="87120"/>
            </a:xfrm>
          </p:grpSpPr>
          <p:sp>
            <p:nvSpPr>
              <p:cNvPr id="699" name=""/>
              <p:cNvSpPr/>
              <p:nvPr/>
            </p:nvSpPr>
            <p:spPr>
              <a:xfrm>
                <a:off x="8515440" y="5087880"/>
                <a:ext cx="29160" cy="10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17960" y="5089680"/>
                <a:ext cx="2520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600400" y="5164560"/>
                <a:ext cx="28800" cy="10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603280" y="5166000"/>
                <a:ext cx="25200" cy="90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999560" y="5186160"/>
              <a:ext cx="555120" cy="86040"/>
              <a:chOff x="7999560" y="5186160"/>
              <a:chExt cx="555120" cy="86040"/>
            </a:xfrm>
          </p:grpSpPr>
          <p:sp>
            <p:nvSpPr>
              <p:cNvPr id="704" name=""/>
              <p:cNvSpPr/>
              <p:nvPr/>
            </p:nvSpPr>
            <p:spPr>
              <a:xfrm>
                <a:off x="7999560" y="5186520"/>
                <a:ext cx="522720" cy="85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505360" y="5186160"/>
                <a:ext cx="49320" cy="8604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8572680" y="5183280"/>
              <a:ext cx="79200" cy="96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8023320" y="5199120"/>
              <a:ext cx="505440" cy="63000"/>
              <a:chOff x="8023320" y="5199120"/>
              <a:chExt cx="505440" cy="6300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8472960" y="5199120"/>
                <a:ext cx="55800" cy="12240"/>
                <a:chOff x="8472960" y="5199120"/>
                <a:chExt cx="55800" cy="12240"/>
              </a:xfrm>
            </p:grpSpPr>
            <p:grpSp>
              <p:nvGrpSpPr>
                <p:cNvPr id="709" name=""/>
                <p:cNvGrpSpPr/>
                <p:nvPr/>
              </p:nvGrpSpPr>
              <p:grpSpPr>
                <a:xfrm>
                  <a:off x="8472960" y="5199120"/>
                  <a:ext cx="16920" cy="12240"/>
                  <a:chOff x="8472960" y="5199120"/>
                  <a:chExt cx="16920" cy="122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8478720" y="5200920"/>
                    <a:ext cx="1116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8472960" y="5199120"/>
                    <a:ext cx="972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472960" y="5203440"/>
                    <a:ext cx="9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8472960" y="5207040"/>
                    <a:ext cx="1152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8480520" y="5205240"/>
                    <a:ext cx="9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8480160" y="5209200"/>
                    <a:ext cx="9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8492400" y="5200200"/>
                  <a:ext cx="36360" cy="9360"/>
                  <a:chOff x="8492400" y="5200200"/>
                  <a:chExt cx="36360" cy="936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8492400" y="5200200"/>
                    <a:ext cx="363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8492400" y="5205960"/>
                    <a:ext cx="36360" cy="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9" name=""/>
              <p:cNvGrpSpPr/>
              <p:nvPr/>
            </p:nvGrpSpPr>
            <p:grpSpPr>
              <a:xfrm>
                <a:off x="8499600" y="5256000"/>
                <a:ext cx="28440" cy="6120"/>
                <a:chOff x="8499600" y="5256000"/>
                <a:chExt cx="28440" cy="61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8499600" y="5256000"/>
                  <a:ext cx="28440" cy="2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501400" y="5259240"/>
                  <a:ext cx="26640" cy="2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8445600" y="5207760"/>
                <a:ext cx="21600" cy="19440"/>
                <a:chOff x="8445600" y="5207760"/>
                <a:chExt cx="21600" cy="194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8445600" y="5210640"/>
                  <a:ext cx="21600" cy="165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449560" y="5207760"/>
                  <a:ext cx="14760" cy="64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8451360" y="5208480"/>
                  <a:ext cx="10800" cy="504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8449560" y="5230800"/>
                <a:ext cx="6480" cy="4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458200" y="5230800"/>
                <a:ext cx="6480" cy="4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449560" y="52376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458200" y="52376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449560" y="5244840"/>
                <a:ext cx="6480" cy="5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458200" y="5244840"/>
                <a:ext cx="6480" cy="5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449560" y="52520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458200" y="5252040"/>
                <a:ext cx="6480" cy="5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469720" y="5246280"/>
                <a:ext cx="212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75240" y="5207760"/>
                <a:ext cx="103680" cy="172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13760" y="5204160"/>
                <a:ext cx="30960" cy="72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218080" y="5205240"/>
                <a:ext cx="216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8208000" y="5212440"/>
                <a:ext cx="40320" cy="11160"/>
                <a:chOff x="8208000" y="5212440"/>
                <a:chExt cx="40320" cy="111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8208000" y="5212440"/>
                  <a:ext cx="4032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209800" y="5216400"/>
                  <a:ext cx="3672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213400" y="5220720"/>
                  <a:ext cx="29880" cy="28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8174160" y="5228280"/>
                <a:ext cx="52920" cy="27000"/>
                <a:chOff x="8174160" y="5228280"/>
                <a:chExt cx="52920" cy="27000"/>
              </a:xfrm>
            </p:grpSpPr>
            <p:grpSp>
              <p:nvGrpSpPr>
                <p:cNvPr id="743" name=""/>
                <p:cNvGrpSpPr/>
                <p:nvPr/>
              </p:nvGrpSpPr>
              <p:grpSpPr>
                <a:xfrm>
                  <a:off x="8174160" y="5228280"/>
                  <a:ext cx="52920" cy="5040"/>
                  <a:chOff x="8174160" y="5228280"/>
                  <a:chExt cx="52920" cy="504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817416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18316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819252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20188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2108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22024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8174160" y="5235480"/>
                  <a:ext cx="52920" cy="5040"/>
                  <a:chOff x="8174160" y="5235480"/>
                  <a:chExt cx="52920" cy="504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817416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818316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19252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20188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82108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822024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8174160" y="5242680"/>
                  <a:ext cx="52920" cy="5040"/>
                  <a:chOff x="8174160" y="5242680"/>
                  <a:chExt cx="52920" cy="50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817416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818316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819252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820188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82108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22024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8174160" y="5250240"/>
                  <a:ext cx="52920" cy="5040"/>
                  <a:chOff x="8174160" y="5250240"/>
                  <a:chExt cx="52920" cy="50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817416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818316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819252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820188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2108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22024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8230320" y="5228280"/>
                <a:ext cx="52560" cy="27000"/>
                <a:chOff x="8230320" y="5228280"/>
                <a:chExt cx="52560" cy="2700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8230320" y="5228280"/>
                  <a:ext cx="52560" cy="5040"/>
                  <a:chOff x="8230320" y="5228280"/>
                  <a:chExt cx="52560" cy="504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823032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823932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2486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25768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267040" y="52282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276400" y="52282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8230320" y="5235480"/>
                  <a:ext cx="52560" cy="5040"/>
                  <a:chOff x="8230320" y="5235480"/>
                  <a:chExt cx="52560" cy="504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823032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23932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2486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825768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267040" y="52354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8276400" y="52354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8230320" y="5242680"/>
                  <a:ext cx="52560" cy="5040"/>
                  <a:chOff x="8230320" y="5242680"/>
                  <a:chExt cx="52560" cy="50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823032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823932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2486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25768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267040" y="524268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276400" y="524268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8230320" y="5250240"/>
                  <a:ext cx="52560" cy="5040"/>
                  <a:chOff x="8230320" y="5250240"/>
                  <a:chExt cx="52560" cy="504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823032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823932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82486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25768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8267040" y="5250240"/>
                    <a:ext cx="684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8276400" y="5250240"/>
                    <a:ext cx="6480" cy="50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8023320" y="5237280"/>
                <a:ext cx="137160" cy="23760"/>
                <a:chOff x="8023320" y="5237280"/>
                <a:chExt cx="137160" cy="237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8023320" y="5237280"/>
                  <a:ext cx="16920" cy="23760"/>
                  <a:chOff x="8023320" y="5237280"/>
                  <a:chExt cx="16920" cy="2376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8023320" y="5237280"/>
                    <a:ext cx="16920" cy="23760"/>
                    <a:chOff x="8023320" y="5237280"/>
                    <a:chExt cx="16920" cy="2376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802332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802332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802476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802332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4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8036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9" name=""/>
                  <p:cNvSpPr/>
                  <p:nvPr/>
                </p:nvSpPr>
                <p:spPr>
                  <a:xfrm>
                    <a:off x="802836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8047080" y="5237280"/>
                  <a:ext cx="16920" cy="23760"/>
                  <a:chOff x="8047080" y="5237280"/>
                  <a:chExt cx="16920" cy="2376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8047080" y="5237280"/>
                    <a:ext cx="16920" cy="23760"/>
                    <a:chOff x="8047080" y="5237280"/>
                    <a:chExt cx="16920" cy="2376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804708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804708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804852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804708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804816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8060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805212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8071200" y="5237280"/>
                  <a:ext cx="17280" cy="23760"/>
                  <a:chOff x="8071200" y="5237280"/>
                  <a:chExt cx="17280" cy="23760"/>
                </a:xfrm>
              </p:grpSpPr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8071200" y="5237280"/>
                    <a:ext cx="17280" cy="23760"/>
                    <a:chOff x="8071200" y="5237280"/>
                    <a:chExt cx="17280" cy="2376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07120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7120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8073000" y="5246280"/>
                      <a:ext cx="1548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8071200" y="5242680"/>
                      <a:ext cx="17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722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80848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>
                    <a:off x="8076600" y="5250240"/>
                    <a:ext cx="972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8095320" y="5237280"/>
                  <a:ext cx="16920" cy="23760"/>
                  <a:chOff x="8095320" y="5237280"/>
                  <a:chExt cx="16920" cy="23760"/>
                </a:xfrm>
              </p:grpSpPr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8095320" y="5237280"/>
                    <a:ext cx="16920" cy="23760"/>
                    <a:chOff x="8095320" y="5237280"/>
                    <a:chExt cx="16920" cy="237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809532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809532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809676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809532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809640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8108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6" name=""/>
                  <p:cNvSpPr/>
                  <p:nvPr/>
                </p:nvSpPr>
                <p:spPr>
                  <a:xfrm>
                    <a:off x="810036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8119440" y="5237280"/>
                  <a:ext cx="16920" cy="23760"/>
                  <a:chOff x="8119440" y="5237280"/>
                  <a:chExt cx="16920" cy="23760"/>
                </a:xfrm>
              </p:grpSpPr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8119440" y="5237280"/>
                    <a:ext cx="16920" cy="23760"/>
                    <a:chOff x="8119440" y="5237280"/>
                    <a:chExt cx="16920" cy="2376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811944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811944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812088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811944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812052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813276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5" name=""/>
                  <p:cNvSpPr/>
                  <p:nvPr/>
                </p:nvSpPr>
                <p:spPr>
                  <a:xfrm>
                    <a:off x="812448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8143560" y="5237280"/>
                  <a:ext cx="16920" cy="23760"/>
                  <a:chOff x="8143560" y="5237280"/>
                  <a:chExt cx="16920" cy="2376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8143560" y="5237280"/>
                    <a:ext cx="16920" cy="23760"/>
                    <a:chOff x="8143560" y="5237280"/>
                    <a:chExt cx="16920" cy="2376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8143560" y="524160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8143560" y="524268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8145000" y="524628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8143560" y="524268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814464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8156880" y="523728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8148600" y="525024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5" name=""/>
              <p:cNvGrpSpPr/>
              <p:nvPr/>
            </p:nvGrpSpPr>
            <p:grpSpPr>
              <a:xfrm>
                <a:off x="8303040" y="5234400"/>
                <a:ext cx="137160" cy="23760"/>
                <a:chOff x="8303040" y="5234400"/>
                <a:chExt cx="137160" cy="23760"/>
              </a:xfrm>
            </p:grpSpPr>
            <p:grpSp>
              <p:nvGrpSpPr>
                <p:cNvPr id="856" name=""/>
                <p:cNvGrpSpPr/>
                <p:nvPr/>
              </p:nvGrpSpPr>
              <p:grpSpPr>
                <a:xfrm>
                  <a:off x="8303040" y="5234400"/>
                  <a:ext cx="16920" cy="23760"/>
                  <a:chOff x="8303040" y="5234400"/>
                  <a:chExt cx="16920" cy="23760"/>
                </a:xfrm>
              </p:grpSpPr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8303040" y="5234400"/>
                    <a:ext cx="16920" cy="23760"/>
                    <a:chOff x="8303040" y="5234400"/>
                    <a:chExt cx="16920" cy="237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830304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830304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830448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830304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8304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8316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830808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8326800" y="5234400"/>
                  <a:ext cx="16920" cy="23760"/>
                  <a:chOff x="8326800" y="5234400"/>
                  <a:chExt cx="16920" cy="23760"/>
                </a:xfrm>
              </p:grpSpPr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8326800" y="5234400"/>
                    <a:ext cx="16920" cy="23760"/>
                    <a:chOff x="8326800" y="5234400"/>
                    <a:chExt cx="16920" cy="23760"/>
                  </a:xfrm>
                </p:grpSpPr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832680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832680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832824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832680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832788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8340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3" name=""/>
                  <p:cNvSpPr/>
                  <p:nvPr/>
                </p:nvSpPr>
                <p:spPr>
                  <a:xfrm>
                    <a:off x="833184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8350920" y="5234400"/>
                  <a:ext cx="17280" cy="23760"/>
                  <a:chOff x="8350920" y="5234400"/>
                  <a:chExt cx="17280" cy="23760"/>
                </a:xfrm>
              </p:grpSpPr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8350920" y="5234400"/>
                    <a:ext cx="17280" cy="23760"/>
                    <a:chOff x="8350920" y="5234400"/>
                    <a:chExt cx="17280" cy="2376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35092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835092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8352720" y="5243400"/>
                      <a:ext cx="1548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8350920" y="5239800"/>
                      <a:ext cx="172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83520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83646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2" name=""/>
                  <p:cNvSpPr/>
                  <p:nvPr/>
                </p:nvSpPr>
                <p:spPr>
                  <a:xfrm>
                    <a:off x="8356320" y="5247360"/>
                    <a:ext cx="972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8375040" y="5234400"/>
                  <a:ext cx="16920" cy="23760"/>
                  <a:chOff x="8375040" y="5234400"/>
                  <a:chExt cx="16920" cy="2376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8375040" y="5234400"/>
                    <a:ext cx="16920" cy="23760"/>
                    <a:chOff x="8375040" y="5234400"/>
                    <a:chExt cx="16920" cy="2376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837504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837504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837648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837504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837612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8388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1" name=""/>
                  <p:cNvSpPr/>
                  <p:nvPr/>
                </p:nvSpPr>
                <p:spPr>
                  <a:xfrm>
                    <a:off x="838008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8399160" y="5234400"/>
                  <a:ext cx="16920" cy="23760"/>
                  <a:chOff x="8399160" y="5234400"/>
                  <a:chExt cx="16920" cy="23760"/>
                </a:xfrm>
              </p:grpSpPr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8399160" y="5234400"/>
                    <a:ext cx="16920" cy="23760"/>
                    <a:chOff x="8399160" y="5234400"/>
                    <a:chExt cx="16920" cy="2376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839916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839916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840060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839916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840024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841248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0" name=""/>
                  <p:cNvSpPr/>
                  <p:nvPr/>
                </p:nvSpPr>
                <p:spPr>
                  <a:xfrm>
                    <a:off x="840420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8423280" y="5234400"/>
                  <a:ext cx="16920" cy="23760"/>
                  <a:chOff x="8423280" y="5234400"/>
                  <a:chExt cx="16920" cy="23760"/>
                </a:xfrm>
              </p:grpSpPr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8423280" y="5234400"/>
                    <a:ext cx="16920" cy="23760"/>
                    <a:chOff x="8423280" y="5234400"/>
                    <a:chExt cx="16920" cy="23760"/>
                  </a:xfrm>
                </p:grpSpPr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8423280" y="5238720"/>
                      <a:ext cx="16560" cy="18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8423280" y="5239800"/>
                      <a:ext cx="2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8424720" y="5243400"/>
                      <a:ext cx="15120" cy="1440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8423280" y="5239800"/>
                      <a:ext cx="169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842436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8436600" y="5234400"/>
                      <a:ext cx="1800" cy="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9" name=""/>
                  <p:cNvSpPr/>
                  <p:nvPr/>
                </p:nvSpPr>
                <p:spPr>
                  <a:xfrm>
                    <a:off x="8428320" y="5247360"/>
                    <a:ext cx="9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10" name=""/>
          <p:cNvSpPr/>
          <p:nvPr/>
        </p:nvSpPr>
        <p:spPr>
          <a:xfrm>
            <a:off x="8244000" y="49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669080" y="5661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XP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e 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76720" y="551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76720" y="623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9"/>
          <a:stretch/>
        </p:blipFill>
        <p:spPr>
          <a:xfrm>
            <a:off x="1332000" y="177336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10"/>
          <a:stretch/>
        </p:blipFill>
        <p:spPr>
          <a:xfrm>
            <a:off x="3276720" y="285264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11"/>
          <a:stretch/>
        </p:blipFill>
        <p:spPr>
          <a:xfrm>
            <a:off x="4859280" y="1844640"/>
            <a:ext cx="576360" cy="40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7" name=""/>
          <p:cNvGraphicFramePr/>
          <p:nvPr/>
        </p:nvGraphicFramePr>
        <p:xfrm>
          <a:off x="4932360" y="3645000"/>
          <a:ext cx="504720" cy="64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32360" y="364500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932360" y="5013360"/>
          <a:ext cx="504720" cy="647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32360" y="5013360"/>
                    <a:ext cx="50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"/>
          <p:cNvSpPr/>
          <p:nvPr/>
        </p:nvSpPr>
        <p:spPr>
          <a:xfrm>
            <a:off x="5510520" y="508464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2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94520" y="39337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3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4880" y="638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CURSA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50160" y="429264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.12.177.4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6"/>
          <a:stretch/>
        </p:blipFill>
        <p:spPr>
          <a:xfrm>
            <a:off x="7451640" y="2852640"/>
            <a:ext cx="576360" cy="4082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439680" y="31417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.12.177.1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8101080" y="4221000"/>
          <a:ext cx="504720" cy="64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01080" y="4221000"/>
                    <a:ext cx="504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esquema de direccionamiento, enrutamiento y resolución de nomb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nodos deben tener los siguientes servicios hacia Internet: correo, navegación vía proxy y acceso a otros servicios vía N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servicios de correo, WEB, DNS deben integrarse de forma que no se tenga redundancia en los clientes.  Ejemplo: los clientes solo tendrán definido un servidor de correo, a pesar de que se tiene uno hacia Internet y otro in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 para verificar las diferentes funcionalidades herramientas como ping, trace, nmap, sniffers, nslookup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ERIMIEN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monitorear el consumo de los canales WAN de los router implementar MRTG en el servidor DMZ. En la página Web debe haber un link para cada ca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enlace WAN con la sucursal 1 será configurado a 64Kbps con encapsulación PPP y autenticación 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enlace WAN con la sucursal 2 será configurado con Frame Relay, DLCI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Windows 2000 Professional o 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enticación del cliente Windows contra Samba y Samba contra el direc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 Lin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enticación de los usuarios de Linux contra el direc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ción de enrutado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ción de enrutad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s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dor Linux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figuración IP: Direcciones, Máscara, Enrutador por defecto y D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rvicios inter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anet (Páginas Web Inter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NS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artición de archivos con SMB (Sam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enticación de estaciones Windows en dominio Sam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sonas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ente Windows XP/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figuración IP: Direcciones, Mascara, Enrutador por defecto y D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ente Correo, navegación vía proxy y arch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tenticación del Windows contra dominio Sam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6:03:44Z</dcterms:created>
  <dc:creator>Juan Carlos Restrepo</dc:creator>
  <dc:description/>
  <dc:language>en-US</dc:language>
  <cp:lastModifiedBy>usuario</cp:lastModifiedBy>
  <dcterms:modified xsi:type="dcterms:W3CDTF">2008-04-25T20:47:46Z</dcterms:modified>
  <cp:revision>284</cp:revision>
  <dc:subject/>
  <dc:title>Presentación de PowerPoint</dc:title>
</cp:coreProperties>
</file>