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17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CC4-AC54-46DA-961F-61426DAC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25D-B024-4A98-84FB-01C80637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7E2-B0D1-4BEC-A4A9-AF4FE317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F3B-F66B-403E-9688-9A9A460A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BBB7-D6CE-40BF-8240-9C3D5063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35A1-8E89-474D-9427-193EF146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C6BC-87FD-4287-BC48-5E1CEE89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313E-8493-4558-9D15-CFBE205E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2F55-ABC1-4D1C-A434-6B4375BC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9582-EC46-482C-8FC5-0891C7AE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7C1F-8823-46DF-94AF-82837759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491-3A76-464B-9F60-F9C974E0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6FBD-ECF8-422E-AFCB-67D733EA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CFB2-42B0-4AC9-BC4B-CDC06C1E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F7B4-8AD5-4653-824B-27F2ABFD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B136-A1B3-4258-9F6F-A54BB754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A05E-3230-4B5F-8D61-A4F195AD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6F8-52CA-44A7-9BFB-A25F923E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B9A-72EF-4608-BB48-3CBA6CFD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748-453E-40D4-9D9A-30576E6C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4CB-8AF4-4F1C-A14D-F24F5BE5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BC2-2D2C-491C-AC97-16FFE51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7BD-1638-482E-97C1-DA5957B4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E12-E892-4FC0-9B4C-6CD177E1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0F35-A8EE-4525-9CD4-868985DA77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6911-A8D9-408A-B7E7-EAC7A9A618B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20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iemon.com/standards" TargetMode="External"/><Relationship Id="rId2" Type="http://schemas.openxmlformats.org/officeDocument/2006/relationships/hyperlink" Target="http://www.fols.org/" TargetMode="External"/><Relationship Id="rId3" Type="http://schemas.openxmlformats.org/officeDocument/2006/relationships/hyperlink" Target="http://www.tiaonline.org/" TargetMode="External"/><Relationship Id="rId4" Type="http://schemas.openxmlformats.org/officeDocument/2006/relationships/hyperlink" Target="http://www.bicsi.org/" TargetMode="External"/><Relationship Id="rId5" Type="http://schemas.openxmlformats.org/officeDocument/2006/relationships/hyperlink" Target="http://www.ieee.org/" TargetMode="External"/><Relationship Id="rId6" Type="http://schemas.openxmlformats.org/officeDocument/2006/relationships/hyperlink" Target="http://www.csinet.org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iaonline.org/standards/search.cfm?keyword=568" TargetMode="External"/><Relationship Id="rId2" Type="http://schemas.openxmlformats.org/officeDocument/2006/relationships/hyperlink" Target="http://www.tiaonline.org/standards/search.cfm?keyword=568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6600"/>
                </a:solidFill>
                <a:latin typeface="Times New Roman"/>
              </a:rPr>
              <a:t>NIVEL FISICO</a:t>
            </a:r>
            <a:br>
              <a:rPr sz="4000"/>
            </a:br>
            <a:r>
              <a:rPr b="1" lang="es-ES_tradnl" sz="4000" spc="-1" strike="noStrike">
                <a:solidFill>
                  <a:srgbClr val="cc6600"/>
                </a:solidFill>
                <a:latin typeface="Times New Roman"/>
              </a:rPr>
              <a:t>Cableado Estructurado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19320" y="2514600"/>
            <a:ext cx="6705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uanrest@diginet.com.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ersión: 2.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ltima revisión: Junio -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dellín-Colomb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172200" y="5468760"/>
            <a:ext cx="297180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6600"/>
                </a:solidFill>
                <a:latin typeface="Times New Roman"/>
              </a:rPr>
              <a:t>CABLEADO HORIZON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de el toma del área de trabajo, hasta la crossconexión en el closet de Tele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ble utilizados: UTP, STP y Fibra óptica multimodo 62.5/125 y 50/125 mic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fibra óptica 2 hilos por salida de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ble coaxial de 50 ohmios aceptado pero no recomend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ancia máxima entre toma y patch panel: 90 mts, independiente del tipo de me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VC en sitios alejados de aires acondicion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enum (teflón) cerca de ductos de ai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ínimo dos salidas de información en el puesto de trabajo así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mera: UT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gunda: Puede ser UTP, STP o Fibra Óp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CABLEADO HORIZONTA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ble de cobre alejado  de EMI/RF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pología:  en estrel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cionalmente se puede te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ntos de consolidación a minimo 15mts de cuarto de tele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ntos de trans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áximo un cambio de medio de transm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onectar directamente a equipos de 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radio de la curvatura del cable no debe exceder 4 veces el diámetro del cable. Ej: En UTP nivel 5 diámetro 0.25”. Por tanto el radio de curvatura será 0.25” x 4 = 1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2362320" y="2406240"/>
            <a:ext cx="2279520" cy="1536840"/>
            <a:chOff x="2362320" y="2406240"/>
            <a:chExt cx="2279520" cy="1536840"/>
          </a:xfrm>
        </p:grpSpPr>
        <p:sp>
          <p:nvSpPr>
            <p:cNvPr id="349" name=""/>
            <p:cNvSpPr/>
            <p:nvPr/>
          </p:nvSpPr>
          <p:spPr>
            <a:xfrm flipV="1">
              <a:off x="2362320" y="2406240"/>
              <a:ext cx="0" cy="153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241308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438280" y="2482920"/>
            <a:ext cx="2279880" cy="1536480"/>
            <a:chOff x="2438280" y="2482920"/>
            <a:chExt cx="2279880" cy="1536480"/>
          </a:xfrm>
        </p:grpSpPr>
        <p:sp>
          <p:nvSpPr>
            <p:cNvPr id="352" name=""/>
            <p:cNvSpPr/>
            <p:nvPr/>
          </p:nvSpPr>
          <p:spPr>
            <a:xfrm flipV="1">
              <a:off x="2438280" y="248292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44760" y="248904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664160" y="2343240"/>
            <a:ext cx="1265040" cy="399960"/>
            <a:chOff x="4664160" y="2343240"/>
            <a:chExt cx="1265040" cy="399960"/>
          </a:xfrm>
        </p:grpSpPr>
        <p:grpSp>
          <p:nvGrpSpPr>
            <p:cNvPr id="355" name=""/>
            <p:cNvGrpSpPr/>
            <p:nvPr/>
          </p:nvGrpSpPr>
          <p:grpSpPr>
            <a:xfrm>
              <a:off x="4664160" y="2343240"/>
              <a:ext cx="1265040" cy="399960"/>
              <a:chOff x="4664160" y="2343240"/>
              <a:chExt cx="1265040" cy="399960"/>
            </a:xfrm>
          </p:grpSpPr>
          <p:sp>
            <p:nvSpPr>
              <p:cNvPr id="356" name=""/>
              <p:cNvSpPr/>
              <p:nvPr/>
            </p:nvSpPr>
            <p:spPr>
              <a:xfrm>
                <a:off x="4664160" y="2343240"/>
                <a:ext cx="1265040" cy="399960"/>
              </a:xfrm>
              <a:custGeom>
                <a:avLst/>
                <a:gdLst/>
                <a:ahLst/>
                <a:rect l="l" t="t" r="r" b="b"/>
                <a:pathLst>
                  <a:path w="797" h="252">
                    <a:moveTo>
                      <a:pt x="0" y="0"/>
                    </a:moveTo>
                    <a:lnTo>
                      <a:pt x="796" y="0"/>
                    </a:lnTo>
                    <a:lnTo>
                      <a:pt x="796" y="251"/>
                    </a:lnTo>
                    <a:lnTo>
                      <a:pt x="0" y="2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67480" y="2343240"/>
                <a:ext cx="261720" cy="39852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4789440" y="2349360"/>
                <a:ext cx="738360" cy="387360"/>
                <a:chOff x="4789440" y="2349360"/>
                <a:chExt cx="738360" cy="387360"/>
              </a:xfrm>
            </p:grpSpPr>
            <p:sp>
              <p:nvSpPr>
                <p:cNvPr id="359" name=""/>
                <p:cNvSpPr/>
                <p:nvPr/>
              </p:nvSpPr>
              <p:spPr>
                <a:xfrm flipH="1">
                  <a:off x="4789440" y="2349360"/>
                  <a:ext cx="14400" cy="387360"/>
                </a:xfrm>
                <a:prstGeom prst="line">
                  <a:avLst/>
                </a:prstGeom>
                <a:ln w="12600">
                  <a:solidFill>
                    <a:srgbClr val="606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979880" y="2349360"/>
                  <a:ext cx="0" cy="387360"/>
                </a:xfrm>
                <a:prstGeom prst="line">
                  <a:avLst/>
                </a:prstGeom>
                <a:ln w="12600">
                  <a:solidFill>
                    <a:srgbClr val="606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160960" y="2349360"/>
                  <a:ext cx="1440" cy="387360"/>
                </a:xfrm>
                <a:prstGeom prst="line">
                  <a:avLst/>
                </a:prstGeom>
                <a:ln w="12600">
                  <a:solidFill>
                    <a:srgbClr val="606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5337000" y="2351160"/>
                  <a:ext cx="14400" cy="385560"/>
                </a:xfrm>
                <a:prstGeom prst="line">
                  <a:avLst/>
                </a:prstGeom>
                <a:ln w="12600">
                  <a:solidFill>
                    <a:srgbClr val="606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526000" y="2349360"/>
                  <a:ext cx="1800" cy="387360"/>
                </a:xfrm>
                <a:prstGeom prst="line">
                  <a:avLst/>
                </a:prstGeom>
                <a:ln w="12600">
                  <a:solidFill>
                    <a:srgbClr val="606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4821120" y="2376360"/>
              <a:ext cx="1046160" cy="366840"/>
            </a:xfrm>
            <a:custGeom>
              <a:avLst/>
              <a:gdLst/>
              <a:ahLst/>
              <a:rect l="l" t="t" r="r" b="b"/>
              <a:pathLst>
                <a:path w="659" h="231">
                  <a:moveTo>
                    <a:pt x="0" y="0"/>
                  </a:moveTo>
                  <a:lnTo>
                    <a:pt x="658" y="0"/>
                  </a:lnTo>
                  <a:lnTo>
                    <a:pt x="658" y="230"/>
                  </a:lnTo>
                  <a:lnTo>
                    <a:pt x="1" y="230"/>
                  </a:lnTo>
                  <a:lnTo>
                    <a:pt x="0" y="0"/>
                  </a:lnTo>
                </a:path>
              </a:pathLst>
            </a:custGeom>
            <a:solidFill>
              <a:srgbClr val="c0c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51360" y="2386080"/>
              <a:ext cx="993960" cy="322200"/>
            </a:xfrm>
            <a:prstGeom prst="rect">
              <a:avLst/>
            </a:prstGeom>
            <a:solidFill>
              <a:srgbClr val="606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05280" y="2374920"/>
              <a:ext cx="1085760" cy="20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05280" y="2505240"/>
              <a:ext cx="1084320" cy="20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05280" y="2570040"/>
              <a:ext cx="1084320" cy="1908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5280" y="2635200"/>
              <a:ext cx="1085760" cy="20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05280" y="2698920"/>
              <a:ext cx="1087560" cy="20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07080" y="2440080"/>
              <a:ext cx="1083960" cy="20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29200" y="2390760"/>
              <a:ext cx="17640" cy="317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32240" y="2390760"/>
              <a:ext cx="14400" cy="31896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7080" y="2392200"/>
              <a:ext cx="14400" cy="317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40480" y="2392200"/>
              <a:ext cx="15840" cy="317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6" name=""/>
          <p:cNvGraphicFramePr/>
          <p:nvPr/>
        </p:nvGraphicFramePr>
        <p:xfrm>
          <a:off x="825480" y="4275000"/>
          <a:ext cx="74916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4275000"/>
                    <a:ext cx="749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165400" y="3535200"/>
          <a:ext cx="37296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5400" y="3535200"/>
                    <a:ext cx="3729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84360" y="2946240"/>
          <a:ext cx="96660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946240"/>
                    <a:ext cx="966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2" name=""/>
          <p:cNvGrpSpPr/>
          <p:nvPr/>
        </p:nvGrpSpPr>
        <p:grpSpPr>
          <a:xfrm>
            <a:off x="4664160" y="1809720"/>
            <a:ext cx="1265040" cy="399960"/>
            <a:chOff x="4664160" y="1809720"/>
            <a:chExt cx="1265040" cy="399960"/>
          </a:xfrm>
        </p:grpSpPr>
        <p:grpSp>
          <p:nvGrpSpPr>
            <p:cNvPr id="383" name=""/>
            <p:cNvGrpSpPr/>
            <p:nvPr/>
          </p:nvGrpSpPr>
          <p:grpSpPr>
            <a:xfrm>
              <a:off x="4664160" y="1809720"/>
              <a:ext cx="1265040" cy="399960"/>
              <a:chOff x="4664160" y="1809720"/>
              <a:chExt cx="1265040" cy="399960"/>
            </a:xfrm>
          </p:grpSpPr>
          <p:sp>
            <p:nvSpPr>
              <p:cNvPr id="384" name=""/>
              <p:cNvSpPr/>
              <p:nvPr/>
            </p:nvSpPr>
            <p:spPr>
              <a:xfrm>
                <a:off x="4664160" y="1809720"/>
                <a:ext cx="1265040" cy="399960"/>
              </a:xfrm>
              <a:custGeom>
                <a:avLst/>
                <a:gdLst/>
                <a:ahLst/>
                <a:rect l="l" t="t" r="r" b="b"/>
                <a:pathLst>
                  <a:path w="797" h="252">
                    <a:moveTo>
                      <a:pt x="0" y="0"/>
                    </a:moveTo>
                    <a:lnTo>
                      <a:pt x="796" y="0"/>
                    </a:lnTo>
                    <a:lnTo>
                      <a:pt x="796" y="251"/>
                    </a:lnTo>
                    <a:lnTo>
                      <a:pt x="0" y="2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667480" y="1809720"/>
                <a:ext cx="261720" cy="39852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4789440" y="1816200"/>
                <a:ext cx="738360" cy="387360"/>
                <a:chOff x="4789440" y="1816200"/>
                <a:chExt cx="738360" cy="387360"/>
              </a:xfrm>
            </p:grpSpPr>
            <p:sp>
              <p:nvSpPr>
                <p:cNvPr id="387" name=""/>
                <p:cNvSpPr/>
                <p:nvPr/>
              </p:nvSpPr>
              <p:spPr>
                <a:xfrm flipH="1">
                  <a:off x="4789440" y="1816200"/>
                  <a:ext cx="14400" cy="387360"/>
                </a:xfrm>
                <a:prstGeom prst="line">
                  <a:avLst/>
                </a:prstGeom>
                <a:ln w="12600">
                  <a:solidFill>
                    <a:srgbClr val="606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979880" y="1816200"/>
                  <a:ext cx="0" cy="387360"/>
                </a:xfrm>
                <a:prstGeom prst="line">
                  <a:avLst/>
                </a:prstGeom>
                <a:ln w="12600">
                  <a:solidFill>
                    <a:srgbClr val="606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160960" y="1816200"/>
                  <a:ext cx="1440" cy="387360"/>
                </a:xfrm>
                <a:prstGeom prst="line">
                  <a:avLst/>
                </a:prstGeom>
                <a:ln w="12600">
                  <a:solidFill>
                    <a:srgbClr val="606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5337000" y="1817640"/>
                  <a:ext cx="14400" cy="385920"/>
                </a:xfrm>
                <a:prstGeom prst="line">
                  <a:avLst/>
                </a:prstGeom>
                <a:ln w="12600">
                  <a:solidFill>
                    <a:srgbClr val="606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526000" y="1816200"/>
                  <a:ext cx="1800" cy="387360"/>
                </a:xfrm>
                <a:prstGeom prst="line">
                  <a:avLst/>
                </a:prstGeom>
                <a:ln w="12600">
                  <a:solidFill>
                    <a:srgbClr val="606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>
              <a:off x="4821120" y="1843200"/>
              <a:ext cx="1046160" cy="366480"/>
            </a:xfrm>
            <a:custGeom>
              <a:avLst/>
              <a:gdLst/>
              <a:ahLst/>
              <a:rect l="l" t="t" r="r" b="b"/>
              <a:pathLst>
                <a:path w="659" h="231">
                  <a:moveTo>
                    <a:pt x="0" y="0"/>
                  </a:moveTo>
                  <a:lnTo>
                    <a:pt x="658" y="0"/>
                  </a:lnTo>
                  <a:lnTo>
                    <a:pt x="658" y="230"/>
                  </a:lnTo>
                  <a:lnTo>
                    <a:pt x="1" y="230"/>
                  </a:lnTo>
                  <a:lnTo>
                    <a:pt x="0" y="0"/>
                  </a:lnTo>
                </a:path>
              </a:pathLst>
            </a:custGeom>
            <a:solidFill>
              <a:srgbClr val="c0c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51360" y="1852560"/>
              <a:ext cx="993960" cy="322200"/>
            </a:xfrm>
            <a:prstGeom prst="rect">
              <a:avLst/>
            </a:prstGeom>
            <a:solidFill>
              <a:srgbClr val="606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05280" y="1841400"/>
              <a:ext cx="1085760" cy="2088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05280" y="1971720"/>
              <a:ext cx="1084320" cy="20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05280" y="2036880"/>
              <a:ext cx="1084320" cy="1908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5280" y="2101680"/>
              <a:ext cx="1085760" cy="2088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05280" y="2165400"/>
              <a:ext cx="1087560" cy="20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07080" y="1906560"/>
              <a:ext cx="1083960" cy="20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857240"/>
              <a:ext cx="17640" cy="317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32240" y="1857240"/>
              <a:ext cx="14400" cy="3193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37080" y="1859040"/>
              <a:ext cx="14400" cy="317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40480" y="1859040"/>
              <a:ext cx="15840" cy="3175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950080" y="1835280"/>
            <a:ext cx="63360" cy="31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54440" y="1835280"/>
            <a:ext cx="63720" cy="34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654440" y="5022720"/>
            <a:ext cx="13590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044960" y="4793760"/>
            <a:ext cx="2577960" cy="698760"/>
            <a:chOff x="4044960" y="4793760"/>
            <a:chExt cx="2577960" cy="698760"/>
          </a:xfrm>
        </p:grpSpPr>
        <p:grpSp>
          <p:nvGrpSpPr>
            <p:cNvPr id="408" name=""/>
            <p:cNvGrpSpPr/>
            <p:nvPr/>
          </p:nvGrpSpPr>
          <p:grpSpPr>
            <a:xfrm>
              <a:off x="4044960" y="4793760"/>
              <a:ext cx="2577960" cy="657720"/>
              <a:chOff x="4044960" y="4793760"/>
              <a:chExt cx="2577960" cy="657720"/>
            </a:xfrm>
          </p:grpSpPr>
          <p:sp>
            <p:nvSpPr>
              <p:cNvPr id="409" name=""/>
              <p:cNvSpPr/>
              <p:nvPr/>
            </p:nvSpPr>
            <p:spPr>
              <a:xfrm flipV="1">
                <a:off x="4044960" y="4793760"/>
                <a:ext cx="1587600" cy="33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4959360" y="5118120"/>
                <a:ext cx="1587600" cy="33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44960" y="5130720"/>
                <a:ext cx="977760" cy="30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5160" y="4807080"/>
                <a:ext cx="97776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044960" y="4835520"/>
              <a:ext cx="2577960" cy="657000"/>
              <a:chOff x="4044960" y="4835520"/>
              <a:chExt cx="2577960" cy="65700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4044960" y="4835520"/>
                <a:ext cx="1587600" cy="33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4959360" y="5155920"/>
                <a:ext cx="1587600" cy="33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044960" y="5168880"/>
                <a:ext cx="97776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645160" y="4848120"/>
                <a:ext cx="977760" cy="30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654440" y="182880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419720" y="3048120"/>
          <a:ext cx="1600200" cy="12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048120"/>
                    <a:ext cx="160020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1606680" y="3587760"/>
            <a:ext cx="74916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606680" y="4032000"/>
            <a:ext cx="74916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578840" y="2522520"/>
            <a:ext cx="604440" cy="907920"/>
            <a:chOff x="4578840" y="2522520"/>
            <a:chExt cx="604440" cy="907920"/>
          </a:xfrm>
        </p:grpSpPr>
        <p:sp>
          <p:nvSpPr>
            <p:cNvPr id="424" name=""/>
            <p:cNvSpPr/>
            <p:nvPr/>
          </p:nvSpPr>
          <p:spPr>
            <a:xfrm>
              <a:off x="4578840" y="2522520"/>
              <a:ext cx="5961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800000">
              <a:off x="4738680" y="2529360"/>
              <a:ext cx="444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5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544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730760" y="1989000"/>
            <a:ext cx="452160" cy="451080"/>
            <a:chOff x="4730760" y="1989000"/>
            <a:chExt cx="452160" cy="451080"/>
          </a:xfrm>
        </p:grpSpPr>
        <p:sp>
          <p:nvSpPr>
            <p:cNvPr id="427" name=""/>
            <p:cNvSpPr/>
            <p:nvPr/>
          </p:nvSpPr>
          <p:spPr>
            <a:xfrm>
              <a:off x="4730760" y="1989000"/>
              <a:ext cx="44424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0800000">
              <a:off x="4852800" y="1995480"/>
              <a:ext cx="3301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058080" y="20574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35200" y="1663560"/>
            <a:ext cx="154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INEAS TELEFON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83280" y="3416400"/>
            <a:ext cx="1265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CENTR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83280" y="2425680"/>
            <a:ext cx="206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NEL PUESTOS 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4280" y="1892160"/>
            <a:ext cx="199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NEL LINEAS TELEFON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1682640"/>
            <a:ext cx="0" cy="3949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6280" y="1108080"/>
            <a:ext cx="184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UESTO DE TRABA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28280" y="1108080"/>
            <a:ext cx="198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ENTRO DE CABL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88000" cy="55832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630080" y="2602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QUEMA DE CABLEADO EN UN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08280" y="5373720"/>
            <a:ext cx="204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UAR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TELECOMUN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30080" y="2602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QUEMA DE CABLEADO EN UN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500" spc="-1" strike="noStrike">
                <a:solidFill>
                  <a:srgbClr val="cc6600"/>
                </a:solidFill>
                <a:latin typeface="Times New Roman"/>
              </a:rPr>
              <a:t>CÓDIGO DE COLORES</a:t>
            </a:r>
            <a:endParaRPr b="0" i="1" lang="en-US" sz="45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542960" y="2232000"/>
          <a:ext cx="6058080" cy="332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2232000"/>
                    <a:ext cx="605808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ESQUEMAS DE CONEXIÓ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028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800440" cy="35812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602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751120" cy="35049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76280" y="5661000"/>
            <a:ext cx="40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IA/TIA T568A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67000" y="5661000"/>
            <a:ext cx="405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IA/TIA T568B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4360" y="1052640"/>
            <a:ext cx="777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twisting shall not exceed 75mm (3.0 in) for category 3 links, 13mm (0.5 in) for category 5e, and 6mm (0.25 in.) category 6 link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AREA DE TRABAJ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ínimo una salida doble por cada 10 mt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equipos y cables que se conectan a la salida de información están por fuera de la nor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recomienda una longitud máxima de 3 mts en el cable de conexión (Wall Cor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AREA DE TRABAJ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22240" y="981000"/>
            <a:ext cx="6629040" cy="5724720"/>
            <a:chOff x="822240" y="981000"/>
            <a:chExt cx="6629040" cy="5724720"/>
          </a:xfrm>
        </p:grpSpPr>
        <p:sp>
          <p:nvSpPr>
            <p:cNvPr id="457" name=""/>
            <p:cNvSpPr/>
            <p:nvPr/>
          </p:nvSpPr>
          <p:spPr>
            <a:xfrm>
              <a:off x="3031920" y="63630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1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 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27000" y="981000"/>
              <a:ext cx="3543120" cy="2390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ccffcc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1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ESTACIÓN DE TRABAJO TIPO 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50480" y="2837520"/>
              <a:ext cx="0" cy="3314520"/>
            </a:xfrm>
            <a:prstGeom prst="line">
              <a:avLst/>
            </a:prstGeom>
            <a:ln w="9360">
              <a:solidFill>
                <a:srgbClr val="ff00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164600" y="5237640"/>
              <a:ext cx="571320" cy="914040"/>
            </a:xfrm>
            <a:prstGeom prst="line">
              <a:avLst/>
            </a:prstGeom>
            <a:ln w="9360">
              <a:solidFill>
                <a:srgbClr val="ff00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93560" y="5237640"/>
              <a:ext cx="6057720" cy="1028520"/>
            </a:xfrm>
            <a:prstGeom prst="parallelogram">
              <a:avLst>
                <a:gd name="adj" fmla="val 100862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22080" y="1808640"/>
              <a:ext cx="4686480" cy="3657240"/>
            </a:xfrm>
            <a:prstGeom prst="cube">
              <a:avLst>
                <a:gd name="adj" fmla="val 287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07680" y="1923120"/>
              <a:ext cx="914400" cy="4343040"/>
            </a:xfrm>
            <a:prstGeom prst="cube">
              <a:avLst>
                <a:gd name="adj" fmla="val 8824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79840" y="5167080"/>
              <a:ext cx="144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alidas Voz-D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49160" y="2830320"/>
              <a:ext cx="635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léfo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2765160" y="3637440"/>
              <a:ext cx="1485720" cy="1143360"/>
              <a:chOff x="2765160" y="3637440"/>
              <a:chExt cx="1485720" cy="1143360"/>
            </a:xfrm>
          </p:grpSpPr>
          <p:sp>
            <p:nvSpPr>
              <p:cNvPr id="467" name=""/>
              <p:cNvSpPr/>
              <p:nvPr/>
            </p:nvSpPr>
            <p:spPr>
              <a:xfrm>
                <a:off x="2765160" y="3637440"/>
                <a:ext cx="0" cy="1143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65160" y="4780440"/>
                <a:ext cx="1485720" cy="3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3336840" y="482364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onec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J - 4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79840" y="4856040"/>
              <a:ext cx="0" cy="3103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79560" y="3751200"/>
              <a:ext cx="914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onector RJ 4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55600" y="4235040"/>
              <a:ext cx="76176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Wall Cord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4022640" y="4494600"/>
              <a:ext cx="457200" cy="342720"/>
              <a:chOff x="4022640" y="4494600"/>
              <a:chExt cx="457200" cy="342720"/>
            </a:xfrm>
          </p:grpSpPr>
          <p:sp>
            <p:nvSpPr>
              <p:cNvPr id="474" name=""/>
              <p:cNvSpPr/>
              <p:nvPr/>
            </p:nvSpPr>
            <p:spPr>
              <a:xfrm rot="5400000">
                <a:off x="4079880" y="4437360"/>
                <a:ext cx="342720" cy="457200"/>
              </a:xfrm>
              <a:prstGeom prst="bevel">
                <a:avLst>
                  <a:gd name="adj" fmla="val 125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5400000">
                <a:off x="4139640" y="4522680"/>
                <a:ext cx="191880" cy="306360"/>
              </a:xfrm>
              <a:custGeom>
                <a:avLst/>
                <a:gdLst/>
                <a:ahLst/>
                <a:rect l="l" t="t" r="r" b="b"/>
                <a:pathLst>
                  <a:path w="443" h="664">
                    <a:moveTo>
                      <a:pt x="95" y="181"/>
                    </a:moveTo>
                    <a:lnTo>
                      <a:pt x="104" y="135"/>
                    </a:lnTo>
                    <a:lnTo>
                      <a:pt x="134" y="98"/>
                    </a:lnTo>
                    <a:lnTo>
                      <a:pt x="174" y="70"/>
                    </a:lnTo>
                    <a:lnTo>
                      <a:pt x="224" y="60"/>
                    </a:lnTo>
                    <a:lnTo>
                      <a:pt x="269" y="70"/>
                    </a:lnTo>
                    <a:lnTo>
                      <a:pt x="308" y="98"/>
                    </a:lnTo>
                    <a:lnTo>
                      <a:pt x="338" y="135"/>
                    </a:lnTo>
                    <a:lnTo>
                      <a:pt x="348" y="181"/>
                    </a:lnTo>
                    <a:lnTo>
                      <a:pt x="338" y="228"/>
                    </a:lnTo>
                    <a:lnTo>
                      <a:pt x="308" y="265"/>
                    </a:lnTo>
                    <a:lnTo>
                      <a:pt x="269" y="293"/>
                    </a:lnTo>
                    <a:lnTo>
                      <a:pt x="224" y="302"/>
                    </a:lnTo>
                    <a:lnTo>
                      <a:pt x="174" y="293"/>
                    </a:lnTo>
                    <a:lnTo>
                      <a:pt x="134" y="265"/>
                    </a:lnTo>
                    <a:lnTo>
                      <a:pt x="104" y="228"/>
                    </a:lnTo>
                    <a:lnTo>
                      <a:pt x="95" y="181"/>
                    </a:lnTo>
                    <a:close/>
                    <a:moveTo>
                      <a:pt x="159" y="107"/>
                    </a:moveTo>
                    <a:lnTo>
                      <a:pt x="159" y="228"/>
                    </a:lnTo>
                    <a:lnTo>
                      <a:pt x="189" y="228"/>
                    </a:lnTo>
                    <a:lnTo>
                      <a:pt x="189" y="242"/>
                    </a:lnTo>
                    <a:lnTo>
                      <a:pt x="204" y="242"/>
                    </a:lnTo>
                    <a:lnTo>
                      <a:pt x="204" y="256"/>
                    </a:lnTo>
                    <a:lnTo>
                      <a:pt x="239" y="256"/>
                    </a:lnTo>
                    <a:lnTo>
                      <a:pt x="239" y="242"/>
                    </a:lnTo>
                    <a:lnTo>
                      <a:pt x="254" y="242"/>
                    </a:lnTo>
                    <a:lnTo>
                      <a:pt x="254" y="228"/>
                    </a:lnTo>
                    <a:lnTo>
                      <a:pt x="284" y="228"/>
                    </a:lnTo>
                    <a:lnTo>
                      <a:pt x="284" y="107"/>
                    </a:lnTo>
                    <a:lnTo>
                      <a:pt x="159" y="107"/>
                    </a:lnTo>
                    <a:close/>
                    <a:moveTo>
                      <a:pt x="159" y="409"/>
                    </a:moveTo>
                    <a:lnTo>
                      <a:pt x="159" y="530"/>
                    </a:lnTo>
                    <a:lnTo>
                      <a:pt x="189" y="530"/>
                    </a:lnTo>
                    <a:lnTo>
                      <a:pt x="189" y="544"/>
                    </a:lnTo>
                    <a:lnTo>
                      <a:pt x="204" y="544"/>
                    </a:lnTo>
                    <a:lnTo>
                      <a:pt x="204" y="558"/>
                    </a:lnTo>
                    <a:lnTo>
                      <a:pt x="239" y="558"/>
                    </a:lnTo>
                    <a:lnTo>
                      <a:pt x="239" y="544"/>
                    </a:lnTo>
                    <a:lnTo>
                      <a:pt x="254" y="544"/>
                    </a:lnTo>
                    <a:lnTo>
                      <a:pt x="254" y="530"/>
                    </a:lnTo>
                    <a:lnTo>
                      <a:pt x="284" y="530"/>
                    </a:lnTo>
                    <a:lnTo>
                      <a:pt x="284" y="409"/>
                    </a:lnTo>
                    <a:lnTo>
                      <a:pt x="159" y="409"/>
                    </a:lnTo>
                    <a:close/>
                    <a:moveTo>
                      <a:pt x="95" y="483"/>
                    </a:moveTo>
                    <a:lnTo>
                      <a:pt x="104" y="437"/>
                    </a:lnTo>
                    <a:lnTo>
                      <a:pt x="134" y="400"/>
                    </a:lnTo>
                    <a:lnTo>
                      <a:pt x="174" y="372"/>
                    </a:lnTo>
                    <a:lnTo>
                      <a:pt x="224" y="362"/>
                    </a:lnTo>
                    <a:lnTo>
                      <a:pt x="269" y="372"/>
                    </a:lnTo>
                    <a:lnTo>
                      <a:pt x="308" y="400"/>
                    </a:lnTo>
                    <a:lnTo>
                      <a:pt x="338" y="437"/>
                    </a:lnTo>
                    <a:lnTo>
                      <a:pt x="348" y="483"/>
                    </a:lnTo>
                    <a:lnTo>
                      <a:pt x="338" y="530"/>
                    </a:lnTo>
                    <a:lnTo>
                      <a:pt x="308" y="567"/>
                    </a:lnTo>
                    <a:lnTo>
                      <a:pt x="269" y="595"/>
                    </a:lnTo>
                    <a:lnTo>
                      <a:pt x="224" y="604"/>
                    </a:lnTo>
                    <a:lnTo>
                      <a:pt x="174" y="595"/>
                    </a:lnTo>
                    <a:lnTo>
                      <a:pt x="134" y="567"/>
                    </a:lnTo>
                    <a:lnTo>
                      <a:pt x="104" y="530"/>
                    </a:lnTo>
                    <a:lnTo>
                      <a:pt x="95" y="483"/>
                    </a:lnTo>
                    <a:close/>
                    <a:moveTo>
                      <a:pt x="0" y="664"/>
                    </a:moveTo>
                    <a:lnTo>
                      <a:pt x="443" y="664"/>
                    </a:lnTo>
                    <a:lnTo>
                      <a:pt x="443" y="0"/>
                    </a:lnTo>
                    <a:lnTo>
                      <a:pt x="0" y="0"/>
                    </a:lnTo>
                    <a:lnTo>
                      <a:pt x="0" y="664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679560" y="3751920"/>
              <a:ext cx="342720" cy="799920"/>
              <a:chOff x="3679560" y="3751920"/>
              <a:chExt cx="342720" cy="799920"/>
            </a:xfrm>
          </p:grpSpPr>
          <p:sp>
            <p:nvSpPr>
              <p:cNvPr id="477" name=""/>
              <p:cNvSpPr/>
              <p:nvPr/>
            </p:nvSpPr>
            <p:spPr>
              <a:xfrm>
                <a:off x="3679560" y="3751920"/>
                <a:ext cx="0" cy="7995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79560" y="4551480"/>
                <a:ext cx="342720" cy="3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1050480" y="6380640"/>
              <a:ext cx="5372280" cy="0"/>
            </a:xfrm>
            <a:prstGeom prst="line">
              <a:avLst/>
            </a:prstGeom>
            <a:ln cap="rnd" w="9360">
              <a:solidFill>
                <a:srgbClr val="ff00f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2240" y="535176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1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 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08720" y="2995560"/>
              <a:ext cx="342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51440" y="3523320"/>
              <a:ext cx="0" cy="1643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5851440" y="5166720"/>
              <a:ext cx="9144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64880" y="3465000"/>
              <a:ext cx="5029200" cy="456840"/>
            </a:xfrm>
            <a:prstGeom prst="cube">
              <a:avLst>
                <a:gd name="adj" fmla="val 8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2485800" y="3086280"/>
              <a:ext cx="507960" cy="567720"/>
              <a:chOff x="2485800" y="3086280"/>
              <a:chExt cx="507960" cy="567720"/>
            </a:xfrm>
          </p:grpSpPr>
          <p:sp>
            <p:nvSpPr>
              <p:cNvPr id="486" name=""/>
              <p:cNvSpPr/>
              <p:nvPr/>
            </p:nvSpPr>
            <p:spPr>
              <a:xfrm>
                <a:off x="2485800" y="3086280"/>
                <a:ext cx="507960" cy="5677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29000" y="3121200"/>
                <a:ext cx="145800" cy="497880"/>
              </a:xfrm>
              <a:custGeom>
                <a:avLst/>
                <a:gdLst/>
                <a:ahLst/>
                <a:rect l="l" t="t" r="r" b="b"/>
                <a:pathLst>
                  <a:path w="253" h="864">
                    <a:moveTo>
                      <a:pt x="0" y="186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218" y="0"/>
                    </a:lnTo>
                    <a:lnTo>
                      <a:pt x="253" y="32"/>
                    </a:lnTo>
                    <a:lnTo>
                      <a:pt x="253" y="186"/>
                    </a:lnTo>
                    <a:lnTo>
                      <a:pt x="218" y="246"/>
                    </a:lnTo>
                    <a:lnTo>
                      <a:pt x="218" y="618"/>
                    </a:lnTo>
                    <a:lnTo>
                      <a:pt x="253" y="678"/>
                    </a:lnTo>
                    <a:lnTo>
                      <a:pt x="253" y="831"/>
                    </a:lnTo>
                    <a:lnTo>
                      <a:pt x="218" y="864"/>
                    </a:lnTo>
                    <a:lnTo>
                      <a:pt x="34" y="864"/>
                    </a:lnTo>
                    <a:lnTo>
                      <a:pt x="0" y="831"/>
                    </a:lnTo>
                    <a:lnTo>
                      <a:pt x="0" y="678"/>
                    </a:lnTo>
                    <a:lnTo>
                      <a:pt x="34" y="618"/>
                    </a:lnTo>
                    <a:lnTo>
                      <a:pt x="34" y="246"/>
                    </a:lnTo>
                    <a:lnTo>
                      <a:pt x="0" y="186"/>
                    </a:lnTo>
                  </a:path>
                </a:pathLst>
              </a:custGeom>
              <a:gradFill rotWithShape="0">
                <a:gsLst>
                  <a:gs pos="0">
                    <a:srgbClr val="ccff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718000" y="3121200"/>
                <a:ext cx="232920" cy="497880"/>
              </a:xfrm>
              <a:custGeom>
                <a:avLst/>
                <a:gdLst/>
                <a:ahLst/>
                <a:rect l="l" t="t" r="r" b="b"/>
                <a:pathLst>
                  <a:path w="403" h="864">
                    <a:moveTo>
                      <a:pt x="0" y="307"/>
                    </a:moveTo>
                    <a:lnTo>
                      <a:pt x="184" y="307"/>
                    </a:lnTo>
                    <a:lnTo>
                      <a:pt x="184" y="0"/>
                    </a:lnTo>
                    <a:lnTo>
                      <a:pt x="0" y="0"/>
                    </a:lnTo>
                    <a:lnTo>
                      <a:pt x="0" y="307"/>
                    </a:lnTo>
                    <a:close/>
                    <a:moveTo>
                      <a:pt x="219" y="307"/>
                    </a:moveTo>
                    <a:lnTo>
                      <a:pt x="403" y="307"/>
                    </a:lnTo>
                    <a:lnTo>
                      <a:pt x="403" y="0"/>
                    </a:lnTo>
                    <a:lnTo>
                      <a:pt x="219" y="0"/>
                    </a:lnTo>
                    <a:lnTo>
                      <a:pt x="219" y="307"/>
                    </a:lnTo>
                    <a:close/>
                    <a:moveTo>
                      <a:pt x="0" y="864"/>
                    </a:moveTo>
                    <a:lnTo>
                      <a:pt x="403" y="864"/>
                    </a:lnTo>
                    <a:lnTo>
                      <a:pt x="403" y="553"/>
                    </a:lnTo>
                    <a:lnTo>
                      <a:pt x="0" y="553"/>
                    </a:lnTo>
                    <a:lnTo>
                      <a:pt x="0" y="8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718000" y="3404520"/>
                <a:ext cx="23292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718000" y="3388320"/>
                <a:ext cx="2329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718000" y="3370320"/>
                <a:ext cx="23292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18000" y="3350880"/>
                <a:ext cx="2329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718000" y="3335760"/>
                <a:ext cx="23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44720" y="3163680"/>
                <a:ext cx="1065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844720" y="3254400"/>
                <a:ext cx="10656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44720" y="3209400"/>
                <a:ext cx="10656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18000" y="3163680"/>
                <a:ext cx="1058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718000" y="3254400"/>
                <a:ext cx="10584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18000" y="3209400"/>
                <a:ext cx="10584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18000" y="3574080"/>
                <a:ext cx="23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718000" y="3528360"/>
                <a:ext cx="23292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18000" y="3485520"/>
                <a:ext cx="2329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73160" y="3440160"/>
                <a:ext cx="720" cy="17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795760" y="3440160"/>
                <a:ext cx="720" cy="17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 rot="16200000">
              <a:off x="3264120" y="4547520"/>
              <a:ext cx="103320" cy="186984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51240" y="4810320"/>
              <a:ext cx="75960" cy="72432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65640" y="2948040"/>
              <a:ext cx="1377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302280" y="2315520"/>
              <a:ext cx="1405800" cy="1356120"/>
              <a:chOff x="3302280" y="2315520"/>
              <a:chExt cx="1405800" cy="1356120"/>
            </a:xfrm>
          </p:grpSpPr>
          <p:sp>
            <p:nvSpPr>
              <p:cNvPr id="509" name=""/>
              <p:cNvSpPr/>
              <p:nvPr/>
            </p:nvSpPr>
            <p:spPr>
              <a:xfrm>
                <a:off x="3442680" y="2551680"/>
                <a:ext cx="1002600" cy="932040"/>
              </a:xfrm>
              <a:custGeom>
                <a:avLst/>
                <a:gdLst/>
                <a:ahLst/>
                <a:rect l="l" t="t" r="r" b="b"/>
                <a:pathLst>
                  <a:path w="1736" h="1616">
                    <a:moveTo>
                      <a:pt x="0" y="1212"/>
                    </a:moveTo>
                    <a:lnTo>
                      <a:pt x="323" y="1212"/>
                    </a:lnTo>
                    <a:lnTo>
                      <a:pt x="597" y="1263"/>
                    </a:lnTo>
                    <a:lnTo>
                      <a:pt x="597" y="1314"/>
                    </a:lnTo>
                    <a:lnTo>
                      <a:pt x="323" y="1314"/>
                    </a:lnTo>
                    <a:lnTo>
                      <a:pt x="323" y="1366"/>
                    </a:lnTo>
                    <a:lnTo>
                      <a:pt x="110" y="1366"/>
                    </a:lnTo>
                    <a:lnTo>
                      <a:pt x="110" y="1616"/>
                    </a:lnTo>
                    <a:lnTo>
                      <a:pt x="1626" y="1616"/>
                    </a:lnTo>
                    <a:lnTo>
                      <a:pt x="1626" y="1366"/>
                    </a:lnTo>
                    <a:lnTo>
                      <a:pt x="1408" y="1366"/>
                    </a:lnTo>
                    <a:lnTo>
                      <a:pt x="1408" y="1314"/>
                    </a:lnTo>
                    <a:lnTo>
                      <a:pt x="1139" y="1314"/>
                    </a:lnTo>
                    <a:lnTo>
                      <a:pt x="1139" y="1263"/>
                    </a:lnTo>
                    <a:lnTo>
                      <a:pt x="1408" y="1212"/>
                    </a:lnTo>
                    <a:lnTo>
                      <a:pt x="1736" y="1212"/>
                    </a:lnTo>
                    <a:lnTo>
                      <a:pt x="1736" y="0"/>
                    </a:lnTo>
                    <a:lnTo>
                      <a:pt x="0" y="0"/>
                    </a:lnTo>
                    <a:lnTo>
                      <a:pt x="0" y="1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629160" y="3339720"/>
                <a:ext cx="62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87200" y="3309120"/>
                <a:ext cx="312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787200" y="3279960"/>
                <a:ext cx="312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29160" y="3250800"/>
                <a:ext cx="6260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15120" y="3440520"/>
                <a:ext cx="125640" cy="216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506040" y="3368880"/>
                <a:ext cx="8755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15120" y="3403080"/>
                <a:ext cx="13680" cy="2376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24" y="0"/>
                    </a:moveTo>
                    <a:lnTo>
                      <a:pt x="0" y="23"/>
                    </a:lnTo>
                    <a:lnTo>
                      <a:pt x="24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709800" y="34030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25" y="0"/>
                    </a:moveTo>
                    <a:lnTo>
                      <a:pt x="0" y="23"/>
                    </a:lnTo>
                    <a:lnTo>
                      <a:pt x="25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755520" y="3448800"/>
                <a:ext cx="13680" cy="2160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5" y="0"/>
                    </a:moveTo>
                    <a:lnTo>
                      <a:pt x="0" y="19"/>
                    </a:lnTo>
                    <a:lnTo>
                      <a:pt x="25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801240" y="340308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0"/>
                    </a:moveTo>
                    <a:lnTo>
                      <a:pt x="0" y="23"/>
                    </a:lnTo>
                    <a:lnTo>
                      <a:pt x="30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850200" y="344880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5" y="0"/>
                    </a:moveTo>
                    <a:lnTo>
                      <a:pt x="0" y="19"/>
                    </a:lnTo>
                    <a:lnTo>
                      <a:pt x="25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896640" y="3403080"/>
                <a:ext cx="13680" cy="2376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25" y="0"/>
                    </a:moveTo>
                    <a:lnTo>
                      <a:pt x="0" y="23"/>
                    </a:lnTo>
                    <a:lnTo>
                      <a:pt x="25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941640" y="344880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30" y="0"/>
                    </a:moveTo>
                    <a:lnTo>
                      <a:pt x="0" y="19"/>
                    </a:lnTo>
                    <a:lnTo>
                      <a:pt x="30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991320" y="34030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25" y="0"/>
                    </a:moveTo>
                    <a:lnTo>
                      <a:pt x="0" y="23"/>
                    </a:lnTo>
                    <a:lnTo>
                      <a:pt x="25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037760" y="3448800"/>
                <a:ext cx="12960" cy="216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4" y="0"/>
                    </a:moveTo>
                    <a:lnTo>
                      <a:pt x="0" y="19"/>
                    </a:lnTo>
                    <a:lnTo>
                      <a:pt x="24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82760" y="340308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0"/>
                    </a:moveTo>
                    <a:lnTo>
                      <a:pt x="0" y="23"/>
                    </a:lnTo>
                    <a:lnTo>
                      <a:pt x="30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32080" y="3448800"/>
                <a:ext cx="13680" cy="2160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5" y="0"/>
                    </a:moveTo>
                    <a:lnTo>
                      <a:pt x="0" y="19"/>
                    </a:lnTo>
                    <a:lnTo>
                      <a:pt x="25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177800" y="3403080"/>
                <a:ext cx="13680" cy="2376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25" y="0"/>
                    </a:moveTo>
                    <a:lnTo>
                      <a:pt x="0" y="23"/>
                    </a:lnTo>
                    <a:lnTo>
                      <a:pt x="25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23520" y="344880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30" y="0"/>
                    </a:moveTo>
                    <a:lnTo>
                      <a:pt x="0" y="19"/>
                    </a:lnTo>
                    <a:lnTo>
                      <a:pt x="30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72480" y="3403080"/>
                <a:ext cx="13680" cy="2376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25" y="0"/>
                    </a:moveTo>
                    <a:lnTo>
                      <a:pt x="0" y="23"/>
                    </a:lnTo>
                    <a:lnTo>
                      <a:pt x="25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18200" y="344880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5" y="0"/>
                    </a:moveTo>
                    <a:lnTo>
                      <a:pt x="0" y="19"/>
                    </a:lnTo>
                    <a:lnTo>
                      <a:pt x="25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422160" y="3521160"/>
                <a:ext cx="1045800" cy="1504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302280" y="2315520"/>
                <a:ext cx="14058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Estación de trabaj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520080" y="2639880"/>
                <a:ext cx="829800" cy="830520"/>
              </a:xfrm>
              <a:custGeom>
                <a:avLst/>
                <a:gdLst/>
                <a:ahLst/>
                <a:rect l="l" t="t" r="r" b="b"/>
                <a:pathLst>
                  <a:path w="1438" h="1440">
                    <a:moveTo>
                      <a:pt x="140" y="1301"/>
                    </a:moveTo>
                    <a:lnTo>
                      <a:pt x="408" y="1301"/>
                    </a:lnTo>
                    <a:lnTo>
                      <a:pt x="408" y="1264"/>
                    </a:lnTo>
                    <a:lnTo>
                      <a:pt x="140" y="1264"/>
                    </a:lnTo>
                    <a:lnTo>
                      <a:pt x="140" y="1301"/>
                    </a:lnTo>
                    <a:close/>
                    <a:moveTo>
                      <a:pt x="55" y="1440"/>
                    </a:moveTo>
                    <a:lnTo>
                      <a:pt x="110" y="1389"/>
                    </a:lnTo>
                    <a:lnTo>
                      <a:pt x="55" y="1338"/>
                    </a:lnTo>
                    <a:lnTo>
                      <a:pt x="0" y="1389"/>
                    </a:lnTo>
                    <a:lnTo>
                      <a:pt x="55" y="1440"/>
                    </a:lnTo>
                    <a:close/>
                    <a:moveTo>
                      <a:pt x="140" y="808"/>
                    </a:moveTo>
                    <a:lnTo>
                      <a:pt x="140" y="98"/>
                    </a:lnTo>
                    <a:lnTo>
                      <a:pt x="1328" y="98"/>
                    </a:lnTo>
                    <a:lnTo>
                      <a:pt x="1328" y="808"/>
                    </a:lnTo>
                    <a:lnTo>
                      <a:pt x="140" y="808"/>
                    </a:lnTo>
                    <a:close/>
                    <a:moveTo>
                      <a:pt x="85" y="883"/>
                    </a:moveTo>
                    <a:lnTo>
                      <a:pt x="1408" y="883"/>
                    </a:lnTo>
                    <a:lnTo>
                      <a:pt x="1408" y="51"/>
                    </a:lnTo>
                    <a:lnTo>
                      <a:pt x="1438" y="51"/>
                    </a:lnTo>
                    <a:lnTo>
                      <a:pt x="1438" y="0"/>
                    </a:lnTo>
                    <a:lnTo>
                      <a:pt x="30" y="0"/>
                    </a:lnTo>
                    <a:lnTo>
                      <a:pt x="30" y="911"/>
                    </a:lnTo>
                    <a:lnTo>
                      <a:pt x="85" y="911"/>
                    </a:lnTo>
                    <a:lnTo>
                      <a:pt x="85" y="883"/>
                    </a:lnTo>
                    <a:close/>
                    <a:moveTo>
                      <a:pt x="1358" y="1008"/>
                    </a:moveTo>
                    <a:lnTo>
                      <a:pt x="1438" y="1008"/>
                    </a:lnTo>
                    <a:lnTo>
                      <a:pt x="1438" y="985"/>
                    </a:lnTo>
                    <a:lnTo>
                      <a:pt x="1358" y="985"/>
                    </a:lnTo>
                    <a:lnTo>
                      <a:pt x="1358" y="1008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506040" y="3389760"/>
                <a:ext cx="87552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 rot="13479600">
              <a:off x="1989720" y="5327640"/>
              <a:ext cx="75600" cy="1083240"/>
            </a:xfrm>
            <a:prstGeom prst="cube">
              <a:avLst>
                <a:gd name="adj" fmla="val 25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6613560" y="4856040"/>
              <a:ext cx="304560" cy="621000"/>
              <a:chOff x="6613560" y="4856040"/>
              <a:chExt cx="304560" cy="621000"/>
            </a:xfrm>
          </p:grpSpPr>
          <p:sp>
            <p:nvSpPr>
              <p:cNvPr id="537" name=""/>
              <p:cNvSpPr/>
              <p:nvPr/>
            </p:nvSpPr>
            <p:spPr>
              <a:xfrm>
                <a:off x="6613560" y="4856040"/>
                <a:ext cx="304560" cy="621000"/>
              </a:xfrm>
              <a:prstGeom prst="cube">
                <a:avLst>
                  <a:gd name="adj" fmla="val 8125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689520" y="5166360"/>
                <a:ext cx="75960" cy="1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842160" y="5063040"/>
                <a:ext cx="75960" cy="1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689520" y="4959360"/>
                <a:ext cx="228240" cy="414000"/>
              </a:xfrm>
              <a:prstGeom prst="cube">
                <a:avLst>
                  <a:gd name="adj" fmla="val 88611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6156360" y="1854720"/>
              <a:ext cx="914400" cy="4343040"/>
            </a:xfrm>
            <a:prstGeom prst="cube">
              <a:avLst>
                <a:gd name="adj" fmla="val 88240"/>
              </a:avLst>
            </a:prstGeom>
            <a:solidFill>
              <a:srgbClr val="ccecff">
                <a:alpha val="25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75120" y="5270040"/>
              <a:ext cx="4572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69800" y="3717720"/>
              <a:ext cx="914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onector RJ 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17720" y="392436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one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J - 4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27000" y="4235040"/>
              <a:ext cx="9144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65640" y="4282560"/>
              <a:ext cx="76176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Wall Cord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22240" y="402804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1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 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98400" y="5237640"/>
              <a:ext cx="1447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1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analeta 2 x 2 c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70560" y="2786040"/>
              <a:ext cx="63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AREA DE TRABAJ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079640" y="922320"/>
            <a:ext cx="4876560" cy="5944680"/>
            <a:chOff x="1079640" y="922320"/>
            <a:chExt cx="4876560" cy="5944680"/>
          </a:xfrm>
        </p:grpSpPr>
        <p:sp>
          <p:nvSpPr>
            <p:cNvPr id="552" name=""/>
            <p:cNvSpPr/>
            <p:nvPr/>
          </p:nvSpPr>
          <p:spPr>
            <a:xfrm>
              <a:off x="2832120" y="922320"/>
              <a:ext cx="3009600" cy="2390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ccffcc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1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ESTACIÓN DE TRABAJO TIPO 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1079640" y="1335960"/>
              <a:ext cx="4876560" cy="5531040"/>
              <a:chOff x="1079640" y="1335960"/>
              <a:chExt cx="4876560" cy="553104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1079640" y="3095280"/>
                <a:ext cx="2971080" cy="3771720"/>
                <a:chOff x="1079640" y="3095280"/>
                <a:chExt cx="2971080" cy="3771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1765080" y="3095280"/>
                  <a:ext cx="0" cy="3314520"/>
                </a:xfrm>
                <a:prstGeom prst="line">
                  <a:avLst/>
                </a:prstGeom>
                <a:ln w="9360">
                  <a:solidFill>
                    <a:srgbClr val="ff00ff"/>
                  </a:solidFill>
                  <a:prstDash val="sysDot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H="1">
                  <a:off x="1879200" y="5495400"/>
                  <a:ext cx="571320" cy="914400"/>
                </a:xfrm>
                <a:prstGeom prst="line">
                  <a:avLst/>
                </a:prstGeom>
                <a:ln w="9360">
                  <a:solidFill>
                    <a:srgbClr val="ff00ff"/>
                  </a:solidFill>
                  <a:prstDash val="sysDot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136680" y="6524280"/>
                  <a:ext cx="91404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1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3 m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079640" y="4352400"/>
                  <a:ext cx="91404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1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4 m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2984400" y="1335960"/>
                <a:ext cx="0" cy="5979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060720" y="1410480"/>
                <a:ext cx="0" cy="5979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908080" y="1859040"/>
                <a:ext cx="228240" cy="822240"/>
              </a:xfrm>
              <a:prstGeom prst="can">
                <a:avLst>
                  <a:gd name="adj" fmla="val 3236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70000" y="5482080"/>
                <a:ext cx="3886200" cy="914040"/>
              </a:xfrm>
              <a:prstGeom prst="parallelogram">
                <a:avLst>
                  <a:gd name="adj" fmla="val 7281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098880" y="2053440"/>
                <a:ext cx="2628720" cy="3657240"/>
              </a:xfrm>
              <a:prstGeom prst="cube">
                <a:avLst>
                  <a:gd name="adj" fmla="val 2879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412720" y="2167560"/>
                <a:ext cx="685800" cy="4114440"/>
              </a:xfrm>
              <a:prstGeom prst="cube">
                <a:avLst>
                  <a:gd name="adj" fmla="val 8824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641680" y="3767760"/>
                <a:ext cx="2857320" cy="456840"/>
              </a:xfrm>
              <a:prstGeom prst="cube">
                <a:avLst>
                  <a:gd name="adj" fmla="val 8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20680" y="552204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Salidas Voz-Dat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3162240" y="3330720"/>
                <a:ext cx="507960" cy="567360"/>
                <a:chOff x="3162240" y="3330720"/>
                <a:chExt cx="507960" cy="5673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3162240" y="3330720"/>
                  <a:ext cx="507960" cy="56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05440" y="3365640"/>
                  <a:ext cx="145800" cy="497520"/>
                </a:xfrm>
                <a:custGeom>
                  <a:avLst/>
                  <a:gdLst/>
                  <a:ahLst/>
                  <a:rect l="l" t="t" r="r" b="b"/>
                  <a:pathLst>
                    <a:path w="253" h="864">
                      <a:moveTo>
                        <a:pt x="0" y="186"/>
                      </a:moveTo>
                      <a:lnTo>
                        <a:pt x="0" y="32"/>
                      </a:lnTo>
                      <a:lnTo>
                        <a:pt x="34" y="0"/>
                      </a:lnTo>
                      <a:lnTo>
                        <a:pt x="218" y="0"/>
                      </a:lnTo>
                      <a:lnTo>
                        <a:pt x="253" y="32"/>
                      </a:lnTo>
                      <a:lnTo>
                        <a:pt x="253" y="186"/>
                      </a:lnTo>
                      <a:lnTo>
                        <a:pt x="218" y="246"/>
                      </a:lnTo>
                      <a:lnTo>
                        <a:pt x="218" y="618"/>
                      </a:lnTo>
                      <a:lnTo>
                        <a:pt x="253" y="678"/>
                      </a:lnTo>
                      <a:lnTo>
                        <a:pt x="253" y="831"/>
                      </a:lnTo>
                      <a:lnTo>
                        <a:pt x="218" y="864"/>
                      </a:lnTo>
                      <a:lnTo>
                        <a:pt x="34" y="864"/>
                      </a:lnTo>
                      <a:lnTo>
                        <a:pt x="0" y="831"/>
                      </a:lnTo>
                      <a:lnTo>
                        <a:pt x="0" y="678"/>
                      </a:lnTo>
                      <a:lnTo>
                        <a:pt x="34" y="618"/>
                      </a:lnTo>
                      <a:lnTo>
                        <a:pt x="34" y="246"/>
                      </a:lnTo>
                      <a:lnTo>
                        <a:pt x="0" y="186"/>
                      </a:lnTo>
                    </a:path>
                  </a:pathLst>
                </a:custGeom>
                <a:gradFill rotWithShape="0">
                  <a:gsLst>
                    <a:gs pos="0">
                      <a:srgbClr val="ccff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394440" y="3365640"/>
                  <a:ext cx="232920" cy="497520"/>
                </a:xfrm>
                <a:custGeom>
                  <a:avLst/>
                  <a:gdLst/>
                  <a:ahLst/>
                  <a:rect l="l" t="t" r="r" b="b"/>
                  <a:pathLst>
                    <a:path w="403" h="864">
                      <a:moveTo>
                        <a:pt x="0" y="307"/>
                      </a:moveTo>
                      <a:lnTo>
                        <a:pt x="184" y="307"/>
                      </a:lnTo>
                      <a:lnTo>
                        <a:pt x="184" y="0"/>
                      </a:lnTo>
                      <a:lnTo>
                        <a:pt x="0" y="0"/>
                      </a:lnTo>
                      <a:lnTo>
                        <a:pt x="0" y="307"/>
                      </a:lnTo>
                      <a:close/>
                      <a:moveTo>
                        <a:pt x="219" y="307"/>
                      </a:moveTo>
                      <a:lnTo>
                        <a:pt x="403" y="307"/>
                      </a:lnTo>
                      <a:lnTo>
                        <a:pt x="403" y="0"/>
                      </a:lnTo>
                      <a:lnTo>
                        <a:pt x="219" y="0"/>
                      </a:lnTo>
                      <a:lnTo>
                        <a:pt x="219" y="307"/>
                      </a:lnTo>
                      <a:close/>
                      <a:moveTo>
                        <a:pt x="0" y="864"/>
                      </a:moveTo>
                      <a:lnTo>
                        <a:pt x="403" y="864"/>
                      </a:lnTo>
                      <a:lnTo>
                        <a:pt x="403" y="553"/>
                      </a:lnTo>
                      <a:lnTo>
                        <a:pt x="0" y="553"/>
                      </a:lnTo>
                      <a:lnTo>
                        <a:pt x="0" y="8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ff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394440" y="3648600"/>
                  <a:ext cx="23292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394440" y="3632760"/>
                  <a:ext cx="23292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394440" y="3614400"/>
                  <a:ext cx="23292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394440" y="3595320"/>
                  <a:ext cx="23292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394440" y="3579840"/>
                  <a:ext cx="232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521160" y="3408120"/>
                  <a:ext cx="10656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521160" y="3498840"/>
                  <a:ext cx="10656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521160" y="3453840"/>
                  <a:ext cx="10656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394440" y="3408120"/>
                  <a:ext cx="10584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94440" y="3498840"/>
                  <a:ext cx="10584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394440" y="3453840"/>
                  <a:ext cx="10584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394440" y="3818160"/>
                  <a:ext cx="232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394440" y="3772440"/>
                  <a:ext cx="23292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394440" y="3729960"/>
                  <a:ext cx="23292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549600" y="3684240"/>
                  <a:ext cx="720" cy="178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472200" y="3684240"/>
                  <a:ext cx="720" cy="178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3034080" y="3074400"/>
                <a:ext cx="58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Teléfon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19120" y="2853360"/>
                <a:ext cx="1002600" cy="932040"/>
              </a:xfrm>
              <a:custGeom>
                <a:avLst/>
                <a:gdLst/>
                <a:ahLst/>
                <a:rect l="l" t="t" r="r" b="b"/>
                <a:pathLst>
                  <a:path w="1736" h="1616">
                    <a:moveTo>
                      <a:pt x="0" y="1212"/>
                    </a:moveTo>
                    <a:lnTo>
                      <a:pt x="323" y="1212"/>
                    </a:lnTo>
                    <a:lnTo>
                      <a:pt x="597" y="1263"/>
                    </a:lnTo>
                    <a:lnTo>
                      <a:pt x="597" y="1314"/>
                    </a:lnTo>
                    <a:lnTo>
                      <a:pt x="323" y="1314"/>
                    </a:lnTo>
                    <a:lnTo>
                      <a:pt x="323" y="1366"/>
                    </a:lnTo>
                    <a:lnTo>
                      <a:pt x="110" y="1366"/>
                    </a:lnTo>
                    <a:lnTo>
                      <a:pt x="110" y="1616"/>
                    </a:lnTo>
                    <a:lnTo>
                      <a:pt x="1626" y="1616"/>
                    </a:lnTo>
                    <a:lnTo>
                      <a:pt x="1626" y="1366"/>
                    </a:lnTo>
                    <a:lnTo>
                      <a:pt x="1408" y="1366"/>
                    </a:lnTo>
                    <a:lnTo>
                      <a:pt x="1408" y="1314"/>
                    </a:lnTo>
                    <a:lnTo>
                      <a:pt x="1139" y="1314"/>
                    </a:lnTo>
                    <a:lnTo>
                      <a:pt x="1139" y="1263"/>
                    </a:lnTo>
                    <a:lnTo>
                      <a:pt x="1408" y="1212"/>
                    </a:lnTo>
                    <a:lnTo>
                      <a:pt x="1736" y="1212"/>
                    </a:lnTo>
                    <a:lnTo>
                      <a:pt x="1736" y="0"/>
                    </a:lnTo>
                    <a:lnTo>
                      <a:pt x="0" y="0"/>
                    </a:lnTo>
                    <a:lnTo>
                      <a:pt x="0" y="1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305960" y="3641400"/>
                <a:ext cx="62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464000" y="3610800"/>
                <a:ext cx="312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464000" y="3581640"/>
                <a:ext cx="312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305960" y="3552480"/>
                <a:ext cx="6260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96520" y="2941560"/>
                <a:ext cx="829800" cy="830520"/>
              </a:xfrm>
              <a:custGeom>
                <a:avLst/>
                <a:gdLst/>
                <a:ahLst/>
                <a:rect l="l" t="t" r="r" b="b"/>
                <a:pathLst>
                  <a:path w="1438" h="1440">
                    <a:moveTo>
                      <a:pt x="140" y="1301"/>
                    </a:moveTo>
                    <a:lnTo>
                      <a:pt x="408" y="1301"/>
                    </a:lnTo>
                    <a:lnTo>
                      <a:pt x="408" y="1264"/>
                    </a:lnTo>
                    <a:lnTo>
                      <a:pt x="140" y="1264"/>
                    </a:lnTo>
                    <a:lnTo>
                      <a:pt x="140" y="1301"/>
                    </a:lnTo>
                    <a:close/>
                    <a:moveTo>
                      <a:pt x="55" y="1440"/>
                    </a:moveTo>
                    <a:lnTo>
                      <a:pt x="110" y="1389"/>
                    </a:lnTo>
                    <a:lnTo>
                      <a:pt x="55" y="1338"/>
                    </a:lnTo>
                    <a:lnTo>
                      <a:pt x="0" y="1389"/>
                    </a:lnTo>
                    <a:lnTo>
                      <a:pt x="55" y="1440"/>
                    </a:lnTo>
                    <a:close/>
                    <a:moveTo>
                      <a:pt x="140" y="808"/>
                    </a:moveTo>
                    <a:lnTo>
                      <a:pt x="140" y="98"/>
                    </a:lnTo>
                    <a:lnTo>
                      <a:pt x="1328" y="98"/>
                    </a:lnTo>
                    <a:lnTo>
                      <a:pt x="1328" y="808"/>
                    </a:lnTo>
                    <a:lnTo>
                      <a:pt x="140" y="808"/>
                    </a:lnTo>
                    <a:close/>
                    <a:moveTo>
                      <a:pt x="85" y="883"/>
                    </a:moveTo>
                    <a:lnTo>
                      <a:pt x="1408" y="883"/>
                    </a:lnTo>
                    <a:lnTo>
                      <a:pt x="1408" y="51"/>
                    </a:lnTo>
                    <a:lnTo>
                      <a:pt x="1438" y="51"/>
                    </a:lnTo>
                    <a:lnTo>
                      <a:pt x="1438" y="0"/>
                    </a:lnTo>
                    <a:lnTo>
                      <a:pt x="30" y="0"/>
                    </a:lnTo>
                    <a:lnTo>
                      <a:pt x="30" y="911"/>
                    </a:lnTo>
                    <a:lnTo>
                      <a:pt x="85" y="911"/>
                    </a:lnTo>
                    <a:lnTo>
                      <a:pt x="85" y="883"/>
                    </a:lnTo>
                    <a:close/>
                    <a:moveTo>
                      <a:pt x="1358" y="1008"/>
                    </a:moveTo>
                    <a:lnTo>
                      <a:pt x="1438" y="1008"/>
                    </a:lnTo>
                    <a:lnTo>
                      <a:pt x="1438" y="985"/>
                    </a:lnTo>
                    <a:lnTo>
                      <a:pt x="1358" y="985"/>
                    </a:lnTo>
                    <a:lnTo>
                      <a:pt x="1358" y="1008"/>
                    </a:lnTo>
                    <a:close/>
                  </a:path>
                </a:pathLst>
              </a:custGeom>
              <a:solidFill>
                <a:srgbClr val="ff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291920" y="3742200"/>
                <a:ext cx="125640" cy="212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182480" y="3670560"/>
                <a:ext cx="87552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82480" y="3691440"/>
                <a:ext cx="87552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291920" y="3704760"/>
                <a:ext cx="13680" cy="2412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24" y="0"/>
                    </a:moveTo>
                    <a:lnTo>
                      <a:pt x="0" y="23"/>
                    </a:lnTo>
                    <a:lnTo>
                      <a:pt x="24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86600" y="370476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25" y="0"/>
                    </a:moveTo>
                    <a:lnTo>
                      <a:pt x="0" y="23"/>
                    </a:lnTo>
                    <a:lnTo>
                      <a:pt x="25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432320" y="3750480"/>
                <a:ext cx="13680" cy="212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5" y="0"/>
                    </a:moveTo>
                    <a:lnTo>
                      <a:pt x="0" y="19"/>
                    </a:lnTo>
                    <a:lnTo>
                      <a:pt x="25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78040" y="3704760"/>
                <a:ext cx="17640" cy="2412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0"/>
                    </a:moveTo>
                    <a:lnTo>
                      <a:pt x="0" y="23"/>
                    </a:lnTo>
                    <a:lnTo>
                      <a:pt x="30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526640" y="3750480"/>
                <a:ext cx="14400" cy="212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5" y="0"/>
                    </a:moveTo>
                    <a:lnTo>
                      <a:pt x="0" y="19"/>
                    </a:lnTo>
                    <a:lnTo>
                      <a:pt x="25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73080" y="3704760"/>
                <a:ext cx="13680" cy="2412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25" y="0"/>
                    </a:moveTo>
                    <a:lnTo>
                      <a:pt x="0" y="23"/>
                    </a:lnTo>
                    <a:lnTo>
                      <a:pt x="25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18080" y="3750480"/>
                <a:ext cx="17640" cy="2124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30" y="0"/>
                    </a:moveTo>
                    <a:lnTo>
                      <a:pt x="0" y="19"/>
                    </a:lnTo>
                    <a:lnTo>
                      <a:pt x="30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67760" y="370476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25" y="0"/>
                    </a:moveTo>
                    <a:lnTo>
                      <a:pt x="0" y="23"/>
                    </a:lnTo>
                    <a:lnTo>
                      <a:pt x="25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4200" y="3750480"/>
                <a:ext cx="13320" cy="212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24" y="0"/>
                    </a:moveTo>
                    <a:lnTo>
                      <a:pt x="0" y="19"/>
                    </a:lnTo>
                    <a:lnTo>
                      <a:pt x="24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59200" y="3704760"/>
                <a:ext cx="17640" cy="2412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0"/>
                    </a:moveTo>
                    <a:lnTo>
                      <a:pt x="0" y="23"/>
                    </a:lnTo>
                    <a:lnTo>
                      <a:pt x="30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808880" y="3750480"/>
                <a:ext cx="13680" cy="212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5" y="0"/>
                    </a:moveTo>
                    <a:lnTo>
                      <a:pt x="0" y="19"/>
                    </a:lnTo>
                    <a:lnTo>
                      <a:pt x="25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854600" y="3704760"/>
                <a:ext cx="13680" cy="2412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25" y="0"/>
                    </a:moveTo>
                    <a:lnTo>
                      <a:pt x="0" y="23"/>
                    </a:lnTo>
                    <a:lnTo>
                      <a:pt x="25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900320" y="3750480"/>
                <a:ext cx="17640" cy="2124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30" y="0"/>
                    </a:moveTo>
                    <a:lnTo>
                      <a:pt x="0" y="19"/>
                    </a:lnTo>
                    <a:lnTo>
                      <a:pt x="30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949280" y="3704760"/>
                <a:ext cx="13680" cy="2412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25" y="0"/>
                    </a:moveTo>
                    <a:lnTo>
                      <a:pt x="0" y="23"/>
                    </a:lnTo>
                    <a:lnTo>
                      <a:pt x="25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994640" y="3750480"/>
                <a:ext cx="14400" cy="2124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5" y="0"/>
                    </a:moveTo>
                    <a:lnTo>
                      <a:pt x="0" y="19"/>
                    </a:lnTo>
                    <a:lnTo>
                      <a:pt x="25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098960" y="3822840"/>
                <a:ext cx="1045800" cy="1501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975840" y="2617200"/>
                <a:ext cx="1294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Estación de trabaj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3441600" y="4173480"/>
                <a:ext cx="1485720" cy="852120"/>
                <a:chOff x="3441600" y="4173480"/>
                <a:chExt cx="1485720" cy="85212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441600" y="4173480"/>
                  <a:ext cx="0" cy="85176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441600" y="5025240"/>
                  <a:ext cx="1485720" cy="36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013280" y="5024880"/>
                <a:ext cx="82584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Conectores RJ - 45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927680" y="5139360"/>
                <a:ext cx="0" cy="342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55800" y="3998880"/>
                <a:ext cx="914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Conector RJ 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203720" y="3996360"/>
                <a:ext cx="914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Conector RJ 4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668400" y="4544280"/>
                <a:ext cx="563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Wall Cord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2" name=""/>
              <p:cNvGrpSpPr/>
              <p:nvPr/>
            </p:nvGrpSpPr>
            <p:grpSpPr>
              <a:xfrm>
                <a:off x="4812840" y="4739400"/>
                <a:ext cx="456840" cy="342720"/>
                <a:chOff x="4812840" y="4739400"/>
                <a:chExt cx="456840" cy="342720"/>
              </a:xfrm>
            </p:grpSpPr>
            <p:sp>
              <p:nvSpPr>
                <p:cNvPr id="623" name=""/>
                <p:cNvSpPr/>
                <p:nvPr/>
              </p:nvSpPr>
              <p:spPr>
                <a:xfrm rot="5400000">
                  <a:off x="4869720" y="4682160"/>
                  <a:ext cx="342720" cy="456840"/>
                </a:xfrm>
                <a:prstGeom prst="bevel">
                  <a:avLst>
                    <a:gd name="adj" fmla="val 12500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5400000">
                  <a:off x="4929480" y="4767480"/>
                  <a:ext cx="191880" cy="306000"/>
                </a:xfrm>
                <a:custGeom>
                  <a:avLst/>
                  <a:gdLst/>
                  <a:ahLst/>
                  <a:rect l="l" t="t" r="r" b="b"/>
                  <a:pathLst>
                    <a:path w="443" h="664">
                      <a:moveTo>
                        <a:pt x="95" y="181"/>
                      </a:moveTo>
                      <a:lnTo>
                        <a:pt x="104" y="135"/>
                      </a:lnTo>
                      <a:lnTo>
                        <a:pt x="134" y="98"/>
                      </a:lnTo>
                      <a:lnTo>
                        <a:pt x="174" y="70"/>
                      </a:lnTo>
                      <a:lnTo>
                        <a:pt x="224" y="60"/>
                      </a:lnTo>
                      <a:lnTo>
                        <a:pt x="269" y="70"/>
                      </a:lnTo>
                      <a:lnTo>
                        <a:pt x="308" y="98"/>
                      </a:lnTo>
                      <a:lnTo>
                        <a:pt x="338" y="135"/>
                      </a:lnTo>
                      <a:lnTo>
                        <a:pt x="348" y="181"/>
                      </a:lnTo>
                      <a:lnTo>
                        <a:pt x="338" y="228"/>
                      </a:lnTo>
                      <a:lnTo>
                        <a:pt x="308" y="265"/>
                      </a:lnTo>
                      <a:lnTo>
                        <a:pt x="269" y="293"/>
                      </a:lnTo>
                      <a:lnTo>
                        <a:pt x="224" y="302"/>
                      </a:lnTo>
                      <a:lnTo>
                        <a:pt x="174" y="293"/>
                      </a:lnTo>
                      <a:lnTo>
                        <a:pt x="134" y="265"/>
                      </a:lnTo>
                      <a:lnTo>
                        <a:pt x="104" y="228"/>
                      </a:lnTo>
                      <a:lnTo>
                        <a:pt x="95" y="181"/>
                      </a:lnTo>
                      <a:close/>
                      <a:moveTo>
                        <a:pt x="159" y="107"/>
                      </a:moveTo>
                      <a:lnTo>
                        <a:pt x="159" y="228"/>
                      </a:lnTo>
                      <a:lnTo>
                        <a:pt x="189" y="228"/>
                      </a:lnTo>
                      <a:lnTo>
                        <a:pt x="189" y="242"/>
                      </a:lnTo>
                      <a:lnTo>
                        <a:pt x="204" y="242"/>
                      </a:lnTo>
                      <a:lnTo>
                        <a:pt x="204" y="256"/>
                      </a:lnTo>
                      <a:lnTo>
                        <a:pt x="239" y="256"/>
                      </a:lnTo>
                      <a:lnTo>
                        <a:pt x="239" y="242"/>
                      </a:lnTo>
                      <a:lnTo>
                        <a:pt x="254" y="242"/>
                      </a:lnTo>
                      <a:lnTo>
                        <a:pt x="254" y="228"/>
                      </a:lnTo>
                      <a:lnTo>
                        <a:pt x="284" y="228"/>
                      </a:lnTo>
                      <a:lnTo>
                        <a:pt x="284" y="107"/>
                      </a:lnTo>
                      <a:lnTo>
                        <a:pt x="159" y="107"/>
                      </a:lnTo>
                      <a:close/>
                      <a:moveTo>
                        <a:pt x="159" y="409"/>
                      </a:moveTo>
                      <a:lnTo>
                        <a:pt x="159" y="530"/>
                      </a:lnTo>
                      <a:lnTo>
                        <a:pt x="189" y="530"/>
                      </a:lnTo>
                      <a:lnTo>
                        <a:pt x="189" y="544"/>
                      </a:lnTo>
                      <a:lnTo>
                        <a:pt x="204" y="544"/>
                      </a:lnTo>
                      <a:lnTo>
                        <a:pt x="204" y="558"/>
                      </a:lnTo>
                      <a:lnTo>
                        <a:pt x="239" y="558"/>
                      </a:lnTo>
                      <a:lnTo>
                        <a:pt x="239" y="544"/>
                      </a:lnTo>
                      <a:lnTo>
                        <a:pt x="254" y="544"/>
                      </a:lnTo>
                      <a:lnTo>
                        <a:pt x="254" y="530"/>
                      </a:lnTo>
                      <a:lnTo>
                        <a:pt x="284" y="530"/>
                      </a:lnTo>
                      <a:lnTo>
                        <a:pt x="284" y="409"/>
                      </a:lnTo>
                      <a:lnTo>
                        <a:pt x="159" y="409"/>
                      </a:lnTo>
                      <a:close/>
                      <a:moveTo>
                        <a:pt x="95" y="483"/>
                      </a:moveTo>
                      <a:lnTo>
                        <a:pt x="104" y="437"/>
                      </a:lnTo>
                      <a:lnTo>
                        <a:pt x="134" y="400"/>
                      </a:lnTo>
                      <a:lnTo>
                        <a:pt x="174" y="372"/>
                      </a:lnTo>
                      <a:lnTo>
                        <a:pt x="224" y="362"/>
                      </a:lnTo>
                      <a:lnTo>
                        <a:pt x="269" y="372"/>
                      </a:lnTo>
                      <a:lnTo>
                        <a:pt x="308" y="400"/>
                      </a:lnTo>
                      <a:lnTo>
                        <a:pt x="338" y="437"/>
                      </a:lnTo>
                      <a:lnTo>
                        <a:pt x="348" y="483"/>
                      </a:lnTo>
                      <a:lnTo>
                        <a:pt x="338" y="530"/>
                      </a:lnTo>
                      <a:lnTo>
                        <a:pt x="308" y="567"/>
                      </a:lnTo>
                      <a:lnTo>
                        <a:pt x="269" y="595"/>
                      </a:lnTo>
                      <a:lnTo>
                        <a:pt x="224" y="604"/>
                      </a:lnTo>
                      <a:lnTo>
                        <a:pt x="174" y="595"/>
                      </a:lnTo>
                      <a:lnTo>
                        <a:pt x="134" y="567"/>
                      </a:lnTo>
                      <a:lnTo>
                        <a:pt x="104" y="530"/>
                      </a:lnTo>
                      <a:lnTo>
                        <a:pt x="95" y="483"/>
                      </a:lnTo>
                      <a:close/>
                      <a:moveTo>
                        <a:pt x="0" y="664"/>
                      </a:moveTo>
                      <a:lnTo>
                        <a:pt x="443" y="664"/>
                      </a:lnTo>
                      <a:lnTo>
                        <a:pt x="443" y="0"/>
                      </a:lnTo>
                      <a:lnTo>
                        <a:pt x="0" y="0"/>
                      </a:lnTo>
                      <a:lnTo>
                        <a:pt x="0" y="664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4356000" y="4173480"/>
                <a:ext cx="456840" cy="622440"/>
                <a:chOff x="4356000" y="4173480"/>
                <a:chExt cx="456840" cy="6224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4356000" y="4173480"/>
                  <a:ext cx="0" cy="62244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356000" y="4795920"/>
                  <a:ext cx="456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1727280" y="6510960"/>
                <a:ext cx="3543120" cy="0"/>
              </a:xfrm>
              <a:prstGeom prst="line">
                <a:avLst/>
              </a:prstGeom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612800" y="5475600"/>
                <a:ext cx="91404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1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3 m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6200000">
                <a:off x="4037760" y="4748400"/>
                <a:ext cx="103320" cy="2057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609400">
                <a:off x="2755440" y="5622480"/>
                <a:ext cx="103320" cy="78768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rot="10800000">
                <a:off x="5040720" y="5104440"/>
                <a:ext cx="75960" cy="6843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441600" y="4440600"/>
                <a:ext cx="83808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CABLEADO ESTRUCURAD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tes de 1.984: redes independientes para cada servicio, múltiples tecnologías propietarias e incompatibles, diferentes formas de conexión, conectores, cables,  etc... = DESOR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1.984 EIA/TIA/IEEE/BICSI (Building Industry Consultants). Se unen para estandariz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BJETIVO Y ALCANCE: Definir las normas de un esquema de cableado para integrar:datos, voz, video, multimedia, seguridad y otros servi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AREA DE TRABAJ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5438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CABLEADO VERTICAL (BACKBONE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rconecta los closet de telecomunicaciones, el cuarto de equipos y la acomet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mantiene la topología de estrel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acepta cable UTP, STP, y fibra óptica monomodo y multimo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áximas distancias entre crosconexión principal y closet de telecomunic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P (voz): 800 mts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.O. multimodo: 2000 m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TP (voz): 700 mts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.O. monomodo: 3000 m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P (datos): 90 m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acepta el multipar UT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áximo dos niveles jerárquicos de crosconexión: principal e interme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áximo una crosconexión entre el principal y el clo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más de tres crosconexiones entre dos crosconectores horizon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CABLEADO VERTICA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20108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CABLEADO VERTICA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33920" y="914400"/>
            <a:ext cx="1600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480" y="4876920"/>
            <a:ext cx="1600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8120" y="4800600"/>
            <a:ext cx="1600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181480" y="4800600"/>
            <a:ext cx="1600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86600" y="4800600"/>
            <a:ext cx="1600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00800" y="2971800"/>
            <a:ext cx="1600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76880" y="838080"/>
            <a:ext cx="18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scon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343760" y="2895480"/>
            <a:ext cx="18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scon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2760" y="5764320"/>
            <a:ext cx="227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rt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1447920" y="1600200"/>
            <a:ext cx="304776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809520" y="1600200"/>
            <a:ext cx="6858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1600200"/>
            <a:ext cx="2667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6019560" y="3657600"/>
            <a:ext cx="10666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086600" y="365760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664720" y="5791320"/>
            <a:ext cx="227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rt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874760" y="5791320"/>
            <a:ext cx="227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rt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000200" y="5791320"/>
            <a:ext cx="227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rt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CABLEADO VERTICA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87376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CUARTO DE TELECOMUNICACIONE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tiende un piso concentrando los puntos del área de trabajo y los equipos intermedios. Terminación del cableado horizon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ínimo uno por piso o cada 1000mts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ueden tener varios cuando  si se supera la distancia al puesto de trabajo de 90m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erca al centro del área serv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n cielorra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rta: ancho mínimo: 91cms. Alto 2 m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define el tipo de cable de crosconexión pero la combinación del patch cord, cables a equipos y el wall cord no debe exceder los 10 m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CUARTO DE TELECOMUNICACIONE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define el tipo de cable de crosconexión pero la combinación del patch cord, cables a equipos y el wall cord no debe exceder los 10 m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crossconexión se puede hacer de dos form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Directamente al equi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A través de patch panel al equi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ínimo dos salidas eléctricas dobles a 120 V, 20A en circuitos difer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6028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602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557360" y="333360"/>
            <a:ext cx="6029280" cy="6434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ESQUEMAS DE CONEXIÓ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028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02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rack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620120" cy="382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CUARTO DE TELECOMUNICACIONE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962520" cy="54864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62088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CABLEADO ESTRUCURAD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icialmente ANSI/EIA/TIA crean normas: 569 (1990), 568 (1991),  568A (1995) Commercial Building Telecommunicatins Cabling Standard. TSB (Telecommunications Systems Bulletings) 36 (Cable), TSB 40(Hardware de conexión), TSB40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rma actual (abril – 2006): 568B (2003): 568B.1, 568B.2 y 568B.3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ambién se conoce como ISO 118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CUARTO DE TELECOMUNICACIONE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CUARTO DE EQUIPO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e permitir expansión y fácil acceso a equipos gran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encima del nivel del agu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ejado de fuentes EMI (Electro Magnetic Interferen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vibració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debe albergar equipos no relacion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tegido de polución y contamin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ácil acceso a los ductos y buitrones de distribución del edif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iches de encendido de luz a la entr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uz mínima 500 lx (50 candles por pie). 1 Lux = 0.1 ft-cand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mperatura entre 18 y 24 C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umedad relativa entre 30% y 55% medida a 1.5 mts del pi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rta: ancho mínimo: 91cms. Alto 2 m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250920" y="271440"/>
            <a:ext cx="8569080" cy="637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ACOMETIDA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la entrada al edificio  y la conexión al backbone entre edi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ende el cable, las protecciones y elementos de  conex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debe haber equipo no relacion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mismo aterrizaje a tierra y suministro eléctrico que el de los cuartos de tele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tio seco sin posibilidades de inund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JO!!!: Se debe prestar atención a la acometida, principalmente cuando es compartida en un edificio con múltiples empresas.  Se presta para vulnerabilidad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609480" y="1143000"/>
            <a:ext cx="4724280" cy="3809880"/>
            <a:chOff x="609480" y="1143000"/>
            <a:chExt cx="4724280" cy="3809880"/>
          </a:xfrm>
        </p:grpSpPr>
        <p:sp>
          <p:nvSpPr>
            <p:cNvPr id="682" name=""/>
            <p:cNvSpPr/>
            <p:nvPr/>
          </p:nvSpPr>
          <p:spPr>
            <a:xfrm>
              <a:off x="2133360" y="3657600"/>
              <a:ext cx="1130400" cy="1218960"/>
            </a:xfrm>
            <a:custGeom>
              <a:avLst/>
              <a:gdLst/>
              <a:ahLst/>
              <a:rect l="l" t="t" r="r" b="b"/>
              <a:pathLst>
                <a:path w="712" h="768">
                  <a:moveTo>
                    <a:pt x="0" y="768"/>
                  </a:moveTo>
                  <a:cubicBezTo>
                    <a:pt x="160" y="748"/>
                    <a:pt x="320" y="728"/>
                    <a:pt x="432" y="672"/>
                  </a:cubicBezTo>
                  <a:cubicBezTo>
                    <a:pt x="544" y="616"/>
                    <a:pt x="632" y="512"/>
                    <a:pt x="672" y="432"/>
                  </a:cubicBezTo>
                  <a:cubicBezTo>
                    <a:pt x="712" y="352"/>
                    <a:pt x="688" y="264"/>
                    <a:pt x="672" y="192"/>
                  </a:cubicBezTo>
                  <a:cubicBezTo>
                    <a:pt x="656" y="120"/>
                    <a:pt x="592" y="32"/>
                    <a:pt x="576" y="0"/>
                  </a:cubicBezTo>
                </a:path>
              </a:pathLst>
            </a:custGeom>
            <a:noFill/>
            <a:ln w="38160">
              <a:solidFill>
                <a:srgbClr val="e5e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09680" y="2971800"/>
              <a:ext cx="914400" cy="761760"/>
            </a:xfrm>
            <a:prstGeom prst="line">
              <a:avLst/>
            </a:prstGeom>
            <a:ln w="38160">
              <a:solidFill>
                <a:srgbClr val="e5e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60360" y="3124080"/>
              <a:ext cx="1994040" cy="939960"/>
            </a:xfrm>
            <a:custGeom>
              <a:avLst/>
              <a:gdLst/>
              <a:ahLst/>
              <a:rect l="l" t="t" r="r" b="b"/>
              <a:pathLst>
                <a:path w="1256" h="592">
                  <a:moveTo>
                    <a:pt x="1144" y="0"/>
                  </a:moveTo>
                  <a:cubicBezTo>
                    <a:pt x="1188" y="12"/>
                    <a:pt x="1232" y="24"/>
                    <a:pt x="1240" y="96"/>
                  </a:cubicBezTo>
                  <a:cubicBezTo>
                    <a:pt x="1248" y="168"/>
                    <a:pt x="1256" y="352"/>
                    <a:pt x="1192" y="432"/>
                  </a:cubicBezTo>
                  <a:cubicBezTo>
                    <a:pt x="1128" y="512"/>
                    <a:pt x="992" y="560"/>
                    <a:pt x="856" y="576"/>
                  </a:cubicBezTo>
                  <a:cubicBezTo>
                    <a:pt x="720" y="592"/>
                    <a:pt x="519" y="565"/>
                    <a:pt x="376" y="528"/>
                  </a:cubicBezTo>
                  <a:cubicBezTo>
                    <a:pt x="233" y="491"/>
                    <a:pt x="116" y="421"/>
                    <a:pt x="0" y="352"/>
                  </a:cubicBezTo>
                </a:path>
              </a:pathLst>
            </a:custGeom>
            <a:noFill/>
            <a:ln w="38160">
              <a:solidFill>
                <a:srgbClr val="e5e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609480" y="1371600"/>
              <a:ext cx="2133360" cy="1676160"/>
              <a:chOff x="609480" y="1371600"/>
              <a:chExt cx="2133360" cy="1676160"/>
            </a:xfrm>
          </p:grpSpPr>
          <p:grpSp>
            <p:nvGrpSpPr>
              <p:cNvPr id="686" name=""/>
              <p:cNvGrpSpPr/>
              <p:nvPr/>
            </p:nvGrpSpPr>
            <p:grpSpPr>
              <a:xfrm>
                <a:off x="609480" y="2207160"/>
                <a:ext cx="2133360" cy="535320"/>
                <a:chOff x="609480" y="2207160"/>
                <a:chExt cx="2133360" cy="5353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609480" y="2207160"/>
                  <a:ext cx="2133360" cy="535320"/>
                </a:xfrm>
                <a:prstGeom prst="parallelogram">
                  <a:avLst>
                    <a:gd name="adj" fmla="val 9963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987200" y="2614680"/>
                  <a:ext cx="355320" cy="127800"/>
                </a:xfrm>
                <a:prstGeom prst="parallelogram">
                  <a:avLst>
                    <a:gd name="adj" fmla="val 102446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609480" y="2512080"/>
                <a:ext cx="2133360" cy="535320"/>
                <a:chOff x="609480" y="2512080"/>
                <a:chExt cx="2133360" cy="5353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09480" y="2512080"/>
                  <a:ext cx="2133360" cy="535320"/>
                </a:xfrm>
                <a:prstGeom prst="parallelogram">
                  <a:avLst>
                    <a:gd name="adj" fmla="val 9963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742760" y="2919600"/>
                  <a:ext cx="599760" cy="127800"/>
                </a:xfrm>
                <a:prstGeom prst="parallelogram">
                  <a:avLst>
                    <a:gd name="adj" fmla="val 105374"/>
                  </a:avLst>
                </a:prstGeom>
                <a:solidFill>
                  <a:srgbClr val="b5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" name=""/>
              <p:cNvSpPr/>
              <p:nvPr/>
            </p:nvSpPr>
            <p:spPr>
              <a:xfrm>
                <a:off x="609480" y="1920960"/>
                <a:ext cx="0" cy="11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1142280" y="1375560"/>
                <a:ext cx="360" cy="11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739600" y="1371600"/>
                <a:ext cx="3240" cy="11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"/>
              <p:cNvGrpSpPr/>
              <p:nvPr/>
            </p:nvGrpSpPr>
            <p:grpSpPr>
              <a:xfrm>
                <a:off x="609480" y="1927080"/>
                <a:ext cx="2133360" cy="535320"/>
                <a:chOff x="609480" y="1927080"/>
                <a:chExt cx="2133360" cy="53532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609480" y="1927080"/>
                  <a:ext cx="2133360" cy="535320"/>
                </a:xfrm>
                <a:prstGeom prst="parallelogram">
                  <a:avLst>
                    <a:gd name="adj" fmla="val 9963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987200" y="2334600"/>
                  <a:ext cx="355320" cy="127800"/>
                </a:xfrm>
                <a:prstGeom prst="parallelogram">
                  <a:avLst>
                    <a:gd name="adj" fmla="val 102446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609480" y="1646640"/>
                <a:ext cx="2133360" cy="535320"/>
                <a:chOff x="609480" y="1646640"/>
                <a:chExt cx="2133360" cy="53532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609480" y="1646640"/>
                  <a:ext cx="2133360" cy="535320"/>
                </a:xfrm>
                <a:prstGeom prst="parallelogram">
                  <a:avLst>
                    <a:gd name="adj" fmla="val 9963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987200" y="2054160"/>
                  <a:ext cx="355320" cy="127800"/>
                </a:xfrm>
                <a:prstGeom prst="parallelogram">
                  <a:avLst>
                    <a:gd name="adj" fmla="val 102446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609480" y="1372680"/>
                <a:ext cx="2133360" cy="535320"/>
              </a:xfrm>
              <a:prstGeom prst="parallelogram">
                <a:avLst>
                  <a:gd name="adj" fmla="val 996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257560" y="2107440"/>
                <a:ext cx="0" cy="88128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2161080" y="2988720"/>
                <a:ext cx="96480" cy="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2161080" y="2665800"/>
                <a:ext cx="96480" cy="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161080" y="2401200"/>
                <a:ext cx="96480" cy="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2161080" y="2107440"/>
                <a:ext cx="96480" cy="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208960" y="1908000"/>
                <a:ext cx="360" cy="113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09480" y="3504960"/>
              <a:ext cx="1981080" cy="1447920"/>
              <a:chOff x="609480" y="3504960"/>
              <a:chExt cx="1981080" cy="14479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609480" y="4227120"/>
                <a:ext cx="1981080" cy="462240"/>
                <a:chOff x="609480" y="4227120"/>
                <a:chExt cx="1981080" cy="46224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609480" y="4227120"/>
                  <a:ext cx="1981080" cy="462240"/>
                </a:xfrm>
                <a:prstGeom prst="parallelogram">
                  <a:avLst>
                    <a:gd name="adj" fmla="val 107146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888920" y="4579200"/>
                  <a:ext cx="330120" cy="110160"/>
                </a:xfrm>
                <a:prstGeom prst="parallelogram">
                  <a:avLst>
                    <a:gd name="adj" fmla="val 11042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609480" y="4490280"/>
                <a:ext cx="1981080" cy="462240"/>
                <a:chOff x="609480" y="4490280"/>
                <a:chExt cx="1981080" cy="4622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885320" y="4838400"/>
                  <a:ext cx="329760" cy="110520"/>
                </a:xfrm>
                <a:prstGeom prst="parallelogram">
                  <a:avLst>
                    <a:gd name="adj" fmla="val 10994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09480" y="4490280"/>
                  <a:ext cx="1981080" cy="462240"/>
                </a:xfrm>
                <a:prstGeom prst="parallelogram">
                  <a:avLst>
                    <a:gd name="adj" fmla="val 107146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609480" y="3979440"/>
                <a:ext cx="0" cy="9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1104480" y="3508560"/>
                <a:ext cx="720" cy="9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586960" y="3504960"/>
                <a:ext cx="3240" cy="9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8" name=""/>
              <p:cNvGrpSpPr/>
              <p:nvPr/>
            </p:nvGrpSpPr>
            <p:grpSpPr>
              <a:xfrm>
                <a:off x="609480" y="3984840"/>
                <a:ext cx="1981080" cy="462600"/>
                <a:chOff x="609480" y="3984840"/>
                <a:chExt cx="1981080" cy="46260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609480" y="3984840"/>
                  <a:ext cx="1981080" cy="462600"/>
                </a:xfrm>
                <a:prstGeom prst="parallelogram">
                  <a:avLst>
                    <a:gd name="adj" fmla="val 10706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888920" y="4336920"/>
                  <a:ext cx="330120" cy="110160"/>
                </a:xfrm>
                <a:prstGeom prst="parallelogram">
                  <a:avLst>
                    <a:gd name="adj" fmla="val 11042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609480" y="3742560"/>
                <a:ext cx="1981080" cy="462240"/>
                <a:chOff x="609480" y="3742560"/>
                <a:chExt cx="1981080" cy="46224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609480" y="3742560"/>
                  <a:ext cx="1981080" cy="462240"/>
                </a:xfrm>
                <a:prstGeom prst="parallelogram">
                  <a:avLst>
                    <a:gd name="adj" fmla="val 107146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888920" y="4094640"/>
                  <a:ext cx="330120" cy="110160"/>
                </a:xfrm>
                <a:prstGeom prst="parallelogram">
                  <a:avLst>
                    <a:gd name="adj" fmla="val 11042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609480" y="3505680"/>
                <a:ext cx="1981080" cy="462240"/>
              </a:xfrm>
              <a:prstGeom prst="parallelogram">
                <a:avLst>
                  <a:gd name="adj" fmla="val 107146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139840" y="4140360"/>
                <a:ext cx="0" cy="76140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2050200" y="4901760"/>
                <a:ext cx="88920" cy="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050200" y="4622760"/>
                <a:ext cx="88920" cy="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2050200" y="4394520"/>
                <a:ext cx="88920" cy="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2050200" y="4140360"/>
                <a:ext cx="88920" cy="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094120" y="3968280"/>
                <a:ext cx="720" cy="98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3504960" y="1904760"/>
              <a:ext cx="1828800" cy="1295280"/>
              <a:chOff x="3504960" y="1904760"/>
              <a:chExt cx="1828800" cy="129528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3504960" y="2423160"/>
                <a:ext cx="1828800" cy="495000"/>
                <a:chOff x="3504960" y="2423160"/>
                <a:chExt cx="1828800" cy="49500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504960" y="2423160"/>
                  <a:ext cx="1828800" cy="495000"/>
                </a:xfrm>
                <a:prstGeom prst="parallelogram">
                  <a:avLst>
                    <a:gd name="adj" fmla="val 92364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686120" y="2800080"/>
                  <a:ext cx="304560" cy="118080"/>
                </a:xfrm>
                <a:prstGeom prst="parallelogram">
                  <a:avLst>
                    <a:gd name="adj" fmla="val 95039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504960" y="2705040"/>
                <a:ext cx="1828800" cy="495000"/>
                <a:chOff x="3504960" y="2705040"/>
                <a:chExt cx="1828800" cy="4950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686120" y="3076920"/>
                  <a:ext cx="304560" cy="118080"/>
                </a:xfrm>
                <a:prstGeom prst="parallelogram">
                  <a:avLst>
                    <a:gd name="adj" fmla="val 95039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504960" y="2705040"/>
                  <a:ext cx="1828800" cy="495000"/>
                </a:xfrm>
                <a:prstGeom prst="parallelogram">
                  <a:avLst>
                    <a:gd name="adj" fmla="val 92364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8" name=""/>
              <p:cNvSpPr/>
              <p:nvPr/>
            </p:nvSpPr>
            <p:spPr>
              <a:xfrm>
                <a:off x="3504960" y="2388960"/>
                <a:ext cx="0" cy="81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958920" y="1904760"/>
                <a:ext cx="2880" cy="8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330520" y="1908720"/>
                <a:ext cx="2880" cy="80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3504960" y="2163960"/>
                <a:ext cx="1828800" cy="495360"/>
                <a:chOff x="3504960" y="2163960"/>
                <a:chExt cx="1828800" cy="49536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504960" y="2163960"/>
                  <a:ext cx="1828800" cy="495360"/>
                </a:xfrm>
                <a:prstGeom prst="parallelogram">
                  <a:avLst>
                    <a:gd name="adj" fmla="val 9229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686120" y="2541240"/>
                  <a:ext cx="304560" cy="118080"/>
                </a:xfrm>
                <a:prstGeom prst="parallelogram">
                  <a:avLst>
                    <a:gd name="adj" fmla="val 95039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3504960" y="1904760"/>
                <a:ext cx="1828800" cy="495000"/>
              </a:xfrm>
              <a:prstGeom prst="parallelogram">
                <a:avLst>
                  <a:gd name="adj" fmla="val 9236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914720" y="2592720"/>
                <a:ext cx="2880" cy="55260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4834800" y="3145680"/>
                <a:ext cx="82440" cy="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4834800" y="2846880"/>
                <a:ext cx="82440" cy="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4834800" y="2602440"/>
                <a:ext cx="82440" cy="0"/>
              </a:xfrm>
              <a:prstGeom prst="line">
                <a:avLst/>
              </a:prstGeom>
              <a:ln w="38160">
                <a:solidFill>
                  <a:srgbClr val="e53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875840" y="2400840"/>
                <a:ext cx="360" cy="79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2209680" y="297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5520" y="1143000"/>
              <a:ext cx="74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loque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66480" y="1676160"/>
              <a:ext cx="73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loque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22560" y="3276360"/>
              <a:ext cx="74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loque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5715000" y="914400"/>
            <a:ext cx="3124080" cy="5421960"/>
            <a:chOff x="5715000" y="914400"/>
            <a:chExt cx="3124080" cy="5421960"/>
          </a:xfrm>
        </p:grpSpPr>
        <p:sp>
          <p:nvSpPr>
            <p:cNvPr id="755" name=""/>
            <p:cNvSpPr/>
            <p:nvPr/>
          </p:nvSpPr>
          <p:spPr>
            <a:xfrm>
              <a:off x="5867280" y="1066680"/>
              <a:ext cx="457200" cy="0"/>
            </a:xfrm>
            <a:prstGeom prst="line">
              <a:avLst/>
            </a:prstGeom>
            <a:ln w="38160">
              <a:solidFill>
                <a:srgbClr val="e53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67280" y="2133720"/>
              <a:ext cx="457200" cy="0"/>
            </a:xfrm>
            <a:prstGeom prst="line">
              <a:avLst/>
            </a:prstGeom>
            <a:ln w="38160">
              <a:solidFill>
                <a:srgbClr val="e5e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24480" y="914400"/>
              <a:ext cx="2514600" cy="54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uctos para el cableado horizontal, por donde va un cable multipar y un cable de fibra optica por cada pis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uctos para el cableado entre edificios, por donde va un cable multipar y un cable de fibra optica por cada edifici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uartos de telecomunicaciones donde se encuentran los buitrones y los equipos para cada pis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entro de computo, donde están los equipos para interconectar los pisos ( y los bloques en el sitio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</a:t>
              </a:r>
              <a:r>
                <a:rPr b="0" lang="es-CO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ntral) a la LAN y los equipos para dar salida a la WA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019920" y="3352680"/>
              <a:ext cx="304560" cy="119160"/>
            </a:xfrm>
            <a:prstGeom prst="parallelogram">
              <a:avLst>
                <a:gd name="adj" fmla="val 9417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15000" y="4419720"/>
              <a:ext cx="600120" cy="126720"/>
            </a:xfrm>
            <a:prstGeom prst="parallelogram">
              <a:avLst>
                <a:gd name="adj" fmla="val 106336"/>
              </a:avLst>
            </a:prstGeom>
            <a:solidFill>
              <a:srgbClr val="b5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3292200" y="91584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de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200400" y="5257800"/>
            <a:ext cx="2133720" cy="838080"/>
            <a:chOff x="3200400" y="5257800"/>
            <a:chExt cx="2133720" cy="838080"/>
          </a:xfrm>
        </p:grpSpPr>
        <p:sp>
          <p:nvSpPr>
            <p:cNvPr id="762" name=""/>
            <p:cNvSpPr/>
            <p:nvPr/>
          </p:nvSpPr>
          <p:spPr>
            <a:xfrm>
              <a:off x="3200400" y="5257800"/>
              <a:ext cx="2133720" cy="536400"/>
            </a:xfrm>
            <a:prstGeom prst="parallelogram">
              <a:avLst>
                <a:gd name="adj" fmla="val 9944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3200400" y="5560920"/>
              <a:ext cx="2133720" cy="534960"/>
              <a:chOff x="3200400" y="5560920"/>
              <a:chExt cx="2133720" cy="534960"/>
            </a:xfrm>
          </p:grpSpPr>
          <p:sp>
            <p:nvSpPr>
              <p:cNvPr id="764" name=""/>
              <p:cNvSpPr/>
              <p:nvPr/>
            </p:nvSpPr>
            <p:spPr>
              <a:xfrm>
                <a:off x="3200400" y="5560920"/>
                <a:ext cx="2133720" cy="534960"/>
              </a:xfrm>
              <a:prstGeom prst="parallelogram">
                <a:avLst>
                  <a:gd name="adj" fmla="val 9971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334040" y="5968080"/>
                <a:ext cx="600120" cy="127440"/>
              </a:xfrm>
              <a:prstGeom prst="parallelogram">
                <a:avLst>
                  <a:gd name="adj" fmla="val 105735"/>
                </a:avLst>
              </a:prstGeom>
              <a:solidFill>
                <a:srgbClr val="b5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3200400" y="5790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33920" y="52578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34120" y="52578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00600" y="5790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663000" y="464832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ras s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ADMINISTRAC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recomienda la utilización de los siguientes compon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loque de conexión (66, 110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tch cord y jum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cación de los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apt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rutadores y organizadores de cable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ADMINISTRAC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50920" y="1066320"/>
            <a:ext cx="8642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NSI/TIA/EIA-6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lor co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range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arcation point (Central Office Terminati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reen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rmination of network conne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urple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mmon equip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White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rst level of 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ray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cond level of backbo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lue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orizontal cabl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rown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terbuilding backbo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Yellow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uxiliary circui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d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ey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ADMINISTRAC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776" name="" descr="TIA_EIA-606 Color Standard"/>
          <p:cNvPicPr/>
          <p:nvPr/>
        </p:nvPicPr>
        <p:blipFill>
          <a:blip r:embed="rId1"/>
          <a:stretch/>
        </p:blipFill>
        <p:spPr>
          <a:xfrm>
            <a:off x="1600200" y="457200"/>
            <a:ext cx="57499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SITIOS DE INTERE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www.siemon.com/stand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http://www.fols.org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iber Optics Lan Section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e5d093"/>
                </a:solidFill>
                <a:uFillTx/>
                <a:latin typeface="Tahoma"/>
                <a:hlinkClick r:id="rId3"/>
              </a:rPr>
              <a:t>http://www.tiaonline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e5d093"/>
                </a:solidFill>
                <a:uFillTx/>
                <a:latin typeface="Tahoma"/>
                <a:hlinkClick r:id="rId4"/>
              </a:rPr>
              <a:t>http://www.bicsi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e5d093"/>
                </a:solidFill>
                <a:uFillTx/>
                <a:latin typeface="Tahoma"/>
                <a:hlinkClick r:id="rId5"/>
              </a:rPr>
              <a:t>http://www.ieee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e5d093"/>
                </a:solidFill>
                <a:uFillTx/>
                <a:latin typeface="Tahoma"/>
                <a:hlinkClick r:id="rId6"/>
              </a:rPr>
              <a:t>http://www.csinet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fine normas de construcción.  Varias Divisiones asi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visión 25=Automatizacion y control integra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visión 27=Comunicacion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visión 28=Seguridad electrónic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CABLEADO ESTRUCURAD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53416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NewRomanPSMT"/>
              </a:rPr>
              <a:t>El nuevo estandar 568B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ercial Building Standard for Telecommunications Pathways and Spaces, 2003) </a:t>
            </a:r>
            <a:r>
              <a:rPr b="1" lang="es-ES_tradnl" sz="2400" spc="-1" strike="noStrike">
                <a:solidFill>
                  <a:srgbClr val="000000"/>
                </a:solidFill>
                <a:latin typeface="TimesNewRomanPSMT"/>
              </a:rPr>
              <a:t>incorpora y actualiza los siguientes documen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77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TSB67 — Transmission Performance Spec for Field Testing of UTP Cabling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7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TSB72 — Centralized Optical Fiber Cab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7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TSB75 — Additional Horizontal Cabling Practices for Open Off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7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TSB95 — Additional Transmission Performance Guidelines for 4-pair Category 5 Cab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7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TIA/EIA-568-A-1 — Propagation Delay &amp; Delay Sk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7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TIA/EIA-568-A-2 — Connections &amp; Additions to TIA/EIA-568-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7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TIA/EIA-568-A-3 — Addendum No. 3 to TIA/EIA-568-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7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TIA/EIA-568-A-4 — Production Modular Cord NEXT Loss Test </a:t>
            </a: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    Method and Requirements for UT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7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TIA/EIA-568-A-5 — Transmission Performance Specifications for 4- pair Category 5e Cab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7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TIA/EIA/IS-729 —   Technical Spec for 100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1" lang="es-ES_tradnl" sz="2000" spc="-1" strike="noStrike">
                <a:solidFill>
                  <a:srgbClr val="000000"/>
                </a:solidFill>
                <a:latin typeface="TimesNewRomanPSMT"/>
              </a:rPr>
              <a:t>Screened Twisted-Pair     Cab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CABLEADO ESTRUCURAD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3640" y="620280"/>
            <a:ext cx="859140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definiciones de 568B s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SI/TIA/EIA-568-B.1(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ercial Building Telecommunications Wiring Standards – General Requirements)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bre el diseño básico de los sistemas horizontal y vertic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SI/TIA/EIA-568-B.2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ercial Building Telecommunications Wiring Standards – Balanced Twisted Pair Cabling Components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ta sobre los componentes en co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n June 20, 2002 TIA published the category 6 addition to the </a:t>
            </a:r>
            <a:r>
              <a:rPr b="0" lang="es-ES" sz="18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TIA-568 </a:t>
            </a:r>
            <a:r>
              <a:rPr b="0" lang="es-ES" sz="18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standard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, which has the official document number of ANSI/TIA/EIA-568-B.2-1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SI/TIA/EIA-568-B.3 (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ptical Fibre Cabling Component Standard)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ta componentes de fi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CABLEADO ESTRUCURAD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3640" y="620280"/>
            <a:ext cx="859140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ambios más importantes en 568B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a no se reconoce la Categoria 5 sino la categoría 5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finen las especificaciones de desempeño para la categoría 5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finen las especificaciones de desempeño para fibra  50/125. Small Form Factor (SFF) optical fiber connector designs are allowed in addition to the 568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emplaza el término ‘telecommunications closet’ por  ‘telecommunications room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e ‘permanent link’ has replaced the ‘basic link’ as the test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OTRAS NORM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23640" y="620280"/>
            <a:ext cx="8591400" cy="59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SI J-STD-607A – Grounding and Bonding Requirements for Telecommunications in Commercial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CABLEADO ESTRUCURAD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53416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CIÓN: Conjunto de NORMAS y RECOMENDACIONES para el desarrollo de un sistema de cableado flexible para un edificio, que permita la integración de múltiples servicios como datos, video, vigilancia, etc, provenientes de diferentes proveedores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bre: cables, distancias, desempeño, topología, interface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rientado a un ambiente (edificación) de ofici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ión de múltiples tipos de señ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rquitectura abie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porte nuevas tecnolog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ementos estandariz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dores y soporte múlti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univers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10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CABLEADO ESTRUCURAD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bleado horizont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Área de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arto (antes closet) de tele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bleado vertic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arto de equip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omet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dministración (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NSI/TIA/EIA-606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4:14:55Z</dcterms:created>
  <dc:creator>JUAN CARLOS RESTREPO</dc:creator>
  <dc:description/>
  <dc:language>en-US</dc:language>
  <cp:lastModifiedBy>juanrest</cp:lastModifiedBy>
  <dcterms:modified xsi:type="dcterms:W3CDTF">2006-04-22T22:07:22Z</dcterms:modified>
  <cp:revision>205</cp:revision>
  <dc:subject/>
  <dc:title>CABLEADO ESTRUCURADO</dc:title>
</cp:coreProperties>
</file>