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31D-9498-4A9A-B0A3-56599C98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044-11BD-4080-8DC0-A7373AF4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98E-347E-48D1-93E7-C319564D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3D8-A6EE-40AD-A3F8-9BC00D4C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00A2-890C-4C36-B34A-0DE4B90D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F7BF-2CB8-4414-B7C1-FAAAA40D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F64D-51C4-478F-B544-E403AC32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E403-5685-4C19-803B-27C55B4C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E1A7-C955-47E0-8661-84BAFC3A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45E3-C008-49BB-A253-31BC1DA4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7B93-CF0B-4062-95E0-B98793FC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6CF-AFE0-49B0-AD02-17E1B4D3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9E04-273D-4B16-A582-AADD0FAA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8EC-BCF3-45EF-B5C4-8AF4C526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0332-E05B-4C60-9D30-EE64FDB4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40AF-5F17-4D90-AD04-D538963F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D539-A5FB-462A-98DD-5AF6AD43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560-D98A-4273-93FE-DCB9DFF4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A24-982F-42F4-8C30-98A9260E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E62-9F7E-4A23-B262-C1D58B52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CC7-D708-4F4A-902A-C1D2AA2A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66A-65DF-4D9F-A342-927F06D1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F43-9391-4DB5-9DE5-EF406CB8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1F7-DCAC-4C6C-B729-6ED97714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F6AC-F792-41BE-B1B1-731B6A0D04E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253-9572-48CB-B01F-C8371D0FC05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diginet.com.co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9900"/>
                </a:solidFill>
                <a:latin typeface="Arial Narrow"/>
              </a:rPr>
              <a:t>ATM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ARTE-2: ATM EN LA LAN Y LA W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el.: 514053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VERSION: 2.7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Ultima revisión: Enero - 200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edellín-Colomb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24480" y="5334120"/>
            <a:ext cx="2438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LASSICAL I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anejo de multicast con un servidor MARS (Multicast Address Resolution Server), que tiene registro de los grup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 tiene un MARS por LI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Desventaj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No entiende la QoS de ATM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olo opera con IP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Punto único de falla en los servidores que requiere LI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 cada nodo se le debe configurar la dirección de los servidor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4794120" y="4470480"/>
            <a:ext cx="2063880" cy="179064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378560" y="3772080"/>
            <a:ext cx="1479600" cy="24699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1960" y="3759120"/>
            <a:ext cx="1479600" cy="247032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08200" y="4051440"/>
            <a:ext cx="7181640" cy="2098440"/>
          </a:xfrm>
          <a:custGeom>
            <a:avLst/>
            <a:gdLst/>
            <a:ahLst/>
            <a:rect l="l" t="t" r="r" b="b"/>
            <a:pathLst>
              <a:path w="4524" h="1322">
                <a:moveTo>
                  <a:pt x="0" y="30"/>
                </a:moveTo>
                <a:lnTo>
                  <a:pt x="0" y="1321"/>
                </a:lnTo>
                <a:lnTo>
                  <a:pt x="772" y="1321"/>
                </a:lnTo>
                <a:lnTo>
                  <a:pt x="1272" y="1320"/>
                </a:lnTo>
                <a:lnTo>
                  <a:pt x="1494" y="1320"/>
                </a:lnTo>
                <a:lnTo>
                  <a:pt x="1911" y="1320"/>
                </a:lnTo>
                <a:lnTo>
                  <a:pt x="2583" y="1320"/>
                </a:lnTo>
                <a:lnTo>
                  <a:pt x="2774" y="942"/>
                </a:lnTo>
                <a:lnTo>
                  <a:pt x="2994" y="608"/>
                </a:lnTo>
                <a:lnTo>
                  <a:pt x="3304" y="608"/>
                </a:lnTo>
                <a:lnTo>
                  <a:pt x="3547" y="1304"/>
                </a:lnTo>
                <a:lnTo>
                  <a:pt x="4315" y="1304"/>
                </a:lnTo>
                <a:lnTo>
                  <a:pt x="4523" y="1023"/>
                </a:lnTo>
                <a:lnTo>
                  <a:pt x="4523" y="0"/>
                </a:lnTo>
              </a:path>
            </a:pathLst>
          </a:custGeom>
          <a:noFill/>
          <a:ln cap="rnd" w="50760">
            <a:solidFill>
              <a:srgbClr val="f5eb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800600" y="4762440"/>
            <a:ext cx="205740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10400" y="4457880"/>
            <a:ext cx="0" cy="180324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788000" y="5931000"/>
            <a:ext cx="205740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794120" y="5931000"/>
            <a:ext cx="205740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059520" y="5102280"/>
            <a:ext cx="5889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859360" y="5959440"/>
            <a:ext cx="99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P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65960" y="4216320"/>
            <a:ext cx="150516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508880" y="3740040"/>
            <a:ext cx="1274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gher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85040" y="473076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002080" y="4302000"/>
            <a:ext cx="401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85040" y="591192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11840" y="5959440"/>
            <a:ext cx="99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P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907400" y="5102280"/>
            <a:ext cx="5889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79360" y="4203720"/>
            <a:ext cx="150516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22280" y="3727440"/>
            <a:ext cx="1274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gher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8440" y="471816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813600" y="4289400"/>
            <a:ext cx="401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98440" y="589932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5240" y="5946840"/>
            <a:ext cx="99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P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0800" y="5089680"/>
            <a:ext cx="5889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018040" y="5102280"/>
            <a:ext cx="5889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817880" y="5959440"/>
            <a:ext cx="99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P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54160" y="1879560"/>
            <a:ext cx="8573760" cy="1409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06360" y="2489040"/>
            <a:ext cx="67564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57800" y="2382840"/>
            <a:ext cx="262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097960" y="1994040"/>
            <a:ext cx="1372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idge/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902320" y="2190600"/>
            <a:ext cx="907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2800" y="2882880"/>
            <a:ext cx="9943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10400" y="2882880"/>
            <a:ext cx="99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789440" y="4479840"/>
            <a:ext cx="1047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843520" y="4479840"/>
            <a:ext cx="1022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508360" y="4487760"/>
            <a:ext cx="2948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552640" y="5021280"/>
            <a:ext cx="2948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533920" y="4614840"/>
            <a:ext cx="530280" cy="357120"/>
            <a:chOff x="5533920" y="4614840"/>
            <a:chExt cx="530280" cy="357120"/>
          </a:xfrm>
        </p:grpSpPr>
        <p:sp>
          <p:nvSpPr>
            <p:cNvPr id="954" name=""/>
            <p:cNvSpPr/>
            <p:nvPr/>
          </p:nvSpPr>
          <p:spPr>
            <a:xfrm>
              <a:off x="5533920" y="4876920"/>
              <a:ext cx="14400" cy="14040"/>
            </a:xfrm>
            <a:prstGeom prst="ellipse">
              <a:avLst/>
            </a:prstGeom>
            <a:noFill/>
            <a:ln w="2556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48320" y="4780080"/>
              <a:ext cx="14400" cy="14040"/>
            </a:xfrm>
            <a:prstGeom prst="ellipse">
              <a:avLst/>
            </a:prstGeom>
            <a:noFill/>
            <a:ln w="2556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603760" y="4707000"/>
              <a:ext cx="14400" cy="14400"/>
            </a:xfrm>
            <a:prstGeom prst="ellipse">
              <a:avLst/>
            </a:prstGeom>
            <a:noFill/>
            <a:ln w="2556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686560" y="4640400"/>
              <a:ext cx="14040" cy="15840"/>
            </a:xfrm>
            <a:prstGeom prst="ellipse">
              <a:avLst/>
            </a:prstGeom>
            <a:noFill/>
            <a:ln w="2556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05360" y="4614840"/>
              <a:ext cx="15840" cy="14400"/>
            </a:xfrm>
            <a:prstGeom prst="ellipse">
              <a:avLst/>
            </a:prstGeom>
            <a:noFill/>
            <a:ln w="2556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04080" y="4729320"/>
              <a:ext cx="15840" cy="15840"/>
            </a:xfrm>
            <a:prstGeom prst="ellipse">
              <a:avLst/>
            </a:prstGeom>
            <a:noFill/>
            <a:ln w="2556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18040" y="4648320"/>
              <a:ext cx="16200" cy="15840"/>
            </a:xfrm>
            <a:prstGeom prst="ellipse">
              <a:avLst/>
            </a:prstGeom>
            <a:noFill/>
            <a:ln w="2556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049800" y="4843440"/>
              <a:ext cx="14400" cy="14400"/>
            </a:xfrm>
            <a:prstGeom prst="ellipse">
              <a:avLst/>
            </a:prstGeom>
            <a:noFill/>
            <a:ln w="2556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029280" y="4956120"/>
              <a:ext cx="14400" cy="15840"/>
            </a:xfrm>
            <a:prstGeom prst="ellipse">
              <a:avLst/>
            </a:prstGeom>
            <a:noFill/>
            <a:ln w="2556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49760" y="4957920"/>
              <a:ext cx="14400" cy="14040"/>
            </a:xfrm>
            <a:prstGeom prst="ellipse">
              <a:avLst/>
            </a:prstGeom>
            <a:noFill/>
            <a:ln w="25560">
              <a:solidFill>
                <a:srgbClr val="f5eb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6566400" y="2197080"/>
            <a:ext cx="907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804080" y="2031840"/>
            <a:ext cx="960480" cy="865440"/>
            <a:chOff x="7804080" y="2031840"/>
            <a:chExt cx="960480" cy="865440"/>
          </a:xfrm>
        </p:grpSpPr>
        <p:grpSp>
          <p:nvGrpSpPr>
            <p:cNvPr id="966" name=""/>
            <p:cNvGrpSpPr/>
            <p:nvPr/>
          </p:nvGrpSpPr>
          <p:grpSpPr>
            <a:xfrm>
              <a:off x="7804080" y="2593800"/>
              <a:ext cx="960480" cy="303480"/>
              <a:chOff x="7804080" y="2593800"/>
              <a:chExt cx="960480" cy="303480"/>
            </a:xfrm>
          </p:grpSpPr>
          <p:sp>
            <p:nvSpPr>
              <p:cNvPr id="967" name=""/>
              <p:cNvSpPr/>
              <p:nvPr/>
            </p:nvSpPr>
            <p:spPr>
              <a:xfrm>
                <a:off x="7804080" y="2597040"/>
                <a:ext cx="955800" cy="166680"/>
              </a:xfrm>
              <a:custGeom>
                <a:avLst/>
                <a:gdLst/>
                <a:ahLst/>
                <a:rect l="l" t="t" r="r" b="b"/>
                <a:pathLst>
                  <a:path w="602" h="105">
                    <a:moveTo>
                      <a:pt x="91" y="33"/>
                    </a:moveTo>
                    <a:lnTo>
                      <a:pt x="0" y="92"/>
                    </a:lnTo>
                    <a:lnTo>
                      <a:pt x="461" y="104"/>
                    </a:lnTo>
                    <a:lnTo>
                      <a:pt x="601" y="9"/>
                    </a:lnTo>
                    <a:lnTo>
                      <a:pt x="146" y="0"/>
                    </a:lnTo>
                    <a:lnTo>
                      <a:pt x="91" y="33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804080" y="2738520"/>
                <a:ext cx="735120" cy="158760"/>
              </a:xfrm>
              <a:custGeom>
                <a:avLst/>
                <a:gdLst/>
                <a:ahLst/>
                <a:rect l="l" t="t" r="r" b="b"/>
                <a:pathLst>
                  <a:path w="463" h="100">
                    <a:moveTo>
                      <a:pt x="0" y="0"/>
                    </a:moveTo>
                    <a:lnTo>
                      <a:pt x="462" y="15"/>
                    </a:lnTo>
                    <a:lnTo>
                      <a:pt x="462" y="99"/>
                    </a:lnTo>
                    <a:lnTo>
                      <a:pt x="0" y="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540640" y="2612880"/>
                <a:ext cx="223920" cy="284400"/>
              </a:xfrm>
              <a:custGeom>
                <a:avLst/>
                <a:gdLst/>
                <a:ahLst/>
                <a:rect l="l" t="t" r="r" b="b"/>
                <a:pathLst>
                  <a:path w="141" h="179">
                    <a:moveTo>
                      <a:pt x="0" y="178"/>
                    </a:moveTo>
                    <a:lnTo>
                      <a:pt x="0" y="93"/>
                    </a:lnTo>
                    <a:lnTo>
                      <a:pt x="140" y="0"/>
                    </a:lnTo>
                    <a:lnTo>
                      <a:pt x="140" y="70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972560" y="2678040"/>
                <a:ext cx="541080" cy="46080"/>
              </a:xfrm>
              <a:custGeom>
                <a:avLst/>
                <a:gdLst/>
                <a:ahLst/>
                <a:rect l="l" t="t" r="r" b="b"/>
                <a:pathLst>
                  <a:path w="341" h="29">
                    <a:moveTo>
                      <a:pt x="0" y="20"/>
                    </a:moveTo>
                    <a:lnTo>
                      <a:pt x="0" y="0"/>
                    </a:lnTo>
                    <a:lnTo>
                      <a:pt x="340" y="8"/>
                    </a:lnTo>
                    <a:lnTo>
                      <a:pt x="340" y="28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512200" y="2612880"/>
                <a:ext cx="122040" cy="111240"/>
              </a:xfrm>
              <a:custGeom>
                <a:avLst/>
                <a:gdLst/>
                <a:ahLst/>
                <a:rect l="l" t="t" r="r" b="b"/>
                <a:pathLst>
                  <a:path w="77" h="70">
                    <a:moveTo>
                      <a:pt x="3" y="69"/>
                    </a:moveTo>
                    <a:lnTo>
                      <a:pt x="0" y="49"/>
                    </a:lnTo>
                    <a:lnTo>
                      <a:pt x="76" y="0"/>
                    </a:lnTo>
                    <a:lnTo>
                      <a:pt x="76" y="17"/>
                    </a:lnTo>
                    <a:lnTo>
                      <a:pt x="3" y="69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972560" y="2593800"/>
                <a:ext cx="657000" cy="98640"/>
              </a:xfrm>
              <a:custGeom>
                <a:avLst/>
                <a:gdLst/>
                <a:ahLst/>
                <a:rect l="l" t="t" r="r" b="b"/>
                <a:pathLst>
                  <a:path w="414" h="62">
                    <a:moveTo>
                      <a:pt x="0" y="52"/>
                    </a:moveTo>
                    <a:lnTo>
                      <a:pt x="337" y="61"/>
                    </a:lnTo>
                    <a:lnTo>
                      <a:pt x="413" y="9"/>
                    </a:lnTo>
                    <a:lnTo>
                      <a:pt x="88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7815240" y="2031840"/>
              <a:ext cx="853920" cy="609840"/>
              <a:chOff x="7815240" y="2031840"/>
              <a:chExt cx="853920" cy="609840"/>
            </a:xfrm>
          </p:grpSpPr>
          <p:sp>
            <p:nvSpPr>
              <p:cNvPr id="974" name=""/>
              <p:cNvSpPr/>
              <p:nvPr/>
            </p:nvSpPr>
            <p:spPr>
              <a:xfrm>
                <a:off x="7815240" y="2073240"/>
                <a:ext cx="712800" cy="568440"/>
              </a:xfrm>
              <a:custGeom>
                <a:avLst/>
                <a:gdLst/>
                <a:ahLst/>
                <a:rect l="l" t="t" r="r" b="b"/>
                <a:pathLst>
                  <a:path w="449" h="358">
                    <a:moveTo>
                      <a:pt x="0" y="0"/>
                    </a:moveTo>
                    <a:lnTo>
                      <a:pt x="0" y="348"/>
                    </a:lnTo>
                    <a:lnTo>
                      <a:pt x="448" y="357"/>
                    </a:lnTo>
                    <a:lnTo>
                      <a:pt x="44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815240" y="2031840"/>
                <a:ext cx="809640" cy="54000"/>
              </a:xfrm>
              <a:custGeom>
                <a:avLst/>
                <a:gdLst/>
                <a:ahLst/>
                <a:rect l="l" t="t" r="r" b="b"/>
                <a:pathLst>
                  <a:path w="510" h="34">
                    <a:moveTo>
                      <a:pt x="0" y="27"/>
                    </a:moveTo>
                    <a:lnTo>
                      <a:pt x="112" y="0"/>
                    </a:lnTo>
                    <a:lnTo>
                      <a:pt x="509" y="3"/>
                    </a:lnTo>
                    <a:lnTo>
                      <a:pt x="445" y="3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521560" y="2036880"/>
                <a:ext cx="112680" cy="601560"/>
              </a:xfrm>
              <a:custGeom>
                <a:avLst/>
                <a:gdLst/>
                <a:ahLst/>
                <a:rect l="l" t="t" r="r" b="b"/>
                <a:pathLst>
                  <a:path w="71" h="379">
                    <a:moveTo>
                      <a:pt x="0" y="378"/>
                    </a:moveTo>
                    <a:lnTo>
                      <a:pt x="0" y="29"/>
                    </a:lnTo>
                    <a:lnTo>
                      <a:pt x="70" y="0"/>
                    </a:lnTo>
                    <a:lnTo>
                      <a:pt x="70" y="322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904160" y="2147760"/>
                <a:ext cx="517680" cy="419400"/>
              </a:xfrm>
              <a:custGeom>
                <a:avLst/>
                <a:gdLst/>
                <a:ahLst/>
                <a:rect l="l" t="t" r="r" b="b"/>
                <a:pathLst>
                  <a:path w="326" h="264">
                    <a:moveTo>
                      <a:pt x="325" y="263"/>
                    </a:moveTo>
                    <a:lnTo>
                      <a:pt x="0" y="257"/>
                    </a:lnTo>
                    <a:lnTo>
                      <a:pt x="0" y="0"/>
                    </a:lnTo>
                    <a:lnTo>
                      <a:pt x="325" y="6"/>
                    </a:lnTo>
                    <a:lnTo>
                      <a:pt x="325" y="26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14ffb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629560" y="2075040"/>
                <a:ext cx="39600" cy="434880"/>
              </a:xfrm>
              <a:prstGeom prst="octagon">
                <a:avLst>
                  <a:gd name="adj" fmla="val 29282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"/>
          <p:cNvGrpSpPr/>
          <p:nvPr/>
        </p:nvGrpSpPr>
        <p:grpSpPr>
          <a:xfrm>
            <a:off x="412920" y="2031840"/>
            <a:ext cx="960120" cy="865440"/>
            <a:chOff x="412920" y="2031840"/>
            <a:chExt cx="960120" cy="865440"/>
          </a:xfrm>
        </p:grpSpPr>
        <p:grpSp>
          <p:nvGrpSpPr>
            <p:cNvPr id="980" name=""/>
            <p:cNvGrpSpPr/>
            <p:nvPr/>
          </p:nvGrpSpPr>
          <p:grpSpPr>
            <a:xfrm>
              <a:off x="412920" y="2593800"/>
              <a:ext cx="960120" cy="303480"/>
              <a:chOff x="412920" y="2593800"/>
              <a:chExt cx="960120" cy="303480"/>
            </a:xfrm>
          </p:grpSpPr>
          <p:sp>
            <p:nvSpPr>
              <p:cNvPr id="981" name=""/>
              <p:cNvSpPr/>
              <p:nvPr/>
            </p:nvSpPr>
            <p:spPr>
              <a:xfrm>
                <a:off x="412920" y="2597040"/>
                <a:ext cx="955440" cy="166680"/>
              </a:xfrm>
              <a:custGeom>
                <a:avLst/>
                <a:gdLst/>
                <a:ahLst/>
                <a:rect l="l" t="t" r="r" b="b"/>
                <a:pathLst>
                  <a:path w="602" h="105">
                    <a:moveTo>
                      <a:pt x="91" y="33"/>
                    </a:moveTo>
                    <a:lnTo>
                      <a:pt x="0" y="92"/>
                    </a:lnTo>
                    <a:lnTo>
                      <a:pt x="461" y="104"/>
                    </a:lnTo>
                    <a:lnTo>
                      <a:pt x="601" y="9"/>
                    </a:lnTo>
                    <a:lnTo>
                      <a:pt x="146" y="0"/>
                    </a:lnTo>
                    <a:lnTo>
                      <a:pt x="91" y="33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2920" y="2738520"/>
                <a:ext cx="734760" cy="158760"/>
              </a:xfrm>
              <a:custGeom>
                <a:avLst/>
                <a:gdLst/>
                <a:ahLst/>
                <a:rect l="l" t="t" r="r" b="b"/>
                <a:pathLst>
                  <a:path w="463" h="100">
                    <a:moveTo>
                      <a:pt x="0" y="0"/>
                    </a:moveTo>
                    <a:lnTo>
                      <a:pt x="462" y="15"/>
                    </a:lnTo>
                    <a:lnTo>
                      <a:pt x="462" y="99"/>
                    </a:lnTo>
                    <a:lnTo>
                      <a:pt x="0" y="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149480" y="2612880"/>
                <a:ext cx="223560" cy="284400"/>
              </a:xfrm>
              <a:custGeom>
                <a:avLst/>
                <a:gdLst/>
                <a:ahLst/>
                <a:rect l="l" t="t" r="r" b="b"/>
                <a:pathLst>
                  <a:path w="141" h="179">
                    <a:moveTo>
                      <a:pt x="0" y="178"/>
                    </a:moveTo>
                    <a:lnTo>
                      <a:pt x="0" y="93"/>
                    </a:lnTo>
                    <a:lnTo>
                      <a:pt x="140" y="0"/>
                    </a:lnTo>
                    <a:lnTo>
                      <a:pt x="140" y="70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81040" y="2678040"/>
                <a:ext cx="541440" cy="46080"/>
              </a:xfrm>
              <a:custGeom>
                <a:avLst/>
                <a:gdLst/>
                <a:ahLst/>
                <a:rect l="l" t="t" r="r" b="b"/>
                <a:pathLst>
                  <a:path w="341" h="29">
                    <a:moveTo>
                      <a:pt x="0" y="20"/>
                    </a:moveTo>
                    <a:lnTo>
                      <a:pt x="0" y="0"/>
                    </a:lnTo>
                    <a:lnTo>
                      <a:pt x="340" y="8"/>
                    </a:lnTo>
                    <a:lnTo>
                      <a:pt x="340" y="28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120680" y="2612880"/>
                <a:ext cx="122400" cy="111240"/>
              </a:xfrm>
              <a:custGeom>
                <a:avLst/>
                <a:gdLst/>
                <a:ahLst/>
                <a:rect l="l" t="t" r="r" b="b"/>
                <a:pathLst>
                  <a:path w="77" h="70">
                    <a:moveTo>
                      <a:pt x="3" y="69"/>
                    </a:moveTo>
                    <a:lnTo>
                      <a:pt x="0" y="49"/>
                    </a:lnTo>
                    <a:lnTo>
                      <a:pt x="76" y="0"/>
                    </a:lnTo>
                    <a:lnTo>
                      <a:pt x="76" y="17"/>
                    </a:lnTo>
                    <a:lnTo>
                      <a:pt x="3" y="69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81040" y="2593800"/>
                <a:ext cx="657360" cy="98640"/>
              </a:xfrm>
              <a:custGeom>
                <a:avLst/>
                <a:gdLst/>
                <a:ahLst/>
                <a:rect l="l" t="t" r="r" b="b"/>
                <a:pathLst>
                  <a:path w="414" h="62">
                    <a:moveTo>
                      <a:pt x="0" y="52"/>
                    </a:moveTo>
                    <a:lnTo>
                      <a:pt x="337" y="61"/>
                    </a:lnTo>
                    <a:lnTo>
                      <a:pt x="413" y="9"/>
                    </a:lnTo>
                    <a:lnTo>
                      <a:pt x="88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423720" y="2031840"/>
              <a:ext cx="854280" cy="609840"/>
              <a:chOff x="423720" y="2031840"/>
              <a:chExt cx="854280" cy="609840"/>
            </a:xfrm>
          </p:grpSpPr>
          <p:sp>
            <p:nvSpPr>
              <p:cNvPr id="988" name=""/>
              <p:cNvSpPr/>
              <p:nvPr/>
            </p:nvSpPr>
            <p:spPr>
              <a:xfrm>
                <a:off x="423720" y="2073240"/>
                <a:ext cx="712800" cy="568440"/>
              </a:xfrm>
              <a:custGeom>
                <a:avLst/>
                <a:gdLst/>
                <a:ahLst/>
                <a:rect l="l" t="t" r="r" b="b"/>
                <a:pathLst>
                  <a:path w="449" h="358">
                    <a:moveTo>
                      <a:pt x="0" y="0"/>
                    </a:moveTo>
                    <a:lnTo>
                      <a:pt x="0" y="348"/>
                    </a:lnTo>
                    <a:lnTo>
                      <a:pt x="448" y="357"/>
                    </a:lnTo>
                    <a:lnTo>
                      <a:pt x="44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3720" y="2031840"/>
                <a:ext cx="809640" cy="54000"/>
              </a:xfrm>
              <a:custGeom>
                <a:avLst/>
                <a:gdLst/>
                <a:ahLst/>
                <a:rect l="l" t="t" r="r" b="b"/>
                <a:pathLst>
                  <a:path w="510" h="34">
                    <a:moveTo>
                      <a:pt x="0" y="27"/>
                    </a:moveTo>
                    <a:lnTo>
                      <a:pt x="112" y="0"/>
                    </a:lnTo>
                    <a:lnTo>
                      <a:pt x="509" y="3"/>
                    </a:lnTo>
                    <a:lnTo>
                      <a:pt x="445" y="3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130400" y="2036880"/>
                <a:ext cx="112680" cy="601560"/>
              </a:xfrm>
              <a:custGeom>
                <a:avLst/>
                <a:gdLst/>
                <a:ahLst/>
                <a:rect l="l" t="t" r="r" b="b"/>
                <a:pathLst>
                  <a:path w="71" h="379">
                    <a:moveTo>
                      <a:pt x="0" y="378"/>
                    </a:moveTo>
                    <a:lnTo>
                      <a:pt x="0" y="29"/>
                    </a:lnTo>
                    <a:lnTo>
                      <a:pt x="70" y="0"/>
                    </a:lnTo>
                    <a:lnTo>
                      <a:pt x="70" y="322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12640" y="2147760"/>
                <a:ext cx="517680" cy="419400"/>
              </a:xfrm>
              <a:custGeom>
                <a:avLst/>
                <a:gdLst/>
                <a:ahLst/>
                <a:rect l="l" t="t" r="r" b="b"/>
                <a:pathLst>
                  <a:path w="326" h="264">
                    <a:moveTo>
                      <a:pt x="325" y="263"/>
                    </a:moveTo>
                    <a:lnTo>
                      <a:pt x="0" y="257"/>
                    </a:lnTo>
                    <a:lnTo>
                      <a:pt x="0" y="0"/>
                    </a:lnTo>
                    <a:lnTo>
                      <a:pt x="325" y="6"/>
                    </a:lnTo>
                    <a:lnTo>
                      <a:pt x="325" y="26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14ffb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238400" y="2075040"/>
                <a:ext cx="39600" cy="434880"/>
              </a:xfrm>
              <a:prstGeom prst="octagon">
                <a:avLst>
                  <a:gd name="adj" fmla="val 29282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3" name=""/>
          <p:cNvGrpSpPr/>
          <p:nvPr/>
        </p:nvGrpSpPr>
        <p:grpSpPr>
          <a:xfrm>
            <a:off x="5210280" y="2311560"/>
            <a:ext cx="961920" cy="487080"/>
            <a:chOff x="5210280" y="2311560"/>
            <a:chExt cx="961920" cy="487080"/>
          </a:xfrm>
        </p:grpSpPr>
        <p:sp>
          <p:nvSpPr>
            <p:cNvPr id="994" name=""/>
            <p:cNvSpPr/>
            <p:nvPr/>
          </p:nvSpPr>
          <p:spPr>
            <a:xfrm>
              <a:off x="5210280" y="2502000"/>
              <a:ext cx="828720" cy="29196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214960" y="2311560"/>
              <a:ext cx="957240" cy="191880"/>
            </a:xfrm>
            <a:custGeom>
              <a:avLst/>
              <a:gdLst/>
              <a:ahLst/>
              <a:rect l="l" t="t" r="r" b="b"/>
              <a:pathLst>
                <a:path w="603" h="121">
                  <a:moveTo>
                    <a:pt x="0" y="120"/>
                  </a:moveTo>
                  <a:lnTo>
                    <a:pt x="100" y="0"/>
                  </a:lnTo>
                  <a:lnTo>
                    <a:pt x="602" y="0"/>
                  </a:lnTo>
                  <a:lnTo>
                    <a:pt x="518" y="120"/>
                  </a:lnTo>
                  <a:lnTo>
                    <a:pt x="0" y="120"/>
                  </a:lnTo>
                </a:path>
              </a:pathLst>
            </a:custGeom>
            <a:solidFill>
              <a:srgbClr val="fde3b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045120" y="2311560"/>
              <a:ext cx="127080" cy="487080"/>
            </a:xfrm>
            <a:custGeom>
              <a:avLst/>
              <a:gdLst/>
              <a:ahLst/>
              <a:rect l="l" t="t" r="r" b="b"/>
              <a:pathLst>
                <a:path w="80" h="307">
                  <a:moveTo>
                    <a:pt x="0" y="306"/>
                  </a:moveTo>
                  <a:lnTo>
                    <a:pt x="0" y="120"/>
                  </a:lnTo>
                  <a:lnTo>
                    <a:pt x="79" y="0"/>
                  </a:lnTo>
                  <a:lnTo>
                    <a:pt x="79" y="136"/>
                  </a:lnTo>
                  <a:lnTo>
                    <a:pt x="0" y="306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56400" y="2536920"/>
              <a:ext cx="225360" cy="745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10280" y="2673360"/>
              <a:ext cx="831600" cy="270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10280" y="2730600"/>
              <a:ext cx="831600" cy="2700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533520" y="83808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QUEMA EN LAN 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7118280" y="3873600"/>
            <a:ext cx="1479600" cy="24699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105680" y="4317840"/>
            <a:ext cx="150480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116840" y="4830840"/>
            <a:ext cx="1481040" cy="151452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124760" y="5460840"/>
            <a:ext cx="148572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4760" y="5708520"/>
            <a:ext cx="148572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124760" y="6013440"/>
            <a:ext cx="148572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24760" y="4832280"/>
            <a:ext cx="148572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124760" y="5137200"/>
            <a:ext cx="148572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413080" y="5702400"/>
            <a:ext cx="1479600" cy="6411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85840" y="3873600"/>
            <a:ext cx="1479600" cy="24699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72880" y="4317840"/>
            <a:ext cx="150516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54160" y="1879560"/>
            <a:ext cx="8573760" cy="1409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157800" y="2382840"/>
            <a:ext cx="262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71840" y="2190600"/>
            <a:ext cx="569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142160" y="2190600"/>
            <a:ext cx="569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664680" y="2190600"/>
            <a:ext cx="569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0600" y="2882880"/>
            <a:ext cx="1608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End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475720" y="2990880"/>
            <a:ext cx="1193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990320" y="3016080"/>
            <a:ext cx="1193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403440" y="2476440"/>
            <a:ext cx="432000" cy="43200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784680" y="2793960"/>
            <a:ext cx="698400" cy="4190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776760" y="2863800"/>
            <a:ext cx="741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84040" y="4830840"/>
            <a:ext cx="1481400" cy="151452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91960" y="546084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91960" y="570852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1960" y="601344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91960" y="483228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416320" y="5710320"/>
            <a:ext cx="1481040" cy="63504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419200" y="601344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709280" y="257184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179600" y="253368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662520" y="257184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1960" y="513720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757760" y="5702400"/>
            <a:ext cx="1479600" cy="6411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761000" y="5710320"/>
            <a:ext cx="1481040" cy="63504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764240" y="6013440"/>
            <a:ext cx="148572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65080" y="4032360"/>
            <a:ext cx="7182000" cy="2238120"/>
          </a:xfrm>
          <a:custGeom>
            <a:avLst/>
            <a:gdLst/>
            <a:ahLst/>
            <a:rect l="l" t="t" r="r" b="b"/>
            <a:pathLst>
              <a:path w="4524" h="1410">
                <a:moveTo>
                  <a:pt x="0" y="31"/>
                </a:moveTo>
                <a:lnTo>
                  <a:pt x="0" y="1392"/>
                </a:lnTo>
                <a:lnTo>
                  <a:pt x="1172" y="1392"/>
                </a:lnTo>
                <a:lnTo>
                  <a:pt x="1384" y="1180"/>
                </a:lnTo>
                <a:lnTo>
                  <a:pt x="1542" y="1180"/>
                </a:lnTo>
                <a:lnTo>
                  <a:pt x="1911" y="1400"/>
                </a:lnTo>
                <a:lnTo>
                  <a:pt x="2623" y="1396"/>
                </a:lnTo>
                <a:lnTo>
                  <a:pt x="2815" y="1180"/>
                </a:lnTo>
                <a:lnTo>
                  <a:pt x="3055" y="1180"/>
                </a:lnTo>
                <a:lnTo>
                  <a:pt x="3271" y="1408"/>
                </a:lnTo>
                <a:lnTo>
                  <a:pt x="3564" y="1409"/>
                </a:lnTo>
                <a:lnTo>
                  <a:pt x="4326" y="1409"/>
                </a:lnTo>
                <a:lnTo>
                  <a:pt x="4523" y="1085"/>
                </a:lnTo>
                <a:lnTo>
                  <a:pt x="4523" y="0"/>
                </a:lnTo>
              </a:path>
            </a:pathLst>
          </a:custGeom>
          <a:noFill/>
          <a:ln cap="rnd" w="50760">
            <a:solidFill>
              <a:srgbClr val="f5eb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98640" y="2882880"/>
            <a:ext cx="1608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End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412920" y="2031840"/>
            <a:ext cx="8367480" cy="941400"/>
            <a:chOff x="412920" y="2031840"/>
            <a:chExt cx="8367480" cy="941400"/>
          </a:xfrm>
        </p:grpSpPr>
        <p:sp>
          <p:nvSpPr>
            <p:cNvPr id="1040" name=""/>
            <p:cNvSpPr/>
            <p:nvPr/>
          </p:nvSpPr>
          <p:spPr>
            <a:xfrm>
              <a:off x="1206360" y="2463840"/>
              <a:ext cx="6756480" cy="0"/>
            </a:xfrm>
            <a:prstGeom prst="line">
              <a:avLst/>
            </a:prstGeom>
            <a:ln w="25560">
              <a:solidFill>
                <a:srgbClr val="f2c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57800" y="2357280"/>
              <a:ext cx="262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7804080" y="2031840"/>
              <a:ext cx="960480" cy="865440"/>
              <a:chOff x="7804080" y="2031840"/>
              <a:chExt cx="960480" cy="865440"/>
            </a:xfrm>
          </p:grpSpPr>
          <p:grpSp>
            <p:nvGrpSpPr>
              <p:cNvPr id="1043" name=""/>
              <p:cNvGrpSpPr/>
              <p:nvPr/>
            </p:nvGrpSpPr>
            <p:grpSpPr>
              <a:xfrm>
                <a:off x="7804080" y="2593800"/>
                <a:ext cx="960480" cy="303480"/>
                <a:chOff x="7804080" y="2593800"/>
                <a:chExt cx="960480" cy="30348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7804080" y="2597040"/>
                  <a:ext cx="955800" cy="166680"/>
                </a:xfrm>
                <a:custGeom>
                  <a:avLst/>
                  <a:gdLst/>
                  <a:ahLst/>
                  <a:rect l="l" t="t" r="r" b="b"/>
                  <a:pathLst>
                    <a:path w="602" h="105">
                      <a:moveTo>
                        <a:pt x="91" y="33"/>
                      </a:moveTo>
                      <a:lnTo>
                        <a:pt x="0" y="92"/>
                      </a:lnTo>
                      <a:lnTo>
                        <a:pt x="461" y="104"/>
                      </a:lnTo>
                      <a:lnTo>
                        <a:pt x="601" y="9"/>
                      </a:lnTo>
                      <a:lnTo>
                        <a:pt x="146" y="0"/>
                      </a:lnTo>
                      <a:lnTo>
                        <a:pt x="91" y="33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804080" y="2738520"/>
                  <a:ext cx="735120" cy="158760"/>
                </a:xfrm>
                <a:custGeom>
                  <a:avLst/>
                  <a:gdLst/>
                  <a:ahLst/>
                  <a:rect l="l" t="t" r="r" b="b"/>
                  <a:pathLst>
                    <a:path w="463" h="100">
                      <a:moveTo>
                        <a:pt x="0" y="0"/>
                      </a:moveTo>
                      <a:lnTo>
                        <a:pt x="462" y="15"/>
                      </a:lnTo>
                      <a:lnTo>
                        <a:pt x="462" y="99"/>
                      </a:lnTo>
                      <a:lnTo>
                        <a:pt x="0" y="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8540640" y="2612880"/>
                  <a:ext cx="223920" cy="284400"/>
                </a:xfrm>
                <a:custGeom>
                  <a:avLst/>
                  <a:gdLst/>
                  <a:ahLst/>
                  <a:rect l="l" t="t" r="r" b="b"/>
                  <a:pathLst>
                    <a:path w="141" h="179">
                      <a:moveTo>
                        <a:pt x="0" y="178"/>
                      </a:moveTo>
                      <a:lnTo>
                        <a:pt x="0" y="93"/>
                      </a:lnTo>
                      <a:lnTo>
                        <a:pt x="140" y="0"/>
                      </a:lnTo>
                      <a:lnTo>
                        <a:pt x="140" y="70"/>
                      </a:lnTo>
                      <a:lnTo>
                        <a:pt x="0" y="1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972560" y="2678040"/>
                  <a:ext cx="541080" cy="46080"/>
                </a:xfrm>
                <a:custGeom>
                  <a:avLst/>
                  <a:gdLst/>
                  <a:ahLst/>
                  <a:rect l="l" t="t" r="r" b="b"/>
                  <a:pathLst>
                    <a:path w="341" h="2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340" y="8"/>
                      </a:lnTo>
                      <a:lnTo>
                        <a:pt x="340" y="28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8512200" y="2612880"/>
                  <a:ext cx="122040" cy="111240"/>
                </a:xfrm>
                <a:custGeom>
                  <a:avLst/>
                  <a:gdLst/>
                  <a:ahLst/>
                  <a:rect l="l" t="t" r="r" b="b"/>
                  <a:pathLst>
                    <a:path w="77" h="70">
                      <a:moveTo>
                        <a:pt x="3" y="69"/>
                      </a:moveTo>
                      <a:lnTo>
                        <a:pt x="0" y="49"/>
                      </a:lnTo>
                      <a:lnTo>
                        <a:pt x="76" y="0"/>
                      </a:lnTo>
                      <a:lnTo>
                        <a:pt x="76" y="17"/>
                      </a:lnTo>
                      <a:lnTo>
                        <a:pt x="3" y="69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972560" y="2593800"/>
                  <a:ext cx="657000" cy="98640"/>
                </a:xfrm>
                <a:custGeom>
                  <a:avLst/>
                  <a:gdLst/>
                  <a:ahLst/>
                  <a:rect l="l" t="t" r="r" b="b"/>
                  <a:pathLst>
                    <a:path w="414" h="62">
                      <a:moveTo>
                        <a:pt x="0" y="52"/>
                      </a:moveTo>
                      <a:lnTo>
                        <a:pt x="337" y="61"/>
                      </a:lnTo>
                      <a:lnTo>
                        <a:pt x="413" y="9"/>
                      </a:lnTo>
                      <a:lnTo>
                        <a:pt x="88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7815240" y="2031840"/>
                <a:ext cx="853920" cy="609840"/>
                <a:chOff x="7815240" y="2031840"/>
                <a:chExt cx="853920" cy="60984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7815240" y="2073240"/>
                  <a:ext cx="712800" cy="568440"/>
                </a:xfrm>
                <a:custGeom>
                  <a:avLst/>
                  <a:gdLst/>
                  <a:ahLst/>
                  <a:rect l="l" t="t" r="r" b="b"/>
                  <a:pathLst>
                    <a:path w="449" h="35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448" y="357"/>
                      </a:lnTo>
                      <a:lnTo>
                        <a:pt x="448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815240" y="2031840"/>
                  <a:ext cx="809640" cy="54000"/>
                </a:xfrm>
                <a:custGeom>
                  <a:avLst/>
                  <a:gdLst/>
                  <a:ahLst/>
                  <a:rect l="l" t="t" r="r" b="b"/>
                  <a:pathLst>
                    <a:path w="510" h="34">
                      <a:moveTo>
                        <a:pt x="0" y="27"/>
                      </a:moveTo>
                      <a:lnTo>
                        <a:pt x="112" y="0"/>
                      </a:lnTo>
                      <a:lnTo>
                        <a:pt x="509" y="3"/>
                      </a:lnTo>
                      <a:lnTo>
                        <a:pt x="445" y="33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8521560" y="2036880"/>
                  <a:ext cx="112680" cy="601560"/>
                </a:xfrm>
                <a:custGeom>
                  <a:avLst/>
                  <a:gdLst/>
                  <a:ahLst/>
                  <a:rect l="l" t="t" r="r" b="b"/>
                  <a:pathLst>
                    <a:path w="71" h="379">
                      <a:moveTo>
                        <a:pt x="0" y="378"/>
                      </a:moveTo>
                      <a:lnTo>
                        <a:pt x="0" y="29"/>
                      </a:lnTo>
                      <a:lnTo>
                        <a:pt x="70" y="0"/>
                      </a:lnTo>
                      <a:lnTo>
                        <a:pt x="70" y="322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904160" y="2147760"/>
                  <a:ext cx="517680" cy="419400"/>
                </a:xfrm>
                <a:custGeom>
                  <a:avLst/>
                  <a:gdLst/>
                  <a:ahLst/>
                  <a:rect l="l" t="t" r="r" b="b"/>
                  <a:pathLst>
                    <a:path w="326" h="264">
                      <a:moveTo>
                        <a:pt x="325" y="263"/>
                      </a:moveTo>
                      <a:lnTo>
                        <a:pt x="0" y="257"/>
                      </a:lnTo>
                      <a:lnTo>
                        <a:pt x="0" y="0"/>
                      </a:lnTo>
                      <a:lnTo>
                        <a:pt x="325" y="6"/>
                      </a:lnTo>
                      <a:lnTo>
                        <a:pt x="325" y="263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114ff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629560" y="2075040"/>
                  <a:ext cx="39600" cy="4348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f6bf6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6" name=""/>
            <p:cNvGrpSpPr/>
            <p:nvPr/>
          </p:nvGrpSpPr>
          <p:grpSpPr>
            <a:xfrm>
              <a:off x="412920" y="2031840"/>
              <a:ext cx="960120" cy="865440"/>
              <a:chOff x="412920" y="2031840"/>
              <a:chExt cx="960120" cy="865440"/>
            </a:xfrm>
          </p:grpSpPr>
          <p:grpSp>
            <p:nvGrpSpPr>
              <p:cNvPr id="1057" name=""/>
              <p:cNvGrpSpPr/>
              <p:nvPr/>
            </p:nvGrpSpPr>
            <p:grpSpPr>
              <a:xfrm>
                <a:off x="412920" y="2593800"/>
                <a:ext cx="960120" cy="303480"/>
                <a:chOff x="412920" y="2593800"/>
                <a:chExt cx="960120" cy="3034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412920" y="2597040"/>
                  <a:ext cx="955440" cy="166680"/>
                </a:xfrm>
                <a:custGeom>
                  <a:avLst/>
                  <a:gdLst/>
                  <a:ahLst/>
                  <a:rect l="l" t="t" r="r" b="b"/>
                  <a:pathLst>
                    <a:path w="602" h="105">
                      <a:moveTo>
                        <a:pt x="91" y="33"/>
                      </a:moveTo>
                      <a:lnTo>
                        <a:pt x="0" y="92"/>
                      </a:lnTo>
                      <a:lnTo>
                        <a:pt x="461" y="104"/>
                      </a:lnTo>
                      <a:lnTo>
                        <a:pt x="601" y="9"/>
                      </a:lnTo>
                      <a:lnTo>
                        <a:pt x="146" y="0"/>
                      </a:lnTo>
                      <a:lnTo>
                        <a:pt x="91" y="33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12920" y="2738520"/>
                  <a:ext cx="734760" cy="158760"/>
                </a:xfrm>
                <a:custGeom>
                  <a:avLst/>
                  <a:gdLst/>
                  <a:ahLst/>
                  <a:rect l="l" t="t" r="r" b="b"/>
                  <a:pathLst>
                    <a:path w="463" h="100">
                      <a:moveTo>
                        <a:pt x="0" y="0"/>
                      </a:moveTo>
                      <a:lnTo>
                        <a:pt x="462" y="15"/>
                      </a:lnTo>
                      <a:lnTo>
                        <a:pt x="462" y="99"/>
                      </a:lnTo>
                      <a:lnTo>
                        <a:pt x="0" y="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149480" y="2612880"/>
                  <a:ext cx="223560" cy="284400"/>
                </a:xfrm>
                <a:custGeom>
                  <a:avLst/>
                  <a:gdLst/>
                  <a:ahLst/>
                  <a:rect l="l" t="t" r="r" b="b"/>
                  <a:pathLst>
                    <a:path w="141" h="179">
                      <a:moveTo>
                        <a:pt x="0" y="178"/>
                      </a:moveTo>
                      <a:lnTo>
                        <a:pt x="0" y="93"/>
                      </a:lnTo>
                      <a:lnTo>
                        <a:pt x="140" y="0"/>
                      </a:lnTo>
                      <a:lnTo>
                        <a:pt x="140" y="70"/>
                      </a:lnTo>
                      <a:lnTo>
                        <a:pt x="0" y="1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81040" y="2678040"/>
                  <a:ext cx="541440" cy="46080"/>
                </a:xfrm>
                <a:custGeom>
                  <a:avLst/>
                  <a:gdLst/>
                  <a:ahLst/>
                  <a:rect l="l" t="t" r="r" b="b"/>
                  <a:pathLst>
                    <a:path w="341" h="2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340" y="8"/>
                      </a:lnTo>
                      <a:lnTo>
                        <a:pt x="340" y="28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120680" y="2612880"/>
                  <a:ext cx="122400" cy="111240"/>
                </a:xfrm>
                <a:custGeom>
                  <a:avLst/>
                  <a:gdLst/>
                  <a:ahLst/>
                  <a:rect l="l" t="t" r="r" b="b"/>
                  <a:pathLst>
                    <a:path w="77" h="70">
                      <a:moveTo>
                        <a:pt x="3" y="69"/>
                      </a:moveTo>
                      <a:lnTo>
                        <a:pt x="0" y="49"/>
                      </a:lnTo>
                      <a:lnTo>
                        <a:pt x="76" y="0"/>
                      </a:lnTo>
                      <a:lnTo>
                        <a:pt x="76" y="17"/>
                      </a:lnTo>
                      <a:lnTo>
                        <a:pt x="3" y="69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581040" y="2593800"/>
                  <a:ext cx="657360" cy="98640"/>
                </a:xfrm>
                <a:custGeom>
                  <a:avLst/>
                  <a:gdLst/>
                  <a:ahLst/>
                  <a:rect l="l" t="t" r="r" b="b"/>
                  <a:pathLst>
                    <a:path w="414" h="62">
                      <a:moveTo>
                        <a:pt x="0" y="52"/>
                      </a:moveTo>
                      <a:lnTo>
                        <a:pt x="337" y="61"/>
                      </a:lnTo>
                      <a:lnTo>
                        <a:pt x="413" y="9"/>
                      </a:lnTo>
                      <a:lnTo>
                        <a:pt x="88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423720" y="2031840"/>
                <a:ext cx="854280" cy="609840"/>
                <a:chOff x="423720" y="2031840"/>
                <a:chExt cx="854280" cy="60984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423720" y="2073240"/>
                  <a:ext cx="712800" cy="568440"/>
                </a:xfrm>
                <a:custGeom>
                  <a:avLst/>
                  <a:gdLst/>
                  <a:ahLst/>
                  <a:rect l="l" t="t" r="r" b="b"/>
                  <a:pathLst>
                    <a:path w="449" h="35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448" y="357"/>
                      </a:lnTo>
                      <a:lnTo>
                        <a:pt x="448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23720" y="2031840"/>
                  <a:ext cx="809640" cy="54000"/>
                </a:xfrm>
                <a:custGeom>
                  <a:avLst/>
                  <a:gdLst/>
                  <a:ahLst/>
                  <a:rect l="l" t="t" r="r" b="b"/>
                  <a:pathLst>
                    <a:path w="510" h="34">
                      <a:moveTo>
                        <a:pt x="0" y="27"/>
                      </a:moveTo>
                      <a:lnTo>
                        <a:pt x="112" y="0"/>
                      </a:lnTo>
                      <a:lnTo>
                        <a:pt x="509" y="3"/>
                      </a:lnTo>
                      <a:lnTo>
                        <a:pt x="445" y="33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130400" y="2036880"/>
                  <a:ext cx="112680" cy="601560"/>
                </a:xfrm>
                <a:custGeom>
                  <a:avLst/>
                  <a:gdLst/>
                  <a:ahLst/>
                  <a:rect l="l" t="t" r="r" b="b"/>
                  <a:pathLst>
                    <a:path w="71" h="379">
                      <a:moveTo>
                        <a:pt x="0" y="378"/>
                      </a:moveTo>
                      <a:lnTo>
                        <a:pt x="0" y="29"/>
                      </a:lnTo>
                      <a:lnTo>
                        <a:pt x="70" y="0"/>
                      </a:lnTo>
                      <a:lnTo>
                        <a:pt x="70" y="322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12640" y="2147760"/>
                  <a:ext cx="517680" cy="419400"/>
                </a:xfrm>
                <a:custGeom>
                  <a:avLst/>
                  <a:gdLst/>
                  <a:ahLst/>
                  <a:rect l="l" t="t" r="r" b="b"/>
                  <a:pathLst>
                    <a:path w="326" h="264">
                      <a:moveTo>
                        <a:pt x="325" y="263"/>
                      </a:moveTo>
                      <a:lnTo>
                        <a:pt x="0" y="257"/>
                      </a:lnTo>
                      <a:lnTo>
                        <a:pt x="0" y="0"/>
                      </a:lnTo>
                      <a:lnTo>
                        <a:pt x="325" y="6"/>
                      </a:lnTo>
                      <a:lnTo>
                        <a:pt x="325" y="263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114ff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238400" y="2075040"/>
                  <a:ext cx="39600" cy="4348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f6bf6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0" name=""/>
            <p:cNvGrpSpPr/>
            <p:nvPr/>
          </p:nvGrpSpPr>
          <p:grpSpPr>
            <a:xfrm>
              <a:off x="2360520" y="2143080"/>
              <a:ext cx="1527120" cy="830160"/>
              <a:chOff x="2360520" y="2143080"/>
              <a:chExt cx="1527120" cy="830160"/>
            </a:xfrm>
          </p:grpSpPr>
          <p:sp>
            <p:nvSpPr>
              <p:cNvPr id="1071" name=""/>
              <p:cNvSpPr/>
              <p:nvPr/>
            </p:nvSpPr>
            <p:spPr>
              <a:xfrm>
                <a:off x="2455920" y="2143080"/>
                <a:ext cx="1431720" cy="438120"/>
              </a:xfrm>
              <a:custGeom>
                <a:avLst/>
                <a:gdLst/>
                <a:ahLst/>
                <a:rect l="l" t="t" r="r" b="b"/>
                <a:pathLst>
                  <a:path w="902" h="276">
                    <a:moveTo>
                      <a:pt x="0" y="247"/>
                    </a:moveTo>
                    <a:lnTo>
                      <a:pt x="324" y="0"/>
                    </a:lnTo>
                    <a:lnTo>
                      <a:pt x="901" y="8"/>
                    </a:lnTo>
                    <a:lnTo>
                      <a:pt x="715" y="275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d4876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89200" y="2155680"/>
                <a:ext cx="298440" cy="814680"/>
              </a:xfrm>
              <a:custGeom>
                <a:avLst/>
                <a:gdLst/>
                <a:ahLst/>
                <a:rect l="l" t="t" r="r" b="b"/>
                <a:pathLst>
                  <a:path w="188" h="513">
                    <a:moveTo>
                      <a:pt x="0" y="268"/>
                    </a:moveTo>
                    <a:lnTo>
                      <a:pt x="0" y="512"/>
                    </a:lnTo>
                    <a:lnTo>
                      <a:pt x="187" y="197"/>
                    </a:lnTo>
                    <a:lnTo>
                      <a:pt x="187" y="0"/>
                    </a:lnTo>
                    <a:lnTo>
                      <a:pt x="0" y="268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443320" y="2532240"/>
                <a:ext cx="1144440" cy="441000"/>
              </a:xfrm>
              <a:custGeom>
                <a:avLst/>
                <a:gdLst/>
                <a:ahLst/>
                <a:rect l="l" t="t" r="r" b="b"/>
                <a:pathLst>
                  <a:path w="721" h="278">
                    <a:moveTo>
                      <a:pt x="0" y="0"/>
                    </a:moveTo>
                    <a:lnTo>
                      <a:pt x="720" y="30"/>
                    </a:lnTo>
                    <a:lnTo>
                      <a:pt x="720" y="277"/>
                    </a:lnTo>
                    <a:lnTo>
                      <a:pt x="0" y="2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476440" y="2571840"/>
                <a:ext cx="1073160" cy="349200"/>
              </a:xfrm>
              <a:custGeom>
                <a:avLst/>
                <a:gdLst/>
                <a:ahLst/>
                <a:rect l="l" t="t" r="r" b="b"/>
                <a:pathLst>
                  <a:path w="676" h="220">
                    <a:moveTo>
                      <a:pt x="0" y="0"/>
                    </a:moveTo>
                    <a:lnTo>
                      <a:pt x="675" y="30"/>
                    </a:lnTo>
                    <a:lnTo>
                      <a:pt x="675" y="219"/>
                    </a:lnTo>
                    <a:lnTo>
                      <a:pt x="0" y="1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5" name=""/>
              <p:cNvGrpSpPr/>
              <p:nvPr/>
            </p:nvGrpSpPr>
            <p:grpSpPr>
              <a:xfrm>
                <a:off x="2506680" y="2655720"/>
                <a:ext cx="981000" cy="176400"/>
                <a:chOff x="2506680" y="2655720"/>
                <a:chExt cx="981000" cy="176400"/>
              </a:xfrm>
            </p:grpSpPr>
            <p:grpSp>
              <p:nvGrpSpPr>
                <p:cNvPr id="1076" name=""/>
                <p:cNvGrpSpPr/>
                <p:nvPr/>
              </p:nvGrpSpPr>
              <p:grpSpPr>
                <a:xfrm>
                  <a:off x="2506680" y="2655720"/>
                  <a:ext cx="485640" cy="84240"/>
                  <a:chOff x="2506680" y="2655720"/>
                  <a:chExt cx="485640" cy="84240"/>
                </a:xfrm>
              </p:grpSpPr>
              <p:sp>
                <p:nvSpPr>
                  <p:cNvPr id="1077" name=""/>
                  <p:cNvSpPr/>
                  <p:nvPr/>
                </p:nvSpPr>
                <p:spPr>
                  <a:xfrm>
                    <a:off x="2506680" y="2655720"/>
                    <a:ext cx="4856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2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529000" y="2676600"/>
                    <a:ext cx="19080" cy="22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948040" y="269568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568600" y="267336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2600" y="267480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670120" y="26780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717640" y="268128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762280" y="268272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806560" y="2685960"/>
                    <a:ext cx="241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854440" y="268920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898720" y="26906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8" name=""/>
                <p:cNvGrpSpPr/>
                <p:nvPr/>
              </p:nvGrpSpPr>
              <p:grpSpPr>
                <a:xfrm>
                  <a:off x="2506680" y="2722680"/>
                  <a:ext cx="485640" cy="82440"/>
                  <a:chOff x="2506680" y="2722680"/>
                  <a:chExt cx="485640" cy="8244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>
                    <a:off x="2506680" y="2722680"/>
                    <a:ext cx="48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1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529000" y="2743200"/>
                    <a:ext cx="190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948040" y="276084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568600" y="273852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622600" y="27417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670120" y="274464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717640" y="2746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762280" y="274968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806560" y="275112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854440" y="27543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898720" y="275760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3000240" y="2682720"/>
                  <a:ext cx="487440" cy="82800"/>
                  <a:chOff x="3000240" y="2682720"/>
                  <a:chExt cx="487440" cy="8280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>
                    <a:off x="3000240" y="2682720"/>
                    <a:ext cx="4874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1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3022560" y="270360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3443400" y="272268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3065400" y="269892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3117960" y="270180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3165480" y="270504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3213000" y="270684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257640" y="2709720"/>
                    <a:ext cx="2196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3303720" y="271296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3349800" y="27147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3394080" y="271764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2" name=""/>
                <p:cNvGrpSpPr/>
                <p:nvPr/>
              </p:nvGrpSpPr>
              <p:grpSpPr>
                <a:xfrm>
                  <a:off x="3000240" y="2747880"/>
                  <a:ext cx="487440" cy="84240"/>
                  <a:chOff x="3000240" y="2747880"/>
                  <a:chExt cx="487440" cy="8424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3000240" y="2747880"/>
                    <a:ext cx="4874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2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3022560" y="276876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3443400" y="2787480"/>
                    <a:ext cx="20520" cy="2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3065400" y="276552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3117960" y="2766960"/>
                    <a:ext cx="205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3165480" y="277020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213000" y="2773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257640" y="277488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303720" y="277812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349800" y="27813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394080" y="278280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4" name=""/>
              <p:cNvGrpSpPr/>
              <p:nvPr/>
            </p:nvGrpSpPr>
            <p:grpSpPr>
              <a:xfrm>
                <a:off x="2360520" y="2532240"/>
                <a:ext cx="114480" cy="376200"/>
                <a:chOff x="2360520" y="2532240"/>
                <a:chExt cx="114480" cy="37620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370240" y="2532240"/>
                  <a:ext cx="104760" cy="376200"/>
                </a:xfrm>
                <a:custGeom>
                  <a:avLst/>
                  <a:gdLst/>
                  <a:ahLst/>
                  <a:rect l="l" t="t" r="r" b="b"/>
                  <a:pathLst>
                    <a:path w="66" h="237">
                      <a:moveTo>
                        <a:pt x="2" y="0"/>
                      </a:moveTo>
                      <a:lnTo>
                        <a:pt x="65" y="3"/>
                      </a:lnTo>
                      <a:lnTo>
                        <a:pt x="65" y="236"/>
                      </a:lnTo>
                      <a:lnTo>
                        <a:pt x="0" y="2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6" name=""/>
                <p:cNvGrpSpPr/>
                <p:nvPr/>
              </p:nvGrpSpPr>
              <p:grpSpPr>
                <a:xfrm>
                  <a:off x="2360520" y="2583000"/>
                  <a:ext cx="74880" cy="317520"/>
                  <a:chOff x="2360520" y="2583000"/>
                  <a:chExt cx="74880" cy="31752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2362320" y="2644920"/>
                    <a:ext cx="20520" cy="2491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360520" y="2583000"/>
                    <a:ext cx="748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flipV="1">
                    <a:off x="2386080" y="2590920"/>
                    <a:ext cx="47520" cy="489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flipV="1">
                    <a:off x="2400480" y="2830680"/>
                    <a:ext cx="20520" cy="93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1" name=""/>
              <p:cNvGrpSpPr/>
              <p:nvPr/>
            </p:nvGrpSpPr>
            <p:grpSpPr>
              <a:xfrm>
                <a:off x="3511440" y="2576520"/>
                <a:ext cx="114480" cy="396720"/>
                <a:chOff x="3511440" y="2576520"/>
                <a:chExt cx="114480" cy="3967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3521160" y="2576520"/>
                  <a:ext cx="104760" cy="396720"/>
                </a:xfrm>
                <a:custGeom>
                  <a:avLst/>
                  <a:gdLst/>
                  <a:ahLst/>
                  <a:rect l="l" t="t" r="r" b="b"/>
                  <a:pathLst>
                    <a:path w="66" h="250">
                      <a:moveTo>
                        <a:pt x="2" y="0"/>
                      </a:moveTo>
                      <a:lnTo>
                        <a:pt x="65" y="0"/>
                      </a:lnTo>
                      <a:lnTo>
                        <a:pt x="65" y="249"/>
                      </a:lnTo>
                      <a:lnTo>
                        <a:pt x="0" y="24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3" name=""/>
                <p:cNvGrpSpPr/>
                <p:nvPr/>
              </p:nvGrpSpPr>
              <p:grpSpPr>
                <a:xfrm>
                  <a:off x="3511440" y="2647800"/>
                  <a:ext cx="74880" cy="317520"/>
                  <a:chOff x="3511440" y="2647800"/>
                  <a:chExt cx="74880" cy="31752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513240" y="2709720"/>
                    <a:ext cx="19080" cy="250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511440" y="2647800"/>
                    <a:ext cx="748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V="1">
                    <a:off x="3537000" y="2655720"/>
                    <a:ext cx="47520" cy="5112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V="1">
                    <a:off x="3552840" y="2895120"/>
                    <a:ext cx="19080" cy="111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8" name=""/>
              <p:cNvSpPr/>
              <p:nvPr/>
            </p:nvSpPr>
            <p:spPr>
              <a:xfrm>
                <a:off x="3059280" y="2619360"/>
                <a:ext cx="425160" cy="50760"/>
              </a:xfrm>
              <a:custGeom>
                <a:avLst/>
                <a:gdLst/>
                <a:ahLst/>
                <a:rect l="l" t="t" r="r" b="b"/>
                <a:pathLst>
                  <a:path w="268" h="32">
                    <a:moveTo>
                      <a:pt x="0" y="21"/>
                    </a:moveTo>
                    <a:lnTo>
                      <a:pt x="0" y="0"/>
                    </a:lnTo>
                    <a:lnTo>
                      <a:pt x="267" y="10"/>
                    </a:lnTo>
                    <a:lnTo>
                      <a:pt x="267" y="3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506680" y="2592360"/>
                <a:ext cx="66600" cy="446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25"/>
                    </a:moveTo>
                    <a:lnTo>
                      <a:pt x="41" y="27"/>
                    </a:lnTo>
                    <a:lnTo>
                      <a:pt x="41" y="2"/>
                    </a:lnTo>
                    <a:lnTo>
                      <a:pt x="0" y="0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687760" y="281160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720880" y="2814480"/>
                <a:ext cx="2088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752560" y="2816280"/>
                <a:ext cx="208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787480" y="2819520"/>
                <a:ext cx="190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819520" y="2822400"/>
                <a:ext cx="1908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851200" y="282420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890800" y="2816280"/>
                <a:ext cx="4752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23"/>
                    </a:moveTo>
                    <a:lnTo>
                      <a:pt x="0" y="0"/>
                    </a:lnTo>
                    <a:lnTo>
                      <a:pt x="29" y="2"/>
                    </a:lnTo>
                    <a:lnTo>
                      <a:pt x="29" y="2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976480" y="2827440"/>
                <a:ext cx="77760" cy="381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0" y="21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081240" y="2832120"/>
                <a:ext cx="79560" cy="381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0" y="21"/>
                    </a:moveTo>
                    <a:lnTo>
                      <a:pt x="0" y="0"/>
                    </a:lnTo>
                    <a:lnTo>
                      <a:pt x="49" y="2"/>
                    </a:lnTo>
                    <a:lnTo>
                      <a:pt x="49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181320" y="2835360"/>
                <a:ext cx="131760" cy="4608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3"/>
                    </a:moveTo>
                    <a:lnTo>
                      <a:pt x="0" y="0"/>
                    </a:lnTo>
                    <a:lnTo>
                      <a:pt x="82" y="5"/>
                    </a:lnTo>
                    <a:lnTo>
                      <a:pt x="82" y="2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4951440" y="2143080"/>
              <a:ext cx="1527120" cy="830160"/>
              <a:chOff x="4951440" y="2143080"/>
              <a:chExt cx="1527120" cy="830160"/>
            </a:xfrm>
          </p:grpSpPr>
          <p:sp>
            <p:nvSpPr>
              <p:cNvPr id="1151" name=""/>
              <p:cNvSpPr/>
              <p:nvPr/>
            </p:nvSpPr>
            <p:spPr>
              <a:xfrm>
                <a:off x="5046840" y="2143080"/>
                <a:ext cx="1431720" cy="438120"/>
              </a:xfrm>
              <a:custGeom>
                <a:avLst/>
                <a:gdLst/>
                <a:ahLst/>
                <a:rect l="l" t="t" r="r" b="b"/>
                <a:pathLst>
                  <a:path w="902" h="276">
                    <a:moveTo>
                      <a:pt x="0" y="247"/>
                    </a:moveTo>
                    <a:lnTo>
                      <a:pt x="324" y="0"/>
                    </a:lnTo>
                    <a:lnTo>
                      <a:pt x="901" y="8"/>
                    </a:lnTo>
                    <a:lnTo>
                      <a:pt x="715" y="275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d4876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180120" y="2155680"/>
                <a:ext cx="298440" cy="814680"/>
              </a:xfrm>
              <a:custGeom>
                <a:avLst/>
                <a:gdLst/>
                <a:ahLst/>
                <a:rect l="l" t="t" r="r" b="b"/>
                <a:pathLst>
                  <a:path w="188" h="513">
                    <a:moveTo>
                      <a:pt x="0" y="268"/>
                    </a:moveTo>
                    <a:lnTo>
                      <a:pt x="0" y="512"/>
                    </a:lnTo>
                    <a:lnTo>
                      <a:pt x="187" y="197"/>
                    </a:lnTo>
                    <a:lnTo>
                      <a:pt x="187" y="0"/>
                    </a:lnTo>
                    <a:lnTo>
                      <a:pt x="0" y="268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033880" y="2532240"/>
                <a:ext cx="1144800" cy="441000"/>
              </a:xfrm>
              <a:custGeom>
                <a:avLst/>
                <a:gdLst/>
                <a:ahLst/>
                <a:rect l="l" t="t" r="r" b="b"/>
                <a:pathLst>
                  <a:path w="721" h="278">
                    <a:moveTo>
                      <a:pt x="0" y="0"/>
                    </a:moveTo>
                    <a:lnTo>
                      <a:pt x="720" y="30"/>
                    </a:lnTo>
                    <a:lnTo>
                      <a:pt x="720" y="277"/>
                    </a:lnTo>
                    <a:lnTo>
                      <a:pt x="0" y="2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067360" y="2571840"/>
                <a:ext cx="1073160" cy="349200"/>
              </a:xfrm>
              <a:custGeom>
                <a:avLst/>
                <a:gdLst/>
                <a:ahLst/>
                <a:rect l="l" t="t" r="r" b="b"/>
                <a:pathLst>
                  <a:path w="676" h="220">
                    <a:moveTo>
                      <a:pt x="0" y="0"/>
                    </a:moveTo>
                    <a:lnTo>
                      <a:pt x="675" y="30"/>
                    </a:lnTo>
                    <a:lnTo>
                      <a:pt x="675" y="219"/>
                    </a:lnTo>
                    <a:lnTo>
                      <a:pt x="0" y="1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5097600" y="2655720"/>
                <a:ext cx="981000" cy="176400"/>
                <a:chOff x="5097600" y="2655720"/>
                <a:chExt cx="981000" cy="176400"/>
              </a:xfrm>
            </p:grpSpPr>
            <p:grpSp>
              <p:nvGrpSpPr>
                <p:cNvPr id="1156" name=""/>
                <p:cNvGrpSpPr/>
                <p:nvPr/>
              </p:nvGrpSpPr>
              <p:grpSpPr>
                <a:xfrm>
                  <a:off x="5097600" y="2655720"/>
                  <a:ext cx="485640" cy="84240"/>
                  <a:chOff x="5097600" y="2655720"/>
                  <a:chExt cx="485640" cy="8424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5097600" y="2655720"/>
                    <a:ext cx="4856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2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119560" y="2676600"/>
                    <a:ext cx="19080" cy="22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38960" y="269568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159520" y="267336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213520" y="267480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261040" y="26780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308560" y="268128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353200" y="268272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397480" y="268596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445000" y="268920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489640" y="26906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5097600" y="2722680"/>
                  <a:ext cx="485640" cy="82440"/>
                  <a:chOff x="5097600" y="2722680"/>
                  <a:chExt cx="485640" cy="8244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5097600" y="2722680"/>
                    <a:ext cx="48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1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119560" y="2743200"/>
                    <a:ext cx="190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538960" y="276084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159520" y="273852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213520" y="27417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261040" y="274464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308560" y="2746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5353200" y="274968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5397480" y="275112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5445000" y="27543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5489640" y="275760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0" name=""/>
                <p:cNvGrpSpPr/>
                <p:nvPr/>
              </p:nvGrpSpPr>
              <p:grpSpPr>
                <a:xfrm>
                  <a:off x="5591160" y="2682720"/>
                  <a:ext cx="487440" cy="82800"/>
                  <a:chOff x="5591160" y="2682720"/>
                  <a:chExt cx="487440" cy="8280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>
                    <a:off x="5591160" y="2682720"/>
                    <a:ext cx="4874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1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5613480" y="270360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033960" y="272268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5656320" y="269892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5708520" y="2701800"/>
                    <a:ext cx="2088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5756400" y="270504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5803920" y="270684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5848200" y="270972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5894280" y="2712960"/>
                    <a:ext cx="2088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5940360" y="27147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5985000" y="2717640"/>
                    <a:ext cx="2196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2" name=""/>
                <p:cNvGrpSpPr/>
                <p:nvPr/>
              </p:nvGrpSpPr>
              <p:grpSpPr>
                <a:xfrm>
                  <a:off x="5591160" y="2747880"/>
                  <a:ext cx="487440" cy="84240"/>
                  <a:chOff x="5591160" y="2747880"/>
                  <a:chExt cx="487440" cy="8424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>
                    <a:off x="5591160" y="2747880"/>
                    <a:ext cx="4874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2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5613480" y="276876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6033960" y="2787480"/>
                    <a:ext cx="20880" cy="2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5656320" y="276552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5708520" y="2766960"/>
                    <a:ext cx="2088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5756400" y="277020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5803920" y="2773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5848200" y="277488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5894280" y="2778120"/>
                    <a:ext cx="2088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5940360" y="27813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5985000" y="278280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4" name=""/>
              <p:cNvGrpSpPr/>
              <p:nvPr/>
            </p:nvGrpSpPr>
            <p:grpSpPr>
              <a:xfrm>
                <a:off x="4951440" y="2532240"/>
                <a:ext cx="114120" cy="376200"/>
                <a:chOff x="4951440" y="2532240"/>
                <a:chExt cx="114120" cy="37620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4960800" y="2532240"/>
                  <a:ext cx="104760" cy="376200"/>
                </a:xfrm>
                <a:custGeom>
                  <a:avLst/>
                  <a:gdLst/>
                  <a:ahLst/>
                  <a:rect l="l" t="t" r="r" b="b"/>
                  <a:pathLst>
                    <a:path w="66" h="237">
                      <a:moveTo>
                        <a:pt x="2" y="0"/>
                      </a:moveTo>
                      <a:lnTo>
                        <a:pt x="65" y="3"/>
                      </a:lnTo>
                      <a:lnTo>
                        <a:pt x="65" y="236"/>
                      </a:lnTo>
                      <a:lnTo>
                        <a:pt x="0" y="2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6" name=""/>
                <p:cNvGrpSpPr/>
                <p:nvPr/>
              </p:nvGrpSpPr>
              <p:grpSpPr>
                <a:xfrm>
                  <a:off x="4951440" y="2583000"/>
                  <a:ext cx="74520" cy="317520"/>
                  <a:chOff x="4951440" y="2583000"/>
                  <a:chExt cx="74520" cy="31752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>
                    <a:off x="4952880" y="2644920"/>
                    <a:ext cx="20880" cy="2491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4951440" y="2583000"/>
                    <a:ext cx="745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 flipV="1">
                    <a:off x="4976640" y="2590920"/>
                    <a:ext cx="47880" cy="489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V="1">
                    <a:off x="4991040" y="2830680"/>
                    <a:ext cx="20520" cy="93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1" name=""/>
              <p:cNvGrpSpPr/>
              <p:nvPr/>
            </p:nvGrpSpPr>
            <p:grpSpPr>
              <a:xfrm>
                <a:off x="6102360" y="2576520"/>
                <a:ext cx="114120" cy="396720"/>
                <a:chOff x="6102360" y="2576520"/>
                <a:chExt cx="114120" cy="3967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6111720" y="2576520"/>
                  <a:ext cx="104760" cy="396720"/>
                </a:xfrm>
                <a:custGeom>
                  <a:avLst/>
                  <a:gdLst/>
                  <a:ahLst/>
                  <a:rect l="l" t="t" r="r" b="b"/>
                  <a:pathLst>
                    <a:path w="66" h="250">
                      <a:moveTo>
                        <a:pt x="2" y="0"/>
                      </a:moveTo>
                      <a:lnTo>
                        <a:pt x="65" y="0"/>
                      </a:lnTo>
                      <a:lnTo>
                        <a:pt x="65" y="249"/>
                      </a:lnTo>
                      <a:lnTo>
                        <a:pt x="0" y="24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3" name=""/>
                <p:cNvGrpSpPr/>
                <p:nvPr/>
              </p:nvGrpSpPr>
              <p:grpSpPr>
                <a:xfrm>
                  <a:off x="6102360" y="2647800"/>
                  <a:ext cx="74520" cy="317520"/>
                  <a:chOff x="6102360" y="2647800"/>
                  <a:chExt cx="74520" cy="317520"/>
                </a:xfrm>
              </p:grpSpPr>
              <p:sp>
                <p:nvSpPr>
                  <p:cNvPr id="1214" name=""/>
                  <p:cNvSpPr/>
                  <p:nvPr/>
                </p:nvSpPr>
                <p:spPr>
                  <a:xfrm>
                    <a:off x="6103800" y="2709720"/>
                    <a:ext cx="19080" cy="250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102360" y="2647800"/>
                    <a:ext cx="745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 flipV="1">
                    <a:off x="6127920" y="2655720"/>
                    <a:ext cx="47520" cy="5112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 flipV="1">
                    <a:off x="6143760" y="2895120"/>
                    <a:ext cx="19080" cy="111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8" name=""/>
              <p:cNvSpPr/>
              <p:nvPr/>
            </p:nvSpPr>
            <p:spPr>
              <a:xfrm>
                <a:off x="5649840" y="2619360"/>
                <a:ext cx="425520" cy="50760"/>
              </a:xfrm>
              <a:custGeom>
                <a:avLst/>
                <a:gdLst/>
                <a:ahLst/>
                <a:rect l="l" t="t" r="r" b="b"/>
                <a:pathLst>
                  <a:path w="268" h="32">
                    <a:moveTo>
                      <a:pt x="0" y="21"/>
                    </a:moveTo>
                    <a:lnTo>
                      <a:pt x="0" y="0"/>
                    </a:lnTo>
                    <a:lnTo>
                      <a:pt x="267" y="10"/>
                    </a:lnTo>
                    <a:lnTo>
                      <a:pt x="267" y="3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097600" y="2592360"/>
                <a:ext cx="66600" cy="446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25"/>
                    </a:moveTo>
                    <a:lnTo>
                      <a:pt x="41" y="27"/>
                    </a:lnTo>
                    <a:lnTo>
                      <a:pt x="41" y="2"/>
                    </a:lnTo>
                    <a:lnTo>
                      <a:pt x="0" y="0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278320" y="2811600"/>
                <a:ext cx="208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311800" y="2814480"/>
                <a:ext cx="2052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343480" y="281628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378400" y="2819520"/>
                <a:ext cx="190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410080" y="2822400"/>
                <a:ext cx="1908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442120" y="282420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481720" y="2816280"/>
                <a:ext cx="4752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23"/>
                    </a:moveTo>
                    <a:lnTo>
                      <a:pt x="0" y="0"/>
                    </a:lnTo>
                    <a:lnTo>
                      <a:pt x="29" y="2"/>
                    </a:lnTo>
                    <a:lnTo>
                      <a:pt x="29" y="2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567400" y="2827440"/>
                <a:ext cx="77760" cy="381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0" y="21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72160" y="2832120"/>
                <a:ext cx="79200" cy="381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0" y="21"/>
                    </a:moveTo>
                    <a:lnTo>
                      <a:pt x="0" y="0"/>
                    </a:lnTo>
                    <a:lnTo>
                      <a:pt x="49" y="2"/>
                    </a:lnTo>
                    <a:lnTo>
                      <a:pt x="49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772240" y="2835360"/>
                <a:ext cx="131760" cy="4608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3"/>
                    </a:moveTo>
                    <a:lnTo>
                      <a:pt x="0" y="0"/>
                    </a:lnTo>
                    <a:lnTo>
                      <a:pt x="82" y="5"/>
                    </a:lnTo>
                    <a:lnTo>
                      <a:pt x="82" y="2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7229520" y="3860640"/>
            <a:ext cx="1274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gher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665480" y="4416480"/>
            <a:ext cx="401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331760" y="5213520"/>
            <a:ext cx="995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FC 1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481880" y="5460840"/>
            <a:ext cx="698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AL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279920" y="5727600"/>
            <a:ext cx="1094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TM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06400" y="6051600"/>
            <a:ext cx="1485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hysical 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331760" y="4851360"/>
            <a:ext cx="995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FC 15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97080" y="3860640"/>
            <a:ext cx="1274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gher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2680" y="4416480"/>
            <a:ext cx="401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9320" y="5213520"/>
            <a:ext cx="995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FC 1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49440" y="5460840"/>
            <a:ext cx="698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AL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47480" y="5727600"/>
            <a:ext cx="1094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TM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73600" y="6051600"/>
            <a:ext cx="1485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hysical 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2400840" y="5765760"/>
            <a:ext cx="1485000" cy="579240"/>
            <a:chOff x="2400840" y="5765760"/>
            <a:chExt cx="1485000" cy="579240"/>
          </a:xfrm>
        </p:grpSpPr>
        <p:sp>
          <p:nvSpPr>
            <p:cNvPr id="1244" name=""/>
            <p:cNvSpPr/>
            <p:nvPr/>
          </p:nvSpPr>
          <p:spPr>
            <a:xfrm>
              <a:off x="2574720" y="5765760"/>
              <a:ext cx="10947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ATM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00840" y="6060960"/>
              <a:ext cx="1485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Physical 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499320" y="4851360"/>
            <a:ext cx="995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FC 15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4745520" y="5765760"/>
            <a:ext cx="1485000" cy="579240"/>
            <a:chOff x="4745520" y="5765760"/>
            <a:chExt cx="1485000" cy="579240"/>
          </a:xfrm>
        </p:grpSpPr>
        <p:sp>
          <p:nvSpPr>
            <p:cNvPr id="1248" name=""/>
            <p:cNvSpPr/>
            <p:nvPr/>
          </p:nvSpPr>
          <p:spPr>
            <a:xfrm>
              <a:off x="4919400" y="5765760"/>
              <a:ext cx="10947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ATM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745520" y="6060960"/>
              <a:ext cx="1485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Physical 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533520" y="7621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LASSICAL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1317960" y="3595680"/>
            <a:ext cx="21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_ARP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654560" y="4141800"/>
            <a:ext cx="189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_ARP re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57160" y="3962520"/>
            <a:ext cx="3251160" cy="0"/>
          </a:xfrm>
          <a:prstGeom prst="line">
            <a:avLst/>
          </a:prstGeom>
          <a:ln w="50760">
            <a:solidFill>
              <a:srgbClr val="f5e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06400" y="4489560"/>
            <a:ext cx="3314880" cy="0"/>
          </a:xfrm>
          <a:prstGeom prst="line">
            <a:avLst/>
          </a:prstGeom>
          <a:ln w="50760">
            <a:solidFill>
              <a:srgbClr val="f5e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54160" y="1879560"/>
            <a:ext cx="8573760" cy="1409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157800" y="2382840"/>
            <a:ext cx="262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09280" y="257184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179600" y="255276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664680" y="2190600"/>
            <a:ext cx="569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00600" y="2882880"/>
            <a:ext cx="1608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End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424960" y="2990880"/>
            <a:ext cx="1193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403440" y="2476440"/>
            <a:ext cx="432000" cy="43200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784680" y="2793960"/>
            <a:ext cx="698400" cy="4190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776760" y="2863800"/>
            <a:ext cx="741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884600" y="6072120"/>
            <a:ext cx="196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806040" y="6451560"/>
            <a:ext cx="7613640" cy="0"/>
          </a:xfrm>
          <a:prstGeom prst="line">
            <a:avLst/>
          </a:prstGeom>
          <a:ln w="101520">
            <a:solidFill>
              <a:srgbClr val="d487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970520" y="3632040"/>
            <a:ext cx="2752560" cy="8748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024520" y="3757680"/>
            <a:ext cx="261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ost checks ARP cache for ATM address.  If no ATM address, sends N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970520" y="5637240"/>
            <a:ext cx="2752560" cy="8748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008680" y="5675400"/>
            <a:ext cx="26114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ost looks for existing VC to ATM address.  If it finds VC, sends data; If no VC, uses UNI 3.x to set up V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702120" y="259092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161240" y="2209680"/>
            <a:ext cx="569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53120" y="2171880"/>
            <a:ext cx="569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054040" y="2990880"/>
            <a:ext cx="1193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285680" y="2882880"/>
            <a:ext cx="1608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End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412920" y="2031840"/>
            <a:ext cx="8367480" cy="941400"/>
            <a:chOff x="412920" y="2031840"/>
            <a:chExt cx="8367480" cy="941400"/>
          </a:xfrm>
        </p:grpSpPr>
        <p:sp>
          <p:nvSpPr>
            <p:cNvPr id="1277" name=""/>
            <p:cNvSpPr/>
            <p:nvPr/>
          </p:nvSpPr>
          <p:spPr>
            <a:xfrm>
              <a:off x="1206360" y="2463840"/>
              <a:ext cx="6756480" cy="0"/>
            </a:xfrm>
            <a:prstGeom prst="line">
              <a:avLst/>
            </a:prstGeom>
            <a:ln w="25560">
              <a:solidFill>
                <a:srgbClr val="f2c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57800" y="2357280"/>
              <a:ext cx="262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7804080" y="2031840"/>
              <a:ext cx="960480" cy="865440"/>
              <a:chOff x="7804080" y="2031840"/>
              <a:chExt cx="960480" cy="865440"/>
            </a:xfrm>
          </p:grpSpPr>
          <p:grpSp>
            <p:nvGrpSpPr>
              <p:cNvPr id="1280" name=""/>
              <p:cNvGrpSpPr/>
              <p:nvPr/>
            </p:nvGrpSpPr>
            <p:grpSpPr>
              <a:xfrm>
                <a:off x="7804080" y="2593800"/>
                <a:ext cx="960480" cy="303480"/>
                <a:chOff x="7804080" y="2593800"/>
                <a:chExt cx="960480" cy="30348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7804080" y="2597040"/>
                  <a:ext cx="955800" cy="166680"/>
                </a:xfrm>
                <a:custGeom>
                  <a:avLst/>
                  <a:gdLst/>
                  <a:ahLst/>
                  <a:rect l="l" t="t" r="r" b="b"/>
                  <a:pathLst>
                    <a:path w="602" h="105">
                      <a:moveTo>
                        <a:pt x="91" y="33"/>
                      </a:moveTo>
                      <a:lnTo>
                        <a:pt x="0" y="92"/>
                      </a:lnTo>
                      <a:lnTo>
                        <a:pt x="461" y="104"/>
                      </a:lnTo>
                      <a:lnTo>
                        <a:pt x="601" y="9"/>
                      </a:lnTo>
                      <a:lnTo>
                        <a:pt x="146" y="0"/>
                      </a:lnTo>
                      <a:lnTo>
                        <a:pt x="91" y="33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804080" y="2738520"/>
                  <a:ext cx="735120" cy="158760"/>
                </a:xfrm>
                <a:custGeom>
                  <a:avLst/>
                  <a:gdLst/>
                  <a:ahLst/>
                  <a:rect l="l" t="t" r="r" b="b"/>
                  <a:pathLst>
                    <a:path w="463" h="100">
                      <a:moveTo>
                        <a:pt x="0" y="0"/>
                      </a:moveTo>
                      <a:lnTo>
                        <a:pt x="462" y="15"/>
                      </a:lnTo>
                      <a:lnTo>
                        <a:pt x="462" y="99"/>
                      </a:lnTo>
                      <a:lnTo>
                        <a:pt x="0" y="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8540640" y="2612880"/>
                  <a:ext cx="223920" cy="284400"/>
                </a:xfrm>
                <a:custGeom>
                  <a:avLst/>
                  <a:gdLst/>
                  <a:ahLst/>
                  <a:rect l="l" t="t" r="r" b="b"/>
                  <a:pathLst>
                    <a:path w="141" h="179">
                      <a:moveTo>
                        <a:pt x="0" y="178"/>
                      </a:moveTo>
                      <a:lnTo>
                        <a:pt x="0" y="93"/>
                      </a:lnTo>
                      <a:lnTo>
                        <a:pt x="140" y="0"/>
                      </a:lnTo>
                      <a:lnTo>
                        <a:pt x="140" y="70"/>
                      </a:lnTo>
                      <a:lnTo>
                        <a:pt x="0" y="1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972560" y="2678040"/>
                  <a:ext cx="541080" cy="46080"/>
                </a:xfrm>
                <a:custGeom>
                  <a:avLst/>
                  <a:gdLst/>
                  <a:ahLst/>
                  <a:rect l="l" t="t" r="r" b="b"/>
                  <a:pathLst>
                    <a:path w="341" h="2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340" y="8"/>
                      </a:lnTo>
                      <a:lnTo>
                        <a:pt x="340" y="28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8512200" y="2612880"/>
                  <a:ext cx="122040" cy="111240"/>
                </a:xfrm>
                <a:custGeom>
                  <a:avLst/>
                  <a:gdLst/>
                  <a:ahLst/>
                  <a:rect l="l" t="t" r="r" b="b"/>
                  <a:pathLst>
                    <a:path w="77" h="70">
                      <a:moveTo>
                        <a:pt x="3" y="69"/>
                      </a:moveTo>
                      <a:lnTo>
                        <a:pt x="0" y="49"/>
                      </a:lnTo>
                      <a:lnTo>
                        <a:pt x="76" y="0"/>
                      </a:lnTo>
                      <a:lnTo>
                        <a:pt x="76" y="17"/>
                      </a:lnTo>
                      <a:lnTo>
                        <a:pt x="3" y="69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7972560" y="2593800"/>
                  <a:ext cx="657000" cy="98640"/>
                </a:xfrm>
                <a:custGeom>
                  <a:avLst/>
                  <a:gdLst/>
                  <a:ahLst/>
                  <a:rect l="l" t="t" r="r" b="b"/>
                  <a:pathLst>
                    <a:path w="414" h="62">
                      <a:moveTo>
                        <a:pt x="0" y="52"/>
                      </a:moveTo>
                      <a:lnTo>
                        <a:pt x="337" y="61"/>
                      </a:lnTo>
                      <a:lnTo>
                        <a:pt x="413" y="9"/>
                      </a:lnTo>
                      <a:lnTo>
                        <a:pt x="88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7815240" y="2031840"/>
                <a:ext cx="853920" cy="609840"/>
                <a:chOff x="7815240" y="2031840"/>
                <a:chExt cx="853920" cy="60984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7815240" y="2073240"/>
                  <a:ext cx="712800" cy="568440"/>
                </a:xfrm>
                <a:custGeom>
                  <a:avLst/>
                  <a:gdLst/>
                  <a:ahLst/>
                  <a:rect l="l" t="t" r="r" b="b"/>
                  <a:pathLst>
                    <a:path w="449" h="35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448" y="357"/>
                      </a:lnTo>
                      <a:lnTo>
                        <a:pt x="448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7815240" y="2031840"/>
                  <a:ext cx="809640" cy="54000"/>
                </a:xfrm>
                <a:custGeom>
                  <a:avLst/>
                  <a:gdLst/>
                  <a:ahLst/>
                  <a:rect l="l" t="t" r="r" b="b"/>
                  <a:pathLst>
                    <a:path w="510" h="34">
                      <a:moveTo>
                        <a:pt x="0" y="27"/>
                      </a:moveTo>
                      <a:lnTo>
                        <a:pt x="112" y="0"/>
                      </a:lnTo>
                      <a:lnTo>
                        <a:pt x="509" y="3"/>
                      </a:lnTo>
                      <a:lnTo>
                        <a:pt x="445" y="33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521560" y="2036880"/>
                  <a:ext cx="112680" cy="601560"/>
                </a:xfrm>
                <a:custGeom>
                  <a:avLst/>
                  <a:gdLst/>
                  <a:ahLst/>
                  <a:rect l="l" t="t" r="r" b="b"/>
                  <a:pathLst>
                    <a:path w="71" h="379">
                      <a:moveTo>
                        <a:pt x="0" y="378"/>
                      </a:moveTo>
                      <a:lnTo>
                        <a:pt x="0" y="29"/>
                      </a:lnTo>
                      <a:lnTo>
                        <a:pt x="70" y="0"/>
                      </a:lnTo>
                      <a:lnTo>
                        <a:pt x="70" y="322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904160" y="2147760"/>
                  <a:ext cx="517680" cy="419400"/>
                </a:xfrm>
                <a:custGeom>
                  <a:avLst/>
                  <a:gdLst/>
                  <a:ahLst/>
                  <a:rect l="l" t="t" r="r" b="b"/>
                  <a:pathLst>
                    <a:path w="326" h="264">
                      <a:moveTo>
                        <a:pt x="325" y="263"/>
                      </a:moveTo>
                      <a:lnTo>
                        <a:pt x="0" y="257"/>
                      </a:lnTo>
                      <a:lnTo>
                        <a:pt x="0" y="0"/>
                      </a:lnTo>
                      <a:lnTo>
                        <a:pt x="325" y="6"/>
                      </a:lnTo>
                      <a:lnTo>
                        <a:pt x="325" y="263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114ff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629560" y="2075040"/>
                  <a:ext cx="39600" cy="4348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f6bf6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3" name=""/>
            <p:cNvGrpSpPr/>
            <p:nvPr/>
          </p:nvGrpSpPr>
          <p:grpSpPr>
            <a:xfrm>
              <a:off x="412920" y="2031840"/>
              <a:ext cx="960120" cy="865440"/>
              <a:chOff x="412920" y="2031840"/>
              <a:chExt cx="960120" cy="865440"/>
            </a:xfrm>
          </p:grpSpPr>
          <p:grpSp>
            <p:nvGrpSpPr>
              <p:cNvPr id="1294" name=""/>
              <p:cNvGrpSpPr/>
              <p:nvPr/>
            </p:nvGrpSpPr>
            <p:grpSpPr>
              <a:xfrm>
                <a:off x="412920" y="2593800"/>
                <a:ext cx="960120" cy="303480"/>
                <a:chOff x="412920" y="2593800"/>
                <a:chExt cx="960120" cy="30348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412920" y="2597040"/>
                  <a:ext cx="955440" cy="166680"/>
                </a:xfrm>
                <a:custGeom>
                  <a:avLst/>
                  <a:gdLst/>
                  <a:ahLst/>
                  <a:rect l="l" t="t" r="r" b="b"/>
                  <a:pathLst>
                    <a:path w="602" h="105">
                      <a:moveTo>
                        <a:pt x="91" y="33"/>
                      </a:moveTo>
                      <a:lnTo>
                        <a:pt x="0" y="92"/>
                      </a:lnTo>
                      <a:lnTo>
                        <a:pt x="461" y="104"/>
                      </a:lnTo>
                      <a:lnTo>
                        <a:pt x="601" y="9"/>
                      </a:lnTo>
                      <a:lnTo>
                        <a:pt x="146" y="0"/>
                      </a:lnTo>
                      <a:lnTo>
                        <a:pt x="91" y="33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412920" y="2738520"/>
                  <a:ext cx="734760" cy="158760"/>
                </a:xfrm>
                <a:custGeom>
                  <a:avLst/>
                  <a:gdLst/>
                  <a:ahLst/>
                  <a:rect l="l" t="t" r="r" b="b"/>
                  <a:pathLst>
                    <a:path w="463" h="100">
                      <a:moveTo>
                        <a:pt x="0" y="0"/>
                      </a:moveTo>
                      <a:lnTo>
                        <a:pt x="462" y="15"/>
                      </a:lnTo>
                      <a:lnTo>
                        <a:pt x="462" y="99"/>
                      </a:lnTo>
                      <a:lnTo>
                        <a:pt x="0" y="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1149480" y="2612880"/>
                  <a:ext cx="223560" cy="284400"/>
                </a:xfrm>
                <a:custGeom>
                  <a:avLst/>
                  <a:gdLst/>
                  <a:ahLst/>
                  <a:rect l="l" t="t" r="r" b="b"/>
                  <a:pathLst>
                    <a:path w="141" h="179">
                      <a:moveTo>
                        <a:pt x="0" y="178"/>
                      </a:moveTo>
                      <a:lnTo>
                        <a:pt x="0" y="93"/>
                      </a:lnTo>
                      <a:lnTo>
                        <a:pt x="140" y="0"/>
                      </a:lnTo>
                      <a:lnTo>
                        <a:pt x="140" y="70"/>
                      </a:lnTo>
                      <a:lnTo>
                        <a:pt x="0" y="1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81040" y="2678040"/>
                  <a:ext cx="541440" cy="46080"/>
                </a:xfrm>
                <a:custGeom>
                  <a:avLst/>
                  <a:gdLst/>
                  <a:ahLst/>
                  <a:rect l="l" t="t" r="r" b="b"/>
                  <a:pathLst>
                    <a:path w="341" h="2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340" y="8"/>
                      </a:lnTo>
                      <a:lnTo>
                        <a:pt x="340" y="28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1120680" y="2612880"/>
                  <a:ext cx="122400" cy="111240"/>
                </a:xfrm>
                <a:custGeom>
                  <a:avLst/>
                  <a:gdLst/>
                  <a:ahLst/>
                  <a:rect l="l" t="t" r="r" b="b"/>
                  <a:pathLst>
                    <a:path w="77" h="70">
                      <a:moveTo>
                        <a:pt x="3" y="69"/>
                      </a:moveTo>
                      <a:lnTo>
                        <a:pt x="0" y="49"/>
                      </a:lnTo>
                      <a:lnTo>
                        <a:pt x="76" y="0"/>
                      </a:lnTo>
                      <a:lnTo>
                        <a:pt x="76" y="17"/>
                      </a:lnTo>
                      <a:lnTo>
                        <a:pt x="3" y="69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1040" y="2593800"/>
                  <a:ext cx="657360" cy="98640"/>
                </a:xfrm>
                <a:custGeom>
                  <a:avLst/>
                  <a:gdLst/>
                  <a:ahLst/>
                  <a:rect l="l" t="t" r="r" b="b"/>
                  <a:pathLst>
                    <a:path w="414" h="62">
                      <a:moveTo>
                        <a:pt x="0" y="52"/>
                      </a:moveTo>
                      <a:lnTo>
                        <a:pt x="337" y="61"/>
                      </a:lnTo>
                      <a:lnTo>
                        <a:pt x="413" y="9"/>
                      </a:lnTo>
                      <a:lnTo>
                        <a:pt x="88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423720" y="2031840"/>
                <a:ext cx="854280" cy="609840"/>
                <a:chOff x="423720" y="2031840"/>
                <a:chExt cx="854280" cy="60984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423720" y="2073240"/>
                  <a:ext cx="712800" cy="568440"/>
                </a:xfrm>
                <a:custGeom>
                  <a:avLst/>
                  <a:gdLst/>
                  <a:ahLst/>
                  <a:rect l="l" t="t" r="r" b="b"/>
                  <a:pathLst>
                    <a:path w="449" h="35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448" y="357"/>
                      </a:lnTo>
                      <a:lnTo>
                        <a:pt x="448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23720" y="2031840"/>
                  <a:ext cx="809640" cy="54000"/>
                </a:xfrm>
                <a:custGeom>
                  <a:avLst/>
                  <a:gdLst/>
                  <a:ahLst/>
                  <a:rect l="l" t="t" r="r" b="b"/>
                  <a:pathLst>
                    <a:path w="510" h="34">
                      <a:moveTo>
                        <a:pt x="0" y="27"/>
                      </a:moveTo>
                      <a:lnTo>
                        <a:pt x="112" y="0"/>
                      </a:lnTo>
                      <a:lnTo>
                        <a:pt x="509" y="3"/>
                      </a:lnTo>
                      <a:lnTo>
                        <a:pt x="445" y="33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1130400" y="2036880"/>
                  <a:ext cx="112680" cy="601560"/>
                </a:xfrm>
                <a:custGeom>
                  <a:avLst/>
                  <a:gdLst/>
                  <a:ahLst/>
                  <a:rect l="l" t="t" r="r" b="b"/>
                  <a:pathLst>
                    <a:path w="71" h="379">
                      <a:moveTo>
                        <a:pt x="0" y="378"/>
                      </a:moveTo>
                      <a:lnTo>
                        <a:pt x="0" y="29"/>
                      </a:lnTo>
                      <a:lnTo>
                        <a:pt x="70" y="0"/>
                      </a:lnTo>
                      <a:lnTo>
                        <a:pt x="70" y="322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12640" y="2147760"/>
                  <a:ext cx="517680" cy="419400"/>
                </a:xfrm>
                <a:custGeom>
                  <a:avLst/>
                  <a:gdLst/>
                  <a:ahLst/>
                  <a:rect l="l" t="t" r="r" b="b"/>
                  <a:pathLst>
                    <a:path w="326" h="264">
                      <a:moveTo>
                        <a:pt x="325" y="263"/>
                      </a:moveTo>
                      <a:lnTo>
                        <a:pt x="0" y="257"/>
                      </a:lnTo>
                      <a:lnTo>
                        <a:pt x="0" y="0"/>
                      </a:lnTo>
                      <a:lnTo>
                        <a:pt x="325" y="6"/>
                      </a:lnTo>
                      <a:lnTo>
                        <a:pt x="325" y="263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114ff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1238400" y="2075040"/>
                  <a:ext cx="39600" cy="4348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f6bf6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7" name=""/>
            <p:cNvGrpSpPr/>
            <p:nvPr/>
          </p:nvGrpSpPr>
          <p:grpSpPr>
            <a:xfrm>
              <a:off x="2360520" y="2143080"/>
              <a:ext cx="1527120" cy="830160"/>
              <a:chOff x="2360520" y="2143080"/>
              <a:chExt cx="1527120" cy="830160"/>
            </a:xfrm>
          </p:grpSpPr>
          <p:sp>
            <p:nvSpPr>
              <p:cNvPr id="1308" name=""/>
              <p:cNvSpPr/>
              <p:nvPr/>
            </p:nvSpPr>
            <p:spPr>
              <a:xfrm>
                <a:off x="2455920" y="2143080"/>
                <a:ext cx="1431720" cy="438120"/>
              </a:xfrm>
              <a:custGeom>
                <a:avLst/>
                <a:gdLst/>
                <a:ahLst/>
                <a:rect l="l" t="t" r="r" b="b"/>
                <a:pathLst>
                  <a:path w="902" h="276">
                    <a:moveTo>
                      <a:pt x="0" y="247"/>
                    </a:moveTo>
                    <a:lnTo>
                      <a:pt x="324" y="0"/>
                    </a:lnTo>
                    <a:lnTo>
                      <a:pt x="901" y="8"/>
                    </a:lnTo>
                    <a:lnTo>
                      <a:pt x="715" y="275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d4876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589200" y="2155680"/>
                <a:ext cx="298440" cy="814680"/>
              </a:xfrm>
              <a:custGeom>
                <a:avLst/>
                <a:gdLst/>
                <a:ahLst/>
                <a:rect l="l" t="t" r="r" b="b"/>
                <a:pathLst>
                  <a:path w="188" h="513">
                    <a:moveTo>
                      <a:pt x="0" y="268"/>
                    </a:moveTo>
                    <a:lnTo>
                      <a:pt x="0" y="512"/>
                    </a:lnTo>
                    <a:lnTo>
                      <a:pt x="187" y="197"/>
                    </a:lnTo>
                    <a:lnTo>
                      <a:pt x="187" y="0"/>
                    </a:lnTo>
                    <a:lnTo>
                      <a:pt x="0" y="268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443320" y="2532240"/>
                <a:ext cx="1144440" cy="441000"/>
              </a:xfrm>
              <a:custGeom>
                <a:avLst/>
                <a:gdLst/>
                <a:ahLst/>
                <a:rect l="l" t="t" r="r" b="b"/>
                <a:pathLst>
                  <a:path w="721" h="278">
                    <a:moveTo>
                      <a:pt x="0" y="0"/>
                    </a:moveTo>
                    <a:lnTo>
                      <a:pt x="720" y="30"/>
                    </a:lnTo>
                    <a:lnTo>
                      <a:pt x="720" y="277"/>
                    </a:lnTo>
                    <a:lnTo>
                      <a:pt x="0" y="2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476440" y="2571840"/>
                <a:ext cx="1073160" cy="349200"/>
              </a:xfrm>
              <a:custGeom>
                <a:avLst/>
                <a:gdLst/>
                <a:ahLst/>
                <a:rect l="l" t="t" r="r" b="b"/>
                <a:pathLst>
                  <a:path w="676" h="220">
                    <a:moveTo>
                      <a:pt x="0" y="0"/>
                    </a:moveTo>
                    <a:lnTo>
                      <a:pt x="675" y="30"/>
                    </a:lnTo>
                    <a:lnTo>
                      <a:pt x="675" y="219"/>
                    </a:lnTo>
                    <a:lnTo>
                      <a:pt x="0" y="1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2" name=""/>
              <p:cNvGrpSpPr/>
              <p:nvPr/>
            </p:nvGrpSpPr>
            <p:grpSpPr>
              <a:xfrm>
                <a:off x="2506680" y="2655720"/>
                <a:ext cx="981000" cy="176400"/>
                <a:chOff x="2506680" y="2655720"/>
                <a:chExt cx="981000" cy="17640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2506680" y="2655720"/>
                  <a:ext cx="485640" cy="84240"/>
                  <a:chOff x="2506680" y="2655720"/>
                  <a:chExt cx="485640" cy="8424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2506680" y="2655720"/>
                    <a:ext cx="4856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2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2529000" y="2676600"/>
                    <a:ext cx="19080" cy="22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2948040" y="269568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2568600" y="267336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2622600" y="267480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2670120" y="26780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2717640" y="268128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2762280" y="268272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2806560" y="2685960"/>
                    <a:ext cx="241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2854440" y="268920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2898720" y="26906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5" name=""/>
                <p:cNvGrpSpPr/>
                <p:nvPr/>
              </p:nvGrpSpPr>
              <p:grpSpPr>
                <a:xfrm>
                  <a:off x="2506680" y="2722680"/>
                  <a:ext cx="485640" cy="82440"/>
                  <a:chOff x="2506680" y="2722680"/>
                  <a:chExt cx="485640" cy="8244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>
                    <a:off x="2506680" y="2722680"/>
                    <a:ext cx="48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1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2529000" y="2743200"/>
                    <a:ext cx="190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2948040" y="276084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2568600" y="273852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2622600" y="27417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2670120" y="274464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2717640" y="2746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2762280" y="274968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2806560" y="275112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2854440" y="27543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2898720" y="275760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7" name=""/>
                <p:cNvGrpSpPr/>
                <p:nvPr/>
              </p:nvGrpSpPr>
              <p:grpSpPr>
                <a:xfrm>
                  <a:off x="3000240" y="2682720"/>
                  <a:ext cx="487440" cy="82800"/>
                  <a:chOff x="3000240" y="2682720"/>
                  <a:chExt cx="487440" cy="8280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>
                    <a:off x="3000240" y="2682720"/>
                    <a:ext cx="4874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1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3022560" y="270360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3443400" y="272268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3065400" y="269892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3117960" y="270180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3165480" y="270504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3213000" y="270684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3257640" y="2709720"/>
                    <a:ext cx="2196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3303720" y="271296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349800" y="27147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3394080" y="271764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9" name=""/>
                <p:cNvGrpSpPr/>
                <p:nvPr/>
              </p:nvGrpSpPr>
              <p:grpSpPr>
                <a:xfrm>
                  <a:off x="3000240" y="2747880"/>
                  <a:ext cx="487440" cy="84240"/>
                  <a:chOff x="3000240" y="2747880"/>
                  <a:chExt cx="487440" cy="84240"/>
                </a:xfrm>
              </p:grpSpPr>
              <p:sp>
                <p:nvSpPr>
                  <p:cNvPr id="1350" name=""/>
                  <p:cNvSpPr/>
                  <p:nvPr/>
                </p:nvSpPr>
                <p:spPr>
                  <a:xfrm>
                    <a:off x="3000240" y="2747880"/>
                    <a:ext cx="4874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2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3022560" y="276876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3443400" y="2787480"/>
                    <a:ext cx="20520" cy="2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3065400" y="276552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3117960" y="2766960"/>
                    <a:ext cx="205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3165480" y="277020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3213000" y="2773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3257640" y="277488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3303720" y="277812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3349800" y="27813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3394080" y="278280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2360520" y="2532240"/>
                <a:ext cx="114480" cy="376200"/>
                <a:chOff x="2360520" y="2532240"/>
                <a:chExt cx="114480" cy="37620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2370240" y="2532240"/>
                  <a:ext cx="104760" cy="376200"/>
                </a:xfrm>
                <a:custGeom>
                  <a:avLst/>
                  <a:gdLst/>
                  <a:ahLst/>
                  <a:rect l="l" t="t" r="r" b="b"/>
                  <a:pathLst>
                    <a:path w="66" h="237">
                      <a:moveTo>
                        <a:pt x="2" y="0"/>
                      </a:moveTo>
                      <a:lnTo>
                        <a:pt x="65" y="3"/>
                      </a:lnTo>
                      <a:lnTo>
                        <a:pt x="65" y="236"/>
                      </a:lnTo>
                      <a:lnTo>
                        <a:pt x="0" y="2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3" name=""/>
                <p:cNvGrpSpPr/>
                <p:nvPr/>
              </p:nvGrpSpPr>
              <p:grpSpPr>
                <a:xfrm>
                  <a:off x="2360520" y="2583000"/>
                  <a:ext cx="74880" cy="317520"/>
                  <a:chOff x="2360520" y="2583000"/>
                  <a:chExt cx="74880" cy="31752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2362320" y="2644920"/>
                    <a:ext cx="20520" cy="2491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2360520" y="2583000"/>
                    <a:ext cx="748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V="1">
                    <a:off x="2386080" y="2590920"/>
                    <a:ext cx="47520" cy="489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flipV="1">
                    <a:off x="2400480" y="2830680"/>
                    <a:ext cx="20520" cy="93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8" name=""/>
              <p:cNvGrpSpPr/>
              <p:nvPr/>
            </p:nvGrpSpPr>
            <p:grpSpPr>
              <a:xfrm>
                <a:off x="3511440" y="2576520"/>
                <a:ext cx="114480" cy="396720"/>
                <a:chOff x="3511440" y="2576520"/>
                <a:chExt cx="114480" cy="39672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3521160" y="2576520"/>
                  <a:ext cx="104760" cy="396720"/>
                </a:xfrm>
                <a:custGeom>
                  <a:avLst/>
                  <a:gdLst/>
                  <a:ahLst/>
                  <a:rect l="l" t="t" r="r" b="b"/>
                  <a:pathLst>
                    <a:path w="66" h="250">
                      <a:moveTo>
                        <a:pt x="2" y="0"/>
                      </a:moveTo>
                      <a:lnTo>
                        <a:pt x="65" y="0"/>
                      </a:lnTo>
                      <a:lnTo>
                        <a:pt x="65" y="249"/>
                      </a:lnTo>
                      <a:lnTo>
                        <a:pt x="0" y="24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0" name=""/>
                <p:cNvGrpSpPr/>
                <p:nvPr/>
              </p:nvGrpSpPr>
              <p:grpSpPr>
                <a:xfrm>
                  <a:off x="3511440" y="2647800"/>
                  <a:ext cx="74880" cy="317520"/>
                  <a:chOff x="3511440" y="2647800"/>
                  <a:chExt cx="74880" cy="31752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3513240" y="2709720"/>
                    <a:ext cx="19080" cy="250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3511440" y="2647800"/>
                    <a:ext cx="748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 flipV="1">
                    <a:off x="3537000" y="2655720"/>
                    <a:ext cx="47520" cy="5112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 flipV="1">
                    <a:off x="3552840" y="2895120"/>
                    <a:ext cx="19080" cy="111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75" name=""/>
              <p:cNvSpPr/>
              <p:nvPr/>
            </p:nvSpPr>
            <p:spPr>
              <a:xfrm>
                <a:off x="3059280" y="2619360"/>
                <a:ext cx="425160" cy="50760"/>
              </a:xfrm>
              <a:custGeom>
                <a:avLst/>
                <a:gdLst/>
                <a:ahLst/>
                <a:rect l="l" t="t" r="r" b="b"/>
                <a:pathLst>
                  <a:path w="268" h="32">
                    <a:moveTo>
                      <a:pt x="0" y="21"/>
                    </a:moveTo>
                    <a:lnTo>
                      <a:pt x="0" y="0"/>
                    </a:lnTo>
                    <a:lnTo>
                      <a:pt x="267" y="10"/>
                    </a:lnTo>
                    <a:lnTo>
                      <a:pt x="267" y="3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506680" y="2592360"/>
                <a:ext cx="66600" cy="446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25"/>
                    </a:moveTo>
                    <a:lnTo>
                      <a:pt x="41" y="27"/>
                    </a:lnTo>
                    <a:lnTo>
                      <a:pt x="41" y="2"/>
                    </a:lnTo>
                    <a:lnTo>
                      <a:pt x="0" y="0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687760" y="281160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720880" y="2814480"/>
                <a:ext cx="2088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52560" y="2816280"/>
                <a:ext cx="208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787480" y="2819520"/>
                <a:ext cx="190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819520" y="2822400"/>
                <a:ext cx="1908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851200" y="282420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890800" y="2816280"/>
                <a:ext cx="4752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23"/>
                    </a:moveTo>
                    <a:lnTo>
                      <a:pt x="0" y="0"/>
                    </a:lnTo>
                    <a:lnTo>
                      <a:pt x="29" y="2"/>
                    </a:lnTo>
                    <a:lnTo>
                      <a:pt x="29" y="2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976480" y="2827440"/>
                <a:ext cx="77760" cy="381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0" y="21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081240" y="2832120"/>
                <a:ext cx="79560" cy="381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0" y="21"/>
                    </a:moveTo>
                    <a:lnTo>
                      <a:pt x="0" y="0"/>
                    </a:lnTo>
                    <a:lnTo>
                      <a:pt x="49" y="2"/>
                    </a:lnTo>
                    <a:lnTo>
                      <a:pt x="49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181320" y="2835360"/>
                <a:ext cx="131760" cy="4608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3"/>
                    </a:moveTo>
                    <a:lnTo>
                      <a:pt x="0" y="0"/>
                    </a:lnTo>
                    <a:lnTo>
                      <a:pt x="82" y="5"/>
                    </a:lnTo>
                    <a:lnTo>
                      <a:pt x="82" y="2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951440" y="2143080"/>
              <a:ext cx="1527120" cy="830160"/>
              <a:chOff x="4951440" y="2143080"/>
              <a:chExt cx="1527120" cy="830160"/>
            </a:xfrm>
          </p:grpSpPr>
          <p:sp>
            <p:nvSpPr>
              <p:cNvPr id="1388" name=""/>
              <p:cNvSpPr/>
              <p:nvPr/>
            </p:nvSpPr>
            <p:spPr>
              <a:xfrm>
                <a:off x="5046840" y="2143080"/>
                <a:ext cx="1431720" cy="438120"/>
              </a:xfrm>
              <a:custGeom>
                <a:avLst/>
                <a:gdLst/>
                <a:ahLst/>
                <a:rect l="l" t="t" r="r" b="b"/>
                <a:pathLst>
                  <a:path w="902" h="276">
                    <a:moveTo>
                      <a:pt x="0" y="247"/>
                    </a:moveTo>
                    <a:lnTo>
                      <a:pt x="324" y="0"/>
                    </a:lnTo>
                    <a:lnTo>
                      <a:pt x="901" y="8"/>
                    </a:lnTo>
                    <a:lnTo>
                      <a:pt x="715" y="275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d4876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180120" y="2155680"/>
                <a:ext cx="298440" cy="814680"/>
              </a:xfrm>
              <a:custGeom>
                <a:avLst/>
                <a:gdLst/>
                <a:ahLst/>
                <a:rect l="l" t="t" r="r" b="b"/>
                <a:pathLst>
                  <a:path w="188" h="513">
                    <a:moveTo>
                      <a:pt x="0" y="268"/>
                    </a:moveTo>
                    <a:lnTo>
                      <a:pt x="0" y="512"/>
                    </a:lnTo>
                    <a:lnTo>
                      <a:pt x="187" y="197"/>
                    </a:lnTo>
                    <a:lnTo>
                      <a:pt x="187" y="0"/>
                    </a:lnTo>
                    <a:lnTo>
                      <a:pt x="0" y="268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33880" y="2532240"/>
                <a:ext cx="1144800" cy="441000"/>
              </a:xfrm>
              <a:custGeom>
                <a:avLst/>
                <a:gdLst/>
                <a:ahLst/>
                <a:rect l="l" t="t" r="r" b="b"/>
                <a:pathLst>
                  <a:path w="721" h="278">
                    <a:moveTo>
                      <a:pt x="0" y="0"/>
                    </a:moveTo>
                    <a:lnTo>
                      <a:pt x="720" y="30"/>
                    </a:lnTo>
                    <a:lnTo>
                      <a:pt x="720" y="277"/>
                    </a:lnTo>
                    <a:lnTo>
                      <a:pt x="0" y="2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067360" y="2571840"/>
                <a:ext cx="1073160" cy="349200"/>
              </a:xfrm>
              <a:custGeom>
                <a:avLst/>
                <a:gdLst/>
                <a:ahLst/>
                <a:rect l="l" t="t" r="r" b="b"/>
                <a:pathLst>
                  <a:path w="676" h="220">
                    <a:moveTo>
                      <a:pt x="0" y="0"/>
                    </a:moveTo>
                    <a:lnTo>
                      <a:pt x="675" y="30"/>
                    </a:lnTo>
                    <a:lnTo>
                      <a:pt x="675" y="219"/>
                    </a:lnTo>
                    <a:lnTo>
                      <a:pt x="0" y="1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2" name=""/>
              <p:cNvGrpSpPr/>
              <p:nvPr/>
            </p:nvGrpSpPr>
            <p:grpSpPr>
              <a:xfrm>
                <a:off x="5097600" y="2655720"/>
                <a:ext cx="981000" cy="176400"/>
                <a:chOff x="5097600" y="2655720"/>
                <a:chExt cx="981000" cy="176400"/>
              </a:xfrm>
            </p:grpSpPr>
            <p:grpSp>
              <p:nvGrpSpPr>
                <p:cNvPr id="1393" name=""/>
                <p:cNvGrpSpPr/>
                <p:nvPr/>
              </p:nvGrpSpPr>
              <p:grpSpPr>
                <a:xfrm>
                  <a:off x="5097600" y="2655720"/>
                  <a:ext cx="485640" cy="84240"/>
                  <a:chOff x="5097600" y="2655720"/>
                  <a:chExt cx="485640" cy="8424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5097600" y="2655720"/>
                    <a:ext cx="4856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2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5119560" y="2676600"/>
                    <a:ext cx="19080" cy="22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5538960" y="269568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5159520" y="267336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5213520" y="267480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5261040" y="26780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5308560" y="268128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5353200" y="268272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5397480" y="268596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5445000" y="268920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5489640" y="26906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5" name=""/>
                <p:cNvGrpSpPr/>
                <p:nvPr/>
              </p:nvGrpSpPr>
              <p:grpSpPr>
                <a:xfrm>
                  <a:off x="5097600" y="2722680"/>
                  <a:ext cx="485640" cy="82440"/>
                  <a:chOff x="5097600" y="2722680"/>
                  <a:chExt cx="485640" cy="82440"/>
                </a:xfrm>
              </p:grpSpPr>
              <p:sp>
                <p:nvSpPr>
                  <p:cNvPr id="1406" name=""/>
                  <p:cNvSpPr/>
                  <p:nvPr/>
                </p:nvSpPr>
                <p:spPr>
                  <a:xfrm>
                    <a:off x="5097600" y="2722680"/>
                    <a:ext cx="48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1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5119560" y="2743200"/>
                    <a:ext cx="190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5538960" y="276084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5159520" y="273852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5213520" y="27417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5261040" y="274464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5308560" y="2746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5353200" y="274968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5397480" y="275112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5445000" y="27543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5489640" y="275760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7" name=""/>
                <p:cNvGrpSpPr/>
                <p:nvPr/>
              </p:nvGrpSpPr>
              <p:grpSpPr>
                <a:xfrm>
                  <a:off x="5591160" y="2682720"/>
                  <a:ext cx="487440" cy="82800"/>
                  <a:chOff x="5591160" y="2682720"/>
                  <a:chExt cx="487440" cy="82800"/>
                </a:xfrm>
              </p:grpSpPr>
              <p:sp>
                <p:nvSpPr>
                  <p:cNvPr id="1418" name=""/>
                  <p:cNvSpPr/>
                  <p:nvPr/>
                </p:nvSpPr>
                <p:spPr>
                  <a:xfrm>
                    <a:off x="5591160" y="2682720"/>
                    <a:ext cx="4874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1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5613480" y="270360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6033960" y="272268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5656320" y="269892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5708520" y="2701800"/>
                    <a:ext cx="2088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5756400" y="270504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5803920" y="270684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5848200" y="270972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5894280" y="2712960"/>
                    <a:ext cx="2088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5940360" y="27147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5985000" y="2717640"/>
                    <a:ext cx="2196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5591160" y="2747880"/>
                  <a:ext cx="487440" cy="84240"/>
                  <a:chOff x="5591160" y="2747880"/>
                  <a:chExt cx="487440" cy="8424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5591160" y="2747880"/>
                    <a:ext cx="4874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2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5613480" y="276876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6033960" y="2787480"/>
                    <a:ext cx="20880" cy="2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5656320" y="276552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5708520" y="2766960"/>
                    <a:ext cx="2088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5756400" y="277020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5803920" y="2773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5848200" y="277488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5894280" y="2778120"/>
                    <a:ext cx="2088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5940360" y="27813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5985000" y="278280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1" name=""/>
              <p:cNvGrpSpPr/>
              <p:nvPr/>
            </p:nvGrpSpPr>
            <p:grpSpPr>
              <a:xfrm>
                <a:off x="4951440" y="2532240"/>
                <a:ext cx="114120" cy="376200"/>
                <a:chOff x="4951440" y="2532240"/>
                <a:chExt cx="114120" cy="37620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4960800" y="2532240"/>
                  <a:ext cx="104760" cy="376200"/>
                </a:xfrm>
                <a:custGeom>
                  <a:avLst/>
                  <a:gdLst/>
                  <a:ahLst/>
                  <a:rect l="l" t="t" r="r" b="b"/>
                  <a:pathLst>
                    <a:path w="66" h="237">
                      <a:moveTo>
                        <a:pt x="2" y="0"/>
                      </a:moveTo>
                      <a:lnTo>
                        <a:pt x="65" y="3"/>
                      </a:lnTo>
                      <a:lnTo>
                        <a:pt x="65" y="236"/>
                      </a:lnTo>
                      <a:lnTo>
                        <a:pt x="0" y="2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3" name=""/>
                <p:cNvGrpSpPr/>
                <p:nvPr/>
              </p:nvGrpSpPr>
              <p:grpSpPr>
                <a:xfrm>
                  <a:off x="4951440" y="2583000"/>
                  <a:ext cx="74520" cy="317520"/>
                  <a:chOff x="4951440" y="2583000"/>
                  <a:chExt cx="74520" cy="317520"/>
                </a:xfrm>
              </p:grpSpPr>
              <p:sp>
                <p:nvSpPr>
                  <p:cNvPr id="1444" name=""/>
                  <p:cNvSpPr/>
                  <p:nvPr/>
                </p:nvSpPr>
                <p:spPr>
                  <a:xfrm>
                    <a:off x="4952880" y="2644920"/>
                    <a:ext cx="20880" cy="2491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4951440" y="2583000"/>
                    <a:ext cx="745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 flipV="1">
                    <a:off x="4976640" y="2590920"/>
                    <a:ext cx="47880" cy="489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 flipV="1">
                    <a:off x="4991040" y="2830680"/>
                    <a:ext cx="20520" cy="93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8" name=""/>
              <p:cNvGrpSpPr/>
              <p:nvPr/>
            </p:nvGrpSpPr>
            <p:grpSpPr>
              <a:xfrm>
                <a:off x="6102360" y="2576520"/>
                <a:ext cx="114120" cy="396720"/>
                <a:chOff x="6102360" y="2576520"/>
                <a:chExt cx="114120" cy="39672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6111720" y="2576520"/>
                  <a:ext cx="104760" cy="396720"/>
                </a:xfrm>
                <a:custGeom>
                  <a:avLst/>
                  <a:gdLst/>
                  <a:ahLst/>
                  <a:rect l="l" t="t" r="r" b="b"/>
                  <a:pathLst>
                    <a:path w="66" h="250">
                      <a:moveTo>
                        <a:pt x="2" y="0"/>
                      </a:moveTo>
                      <a:lnTo>
                        <a:pt x="65" y="0"/>
                      </a:lnTo>
                      <a:lnTo>
                        <a:pt x="65" y="249"/>
                      </a:lnTo>
                      <a:lnTo>
                        <a:pt x="0" y="24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0" name=""/>
                <p:cNvGrpSpPr/>
                <p:nvPr/>
              </p:nvGrpSpPr>
              <p:grpSpPr>
                <a:xfrm>
                  <a:off x="6102360" y="2647800"/>
                  <a:ext cx="74520" cy="317520"/>
                  <a:chOff x="6102360" y="2647800"/>
                  <a:chExt cx="74520" cy="31752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6103800" y="2709720"/>
                    <a:ext cx="19080" cy="250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102360" y="2647800"/>
                    <a:ext cx="745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 flipV="1">
                    <a:off x="6127920" y="2655720"/>
                    <a:ext cx="47520" cy="5112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 flipV="1">
                    <a:off x="6143760" y="2895120"/>
                    <a:ext cx="19080" cy="111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55" name=""/>
              <p:cNvSpPr/>
              <p:nvPr/>
            </p:nvSpPr>
            <p:spPr>
              <a:xfrm>
                <a:off x="5649840" y="2619360"/>
                <a:ext cx="425520" cy="50760"/>
              </a:xfrm>
              <a:custGeom>
                <a:avLst/>
                <a:gdLst/>
                <a:ahLst/>
                <a:rect l="l" t="t" r="r" b="b"/>
                <a:pathLst>
                  <a:path w="268" h="32">
                    <a:moveTo>
                      <a:pt x="0" y="21"/>
                    </a:moveTo>
                    <a:lnTo>
                      <a:pt x="0" y="0"/>
                    </a:lnTo>
                    <a:lnTo>
                      <a:pt x="267" y="10"/>
                    </a:lnTo>
                    <a:lnTo>
                      <a:pt x="267" y="3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097600" y="2592360"/>
                <a:ext cx="66600" cy="446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25"/>
                    </a:moveTo>
                    <a:lnTo>
                      <a:pt x="41" y="27"/>
                    </a:lnTo>
                    <a:lnTo>
                      <a:pt x="41" y="2"/>
                    </a:lnTo>
                    <a:lnTo>
                      <a:pt x="0" y="0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278320" y="2811600"/>
                <a:ext cx="208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11800" y="2814480"/>
                <a:ext cx="2052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343480" y="281628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378400" y="2819520"/>
                <a:ext cx="190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410080" y="2822400"/>
                <a:ext cx="1908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442120" y="282420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481720" y="2816280"/>
                <a:ext cx="4752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23"/>
                    </a:moveTo>
                    <a:lnTo>
                      <a:pt x="0" y="0"/>
                    </a:lnTo>
                    <a:lnTo>
                      <a:pt x="29" y="2"/>
                    </a:lnTo>
                    <a:lnTo>
                      <a:pt x="29" y="2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567400" y="2827440"/>
                <a:ext cx="77760" cy="381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0" y="21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72160" y="2832120"/>
                <a:ext cx="79200" cy="381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0" y="21"/>
                    </a:moveTo>
                    <a:lnTo>
                      <a:pt x="0" y="0"/>
                    </a:lnTo>
                    <a:lnTo>
                      <a:pt x="49" y="2"/>
                    </a:lnTo>
                    <a:lnTo>
                      <a:pt x="49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772240" y="2835360"/>
                <a:ext cx="131760" cy="4608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3"/>
                    </a:moveTo>
                    <a:lnTo>
                      <a:pt x="0" y="0"/>
                    </a:lnTo>
                    <a:lnTo>
                      <a:pt x="82" y="5"/>
                    </a:lnTo>
                    <a:lnTo>
                      <a:pt x="82" y="2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7" name=""/>
          <p:cNvSpPr/>
          <p:nvPr/>
        </p:nvSpPr>
        <p:spPr>
          <a:xfrm>
            <a:off x="533520" y="7621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P SOBRE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 flipH="1">
            <a:off x="577440" y="3757680"/>
            <a:ext cx="7689960" cy="0"/>
          </a:xfrm>
          <a:prstGeom prst="line">
            <a:avLst/>
          </a:prstGeom>
          <a:ln w="101520">
            <a:solidFill>
              <a:srgbClr val="d487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724200" y="3359160"/>
            <a:ext cx="146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s 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54160" y="1879560"/>
            <a:ext cx="8573760" cy="1409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206360" y="2489040"/>
            <a:ext cx="67564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157800" y="2382840"/>
            <a:ext cx="262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671840" y="2190600"/>
            <a:ext cx="569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42160" y="2190600"/>
            <a:ext cx="569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664680" y="2190600"/>
            <a:ext cx="569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00600" y="2882880"/>
            <a:ext cx="1608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End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475720" y="2990880"/>
            <a:ext cx="1193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403440" y="2476440"/>
            <a:ext cx="432000" cy="43200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84680" y="2793960"/>
            <a:ext cx="698400" cy="4190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776760" y="2863800"/>
            <a:ext cx="741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66480" y="4065480"/>
            <a:ext cx="73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41520" y="4432320"/>
            <a:ext cx="2184120" cy="0"/>
          </a:xfrm>
          <a:prstGeom prst="line">
            <a:avLst/>
          </a:prstGeom>
          <a:ln w="50760">
            <a:solidFill>
              <a:srgbClr val="f5e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290680" y="4673520"/>
            <a:ext cx="1406520" cy="9003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287440" y="4743360"/>
            <a:ext cx="13543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ells are buffered and congestion contro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8400" y="4686480"/>
            <a:ext cx="1406520" cy="9000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4240" y="4672080"/>
            <a:ext cx="13539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P packets are segmented into cells which are then rate contro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035240" y="4091040"/>
            <a:ext cx="73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409920" y="4457880"/>
            <a:ext cx="2184480" cy="0"/>
          </a:xfrm>
          <a:prstGeom prst="line">
            <a:avLst/>
          </a:prstGeom>
          <a:ln w="50760">
            <a:solidFill>
              <a:srgbClr val="f5e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008680" y="4648320"/>
            <a:ext cx="1406520" cy="90000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024520" y="4710240"/>
            <a:ext cx="13539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721200" y="4091040"/>
            <a:ext cx="73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076800" y="4444920"/>
            <a:ext cx="2184480" cy="0"/>
          </a:xfrm>
          <a:prstGeom prst="line">
            <a:avLst/>
          </a:prstGeom>
          <a:ln w="50760">
            <a:solidFill>
              <a:srgbClr val="f5e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675560" y="4635360"/>
            <a:ext cx="1406520" cy="9003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691400" y="4773600"/>
            <a:ext cx="13543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ells are reassembled into IP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142960" y="2990880"/>
            <a:ext cx="1193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702120" y="257184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179600" y="255276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709280" y="253368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049720" y="4724280"/>
            <a:ext cx="13543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ells are buffered and congestion contro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285680" y="2882880"/>
            <a:ext cx="1608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End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412920" y="2031840"/>
            <a:ext cx="8367480" cy="941400"/>
            <a:chOff x="412920" y="2031840"/>
            <a:chExt cx="8367480" cy="941400"/>
          </a:xfrm>
        </p:grpSpPr>
        <p:sp>
          <p:nvSpPr>
            <p:cNvPr id="1502" name=""/>
            <p:cNvSpPr/>
            <p:nvPr/>
          </p:nvSpPr>
          <p:spPr>
            <a:xfrm>
              <a:off x="1206360" y="2463840"/>
              <a:ext cx="6756480" cy="0"/>
            </a:xfrm>
            <a:prstGeom prst="line">
              <a:avLst/>
            </a:prstGeom>
            <a:ln w="25560">
              <a:solidFill>
                <a:srgbClr val="f2c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57800" y="2357280"/>
              <a:ext cx="262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7804080" y="2031840"/>
              <a:ext cx="960480" cy="865440"/>
              <a:chOff x="7804080" y="2031840"/>
              <a:chExt cx="960480" cy="865440"/>
            </a:xfrm>
          </p:grpSpPr>
          <p:grpSp>
            <p:nvGrpSpPr>
              <p:cNvPr id="1505" name=""/>
              <p:cNvGrpSpPr/>
              <p:nvPr/>
            </p:nvGrpSpPr>
            <p:grpSpPr>
              <a:xfrm>
                <a:off x="7804080" y="2593800"/>
                <a:ext cx="960480" cy="303480"/>
                <a:chOff x="7804080" y="2593800"/>
                <a:chExt cx="960480" cy="30348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7804080" y="2597040"/>
                  <a:ext cx="955800" cy="166680"/>
                </a:xfrm>
                <a:custGeom>
                  <a:avLst/>
                  <a:gdLst/>
                  <a:ahLst/>
                  <a:rect l="l" t="t" r="r" b="b"/>
                  <a:pathLst>
                    <a:path w="602" h="105">
                      <a:moveTo>
                        <a:pt x="91" y="33"/>
                      </a:moveTo>
                      <a:lnTo>
                        <a:pt x="0" y="92"/>
                      </a:lnTo>
                      <a:lnTo>
                        <a:pt x="461" y="104"/>
                      </a:lnTo>
                      <a:lnTo>
                        <a:pt x="601" y="9"/>
                      </a:lnTo>
                      <a:lnTo>
                        <a:pt x="146" y="0"/>
                      </a:lnTo>
                      <a:lnTo>
                        <a:pt x="91" y="33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804080" y="2738520"/>
                  <a:ext cx="735120" cy="158760"/>
                </a:xfrm>
                <a:custGeom>
                  <a:avLst/>
                  <a:gdLst/>
                  <a:ahLst/>
                  <a:rect l="l" t="t" r="r" b="b"/>
                  <a:pathLst>
                    <a:path w="463" h="100">
                      <a:moveTo>
                        <a:pt x="0" y="0"/>
                      </a:moveTo>
                      <a:lnTo>
                        <a:pt x="462" y="15"/>
                      </a:lnTo>
                      <a:lnTo>
                        <a:pt x="462" y="99"/>
                      </a:lnTo>
                      <a:lnTo>
                        <a:pt x="0" y="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8540640" y="2612880"/>
                  <a:ext cx="223920" cy="284400"/>
                </a:xfrm>
                <a:custGeom>
                  <a:avLst/>
                  <a:gdLst/>
                  <a:ahLst/>
                  <a:rect l="l" t="t" r="r" b="b"/>
                  <a:pathLst>
                    <a:path w="141" h="179">
                      <a:moveTo>
                        <a:pt x="0" y="178"/>
                      </a:moveTo>
                      <a:lnTo>
                        <a:pt x="0" y="93"/>
                      </a:lnTo>
                      <a:lnTo>
                        <a:pt x="140" y="0"/>
                      </a:lnTo>
                      <a:lnTo>
                        <a:pt x="140" y="70"/>
                      </a:lnTo>
                      <a:lnTo>
                        <a:pt x="0" y="1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972560" y="2678040"/>
                  <a:ext cx="541080" cy="46080"/>
                </a:xfrm>
                <a:custGeom>
                  <a:avLst/>
                  <a:gdLst/>
                  <a:ahLst/>
                  <a:rect l="l" t="t" r="r" b="b"/>
                  <a:pathLst>
                    <a:path w="341" h="2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340" y="8"/>
                      </a:lnTo>
                      <a:lnTo>
                        <a:pt x="340" y="28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8512200" y="2612880"/>
                  <a:ext cx="122040" cy="111240"/>
                </a:xfrm>
                <a:custGeom>
                  <a:avLst/>
                  <a:gdLst/>
                  <a:ahLst/>
                  <a:rect l="l" t="t" r="r" b="b"/>
                  <a:pathLst>
                    <a:path w="77" h="70">
                      <a:moveTo>
                        <a:pt x="3" y="69"/>
                      </a:moveTo>
                      <a:lnTo>
                        <a:pt x="0" y="49"/>
                      </a:lnTo>
                      <a:lnTo>
                        <a:pt x="76" y="0"/>
                      </a:lnTo>
                      <a:lnTo>
                        <a:pt x="76" y="17"/>
                      </a:lnTo>
                      <a:lnTo>
                        <a:pt x="3" y="69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972560" y="2593800"/>
                  <a:ext cx="657000" cy="98640"/>
                </a:xfrm>
                <a:custGeom>
                  <a:avLst/>
                  <a:gdLst/>
                  <a:ahLst/>
                  <a:rect l="l" t="t" r="r" b="b"/>
                  <a:pathLst>
                    <a:path w="414" h="62">
                      <a:moveTo>
                        <a:pt x="0" y="52"/>
                      </a:moveTo>
                      <a:lnTo>
                        <a:pt x="337" y="61"/>
                      </a:lnTo>
                      <a:lnTo>
                        <a:pt x="413" y="9"/>
                      </a:lnTo>
                      <a:lnTo>
                        <a:pt x="88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7815240" y="2031840"/>
                <a:ext cx="853920" cy="609840"/>
                <a:chOff x="7815240" y="2031840"/>
                <a:chExt cx="853920" cy="60984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7815240" y="2073240"/>
                  <a:ext cx="712800" cy="568440"/>
                </a:xfrm>
                <a:custGeom>
                  <a:avLst/>
                  <a:gdLst/>
                  <a:ahLst/>
                  <a:rect l="l" t="t" r="r" b="b"/>
                  <a:pathLst>
                    <a:path w="449" h="35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448" y="357"/>
                      </a:lnTo>
                      <a:lnTo>
                        <a:pt x="448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815240" y="2031840"/>
                  <a:ext cx="809640" cy="54000"/>
                </a:xfrm>
                <a:custGeom>
                  <a:avLst/>
                  <a:gdLst/>
                  <a:ahLst/>
                  <a:rect l="l" t="t" r="r" b="b"/>
                  <a:pathLst>
                    <a:path w="510" h="34">
                      <a:moveTo>
                        <a:pt x="0" y="27"/>
                      </a:moveTo>
                      <a:lnTo>
                        <a:pt x="112" y="0"/>
                      </a:lnTo>
                      <a:lnTo>
                        <a:pt x="509" y="3"/>
                      </a:lnTo>
                      <a:lnTo>
                        <a:pt x="445" y="33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521560" y="2036880"/>
                  <a:ext cx="112680" cy="601560"/>
                </a:xfrm>
                <a:custGeom>
                  <a:avLst/>
                  <a:gdLst/>
                  <a:ahLst/>
                  <a:rect l="l" t="t" r="r" b="b"/>
                  <a:pathLst>
                    <a:path w="71" h="379">
                      <a:moveTo>
                        <a:pt x="0" y="378"/>
                      </a:moveTo>
                      <a:lnTo>
                        <a:pt x="0" y="29"/>
                      </a:lnTo>
                      <a:lnTo>
                        <a:pt x="70" y="0"/>
                      </a:lnTo>
                      <a:lnTo>
                        <a:pt x="70" y="322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904160" y="2147760"/>
                  <a:ext cx="517680" cy="419400"/>
                </a:xfrm>
                <a:custGeom>
                  <a:avLst/>
                  <a:gdLst/>
                  <a:ahLst/>
                  <a:rect l="l" t="t" r="r" b="b"/>
                  <a:pathLst>
                    <a:path w="326" h="264">
                      <a:moveTo>
                        <a:pt x="325" y="263"/>
                      </a:moveTo>
                      <a:lnTo>
                        <a:pt x="0" y="257"/>
                      </a:lnTo>
                      <a:lnTo>
                        <a:pt x="0" y="0"/>
                      </a:lnTo>
                      <a:lnTo>
                        <a:pt x="325" y="6"/>
                      </a:lnTo>
                      <a:lnTo>
                        <a:pt x="325" y="263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114ff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8629560" y="2075040"/>
                  <a:ext cx="39600" cy="4348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f6bf6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"/>
            <p:cNvGrpSpPr/>
            <p:nvPr/>
          </p:nvGrpSpPr>
          <p:grpSpPr>
            <a:xfrm>
              <a:off x="412920" y="2031840"/>
              <a:ext cx="960120" cy="865440"/>
              <a:chOff x="412920" y="2031840"/>
              <a:chExt cx="960120" cy="865440"/>
            </a:xfrm>
          </p:grpSpPr>
          <p:grpSp>
            <p:nvGrpSpPr>
              <p:cNvPr id="1519" name=""/>
              <p:cNvGrpSpPr/>
              <p:nvPr/>
            </p:nvGrpSpPr>
            <p:grpSpPr>
              <a:xfrm>
                <a:off x="412920" y="2593800"/>
                <a:ext cx="960120" cy="303480"/>
                <a:chOff x="412920" y="2593800"/>
                <a:chExt cx="960120" cy="303480"/>
              </a:xfrm>
            </p:grpSpPr>
            <p:sp>
              <p:nvSpPr>
                <p:cNvPr id="1520" name=""/>
                <p:cNvSpPr/>
                <p:nvPr/>
              </p:nvSpPr>
              <p:spPr>
                <a:xfrm>
                  <a:off x="412920" y="2597040"/>
                  <a:ext cx="955440" cy="166680"/>
                </a:xfrm>
                <a:custGeom>
                  <a:avLst/>
                  <a:gdLst/>
                  <a:ahLst/>
                  <a:rect l="l" t="t" r="r" b="b"/>
                  <a:pathLst>
                    <a:path w="602" h="105">
                      <a:moveTo>
                        <a:pt x="91" y="33"/>
                      </a:moveTo>
                      <a:lnTo>
                        <a:pt x="0" y="92"/>
                      </a:lnTo>
                      <a:lnTo>
                        <a:pt x="461" y="104"/>
                      </a:lnTo>
                      <a:lnTo>
                        <a:pt x="601" y="9"/>
                      </a:lnTo>
                      <a:lnTo>
                        <a:pt x="146" y="0"/>
                      </a:lnTo>
                      <a:lnTo>
                        <a:pt x="91" y="33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412920" y="2738520"/>
                  <a:ext cx="734760" cy="158760"/>
                </a:xfrm>
                <a:custGeom>
                  <a:avLst/>
                  <a:gdLst/>
                  <a:ahLst/>
                  <a:rect l="l" t="t" r="r" b="b"/>
                  <a:pathLst>
                    <a:path w="463" h="100">
                      <a:moveTo>
                        <a:pt x="0" y="0"/>
                      </a:moveTo>
                      <a:lnTo>
                        <a:pt x="462" y="15"/>
                      </a:lnTo>
                      <a:lnTo>
                        <a:pt x="462" y="99"/>
                      </a:lnTo>
                      <a:lnTo>
                        <a:pt x="0" y="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1149480" y="2612880"/>
                  <a:ext cx="223560" cy="284400"/>
                </a:xfrm>
                <a:custGeom>
                  <a:avLst/>
                  <a:gdLst/>
                  <a:ahLst/>
                  <a:rect l="l" t="t" r="r" b="b"/>
                  <a:pathLst>
                    <a:path w="141" h="179">
                      <a:moveTo>
                        <a:pt x="0" y="178"/>
                      </a:moveTo>
                      <a:lnTo>
                        <a:pt x="0" y="93"/>
                      </a:lnTo>
                      <a:lnTo>
                        <a:pt x="140" y="0"/>
                      </a:lnTo>
                      <a:lnTo>
                        <a:pt x="140" y="70"/>
                      </a:lnTo>
                      <a:lnTo>
                        <a:pt x="0" y="1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581040" y="2678040"/>
                  <a:ext cx="541440" cy="46080"/>
                </a:xfrm>
                <a:custGeom>
                  <a:avLst/>
                  <a:gdLst/>
                  <a:ahLst/>
                  <a:rect l="l" t="t" r="r" b="b"/>
                  <a:pathLst>
                    <a:path w="341" h="2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340" y="8"/>
                      </a:lnTo>
                      <a:lnTo>
                        <a:pt x="340" y="28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1120680" y="2612880"/>
                  <a:ext cx="122400" cy="111240"/>
                </a:xfrm>
                <a:custGeom>
                  <a:avLst/>
                  <a:gdLst/>
                  <a:ahLst/>
                  <a:rect l="l" t="t" r="r" b="b"/>
                  <a:pathLst>
                    <a:path w="77" h="70">
                      <a:moveTo>
                        <a:pt x="3" y="69"/>
                      </a:moveTo>
                      <a:lnTo>
                        <a:pt x="0" y="49"/>
                      </a:lnTo>
                      <a:lnTo>
                        <a:pt x="76" y="0"/>
                      </a:lnTo>
                      <a:lnTo>
                        <a:pt x="76" y="17"/>
                      </a:lnTo>
                      <a:lnTo>
                        <a:pt x="3" y="69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581040" y="2593800"/>
                  <a:ext cx="657360" cy="98640"/>
                </a:xfrm>
                <a:custGeom>
                  <a:avLst/>
                  <a:gdLst/>
                  <a:ahLst/>
                  <a:rect l="l" t="t" r="r" b="b"/>
                  <a:pathLst>
                    <a:path w="414" h="62">
                      <a:moveTo>
                        <a:pt x="0" y="52"/>
                      </a:moveTo>
                      <a:lnTo>
                        <a:pt x="337" y="61"/>
                      </a:lnTo>
                      <a:lnTo>
                        <a:pt x="413" y="9"/>
                      </a:lnTo>
                      <a:lnTo>
                        <a:pt x="88" y="0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423720" y="2031840"/>
                <a:ext cx="854280" cy="609840"/>
                <a:chOff x="423720" y="2031840"/>
                <a:chExt cx="854280" cy="60984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23720" y="2073240"/>
                  <a:ext cx="712800" cy="568440"/>
                </a:xfrm>
                <a:custGeom>
                  <a:avLst/>
                  <a:gdLst/>
                  <a:ahLst/>
                  <a:rect l="l" t="t" r="r" b="b"/>
                  <a:pathLst>
                    <a:path w="449" h="35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448" y="357"/>
                      </a:lnTo>
                      <a:lnTo>
                        <a:pt x="448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23720" y="2031840"/>
                  <a:ext cx="809640" cy="54000"/>
                </a:xfrm>
                <a:custGeom>
                  <a:avLst/>
                  <a:gdLst/>
                  <a:ahLst/>
                  <a:rect l="l" t="t" r="r" b="b"/>
                  <a:pathLst>
                    <a:path w="510" h="34">
                      <a:moveTo>
                        <a:pt x="0" y="27"/>
                      </a:moveTo>
                      <a:lnTo>
                        <a:pt x="112" y="0"/>
                      </a:lnTo>
                      <a:lnTo>
                        <a:pt x="509" y="3"/>
                      </a:lnTo>
                      <a:lnTo>
                        <a:pt x="445" y="33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fde3b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1130400" y="2036880"/>
                  <a:ext cx="112680" cy="601560"/>
                </a:xfrm>
                <a:custGeom>
                  <a:avLst/>
                  <a:gdLst/>
                  <a:ahLst/>
                  <a:rect l="l" t="t" r="r" b="b"/>
                  <a:pathLst>
                    <a:path w="71" h="379">
                      <a:moveTo>
                        <a:pt x="0" y="378"/>
                      </a:moveTo>
                      <a:lnTo>
                        <a:pt x="0" y="29"/>
                      </a:lnTo>
                      <a:lnTo>
                        <a:pt x="70" y="0"/>
                      </a:lnTo>
                      <a:lnTo>
                        <a:pt x="70" y="322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6bf6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512640" y="2147760"/>
                  <a:ext cx="517680" cy="419400"/>
                </a:xfrm>
                <a:custGeom>
                  <a:avLst/>
                  <a:gdLst/>
                  <a:ahLst/>
                  <a:rect l="l" t="t" r="r" b="b"/>
                  <a:pathLst>
                    <a:path w="326" h="264">
                      <a:moveTo>
                        <a:pt x="325" y="263"/>
                      </a:moveTo>
                      <a:lnTo>
                        <a:pt x="0" y="257"/>
                      </a:lnTo>
                      <a:lnTo>
                        <a:pt x="0" y="0"/>
                      </a:lnTo>
                      <a:lnTo>
                        <a:pt x="325" y="6"/>
                      </a:lnTo>
                      <a:lnTo>
                        <a:pt x="325" y="263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114ff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1238400" y="2075040"/>
                  <a:ext cx="39600" cy="4348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f6bf6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2" name=""/>
            <p:cNvGrpSpPr/>
            <p:nvPr/>
          </p:nvGrpSpPr>
          <p:grpSpPr>
            <a:xfrm>
              <a:off x="2360520" y="2143080"/>
              <a:ext cx="1527120" cy="830160"/>
              <a:chOff x="2360520" y="2143080"/>
              <a:chExt cx="1527120" cy="830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455920" y="2143080"/>
                <a:ext cx="1431720" cy="438120"/>
              </a:xfrm>
              <a:custGeom>
                <a:avLst/>
                <a:gdLst/>
                <a:ahLst/>
                <a:rect l="l" t="t" r="r" b="b"/>
                <a:pathLst>
                  <a:path w="902" h="276">
                    <a:moveTo>
                      <a:pt x="0" y="247"/>
                    </a:moveTo>
                    <a:lnTo>
                      <a:pt x="324" y="0"/>
                    </a:lnTo>
                    <a:lnTo>
                      <a:pt x="901" y="8"/>
                    </a:lnTo>
                    <a:lnTo>
                      <a:pt x="715" y="275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d4876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589200" y="2155680"/>
                <a:ext cx="298440" cy="814680"/>
              </a:xfrm>
              <a:custGeom>
                <a:avLst/>
                <a:gdLst/>
                <a:ahLst/>
                <a:rect l="l" t="t" r="r" b="b"/>
                <a:pathLst>
                  <a:path w="188" h="513">
                    <a:moveTo>
                      <a:pt x="0" y="268"/>
                    </a:moveTo>
                    <a:lnTo>
                      <a:pt x="0" y="512"/>
                    </a:lnTo>
                    <a:lnTo>
                      <a:pt x="187" y="197"/>
                    </a:lnTo>
                    <a:lnTo>
                      <a:pt x="187" y="0"/>
                    </a:lnTo>
                    <a:lnTo>
                      <a:pt x="0" y="268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443320" y="2532240"/>
                <a:ext cx="1144440" cy="441000"/>
              </a:xfrm>
              <a:custGeom>
                <a:avLst/>
                <a:gdLst/>
                <a:ahLst/>
                <a:rect l="l" t="t" r="r" b="b"/>
                <a:pathLst>
                  <a:path w="721" h="278">
                    <a:moveTo>
                      <a:pt x="0" y="0"/>
                    </a:moveTo>
                    <a:lnTo>
                      <a:pt x="720" y="30"/>
                    </a:lnTo>
                    <a:lnTo>
                      <a:pt x="720" y="277"/>
                    </a:lnTo>
                    <a:lnTo>
                      <a:pt x="0" y="2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476440" y="2571840"/>
                <a:ext cx="1073160" cy="349200"/>
              </a:xfrm>
              <a:custGeom>
                <a:avLst/>
                <a:gdLst/>
                <a:ahLst/>
                <a:rect l="l" t="t" r="r" b="b"/>
                <a:pathLst>
                  <a:path w="676" h="220">
                    <a:moveTo>
                      <a:pt x="0" y="0"/>
                    </a:moveTo>
                    <a:lnTo>
                      <a:pt x="675" y="30"/>
                    </a:lnTo>
                    <a:lnTo>
                      <a:pt x="675" y="219"/>
                    </a:lnTo>
                    <a:lnTo>
                      <a:pt x="0" y="1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7" name=""/>
              <p:cNvGrpSpPr/>
              <p:nvPr/>
            </p:nvGrpSpPr>
            <p:grpSpPr>
              <a:xfrm>
                <a:off x="2506680" y="2655720"/>
                <a:ext cx="981000" cy="176400"/>
                <a:chOff x="2506680" y="2655720"/>
                <a:chExt cx="981000" cy="176400"/>
              </a:xfrm>
            </p:grpSpPr>
            <p:grpSp>
              <p:nvGrpSpPr>
                <p:cNvPr id="1538" name=""/>
                <p:cNvGrpSpPr/>
                <p:nvPr/>
              </p:nvGrpSpPr>
              <p:grpSpPr>
                <a:xfrm>
                  <a:off x="2506680" y="2655720"/>
                  <a:ext cx="485640" cy="84240"/>
                  <a:chOff x="2506680" y="2655720"/>
                  <a:chExt cx="485640" cy="84240"/>
                </a:xfrm>
              </p:grpSpPr>
              <p:sp>
                <p:nvSpPr>
                  <p:cNvPr id="1539" name=""/>
                  <p:cNvSpPr/>
                  <p:nvPr/>
                </p:nvSpPr>
                <p:spPr>
                  <a:xfrm>
                    <a:off x="2506680" y="2655720"/>
                    <a:ext cx="4856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2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2529000" y="2676600"/>
                    <a:ext cx="19080" cy="22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2948040" y="269568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2568600" y="267336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2622600" y="267480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2670120" y="26780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2717640" y="268128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2762280" y="268272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2806560" y="2685960"/>
                    <a:ext cx="241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854440" y="268920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2898720" y="26906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2506680" y="2722680"/>
                  <a:ext cx="485640" cy="82440"/>
                  <a:chOff x="2506680" y="2722680"/>
                  <a:chExt cx="485640" cy="8244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2506680" y="2722680"/>
                    <a:ext cx="48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1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2529000" y="2743200"/>
                    <a:ext cx="190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2948040" y="276084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2568600" y="273852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2622600" y="27417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2670120" y="274464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2717640" y="2746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2762280" y="274968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2806560" y="275112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2854440" y="27543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2898720" y="275760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2" name=""/>
                <p:cNvGrpSpPr/>
                <p:nvPr/>
              </p:nvGrpSpPr>
              <p:grpSpPr>
                <a:xfrm>
                  <a:off x="3000240" y="2682720"/>
                  <a:ext cx="487440" cy="82800"/>
                  <a:chOff x="3000240" y="2682720"/>
                  <a:chExt cx="487440" cy="8280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>
                    <a:off x="3000240" y="2682720"/>
                    <a:ext cx="4874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1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3022560" y="270360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3443400" y="272268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3065400" y="269892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3117960" y="270180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3165480" y="270504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3213000" y="270684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3257640" y="2709720"/>
                    <a:ext cx="2196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3303720" y="271296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3349800" y="27147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3394080" y="271764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4" name=""/>
                <p:cNvGrpSpPr/>
                <p:nvPr/>
              </p:nvGrpSpPr>
              <p:grpSpPr>
                <a:xfrm>
                  <a:off x="3000240" y="2747880"/>
                  <a:ext cx="487440" cy="84240"/>
                  <a:chOff x="3000240" y="2747880"/>
                  <a:chExt cx="487440" cy="8424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>
                    <a:off x="3000240" y="2747880"/>
                    <a:ext cx="4874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2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3022560" y="276876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3443400" y="2787480"/>
                    <a:ext cx="20520" cy="2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065400" y="276552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3117960" y="2766960"/>
                    <a:ext cx="205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3165480" y="277020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3213000" y="2773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3257640" y="277488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3303720" y="277812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3349800" y="27813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394080" y="278280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86" name=""/>
              <p:cNvGrpSpPr/>
              <p:nvPr/>
            </p:nvGrpSpPr>
            <p:grpSpPr>
              <a:xfrm>
                <a:off x="2360520" y="2532240"/>
                <a:ext cx="114480" cy="376200"/>
                <a:chOff x="2360520" y="2532240"/>
                <a:chExt cx="114480" cy="37620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2370240" y="2532240"/>
                  <a:ext cx="104760" cy="376200"/>
                </a:xfrm>
                <a:custGeom>
                  <a:avLst/>
                  <a:gdLst/>
                  <a:ahLst/>
                  <a:rect l="l" t="t" r="r" b="b"/>
                  <a:pathLst>
                    <a:path w="66" h="237">
                      <a:moveTo>
                        <a:pt x="2" y="0"/>
                      </a:moveTo>
                      <a:lnTo>
                        <a:pt x="65" y="3"/>
                      </a:lnTo>
                      <a:lnTo>
                        <a:pt x="65" y="236"/>
                      </a:lnTo>
                      <a:lnTo>
                        <a:pt x="0" y="2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8" name=""/>
                <p:cNvGrpSpPr/>
                <p:nvPr/>
              </p:nvGrpSpPr>
              <p:grpSpPr>
                <a:xfrm>
                  <a:off x="2360520" y="2583000"/>
                  <a:ext cx="74880" cy="317520"/>
                  <a:chOff x="2360520" y="2583000"/>
                  <a:chExt cx="74880" cy="31752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2362320" y="2644920"/>
                    <a:ext cx="20520" cy="2491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2360520" y="2583000"/>
                    <a:ext cx="748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 flipV="1">
                    <a:off x="2386080" y="2590920"/>
                    <a:ext cx="47520" cy="489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 flipV="1">
                    <a:off x="2400480" y="2830680"/>
                    <a:ext cx="20520" cy="93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93" name=""/>
              <p:cNvGrpSpPr/>
              <p:nvPr/>
            </p:nvGrpSpPr>
            <p:grpSpPr>
              <a:xfrm>
                <a:off x="3511440" y="2576520"/>
                <a:ext cx="114480" cy="396720"/>
                <a:chOff x="3511440" y="2576520"/>
                <a:chExt cx="114480" cy="39672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3521160" y="2576520"/>
                  <a:ext cx="104760" cy="396720"/>
                </a:xfrm>
                <a:custGeom>
                  <a:avLst/>
                  <a:gdLst/>
                  <a:ahLst/>
                  <a:rect l="l" t="t" r="r" b="b"/>
                  <a:pathLst>
                    <a:path w="66" h="250">
                      <a:moveTo>
                        <a:pt x="2" y="0"/>
                      </a:moveTo>
                      <a:lnTo>
                        <a:pt x="65" y="0"/>
                      </a:lnTo>
                      <a:lnTo>
                        <a:pt x="65" y="249"/>
                      </a:lnTo>
                      <a:lnTo>
                        <a:pt x="0" y="24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5" name=""/>
                <p:cNvGrpSpPr/>
                <p:nvPr/>
              </p:nvGrpSpPr>
              <p:grpSpPr>
                <a:xfrm>
                  <a:off x="3511440" y="2647800"/>
                  <a:ext cx="74880" cy="317520"/>
                  <a:chOff x="3511440" y="2647800"/>
                  <a:chExt cx="74880" cy="31752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3513240" y="2709720"/>
                    <a:ext cx="19080" cy="250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3511440" y="2647800"/>
                    <a:ext cx="748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V="1">
                    <a:off x="3537000" y="2655720"/>
                    <a:ext cx="47520" cy="5112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V="1">
                    <a:off x="3552840" y="2895120"/>
                    <a:ext cx="19080" cy="111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00" name=""/>
              <p:cNvSpPr/>
              <p:nvPr/>
            </p:nvSpPr>
            <p:spPr>
              <a:xfrm>
                <a:off x="3059280" y="2619360"/>
                <a:ext cx="425160" cy="50760"/>
              </a:xfrm>
              <a:custGeom>
                <a:avLst/>
                <a:gdLst/>
                <a:ahLst/>
                <a:rect l="l" t="t" r="r" b="b"/>
                <a:pathLst>
                  <a:path w="268" h="32">
                    <a:moveTo>
                      <a:pt x="0" y="21"/>
                    </a:moveTo>
                    <a:lnTo>
                      <a:pt x="0" y="0"/>
                    </a:lnTo>
                    <a:lnTo>
                      <a:pt x="267" y="10"/>
                    </a:lnTo>
                    <a:lnTo>
                      <a:pt x="267" y="3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506680" y="2592360"/>
                <a:ext cx="66600" cy="446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25"/>
                    </a:moveTo>
                    <a:lnTo>
                      <a:pt x="41" y="27"/>
                    </a:lnTo>
                    <a:lnTo>
                      <a:pt x="41" y="2"/>
                    </a:lnTo>
                    <a:lnTo>
                      <a:pt x="0" y="0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687760" y="281160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720880" y="2814480"/>
                <a:ext cx="2088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752560" y="2816280"/>
                <a:ext cx="208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787480" y="2819520"/>
                <a:ext cx="190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819520" y="2822400"/>
                <a:ext cx="1908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851200" y="282420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890800" y="2816280"/>
                <a:ext cx="4752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23"/>
                    </a:moveTo>
                    <a:lnTo>
                      <a:pt x="0" y="0"/>
                    </a:lnTo>
                    <a:lnTo>
                      <a:pt x="29" y="2"/>
                    </a:lnTo>
                    <a:lnTo>
                      <a:pt x="29" y="2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976480" y="2827440"/>
                <a:ext cx="77760" cy="381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0" y="21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081240" y="2832120"/>
                <a:ext cx="79560" cy="381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0" y="21"/>
                    </a:moveTo>
                    <a:lnTo>
                      <a:pt x="0" y="0"/>
                    </a:lnTo>
                    <a:lnTo>
                      <a:pt x="49" y="2"/>
                    </a:lnTo>
                    <a:lnTo>
                      <a:pt x="49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181320" y="2835360"/>
                <a:ext cx="131760" cy="4608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3"/>
                    </a:moveTo>
                    <a:lnTo>
                      <a:pt x="0" y="0"/>
                    </a:lnTo>
                    <a:lnTo>
                      <a:pt x="82" y="5"/>
                    </a:lnTo>
                    <a:lnTo>
                      <a:pt x="82" y="2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4951440" y="2143080"/>
              <a:ext cx="1527120" cy="830160"/>
              <a:chOff x="4951440" y="2143080"/>
              <a:chExt cx="1527120" cy="830160"/>
            </a:xfrm>
          </p:grpSpPr>
          <p:sp>
            <p:nvSpPr>
              <p:cNvPr id="1613" name=""/>
              <p:cNvSpPr/>
              <p:nvPr/>
            </p:nvSpPr>
            <p:spPr>
              <a:xfrm>
                <a:off x="5046840" y="2143080"/>
                <a:ext cx="1431720" cy="438120"/>
              </a:xfrm>
              <a:custGeom>
                <a:avLst/>
                <a:gdLst/>
                <a:ahLst/>
                <a:rect l="l" t="t" r="r" b="b"/>
                <a:pathLst>
                  <a:path w="902" h="276">
                    <a:moveTo>
                      <a:pt x="0" y="247"/>
                    </a:moveTo>
                    <a:lnTo>
                      <a:pt x="324" y="0"/>
                    </a:lnTo>
                    <a:lnTo>
                      <a:pt x="901" y="8"/>
                    </a:lnTo>
                    <a:lnTo>
                      <a:pt x="715" y="275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d4876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180120" y="2155680"/>
                <a:ext cx="298440" cy="814680"/>
              </a:xfrm>
              <a:custGeom>
                <a:avLst/>
                <a:gdLst/>
                <a:ahLst/>
                <a:rect l="l" t="t" r="r" b="b"/>
                <a:pathLst>
                  <a:path w="188" h="513">
                    <a:moveTo>
                      <a:pt x="0" y="268"/>
                    </a:moveTo>
                    <a:lnTo>
                      <a:pt x="0" y="512"/>
                    </a:lnTo>
                    <a:lnTo>
                      <a:pt x="187" y="197"/>
                    </a:lnTo>
                    <a:lnTo>
                      <a:pt x="187" y="0"/>
                    </a:lnTo>
                    <a:lnTo>
                      <a:pt x="0" y="268"/>
                    </a:lnTo>
                  </a:path>
                </a:pathLst>
              </a:custGeom>
              <a:solidFill>
                <a:srgbClr val="79001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033880" y="2532240"/>
                <a:ext cx="1144800" cy="441000"/>
              </a:xfrm>
              <a:custGeom>
                <a:avLst/>
                <a:gdLst/>
                <a:ahLst/>
                <a:rect l="l" t="t" r="r" b="b"/>
                <a:pathLst>
                  <a:path w="721" h="278">
                    <a:moveTo>
                      <a:pt x="0" y="0"/>
                    </a:moveTo>
                    <a:lnTo>
                      <a:pt x="720" y="30"/>
                    </a:lnTo>
                    <a:lnTo>
                      <a:pt x="720" y="277"/>
                    </a:lnTo>
                    <a:lnTo>
                      <a:pt x="0" y="2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067360" y="2571840"/>
                <a:ext cx="1073160" cy="349200"/>
              </a:xfrm>
              <a:custGeom>
                <a:avLst/>
                <a:gdLst/>
                <a:ahLst/>
                <a:rect l="l" t="t" r="r" b="b"/>
                <a:pathLst>
                  <a:path w="676" h="220">
                    <a:moveTo>
                      <a:pt x="0" y="0"/>
                    </a:moveTo>
                    <a:lnTo>
                      <a:pt x="675" y="30"/>
                    </a:lnTo>
                    <a:lnTo>
                      <a:pt x="675" y="219"/>
                    </a:lnTo>
                    <a:lnTo>
                      <a:pt x="0" y="1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7" name=""/>
              <p:cNvGrpSpPr/>
              <p:nvPr/>
            </p:nvGrpSpPr>
            <p:grpSpPr>
              <a:xfrm>
                <a:off x="5097600" y="2655720"/>
                <a:ext cx="981000" cy="176400"/>
                <a:chOff x="5097600" y="2655720"/>
                <a:chExt cx="981000" cy="176400"/>
              </a:xfrm>
            </p:grpSpPr>
            <p:grpSp>
              <p:nvGrpSpPr>
                <p:cNvPr id="1618" name=""/>
                <p:cNvGrpSpPr/>
                <p:nvPr/>
              </p:nvGrpSpPr>
              <p:grpSpPr>
                <a:xfrm>
                  <a:off x="5097600" y="2655720"/>
                  <a:ext cx="485640" cy="84240"/>
                  <a:chOff x="5097600" y="2655720"/>
                  <a:chExt cx="485640" cy="8424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5097600" y="2655720"/>
                    <a:ext cx="4856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2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5119560" y="2676600"/>
                    <a:ext cx="19080" cy="22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5538960" y="269568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5159520" y="267336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5213520" y="267480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5261040" y="26780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5308560" y="268128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5353200" y="268272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5397480" y="268596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5445000" y="268920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5489640" y="26906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0" name=""/>
                <p:cNvGrpSpPr/>
                <p:nvPr/>
              </p:nvGrpSpPr>
              <p:grpSpPr>
                <a:xfrm>
                  <a:off x="5097600" y="2722680"/>
                  <a:ext cx="485640" cy="82440"/>
                  <a:chOff x="5097600" y="2722680"/>
                  <a:chExt cx="485640" cy="8244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>
                    <a:off x="5097600" y="2722680"/>
                    <a:ext cx="48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5" y="51"/>
                        </a:lnTo>
                        <a:lnTo>
                          <a:pt x="305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5119560" y="2743200"/>
                    <a:ext cx="190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5538960" y="276084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5159520" y="273852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5213520" y="274176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5261040" y="274464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5308560" y="2746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5353200" y="2749680"/>
                    <a:ext cx="219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5397480" y="275112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5445000" y="27543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5489640" y="275760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2" name=""/>
                <p:cNvGrpSpPr/>
                <p:nvPr/>
              </p:nvGrpSpPr>
              <p:grpSpPr>
                <a:xfrm>
                  <a:off x="5591160" y="2682720"/>
                  <a:ext cx="487440" cy="82800"/>
                  <a:chOff x="5591160" y="2682720"/>
                  <a:chExt cx="487440" cy="8280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5591160" y="2682720"/>
                    <a:ext cx="4874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2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1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5613480" y="2703600"/>
                    <a:ext cx="2052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6033960" y="2722680"/>
                    <a:ext cx="20880" cy="20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5656320" y="269892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5708520" y="2701800"/>
                    <a:ext cx="2088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5756400" y="270504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5803920" y="2706840"/>
                    <a:ext cx="22320" cy="25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5848200" y="2709720"/>
                    <a:ext cx="2232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5894280" y="2712960"/>
                    <a:ext cx="2088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5940360" y="27147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5985000" y="2717640"/>
                    <a:ext cx="21960" cy="2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4" name=""/>
                <p:cNvGrpSpPr/>
                <p:nvPr/>
              </p:nvGrpSpPr>
              <p:grpSpPr>
                <a:xfrm>
                  <a:off x="5591160" y="2747880"/>
                  <a:ext cx="487440" cy="84240"/>
                  <a:chOff x="5591160" y="2747880"/>
                  <a:chExt cx="487440" cy="84240"/>
                </a:xfrm>
              </p:grpSpPr>
              <p:sp>
                <p:nvSpPr>
                  <p:cNvPr id="1655" name=""/>
                  <p:cNvSpPr/>
                  <p:nvPr/>
                </p:nvSpPr>
                <p:spPr>
                  <a:xfrm>
                    <a:off x="5591160" y="2747880"/>
                    <a:ext cx="4874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3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306" y="52"/>
                        </a:lnTo>
                        <a:lnTo>
                          <a:pt x="306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5613480" y="2768760"/>
                    <a:ext cx="205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6033960" y="2787480"/>
                    <a:ext cx="20880" cy="2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5656320" y="276552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5708520" y="2766960"/>
                    <a:ext cx="2088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5756400" y="2770200"/>
                    <a:ext cx="205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5803920" y="277344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5848200" y="2774880"/>
                    <a:ext cx="223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5894280" y="2778120"/>
                    <a:ext cx="2088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5940360" y="278136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5985000" y="2782800"/>
                    <a:ext cx="219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66" name=""/>
              <p:cNvGrpSpPr/>
              <p:nvPr/>
            </p:nvGrpSpPr>
            <p:grpSpPr>
              <a:xfrm>
                <a:off x="4951440" y="2532240"/>
                <a:ext cx="114120" cy="376200"/>
                <a:chOff x="4951440" y="2532240"/>
                <a:chExt cx="114120" cy="376200"/>
              </a:xfrm>
            </p:grpSpPr>
            <p:sp>
              <p:nvSpPr>
                <p:cNvPr id="1667" name=""/>
                <p:cNvSpPr/>
                <p:nvPr/>
              </p:nvSpPr>
              <p:spPr>
                <a:xfrm>
                  <a:off x="4960800" y="2532240"/>
                  <a:ext cx="104760" cy="376200"/>
                </a:xfrm>
                <a:custGeom>
                  <a:avLst/>
                  <a:gdLst/>
                  <a:ahLst/>
                  <a:rect l="l" t="t" r="r" b="b"/>
                  <a:pathLst>
                    <a:path w="66" h="237">
                      <a:moveTo>
                        <a:pt x="2" y="0"/>
                      </a:moveTo>
                      <a:lnTo>
                        <a:pt x="65" y="3"/>
                      </a:lnTo>
                      <a:lnTo>
                        <a:pt x="65" y="236"/>
                      </a:lnTo>
                      <a:lnTo>
                        <a:pt x="0" y="23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8" name=""/>
                <p:cNvGrpSpPr/>
                <p:nvPr/>
              </p:nvGrpSpPr>
              <p:grpSpPr>
                <a:xfrm>
                  <a:off x="4951440" y="2583000"/>
                  <a:ext cx="74520" cy="317520"/>
                  <a:chOff x="4951440" y="2583000"/>
                  <a:chExt cx="74520" cy="317520"/>
                </a:xfrm>
              </p:grpSpPr>
              <p:sp>
                <p:nvSpPr>
                  <p:cNvPr id="1669" name=""/>
                  <p:cNvSpPr/>
                  <p:nvPr/>
                </p:nvSpPr>
                <p:spPr>
                  <a:xfrm>
                    <a:off x="4952880" y="2644920"/>
                    <a:ext cx="20880" cy="2491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4951440" y="2583000"/>
                    <a:ext cx="745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 flipV="1">
                    <a:off x="4976640" y="2590920"/>
                    <a:ext cx="47880" cy="489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 flipV="1">
                    <a:off x="4991040" y="2830680"/>
                    <a:ext cx="20520" cy="93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73" name=""/>
              <p:cNvGrpSpPr/>
              <p:nvPr/>
            </p:nvGrpSpPr>
            <p:grpSpPr>
              <a:xfrm>
                <a:off x="6102360" y="2576520"/>
                <a:ext cx="114120" cy="396720"/>
                <a:chOff x="6102360" y="2576520"/>
                <a:chExt cx="114120" cy="39672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6111720" y="2576520"/>
                  <a:ext cx="104760" cy="396720"/>
                </a:xfrm>
                <a:custGeom>
                  <a:avLst/>
                  <a:gdLst/>
                  <a:ahLst/>
                  <a:rect l="l" t="t" r="r" b="b"/>
                  <a:pathLst>
                    <a:path w="66" h="250">
                      <a:moveTo>
                        <a:pt x="2" y="0"/>
                      </a:moveTo>
                      <a:lnTo>
                        <a:pt x="65" y="0"/>
                      </a:lnTo>
                      <a:lnTo>
                        <a:pt x="65" y="249"/>
                      </a:lnTo>
                      <a:lnTo>
                        <a:pt x="0" y="24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5" name=""/>
                <p:cNvGrpSpPr/>
                <p:nvPr/>
              </p:nvGrpSpPr>
              <p:grpSpPr>
                <a:xfrm>
                  <a:off x="6102360" y="2647800"/>
                  <a:ext cx="74520" cy="317520"/>
                  <a:chOff x="6102360" y="2647800"/>
                  <a:chExt cx="74520" cy="317520"/>
                </a:xfrm>
              </p:grpSpPr>
              <p:sp>
                <p:nvSpPr>
                  <p:cNvPr id="1676" name=""/>
                  <p:cNvSpPr/>
                  <p:nvPr/>
                </p:nvSpPr>
                <p:spPr>
                  <a:xfrm>
                    <a:off x="6103800" y="2709720"/>
                    <a:ext cx="19080" cy="250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6102360" y="2647800"/>
                    <a:ext cx="745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0">
                        <a:moveTo>
                          <a:pt x="0" y="35"/>
                        </a:moveTo>
                        <a:lnTo>
                          <a:pt x="32" y="0"/>
                        </a:lnTo>
                        <a:lnTo>
                          <a:pt x="46" y="0"/>
                        </a:lnTo>
                        <a:lnTo>
                          <a:pt x="46" y="27"/>
                        </a:lnTo>
                        <a:lnTo>
                          <a:pt x="27" y="45"/>
                        </a:lnTo>
                        <a:lnTo>
                          <a:pt x="27" y="174"/>
                        </a:lnTo>
                        <a:lnTo>
                          <a:pt x="40" y="159"/>
                        </a:lnTo>
                        <a:lnTo>
                          <a:pt x="40" y="182"/>
                        </a:lnTo>
                        <a:lnTo>
                          <a:pt x="17" y="199"/>
                        </a:lnTo>
                        <a:lnTo>
                          <a:pt x="17" y="3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141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flipV="1">
                    <a:off x="6127920" y="2655720"/>
                    <a:ext cx="47520" cy="5112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V="1">
                    <a:off x="6143760" y="2895120"/>
                    <a:ext cx="19080" cy="11160"/>
                  </a:xfrm>
                  <a:prstGeom prst="line">
                    <a:avLst/>
                  </a:prstGeom>
                  <a:ln w="12600">
                    <a:solidFill>
                      <a:srgbClr val="4141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0" name=""/>
              <p:cNvSpPr/>
              <p:nvPr/>
            </p:nvSpPr>
            <p:spPr>
              <a:xfrm>
                <a:off x="5649840" y="2619360"/>
                <a:ext cx="425520" cy="50760"/>
              </a:xfrm>
              <a:custGeom>
                <a:avLst/>
                <a:gdLst/>
                <a:ahLst/>
                <a:rect l="l" t="t" r="r" b="b"/>
                <a:pathLst>
                  <a:path w="268" h="32">
                    <a:moveTo>
                      <a:pt x="0" y="21"/>
                    </a:moveTo>
                    <a:lnTo>
                      <a:pt x="0" y="0"/>
                    </a:lnTo>
                    <a:lnTo>
                      <a:pt x="267" y="10"/>
                    </a:lnTo>
                    <a:lnTo>
                      <a:pt x="267" y="3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097600" y="2592360"/>
                <a:ext cx="66600" cy="446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25"/>
                    </a:moveTo>
                    <a:lnTo>
                      <a:pt x="41" y="27"/>
                    </a:lnTo>
                    <a:lnTo>
                      <a:pt x="41" y="2"/>
                    </a:lnTo>
                    <a:lnTo>
                      <a:pt x="0" y="0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278320" y="2811600"/>
                <a:ext cx="208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311800" y="2814480"/>
                <a:ext cx="2052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343480" y="281628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378400" y="2819520"/>
                <a:ext cx="1908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410080" y="2822400"/>
                <a:ext cx="19080" cy="20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442120" y="2824200"/>
                <a:ext cx="20520" cy="20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481720" y="2816280"/>
                <a:ext cx="4752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23"/>
                    </a:moveTo>
                    <a:lnTo>
                      <a:pt x="0" y="0"/>
                    </a:lnTo>
                    <a:lnTo>
                      <a:pt x="29" y="2"/>
                    </a:lnTo>
                    <a:lnTo>
                      <a:pt x="29" y="2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567400" y="2827440"/>
                <a:ext cx="77760" cy="381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0" y="21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672160" y="2832120"/>
                <a:ext cx="79200" cy="381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0" y="21"/>
                    </a:moveTo>
                    <a:lnTo>
                      <a:pt x="0" y="0"/>
                    </a:lnTo>
                    <a:lnTo>
                      <a:pt x="49" y="2"/>
                    </a:lnTo>
                    <a:lnTo>
                      <a:pt x="49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72240" y="2835360"/>
                <a:ext cx="131760" cy="4608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3"/>
                    </a:moveTo>
                    <a:lnTo>
                      <a:pt x="0" y="0"/>
                    </a:lnTo>
                    <a:lnTo>
                      <a:pt x="82" y="5"/>
                    </a:lnTo>
                    <a:lnTo>
                      <a:pt x="82" y="2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2" name=""/>
          <p:cNvSpPr/>
          <p:nvPr/>
        </p:nvSpPr>
        <p:spPr>
          <a:xfrm>
            <a:off x="533520" y="6858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P SOBRE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NCAPSULACION DE IP SOBRE AT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l paquete IP se encapsula en un segmento AAL5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xisten dos opcion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os extremos acuerdan el protocolo encapsulado en AAL5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e utiliza una encapsulación basada en LLC/SNAP (Logical Link Control/SubNetwork Attachment Point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NCAPSULACION LLC/SNA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Utilizada en Frame Relay, ATM entre otr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FC 1010/1483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0800: I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0806: AR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8035: RAR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97" name=""/>
          <p:cNvGrpSpPr/>
          <p:nvPr/>
        </p:nvGrpSpPr>
        <p:grpSpPr>
          <a:xfrm>
            <a:off x="685800" y="4343400"/>
            <a:ext cx="7086600" cy="1450080"/>
            <a:chOff x="685800" y="4343400"/>
            <a:chExt cx="7086600" cy="1450080"/>
          </a:xfrm>
        </p:grpSpPr>
        <p:sp>
          <p:nvSpPr>
            <p:cNvPr id="1698" name=""/>
            <p:cNvSpPr/>
            <p:nvPr/>
          </p:nvSpPr>
          <p:spPr>
            <a:xfrm>
              <a:off x="685800" y="4343400"/>
              <a:ext cx="70866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85800" y="480060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5800" y="525780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790960" y="4343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32400" y="4343400"/>
              <a:ext cx="25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LC (AA. AA. 0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104520" y="4343400"/>
              <a:ext cx="129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U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(0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608840" y="4800600"/>
              <a:ext cx="167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U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(00.0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19076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38840" y="4765680"/>
              <a:ext cx="174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IPO(08.0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759320" y="5333760"/>
              <a:ext cx="492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TENIDO(IP, ARP, RARP, ET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MPO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ulti-Protocol Over ATM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rincipalmente desarrollado para LAN y Campu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ermite enviar paquetes IP entre nodos de diferentes subredes directament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ermite aprovechar la QoS de ATM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s LANE + IP sobre ATM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ANE e IP sobre ATM requieren enrutadores aún en la misma nube. MPOA n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SQUEMA CON MPO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11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SQUEMA CON MPO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IASG(Internet Address Sub-Group) similar a un LIS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IASC Coordination: similar al LIS Server: registro de nodos, etc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Route Server: corre protocolos de enrutamiento pero no enrut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dge Devices: ATM a routers y bridges legacy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ulticast Servers: Multicast nivel 3 en un IASG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Default Forwarder: si no hay conexión entre fuente y destino en un IASG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ATM EN LA L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A pesar de ser apta para llevar tráfico LAN su incorporación en la LAN no fue la esperada por varias razones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Cambio grande del enfoque no orientado a conexión (Ethernet, IP) al orientado a conexión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Surgimiento de tecnologías como Fast Ethernet, GigaBit Ethernet y el suicheo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Voz sobre IP y RSVP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ATM EN LA W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534160" cy="55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Actualmente ATM juega un papel importante en el core del carrie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ecnologías emergentes como MPLS permiten integrar mejor IP y ATM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ecnologías como ADSL están están basadas en ATM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ecnologías propietarias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Netflow de Cisc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stándar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MPL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MPL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ulti-Protocol Label Switching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Ver presentaciones de MPLS en </a:t>
            </a:r>
            <a:r>
              <a:rPr b="0" lang="es-ES_tradnl" sz="3200" spc="-1" strike="noStrike" u="sng">
                <a:solidFill>
                  <a:srgbClr val="d4876c"/>
                </a:solidFill>
                <a:uFillTx/>
                <a:latin typeface="Arial Narrow"/>
                <a:hlinkClick r:id="rId3"/>
              </a:rPr>
              <a:t>www.diginet.com.co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- Download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ATM EN LA L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e plantean tres opcion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TM PUR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N EMULATION (LANE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LASICAL IP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MPO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ATM PUR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Requiere rescribir de nuevo las aplicacione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n cuanto a desempeño es la mejor opció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xisten API’s como XTI o Winsockets disponibles para escribir las aplicacione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7118280" y="3873600"/>
            <a:ext cx="1479600" cy="24699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6840" y="4830840"/>
            <a:ext cx="1481040" cy="151452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24760" y="5708520"/>
            <a:ext cx="148572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24760" y="6013440"/>
            <a:ext cx="148572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3080" y="5702400"/>
            <a:ext cx="1479600" cy="6411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5840" y="3873600"/>
            <a:ext cx="1479600" cy="24699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4040" y="4830840"/>
            <a:ext cx="1481400" cy="151452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570852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960" y="601344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16320" y="5710320"/>
            <a:ext cx="1481040" cy="63504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19200" y="601344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57760" y="5702400"/>
            <a:ext cx="1479600" cy="6411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61000" y="5710320"/>
            <a:ext cx="1481040" cy="635040"/>
          </a:xfrm>
          <a:prstGeom prst="rect">
            <a:avLst/>
          </a:prstGeom>
          <a:solidFill>
            <a:srgbClr val="790015"/>
          </a:soli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64240" y="6013440"/>
            <a:ext cx="148572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800600"/>
            <a:ext cx="7132680" cy="1469880"/>
          </a:xfrm>
          <a:custGeom>
            <a:avLst/>
            <a:gdLst/>
            <a:ahLst/>
            <a:rect l="l" t="t" r="r" b="b"/>
            <a:pathLst>
              <a:path w="4524" h="1410">
                <a:moveTo>
                  <a:pt x="0" y="31"/>
                </a:moveTo>
                <a:lnTo>
                  <a:pt x="0" y="1392"/>
                </a:lnTo>
                <a:lnTo>
                  <a:pt x="1172" y="1392"/>
                </a:lnTo>
                <a:lnTo>
                  <a:pt x="1384" y="1180"/>
                </a:lnTo>
                <a:lnTo>
                  <a:pt x="1542" y="1180"/>
                </a:lnTo>
                <a:lnTo>
                  <a:pt x="1911" y="1400"/>
                </a:lnTo>
                <a:lnTo>
                  <a:pt x="2623" y="1396"/>
                </a:lnTo>
                <a:lnTo>
                  <a:pt x="2815" y="1180"/>
                </a:lnTo>
                <a:lnTo>
                  <a:pt x="3055" y="1180"/>
                </a:lnTo>
                <a:lnTo>
                  <a:pt x="3271" y="1408"/>
                </a:lnTo>
                <a:lnTo>
                  <a:pt x="3564" y="1409"/>
                </a:lnTo>
                <a:lnTo>
                  <a:pt x="4326" y="1409"/>
                </a:lnTo>
                <a:lnTo>
                  <a:pt x="4523" y="1085"/>
                </a:lnTo>
                <a:lnTo>
                  <a:pt x="4523" y="0"/>
                </a:lnTo>
              </a:path>
            </a:pathLst>
          </a:custGeom>
          <a:noFill/>
          <a:ln cap="rnd" w="50760">
            <a:solidFill>
              <a:srgbClr val="f5eb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6760" y="5181480"/>
            <a:ext cx="698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AL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79920" y="5727600"/>
            <a:ext cx="1094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TM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06400" y="6051600"/>
            <a:ext cx="1485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hysical 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080" y="5181480"/>
            <a:ext cx="698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AL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7480" y="5727600"/>
            <a:ext cx="1094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TM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3600" y="6051600"/>
            <a:ext cx="1485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hysical 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400840" y="5765760"/>
            <a:ext cx="1485000" cy="579240"/>
            <a:chOff x="2400840" y="5765760"/>
            <a:chExt cx="1485000" cy="579240"/>
          </a:xfrm>
        </p:grpSpPr>
        <p:sp>
          <p:nvSpPr>
            <p:cNvPr id="148" name=""/>
            <p:cNvSpPr/>
            <p:nvPr/>
          </p:nvSpPr>
          <p:spPr>
            <a:xfrm>
              <a:off x="2574720" y="5765760"/>
              <a:ext cx="10947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ATM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00840" y="6060960"/>
              <a:ext cx="1485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Physical 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745520" y="5765760"/>
            <a:ext cx="1485000" cy="579240"/>
            <a:chOff x="4745520" y="5765760"/>
            <a:chExt cx="1485000" cy="579240"/>
          </a:xfrm>
        </p:grpSpPr>
        <p:sp>
          <p:nvSpPr>
            <p:cNvPr id="151" name=""/>
            <p:cNvSpPr/>
            <p:nvPr/>
          </p:nvSpPr>
          <p:spPr>
            <a:xfrm>
              <a:off x="4919400" y="5765760"/>
              <a:ext cx="10947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ATM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45520" y="6060960"/>
              <a:ext cx="1485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Physical 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0520" y="4191120"/>
            <a:ext cx="1291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PLIC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560" y="4191120"/>
            <a:ext cx="1291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PLIC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LAN EMUL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Permite ver ATM como otra tecnología LAN.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Define varios componentes: LEC, LES, BUS, LEC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LEC: Lan Emulation Client.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El cliente envía tramas Ethernet, TR, etc encapsulándolas en AAL5.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La envía directamente al destino o a través del BU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LES: Lan Emulation Server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Hace la resolución MAC ATM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BUS: Broadcast and Unknown Server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Cada LEC tiene un circuito a el BU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Envía los broadcast y multicas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LECS: Lan Emulation Configuration Server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Facilita la configuración de los LEC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605560" y="3398760"/>
            <a:ext cx="2896560" cy="1753920"/>
            <a:chOff x="5605560" y="3398760"/>
            <a:chExt cx="2896560" cy="1753920"/>
          </a:xfrm>
        </p:grpSpPr>
        <p:sp>
          <p:nvSpPr>
            <p:cNvPr id="158" name=""/>
            <p:cNvSpPr/>
            <p:nvPr/>
          </p:nvSpPr>
          <p:spPr>
            <a:xfrm>
              <a:off x="5787720" y="3398760"/>
              <a:ext cx="2714400" cy="925560"/>
            </a:xfrm>
            <a:custGeom>
              <a:avLst/>
              <a:gdLst/>
              <a:ahLst/>
              <a:rect l="l" t="t" r="r" b="b"/>
              <a:pathLst>
                <a:path w="1710" h="583">
                  <a:moveTo>
                    <a:pt x="0" y="522"/>
                  </a:moveTo>
                  <a:lnTo>
                    <a:pt x="614" y="0"/>
                  </a:lnTo>
                  <a:lnTo>
                    <a:pt x="1709" y="16"/>
                  </a:lnTo>
                  <a:lnTo>
                    <a:pt x="1356" y="582"/>
                  </a:lnTo>
                  <a:lnTo>
                    <a:pt x="0" y="522"/>
                  </a:lnTo>
                </a:path>
              </a:pathLst>
            </a:custGeom>
            <a:solidFill>
              <a:srgbClr val="d4876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37280" y="3425760"/>
              <a:ext cx="564840" cy="1720800"/>
            </a:xfrm>
            <a:custGeom>
              <a:avLst/>
              <a:gdLst/>
              <a:ahLst/>
              <a:rect l="l" t="t" r="r" b="b"/>
              <a:pathLst>
                <a:path w="356" h="1084">
                  <a:moveTo>
                    <a:pt x="0" y="566"/>
                  </a:moveTo>
                  <a:lnTo>
                    <a:pt x="0" y="1083"/>
                  </a:lnTo>
                  <a:lnTo>
                    <a:pt x="355" y="416"/>
                  </a:lnTo>
                  <a:lnTo>
                    <a:pt x="355" y="0"/>
                  </a:lnTo>
                  <a:lnTo>
                    <a:pt x="0" y="566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63960" y="4221000"/>
              <a:ext cx="2169720" cy="931680"/>
            </a:xfrm>
            <a:custGeom>
              <a:avLst/>
              <a:gdLst/>
              <a:ahLst/>
              <a:rect l="l" t="t" r="r" b="b"/>
              <a:pathLst>
                <a:path w="1367" h="587">
                  <a:moveTo>
                    <a:pt x="0" y="0"/>
                  </a:moveTo>
                  <a:lnTo>
                    <a:pt x="1366" y="63"/>
                  </a:lnTo>
                  <a:lnTo>
                    <a:pt x="1366" y="586"/>
                  </a:lnTo>
                  <a:lnTo>
                    <a:pt x="0" y="48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7680" y="4305240"/>
              <a:ext cx="2033280" cy="736560"/>
            </a:xfrm>
            <a:custGeom>
              <a:avLst/>
              <a:gdLst/>
              <a:ahLst/>
              <a:rect l="l" t="t" r="r" b="b"/>
              <a:pathLst>
                <a:path w="1281" h="464">
                  <a:moveTo>
                    <a:pt x="0" y="0"/>
                  </a:moveTo>
                  <a:lnTo>
                    <a:pt x="1280" y="63"/>
                  </a:lnTo>
                  <a:lnTo>
                    <a:pt x="1280" y="463"/>
                  </a:lnTo>
                  <a:lnTo>
                    <a:pt x="0" y="36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884560" y="4483080"/>
              <a:ext cx="1858320" cy="371160"/>
              <a:chOff x="5884560" y="4483080"/>
              <a:chExt cx="1858320" cy="37116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5884560" y="4483080"/>
                <a:ext cx="920520" cy="176040"/>
                <a:chOff x="5884560" y="4483080"/>
                <a:chExt cx="920520" cy="1760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884560" y="4483080"/>
                  <a:ext cx="920520" cy="176040"/>
                </a:xfrm>
                <a:custGeom>
                  <a:avLst/>
                  <a:gdLst/>
                  <a:ahLst/>
                  <a:rect l="l" t="t" r="r" b="b"/>
                  <a:pathLst>
                    <a:path w="580" h="111">
                      <a:moveTo>
                        <a:pt x="0" y="0"/>
                      </a:moveTo>
                      <a:lnTo>
                        <a:pt x="0" y="74"/>
                      </a:lnTo>
                      <a:lnTo>
                        <a:pt x="579" y="110"/>
                      </a:lnTo>
                      <a:lnTo>
                        <a:pt x="579" y="3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925600" y="4527360"/>
                  <a:ext cx="48960" cy="5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722640" y="4566960"/>
                  <a:ext cx="47160" cy="5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995440" y="4512960"/>
                  <a:ext cx="56880" cy="65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096960" y="4516200"/>
                  <a:ext cx="5544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189120" y="4522680"/>
                  <a:ext cx="52200" cy="65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278040" y="4530600"/>
                  <a:ext cx="55080" cy="63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363720" y="4533840"/>
                  <a:ext cx="53640" cy="66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47960" y="4539960"/>
                  <a:ext cx="55080" cy="63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538320" y="4546440"/>
                  <a:ext cx="53640" cy="65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621120" y="4549680"/>
                  <a:ext cx="5832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884560" y="4624200"/>
                <a:ext cx="920520" cy="173160"/>
                <a:chOff x="5884560" y="4624200"/>
                <a:chExt cx="920520" cy="1731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884560" y="4624200"/>
                  <a:ext cx="920520" cy="173160"/>
                </a:xfrm>
                <a:custGeom>
                  <a:avLst/>
                  <a:gdLst/>
                  <a:ahLst/>
                  <a:rect l="l" t="t" r="r" b="b"/>
                  <a:pathLst>
                    <a:path w="580" h="109">
                      <a:moveTo>
                        <a:pt x="0" y="0"/>
                      </a:moveTo>
                      <a:lnTo>
                        <a:pt x="0" y="74"/>
                      </a:lnTo>
                      <a:lnTo>
                        <a:pt x="579" y="108"/>
                      </a:lnTo>
                      <a:lnTo>
                        <a:pt x="579" y="3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925600" y="4667040"/>
                  <a:ext cx="48960" cy="5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722640" y="4705200"/>
                  <a:ext cx="47160" cy="5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995440" y="4651200"/>
                  <a:ext cx="56880" cy="63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096960" y="4657680"/>
                  <a:ext cx="55440" cy="64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189120" y="4663800"/>
                  <a:ext cx="52200" cy="65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278040" y="4667040"/>
                  <a:ext cx="55080" cy="65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363720" y="4673520"/>
                  <a:ext cx="53640" cy="64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447960" y="4678200"/>
                  <a:ext cx="55080" cy="66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538320" y="4684680"/>
                  <a:ext cx="53640" cy="63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621120" y="4690800"/>
                  <a:ext cx="58320" cy="65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820920" y="4539960"/>
                <a:ext cx="921960" cy="173160"/>
                <a:chOff x="6820920" y="4539960"/>
                <a:chExt cx="921960" cy="1731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820920" y="4539960"/>
                  <a:ext cx="921960" cy="173160"/>
                </a:xfrm>
                <a:custGeom>
                  <a:avLst/>
                  <a:gdLst/>
                  <a:ahLst/>
                  <a:rect l="l" t="t" r="r" b="b"/>
                  <a:pathLst>
                    <a:path w="581" h="109">
                      <a:moveTo>
                        <a:pt x="0" y="0"/>
                      </a:moveTo>
                      <a:lnTo>
                        <a:pt x="0" y="74"/>
                      </a:lnTo>
                      <a:lnTo>
                        <a:pt x="580" y="108"/>
                      </a:lnTo>
                      <a:lnTo>
                        <a:pt x="580" y="3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863400" y="4584600"/>
                  <a:ext cx="47520" cy="52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660440" y="4624200"/>
                  <a:ext cx="48960" cy="5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938280" y="4566960"/>
                  <a:ext cx="5184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038000" y="4573440"/>
                  <a:ext cx="48960" cy="65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128720" y="4579920"/>
                  <a:ext cx="50400" cy="64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217640" y="4582800"/>
                  <a:ext cx="5364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301520" y="4590720"/>
                  <a:ext cx="55440" cy="63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390440" y="4597200"/>
                  <a:ext cx="50400" cy="63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477920" y="4600440"/>
                  <a:ext cx="51840" cy="65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60360" y="4606560"/>
                  <a:ext cx="53640" cy="65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820920" y="4678200"/>
                <a:ext cx="921960" cy="176040"/>
                <a:chOff x="6820920" y="4678200"/>
                <a:chExt cx="921960" cy="1760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820920" y="4678200"/>
                  <a:ext cx="921960" cy="176040"/>
                </a:xfrm>
                <a:custGeom>
                  <a:avLst/>
                  <a:gdLst/>
                  <a:ahLst/>
                  <a:rect l="l" t="t" r="r" b="b"/>
                  <a:pathLst>
                    <a:path w="581" h="111">
                      <a:moveTo>
                        <a:pt x="0" y="0"/>
                      </a:moveTo>
                      <a:lnTo>
                        <a:pt x="0" y="74"/>
                      </a:lnTo>
                      <a:lnTo>
                        <a:pt x="580" y="110"/>
                      </a:lnTo>
                      <a:lnTo>
                        <a:pt x="580" y="3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863400" y="4721040"/>
                  <a:ext cx="47520" cy="5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0440" y="4762440"/>
                  <a:ext cx="48960" cy="54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938280" y="4708440"/>
                  <a:ext cx="51840" cy="63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038000" y="4711680"/>
                  <a:ext cx="48960" cy="66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128720" y="4717800"/>
                  <a:ext cx="50400" cy="65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217640" y="4724280"/>
                  <a:ext cx="53640" cy="65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301520" y="4727520"/>
                  <a:ext cx="55440" cy="68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390440" y="4735440"/>
                  <a:ext cx="50400" cy="63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77920" y="4741560"/>
                  <a:ext cx="51840" cy="63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560360" y="4744800"/>
                  <a:ext cx="53640" cy="68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" name=""/>
            <p:cNvGrpSpPr/>
            <p:nvPr/>
          </p:nvGrpSpPr>
          <p:grpSpPr>
            <a:xfrm>
              <a:off x="5605560" y="4221000"/>
              <a:ext cx="216720" cy="793800"/>
              <a:chOff x="5605560" y="4221000"/>
              <a:chExt cx="216720" cy="793800"/>
            </a:xfrm>
          </p:grpSpPr>
          <p:sp>
            <p:nvSpPr>
              <p:cNvPr id="212" name=""/>
              <p:cNvSpPr/>
              <p:nvPr/>
            </p:nvSpPr>
            <p:spPr>
              <a:xfrm>
                <a:off x="5626080" y="4221000"/>
                <a:ext cx="196200" cy="793800"/>
              </a:xfrm>
              <a:custGeom>
                <a:avLst/>
                <a:gdLst/>
                <a:ahLst/>
                <a:rect l="l" t="t" r="r" b="b"/>
                <a:pathLst>
                  <a:path w="124" h="500">
                    <a:moveTo>
                      <a:pt x="3" y="0"/>
                    </a:moveTo>
                    <a:lnTo>
                      <a:pt x="123" y="6"/>
                    </a:lnTo>
                    <a:lnTo>
                      <a:pt x="123" y="499"/>
                    </a:lnTo>
                    <a:lnTo>
                      <a:pt x="0" y="492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5605560" y="4329000"/>
                <a:ext cx="142200" cy="669960"/>
                <a:chOff x="5605560" y="4329000"/>
                <a:chExt cx="142200" cy="6699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605560" y="4452840"/>
                  <a:ext cx="50400" cy="541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607000" y="4329000"/>
                  <a:ext cx="140760" cy="669960"/>
                </a:xfrm>
                <a:custGeom>
                  <a:avLst/>
                  <a:gdLst/>
                  <a:ahLst/>
                  <a:rect l="l" t="t" r="r" b="b"/>
                  <a:pathLst>
                    <a:path w="89" h="422">
                      <a:moveTo>
                        <a:pt x="0" y="74"/>
                      </a:moveTo>
                      <a:lnTo>
                        <a:pt x="61" y="0"/>
                      </a:lnTo>
                      <a:lnTo>
                        <a:pt x="88" y="0"/>
                      </a:lnTo>
                      <a:lnTo>
                        <a:pt x="88" y="57"/>
                      </a:lnTo>
                      <a:lnTo>
                        <a:pt x="51" y="95"/>
                      </a:lnTo>
                      <a:lnTo>
                        <a:pt x="51" y="368"/>
                      </a:lnTo>
                      <a:lnTo>
                        <a:pt x="76" y="336"/>
                      </a:lnTo>
                      <a:lnTo>
                        <a:pt x="76" y="385"/>
                      </a:lnTo>
                      <a:lnTo>
                        <a:pt x="32" y="421"/>
                      </a:lnTo>
                      <a:lnTo>
                        <a:pt x="32" y="74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5655960" y="4344480"/>
                  <a:ext cx="90360" cy="10476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5682960" y="4852440"/>
                  <a:ext cx="39600" cy="1908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7786440" y="4314600"/>
              <a:ext cx="218520" cy="838080"/>
              <a:chOff x="7786440" y="4314600"/>
              <a:chExt cx="218520" cy="838080"/>
            </a:xfrm>
          </p:grpSpPr>
          <p:sp>
            <p:nvSpPr>
              <p:cNvPr id="219" name=""/>
              <p:cNvSpPr/>
              <p:nvPr/>
            </p:nvSpPr>
            <p:spPr>
              <a:xfrm>
                <a:off x="7808400" y="4314600"/>
                <a:ext cx="196560" cy="838080"/>
              </a:xfrm>
              <a:custGeom>
                <a:avLst/>
                <a:gdLst/>
                <a:ahLst/>
                <a:rect l="l" t="t" r="r" b="b"/>
                <a:pathLst>
                  <a:path w="124" h="528">
                    <a:moveTo>
                      <a:pt x="3" y="0"/>
                    </a:moveTo>
                    <a:lnTo>
                      <a:pt x="123" y="0"/>
                    </a:lnTo>
                    <a:lnTo>
                      <a:pt x="123" y="527"/>
                    </a:lnTo>
                    <a:lnTo>
                      <a:pt x="0" y="52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7786440" y="4466880"/>
                <a:ext cx="144000" cy="668520"/>
                <a:chOff x="7786440" y="4466880"/>
                <a:chExt cx="144000" cy="6685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786440" y="4590720"/>
                  <a:ext cx="47520" cy="544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91120" y="4466880"/>
                  <a:ext cx="139320" cy="668520"/>
                </a:xfrm>
                <a:custGeom>
                  <a:avLst/>
                  <a:gdLst/>
                  <a:ahLst/>
                  <a:rect l="l" t="t" r="r" b="b"/>
                  <a:pathLst>
                    <a:path w="88" h="421">
                      <a:moveTo>
                        <a:pt x="0" y="73"/>
                      </a:moveTo>
                      <a:lnTo>
                        <a:pt x="60" y="0"/>
                      </a:lnTo>
                      <a:lnTo>
                        <a:pt x="87" y="0"/>
                      </a:lnTo>
                      <a:lnTo>
                        <a:pt x="87" y="56"/>
                      </a:lnTo>
                      <a:lnTo>
                        <a:pt x="51" y="94"/>
                      </a:lnTo>
                      <a:lnTo>
                        <a:pt x="51" y="367"/>
                      </a:lnTo>
                      <a:lnTo>
                        <a:pt x="75" y="335"/>
                      </a:lnTo>
                      <a:lnTo>
                        <a:pt x="75" y="384"/>
                      </a:lnTo>
                      <a:lnTo>
                        <a:pt x="32" y="420"/>
                      </a:lnTo>
                      <a:lnTo>
                        <a:pt x="32" y="73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7838640" y="4482720"/>
                  <a:ext cx="90000" cy="10764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7868880" y="4989240"/>
                  <a:ext cx="34560" cy="2376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6932520" y="4404960"/>
              <a:ext cx="804600" cy="106560"/>
            </a:xfrm>
            <a:custGeom>
              <a:avLst/>
              <a:gdLst/>
              <a:ahLst/>
              <a:rect l="l" t="t" r="r" b="b"/>
              <a:pathLst>
                <a:path w="507" h="67">
                  <a:moveTo>
                    <a:pt x="0" y="44"/>
                  </a:moveTo>
                  <a:lnTo>
                    <a:pt x="0" y="0"/>
                  </a:lnTo>
                  <a:lnTo>
                    <a:pt x="506" y="21"/>
                  </a:lnTo>
                  <a:lnTo>
                    <a:pt x="506" y="66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84560" y="4349520"/>
              <a:ext cx="125280" cy="9216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0" y="52"/>
                  </a:moveTo>
                  <a:lnTo>
                    <a:pt x="78" y="57"/>
                  </a:lnTo>
                  <a:lnTo>
                    <a:pt x="78" y="4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27640" y="4811400"/>
              <a:ext cx="48960" cy="54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91000" y="4819320"/>
              <a:ext cx="48960" cy="52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1480" y="4822560"/>
              <a:ext cx="48960" cy="54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18080" y="4829040"/>
              <a:ext cx="47160" cy="54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78560" y="4835160"/>
              <a:ext cx="47160" cy="54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38680" y="4838400"/>
              <a:ext cx="47520" cy="54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13560" y="4822560"/>
              <a:ext cx="88200" cy="8568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0" y="48"/>
                  </a:moveTo>
                  <a:lnTo>
                    <a:pt x="0" y="0"/>
                  </a:lnTo>
                  <a:lnTo>
                    <a:pt x="55" y="4"/>
                  </a:lnTo>
                  <a:lnTo>
                    <a:pt x="55" y="53"/>
                  </a:lnTo>
                  <a:lnTo>
                    <a:pt x="0" y="48"/>
                  </a:lnTo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5200" y="4846320"/>
              <a:ext cx="147240" cy="7776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0" y="43"/>
                  </a:moveTo>
                  <a:lnTo>
                    <a:pt x="0" y="0"/>
                  </a:lnTo>
                  <a:lnTo>
                    <a:pt x="92" y="4"/>
                  </a:lnTo>
                  <a:lnTo>
                    <a:pt x="92" y="48"/>
                  </a:lnTo>
                  <a:lnTo>
                    <a:pt x="0" y="43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73920" y="4856040"/>
              <a:ext cx="150120" cy="7920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0" y="44"/>
                  </a:moveTo>
                  <a:lnTo>
                    <a:pt x="0" y="0"/>
                  </a:lnTo>
                  <a:lnTo>
                    <a:pt x="94" y="4"/>
                  </a:lnTo>
                  <a:lnTo>
                    <a:pt x="94" y="49"/>
                  </a:lnTo>
                  <a:lnTo>
                    <a:pt x="0" y="44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64360" y="4862160"/>
              <a:ext cx="248760" cy="95400"/>
            </a:xfrm>
            <a:custGeom>
              <a:avLst/>
              <a:gdLst/>
              <a:ahLst/>
              <a:rect l="l" t="t" r="r" b="b"/>
              <a:pathLst>
                <a:path w="157" h="60">
                  <a:moveTo>
                    <a:pt x="0" y="48"/>
                  </a:moveTo>
                  <a:lnTo>
                    <a:pt x="0" y="0"/>
                  </a:lnTo>
                  <a:lnTo>
                    <a:pt x="156" y="10"/>
                  </a:lnTo>
                  <a:lnTo>
                    <a:pt x="156" y="59"/>
                  </a:lnTo>
                  <a:lnTo>
                    <a:pt x="0" y="48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185840" y="1951200"/>
            <a:ext cx="1449360" cy="1220760"/>
            <a:chOff x="1185840" y="1951200"/>
            <a:chExt cx="1449360" cy="1220760"/>
          </a:xfrm>
        </p:grpSpPr>
        <p:grpSp>
          <p:nvGrpSpPr>
            <p:cNvPr id="238" name=""/>
            <p:cNvGrpSpPr/>
            <p:nvPr/>
          </p:nvGrpSpPr>
          <p:grpSpPr>
            <a:xfrm>
              <a:off x="1185840" y="2743200"/>
              <a:ext cx="1449360" cy="428760"/>
              <a:chOff x="1185840" y="2743200"/>
              <a:chExt cx="1449360" cy="428760"/>
            </a:xfrm>
          </p:grpSpPr>
          <p:sp>
            <p:nvSpPr>
              <p:cNvPr id="239" name=""/>
              <p:cNvSpPr/>
              <p:nvPr/>
            </p:nvSpPr>
            <p:spPr>
              <a:xfrm>
                <a:off x="1185840" y="2749680"/>
                <a:ext cx="1444680" cy="233280"/>
              </a:xfrm>
              <a:custGeom>
                <a:avLst/>
                <a:gdLst/>
                <a:ahLst/>
                <a:rect l="l" t="t" r="r" b="b"/>
                <a:pathLst>
                  <a:path w="910" h="147">
                    <a:moveTo>
                      <a:pt x="137" y="46"/>
                    </a:moveTo>
                    <a:lnTo>
                      <a:pt x="0" y="129"/>
                    </a:lnTo>
                    <a:lnTo>
                      <a:pt x="697" y="146"/>
                    </a:lnTo>
                    <a:lnTo>
                      <a:pt x="909" y="12"/>
                    </a:lnTo>
                    <a:lnTo>
                      <a:pt x="220" y="0"/>
                    </a:lnTo>
                    <a:lnTo>
                      <a:pt x="137" y="46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85840" y="2949840"/>
                <a:ext cx="1108080" cy="222120"/>
              </a:xfrm>
              <a:custGeom>
                <a:avLst/>
                <a:gdLst/>
                <a:ahLst/>
                <a:rect l="l" t="t" r="r" b="b"/>
                <a:pathLst>
                  <a:path w="698" h="140">
                    <a:moveTo>
                      <a:pt x="0" y="0"/>
                    </a:moveTo>
                    <a:lnTo>
                      <a:pt x="697" y="21"/>
                    </a:lnTo>
                    <a:lnTo>
                      <a:pt x="697" y="13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98600" y="2773440"/>
                <a:ext cx="336600" cy="398520"/>
              </a:xfrm>
              <a:custGeom>
                <a:avLst/>
                <a:gdLst/>
                <a:ahLst/>
                <a:rect l="l" t="t" r="r" b="b"/>
                <a:pathLst>
                  <a:path w="212" h="251">
                    <a:moveTo>
                      <a:pt x="0" y="250"/>
                    </a:moveTo>
                    <a:lnTo>
                      <a:pt x="0" y="130"/>
                    </a:lnTo>
                    <a:lnTo>
                      <a:pt x="211" y="0"/>
                    </a:lnTo>
                    <a:lnTo>
                      <a:pt x="211" y="98"/>
                    </a:lnTo>
                    <a:lnTo>
                      <a:pt x="0" y="250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39640" y="2864160"/>
                <a:ext cx="817560" cy="64800"/>
              </a:xfrm>
              <a:custGeom>
                <a:avLst/>
                <a:gdLst/>
                <a:ahLst/>
                <a:rect l="l" t="t" r="r" b="b"/>
                <a:pathLst>
                  <a:path w="515" h="41">
                    <a:moveTo>
                      <a:pt x="0" y="28"/>
                    </a:moveTo>
                    <a:lnTo>
                      <a:pt x="0" y="0"/>
                    </a:lnTo>
                    <a:lnTo>
                      <a:pt x="514" y="11"/>
                    </a:lnTo>
                    <a:lnTo>
                      <a:pt x="514" y="4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55760" y="2773440"/>
                <a:ext cx="182520" cy="155520"/>
              </a:xfrm>
              <a:custGeom>
                <a:avLst/>
                <a:gdLst/>
                <a:ahLst/>
                <a:rect l="l" t="t" r="r" b="b"/>
                <a:pathLst>
                  <a:path w="115" h="98">
                    <a:moveTo>
                      <a:pt x="4" y="97"/>
                    </a:moveTo>
                    <a:lnTo>
                      <a:pt x="0" y="68"/>
                    </a:lnTo>
                    <a:lnTo>
                      <a:pt x="114" y="0"/>
                    </a:lnTo>
                    <a:lnTo>
                      <a:pt x="114" y="23"/>
                    </a:lnTo>
                    <a:lnTo>
                      <a:pt x="4" y="97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39640" y="2743200"/>
                <a:ext cx="990720" cy="138240"/>
              </a:xfrm>
              <a:custGeom>
                <a:avLst/>
                <a:gdLst/>
                <a:ahLst/>
                <a:rect l="l" t="t" r="r" b="b"/>
                <a:pathLst>
                  <a:path w="624" h="87">
                    <a:moveTo>
                      <a:pt x="0" y="73"/>
                    </a:moveTo>
                    <a:lnTo>
                      <a:pt x="508" y="86"/>
                    </a:lnTo>
                    <a:lnTo>
                      <a:pt x="623" y="12"/>
                    </a:lnTo>
                    <a:lnTo>
                      <a:pt x="132" y="0"/>
                    </a:lnTo>
                    <a:lnTo>
                      <a:pt x="0" y="73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201680" y="1951200"/>
              <a:ext cx="1292040" cy="861840"/>
              <a:chOff x="1201680" y="1951200"/>
              <a:chExt cx="1292040" cy="861840"/>
            </a:xfrm>
          </p:grpSpPr>
          <p:sp>
            <p:nvSpPr>
              <p:cNvPr id="246" name=""/>
              <p:cNvSpPr/>
              <p:nvPr/>
            </p:nvSpPr>
            <p:spPr>
              <a:xfrm>
                <a:off x="1201680" y="2011680"/>
                <a:ext cx="1074600" cy="801360"/>
              </a:xfrm>
              <a:custGeom>
                <a:avLst/>
                <a:gdLst/>
                <a:ahLst/>
                <a:rect l="l" t="t" r="r" b="b"/>
                <a:pathLst>
                  <a:path w="677" h="505">
                    <a:moveTo>
                      <a:pt x="0" y="0"/>
                    </a:moveTo>
                    <a:lnTo>
                      <a:pt x="0" y="491"/>
                    </a:lnTo>
                    <a:lnTo>
                      <a:pt x="676" y="504"/>
                    </a:lnTo>
                    <a:lnTo>
                      <a:pt x="676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01680" y="1951200"/>
                <a:ext cx="1222200" cy="76320"/>
              </a:xfrm>
              <a:custGeom>
                <a:avLst/>
                <a:gdLst/>
                <a:ahLst/>
                <a:rect l="l" t="t" r="r" b="b"/>
                <a:pathLst>
                  <a:path w="770" h="48">
                    <a:moveTo>
                      <a:pt x="0" y="38"/>
                    </a:moveTo>
                    <a:lnTo>
                      <a:pt x="169" y="0"/>
                    </a:lnTo>
                    <a:lnTo>
                      <a:pt x="769" y="4"/>
                    </a:lnTo>
                    <a:lnTo>
                      <a:pt x="672" y="47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70160" y="1959120"/>
                <a:ext cx="168120" cy="846000"/>
              </a:xfrm>
              <a:custGeom>
                <a:avLst/>
                <a:gdLst/>
                <a:ahLst/>
                <a:rect l="l" t="t" r="r" b="b"/>
                <a:pathLst>
                  <a:path w="106" h="533">
                    <a:moveTo>
                      <a:pt x="0" y="532"/>
                    </a:moveTo>
                    <a:lnTo>
                      <a:pt x="0" y="40"/>
                    </a:lnTo>
                    <a:lnTo>
                      <a:pt x="105" y="0"/>
                    </a:lnTo>
                    <a:lnTo>
                      <a:pt x="105" y="453"/>
                    </a:lnTo>
                    <a:lnTo>
                      <a:pt x="0" y="532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36680" y="2114640"/>
                <a:ext cx="782640" cy="590760"/>
              </a:xfrm>
              <a:custGeom>
                <a:avLst/>
                <a:gdLst/>
                <a:ahLst/>
                <a:rect l="l" t="t" r="r" b="b"/>
                <a:pathLst>
                  <a:path w="493" h="372">
                    <a:moveTo>
                      <a:pt x="492" y="371"/>
                    </a:moveTo>
                    <a:lnTo>
                      <a:pt x="0" y="362"/>
                    </a:lnTo>
                    <a:lnTo>
                      <a:pt x="0" y="0"/>
                    </a:lnTo>
                    <a:lnTo>
                      <a:pt x="492" y="8"/>
                    </a:lnTo>
                    <a:lnTo>
                      <a:pt x="492" y="371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14ffb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28560" y="2008440"/>
                <a:ext cx="65160" cy="620640"/>
              </a:xfrm>
              <a:prstGeom prst="octagon">
                <a:avLst>
                  <a:gd name="adj" fmla="val 29282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5504040" y="2498760"/>
            <a:ext cx="977760" cy="576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6160" y="2635200"/>
            <a:ext cx="726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04040" y="3492360"/>
            <a:ext cx="977760" cy="578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95200" y="3630600"/>
            <a:ext cx="579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04040" y="4278240"/>
            <a:ext cx="977760" cy="57780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80440" y="4414680"/>
            <a:ext cx="613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61040" y="339732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61040" y="346716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61040" y="353700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61040" y="360684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61040" y="367668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61040" y="374652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61040" y="381636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1040" y="388620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61040" y="395604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61040" y="402588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61040" y="409572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61040" y="416556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61040" y="423540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61040" y="430524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61040" y="43750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61040" y="444492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61040" y="451476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6" y="0"/>
                </a:moveTo>
                <a:lnTo>
                  <a:pt x="0" y="0"/>
                </a:lnTo>
                <a:lnTo>
                  <a:pt x="0" y="21"/>
                </a:lnTo>
                <a:lnTo>
                  <a:pt x="16" y="2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61040" y="458316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61040" y="465300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61040" y="472284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1040" y="479268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1040" y="486252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61040" y="493236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61040" y="500220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61040" y="507204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61040" y="51418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61040" y="521172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61040" y="528156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6" y="0"/>
                </a:moveTo>
                <a:lnTo>
                  <a:pt x="0" y="0"/>
                </a:lnTo>
                <a:lnTo>
                  <a:pt x="0" y="22"/>
                </a:lnTo>
                <a:lnTo>
                  <a:pt x="16" y="2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61040" y="5351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70400" y="5370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0880" y="53704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1880" y="5370480"/>
            <a:ext cx="4104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92880" y="53704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73880" y="53704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56320" y="5370480"/>
            <a:ext cx="4104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37320" y="5370480"/>
            <a:ext cx="4104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18320" y="53704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99320" y="53704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1760" y="5370480"/>
            <a:ext cx="4104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62760" y="5370480"/>
            <a:ext cx="4104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43760" y="53704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53704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07200" y="5370480"/>
            <a:ext cx="4104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88200" y="5370480"/>
            <a:ext cx="4104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69200" y="53704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0200" y="53704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32640" y="5370480"/>
            <a:ext cx="4104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13640" y="5370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15080" y="5337000"/>
            <a:ext cx="27000" cy="3528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1"/>
                </a:moveTo>
                <a:lnTo>
                  <a:pt x="16" y="21"/>
                </a:lnTo>
                <a:lnTo>
                  <a:pt x="16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5080" y="526716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15080" y="519732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15080" y="51274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15080" y="505764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15080" y="498780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15080" y="491796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15080" y="484812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15080" y="47782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15080" y="470844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15080" y="464040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15080" y="457056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15080" y="450072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15080" y="443088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15080" y="436104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15080" y="429084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15080" y="422100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15080" y="415116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15080" y="408132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15080" y="40114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15080" y="394164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15080" y="387180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15080" y="380196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15080" y="373212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15080" y="36622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15080" y="359244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15080" y="352260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15080" y="345276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15080" y="3397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99240" y="3387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18240" y="338760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5" y="16"/>
                </a:moveTo>
                <a:lnTo>
                  <a:pt x="25" y="0"/>
                </a:lnTo>
                <a:lnTo>
                  <a:pt x="0" y="0"/>
                </a:lnTo>
                <a:lnTo>
                  <a:pt x="0" y="16"/>
                </a:lnTo>
                <a:lnTo>
                  <a:pt x="25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37240" y="338760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5" y="16"/>
                </a:moveTo>
                <a:lnTo>
                  <a:pt x="25" y="0"/>
                </a:lnTo>
                <a:lnTo>
                  <a:pt x="0" y="0"/>
                </a:lnTo>
                <a:lnTo>
                  <a:pt x="0" y="16"/>
                </a:lnTo>
                <a:lnTo>
                  <a:pt x="25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54800" y="338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6" y="16"/>
                </a:moveTo>
                <a:lnTo>
                  <a:pt x="26" y="0"/>
                </a:lnTo>
                <a:lnTo>
                  <a:pt x="0" y="0"/>
                </a:lnTo>
                <a:lnTo>
                  <a:pt x="0" y="16"/>
                </a:lnTo>
                <a:lnTo>
                  <a:pt x="2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73800" y="338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6" y="16"/>
                </a:moveTo>
                <a:lnTo>
                  <a:pt x="26" y="0"/>
                </a:lnTo>
                <a:lnTo>
                  <a:pt x="0" y="0"/>
                </a:lnTo>
                <a:lnTo>
                  <a:pt x="0" y="16"/>
                </a:lnTo>
                <a:lnTo>
                  <a:pt x="2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92800" y="338760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5" y="16"/>
                </a:moveTo>
                <a:lnTo>
                  <a:pt x="25" y="0"/>
                </a:lnTo>
                <a:lnTo>
                  <a:pt x="0" y="0"/>
                </a:lnTo>
                <a:lnTo>
                  <a:pt x="0" y="16"/>
                </a:lnTo>
                <a:lnTo>
                  <a:pt x="25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11800" y="338760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5" y="16"/>
                </a:moveTo>
                <a:lnTo>
                  <a:pt x="25" y="0"/>
                </a:lnTo>
                <a:lnTo>
                  <a:pt x="0" y="0"/>
                </a:lnTo>
                <a:lnTo>
                  <a:pt x="0" y="16"/>
                </a:lnTo>
                <a:lnTo>
                  <a:pt x="25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29360" y="338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6" y="16"/>
                </a:moveTo>
                <a:lnTo>
                  <a:pt x="26" y="0"/>
                </a:lnTo>
                <a:lnTo>
                  <a:pt x="0" y="0"/>
                </a:lnTo>
                <a:lnTo>
                  <a:pt x="0" y="16"/>
                </a:lnTo>
                <a:lnTo>
                  <a:pt x="2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48360" y="338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6" y="16"/>
                </a:moveTo>
                <a:lnTo>
                  <a:pt x="26" y="0"/>
                </a:lnTo>
                <a:lnTo>
                  <a:pt x="0" y="0"/>
                </a:lnTo>
                <a:lnTo>
                  <a:pt x="0" y="16"/>
                </a:lnTo>
                <a:lnTo>
                  <a:pt x="2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67360" y="338760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5" y="16"/>
                </a:moveTo>
                <a:lnTo>
                  <a:pt x="25" y="0"/>
                </a:lnTo>
                <a:lnTo>
                  <a:pt x="0" y="0"/>
                </a:lnTo>
                <a:lnTo>
                  <a:pt x="0" y="16"/>
                </a:lnTo>
                <a:lnTo>
                  <a:pt x="25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86360" y="338760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5" y="16"/>
                </a:moveTo>
                <a:lnTo>
                  <a:pt x="25" y="0"/>
                </a:lnTo>
                <a:lnTo>
                  <a:pt x="0" y="0"/>
                </a:lnTo>
                <a:lnTo>
                  <a:pt x="0" y="16"/>
                </a:lnTo>
                <a:lnTo>
                  <a:pt x="25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03920" y="338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6" y="16"/>
                </a:moveTo>
                <a:lnTo>
                  <a:pt x="26" y="0"/>
                </a:lnTo>
                <a:lnTo>
                  <a:pt x="0" y="0"/>
                </a:lnTo>
                <a:lnTo>
                  <a:pt x="0" y="16"/>
                </a:lnTo>
                <a:lnTo>
                  <a:pt x="2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22920" y="338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6" y="16"/>
                </a:moveTo>
                <a:lnTo>
                  <a:pt x="26" y="0"/>
                </a:lnTo>
                <a:lnTo>
                  <a:pt x="0" y="0"/>
                </a:lnTo>
                <a:lnTo>
                  <a:pt x="0" y="16"/>
                </a:lnTo>
                <a:lnTo>
                  <a:pt x="2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41920" y="338760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5" y="16"/>
                </a:moveTo>
                <a:lnTo>
                  <a:pt x="25" y="0"/>
                </a:lnTo>
                <a:lnTo>
                  <a:pt x="0" y="0"/>
                </a:lnTo>
                <a:lnTo>
                  <a:pt x="0" y="16"/>
                </a:lnTo>
                <a:lnTo>
                  <a:pt x="25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0920" y="338760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5" y="16"/>
                </a:moveTo>
                <a:lnTo>
                  <a:pt x="25" y="0"/>
                </a:lnTo>
                <a:lnTo>
                  <a:pt x="0" y="0"/>
                </a:lnTo>
                <a:lnTo>
                  <a:pt x="0" y="16"/>
                </a:lnTo>
                <a:lnTo>
                  <a:pt x="25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78480" y="338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6" y="16"/>
                </a:moveTo>
                <a:lnTo>
                  <a:pt x="26" y="0"/>
                </a:lnTo>
                <a:lnTo>
                  <a:pt x="0" y="0"/>
                </a:lnTo>
                <a:lnTo>
                  <a:pt x="0" y="16"/>
                </a:lnTo>
                <a:lnTo>
                  <a:pt x="2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97480" y="338760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6" y="16"/>
                </a:moveTo>
                <a:lnTo>
                  <a:pt x="26" y="0"/>
                </a:lnTo>
                <a:lnTo>
                  <a:pt x="0" y="0"/>
                </a:lnTo>
                <a:lnTo>
                  <a:pt x="0" y="16"/>
                </a:lnTo>
                <a:lnTo>
                  <a:pt x="2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16480" y="338760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5" y="16"/>
                </a:moveTo>
                <a:lnTo>
                  <a:pt x="25" y="0"/>
                </a:lnTo>
                <a:lnTo>
                  <a:pt x="0" y="0"/>
                </a:lnTo>
                <a:lnTo>
                  <a:pt x="0" y="16"/>
                </a:lnTo>
                <a:lnTo>
                  <a:pt x="25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70400" y="3387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92200" y="3225960"/>
            <a:ext cx="3003840" cy="372960"/>
          </a:xfrm>
          <a:custGeom>
            <a:avLst/>
            <a:gdLst/>
            <a:ahLst/>
            <a:rect l="l" t="t" r="r" b="b"/>
            <a:pathLst>
              <a:path w="1892" h="235">
                <a:moveTo>
                  <a:pt x="1891" y="234"/>
                </a:moveTo>
                <a:lnTo>
                  <a:pt x="0" y="23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49960" y="3556080"/>
            <a:ext cx="155520" cy="83880"/>
          </a:xfrm>
          <a:custGeom>
            <a:avLst/>
            <a:gdLst/>
            <a:ahLst/>
            <a:rect l="l" t="t" r="r" b="b"/>
            <a:pathLst>
              <a:path w="98" h="53">
                <a:moveTo>
                  <a:pt x="0" y="52"/>
                </a:moveTo>
                <a:lnTo>
                  <a:pt x="12" y="26"/>
                </a:lnTo>
                <a:lnTo>
                  <a:pt x="0" y="0"/>
                </a:lnTo>
                <a:lnTo>
                  <a:pt x="97" y="26"/>
                </a:lnTo>
                <a:lnTo>
                  <a:pt x="0" y="52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43240" y="3127320"/>
            <a:ext cx="98280" cy="133560"/>
          </a:xfrm>
          <a:custGeom>
            <a:avLst/>
            <a:gdLst/>
            <a:ahLst/>
            <a:rect l="l" t="t" r="r" b="b"/>
            <a:pathLst>
              <a:path w="62" h="84">
                <a:moveTo>
                  <a:pt x="61" y="83"/>
                </a:moveTo>
                <a:lnTo>
                  <a:pt x="31" y="73"/>
                </a:lnTo>
                <a:lnTo>
                  <a:pt x="0" y="83"/>
                </a:lnTo>
                <a:lnTo>
                  <a:pt x="31" y="0"/>
                </a:lnTo>
                <a:lnTo>
                  <a:pt x="61" y="83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87640" y="3224160"/>
            <a:ext cx="3417840" cy="741240"/>
          </a:xfrm>
          <a:custGeom>
            <a:avLst/>
            <a:gdLst/>
            <a:ahLst/>
            <a:rect l="l" t="t" r="r" b="b"/>
            <a:pathLst>
              <a:path w="2153" h="467">
                <a:moveTo>
                  <a:pt x="2152" y="466"/>
                </a:moveTo>
                <a:lnTo>
                  <a:pt x="0" y="46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38320" y="3127320"/>
            <a:ext cx="98280" cy="133560"/>
          </a:xfrm>
          <a:custGeom>
            <a:avLst/>
            <a:gdLst/>
            <a:ahLst/>
            <a:rect l="l" t="t" r="r" b="b"/>
            <a:pathLst>
              <a:path w="62" h="84">
                <a:moveTo>
                  <a:pt x="61" y="83"/>
                </a:moveTo>
                <a:lnTo>
                  <a:pt x="31" y="73"/>
                </a:lnTo>
                <a:lnTo>
                  <a:pt x="0" y="83"/>
                </a:lnTo>
                <a:lnTo>
                  <a:pt x="31" y="0"/>
                </a:lnTo>
                <a:lnTo>
                  <a:pt x="61" y="83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20800" y="3225960"/>
            <a:ext cx="3675240" cy="1158840"/>
          </a:xfrm>
          <a:custGeom>
            <a:avLst/>
            <a:gdLst/>
            <a:ahLst/>
            <a:rect l="l" t="t" r="r" b="b"/>
            <a:pathLst>
              <a:path w="2315" h="730">
                <a:moveTo>
                  <a:pt x="2314" y="729"/>
                </a:moveTo>
                <a:lnTo>
                  <a:pt x="0" y="72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49960" y="4341960"/>
            <a:ext cx="155520" cy="83880"/>
          </a:xfrm>
          <a:custGeom>
            <a:avLst/>
            <a:gdLst/>
            <a:ahLst/>
            <a:rect l="l" t="t" r="r" b="b"/>
            <a:pathLst>
              <a:path w="98" h="53">
                <a:moveTo>
                  <a:pt x="0" y="52"/>
                </a:moveTo>
                <a:lnTo>
                  <a:pt x="12" y="26"/>
                </a:lnTo>
                <a:lnTo>
                  <a:pt x="0" y="0"/>
                </a:lnTo>
                <a:lnTo>
                  <a:pt x="97" y="26"/>
                </a:lnTo>
                <a:lnTo>
                  <a:pt x="0" y="52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73280" y="3127320"/>
            <a:ext cx="96840" cy="133560"/>
          </a:xfrm>
          <a:custGeom>
            <a:avLst/>
            <a:gdLst/>
            <a:ahLst/>
            <a:rect l="l" t="t" r="r" b="b"/>
            <a:pathLst>
              <a:path w="61" h="84">
                <a:moveTo>
                  <a:pt x="60" y="83"/>
                </a:moveTo>
                <a:lnTo>
                  <a:pt x="30" y="73"/>
                </a:lnTo>
                <a:lnTo>
                  <a:pt x="0" y="83"/>
                </a:lnTo>
                <a:lnTo>
                  <a:pt x="30" y="0"/>
                </a:lnTo>
                <a:lnTo>
                  <a:pt x="60" y="83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15880" y="3220920"/>
            <a:ext cx="4089600" cy="1530360"/>
          </a:xfrm>
          <a:custGeom>
            <a:avLst/>
            <a:gdLst/>
            <a:ahLst/>
            <a:rect l="l" t="t" r="r" b="b"/>
            <a:pathLst>
              <a:path w="2576" h="964">
                <a:moveTo>
                  <a:pt x="2575" y="963"/>
                </a:moveTo>
                <a:lnTo>
                  <a:pt x="0" y="96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66920" y="3127320"/>
            <a:ext cx="98280" cy="133560"/>
          </a:xfrm>
          <a:custGeom>
            <a:avLst/>
            <a:gdLst/>
            <a:ahLst/>
            <a:rect l="l" t="t" r="r" b="b"/>
            <a:pathLst>
              <a:path w="62" h="84">
                <a:moveTo>
                  <a:pt x="61" y="83"/>
                </a:moveTo>
                <a:lnTo>
                  <a:pt x="31" y="73"/>
                </a:lnTo>
                <a:lnTo>
                  <a:pt x="0" y="83"/>
                </a:lnTo>
                <a:lnTo>
                  <a:pt x="31" y="0"/>
                </a:lnTo>
                <a:lnTo>
                  <a:pt x="61" y="83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99320" y="2297160"/>
            <a:ext cx="703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1460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9560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7660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5760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4004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104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0204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8304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6548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648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2748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0992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092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7192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292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3536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1636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9736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836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6080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4180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2280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0380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8624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4824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2924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1168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9268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7368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468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3712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1812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9912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8012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6256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4356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2456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0556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8800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69000" y="59500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6"/>
                </a:lnTo>
                <a:lnTo>
                  <a:pt x="25" y="16"/>
                </a:lnTo>
                <a:lnTo>
                  <a:pt x="25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5000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31000" y="59500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lnTo>
                  <a:pt x="0" y="16"/>
                </a:lnTo>
                <a:lnTo>
                  <a:pt x="26" y="16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87880" y="590076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87880" y="583092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87880" y="576252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1"/>
                </a:moveTo>
                <a:lnTo>
                  <a:pt x="16" y="21"/>
                </a:lnTo>
                <a:lnTo>
                  <a:pt x="16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87880" y="5692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87880" y="562284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87880" y="555300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87880" y="548316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987880" y="541332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87880" y="5378400"/>
            <a:ext cx="2700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27280" y="2760840"/>
            <a:ext cx="276876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2719440"/>
            <a:ext cx="155520" cy="84240"/>
          </a:xfrm>
          <a:custGeom>
            <a:avLst/>
            <a:gdLst/>
            <a:ahLst/>
            <a:rect l="l" t="t" r="r" b="b"/>
            <a:pathLst>
              <a:path w="98" h="53">
                <a:moveTo>
                  <a:pt x="97" y="0"/>
                </a:moveTo>
                <a:lnTo>
                  <a:pt x="85" y="26"/>
                </a:lnTo>
                <a:lnTo>
                  <a:pt x="97" y="52"/>
                </a:lnTo>
                <a:lnTo>
                  <a:pt x="0" y="26"/>
                </a:lnTo>
                <a:lnTo>
                  <a:pt x="97" y="0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49960" y="2719440"/>
            <a:ext cx="155520" cy="84240"/>
          </a:xfrm>
          <a:custGeom>
            <a:avLst/>
            <a:gdLst/>
            <a:ahLst/>
            <a:rect l="l" t="t" r="r" b="b"/>
            <a:pathLst>
              <a:path w="98" h="53">
                <a:moveTo>
                  <a:pt x="0" y="52"/>
                </a:moveTo>
                <a:lnTo>
                  <a:pt x="12" y="26"/>
                </a:lnTo>
                <a:lnTo>
                  <a:pt x="0" y="0"/>
                </a:lnTo>
                <a:lnTo>
                  <a:pt x="97" y="26"/>
                </a:lnTo>
                <a:lnTo>
                  <a:pt x="0" y="52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70720" y="2811600"/>
            <a:ext cx="2052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CONFIGURATION-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71440" y="3595680"/>
            <a:ext cx="15613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CONTROL-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3962520"/>
            <a:ext cx="1879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ONTROL-DISTRIB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4381560"/>
            <a:ext cx="1584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 MULTICAST-S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080" y="4748040"/>
            <a:ext cx="1927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 MULTICAST-FORW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00600" y="5243400"/>
            <a:ext cx="1296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 DATA-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72360" y="5167440"/>
            <a:ext cx="979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62160" y="5430960"/>
            <a:ext cx="1296360" cy="1093680"/>
            <a:chOff x="1262160" y="5430960"/>
            <a:chExt cx="1296360" cy="1093680"/>
          </a:xfrm>
        </p:grpSpPr>
        <p:grpSp>
          <p:nvGrpSpPr>
            <p:cNvPr id="427" name=""/>
            <p:cNvGrpSpPr/>
            <p:nvPr/>
          </p:nvGrpSpPr>
          <p:grpSpPr>
            <a:xfrm>
              <a:off x="1262160" y="6142320"/>
              <a:ext cx="1296360" cy="382320"/>
              <a:chOff x="1262160" y="6142320"/>
              <a:chExt cx="1296360" cy="382320"/>
            </a:xfrm>
          </p:grpSpPr>
          <p:sp>
            <p:nvSpPr>
              <p:cNvPr id="428" name=""/>
              <p:cNvSpPr/>
              <p:nvPr/>
            </p:nvSpPr>
            <p:spPr>
              <a:xfrm>
                <a:off x="1262160" y="6145200"/>
                <a:ext cx="1292040" cy="211320"/>
              </a:xfrm>
              <a:custGeom>
                <a:avLst/>
                <a:gdLst/>
                <a:ahLst/>
                <a:rect l="l" t="t" r="r" b="b"/>
                <a:pathLst>
                  <a:path w="814" h="133">
                    <a:moveTo>
                      <a:pt x="123" y="41"/>
                    </a:moveTo>
                    <a:lnTo>
                      <a:pt x="0" y="116"/>
                    </a:lnTo>
                    <a:lnTo>
                      <a:pt x="623" y="132"/>
                    </a:lnTo>
                    <a:lnTo>
                      <a:pt x="813" y="11"/>
                    </a:lnTo>
                    <a:lnTo>
                      <a:pt x="197" y="0"/>
                    </a:lnTo>
                    <a:lnTo>
                      <a:pt x="123" y="41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62160" y="6324840"/>
                <a:ext cx="991800" cy="199800"/>
              </a:xfrm>
              <a:custGeom>
                <a:avLst/>
                <a:gdLst/>
                <a:ahLst/>
                <a:rect l="l" t="t" r="r" b="b"/>
                <a:pathLst>
                  <a:path w="625" h="126">
                    <a:moveTo>
                      <a:pt x="0" y="0"/>
                    </a:moveTo>
                    <a:lnTo>
                      <a:pt x="624" y="18"/>
                    </a:lnTo>
                    <a:lnTo>
                      <a:pt x="624" y="125"/>
                    </a:lnTo>
                    <a:lnTo>
                      <a:pt x="0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257200" y="6166080"/>
                <a:ext cx="301320" cy="358560"/>
              </a:xfrm>
              <a:custGeom>
                <a:avLst/>
                <a:gdLst/>
                <a:ahLst/>
                <a:rect l="l" t="t" r="r" b="b"/>
                <a:pathLst>
                  <a:path w="190" h="226">
                    <a:moveTo>
                      <a:pt x="0" y="225"/>
                    </a:moveTo>
                    <a:lnTo>
                      <a:pt x="0" y="117"/>
                    </a:lnTo>
                    <a:lnTo>
                      <a:pt x="189" y="0"/>
                    </a:lnTo>
                    <a:lnTo>
                      <a:pt x="189" y="88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88960" y="6248520"/>
                <a:ext cx="729720" cy="57240"/>
              </a:xfrm>
              <a:custGeom>
                <a:avLst/>
                <a:gdLst/>
                <a:ahLst/>
                <a:rect l="l" t="t" r="r" b="b"/>
                <a:pathLst>
                  <a:path w="460" h="36">
                    <a:moveTo>
                      <a:pt x="0" y="25"/>
                    </a:moveTo>
                    <a:lnTo>
                      <a:pt x="0" y="0"/>
                    </a:lnTo>
                    <a:lnTo>
                      <a:pt x="459" y="10"/>
                    </a:lnTo>
                    <a:lnTo>
                      <a:pt x="459" y="3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217600" y="6166080"/>
                <a:ext cx="164880" cy="139680"/>
              </a:xfrm>
              <a:custGeom>
                <a:avLst/>
                <a:gdLst/>
                <a:ahLst/>
                <a:rect l="l" t="t" r="r" b="b"/>
                <a:pathLst>
                  <a:path w="104" h="88">
                    <a:moveTo>
                      <a:pt x="4" y="87"/>
                    </a:moveTo>
                    <a:lnTo>
                      <a:pt x="0" y="61"/>
                    </a:lnTo>
                    <a:lnTo>
                      <a:pt x="103" y="0"/>
                    </a:lnTo>
                    <a:lnTo>
                      <a:pt x="103" y="21"/>
                    </a:lnTo>
                    <a:lnTo>
                      <a:pt x="4" y="87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88960" y="6142320"/>
                <a:ext cx="885600" cy="123840"/>
              </a:xfrm>
              <a:custGeom>
                <a:avLst/>
                <a:gdLst/>
                <a:ahLst/>
                <a:rect l="l" t="t" r="r" b="b"/>
                <a:pathLst>
                  <a:path w="558" h="78">
                    <a:moveTo>
                      <a:pt x="0" y="65"/>
                    </a:moveTo>
                    <a:lnTo>
                      <a:pt x="454" y="77"/>
                    </a:lnTo>
                    <a:lnTo>
                      <a:pt x="557" y="11"/>
                    </a:lnTo>
                    <a:lnTo>
                      <a:pt x="118" y="0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277640" y="5430960"/>
              <a:ext cx="1155240" cy="770040"/>
              <a:chOff x="1277640" y="5430960"/>
              <a:chExt cx="1155240" cy="770040"/>
            </a:xfrm>
          </p:grpSpPr>
          <p:sp>
            <p:nvSpPr>
              <p:cNvPr id="435" name=""/>
              <p:cNvSpPr/>
              <p:nvPr/>
            </p:nvSpPr>
            <p:spPr>
              <a:xfrm>
                <a:off x="1277640" y="5483520"/>
                <a:ext cx="960120" cy="717480"/>
              </a:xfrm>
              <a:custGeom>
                <a:avLst/>
                <a:gdLst/>
                <a:ahLst/>
                <a:rect l="l" t="t" r="r" b="b"/>
                <a:pathLst>
                  <a:path w="605" h="452">
                    <a:moveTo>
                      <a:pt x="0" y="0"/>
                    </a:moveTo>
                    <a:lnTo>
                      <a:pt x="0" y="439"/>
                    </a:lnTo>
                    <a:lnTo>
                      <a:pt x="604" y="451"/>
                    </a:lnTo>
                    <a:lnTo>
                      <a:pt x="604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77640" y="5430960"/>
                <a:ext cx="1091880" cy="68400"/>
              </a:xfrm>
              <a:custGeom>
                <a:avLst/>
                <a:gdLst/>
                <a:ahLst/>
                <a:rect l="l" t="t" r="r" b="b"/>
                <a:pathLst>
                  <a:path w="688" h="43">
                    <a:moveTo>
                      <a:pt x="0" y="34"/>
                    </a:moveTo>
                    <a:lnTo>
                      <a:pt x="151" y="0"/>
                    </a:lnTo>
                    <a:lnTo>
                      <a:pt x="687" y="3"/>
                    </a:lnTo>
                    <a:lnTo>
                      <a:pt x="600" y="42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31640" y="5437440"/>
                <a:ext cx="150480" cy="760320"/>
              </a:xfrm>
              <a:custGeom>
                <a:avLst/>
                <a:gdLst/>
                <a:ahLst/>
                <a:rect l="l" t="t" r="r" b="b"/>
                <a:pathLst>
                  <a:path w="95" h="479">
                    <a:moveTo>
                      <a:pt x="0" y="478"/>
                    </a:moveTo>
                    <a:lnTo>
                      <a:pt x="0" y="36"/>
                    </a:lnTo>
                    <a:lnTo>
                      <a:pt x="94" y="0"/>
                    </a:lnTo>
                    <a:lnTo>
                      <a:pt x="94" y="407"/>
                    </a:lnTo>
                    <a:lnTo>
                      <a:pt x="0" y="478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96440" y="5577120"/>
                <a:ext cx="699840" cy="530280"/>
              </a:xfrm>
              <a:custGeom>
                <a:avLst/>
                <a:gdLst/>
                <a:ahLst/>
                <a:rect l="l" t="t" r="r" b="b"/>
                <a:pathLst>
                  <a:path w="441" h="334">
                    <a:moveTo>
                      <a:pt x="440" y="333"/>
                    </a:moveTo>
                    <a:lnTo>
                      <a:pt x="0" y="325"/>
                    </a:lnTo>
                    <a:lnTo>
                      <a:pt x="0" y="0"/>
                    </a:lnTo>
                    <a:lnTo>
                      <a:pt x="440" y="7"/>
                    </a:lnTo>
                    <a:lnTo>
                      <a:pt x="440" y="33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14ffb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374560" y="5483520"/>
                <a:ext cx="58320" cy="554040"/>
              </a:xfrm>
              <a:prstGeom prst="octagon">
                <a:avLst>
                  <a:gd name="adj" fmla="val 29282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"/>
          <p:cNvSpPr/>
          <p:nvPr/>
        </p:nvSpPr>
        <p:spPr>
          <a:xfrm>
            <a:off x="1424880" y="5708520"/>
            <a:ext cx="703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80920" y="2789280"/>
            <a:ext cx="6478560" cy="2363760"/>
          </a:xfrm>
          <a:custGeom>
            <a:avLst/>
            <a:gdLst/>
            <a:ahLst/>
            <a:rect l="l" t="t" r="r" b="b"/>
            <a:pathLst>
              <a:path w="4081" h="1489">
                <a:moveTo>
                  <a:pt x="4080" y="1488"/>
                </a:moveTo>
                <a:lnTo>
                  <a:pt x="0" y="14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80920" y="2789280"/>
            <a:ext cx="228600" cy="0"/>
          </a:xfrm>
          <a:prstGeom prst="line">
            <a:avLst/>
          </a:prstGeom>
          <a:ln w="1260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33760" y="5151600"/>
            <a:ext cx="4725720" cy="915840"/>
          </a:xfrm>
          <a:custGeom>
            <a:avLst/>
            <a:gdLst/>
            <a:ahLst/>
            <a:rect l="l" t="t" r="r" b="b"/>
            <a:pathLst>
              <a:path w="2977" h="577">
                <a:moveTo>
                  <a:pt x="0" y="576"/>
                </a:moveTo>
                <a:lnTo>
                  <a:pt x="2976" y="576"/>
                </a:lnTo>
                <a:lnTo>
                  <a:pt x="2976" y="0"/>
                </a:lnTo>
              </a:path>
            </a:pathLst>
          </a:custGeom>
          <a:noFill/>
          <a:ln cap="rnd" w="12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481120" y="6066000"/>
            <a:ext cx="152640" cy="0"/>
          </a:xfrm>
          <a:prstGeom prst="line">
            <a:avLst/>
          </a:prstGeom>
          <a:ln w="1260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6858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ONENTES LAN E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638360" y="6394320"/>
            <a:ext cx="5816520" cy="0"/>
          </a:xfrm>
          <a:prstGeom prst="line">
            <a:avLst/>
          </a:prstGeom>
          <a:ln w="507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6160" y="3987720"/>
            <a:ext cx="1479600" cy="247032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13080" y="5816520"/>
            <a:ext cx="1479600" cy="64152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442280" y="3987720"/>
            <a:ext cx="1479600" cy="247032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94160" y="4711680"/>
            <a:ext cx="2482920" cy="17589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8200" y="4140360"/>
            <a:ext cx="7181640" cy="2149200"/>
          </a:xfrm>
          <a:custGeom>
            <a:avLst/>
            <a:gdLst/>
            <a:ahLst/>
            <a:rect l="l" t="t" r="r" b="b"/>
            <a:pathLst>
              <a:path w="4524" h="1354">
                <a:moveTo>
                  <a:pt x="0" y="31"/>
                </a:moveTo>
                <a:lnTo>
                  <a:pt x="0" y="1352"/>
                </a:lnTo>
                <a:lnTo>
                  <a:pt x="1140" y="1352"/>
                </a:lnTo>
                <a:lnTo>
                  <a:pt x="1384" y="1180"/>
                </a:lnTo>
                <a:lnTo>
                  <a:pt x="1542" y="1180"/>
                </a:lnTo>
                <a:lnTo>
                  <a:pt x="1903" y="1352"/>
                </a:lnTo>
                <a:lnTo>
                  <a:pt x="2383" y="1352"/>
                </a:lnTo>
                <a:lnTo>
                  <a:pt x="2722" y="944"/>
                </a:lnTo>
                <a:lnTo>
                  <a:pt x="2942" y="645"/>
                </a:lnTo>
                <a:lnTo>
                  <a:pt x="3304" y="645"/>
                </a:lnTo>
                <a:lnTo>
                  <a:pt x="3564" y="1353"/>
                </a:lnTo>
                <a:lnTo>
                  <a:pt x="4302" y="1353"/>
                </a:lnTo>
                <a:lnTo>
                  <a:pt x="4523" y="1085"/>
                </a:lnTo>
                <a:lnTo>
                  <a:pt x="4523" y="0"/>
                </a:lnTo>
              </a:path>
            </a:pathLst>
          </a:custGeom>
          <a:noFill/>
          <a:ln cap="rnd" w="50760">
            <a:solidFill>
              <a:srgbClr val="f5eb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3200" y="4432320"/>
            <a:ext cx="150516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6480" y="3956040"/>
            <a:ext cx="1274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gher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494676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4432320"/>
            <a:ext cx="0" cy="49536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162080" y="4425840"/>
            <a:ext cx="0" cy="52092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3080" y="4429080"/>
            <a:ext cx="1547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   IPX  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3200" y="4718160"/>
            <a:ext cx="1505160" cy="0"/>
          </a:xfrm>
          <a:prstGeom prst="line">
            <a:avLst/>
          </a:prstGeom>
          <a:ln w="25560">
            <a:solidFill>
              <a:srgbClr val="f2c70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7240" y="4721400"/>
            <a:ext cx="1099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DIS    OD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2960" y="5289480"/>
            <a:ext cx="126540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4520" y="5003640"/>
            <a:ext cx="14605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E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280" y="557532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3960" y="5327640"/>
            <a:ext cx="986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gna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582300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9760" y="5575320"/>
            <a:ext cx="698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AL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612792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7440" y="5880240"/>
            <a:ext cx="1094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3920" y="6165720"/>
            <a:ext cx="1485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 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19200" y="612792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74720" y="5880240"/>
            <a:ext cx="1094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00840" y="6175440"/>
            <a:ext cx="1485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 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19000" y="5022720"/>
            <a:ext cx="14605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E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00640" y="5594400"/>
            <a:ext cx="148572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00640" y="5842080"/>
            <a:ext cx="148572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57760" y="5594400"/>
            <a:ext cx="698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AL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00640" y="6146640"/>
            <a:ext cx="247644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55800" y="5899320"/>
            <a:ext cx="1094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82280" y="6175440"/>
            <a:ext cx="1485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 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29680" y="4432320"/>
            <a:ext cx="150480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72600" y="3956040"/>
            <a:ext cx="1274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gher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448400" y="494676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905600" y="4432320"/>
            <a:ext cx="0" cy="49536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458200" y="4451400"/>
            <a:ext cx="0" cy="49536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492320" y="4429080"/>
            <a:ext cx="1547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   IPX  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29680" y="4718160"/>
            <a:ext cx="1504800" cy="0"/>
          </a:xfrm>
          <a:prstGeom prst="line">
            <a:avLst/>
          </a:prstGeom>
          <a:ln w="25560">
            <a:solidFill>
              <a:srgbClr val="f2c70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403040" y="4738680"/>
            <a:ext cx="991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DIS    O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448400" y="6127920"/>
            <a:ext cx="14860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75200" y="6175440"/>
            <a:ext cx="99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P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22880" y="5318280"/>
            <a:ext cx="5889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22720" y="6175440"/>
            <a:ext cx="99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P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970760" y="5318280"/>
            <a:ext cx="5889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765440" y="3600360"/>
            <a:ext cx="2044440" cy="1524240"/>
          </a:xfrm>
          <a:prstGeom prst="line">
            <a:avLst/>
          </a:prstGeom>
          <a:ln w="76320">
            <a:solidFill>
              <a:srgbClr val="f2c705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4286160" y="3638160"/>
            <a:ext cx="177840" cy="1467000"/>
          </a:xfrm>
          <a:prstGeom prst="line">
            <a:avLst/>
          </a:prstGeom>
          <a:ln w="76320">
            <a:solidFill>
              <a:srgbClr val="f2c705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95960" y="4695840"/>
            <a:ext cx="1492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94280" y="4708440"/>
            <a:ext cx="10350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4160" y="1879560"/>
            <a:ext cx="8573760" cy="1409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57800" y="2382840"/>
            <a:ext cx="262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71840" y="2190600"/>
            <a:ext cx="569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42160" y="2190600"/>
            <a:ext cx="569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6560" y="2190600"/>
            <a:ext cx="907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4640" y="2844720"/>
            <a:ext cx="16084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End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10400" y="2882880"/>
            <a:ext cx="99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75720" y="2990880"/>
            <a:ext cx="1193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03440" y="2476440"/>
            <a:ext cx="432000" cy="43200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84680" y="2793960"/>
            <a:ext cx="698400" cy="4190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66760" y="2779560"/>
            <a:ext cx="5598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86360" y="4718160"/>
            <a:ext cx="0" cy="175248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81560" y="4984920"/>
            <a:ext cx="252720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09280" y="253368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79600" y="253368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600" y="5276880"/>
            <a:ext cx="0" cy="30168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02240" y="5289480"/>
            <a:ext cx="126504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88280" y="5327640"/>
            <a:ext cx="986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gna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92520" y="5276880"/>
            <a:ext cx="0" cy="30168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06360" y="2463840"/>
            <a:ext cx="6756480" cy="0"/>
          </a:xfrm>
          <a:prstGeom prst="line">
            <a:avLst/>
          </a:prstGeom>
          <a:ln w="25560">
            <a:solidFill>
              <a:srgbClr val="f2c7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157800" y="2357280"/>
            <a:ext cx="262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804080" y="2031840"/>
            <a:ext cx="960480" cy="865440"/>
            <a:chOff x="7804080" y="2031840"/>
            <a:chExt cx="960480" cy="865440"/>
          </a:xfrm>
        </p:grpSpPr>
        <p:grpSp>
          <p:nvGrpSpPr>
            <p:cNvPr id="518" name=""/>
            <p:cNvGrpSpPr/>
            <p:nvPr/>
          </p:nvGrpSpPr>
          <p:grpSpPr>
            <a:xfrm>
              <a:off x="7804080" y="2593800"/>
              <a:ext cx="960480" cy="303480"/>
              <a:chOff x="7804080" y="2593800"/>
              <a:chExt cx="960480" cy="303480"/>
            </a:xfrm>
          </p:grpSpPr>
          <p:sp>
            <p:nvSpPr>
              <p:cNvPr id="519" name=""/>
              <p:cNvSpPr/>
              <p:nvPr/>
            </p:nvSpPr>
            <p:spPr>
              <a:xfrm>
                <a:off x="7804080" y="2597040"/>
                <a:ext cx="955800" cy="166680"/>
              </a:xfrm>
              <a:custGeom>
                <a:avLst/>
                <a:gdLst/>
                <a:ahLst/>
                <a:rect l="l" t="t" r="r" b="b"/>
                <a:pathLst>
                  <a:path w="602" h="105">
                    <a:moveTo>
                      <a:pt x="91" y="33"/>
                    </a:moveTo>
                    <a:lnTo>
                      <a:pt x="0" y="92"/>
                    </a:lnTo>
                    <a:lnTo>
                      <a:pt x="461" y="104"/>
                    </a:lnTo>
                    <a:lnTo>
                      <a:pt x="601" y="9"/>
                    </a:lnTo>
                    <a:lnTo>
                      <a:pt x="146" y="0"/>
                    </a:lnTo>
                    <a:lnTo>
                      <a:pt x="91" y="33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04080" y="2738520"/>
                <a:ext cx="735120" cy="158760"/>
              </a:xfrm>
              <a:custGeom>
                <a:avLst/>
                <a:gdLst/>
                <a:ahLst/>
                <a:rect l="l" t="t" r="r" b="b"/>
                <a:pathLst>
                  <a:path w="463" h="100">
                    <a:moveTo>
                      <a:pt x="0" y="0"/>
                    </a:moveTo>
                    <a:lnTo>
                      <a:pt x="462" y="15"/>
                    </a:lnTo>
                    <a:lnTo>
                      <a:pt x="462" y="99"/>
                    </a:lnTo>
                    <a:lnTo>
                      <a:pt x="0" y="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540640" y="2612880"/>
                <a:ext cx="223920" cy="284400"/>
              </a:xfrm>
              <a:custGeom>
                <a:avLst/>
                <a:gdLst/>
                <a:ahLst/>
                <a:rect l="l" t="t" r="r" b="b"/>
                <a:pathLst>
                  <a:path w="141" h="179">
                    <a:moveTo>
                      <a:pt x="0" y="178"/>
                    </a:moveTo>
                    <a:lnTo>
                      <a:pt x="0" y="93"/>
                    </a:lnTo>
                    <a:lnTo>
                      <a:pt x="140" y="0"/>
                    </a:lnTo>
                    <a:lnTo>
                      <a:pt x="140" y="70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972560" y="2678040"/>
                <a:ext cx="541080" cy="46080"/>
              </a:xfrm>
              <a:custGeom>
                <a:avLst/>
                <a:gdLst/>
                <a:ahLst/>
                <a:rect l="l" t="t" r="r" b="b"/>
                <a:pathLst>
                  <a:path w="341" h="29">
                    <a:moveTo>
                      <a:pt x="0" y="20"/>
                    </a:moveTo>
                    <a:lnTo>
                      <a:pt x="0" y="0"/>
                    </a:lnTo>
                    <a:lnTo>
                      <a:pt x="340" y="8"/>
                    </a:lnTo>
                    <a:lnTo>
                      <a:pt x="340" y="28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12200" y="2612880"/>
                <a:ext cx="122040" cy="111240"/>
              </a:xfrm>
              <a:custGeom>
                <a:avLst/>
                <a:gdLst/>
                <a:ahLst/>
                <a:rect l="l" t="t" r="r" b="b"/>
                <a:pathLst>
                  <a:path w="77" h="70">
                    <a:moveTo>
                      <a:pt x="3" y="69"/>
                    </a:moveTo>
                    <a:lnTo>
                      <a:pt x="0" y="49"/>
                    </a:lnTo>
                    <a:lnTo>
                      <a:pt x="76" y="0"/>
                    </a:lnTo>
                    <a:lnTo>
                      <a:pt x="76" y="17"/>
                    </a:lnTo>
                    <a:lnTo>
                      <a:pt x="3" y="69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972560" y="2593800"/>
                <a:ext cx="657000" cy="98640"/>
              </a:xfrm>
              <a:custGeom>
                <a:avLst/>
                <a:gdLst/>
                <a:ahLst/>
                <a:rect l="l" t="t" r="r" b="b"/>
                <a:pathLst>
                  <a:path w="414" h="62">
                    <a:moveTo>
                      <a:pt x="0" y="52"/>
                    </a:moveTo>
                    <a:lnTo>
                      <a:pt x="337" y="61"/>
                    </a:lnTo>
                    <a:lnTo>
                      <a:pt x="413" y="9"/>
                    </a:lnTo>
                    <a:lnTo>
                      <a:pt x="88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815240" y="2031840"/>
              <a:ext cx="853920" cy="609840"/>
              <a:chOff x="7815240" y="2031840"/>
              <a:chExt cx="853920" cy="609840"/>
            </a:xfrm>
          </p:grpSpPr>
          <p:sp>
            <p:nvSpPr>
              <p:cNvPr id="526" name=""/>
              <p:cNvSpPr/>
              <p:nvPr/>
            </p:nvSpPr>
            <p:spPr>
              <a:xfrm>
                <a:off x="7815240" y="2073240"/>
                <a:ext cx="712800" cy="568440"/>
              </a:xfrm>
              <a:custGeom>
                <a:avLst/>
                <a:gdLst/>
                <a:ahLst/>
                <a:rect l="l" t="t" r="r" b="b"/>
                <a:pathLst>
                  <a:path w="449" h="358">
                    <a:moveTo>
                      <a:pt x="0" y="0"/>
                    </a:moveTo>
                    <a:lnTo>
                      <a:pt x="0" y="348"/>
                    </a:lnTo>
                    <a:lnTo>
                      <a:pt x="448" y="357"/>
                    </a:lnTo>
                    <a:lnTo>
                      <a:pt x="44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815240" y="2031840"/>
                <a:ext cx="809640" cy="54000"/>
              </a:xfrm>
              <a:custGeom>
                <a:avLst/>
                <a:gdLst/>
                <a:ahLst/>
                <a:rect l="l" t="t" r="r" b="b"/>
                <a:pathLst>
                  <a:path w="510" h="34">
                    <a:moveTo>
                      <a:pt x="0" y="27"/>
                    </a:moveTo>
                    <a:lnTo>
                      <a:pt x="112" y="0"/>
                    </a:lnTo>
                    <a:lnTo>
                      <a:pt x="509" y="3"/>
                    </a:lnTo>
                    <a:lnTo>
                      <a:pt x="445" y="3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521560" y="2036880"/>
                <a:ext cx="112680" cy="601560"/>
              </a:xfrm>
              <a:custGeom>
                <a:avLst/>
                <a:gdLst/>
                <a:ahLst/>
                <a:rect l="l" t="t" r="r" b="b"/>
                <a:pathLst>
                  <a:path w="71" h="379">
                    <a:moveTo>
                      <a:pt x="0" y="378"/>
                    </a:moveTo>
                    <a:lnTo>
                      <a:pt x="0" y="29"/>
                    </a:lnTo>
                    <a:lnTo>
                      <a:pt x="70" y="0"/>
                    </a:lnTo>
                    <a:lnTo>
                      <a:pt x="70" y="322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904160" y="2147760"/>
                <a:ext cx="517680" cy="419400"/>
              </a:xfrm>
              <a:custGeom>
                <a:avLst/>
                <a:gdLst/>
                <a:ahLst/>
                <a:rect l="l" t="t" r="r" b="b"/>
                <a:pathLst>
                  <a:path w="326" h="264">
                    <a:moveTo>
                      <a:pt x="325" y="263"/>
                    </a:moveTo>
                    <a:lnTo>
                      <a:pt x="0" y="257"/>
                    </a:lnTo>
                    <a:lnTo>
                      <a:pt x="0" y="0"/>
                    </a:lnTo>
                    <a:lnTo>
                      <a:pt x="325" y="6"/>
                    </a:lnTo>
                    <a:lnTo>
                      <a:pt x="325" y="26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14ffb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629560" y="2075040"/>
                <a:ext cx="39600" cy="434880"/>
              </a:xfrm>
              <a:prstGeom prst="octagon">
                <a:avLst>
                  <a:gd name="adj" fmla="val 29282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"/>
          <p:cNvGrpSpPr/>
          <p:nvPr/>
        </p:nvGrpSpPr>
        <p:grpSpPr>
          <a:xfrm>
            <a:off x="412920" y="2031840"/>
            <a:ext cx="960120" cy="865440"/>
            <a:chOff x="412920" y="2031840"/>
            <a:chExt cx="960120" cy="865440"/>
          </a:xfrm>
        </p:grpSpPr>
        <p:grpSp>
          <p:nvGrpSpPr>
            <p:cNvPr id="532" name=""/>
            <p:cNvGrpSpPr/>
            <p:nvPr/>
          </p:nvGrpSpPr>
          <p:grpSpPr>
            <a:xfrm>
              <a:off x="412920" y="2593800"/>
              <a:ext cx="960120" cy="303480"/>
              <a:chOff x="412920" y="2593800"/>
              <a:chExt cx="960120" cy="303480"/>
            </a:xfrm>
          </p:grpSpPr>
          <p:sp>
            <p:nvSpPr>
              <p:cNvPr id="533" name=""/>
              <p:cNvSpPr/>
              <p:nvPr/>
            </p:nvSpPr>
            <p:spPr>
              <a:xfrm>
                <a:off x="412920" y="2597040"/>
                <a:ext cx="955440" cy="166680"/>
              </a:xfrm>
              <a:custGeom>
                <a:avLst/>
                <a:gdLst/>
                <a:ahLst/>
                <a:rect l="l" t="t" r="r" b="b"/>
                <a:pathLst>
                  <a:path w="602" h="105">
                    <a:moveTo>
                      <a:pt x="91" y="33"/>
                    </a:moveTo>
                    <a:lnTo>
                      <a:pt x="0" y="92"/>
                    </a:lnTo>
                    <a:lnTo>
                      <a:pt x="461" y="104"/>
                    </a:lnTo>
                    <a:lnTo>
                      <a:pt x="601" y="9"/>
                    </a:lnTo>
                    <a:lnTo>
                      <a:pt x="146" y="0"/>
                    </a:lnTo>
                    <a:lnTo>
                      <a:pt x="91" y="33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2920" y="2738520"/>
                <a:ext cx="734760" cy="158760"/>
              </a:xfrm>
              <a:custGeom>
                <a:avLst/>
                <a:gdLst/>
                <a:ahLst/>
                <a:rect l="l" t="t" r="r" b="b"/>
                <a:pathLst>
                  <a:path w="463" h="100">
                    <a:moveTo>
                      <a:pt x="0" y="0"/>
                    </a:moveTo>
                    <a:lnTo>
                      <a:pt x="462" y="15"/>
                    </a:lnTo>
                    <a:lnTo>
                      <a:pt x="462" y="99"/>
                    </a:lnTo>
                    <a:lnTo>
                      <a:pt x="0" y="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149480" y="2612880"/>
                <a:ext cx="223560" cy="284400"/>
              </a:xfrm>
              <a:custGeom>
                <a:avLst/>
                <a:gdLst/>
                <a:ahLst/>
                <a:rect l="l" t="t" r="r" b="b"/>
                <a:pathLst>
                  <a:path w="141" h="179">
                    <a:moveTo>
                      <a:pt x="0" y="178"/>
                    </a:moveTo>
                    <a:lnTo>
                      <a:pt x="0" y="93"/>
                    </a:lnTo>
                    <a:lnTo>
                      <a:pt x="140" y="0"/>
                    </a:lnTo>
                    <a:lnTo>
                      <a:pt x="140" y="70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1040" y="2678040"/>
                <a:ext cx="541440" cy="46080"/>
              </a:xfrm>
              <a:custGeom>
                <a:avLst/>
                <a:gdLst/>
                <a:ahLst/>
                <a:rect l="l" t="t" r="r" b="b"/>
                <a:pathLst>
                  <a:path w="341" h="29">
                    <a:moveTo>
                      <a:pt x="0" y="20"/>
                    </a:moveTo>
                    <a:lnTo>
                      <a:pt x="0" y="0"/>
                    </a:lnTo>
                    <a:lnTo>
                      <a:pt x="340" y="8"/>
                    </a:lnTo>
                    <a:lnTo>
                      <a:pt x="340" y="28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120680" y="2612880"/>
                <a:ext cx="122400" cy="111240"/>
              </a:xfrm>
              <a:custGeom>
                <a:avLst/>
                <a:gdLst/>
                <a:ahLst/>
                <a:rect l="l" t="t" r="r" b="b"/>
                <a:pathLst>
                  <a:path w="77" h="70">
                    <a:moveTo>
                      <a:pt x="3" y="69"/>
                    </a:moveTo>
                    <a:lnTo>
                      <a:pt x="0" y="49"/>
                    </a:lnTo>
                    <a:lnTo>
                      <a:pt x="76" y="0"/>
                    </a:lnTo>
                    <a:lnTo>
                      <a:pt x="76" y="17"/>
                    </a:lnTo>
                    <a:lnTo>
                      <a:pt x="3" y="69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2593800"/>
                <a:ext cx="657360" cy="98640"/>
              </a:xfrm>
              <a:custGeom>
                <a:avLst/>
                <a:gdLst/>
                <a:ahLst/>
                <a:rect l="l" t="t" r="r" b="b"/>
                <a:pathLst>
                  <a:path w="414" h="62">
                    <a:moveTo>
                      <a:pt x="0" y="52"/>
                    </a:moveTo>
                    <a:lnTo>
                      <a:pt x="337" y="61"/>
                    </a:lnTo>
                    <a:lnTo>
                      <a:pt x="413" y="9"/>
                    </a:lnTo>
                    <a:lnTo>
                      <a:pt x="88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423720" y="2031840"/>
              <a:ext cx="854280" cy="609840"/>
              <a:chOff x="423720" y="2031840"/>
              <a:chExt cx="854280" cy="609840"/>
            </a:xfrm>
          </p:grpSpPr>
          <p:sp>
            <p:nvSpPr>
              <p:cNvPr id="540" name=""/>
              <p:cNvSpPr/>
              <p:nvPr/>
            </p:nvSpPr>
            <p:spPr>
              <a:xfrm>
                <a:off x="423720" y="2073240"/>
                <a:ext cx="712800" cy="568440"/>
              </a:xfrm>
              <a:custGeom>
                <a:avLst/>
                <a:gdLst/>
                <a:ahLst/>
                <a:rect l="l" t="t" r="r" b="b"/>
                <a:pathLst>
                  <a:path w="449" h="358">
                    <a:moveTo>
                      <a:pt x="0" y="0"/>
                    </a:moveTo>
                    <a:lnTo>
                      <a:pt x="0" y="348"/>
                    </a:lnTo>
                    <a:lnTo>
                      <a:pt x="448" y="357"/>
                    </a:lnTo>
                    <a:lnTo>
                      <a:pt x="44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23720" y="2031840"/>
                <a:ext cx="809640" cy="54000"/>
              </a:xfrm>
              <a:custGeom>
                <a:avLst/>
                <a:gdLst/>
                <a:ahLst/>
                <a:rect l="l" t="t" r="r" b="b"/>
                <a:pathLst>
                  <a:path w="510" h="34">
                    <a:moveTo>
                      <a:pt x="0" y="27"/>
                    </a:moveTo>
                    <a:lnTo>
                      <a:pt x="112" y="0"/>
                    </a:lnTo>
                    <a:lnTo>
                      <a:pt x="509" y="3"/>
                    </a:lnTo>
                    <a:lnTo>
                      <a:pt x="445" y="3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130400" y="2036880"/>
                <a:ext cx="112680" cy="601560"/>
              </a:xfrm>
              <a:custGeom>
                <a:avLst/>
                <a:gdLst/>
                <a:ahLst/>
                <a:rect l="l" t="t" r="r" b="b"/>
                <a:pathLst>
                  <a:path w="71" h="379">
                    <a:moveTo>
                      <a:pt x="0" y="378"/>
                    </a:moveTo>
                    <a:lnTo>
                      <a:pt x="0" y="29"/>
                    </a:lnTo>
                    <a:lnTo>
                      <a:pt x="70" y="0"/>
                    </a:lnTo>
                    <a:lnTo>
                      <a:pt x="70" y="322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2640" y="2147760"/>
                <a:ext cx="517680" cy="419400"/>
              </a:xfrm>
              <a:custGeom>
                <a:avLst/>
                <a:gdLst/>
                <a:ahLst/>
                <a:rect l="l" t="t" r="r" b="b"/>
                <a:pathLst>
                  <a:path w="326" h="264">
                    <a:moveTo>
                      <a:pt x="325" y="263"/>
                    </a:moveTo>
                    <a:lnTo>
                      <a:pt x="0" y="257"/>
                    </a:lnTo>
                    <a:lnTo>
                      <a:pt x="0" y="0"/>
                    </a:lnTo>
                    <a:lnTo>
                      <a:pt x="325" y="6"/>
                    </a:lnTo>
                    <a:lnTo>
                      <a:pt x="325" y="263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14ffb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38400" y="2075040"/>
                <a:ext cx="39600" cy="434880"/>
              </a:xfrm>
              <a:prstGeom prst="octagon">
                <a:avLst>
                  <a:gd name="adj" fmla="val 29282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2360520" y="2143080"/>
            <a:ext cx="1527120" cy="830160"/>
            <a:chOff x="2360520" y="2143080"/>
            <a:chExt cx="1527120" cy="830160"/>
          </a:xfrm>
        </p:grpSpPr>
        <p:sp>
          <p:nvSpPr>
            <p:cNvPr id="546" name=""/>
            <p:cNvSpPr/>
            <p:nvPr/>
          </p:nvSpPr>
          <p:spPr>
            <a:xfrm>
              <a:off x="2455920" y="2143080"/>
              <a:ext cx="1431720" cy="438120"/>
            </a:xfrm>
            <a:custGeom>
              <a:avLst/>
              <a:gdLst/>
              <a:ahLst/>
              <a:rect l="l" t="t" r="r" b="b"/>
              <a:pathLst>
                <a:path w="902" h="276">
                  <a:moveTo>
                    <a:pt x="0" y="247"/>
                  </a:moveTo>
                  <a:lnTo>
                    <a:pt x="324" y="0"/>
                  </a:lnTo>
                  <a:lnTo>
                    <a:pt x="901" y="8"/>
                  </a:lnTo>
                  <a:lnTo>
                    <a:pt x="715" y="275"/>
                  </a:lnTo>
                  <a:lnTo>
                    <a:pt x="0" y="247"/>
                  </a:lnTo>
                </a:path>
              </a:pathLst>
            </a:custGeom>
            <a:solidFill>
              <a:srgbClr val="d4876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89200" y="2155680"/>
              <a:ext cx="298440" cy="814680"/>
            </a:xfrm>
            <a:custGeom>
              <a:avLst/>
              <a:gdLst/>
              <a:ahLst/>
              <a:rect l="l" t="t" r="r" b="b"/>
              <a:pathLst>
                <a:path w="188" h="513">
                  <a:moveTo>
                    <a:pt x="0" y="268"/>
                  </a:moveTo>
                  <a:lnTo>
                    <a:pt x="0" y="512"/>
                  </a:lnTo>
                  <a:lnTo>
                    <a:pt x="187" y="197"/>
                  </a:lnTo>
                  <a:lnTo>
                    <a:pt x="187" y="0"/>
                  </a:lnTo>
                  <a:lnTo>
                    <a:pt x="0" y="268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43320" y="2532240"/>
              <a:ext cx="1144440" cy="441000"/>
            </a:xfrm>
            <a:custGeom>
              <a:avLst/>
              <a:gdLst/>
              <a:ahLst/>
              <a:rect l="l" t="t" r="r" b="b"/>
              <a:pathLst>
                <a:path w="721" h="278">
                  <a:moveTo>
                    <a:pt x="0" y="0"/>
                  </a:moveTo>
                  <a:lnTo>
                    <a:pt x="720" y="30"/>
                  </a:lnTo>
                  <a:lnTo>
                    <a:pt x="720" y="277"/>
                  </a:lnTo>
                  <a:lnTo>
                    <a:pt x="0" y="22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6440" y="2571840"/>
              <a:ext cx="1073160" cy="349200"/>
            </a:xfrm>
            <a:custGeom>
              <a:avLst/>
              <a:gdLst/>
              <a:ahLst/>
              <a:rect l="l" t="t" r="r" b="b"/>
              <a:pathLst>
                <a:path w="676" h="220">
                  <a:moveTo>
                    <a:pt x="0" y="0"/>
                  </a:moveTo>
                  <a:lnTo>
                    <a:pt x="675" y="30"/>
                  </a:lnTo>
                  <a:lnTo>
                    <a:pt x="675" y="219"/>
                  </a:lnTo>
                  <a:lnTo>
                    <a:pt x="0" y="174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506680" y="2655720"/>
              <a:ext cx="981000" cy="176400"/>
              <a:chOff x="2506680" y="2655720"/>
              <a:chExt cx="981000" cy="17640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2506680" y="2655720"/>
                <a:ext cx="485640" cy="84240"/>
                <a:chOff x="2506680" y="2655720"/>
                <a:chExt cx="485640" cy="8424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2506680" y="2655720"/>
                  <a:ext cx="485640" cy="84240"/>
                </a:xfrm>
                <a:custGeom>
                  <a:avLst/>
                  <a:gdLst/>
                  <a:ahLst/>
                  <a:rect l="l" t="t" r="r" b="b"/>
                  <a:pathLst>
                    <a:path w="306" h="53">
                      <a:moveTo>
                        <a:pt x="0" y="0"/>
                      </a:moveTo>
                      <a:lnTo>
                        <a:pt x="0" y="35"/>
                      </a:lnTo>
                      <a:lnTo>
                        <a:pt x="305" y="52"/>
                      </a:lnTo>
                      <a:lnTo>
                        <a:pt x="305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529000" y="2676600"/>
                  <a:ext cx="19080" cy="22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948040" y="2695680"/>
                  <a:ext cx="2052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568600" y="267336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622600" y="2674800"/>
                  <a:ext cx="2232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670120" y="267804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717640" y="268128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762280" y="2682720"/>
                  <a:ext cx="2232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806560" y="2685960"/>
                  <a:ext cx="241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854440" y="2689200"/>
                  <a:ext cx="219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98720" y="2690640"/>
                  <a:ext cx="2376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2506680" y="2722680"/>
                <a:ext cx="485640" cy="82440"/>
                <a:chOff x="2506680" y="2722680"/>
                <a:chExt cx="485640" cy="8244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2506680" y="2722680"/>
                  <a:ext cx="485640" cy="82440"/>
                </a:xfrm>
                <a:custGeom>
                  <a:avLst/>
                  <a:gdLst/>
                  <a:ahLst/>
                  <a:rect l="l" t="t" r="r" b="b"/>
                  <a:pathLst>
                    <a:path w="306" h="52">
                      <a:moveTo>
                        <a:pt x="0" y="0"/>
                      </a:moveTo>
                      <a:lnTo>
                        <a:pt x="0" y="35"/>
                      </a:lnTo>
                      <a:lnTo>
                        <a:pt x="305" y="51"/>
                      </a:lnTo>
                      <a:lnTo>
                        <a:pt x="305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529000" y="2743200"/>
                  <a:ext cx="1908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948040" y="2760840"/>
                  <a:ext cx="205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568600" y="273852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622600" y="274176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70120" y="2744640"/>
                  <a:ext cx="22320" cy="24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17640" y="274644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62280" y="274968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806560" y="2751120"/>
                  <a:ext cx="2412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854440" y="2754360"/>
                  <a:ext cx="219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898720" y="275760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3000240" y="2682720"/>
                <a:ext cx="487440" cy="82800"/>
                <a:chOff x="3000240" y="2682720"/>
                <a:chExt cx="487440" cy="8280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3000240" y="2682720"/>
                  <a:ext cx="487440" cy="82800"/>
                </a:xfrm>
                <a:custGeom>
                  <a:avLst/>
                  <a:gdLst/>
                  <a:ahLst/>
                  <a:rect l="l" t="t" r="r" b="b"/>
                  <a:pathLst>
                    <a:path w="307" h="52">
                      <a:moveTo>
                        <a:pt x="0" y="0"/>
                      </a:moveTo>
                      <a:lnTo>
                        <a:pt x="0" y="35"/>
                      </a:lnTo>
                      <a:lnTo>
                        <a:pt x="306" y="51"/>
                      </a:lnTo>
                      <a:lnTo>
                        <a:pt x="306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022560" y="2703600"/>
                  <a:ext cx="2052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443400" y="2722680"/>
                  <a:ext cx="2052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065400" y="2698920"/>
                  <a:ext cx="22320" cy="25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117960" y="2701800"/>
                  <a:ext cx="205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65480" y="2705040"/>
                  <a:ext cx="205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13000" y="2706840"/>
                  <a:ext cx="22320" cy="25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57640" y="2709720"/>
                  <a:ext cx="21960" cy="24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303720" y="2712960"/>
                  <a:ext cx="205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49800" y="2714760"/>
                  <a:ext cx="219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394080" y="2717640"/>
                  <a:ext cx="22320" cy="24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3000240" y="2747880"/>
                <a:ext cx="487440" cy="84240"/>
                <a:chOff x="3000240" y="2747880"/>
                <a:chExt cx="487440" cy="842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3000240" y="2747880"/>
                  <a:ext cx="487440" cy="84240"/>
                </a:xfrm>
                <a:custGeom>
                  <a:avLst/>
                  <a:gdLst/>
                  <a:ahLst/>
                  <a:rect l="l" t="t" r="r" b="b"/>
                  <a:pathLst>
                    <a:path w="307" h="53">
                      <a:moveTo>
                        <a:pt x="0" y="0"/>
                      </a:moveTo>
                      <a:lnTo>
                        <a:pt x="0" y="35"/>
                      </a:lnTo>
                      <a:lnTo>
                        <a:pt x="306" y="52"/>
                      </a:lnTo>
                      <a:lnTo>
                        <a:pt x="306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022560" y="2768760"/>
                  <a:ext cx="205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443400" y="2787480"/>
                  <a:ext cx="20520" cy="20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065400" y="276552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117960" y="2766960"/>
                  <a:ext cx="2052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165480" y="2770200"/>
                  <a:ext cx="205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213000" y="277344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7640" y="2774880"/>
                  <a:ext cx="2196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303720" y="2778120"/>
                  <a:ext cx="205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349800" y="2781360"/>
                  <a:ext cx="219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94080" y="2782800"/>
                  <a:ext cx="2232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9" name=""/>
            <p:cNvGrpSpPr/>
            <p:nvPr/>
          </p:nvGrpSpPr>
          <p:grpSpPr>
            <a:xfrm>
              <a:off x="2360520" y="2532240"/>
              <a:ext cx="114480" cy="376200"/>
              <a:chOff x="2360520" y="2532240"/>
              <a:chExt cx="114480" cy="376200"/>
            </a:xfrm>
          </p:grpSpPr>
          <p:sp>
            <p:nvSpPr>
              <p:cNvPr id="600" name=""/>
              <p:cNvSpPr/>
              <p:nvPr/>
            </p:nvSpPr>
            <p:spPr>
              <a:xfrm>
                <a:off x="2370240" y="2532240"/>
                <a:ext cx="104760" cy="376200"/>
              </a:xfrm>
              <a:custGeom>
                <a:avLst/>
                <a:gdLst/>
                <a:ahLst/>
                <a:rect l="l" t="t" r="r" b="b"/>
                <a:pathLst>
                  <a:path w="66" h="237">
                    <a:moveTo>
                      <a:pt x="2" y="0"/>
                    </a:moveTo>
                    <a:lnTo>
                      <a:pt x="65" y="3"/>
                    </a:lnTo>
                    <a:lnTo>
                      <a:pt x="65" y="236"/>
                    </a:lnTo>
                    <a:lnTo>
                      <a:pt x="0" y="23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"/>
              <p:cNvGrpSpPr/>
              <p:nvPr/>
            </p:nvGrpSpPr>
            <p:grpSpPr>
              <a:xfrm>
                <a:off x="2360520" y="2583000"/>
                <a:ext cx="74880" cy="317520"/>
                <a:chOff x="2360520" y="2583000"/>
                <a:chExt cx="74880" cy="3175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2362320" y="2644920"/>
                  <a:ext cx="20520" cy="2491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360520" y="2583000"/>
                  <a:ext cx="74880" cy="317520"/>
                </a:xfrm>
                <a:custGeom>
                  <a:avLst/>
                  <a:gdLst/>
                  <a:ahLst/>
                  <a:rect l="l" t="t" r="r" b="b"/>
                  <a:pathLst>
                    <a:path w="47" h="200">
                      <a:moveTo>
                        <a:pt x="0" y="35"/>
                      </a:moveTo>
                      <a:lnTo>
                        <a:pt x="32" y="0"/>
                      </a:lnTo>
                      <a:lnTo>
                        <a:pt x="46" y="0"/>
                      </a:lnTo>
                      <a:lnTo>
                        <a:pt x="46" y="27"/>
                      </a:lnTo>
                      <a:lnTo>
                        <a:pt x="27" y="45"/>
                      </a:lnTo>
                      <a:lnTo>
                        <a:pt x="27" y="174"/>
                      </a:lnTo>
                      <a:lnTo>
                        <a:pt x="40" y="159"/>
                      </a:lnTo>
                      <a:lnTo>
                        <a:pt x="40" y="182"/>
                      </a:lnTo>
                      <a:lnTo>
                        <a:pt x="17" y="199"/>
                      </a:lnTo>
                      <a:lnTo>
                        <a:pt x="17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2386080" y="2590920"/>
                  <a:ext cx="47520" cy="4896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2400480" y="2830680"/>
                  <a:ext cx="20520" cy="936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3511440" y="2576520"/>
              <a:ext cx="114480" cy="396720"/>
              <a:chOff x="3511440" y="2576520"/>
              <a:chExt cx="114480" cy="396720"/>
            </a:xfrm>
          </p:grpSpPr>
          <p:sp>
            <p:nvSpPr>
              <p:cNvPr id="607" name=""/>
              <p:cNvSpPr/>
              <p:nvPr/>
            </p:nvSpPr>
            <p:spPr>
              <a:xfrm>
                <a:off x="3521160" y="2576520"/>
                <a:ext cx="104760" cy="396720"/>
              </a:xfrm>
              <a:custGeom>
                <a:avLst/>
                <a:gdLst/>
                <a:ahLst/>
                <a:rect l="l" t="t" r="r" b="b"/>
                <a:pathLst>
                  <a:path w="66" h="250">
                    <a:moveTo>
                      <a:pt x="2" y="0"/>
                    </a:moveTo>
                    <a:lnTo>
                      <a:pt x="65" y="0"/>
                    </a:lnTo>
                    <a:lnTo>
                      <a:pt x="65" y="249"/>
                    </a:lnTo>
                    <a:lnTo>
                      <a:pt x="0" y="24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3511440" y="2647800"/>
                <a:ext cx="74880" cy="317520"/>
                <a:chOff x="3511440" y="2647800"/>
                <a:chExt cx="74880" cy="31752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3513240" y="2709720"/>
                  <a:ext cx="19080" cy="250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511440" y="2647800"/>
                  <a:ext cx="74880" cy="317520"/>
                </a:xfrm>
                <a:custGeom>
                  <a:avLst/>
                  <a:gdLst/>
                  <a:ahLst/>
                  <a:rect l="l" t="t" r="r" b="b"/>
                  <a:pathLst>
                    <a:path w="47" h="200">
                      <a:moveTo>
                        <a:pt x="0" y="35"/>
                      </a:moveTo>
                      <a:lnTo>
                        <a:pt x="32" y="0"/>
                      </a:lnTo>
                      <a:lnTo>
                        <a:pt x="46" y="0"/>
                      </a:lnTo>
                      <a:lnTo>
                        <a:pt x="46" y="27"/>
                      </a:lnTo>
                      <a:lnTo>
                        <a:pt x="27" y="45"/>
                      </a:lnTo>
                      <a:lnTo>
                        <a:pt x="27" y="174"/>
                      </a:lnTo>
                      <a:lnTo>
                        <a:pt x="40" y="159"/>
                      </a:lnTo>
                      <a:lnTo>
                        <a:pt x="40" y="182"/>
                      </a:lnTo>
                      <a:lnTo>
                        <a:pt x="17" y="199"/>
                      </a:lnTo>
                      <a:lnTo>
                        <a:pt x="17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>
                  <a:off x="3537000" y="2655720"/>
                  <a:ext cx="47520" cy="5112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3552840" y="2895120"/>
                  <a:ext cx="19080" cy="1116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3" name=""/>
            <p:cNvSpPr/>
            <p:nvPr/>
          </p:nvSpPr>
          <p:spPr>
            <a:xfrm>
              <a:off x="3059280" y="2619360"/>
              <a:ext cx="425160" cy="50760"/>
            </a:xfrm>
            <a:custGeom>
              <a:avLst/>
              <a:gdLst/>
              <a:ahLst/>
              <a:rect l="l" t="t" r="r" b="b"/>
              <a:pathLst>
                <a:path w="268" h="32">
                  <a:moveTo>
                    <a:pt x="0" y="21"/>
                  </a:moveTo>
                  <a:lnTo>
                    <a:pt x="0" y="0"/>
                  </a:lnTo>
                  <a:lnTo>
                    <a:pt x="267" y="10"/>
                  </a:lnTo>
                  <a:lnTo>
                    <a:pt x="267" y="31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06680" y="2592360"/>
              <a:ext cx="66600" cy="4464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25"/>
                  </a:moveTo>
                  <a:lnTo>
                    <a:pt x="41" y="27"/>
                  </a:lnTo>
                  <a:lnTo>
                    <a:pt x="41" y="2"/>
                  </a:lnTo>
                  <a:lnTo>
                    <a:pt x="0" y="0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87760" y="2811600"/>
              <a:ext cx="20520" cy="2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20880" y="2814480"/>
              <a:ext cx="20880" cy="20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52560" y="2816280"/>
              <a:ext cx="20880" cy="2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87480" y="2819520"/>
              <a:ext cx="19080" cy="2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2822400"/>
              <a:ext cx="19080" cy="20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51200" y="2824200"/>
              <a:ext cx="20520" cy="2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90800" y="2816280"/>
              <a:ext cx="4752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23"/>
                  </a:moveTo>
                  <a:lnTo>
                    <a:pt x="0" y="0"/>
                  </a:lnTo>
                  <a:lnTo>
                    <a:pt x="29" y="2"/>
                  </a:lnTo>
                  <a:lnTo>
                    <a:pt x="29" y="25"/>
                  </a:lnTo>
                  <a:lnTo>
                    <a:pt x="0" y="23"/>
                  </a:lnTo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76480" y="2827440"/>
              <a:ext cx="77760" cy="3816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0" y="21"/>
                  </a:moveTo>
                  <a:lnTo>
                    <a:pt x="0" y="0"/>
                  </a:lnTo>
                  <a:lnTo>
                    <a:pt x="48" y="2"/>
                  </a:lnTo>
                  <a:lnTo>
                    <a:pt x="48" y="23"/>
                  </a:lnTo>
                  <a:lnTo>
                    <a:pt x="0" y="21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81240" y="2832120"/>
              <a:ext cx="79560" cy="38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1"/>
                  </a:moveTo>
                  <a:lnTo>
                    <a:pt x="0" y="0"/>
                  </a:lnTo>
                  <a:lnTo>
                    <a:pt x="49" y="2"/>
                  </a:lnTo>
                  <a:lnTo>
                    <a:pt x="49" y="23"/>
                  </a:lnTo>
                  <a:lnTo>
                    <a:pt x="0" y="21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81320" y="2835360"/>
              <a:ext cx="131760" cy="46080"/>
            </a:xfrm>
            <a:custGeom>
              <a:avLst/>
              <a:gdLst/>
              <a:ahLst/>
              <a:rect l="l" t="t" r="r" b="b"/>
              <a:pathLst>
                <a:path w="83" h="29">
                  <a:moveTo>
                    <a:pt x="0" y="23"/>
                  </a:moveTo>
                  <a:lnTo>
                    <a:pt x="0" y="0"/>
                  </a:lnTo>
                  <a:lnTo>
                    <a:pt x="82" y="5"/>
                  </a:lnTo>
                  <a:lnTo>
                    <a:pt x="82" y="28"/>
                  </a:lnTo>
                  <a:lnTo>
                    <a:pt x="0" y="23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951440" y="2143080"/>
            <a:ext cx="1527120" cy="830160"/>
            <a:chOff x="4951440" y="2143080"/>
            <a:chExt cx="1527120" cy="830160"/>
          </a:xfrm>
        </p:grpSpPr>
        <p:sp>
          <p:nvSpPr>
            <p:cNvPr id="626" name=""/>
            <p:cNvSpPr/>
            <p:nvPr/>
          </p:nvSpPr>
          <p:spPr>
            <a:xfrm>
              <a:off x="5046840" y="2143080"/>
              <a:ext cx="1431720" cy="438120"/>
            </a:xfrm>
            <a:custGeom>
              <a:avLst/>
              <a:gdLst/>
              <a:ahLst/>
              <a:rect l="l" t="t" r="r" b="b"/>
              <a:pathLst>
                <a:path w="902" h="276">
                  <a:moveTo>
                    <a:pt x="0" y="247"/>
                  </a:moveTo>
                  <a:lnTo>
                    <a:pt x="324" y="0"/>
                  </a:lnTo>
                  <a:lnTo>
                    <a:pt x="901" y="8"/>
                  </a:lnTo>
                  <a:lnTo>
                    <a:pt x="715" y="275"/>
                  </a:lnTo>
                  <a:lnTo>
                    <a:pt x="0" y="247"/>
                  </a:lnTo>
                </a:path>
              </a:pathLst>
            </a:custGeom>
            <a:solidFill>
              <a:srgbClr val="d4876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80120" y="2155680"/>
              <a:ext cx="298440" cy="814680"/>
            </a:xfrm>
            <a:custGeom>
              <a:avLst/>
              <a:gdLst/>
              <a:ahLst/>
              <a:rect l="l" t="t" r="r" b="b"/>
              <a:pathLst>
                <a:path w="188" h="513">
                  <a:moveTo>
                    <a:pt x="0" y="268"/>
                  </a:moveTo>
                  <a:lnTo>
                    <a:pt x="0" y="512"/>
                  </a:lnTo>
                  <a:lnTo>
                    <a:pt x="187" y="197"/>
                  </a:lnTo>
                  <a:lnTo>
                    <a:pt x="187" y="0"/>
                  </a:lnTo>
                  <a:lnTo>
                    <a:pt x="0" y="268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33880" y="2532240"/>
              <a:ext cx="1144800" cy="441000"/>
            </a:xfrm>
            <a:custGeom>
              <a:avLst/>
              <a:gdLst/>
              <a:ahLst/>
              <a:rect l="l" t="t" r="r" b="b"/>
              <a:pathLst>
                <a:path w="721" h="278">
                  <a:moveTo>
                    <a:pt x="0" y="0"/>
                  </a:moveTo>
                  <a:lnTo>
                    <a:pt x="720" y="30"/>
                  </a:lnTo>
                  <a:lnTo>
                    <a:pt x="720" y="277"/>
                  </a:lnTo>
                  <a:lnTo>
                    <a:pt x="0" y="22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67360" y="2571840"/>
              <a:ext cx="1073160" cy="349200"/>
            </a:xfrm>
            <a:custGeom>
              <a:avLst/>
              <a:gdLst/>
              <a:ahLst/>
              <a:rect l="l" t="t" r="r" b="b"/>
              <a:pathLst>
                <a:path w="676" h="220">
                  <a:moveTo>
                    <a:pt x="0" y="0"/>
                  </a:moveTo>
                  <a:lnTo>
                    <a:pt x="675" y="30"/>
                  </a:lnTo>
                  <a:lnTo>
                    <a:pt x="675" y="219"/>
                  </a:lnTo>
                  <a:lnTo>
                    <a:pt x="0" y="174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5097600" y="2655720"/>
              <a:ext cx="981000" cy="176400"/>
              <a:chOff x="5097600" y="2655720"/>
              <a:chExt cx="981000" cy="17640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5097600" y="2655720"/>
                <a:ext cx="485640" cy="84240"/>
                <a:chOff x="5097600" y="2655720"/>
                <a:chExt cx="485640" cy="842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5097600" y="2655720"/>
                  <a:ext cx="485640" cy="84240"/>
                </a:xfrm>
                <a:custGeom>
                  <a:avLst/>
                  <a:gdLst/>
                  <a:ahLst/>
                  <a:rect l="l" t="t" r="r" b="b"/>
                  <a:pathLst>
                    <a:path w="306" h="53">
                      <a:moveTo>
                        <a:pt x="0" y="0"/>
                      </a:moveTo>
                      <a:lnTo>
                        <a:pt x="0" y="35"/>
                      </a:lnTo>
                      <a:lnTo>
                        <a:pt x="305" y="52"/>
                      </a:lnTo>
                      <a:lnTo>
                        <a:pt x="305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119560" y="2676600"/>
                  <a:ext cx="19080" cy="22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538960" y="2695680"/>
                  <a:ext cx="2052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159520" y="267336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213520" y="2674800"/>
                  <a:ext cx="2196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261040" y="267804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308560" y="268128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353200" y="2682720"/>
                  <a:ext cx="2196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397480" y="268596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445000" y="268920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489640" y="2690640"/>
                  <a:ext cx="2376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5097600" y="2722680"/>
                <a:ext cx="485640" cy="82440"/>
                <a:chOff x="5097600" y="2722680"/>
                <a:chExt cx="485640" cy="8244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5097600" y="2722680"/>
                  <a:ext cx="485640" cy="82440"/>
                </a:xfrm>
                <a:custGeom>
                  <a:avLst/>
                  <a:gdLst/>
                  <a:ahLst/>
                  <a:rect l="l" t="t" r="r" b="b"/>
                  <a:pathLst>
                    <a:path w="306" h="52">
                      <a:moveTo>
                        <a:pt x="0" y="0"/>
                      </a:moveTo>
                      <a:lnTo>
                        <a:pt x="0" y="35"/>
                      </a:lnTo>
                      <a:lnTo>
                        <a:pt x="305" y="51"/>
                      </a:lnTo>
                      <a:lnTo>
                        <a:pt x="305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119560" y="2743200"/>
                  <a:ext cx="1908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538960" y="2760840"/>
                  <a:ext cx="205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159520" y="273852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213520" y="2741760"/>
                  <a:ext cx="219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61040" y="2744640"/>
                  <a:ext cx="22320" cy="24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308560" y="274644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353200" y="2749680"/>
                  <a:ext cx="219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397480" y="2751120"/>
                  <a:ext cx="2376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445000" y="275436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489640" y="275760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591160" y="2682720"/>
                <a:ext cx="487440" cy="82800"/>
                <a:chOff x="5591160" y="2682720"/>
                <a:chExt cx="487440" cy="8280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591160" y="2682720"/>
                  <a:ext cx="487440" cy="82800"/>
                </a:xfrm>
                <a:custGeom>
                  <a:avLst/>
                  <a:gdLst/>
                  <a:ahLst/>
                  <a:rect l="l" t="t" r="r" b="b"/>
                  <a:pathLst>
                    <a:path w="307" h="52">
                      <a:moveTo>
                        <a:pt x="0" y="0"/>
                      </a:moveTo>
                      <a:lnTo>
                        <a:pt x="0" y="35"/>
                      </a:lnTo>
                      <a:lnTo>
                        <a:pt x="306" y="51"/>
                      </a:lnTo>
                      <a:lnTo>
                        <a:pt x="306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613480" y="2703600"/>
                  <a:ext cx="2052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033960" y="2722680"/>
                  <a:ext cx="2088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656320" y="2698920"/>
                  <a:ext cx="22320" cy="25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708520" y="2701800"/>
                  <a:ext cx="2088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756400" y="2705040"/>
                  <a:ext cx="205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803920" y="2706840"/>
                  <a:ext cx="22320" cy="25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848200" y="2709720"/>
                  <a:ext cx="22320" cy="24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894280" y="2712960"/>
                  <a:ext cx="2088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940360" y="271476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85000" y="2717640"/>
                  <a:ext cx="21960" cy="24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5591160" y="2747880"/>
                <a:ext cx="487440" cy="84240"/>
                <a:chOff x="5591160" y="2747880"/>
                <a:chExt cx="487440" cy="8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5591160" y="2747880"/>
                  <a:ext cx="487440" cy="84240"/>
                </a:xfrm>
                <a:custGeom>
                  <a:avLst/>
                  <a:gdLst/>
                  <a:ahLst/>
                  <a:rect l="l" t="t" r="r" b="b"/>
                  <a:pathLst>
                    <a:path w="307" h="53">
                      <a:moveTo>
                        <a:pt x="0" y="0"/>
                      </a:moveTo>
                      <a:lnTo>
                        <a:pt x="0" y="35"/>
                      </a:lnTo>
                      <a:lnTo>
                        <a:pt x="306" y="52"/>
                      </a:lnTo>
                      <a:lnTo>
                        <a:pt x="306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613480" y="2768760"/>
                  <a:ext cx="20520" cy="2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033960" y="2787480"/>
                  <a:ext cx="20880" cy="20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56320" y="276552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08520" y="2766960"/>
                  <a:ext cx="2088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756400" y="2770200"/>
                  <a:ext cx="205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803920" y="277344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848200" y="2774880"/>
                  <a:ext cx="2232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894280" y="2778120"/>
                  <a:ext cx="2088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940360" y="2781360"/>
                  <a:ext cx="22320" cy="23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985000" y="2782800"/>
                  <a:ext cx="2196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9" name=""/>
            <p:cNvGrpSpPr/>
            <p:nvPr/>
          </p:nvGrpSpPr>
          <p:grpSpPr>
            <a:xfrm>
              <a:off x="4951440" y="2532240"/>
              <a:ext cx="114120" cy="376200"/>
              <a:chOff x="4951440" y="2532240"/>
              <a:chExt cx="114120" cy="376200"/>
            </a:xfrm>
          </p:grpSpPr>
          <p:sp>
            <p:nvSpPr>
              <p:cNvPr id="680" name=""/>
              <p:cNvSpPr/>
              <p:nvPr/>
            </p:nvSpPr>
            <p:spPr>
              <a:xfrm>
                <a:off x="4960800" y="2532240"/>
                <a:ext cx="104760" cy="376200"/>
              </a:xfrm>
              <a:custGeom>
                <a:avLst/>
                <a:gdLst/>
                <a:ahLst/>
                <a:rect l="l" t="t" r="r" b="b"/>
                <a:pathLst>
                  <a:path w="66" h="237">
                    <a:moveTo>
                      <a:pt x="2" y="0"/>
                    </a:moveTo>
                    <a:lnTo>
                      <a:pt x="65" y="3"/>
                    </a:lnTo>
                    <a:lnTo>
                      <a:pt x="65" y="236"/>
                    </a:lnTo>
                    <a:lnTo>
                      <a:pt x="0" y="23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"/>
              <p:cNvGrpSpPr/>
              <p:nvPr/>
            </p:nvGrpSpPr>
            <p:grpSpPr>
              <a:xfrm>
                <a:off x="4951440" y="2583000"/>
                <a:ext cx="74520" cy="317520"/>
                <a:chOff x="4951440" y="2583000"/>
                <a:chExt cx="74520" cy="31752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952880" y="2644920"/>
                  <a:ext cx="20880" cy="2491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951440" y="2583000"/>
                  <a:ext cx="74520" cy="317520"/>
                </a:xfrm>
                <a:custGeom>
                  <a:avLst/>
                  <a:gdLst/>
                  <a:ahLst/>
                  <a:rect l="l" t="t" r="r" b="b"/>
                  <a:pathLst>
                    <a:path w="47" h="200">
                      <a:moveTo>
                        <a:pt x="0" y="35"/>
                      </a:moveTo>
                      <a:lnTo>
                        <a:pt x="32" y="0"/>
                      </a:lnTo>
                      <a:lnTo>
                        <a:pt x="46" y="0"/>
                      </a:lnTo>
                      <a:lnTo>
                        <a:pt x="46" y="27"/>
                      </a:lnTo>
                      <a:lnTo>
                        <a:pt x="27" y="45"/>
                      </a:lnTo>
                      <a:lnTo>
                        <a:pt x="27" y="174"/>
                      </a:lnTo>
                      <a:lnTo>
                        <a:pt x="40" y="159"/>
                      </a:lnTo>
                      <a:lnTo>
                        <a:pt x="40" y="182"/>
                      </a:lnTo>
                      <a:lnTo>
                        <a:pt x="17" y="199"/>
                      </a:lnTo>
                      <a:lnTo>
                        <a:pt x="17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4976640" y="2590920"/>
                  <a:ext cx="47880" cy="4896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4991040" y="2830680"/>
                  <a:ext cx="20520" cy="936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6" name=""/>
            <p:cNvGrpSpPr/>
            <p:nvPr/>
          </p:nvGrpSpPr>
          <p:grpSpPr>
            <a:xfrm>
              <a:off x="6102360" y="2576520"/>
              <a:ext cx="114120" cy="396720"/>
              <a:chOff x="6102360" y="2576520"/>
              <a:chExt cx="114120" cy="396720"/>
            </a:xfrm>
          </p:grpSpPr>
          <p:sp>
            <p:nvSpPr>
              <p:cNvPr id="687" name=""/>
              <p:cNvSpPr/>
              <p:nvPr/>
            </p:nvSpPr>
            <p:spPr>
              <a:xfrm>
                <a:off x="6111720" y="2576520"/>
                <a:ext cx="104760" cy="396720"/>
              </a:xfrm>
              <a:custGeom>
                <a:avLst/>
                <a:gdLst/>
                <a:ahLst/>
                <a:rect l="l" t="t" r="r" b="b"/>
                <a:pathLst>
                  <a:path w="66" h="250">
                    <a:moveTo>
                      <a:pt x="2" y="0"/>
                    </a:moveTo>
                    <a:lnTo>
                      <a:pt x="65" y="0"/>
                    </a:lnTo>
                    <a:lnTo>
                      <a:pt x="65" y="249"/>
                    </a:lnTo>
                    <a:lnTo>
                      <a:pt x="0" y="24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6102360" y="2647800"/>
                <a:ext cx="74520" cy="317520"/>
                <a:chOff x="6102360" y="2647800"/>
                <a:chExt cx="74520" cy="3175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6103800" y="2709720"/>
                  <a:ext cx="19080" cy="250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02360" y="2647800"/>
                  <a:ext cx="74520" cy="317520"/>
                </a:xfrm>
                <a:custGeom>
                  <a:avLst/>
                  <a:gdLst/>
                  <a:ahLst/>
                  <a:rect l="l" t="t" r="r" b="b"/>
                  <a:pathLst>
                    <a:path w="47" h="200">
                      <a:moveTo>
                        <a:pt x="0" y="35"/>
                      </a:moveTo>
                      <a:lnTo>
                        <a:pt x="32" y="0"/>
                      </a:lnTo>
                      <a:lnTo>
                        <a:pt x="46" y="0"/>
                      </a:lnTo>
                      <a:lnTo>
                        <a:pt x="46" y="27"/>
                      </a:lnTo>
                      <a:lnTo>
                        <a:pt x="27" y="45"/>
                      </a:lnTo>
                      <a:lnTo>
                        <a:pt x="27" y="174"/>
                      </a:lnTo>
                      <a:lnTo>
                        <a:pt x="40" y="159"/>
                      </a:lnTo>
                      <a:lnTo>
                        <a:pt x="40" y="182"/>
                      </a:lnTo>
                      <a:lnTo>
                        <a:pt x="17" y="199"/>
                      </a:lnTo>
                      <a:lnTo>
                        <a:pt x="17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6127920" y="2655720"/>
                  <a:ext cx="47520" cy="5112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6143760" y="2895120"/>
                  <a:ext cx="19080" cy="1116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3" name=""/>
            <p:cNvSpPr/>
            <p:nvPr/>
          </p:nvSpPr>
          <p:spPr>
            <a:xfrm>
              <a:off x="5649840" y="2619360"/>
              <a:ext cx="425520" cy="50760"/>
            </a:xfrm>
            <a:custGeom>
              <a:avLst/>
              <a:gdLst/>
              <a:ahLst/>
              <a:rect l="l" t="t" r="r" b="b"/>
              <a:pathLst>
                <a:path w="268" h="32">
                  <a:moveTo>
                    <a:pt x="0" y="21"/>
                  </a:moveTo>
                  <a:lnTo>
                    <a:pt x="0" y="0"/>
                  </a:lnTo>
                  <a:lnTo>
                    <a:pt x="267" y="10"/>
                  </a:lnTo>
                  <a:lnTo>
                    <a:pt x="267" y="31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97600" y="2592360"/>
              <a:ext cx="66600" cy="4464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25"/>
                  </a:moveTo>
                  <a:lnTo>
                    <a:pt x="41" y="27"/>
                  </a:lnTo>
                  <a:lnTo>
                    <a:pt x="41" y="2"/>
                  </a:lnTo>
                  <a:lnTo>
                    <a:pt x="0" y="0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78320" y="2811600"/>
              <a:ext cx="20880" cy="2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11800" y="2814480"/>
              <a:ext cx="20520" cy="20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43480" y="2816280"/>
              <a:ext cx="20520" cy="2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78400" y="2819520"/>
              <a:ext cx="19080" cy="2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10080" y="2822400"/>
              <a:ext cx="19080" cy="20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442120" y="2824200"/>
              <a:ext cx="20520" cy="2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81720" y="2816280"/>
              <a:ext cx="4752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23"/>
                  </a:moveTo>
                  <a:lnTo>
                    <a:pt x="0" y="0"/>
                  </a:lnTo>
                  <a:lnTo>
                    <a:pt x="29" y="2"/>
                  </a:lnTo>
                  <a:lnTo>
                    <a:pt x="29" y="25"/>
                  </a:lnTo>
                  <a:lnTo>
                    <a:pt x="0" y="23"/>
                  </a:lnTo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67400" y="2827440"/>
              <a:ext cx="77760" cy="3816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0" y="21"/>
                  </a:moveTo>
                  <a:lnTo>
                    <a:pt x="0" y="0"/>
                  </a:lnTo>
                  <a:lnTo>
                    <a:pt x="48" y="2"/>
                  </a:lnTo>
                  <a:lnTo>
                    <a:pt x="48" y="23"/>
                  </a:lnTo>
                  <a:lnTo>
                    <a:pt x="0" y="21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672160" y="2832120"/>
              <a:ext cx="79200" cy="38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1"/>
                  </a:moveTo>
                  <a:lnTo>
                    <a:pt x="0" y="0"/>
                  </a:lnTo>
                  <a:lnTo>
                    <a:pt x="49" y="2"/>
                  </a:lnTo>
                  <a:lnTo>
                    <a:pt x="49" y="23"/>
                  </a:lnTo>
                  <a:lnTo>
                    <a:pt x="0" y="21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772240" y="2835360"/>
              <a:ext cx="131760" cy="46080"/>
            </a:xfrm>
            <a:custGeom>
              <a:avLst/>
              <a:gdLst/>
              <a:ahLst/>
              <a:rect l="l" t="t" r="r" b="b"/>
              <a:pathLst>
                <a:path w="83" h="29">
                  <a:moveTo>
                    <a:pt x="0" y="23"/>
                  </a:moveTo>
                  <a:lnTo>
                    <a:pt x="0" y="0"/>
                  </a:lnTo>
                  <a:lnTo>
                    <a:pt x="82" y="5"/>
                  </a:lnTo>
                  <a:lnTo>
                    <a:pt x="82" y="28"/>
                  </a:lnTo>
                  <a:lnTo>
                    <a:pt x="0" y="23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4664160" y="2851200"/>
            <a:ext cx="18478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N Access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7621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QUEMA CON LAN E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492360" y="1992240"/>
            <a:ext cx="993960" cy="46227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43080" y="1992240"/>
            <a:ext cx="1044360" cy="4622760"/>
          </a:xfrm>
          <a:prstGeom prst="rect">
            <a:avLst/>
          </a:prstGeom>
          <a:gradFill rotWithShape="0">
            <a:gsLst>
              <a:gs pos="0">
                <a:srgbClr val="4b2e00"/>
              </a:gs>
              <a:gs pos="100000">
                <a:srgbClr val="fe9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63320" y="3209760"/>
            <a:ext cx="6012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71960" y="2951280"/>
            <a:ext cx="1339560" cy="396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762200" y="2919240"/>
            <a:ext cx="990360" cy="50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06960" y="1895400"/>
            <a:ext cx="601560" cy="4208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54120" y="1962000"/>
            <a:ext cx="5216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494000" y="4229280"/>
            <a:ext cx="2879640" cy="9759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614600" y="4565520"/>
            <a:ext cx="254304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614240" y="4986360"/>
            <a:ext cx="25527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30080" y="4273560"/>
            <a:ext cx="25520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nitialization Request Well known VC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02200" y="4699080"/>
            <a:ext cx="16678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nitialization Respo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266640" y="2984400"/>
            <a:ext cx="298764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214800" y="2935440"/>
            <a:ext cx="560160" cy="495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3178080" y="2157480"/>
            <a:ext cx="1941480" cy="8222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786720" y="2984400"/>
            <a:ext cx="14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15200" y="2684520"/>
            <a:ext cx="0" cy="29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677000" y="29844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8037360" y="2684160"/>
            <a:ext cx="0" cy="29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41040" y="2306520"/>
            <a:ext cx="8694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27600" y="3846600"/>
            <a:ext cx="6012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7254720" y="3294000"/>
            <a:ext cx="817560" cy="5238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1335240" y="2631960"/>
            <a:ext cx="815760" cy="524160"/>
          </a:xfrm>
          <a:prstGeom prst="rect">
            <a:avLst/>
          </a:prstGeom>
          <a:ln w="0">
            <a:noFill/>
          </a:ln>
        </p:spPr>
      </p:pic>
      <p:grpSp>
        <p:nvGrpSpPr>
          <p:cNvPr id="730" name=""/>
          <p:cNvGrpSpPr/>
          <p:nvPr/>
        </p:nvGrpSpPr>
        <p:grpSpPr>
          <a:xfrm>
            <a:off x="2411280" y="2292480"/>
            <a:ext cx="1044720" cy="419040"/>
            <a:chOff x="2411280" y="2292480"/>
            <a:chExt cx="1044720" cy="419040"/>
          </a:xfrm>
        </p:grpSpPr>
        <p:sp>
          <p:nvSpPr>
            <p:cNvPr id="731" name=""/>
            <p:cNvSpPr/>
            <p:nvPr/>
          </p:nvSpPr>
          <p:spPr>
            <a:xfrm>
              <a:off x="2422440" y="2292480"/>
              <a:ext cx="181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11280" y="2455920"/>
              <a:ext cx="10447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9880"/>
                  <a:tab algn="l" pos="1139760"/>
                  <a:tab algn="l" pos="1709640"/>
                  <a:tab algn="l" pos="2279520"/>
                  <a:tab algn="l" pos="2849400"/>
                  <a:tab algn="l" pos="3419640"/>
                  <a:tab algn="l" pos="3989520"/>
                  <a:tab algn="l" pos="4559400"/>
                  <a:tab algn="l" pos="5129280"/>
                  <a:tab algn="l" pos="5699160"/>
                  <a:tab algn="l" pos="6269040"/>
                  <a:tab algn="l" pos="6838920"/>
                  <a:tab algn="l" pos="7408800"/>
                  <a:tab algn="l" pos="7978680"/>
                  <a:tab algn="l" pos="8548560"/>
                  <a:tab algn="l" pos="9118440"/>
                  <a:tab algn="l" pos="9688680"/>
                  <a:tab algn="l" pos="10258560"/>
                  <a:tab algn="l" pos="10828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M 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300680" y="3436920"/>
            <a:ext cx="90432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TM End 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10080" y="3144960"/>
            <a:ext cx="722160" cy="48240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1480" y="3249720"/>
            <a:ext cx="492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834160" y="4229280"/>
            <a:ext cx="2836800" cy="54432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811840" y="4265640"/>
            <a:ext cx="2925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 Emulation drivers in end stations set up connection (using UNI 3.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927440" y="5213520"/>
            <a:ext cx="41367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guration direct SVC to LECS, then response back to LE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659040" y="3348000"/>
            <a:ext cx="722520" cy="48276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714840" y="3465360"/>
            <a:ext cx="6210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711760" y="3394080"/>
            <a:ext cx="1100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94000" y="5576760"/>
            <a:ext cx="3603600" cy="97632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14600" y="5913360"/>
            <a:ext cx="32115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1614600" y="6334200"/>
            <a:ext cx="317808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633680" y="5621400"/>
            <a:ext cx="20095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ddress Registration 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303640" y="6046920"/>
            <a:ext cx="22712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ddress Registration Respo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84560" y="2752560"/>
            <a:ext cx="1222200" cy="601920"/>
            <a:chOff x="2284560" y="2752560"/>
            <a:chExt cx="1222200" cy="601920"/>
          </a:xfrm>
        </p:grpSpPr>
        <p:sp>
          <p:nvSpPr>
            <p:cNvPr id="748" name=""/>
            <p:cNvSpPr/>
            <p:nvPr/>
          </p:nvSpPr>
          <p:spPr>
            <a:xfrm>
              <a:off x="2360520" y="2752560"/>
              <a:ext cx="1146240" cy="317520"/>
            </a:xfrm>
            <a:custGeom>
              <a:avLst/>
              <a:gdLst/>
              <a:ahLst/>
              <a:rect l="l" t="t" r="r" b="b"/>
              <a:pathLst>
                <a:path w="722" h="200">
                  <a:moveTo>
                    <a:pt x="0" y="179"/>
                  </a:moveTo>
                  <a:lnTo>
                    <a:pt x="260" y="0"/>
                  </a:lnTo>
                  <a:lnTo>
                    <a:pt x="721" y="6"/>
                  </a:lnTo>
                  <a:lnTo>
                    <a:pt x="572" y="199"/>
                  </a:lnTo>
                  <a:lnTo>
                    <a:pt x="0" y="179"/>
                  </a:lnTo>
                </a:path>
              </a:pathLst>
            </a:custGeom>
            <a:solidFill>
              <a:srgbClr val="d4876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67000" y="2762280"/>
              <a:ext cx="239760" cy="588960"/>
            </a:xfrm>
            <a:custGeom>
              <a:avLst/>
              <a:gdLst/>
              <a:ahLst/>
              <a:rect l="l" t="t" r="r" b="b"/>
              <a:pathLst>
                <a:path w="151" h="371">
                  <a:moveTo>
                    <a:pt x="0" y="194"/>
                  </a:moveTo>
                  <a:lnTo>
                    <a:pt x="0" y="370"/>
                  </a:lnTo>
                  <a:lnTo>
                    <a:pt x="150" y="142"/>
                  </a:lnTo>
                  <a:lnTo>
                    <a:pt x="150" y="0"/>
                  </a:lnTo>
                  <a:lnTo>
                    <a:pt x="0" y="194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49360" y="3033720"/>
              <a:ext cx="916200" cy="320760"/>
            </a:xfrm>
            <a:custGeom>
              <a:avLst/>
              <a:gdLst/>
              <a:ahLst/>
              <a:rect l="l" t="t" r="r" b="b"/>
              <a:pathLst>
                <a:path w="577" h="202">
                  <a:moveTo>
                    <a:pt x="0" y="0"/>
                  </a:moveTo>
                  <a:lnTo>
                    <a:pt x="576" y="22"/>
                  </a:lnTo>
                  <a:lnTo>
                    <a:pt x="576" y="201"/>
                  </a:lnTo>
                  <a:lnTo>
                    <a:pt x="0" y="16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76360" y="3062160"/>
              <a:ext cx="860400" cy="254160"/>
            </a:xfrm>
            <a:custGeom>
              <a:avLst/>
              <a:gdLst/>
              <a:ahLst/>
              <a:rect l="l" t="t" r="r" b="b"/>
              <a:pathLst>
                <a:path w="542" h="160">
                  <a:moveTo>
                    <a:pt x="0" y="0"/>
                  </a:moveTo>
                  <a:lnTo>
                    <a:pt x="541" y="22"/>
                  </a:lnTo>
                  <a:lnTo>
                    <a:pt x="541" y="159"/>
                  </a:lnTo>
                  <a:lnTo>
                    <a:pt x="0" y="126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2400480" y="3124080"/>
              <a:ext cx="787320" cy="127080"/>
              <a:chOff x="2400480" y="3124080"/>
              <a:chExt cx="787320" cy="12708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2400480" y="3124080"/>
                <a:ext cx="388800" cy="61920"/>
                <a:chOff x="2400480" y="3124080"/>
                <a:chExt cx="388800" cy="6192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2400480" y="3124080"/>
                  <a:ext cx="388800" cy="61920"/>
                </a:xfrm>
                <a:custGeom>
                  <a:avLst/>
                  <a:gdLst/>
                  <a:ahLst/>
                  <a:rect l="l" t="t" r="r" b="b"/>
                  <a:pathLst>
                    <a:path w="245" h="39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244" y="38"/>
                      </a:lnTo>
                      <a:lnTo>
                        <a:pt x="244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419200" y="3138480"/>
                  <a:ext cx="14400" cy="17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752560" y="3152880"/>
                  <a:ext cx="1764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452680" y="313848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495520" y="31399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32240" y="314172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571840" y="3143160"/>
                  <a:ext cx="140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604960" y="314496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641680" y="3147840"/>
                  <a:ext cx="1728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681280" y="3149640"/>
                  <a:ext cx="126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716200" y="315108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2400480" y="3171960"/>
                <a:ext cx="388800" cy="60120"/>
                <a:chOff x="2400480" y="3171960"/>
                <a:chExt cx="388800" cy="601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2400480" y="3171960"/>
                  <a:ext cx="388800" cy="60120"/>
                </a:xfrm>
                <a:custGeom>
                  <a:avLst/>
                  <a:gdLst/>
                  <a:ahLst/>
                  <a:rect l="l" t="t" r="r" b="b"/>
                  <a:pathLst>
                    <a:path w="245" h="38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244" y="37"/>
                      </a:lnTo>
                      <a:lnTo>
                        <a:pt x="244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419200" y="3187800"/>
                  <a:ext cx="14400" cy="14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752560" y="3200400"/>
                  <a:ext cx="1764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452680" y="3186000"/>
                  <a:ext cx="14400" cy="12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495520" y="3187800"/>
                  <a:ext cx="14400" cy="14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532240" y="3191040"/>
                  <a:ext cx="15840" cy="12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571840" y="3191040"/>
                  <a:ext cx="14040" cy="14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604960" y="3193920"/>
                  <a:ext cx="15840" cy="12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641680" y="3193920"/>
                  <a:ext cx="1728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681280" y="3197160"/>
                  <a:ext cx="126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716200" y="3200400"/>
                  <a:ext cx="15840" cy="12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2795760" y="3143160"/>
                <a:ext cx="392040" cy="60480"/>
                <a:chOff x="2795760" y="3143160"/>
                <a:chExt cx="392040" cy="6048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2795760" y="3143160"/>
                  <a:ext cx="392040" cy="60480"/>
                </a:xfrm>
                <a:custGeom>
                  <a:avLst/>
                  <a:gdLst/>
                  <a:ahLst/>
                  <a:rect l="l" t="t" r="r" b="b"/>
                  <a:pathLst>
                    <a:path w="247" h="38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246" y="37"/>
                      </a:lnTo>
                      <a:lnTo>
                        <a:pt x="246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813040" y="315900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151080" y="317196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2849400" y="3156120"/>
                  <a:ext cx="1620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890800" y="315900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928960" y="3162240"/>
                  <a:ext cx="14400" cy="12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967120" y="316224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003480" y="3165480"/>
                  <a:ext cx="14400" cy="12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038400" y="31669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076560" y="3168720"/>
                  <a:ext cx="15840" cy="12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112920" y="3170160"/>
                  <a:ext cx="162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795760" y="3191040"/>
                <a:ext cx="392040" cy="60120"/>
                <a:chOff x="2795760" y="3191040"/>
                <a:chExt cx="392040" cy="601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795760" y="3191040"/>
                  <a:ext cx="392040" cy="60120"/>
                </a:xfrm>
                <a:custGeom>
                  <a:avLst/>
                  <a:gdLst/>
                  <a:ahLst/>
                  <a:rect l="l" t="t" r="r" b="b"/>
                  <a:pathLst>
                    <a:path w="247" h="38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246" y="37"/>
                      </a:lnTo>
                      <a:lnTo>
                        <a:pt x="246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813040" y="320508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151080" y="321948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849400" y="3205080"/>
                  <a:ext cx="16200" cy="12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890800" y="3206880"/>
                  <a:ext cx="14400" cy="14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928960" y="3208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967120" y="3211560"/>
                  <a:ext cx="15840" cy="12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003480" y="3211560"/>
                  <a:ext cx="1440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038400" y="3214800"/>
                  <a:ext cx="14400" cy="12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076560" y="321624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112920" y="3218040"/>
                  <a:ext cx="16200" cy="14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284560" y="3033720"/>
              <a:ext cx="90360" cy="272880"/>
              <a:chOff x="2284560" y="3033720"/>
              <a:chExt cx="90360" cy="272880"/>
            </a:xfrm>
          </p:grpSpPr>
          <p:sp>
            <p:nvSpPr>
              <p:cNvPr id="802" name=""/>
              <p:cNvSpPr/>
              <p:nvPr/>
            </p:nvSpPr>
            <p:spPr>
              <a:xfrm>
                <a:off x="2292480" y="3033720"/>
                <a:ext cx="82440" cy="272880"/>
              </a:xfrm>
              <a:custGeom>
                <a:avLst/>
                <a:gdLst/>
                <a:ahLst/>
                <a:rect l="l" t="t" r="r" b="b"/>
                <a:pathLst>
                  <a:path w="52" h="172">
                    <a:moveTo>
                      <a:pt x="1" y="0"/>
                    </a:moveTo>
                    <a:lnTo>
                      <a:pt x="51" y="2"/>
                    </a:lnTo>
                    <a:lnTo>
                      <a:pt x="51" y="171"/>
                    </a:lnTo>
                    <a:lnTo>
                      <a:pt x="0" y="16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2284560" y="3071880"/>
                <a:ext cx="60120" cy="230040"/>
                <a:chOff x="2284560" y="3071880"/>
                <a:chExt cx="60120" cy="23004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2286000" y="3117960"/>
                  <a:ext cx="14400" cy="176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284560" y="3071880"/>
                  <a:ext cx="60120" cy="230040"/>
                </a:xfrm>
                <a:custGeom>
                  <a:avLst/>
                  <a:gdLst/>
                  <a:ahLst/>
                  <a:rect l="l" t="t" r="r" b="b"/>
                  <a:pathLst>
                    <a:path w="38" h="145">
                      <a:moveTo>
                        <a:pt x="0" y="25"/>
                      </a:moveTo>
                      <a:lnTo>
                        <a:pt x="26" y="0"/>
                      </a:lnTo>
                      <a:lnTo>
                        <a:pt x="37" y="0"/>
                      </a:lnTo>
                      <a:lnTo>
                        <a:pt x="37" y="19"/>
                      </a:lnTo>
                      <a:lnTo>
                        <a:pt x="22" y="32"/>
                      </a:lnTo>
                      <a:lnTo>
                        <a:pt x="22" y="126"/>
                      </a:lnTo>
                      <a:lnTo>
                        <a:pt x="32" y="115"/>
                      </a:lnTo>
                      <a:lnTo>
                        <a:pt x="32" y="132"/>
                      </a:lnTo>
                      <a:lnTo>
                        <a:pt x="14" y="144"/>
                      </a:lnTo>
                      <a:lnTo>
                        <a:pt x="14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V="1">
                  <a:off x="2303640" y="3076200"/>
                  <a:ext cx="39600" cy="3492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V="1">
                  <a:off x="2316240" y="3249720"/>
                  <a:ext cx="15840" cy="792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"/>
            <p:cNvGrpSpPr/>
            <p:nvPr/>
          </p:nvGrpSpPr>
          <p:grpSpPr>
            <a:xfrm>
              <a:off x="3205080" y="3067200"/>
              <a:ext cx="92160" cy="287280"/>
              <a:chOff x="3205080" y="3067200"/>
              <a:chExt cx="92160" cy="287280"/>
            </a:xfrm>
          </p:grpSpPr>
          <p:sp>
            <p:nvSpPr>
              <p:cNvPr id="809" name=""/>
              <p:cNvSpPr/>
              <p:nvPr/>
            </p:nvSpPr>
            <p:spPr>
              <a:xfrm>
                <a:off x="3211560" y="3067200"/>
                <a:ext cx="85680" cy="287280"/>
              </a:xfrm>
              <a:custGeom>
                <a:avLst/>
                <a:gdLst/>
                <a:ahLst/>
                <a:rect l="l" t="t" r="r" b="b"/>
                <a:pathLst>
                  <a:path w="54" h="181">
                    <a:moveTo>
                      <a:pt x="1" y="0"/>
                    </a:moveTo>
                    <a:lnTo>
                      <a:pt x="53" y="0"/>
                    </a:lnTo>
                    <a:lnTo>
                      <a:pt x="53" y="180"/>
                    </a:lnTo>
                    <a:lnTo>
                      <a:pt x="0" y="17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"/>
              <p:cNvGrpSpPr/>
              <p:nvPr/>
            </p:nvGrpSpPr>
            <p:grpSpPr>
              <a:xfrm>
                <a:off x="3205080" y="3117960"/>
                <a:ext cx="58680" cy="230040"/>
                <a:chOff x="3205080" y="3117960"/>
                <a:chExt cx="58680" cy="23004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3208320" y="3165480"/>
                  <a:ext cx="12600" cy="177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205080" y="3117960"/>
                  <a:ext cx="58680" cy="230040"/>
                </a:xfrm>
                <a:custGeom>
                  <a:avLst/>
                  <a:gdLst/>
                  <a:ahLst/>
                  <a:rect l="l" t="t" r="r" b="b"/>
                  <a:pathLst>
                    <a:path w="37" h="145">
                      <a:moveTo>
                        <a:pt x="0" y="25"/>
                      </a:moveTo>
                      <a:lnTo>
                        <a:pt x="25" y="0"/>
                      </a:lnTo>
                      <a:lnTo>
                        <a:pt x="36" y="0"/>
                      </a:lnTo>
                      <a:lnTo>
                        <a:pt x="36" y="19"/>
                      </a:lnTo>
                      <a:lnTo>
                        <a:pt x="21" y="32"/>
                      </a:lnTo>
                      <a:lnTo>
                        <a:pt x="21" y="126"/>
                      </a:lnTo>
                      <a:lnTo>
                        <a:pt x="31" y="115"/>
                      </a:lnTo>
                      <a:lnTo>
                        <a:pt x="31" y="132"/>
                      </a:lnTo>
                      <a:lnTo>
                        <a:pt x="14" y="144"/>
                      </a:lnTo>
                      <a:lnTo>
                        <a:pt x="14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V="1">
                  <a:off x="3225960" y="3124080"/>
                  <a:ext cx="36360" cy="3672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V="1">
                  <a:off x="3236760" y="3297240"/>
                  <a:ext cx="17640" cy="792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5" name=""/>
            <p:cNvSpPr/>
            <p:nvPr/>
          </p:nvSpPr>
          <p:spPr>
            <a:xfrm>
              <a:off x="2843280" y="3097080"/>
              <a:ext cx="341280" cy="38160"/>
            </a:xfrm>
            <a:custGeom>
              <a:avLst/>
              <a:gdLst/>
              <a:ahLst/>
              <a:rect l="l" t="t" r="r" b="b"/>
              <a:pathLst>
                <a:path w="215" h="24">
                  <a:moveTo>
                    <a:pt x="0" y="16"/>
                  </a:moveTo>
                  <a:lnTo>
                    <a:pt x="0" y="0"/>
                  </a:lnTo>
                  <a:lnTo>
                    <a:pt x="214" y="7"/>
                  </a:lnTo>
                  <a:lnTo>
                    <a:pt x="214" y="2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400480" y="3078000"/>
              <a:ext cx="53640" cy="320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8"/>
                  </a:moveTo>
                  <a:lnTo>
                    <a:pt x="33" y="19"/>
                  </a:lnTo>
                  <a:lnTo>
                    <a:pt x="33" y="1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546280" y="3236760"/>
              <a:ext cx="15840" cy="1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573280" y="3238560"/>
              <a:ext cx="15840" cy="15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598840" y="3240000"/>
              <a:ext cx="15840" cy="15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624040" y="3243240"/>
              <a:ext cx="17640" cy="1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49600" y="3244680"/>
              <a:ext cx="17280" cy="1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74800" y="3246480"/>
              <a:ext cx="17640" cy="1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08280" y="324000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7"/>
                  </a:moveTo>
                  <a:lnTo>
                    <a:pt x="0" y="0"/>
                  </a:ln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78120" y="3247920"/>
              <a:ext cx="60480" cy="288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0" y="16"/>
                  </a:moveTo>
                  <a:lnTo>
                    <a:pt x="0" y="0"/>
                  </a:lnTo>
                  <a:lnTo>
                    <a:pt x="37" y="1"/>
                  </a:lnTo>
                  <a:lnTo>
                    <a:pt x="37" y="17"/>
                  </a:lnTo>
                  <a:lnTo>
                    <a:pt x="0" y="16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60560" y="3251160"/>
              <a:ext cx="63720" cy="284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16"/>
                  </a:moveTo>
                  <a:lnTo>
                    <a:pt x="0" y="0"/>
                  </a:lnTo>
                  <a:lnTo>
                    <a:pt x="39" y="1"/>
                  </a:lnTo>
                  <a:lnTo>
                    <a:pt x="39" y="17"/>
                  </a:lnTo>
                  <a:lnTo>
                    <a:pt x="0" y="16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40120" y="3254400"/>
              <a:ext cx="106200" cy="3348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16"/>
                  </a:moveTo>
                  <a:lnTo>
                    <a:pt x="0" y="0"/>
                  </a:lnTo>
                  <a:lnTo>
                    <a:pt x="66" y="4"/>
                  </a:lnTo>
                  <a:lnTo>
                    <a:pt x="66" y="20"/>
                  </a:lnTo>
                  <a:lnTo>
                    <a:pt x="0" y="16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864400" y="2600280"/>
            <a:ext cx="1071360" cy="677880"/>
            <a:chOff x="5864400" y="2600280"/>
            <a:chExt cx="1071360" cy="677880"/>
          </a:xfrm>
        </p:grpSpPr>
        <p:sp>
          <p:nvSpPr>
            <p:cNvPr id="828" name=""/>
            <p:cNvSpPr/>
            <p:nvPr/>
          </p:nvSpPr>
          <p:spPr>
            <a:xfrm>
              <a:off x="5931000" y="2600280"/>
              <a:ext cx="1004760" cy="357120"/>
            </a:xfrm>
            <a:custGeom>
              <a:avLst/>
              <a:gdLst/>
              <a:ahLst/>
              <a:rect l="l" t="t" r="r" b="b"/>
              <a:pathLst>
                <a:path w="633" h="225">
                  <a:moveTo>
                    <a:pt x="0" y="201"/>
                  </a:moveTo>
                  <a:lnTo>
                    <a:pt x="228" y="0"/>
                  </a:lnTo>
                  <a:lnTo>
                    <a:pt x="632" y="7"/>
                  </a:lnTo>
                  <a:lnTo>
                    <a:pt x="502" y="224"/>
                  </a:lnTo>
                  <a:lnTo>
                    <a:pt x="0" y="201"/>
                  </a:lnTo>
                </a:path>
              </a:pathLst>
            </a:custGeom>
            <a:solidFill>
              <a:srgbClr val="d4876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26240" y="2611440"/>
              <a:ext cx="209520" cy="663480"/>
            </a:xfrm>
            <a:custGeom>
              <a:avLst/>
              <a:gdLst/>
              <a:ahLst/>
              <a:rect l="l" t="t" r="r" b="b"/>
              <a:pathLst>
                <a:path w="132" h="418">
                  <a:moveTo>
                    <a:pt x="0" y="219"/>
                  </a:moveTo>
                  <a:lnTo>
                    <a:pt x="0" y="417"/>
                  </a:lnTo>
                  <a:lnTo>
                    <a:pt x="131" y="161"/>
                  </a:lnTo>
                  <a:lnTo>
                    <a:pt x="131" y="0"/>
                  </a:lnTo>
                  <a:lnTo>
                    <a:pt x="0" y="219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923080" y="2917800"/>
              <a:ext cx="803160" cy="360360"/>
            </a:xfrm>
            <a:custGeom>
              <a:avLst/>
              <a:gdLst/>
              <a:ahLst/>
              <a:rect l="l" t="t" r="r" b="b"/>
              <a:pathLst>
                <a:path w="506" h="227">
                  <a:moveTo>
                    <a:pt x="0" y="0"/>
                  </a:moveTo>
                  <a:lnTo>
                    <a:pt x="505" y="24"/>
                  </a:lnTo>
                  <a:lnTo>
                    <a:pt x="505" y="226"/>
                  </a:lnTo>
                  <a:lnTo>
                    <a:pt x="0" y="18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45040" y="2949480"/>
              <a:ext cx="752760" cy="285840"/>
            </a:xfrm>
            <a:custGeom>
              <a:avLst/>
              <a:gdLst/>
              <a:ahLst/>
              <a:rect l="l" t="t" r="r" b="b"/>
              <a:pathLst>
                <a:path w="474" h="180">
                  <a:moveTo>
                    <a:pt x="0" y="0"/>
                  </a:moveTo>
                  <a:lnTo>
                    <a:pt x="473" y="24"/>
                  </a:lnTo>
                  <a:lnTo>
                    <a:pt x="473" y="179"/>
                  </a:lnTo>
                  <a:lnTo>
                    <a:pt x="0" y="142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967360" y="3019320"/>
              <a:ext cx="687600" cy="142920"/>
              <a:chOff x="5967360" y="3019320"/>
              <a:chExt cx="687600" cy="14292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5967360" y="3019320"/>
                <a:ext cx="339840" cy="68400"/>
                <a:chOff x="5967360" y="3019320"/>
                <a:chExt cx="339840" cy="6840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5967360" y="3019320"/>
                  <a:ext cx="339840" cy="68400"/>
                </a:xfrm>
                <a:custGeom>
                  <a:avLst/>
                  <a:gdLst/>
                  <a:ahLst/>
                  <a:rect l="l" t="t" r="r" b="b"/>
                  <a:pathLst>
                    <a:path w="214" h="43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213" y="42"/>
                      </a:lnTo>
                      <a:lnTo>
                        <a:pt x="213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981760" y="3035160"/>
                  <a:ext cx="14400" cy="19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276960" y="3051000"/>
                  <a:ext cx="14400" cy="17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012000" y="3033720"/>
                  <a:ext cx="14040" cy="17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049800" y="3035160"/>
                  <a:ext cx="111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083280" y="3038400"/>
                  <a:ext cx="111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116760" y="3040200"/>
                  <a:ext cx="12600" cy="17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148440" y="3041640"/>
                  <a:ext cx="111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178680" y="3044880"/>
                  <a:ext cx="14040" cy="17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211800" y="3046320"/>
                  <a:ext cx="129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243480" y="3048120"/>
                  <a:ext cx="129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5967360" y="3073320"/>
                <a:ext cx="339840" cy="66600"/>
                <a:chOff x="5967360" y="3073320"/>
                <a:chExt cx="339840" cy="6660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5967360" y="3073320"/>
                  <a:ext cx="339840" cy="66600"/>
                </a:xfrm>
                <a:custGeom>
                  <a:avLst/>
                  <a:gdLst/>
                  <a:ahLst/>
                  <a:rect l="l" t="t" r="r" b="b"/>
                  <a:pathLst>
                    <a:path w="214" h="42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213" y="41"/>
                      </a:lnTo>
                      <a:lnTo>
                        <a:pt x="213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981760" y="3089160"/>
                  <a:ext cx="14400" cy="17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276960" y="3103560"/>
                  <a:ext cx="14400" cy="19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012000" y="3087720"/>
                  <a:ext cx="14040" cy="17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049800" y="3089160"/>
                  <a:ext cx="111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083280" y="3092400"/>
                  <a:ext cx="111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6116760" y="3094200"/>
                  <a:ext cx="12600" cy="17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148440" y="3095640"/>
                  <a:ext cx="11160" cy="17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178680" y="3097080"/>
                  <a:ext cx="1404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211800" y="3100320"/>
                  <a:ext cx="129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243480" y="3103560"/>
                  <a:ext cx="1296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6313320" y="3040200"/>
                <a:ext cx="341640" cy="68040"/>
                <a:chOff x="6313320" y="3040200"/>
                <a:chExt cx="341640" cy="6804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6313320" y="3040200"/>
                  <a:ext cx="341640" cy="68040"/>
                </a:xfrm>
                <a:custGeom>
                  <a:avLst/>
                  <a:gdLst/>
                  <a:ahLst/>
                  <a:rect l="l" t="t" r="r" b="b"/>
                  <a:pathLst>
                    <a:path w="215" h="43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214" y="42"/>
                      </a:lnTo>
                      <a:lnTo>
                        <a:pt x="214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327720" y="3057480"/>
                  <a:ext cx="15840" cy="17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624720" y="3073320"/>
                  <a:ext cx="12600" cy="15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361200" y="3054240"/>
                  <a:ext cx="111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397560" y="3057480"/>
                  <a:ext cx="111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431040" y="3060720"/>
                  <a:ext cx="1116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464160" y="3060720"/>
                  <a:ext cx="111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496200" y="3063960"/>
                  <a:ext cx="10800" cy="17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527880" y="3067200"/>
                  <a:ext cx="1116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559560" y="3068640"/>
                  <a:ext cx="1260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591240" y="3070080"/>
                  <a:ext cx="111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6313320" y="3094200"/>
                <a:ext cx="341640" cy="68040"/>
                <a:chOff x="6313320" y="3094200"/>
                <a:chExt cx="341640" cy="6804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6313320" y="3094200"/>
                  <a:ext cx="341640" cy="68040"/>
                </a:xfrm>
                <a:custGeom>
                  <a:avLst/>
                  <a:gdLst/>
                  <a:ahLst/>
                  <a:rect l="l" t="t" r="r" b="b"/>
                  <a:pathLst>
                    <a:path w="215" h="43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214" y="42"/>
                      </a:lnTo>
                      <a:lnTo>
                        <a:pt x="214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327720" y="3111480"/>
                  <a:ext cx="15840" cy="17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624720" y="3125880"/>
                  <a:ext cx="12600" cy="1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361200" y="3110040"/>
                  <a:ext cx="1116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397560" y="3110040"/>
                  <a:ext cx="111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431040" y="3112920"/>
                  <a:ext cx="111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464160" y="3116160"/>
                  <a:ext cx="1116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496200" y="3117960"/>
                  <a:ext cx="10800" cy="17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527880" y="3119400"/>
                  <a:ext cx="111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59560" y="3122640"/>
                  <a:ext cx="12600" cy="17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591240" y="3124080"/>
                  <a:ext cx="111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1" name=""/>
            <p:cNvGrpSpPr/>
            <p:nvPr/>
          </p:nvGrpSpPr>
          <p:grpSpPr>
            <a:xfrm>
              <a:off x="5864400" y="2917800"/>
              <a:ext cx="80640" cy="308160"/>
              <a:chOff x="5864400" y="2917800"/>
              <a:chExt cx="80640" cy="308160"/>
            </a:xfrm>
          </p:grpSpPr>
          <p:sp>
            <p:nvSpPr>
              <p:cNvPr id="882" name=""/>
              <p:cNvSpPr/>
              <p:nvPr/>
            </p:nvSpPr>
            <p:spPr>
              <a:xfrm>
                <a:off x="5870520" y="2917800"/>
                <a:ext cx="74520" cy="308160"/>
              </a:xfrm>
              <a:custGeom>
                <a:avLst/>
                <a:gdLst/>
                <a:ahLst/>
                <a:rect l="l" t="t" r="r" b="b"/>
                <a:pathLst>
                  <a:path w="47" h="194">
                    <a:moveTo>
                      <a:pt x="1" y="0"/>
                    </a:moveTo>
                    <a:lnTo>
                      <a:pt x="46" y="3"/>
                    </a:lnTo>
                    <a:lnTo>
                      <a:pt x="46" y="193"/>
                    </a:lnTo>
                    <a:lnTo>
                      <a:pt x="0" y="19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3" name=""/>
              <p:cNvGrpSpPr/>
              <p:nvPr/>
            </p:nvGrpSpPr>
            <p:grpSpPr>
              <a:xfrm>
                <a:off x="5864400" y="2959200"/>
                <a:ext cx="52200" cy="258840"/>
                <a:chOff x="5864400" y="2959200"/>
                <a:chExt cx="52200" cy="25884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5867280" y="3011400"/>
                  <a:ext cx="11160" cy="200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864400" y="2959200"/>
                  <a:ext cx="52200" cy="258840"/>
                </a:xfrm>
                <a:custGeom>
                  <a:avLst/>
                  <a:gdLst/>
                  <a:ahLst/>
                  <a:rect l="l" t="t" r="r" b="b"/>
                  <a:pathLst>
                    <a:path w="33" h="163">
                      <a:moveTo>
                        <a:pt x="0" y="28"/>
                      </a:move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32" y="22"/>
                      </a:lnTo>
                      <a:lnTo>
                        <a:pt x="19" y="36"/>
                      </a:lnTo>
                      <a:lnTo>
                        <a:pt x="19" y="142"/>
                      </a:lnTo>
                      <a:lnTo>
                        <a:pt x="28" y="130"/>
                      </a:lnTo>
                      <a:lnTo>
                        <a:pt x="28" y="149"/>
                      </a:lnTo>
                      <a:lnTo>
                        <a:pt x="12" y="162"/>
                      </a:lnTo>
                      <a:lnTo>
                        <a:pt x="12" y="28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5881680" y="2964960"/>
                  <a:ext cx="33480" cy="3996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5891040" y="3160800"/>
                  <a:ext cx="16200" cy="792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8" name=""/>
            <p:cNvGrpSpPr/>
            <p:nvPr/>
          </p:nvGrpSpPr>
          <p:grpSpPr>
            <a:xfrm>
              <a:off x="6672240" y="2954160"/>
              <a:ext cx="79560" cy="324000"/>
              <a:chOff x="6672240" y="2954160"/>
              <a:chExt cx="79560" cy="324000"/>
            </a:xfrm>
          </p:grpSpPr>
          <p:sp>
            <p:nvSpPr>
              <p:cNvPr id="889" name=""/>
              <p:cNvSpPr/>
              <p:nvPr/>
            </p:nvSpPr>
            <p:spPr>
              <a:xfrm>
                <a:off x="6678720" y="2954160"/>
                <a:ext cx="73080" cy="324000"/>
              </a:xfrm>
              <a:custGeom>
                <a:avLst/>
                <a:gdLst/>
                <a:ahLst/>
                <a:rect l="l" t="t" r="r" b="b"/>
                <a:pathLst>
                  <a:path w="46" h="204">
                    <a:moveTo>
                      <a:pt x="1" y="0"/>
                    </a:moveTo>
                    <a:lnTo>
                      <a:pt x="45" y="0"/>
                    </a:lnTo>
                    <a:lnTo>
                      <a:pt x="45" y="203"/>
                    </a:lnTo>
                    <a:lnTo>
                      <a:pt x="0" y="20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1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6672240" y="3013200"/>
                <a:ext cx="52560" cy="258480"/>
                <a:chOff x="6672240" y="3013200"/>
                <a:chExt cx="52560" cy="25848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6675480" y="3063960"/>
                  <a:ext cx="9360" cy="203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672240" y="3013200"/>
                  <a:ext cx="52560" cy="258480"/>
                </a:xfrm>
                <a:custGeom>
                  <a:avLst/>
                  <a:gdLst/>
                  <a:ahLst/>
                  <a:rect l="l" t="t" r="r" b="b"/>
                  <a:pathLst>
                    <a:path w="33" h="163">
                      <a:moveTo>
                        <a:pt x="0" y="28"/>
                      </a:move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32" y="22"/>
                      </a:lnTo>
                      <a:lnTo>
                        <a:pt x="19" y="36"/>
                      </a:lnTo>
                      <a:lnTo>
                        <a:pt x="19" y="142"/>
                      </a:lnTo>
                      <a:lnTo>
                        <a:pt x="28" y="130"/>
                      </a:lnTo>
                      <a:lnTo>
                        <a:pt x="28" y="149"/>
                      </a:lnTo>
                      <a:lnTo>
                        <a:pt x="12" y="162"/>
                      </a:lnTo>
                      <a:lnTo>
                        <a:pt x="12" y="28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141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6689880" y="3018960"/>
                  <a:ext cx="33120" cy="4140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6700680" y="3214800"/>
                  <a:ext cx="12960" cy="9360"/>
                </a:xfrm>
                <a:prstGeom prst="line">
                  <a:avLst/>
                </a:prstGeom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5" name=""/>
            <p:cNvSpPr/>
            <p:nvPr/>
          </p:nvSpPr>
          <p:spPr>
            <a:xfrm>
              <a:off x="6354720" y="2989440"/>
              <a:ext cx="298440" cy="41040"/>
            </a:xfrm>
            <a:custGeom>
              <a:avLst/>
              <a:gdLst/>
              <a:ahLst/>
              <a:rect l="l" t="t" r="r" b="b"/>
              <a:pathLst>
                <a:path w="188" h="26">
                  <a:moveTo>
                    <a:pt x="0" y="17"/>
                  </a:moveTo>
                  <a:lnTo>
                    <a:pt x="0" y="0"/>
                  </a:lnTo>
                  <a:lnTo>
                    <a:pt x="187" y="8"/>
                  </a:lnTo>
                  <a:lnTo>
                    <a:pt x="187" y="25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67360" y="29671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1"/>
                  </a:moveTo>
                  <a:lnTo>
                    <a:pt x="28" y="22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93000" y="3146400"/>
              <a:ext cx="15840" cy="15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16760" y="3147840"/>
              <a:ext cx="15840" cy="17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38720" y="3149640"/>
              <a:ext cx="15840" cy="17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64280" y="3152880"/>
              <a:ext cx="12600" cy="15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86600" y="3154320"/>
              <a:ext cx="12600" cy="17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208560" y="3156120"/>
              <a:ext cx="14400" cy="17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235560" y="314964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9"/>
                  </a:moveTo>
                  <a:lnTo>
                    <a:pt x="0" y="0"/>
                  </a:lnTo>
                  <a:lnTo>
                    <a:pt x="21" y="1"/>
                  </a:lnTo>
                  <a:lnTo>
                    <a:pt x="21" y="20"/>
                  </a:lnTo>
                  <a:lnTo>
                    <a:pt x="0" y="19"/>
                  </a:lnTo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96040" y="3159000"/>
              <a:ext cx="55440" cy="320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8"/>
                  </a:moveTo>
                  <a:lnTo>
                    <a:pt x="0" y="0"/>
                  </a:lnTo>
                  <a:lnTo>
                    <a:pt x="34" y="1"/>
                  </a:lnTo>
                  <a:lnTo>
                    <a:pt x="34" y="19"/>
                  </a:lnTo>
                  <a:lnTo>
                    <a:pt x="0" y="18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69120" y="3162240"/>
              <a:ext cx="57240" cy="316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0" y="18"/>
                  </a:moveTo>
                  <a:lnTo>
                    <a:pt x="0" y="0"/>
                  </a:lnTo>
                  <a:lnTo>
                    <a:pt x="35" y="1"/>
                  </a:lnTo>
                  <a:lnTo>
                    <a:pt x="35" y="19"/>
                  </a:lnTo>
                  <a:lnTo>
                    <a:pt x="0" y="18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38960" y="3165480"/>
              <a:ext cx="93600" cy="3816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0" y="19"/>
                  </a:moveTo>
                  <a:lnTo>
                    <a:pt x="0" y="0"/>
                  </a:lnTo>
                  <a:lnTo>
                    <a:pt x="58" y="4"/>
                  </a:lnTo>
                  <a:lnTo>
                    <a:pt x="58" y="23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969840" y="4187880"/>
            <a:ext cx="311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969840" y="5635800"/>
            <a:ext cx="311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178600" y="6168960"/>
            <a:ext cx="311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14360" y="6508800"/>
            <a:ext cx="57279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 Direct SVC to LES, then LES response back to LEC via Control distribute VC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520" y="7621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N E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LASSICAL I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Permite el envío de paquetes IP sobre circuitos ATM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e encapsulando el paquete IP en un mensaje AAL5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IS (Logical IP Subnetwork): Agrupación de nodos que pertenecen a una red IP lógic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e pueden tener varias LIS en un mismo suiche o nube ATM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comunicación entre LIS requiere de router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e requiere de un servidor que maneje la conversión de direcciones IP y ATM:  ATMARP, InATMARP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No se requiere rescribir las aplicacion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l MTU es 9.180 Byt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21:52:23Z</dcterms:created>
  <dc:creator>Juan Carlos Restrepo</dc:creator>
  <dc:description/>
  <dc:language>en-US</dc:language>
  <cp:lastModifiedBy>juanrest</cp:lastModifiedBy>
  <dcterms:modified xsi:type="dcterms:W3CDTF">2005-01-22T20:34:31Z</dcterms:modified>
  <cp:revision>115</cp:revision>
  <dc:subject/>
  <dc:title>Presentación de PowerPoint</dc:title>
</cp:coreProperties>
</file>